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4F1-9A7C-4C0B-9E2A-33E000A16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У  ВПО  «Финансовая академ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 проф.   В.С. Трипольског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0F80-EFF9-4968-9007-9DD6141569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ученным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дохнов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199B-C82E-47DA-85FE-7578B50EF2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EEC2-67A4-4D41-81B0-15BACF1B55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1149-F365-4D66-A37F-A9B66DBDE9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иболее элементарный психический процесс, заключающийся в психическом отражен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дельных свой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в и явлений, непосредственно воздействующих на органы чув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A561-E189-4B10-8411-1B18290A0A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)способу воздействия раздражител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) времени возникновения в филогенез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) функ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) по расположению рецептивных  по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BE26-46E2-46F9-966F-4839E2B78F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ог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верхний (терминальный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фференциальный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ибилиз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естез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E227-B25B-48BD-A479-69A0854E04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осприя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цепция) – воссозда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ост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 объектов (предметов, ситуаци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ительное, слуховое, тактильно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F741-1601-48CC-83F3-99C89156D0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а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осмысленность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662-FFC2-45FB-BBE6-54DD776A69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ереоценка длины вертикальных ли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Иллюзии контраста (не только зрите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08C2-665E-42AA-B57C-FB3687A78C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8183-B1F4-413A-8FD3-A8C25AA9FF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634C-C2DA-46E6-9964-9837C173A1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Эббинг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4FB-3654-4FD8-8601-3A5DD8716F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Мюллера-Ла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6E7D-C54A-448B-A5A3-8365933EC3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E346-6992-472D-97C5-BF4900EEDB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Тема 3.   Рациональные формы освоения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              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5AA3-4BA8-4C82-BCEB-746F866400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пособность к сохранению, накоплению и воспроизведению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Л.Рубиншт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DD35-02B3-4734-9882-38F99D325A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ипу запоминаемого материала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лей деятельности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ремен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D1F7-1D71-4128-8431-EA97BC4CDF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67DB-B5C0-47BB-B0DB-D0C6871DEF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Arial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 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5EB1-895E-4321-8472-4CFA3E7CFA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План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1B32-673A-41B4-83EF-4617F2F4E1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9B05-74DC-4C8B-8D4F-4EF24E6784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83A-A979-4659-9739-CB8B6344F4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6D0-BBCB-49C0-B319-F54817B145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сихические процесс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сихические состоя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сихические сво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4913-9250-4558-BCC6-30D655DE97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688F-CE08-41CB-9242-4796C27922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762-61E8-41E7-89F8-EFA603BA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E8B-E527-40BB-9054-745C08EC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E88-84E6-4D0C-B30A-5888BC41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D8B-7CCF-4C5A-A545-6DCFE11A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7353-B7DD-4B7B-9222-0BC64B12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C0B7-972C-41DF-864E-7D59DCD1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DE53-0997-4758-949E-DBE4C791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B110-67CB-4986-929D-00E0AF7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B94F-33AD-4BEC-ADC3-E2D3633C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37EA-9571-48FE-85D9-58285CAE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B813-F49E-4E37-9ABA-B1C6AE1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7D5-64DE-4893-B140-07C11EF6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1487-6C73-488C-967E-44E460D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2CAE-4A1F-4DE2-A4F8-CE497EE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BEE4-F9B6-4E1C-A29B-16194B39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0D55-9E3F-46A6-9F28-CAE74274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2263-EB1E-46E3-8060-E38584CF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7332-82CD-4B7C-8C5D-6315DA1C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AB0A2-0790-4017-812C-80895D2F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8E49-5067-4A83-B8BD-B1D797E5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6172-4F53-44A1-BDFC-B96F1182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47A0-A7D1-4726-A25F-DEF93F29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F3F-C24A-41A4-B34D-A53830CB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2458-0343-4CE9-8729-1ABB0042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BB54-35A0-4C87-9658-A1097F2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9246-7C14-4E8E-AC64-E3B080DF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2106-F2FB-4142-A8EA-22F27BF9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CBF8-6532-472F-A5D8-9C988D9B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F635-859C-4DEB-BEDE-0F6FD03F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6FAAA-20B1-4A5F-815B-E75748DD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0E8-E780-4FB5-A262-29F1F4B8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C13-1F68-43DC-893B-82C52AF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6FD-6D05-49EF-9DF3-27C798E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520-5706-409B-BA7A-49C66E0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9DF-18C0-4BD1-9973-8517B264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CE6-CE7B-48E7-8072-C9B46E0B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86F-8869-4AEF-926F-ACA114DF24D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A813-6612-4AB4-B9BC-AA6DB845297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0DD4-F570-4177-A70F-C1F265A2481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8120" y="412920"/>
            <a:ext cx="64692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ГОУ  ВПО  «Финансовая академ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тельстве Российской Федерации»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9160" y="2484000"/>
            <a:ext cx="87454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ция  проф.   В.С. Трипольского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логотип зел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960" y="228600"/>
            <a:ext cx="1920960" cy="16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2120" y="1376280"/>
            <a:ext cx="87091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иболее изученными являются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дохнов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иболее элементарный психический процесс, заключающийся в психическом отражени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дельных свойст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и явлений, непосредственно воздействующих на органы чу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вств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760" y="1600200"/>
            <a:ext cx="897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Garamond"/>
              </a:rPr>
              <a:t>Классификация ощущений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1)способу воздействия раздражител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2) времени возникновения в филогенезе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) функци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) по расположению рецептивных  полей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22" name="Organization Chart 2"/>
          <p:cNvGrpSpPr/>
          <p:nvPr/>
        </p:nvGrpSpPr>
        <p:grpSpPr>
          <a:xfrm>
            <a:off x="466560" y="2302200"/>
            <a:ext cx="8208720" cy="3715560"/>
            <a:chOff x="466560" y="2302200"/>
            <a:chExt cx="8208720" cy="3715560"/>
          </a:xfrm>
        </p:grpSpPr>
        <p:cxnSp>
          <p:nvCxnSpPr>
            <p:cNvPr id="223" name="_s1028"/>
            <p:cNvCxnSpPr>
              <a:stCxn id="224" idx="1"/>
              <a:endCxn id="225" idx="2"/>
            </p:cNvCxnSpPr>
            <p:nvPr/>
          </p:nvCxnSpPr>
          <p:spPr>
            <a:xfrm rot="10800000">
              <a:off x="581004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1"/>
              <a:endCxn id="228" idx="2"/>
            </p:cNvCxnSpPr>
            <p:nvPr/>
          </p:nvCxnSpPr>
          <p:spPr>
            <a:xfrm rot="10800000">
              <a:off x="2689920" y="4707000"/>
              <a:ext cx="255960" cy="1092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8" idx="2"/>
            </p:cNvCxnSpPr>
            <p:nvPr/>
          </p:nvCxnSpPr>
          <p:spPr>
            <a:xfrm rot="10800000">
              <a:off x="268992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31"/>
            <p:cNvCxnSpPr>
              <a:stCxn id="225" idx="1"/>
              <a:endCxn id="232" idx="2"/>
            </p:cNvCxnSpPr>
            <p:nvPr/>
          </p:nvCxnSpPr>
          <p:spPr>
            <a:xfrm rot="10800000">
              <a:off x="435312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2"/>
            <p:cNvCxnSpPr>
              <a:stCxn id="228" idx="1"/>
              <a:endCxn id="234" idx="2"/>
            </p:cNvCxnSpPr>
            <p:nvPr/>
          </p:nvCxnSpPr>
          <p:spPr>
            <a:xfrm rot="10800000">
              <a:off x="123228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033"/>
            <p:cNvCxnSpPr>
              <a:stCxn id="232" idx="0"/>
              <a:endCxn id="236" idx="2"/>
            </p:cNvCxnSpPr>
            <p:nvPr/>
          </p:nvCxnSpPr>
          <p:spPr>
            <a:xfrm flipH="1" flipV="1" rot="5400000">
              <a:off x="5132520" y="2616480"/>
              <a:ext cx="219240" cy="17773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1034"/>
            <p:cNvCxnSpPr>
              <a:stCxn id="234" idx="0"/>
              <a:endCxn id="238" idx="2"/>
            </p:cNvCxnSpPr>
            <p:nvPr/>
          </p:nvCxnSpPr>
          <p:spPr>
            <a:xfrm flipH="1" flipV="1" rot="5400000">
              <a:off x="2012760" y="2615760"/>
              <a:ext cx="219240" cy="17791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1035"/>
            <p:cNvCxnSpPr>
              <a:stCxn id="236" idx="0"/>
              <a:endCxn id="240" idx="2"/>
            </p:cNvCxnSpPr>
            <p:nvPr/>
          </p:nvCxnSpPr>
          <p:spPr>
            <a:xfrm flipV="1" rot="16200000">
              <a:off x="5240160" y="2068200"/>
              <a:ext cx="219240" cy="156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36"/>
            <p:cNvCxnSpPr>
              <a:stCxn id="238" idx="0"/>
              <a:endCxn id="240" idx="2"/>
            </p:cNvCxnSpPr>
            <p:nvPr/>
          </p:nvCxnSpPr>
          <p:spPr>
            <a:xfrm flipH="1" flipV="1" rot="5400000">
              <a:off x="3681360" y="2068920"/>
              <a:ext cx="219240" cy="155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7"/>
            <p:cNvSpPr/>
            <p:nvPr/>
          </p:nvSpPr>
          <p:spPr>
            <a:xfrm>
              <a:off x="3457440" y="2302200"/>
              <a:ext cx="22255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Тип ощущ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8"/>
            <p:cNvSpPr/>
            <p:nvPr/>
          </p:nvSpPr>
          <p:spPr>
            <a:xfrm>
              <a:off x="208728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так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9"/>
            <p:cNvSpPr/>
            <p:nvPr/>
          </p:nvSpPr>
          <p:spPr>
            <a:xfrm>
              <a:off x="520740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Дистан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>
              <a:off x="46656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Пал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358704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Н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42"/>
            <p:cNvSpPr/>
            <p:nvPr/>
          </p:nvSpPr>
          <p:spPr>
            <a:xfrm>
              <a:off x="148860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статиру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43"/>
            <p:cNvSpPr/>
            <p:nvPr/>
          </p:nvSpPr>
          <p:spPr>
            <a:xfrm>
              <a:off x="460944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Упрежда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44"/>
            <p:cNvSpPr/>
            <p:nvPr/>
          </p:nvSpPr>
          <p:spPr>
            <a:xfrm>
              <a:off x="294624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Ин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45"/>
            <p:cNvSpPr/>
            <p:nvPr/>
          </p:nvSpPr>
          <p:spPr>
            <a:xfrm>
              <a:off x="2946240" y="5581800"/>
              <a:ext cx="260892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ропри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46"/>
            <p:cNvSpPr/>
            <p:nvPr/>
          </p:nvSpPr>
          <p:spPr>
            <a:xfrm>
              <a:off x="606636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Экс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войства ощущен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ог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верхний (терминальный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фференциальный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апт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сибилиз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естез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ческ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сприят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ерцепция) – воссоздани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лостных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 объектов (предметов, ситуаций и т.д.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е, слуховое, тактильное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Свойства восприя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осмысленность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0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оценка длины вертикальных ли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ллюзии контраста (не только зрительны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Рисунок 5" descr="http://tvorim.e-gloryon.com/userdata/images/celner.jpg"/>
          <p:cNvPicPr/>
          <p:nvPr/>
        </p:nvPicPr>
        <p:blipFill>
          <a:blip r:embed="rId1"/>
          <a:stretch/>
        </p:blipFill>
        <p:spPr>
          <a:xfrm>
            <a:off x="2914560" y="2759040"/>
            <a:ext cx="3313080" cy="36673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B12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39640" y="239760"/>
            <a:ext cx="83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 экономистам объяснить что такое человек, почему он активен, что им движет? Человеческий организм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 НАБОР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фференцированны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ЧАСТЕ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Эббингауз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3" name="Picture 5" descr="classic-5-1"/>
          <p:cNvPicPr/>
          <p:nvPr/>
        </p:nvPicPr>
        <p:blipFill>
          <a:blip r:embed="rId1"/>
          <a:stretch/>
        </p:blipFill>
        <p:spPr>
          <a:xfrm>
            <a:off x="2428920" y="2124000"/>
            <a:ext cx="4627440" cy="304344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Мюллера-Лайе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6" name="Picture 5" descr="classic-1a-1"/>
          <p:cNvPicPr/>
          <p:nvPr/>
        </p:nvPicPr>
        <p:blipFill>
          <a:blip r:embed="rId1"/>
          <a:stretch/>
        </p:blipFill>
        <p:spPr>
          <a:xfrm>
            <a:off x="2666880" y="242892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351240" y="1927080"/>
            <a:ext cx="5641920" cy="395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VST\Рабочий стол\Иллюстрации\Иллюзия-01.jpg"/>
          <p:cNvPicPr/>
          <p:nvPr/>
        </p:nvPicPr>
        <p:blipFill>
          <a:blip r:embed="rId2"/>
          <a:stretch/>
        </p:blipFill>
        <p:spPr>
          <a:xfrm>
            <a:off x="270000" y="1933560"/>
            <a:ext cx="3039840" cy="39592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Тема 3.   Рациональные формы освоения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                действитель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вые процес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амять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способность к сохранению, накоплению и воспроизведению информа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Л.Рубинштей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у запоминаемого материала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ей деятельности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ремен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20320" y="2949120"/>
            <a:ext cx="73249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ЗА ВНИМАНИЕ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2320" y="-15588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Garamond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 322 до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254083997"/>
          <p:cNvPicPr/>
          <p:nvPr/>
        </p:nvPicPr>
        <p:blipFill>
          <a:blip r:embed="rId1"/>
          <a:stretch/>
        </p:blipFill>
        <p:spPr>
          <a:xfrm>
            <a:off x="6630840" y="515880"/>
            <a:ext cx="1879920" cy="2540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биограф очерк1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840" y="0"/>
            <a:ext cx="8564400" cy="13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Garamond"/>
              </a:rPr>
              <a:t>План лекц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15920" y="1996920"/>
            <a:ext cx="884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1.   Предмет психологии, задачи и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2.   Чувствен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3.   Рациональ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4.   Психолог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5.   Психические состояни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6.   Межличностны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2720" y="145080"/>
            <a:ext cx="7174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1360" y="985680"/>
            <a:ext cx="897264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3" descr="Рис. 1"/>
          <p:cNvPicPr/>
          <p:nvPr/>
        </p:nvPicPr>
        <p:blipFill>
          <a:blip r:embed="rId1"/>
          <a:stretch/>
        </p:blipFill>
        <p:spPr>
          <a:xfrm>
            <a:off x="2092320" y="2768760"/>
            <a:ext cx="5040360" cy="14173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сихические процесс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сихические состоя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психические свой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8:40:37Z</dcterms:created>
  <dc:creator>Богатырев Е Д</dc:creator>
  <dc:description/>
  <dc:language>en-US</dc:language>
  <cp:lastModifiedBy>LEGION</cp:lastModifiedBy>
  <dcterms:modified xsi:type="dcterms:W3CDTF">2014-11-12T07:32:53Z</dcterms:modified>
  <cp:revision>98</cp:revision>
  <dc:subject/>
  <dc:title>Слайд 1</dc:title>
</cp:coreProperties>
</file>