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38B1-B1A5-4531-91F5-7CB2803DAC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EE34-A5DD-4C29-AB34-3CB8F8F407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8349-140E-4916-A9E8-90E8EA56C4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3CDB-409D-48B3-B922-6358F322D2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9E00-B2FE-406F-93D6-8DB067B0D8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7FC4-0B54-4E5E-8D70-8D6205AA1A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р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3C46-1785-475E-8F08-AB98977951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A58A-3CA7-4390-94B3-41B1ECA8D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33A1-E0FA-4860-BCDF-5A6BE462DB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FB12-FAA3-46A9-846A-F557AD67D0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1DA6-B281-4789-B6F2-AA9912C4BB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7602-DD4C-49FE-B984-4E5424ED4F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A7B4-0190-467C-81EF-CD6F21B867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C669-775B-4D97-822E-6DDEA0D01D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9C4-0467-437C-AA77-95FB76FB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59A-3442-4CFA-96A5-081D65B8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EB6-584E-4065-B52D-702027E9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E56-E8CB-4E8B-871F-13F86F44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5297-7E47-4F69-8652-D56A14AD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17E5-1C33-4767-9CFA-46DCD84C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7DBE-0A8B-4267-9A3E-7CD0C750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7BA5-0D73-47DA-97EA-21A48F7C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C797-4F6A-4329-9C14-C27C6F30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EF71-F9A5-4685-A4FD-9C7AD517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B83D-203A-49C8-A102-09224009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33E-6101-4562-9A57-1A78033D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37B8-3F3E-4153-8ABE-72D91829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6928-5166-4CD3-BC84-C05B41EA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644A-AB0F-4077-806A-22DB97A6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305D-1EC9-4266-A0C5-7765ED1F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67CC-A794-4429-950B-29AB6CD8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C5D-C35C-4CF4-9606-9A0A991D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973-4EA1-4FA0-99B6-5B54023C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DA3-9E38-409A-B420-F73BD667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155-75B9-432F-82DB-FFE86008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FDC-6855-43B7-842A-AB9D0982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1D3-BFED-4D3B-BF8E-AE3C609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5D0-4340-4DA3-A1D2-68D111F1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C4FA-2F3E-4970-8937-21B51C4C98B8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F46E-B5A6-41BF-B47F-17C6532B6EA2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711440"/>
            <a:ext cx="746748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6100920"/>
            <a:ext cx="7467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г. Пермь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304920" y="990720"/>
            <a:ext cx="259056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щины фертильного возраста, б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276720" y="1219320"/>
            <a:ext cx="2514600" cy="4724280"/>
          </a:xfrm>
          <a:prstGeom prst="flowChartProcess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-1028520" y="3695400"/>
            <a:ext cx="3657600" cy="685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447920" y="22096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447920" y="31240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бинет планирования семь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447920" y="4038480"/>
            <a:ext cx="1523880" cy="1828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6172200" y="49528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172200" y="22096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6172200" y="990720"/>
            <a:ext cx="274320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и с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3-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"/>
          <p:cNvSpPr/>
          <p:nvPr/>
        </p:nvSpPr>
        <p:spPr>
          <a:xfrm rot="16200000">
            <a:off x="6514920" y="3695400"/>
            <a:ext cx="3657600" cy="6858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поликли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733920" y="22096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Информационно-просветительск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733920" y="40384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Ранняя диагностика пороков развития пл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733920" y="49528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Выявление и сбор  социального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4290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Профилактика С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733920" y="31240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Предупреждение нежелательной берем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2971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29718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297180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2971800" y="2514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5791320" y="1371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2895480" y="13716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410080" y="5181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5410080" y="24382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815328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8580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1143000" y="266688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1143000" y="4876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7696080" y="2590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7696080" y="53341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2"/>
          <p:cNvSpPr/>
          <p:nvPr/>
        </p:nvSpPr>
        <p:spPr>
          <a:xfrm>
            <a:off x="4419720" y="5943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220968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4"/>
          <p:cNvSpPr/>
          <p:nvPr/>
        </p:nvSpPr>
        <p:spPr>
          <a:xfrm>
            <a:off x="670572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35"/>
          <p:cNvSpPr/>
          <p:nvPr/>
        </p:nvSpPr>
        <p:spPr>
          <a:xfrm>
            <a:off x="1828800" y="6400800"/>
            <a:ext cx="5334120" cy="4572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5800" y="2514600"/>
            <a:ext cx="7696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а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9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снятия с учё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00400" y="1447920"/>
            <a:ext cx="2590920" cy="76176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Приемка, диагностика информационных ка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Учет «группы 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400800" y="1447920"/>
            <a:ext cx="238932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04920" y="1447920"/>
            <a:ext cx="2286000" cy="761760"/>
          </a:xfrm>
          <a:prstGeom prst="rect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477120" y="5638680"/>
            <a:ext cx="171108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Дети до 3-х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5812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380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Женщины фертильного 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38080" y="4952880"/>
            <a:ext cx="73152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Формирование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791320" y="17524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2590920" y="1752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267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4267080" y="220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16002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43434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6"/>
          <p:cNvSpPr/>
          <p:nvPr/>
        </p:nvSpPr>
        <p:spPr>
          <a:xfrm rot="10800000">
            <a:off x="1752120" y="-360"/>
            <a:ext cx="5257800" cy="1143000"/>
          </a:xfrm>
          <a:prstGeom prst="triangle">
            <a:avLst>
              <a:gd name="adj" fmla="val 487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380880" y="4876920"/>
            <a:ext cx="830592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4267080" y="4572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4267080" y="655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37160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746748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7238880" y="5257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143000" y="304920"/>
            <a:ext cx="6553080" cy="68580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2120" y="1066680"/>
            <a:ext cx="7619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ение медико-социальной помощи детской поликли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й психолог              социальный работник                врач педиа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800600" y="1981080"/>
            <a:ext cx="2590920" cy="3733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 rot="16200000">
            <a:off x="6324480" y="3276360"/>
            <a:ext cx="3657600" cy="106668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работы по критериям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1981080"/>
            <a:ext cx="4343400" cy="3733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86000" y="5950080"/>
            <a:ext cx="50292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в нор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4920" y="2514600"/>
            <a:ext cx="4190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9b80"/>
                </a:solidFill>
                <a:latin typeface="Times New Roman"/>
              </a:rPr>
              <a:t>Индивидуальная коррекционная программа для детей и семей групп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463680" y="3051000"/>
          <a:ext cx="4003560" cy="33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051000"/>
                    <a:ext cx="40035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10"/>
          <p:cNvSpPr/>
          <p:nvPr/>
        </p:nvSpPr>
        <p:spPr>
          <a:xfrm>
            <a:off x="228600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5627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/>
          <p:cNvSpPr/>
          <p:nvPr/>
        </p:nvSpPr>
        <p:spPr>
          <a:xfrm>
            <a:off x="792468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876920" y="2133720"/>
            <a:ext cx="2438280" cy="580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Взаимодействие с другими ведо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952880" y="28954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КД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181480" y="3733920"/>
            <a:ext cx="12956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Соц.защи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867280" y="44956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ГКН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400800" y="5181480"/>
            <a:ext cx="91440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ОО и 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609480" y="2057400"/>
            <a:ext cx="3581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Социальный консилиу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4572000" y="3505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327672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2286000" y="594360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2193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9625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553080" y="1447920"/>
            <a:ext cx="13716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2362320" y="2286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8077320" y="5638680"/>
            <a:ext cx="152280" cy="76212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7315200" y="6248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90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8600" y="990720"/>
          <a:ext cx="868680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5557680"/>
                <a:gridCol w="990720"/>
                <a:gridCol w="91440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493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подростков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,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нсультируем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 вопросам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ушателей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ци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ю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бортов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продуктивного возраст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рем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оевременно поставленных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,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50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рикрепленного 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беременных женщин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числа женщин вставших на учет по беременности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детей    группы    риска    вновь    выявленны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8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полн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ализова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 (удельный вес детей группы риска, оказавшихся в СОП от числа детей группы риск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казо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</a:tbl>
          </a:graphicData>
        </a:graphic>
      </p:graphicFrame>
      <p:sp>
        <p:nvSpPr>
          <p:cNvPr id="381" name="Text Box 84"/>
          <p:cNvSpPr/>
          <p:nvPr/>
        </p:nvSpPr>
        <p:spPr>
          <a:xfrm>
            <a:off x="304920" y="1371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 rot="16200000">
            <a:off x="-347040" y="2148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6"/>
          <p:cNvSpPr/>
          <p:nvPr/>
        </p:nvSpPr>
        <p:spPr>
          <a:xfrm rot="16200000">
            <a:off x="-289080" y="3868920"/>
            <a:ext cx="13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7"/>
          <p:cNvSpPr/>
          <p:nvPr/>
        </p:nvSpPr>
        <p:spPr>
          <a:xfrm rot="16200000">
            <a:off x="-211320" y="539280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30"/>
          <p:cNvSpPr/>
          <p:nvPr/>
        </p:nvSpPr>
        <p:spPr>
          <a:xfrm>
            <a:off x="685800" y="457200"/>
            <a:ext cx="7924680" cy="64008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495680"/>
            <a:ext cx="259092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477120" y="5181480"/>
            <a:ext cx="281916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культуры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одежной поли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32720" y="765000"/>
            <a:ext cx="2182680" cy="719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школ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209680" y="1219320"/>
            <a:ext cx="5181840" cy="4800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038480" y="5943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ертиль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685800"/>
            <a:ext cx="259092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6518160" y="1862280"/>
            <a:ext cx="222480" cy="16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3080520" y="1613520"/>
            <a:ext cx="233280" cy="248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2329200" y="4512240"/>
            <a:ext cx="141480" cy="19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6999480" y="4577760"/>
            <a:ext cx="174240" cy="29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3352680" y="2209680"/>
            <a:ext cx="2971800" cy="28195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H="1">
            <a:off x="685800" y="3352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632448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2514600" y="4648320"/>
            <a:ext cx="137160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876920"/>
            <a:ext cx="10666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800600" y="457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6629400" y="19810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00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696080" y="1447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. род-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705720" y="57913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467480" y="40384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олодежь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-30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91440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666880" y="685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0 до 3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410080" y="762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3 до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18288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1"/>
          <p:cNvSpPr/>
          <p:nvPr/>
        </p:nvSpPr>
        <p:spPr>
          <a:xfrm>
            <a:off x="2743200" y="47242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990720" y="1447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1905120" y="22096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5"/>
          <p:cNvSpPr txBox="1"/>
          <p:nvPr/>
        </p:nvSpPr>
        <p:spPr>
          <a:xfrm rot="21322200">
            <a:off x="304812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 rot="550800">
            <a:off x="548604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48"/>
          <p:cNvSpPr txBox="1"/>
          <p:nvPr/>
        </p:nvSpPr>
        <p:spPr>
          <a:xfrm rot="5335800">
            <a:off x="2248560" y="377028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9"/>
          <p:cNvSpPr txBox="1"/>
          <p:nvPr/>
        </p:nvSpPr>
        <p:spPr>
          <a:xfrm rot="20611200">
            <a:off x="6095520" y="3809520"/>
            <a:ext cx="1067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0"/>
          <p:cNvSpPr txBox="1"/>
          <p:nvPr/>
        </p:nvSpPr>
        <p:spPr>
          <a:xfrm rot="1767000">
            <a:off x="4190760" y="49528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51"/>
          <p:cNvSpPr txBox="1"/>
          <p:nvPr/>
        </p:nvSpPr>
        <p:spPr>
          <a:xfrm rot="27600">
            <a:off x="3351240" y="2588760"/>
            <a:ext cx="30193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1698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и и де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 социально опасном положен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Rectangle 55"/>
          <p:cNvSpPr/>
          <p:nvPr/>
        </p:nvSpPr>
        <p:spPr>
          <a:xfrm rot="4800">
            <a:off x="342900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2895480" y="236232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2057400" y="2209680"/>
            <a:ext cx="763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1447920" y="1447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5"/>
          <p:cNvSpPr/>
          <p:nvPr/>
        </p:nvSpPr>
        <p:spPr>
          <a:xfrm flipV="1">
            <a:off x="2625120" y="758880"/>
            <a:ext cx="331200" cy="20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H="1" flipV="1">
            <a:off x="652680" y="3810960"/>
            <a:ext cx="28440" cy="329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>
            <a:off x="6514920" y="807480"/>
            <a:ext cx="292320" cy="16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8"/>
          <p:cNvSpPr/>
          <p:nvPr/>
        </p:nvSpPr>
        <p:spPr>
          <a:xfrm flipH="1">
            <a:off x="8475480" y="4101480"/>
            <a:ext cx="82440" cy="43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7772400" y="159984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763120" y="167652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1"/>
          <p:cNvSpPr/>
          <p:nvPr/>
        </p:nvSpPr>
        <p:spPr>
          <a:xfrm flipH="1">
            <a:off x="8457840" y="2590920"/>
            <a:ext cx="152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3"/>
          <p:cNvSpPr/>
          <p:nvPr/>
        </p:nvSpPr>
        <p:spPr>
          <a:xfrm flipH="1">
            <a:off x="7467480" y="2971800"/>
            <a:ext cx="1526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4"/>
          <p:cNvSpPr/>
          <p:nvPr/>
        </p:nvSpPr>
        <p:spPr>
          <a:xfrm>
            <a:off x="7162920" y="1981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5"/>
          <p:cNvSpPr/>
          <p:nvPr/>
        </p:nvSpPr>
        <p:spPr>
          <a:xfrm flipH="1" flipV="1">
            <a:off x="6629400" y="2666880"/>
            <a:ext cx="763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6"/>
          <p:cNvSpPr/>
          <p:nvPr/>
        </p:nvSpPr>
        <p:spPr>
          <a:xfrm flipH="1">
            <a:off x="77724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7"/>
          <p:cNvSpPr/>
          <p:nvPr/>
        </p:nvSpPr>
        <p:spPr>
          <a:xfrm>
            <a:off x="7315200" y="57913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"/>
          <p:cNvSpPr/>
          <p:nvPr/>
        </p:nvSpPr>
        <p:spPr>
          <a:xfrm flipH="1" flipV="1">
            <a:off x="6705360" y="6476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3886200" y="541008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5"/>
          <p:cNvSpPr/>
          <p:nvPr/>
        </p:nvSpPr>
        <p:spPr>
          <a:xfrm rot="4800">
            <a:off x="4114440" y="4190760"/>
            <a:ext cx="138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. КДНиЗ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9"/>
          <p:cNvSpPr/>
          <p:nvPr/>
        </p:nvSpPr>
        <p:spPr>
          <a:xfrm>
            <a:off x="609480" y="56386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0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858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2"/>
          <p:cNvSpPr/>
          <p:nvPr/>
        </p:nvSpPr>
        <p:spPr>
          <a:xfrm flipH="1">
            <a:off x="837720" y="57150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3"/>
          <p:cNvSpPr/>
          <p:nvPr/>
        </p:nvSpPr>
        <p:spPr>
          <a:xfrm>
            <a:off x="-152280" y="137160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4"/>
          <p:cNvSpPr/>
          <p:nvPr/>
        </p:nvSpPr>
        <p:spPr>
          <a:xfrm flipH="1">
            <a:off x="304560" y="13716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152280" y="251460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990720" y="1980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7"/>
          <p:cNvSpPr/>
          <p:nvPr/>
        </p:nvSpPr>
        <p:spPr>
          <a:xfrm rot="4800">
            <a:off x="487692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8"/>
          <p:cNvSpPr/>
          <p:nvPr/>
        </p:nvSpPr>
        <p:spPr>
          <a:xfrm flipH="1" flipV="1">
            <a:off x="1828800" y="6476760"/>
            <a:ext cx="763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2895480" y="5715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1"/>
          <p:cNvSpPr/>
          <p:nvPr/>
        </p:nvSpPr>
        <p:spPr>
          <a:xfrm flipH="1">
            <a:off x="3200040" y="586728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16765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УЧИТЕЛЯ (КЛАССНЫЕ РУКОВОДИТЕЛИ); ЗАМ. ДИРЕКТОРА ПО ВР; ПЕДАГОГИ ДОП.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648320" y="2514600"/>
            <a:ext cx="3276360" cy="83808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 flipV="1">
            <a:off x="55627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0880" y="1600200"/>
            <a:ext cx="37339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ВОСПИТАТЕЛИ ДО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495680" y="3505320"/>
            <a:ext cx="3429000" cy="1066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ШКОЛЬНЫЙ ИНСПЕКТОР МИЛИЦИ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042920" y="3500280"/>
            <a:ext cx="316224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00000" y="5877000"/>
            <a:ext cx="7086600" cy="981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Й КОНСИЛИУМ (ПСИХОЛОГ, СОЦИАЛЬНЫЙ РАБОТНИК) И ПСИХОЛОГ В ДОУ; ПСИХОЛОГ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09480" y="2514600"/>
            <a:ext cx="3200400" cy="91440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5"/>
          <p:cNvCxnSpPr>
            <a:stCxn id="176" idx="0"/>
            <a:endCxn id="178" idx="0"/>
          </p:cNvCxnSpPr>
          <p:nvPr/>
        </p:nvCxnSpPr>
        <p:spPr>
          <a:xfrm>
            <a:off x="151920" y="628560"/>
            <a:ext cx="1080" cy="5448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AutoShape 16"/>
          <p:cNvCxnSpPr>
            <a:stCxn id="180" idx="0"/>
            <a:endCxn id="181" idx="0"/>
          </p:cNvCxnSpPr>
          <p:nvPr/>
        </p:nvCxnSpPr>
        <p:spPr>
          <a:xfrm flipH="1">
            <a:off x="8870400" y="590040"/>
            <a:ext cx="45000" cy="5738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Line 17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522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956720" y="6308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3 ДО 6 ЛЕТ (ДО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 6 ДО 18 ЛЕТ (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68360" y="4797360"/>
            <a:ext cx="7661160" cy="79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ЫЙ УЧЕТ ГРУППЫ РИ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АЧА РЕГИСТРА В МУНИЦИПАЛЬНЫЕ  КДНиЗ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622764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2124000" y="5589720"/>
            <a:ext cx="0" cy="30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0" y="3809880"/>
            <a:ext cx="121932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8077320" y="48769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13372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0" y="49528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2"/>
          <p:cNvSpPr/>
          <p:nvPr/>
        </p:nvSpPr>
        <p:spPr>
          <a:xfrm rot="10840800">
            <a:off x="7848720" y="3809520"/>
            <a:ext cx="1295280" cy="98928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0" y="3276720"/>
            <a:ext cx="1066680" cy="761760"/>
          </a:xfrm>
          <a:prstGeom prst="lef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4"/>
          <p:cNvSpPr/>
          <p:nvPr/>
        </p:nvSpPr>
        <p:spPr>
          <a:xfrm>
            <a:off x="7924680" y="3352680"/>
            <a:ext cx="1219320" cy="762120"/>
          </a:xfrm>
          <a:prstGeom prst="rightArrow">
            <a:avLst>
              <a:gd name="adj1" fmla="val 50000"/>
              <a:gd name="adj2" fmla="val 3999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0800000">
            <a:off x="1904760" y="1295280"/>
            <a:ext cx="1523880" cy="45720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48320" y="1600200"/>
            <a:ext cx="327636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ЗДОРОВОГО РЕБЕНКА ПРИ ДЕТСКИХ ПОЛИКЛИНИКАХ; 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2819520"/>
            <a:ext cx="327672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85800" y="1752480"/>
            <a:ext cx="358128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ПЛАНИРОВАНИЯ СЕМЬИ, СПЕЦИАЛИСТ ПО ГИГИЕНИЧЕСКОМУ ВОСПИТАНИЮ (совместно с учреждениями образ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572000" y="3581280"/>
            <a:ext cx="3429000" cy="838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ВРАЧИ ПЕДИАТРЫ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3581280"/>
            <a:ext cx="358128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АКУШЕРЫ-ГИНЕКОЛОГИ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480" y="6172200"/>
            <a:ext cx="792504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 ПРИ ДЕТСКОЙ ПОЛИКЛИН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838080" y="2819520"/>
            <a:ext cx="320040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14"/>
          <p:cNvCxnSpPr>
            <a:stCxn id="212" idx="0"/>
            <a:endCxn id="214" idx="0"/>
          </p:cNvCxnSpPr>
          <p:nvPr/>
        </p:nvCxnSpPr>
        <p:spPr>
          <a:xfrm>
            <a:off x="151920" y="628200"/>
            <a:ext cx="1080" cy="5829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5" name="Line 15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52280" y="6477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8534520" y="6477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женщины фертильного возраста, беременные женщ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0 до 3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2"/>
          <p:cNvSpPr/>
          <p:nvPr/>
        </p:nvSpPr>
        <p:spPr>
          <a:xfrm rot="10786800">
            <a:off x="5408280" y="129492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572000" y="480060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5800" y="487692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915400" y="6094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990720" y="5715000"/>
            <a:ext cx="3200400" cy="53352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4724280" y="5638680"/>
            <a:ext cx="3200400" cy="60984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7924680" y="4800600"/>
            <a:ext cx="1067040" cy="990720"/>
          </a:xfrm>
          <a:prstGeom prst="rightArrow">
            <a:avLst>
              <a:gd name="adj1" fmla="val 50000"/>
              <a:gd name="adj2" fmla="val 269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0" y="4800600"/>
            <a:ext cx="990720" cy="914400"/>
          </a:xfrm>
          <a:prstGeom prst="leftArrow">
            <a:avLst>
              <a:gd name="adj1" fmla="val 50000"/>
              <a:gd name="adj2" fmla="val 2708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0"/>
          <p:cNvSpPr/>
          <p:nvPr/>
        </p:nvSpPr>
        <p:spPr>
          <a:xfrm rot="10840800">
            <a:off x="7848720" y="3428280"/>
            <a:ext cx="1295280" cy="988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0" y="3429000"/>
            <a:ext cx="114300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987560"/>
            <a:ext cx="3960720" cy="2017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8920" y="1915920"/>
            <a:ext cx="4071960" cy="2019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4292280"/>
            <a:ext cx="381636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58920" y="4292280"/>
            <a:ext cx="398628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35600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9640" y="198900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психолого-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41128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836640"/>
            <a:ext cx="180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780000" y="692280"/>
            <a:ext cx="1800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ед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рон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516720" y="620640"/>
            <a:ext cx="1873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156360" y="1773360"/>
            <a:ext cx="2376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пектор мили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ные за  школ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учащихся «группы риск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468360" y="1844640"/>
            <a:ext cx="4751280" cy="7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755640" y="2852640"/>
            <a:ext cx="806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СОВЕТ ПРОФИЛАКТИКИ (фильтр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едагог, заместители директора школы, руководитель службы поддержки семь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632720" y="5084640"/>
            <a:ext cx="151128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к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чи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5940360" y="5157720"/>
            <a:ext cx="1584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социа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156360" y="4076640"/>
            <a:ext cx="26636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076640"/>
            <a:ext cx="2736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«группы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4581360"/>
            <a:ext cx="2484360" cy="503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школьный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5300640"/>
            <a:ext cx="442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395280" y="6308640"/>
            <a:ext cx="2016000" cy="405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5589720"/>
            <a:ext cx="4427640" cy="431640"/>
          </a:xfrm>
          <a:prstGeom prst="rect">
            <a:avLst/>
          </a:prstGeom>
          <a:solidFill>
            <a:srgbClr val="9b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консили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 педагог, психолог, классные руко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826920" y="515772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68360" y="6021360"/>
            <a:ext cx="935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2340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атор индивидуальных программ сопрово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195640" y="1197000"/>
            <a:ext cx="396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003640" y="1413000"/>
            <a:ext cx="122400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6659640" y="134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5219640" y="1989000"/>
            <a:ext cx="936720" cy="503280"/>
          </a:xfrm>
          <a:prstGeom prst="leftArrow">
            <a:avLst>
              <a:gd name="adj1" fmla="val 50000"/>
              <a:gd name="adj2" fmla="val 465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6012000" y="2492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1258920" y="3716280"/>
            <a:ext cx="64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6659640" y="3716280"/>
            <a:ext cx="72072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7019640" y="4365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7740720" y="436572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3203640" y="407664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«нор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4067280" y="3645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8532720" y="1773360"/>
            <a:ext cx="611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5:15Z</dcterms:created>
  <dc:creator>Ярослвцева М.В.</dc:creator>
  <dc:description/>
  <dc:language>en-US</dc:language>
  <cp:lastModifiedBy>RomaK</cp:lastModifiedBy>
  <dcterms:modified xsi:type="dcterms:W3CDTF">2014-10-31T14:06:29Z</dcterms:modified>
  <cp:revision>106</cp:revision>
  <dc:subject/>
  <dc:title>О новых механизмах управления профилактикой преступности несовершеннолетних</dc:title>
</cp:coreProperties>
</file>