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427E-3442-4FE8-8B31-DA840CCB15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истема ранней профилактики социально опасного положения и социального сиротства в Пермском кра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B223-E956-48DA-8BE0-3A855F6F6F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Критерии эффективности работы школы по ранней профилакт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учащихся, возвращенных из «группы риска» в нор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оличества учащихся «группы риска», выявленных представителями других ведомст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оличества повторно выявленных учащихся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8294-CBAC-4BB1-AD11-7C3A0B6411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7856-19BF-43A3-ACEF-BF905D2CA8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яя профилактика социально опасного положения и социального сиротства в учреждениях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Пер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рсонала лечебного учреждения, направленную на эффективные способы профилактической рабо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пациентов «группу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семей и детей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ACF1-1BC2-4C54-9EB3-DD4AAFDB43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Модель работы учреждений здравоохранения по ранней профилакт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1A3E-5005-457D-B153-705E0608E7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ар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«Характеристика семьи группы социального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1.СВЕДЕНИЯ О НЕСОВЕРШЕННОЛЕТНИХ: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2.СОЦИАЛЬНЫЙ АНАМНЕ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3. МАТЕРИАЛЬНОЕ БЛАГОСОСТОЯНИЕ СЕМЬ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4. ЖИЛИЩНО-БЫТОВЫЕ УСЛО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5. САНИТАРНО-ГИГИЕНИЧЕСКИЕ УСЛОВИЯ ВОСПИТАНИЯ РЕБЁ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6. ПСИХОЛОГИЧЕСКИЙ МИКРОКЛИМАТ В СЕМЬ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7. ПРИЧИНЫ ВЗЯТИЯ В ГРУППУ СОЦ. РИС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8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взятия на учёт в группу соц.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р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ис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139B-B3A7-4025-8F78-191F422CDE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8"/>
                </a:solidFill>
                <a:latin typeface="Times New Roman"/>
              </a:rPr>
              <a:t>Коррекция детей и семей групп ри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134C-81D5-417A-992F-02C4EE9083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критерии эффективности ранней профилактики  СОП и СС</a:t>
            </a:r>
            <a:br>
              <a:rPr sz="1200"/>
            </a:b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детской поликлинике и женской консультации</a:t>
            </a:r>
            <a:br>
              <a:rPr sz="1200"/>
            </a:b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вердловского района г.Пер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0827-4124-4B8D-9DB2-4B0C2ADBAE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663300"/>
                </a:solidFill>
                <a:uFillTx/>
                <a:latin typeface="Times New Roman"/>
              </a:rPr>
              <a:t>Система работы по ранней профилактике СО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68BF-C679-49E5-94FA-255DBAE6C9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8473-FB38-484C-A39E-488EA39C47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яя профилактика социально опасного положения и социального сиротства учащихся школы № 140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Пер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дагогического коллектива, направленную на эффективные способы профилактической рабо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учащихся «группу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детей и подростков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C6E2-F38A-4249-9CC8-758910CBE2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</a:rPr>
              <a:t>Первичная профилактика с  учащимися и их семь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ужба школьного уполномоченного по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ужба содержательного дос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ет деловых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504F-8D72-4FA1-8943-703D5BE3FF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Критерии постановки на внутришкольный у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уски уро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явление элементов асоциального поведения (сквернословие, драки, грубость, курение, издевательство над учащимис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ление ПАВ (разовый случа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е неблагополучие семьи (социально обусловленные заболевания детей, бродяжничество, попрошайничество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0D7E-70F7-48A5-A11A-99BFF8B0C0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5581-5687-4526-9249-46EC5502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3CC-A4B3-40B6-81C5-2B83BB82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F1A-6092-4D70-BD72-71AFB665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FA2-BA4D-480A-BD60-74BC2298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0345-7319-44DD-B02D-84BC1A3F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1CDC-DC83-4328-9F37-13EBECD7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A70D-CC6F-4ECD-8E6E-9B3A8A58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FBA8-1EF9-4420-8381-4D0F26C8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4C0A-3E85-4B37-8698-D825E0BE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4BFC-CC17-4362-BE51-D1190397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B2F0-931B-4E64-AE06-1621BEFD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045A-9148-4C5B-888F-BB6802FF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8592-EEF2-4CB7-A230-9341EB45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DAD4-6470-44CB-A331-807C7E87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3214-73AC-4728-9906-E4DA6413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ED4D-E8A0-4BAC-8DA8-8A3827D0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30BC-1A15-48CC-BB23-FC0E7EB9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578-F9F1-4B0C-B0E5-D902E0B0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21A2-FE98-467D-BBE5-9EAE0E7B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19D-D645-4DD6-BEAE-A634B618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80C0-5E3A-480F-B008-47580A6B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D7A-A5D3-4D2E-A9F1-B3DAEF52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AE3-F8DD-446F-9750-C6FAD5FC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0C95-E3DD-4849-8818-313F58D6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C284-9E65-4872-8D33-A21063B79286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D55E-4B13-4750-AABB-07200133420A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711440"/>
            <a:ext cx="7467480" cy="24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Система ранней профилактики социально опасного положения и социального сиротства в Пермском крае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47920" y="6100920"/>
            <a:ext cx="74674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г. Пермь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Критерии эффективности работы школы по ранней профилактике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учащихся, возвращенных из «группы риска» в нор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ижение количества учащихся «группы риска», выявленных представителями других ведом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ижение количества повторно выявленных учащихся «группы рис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Ранняя профилактика социально опасного положения и социального сиротства в учреждениях здравоохранения </a:t>
            </a:r>
            <a:br>
              <a:rPr sz="4000"/>
            </a:b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г. Пер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8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824360"/>
          </a:xfrm>
          <a:prstGeom prst="rect">
            <a:avLst/>
          </a:prstGeom>
          <a:noFill/>
          <a:ln w="9360">
            <a:solidFill>
              <a:srgbClr val="66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рсонала лечебного учреждения, направленную на эффективные способы 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пациентов «группу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семей и детей «группы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2"/>
          <p:cNvSpPr/>
          <p:nvPr/>
        </p:nvSpPr>
        <p:spPr>
          <a:xfrm>
            <a:off x="304920" y="990720"/>
            <a:ext cx="2590560" cy="914400"/>
          </a:xfrm>
          <a:prstGeom prst="flowChart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щины фертильного возраста, берем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3276720" y="1219320"/>
            <a:ext cx="2514600" cy="4724280"/>
          </a:xfrm>
          <a:prstGeom prst="flowChartProcess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4"/>
          <p:cNvSpPr/>
          <p:nvPr/>
        </p:nvSpPr>
        <p:spPr>
          <a:xfrm rot="16200000">
            <a:off x="-1028520" y="3695400"/>
            <a:ext cx="3657600" cy="68580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ская консуль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1447920" y="2209680"/>
            <a:ext cx="1523880" cy="83844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1447920" y="3124080"/>
            <a:ext cx="1523880" cy="83844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бинет планирования семь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1447920" y="4038480"/>
            <a:ext cx="1523880" cy="182880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ушеры-гинеко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6172200" y="4952880"/>
            <a:ext cx="1523880" cy="9144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педиат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9"/>
          <p:cNvSpPr/>
          <p:nvPr/>
        </p:nvSpPr>
        <p:spPr>
          <a:xfrm>
            <a:off x="6172200" y="2209680"/>
            <a:ext cx="1523880" cy="9144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10"/>
          <p:cNvSpPr/>
          <p:nvPr/>
        </p:nvSpPr>
        <p:spPr>
          <a:xfrm>
            <a:off x="6172200" y="990720"/>
            <a:ext cx="2743200" cy="914400"/>
          </a:xfrm>
          <a:prstGeom prst="flowChart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ьи с деть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3-х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1"/>
          <p:cNvSpPr/>
          <p:nvPr/>
        </p:nvSpPr>
        <p:spPr>
          <a:xfrm rot="16200000">
            <a:off x="6514920" y="3695400"/>
            <a:ext cx="3657600" cy="6858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кая поликлин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12"/>
          <p:cNvSpPr/>
          <p:nvPr/>
        </p:nvSpPr>
        <p:spPr>
          <a:xfrm>
            <a:off x="3733920" y="22096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Информационно-просветительская рабо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13"/>
          <p:cNvSpPr/>
          <p:nvPr/>
        </p:nvSpPr>
        <p:spPr>
          <a:xfrm>
            <a:off x="3733920" y="40384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Ранняя диагностика пороков развития пл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14"/>
          <p:cNvSpPr/>
          <p:nvPr/>
        </p:nvSpPr>
        <p:spPr>
          <a:xfrm>
            <a:off x="3733920" y="49528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Выявление и сбор  социального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3429000" y="1371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Профилактика СО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16"/>
          <p:cNvSpPr/>
          <p:nvPr/>
        </p:nvSpPr>
        <p:spPr>
          <a:xfrm>
            <a:off x="3733920" y="31240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Предупреждение нежелательной беремен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2971800" y="51814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18"/>
          <p:cNvSpPr/>
          <p:nvPr/>
        </p:nvSpPr>
        <p:spPr>
          <a:xfrm>
            <a:off x="2971800" y="43434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19"/>
          <p:cNvSpPr/>
          <p:nvPr/>
        </p:nvSpPr>
        <p:spPr>
          <a:xfrm>
            <a:off x="2971800" y="33526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20"/>
          <p:cNvSpPr/>
          <p:nvPr/>
        </p:nvSpPr>
        <p:spPr>
          <a:xfrm>
            <a:off x="2971800" y="25146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21"/>
          <p:cNvSpPr/>
          <p:nvPr/>
        </p:nvSpPr>
        <p:spPr>
          <a:xfrm>
            <a:off x="5791320" y="1371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22"/>
          <p:cNvSpPr/>
          <p:nvPr/>
        </p:nvSpPr>
        <p:spPr>
          <a:xfrm>
            <a:off x="2895480" y="13716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23"/>
          <p:cNvSpPr/>
          <p:nvPr/>
        </p:nvSpPr>
        <p:spPr>
          <a:xfrm>
            <a:off x="5410080" y="51814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24"/>
          <p:cNvSpPr/>
          <p:nvPr/>
        </p:nvSpPr>
        <p:spPr>
          <a:xfrm>
            <a:off x="5410080" y="24382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25"/>
          <p:cNvSpPr/>
          <p:nvPr/>
        </p:nvSpPr>
        <p:spPr>
          <a:xfrm>
            <a:off x="8153280" y="19051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26"/>
          <p:cNvSpPr/>
          <p:nvPr/>
        </p:nvSpPr>
        <p:spPr>
          <a:xfrm>
            <a:off x="685800" y="19051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7"/>
          <p:cNvSpPr/>
          <p:nvPr/>
        </p:nvSpPr>
        <p:spPr>
          <a:xfrm>
            <a:off x="1143000" y="266688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8"/>
          <p:cNvSpPr/>
          <p:nvPr/>
        </p:nvSpPr>
        <p:spPr>
          <a:xfrm>
            <a:off x="1143000" y="35053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9"/>
          <p:cNvSpPr/>
          <p:nvPr/>
        </p:nvSpPr>
        <p:spPr>
          <a:xfrm>
            <a:off x="1143000" y="48769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0"/>
          <p:cNvSpPr/>
          <p:nvPr/>
        </p:nvSpPr>
        <p:spPr>
          <a:xfrm>
            <a:off x="7696080" y="25909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1"/>
          <p:cNvSpPr/>
          <p:nvPr/>
        </p:nvSpPr>
        <p:spPr>
          <a:xfrm>
            <a:off x="7696080" y="53341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32"/>
          <p:cNvSpPr/>
          <p:nvPr/>
        </p:nvSpPr>
        <p:spPr>
          <a:xfrm>
            <a:off x="4419720" y="59436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33"/>
          <p:cNvSpPr/>
          <p:nvPr/>
        </p:nvSpPr>
        <p:spPr>
          <a:xfrm>
            <a:off x="2209680" y="5867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34"/>
          <p:cNvSpPr/>
          <p:nvPr/>
        </p:nvSpPr>
        <p:spPr>
          <a:xfrm>
            <a:off x="6705720" y="5867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35"/>
          <p:cNvSpPr/>
          <p:nvPr/>
        </p:nvSpPr>
        <p:spPr>
          <a:xfrm>
            <a:off x="1828800" y="6400800"/>
            <a:ext cx="5334120" cy="4572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Информационная ка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5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Модель работы учреждений здравоохранения по ранней профилактике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7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685800" y="2514600"/>
            <a:ext cx="769608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Кар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«Характеристика семьи группы социального рис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1.СВЕДЕНИЯ О НЕСОВЕРШЕННОЛЕТНИХ: 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2.СОЦИАЛЬНЫЙ АНАМНЕ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3. МАТЕРИАЛЬНОЕ БЛАГОСОСТОЯНИЕ СЕМЬ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4. ЖИЛИЩНО-БЫТОВЫЕ УСЛОВ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5. САНИТАРНО-ГИГИЕНИЧЕСКИЕ УСЛОВИЯ ВОСПИТАНИЯ РЕБЁ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6. ПСИХОЛОГИЧЕСКИЙ МИКРОКЛИМАТ В СЕМЬ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7. ПРИЧИНЫ ВЗЯТИЯ В ГРУППУ СОЦ. РИСКА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8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взятия на учёт в группу соц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р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иска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                   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9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снятия с учё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200400" y="1447920"/>
            <a:ext cx="2590920" cy="761760"/>
          </a:xfrm>
          <a:prstGeom prst="rect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Приемка, диагностика информационных кар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Учет «группы 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6400800" y="1447920"/>
            <a:ext cx="2389320" cy="761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ый работник 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304920" y="1447920"/>
            <a:ext cx="2286000" cy="761760"/>
          </a:xfrm>
          <a:prstGeom prst="rect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ый работник 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6477120" y="5638680"/>
            <a:ext cx="171108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Дети до 3-х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581280" y="5638680"/>
            <a:ext cx="171144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Берем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838080" y="5638680"/>
            <a:ext cx="171144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Женщины фертильного возра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838080" y="4952880"/>
            <a:ext cx="7315200" cy="3049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Формирование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5791320" y="175248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11"/>
          <p:cNvSpPr/>
          <p:nvPr/>
        </p:nvSpPr>
        <p:spPr>
          <a:xfrm>
            <a:off x="2590920" y="17524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4267080" y="10666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13"/>
          <p:cNvSpPr/>
          <p:nvPr/>
        </p:nvSpPr>
        <p:spPr>
          <a:xfrm>
            <a:off x="4267080" y="2209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14"/>
          <p:cNvSpPr/>
          <p:nvPr/>
        </p:nvSpPr>
        <p:spPr>
          <a:xfrm>
            <a:off x="1600200" y="5257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15"/>
          <p:cNvSpPr/>
          <p:nvPr/>
        </p:nvSpPr>
        <p:spPr>
          <a:xfrm>
            <a:off x="4343400" y="5257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6"/>
          <p:cNvSpPr/>
          <p:nvPr/>
        </p:nvSpPr>
        <p:spPr>
          <a:xfrm rot="10800000">
            <a:off x="1752120" y="-360"/>
            <a:ext cx="5257800" cy="1143000"/>
          </a:xfrm>
          <a:prstGeom prst="triangle">
            <a:avLst>
              <a:gd name="adj" fmla="val 487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Информационная ка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380880" y="4876920"/>
            <a:ext cx="8305920" cy="1676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18"/>
          <p:cNvSpPr/>
          <p:nvPr/>
        </p:nvSpPr>
        <p:spPr>
          <a:xfrm>
            <a:off x="4267080" y="45720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19"/>
          <p:cNvSpPr/>
          <p:nvPr/>
        </p:nvSpPr>
        <p:spPr>
          <a:xfrm>
            <a:off x="4267080" y="6553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20"/>
          <p:cNvSpPr/>
          <p:nvPr/>
        </p:nvSpPr>
        <p:spPr>
          <a:xfrm>
            <a:off x="1371600" y="22096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21"/>
          <p:cNvSpPr/>
          <p:nvPr/>
        </p:nvSpPr>
        <p:spPr>
          <a:xfrm>
            <a:off x="7467480" y="22096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22"/>
          <p:cNvSpPr/>
          <p:nvPr/>
        </p:nvSpPr>
        <p:spPr>
          <a:xfrm>
            <a:off x="7238880" y="5257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1143000" y="304920"/>
            <a:ext cx="6553080" cy="685800"/>
          </a:xfrm>
          <a:prstGeom prst="rect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Коррекция детей и семей групп ри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762120" y="1066680"/>
            <a:ext cx="761976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ение медико-социальной помощи детской поликлин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дицинский психолог              социальный работник                врач педиа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800600" y="1981080"/>
            <a:ext cx="2590920" cy="3733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5"/>
          <p:cNvSpPr/>
          <p:nvPr/>
        </p:nvSpPr>
        <p:spPr>
          <a:xfrm rot="16200000">
            <a:off x="6324480" y="3276360"/>
            <a:ext cx="3657600" cy="1066680"/>
          </a:xfrm>
          <a:prstGeom prst="rect">
            <a:avLst/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Анализ работы по критериям эффектив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228600" y="1981080"/>
            <a:ext cx="4343400" cy="3733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2286000" y="5950080"/>
            <a:ext cx="5029200" cy="75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т в норм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04920" y="2514600"/>
            <a:ext cx="41907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69b80"/>
                </a:solidFill>
                <a:latin typeface="Times New Roman"/>
              </a:rPr>
              <a:t>Индивидуальная коррекционная программа для детей и семей групп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Object 9"/>
          <p:cNvGraphicFramePr/>
          <p:nvPr/>
        </p:nvGraphicFramePr>
        <p:xfrm>
          <a:off x="463680" y="3051000"/>
          <a:ext cx="4003560" cy="330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051000"/>
                    <a:ext cx="4003560" cy="33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AutoShape 10"/>
          <p:cNvSpPr/>
          <p:nvPr/>
        </p:nvSpPr>
        <p:spPr>
          <a:xfrm>
            <a:off x="2286000" y="17524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11"/>
          <p:cNvSpPr/>
          <p:nvPr/>
        </p:nvSpPr>
        <p:spPr>
          <a:xfrm>
            <a:off x="5562720" y="17524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2"/>
          <p:cNvSpPr/>
          <p:nvPr/>
        </p:nvSpPr>
        <p:spPr>
          <a:xfrm>
            <a:off x="7924680" y="17524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876920" y="2133720"/>
            <a:ext cx="2438280" cy="580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Взаимодействие с другими ведомствам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4952880" y="2895480"/>
            <a:ext cx="8384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КД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5181480" y="3733920"/>
            <a:ext cx="12956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Соц.защи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5867280" y="4495680"/>
            <a:ext cx="8384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ГКН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6400800" y="5181480"/>
            <a:ext cx="91440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ОО и 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609480" y="2057400"/>
            <a:ext cx="35816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Социальный консилиу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9"/>
          <p:cNvSpPr/>
          <p:nvPr/>
        </p:nvSpPr>
        <p:spPr>
          <a:xfrm>
            <a:off x="4572000" y="35053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21"/>
          <p:cNvSpPr/>
          <p:nvPr/>
        </p:nvSpPr>
        <p:spPr>
          <a:xfrm>
            <a:off x="3276720" y="5715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22"/>
          <p:cNvSpPr/>
          <p:nvPr/>
        </p:nvSpPr>
        <p:spPr>
          <a:xfrm>
            <a:off x="5867280" y="5715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4"/>
          <p:cNvSpPr/>
          <p:nvPr/>
        </p:nvSpPr>
        <p:spPr>
          <a:xfrm>
            <a:off x="2286000" y="5943600"/>
            <a:ext cx="5029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5"/>
          <p:cNvSpPr/>
          <p:nvPr/>
        </p:nvSpPr>
        <p:spPr>
          <a:xfrm>
            <a:off x="1219320" y="1447920"/>
            <a:ext cx="20574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3962520" y="1447920"/>
            <a:ext cx="20574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7"/>
          <p:cNvSpPr/>
          <p:nvPr/>
        </p:nvSpPr>
        <p:spPr>
          <a:xfrm>
            <a:off x="6553080" y="1447920"/>
            <a:ext cx="13716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28"/>
          <p:cNvSpPr/>
          <p:nvPr/>
        </p:nvSpPr>
        <p:spPr>
          <a:xfrm>
            <a:off x="2362320" y="2286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8077320" y="5638680"/>
            <a:ext cx="152280" cy="762120"/>
          </a:xfrm>
          <a:prstGeom prst="rect">
            <a:avLst/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30"/>
          <p:cNvSpPr/>
          <p:nvPr/>
        </p:nvSpPr>
        <p:spPr>
          <a:xfrm>
            <a:off x="7315200" y="624852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990720"/>
          </a:xfrm>
          <a:prstGeom prst="rect">
            <a:avLst/>
          </a:prstGeom>
          <a:solidFill>
            <a:srgbClr val="a7ee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критерии эффективности ранней профилактики  СОП и СС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детской поликлинике и женской консультации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вердловского района г.Перми 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28600" y="990720"/>
          <a:ext cx="8686800" cy="5616360"/>
        </p:xfrm>
        <a:graphic>
          <a:graphicData uri="http://schemas.openxmlformats.org/drawingml/2006/table">
            <a:tbl>
              <a:tblPr/>
              <a:tblGrid>
                <a:gridCol w="309600"/>
                <a:gridCol w="5557680"/>
                <a:gridCol w="990720"/>
                <a:gridCol w="914400"/>
                <a:gridCol w="9144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Крите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5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6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4936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   подростков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,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нсультируем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 вопросам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ланирования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семь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8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3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4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лушателей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кций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п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ланированию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семь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казатель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бортов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н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00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енщин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епродуктивного возраста)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ереме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енщин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воевременно поставленных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н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чет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,1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7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8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508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прикрепленного населен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3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беременных женщин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иска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 числа женщин вставших на учет по беременности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3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   детей    группы    риска    вновь    выявленны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4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5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6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33804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аполне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дивидуаль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рамм реабилитаци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ес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еализова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дивидуаль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рамм реабилитаци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еализация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 (удельный вес детей группы риска, оказавшихся в СОП от числа детей группы риска)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3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33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отказов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от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</a:tbl>
          </a:graphicData>
        </a:graphic>
      </p:graphicFrame>
      <p:sp>
        <p:nvSpPr>
          <p:cNvPr id="381" name="Text Box 84"/>
          <p:cNvSpPr/>
          <p:nvPr/>
        </p:nvSpPr>
        <p:spPr>
          <a:xfrm>
            <a:off x="304920" y="13716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85"/>
          <p:cNvSpPr/>
          <p:nvPr/>
        </p:nvSpPr>
        <p:spPr>
          <a:xfrm rot="16200000">
            <a:off x="-347040" y="214812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86"/>
          <p:cNvSpPr/>
          <p:nvPr/>
        </p:nvSpPr>
        <p:spPr>
          <a:xfrm rot="16200000">
            <a:off x="-289080" y="3868920"/>
            <a:ext cx="13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87"/>
          <p:cNvSpPr/>
          <p:nvPr/>
        </p:nvSpPr>
        <p:spPr>
          <a:xfrm rot="16200000">
            <a:off x="-211320" y="539280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30"/>
          <p:cNvSpPr/>
          <p:nvPr/>
        </p:nvSpPr>
        <p:spPr>
          <a:xfrm>
            <a:off x="685800" y="457200"/>
            <a:ext cx="7924680" cy="64008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Система работы по ранней профилактике СОП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495680"/>
            <a:ext cx="2590920" cy="990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здравоохра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. 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акушеры-гинеко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477120" y="5181480"/>
            <a:ext cx="2819160" cy="762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культуры 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одежной полити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732720" y="765000"/>
            <a:ext cx="2182680" cy="719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 школ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 ДО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2209680" y="1219320"/>
            <a:ext cx="5181840" cy="480060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038480" y="594360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Женщины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ертильн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0" y="685800"/>
            <a:ext cx="2590920" cy="762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здравоохра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. 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педиат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9"/>
          <p:cNvSpPr/>
          <p:nvPr/>
        </p:nvSpPr>
        <p:spPr>
          <a:xfrm>
            <a:off x="6518160" y="1862280"/>
            <a:ext cx="222480" cy="16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3080520" y="1613520"/>
            <a:ext cx="233280" cy="248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1"/>
          <p:cNvSpPr/>
          <p:nvPr/>
        </p:nvSpPr>
        <p:spPr>
          <a:xfrm flipH="1" flipV="1">
            <a:off x="2329200" y="4512240"/>
            <a:ext cx="141480" cy="19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2"/>
          <p:cNvSpPr/>
          <p:nvPr/>
        </p:nvSpPr>
        <p:spPr>
          <a:xfrm flipH="1">
            <a:off x="6999480" y="4577760"/>
            <a:ext cx="174240" cy="293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23"/>
          <p:cNvSpPr/>
          <p:nvPr/>
        </p:nvSpPr>
        <p:spPr>
          <a:xfrm>
            <a:off x="3352680" y="2209680"/>
            <a:ext cx="2971800" cy="281952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4"/>
          <p:cNvSpPr/>
          <p:nvPr/>
        </p:nvSpPr>
        <p:spPr>
          <a:xfrm flipH="1">
            <a:off x="685800" y="33526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6324480" y="3352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6"/>
          <p:cNvSpPr/>
          <p:nvPr/>
        </p:nvSpPr>
        <p:spPr>
          <a:xfrm flipH="1">
            <a:off x="2514600" y="4648320"/>
            <a:ext cx="137160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5486400" y="4876920"/>
            <a:ext cx="106668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4800600" y="457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32"/>
          <p:cNvSpPr/>
          <p:nvPr/>
        </p:nvSpPr>
        <p:spPr>
          <a:xfrm>
            <a:off x="6629400" y="19810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00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7696080" y="1447920"/>
            <a:ext cx="1219320" cy="12189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в. род-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34"/>
          <p:cNvSpPr/>
          <p:nvPr/>
        </p:nvSpPr>
        <p:spPr>
          <a:xfrm>
            <a:off x="6705720" y="5791320"/>
            <a:ext cx="1218960" cy="12189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7467480" y="40384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Молодежь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14-30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914400" y="358128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Берем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женщи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666880" y="68580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емьи 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етьм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т 0 до 3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410080" y="7621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емьи 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етьм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т 3 до 17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40"/>
          <p:cNvSpPr/>
          <p:nvPr/>
        </p:nvSpPr>
        <p:spPr>
          <a:xfrm>
            <a:off x="18288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41"/>
          <p:cNvSpPr/>
          <p:nvPr/>
        </p:nvSpPr>
        <p:spPr>
          <a:xfrm>
            <a:off x="2743200" y="47242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42"/>
          <p:cNvSpPr/>
          <p:nvPr/>
        </p:nvSpPr>
        <p:spPr>
          <a:xfrm>
            <a:off x="990720" y="1447920"/>
            <a:ext cx="1218960" cy="121896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43"/>
          <p:cNvSpPr/>
          <p:nvPr/>
        </p:nvSpPr>
        <p:spPr>
          <a:xfrm>
            <a:off x="1905120" y="22096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99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WordArt 45"/>
          <p:cNvSpPr txBox="1"/>
          <p:nvPr/>
        </p:nvSpPr>
        <p:spPr>
          <a:xfrm rot="21322200">
            <a:off x="3048120" y="152352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47"/>
          <p:cNvSpPr txBox="1"/>
          <p:nvPr/>
        </p:nvSpPr>
        <p:spPr>
          <a:xfrm rot="550800">
            <a:off x="5486040" y="152352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48"/>
          <p:cNvSpPr txBox="1"/>
          <p:nvPr/>
        </p:nvSpPr>
        <p:spPr>
          <a:xfrm rot="5335800">
            <a:off x="2248560" y="3770280"/>
            <a:ext cx="1295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49"/>
          <p:cNvSpPr txBox="1"/>
          <p:nvPr/>
        </p:nvSpPr>
        <p:spPr>
          <a:xfrm rot="20611200">
            <a:off x="6095520" y="3809520"/>
            <a:ext cx="1067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50"/>
          <p:cNvSpPr txBox="1"/>
          <p:nvPr/>
        </p:nvSpPr>
        <p:spPr>
          <a:xfrm rot="1767000">
            <a:off x="4190760" y="495288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51"/>
          <p:cNvSpPr txBox="1"/>
          <p:nvPr/>
        </p:nvSpPr>
        <p:spPr>
          <a:xfrm rot="27600">
            <a:off x="3351240" y="2588760"/>
            <a:ext cx="301932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16983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мьи и дет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 социально опасном положени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Rectangle 55"/>
          <p:cNvSpPr/>
          <p:nvPr/>
        </p:nvSpPr>
        <p:spPr>
          <a:xfrm rot="4800">
            <a:off x="3429000" y="3123720"/>
            <a:ext cx="129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СО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58"/>
          <p:cNvSpPr/>
          <p:nvPr/>
        </p:nvSpPr>
        <p:spPr>
          <a:xfrm>
            <a:off x="2895480" y="236232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9"/>
          <p:cNvSpPr/>
          <p:nvPr/>
        </p:nvSpPr>
        <p:spPr>
          <a:xfrm flipH="1">
            <a:off x="2666520" y="32767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62"/>
          <p:cNvSpPr/>
          <p:nvPr/>
        </p:nvSpPr>
        <p:spPr>
          <a:xfrm flipH="1">
            <a:off x="2057400" y="2209680"/>
            <a:ext cx="7632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63"/>
          <p:cNvSpPr/>
          <p:nvPr/>
        </p:nvSpPr>
        <p:spPr>
          <a:xfrm>
            <a:off x="1447920" y="14479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5"/>
          <p:cNvSpPr/>
          <p:nvPr/>
        </p:nvSpPr>
        <p:spPr>
          <a:xfrm flipV="1">
            <a:off x="2625120" y="758880"/>
            <a:ext cx="331200" cy="203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66"/>
          <p:cNvSpPr/>
          <p:nvPr/>
        </p:nvSpPr>
        <p:spPr>
          <a:xfrm flipH="1" flipV="1">
            <a:off x="652680" y="3810960"/>
            <a:ext cx="28440" cy="329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7"/>
          <p:cNvSpPr/>
          <p:nvPr/>
        </p:nvSpPr>
        <p:spPr>
          <a:xfrm>
            <a:off x="6514920" y="807480"/>
            <a:ext cx="292320" cy="167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68"/>
          <p:cNvSpPr/>
          <p:nvPr/>
        </p:nvSpPr>
        <p:spPr>
          <a:xfrm flipH="1">
            <a:off x="8475480" y="4101480"/>
            <a:ext cx="82440" cy="43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69"/>
          <p:cNvSpPr/>
          <p:nvPr/>
        </p:nvSpPr>
        <p:spPr>
          <a:xfrm flipV="1">
            <a:off x="7772400" y="1599840"/>
            <a:ext cx="7632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70"/>
          <p:cNvSpPr/>
          <p:nvPr/>
        </p:nvSpPr>
        <p:spPr>
          <a:xfrm>
            <a:off x="8763120" y="1676520"/>
            <a:ext cx="15228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1"/>
          <p:cNvSpPr/>
          <p:nvPr/>
        </p:nvSpPr>
        <p:spPr>
          <a:xfrm flipH="1">
            <a:off x="8457840" y="2590920"/>
            <a:ext cx="15228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3"/>
          <p:cNvSpPr/>
          <p:nvPr/>
        </p:nvSpPr>
        <p:spPr>
          <a:xfrm flipH="1">
            <a:off x="7467480" y="2971800"/>
            <a:ext cx="15264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4"/>
          <p:cNvSpPr/>
          <p:nvPr/>
        </p:nvSpPr>
        <p:spPr>
          <a:xfrm>
            <a:off x="7162920" y="19810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75"/>
          <p:cNvSpPr/>
          <p:nvPr/>
        </p:nvSpPr>
        <p:spPr>
          <a:xfrm flipH="1" flipV="1">
            <a:off x="6629400" y="2666880"/>
            <a:ext cx="76320" cy="152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76"/>
          <p:cNvSpPr/>
          <p:nvPr/>
        </p:nvSpPr>
        <p:spPr>
          <a:xfrm flipH="1">
            <a:off x="7772400" y="655308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7"/>
          <p:cNvSpPr/>
          <p:nvPr/>
        </p:nvSpPr>
        <p:spPr>
          <a:xfrm>
            <a:off x="7315200" y="57913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8"/>
          <p:cNvSpPr/>
          <p:nvPr/>
        </p:nvSpPr>
        <p:spPr>
          <a:xfrm flipH="1" flipV="1">
            <a:off x="6705360" y="6476760"/>
            <a:ext cx="7596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83"/>
          <p:cNvSpPr/>
          <p:nvPr/>
        </p:nvSpPr>
        <p:spPr>
          <a:xfrm>
            <a:off x="3886200" y="541008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5"/>
          <p:cNvSpPr/>
          <p:nvPr/>
        </p:nvSpPr>
        <p:spPr>
          <a:xfrm rot="4800">
            <a:off x="4114440" y="4190760"/>
            <a:ext cx="1384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НИЦ. КДНиЗ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89"/>
          <p:cNvSpPr/>
          <p:nvPr/>
        </p:nvSpPr>
        <p:spPr>
          <a:xfrm>
            <a:off x="609480" y="56386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90"/>
          <p:cNvSpPr/>
          <p:nvPr/>
        </p:nvSpPr>
        <p:spPr>
          <a:xfrm flipV="1">
            <a:off x="1676520" y="594324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1"/>
          <p:cNvSpPr/>
          <p:nvPr/>
        </p:nvSpPr>
        <p:spPr>
          <a:xfrm>
            <a:off x="685800" y="655308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2"/>
          <p:cNvSpPr/>
          <p:nvPr/>
        </p:nvSpPr>
        <p:spPr>
          <a:xfrm flipH="1">
            <a:off x="837720" y="57150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93"/>
          <p:cNvSpPr/>
          <p:nvPr/>
        </p:nvSpPr>
        <p:spPr>
          <a:xfrm>
            <a:off x="-152280" y="137160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94"/>
          <p:cNvSpPr/>
          <p:nvPr/>
        </p:nvSpPr>
        <p:spPr>
          <a:xfrm flipH="1">
            <a:off x="304560" y="13716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5"/>
          <p:cNvSpPr/>
          <p:nvPr/>
        </p:nvSpPr>
        <p:spPr>
          <a:xfrm>
            <a:off x="152280" y="251460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6"/>
          <p:cNvSpPr/>
          <p:nvPr/>
        </p:nvSpPr>
        <p:spPr>
          <a:xfrm flipV="1">
            <a:off x="990720" y="198072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7"/>
          <p:cNvSpPr/>
          <p:nvPr/>
        </p:nvSpPr>
        <p:spPr>
          <a:xfrm rot="4800">
            <a:off x="4876920" y="3123720"/>
            <a:ext cx="129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БИЛИТ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СО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98"/>
          <p:cNvSpPr/>
          <p:nvPr/>
        </p:nvSpPr>
        <p:spPr>
          <a:xfrm flipH="1" flipV="1">
            <a:off x="1828800" y="6476760"/>
            <a:ext cx="7632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99"/>
          <p:cNvSpPr/>
          <p:nvPr/>
        </p:nvSpPr>
        <p:spPr>
          <a:xfrm>
            <a:off x="2895480" y="57150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01"/>
          <p:cNvSpPr/>
          <p:nvPr/>
        </p:nvSpPr>
        <p:spPr>
          <a:xfrm flipH="1">
            <a:off x="3200040" y="586728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 flipV="1">
            <a:off x="1676520" y="129420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267080" y="1600200"/>
            <a:ext cx="419112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УЧИТЕЛЯ (КЛАССНЫЕ РУКОВОДИТЕЛИ); ЗАМ. ДИРЕКТОРА ПО ВР; ПЕДАГОГИ ДОП.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4648320" y="2514600"/>
            <a:ext cx="3276360" cy="83808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219320" y="152280"/>
            <a:ext cx="6476760" cy="457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УМ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и дети в н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 flipV="1">
            <a:off x="5562720" y="129420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0880" y="1600200"/>
            <a:ext cx="373392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ВОСПИТАТЕЛИ ДО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4495680" y="3505320"/>
            <a:ext cx="3429000" cy="10666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ШКОЛЬНЫЙ ИНСПЕКТОР МИЛИЦИИ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МЕДИЦИНСКИЕ РАБОТ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042920" y="3500280"/>
            <a:ext cx="3162240" cy="1067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МЕДИЦИНСКИЕ РАБОТ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900000" y="5877000"/>
            <a:ext cx="7086600" cy="981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КОЛЬНЫЙ КОНСИЛИУМ (ПСИХОЛОГ, СОЦИАЛЬНЫЙ РАБОТНИК) И ПСИХОЛОГ В ДОУ; ПСИХОЛОГИ ДОПОЛНИТЕ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1"/>
          <p:cNvSpPr/>
          <p:nvPr/>
        </p:nvSpPr>
        <p:spPr>
          <a:xfrm>
            <a:off x="609480" y="2514600"/>
            <a:ext cx="3200400" cy="91440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152280" y="609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15"/>
          <p:cNvCxnSpPr>
            <a:stCxn id="176" idx="0"/>
            <a:endCxn id="178" idx="0"/>
          </p:cNvCxnSpPr>
          <p:nvPr/>
        </p:nvCxnSpPr>
        <p:spPr>
          <a:xfrm>
            <a:off x="151920" y="628560"/>
            <a:ext cx="1080" cy="5448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" name="AutoShape 16"/>
          <p:cNvCxnSpPr>
            <a:stCxn id="180" idx="0"/>
            <a:endCxn id="181" idx="0"/>
          </p:cNvCxnSpPr>
          <p:nvPr/>
        </p:nvCxnSpPr>
        <p:spPr>
          <a:xfrm flipH="1">
            <a:off x="8870400" y="590040"/>
            <a:ext cx="45000" cy="5738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82" name="Line 17"/>
          <p:cNvSpPr/>
          <p:nvPr/>
        </p:nvSpPr>
        <p:spPr>
          <a:xfrm flipH="1">
            <a:off x="7772040" y="609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152280" y="6095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7956720" y="63086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754380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1219320" y="609480"/>
            <a:ext cx="32004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3 ДО 6 ЛЕТ (ДОШКОЛЬНИ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5"/>
          <p:cNvSpPr/>
          <p:nvPr/>
        </p:nvSpPr>
        <p:spPr>
          <a:xfrm>
            <a:off x="4724280" y="609480"/>
            <a:ext cx="29718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 6 ДО 18 ЛЕТ (ШКОЛЬНИ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468360" y="4797360"/>
            <a:ext cx="7661160" cy="7923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СОНИФИЦИРОВАННЫЙ УЧЕТ ГРУППЫ РИС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Ы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АЧА РЕГИСТРА В МУНИЦИПАЛЬНЫЕ  КДНиЗ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7"/>
          <p:cNvSpPr/>
          <p:nvPr/>
        </p:nvSpPr>
        <p:spPr>
          <a:xfrm>
            <a:off x="622764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8"/>
          <p:cNvSpPr/>
          <p:nvPr/>
        </p:nvSpPr>
        <p:spPr>
          <a:xfrm>
            <a:off x="2124000" y="5589720"/>
            <a:ext cx="0" cy="30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29"/>
          <p:cNvSpPr/>
          <p:nvPr/>
        </p:nvSpPr>
        <p:spPr>
          <a:xfrm>
            <a:off x="0" y="3809880"/>
            <a:ext cx="1219320" cy="9907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0"/>
          <p:cNvSpPr/>
          <p:nvPr/>
        </p:nvSpPr>
        <p:spPr>
          <a:xfrm>
            <a:off x="8077320" y="4876920"/>
            <a:ext cx="1066680" cy="761760"/>
          </a:xfrm>
          <a:prstGeom prst="rightArrow">
            <a:avLst>
              <a:gd name="adj1" fmla="val 50000"/>
              <a:gd name="adj2" fmla="val 3500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213372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31"/>
          <p:cNvSpPr/>
          <p:nvPr/>
        </p:nvSpPr>
        <p:spPr>
          <a:xfrm>
            <a:off x="0" y="4952880"/>
            <a:ext cx="990720" cy="685800"/>
          </a:xfrm>
          <a:prstGeom prst="left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32"/>
          <p:cNvSpPr/>
          <p:nvPr/>
        </p:nvSpPr>
        <p:spPr>
          <a:xfrm rot="10840800">
            <a:off x="7848720" y="3809520"/>
            <a:ext cx="1295280" cy="98928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3"/>
          <p:cNvSpPr/>
          <p:nvPr/>
        </p:nvSpPr>
        <p:spPr>
          <a:xfrm>
            <a:off x="0" y="3276720"/>
            <a:ext cx="1066680" cy="761760"/>
          </a:xfrm>
          <a:prstGeom prst="leftArrow">
            <a:avLst>
              <a:gd name="adj1" fmla="val 50000"/>
              <a:gd name="adj2" fmla="val 3500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34"/>
          <p:cNvSpPr/>
          <p:nvPr/>
        </p:nvSpPr>
        <p:spPr>
          <a:xfrm>
            <a:off x="7924680" y="3352680"/>
            <a:ext cx="1219320" cy="762120"/>
          </a:xfrm>
          <a:prstGeom prst="rightArrow">
            <a:avLst>
              <a:gd name="adj1" fmla="val 50000"/>
              <a:gd name="adj2" fmla="val 39998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 rot="10800000">
            <a:off x="1904760" y="1295280"/>
            <a:ext cx="1523880" cy="45720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648320" y="1600200"/>
            <a:ext cx="3276360" cy="1219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КАБИНЕТЫ ЗДОРОВОГО РЕБЕНКА ПРИ ДЕТСКИХ ПОЛИКЛИНИКАХ; 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4724280" y="2819520"/>
            <a:ext cx="3276720" cy="76176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с признак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неблагополу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19320" y="152280"/>
            <a:ext cx="6476760" cy="457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УМ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и дети в н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85800" y="1752480"/>
            <a:ext cx="3581280" cy="1067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КАБИНЕТЫ ПЛАНИРОВАНИЯ СЕМЬИ, СПЕЦИАЛИСТ ПО ГИГИЕНИЧЕСКОМУ ВОСПИТАНИЮ (совместно с учреждениями образован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572000" y="3581280"/>
            <a:ext cx="3429000" cy="8384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УЧАСТКОВЫЕ ВРАЧИ ПЕДИАТРЫ, УЧАСТКОВЫЕ ТЕРАПЕВ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85800" y="3581280"/>
            <a:ext cx="358128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УЧАСТКОВЫЕ АКУШЕРЫ-ГИНЕКОЛОГИ, УЧАСТКОВЫЕ ТЕРАПЕВ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609480" y="6172200"/>
            <a:ext cx="792504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ОРРЕК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АЯ СЛУЖБА ПРИ ДЕТСКОЙ ПОЛИКЛИН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838080" y="2819520"/>
            <a:ext cx="3200400" cy="76176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с признак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неблагополу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>
            <a:off x="647712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2438280" y="4495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152280" y="609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14"/>
          <p:cNvCxnSpPr>
            <a:stCxn id="212" idx="0"/>
            <a:endCxn id="214" idx="0"/>
          </p:cNvCxnSpPr>
          <p:nvPr/>
        </p:nvCxnSpPr>
        <p:spPr>
          <a:xfrm>
            <a:off x="151920" y="628200"/>
            <a:ext cx="1080" cy="5829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15" name="Line 15"/>
          <p:cNvSpPr/>
          <p:nvPr/>
        </p:nvSpPr>
        <p:spPr>
          <a:xfrm flipH="1">
            <a:off x="7772040" y="609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52280" y="6477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8534520" y="6477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754380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1219320" y="609480"/>
            <a:ext cx="32004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женщины фертильного возраста, беременные женщи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4724280" y="609480"/>
            <a:ext cx="29718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0 до 3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2"/>
          <p:cNvSpPr/>
          <p:nvPr/>
        </p:nvSpPr>
        <p:spPr>
          <a:xfrm rot="10786800">
            <a:off x="5408280" y="129492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62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4572000" y="4800600"/>
            <a:ext cx="3581280" cy="838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ИЕМКА И УЧЕТ ВЫЯВЛЕ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ОЦИАЛЬНЫЙ РАБО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685800" y="4876920"/>
            <a:ext cx="3581280" cy="838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ИЕМКА И УЧЕТ ВЫЯВЛЕ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ОЦИАЛЬНЫЙ РАБО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8915400" y="609480"/>
            <a:ext cx="0" cy="586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6"/>
          <p:cNvSpPr/>
          <p:nvPr/>
        </p:nvSpPr>
        <p:spPr>
          <a:xfrm>
            <a:off x="990720" y="5715000"/>
            <a:ext cx="3200400" cy="53352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4724280" y="5638680"/>
            <a:ext cx="3200400" cy="60984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28"/>
          <p:cNvSpPr/>
          <p:nvPr/>
        </p:nvSpPr>
        <p:spPr>
          <a:xfrm>
            <a:off x="7924680" y="4800600"/>
            <a:ext cx="1067040" cy="990720"/>
          </a:xfrm>
          <a:prstGeom prst="rightArrow">
            <a:avLst>
              <a:gd name="adj1" fmla="val 50000"/>
              <a:gd name="adj2" fmla="val 2692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29"/>
          <p:cNvSpPr/>
          <p:nvPr/>
        </p:nvSpPr>
        <p:spPr>
          <a:xfrm>
            <a:off x="0" y="4800600"/>
            <a:ext cx="990720" cy="914400"/>
          </a:xfrm>
          <a:prstGeom prst="leftArrow">
            <a:avLst>
              <a:gd name="adj1" fmla="val 50000"/>
              <a:gd name="adj2" fmla="val 2708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30"/>
          <p:cNvSpPr/>
          <p:nvPr/>
        </p:nvSpPr>
        <p:spPr>
          <a:xfrm rot="10840800">
            <a:off x="7848720" y="3428280"/>
            <a:ext cx="1295280" cy="9889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31"/>
          <p:cNvSpPr/>
          <p:nvPr/>
        </p:nvSpPr>
        <p:spPr>
          <a:xfrm>
            <a:off x="0" y="3429000"/>
            <a:ext cx="1143000" cy="9907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Ранняя профилактика социально опасного положения и социального сиротства учащихся школы № 140</a:t>
            </a: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г. Пер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824360"/>
          </a:xfrm>
          <a:prstGeom prst="rect">
            <a:avLst/>
          </a:prstGeom>
          <a:noFill/>
          <a:ln w="9360">
            <a:solidFill>
              <a:srgbClr val="66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дагогического коллектива, направленную на эффективные способы 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учащихся «группу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детей и подростков «группы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Times New Roman"/>
              </a:rPr>
              <a:t>Первичная профилактика с  учащимися и их семья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5280" y="1844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395280" y="1987560"/>
            <a:ext cx="3960720" cy="2017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8920" y="1915920"/>
            <a:ext cx="4071960" cy="20192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школьного уполномоченного по правам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280" y="4292280"/>
            <a:ext cx="3816360" cy="20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4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содержательного досу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858920" y="4292280"/>
            <a:ext cx="3986280" cy="20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т деловых партне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4356000" y="2924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539640" y="1989000"/>
            <a:ext cx="37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психолого-педагогической поддержк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680400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4356000" y="5157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241128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395280" y="836640"/>
            <a:ext cx="180036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ител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ствен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780000" y="692280"/>
            <a:ext cx="180000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ед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рон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516720" y="620640"/>
            <a:ext cx="1873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6156360" y="1773360"/>
            <a:ext cx="237636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пектор милици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й работни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ные за  школ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ЛЕНИЕ учащихся «группы риска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7"/>
          <p:cNvSpPr/>
          <p:nvPr/>
        </p:nvSpPr>
        <p:spPr>
          <a:xfrm>
            <a:off x="468360" y="1844640"/>
            <a:ext cx="4751280" cy="7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ор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755640" y="2852640"/>
            <a:ext cx="8064360" cy="7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 СОВЕТ ПРОФИЛАКТИКИ (фильтр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едагог, заместители директора школы, руководитель службы поддержки семь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7632720" y="5084640"/>
            <a:ext cx="1511280" cy="792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еки 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ечитель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5940360" y="5157720"/>
            <a:ext cx="1584360" cy="7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ы социа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ы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6156360" y="4076640"/>
            <a:ext cx="266364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СО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0" y="4076640"/>
            <a:ext cx="273672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«группы рис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0" y="4581360"/>
            <a:ext cx="2484360" cy="503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школьный уч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0" y="5300640"/>
            <a:ext cx="442764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15"/>
          <p:cNvSpPr/>
          <p:nvPr/>
        </p:nvSpPr>
        <p:spPr>
          <a:xfrm>
            <a:off x="395280" y="6308640"/>
            <a:ext cx="2016000" cy="405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П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0" y="5589720"/>
            <a:ext cx="4427640" cy="431640"/>
          </a:xfrm>
          <a:prstGeom prst="rect">
            <a:avLst/>
          </a:prstGeom>
          <a:solidFill>
            <a:srgbClr val="9ba5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 консилиу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 педагог, психолог, классные руковод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7"/>
          <p:cNvSpPr/>
          <p:nvPr/>
        </p:nvSpPr>
        <p:spPr>
          <a:xfrm>
            <a:off x="826920" y="5157720"/>
            <a:ext cx="57636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2268360" y="6021360"/>
            <a:ext cx="935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234000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атор индивидуальных программ сопровож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0"/>
          <p:cNvSpPr/>
          <p:nvPr/>
        </p:nvSpPr>
        <p:spPr>
          <a:xfrm>
            <a:off x="2195640" y="1197000"/>
            <a:ext cx="3960720" cy="863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1"/>
          <p:cNvSpPr/>
          <p:nvPr/>
        </p:nvSpPr>
        <p:spPr>
          <a:xfrm>
            <a:off x="5003640" y="1413000"/>
            <a:ext cx="1224000" cy="360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6659640" y="134136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23"/>
          <p:cNvSpPr/>
          <p:nvPr/>
        </p:nvSpPr>
        <p:spPr>
          <a:xfrm>
            <a:off x="5219640" y="1989000"/>
            <a:ext cx="936720" cy="503280"/>
          </a:xfrm>
          <a:prstGeom prst="leftArrow">
            <a:avLst>
              <a:gd name="adj1" fmla="val 50000"/>
              <a:gd name="adj2" fmla="val 4653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24"/>
          <p:cNvSpPr/>
          <p:nvPr/>
        </p:nvSpPr>
        <p:spPr>
          <a:xfrm>
            <a:off x="6012000" y="249228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25"/>
          <p:cNvSpPr/>
          <p:nvPr/>
        </p:nvSpPr>
        <p:spPr>
          <a:xfrm>
            <a:off x="1258920" y="3716280"/>
            <a:ext cx="649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6659640" y="3716280"/>
            <a:ext cx="72072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7"/>
          <p:cNvSpPr/>
          <p:nvPr/>
        </p:nvSpPr>
        <p:spPr>
          <a:xfrm flipH="1">
            <a:off x="7019640" y="436572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8"/>
          <p:cNvSpPr/>
          <p:nvPr/>
        </p:nvSpPr>
        <p:spPr>
          <a:xfrm>
            <a:off x="7740720" y="4365720"/>
            <a:ext cx="504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9"/>
          <p:cNvSpPr/>
          <p:nvPr/>
        </p:nvSpPr>
        <p:spPr>
          <a:xfrm>
            <a:off x="3203640" y="4076640"/>
            <a:ext cx="259236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и «норм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30"/>
          <p:cNvSpPr/>
          <p:nvPr/>
        </p:nvSpPr>
        <p:spPr>
          <a:xfrm>
            <a:off x="4067280" y="3645000"/>
            <a:ext cx="79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31"/>
          <p:cNvSpPr/>
          <p:nvPr/>
        </p:nvSpPr>
        <p:spPr>
          <a:xfrm>
            <a:off x="8532720" y="1773360"/>
            <a:ext cx="61128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</a:rPr>
              <a:t>Критерии постановки на внутришкольный учет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пуски уро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явление элементов асоциального поведения (сквернословие, драки, грубость, курение, издевательство над учащимис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отребление ПАВ (разовый случа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циальное неблагополучие семьи (социально обусловленные заболевания детей, бродяжничество, попрошайничество и т.д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1:05:15Z</dcterms:created>
  <dc:creator>Ярослвцева М.В.</dc:creator>
  <dc:description/>
  <dc:language>en-US</dc:language>
  <cp:lastModifiedBy>RomaK</cp:lastModifiedBy>
  <dcterms:modified xsi:type="dcterms:W3CDTF">2014-10-31T14:06:29Z</dcterms:modified>
  <cp:revision>106</cp:revision>
  <dc:subject/>
  <dc:title>О новых механизмах управления профилактикой преступности несовершеннолетних</dc:title>
</cp:coreProperties>
</file>