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E779-C45F-4366-85E7-88EFA484B8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E161-9EF6-4E50-81D2-F47E2E7531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7E18-0AA4-49E9-A47E-312CDFEF77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4642-2C67-424E-94F2-68F9B121A9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F8AB-2AD0-4CE1-A968-3F26B231C1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BC88-C8BD-4062-A4B6-DAB8914F53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р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1EA5-8B1A-4D6D-B138-0A8BAFEB58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ED82-D310-45AB-B370-DFB4362358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845E-E43B-42E6-B790-69759CAC1E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21A1-EF03-4512-9E91-83BA5A7C37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0679-C97A-433E-BEC8-F436D45FF4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0641-4324-4D0E-9CF0-ED2061C07D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58DB-CBD0-4A17-AB55-02D1DAC94E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2CC2-2530-47AD-B936-AE1EC9B5E8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E42-AA7A-4509-AC26-5AB92662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CDD-A0AF-4D92-A2FB-2AC08A4B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85E-177D-4E9C-A14B-32983244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418-A88E-496E-B4C3-64D0EFC7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5908-D96E-4A9C-9900-4D4DCCD9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7861-99DF-4BF0-B45D-1578180E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936E-0426-453E-A3A7-1A889FD9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9697-DED1-4134-8840-E6DD0447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0BF9-2E43-4537-9770-369E68F3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0E10-5DB6-467B-AAA0-5C28FDA0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C9BE-F995-48E6-A96B-A81FB72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1CF-71EE-41EF-8BDA-3E779DF0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D68D-D6FB-429D-8F84-1B6E2FA4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FA3F-A4F4-40FF-94F7-78930776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2C2C-2301-4495-B70E-A1739295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9C7B-F970-4B6D-B772-9AB0C7AF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0215-CB71-4456-96FB-8FB0617B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7B1-86A1-4E2C-8BA8-9DF00495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3AD-3132-4B4C-B436-BFED5EBF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1D1-AC6C-4B64-8EE2-5909DFE7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B20-5D11-4007-8E95-72ADAEEA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C75-4C31-4BD9-BB0B-1DAEFAAC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C87-285B-4193-AD04-7868123D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02C-B491-4E64-8114-2BB67A8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5C26-0F28-48D2-BEA5-A11533F9F55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1C6C-BD08-4C44-864F-188A3D2CD0A8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711440"/>
            <a:ext cx="746748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6100920"/>
            <a:ext cx="74674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г. Пермь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304920" y="990720"/>
            <a:ext cx="259056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щины фертильного возраста, берем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276720" y="1219320"/>
            <a:ext cx="2514600" cy="4724280"/>
          </a:xfrm>
          <a:prstGeom prst="flowChartProcess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/>
          <p:cNvSpPr/>
          <p:nvPr/>
        </p:nvSpPr>
        <p:spPr>
          <a:xfrm rot="16200000">
            <a:off x="-1028520" y="3695400"/>
            <a:ext cx="3657600" cy="685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кая консуль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1447920" y="22096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447920" y="31240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бинет планирования семь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447920" y="4038480"/>
            <a:ext cx="1523880" cy="1828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6172200" y="49528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6172200" y="22096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6172200" y="990720"/>
            <a:ext cx="274320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и с дет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3-х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"/>
          <p:cNvSpPr/>
          <p:nvPr/>
        </p:nvSpPr>
        <p:spPr>
          <a:xfrm rot="16200000">
            <a:off x="6514920" y="3695400"/>
            <a:ext cx="3657600" cy="6858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ая поликли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3733920" y="22096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Информационно-просветительск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3733920" y="40384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Ранняя диагностика пороков развития пл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3733920" y="49528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Выявление и сбор  социального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429000" y="1371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Профилактика С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3733920" y="31240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Предупреждение нежелательной береме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2971800" y="51814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297180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2971800" y="3352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0"/>
          <p:cNvSpPr/>
          <p:nvPr/>
        </p:nvSpPr>
        <p:spPr>
          <a:xfrm>
            <a:off x="2971800" y="25146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5791320" y="1371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2"/>
          <p:cNvSpPr/>
          <p:nvPr/>
        </p:nvSpPr>
        <p:spPr>
          <a:xfrm>
            <a:off x="2895480" y="13716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5410080" y="51814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4"/>
          <p:cNvSpPr/>
          <p:nvPr/>
        </p:nvSpPr>
        <p:spPr>
          <a:xfrm>
            <a:off x="5410080" y="24382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815328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68580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1143000" y="266688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1143000" y="35053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9"/>
          <p:cNvSpPr/>
          <p:nvPr/>
        </p:nvSpPr>
        <p:spPr>
          <a:xfrm>
            <a:off x="1143000" y="4876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0"/>
          <p:cNvSpPr/>
          <p:nvPr/>
        </p:nvSpPr>
        <p:spPr>
          <a:xfrm>
            <a:off x="7696080" y="2590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7696080" y="53341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2"/>
          <p:cNvSpPr/>
          <p:nvPr/>
        </p:nvSpPr>
        <p:spPr>
          <a:xfrm>
            <a:off x="4419720" y="59436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33"/>
          <p:cNvSpPr/>
          <p:nvPr/>
        </p:nvSpPr>
        <p:spPr>
          <a:xfrm>
            <a:off x="220968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4"/>
          <p:cNvSpPr/>
          <p:nvPr/>
        </p:nvSpPr>
        <p:spPr>
          <a:xfrm>
            <a:off x="670572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35"/>
          <p:cNvSpPr/>
          <p:nvPr/>
        </p:nvSpPr>
        <p:spPr>
          <a:xfrm>
            <a:off x="1828800" y="6400800"/>
            <a:ext cx="5334120" cy="4572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85800" y="2514600"/>
            <a:ext cx="7696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Кар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а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9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снятия с учё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200400" y="1447920"/>
            <a:ext cx="2590920" cy="76176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Приемка, диагностика информационных кар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Учет «группы 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400800" y="1447920"/>
            <a:ext cx="238932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04920" y="1447920"/>
            <a:ext cx="2286000" cy="761760"/>
          </a:xfrm>
          <a:prstGeom prst="rect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477120" y="5638680"/>
            <a:ext cx="171108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Дети до 3-х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5812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8380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Женщины фертильного 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838080" y="4952880"/>
            <a:ext cx="7315200" cy="304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Формирование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791320" y="17524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2590920" y="1752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4267080" y="10666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3"/>
          <p:cNvSpPr/>
          <p:nvPr/>
        </p:nvSpPr>
        <p:spPr>
          <a:xfrm>
            <a:off x="4267080" y="2209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4"/>
          <p:cNvSpPr/>
          <p:nvPr/>
        </p:nvSpPr>
        <p:spPr>
          <a:xfrm>
            <a:off x="16002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43434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6"/>
          <p:cNvSpPr/>
          <p:nvPr/>
        </p:nvSpPr>
        <p:spPr>
          <a:xfrm rot="10800000">
            <a:off x="1752120" y="-360"/>
            <a:ext cx="5257800" cy="1143000"/>
          </a:xfrm>
          <a:prstGeom prst="triangle">
            <a:avLst>
              <a:gd name="adj" fmla="val 487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380880" y="4876920"/>
            <a:ext cx="8305920" cy="1676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4267080" y="4572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4267080" y="655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137160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746748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7238880" y="5257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1143000" y="304920"/>
            <a:ext cx="6553080" cy="68580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2120" y="1066680"/>
            <a:ext cx="76197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ение медико-социальной помощи детской поликли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дицинский психолог              социальный работник                врач педиа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800600" y="1981080"/>
            <a:ext cx="2590920" cy="3733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 rot="16200000">
            <a:off x="6324480" y="3276360"/>
            <a:ext cx="3657600" cy="106668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Анализ работы по критериям эффе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28600" y="1981080"/>
            <a:ext cx="4343400" cy="3733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286000" y="5950080"/>
            <a:ext cx="50292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в нор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4920" y="2514600"/>
            <a:ext cx="4190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9b80"/>
                </a:solidFill>
                <a:latin typeface="Times New Roman"/>
              </a:rPr>
              <a:t>Индивидуальная коррекционная программа для детей и семей групп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9"/>
          <p:cNvGraphicFramePr/>
          <p:nvPr/>
        </p:nvGraphicFramePr>
        <p:xfrm>
          <a:off x="463680" y="3051000"/>
          <a:ext cx="4003560" cy="33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051000"/>
                    <a:ext cx="400356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AutoShape 10"/>
          <p:cNvSpPr/>
          <p:nvPr/>
        </p:nvSpPr>
        <p:spPr>
          <a:xfrm>
            <a:off x="228600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5562720" y="17524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2"/>
          <p:cNvSpPr/>
          <p:nvPr/>
        </p:nvSpPr>
        <p:spPr>
          <a:xfrm>
            <a:off x="792468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876920" y="2133720"/>
            <a:ext cx="2438280" cy="580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Взаимодействие с другими ведомствам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952880" y="28954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КД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181480" y="3733920"/>
            <a:ext cx="12956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Соц.защи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867280" y="44956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ГКН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400800" y="5181480"/>
            <a:ext cx="91440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ОО и 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609480" y="2057400"/>
            <a:ext cx="35816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Социальный консилиу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4572000" y="3505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21"/>
          <p:cNvSpPr/>
          <p:nvPr/>
        </p:nvSpPr>
        <p:spPr>
          <a:xfrm>
            <a:off x="327672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2"/>
          <p:cNvSpPr/>
          <p:nvPr/>
        </p:nvSpPr>
        <p:spPr>
          <a:xfrm>
            <a:off x="586728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2286000" y="594360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12193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39625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6553080" y="1447920"/>
            <a:ext cx="13716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2362320" y="2286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8077320" y="5638680"/>
            <a:ext cx="152280" cy="76212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0"/>
          <p:cNvSpPr/>
          <p:nvPr/>
        </p:nvSpPr>
        <p:spPr>
          <a:xfrm>
            <a:off x="7315200" y="62485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99072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8600" y="990720"/>
          <a:ext cx="8686800" cy="5616360"/>
        </p:xfrm>
        <a:graphic>
          <a:graphicData uri="http://schemas.openxmlformats.org/drawingml/2006/table">
            <a:tbl>
              <a:tblPr/>
              <a:tblGrid>
                <a:gridCol w="309600"/>
                <a:gridCol w="5557680"/>
                <a:gridCol w="990720"/>
                <a:gridCol w="914400"/>
                <a:gridCol w="914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5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4936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подростков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,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нсультируем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 вопросам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лушателей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ци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ю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бортов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0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продуктивного возраст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рем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оевременно поставленных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,1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508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рикрепленного населе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беременных женщин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числа женщин вставших на учет по беременности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детей    группы    риска    вновь    выявленны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80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полн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ализова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 (удельный вес детей группы риска, оказавшихся в СОП от числа детей группы риск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казо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</a:tbl>
          </a:graphicData>
        </a:graphic>
      </p:graphicFrame>
      <p:sp>
        <p:nvSpPr>
          <p:cNvPr id="381" name="Text Box 84"/>
          <p:cNvSpPr/>
          <p:nvPr/>
        </p:nvSpPr>
        <p:spPr>
          <a:xfrm>
            <a:off x="304920" y="1371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 rot="16200000">
            <a:off x="-347040" y="2148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6"/>
          <p:cNvSpPr/>
          <p:nvPr/>
        </p:nvSpPr>
        <p:spPr>
          <a:xfrm rot="16200000">
            <a:off x="-289080" y="3868920"/>
            <a:ext cx="13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7"/>
          <p:cNvSpPr/>
          <p:nvPr/>
        </p:nvSpPr>
        <p:spPr>
          <a:xfrm rot="16200000">
            <a:off x="-211320" y="539280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30"/>
          <p:cNvSpPr/>
          <p:nvPr/>
        </p:nvSpPr>
        <p:spPr>
          <a:xfrm>
            <a:off x="685800" y="457200"/>
            <a:ext cx="7924680" cy="64008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495680"/>
            <a:ext cx="2590920" cy="99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477120" y="5181480"/>
            <a:ext cx="281916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культуры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одежной полит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32720" y="765000"/>
            <a:ext cx="2182680" cy="719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школ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Д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209680" y="1219320"/>
            <a:ext cx="5181840" cy="48006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038480" y="59436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ертиль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685800"/>
            <a:ext cx="259092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6518160" y="1862280"/>
            <a:ext cx="222480" cy="16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3080520" y="1613520"/>
            <a:ext cx="233280" cy="248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1"/>
          <p:cNvSpPr/>
          <p:nvPr/>
        </p:nvSpPr>
        <p:spPr>
          <a:xfrm flipH="1" flipV="1">
            <a:off x="2329200" y="4512240"/>
            <a:ext cx="141480" cy="19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2"/>
          <p:cNvSpPr/>
          <p:nvPr/>
        </p:nvSpPr>
        <p:spPr>
          <a:xfrm flipH="1">
            <a:off x="6999480" y="4577760"/>
            <a:ext cx="174240" cy="293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3352680" y="2209680"/>
            <a:ext cx="2971800" cy="28195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H="1">
            <a:off x="685800" y="33526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632448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 flipH="1">
            <a:off x="2514600" y="4648320"/>
            <a:ext cx="137160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5486400" y="4876920"/>
            <a:ext cx="10666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800600" y="457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6629400" y="19810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00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7696080" y="1447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. род-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6705720" y="57913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467480" y="40384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олодежь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-30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914400" y="358128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666880" y="6858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0 до 3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410080" y="762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3 до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0"/>
          <p:cNvSpPr/>
          <p:nvPr/>
        </p:nvSpPr>
        <p:spPr>
          <a:xfrm>
            <a:off x="18288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1"/>
          <p:cNvSpPr/>
          <p:nvPr/>
        </p:nvSpPr>
        <p:spPr>
          <a:xfrm>
            <a:off x="2743200" y="47242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990720" y="14479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3"/>
          <p:cNvSpPr/>
          <p:nvPr/>
        </p:nvSpPr>
        <p:spPr>
          <a:xfrm>
            <a:off x="1905120" y="22096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5"/>
          <p:cNvSpPr txBox="1"/>
          <p:nvPr/>
        </p:nvSpPr>
        <p:spPr>
          <a:xfrm rot="21322200">
            <a:off x="304812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47"/>
          <p:cNvSpPr txBox="1"/>
          <p:nvPr/>
        </p:nvSpPr>
        <p:spPr>
          <a:xfrm rot="550800">
            <a:off x="548604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48"/>
          <p:cNvSpPr txBox="1"/>
          <p:nvPr/>
        </p:nvSpPr>
        <p:spPr>
          <a:xfrm rot="5335800">
            <a:off x="2248560" y="3770280"/>
            <a:ext cx="12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49"/>
          <p:cNvSpPr txBox="1"/>
          <p:nvPr/>
        </p:nvSpPr>
        <p:spPr>
          <a:xfrm rot="20611200">
            <a:off x="6095520" y="3809520"/>
            <a:ext cx="1067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50"/>
          <p:cNvSpPr txBox="1"/>
          <p:nvPr/>
        </p:nvSpPr>
        <p:spPr>
          <a:xfrm rot="1767000">
            <a:off x="4190760" y="495288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51"/>
          <p:cNvSpPr txBox="1"/>
          <p:nvPr/>
        </p:nvSpPr>
        <p:spPr>
          <a:xfrm rot="27600">
            <a:off x="3351240" y="2588760"/>
            <a:ext cx="30193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1698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мьи и де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 социально опасном положен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Rectangle 55"/>
          <p:cNvSpPr/>
          <p:nvPr/>
        </p:nvSpPr>
        <p:spPr>
          <a:xfrm rot="4800">
            <a:off x="342900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2895480" y="236232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9"/>
          <p:cNvSpPr/>
          <p:nvPr/>
        </p:nvSpPr>
        <p:spPr>
          <a:xfrm flipH="1">
            <a:off x="2666520" y="32767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2057400" y="2209680"/>
            <a:ext cx="7632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3"/>
          <p:cNvSpPr/>
          <p:nvPr/>
        </p:nvSpPr>
        <p:spPr>
          <a:xfrm>
            <a:off x="1447920" y="1447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5"/>
          <p:cNvSpPr/>
          <p:nvPr/>
        </p:nvSpPr>
        <p:spPr>
          <a:xfrm flipV="1">
            <a:off x="2625120" y="758880"/>
            <a:ext cx="331200" cy="203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6"/>
          <p:cNvSpPr/>
          <p:nvPr/>
        </p:nvSpPr>
        <p:spPr>
          <a:xfrm flipH="1" flipV="1">
            <a:off x="652680" y="3810960"/>
            <a:ext cx="28440" cy="329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7"/>
          <p:cNvSpPr/>
          <p:nvPr/>
        </p:nvSpPr>
        <p:spPr>
          <a:xfrm>
            <a:off x="6514920" y="807480"/>
            <a:ext cx="292320" cy="16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8"/>
          <p:cNvSpPr/>
          <p:nvPr/>
        </p:nvSpPr>
        <p:spPr>
          <a:xfrm flipH="1">
            <a:off x="8475480" y="4101480"/>
            <a:ext cx="82440" cy="43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9"/>
          <p:cNvSpPr/>
          <p:nvPr/>
        </p:nvSpPr>
        <p:spPr>
          <a:xfrm flipV="1">
            <a:off x="7772400" y="1599840"/>
            <a:ext cx="7632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8763120" y="167652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1"/>
          <p:cNvSpPr/>
          <p:nvPr/>
        </p:nvSpPr>
        <p:spPr>
          <a:xfrm flipH="1">
            <a:off x="8457840" y="2590920"/>
            <a:ext cx="1522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3"/>
          <p:cNvSpPr/>
          <p:nvPr/>
        </p:nvSpPr>
        <p:spPr>
          <a:xfrm flipH="1">
            <a:off x="7467480" y="2971800"/>
            <a:ext cx="1526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4"/>
          <p:cNvSpPr/>
          <p:nvPr/>
        </p:nvSpPr>
        <p:spPr>
          <a:xfrm>
            <a:off x="7162920" y="1981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5"/>
          <p:cNvSpPr/>
          <p:nvPr/>
        </p:nvSpPr>
        <p:spPr>
          <a:xfrm flipH="1" flipV="1">
            <a:off x="6629400" y="2666880"/>
            <a:ext cx="7632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6"/>
          <p:cNvSpPr/>
          <p:nvPr/>
        </p:nvSpPr>
        <p:spPr>
          <a:xfrm flipH="1">
            <a:off x="77724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7"/>
          <p:cNvSpPr/>
          <p:nvPr/>
        </p:nvSpPr>
        <p:spPr>
          <a:xfrm>
            <a:off x="7315200" y="57913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8"/>
          <p:cNvSpPr/>
          <p:nvPr/>
        </p:nvSpPr>
        <p:spPr>
          <a:xfrm flipH="1" flipV="1">
            <a:off x="6705360" y="6476760"/>
            <a:ext cx="7596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3"/>
          <p:cNvSpPr/>
          <p:nvPr/>
        </p:nvSpPr>
        <p:spPr>
          <a:xfrm>
            <a:off x="3886200" y="541008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5"/>
          <p:cNvSpPr/>
          <p:nvPr/>
        </p:nvSpPr>
        <p:spPr>
          <a:xfrm rot="4800">
            <a:off x="4114440" y="4190760"/>
            <a:ext cx="138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. КДНиЗ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9"/>
          <p:cNvSpPr/>
          <p:nvPr/>
        </p:nvSpPr>
        <p:spPr>
          <a:xfrm>
            <a:off x="609480" y="56386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0"/>
          <p:cNvSpPr/>
          <p:nvPr/>
        </p:nvSpPr>
        <p:spPr>
          <a:xfrm flipV="1">
            <a:off x="1676520" y="594324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1"/>
          <p:cNvSpPr/>
          <p:nvPr/>
        </p:nvSpPr>
        <p:spPr>
          <a:xfrm>
            <a:off x="6858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2"/>
          <p:cNvSpPr/>
          <p:nvPr/>
        </p:nvSpPr>
        <p:spPr>
          <a:xfrm flipH="1">
            <a:off x="837720" y="57150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3"/>
          <p:cNvSpPr/>
          <p:nvPr/>
        </p:nvSpPr>
        <p:spPr>
          <a:xfrm>
            <a:off x="-152280" y="137160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4"/>
          <p:cNvSpPr/>
          <p:nvPr/>
        </p:nvSpPr>
        <p:spPr>
          <a:xfrm flipH="1">
            <a:off x="304560" y="13716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5"/>
          <p:cNvSpPr/>
          <p:nvPr/>
        </p:nvSpPr>
        <p:spPr>
          <a:xfrm>
            <a:off x="152280" y="251460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990720" y="19807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7"/>
          <p:cNvSpPr/>
          <p:nvPr/>
        </p:nvSpPr>
        <p:spPr>
          <a:xfrm rot="4800">
            <a:off x="487692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8"/>
          <p:cNvSpPr/>
          <p:nvPr/>
        </p:nvSpPr>
        <p:spPr>
          <a:xfrm flipH="1" flipV="1">
            <a:off x="1828800" y="6476760"/>
            <a:ext cx="763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2895480" y="5715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1"/>
          <p:cNvSpPr/>
          <p:nvPr/>
        </p:nvSpPr>
        <p:spPr>
          <a:xfrm flipH="1">
            <a:off x="3200040" y="586728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16765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1600200"/>
            <a:ext cx="41911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УЧИТЕЛЯ (КЛАССНЫЕ РУКОВОДИТЕЛИ); ЗАМ. ДИРЕКТОРА ПО ВР; ПЕДАГОГИ ДОП.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648320" y="2514600"/>
            <a:ext cx="3276360" cy="83808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 flipV="1">
            <a:off x="55627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0880" y="1600200"/>
            <a:ext cx="37339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ВОСПИТАТЕЛИ ДО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495680" y="3505320"/>
            <a:ext cx="3429000" cy="1066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ШКОЛЬНЫЙ ИНСПЕКТОР МИЛИЦИИ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042920" y="3500280"/>
            <a:ext cx="316224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900000" y="5877000"/>
            <a:ext cx="7086600" cy="981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ЬНЫЙ КОНСИЛИУМ (ПСИХОЛОГ, СОЦИАЛЬНЫЙ РАБОТНИК) И ПСИХОЛОГ В ДОУ; ПСИХОЛОГИ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609480" y="2514600"/>
            <a:ext cx="3200400" cy="91440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15"/>
          <p:cNvCxnSpPr>
            <a:stCxn id="176" idx="0"/>
            <a:endCxn id="178" idx="0"/>
          </p:cNvCxnSpPr>
          <p:nvPr/>
        </p:nvCxnSpPr>
        <p:spPr>
          <a:xfrm>
            <a:off x="151920" y="628560"/>
            <a:ext cx="1080" cy="5448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" name="AutoShape 16"/>
          <p:cNvCxnSpPr>
            <a:stCxn id="180" idx="0"/>
            <a:endCxn id="181" idx="0"/>
          </p:cNvCxnSpPr>
          <p:nvPr/>
        </p:nvCxnSpPr>
        <p:spPr>
          <a:xfrm flipH="1">
            <a:off x="8870400" y="590040"/>
            <a:ext cx="45000" cy="5738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" name="Line 17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52280" y="6095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956720" y="6308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3 ДО 6 ЛЕТ (ДО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 6 ДО 18 ЛЕТ (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68360" y="4797360"/>
            <a:ext cx="7661160" cy="792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СОНИФИЦИРОВАННЫЙ УЧЕТ ГРУППЫ РИС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Ы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АЧА РЕГИСТРА В МУНИЦИПАЛЬНЫЕ  КДНиЗ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622764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2124000" y="5589720"/>
            <a:ext cx="0" cy="30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9"/>
          <p:cNvSpPr/>
          <p:nvPr/>
        </p:nvSpPr>
        <p:spPr>
          <a:xfrm>
            <a:off x="0" y="3809880"/>
            <a:ext cx="121932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0"/>
          <p:cNvSpPr/>
          <p:nvPr/>
        </p:nvSpPr>
        <p:spPr>
          <a:xfrm>
            <a:off x="8077320" y="4876920"/>
            <a:ext cx="1066680" cy="761760"/>
          </a:xfrm>
          <a:prstGeom prst="righ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213372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1"/>
          <p:cNvSpPr/>
          <p:nvPr/>
        </p:nvSpPr>
        <p:spPr>
          <a:xfrm>
            <a:off x="0" y="49528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2"/>
          <p:cNvSpPr/>
          <p:nvPr/>
        </p:nvSpPr>
        <p:spPr>
          <a:xfrm rot="10840800">
            <a:off x="7848720" y="3809520"/>
            <a:ext cx="1295280" cy="98928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0" y="3276720"/>
            <a:ext cx="1066680" cy="761760"/>
          </a:xfrm>
          <a:prstGeom prst="lef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4"/>
          <p:cNvSpPr/>
          <p:nvPr/>
        </p:nvSpPr>
        <p:spPr>
          <a:xfrm>
            <a:off x="7924680" y="3352680"/>
            <a:ext cx="1219320" cy="762120"/>
          </a:xfrm>
          <a:prstGeom prst="rightArrow">
            <a:avLst>
              <a:gd name="adj1" fmla="val 50000"/>
              <a:gd name="adj2" fmla="val 3999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10800000">
            <a:off x="1904760" y="1295280"/>
            <a:ext cx="1523880" cy="45720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48320" y="1600200"/>
            <a:ext cx="327636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ЗДОРОВОГО РЕБЕНКА ПРИ ДЕТСКИХ ПОЛИКЛИНИКАХ; 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724280" y="2819520"/>
            <a:ext cx="327672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85800" y="1752480"/>
            <a:ext cx="358128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ПЛАНИРОВАНИЯ СЕМЬИ, СПЕЦИАЛИСТ ПО ГИГИЕНИЧЕСКОМУ ВОСПИТАНИЮ (совместно с учреждениями образ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572000" y="3581280"/>
            <a:ext cx="3429000" cy="838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ВРАЧИ ПЕДИАТРЫ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85800" y="3581280"/>
            <a:ext cx="358128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АКУШЕРЫ-ГИНЕКОЛОГИ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09480" y="6172200"/>
            <a:ext cx="792504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ЛУЖБА ПРИ ДЕТСКОЙ ПОЛИКЛИН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838080" y="2819520"/>
            <a:ext cx="320040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64771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438280" y="449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14"/>
          <p:cNvCxnSpPr>
            <a:stCxn id="212" idx="0"/>
            <a:endCxn id="214" idx="0"/>
          </p:cNvCxnSpPr>
          <p:nvPr/>
        </p:nvCxnSpPr>
        <p:spPr>
          <a:xfrm>
            <a:off x="151920" y="628200"/>
            <a:ext cx="1080" cy="5829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15" name="Line 15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52280" y="6477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8534520" y="6477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женщины фертильного возраста, беременные женщи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0 до 3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2"/>
          <p:cNvSpPr/>
          <p:nvPr/>
        </p:nvSpPr>
        <p:spPr>
          <a:xfrm rot="10786800">
            <a:off x="5408280" y="129492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4572000" y="480060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5800" y="487692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8915400" y="6094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990720" y="5715000"/>
            <a:ext cx="3200400" cy="53352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4724280" y="5638680"/>
            <a:ext cx="3200400" cy="60984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8"/>
          <p:cNvSpPr/>
          <p:nvPr/>
        </p:nvSpPr>
        <p:spPr>
          <a:xfrm>
            <a:off x="7924680" y="4800600"/>
            <a:ext cx="1067040" cy="990720"/>
          </a:xfrm>
          <a:prstGeom prst="rightArrow">
            <a:avLst>
              <a:gd name="adj1" fmla="val 50000"/>
              <a:gd name="adj2" fmla="val 2692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9"/>
          <p:cNvSpPr/>
          <p:nvPr/>
        </p:nvSpPr>
        <p:spPr>
          <a:xfrm>
            <a:off x="0" y="4800600"/>
            <a:ext cx="990720" cy="914400"/>
          </a:xfrm>
          <a:prstGeom prst="leftArrow">
            <a:avLst>
              <a:gd name="adj1" fmla="val 50000"/>
              <a:gd name="adj2" fmla="val 2708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30"/>
          <p:cNvSpPr/>
          <p:nvPr/>
        </p:nvSpPr>
        <p:spPr>
          <a:xfrm rot="10840800">
            <a:off x="7848720" y="3428280"/>
            <a:ext cx="1295280" cy="9889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1"/>
          <p:cNvSpPr/>
          <p:nvPr/>
        </p:nvSpPr>
        <p:spPr>
          <a:xfrm>
            <a:off x="0" y="3429000"/>
            <a:ext cx="114300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1844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95280" y="1987560"/>
            <a:ext cx="3960720" cy="2017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8920" y="1915920"/>
            <a:ext cx="4071960" cy="2019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4292280"/>
            <a:ext cx="381636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58920" y="4292280"/>
            <a:ext cx="398628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4356000" y="29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9640" y="198900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психолого-педагогической поддержк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41128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95280" y="836640"/>
            <a:ext cx="1800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ствен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780000" y="692280"/>
            <a:ext cx="1800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ед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рон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516720" y="620640"/>
            <a:ext cx="1873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156360" y="1773360"/>
            <a:ext cx="2376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пектор милиц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й работни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ные за  школ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учащихся «группы риска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7"/>
          <p:cNvSpPr/>
          <p:nvPr/>
        </p:nvSpPr>
        <p:spPr>
          <a:xfrm>
            <a:off x="468360" y="1844640"/>
            <a:ext cx="4751280" cy="7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755640" y="2852640"/>
            <a:ext cx="806436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СОВЕТ ПРОФИЛАКТИКИ (фильтр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едагог, заместители директора школы, руководитель службы поддержки семь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7632720" y="5084640"/>
            <a:ext cx="1511280" cy="79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ки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ечитель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5940360" y="5157720"/>
            <a:ext cx="158436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социа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156360" y="4076640"/>
            <a:ext cx="266364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4076640"/>
            <a:ext cx="2736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«группы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0" y="4581360"/>
            <a:ext cx="2484360" cy="503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школьный уч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5300640"/>
            <a:ext cx="442764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5"/>
          <p:cNvSpPr/>
          <p:nvPr/>
        </p:nvSpPr>
        <p:spPr>
          <a:xfrm>
            <a:off x="395280" y="6308640"/>
            <a:ext cx="2016000" cy="405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5589720"/>
            <a:ext cx="4427640" cy="431640"/>
          </a:xfrm>
          <a:prstGeom prst="rect">
            <a:avLst/>
          </a:prstGeom>
          <a:solidFill>
            <a:srgbClr val="9b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консилиу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 педагог, психолог, классные руко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826920" y="5157720"/>
            <a:ext cx="57636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2268360" y="6021360"/>
            <a:ext cx="935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2340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атор индивидуальных программ сопрово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2195640" y="1197000"/>
            <a:ext cx="396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003640" y="1413000"/>
            <a:ext cx="122400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6659640" y="134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5219640" y="1989000"/>
            <a:ext cx="936720" cy="503280"/>
          </a:xfrm>
          <a:prstGeom prst="leftArrow">
            <a:avLst>
              <a:gd name="adj1" fmla="val 50000"/>
              <a:gd name="adj2" fmla="val 4653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6012000" y="249228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5"/>
          <p:cNvSpPr/>
          <p:nvPr/>
        </p:nvSpPr>
        <p:spPr>
          <a:xfrm>
            <a:off x="1258920" y="3716280"/>
            <a:ext cx="64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6659640" y="3716280"/>
            <a:ext cx="72072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H="1">
            <a:off x="7019640" y="4365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7740720" y="436572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3203640" y="4076640"/>
            <a:ext cx="259236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«норм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0"/>
          <p:cNvSpPr/>
          <p:nvPr/>
        </p:nvSpPr>
        <p:spPr>
          <a:xfrm>
            <a:off x="4067280" y="364500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31"/>
          <p:cNvSpPr/>
          <p:nvPr/>
        </p:nvSpPr>
        <p:spPr>
          <a:xfrm>
            <a:off x="8532720" y="1773360"/>
            <a:ext cx="611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1:05:15Z</dcterms:created>
  <dc:creator>Ярослвцева М.В.</dc:creator>
  <dc:description/>
  <dc:language>en-US</dc:language>
  <cp:lastModifiedBy>RomaK</cp:lastModifiedBy>
  <dcterms:modified xsi:type="dcterms:W3CDTF">2014-10-31T14:06:29Z</dcterms:modified>
  <cp:revision>106</cp:revision>
  <dc:subject/>
  <dc:title>О новых механизмах управления профилактикой преступности несовершеннолетних</dc:title>
</cp:coreProperties>
</file>