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81A5-7612-4798-9DB4-787718CD1E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Формы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льтура – это лишь тоненькая яблочная кожура над раскаленным хао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. Ниц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670B-1A79-462A-AF03-BDEF791399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сс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FAF2-3978-4B54-BB64-DE637BBA7A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собенности продукции массов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Специфические признаки серийной продукции:</a:t>
            </a:r>
            <a:br>
              <a:rPr sz="14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примитивизация отношений между людьм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развлекательность, забавность, сентиментальность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натуралистическое смакование насилия и секс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культ успеха, сильная личность, жажда обладания вещам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культ посредственности, условность примитивной символ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3124-5F52-4C9A-99DD-5F9121266E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зновидности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1A8C-2D04-4557-BCD7-D5B7205CB6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олодежная суб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о рассматривается как девиантная (отклоняющаяся), выражающая некую степень оппозиции господствующей куль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ется чаще всего на основе своеобразных стилей в одежде и музыке и связана с развитием общества потребления, создающего все новые и новые рынки продукции, нацеленные прежде всего на молодеж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ультура демонстративного потребления. Ее возникновение связано также с повышением роли и значения свободного времени, досуга, вокруг которого и формируются вс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редоточивается также в большей степени на дружбе в группе сверстников, а не на семье. Кроме того, рост жизненного уровня позволяет осуществлять масштабные эксперименты с образом жизни, поиск иных, отличных от культуры взрослых, культурных оснований своего существ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4E2F-189F-41E8-BE15-ECBA5E1371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литарн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культуре к элитарной относят фильмы Феллини, Тарковского, книги Кафки, Белля, картины Пикассо, музыку Дюваля, Шнит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иногда элитарные произведения становятся популярными (например, фильмы Копполо и Бертолуччи, произведения Сальвадора Дали и Шемякин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E63F-723F-497C-8AF5-3EEC069544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бъекты элитарн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0624-C3C0-4D74-91FD-9266B8E41A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ародн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E292-D5DE-484E-92DA-8EBE3C3806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B388-2D4C-4E60-9CAB-D8DC32D5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567C-F79E-4D07-9AF6-C13EE264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3B09-5D70-4721-9EEE-A3ED07B4E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AF90-A7BC-498F-94BC-7D0C1139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ACCB-FDF0-4CEB-AE20-0BEE8847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C76C-F802-4FC4-ACE6-B25A7FBB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1C7B-F455-4BDE-8AC6-A4317B19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35BF-2690-4A84-AE4C-A9CEEBFB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943C-0266-4BE9-A93F-08C82F2D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DDCD-9055-48D3-B9E5-9DE69A54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3D0D-FCA9-47AA-9762-C3472AF5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91E9-C1EE-4F48-BA32-4696FFDB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E8A9-CB98-445B-ADA3-86B4F59B63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3/26/596/26596055_1212756189_3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www.eurotours.ru/data/images/03f321205a5a9b6ff519d6b58d3fe926.jpg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opic21.blog.tut.by/wp-content/uploads/popic21/2008/08/082308_1817_92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g0.liveinternet.ru/images/attach/c/0/53/283/53283884_1262544729_chinese_chinacircus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yandex.ru/search?p=94&amp;text=&#1087;&#1086;&#1087;%20-%20&#1079;&#1074;&#1077;&#1079;&#1076;&#1099;&amp;spsite=fake-038-1905911.ru&amp;img_url=www.hln.be%2Fstatic%2FFOTO%2Fpe%2F16%2F1%2F13%2Fmedia_xl_3159298.jpg%3F20091223092643&amp;rpt=simage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yandex.ru/search?p=35&amp;ed=1&amp;text=&#1084;&#1072;&#1089;&#1089;&#1086;&#1074;&#1072;&#1103;%20&#1082;&#1091;&#1083;&#1100;&#1090;&#1091;&#1088;&#1072;%20&#1084;&#1085;&#1086;&#1075;&#1086;&#1101;&#1090;&#1072;&#1078;&#1085;&#1099;&#1077;%20&#1076;&#1086;&#1084;&#1072;&amp;spsite=fake-002-528252.ru&amp;img_url=www.gazeta.lv%2Fimages%2F____Emanzhelinsk8.jpg&amp;rpt=simage" TargetMode="External"/><Relationship Id="rId8" Type="http://schemas.openxmlformats.org/officeDocument/2006/relationships/image" Target="../media/image22.jpeg"/><Relationship Id="rId9" Type="http://schemas.openxmlformats.org/officeDocument/2006/relationships/hyperlink" Target="http://www.maxav.ru/images/h-1402-black.jpg" TargetMode="External"/><Relationship Id="rId10" Type="http://schemas.openxmlformats.org/officeDocument/2006/relationships/image" Target="../media/image23.jpeg"/><Relationship Id="rId11" Type="http://schemas.openxmlformats.org/officeDocument/2006/relationships/hyperlink" Target="http://images.yandex.ru/search?p=11&amp;ed=1&amp;text=&#1084;&#1086;&#1073;&#1080;&#1083;&#1100;&#1085;&#1080;&#1082;&#1080;%20&#1085;&#1086;&#1074;&#1080;&#1085;&#1082;&#1080;&amp;spsite=fake-057-1187887.ru&amp;img_url=www.hitlife.net.ua%2Fpictures%2FSamsung_i520.jpg&amp;rpt=simage&amp;nl=1" TargetMode="External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943/3274943/f_18053348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g-fotki.yandex.ru/get/3303/faroh.0/0_b48_fac711dd_L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0/CyberGoths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images.yandex.ru/search?p=0&amp;ed=1&amp;text=&#1084;&#1077;&#1090;&#1072;&#1083;&#1083;&#1080;&#1089;&#1090;&#1099;%20&#1082;&#1072;&#1088;&#1090;&#1080;&#1085;&#1082;&#1080;&amp;spsite=fake-020-565337.ru&amp;img_url=dic.academic.ru%2Fpictures%2Fenwiki%2F80%2FPriestScorpionsNEC_017_Halford.jpg&amp;rpt=simage&amp;nl=1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cs1062.vkontakte.ru/u1791273/8431109/x_073417d1.jpg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scrossmcc.ru/_nw/0/97085548.jpg" TargetMode="External"/><Relationship Id="rId8" Type="http://schemas.openxmlformats.org/officeDocument/2006/relationships/image" Target="../media/image30.jpeg"/><Relationship Id="rId9" Type="http://schemas.openxmlformats.org/officeDocument/2006/relationships/hyperlink" Target="http://media.aplus.by/uploads/posts/1214168010_22.jpg" TargetMode="External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50/1667050/f_14521538.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c.opa.by/images/photos/2009/07/23/11/3993/20025.jpg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img0.liveinternet.ru/images/attach/b/3/11/698/11698005_5_BEA_batcavebitch_1.jpg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www.ves.lv/article/img.php?image=35afcb39dad0fd02235dedfab3beb4ab&amp;w=400" TargetMode="External"/><Relationship Id="rId8" Type="http://schemas.openxmlformats.org/officeDocument/2006/relationships/image" Target="../media/image35.jpeg"/><Relationship Id="rId9" Type="http://schemas.openxmlformats.org/officeDocument/2006/relationships/hyperlink" Target="http://allday.ru/uploads/posts/2008-10/1224863717_0011.jpg" TargetMode="External"/><Relationship Id="rId10" Type="http://schemas.openxmlformats.org/officeDocument/2006/relationships/image" Target="../media/image36.jpeg"/><Relationship Id="rId11" Type="http://schemas.openxmlformats.org/officeDocument/2006/relationships/hyperlink" Target="http://bondarenko.info/photos/d/1918-2/rol2.jpg" TargetMode="External"/><Relationship Id="rId12" Type="http://schemas.openxmlformats.org/officeDocument/2006/relationships/image" Target="../media/image37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20.media.tumblr.com/tumblr_kv41l4085z1qa5ve9o1_500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pablo-ruiz-picasso.ru/images/works/174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nistories.ru/files/u1/Picasso2_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hep.phys.soton.ac.uk/~evans/Dreams/Four/raphae23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g0.liveinternet.ru/images/attach/b/3/14/642/14642040_00000559831499695853146m549x500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09/gedeon1980.d1/0_1ab5e_3487b4ee_XL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pit.dirty.ru/dirty/1/2008/11/14/16850-231514-c90182f41039332d0f1ea55908ddb510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elfort.com.ua/getimg.php?w=800&amp;h=600&amp;file=ddb250e30de124210e64ee15bfc62766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mode-elegance.ru/images/poshiv/elitnaya-moda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mediaport.ua/news/media/830000/83887_380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www.pro-volgograd.ru/attachments/orkestr.jpg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agpravda.ru/images/materials/full_Duh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hobest.in.ua/uploads/posts/2009-11/thumbs/1257722351_1257715593_titul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para.by/media/para.by/base/news_text_999.jpg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Формы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ультура – это лишь тоненькая яблочная кожура над раскаленным хаос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. Ниц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-main-pic" descr="Картинка 34 из 30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5560"/>
            <a:ext cx="5040360" cy="3460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nalmes01"/>
          <p:cNvPicPr/>
          <p:nvPr/>
        </p:nvPicPr>
        <p:blipFill>
          <a:blip r:embed="rId3"/>
          <a:stretch/>
        </p:blipFill>
        <p:spPr>
          <a:xfrm>
            <a:off x="5508720" y="0"/>
            <a:ext cx="3219480" cy="4286160"/>
          </a:xfrm>
          <a:prstGeom prst="rect">
            <a:avLst/>
          </a:prstGeom>
          <a:ln w="0">
            <a:noFill/>
          </a:ln>
        </p:spPr>
      </p:pic>
      <p:pic>
        <p:nvPicPr>
          <p:cNvPr id="98" name="i-main-pic" descr="Картинка 4 из 18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32000" y="3357720"/>
            <a:ext cx="3229200" cy="3500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Массов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-main-pic" descr="Картинка 1 из 1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268280"/>
            <a:ext cx="2574720" cy="3254400"/>
          </a:xfrm>
          <a:prstGeom prst="rect">
            <a:avLst/>
          </a:prstGeom>
          <a:ln w="0">
            <a:noFill/>
          </a:ln>
        </p:spPr>
      </p:pic>
      <p:pic>
        <p:nvPicPr>
          <p:cNvPr id="102" name="i-main-pic" descr="Картинка 60 из 14265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2852640"/>
            <a:ext cx="2533680" cy="3810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i?id=197896900-0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5013360"/>
            <a:ext cx="2232000" cy="1266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?id=54252601-0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77080" y="1125360"/>
            <a:ext cx="2063880" cy="1567080"/>
          </a:xfrm>
          <a:prstGeom prst="rect">
            <a:avLst/>
          </a:prstGeom>
          <a:ln w="0">
            <a:noFill/>
          </a:ln>
        </p:spPr>
      </p:pic>
      <p:pic>
        <p:nvPicPr>
          <p:cNvPr id="105" name="i-main-pic" descr="Картинка 56 из 1593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38960" y="3068640"/>
            <a:ext cx="3605040" cy="2703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i?id=112481662-0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00000" y="1125360"/>
            <a:ext cx="1362240" cy="1428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-main-pic" descr="Картинка 20 из 1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218040"/>
            <a:ext cx="4680000" cy="3639960"/>
          </a:xfrm>
          <a:prstGeom prst="rect">
            <a:avLst/>
          </a:prstGeom>
          <a:ln w="0">
            <a:noFill/>
          </a:ln>
        </p:spPr>
      </p:pic>
      <p:pic>
        <p:nvPicPr>
          <p:cNvPr id="110" name="i-main-pic" descr="Картинка 7 из 1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3213000"/>
            <a:ext cx="3351240" cy="337824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собенности продукции массовой 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20760" y="2656080"/>
            <a:ext cx="8138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пецифические признаки серийной продукции:</a:t>
            </a: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итивизация отношений между людь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развлекательность, забавность, сентиментальность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натуралистическое смакование насилия и секс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культ успеха, сильная личность, жажда обладания веща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культ посредственности, условность примитивной символик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539640" y="404640"/>
          <a:ext cx="8280360" cy="6518520"/>
        </p:xfrm>
        <a:graphic>
          <a:graphicData uri="http://schemas.openxmlformats.org/drawingml/2006/table">
            <a:tbl>
              <a:tblPr/>
              <a:tblGrid>
                <a:gridCol w="4448160"/>
                <a:gridCol w="383220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тивное влияние МК на духовную жиз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гативное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ияние МК на духовную жиз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ает простые и понятные представления о мире людей, о взаимоотношениях между ними, об образе жизни, что позволяет многим людям лучше ориентироваться в современном, быстро меняющемся ми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е произведения не выступают средством авторского самовыражения, а непосредственно обращены к читателю, слушателю, зрителю, учитывают его запро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чается демократичностью (ее «продуктами» пользуются представители разных социальных групп), что соответствует нашему врем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чает запросам, потребностям многих людей, в том числе и потребности в интенсивном отдыхе, психологической разрядк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 свои вершины — литературные, музыкальные, кинематографические произведения, которые уже по сути могут быть отнесены к «высокому» искусств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ижает общую планку духовной культуры общества, поскольку потакает невзыскательным вкусам «массового челове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т к стандартизации и унификации не только образа жизни, но и образа мыслей миллионов людей • Рассчитана на пассивное потребление, так как не стимулирует никаких творческих импульсов в духовной сфер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аждает мифы в сознании людей («миф Золушки», «миф простого парня» и т. д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т у людей через массированную рекламу искусственные потреб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я современные СМИ, подменяет для многих людей реальную жизнь, навязывая определенные представления и предпоч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азновидности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4192560"/>
                <a:gridCol w="426960"/>
                <a:gridCol w="3610080"/>
              </a:tblGrid>
              <a:tr h="81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куль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кулъ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0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общей культур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система ценностей, присущих определенной группе (половозрастные: женская, детская, молодежная и др.; профессиональные: научное сообщество, современный бизнес и др.; досуговые (по предпочитаемым занятиям в свободное время); религиозные; этнические; криминаль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культур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которая не просто отличается от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одствующе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культуры, но противостоит ей, находится в конфликте с доминирующими ценностям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ппозиция и альтернатива по отношению к в обществе культуре (битники, хиппи и панки; левые радикалы; андеграунд, скинхеды и др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Молодежная суб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рассматривается как девиантная (отклоняющаяся), выражающая некую степень оппозиции господствующей куль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ется чаще всего на основе своеобразных стилей в одежде и музыке и связана с развитием общества потребления, создающего все новые и новые рынки продукции, нацеленные прежде всего на молодеж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культура демонстративного потребления. Ее возникновение связано также с повышением роли и значения свободного времени, досуга, вокруг которого и формируются вс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редоточивается также в большей степени на дружбе в группе сверстников, а не на семье. Кроме того, рост жизненного уровня позволяет осуществлять масштабные эксперименты с образом жизни, поиск иных, отличных от культуры взрослых, культурных оснований своего существ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Файл:CyberGoth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2781360"/>
            <a:ext cx="5761080" cy="3836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i?id=5477802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189000"/>
            <a:ext cx="2160720" cy="2303280"/>
          </a:xfrm>
          <a:prstGeom prst="rect">
            <a:avLst/>
          </a:prstGeom>
          <a:ln w="0">
            <a:noFill/>
          </a:ln>
        </p:spPr>
      </p:pic>
      <p:pic>
        <p:nvPicPr>
          <p:cNvPr id="126" name="i-main-pic" descr="Картинка 6 из 5949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3780000" cy="2838600"/>
          </a:xfrm>
          <a:prstGeom prst="rect">
            <a:avLst/>
          </a:prstGeom>
          <a:ln w="0">
            <a:noFill/>
          </a:ln>
        </p:spPr>
      </p:pic>
      <p:pic>
        <p:nvPicPr>
          <p:cNvPr id="127" name="i-main-pic" descr="Картинка 12 из 10676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3902040"/>
            <a:ext cx="3889440" cy="2955960"/>
          </a:xfrm>
          <a:prstGeom prst="rect">
            <a:avLst/>
          </a:prstGeom>
          <a:ln w="0">
            <a:noFill/>
          </a:ln>
        </p:spPr>
      </p:pic>
      <p:pic>
        <p:nvPicPr>
          <p:cNvPr id="128" name="i-main-pic" descr="Картинка 1 из 788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92360" y="620640"/>
            <a:ext cx="3059280" cy="22892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-main-pic" descr="Картинка 17 из 21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15920"/>
            <a:ext cx="2506680" cy="3809880"/>
          </a:xfrm>
          <a:prstGeom prst="rect">
            <a:avLst/>
          </a:prstGeom>
          <a:ln w="0">
            <a:noFill/>
          </a:ln>
        </p:spPr>
      </p:pic>
      <p:pic>
        <p:nvPicPr>
          <p:cNvPr id="131" name="i-main-pic" descr="Картинка 33 из 1415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86680" y="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132" name="i-main-pic" descr="Картинка 12 из 1693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24000" y="2997360"/>
            <a:ext cx="4953240" cy="3600360"/>
          </a:xfrm>
          <a:prstGeom prst="rect">
            <a:avLst/>
          </a:prstGeom>
          <a:ln w="0">
            <a:noFill/>
          </a:ln>
        </p:spPr>
      </p:pic>
      <p:pic>
        <p:nvPicPr>
          <p:cNvPr id="133" name="i-main-pic" descr="Картинка 50 из 87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71640" y="260280"/>
            <a:ext cx="3449880" cy="2732040"/>
          </a:xfrm>
          <a:prstGeom prst="rect">
            <a:avLst/>
          </a:prstGeom>
          <a:ln w="0">
            <a:noFill/>
          </a:ln>
        </p:spPr>
      </p:pic>
      <p:pic>
        <p:nvPicPr>
          <p:cNvPr id="134" name="i-main-pic" descr="Картинка 7 из 338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3573360"/>
            <a:ext cx="2471760" cy="3284640"/>
          </a:xfrm>
          <a:prstGeom prst="rect">
            <a:avLst/>
          </a:prstGeom>
          <a:ln w="0">
            <a:noFill/>
          </a:ln>
        </p:spPr>
      </p:pic>
      <p:pic>
        <p:nvPicPr>
          <p:cNvPr id="135" name="i-main-pic" descr="Картинка 9 из 54561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757920" y="3284640"/>
            <a:ext cx="2386080" cy="35733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i-main-pic" descr="Картинка 10 из 11196"/>
          <p:cNvPicPr/>
          <p:nvPr/>
        </p:nvPicPr>
        <p:blipFill>
          <a:blip r:embed="rId1"/>
          <a:stretch/>
        </p:blipFill>
        <p:spPr>
          <a:xfrm>
            <a:off x="4175280" y="3352680"/>
            <a:ext cx="4968720" cy="3505320"/>
          </a:xfrm>
          <a:prstGeom prst="rect">
            <a:avLst/>
          </a:prstGeom>
          <a:ln w="0">
            <a:noFill/>
          </a:ln>
        </p:spPr>
      </p:pic>
      <p:pic>
        <p:nvPicPr>
          <p:cNvPr id="138" name="i-main-pic" descr="Картинка 10 из 21458"/>
          <p:cNvPicPr/>
          <p:nvPr/>
        </p:nvPicPr>
        <p:blipFill>
          <a:blip r:embed="rId2"/>
          <a:stretch/>
        </p:blipFill>
        <p:spPr>
          <a:xfrm>
            <a:off x="4498920" y="115920"/>
            <a:ext cx="4645080" cy="3102120"/>
          </a:xfrm>
          <a:prstGeom prst="rect">
            <a:avLst/>
          </a:prstGeom>
          <a:ln w="0">
            <a:noFill/>
          </a:ln>
        </p:spPr>
      </p:pic>
      <p:pic>
        <p:nvPicPr>
          <p:cNvPr id="139" name="i-main-pic" descr="Картинка 17 из 9107"/>
          <p:cNvPicPr/>
          <p:nvPr/>
        </p:nvPicPr>
        <p:blipFill>
          <a:blip r:embed="rId3"/>
          <a:stretch/>
        </p:blipFill>
        <p:spPr>
          <a:xfrm>
            <a:off x="0" y="3068640"/>
            <a:ext cx="4140360" cy="3789360"/>
          </a:xfrm>
          <a:prstGeom prst="rect">
            <a:avLst/>
          </a:prstGeom>
          <a:ln w="0">
            <a:noFill/>
          </a:ln>
        </p:spPr>
      </p:pic>
      <p:pic>
        <p:nvPicPr>
          <p:cNvPr id="140" name="i-main-pic" descr="Картинка 4 из 14670"/>
          <p:cNvPicPr/>
          <p:nvPr/>
        </p:nvPicPr>
        <p:blipFill>
          <a:blip r:embed="rId4"/>
          <a:stretch/>
        </p:blipFill>
        <p:spPr>
          <a:xfrm>
            <a:off x="0" y="115920"/>
            <a:ext cx="4067280" cy="2808360"/>
          </a:xfrm>
          <a:prstGeom prst="rect">
            <a:avLst/>
          </a:prstGeom>
          <a:ln w="0">
            <a:noFill/>
          </a:ln>
        </p:spPr>
      </p:pic>
      <p:pic>
        <p:nvPicPr>
          <p:cNvPr id="141" name="i-main-pic" descr="Картинка 2 из 32"/>
          <p:cNvPicPr/>
          <p:nvPr/>
        </p:nvPicPr>
        <p:blipFill>
          <a:blip r:embed="rId5"/>
          <a:stretch/>
        </p:blipFill>
        <p:spPr>
          <a:xfrm>
            <a:off x="3348000" y="1557360"/>
            <a:ext cx="2166840" cy="290196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Organization Chart 6"/>
          <p:cNvGrpSpPr/>
          <p:nvPr/>
        </p:nvGrpSpPr>
        <p:grpSpPr>
          <a:xfrm>
            <a:off x="684360" y="692280"/>
            <a:ext cx="7848000" cy="5347800"/>
            <a:chOff x="684360" y="692280"/>
            <a:chExt cx="7848000" cy="5347800"/>
          </a:xfrm>
        </p:grpSpPr>
        <p:cxnSp>
          <p:nvCxnSpPr>
            <p:cNvPr id="52" name="_s1028"/>
            <p:cNvCxnSpPr>
              <a:stCxn id="53" idx="0"/>
              <a:endCxn id="54" idx="2"/>
            </p:cNvCxnSpPr>
            <p:nvPr/>
          </p:nvCxnSpPr>
          <p:spPr>
            <a:xfrm flipV="1" rot="16200000">
              <a:off x="5446800" y="1992240"/>
              <a:ext cx="1070280" cy="274716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1029"/>
            <p:cNvCxnSpPr>
              <a:stCxn id="56" idx="0"/>
              <a:endCxn id="54" idx="2"/>
            </p:cNvCxnSpPr>
            <p:nvPr/>
          </p:nvCxnSpPr>
          <p:spPr>
            <a:xfrm flipV="1">
              <a:off x="4608360" y="2830680"/>
              <a:ext cx="2880" cy="107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1030"/>
            <p:cNvCxnSpPr>
              <a:stCxn id="58" idx="0"/>
              <a:endCxn id="54" idx="2"/>
            </p:cNvCxnSpPr>
            <p:nvPr/>
          </p:nvCxnSpPr>
          <p:spPr>
            <a:xfrm flipH="1" flipV="1" rot="5400000">
              <a:off x="2700000" y="1992240"/>
              <a:ext cx="1070280" cy="274716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4" name="_s1031"/>
            <p:cNvSpPr/>
            <p:nvPr/>
          </p:nvSpPr>
          <p:spPr>
            <a:xfrm>
              <a:off x="3431160" y="69228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ФОРМ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КУЛЬТУ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2"/>
            <p:cNvSpPr/>
            <p:nvPr/>
          </p:nvSpPr>
          <p:spPr>
            <a:xfrm>
              <a:off x="6843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ассов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3"/>
            <p:cNvSpPr/>
            <p:nvPr/>
          </p:nvSpPr>
          <p:spPr>
            <a:xfrm>
              <a:off x="34311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Народ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4"/>
            <p:cNvSpPr/>
            <p:nvPr/>
          </p:nvSpPr>
          <p:spPr>
            <a:xfrm>
              <a:off x="61779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Элитар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i-main-pic" descr="Картинка 2 из 65782"/>
          <p:cNvPicPr/>
          <p:nvPr/>
        </p:nvPicPr>
        <p:blipFill>
          <a:blip r:embed="rId1"/>
          <a:stretch/>
        </p:blipFill>
        <p:spPr>
          <a:xfrm>
            <a:off x="468360" y="514440"/>
            <a:ext cx="8280360" cy="57657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755640" y="549360"/>
          <a:ext cx="7777080" cy="6132600"/>
        </p:xfrm>
        <a:graphic>
          <a:graphicData uri="http://schemas.openxmlformats.org/drawingml/2006/table">
            <a:tbl>
              <a:tblPr/>
              <a:tblGrid>
                <a:gridCol w="2460600"/>
                <a:gridCol w="397080"/>
                <a:gridCol w="2003400"/>
                <a:gridCol w="398160"/>
                <a:gridCol w="251784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Элита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арод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ассов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ся «привилегированной частью общества» либо по ее заказу профессиональными творц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 правило, опережает уровень восприятия ее средне образованным человеко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виз элитарной культуры «Искусство ради искусства». Творцы элитарной культуры как правило и не рассчитывают на широкую аудиторию. Чтобы понимать эти произведения надо владеть особым языком искусства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ся анонимными творцами, не имеющими профессиональной подготовки (мифы, легенды эпосы, сказки, песни, танцы, карнавал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ие, используемое для характеристики современного культурного производства и потребления (концертная и эстрадная музыка, поп-культура, китч без различия классов, наций, уровня материального состояния, стандартизация культур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Элитарн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временной культуре к элитарной относят фильмы Феллини, Тарковского, книги Кафки, Белля, картины Пикассо, музыку Дюваля, Шнит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иногда элитарные произведения становятся популярными (например, фильмы Копполо и Бертолуччи, произведения Сальвадора Дали и Шемякин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-main-pic" descr="Картинка 14 из 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3790800" cy="38098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1979640" y="4221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пофеоз абстрак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50920" y="422100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дински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-main-pic" descr="Картинка 20 из 86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404640"/>
            <a:ext cx="2828880" cy="38102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9"/>
          <p:cNvSpPr/>
          <p:nvPr/>
        </p:nvSpPr>
        <p:spPr>
          <a:xfrm>
            <a:off x="4859280" y="4291920"/>
            <a:ext cx="42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«Девочка с лодочк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-main-pic" descr="Картинка 4 из 8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14200"/>
            <a:ext cx="3744720" cy="31942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179280" y="34012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 «Дора Маар с кошк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-main-pic" descr="Картинка 8 из 1739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189000"/>
            <a:ext cx="3168720" cy="3809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4427640" y="40219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фаэль Санти «Сикстинская мадон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-main-pic" descr="Картинка 19 из 99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835280" y="3789360"/>
            <a:ext cx="2473200" cy="28735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4356000" y="60174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дрей Рублев «Тро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-main-pic" descr="Картинка 14 из 7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716360" cy="3540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1492"/>
          <p:cNvPicPr/>
          <p:nvPr/>
        </p:nvPicPr>
        <p:blipFill>
          <a:blip r:embed="rId3"/>
          <a:stretch/>
        </p:blipFill>
        <p:spPr>
          <a:xfrm>
            <a:off x="2627280" y="3573360"/>
            <a:ext cx="6408720" cy="3284640"/>
          </a:xfrm>
          <a:prstGeom prst="rect">
            <a:avLst/>
          </a:prstGeom>
          <a:ln w="0">
            <a:noFill/>
          </a:ln>
        </p:spPr>
      </p:pic>
      <p:pic>
        <p:nvPicPr>
          <p:cNvPr id="80" name="i-main-pic" descr="Картинка 1 из 39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0"/>
            <a:ext cx="4211640" cy="31845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0" y="57747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ья Глазу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еликий эксперимент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79280" y="35143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онардо да Вин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айная вечер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5148360" y="31093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йвазовский  «Девятый ва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бъекты элитарной 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getim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1052640"/>
            <a:ext cx="5085000" cy="3431880"/>
          </a:xfrm>
          <a:prstGeom prst="rect">
            <a:avLst/>
          </a:prstGeom>
          <a:ln w="0">
            <a:noFill/>
          </a:ln>
        </p:spPr>
      </p:pic>
      <p:pic>
        <p:nvPicPr>
          <p:cNvPr id="87" name="i-main-pic" descr="Картинка 75 из 748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141720"/>
            <a:ext cx="5254560" cy="3716280"/>
          </a:xfrm>
          <a:prstGeom prst="rect">
            <a:avLst/>
          </a:prstGeom>
          <a:ln w="0">
            <a:noFill/>
          </a:ln>
        </p:spPr>
      </p:pic>
      <p:pic>
        <p:nvPicPr>
          <p:cNvPr id="88" name="i-main-pic" descr="Картинка 3 из 1366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00000" y="981000"/>
            <a:ext cx="2159280" cy="2160720"/>
          </a:xfrm>
          <a:prstGeom prst="rect">
            <a:avLst/>
          </a:prstGeom>
          <a:ln w="0">
            <a:noFill/>
          </a:ln>
        </p:spPr>
      </p:pic>
      <p:pic>
        <p:nvPicPr>
          <p:cNvPr id="89" name="i-main-pic" descr="Картинка 1 из 1166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19640" y="3860640"/>
            <a:ext cx="3924360" cy="29973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Народн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-main-pic" descr="Картинка 19 из 190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7640" y="1268280"/>
            <a:ext cx="5256360" cy="3468960"/>
          </a:xfrm>
          <a:prstGeom prst="rect">
            <a:avLst/>
          </a:prstGeom>
          <a:ln w="0">
            <a:noFill/>
          </a:ln>
        </p:spPr>
      </p:pic>
      <p:pic>
        <p:nvPicPr>
          <p:cNvPr id="93" name="i-main-pic" descr="Картинка 2 из 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052640"/>
            <a:ext cx="2832120" cy="3665520"/>
          </a:xfrm>
          <a:prstGeom prst="rect">
            <a:avLst/>
          </a:prstGeom>
          <a:ln w="0">
            <a:noFill/>
          </a:ln>
        </p:spPr>
      </p:pic>
      <p:pic>
        <p:nvPicPr>
          <p:cNvPr id="94" name="i-main-pic" descr="Картинка 6 из 88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16360" y="3716280"/>
            <a:ext cx="2422440" cy="31417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4:32:31Z</dcterms:created>
  <dc:creator>User</dc:creator>
  <dc:description/>
  <dc:language>en-US</dc:language>
  <cp:lastModifiedBy>LEGION</cp:lastModifiedBy>
  <dcterms:modified xsi:type="dcterms:W3CDTF">2014-11-11T11:37:34Z</dcterms:modified>
  <cp:revision>8</cp:revision>
  <dc:subject/>
  <dc:title>Формы культуры</dc:title>
</cp:coreProperties>
</file>