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1D0-A631-4D52-A424-4A2505DF94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ормы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льтура – это лишь тоненькая яблочная кожура над раскаленным хао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 Ниц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97FF-6F33-4F28-BBDA-D37C177170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сс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07A5-0A74-4CB8-9B48-7571D93DCE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обенности продукции масс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пецифические признаки серийной продукции:</a:t>
            </a:r>
            <a:br>
              <a:rPr sz="14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римитивизация отношений между людь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развлекательность, забавность, сентиментальность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натуралистическое смакование насилия и сек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успеха, сильная личность, жажда обладания вещам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льт посредственности, условность примитивной символ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DBD3-AF5D-4B3D-BD0C-7AFDF3024A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новидности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8A73-F48D-43A3-8743-EC550CE50B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олодежная суб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C184-51D4-42D3-A955-F228578C0F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литар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0D2-A3ED-4C7F-AAF8-AF937AFFFD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ъекты элитарн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B00F-A2A1-4FCE-9BAB-6DB1A0CCD1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ародн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52C2-F2AC-48CE-830F-31CBCB5EBE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09C-4297-4F85-9247-2564C56F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0EB-8584-4C31-86F1-5044B9AB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3C2-B794-41F6-8315-7F386A9A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8E7-4E31-4A66-AD15-84407416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790-8DA4-4C39-8EEF-4205ABAA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EBD-FE35-4283-99EA-CFEC5FA6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74C-2A76-4FA4-A300-40736DF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FE3-9727-4CD5-9017-A6C80042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326-7430-47B3-A571-26AD358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35BB-A4BB-4BDE-866B-092FAE1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0EC-063B-4693-A2EC-19092AE1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56A-A7D2-4E92-BED4-F78AD8D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3E31-29CA-4E11-AC7D-38C12EAF0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3/26/596/26596055_1212756189_3.jp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urotours.ru/data/images/03f321205a5a9b6ff519d6b58d3fe926.jpg" TargetMode="External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pic21.blog.tut.by/wp-content/uploads/popic21/2008/08/082308_1817_92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g0.liveinternet.ru/images/attach/c/0/53/283/53283884_1262544729_chinese_chinacircus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yandex.ru/search?p=94&amp;text=&#1087;&#1086;&#1087;%20-%20&#1079;&#1074;&#1077;&#1079;&#1076;&#1099;&amp;spsite=fake-038-1905911.ru&amp;img_url=www.hln.be%2Fstatic%2FFOTO%2Fpe%2F16%2F1%2F13%2Fmedia_xl_3159298.jpg%3F20091223092643&amp;rpt=simage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yandex.ru/search?p=35&amp;ed=1&amp;text=&#1084;&#1072;&#1089;&#1089;&#1086;&#1074;&#1072;&#1103;%20&#1082;&#1091;&#1083;&#1100;&#1090;&#1091;&#1088;&#1072;%20&#1084;&#1085;&#1086;&#1075;&#1086;&#1101;&#1090;&#1072;&#1078;&#1085;&#1099;&#1077;%20&#1076;&#1086;&#1084;&#1072;&amp;spsite=fake-002-528252.ru&amp;img_url=www.gazeta.lv%2Fimages%2F____Emanzhelinsk8.jpg&amp;rpt=simage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www.maxav.ru/images/h-1402-black.jpg" TargetMode="External"/><Relationship Id="rId10" Type="http://schemas.openxmlformats.org/officeDocument/2006/relationships/image" Target="../media/image23.jpeg"/><Relationship Id="rId11" Type="http://schemas.openxmlformats.org/officeDocument/2006/relationships/hyperlink" Target="http://images.yandex.ru/search?p=11&amp;ed=1&amp;text=&#1084;&#1086;&#1073;&#1080;&#1083;&#1100;&#1085;&#1080;&#1082;&#1080;%20&#1085;&#1086;&#1074;&#1080;&#1085;&#1082;&#1080;&amp;spsite=fake-057-1187887.ru&amp;img_url=www.hitlife.net.ua%2Fpictures%2FSamsung_i520.jpg&amp;rpt=simage&amp;nl=1" TargetMode="Externa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943/3274943/f_18053348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g-fotki.yandex.ru/get/3303/faroh.0/0_b48_fac711dd_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CyberGoths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images.yandex.ru/search?p=0&amp;ed=1&amp;text=&#1084;&#1077;&#1090;&#1072;&#1083;&#1083;&#1080;&#1089;&#1090;&#1099;%20&#1082;&#1072;&#1088;&#1090;&#1080;&#1085;&#1082;&#1080;&amp;spsite=fake-020-565337.ru&amp;img_url=dic.academic.ru%2Fpictures%2Fenwiki%2F80%2FPriestScorpionsNEC_017_Halford.jpg&amp;rpt=simage&amp;nl=1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cs1062.vkontakte.ru/u1791273/8431109/x_073417d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crossmcc.ru/_nw/0/97085548.jpg" TargetMode="External"/><Relationship Id="rId8" Type="http://schemas.openxmlformats.org/officeDocument/2006/relationships/image" Target="../media/image30.jpeg"/><Relationship Id="rId9" Type="http://schemas.openxmlformats.org/officeDocument/2006/relationships/hyperlink" Target="http://media.aplus.by/uploads/posts/1214168010_22.jpg" TargetMode="External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50/1667050/f_14521538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c.opa.by/images/photos/2009/07/23/11/3993/20025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g0.liveinternet.ru/images/attach/b/3/11/698/11698005_5_BEA_batcavebitch_1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www.ves.lv/article/img.php?image=35afcb39dad0fd02235dedfab3beb4ab&amp;w=400" TargetMode="External"/><Relationship Id="rId8" Type="http://schemas.openxmlformats.org/officeDocument/2006/relationships/image" Target="../media/image35.jpeg"/><Relationship Id="rId9" Type="http://schemas.openxmlformats.org/officeDocument/2006/relationships/hyperlink" Target="http://allday.ru/uploads/posts/2008-10/1224863717_0011.jpg" TargetMode="External"/><Relationship Id="rId10" Type="http://schemas.openxmlformats.org/officeDocument/2006/relationships/image" Target="../media/image36.jpeg"/><Relationship Id="rId11" Type="http://schemas.openxmlformats.org/officeDocument/2006/relationships/hyperlink" Target="http://bondarenko.info/photos/d/1918-2/rol2.jpg" TargetMode="External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20.media.tumblr.com/tumblr_kv41l4085z1qa5ve9o1_5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pablo-ruiz-picasso.ru/images/works/174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nistories.ru/files/u1/Picasso2_0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hep.phys.soton.ac.uk/~evans/Dreams/Four/raphae23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0.liveinternet.ru/images/attach/b/3/14/642/14642040_00000559831499695853146m549x500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9/gedeon1980.d1/0_1ab5e_3487b4ee_X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pit.dirty.ru/dirty/1/2008/11/14/16850-231514-c90182f41039332d0f1ea55908ddb510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elfort.com.ua/getimg.php?w=800&amp;h=600&amp;file=ddb250e30de124210e64ee15bfc62766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mode-elegance.ru/images/poshiv/elitnaya-moda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mediaport.ua/news/media/830000/83887_380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www.pro-volgograd.ru/attachments/orkestr.jpg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gpravda.ru/images/materials/full_Duh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hobest.in.ua/uploads/posts/2009-11/thumbs/1257722351_1257715593_titul.jpg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ara.by/media/para.by/base/news_text_999.jpg" TargetMode="Externa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Формы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ультура – это лишь тоненькая яблочная кожура над раскаленным хао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. Ниц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-main-pic" descr="Картинка 34 из 30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560"/>
            <a:ext cx="5040360" cy="346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lmes01"/>
          <p:cNvPicPr/>
          <p:nvPr/>
        </p:nvPicPr>
        <p:blipFill>
          <a:blip r:embed="rId3"/>
          <a:stretch/>
        </p:blipFill>
        <p:spPr>
          <a:xfrm>
            <a:off x="5508720" y="0"/>
            <a:ext cx="3219480" cy="4286160"/>
          </a:xfrm>
          <a:prstGeom prst="rect">
            <a:avLst/>
          </a:prstGeom>
          <a:ln w="0">
            <a:noFill/>
          </a:ln>
        </p:spPr>
      </p:pic>
      <p:pic>
        <p:nvPicPr>
          <p:cNvPr id="98" name="i-main-pic" descr="Картинка 4 из 18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32000" y="3357720"/>
            <a:ext cx="3229200" cy="3500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ассов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-main-pic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268280"/>
            <a:ext cx="2574720" cy="3254400"/>
          </a:xfrm>
          <a:prstGeom prst="rect">
            <a:avLst/>
          </a:prstGeom>
          <a:ln w="0">
            <a:noFill/>
          </a:ln>
        </p:spPr>
      </p:pic>
      <p:pic>
        <p:nvPicPr>
          <p:cNvPr id="102" name="i-main-pic" descr="Картинка 60 из 14265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2852640"/>
            <a:ext cx="2533680" cy="3810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i?id=197896900-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501336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54252601-0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7080" y="1125360"/>
            <a:ext cx="2063880" cy="1567080"/>
          </a:xfrm>
          <a:prstGeom prst="rect">
            <a:avLst/>
          </a:prstGeom>
          <a:ln w="0">
            <a:noFill/>
          </a:ln>
        </p:spPr>
      </p:pic>
      <p:pic>
        <p:nvPicPr>
          <p:cNvPr id="105" name="i-main-pic" descr="Картинка 56 из 1593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38960" y="3068640"/>
            <a:ext cx="3605040" cy="2703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12481662-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00000" y="1125360"/>
            <a:ext cx="1362240" cy="1428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-main-pic" descr="Картинка 20 из 1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18040"/>
            <a:ext cx="4680000" cy="3639960"/>
          </a:xfrm>
          <a:prstGeom prst="rect">
            <a:avLst/>
          </a:prstGeom>
          <a:ln w="0">
            <a:noFill/>
          </a:ln>
        </p:spPr>
      </p:pic>
      <p:pic>
        <p:nvPicPr>
          <p:cNvPr id="110" name="i-main-pic" descr="Картинка 7 из 1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213000"/>
            <a:ext cx="3351240" cy="33782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собенности продукции массов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20760" y="2656080"/>
            <a:ext cx="81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ецифические признаки серийной продукции: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итивизация отношений между людь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развлекательность, забавность, сентиментальность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натуралистическое смакование насилия и секс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успеха, сильная личность, жажда обладания веща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культ посредственности, условность примитивной символ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539640" y="404640"/>
          <a:ext cx="8280360" cy="6518520"/>
        </p:xfrm>
        <a:graphic>
          <a:graphicData uri="http://schemas.openxmlformats.org/drawingml/2006/table">
            <a:tbl>
              <a:tblPr/>
              <a:tblGrid>
                <a:gridCol w="4448160"/>
                <a:gridCol w="38322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итивное 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гатив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лияние МК на духовную жиз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ает простые и понятные представления о мире людей, о взаимоотношениях между ними, об образе жизни, что позволяет многим людям лучше ориентироваться в современном, быстро меняющемся ми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е произведения не выступают средством авторского самовыражения, а непосредственно обращены к читателю, слушателю, зрителю, учитывают его за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ется демократичностью (ее «продуктами» пользуются представители разных социальных групп), что соответствует нашему време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чает запросам, потребностям многих людей, в том числе и потребности в интенсивном отдыхе, психологической разряд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ет свои вершины — литературные, музыкальные, кинематографические произведения, которые уже по сути могут быть отнесены к «высокому» искус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ает общую планку духовной культуры общества, поскольку потакает невзыскательным вкусам «массового челове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 к стандартизации и унификации не только образа жизни, но и образа мыслей миллионов людей • Рассчитана на пассивное потребление, так как не стимулирует никаких творческих импульсов в духовной сфер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аждает мифы в сознании людей («миф Золушки», «миф простого парня» и т. 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 у людей через массированную рекламу искусственные потреб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я современные СМИ, подменяет для многих людей реальную жизнь, навязывая определенные представления и предпоч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Разновидности куль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92560"/>
                <a:gridCol w="426960"/>
                <a:gridCol w="3610080"/>
              </a:tblGrid>
              <a:tr h="814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куль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кулъ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0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общей культуры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истема ценностей, присущих определенной группе (половозрастные: женская, детская, молодежная и др.; профессиональные: научное сообщество, современный бизнес и др.; досуговые (по предпочитаемым занятиям в свободное время); религиозные; этнические; криминаль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которая не просто отличается от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ствующе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ультуры, но противостоит ей, находится в конфликте с доминирующими ценностям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ппозиция и альтернатива по отношению к в обществе культуре (битники, хиппи и панки; левые радикалы; андеграунд, скинхеды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Молодежная суб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рассматривается как девиантная (отклоняющаяся), выражающая некую степень оппозиции господствующе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ется чаще всего на основе своеобразных стилей в одежде и музыке и связана с развитием общества потребления, создающего все новые и новые рынки продукции, нацеленные прежде всего на молодеж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культура демонстративного потребления. Ее возникновение связано также с повышением роли и значения свободного времени, досуга, вокруг которого и формируются вс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ивается также в большей степени на дружбе в группе сверстников, а не на семье. Кроме того, рост жизненного уровня позволяет осуществлять масштабные эксперименты с образом жизни, поиск иных, отличных от культуры взрослых, культурных оснований своего суще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Файл:CyberGoth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2781360"/>
            <a:ext cx="5761080" cy="383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i?id=5477802-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189000"/>
            <a:ext cx="2160720" cy="2303280"/>
          </a:xfrm>
          <a:prstGeom prst="rect">
            <a:avLst/>
          </a:prstGeom>
          <a:ln w="0">
            <a:noFill/>
          </a:ln>
        </p:spPr>
      </p:pic>
      <p:pic>
        <p:nvPicPr>
          <p:cNvPr id="126" name="i-main-pic" descr="Картинка 6 из 594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78000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i-main-pic" descr="Картинка 12 из 1067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02040"/>
            <a:ext cx="3889440" cy="2955960"/>
          </a:xfrm>
          <a:prstGeom prst="rect">
            <a:avLst/>
          </a:prstGeom>
          <a:ln w="0">
            <a:noFill/>
          </a:ln>
        </p:spPr>
      </p:pic>
      <p:pic>
        <p:nvPicPr>
          <p:cNvPr id="128" name="i-main-pic" descr="Картинка 1 из 788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620640"/>
            <a:ext cx="3059280" cy="22892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i-main-pic" descr="Картинка 17 из 212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15920"/>
            <a:ext cx="2506680" cy="3809880"/>
          </a:xfrm>
          <a:prstGeom prst="rect">
            <a:avLst/>
          </a:prstGeom>
          <a:ln w="0">
            <a:noFill/>
          </a:ln>
        </p:spPr>
      </p:pic>
      <p:pic>
        <p:nvPicPr>
          <p:cNvPr id="131" name="i-main-pic" descr="Картинка 33 из 1415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i-main-pic" descr="Картинка 12 из 1693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24000" y="2997360"/>
            <a:ext cx="495324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i-main-pic" descr="Картинка 50 из 87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71640" y="260280"/>
            <a:ext cx="3449880" cy="2732040"/>
          </a:xfrm>
          <a:prstGeom prst="rect">
            <a:avLst/>
          </a:prstGeom>
          <a:ln w="0">
            <a:noFill/>
          </a:ln>
        </p:spPr>
      </p:pic>
      <p:pic>
        <p:nvPicPr>
          <p:cNvPr id="134" name="i-main-pic" descr="Картинка 7 из 338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3573360"/>
            <a:ext cx="2471760" cy="328464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9 из 54561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57920" y="3284640"/>
            <a:ext cx="2386080" cy="3573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i-main-pic" descr="Картинка 10 из 11196"/>
          <p:cNvPicPr/>
          <p:nvPr/>
        </p:nvPicPr>
        <p:blipFill>
          <a:blip r:embed="rId1"/>
          <a:stretch/>
        </p:blipFill>
        <p:spPr>
          <a:xfrm>
            <a:off x="4175280" y="3352680"/>
            <a:ext cx="4968720" cy="3505320"/>
          </a:xfrm>
          <a:prstGeom prst="rect">
            <a:avLst/>
          </a:prstGeom>
          <a:ln w="0">
            <a:noFill/>
          </a:ln>
        </p:spPr>
      </p:pic>
      <p:pic>
        <p:nvPicPr>
          <p:cNvPr id="138" name="i-main-pic" descr="Картинка 10 из 21458"/>
          <p:cNvPicPr/>
          <p:nvPr/>
        </p:nvPicPr>
        <p:blipFill>
          <a:blip r:embed="rId2"/>
          <a:stretch/>
        </p:blipFill>
        <p:spPr>
          <a:xfrm>
            <a:off x="4498920" y="115920"/>
            <a:ext cx="4645080" cy="3102120"/>
          </a:xfrm>
          <a:prstGeom prst="rect">
            <a:avLst/>
          </a:prstGeom>
          <a:ln w="0">
            <a:noFill/>
          </a:ln>
        </p:spPr>
      </p:pic>
      <p:pic>
        <p:nvPicPr>
          <p:cNvPr id="139" name="i-main-pic" descr="Картинка 17 из 9107"/>
          <p:cNvPicPr/>
          <p:nvPr/>
        </p:nvPicPr>
        <p:blipFill>
          <a:blip r:embed="rId3"/>
          <a:stretch/>
        </p:blipFill>
        <p:spPr>
          <a:xfrm>
            <a:off x="0" y="3068640"/>
            <a:ext cx="4140360" cy="3789360"/>
          </a:xfrm>
          <a:prstGeom prst="rect">
            <a:avLst/>
          </a:prstGeom>
          <a:ln w="0">
            <a:noFill/>
          </a:ln>
        </p:spPr>
      </p:pic>
      <p:pic>
        <p:nvPicPr>
          <p:cNvPr id="140" name="i-main-pic" descr="Картинка 4 из 14670"/>
          <p:cNvPicPr/>
          <p:nvPr/>
        </p:nvPicPr>
        <p:blipFill>
          <a:blip r:embed="rId4"/>
          <a:stretch/>
        </p:blipFill>
        <p:spPr>
          <a:xfrm>
            <a:off x="0" y="115920"/>
            <a:ext cx="4067280" cy="2808360"/>
          </a:xfrm>
          <a:prstGeom prst="rect">
            <a:avLst/>
          </a:prstGeom>
          <a:ln w="0">
            <a:noFill/>
          </a:ln>
        </p:spPr>
      </p:pic>
      <p:pic>
        <p:nvPicPr>
          <p:cNvPr id="141" name="i-main-pic" descr="Картинка 2 из 32"/>
          <p:cNvPicPr/>
          <p:nvPr/>
        </p:nvPicPr>
        <p:blipFill>
          <a:blip r:embed="rId5"/>
          <a:stretch/>
        </p:blipFill>
        <p:spPr>
          <a:xfrm>
            <a:off x="3348000" y="1557360"/>
            <a:ext cx="2166840" cy="290196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6"/>
          <p:cNvGrpSpPr/>
          <p:nvPr/>
        </p:nvGrpSpPr>
        <p:grpSpPr>
          <a:xfrm>
            <a:off x="684360" y="692280"/>
            <a:ext cx="7848000" cy="5347800"/>
            <a:chOff x="684360" y="692280"/>
            <a:chExt cx="7848000" cy="534780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54468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>
              <a:off x="4608360" y="2830680"/>
              <a:ext cx="2880" cy="1070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700000" y="1992240"/>
              <a:ext cx="1070280" cy="2747160"/>
            </a:xfrm>
            <a:prstGeom prst="bentConnector3">
              <a:avLst>
                <a:gd name="adj1" fmla="val 209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1031"/>
            <p:cNvSpPr/>
            <p:nvPr/>
          </p:nvSpPr>
          <p:spPr>
            <a:xfrm>
              <a:off x="3431160" y="69228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ФОРМ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2"/>
            <p:cNvSpPr/>
            <p:nvPr/>
          </p:nvSpPr>
          <p:spPr>
            <a:xfrm>
              <a:off x="6843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ассов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34311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Народ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4"/>
            <p:cNvSpPr/>
            <p:nvPr/>
          </p:nvSpPr>
          <p:spPr>
            <a:xfrm>
              <a:off x="6177960" y="3900960"/>
              <a:ext cx="2354400" cy="2139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литарн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i-main-pic" descr="Картинка 2 из 65782"/>
          <p:cNvPicPr/>
          <p:nvPr/>
        </p:nvPicPr>
        <p:blipFill>
          <a:blip r:embed="rId1"/>
          <a:stretch/>
        </p:blipFill>
        <p:spPr>
          <a:xfrm>
            <a:off x="468360" y="514440"/>
            <a:ext cx="8280360" cy="5765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755640" y="549360"/>
          <a:ext cx="7777080" cy="6132600"/>
        </p:xfrm>
        <a:graphic>
          <a:graphicData uri="http://schemas.openxmlformats.org/drawingml/2006/table">
            <a:tbl>
              <a:tblPr/>
              <a:tblGrid>
                <a:gridCol w="2460600"/>
                <a:gridCol w="397080"/>
                <a:gridCol w="2003400"/>
                <a:gridCol w="398160"/>
                <a:gridCol w="251784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Элита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ар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«привилегированной частью общества» либо по ее заказу профессиональными творц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к правило, опережает уровень восприятия ее средне образованным челове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з элитарной культуры «Искусство ради искусства». Творцы элитарной культуры как правило и не рассчитывают на широкую аудиторию. Чтобы понимать эти произведения надо владеть особым языком искусства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ся анонимными творцами, не имеющими профессиональной подготовки (мифы, легенды эпосы, сказки, песни, танцы, карнавалы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е, используемое для характеристики современного культурного производства и потребления (концертная и эстрадная музыка, поп-культура, китч без различия классов, наций, уровня материального состояния, стандартизация культур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Элитар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ременной культуре к элитарной относят фильмы Феллини, Тарковского, книги Кафки, Белля, картины Пикассо, музыку Дюваля, Шнит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иногда элитарные произведения становятся популярными (например, фильмы Копполо и Бертолуччи, произведения Сальвадора Дали и Шемякин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-main-pic" descr="Картинка 14 из 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79080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197964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пофеоз абстра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50920" y="422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нски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-main-pic" descr="Картинка 20 из 8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404640"/>
            <a:ext cx="282888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4859280" y="4291920"/>
            <a:ext cx="42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«Девочка с лодоч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4 из 8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14200"/>
            <a:ext cx="3744720" cy="3194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179280" y="340128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 «Дора Маар с кошк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8 из 1739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189000"/>
            <a:ext cx="316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4427640" y="40219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фаэль Санти «Сикстинская мадон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-main-pic" descr="Картинка 19 из 9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835280" y="3789360"/>
            <a:ext cx="2473200" cy="2873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4356000" y="60174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дрей Рублев «Тро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-main-pic" descr="Картинка 14 из 7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16360" cy="3540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1492"/>
          <p:cNvPicPr/>
          <p:nvPr/>
        </p:nvPicPr>
        <p:blipFill>
          <a:blip r:embed="rId3"/>
          <a:stretch/>
        </p:blipFill>
        <p:spPr>
          <a:xfrm>
            <a:off x="2627280" y="3573360"/>
            <a:ext cx="6408720" cy="3284640"/>
          </a:xfrm>
          <a:prstGeom prst="rect">
            <a:avLst/>
          </a:prstGeom>
          <a:ln w="0">
            <a:noFill/>
          </a:ln>
        </p:spPr>
      </p:pic>
      <p:pic>
        <p:nvPicPr>
          <p:cNvPr id="80" name="i-main-pic" descr="Картинка 1 из 39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0"/>
            <a:ext cx="4211640" cy="3184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57747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Глазу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еликий эксперимент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79280" y="35143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148360" y="31093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йвазовский  «Девят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бъекты элитар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get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052640"/>
            <a:ext cx="5085000" cy="3431880"/>
          </a:xfrm>
          <a:prstGeom prst="rect">
            <a:avLst/>
          </a:prstGeom>
          <a:ln w="0">
            <a:noFill/>
          </a:ln>
        </p:spPr>
      </p:pic>
      <p:pic>
        <p:nvPicPr>
          <p:cNvPr id="87" name="i-main-pic" descr="Картинка 75 из 74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41720"/>
            <a:ext cx="5254560" cy="3716280"/>
          </a:xfrm>
          <a:prstGeom prst="rect">
            <a:avLst/>
          </a:prstGeom>
          <a:ln w="0">
            <a:noFill/>
          </a:ln>
        </p:spPr>
      </p:pic>
      <p:pic>
        <p:nvPicPr>
          <p:cNvPr id="88" name="i-main-pic" descr="Картинка 3 из 1366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00000" y="981000"/>
            <a:ext cx="2159280" cy="216072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 из 11668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3860640"/>
            <a:ext cx="3924360" cy="2997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Народная 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-main-pic" descr="Картинка 19 из 190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7640" y="1268280"/>
            <a:ext cx="5256360" cy="346896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2 из 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052640"/>
            <a:ext cx="2832120" cy="366552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6 из 8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16360" y="3716280"/>
            <a:ext cx="2422440" cy="31417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4:32:31Z</dcterms:created>
  <dc:creator>User</dc:creator>
  <dc:description/>
  <dc:language>en-US</dc:language>
  <cp:lastModifiedBy>LEGION</cp:lastModifiedBy>
  <dcterms:modified xsi:type="dcterms:W3CDTF">2014-11-11T11:37:34Z</dcterms:modified>
  <cp:revision>8</cp:revision>
  <dc:subject/>
  <dc:title>Формы культуры</dc:title>
</cp:coreProperties>
</file>