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6.gif" ContentType="image/gif"/>
  <Override PartName="/ppt/media/image20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6049-A3B1-4627-9325-043752E37A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" Target="../slides/slide22.xml"/><Relationship Id="rId5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урение - одна из вреднейших     привыче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Курение является социальной проблемой общества, как для его курящей, так и для некуряще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Во-первых, нужно  бросить курить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во-вторых, избежать влияния курящего общества и не «заразить» их привычкой, а также – сохранить своё здоровье от продуктов курения, поскольку вещества, входящие в выдыхаемый курильщиками дым, не на много безопаснее того, если бы человек сам курил и принимал в себя никотин и многое другое, что входит в зажжённую сигар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1FE4-3D43-4BF4-99B9-441A449C69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B298-9D90-4411-9785-0E6157CAFD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ение ведет к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никотиномании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зависимости дыхательного центра головного мозга от стимулирующих его работу веществ, содержащихся в табачном ды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B6AF-B7DF-4C48-A11D-29187EA64B5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ящий человек – раб сигар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BCE5-0D27-4AC8-8008-9101E18E292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 пассивном курении некурящий человек страдает бол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т воздействия табачного дыма страд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органы пищеварения; - лёгочная сист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сердечно-сосудистая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8198-577F-4CFF-A4FA-2DB1D8AECE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Это надо зна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поражает сердечно-сосудистую систему, органы дыхания, желудочно-кишечный тр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329D-3AE8-4342-B28F-249757C19B9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является фактором риска сердечно-сосудистых заболеваний (атеросклероз и инфаркт миокарда).</a:t>
            </a: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 13 раз чаще заболевают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 12 раз –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нфарктом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AD44-5684-41C9-9D84-1499C2657C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Алкоголь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его влияние 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Хронический гастрит желу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Развивается цирроз печ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( разрушение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оздействует на головной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Ускоряет биологическое ста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иводит к развитию алкоголизм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2832-15D8-469F-A925-596FB73D68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«Профилактика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F2F5-2E0D-4F55-9BC6-9ABE14CF3F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ервая помощь при отравлении алкоголе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уложить набок и очистить дыхательные пу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ать понюхать ватку, смоченную в нашатырном спир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омыть желу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ложить на голову холодный компр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ызвать скорую помощ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5FFE-3DF1-4FD0-BA2C-7F7E4FE7BB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Наркомания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(от греч. оцепенение, сон, безумие) – это хроническое заболевание, вызванное употреблением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Признаки наркомании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непреодолимое влечение к приёму наркот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тенденция к повышению количества, принимаем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34A3-5556-4795-A5C7-C05E2802FE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ahoma"/>
              </a:rPr>
              <a:t>Официальная статис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редний возраст приобщения к наркотикам в России составляет по статистике 15-17 лет, резко увеличивается процент употребления наркотиков детьми 9-13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Зафиксированы случаи употребления наркотиков детьми 6-7 лет – к наркомании их приобщают родители-нарком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ак заявил в феврале 2010 г. заместитель директора ФСКН России Олег Сафонов, по данным ООН самое большое число наркозависимых, в Иране и Афганистане, третьей в этом списке значится Россия. По данным Минздрава в России около 550 тысяч наркозависимых лиц, но по экспертным оценкам их около 2-2,5 млн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4D26-C4D4-4D9F-A76E-D90FE156CA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 Татарстане на 1 октября 2011 года с диагнозом «наркомания» на учете состо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9 тысяч 631 челове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б этом сообщили во вторник на совещании в Кабмине РТ, прошедшем п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едседательством главы Государственного антинаркотического комите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иректора Федеральной службы по контролю за оборотом наркотиков России Виктора Иван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езоморфин -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imes New Roman"/>
              </a:rPr>
              <a:t>«крокодил» -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паснейший синтетический наркотик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Calibri"/>
                <a:ea typeface="Times New Roman"/>
              </a:rPr>
              <a:t>Гашиш, марихуана, героин, опий, кокаин, морфий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DDBE-EB8B-4F62-8242-88C3716C7E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Фотографии людей до и после того, как они начали принимать 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5399-A6C7-40AE-93A2-5FD0C5F4660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изнаки наркотического отравл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вышение мышечного тону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ужение зрачков и ослабление их реакции на с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краснение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02CB-072A-4791-8639-2546EBDB1F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едагогические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 Как вы поступите, если увидите вашего сына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пьяным</a:t>
            </a:r>
            <a:r>
              <a:rPr b="1" lang="en-US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 В кармане вашей дочери вы обнаружили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табак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. Ваши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3. Как отреагировать на то, что сын(дочь) стали употреблять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наркотики</a:t>
            </a:r>
            <a:r>
              <a:rPr b="1" lang="en-US" sz="1200" spc="-1" strike="noStrike" u="sng">
                <a:solidFill>
                  <a:srgbClr val="080808"/>
                </a:solidFill>
                <a:uFillTx/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4. Как ж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предотвратить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адвигающую беду</a:t>
            </a:r>
            <a:r>
              <a:rPr b="1" lang="en-US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75BE-5AA2-4DA2-ACE8-25A52FD6044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Как же предотвратить надвигающуюся беду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1. Прежде всего вооружитесь зн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2. Старайтесь , как можно больше узнать об алкогольной и наркотической зависим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последствиях и методах л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3. Не зря говорят «знание - это сила». Когда попадает в беду ребёнок, то даже слабые родители становятся си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4. Говорите с подростком о вредных привычках, убеждайте, приводите факты. Не ждите беды, предупреждайте её поя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5. Интересуйтесь друзьями, комп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6.Предоставьте подростку возможность высказать своё мнение, выслушайте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8F7B-450B-4E0F-AA1F-D308586083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илен не тот , кто никогда не падал, а тот, кто падал и встава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0EAE-64DA-4D45-9594-7CD4F87C18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0808"/>
                </a:solidFill>
                <a:latin typeface="Arial"/>
              </a:rPr>
              <a:t>Родительское собрание на тему: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«Профилактика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5077-D177-4AE7-9A04-D546070CAC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следствия вредных привы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оисходит истощение организма, нервной системы и псих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личность деградиру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разрушаются отношения с родителями, родными, друзьями, учител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овершаются преступ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т алкоголиков и наркоманов рождаются неполноценные де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аступает преждевременная смерть (7 лет - средний срок жизни наркоман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о на ранней стадии употребления наркотиков подросток может проявить волю и сам отказаться от их употреб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8253-73AA-41A1-AB45-6819D47C33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Calibri"/>
              </a:rPr>
              <a:t>Воспитание и поддерж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амое главное - эт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ваше воспитание, поддержка и люб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аш ребенок, состоявшийся как нравственная и успешная личность, - самая высокая мера оценки вашего жизненного пу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8CA9-0F1C-4912-88F2-A7C4DAB6DA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Запомните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Быть здоровым - значит не иметь проблем с самочувствием, быть физически и духовно полноценным человек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Здоровье - это сокровище, которое нужно сохранять ежедневно.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Хорошее здоровье - основа долгой, счастливой и полноценной жизни, и особенно это важно для сегодняшни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0808"/>
                </a:solidFill>
                <a:latin typeface="Calibri"/>
              </a:rPr>
              <a:t>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76D4-3D26-4BC1-9148-158926FA25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доровье – богатств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Ну что ж, мой друг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Решенье за тобой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вправе сам командовать судьбой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согласиться можешь, но отказ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Окажется получше в сотню раз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вправе жизнь свою спасти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Подумай, может, ты на правильном пути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Но если всё – таки успел свернуть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о потрудись себе здоровье ты верну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1E77-5253-41DC-B113-26154D1A13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изнь прекрасна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сь к ней бережно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1CED-2E43-4C1B-8F4A-9A48F7F75E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елаем успехов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6841-6C8D-4B04-8029-D6306D1265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 Понятие о вредных привы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 Табако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3. Алког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4. Нарко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5.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A84A-76DB-4E6C-8EE5-15FAB11FAA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Ответьте 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вредные привычки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Что к ним относ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курение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? Каково воздействие табачного дыма на организ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3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алкоголизм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? Последствия алкого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4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наркомания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? Виды наркотиков, их действие, стат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A41F-57F9-47E5-8532-BBD22BECB3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ahoma"/>
              </a:rPr>
              <a:t>Понятие о вредных  привыч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Вредная  привычка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– закрепленный в личности способ поведения, агрессивный по отношению к самой личности или общ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редные  привычки серьезно ухудшают состояние здоровь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CD86-2964-40BB-8860-AE4BEA1797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 вредным  привычкам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абакокурение, алкоголизм, наркомания, игромания, компьюте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отовый телефон, телевидение, шоко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ме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яжёлый ро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23DC-49C9-4065-B77F-3F1FEEFAF6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Calibri"/>
              </a:rPr>
              <a:t>Влияние вредных привыч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На формирование подростков  отрицательно влияют вредные привычк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пецифические дефекты воспитания (отрицательный пример родителей, разрешение родителей принимать алкоголь в их присутств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бычаи и традиции социальной среды (праздничные застоль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едостатки в воспитательной работе (организация досуга и отдыха подрост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остаточно снисходительное отношение в обществе к употреблению курения и алкогольных напитков (плюс сравнительная доступность и стоим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ценка отказа выпить, как проявление недоброжелательности по отношению к друг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авление компании и наличие в ней отрицательных “авторитетных” людей как примера для подра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равственная незрелость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D728-CE4D-4610-AB34-6AAB069F0E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394-E61D-4974-BC2C-004484A2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E7B-793B-4104-A334-821D5FF4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650-7D4A-456E-8A29-F1904091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73A-2CDE-4E6F-A2D0-32F23296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192C4-0E88-42A6-814E-FD5A60A7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A3DE7-6347-40B4-8FDA-27FCCE15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B3CD9-5827-46D2-8A22-D05464A0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6AFBD-5B37-4548-AA36-D9552010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BF507-8A4E-4ABC-83F8-63F58176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DF753-CCC7-4927-A48C-15B3AF74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88792-AF42-43D9-9004-18D8AA1A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B1A-8BF4-44E9-B54A-E10AD09C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28CFE-EC1A-4AC7-ADEA-488DF79D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F5FD1-0BB3-4C7B-9D79-0A41CAA0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49159-3893-4329-8EF9-A13F7843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15E92-2751-4A18-AB41-AE2A7202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8F914-EC4F-4F24-AA07-D1D1075C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982-5080-47B7-ABE6-87B4CB88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0BA-868D-4969-8078-B3352C0A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1DD-0820-4C97-83CA-E73E41E7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0A4-F44C-4245-BB02-49E53974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89B-5AD0-41BB-9829-33FC3D10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24C-CE99-413D-9506-5120F0E0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890-D216-4C4C-85A7-425F0C27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3333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970B-D046-4644-BF7C-A20343D8B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3333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2D7A-B98E-4545-AF61-49C90A95EF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gnk.gov.ru/index.php?module=ContentExpress&amp;func=display&amp;ceid=26&amp;bid=28&amp;btitle=&#1054;&#1073;&#1088;&#1072;&#1090;&#1085;&#1072;&#1103;%20&#1089;&#1074;&#1103;&#1079;&#1100;&amp;meid=12" TargetMode="External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2916360" y="170028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Макар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Оль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187280" y="3933720"/>
            <a:ext cx="66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Заместитель директора по воспитательной работе, учитель русского языка и литерату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квалификационной катего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34544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урение - одна из вреднейших     привычек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1590480"/>
            <a:ext cx="73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Курение является социальной проблемой общества, как для его курящей, так и для некурящей ч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Во-первых, нужно  бросить курить,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во-вторых, избежать влияния курящего общества и не «заразить» их привычкой, а также – сохранить своё здоровье от продуктов курения, поскольку вещества, входящие в выдыхаемый курильщиками дым, не на много безопаснее того, если бы человек сам курил и принимал в себя никотин и многое другое, что входит в зажжённую сигар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Фото: Fotobank"/>
          <p:cNvPicPr/>
          <p:nvPr/>
        </p:nvPicPr>
        <p:blipFill>
          <a:blip r:embed="rId1"/>
          <a:srcRect l="0" t="0" r="15354" b="0"/>
          <a:stretch/>
        </p:blipFill>
        <p:spPr>
          <a:xfrm rot="426000">
            <a:off x="7164000" y="1700280"/>
            <a:ext cx="1522440" cy="1585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809415_8968nothumb500"/>
          <p:cNvPicPr/>
          <p:nvPr/>
        </p:nvPicPr>
        <p:blipFill>
          <a:blip r:embed="rId2"/>
          <a:srcRect l="709" t="2835" r="1417" b="6378"/>
          <a:stretch/>
        </p:blipFill>
        <p:spPr>
          <a:xfrm rot="20632800">
            <a:off x="7308720" y="3789000"/>
            <a:ext cx="1440000" cy="1335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{4CCEB5F7-E7D0-44A2-B1F4-2F4898BBE422}"/>
          <p:cNvPicPr/>
          <p:nvPr/>
        </p:nvPicPr>
        <p:blipFill>
          <a:blip r:embed="rId1"/>
          <a:stretch/>
        </p:blipFill>
        <p:spPr>
          <a:xfrm>
            <a:off x="755640" y="1197000"/>
            <a:ext cx="7601040" cy="50608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3483360" y="3333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3851280" y="692280"/>
            <a:ext cx="460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Курение ведет к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никотиномании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зависимости дыхательного центра головного мозга от стимулирующих его работу веществ, содержащихся в табачном ды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smoker"/>
          <p:cNvPicPr/>
          <p:nvPr/>
        </p:nvPicPr>
        <p:blipFill>
          <a:blip r:embed="rId1"/>
          <a:stretch/>
        </p:blipFill>
        <p:spPr>
          <a:xfrm>
            <a:off x="1187280" y="907920"/>
            <a:ext cx="1989360" cy="2651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3 - копия"/>
          <p:cNvPicPr/>
          <p:nvPr/>
        </p:nvPicPr>
        <p:blipFill>
          <a:blip r:embed="rId2"/>
          <a:stretch/>
        </p:blipFill>
        <p:spPr>
          <a:xfrm>
            <a:off x="1116000" y="4005360"/>
            <a:ext cx="2295360" cy="14284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ahoma"/>
              </a:rPr>
              <a:t>Курящий человек – раб сигарет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7" descr="{69748758-827C-4953-9A4A-14C2851495D5}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1116000" y="1628640"/>
            <a:ext cx="7095960" cy="42832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и пассивном курении некурящий человек страдает боль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{60948C64-3001-4DCF-9C4C-9B1925FD6C4A}"/>
          <p:cNvPicPr/>
          <p:nvPr/>
        </p:nvPicPr>
        <p:blipFill>
          <a:blip r:embed="rId1"/>
          <a:stretch/>
        </p:blipFill>
        <p:spPr>
          <a:xfrm rot="194400">
            <a:off x="4284720" y="907560"/>
            <a:ext cx="4248000" cy="30844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 rot="21378000">
            <a:off x="-252360" y="3573000"/>
            <a:ext cx="496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От воздействия табачного дыма страд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 rot="21392400">
            <a:off x="3348000" y="4508640"/>
            <a:ext cx="46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- органы пищеварения; - лёгочная систе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- сердечно-сосудистая систе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b3c0276-6e20-4c86-9bcf-39a6921ef004"/>
          <p:cNvPicPr/>
          <p:nvPr/>
        </p:nvPicPr>
        <p:blipFill>
          <a:blip r:embed="rId1"/>
          <a:stretch/>
        </p:blipFill>
        <p:spPr>
          <a:xfrm>
            <a:off x="6012000" y="981000"/>
            <a:ext cx="2376360" cy="21891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159" name="Picture 3" descr="i[16]"/>
          <p:cNvPicPr/>
          <p:nvPr/>
        </p:nvPicPr>
        <p:blipFill>
          <a:blip r:embed="rId2"/>
          <a:stretch/>
        </p:blipFill>
        <p:spPr>
          <a:xfrm>
            <a:off x="5940360" y="3789360"/>
            <a:ext cx="2389320" cy="23256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590544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Это надо знат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5761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поражает сердечно-сосудистую систему, органы дыхания, желудочно-кишечный трак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 печен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является фактором риска сердечно-сосудистых заболеваний (атеросклероз и инфаркт миокарда).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3" descr="385"/>
          <p:cNvPicPr/>
          <p:nvPr/>
        </p:nvPicPr>
        <p:blipFill>
          <a:blip r:embed="rId1"/>
          <a:stretch/>
        </p:blipFill>
        <p:spPr>
          <a:xfrm>
            <a:off x="5292720" y="2565360"/>
            <a:ext cx="2544840" cy="264492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2700000" blurRad="0" rotWithShape="0">
              <a:srgbClr val="009900">
                <a:alpha val="50000"/>
              </a:srgbClr>
            </a:outerShdw>
          </a:effectLst>
        </p:spPr>
      </p:pic>
      <p:pic>
        <p:nvPicPr>
          <p:cNvPr id="165" name="Picture 5" descr="24"/>
          <p:cNvPicPr/>
          <p:nvPr/>
        </p:nvPicPr>
        <p:blipFill>
          <a:blip r:embed="rId2"/>
          <a:stretch/>
        </p:blipFill>
        <p:spPr>
          <a:xfrm>
            <a:off x="1476360" y="1773360"/>
            <a:ext cx="2479680" cy="295272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</p:pic>
      <p:sp>
        <p:nvSpPr>
          <p:cNvPr id="166" name="Rectangle 10"/>
          <p:cNvSpPr/>
          <p:nvPr/>
        </p:nvSpPr>
        <p:spPr>
          <a:xfrm>
            <a:off x="-468360" y="4797360"/>
            <a:ext cx="57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  13 раз чаще заболевают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стенокард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211640" y="5445000"/>
            <a:ext cx="45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  12 раз –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инфарктом миокар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{113CC2FF-72B8-49C3-8B82-23BAA4DDAF5D}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5400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Алкоголь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его влияние на орга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Хронический гастрит желуд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Развивается цирроз печ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( разрушение печен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оздействует на головной моз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Ускоряет биологическое ста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риводит к развитию алкоголизм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{98FD7FE8-D60D-423A-9DA8-38886AD4623F}"/>
          <p:cNvPicPr/>
          <p:nvPr/>
        </p:nvPicPr>
        <p:blipFill>
          <a:blip r:embed="rId1"/>
          <a:stretch/>
        </p:blipFill>
        <p:spPr>
          <a:xfrm>
            <a:off x="900000" y="620640"/>
            <a:ext cx="7488360" cy="56674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611280" y="2565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ahoma"/>
                <a:ea typeface="Tahoma"/>
              </a:rPr>
              <a:t>«Профилактика вредных привычек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348000" y="14130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Мастер –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а тем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" name="Object 14"/>
          <p:cNvGraphicFramePr/>
          <p:nvPr/>
        </p:nvGraphicFramePr>
        <p:xfrm>
          <a:off x="395280" y="549360"/>
          <a:ext cx="2305080" cy="15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230508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6"/>
          <p:cNvGraphicFramePr/>
          <p:nvPr/>
        </p:nvGraphicFramePr>
        <p:xfrm>
          <a:off x="6300720" y="4869000"/>
          <a:ext cx="2158920" cy="15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4869000"/>
                    <a:ext cx="2158920" cy="15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7"/>
          <p:cNvSpPr/>
          <p:nvPr/>
        </p:nvSpPr>
        <p:spPr>
          <a:xfrm>
            <a:off x="684360" y="479736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етрадиционные формы и методы работы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80808"/>
                </a:solidFill>
                <a:uFillTx/>
                <a:latin typeface="Tahoma"/>
              </a:rPr>
              <a:t>родител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ервая помощь при отравлении алкоголе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уложить набок и очистить дыхательные пу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дать понюхать ватку, смоченную в нашатырном спирт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промыть желудо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положить на голову холодный компрес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ызвать скорую помощь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3708360" y="3933720"/>
            <a:ext cx="5111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Признаки наркомании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непреодолимое влечение к приёму наркот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тенденция к повышению количества, принимаемого ве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611280" y="404640"/>
            <a:ext cx="792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Наркомания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- (от греч. оцепенение, сон, безумие) – это хроническое заболевание, вызванное употреблением наркот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7273f70fe41c24d60cde3c457a3"/>
          <p:cNvPicPr/>
          <p:nvPr/>
        </p:nvPicPr>
        <p:blipFill>
          <a:blip r:embed="rId1"/>
          <a:stretch/>
        </p:blipFill>
        <p:spPr>
          <a:xfrm>
            <a:off x="395280" y="3284640"/>
            <a:ext cx="3530520" cy="2509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ipe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ews_ac8d5cadc9ff225291a1f6189b6d3829_0"/>
          <p:cNvPicPr/>
          <p:nvPr/>
        </p:nvPicPr>
        <p:blipFill>
          <a:blip r:embed="rId1"/>
          <a:stretch/>
        </p:blipFill>
        <p:spPr>
          <a:xfrm>
            <a:off x="6372360" y="3789360"/>
            <a:ext cx="2160360" cy="1936800"/>
          </a:xfrm>
          <a:prstGeom prst="rect">
            <a:avLst/>
          </a:prstGeom>
          <a:ln w="114480">
            <a:solidFill>
              <a:srgbClr val="33cc33"/>
            </a:solidFill>
            <a:miter/>
          </a:ln>
        </p:spPr>
      </p:pic>
      <p:pic>
        <p:nvPicPr>
          <p:cNvPr id="184" name="Picture 3" descr="gnk-100x100-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1052640"/>
            <a:ext cx="2030400" cy="1954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119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Официальная статис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619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Средний возраст приобщения к наркотикам в России составляет по статистике 15-17 лет, резко увеличивается процент употребления наркотиков детьми 9-13 л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Зафиксированы случаи употребления наркотиков детьми 6-7 лет – к наркомании их приобщают родители-наркома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ак заявил в феврале 2010 г. заместитель директора ФСКН России Олег Сафонов, по данным ООН самое большое число наркозависимых, в Иране и Афганистане, третьей в этом списке значится Россия. По данным Минздрава в России около 550 тысяч наркозависимых лиц, но по экспертным оценкам их около 2-2,5 млн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ipe dir="l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6"/>
          <p:cNvSpPr/>
          <p:nvPr/>
        </p:nvSpPr>
        <p:spPr>
          <a:xfrm>
            <a:off x="684360" y="4724280"/>
            <a:ext cx="72723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Дезоморфин - 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Times New Roman"/>
              </a:rPr>
              <a:t>«крокодил» - 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паснейший синтетический наркотик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Calibri"/>
                <a:ea typeface="Times New Roman"/>
              </a:rPr>
              <a:t>Гашиш, марихуана, героин, опий, кокаин, морфи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95280" y="476280"/>
            <a:ext cx="8209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В Татарстане на 1 октября 2011 года с диагнозом «наркомания» на учете состоя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9 тысяч 631 челов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б этом сообщили во вторник на совещании в Кабмине РТ, прошедшем под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председательством главы Государственного антинаркотического комите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директора Федеральной службы по контролю за оборотом наркотиков России Виктора Иван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Фотографии людей до и после того, как они начали принимать нарко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newface1"/>
          <p:cNvPicPr/>
          <p:nvPr/>
        </p:nvPicPr>
        <p:blipFill>
          <a:blip r:embed="rId1"/>
          <a:stretch/>
        </p:blipFill>
        <p:spPr>
          <a:xfrm>
            <a:off x="2987640" y="2060640"/>
            <a:ext cx="3011400" cy="22590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193" name="Picture 5" descr="faces1"/>
          <p:cNvPicPr/>
          <p:nvPr/>
        </p:nvPicPr>
        <p:blipFill>
          <a:blip r:embed="rId2"/>
          <a:stretch/>
        </p:blipFill>
        <p:spPr>
          <a:xfrm rot="21370200">
            <a:off x="1116000" y="4292280"/>
            <a:ext cx="3168720" cy="1996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94" name="Picture 6" descr="faces6"/>
          <p:cNvPicPr/>
          <p:nvPr/>
        </p:nvPicPr>
        <p:blipFill>
          <a:blip r:embed="rId3"/>
          <a:stretch/>
        </p:blipFill>
        <p:spPr>
          <a:xfrm rot="21333600">
            <a:off x="250920" y="2276280"/>
            <a:ext cx="2881080" cy="18158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95" name="Picture 7" descr="faces5"/>
          <p:cNvPicPr/>
          <p:nvPr/>
        </p:nvPicPr>
        <p:blipFill>
          <a:blip r:embed="rId4"/>
          <a:stretch/>
        </p:blipFill>
        <p:spPr>
          <a:xfrm rot="224400">
            <a:off x="5076360" y="4365720"/>
            <a:ext cx="3168720" cy="19969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96" name="Picture 8" descr="faces8"/>
          <p:cNvPicPr/>
          <p:nvPr/>
        </p:nvPicPr>
        <p:blipFill>
          <a:blip r:embed="rId5"/>
          <a:stretch/>
        </p:blipFill>
        <p:spPr>
          <a:xfrm rot="361200">
            <a:off x="6012000" y="2276280"/>
            <a:ext cx="2881080" cy="1815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blinds dir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{D9F07142-893E-4CD8-BBB3-5B9F270B2188}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755640" y="260280"/>
            <a:ext cx="7921800" cy="626904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ризнаки наркотического от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овышение мышечного тону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сужение зрачков и ослабление их реакции на св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окраснение ко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" descr="addiction-1"/>
          <p:cNvPicPr/>
          <p:nvPr/>
        </p:nvPicPr>
        <p:blipFill>
          <a:blip r:embed="rId1"/>
          <a:stretch/>
        </p:blipFill>
        <p:spPr>
          <a:xfrm>
            <a:off x="6732720" y="3500280"/>
            <a:ext cx="1484280" cy="24782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1546920" y="620640"/>
            <a:ext cx="58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Педагогические ситу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50920" y="1484280"/>
            <a:ext cx="849636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1. Как вы поступите, если увидите вашего сына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пьяным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2. В кармане вашей дочери вы обнаружили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табак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. Ваши действ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3. Как отреагировать на то, что сын(дочь) стали употреблять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наркотики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4. Как же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предотвратить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надвигающую беду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79280" y="831240"/>
            <a:ext cx="874872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1. Прежде всего вооружитесь зна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2. Старайтесь , как можно больше узнать об алкогольной и наркотической зависим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последствиях и методах ле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3. Не зря говорят «знание - это сила». Когда попадает в беду ребёнок, то даже слабые родители становятся си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4. Говорите с подростком о вредных привычках, убеждайте, приводите факты. Не ждите беды, предупреждайте её появ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5. Интересуйтесь друзьями, компан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6.Предоставьте подростку возможность высказать своё мнение, выслушайте е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48760" y="189000"/>
            <a:ext cx="87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же предотвратить надвигающуюся беду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92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Силен не тот , кто никогда не падал, а тот, кто падал и вставал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Содержимое 3" descr="Как оградить ребенка от алкоголя и наркотиков?"/>
          <p:cNvPicPr/>
          <p:nvPr/>
        </p:nvPicPr>
        <p:blipFill>
          <a:blip r:embed="rId1"/>
          <a:stretch/>
        </p:blipFill>
        <p:spPr>
          <a:xfrm rot="21408000">
            <a:off x="971640" y="2205000"/>
            <a:ext cx="3636720" cy="32400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5" descr="http://schkola2009.ucoz.ru/j0422194.jpg"/>
          <p:cNvPicPr/>
          <p:nvPr/>
        </p:nvPicPr>
        <p:blipFill>
          <a:blip r:embed="rId2"/>
          <a:stretch/>
        </p:blipFill>
        <p:spPr>
          <a:xfrm rot="230400">
            <a:off x="4716000" y="2133360"/>
            <a:ext cx="3241800" cy="3098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SCN4283"/>
          <p:cNvPicPr/>
          <p:nvPr/>
        </p:nvPicPr>
        <p:blipFill>
          <a:blip r:embed="rId3"/>
          <a:stretch/>
        </p:blipFill>
        <p:spPr>
          <a:xfrm>
            <a:off x="3203640" y="4365720"/>
            <a:ext cx="2952720" cy="21128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4140360" y="2997360"/>
            <a:ext cx="4392360" cy="3203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24000" y="620640"/>
            <a:ext cx="5256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Родительское собрание на тему: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«Профилактика вредных привычек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468360" y="3357720"/>
          <a:ext cx="3384360" cy="23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357720"/>
                    <a:ext cx="3384360" cy="23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5867280" y="836640"/>
          <a:ext cx="2449800" cy="163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836640"/>
                    <a:ext cx="244980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4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происходит истощение организма, нервной системы и псих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личность деградиру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разрушаются отношения с родителями, родными, друзьями, учител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совершаются преступ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т алкоголиков и наркоманов рождаются неполноценные де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аступает преждевременная смерть (7 лет - средний срок жизни наркоман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о на ранней стадии употребления наркотиков подросток может проявить волю и сам отказаться от их употреб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005120" y="33336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оследствия вредных привы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амое главное - эт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ваше воспитание, поддержка и любов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0" y="0"/>
            <a:ext cx="184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27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721520" y="404640"/>
            <a:ext cx="56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оспитание и поддерж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8" descr="vospitanie_ditej"/>
          <p:cNvPicPr/>
          <p:nvPr/>
        </p:nvPicPr>
        <p:blipFill>
          <a:blip r:embed="rId1"/>
          <a:stretch/>
        </p:blipFill>
        <p:spPr>
          <a:xfrm rot="221400">
            <a:off x="5724000" y="1628640"/>
            <a:ext cx="2735280" cy="1808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SunnyDay"/>
          <p:cNvPicPr/>
          <p:nvPr/>
        </p:nvPicPr>
        <p:blipFill>
          <a:blip r:embed="rId2"/>
          <a:stretch/>
        </p:blipFill>
        <p:spPr>
          <a:xfrm rot="21413400">
            <a:off x="539640" y="3933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"/>
          <p:cNvSpPr/>
          <p:nvPr/>
        </p:nvSpPr>
        <p:spPr>
          <a:xfrm>
            <a:off x="3492360" y="3789360"/>
            <a:ext cx="50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аш ребенок, состоявшийся как нравственная и успешная личность, - самая высокая мера оценки вашего жизненного пу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Запомните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3640" y="1413000"/>
            <a:ext cx="8258040" cy="35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Быть здоровым - значит не иметь проблем с самочувствием, быть физически и духовно полноценным человеком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Здоровье - это сокровище, которое нужно сохранять ежедневно.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Хорошее здоровье - основа долгой, счастливой и полноценной жизни, и особенно это важно для сегодняшних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Здоровье – богатство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341360"/>
            <a:ext cx="8507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Ну что ж, мой друг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Решенье за тобой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вправе сам командовать судьбой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согласиться можешь, но отказ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Окажется получше в сотню раз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вправе жизнь свою спасти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Подумай, может, ты на правильном пути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Но если всё – таки успел свернуть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о потрудись себе здоровье ты верну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c192be6fe5aa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5291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2579760" y="5013360"/>
            <a:ext cx="42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Жизнь прекрасна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546200" y="5661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тноситесь к ней бережно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c162b7f268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561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5"/>
          <p:cNvSpPr/>
          <p:nvPr/>
        </p:nvSpPr>
        <p:spPr>
          <a:xfrm>
            <a:off x="450000" y="4459320"/>
            <a:ext cx="51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пасибо за внимание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328560" y="5589720"/>
            <a:ext cx="40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Желаем успехов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276720" y="692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50920" y="1484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1. Понятие о вредных привыч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1204920" y="2349360"/>
            <a:ext cx="35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2. Табакокур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1862280" y="314172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3. Алкого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2339640" y="393372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4. Нарком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2900880" y="472428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5. Здоровый образ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3" descr="2536452_web_w236_h400"/>
          <p:cNvPicPr/>
          <p:nvPr/>
        </p:nvPicPr>
        <p:blipFill>
          <a:blip r:embed="rId1"/>
          <a:stretch/>
        </p:blipFill>
        <p:spPr>
          <a:xfrm>
            <a:off x="539640" y="4292640"/>
            <a:ext cx="1257480" cy="2130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2536452_web_w236_h400"/>
          <p:cNvPicPr/>
          <p:nvPr/>
        </p:nvPicPr>
        <p:blipFill>
          <a:blip r:embed="rId2"/>
          <a:stretch/>
        </p:blipFill>
        <p:spPr>
          <a:xfrm>
            <a:off x="7740720" y="476280"/>
            <a:ext cx="96048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826920" y="508464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4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наркомания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? Виды наркотиков, их действие, стати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053080" y="419040"/>
            <a:ext cx="49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тветьте  на вопрос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116000" y="1341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1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</a:rPr>
              <a:t>вредные привычки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Что к ним относит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611280" y="263700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2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</a:rPr>
              <a:t>курение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? Каково воздействие табачного дыма на организ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755640" y="386064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3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алкоголизм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? Последствия алкогол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Вредная  привычка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– закрепленный в личности способ поведения, агрессивный по отношению к самой личности или обществ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007640" y="396720"/>
            <a:ext cx="69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Понятие о вредных  привычк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6" descr="smoker"/>
          <p:cNvPicPr/>
          <p:nvPr/>
        </p:nvPicPr>
        <p:blipFill>
          <a:blip r:embed="rId1"/>
          <a:stretch/>
        </p:blipFill>
        <p:spPr>
          <a:xfrm>
            <a:off x="971640" y="3860640"/>
            <a:ext cx="1512720" cy="2017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2340000" y="4076640"/>
            <a:ext cx="573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редные  привычки серьезно ухудшают состояние здоровья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826920" y="1413000"/>
            <a:ext cx="388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абакокурение, алкоголизм, наркомания, игромания, компьютер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отовый телефон, телевидение, шокола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мех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яжёлый рок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21000" y="355680"/>
            <a:ext cx="76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 вредным  привычкам относя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Stok_photo_Addiction1"/>
          <p:cNvPicPr/>
          <p:nvPr/>
        </p:nvPicPr>
        <p:blipFill>
          <a:blip r:embed="rId1"/>
          <a:stretch/>
        </p:blipFill>
        <p:spPr>
          <a:xfrm rot="409800">
            <a:off x="5292360" y="1341000"/>
            <a:ext cx="2664000" cy="244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pressfoto_425087"/>
          <p:cNvPicPr/>
          <p:nvPr/>
        </p:nvPicPr>
        <p:blipFill>
          <a:blip r:embed="rId2"/>
          <a:stretch/>
        </p:blipFill>
        <p:spPr>
          <a:xfrm>
            <a:off x="5076720" y="3789360"/>
            <a:ext cx="2735280" cy="2192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4911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лияние вредных привы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8362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На формирование подростков  отрицательно влияют вредные привычки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специфические дефекты воспитания (отрицательный пример родителей, разрешение родителей принимать алкоголь в их присутств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обычаи и традиции социальной среды (праздничные застоль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недостатки в воспитательной работе (организация досуга и отдыха подрост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достаточно снисходительное отношение в обществе к употреблению курения и алкогольных напитков (плюс сравнительная доступность и стоимость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оценка отказа выпить, как проявление недоброжелательности по отношению к други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давление компании и наличие в ней отрицательных “авторитетных” людей как примера для подраж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нравственная незрелость подрост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{2B0A6592-5102-4B46-AA99-3A94A017779B}"/>
          <p:cNvPicPr/>
          <p:nvPr/>
        </p:nvPicPr>
        <p:blipFill>
          <a:blip r:embed="rId1"/>
          <a:stretch/>
        </p:blipFill>
        <p:spPr>
          <a:xfrm>
            <a:off x="971640" y="620640"/>
            <a:ext cx="7313400" cy="54849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мыйЛучшийМагазин</dc:creator>
  <dc:description/>
  <dc:language>en-US</dc:language>
  <cp:lastModifiedBy>LEGION</cp:lastModifiedBy>
  <dcterms:modified xsi:type="dcterms:W3CDTF">2015-05-12T09:25:56Z</dcterms:modified>
  <cp:revision>232</cp:revision>
  <dc:subject/>
  <dc:title>Макарова Ольга Николаевна</dc:title>
</cp:coreProperties>
</file>