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6.gif" ContentType="image/gif"/>
  <Override PartName="/ppt/media/image20.jpeg" ContentType="image/jpeg"/>
  <Override PartName="/ppt/media/image19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7555-8249-4FD0-A650-4EB7A028951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" Target="../slides/slide22.xml"/><Relationship Id="rId5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урение - одна из вреднейших     привыче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Курение является социальной проблемой общества, как для его курящей, так и для некуряще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Во-первых, нужно  бросить курить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во-вторых, избежать влияния курящего общества и не «заразить» их привычкой, а также – сохранить своё здоровье от продуктов курения, поскольку вещества, входящие в выдыхаемый курильщиками дым, не на много безопаснее того, если бы человек сам курил и принимал в себя никотин и многое другое, что входит в зажжённую сигар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E1A9-4AB1-4DF0-BA3F-926C42365D8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6213-BA0D-407F-9865-08FE62DEBE5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Курение ведет к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никотиномании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зависимости дыхательного центра головного мозга от стимулирующих его работу веществ, содержащихся в табачном ды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0606-9CCE-4179-AE45-F41C197581C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Курящий человек – раб сигар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8379-749E-4416-8ED7-F7DBD13611D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и пассивном курении некурящий человек страдает бол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т воздействия табачного дыма страд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- органы пищеварения; - лёгочная сист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- сердечно-сосудистая 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97DF-9928-4B55-AC4F-222591CC825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Это надо знат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ение поражает сердечно-сосудистую систему, органы дыхания, желудочно-кишечный тр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ильщики болеют раком лёгких в несколько раз чаще, чем некурящие и составляют 96-100% всех больных раком лёг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ение увеличивает вероятность других видов злокачественных опухолей (полости рта, пищевода, гортани, поджелудочной железы, желудка, толстой кишки, 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C794-0929-4B0C-9466-7A736CFF05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ение является фактором риска сердечно-сосудистых заболеваний (атеросклероз и инфаркт миокарда).</a:t>
            </a:r>
            <a:br>
              <a:rPr sz="1200"/>
            </a:b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 13 раз чаще заболевают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стенокард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 12 раз –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инфарктом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F7BC-A545-4845-A69F-673A612F41D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Алкоголь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его влияние 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Хронический гастрит желу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Развивается цирроз печ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( разрушение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оздействует на головной 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Ускоряет биологическое ста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иводит к развитию алкоголизм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99B2-B314-42CD-A558-53D0C3F9486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«Профилактика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2359-6CD7-42EF-B806-4F6933633A8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ервая помощь при отравлении алкоголе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уложить набок и очистить дыхательные пу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ать понюхать ватку, смоченную в нашатырном спир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омыть желу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оложить на голову холодный компр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ызвать скорую помощ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6AE1-6551-4D01-9A9B-A38C71A5500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Наркомания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- (от греч. оцепенение, сон, безумие) – это хроническое заболевание, вызванное употреблением наркот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Признаки наркомании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непреодолимое влечение к приёму наркот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тенденция к повышению количества, принимаем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3A6D-DE34-46ED-9A54-0062AB046D1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ahoma"/>
              </a:rPr>
              <a:t>Официальная статис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редний возраст приобщения к наркотикам в России составляет по статистике 15-17 лет, резко увеличивается процент употребления наркотиков детьми 9-13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Зафиксированы случаи употребления наркотиков детьми 6-7 лет – к наркомании их приобщают родители-нарком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ак заявил в феврале 2010 г. заместитель директора ФСКН России Олег Сафонов, по данным ООН самое большое число наркозависимых, в Иране и Афганистане, третьей в этом списке значится Россия. По данным Минздрава в России около 550 тысяч наркозависимых лиц, но по экспертным оценкам их около 2-2,5 млн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282A-27BC-49C9-A75C-97B9A59634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 Татарстане на 1 октября 2011 года с диагнозом «наркомания» на учете состо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9 тысяч 631 человек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б этом сообщили во вторник на совещании в Кабмине РТ, прошедшем п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едседательством главы Государственного антинаркотического комите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иректора Федеральной службы по контролю за оборотом наркотиков России Виктора Иван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езоморфин -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imes New Roman"/>
              </a:rPr>
              <a:t>«крокодил» - 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паснейший синтетический наркотик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Calibri"/>
                <a:ea typeface="Times New Roman"/>
              </a:rPr>
              <a:t>Гашиш, марихуана, героин, опий, кокаин, морфий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754E-4EE9-42C4-9567-0533A23347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Фотографии людей до и после того, как они начали принимать 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BD28-347A-4F06-A5E5-69D1E861263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изнаки наркотического отравл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овышение мышечного тону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ужение зрачков и ослабление их реакции на св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окраснение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70EE-3C73-4A93-933B-C895698B81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едагогические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1. Как вы поступите, если увидите вашего сына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пьяным</a:t>
            </a:r>
            <a:r>
              <a:rPr b="1" lang="en-US" sz="1200" spc="-1" strike="noStrike">
                <a:solidFill>
                  <a:srgbClr val="080808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2. В кармане вашей дочери вы обнаружили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табак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. Ваши 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3. Как отреагировать на то, что сын(дочь) стали употреблять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наркотики</a:t>
            </a:r>
            <a:r>
              <a:rPr b="1" lang="en-US" sz="1200" spc="-1" strike="noStrike" u="sng">
                <a:solidFill>
                  <a:srgbClr val="080808"/>
                </a:solidFill>
                <a:uFillTx/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4. Как ж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предотвратить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адвигающую беду</a:t>
            </a:r>
            <a:r>
              <a:rPr b="1" lang="en-US" sz="1200" spc="-1" strike="noStrike">
                <a:solidFill>
                  <a:srgbClr val="080808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94F8-E609-439F-AC2B-5B03D9DEF76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Как же предотвратить надвигающуюся беду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1. Прежде всего вооружитесь зна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2. Старайтесь , как можно больше узнать об алкогольной и наркотической зависим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последствиях и методах л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3. Не зря говорят «знание - это сила». Когда попадает в беду ребёнок, то даже слабые родители становятся си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4. Говорите с подростком о вредных привычках, убеждайте, приводите факты. Не ждите беды, предупреждайте её поя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5. Интересуйтесь друзьями, компан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6.Предоставьте подростку возможность высказать своё мнение, выслушайте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2A4B-6316-4440-BBF9-90AAC57B266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илен не тот , кто никогда не падал, а тот, кто падал и встава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46F2-D489-49DB-ABAE-4AC97283AEB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0808"/>
                </a:solidFill>
                <a:latin typeface="Arial"/>
              </a:rPr>
              <a:t>Родительское собрание на тему: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ahoma"/>
              </a:rPr>
              <a:t>«Профилактика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C3FF-ECED-4451-9408-923883669F5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следствия вредных привы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оисходит истощение организма, нервной системы и псих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личность деградиру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разрушаются отношения с родителями, родными, друзьями, учител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овершаются преступ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т алкоголиков и наркоманов рождаются неполноценные де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аступает преждевременная смерть (7 лет - средний срок жизни наркоман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о на ранней стадии употребления наркотиков подросток может проявить волю и сам отказаться от их употреб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D28A-BC91-4C17-BCA3-E260C0E026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Calibri"/>
              </a:rPr>
              <a:t>Воспитание и поддерж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амое главное - эт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ahoma"/>
              </a:rPr>
              <a:t>ваше воспитание, поддержка и любо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аш ребенок, состоявшийся как нравственная и успешная личность, - самая высокая мера оценки вашего жизненного пу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6780-F3B0-42F8-9DA8-A204B3758AF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Запомните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Быть здоровым - значит не иметь проблем с самочувствием, быть физически и духовно полноценным человеко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Здоровье - это сокровище, которое нужно сохранять ежедневно.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Хорошее здоровье - основа долгой, счастливой и полноценной жизни, и особенно это важно для сегодняшних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0808"/>
                </a:solidFill>
                <a:latin typeface="Calibri"/>
              </a:rPr>
              <a:t>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E7C6-7CC0-4B48-877E-973EEF57E32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доровье – богатств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Ну что ж, мой друг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Решенье за тобой,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ы вправе сам командовать судьбой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ы согласиться можешь, но отказ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Окажется получше в сотню раз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ы вправе жизнь свою спасти,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Подумай, может, ты на правильном пути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Но если всё – таки успел свернуть,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о потрудись себе здоровье ты верну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8824-3E57-43B2-82DF-5942926D60C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изнь прекрасна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тноситесь к ней бережно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3830-C144-4789-BA07-94578DCF69C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елаем успехов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031A-44DB-482A-9CA6-5E74C818E6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1. Понятие о вредных привы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2. Табакоку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3. Алког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4. Нарко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5.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F0D6-B55C-49B6-9CDB-C06F90A8506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ahoma"/>
              </a:rPr>
              <a:t>Ответьте 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1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вредные привычки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Что к ним относи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2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курение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? Каково воздействие табачного дыма на организ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3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  <a:ea typeface="Tahoma"/>
              </a:rPr>
              <a:t>алкоголизм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? Последствия алкогол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4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  <a:ea typeface="Tahoma"/>
              </a:rPr>
              <a:t>наркомания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? Виды наркотиков, их действие, статис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44F7-A766-4BA0-93B6-2F46EBCC40A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ahoma"/>
              </a:rPr>
              <a:t>Понятие о вредных  привыч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  <a:ea typeface="Tahoma"/>
              </a:rPr>
              <a:t>Вредная  привычка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– закрепленный в личности способ поведения, агрессивный по отношению к самой личности или общ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редные  привычки серьезно ухудшают состояние здоровь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F6B7-5324-4DD5-9059-2ADA378DFEE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 вредным  привычкам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абакокурение, алкоголизм, наркомания, игромания, компьютер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отовый телефон, телевидение, шокола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ме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яжёлый ро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4568-C1E8-4E68-98CE-5B889351CE2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Calibri"/>
              </a:rPr>
              <a:t>Влияние вредных привыч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На формирование подростков  отрицательно влияют вредные привычки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пецифические дефекты воспитания (отрицательный пример родителей, разрешение родителей принимать алкоголь в их присутств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бычаи и традиции социальной среды (праздничные застоль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едостатки в воспитательной работе (организация досуга и отдыха подростк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остаточно снисходительное отношение в обществе к употреблению курения и алкогольных напитков (плюс сравнительная доступность и стоим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ценка отказа выпить, как проявление недоброжелательности по отношению к друг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авление компании и наличие в ней отрицательных “авторитетных” людей как примера для подраж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равственная незрелость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F547-0DF7-459A-B170-9870A5F265C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50A-10A1-46A0-8ECE-9BE8C347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ACF-36D4-4CB7-A392-7D8F1A17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616A-C849-4BC6-A3E1-6A7C26E3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1C9-06E4-465A-9532-60B2FAD2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C73E2-434C-418B-B47B-D8E0750E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79BEC-3F6B-4FE4-B20E-8E10D60B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2233E-102E-464D-AEFF-286FDAE6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103CE-D55D-492F-A4DC-185D50A2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CD30A-B72A-45B2-9E5C-E6EC4E8B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BDBBD-7B00-4AD0-AB22-18B3EB0C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19A7F-32FD-4F66-83AB-9191DA63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5439-B1D4-4E83-A6E3-306E6BC7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4916C-285C-4BCE-8346-2A565CCD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5B2F9-5D87-4970-AEF8-759FB2C8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69622-83EC-4EAA-A711-B206A472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D1CAB-5176-45B7-8D1B-4CD17430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AB8DA-5D27-4A29-9BBF-F8521770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00B8-E20A-4219-A095-94D8F87B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9FD-1641-4850-9A07-52D2B6C0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80B-3EE6-4439-899E-6EF1D51D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DDA9-2736-4B45-B63C-977F5D91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27C7-7C0C-4797-9B8B-EF06A8A3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6E98-9EA7-4D1A-A688-E48132AB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F070-459D-43ED-BA53-568C71FD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3333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4D09-F0AA-4FBA-B468-ABDE4BC6B5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3333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D4C5-45D1-4A4B-A182-13BBF2A7AF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gnk.gov.ru/index.php?module=ContentExpress&amp;func=display&amp;ceid=26&amp;bid=28&amp;btitle=&#1054;&#1073;&#1088;&#1072;&#1090;&#1085;&#1072;&#1103;%20&#1089;&#1074;&#1103;&#1079;&#1100;&amp;meid=12" TargetMode="External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2916360" y="1700280"/>
            <a:ext cx="29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Макар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Ольг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Никола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187280" y="3933720"/>
            <a:ext cx="669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Заместитель директора по воспитательной работе, учитель русского языка и литерату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квалификационной категор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34544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урение - одна из вреднейших     привычек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1590480"/>
            <a:ext cx="73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Курение является социальной проблемой общества, как для его курящей, так и для некурящей ч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Во-первых, нужно  бросить курить,</a:t>
            </a:r>
            <a:br>
              <a:rPr sz="2400"/>
            </a:b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во-вторых, избежать влияния курящего общества и не «заразить» их привычкой, а также – сохранить своё здоровье от продуктов курения, поскольку вещества, входящие в выдыхаемый курильщиками дым, не на много безопаснее того, если бы человек сам курил и принимал в себя никотин и многое другое, что входит в зажжённую сигар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Фото: Fotobank"/>
          <p:cNvPicPr/>
          <p:nvPr/>
        </p:nvPicPr>
        <p:blipFill>
          <a:blip r:embed="rId1"/>
          <a:srcRect l="0" t="0" r="15354" b="0"/>
          <a:stretch/>
        </p:blipFill>
        <p:spPr>
          <a:xfrm rot="426000">
            <a:off x="7164000" y="1700280"/>
            <a:ext cx="1522440" cy="1585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809415_8968nothumb500"/>
          <p:cNvPicPr/>
          <p:nvPr/>
        </p:nvPicPr>
        <p:blipFill>
          <a:blip r:embed="rId2"/>
          <a:srcRect l="709" t="2835" r="1417" b="6378"/>
          <a:stretch/>
        </p:blipFill>
        <p:spPr>
          <a:xfrm rot="20632800">
            <a:off x="7308720" y="3789000"/>
            <a:ext cx="1440000" cy="1335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wheel spokes="8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{4CCEB5F7-E7D0-44A2-B1F4-2F4898BBE422}"/>
          <p:cNvPicPr/>
          <p:nvPr/>
        </p:nvPicPr>
        <p:blipFill>
          <a:blip r:embed="rId1"/>
          <a:stretch/>
        </p:blipFill>
        <p:spPr>
          <a:xfrm>
            <a:off x="755640" y="1197000"/>
            <a:ext cx="7601040" cy="50608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3483360" y="3333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3851280" y="692280"/>
            <a:ext cx="460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Курение ведет к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никотиномании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зависимости дыхательного центра головного мозга от стимулирующих его работу веществ, содержащихся в табачном ды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smoker"/>
          <p:cNvPicPr/>
          <p:nvPr/>
        </p:nvPicPr>
        <p:blipFill>
          <a:blip r:embed="rId1"/>
          <a:stretch/>
        </p:blipFill>
        <p:spPr>
          <a:xfrm>
            <a:off x="1187280" y="907920"/>
            <a:ext cx="1989360" cy="2651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3 - копия"/>
          <p:cNvPicPr/>
          <p:nvPr/>
        </p:nvPicPr>
        <p:blipFill>
          <a:blip r:embed="rId2"/>
          <a:stretch/>
        </p:blipFill>
        <p:spPr>
          <a:xfrm>
            <a:off x="1116000" y="4005360"/>
            <a:ext cx="2295360" cy="14284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Tahoma"/>
              </a:rPr>
              <a:t>Курящий человек – раб сигарет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7" descr="{69748758-827C-4953-9A4A-14C2851495D5}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1116000" y="1628640"/>
            <a:ext cx="7095960" cy="42832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и пассивном курении некурящий человек страдает больш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{60948C64-3001-4DCF-9C4C-9B1925FD6C4A}"/>
          <p:cNvPicPr/>
          <p:nvPr/>
        </p:nvPicPr>
        <p:blipFill>
          <a:blip r:embed="rId1"/>
          <a:stretch/>
        </p:blipFill>
        <p:spPr>
          <a:xfrm rot="194400">
            <a:off x="4284720" y="907560"/>
            <a:ext cx="4248000" cy="30844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 rot="21378000">
            <a:off x="-252360" y="3573000"/>
            <a:ext cx="496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От воздействия табачного дыма страда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7"/>
          <p:cNvSpPr/>
          <p:nvPr/>
        </p:nvSpPr>
        <p:spPr>
          <a:xfrm rot="21392400">
            <a:off x="3348000" y="4508640"/>
            <a:ext cx="468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- органы пищеварения; - лёгочная систем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- сердечно-сосудистая систе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b3c0276-6e20-4c86-9bcf-39a6921ef004"/>
          <p:cNvPicPr/>
          <p:nvPr/>
        </p:nvPicPr>
        <p:blipFill>
          <a:blip r:embed="rId1"/>
          <a:stretch/>
        </p:blipFill>
        <p:spPr>
          <a:xfrm>
            <a:off x="6012000" y="981000"/>
            <a:ext cx="2376360" cy="218916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159" name="Picture 3" descr="i[16]"/>
          <p:cNvPicPr/>
          <p:nvPr/>
        </p:nvPicPr>
        <p:blipFill>
          <a:blip r:embed="rId2"/>
          <a:stretch/>
        </p:blipFill>
        <p:spPr>
          <a:xfrm>
            <a:off x="5940360" y="3789360"/>
            <a:ext cx="2389320" cy="232560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590544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Это надо знать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5761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урение поражает сердечно-сосудистую систему, органы дыхания, желудочно-кишечный трак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урильщики болеют раком лёгких в несколько раз чаще, чем некурящие и составляют 96-100% всех больных раком лёгки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урение увеличивает вероятность других видов злокачественных опухолей (полости рта, пищевода, гортани, поджелудочной железы, желудка, толстой кишки,  печен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Курение является фактором риска сердечно-сосудистых заболеваний (атеросклероз и инфаркт миокарда).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3" descr="385"/>
          <p:cNvPicPr/>
          <p:nvPr/>
        </p:nvPicPr>
        <p:blipFill>
          <a:blip r:embed="rId1"/>
          <a:stretch/>
        </p:blipFill>
        <p:spPr>
          <a:xfrm>
            <a:off x="5292720" y="2565360"/>
            <a:ext cx="2544840" cy="2644920"/>
          </a:xfrm>
          <a:prstGeom prst="rect">
            <a:avLst/>
          </a:prstGeom>
          <a:ln w="76320">
            <a:solidFill>
              <a:srgbClr val="33cc33"/>
            </a:solidFill>
            <a:miter/>
          </a:ln>
          <a:effectLst>
            <a:outerShdw dist="107932" dir="2700000" blurRad="0" rotWithShape="0">
              <a:srgbClr val="009900">
                <a:alpha val="50000"/>
              </a:srgbClr>
            </a:outerShdw>
          </a:effectLst>
        </p:spPr>
      </p:pic>
      <p:pic>
        <p:nvPicPr>
          <p:cNvPr id="165" name="Picture 5" descr="24"/>
          <p:cNvPicPr/>
          <p:nvPr/>
        </p:nvPicPr>
        <p:blipFill>
          <a:blip r:embed="rId2"/>
          <a:stretch/>
        </p:blipFill>
        <p:spPr>
          <a:xfrm>
            <a:off x="1476360" y="1773360"/>
            <a:ext cx="2479680" cy="2952720"/>
          </a:xfrm>
          <a:prstGeom prst="rect">
            <a:avLst/>
          </a:prstGeom>
          <a:ln w="76320">
            <a:solidFill>
              <a:srgbClr val="33cc33"/>
            </a:solidFill>
            <a:miter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</p:pic>
      <p:sp>
        <p:nvSpPr>
          <p:cNvPr id="166" name="Rectangle 10"/>
          <p:cNvSpPr/>
          <p:nvPr/>
        </p:nvSpPr>
        <p:spPr>
          <a:xfrm>
            <a:off x="-468360" y="4797360"/>
            <a:ext cx="57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  13 раз чаще заболевают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стенокард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211640" y="5445000"/>
            <a:ext cx="45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  12 раз –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инфарктом миокар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{113CC2FF-72B8-49C3-8B82-23BAA4DDAF5D}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5400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Алкоголь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его влияние на орга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Хронический гастрит желуд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Развивается цирроз пече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( разрушение печен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оздействует на головной моз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Ускоряет биологическое ста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риводит к развитию алкоголизм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{98FD7FE8-D60D-423A-9DA8-38886AD4623F}"/>
          <p:cNvPicPr/>
          <p:nvPr/>
        </p:nvPicPr>
        <p:blipFill>
          <a:blip r:embed="rId1"/>
          <a:stretch/>
        </p:blipFill>
        <p:spPr>
          <a:xfrm>
            <a:off x="900000" y="620640"/>
            <a:ext cx="7488360" cy="56674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611280" y="25653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Tahoma"/>
                <a:ea typeface="Tahoma"/>
              </a:rPr>
              <a:t>«Профилактика вредных привычек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348000" y="141300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Мастер –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а тем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5" name="Object 14"/>
          <p:cNvGraphicFramePr/>
          <p:nvPr/>
        </p:nvGraphicFramePr>
        <p:xfrm>
          <a:off x="395280" y="549360"/>
          <a:ext cx="2305080" cy="15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230508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6"/>
          <p:cNvGraphicFramePr/>
          <p:nvPr/>
        </p:nvGraphicFramePr>
        <p:xfrm>
          <a:off x="6300720" y="4869000"/>
          <a:ext cx="2158920" cy="15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4869000"/>
                    <a:ext cx="2158920" cy="15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7"/>
          <p:cNvSpPr/>
          <p:nvPr/>
        </p:nvSpPr>
        <p:spPr>
          <a:xfrm>
            <a:off x="684360" y="479736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етрадиционные формы и методы работы 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80808"/>
                </a:solidFill>
                <a:uFillTx/>
                <a:latin typeface="Tahoma"/>
              </a:rPr>
              <a:t>родител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ервая помощь при отравлении алкоголе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уложить набок и очистить дыхательные пу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дать понюхать ватку, смоченную в нашатырном спирт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промыть желудо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положить на голову холодный компрес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ызвать скорую помощь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3708360" y="3933720"/>
            <a:ext cx="51116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Признаки наркомании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непреодолимое влечение к приёму наркоти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тенденция к повышению количества, принимаемого вещ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611280" y="404640"/>
            <a:ext cx="792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Наркомания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- (от греч. оцепенение, сон, безумие) – это хроническое заболевание, вызванное употреблением наркот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6" descr="7273f70fe41c24d60cde3c457a3"/>
          <p:cNvPicPr/>
          <p:nvPr/>
        </p:nvPicPr>
        <p:blipFill>
          <a:blip r:embed="rId1"/>
          <a:stretch/>
        </p:blipFill>
        <p:spPr>
          <a:xfrm>
            <a:off x="395280" y="3284640"/>
            <a:ext cx="3530520" cy="25095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wipe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ews_ac8d5cadc9ff225291a1f6189b6d3829_0"/>
          <p:cNvPicPr/>
          <p:nvPr/>
        </p:nvPicPr>
        <p:blipFill>
          <a:blip r:embed="rId1"/>
          <a:stretch/>
        </p:blipFill>
        <p:spPr>
          <a:xfrm>
            <a:off x="6372360" y="3789360"/>
            <a:ext cx="2160360" cy="1936800"/>
          </a:xfrm>
          <a:prstGeom prst="rect">
            <a:avLst/>
          </a:prstGeom>
          <a:ln w="114480">
            <a:solidFill>
              <a:srgbClr val="33cc33"/>
            </a:solidFill>
            <a:miter/>
          </a:ln>
        </p:spPr>
      </p:pic>
      <p:pic>
        <p:nvPicPr>
          <p:cNvPr id="184" name="Picture 3" descr="gnk-100x100-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1052640"/>
            <a:ext cx="2030400" cy="1954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1196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Официальная статист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6192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Средний возраст приобщения к наркотикам в России составляет по статистике 15-17 лет, резко увеличивается процент употребления наркотиков детьми 9-13 л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Зафиксированы случаи употребления наркотиков детьми 6-7 лет – к наркомании их приобщают родители-наркоман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ак заявил в феврале 2010 г. заместитель директора ФСКН России Олег Сафонов, по данным ООН самое большое число наркозависимых, в Иране и Афганистане, третьей в этом списке значится Россия. По данным Минздрава в России около 550 тысяч наркозависимых лиц, но по экспертным оценкам их около 2-2,5 млн чело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wipe dir="l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6"/>
          <p:cNvSpPr/>
          <p:nvPr/>
        </p:nvSpPr>
        <p:spPr>
          <a:xfrm>
            <a:off x="684360" y="4724280"/>
            <a:ext cx="72723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Дезоморфин - </a:t>
            </a:r>
            <a:r>
              <a:rPr b="1" lang="ru-RU" sz="2400" spc="-1" strike="noStrike">
                <a:solidFill>
                  <a:srgbClr val="080808"/>
                </a:solidFill>
                <a:latin typeface="Calibri"/>
                <a:ea typeface="Times New Roman"/>
              </a:rPr>
              <a:t>«крокодил» - 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опаснейший синтетический наркотик</a:t>
            </a:r>
            <a:r>
              <a:rPr b="1" lang="ru-RU" sz="2400" spc="-1" strike="noStrike">
                <a:solidFill>
                  <a:srgbClr val="080808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Calibri"/>
                <a:ea typeface="Times New Roman"/>
              </a:rPr>
              <a:t>Гашиш, марихуана, героин, опий, кокаин, морфий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95280" y="476280"/>
            <a:ext cx="820908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В Татарстане на 1 октября 2011 года с диагнозом «наркомания» на учете состоя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9 тысяч 631 челове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Об этом сообщили во вторник на совещании в Кабмине РТ, прошедшем под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председательством главы Государственного антинаркотического комитет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директора Федеральной службы по контролю за оборотом наркотиков России Виктора Иван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Фотографии людей до и после того, как они начали принимать нарко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newface1"/>
          <p:cNvPicPr/>
          <p:nvPr/>
        </p:nvPicPr>
        <p:blipFill>
          <a:blip r:embed="rId1"/>
          <a:stretch/>
        </p:blipFill>
        <p:spPr>
          <a:xfrm>
            <a:off x="2987640" y="2060640"/>
            <a:ext cx="3011400" cy="22590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193" name="Picture 5" descr="faces1"/>
          <p:cNvPicPr/>
          <p:nvPr/>
        </p:nvPicPr>
        <p:blipFill>
          <a:blip r:embed="rId2"/>
          <a:stretch/>
        </p:blipFill>
        <p:spPr>
          <a:xfrm rot="21370200">
            <a:off x="1116000" y="4292280"/>
            <a:ext cx="3168720" cy="1996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94" name="Picture 6" descr="faces6"/>
          <p:cNvPicPr/>
          <p:nvPr/>
        </p:nvPicPr>
        <p:blipFill>
          <a:blip r:embed="rId3"/>
          <a:stretch/>
        </p:blipFill>
        <p:spPr>
          <a:xfrm rot="21333600">
            <a:off x="250920" y="2276280"/>
            <a:ext cx="2881080" cy="18158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195" name="Picture 7" descr="faces5"/>
          <p:cNvPicPr/>
          <p:nvPr/>
        </p:nvPicPr>
        <p:blipFill>
          <a:blip r:embed="rId4"/>
          <a:stretch/>
        </p:blipFill>
        <p:spPr>
          <a:xfrm rot="224400">
            <a:off x="5076360" y="4365720"/>
            <a:ext cx="3168720" cy="19969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196" name="Picture 8" descr="faces8"/>
          <p:cNvPicPr/>
          <p:nvPr/>
        </p:nvPicPr>
        <p:blipFill>
          <a:blip r:embed="rId5"/>
          <a:stretch/>
        </p:blipFill>
        <p:spPr>
          <a:xfrm rot="361200">
            <a:off x="6012000" y="2276280"/>
            <a:ext cx="2881080" cy="1815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blinds dir="ver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{D9F07142-893E-4CD8-BBB3-5B9F270B2188}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755640" y="260280"/>
            <a:ext cx="7921800" cy="626904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ризнаки наркотического отравле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овышение мышечного тонус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сужение зрачков и ослабление их реакции на св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окраснение ко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5" descr="addiction-1"/>
          <p:cNvPicPr/>
          <p:nvPr/>
        </p:nvPicPr>
        <p:blipFill>
          <a:blip r:embed="rId1"/>
          <a:stretch/>
        </p:blipFill>
        <p:spPr>
          <a:xfrm>
            <a:off x="6732720" y="3500280"/>
            <a:ext cx="1484280" cy="24782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1546920" y="620640"/>
            <a:ext cx="585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Педагогические ситу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50920" y="1484280"/>
            <a:ext cx="849636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1. Как вы поступите, если увидите вашего сына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пьяным</a:t>
            </a: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2. В кармане вашей дочери вы обнаружили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табак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. Ваши действ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3. Как отреагировать на то, что сын(дочь) стали употреблять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наркотики</a:t>
            </a:r>
            <a:r>
              <a:rPr b="1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4. Как же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предотвратить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надвигающую беду</a:t>
            </a: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179280" y="831240"/>
            <a:ext cx="874872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1. Прежде всего вооружитесь знан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2. Старайтесь , как можно больше узнать об алкогольной и наркотической зависимост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последствиях и методах ле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3. Не зря говорят «знание - это сила». Когда попадает в беду ребёнок, то даже слабые родители становятся силь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4. Говорите с подростком о вредных привычках, убеждайте, приводите факты. Не ждите беды, предупреждайте её появ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5. Интересуйтесь друзьями, компан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6.Предоставьте подростку возможность высказать своё мнение, выслушайте е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48760" y="189000"/>
            <a:ext cx="87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же предотвратить надвигающуюся беду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92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Силен не тот , кто никогда не падал, а тот, кто падал и вставал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Содержимое 3" descr="Как оградить ребенка от алкоголя и наркотиков?"/>
          <p:cNvPicPr/>
          <p:nvPr/>
        </p:nvPicPr>
        <p:blipFill>
          <a:blip r:embed="rId1"/>
          <a:stretch/>
        </p:blipFill>
        <p:spPr>
          <a:xfrm rot="21408000">
            <a:off x="971640" y="2205000"/>
            <a:ext cx="3636720" cy="32400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5" descr="http://schkola2009.ucoz.ru/j0422194.jpg"/>
          <p:cNvPicPr/>
          <p:nvPr/>
        </p:nvPicPr>
        <p:blipFill>
          <a:blip r:embed="rId2"/>
          <a:stretch/>
        </p:blipFill>
        <p:spPr>
          <a:xfrm rot="230400">
            <a:off x="4716000" y="2133360"/>
            <a:ext cx="3241800" cy="3098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DSCN4283"/>
          <p:cNvPicPr/>
          <p:nvPr/>
        </p:nvPicPr>
        <p:blipFill>
          <a:blip r:embed="rId3"/>
          <a:stretch/>
        </p:blipFill>
        <p:spPr>
          <a:xfrm>
            <a:off x="3203640" y="4365720"/>
            <a:ext cx="2952720" cy="211284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4140360" y="2997360"/>
            <a:ext cx="4392360" cy="3203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24000" y="620640"/>
            <a:ext cx="5256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Родительское собрание на тему: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«Профилактика вредных привычек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468360" y="3357720"/>
          <a:ext cx="3384360" cy="23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357720"/>
                    <a:ext cx="3384360" cy="23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8"/>
          <p:cNvGraphicFramePr/>
          <p:nvPr/>
        </p:nvGraphicFramePr>
        <p:xfrm>
          <a:off x="5867280" y="836640"/>
          <a:ext cx="2449800" cy="163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836640"/>
                    <a:ext cx="244980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4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происходит истощение организма, нервной системы и психи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личность деградируе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разрушаются отношения с родителями, родными, друзьями, учителя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совершаются преступл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от алкоголиков и наркоманов рождаются неполноценные де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аступает преждевременная смерть (7 лет - средний срок жизни наркоман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о на ранней стадии употребления наркотиков подросток может проявить волю и сам отказаться от их употреб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005120" y="33336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оследствия вредных привыч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Самое главное - это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ваше воспитание, поддержка и любов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0" y="0"/>
            <a:ext cx="184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27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721520" y="404640"/>
            <a:ext cx="56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оспитание и поддерж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8" descr="vospitanie_ditej"/>
          <p:cNvPicPr/>
          <p:nvPr/>
        </p:nvPicPr>
        <p:blipFill>
          <a:blip r:embed="rId1"/>
          <a:stretch/>
        </p:blipFill>
        <p:spPr>
          <a:xfrm rot="221400">
            <a:off x="5724000" y="1628640"/>
            <a:ext cx="2735280" cy="1808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SunnyDay"/>
          <p:cNvPicPr/>
          <p:nvPr/>
        </p:nvPicPr>
        <p:blipFill>
          <a:blip r:embed="rId2"/>
          <a:stretch/>
        </p:blipFill>
        <p:spPr>
          <a:xfrm rot="21413400">
            <a:off x="539640" y="393336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0"/>
          <p:cNvSpPr/>
          <p:nvPr/>
        </p:nvSpPr>
        <p:spPr>
          <a:xfrm>
            <a:off x="3492360" y="3789360"/>
            <a:ext cx="504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аш ребенок, состоявшийся как нравственная и успешная личность, - самая высокая мера оценки вашего жизненного пу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Запомните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3640" y="1413000"/>
            <a:ext cx="8258040" cy="35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Быть здоровым - значит не иметь проблем с самочувствием, быть физически и духовно полноценным человеком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Здоровье - это сокровище, которое нужно сохранять ежедневно.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Хорошее здоровье - основа долгой, счастливой и полноценной жизни, и особенно это важно для сегодняшних де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Здоровье – богатство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341360"/>
            <a:ext cx="8507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Ну что ж, мой друг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Решенье за тобой,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ы вправе сам командовать судьбой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ы согласиться можешь, но отказ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Окажется получше в сотню раз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ы вправе жизнь свою спасти,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Подумай, может, ты на правильном пути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Но если всё – таки успел свернуть,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о потрудись себе здоровье ты верну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c192be6fe5aa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45291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2579760" y="5013360"/>
            <a:ext cx="42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Жизнь прекрасна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546200" y="5661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тноситесь к ней бережно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c162b7f268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3561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5"/>
          <p:cNvSpPr/>
          <p:nvPr/>
        </p:nvSpPr>
        <p:spPr>
          <a:xfrm>
            <a:off x="450000" y="4459320"/>
            <a:ext cx="519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пасибо за внимание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328560" y="5589720"/>
            <a:ext cx="40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Желаем успехов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3276720" y="692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50920" y="1484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1. Понятие о вредных привыч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1204920" y="2349360"/>
            <a:ext cx="35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2. Табакокур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1862280" y="314172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3. Алкого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2339640" y="393372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4. Нарком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2900880" y="4724280"/>
            <a:ext cx="51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5. Здоровый образ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3" descr="2536452_web_w236_h400"/>
          <p:cNvPicPr/>
          <p:nvPr/>
        </p:nvPicPr>
        <p:blipFill>
          <a:blip r:embed="rId1"/>
          <a:stretch/>
        </p:blipFill>
        <p:spPr>
          <a:xfrm>
            <a:off x="539640" y="4292640"/>
            <a:ext cx="1257480" cy="2130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2536452_web_w236_h400"/>
          <p:cNvPicPr/>
          <p:nvPr/>
        </p:nvPicPr>
        <p:blipFill>
          <a:blip r:embed="rId2"/>
          <a:stretch/>
        </p:blipFill>
        <p:spPr>
          <a:xfrm>
            <a:off x="7740720" y="476280"/>
            <a:ext cx="96048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1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1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826920" y="508464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4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  <a:ea typeface="Tahoma"/>
              </a:rPr>
              <a:t>наркомания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? Виды наркотиков, их действие, статис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053080" y="419040"/>
            <a:ext cx="49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тветьте  на вопрос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116000" y="1341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1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</a:rPr>
              <a:t>вредные привычки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Что к ним относитс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611280" y="263700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2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</a:rPr>
              <a:t>курение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? Каково воздействие табачного дыма на организ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755640" y="3860640"/>
            <a:ext cx="77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3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  <a:ea typeface="Tahoma"/>
              </a:rPr>
              <a:t>алкоголизм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? Последствия алкоголиз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  <a:ea typeface="Tahoma"/>
              </a:rPr>
              <a:t>Вредная  привычка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 – закрепленный в личности способ поведения, агрессивный по отношению к самой личности или обществ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007640" y="396720"/>
            <a:ext cx="69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Понятие о вредных  привычк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6" descr="smoker"/>
          <p:cNvPicPr/>
          <p:nvPr/>
        </p:nvPicPr>
        <p:blipFill>
          <a:blip r:embed="rId1"/>
          <a:stretch/>
        </p:blipFill>
        <p:spPr>
          <a:xfrm>
            <a:off x="971640" y="3860640"/>
            <a:ext cx="1512720" cy="20178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2340000" y="4076640"/>
            <a:ext cx="573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редные  привычки серьезно ухудшают состояние здоровья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826920" y="1413000"/>
            <a:ext cx="3889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абакокурение, алкоголизм, наркомания, игромания, компьютер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сотовый телефон, телевидение, шокола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смех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яжёлый рок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21000" y="355680"/>
            <a:ext cx="76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 вредным  привычкам относя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Stok_photo_Addiction1"/>
          <p:cNvPicPr/>
          <p:nvPr/>
        </p:nvPicPr>
        <p:blipFill>
          <a:blip r:embed="rId1"/>
          <a:stretch/>
        </p:blipFill>
        <p:spPr>
          <a:xfrm rot="409800">
            <a:off x="5292360" y="1341000"/>
            <a:ext cx="2664000" cy="244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pressfoto_425087"/>
          <p:cNvPicPr/>
          <p:nvPr/>
        </p:nvPicPr>
        <p:blipFill>
          <a:blip r:embed="rId2"/>
          <a:stretch/>
        </p:blipFill>
        <p:spPr>
          <a:xfrm>
            <a:off x="5076720" y="3789360"/>
            <a:ext cx="2735280" cy="2192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4911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лияние вредных привыч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83628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На формирование подростков  отрицательно влияют вредные привычки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специфические дефекты воспитания (отрицательный пример родителей, разрешение родителей принимать алкоголь в их присутстви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обычаи и традиции социальной среды (праздничные застоль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недостатки в воспитательной работе (организация досуга и отдыха подростков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достаточно снисходительное отношение в обществе к употреблению курения и алкогольных напитков (плюс сравнительная доступность и стоимость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оценка отказа выпить, как проявление недоброжелательности по отношению к други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давление компании и наличие в ней отрицательных “авторитетных” людей как примера для подраж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нравственная незрелость подрост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{2B0A6592-5102-4B46-AA99-3A94A017779B}"/>
          <p:cNvPicPr/>
          <p:nvPr/>
        </p:nvPicPr>
        <p:blipFill>
          <a:blip r:embed="rId1"/>
          <a:stretch/>
        </p:blipFill>
        <p:spPr>
          <a:xfrm>
            <a:off x="971640" y="620640"/>
            <a:ext cx="7313400" cy="54849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мыйЛучшийМагазин</dc:creator>
  <dc:description/>
  <dc:language>en-US</dc:language>
  <cp:lastModifiedBy>LEGION</cp:lastModifiedBy>
  <dcterms:modified xsi:type="dcterms:W3CDTF">2015-05-12T09:25:56Z</dcterms:modified>
  <cp:revision>232</cp:revision>
  <dc:subject/>
  <dc:title>Макарова Ольга Николаевна</dc:title>
</cp:coreProperties>
</file>