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D5DD-DB47-443C-8F30-AFFB442EE1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Times New Roman"/>
              </a:rPr>
              <a:t>Первая помощь при укусах змей и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Арзамасцева Лариса Алексе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еподаватель-организатор ОБЖ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7ECF-6145-477B-AC13-36FA120842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alibri"/>
              </a:rPr>
              <a:t>Симптомы клещевого энцефали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Повышение температуры тела, лихор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Головные б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Тошнота, рв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евозможность движения мышц лица, шеи, верхних и нижних конеч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Может закончиться и полным выздоровлением, и смертью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ередко человек остается на всю жизнь инвали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BCC0-C627-4240-9908-FDCF1A0085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Клещевой энцефа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бнаруженных на поверхности одежды клещей сразу же уничтожьте, бросив в огонь или в банку с керосином. Не следует давить их, особенно руками. Если же это произошло немедленно вымойте руки с мыло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8DA6-3346-45BF-9627-D40CFB75C7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alibri"/>
              </a:rPr>
              <a:t>Первая помощь при укусе клещ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Вымыть руки с мы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а место, где присосался клещ капнуть каплю масла или вазе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Через 1-2 минуты удалить клеща пинцетом легким покачиванием из стороны в сторо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Место укуса обработать спиртом или йо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емедленно отправить пострадавшего в медицинское учре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6187-A5AA-4E1B-8320-C33A6FFC56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3300"/>
                </a:solidFill>
                <a:latin typeface="Calibri"/>
              </a:rPr>
              <a:t>Как уберечься от энцефалит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Наиболее велика опасность заражения в мае, июне и первой половине ию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Отправляясь в лес, защитите себя от попадания клещей под одежду и присасывания их к т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Регулярно проводите само- и взаимоосмотры одежды и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ля стоянок выбирайте сухие, незатемненные поляны вдали от кустарников и деревь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По возвращении из леса не входите в дом в верхней одежде, предварительно не осмотрев себя и свою одеж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B77C-577B-48A1-B926-769245F181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Ядовитые зме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Среднеазиатская коб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Крупная змея длиной до 1,6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Распространена в южных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областях Средней Азии: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юго-запад Таджикистана,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юг Узбекистана и Туркмении.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Кобру можно встретить в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предгорьях, долинах рек,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обычна среди кустарников,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нередко встречается в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заброшенных строениях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Обыкновенная гадюка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о 75 см длиной.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Гадюка — самая широко распространенная ядовитая змея наше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Гадюку можно встретить в европейской части Росс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 Сибири вплоть до Саха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37C9-187D-42C0-90C6-78B2960497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Обыкновенная медянка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Широко распространенная в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лина достигает 65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 борьбе с крупной и сильной добычей пускает в ход ядовитые зуб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с помощью которых вводит в жертву парализующий ядовитый секр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Кошачья змея </a:t>
            </a:r>
            <a:br>
              <a:rPr sz="1200"/>
            </a:b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Р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аспространена в Азербайджане, Дагестане. Обитает в сухих каменистых местах, но нередко селится в камышовых кровлях домов. В случае опасности собирает в клубок заднюю часть туловища и поднимает переднюю. Делает стремительные броски в сторону вр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3219-7358-45A4-BF4A-FD4483A97D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alibri"/>
              </a:rPr>
              <a:t>Первые минуты после укуса ядовитой зме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 укусе ядовитой змеи на коже человека остаются две небольшие красные точки - от проникновения ядовитых зубов. В первые минуты после укуса в этом месте возникает слабая боль и чувство жжения, кожа краснеет, нарастает отек. Через 2-6 часов появляются высокая температура, головокружение, сухость во рту, жажда, тошнота, рвота, иногда сонливость или, наоборот, возбу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C006-018B-4A79-AF83-6E19E19446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ервые действия при укусе зме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Сразу после укуса необходимо обеспечить пострадавшему покой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горизонтальное положение,  это обеспечит минимальную скорость      переноса яда кр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Успокойте пострадавш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Транспортируйте его в безопасное, защищенное от непогоды мест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DE8E-7FAF-4CD8-A36E-E2755357BC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alibri"/>
              </a:rPr>
              <a:t>Первая помощь- радикальный мет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Если имеется шприц и противоядная сыворотка, то наиболее радикальным методом лечения будет немедленное ее 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9358-43A5-43B7-9EDC-35A6B36E3C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тсасывание я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Немедленно приступить к отсасыванию яда из ранки. Для этого сразу после укуса раскройте рану нaдaвливанием пальцев, а затем в течение 15-20 мин отсасывайте яд ртом. Кровянистую жидкость сплевывайте. Эти действия безвредны для оказывающего помощь. При правильном и своевременном проведении отсасывания яда из ранки удается отсосать 50% я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E826-98CE-4068-9636-3144977C4F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пасные насеко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8F06-71F8-495D-8EAA-B6B8788EC4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бработка ра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Для уменьшения циркуляции крови на место укуса можно наложить холод (целлофановый пакет с холодной водой). Продезинфицируйте ранку йодом или зеленкой и наложите стерильную повязку, которую следует ослаблять по мере нарастания от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7A1E-66CE-494D-BED6-38C9827381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ервая помощ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дайте пораженному участку тела возвышенное положение, зафиксируйте его, наложите иммобилизационную повязку или шину. Дайте пострадавшему обильное питье. Употребление кофе противопоказано. Организуйте доставку пострадавшего в лечебное за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B350-0FE3-4517-BB30-06A24EB3A1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Вопросы для повто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Укусы каких насекомых опасны для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Как называется реакция организма в ответ на укусы насеком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Перечислите признаки укуса насекомого. Как оказать первую медицинскую помощь при укусе насекомых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Чем опасны энцефалитные клещ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 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Какое действие оказывает на человека змеиный яд в небольшом количеств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 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Где используется змеиный я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азовите первые признаки укуса змей. Что нужно делать при оказании первой медицинской помощи при укусах зм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Как защитить себя от укусов змей, гуляя по лес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9867-43E2-4C48-9CD9-502F2BA82F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Укусы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При укусе насекомого в ранку попадает ядовитое вещество, которое вызывает отравление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DEB8-6142-4018-A4A5-E57C8151D8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ервые признаки укуса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знаки укуса насекомых появляются минут через 15-20 после уку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1. Повышение температуры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2. Сыпь по всему т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3. Головная б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0467-CA4E-4547-98D4-9EB3697DD3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омн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Наиболее опасны ужаливания пчел, ос, шершней в полость рта, куда насекомое может попасть, когда человек ест фрукты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В таких случаях необходима срочная медицинская помощ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так как возникающие отек гортани и удушье смертельно опас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4E18-A0F1-4212-B7CE-637CDB036E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alibri"/>
              </a:rPr>
              <a:t>Первая помощь-первые дейст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В первую очередь нужно удалить из кожи жало насекомого, ужаленное место смочить спиртом. Приложить к ужаленному месту холод (полиэтиленовый пакет с холодной водой). Давать пострадавшему обильное пит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E334-34BC-4337-9DBF-79593D31F5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cc00"/>
                </a:solidFill>
                <a:latin typeface="Calibri"/>
              </a:rPr>
              <a:t>Первая помощь- первые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7763-798D-4B39-9ED8-04894DF030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Клещевой энцефа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 укусе клещи вносят в ранку вместе со слю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вирус энцефалита. Укусы клещей можно и не заметить: для человека они безболезненн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12BE-13CE-4A8F-B1B7-A2FD32AA04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59F1-C3EC-4FDB-9466-68ED578B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F579-FAF1-4F74-856C-64FBF2B8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2029-582E-4292-9A5D-0D4DEDAB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0C5A-9310-4680-9242-95B55034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7785-18FF-4645-BF0C-EC4D2B01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9B8F-B64C-4C7D-BEC8-A23D3F36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EE66-3292-4715-B005-C80F135C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EFF6-6925-40AC-8103-4DA71DA8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A9DD-FDEB-45DC-AB17-8BD13655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2F07-9C90-431E-BE9B-37E02B54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C86A-AD9A-4CBD-9972-C652670A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1678-D3A4-4684-8C2A-8917E7AD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2081-CD80-474B-B6DD-A5C413E42F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Times New Roman"/>
              </a:rPr>
              <a:t>Первая помощь при укусах змей и насеком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Арзамасцева Лариса Алекс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преподаватель-организатор ОБ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Симптомы клещевого энцефали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Повышение температуры тела, лихор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Головные б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Тошнота, рв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евозможность движения мышц лица, шеи, верхних и нижних конеч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Может закончиться и полным выздоровлением, и смертью бо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ередко человек остается на всю жизнь инвали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Клещевой энцефал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2920" y="1628280"/>
            <a:ext cx="403884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Обнаруженных на поверхности одежды клещей сразу же уничтожьте, бросив в огонь или в банку с керосином. Не следует давить их, особенно руками. Если же это произошло немедленно вымойте руки с мыл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://f.mypage.ru/8f75e7cc3ff39a652aa54b67812e0618_e9a3c84dac5ef79d6eff642a8aeb736c.jpg"/>
          <p:cNvPicPr/>
          <p:nvPr/>
        </p:nvPicPr>
        <p:blipFill>
          <a:blip r:embed="rId1"/>
          <a:stretch/>
        </p:blipFill>
        <p:spPr>
          <a:xfrm>
            <a:off x="826920" y="1557360"/>
            <a:ext cx="3581640" cy="27147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24000" y="522936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осле укуса следует немедленно обратиться к врачу для введения лекарства, предохраняющего от заболевания. Чем скорее будет удален клещ, тем меньше вероятность заболевания энцефалито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ая помощь при укусе клещ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Вымыть руки с мы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а место, где присосался клещ капнуть каплю масла или вазе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Через 1-2 минуты удалить клеща пинцетом легким покачиванием из стороны в сторо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Место укуса обработать спиртом или йо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емедленно отправить пострадавшего в медицинское учре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Как уберечься от энцефали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Наиболее велика опасность заражения в мае, июне и первой половине ию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Отправляясь в лес, защитите себя от попадания клещей под одежду и присасывания их к те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Регулярно проводите само- и взаимоосмотры одежды и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Для стоянок выбирайте сухие, незатемненные поляны вдали от кустарников и дерев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По возвращении из леса не входите в дом в верхней одежде, предварительно не осмотрев себя и свою одеж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://img1.1tv.ru/imgsize480x360/PR20090701173230.GIF"/>
          <p:cNvPicPr/>
          <p:nvPr/>
        </p:nvPicPr>
        <p:blipFill>
          <a:blip r:embed="rId1"/>
          <a:stretch/>
        </p:blipFill>
        <p:spPr>
          <a:xfrm>
            <a:off x="6804000" y="2492280"/>
            <a:ext cx="1514520" cy="11779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Ядовитые зме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5" descr="1.jpg"/>
          <p:cNvPicPr/>
          <p:nvPr/>
        </p:nvPicPr>
        <p:blipFill>
          <a:blip r:embed="rId1"/>
          <a:stretch/>
        </p:blipFill>
        <p:spPr>
          <a:xfrm>
            <a:off x="611280" y="1125360"/>
            <a:ext cx="3071880" cy="21625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325080" y="3213000"/>
            <a:ext cx="346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Среднеазиатская коб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рупная змея длиной до 1,6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аспространена в южных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бластях Средней Азии: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юго-запад Таджикистана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юг Узбекистана и Туркмении.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обру можно встретить в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редгорьях, долинах рек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бычна среди кустарников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нередко встречается в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заброшенных строениях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10" descr="2.jpg"/>
          <p:cNvPicPr/>
          <p:nvPr/>
        </p:nvPicPr>
        <p:blipFill>
          <a:blip r:embed="rId2"/>
          <a:stretch/>
        </p:blipFill>
        <p:spPr>
          <a:xfrm>
            <a:off x="4932360" y="1413000"/>
            <a:ext cx="2771640" cy="24796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3995640" y="4076640"/>
            <a:ext cx="484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Обыкновенная гадюка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о 75 см длиной.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Гадюка — самая широко распространенная ядовитая змея наше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Гадюку можно встретить в европейской части Росс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 Сибири вплоть до Саха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12" descr="8.jpg"/>
          <p:cNvPicPr/>
          <p:nvPr/>
        </p:nvPicPr>
        <p:blipFill>
          <a:blip r:embed="rId1"/>
          <a:stretch/>
        </p:blipFill>
        <p:spPr>
          <a:xfrm>
            <a:off x="611280" y="549360"/>
            <a:ext cx="2843280" cy="19987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324000" y="2997360"/>
            <a:ext cx="3981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Обыкновенная медянка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Широко распространенная 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лина достигает 65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 борьбе с крупной и сильной добычей пускает в ход ядовитые зуб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с помощью которых вводит в жертву парализующий ядовитый секр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8" descr="7.jpg"/>
          <p:cNvPicPr/>
          <p:nvPr/>
        </p:nvPicPr>
        <p:blipFill>
          <a:blip r:embed="rId2"/>
          <a:stretch/>
        </p:blipFill>
        <p:spPr>
          <a:xfrm>
            <a:off x="4788000" y="333360"/>
            <a:ext cx="3997080" cy="24289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076720" y="3068640"/>
            <a:ext cx="359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Кошачья змея </a:t>
            </a:r>
            <a:br>
              <a:rPr sz="1800"/>
            </a:b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аспространена в Азербайджане, Дагестане. Обитает в сухих каменистых местах, но нередко селится в камышовых кровлях домов. В случае опасности собирает в клубок заднюю часть туловища и поднимает переднюю. Делает стремительные броски в сторону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ые минуты после укуса ядовитой зме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При укусе ядовитой змеи на коже человека остаются две небольшие красные точки - от проникновения ядовитых зубов. В первые минуты после укуса в этом месте возникает слабая боль и чувство жжения, кожа краснеет, нарастает отек. Через 2-6 часов появляются высокая температура, головокружение, сухость во рту, жажда, тошнота, рвота, иногда сонливость или, наоборот, возбу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http://www.snakes-kazakhstan.idhost.kz/images/gaduka4.jpg"/>
          <p:cNvPicPr/>
          <p:nvPr/>
        </p:nvPicPr>
        <p:blipFill>
          <a:blip r:embed="rId1"/>
          <a:stretch/>
        </p:blipFill>
        <p:spPr>
          <a:xfrm>
            <a:off x="539640" y="1628640"/>
            <a:ext cx="3791160" cy="382932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Первые действия при укусе зме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5" descr="6F7ECADF0BCF0EAF1D67D94088628B8E.jpg"/>
          <p:cNvPicPr/>
          <p:nvPr/>
        </p:nvPicPr>
        <p:blipFill>
          <a:blip r:embed="rId1"/>
          <a:stretch/>
        </p:blipFill>
        <p:spPr>
          <a:xfrm>
            <a:off x="2195640" y="1197000"/>
            <a:ext cx="4762440" cy="32860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54" name="Text Box 5"/>
          <p:cNvSpPr/>
          <p:nvPr/>
        </p:nvSpPr>
        <p:spPr>
          <a:xfrm>
            <a:off x="324000" y="4653000"/>
            <a:ext cx="789912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разу после укуса необходимо обеспечить пострадавшему покой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горизонтальное положение,  это обеспечит минимальную скорость      переноса яда кро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Успокойте пострадавш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Транспортируйте его в безопасное, защищенное от непогоды мест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ая помощь- радикальный мет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242064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Если имеется шприц и противоядная сыворотка, то наиболее радикальным методом лечения будет немедленное ее в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4" descr="8FE1667A9865E15AC83E74B727E5781D.jpg"/>
          <p:cNvPicPr/>
          <p:nvPr/>
        </p:nvPicPr>
        <p:blipFill>
          <a:blip r:embed="rId1"/>
          <a:stretch/>
        </p:blipFill>
        <p:spPr>
          <a:xfrm>
            <a:off x="395280" y="2421000"/>
            <a:ext cx="4038480" cy="278604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Отсасывание я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Немедленно приступить к отсасыванию яда из ранки. Для этого сразу после укуса раскройте рану нaдaвливанием пальцев, а затем в течение 15-20 мин отсасывайте яд ртом. Кровянистую жидкость сплевывайте. Эти действия безвредны для оказывающего помощь. При правильном и своевременном проведении отсасывания яда из ранки удается отсосать 50% я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4" descr="kadr-sovet-08_08_04.jpg"/>
          <p:cNvPicPr/>
          <p:nvPr/>
        </p:nvPicPr>
        <p:blipFill>
          <a:blip r:embed="rId1"/>
          <a:stretch/>
        </p:blipFill>
        <p:spPr>
          <a:xfrm>
            <a:off x="539640" y="1628640"/>
            <a:ext cx="3810240" cy="28576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Опасные насеком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2925720" cy="4389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4140360" y="1268280"/>
            <a:ext cx="4613040" cy="4356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259280" y="5805360"/>
            <a:ext cx="15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Пч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941800" y="587700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Обработка ра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Для уменьшения циркуляции крови на место укуса можно наложить холод (целлофановый пакет с холодной водой). Продезинфицируйте ранку йодом или зеленкой и наложите стерильную повязку, которую следует ослаблять по мере нарастания от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i?id=498496182-00-72&amp;n=21"/>
          <p:cNvPicPr/>
          <p:nvPr/>
        </p:nvPicPr>
        <p:blipFill>
          <a:blip r:embed="rId1"/>
          <a:stretch/>
        </p:blipFill>
        <p:spPr>
          <a:xfrm>
            <a:off x="826920" y="1989000"/>
            <a:ext cx="3324240" cy="332424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Первая помощ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Придайте пораженному участку тела возвышенное положение, зафиксируйте его, наложите иммобилизационную повязку или шину. Дайте пострадавшему обильное питье. Употребление кофе противопоказано. Организуйте доставку пострадавшего в лечебное за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4" descr="3-5-2.jpg"/>
          <p:cNvPicPr/>
          <p:nvPr/>
        </p:nvPicPr>
        <p:blipFill>
          <a:blip r:embed="rId1"/>
          <a:stretch/>
        </p:blipFill>
        <p:spPr>
          <a:xfrm>
            <a:off x="571680" y="2428920"/>
            <a:ext cx="3809880" cy="286704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Вопросы для повто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Укусы каких насекомых опасны для челове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ак называется реакция организма в ответ на укусы насекомы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еречислите признаки укуса насекомого. Как оказать первую медицинскую помощь при укусе насекомых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Чем опасны энцефалитные клещ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акое действие оказывает на человека змеиный яд в небольшом количеств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Где используется змеиный яд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Назовите первые признаки укуса змей. Что нужно делать при оказании первой медицинской помощи при укусах зм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ак защитить себя от укусов змей, гуляя по лес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7308720" y="5157720"/>
            <a:ext cx="1143000" cy="139068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68360" y="476280"/>
            <a:ext cx="4770360" cy="31431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1477440" y="3860640"/>
            <a:ext cx="21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Слеп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000680" cy="3676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5436720" y="5877000"/>
            <a:ext cx="23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Шерш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Укусы насеком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ри укусе насекомого в ранку попадает ядовитое вещество, которое вызывает отравление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www.stihi.ru/pics/2012/04/03/6798.jpg"/>
          <p:cNvPicPr/>
          <p:nvPr/>
        </p:nvPicPr>
        <p:blipFill>
          <a:blip r:embed="rId1"/>
          <a:stretch/>
        </p:blipFill>
        <p:spPr>
          <a:xfrm>
            <a:off x="395280" y="1773360"/>
            <a:ext cx="4038480" cy="27381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611280" y="5157720"/>
            <a:ext cx="6913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еакцию организма на укусы насекомых называют  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аллергической реакц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ые признаки укуса насеко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7ac093538eac9bd1e6c00a3dcb80e2be.jpg"/>
          <p:cNvPicPr/>
          <p:nvPr/>
        </p:nvPicPr>
        <p:blipFill>
          <a:blip r:embed="rId1"/>
          <a:stretch/>
        </p:blipFill>
        <p:spPr>
          <a:xfrm>
            <a:off x="428760" y="785880"/>
            <a:ext cx="3214440" cy="29941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clip_image001.jpg"/>
          <p:cNvPicPr/>
          <p:nvPr/>
        </p:nvPicPr>
        <p:blipFill>
          <a:blip r:embed="rId2"/>
          <a:stretch/>
        </p:blipFill>
        <p:spPr>
          <a:xfrm>
            <a:off x="539640" y="4076640"/>
            <a:ext cx="3333960" cy="22384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3780000" y="184464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Признаки укуса насекомых появляются минут через 15-20 после уку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356000" y="386064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1. Повышение температуры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2. Сыпь по всему те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3. Головная б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иболее опасны ужаливания пчел, ос, шершней в полость рта, куда насекомое может попасть, когда человек ест фрукты.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1217270999_image00013.jpg"/>
          <p:cNvPicPr/>
          <p:nvPr/>
        </p:nvPicPr>
        <p:blipFill>
          <a:blip r:embed="rId1"/>
          <a:stretch/>
        </p:blipFill>
        <p:spPr>
          <a:xfrm>
            <a:off x="611280" y="1628640"/>
            <a:ext cx="3809880" cy="259092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76" name="Text Box 7"/>
          <p:cNvSpPr/>
          <p:nvPr/>
        </p:nvSpPr>
        <p:spPr>
          <a:xfrm>
            <a:off x="539640" y="4437000"/>
            <a:ext cx="927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В таких случаях необходима срочная медицинская помощ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так как возникающие отек гортани и удушье смертельно опас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ая помощь-первые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В первую очередь нужно удалить из кожи жало насекомого, ужаленное место смочить спиртом. Приложить к ужаленному месту холод (полиэтиленовый пакет с холодной водой). Давать пострадавшему обильное пит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3" descr="jalo_s.jpg"/>
          <p:cNvPicPr/>
          <p:nvPr/>
        </p:nvPicPr>
        <p:blipFill>
          <a:blip r:embed="rId1"/>
          <a:stretch/>
        </p:blipFill>
        <p:spPr>
          <a:xfrm>
            <a:off x="611280" y="1628640"/>
            <a:ext cx="3809880" cy="251460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cc00"/>
                </a:solidFill>
                <a:latin typeface="Arial"/>
              </a:rPr>
              <a:t>Первая помощь- первые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медрола,или супрастина, или тавиг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2556000" y="573408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сли состояние ухудшае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рочно достав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медицинск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5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8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0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1"/>
          <p:cNvSpPr/>
          <p:nvPr/>
        </p:nvSpPr>
        <p:spPr>
          <a:xfrm>
            <a:off x="611280" y="5373720"/>
            <a:ext cx="1296720" cy="1224000"/>
          </a:xfrm>
          <a:custGeom>
            <a:avLst/>
            <a:gdLst>
              <a:gd name="textAreaLeft" fmla="*/ 173520 w 1296720"/>
              <a:gd name="textAreaRight" fmla="*/ 1123200 w 1296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3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4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5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6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медрола,или супрастина, или тавиг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8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9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2556000" y="573408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сли состояние ухудшае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рочно достав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медицинск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2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медрола, или супрастина, или тавиг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3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4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5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6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7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8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9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0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1"/>
          <p:cNvSpPr/>
          <p:nvPr/>
        </p:nvSpPr>
        <p:spPr>
          <a:xfrm>
            <a:off x="611280" y="5373720"/>
            <a:ext cx="1296720" cy="1224000"/>
          </a:xfrm>
          <a:custGeom>
            <a:avLst/>
            <a:gdLst>
              <a:gd name="textAreaLeft" fmla="*/ 173520 w 1296720"/>
              <a:gd name="textAreaRight" fmla="*/ 1123200 w 1296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2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3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4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Клещевой энцефал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http://www.lentachel.ru/image/N4mNYUMbIgNjAVYR.jpg"/>
          <p:cNvPicPr/>
          <p:nvPr/>
        </p:nvPicPr>
        <p:blipFill>
          <a:blip r:embed="rId1"/>
          <a:stretch/>
        </p:blipFill>
        <p:spPr>
          <a:xfrm>
            <a:off x="468360" y="1628640"/>
            <a:ext cx="4000320" cy="3067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://www.sarov.net/p/1cp.jpg"/>
          <p:cNvPicPr/>
          <p:nvPr/>
        </p:nvPicPr>
        <p:blipFill>
          <a:blip r:embed="rId2"/>
          <a:stretch/>
        </p:blipFill>
        <p:spPr>
          <a:xfrm>
            <a:off x="4716360" y="1628640"/>
            <a:ext cx="4071960" cy="30718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539640" y="486900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При укусе клещи вносят в ранку вместе со слю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вирус энцефалита. Укусы клещей можно и не заметить: для человека они безболезнен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11:33:31Z</dcterms:created>
  <dc:creator>Лариса</dc:creator>
  <dc:description/>
  <dc:language>en-US</dc:language>
  <cp:lastModifiedBy>LEGION</cp:lastModifiedBy>
  <dcterms:modified xsi:type="dcterms:W3CDTF">2015-05-12T09:28:18Z</dcterms:modified>
  <cp:revision>6</cp:revision>
  <dc:subject/>
  <dc:title>Первая помощь при укусах змей и насекомых</dc:title>
</cp:coreProperties>
</file>