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69E1-0E4C-4C81-80AD-EFCCB58999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Арзамасцева Лариса Алексе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еподаватель-организатор ОБ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0417-B8A8-44FD-BFCF-34EDA36302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Симптомы клещевого энцефал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овышение температуры тела, лихор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оловные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ошнота,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возможность движения мышц лица, шеи, верхних и нижних конеч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жет закончиться и полным выздоровлением, и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редко человек остается на всю жизнь инвал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F3E-5406-4ABC-A7F3-3F343AC87B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1232-C4BA-4FE2-9E9A-0E897E3BC2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Первая помощь при укусе кле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ымыть руки с мы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 место, где присосался клещ капнуть каплю масла или ваз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рез 1-2 минуты удалить клеща пинцетом легким покачиванием из стороны в стор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есто укуса обработать спиртом или й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медленно отправить пострадавшего в медицинск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2DE0-0C81-40F4-AB36-A466576514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Calibri"/>
              </a:rPr>
              <a:t>Как уберечься от энцефали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иболее велика опасность заражения в мае, июне и первой половине ию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егулярно проводите само- и взаимоосмотры одежды и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я стоянок выбирайте сухие, незатемненные поляны вдали от кустарников и дерев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73AC-1564-442F-A0E1-0C19AF7AB1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Ядовиты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Среднеазиатская ко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рупная змея длиной до 1,6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аспространена в южных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ластях Средней Азии: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о-запад Таджикистана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 Узбекистана и Туркмении.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обру можно встретить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редгорьях, долинах рек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ычна среди кустарников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ередко встречается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рошенных строениях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гадюка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 75 см длиной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Гадюка — самая широко распространенная ядовитая змея наш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Гадюку можно встретить в европейской ча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Сибири вплоть до Сах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227B-8C1F-4CCC-91F3-04D6FAE342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медянка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Широко распространенна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ина достигает 65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борьбе с крупной и сильной добычей пускает в ход ядовитые зу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 помощью которых вводит в жертву парализующий ядовитый сек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Кошачья змея 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Р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1880-5367-4FB5-94F2-797B5D5D96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Первые минуты после укуса ядовитой зме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48A3-F643-4968-96D2-556DC1BC18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действия при укус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Сразу после укуса необходимо обеспечить пострадавшему покой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Успокойт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Транспортируйте его в безопасное, защищенное от непогоды мес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F703-9A3D-42B9-B1B2-CD35381A9A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 радикальный мет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626D-82A9-41B2-A9E8-57198F4907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тсасывание 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A190-7E1A-4F9E-8593-63DBBBABA3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пасные 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60FF-61E6-45A3-96FD-5BB56166B1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работка р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C640-F12A-4603-9D28-F28C629E06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B55A-2636-46D0-833D-0945E0530F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опросы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Укусы каких насекомых опасны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называется реакция организма в ответ на укусы насеком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м опасны энцефалитные клещ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ое действие оказывает на человека змеиный яд в небольшом количе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де используется змеиный я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защитить себя от укусов змей, гуляя по ле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DFDB-506A-4276-8DBE-8E483B8DF7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Укусы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78DB-8816-47F8-B5DE-9D7D2B6DCA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признаки укуса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знаки укуса насекомых появляются минут через 15-20 после уку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1. Повышение температуры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2. Сыпь по всему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3.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500F-C338-4AC6-89D1-3DC8DF1761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ом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 таких случаях необходима срочная медицинская помощ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ак как возникающие отек гортани и удушье смертельно опас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40E9-33AD-4C57-97E4-AF3C79F5CB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первые 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7222-C1C2-4233-A9BB-1F80229C20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cc00"/>
                </a:solidFill>
                <a:latin typeface="Calibri"/>
              </a:rPr>
              <a:t>Первая помощь- перв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4A8D-D59A-42D9-AEDE-DC4781201C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клещи вносят в ранку вместе со слю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ирус энцефалита. Укусы клещей можно и не заметить: для человека они безболезнен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625F-824E-4B69-B254-26C27ED871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3D9-126C-457E-A9CA-D73DDD2E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6EA-3FED-4713-A336-79944209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F00-D990-4D69-BD5D-AC4232A7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03F-CA74-4901-AC31-98C466EC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075-9475-4724-9C9F-B0FAE6CC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C6C-7C38-470F-BE6F-A634F7AB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B5F-D0A2-44B0-B633-D2E18145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226-E3F4-4901-9DE3-5477CC5E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DE1-2ADC-4C75-920C-31CA62FC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3E6-5123-4DC3-900E-7A562AEC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032-6BD7-432C-AF37-F87DF102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64B-9660-4D4C-A15E-2865CF95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1ED1-0F8C-452B-9862-607E3D41F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рзамасцева Ларис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еподаватель-организатор ОБ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имптомы клещевого энцефа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Тошнота, р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f.mypage.ru/8f75e7cc3ff39a652aa54b67812e0618_e9a3c84dac5ef79d6eff642a8aeb736c.jpg"/>
          <p:cNvPicPr/>
          <p:nvPr/>
        </p:nvPicPr>
        <p:blipFill>
          <a:blip r:embed="rId1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 при укусе кле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ымыть руки с мы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Как уберечься от энцефал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g1.1tv.ru/imgsize480x360/PR20090701173230.GIF"/>
          <p:cNvPicPr/>
          <p:nvPr/>
        </p:nvPicPr>
        <p:blipFill>
          <a:blip r:embed="rId1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Ядовитые зм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1.jpg"/>
          <p:cNvPicPr/>
          <p:nvPr/>
        </p:nvPicPr>
        <p:blipFill>
          <a:blip r:embed="rId1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реднеазиатская ко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брошенных строени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0" descr="2.jpg"/>
          <p:cNvPicPr/>
          <p:nvPr/>
        </p:nvPicPr>
        <p:blipFill>
          <a:blip r:embed="rId2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ина достигает 6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минуты после укуса ядовитой 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snakes-kazakhstan.idhost.kz/images/gaduka4.jpg"/>
          <p:cNvPicPr/>
          <p:nvPr/>
        </p:nvPicPr>
        <p:blipFill>
          <a:blip r:embed="rId1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ервые действия при укусе зм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5" descr="6F7ECADF0BCF0EAF1D67D94088628B8E.jpg"/>
          <p:cNvPicPr/>
          <p:nvPr/>
        </p:nvPicPr>
        <p:blipFill>
          <a:blip r:embed="rId1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спокойте пострадав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 радикаль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4" descr="8FE1667A9865E15AC83E74B727E5781D.jpg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тсасывание 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kadr-sovet-08_08_04.jpg"/>
          <p:cNvPicPr/>
          <p:nvPr/>
        </p:nvPicPr>
        <p:blipFill>
          <a:blip r:embed="rId1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пасные 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бработка р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i?id=498496182-00-72&amp;n=21"/>
          <p:cNvPicPr/>
          <p:nvPr/>
        </p:nvPicPr>
        <p:blipFill>
          <a:blip r:embed="rId1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ервая помощ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4" descr="3-5-2.jpg"/>
          <p:cNvPicPr/>
          <p:nvPr/>
        </p:nvPicPr>
        <p:blipFill>
          <a:blip r:embed="rId1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Чем опасны энцефалитные клещ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Где используется змеиный я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л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Шерш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Укусы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stihi.ru/pics/2012/04/03/6798.jpg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признаки укуса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7ac093538eac9bd1e6c00a3dcb80e2be.jpg"/>
          <p:cNvPicPr/>
          <p:nvPr/>
        </p:nvPicPr>
        <p:blipFill>
          <a:blip r:embed="rId1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clip_image001.jpg"/>
          <p:cNvPicPr/>
          <p:nvPr/>
        </p:nvPicPr>
        <p:blipFill>
          <a:blip r:embed="rId2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2. Сыпь по всему т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3. Головная 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1217270999_image00013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6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jalo_s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cc00"/>
                </a:solidFill>
                <a:latin typeface="Arial"/>
              </a:rPr>
              <a:t>Первая помощь- 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www.lentachel.ru/image/N4mNYUMbIgNjAVYR.jpg"/>
          <p:cNvPicPr/>
          <p:nvPr/>
        </p:nvPicPr>
        <p:blipFill>
          <a:blip r:embed="rId1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sarov.net/p/1cp.jpg"/>
          <p:cNvPicPr/>
          <p:nvPr/>
        </p:nvPicPr>
        <p:blipFill>
          <a:blip r:embed="rId2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Лариса</dc:creator>
  <dc:description/>
  <dc:language>en-US</dc:language>
  <cp:lastModifiedBy>LEGION</cp:lastModifiedBy>
  <dcterms:modified xsi:type="dcterms:W3CDTF">2015-05-12T09:28:18Z</dcterms:modified>
  <cp:revision>6</cp:revision>
  <dc:subject/>
  <dc:title>Первая помощь при укусах змей и насекомых</dc:title>
</cp:coreProperties>
</file>