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BE88-05D5-4051-8B2C-6A2BBDB238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на тему: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Полезные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D86C-9332-44F6-9FDA-530B3BBA18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AAF3-87B8-4459-B153-5AAD9D341D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0169-CF44-4470-8DB6-0426F938C1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 влияет алкоголизм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на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792B-0B16-4284-93F2-2389908E6E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37D6-0D3C-4568-B685-70057DDF7C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фы о наркоти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жизни все надо попробовать, в том числе и 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ть люди, которые принимают наркотики много лет и прекрасно жив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кие наркотики принимать можно, это безопа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делают людей свобод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часто принимают сильные и смел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тые наркотики безвред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35BC-7BF5-4DA1-AE33-32B3BB7551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ияние наркотиков на организм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ческая завис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равственных устано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е закона, влекущее уголовную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ормальной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в постоянном поиске психоактив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ные материальные затруд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работы, постоянного зараб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численные болезни, вызванные разладом в работе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ск заболеть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ижение остроты зрения, сл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ий атеросклер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яя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8F8A-1B74-4C64-B051-0250D0D686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3F94-A7C3-4F78-909D-5FAF8576ED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оступок – и вы пожнете привыч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ривычку – и вы пожнете характе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характер – и вы пожнете судь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У.Теккерей – англ. </a:t>
            </a:r>
            <a:r>
              <a:rPr b="1" i="1" lang="uk-UA" sz="12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1B39-AE52-4CE1-BD65-731544EB6A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Привыч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поведение, ставшее для человека обычным, постоя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9D74-4E8C-498C-AF9C-21219F32F7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Calibri"/>
              </a:rPr>
              <a:t>Игровое 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боволие, любовь к спорту, жажда наслаждений, благоразумие,  любопыт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лонность к подражанию, сила воли, неорганизова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дность, 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46B8-DDA0-43E6-8C35-8604724CAC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C7D2-14FD-4B58-A7C0-06B1F6FAC7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Состав табачного ды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арный газ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ксус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ля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1ADD-A5DD-4FFD-9256-D345B51C52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фы о куре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ят в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се взрослые кур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Бросить курить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Курение – безвредное за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Курение опасно только тому, кто ку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Курение помогает оставаться строй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52E2-BC5B-488D-B92C-68D92CC5AB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влияния кур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1F73-A0F2-4C05-8C92-A23D7F7E67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Пьянство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     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и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алкого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EF4D-4854-4233-BA35-074D6A11D6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F87-B9B9-4BD6-B159-A047B032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230-5672-4915-98B1-EF0EC3E5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73063-DB87-4E14-9F5F-B634F301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1FA0B-401B-4B12-8BD0-49CE9971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06FCF-9968-4FA2-9F1F-7018E8FE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05F1A-B537-4FEC-B5C7-24DCE163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8C0A5-027F-43F4-87A7-66E9B086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C8F29-6901-4A0E-B574-0EDEF9FF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5637E-EF1A-4801-838D-4604523F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1A9A5-5EFF-4FE7-916E-7A4A9E17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8388A-A937-4AAF-8EE6-638D513F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E0E73-503D-4B21-9E7B-421FFF65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994-E65C-495E-A6D9-2201C906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FED97-C1BF-441A-98DB-900FC881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781ED-FD44-46E2-8D3E-3532AD24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C224E-5029-400A-8A76-D4BEE14D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19EAD-8F09-4F6D-A29C-82E06BA0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F53AE-CAD1-4241-B3D3-5FF9B155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EBF11-7C7C-4E94-8C60-3F872B0B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AE23D-3467-44B7-8A30-54054188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979AA-C0F0-480B-9E0B-E1BAB3BB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D600A-E5F4-449A-A9D7-B783238F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29F76-7A3D-483B-909E-9909223F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40B-97AF-420F-9838-BF624360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F6085-7625-458C-8A3A-7A900892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617B5-B107-44F0-9C79-12D18830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F2539-5DA9-4667-B402-D3F390BC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4A062-19F0-4C90-8A47-CD02E270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EEBBD-7504-4F32-B705-BB563578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804A2-A240-41EC-BDFB-98B78523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868FD-DA86-4F62-AEF4-42DBAC89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D85A8-4D09-40E9-BB86-D1821C65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ABFBF-E0D2-45E3-A6D8-00BE5683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6AD5C-9518-4E2E-A066-5F1CA516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8B14-01A5-44A7-AB0B-77A1D3D3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368A3-BC06-410D-B49C-BBBB290E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B5943-34F1-4279-9924-C3F2CC81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FB8A5-2BA5-45E6-A2E5-5ABEEFCB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AF7E8-7165-45B2-9EC9-FA50CCAF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AF175-32DD-4FD6-B6AE-ACE15021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E7B5F-CD9D-4017-8051-3A98B4A6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6AC5A-9F63-4AFE-86BA-CCB233C7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A2739-547A-4456-8079-FFC0A05D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00F1D-B2D6-41D3-8344-3CBA2062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AC633-7E21-4C6D-8E1F-A53962C3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A1B0-FD83-4601-9EDF-2613ACA2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553F2-945C-460B-9F3C-1FCEDD2B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E5DCD-1B22-48D1-B1ED-4351C6F4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64935-D4FC-4D9C-A1CE-44A78F85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F8BE9-15AA-4EAE-A2E4-C182D606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C6698-34DD-4B8E-B8DC-325CA5CC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89175-B332-4D74-864A-6E7C9632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4E7A4-7175-4DC4-A340-B846A83F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6655D3-8270-45CD-85B3-0C2473F8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AAD54-0549-4D10-927C-A6D9CB9F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50833-0707-4109-AEE2-C47C3ED1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923E-A211-43C4-9AE7-FDE35324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5F6151-DF37-403E-A395-F69CFAB0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DCFB8-A374-480A-9B31-6190B357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30D36-B30F-427B-8AF0-6DA7E0E7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D5E09-AC10-45AF-BB01-C8ADD482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03F6D-5945-493E-A70C-1405DA71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978D9-E7DE-4DC7-8853-BF3B4AE2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AA2C2-B347-4126-8C5A-83E9E3BA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D356-C679-4C50-A933-D1F34664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8637-0FA1-40B2-A2E5-6D6C4C52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92DA-D63E-47FC-8111-07E103CC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1CCA-03DB-466F-892A-573D688A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1F9-5FC0-46EC-B2CF-4E029B1A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6627-0377-4DD3-8A4C-0AC4212E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9BBF-9C03-44EB-A6A0-71CA0A29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38EE-0873-4B5E-98C4-ECFE665E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5A5E-99EF-4F1C-BCCA-BC2E3B9E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2FCE-1D43-42C3-8B5D-4F5F174B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7D036-C19A-4F3B-9BC2-870136B8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0EFDF-89BD-4C84-9D0D-64C67454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4B348-C646-45AB-8025-D9E9061B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46091-DE05-4EC7-8796-6853D2AF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261C5-5E19-4406-B12B-228D38B2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E0E-5680-4612-AE6B-57277FE8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704C9-22C8-4694-9652-C0C3C221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98E6-DBA4-422D-8DB7-9C5960B7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A4CF0-F2E5-4A9D-B81D-2816282C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A7208-B533-4D54-B5D9-A46C4F1E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341AC-5C04-4A02-AA80-CC4CE598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AE1C6-A68D-4BAE-85D2-160080CD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244D5-A1E8-43D1-96EE-829F9394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9BD29-9EF0-4F99-887E-0FA55593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59215-B9BA-457E-B0F2-9681FBC6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9B849-6800-4B13-8C92-C621C4A2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506-5C13-42D0-9747-86CC606D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2F5AD-2715-4985-971C-23B59330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DCD00-4A38-449B-BF04-3D0FF421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37C53-4907-4E07-869C-12F75BA2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DFAC5-039D-42D9-8449-04212150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9FE60-512B-4311-B331-DC909019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39794-FF02-47DD-BBAC-6CCEDD18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DBECB-468C-4509-ACAA-701E23C1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FE53E-8ADA-4AA9-BC2D-81313EC1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0E110-48BB-4883-8FE8-CCA9E0E0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C1579-71BF-4C41-9FA1-E1710D8D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971-43C6-4278-8553-F43B06ED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E8B14-CEEB-408A-B8C3-503F1994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E9106-0A7B-48E6-A6F9-2F6228FA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786DB-7440-419F-901F-297C9B84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D3393-A1DB-41C9-B824-B89DBD3C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FE0C6-8A6F-47A8-8232-ACA528D5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38C79-4194-44F1-8E72-4BE534D5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EDFB1-5FE6-4CA0-AE13-CFFED421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D9681-9808-4857-8B60-AA329E26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2C151-B90D-4E53-A455-DAD2FF32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B0927-338B-436B-953E-42897E11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699-21BD-4AFE-B44C-938DCB59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AA6AD-02BE-4F5A-8BC3-F0088A78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CBE38-9766-4750-8DCB-8D30153E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4F77F-F725-495C-94FE-762C1C24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BAA57-EE9D-428A-AA64-7512F615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35BD1-6AF0-4A5A-B760-CFAC031D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75F21-D880-4A99-A191-715EFBB2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978D5-2D03-409A-A6F9-14216CD2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97386-8DCA-4DAC-B1E6-22B4CEEF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E8CAD-7839-41F0-BBA7-80D55224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6653B-EA24-4154-8772-324943FE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22F-A3D9-4902-8099-B8EC2701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8FD11-0121-461C-A29D-77C310E0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3B4D0-F3AC-48C6-B303-7F2C72CA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F4C35-58E5-4F5D-854B-75FDCD7F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AC8F0-3686-492A-A9AF-E1E9206B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02CA6-EB2F-4B9B-A5B6-005CC776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7B174-FD02-40C8-9F57-13A78997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7FE20-58DF-4AE4-8ED9-1851CF64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8A72B-AB4C-4661-B533-9560B13E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A6E6A-4F10-4A6F-81C7-D307608B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DEB8C-39E3-4C0E-BDB6-31687CF3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58E-3142-4982-A7AE-6EB4496F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9AF2F-FCBB-4776-8498-1E7F1BB1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2852B-17AA-4612-9A5F-9EB41461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14CB0-4391-4D65-939A-A62C21A1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582E6-C830-4312-814B-30C6C358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1A09C-B1C7-4B4C-AB85-A140435E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4CFA0-8CF9-415E-848F-B330E0F3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BD48D-746A-4FCB-8050-0D80C453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7A572-85EE-4A83-A27C-904D52CD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8EC94-C638-427E-B207-1F1276B6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AE3F3-7BD6-4E63-BB99-0384311F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74A-5259-4168-ABCA-CEE61A80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B46EB-1F44-406B-B2B9-FE47931A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DB11C-E080-4244-B87A-464FE590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74C52-1FB8-44E7-A3C4-CA3ED429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5812B-BB3F-475F-BB08-A2618E1E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D3BEB-C407-43FD-B296-7F85AB40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45AED-EE35-4F69-8F39-DE6C7992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840FB-8DFE-4DB9-9922-CC601499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FC3D5-7CA9-4BC9-9192-19B34619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DF9C4-D7AB-4254-99A0-403D23F1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C40C1-16E3-4273-B6F3-6810915C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8CD9-FB3C-420E-A544-C067E2F834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6C2E-FA38-48A2-9F3D-2B46CCB96B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EF09-CBD0-472C-834B-F30B9DB0DA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F6D8-FB7F-4BE2-88A6-2F9E49E190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D34D-4EE9-4EF4-938F-407100DC57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65A3-9EED-4A55-BD49-19E41447B0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B6DC-940C-4F9B-9E81-50C7464576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DB82-4F54-4796-8096-2C82C70DE4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D282-C0A7-423E-B408-293F8852C2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221F-9F64-4811-B774-C99731F0DF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B2DF-652B-4C84-BEDC-D82C372C51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E226-D38D-4683-9C53-7C59E3FBA4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EF3C-C2FD-4730-89DB-36CB49B5A0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-kurim.ru/photogallery/zdorovie/legkie_kurilshhika1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ne-kurim.ru/photogallery/zdorovie/legkie_nekurjashhego/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ne-kurim.ru/photogallery/zdorovie/119066425546f8183fa54d8/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5"/>
          <p:cNvSpPr txBox="1"/>
          <p:nvPr/>
        </p:nvSpPr>
        <p:spPr>
          <a:xfrm>
            <a:off x="380880" y="2057400"/>
            <a:ext cx="8305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1" i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620" name="Picture 11" descr="shkolniki_kurieniie"/>
          <p:cNvPicPr/>
          <p:nvPr/>
        </p:nvPicPr>
        <p:blipFill>
          <a:blip r:embed="rId1"/>
          <a:stretch/>
        </p:blipFill>
        <p:spPr>
          <a:xfrm>
            <a:off x="2819520" y="3124080"/>
            <a:ext cx="3504960" cy="2590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о вредных привычках&#10;детей, советы детских психологов"/>
          <p:cNvPicPr/>
          <p:nvPr/>
        </p:nvPicPr>
        <p:blipFill>
          <a:blip r:embed="rId2"/>
          <a:stretch/>
        </p:blipFill>
        <p:spPr>
          <a:xfrm>
            <a:off x="1522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вредные привычки у детей"/>
          <p:cNvPicPr/>
          <p:nvPr/>
        </p:nvPicPr>
        <p:blipFill>
          <a:blip r:embed="rId3"/>
          <a:stretch/>
        </p:blipFill>
        <p:spPr>
          <a:xfrm>
            <a:off x="6324480" y="3886200"/>
            <a:ext cx="2708280" cy="29718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8"/>
          <p:cNvSpPr/>
          <p:nvPr/>
        </p:nvSpPr>
        <p:spPr>
          <a:xfrm>
            <a:off x="152280" y="76320"/>
            <a:ext cx="8839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рок на тему: </a:t>
            </a:r>
            <a:r>
              <a:rPr b="1" lang="ru-RU" sz="8000" spc="-1" strike="noStrike">
                <a:solidFill>
                  <a:srgbClr val="0033cc"/>
                </a:solidFill>
                <a:latin typeface="Arial"/>
              </a:rPr>
              <a:t>Полезные 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тличие алкоголизма как болезни от других заболеваний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ифы об алкогол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. С помощью алкоголя можно быстро согре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2. Алкоголь усиливает аппет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3. Алкоголь снимает стре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4. Алкоголь повышает работоспособ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5. Алкоголь понижает артериальное дав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6. Качественный алкоголь вреда не нанос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7. Алкоголь — лекарство от простуды. Многие лечатся от простуды водкой — с яблоками, с медом, с чем-нибудь ещ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8. Пиво — это не алкогол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9. Алкоголь не калори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0. Надо не запивать, а закусывать. Большинство из нас уверены, что крепкие напитки нужно непременно закус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291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344664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0" y="228600"/>
            <a:ext cx="419112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 влияет алкоголизм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а жиз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152280" y="2209680"/>
            <a:ext cx="38862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3809880" y="3581280"/>
            <a:ext cx="53341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>
            <a:off x="228600" y="304920"/>
            <a:ext cx="868680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рком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ифы о наркотик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жизни все надо попробовать, в том числе и нарко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 люди, которые принимают наркотики много лет и прекрасно жив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гкие наркотики принимать можно, это безоп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делают людей свобод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часто принимают сильные и смелые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е наркотики безвред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лияние наркотиков на организм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котическая завис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равственных устано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ушение закона, влекущее уголовную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ормальной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в постоянном поиске психоактив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оянные материальные затруд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работы, постоянного зараб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численные болезни, вызванные разладом в работе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ск заболеть СПИ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ижение остроты зрения, сл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ий атероскле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яя см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4" descr="p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6"/>
          <p:cNvSpPr/>
          <p:nvPr/>
        </p:nvSpPr>
        <p:spPr>
          <a:xfrm>
            <a:off x="380880" y="717120"/>
            <a:ext cx="8153640" cy="49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оступок – и вы пожнете привычк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ривычку – и вы пожнете характер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характер – и вы пожнете судьб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У.Теккерей – англ. </a:t>
            </a:r>
            <a:r>
              <a:rPr b="1" i="1" lang="uk-UA" sz="3200" spc="-1" strike="noStrike">
                <a:solidFill>
                  <a:srgbClr val="000099"/>
                </a:solidFill>
                <a:latin typeface="Arial"/>
              </a:rPr>
              <a:t>п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ис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9"/>
          <p:cNvSpPr/>
          <p:nvPr/>
        </p:nvSpPr>
        <p:spPr>
          <a:xfrm>
            <a:off x="152280" y="109440"/>
            <a:ext cx="8839440" cy="667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ff"/>
                </a:solidFill>
                <a:latin typeface="Arial"/>
              </a:rPr>
              <a:t>Привычка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– это поведение, ставшее для человека обычным, постоянны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ff"/>
                </a:solidFill>
                <a:latin typeface="Arial"/>
              </a:rPr>
              <a:t>Игровое зада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абоволие, любовь к спорту, жажда наслаждений, благоразумие,  любопытств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лонность к подражанию, сила воли, неорганизованнос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адность, осторож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8"/>
          <p:cNvSpPr txBox="1"/>
          <p:nvPr/>
        </p:nvSpPr>
        <p:spPr>
          <a:xfrm>
            <a:off x="228600" y="152280"/>
            <a:ext cx="8534520" cy="670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ур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Состав табачного ды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арный газ (С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иль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равьи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ля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4267080" y="1676520"/>
            <a:ext cx="4419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ь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оактивные вещества: полоний, висмут, ка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н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ачный дёготь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F:\курение\8d3d6e78190d.jpg"/>
          <p:cNvPicPr/>
          <p:nvPr/>
        </p:nvPicPr>
        <p:blipFill>
          <a:blip r:embed="rId1"/>
          <a:stretch/>
        </p:blipFill>
        <p:spPr>
          <a:xfrm>
            <a:off x="5715000" y="4191120"/>
            <a:ext cx="3429000" cy="2666880"/>
          </a:xfrm>
          <a:prstGeom prst="rect">
            <a:avLst/>
          </a:prstGeom>
          <a:ln w="0">
            <a:noFill/>
          </a:ln>
        </p:spPr>
      </p:pic>
      <p:sp>
        <p:nvSpPr>
          <p:cNvPr id="6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фы о 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ря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се взрослые кур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Бросить курить лег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Курение – безвредное зан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Курение опасно только тому, кто ку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Курение помогает оставаться строй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j0301252"/>
          <p:cNvPicPr/>
          <p:nvPr/>
        </p:nvPicPr>
        <p:blipFill>
          <a:blip r:embed="rId1"/>
          <a:stretch/>
        </p:blipFill>
        <p:spPr>
          <a:xfrm>
            <a:off x="4989600" y="1447920"/>
            <a:ext cx="4154400" cy="4343400"/>
          </a:xfrm>
          <a:prstGeom prst="rect">
            <a:avLst/>
          </a:prstGeom>
          <a:ln w="0">
            <a:noFill/>
          </a:ln>
        </p:spPr>
      </p:pic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 влияния куре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орга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3" descr="small_information_items_1191795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2305080" cy="32004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small_information_items_11917957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1981080"/>
            <a:ext cx="2416320" cy="31244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small_information_items_119066425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1981080"/>
            <a:ext cx="2819160" cy="3124440"/>
          </a:xfrm>
          <a:prstGeom prst="rect">
            <a:avLst/>
          </a:prstGeom>
          <a:ln w="0">
            <a:noFill/>
          </a:ln>
        </p:spPr>
      </p:pic>
      <p:sp>
        <p:nvSpPr>
          <p:cNvPr id="6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5"/>
          <p:cNvSpPr txBox="1"/>
          <p:nvPr/>
        </p:nvSpPr>
        <p:spPr>
          <a:xfrm>
            <a:off x="228600" y="152280"/>
            <a:ext cx="86104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ьян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9" name="WordArt 6"/>
          <p:cNvSpPr txBox="1"/>
          <p:nvPr/>
        </p:nvSpPr>
        <p:spPr>
          <a:xfrm>
            <a:off x="3809880" y="32004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0" name="WordArt 7"/>
          <p:cNvSpPr txBox="1"/>
          <p:nvPr/>
        </p:nvSpPr>
        <p:spPr>
          <a:xfrm>
            <a:off x="228600" y="434340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из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9:31:47Z</dcterms:modified>
  <cp:revision>19</cp:revision>
  <dc:subject/>
  <dc:title>Урок на тему: Полезные 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