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media/image7.jpeg" ContentType="image/jpeg"/>
  <Override PartName="/ppt/media/image11.png" ContentType="image/png"/>
  <Override PartName="/ppt/media/image6.jpeg" ContentType="image/jpeg"/>
  <Override PartName="/ppt/media/image8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6"/>
          <p:cNvSpPr>
            <a:spLocks noGrp="1"/>
          </p:cNvSpPr>
          <p:nvPr>
            <p:ph type="sldNum" idx="4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B20F1-006A-4F32-9091-B0443A0285CC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рок на тему: </a:t>
            </a:r>
            <a:r>
              <a:rPr b="1" lang="ru-RU" sz="2400" spc="-1" strike="noStrike">
                <a:solidFill>
                  <a:srgbClr val="0033cc"/>
                </a:solidFill>
                <a:latin typeface="Calibri"/>
              </a:rPr>
              <a:t>Полезные 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200" spc="-1" strike="noStrike">
                <a:solidFill>
                  <a:srgbClr val="000099"/>
                </a:solidFill>
                <a:latin typeface="Georgia"/>
              </a:rPr>
              <a:t>ВРЕДНЫЕ ПРИВЫЧ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3992A-EA5A-46E7-9688-059598DF703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99"/>
                </a:solidFill>
                <a:latin typeface="Calibri"/>
              </a:rPr>
              <a:t>Отличие алкоголизма как болезни от других заболеваний человека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 отличие от других заболеваний  человека, где он болеет и стремится вылечиться и осознает свою болезнь, то больные, страдающие алкогольной или наркотической зависимостью часто не осознают свою болезнь и лечиться категорически отказывают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EF372-80B4-4CFB-8C72-31CAD4E0496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99"/>
                </a:solidFill>
                <a:latin typeface="Calibri"/>
              </a:rPr>
              <a:t>Отличие алкоголизма как болезни от других заболеваний человека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 отличие от других заболеваний  человека, где он болеет и стремится вылечиться и осознает свою болезнь, то больные, страдающие алкогольной или наркотической зависимостью часто не осознают свою болезнь и лечиться категорически отказывают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D3767-2C16-4B46-8F4D-EBE6C691E11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Calibri"/>
              </a:rPr>
              <a:t>Как влияет алкоголизм </a:t>
            </a:r>
            <a:br>
              <a:rPr sz="1200"/>
            </a:br>
            <a:r>
              <a:rPr b="1" lang="ru-RU" sz="1200" spc="-1" strike="noStrike">
                <a:solidFill>
                  <a:srgbClr val="000099"/>
                </a:solidFill>
                <a:latin typeface="Calibri"/>
              </a:rPr>
              <a:t>на жизнь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 алкоголизацией связано 50% дорожно-транспортных происшествий, 50% убийств, 25% самоубийств, до 50% семей распадается на почве злоупотребления алкоголем одним из супруг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результате цирроза печени и целого букета других заболеваний, связанных с употреблением алкоголя, средняя продолжительность жизни больных укорочена на 10 лет, по сравнению со здоровым население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7276D-3DFA-4647-98A4-46DA3E9B8CD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33ccff"/>
                </a:solidFill>
                <a:latin typeface="Impact"/>
              </a:rPr>
              <a:t>Нарком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EED45-B959-4176-925F-81FFB920CAE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Мифы о наркотика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жизни все надо попробовать, в том числе и наркот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Есть люди, которые принимают наркотики много лет и прекрасно живу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Легкие наркотики принимать можно, это безопасн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ркотики делают людей свободны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ркотики часто принимают сильные и смелые люд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Чистые наркотики безвред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6EC58-5018-48CE-A93D-78919E45829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лияние наркотиков на организм челове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ркотическая зависим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тсутствие нравственных установо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рушение закона, влекущее уголовную ответствен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тсутствие нормальной семь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Человек в постоянном поиске психоактивных вещест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стоянные материальные затрудн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тсутствие работы, постоянного заработ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ногочисленные болезни, вызванные разладом в работе орган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иск заболеть СПИД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нижение остроты зрения, слух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анний атеросклероз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анняя смерт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88E1E-D52F-499C-84BE-C0B068A4E19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Если ты любишь себя и ценишь свое здоровье, ты скажешь «нет» всему, что может принести тебе вре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AA0B8-E6CE-4962-B0E7-EDC80C2EB3A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Calibri"/>
              </a:rPr>
              <a:t>Посейте поступок – и вы пожнете привычку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Calibri"/>
              </a:rPr>
              <a:t>посейте привычку – и вы пожнете характер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Calibri"/>
              </a:rPr>
              <a:t>посейте характер – и вы пожнете судьб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99"/>
                </a:solidFill>
                <a:latin typeface="Calibri"/>
              </a:rPr>
              <a:t>У.Теккерей – англ. </a:t>
            </a:r>
            <a:r>
              <a:rPr b="1" i="1" lang="uk-UA" sz="1200" spc="-1" strike="noStrike">
                <a:solidFill>
                  <a:srgbClr val="000099"/>
                </a:solidFill>
                <a:latin typeface="Calibri"/>
              </a:rPr>
              <a:t>п</a:t>
            </a:r>
            <a:r>
              <a:rPr b="1" i="1" lang="ru-RU" sz="1200" spc="-1" strike="noStrike">
                <a:solidFill>
                  <a:srgbClr val="000099"/>
                </a:solidFill>
                <a:latin typeface="Calibri"/>
              </a:rPr>
              <a:t>исате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CC018-BA30-4F3F-A5C5-ED948CC898A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66ff"/>
                </a:solidFill>
                <a:latin typeface="Calibri"/>
              </a:rPr>
              <a:t>Привычка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– это поведение, ставшее для человека обычным, постоянны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55D25-EF49-4553-AFEF-6D3C683C664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ff"/>
                </a:solidFill>
                <a:latin typeface="Calibri"/>
              </a:rPr>
              <a:t>Игровое задание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лабоволие, любовь к спорту, жажда наслаждений, благоразумие,  любопытство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клонность к подражанию, сила воли, неорганизованность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жадность, осторож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E314A-2D63-47B5-AFAF-4B84AF52C02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33ccff"/>
                </a:solidFill>
                <a:latin typeface="Impact"/>
              </a:rPr>
              <a:t>Кур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EB007-759A-4636-B10E-8701225B522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Calibri"/>
              </a:rPr>
              <a:t>Состав табачного дым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икоти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гарный газ (СО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инильная кисло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ксусная кисло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уравьиная кисло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асляная кисло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Аммиа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вине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Хр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F7418-7D13-4544-99F6-A9F2F7CFEA7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Мифы о курени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1" lang="ru-RU" sz="1200" spc="-1" strike="noStrike">
                <a:solidFill>
                  <a:srgbClr val="ff33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урят вс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2. Все взрослые куря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3. Бросить курить легк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4.Курение – безвредное занят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5.Курение опасно только тому, кто кури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6.Курение помогает оставаться стройны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FA5FA-BDCC-434E-99B0-EF1A0110402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езультаты влияния курения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 организ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9BCB6-5478-4D13-A189-53551B68F6C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33ccff"/>
                </a:solidFill>
                <a:latin typeface="Impact"/>
              </a:rPr>
              <a:t>Пьянство</a:t>
            </a:r>
            <a:r>
              <a:rPr b="0" lang="en-US" sz="1200" spc="-1" strike="noStrike">
                <a:solidFill>
                  <a:srgbClr val="33ccff"/>
                </a:solidFill>
                <a:latin typeface="Impact"/>
              </a:rPr>
              <a:t>       </a:t>
            </a:r>
            <a:r>
              <a:rPr b="0" lang="uk-UA" sz="1200" spc="-1" strike="noStrike">
                <a:solidFill>
                  <a:srgbClr val="33ccff"/>
                </a:solidFill>
                <a:latin typeface="Impact"/>
              </a:rPr>
              <a:t>и</a:t>
            </a:r>
            <a:r>
              <a:rPr b="0" lang="en-US" sz="1200" spc="-1" strike="noStrike">
                <a:solidFill>
                  <a:srgbClr val="33ccff"/>
                </a:solidFill>
                <a:latin typeface="Impact"/>
              </a:rPr>
              <a:t> </a:t>
            </a:r>
            <a:r>
              <a:rPr b="0" lang="uk-UA" sz="1200" spc="-1" strike="noStrike">
                <a:solidFill>
                  <a:srgbClr val="33ccff"/>
                </a:solidFill>
                <a:latin typeface="Impact"/>
              </a:rPr>
              <a:t>алкоголиз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F2296-E9FA-4A38-80F8-052BBBC181C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D7002-E4B5-406A-8A55-08097841A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42DC1-E015-47BB-B074-A7C6F766A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3253B1-A86E-47FB-A796-E7C35578F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2D18F6-9B1C-453F-B125-DB09C387E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5F0720-7B2A-42BC-925B-969281718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F8CD3C-EA95-4591-B92B-60A8FB48E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940222-CE23-4F5F-A511-FE361BF4B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6239CC-EE6C-4082-962D-14A0A290C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32963C-C0A4-4D0C-9D30-93C34024B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DFBE08-16E5-4026-8F0B-A35276EB5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5E7CC6-B1BA-4D7F-8947-5AFF72114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57D255-F275-432B-B95D-5039B3954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2BEE4-4ED0-4948-9C4D-2B5E71FE7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6E7EC4-5E82-41DD-94FE-5E978BA18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69080D-4670-4E7E-8ED9-306662153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CACCDE-F6A7-4E4A-BB0C-3DDAA8C22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29A810-C1CF-43E1-A8C3-FBF08475B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669B8D-A3CB-47C8-A425-B130D4FE1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013277-875A-45E4-977B-CE88F7AD6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BD5B17-5E21-450B-9C2A-EC3CA4834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6D13D3-E124-4300-88AD-3D6EF4C8C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3C90CE-DB4A-4ECC-B1B7-11951BE0C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06E47A-2B13-49DF-8348-FE6BFBD02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68364-D8CF-44F4-B57F-FA90D59CA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1F6A3B-A376-4608-8733-01132B591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858E02-D07C-47CF-BFAE-BEF2E812B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CB18A4-A5CC-478D-AF7F-95F4BCAAD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18EFC7-DAA1-4B74-91CB-C56C3D45F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F984BE-B296-4CEA-BB77-F7E8E7167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898E97-9D5D-4A79-B120-391BBEB0D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AC4893-E254-4E88-9A25-DBA594198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652D4B-ECE1-46EA-BBF8-4D2E67C91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FBD1FD-1642-4324-9D4A-F87C34E88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60AEDA-CD5D-40CE-899C-26722A7CD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6E844-0278-4083-8793-B8F63A85E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EBAF88-827C-488C-9E33-E65D084B0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50ADBD-365D-4EE9-B4C2-36330BAE3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0617E4-E4F9-4CB0-B497-F7812D014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929401-6BB0-443C-ACD6-649061CD0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1C6832-39C0-4A08-A32E-DF6E03315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55B8D0-7FBE-4CC8-9367-9DDC4DC12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DA3313-1E03-4739-A424-0AD1E8A9F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78E130-398A-4C6B-B621-A7E62DE73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EAE01C-4A6B-4E61-BFE4-D825794F7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CAE0F6-B39C-459D-8733-CB39BD7AE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D2880-AD1D-4CA3-AE7E-47EE42B1D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887082-73D2-41FC-899E-956CC1228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0115D0-F6C4-424E-B50C-E2E2E46A7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F62572-A4E2-4813-938E-68437947C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763AB5-41E3-4004-9FE1-A067B0B2A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34A06E-ACEF-44BF-9923-71F245404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052D3E3-20B7-49C2-9FF4-0138454A6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3B8BEF4-05C4-4303-A422-92D37A1C8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2CA4807-0055-4377-88FF-272D5F2F6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2A646BD-307E-47D1-BFFE-BF14472A5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BF36524-01B6-4055-BA71-3A4A3BBFE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96271-1F8F-4C92-842D-5B63BA58A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68D36F7-DF6D-4EF9-8EF4-6FC864F76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DAC282B-276C-4B37-A2F4-7392F653C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19D026B-63D6-44EC-BE48-CCA30CE71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F20D3E5-5649-4E50-BD42-CA8094444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6C48F2C-E88E-4541-828E-C25CD5937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D9EDD98-FEF6-463E-A39A-7638B4069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F4AF8F0-0AC9-4E30-B049-E3FE545F8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4FCE8-1412-4292-8AFA-8F5EFE4BD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B6B0F-C59B-45A3-93A8-D77243265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6C3E6-4C70-4ACF-9BB5-0E0B2A237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56955-957B-42BE-BC29-847FF4445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68AC4-32F6-4525-883E-A10C0E3D2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CBBD4-DC22-4685-BFE2-8D08E9109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57BDA-7454-4691-9124-F8917D97B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008F0-9A9D-46C2-B5B3-15CF30A62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B31BE-6709-4099-A306-B773FA458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6ED7A-D925-47E9-84CC-AB6F02825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A0B8B0-DD2F-4BDA-BA68-DD2520370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37E27B-6558-466D-A846-9BAC65332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603B91-AC7E-4558-A0E0-0538F95A8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A2F6C5-BD9A-4D00-B3E1-766F02B72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CA9E01-FF61-4FBB-9826-54847C8E2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C3827-CB12-45B8-9D3C-AD1AF7820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07DB35-3FFB-449F-9D39-95604E08D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900FC6-89B7-4FB8-ADBF-7E4E6C14B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4D17CA-1815-4823-80AC-84AD221F9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B58364-CCF6-4CAD-B3FF-0412CF503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0DBDE0-0667-4896-8AA3-3B4BBE5F9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9B76CD-8E45-4C3D-B49B-CD63B201A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6E8801-99A3-40E2-9D97-1BF68D471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4083C2-6335-49C0-90FF-D7EA3F409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E19513-1C55-4540-939D-28F0B912B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CEF8E2-BC83-49B4-8A92-B64F5F1B0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04CC7-49E6-46FF-AB88-EBC70E7BC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1F03E3-3F23-459D-B972-2F51C088D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2F57AE-0957-4F6F-9651-BA39C142E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0FE2F3-F486-4E8F-A690-19E08DB57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E043D4-55E0-4ED7-BB6D-80DAFB5EB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3FCDEA-A1A3-498E-AFB7-64C9ED817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F28B26-D93C-4FA8-9B67-ECFAE2857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8E3D4F-6480-43C1-8AF5-9D9E9C4A8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11B9A3-3157-48D5-B14B-CAF3F87A4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083108-2B35-41FE-A249-B43DA141B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048BD2-138A-4556-956B-FED019421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DD8E3-1D44-4D86-9950-A71D83F3D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58D8ED-808C-4236-BF13-000BD83BA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075EB2-E14E-4C4E-A992-EC8288B11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BCC30E-8AF6-4D7C-A215-7166E1D4C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8F2E19-60C8-4A88-B9A1-95F23E55F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F1483F-AFED-4B59-AA30-452E60C26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ECF829-353C-4817-80A0-C5AEAF9AD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4151BE-EA67-4940-A066-F07EE969A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EA6D5C-24B9-4EB8-BBB6-31E3E920A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4D07C5-10F3-47CA-9D3A-524F8392A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452F19-061B-41AA-88EF-ECDCC471B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6C481-D65E-451B-AD1F-6934A1532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AEB309-7B3B-4E0C-83E3-452D70771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D7E0BE-1421-4EE1-BF0A-B7A92FCD7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F6431C-CD4C-4E67-9C5E-AAAE48D12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1AEACF-A251-45E5-BF9A-1FA0FED77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68ECD1-8F5E-4731-A6F0-6CEA862E7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E9F504-CDFA-4BD7-9F17-BB1698D0D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BB5F87-43FB-4C92-9171-C037A906D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B0D8C6-CE41-4932-B4CB-F583C4A7F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11257B-D625-404F-A239-73ADF2516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71EAA0-A943-4264-9082-C107FB97B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3F915-97AC-45D3-A690-D0063CEA3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9A6E2E-F272-4728-90AE-A79C1CFA8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8C7C81-6BA5-42E4-B49E-FE086EB52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4B0E6C-5737-47FF-9645-CDB3F09ED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BBE3BD-7963-4ED9-B1E4-58E249AFA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E0ACC2-10D2-4EC5-8FD2-226877C97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1AAFEE-4847-4230-BCD2-911BCBC6A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ADF840-DD3F-4895-8937-605F6CA27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F6C2F4-9D73-45E3-854F-C4C20AD45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9CDB00-99CA-4C0B-BA90-C51BD7AEB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2B9AD3-D3A0-492D-976C-99A8C5C54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98057-9A89-484C-8292-EDC3FCB8F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661A62-3613-4CF9-8CEC-A89B845F9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191F45-8F3E-49CB-ACB4-7DDD1B028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CB8687-0E9B-481C-B238-C0FD1DBD0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8A6D22-C5E2-46F4-A459-136387918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2CEA19-A7CC-4470-9D8B-42435B0FA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C43AF9-D980-40D4-91EC-80659A259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C0F972-E019-4399-9FDE-C6789323B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FA13AD-DCAD-471F-8803-9DF5AB931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504649-01BF-4DC4-BA67-69BC3CF2F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D52069-561D-41EC-A154-00163E904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26E0B-176C-4A2B-B281-B35B7D1B7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A132B6-0AC3-4721-A2CB-0DA41A9D7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108A5C-42BD-4AB1-B5A7-2D79CBE05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6CE52C-430F-4D94-9E0A-4FEB360C6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4E2E4A-925B-4F88-92F4-5DEAC68EB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2C4104-4D91-466F-AA65-1B3089E7F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7054A3-EECF-4EE9-9842-E83D098DB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8C8DAF-0A62-4059-B325-1B3F00015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D504AD-85A3-4115-B40F-39B19AF51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6B3552-BDDE-4975-9615-36FAC81D4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972C2B-EA95-4591-ACCD-0C85CD2AF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A3E2D-F226-4515-B986-9B2C35D9C66C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4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425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0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07CF9-D361-4A54-B9D0-BB4D61974A88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1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472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68240-8722-4FDD-A495-AA5945F759C6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8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519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5092D-804D-4362-A655-9B0D631D2446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5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566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1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E773D-DF68-4230-AEF0-82DC9AB90AF0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994C2-4BDF-48F3-946F-49CF91E14F32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96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65D4C-9D5B-4646-BB27-2EFF6474A980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43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2878B-E554-42AC-B928-0C175022FF5D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9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90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8C404-EFBF-4C04-90E4-248B27B5F8F8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6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237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505AE-7228-4C27-A5CE-F2AA552ACC02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3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284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9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B5034-E5E9-4C29-8813-BDC6FA508629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0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331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6564F-E814-4253-B255-6DCF8F4BDA30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7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378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3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09B3B-AE81-4608-8F5D-75E7FDF4CB53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ne-kurim.ru/photogallery/zdorovie/legkie_kurilshhika1/" TargetMode="External"/><Relationship Id="rId2" Type="http://schemas.openxmlformats.org/officeDocument/2006/relationships/image" Target="../media/image6.jpeg"/><Relationship Id="rId3" Type="http://schemas.openxmlformats.org/officeDocument/2006/relationships/hyperlink" Target="http://ne-kurim.ru/photogallery/zdorovie/legkie_nekurjashhego/" TargetMode="External"/><Relationship Id="rId4" Type="http://schemas.openxmlformats.org/officeDocument/2006/relationships/image" Target="../media/image7.jpeg"/><Relationship Id="rId5" Type="http://schemas.openxmlformats.org/officeDocument/2006/relationships/hyperlink" Target="http://ne-kurim.ru/photogallery/zdorovie/119066425546f8183fa54d8/" TargetMode="External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25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WordArt 5"/>
          <p:cNvSpPr txBox="1"/>
          <p:nvPr/>
        </p:nvSpPr>
        <p:spPr>
          <a:xfrm>
            <a:off x="380880" y="2057400"/>
            <a:ext cx="83059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9360">
                  <a:solidFill>
                    <a:srgbClr val="0066ff"/>
                  </a:solidFill>
                  <a:miter/>
                </a:ln>
                <a:solidFill>
                  <a:srgbClr val="000099"/>
                </a:solidFill>
                <a:latin typeface="Georgia"/>
              </a:rPr>
              <a:t>ВРЕДНЫЕ ПРИВЫЧКИ</a:t>
            </a:r>
            <a:endParaRPr b="1" i="1" lang="en-US" sz="4000" spc="1" strike="noStrike">
              <a:ln w="9360">
                <a:solidFill>
                  <a:srgbClr val="0066ff"/>
                </a:solidFill>
                <a:miter/>
              </a:ln>
              <a:solidFill>
                <a:srgbClr val="000099"/>
              </a:solidFill>
              <a:latin typeface="Georgia"/>
              <a:ea typeface="Georgia"/>
            </a:endParaRPr>
          </a:p>
        </p:txBody>
      </p:sp>
      <p:pic>
        <p:nvPicPr>
          <p:cNvPr id="620" name="Picture 11" descr="shkolniki_kurieniie"/>
          <p:cNvPicPr/>
          <p:nvPr/>
        </p:nvPicPr>
        <p:blipFill>
          <a:blip r:embed="rId1"/>
          <a:stretch/>
        </p:blipFill>
        <p:spPr>
          <a:xfrm>
            <a:off x="2819520" y="3124080"/>
            <a:ext cx="3504960" cy="2590920"/>
          </a:xfrm>
          <a:prstGeom prst="rect">
            <a:avLst/>
          </a:prstGeom>
          <a:ln w="0">
            <a:noFill/>
          </a:ln>
        </p:spPr>
      </p:pic>
      <p:pic>
        <p:nvPicPr>
          <p:cNvPr id="621" name="Picture 12" descr="о вредных привычках&#10;детей, советы детских психологов"/>
          <p:cNvPicPr/>
          <p:nvPr/>
        </p:nvPicPr>
        <p:blipFill>
          <a:blip r:embed="rId2"/>
          <a:stretch/>
        </p:blipFill>
        <p:spPr>
          <a:xfrm>
            <a:off x="152280" y="4038480"/>
            <a:ext cx="2743200" cy="2743200"/>
          </a:xfrm>
          <a:prstGeom prst="rect">
            <a:avLst/>
          </a:prstGeom>
          <a:ln w="0">
            <a:noFill/>
          </a:ln>
        </p:spPr>
      </p:pic>
      <p:pic>
        <p:nvPicPr>
          <p:cNvPr id="622" name="Picture 13" descr="вредные привычки у детей"/>
          <p:cNvPicPr/>
          <p:nvPr/>
        </p:nvPicPr>
        <p:blipFill>
          <a:blip r:embed="rId3"/>
          <a:stretch/>
        </p:blipFill>
        <p:spPr>
          <a:xfrm>
            <a:off x="6324480" y="3886200"/>
            <a:ext cx="2708280" cy="2971800"/>
          </a:xfrm>
          <a:prstGeom prst="rect">
            <a:avLst/>
          </a:prstGeom>
          <a:ln w="0">
            <a:noFill/>
          </a:ln>
        </p:spPr>
      </p:pic>
      <p:sp>
        <p:nvSpPr>
          <p:cNvPr id="623" name="Text Box 8"/>
          <p:cNvSpPr/>
          <p:nvPr/>
        </p:nvSpPr>
        <p:spPr>
          <a:xfrm>
            <a:off x="152280" y="76320"/>
            <a:ext cx="8839440" cy="20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Урок на тему: </a:t>
            </a:r>
            <a:r>
              <a:rPr b="1" lang="ru-RU" sz="8000" spc="-1" strike="noStrike">
                <a:solidFill>
                  <a:srgbClr val="0033cc"/>
                </a:solidFill>
                <a:latin typeface="Arial"/>
              </a:rPr>
              <a:t>Полезные и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66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Arial"/>
              </a:rPr>
              <a:t>Отличие алкоголизма как болезни от других заболеваний челове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В отличие от других заболеваний  человека, где он болеет и стремится вылечиться и осознает свою болезнь, то больные, страдающие алкогольной или наркотической зависимостью часто не осознают свою болезнь и лечиться категорически отказываютс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Мифы об алкоголе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152280" y="1371240"/>
            <a:ext cx="88394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иф 1. С помощью алкоголя можно быстро согретьс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иф 2. Алкоголь усиливает аппети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иф 3. Алкоголь снимает стресс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иф 4. Алкоголь повышает работоспособност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иф 5. Алкоголь понижает артериальное давлени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иф 6. Качественный алкоголь вреда не наноси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иф 7. Алкоголь — лекарство от простуды. Многие лечатся от простуды водкой — с яблоками, с медом, с чем-нибудь ещ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иф 8. Пиво — это не алкоголь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иф 9. Алкоголь не калориен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иф 10. Надо не запивать, а закусывать. Большинство из нас уверены, что крепкие напитки нужно непременно закусыва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8" name="Picture 4" descr="29156"/>
          <p:cNvPicPr/>
          <p:nvPr/>
        </p:nvPicPr>
        <p:blipFill>
          <a:blip r:embed="rId1"/>
          <a:stretch/>
        </p:blipFill>
        <p:spPr>
          <a:xfrm>
            <a:off x="4281480" y="0"/>
            <a:ext cx="4862520" cy="3446640"/>
          </a:xfrm>
          <a:prstGeom prst="rect">
            <a:avLst/>
          </a:prstGeom>
          <a:ln w="0">
            <a:noFill/>
          </a:ln>
        </p:spPr>
      </p:pic>
      <p:sp>
        <p:nvSpPr>
          <p:cNvPr id="659" name="Text Box 5"/>
          <p:cNvSpPr/>
          <p:nvPr/>
        </p:nvSpPr>
        <p:spPr>
          <a:xfrm>
            <a:off x="0" y="228600"/>
            <a:ext cx="4191120" cy="1739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Arial"/>
              </a:rPr>
              <a:t>Как влияет алкоголизм </a:t>
            </a:r>
            <a:br>
              <a:rPr sz="3600"/>
            </a:br>
            <a:r>
              <a:rPr b="1" lang="ru-RU" sz="3600" spc="-1" strike="noStrike">
                <a:solidFill>
                  <a:srgbClr val="000099"/>
                </a:solidFill>
                <a:latin typeface="Arial"/>
              </a:rPr>
              <a:t>на жизнь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Text Box 6"/>
          <p:cNvSpPr/>
          <p:nvPr/>
        </p:nvSpPr>
        <p:spPr>
          <a:xfrm>
            <a:off x="152280" y="2209680"/>
            <a:ext cx="3886200" cy="467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 алкоголизацией связано 50% дорожно-транспортных происшествий, 50% убийств, 25% самоубийств, до 50% семей распадается на почве злоупотребления алкоголем одним из супруг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Text Box 7"/>
          <p:cNvSpPr/>
          <p:nvPr/>
        </p:nvSpPr>
        <p:spPr>
          <a:xfrm>
            <a:off x="3809880" y="3581280"/>
            <a:ext cx="5334120" cy="28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результате цирроза печени и целого букета других заболеваний, связанных с употреблением алкоголя, средняя продолжительность жизни больных укорочена на 10 лет, по сравнению со здоровым население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WordArt 4"/>
          <p:cNvSpPr txBox="1"/>
          <p:nvPr/>
        </p:nvSpPr>
        <p:spPr>
          <a:xfrm>
            <a:off x="228600" y="304920"/>
            <a:ext cx="8686800" cy="5790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Наркомания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Мифы о наркотиках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152280" y="1294920"/>
            <a:ext cx="883944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 жизни все надо попробовать, в том числе и наркот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Есть люди, которые принимают наркотики много лет и прекрасно живу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Легкие наркотики принимать можно, это безопас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ркотики делают людей свободны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ркотики часто принимают сильные и смелые люд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истые наркотики безвред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2654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Влияние наркотиков на организм человек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ркотическая зависим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сутствие нравственных установ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рушение закона, влекущее уголовную ответствен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сутствие нормальной семь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еловек в постоянном поиске психоактивных вещест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стоянные материальные затрудн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сутствие работы, постоянного заработ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ногочисленные болезни, вызванные разладом в работе орган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иск заболеть СПИД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нижение остроты зрения, слух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нний атеросклероз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нняя смерт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3" name="Picture 4" descr="p223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/>
          </p:nvPr>
        </p:nvSpPr>
        <p:spPr>
          <a:xfrm>
            <a:off x="4568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Если ты любишь себя и ценишь свое здоровье, ты скажешь «нет» всему, что может принести тебе вре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6" name="Picture 8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6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Rectangle 6"/>
          <p:cNvSpPr/>
          <p:nvPr/>
        </p:nvSpPr>
        <p:spPr>
          <a:xfrm>
            <a:off x="380880" y="717120"/>
            <a:ext cx="8153640" cy="4968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99"/>
                </a:solidFill>
                <a:latin typeface="Arial"/>
              </a:rPr>
              <a:t>Посейте поступок – и вы пожнете привычку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99"/>
                </a:solidFill>
                <a:latin typeface="Arial"/>
              </a:rPr>
              <a:t>посейте привычку – и вы пожнете характер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99"/>
                </a:solidFill>
                <a:latin typeface="Arial"/>
              </a:rPr>
              <a:t>посейте характер – и вы пожнете судьбу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99"/>
                </a:solidFill>
                <a:latin typeface="Arial"/>
              </a:rPr>
              <a:t>У.Теккерей – англ. </a:t>
            </a:r>
            <a:r>
              <a:rPr b="1" i="1" lang="uk-UA" sz="3200" spc="-1" strike="noStrike">
                <a:solidFill>
                  <a:srgbClr val="000099"/>
                </a:solidFill>
                <a:latin typeface="Arial"/>
              </a:rPr>
              <a:t>п</a:t>
            </a:r>
            <a:r>
              <a:rPr b="1" i="1" lang="ru-RU" sz="3200" spc="-1" strike="noStrike">
                <a:solidFill>
                  <a:srgbClr val="000099"/>
                </a:solidFill>
                <a:latin typeface="Arial"/>
              </a:rPr>
              <a:t>исат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Rectangle 9"/>
          <p:cNvSpPr/>
          <p:nvPr/>
        </p:nvSpPr>
        <p:spPr>
          <a:xfrm>
            <a:off x="152280" y="109440"/>
            <a:ext cx="8839440" cy="66776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0066ff"/>
                </a:solidFill>
                <a:latin typeface="Arial"/>
              </a:rPr>
              <a:t>Привычка</a:t>
            </a:r>
            <a:r>
              <a:rPr b="1" lang="ru-RU" sz="7200" spc="-1" strike="noStrike">
                <a:solidFill>
                  <a:srgbClr val="000000"/>
                </a:solidFill>
                <a:latin typeface="Arial"/>
              </a:rPr>
              <a:t> – это поведение, ставшее для человека обычным, постоянным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66ff"/>
                </a:solidFill>
                <a:latin typeface="Arial"/>
              </a:rPr>
              <a:t>Игровое задание: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152280" y="990720"/>
            <a:ext cx="883944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лабоволие, любовь к спорту, жажда наслаждений, благоразумие,  любопытство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клонность к подражанию, сила воли, неорганизованность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жадность, осторожно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WordArt 8"/>
          <p:cNvSpPr txBox="1"/>
          <p:nvPr/>
        </p:nvSpPr>
        <p:spPr>
          <a:xfrm>
            <a:off x="228600" y="152280"/>
            <a:ext cx="8534520" cy="6705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Курение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51920" y="2743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c0000"/>
                </a:solidFill>
                <a:latin typeface="Arial"/>
              </a:rPr>
              <a:t>Состав табачного дым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3809880" cy="498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икот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гарный газ (СО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инильная кисло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ксусная кисло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уравьиная кисло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асляная кисло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ммиа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вине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Хр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Text Box 6"/>
          <p:cNvSpPr/>
          <p:nvPr/>
        </p:nvSpPr>
        <p:spPr>
          <a:xfrm>
            <a:off x="4267080" y="1676520"/>
            <a:ext cx="441972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ту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ышья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диоактивные вещества: полоний, висмут, кал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ено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абачный дёготь и д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7" name="Picture 2" descr="F:\курение\8d3d6e78190d.jpg"/>
          <p:cNvPicPr/>
          <p:nvPr/>
        </p:nvPicPr>
        <p:blipFill>
          <a:blip r:embed="rId1"/>
          <a:stretch/>
        </p:blipFill>
        <p:spPr>
          <a:xfrm>
            <a:off x="5715000" y="4191120"/>
            <a:ext cx="3429000" cy="2666880"/>
          </a:xfrm>
          <a:prstGeom prst="rect">
            <a:avLst/>
          </a:prstGeom>
          <a:ln w="0">
            <a:noFill/>
          </a:ln>
        </p:spPr>
      </p:pic>
      <p:sp>
        <p:nvSpPr>
          <p:cNvPr id="6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Мифы о курени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151920" y="1218960"/>
            <a:ext cx="533412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урят вс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. Все взрослые куря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. Бросить курить легк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4.Курение – безвредное занят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5.Курение опасно только тому, кто кур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6.Курение помогает оставаться стройны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1" name="Picture 7" descr="j0301252"/>
          <p:cNvPicPr/>
          <p:nvPr/>
        </p:nvPicPr>
        <p:blipFill>
          <a:blip r:embed="rId1"/>
          <a:stretch/>
        </p:blipFill>
        <p:spPr>
          <a:xfrm>
            <a:off x="4989600" y="1447920"/>
            <a:ext cx="4154400" cy="4343400"/>
          </a:xfrm>
          <a:prstGeom prst="rect">
            <a:avLst/>
          </a:prstGeom>
          <a:ln w="0">
            <a:noFill/>
          </a:ln>
        </p:spPr>
      </p:pic>
      <p:sp>
        <p:nvSpPr>
          <p:cNvPr id="6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1430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Результаты влияния курения 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на организ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4" name="Picture 3" descr="small_information_items_119179576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5800" y="1981080"/>
            <a:ext cx="2305080" cy="3200400"/>
          </a:xfrm>
          <a:prstGeom prst="rect">
            <a:avLst/>
          </a:prstGeom>
          <a:ln w="0">
            <a:noFill/>
          </a:ln>
        </p:spPr>
      </p:pic>
      <p:pic>
        <p:nvPicPr>
          <p:cNvPr id="645" name="Picture 4" descr="small_information_items_1191795715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200400" y="1981080"/>
            <a:ext cx="2416320" cy="3124440"/>
          </a:xfrm>
          <a:prstGeom prst="rect">
            <a:avLst/>
          </a:prstGeom>
          <a:ln w="0">
            <a:noFill/>
          </a:ln>
        </p:spPr>
      </p:pic>
      <p:pic>
        <p:nvPicPr>
          <p:cNvPr id="646" name="Picture 5" descr="small_information_items_1190664255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019920" y="1981080"/>
            <a:ext cx="2819160" cy="3124440"/>
          </a:xfrm>
          <a:prstGeom prst="rect">
            <a:avLst/>
          </a:prstGeom>
          <a:ln w="0">
            <a:noFill/>
          </a:ln>
        </p:spPr>
      </p:pic>
      <p:sp>
        <p:nvSpPr>
          <p:cNvPr id="6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WordArt 5"/>
          <p:cNvSpPr txBox="1"/>
          <p:nvPr/>
        </p:nvSpPr>
        <p:spPr>
          <a:xfrm>
            <a:off x="228600" y="152280"/>
            <a:ext cx="8610480" cy="2667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Пьянство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49" name="WordArt 6"/>
          <p:cNvSpPr txBox="1"/>
          <p:nvPr/>
        </p:nvSpPr>
        <p:spPr>
          <a:xfrm>
            <a:off x="3809880" y="3200400"/>
            <a:ext cx="7621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и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50" name="WordArt 7"/>
          <p:cNvSpPr txBox="1"/>
          <p:nvPr/>
        </p:nvSpPr>
        <p:spPr>
          <a:xfrm>
            <a:off x="228600" y="4343400"/>
            <a:ext cx="861048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алкоголизм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5-05-12T09:31:47Z</dcterms:modified>
  <cp:revision>19</cp:revision>
  <dc:subject/>
  <dc:title>Урок на тему: Полезные 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