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2E87D-4757-4A31-9520-F0EFCB88225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на тему: 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Полезные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99"/>
                </a:solidFill>
                <a:latin typeface="Georgia"/>
              </a:rPr>
              <a:t>ВРЕДНЫЕ ПРИВЫ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8401-BF6D-4F4D-81EA-4E00A38190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99"/>
                </a:solidFill>
                <a:latin typeface="Calibri"/>
              </a:rPr>
              <a:t>Отличие алкоголизма как болезни от других заболеваний челове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отличие от других заболеваний  человека, где он болеет и стремится вылечиться и осознает свою болезнь, то больные, страдающие алкогольной или наркотической зависимостью часто не осознают свою болезнь и лечиться категорически отказываю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9A93-7A9C-4FE0-AA35-14506E5BC3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99"/>
                </a:solidFill>
                <a:latin typeface="Calibri"/>
              </a:rPr>
              <a:t>Отличие алкоголизма как болезни от других заболеваний челове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отличие от других заболеваний  человека, где он болеет и стремится вылечиться и осознает свою болезнь, то больные, страдающие алкогольной или наркотической зависимостью часто не осознают свою болезнь и лечиться категорически отказываю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E092-8693-4815-AE40-AB394D73C5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Как влияет алкоголизм </a:t>
            </a:r>
            <a:br>
              <a:rPr sz="1200"/>
            </a:b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на жизн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алкоголизацией связано 50% дорожно-транспортных происшествий, 50% убийств, 25% самоубийств, до 50% семей распадается на почве злоупотребления алкоголем одним из супруг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цирроза печени и целого букета других заболеваний, связанных с употреблением алкоголя, средняя продолжительность жизни больных укорочена на 10 лет, по сравнению со здоровым населени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71BF-ACFD-4C79-A42C-1535BA1FF8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Нарком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83BB-F8D1-472F-9A68-6667373619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ифы о наркотик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жизни все надо попробовать, в том числе и нарко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ть люди, которые принимают наркотики много лет и прекрасно жив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гкие наркотики принимать можно, это безопас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ркотики делают людей свобод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ркотики часто принимают сильные и смелые лю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истые наркотики безвред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6BE8-8018-4457-9B06-4DA274C189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лияние наркотиков на организм челове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ркотическая зависим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сутствие нравственных установ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рушение закона, влекущее уголовную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сутствие нормальной сем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ловек в постоянном поиске психоактивных ве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тоянные материальные затруд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сутствие работы, постоянного заработ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ногочисленные болезни, вызванные разладом в работе орга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иск заболеть СПИ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ижение остроты зрения, слу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нний атеросклеро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нняя смер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E797-ED13-45AD-8120-146534AEB4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ты любишь себя и ценишь свое здоровье, ты скажешь «нет» всему, что может принести тебе вр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8F09-AC7F-48D8-90B0-E02882FF39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Посейте поступок – и вы пожнете привычк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посейте привычку – и вы пожнете характер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посейте характер – и вы пожнете судьб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Calibri"/>
              </a:rPr>
              <a:t>У.Теккерей – англ. </a:t>
            </a:r>
            <a:r>
              <a:rPr b="1" i="1" lang="uk-UA" sz="1200" spc="-1" strike="noStrike">
                <a:solidFill>
                  <a:srgbClr val="000099"/>
                </a:solidFill>
                <a:latin typeface="Calibri"/>
              </a:rPr>
              <a:t>п</a:t>
            </a:r>
            <a:r>
              <a:rPr b="1" i="1" lang="ru-RU" sz="1200" spc="-1" strike="noStrike">
                <a:solidFill>
                  <a:srgbClr val="000099"/>
                </a:solidFill>
                <a:latin typeface="Calibri"/>
              </a:rPr>
              <a:t>ис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A449-2EF4-4C78-945A-8E485B1359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ff"/>
                </a:solidFill>
                <a:latin typeface="Calibri"/>
              </a:rPr>
              <a:t>Привычк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это поведение, ставшее для человека обычным, постоян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90B4-60D3-4398-8076-1DA1E3A802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Calibri"/>
              </a:rPr>
              <a:t>Игровое зада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абоволие, любовь к спорту, жажда наслаждений, благоразумие,  любопытств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лонность к подражанию, сила воли, неорганизован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адность, осторож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8FC3-CD06-4012-83EF-AE4C85B645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77DE-7F47-42D4-B04D-92C31D37DA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Состав табачного ды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икот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гарный газ (С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ниль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ксус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уравьи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сля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мми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и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1D1B-549D-4FB9-A3B4-952826CB71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ифы о курен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рят в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Все взрослые куря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Бросить курить лег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Курение – безвредное заня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Курение опасно только тому, кто кур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.Курение помогает оставаться строй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C45D-B945-424B-8A85-2357CB955A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влияния курения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орга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2CFA-6066-412A-A386-D505B1F1AB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Пьянство</a:t>
            </a:r>
            <a:r>
              <a:rPr b="0" lang="en-US" sz="1200" spc="-1" strike="noStrike">
                <a:solidFill>
                  <a:srgbClr val="33ccff"/>
                </a:solidFill>
                <a:latin typeface="Impact"/>
              </a:rPr>
              <a:t>       </a:t>
            </a: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и</a:t>
            </a:r>
            <a:r>
              <a:rPr b="0" lang="en-US" sz="1200" spc="-1" strike="noStrike">
                <a:solidFill>
                  <a:srgbClr val="33ccff"/>
                </a:solidFill>
                <a:latin typeface="Impact"/>
              </a:rPr>
              <a:t> </a:t>
            </a: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алкого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44B1-1CBA-4626-93AA-ED755DF2AC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4604-23FE-4174-9F64-B427F15F9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67C8-9C0E-47EB-85A9-752D85FE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C6DACB-6FA4-441F-A422-4075CAC2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8FC828-79D1-4766-8648-43EA0A7C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07E5FF-2FE8-440E-858C-95C34FFC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D105E5-F4BE-4B5C-9BFD-57C07D3C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67DB27-F212-485E-AE21-EF733872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B6C0A-CFCA-4CA3-A7E5-2220D5A8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829C24-884D-470E-980C-DE69401D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43454A-9EF1-4084-BB90-3F04A5F21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AB0B19-6E02-438B-9A3E-48F86C74D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1FAFAD-E284-4D44-B833-8EF36C987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5279-5B31-492C-B33E-93E6430A9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ED91C3-0AC3-47E6-A746-B83E6164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543B2E-A482-47F4-A822-6EC00675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BDE94C-6046-4A00-B686-4B36B737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D98727-F3C0-44E3-B901-B86A2FC3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617D42-7ABB-47F3-ABF3-CC77CE25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AB6E2C-F1CB-44F7-91E5-282076B4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2A3A6A-3858-4CA3-B0BE-D98ADFAF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550F05-0783-481D-8D1B-A7BEE595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8EF37A-BE6E-46D4-AAB6-4D0A4E02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245F90-C1B2-44BA-938B-7599781DA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C575-9501-4F05-813A-62D2201DA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C0663A-6BEB-477D-95B3-F56148F13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237AA-1A13-40C9-9C8C-78A1124B6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3B586-2E9F-4154-B229-C735B5AD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61C61C-34E3-4284-8790-579CD9A6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1FA24-3F43-494E-A6D3-7A1E7AB5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66FBE-7199-42CF-9D6A-9D626425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9A95A1-020F-445D-9F7B-33F12360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A4FAE-E6CC-49F1-A514-E6A59DFB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61B4CC-0AB4-467C-8CF4-87537031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A34DD-11DB-43EC-A636-07260970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0F31-3C59-4BFE-A91D-330171E12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463B64-264D-482B-A5C6-CE1A81FB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73644-FB82-4235-BCC1-F926C3C55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09E32E-6C40-45AA-B00B-4FE4A8D14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FF0F39-492D-4E31-B6AD-9445A5AE2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6C0B46-C302-4BFA-B437-9095F880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2839D0-28E1-4EE4-A102-A0A9BDA3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E14317-02B8-4414-84F2-C94E7C81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726C64-DC85-4774-8A0B-99DAC80B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188B48-7D94-451D-BE36-C424FB33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EDA51A-5C18-4616-9105-54887527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052A6-3C14-4216-A1F9-E366B03F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B895EE-D138-480D-96BC-65B2C314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4E8FA1-D1DA-4EA7-8473-88040CFF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4C292D-8F4D-410D-A9D9-38EEB4F1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E7CFE6-F6F0-4359-A51A-87E15751B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6D6194-AC32-4A95-96F5-FC886D6A2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E3CBDA-E81B-4BAD-BC5A-918BA8DC6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495274-0A9F-4AE8-A11D-FB2B790B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7D125B-E2C4-4F9A-BE50-68D2414E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F53146-B4A3-4850-BFD9-4C8749D9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D7733D-5638-4308-A912-580DD26C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0893-7FC4-4EFF-9D38-BC3F651B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2EA218-5188-4B3B-991B-40487CF29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57A003-C00E-47CC-8070-833B2781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4973EA-F0DA-4CE3-8DA6-82EB02BC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E269E8-C461-4CF9-99FD-1096B107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5B2149-6B48-45D5-BDBA-AFB6F225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499944-0EC8-4651-972C-36C390385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B4A141-0C82-4F6C-AE62-85E7B48D5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71152-0170-4258-A844-59350472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02BB-6215-4E34-8B46-07DD9EAB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0A7A-4B95-4896-9DFD-8586DB84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9C2A-7CA5-4898-894E-890F6D58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1130-47A1-45C7-ABA8-9A863243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4BA0-F828-4AF6-AE9C-1B295DE3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0666-2F68-436E-AAFA-806421AD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9E53-B844-4F0C-992B-22EB970F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229A-46FB-43F4-80AF-A633DE51B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3302B-B560-4E93-BAA0-81EA68427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D77A7-FC55-4A82-946C-B396D6F81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1C49A-3A02-482E-995B-BB4D635D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46CC3-8149-4485-B916-3C2AE47C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4A89A-9CCC-48D0-83C0-F9271CD9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3F7D4-5A23-4FD0-9505-0C1D9736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0D86-4F4A-4D0B-94B1-73593C0F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7F740-0309-4DC3-A899-7C26F927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6B4FC-9F80-47EE-B4BA-2F6F8A1A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D782B-7091-4E21-BEFC-D5146261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D9385-328E-49E5-B856-9CD70530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D448F-D88D-436A-B560-E32ACA29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9752A-33BD-49C6-9757-0AFE60D88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148B2-3850-4A7E-859F-4DA06265B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F82D2-3BA2-45FC-BDFA-64B1D6DA3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D3474-9E8A-4AC6-8283-0904C11C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61286-71E9-4EDE-9748-D87363A0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1EF8-C5CC-4E5D-B0DE-94FC0107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23FAC-A40B-4A5D-A1C0-71FB3C10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39B11-D9C3-4E55-BEC2-2E732F7E5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30148-4940-44F6-A258-557684F0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4BE55-F5C9-4D29-95D5-3419AF52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37898-F0A0-483F-BE7C-B69176D3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A775A-DDA6-4D43-9A44-5754CF74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4F003-F605-49CE-83BA-62F0EE65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DA300-BBD7-46CC-A6E3-F14C53185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693C0-919C-4820-9AC6-EF0AFA9B5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47BEB-DFEF-4457-9D53-E37D6AAB8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F9E1-D05C-4D27-BB2D-3F66BC12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930E7-DE0E-49F6-8106-250D6594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3DF49-2F14-481F-AFDD-0529F1B8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19318-4843-4BA0-A322-E091731C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0350A-0647-492F-AA78-16D3C053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1005B-ACD8-41BC-80F5-3EF23A97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F5892-1813-403D-92BF-C0CA89CE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2DB1E-0C12-4364-B498-B47DFD6A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ECB34-F1C0-4EEA-A3C6-95E4005C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3B69F-B940-4351-A9A6-08D8C408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0E760-7D31-4789-81B8-AFA3E7FC3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39B9-E09F-48A3-9646-45307B42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88C9B-C6AC-4972-B150-FCEDCB394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2C114-5F58-4CFC-A2FF-54E37CDF0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FFB4E-F0E3-4C91-85B7-F8931794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B287A-BC4A-4135-A9D9-8678A990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FB759-ECD2-4A57-B347-AB016F53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452AC-D1E5-4854-8B98-5F571526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3DA4F-F601-4FE3-AD16-1939668D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D31C9-1FDA-4563-921A-04C718C5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0098E-7EB4-4D71-AE51-FA89E33D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EBE84-5099-4324-B5C5-963F85F1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7E56-B3CC-4F1B-9218-B419C464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8C07A-5BE2-48F5-89A9-0E1A7DB9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AE258-734E-4B17-ADF5-9BBAE92B1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AA512-9266-452E-B125-5A49FED9A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5F06F-4B28-42A4-BCB2-C0FA0A642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56431-F2FF-49CD-958F-332BC90E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98BD5-345A-458D-9408-A862B939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20832-BFC2-41A9-AD28-358457FC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E1085-CC22-4387-BABE-3E6AB679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470FF-8151-41B6-9249-37E670F7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6B914-E9B9-44DB-BB0A-58FA9313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DAD3-415C-4139-86D0-41C55C4E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F8422-A839-4276-969F-84B381DF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877AB-3C95-4084-B04E-BFD4285B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0DFDF-0766-4F45-8005-8296A391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788FF-27BD-4118-895A-3BC54FE9C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D9671-3A1E-4F62-90B7-B4B19BFD2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DA906-6391-435A-9B06-AEA841718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44842-187B-4E90-83DD-5B9F6E99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F6552-AF9F-4E8A-A515-D6F71495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95EFF-7F95-42D0-A670-E4322DB7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5CDC5-B58C-4AD7-A5A9-DFE59339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C3DC-DAB3-49E0-93B9-8AA9C531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DEC79-E2A5-4EA0-A0C7-465D843D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55D06-039F-49FE-B6E5-FCB46FFE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D92C2-5853-41DD-9939-37DAE4A1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A71FF-418D-4088-A38D-95F4C092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E5FC3-689D-4641-A7FA-788248A0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4A43A-626C-49B8-A19D-34057CEBD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4F5EA-3007-43EE-8BD2-039AE34CB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546BBA-6903-4985-8E43-34C0F72BF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0B03E2-7BF3-4C10-A048-8B2284D0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BAFA7-98F1-4F0F-914D-63F308D4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3D0C-AD5C-4415-88DB-41F4B358351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25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CEAE-7003-43B5-9B82-C713C6A6D31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72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0133-CC1A-4C06-AF7D-93859BA60B5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519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CC95-8ED1-428B-8FB9-E568B0C0DF1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56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D23D-346B-4F94-8CB5-F11A9F87C5D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BEAA-F591-4CEC-94A3-37DA883A330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9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37CE-61B3-4223-9DF2-2049F9C1F7A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43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4FE4-3BBF-4159-B881-2F87822C924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90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6983-84C8-44E5-837F-22B4B180DBE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37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DCF8-6F3A-4810-8BDA-1963CFFF88B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8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F8EC-8F0D-45E5-B6A2-8514F7BBBD2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3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06DB-FC77-4DF3-9F05-B8DBE438166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78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5BC7-4160-4E58-9BCA-1E49A710D6E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ne-kurim.ru/photogallery/zdorovie/legkie_kurilshhika1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ne-kurim.ru/photogallery/zdorovie/legkie_nekurjashhego/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ne-kurim.ru/photogallery/zdorovie/119066425546f8183fa54d8/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WordArt 5"/>
          <p:cNvSpPr txBox="1"/>
          <p:nvPr/>
        </p:nvSpPr>
        <p:spPr>
          <a:xfrm>
            <a:off x="380880" y="2057400"/>
            <a:ext cx="83059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000099"/>
                </a:solidFill>
                <a:latin typeface="Georgia"/>
              </a:rPr>
              <a:t>ВРЕДНЫЕ ПРИВЫЧКИ</a:t>
            </a:r>
            <a:endParaRPr b="1" i="1" lang="en-US" sz="4000" spc="1" strike="noStrike">
              <a:ln w="9360">
                <a:solidFill>
                  <a:srgbClr val="0066ff"/>
                </a:solidFill>
                <a:miter/>
              </a:ln>
              <a:solidFill>
                <a:srgbClr val="000099"/>
              </a:solidFill>
              <a:latin typeface="Georgia"/>
              <a:ea typeface="Georgia"/>
            </a:endParaRPr>
          </a:p>
        </p:txBody>
      </p:sp>
      <p:pic>
        <p:nvPicPr>
          <p:cNvPr id="620" name="Picture 11" descr="shkolniki_kurieniie"/>
          <p:cNvPicPr/>
          <p:nvPr/>
        </p:nvPicPr>
        <p:blipFill>
          <a:blip r:embed="rId1"/>
          <a:stretch/>
        </p:blipFill>
        <p:spPr>
          <a:xfrm>
            <a:off x="2819520" y="3124080"/>
            <a:ext cx="3504960" cy="25909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12" descr="о вредных привычках&#10;детей, советы детских психологов"/>
          <p:cNvPicPr/>
          <p:nvPr/>
        </p:nvPicPr>
        <p:blipFill>
          <a:blip r:embed="rId2"/>
          <a:stretch/>
        </p:blipFill>
        <p:spPr>
          <a:xfrm>
            <a:off x="152280" y="40384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13" descr="вредные привычки у детей"/>
          <p:cNvPicPr/>
          <p:nvPr/>
        </p:nvPicPr>
        <p:blipFill>
          <a:blip r:embed="rId3"/>
          <a:stretch/>
        </p:blipFill>
        <p:spPr>
          <a:xfrm>
            <a:off x="6324480" y="3886200"/>
            <a:ext cx="2708280" cy="297180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8"/>
          <p:cNvSpPr/>
          <p:nvPr/>
        </p:nvSpPr>
        <p:spPr>
          <a:xfrm>
            <a:off x="152280" y="76320"/>
            <a:ext cx="88394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Урок на тему: </a:t>
            </a:r>
            <a:r>
              <a:rPr b="1" lang="ru-RU" sz="8000" spc="-1" strike="noStrike">
                <a:solidFill>
                  <a:srgbClr val="0033cc"/>
                </a:solidFill>
                <a:latin typeface="Arial"/>
              </a:rPr>
              <a:t>Полезные 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66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Отличие алкоголизма как болезни от других заболеваний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 отличие от других заболеваний  человека, где он болеет и стремится вылечиться и осознает свою болезнь, то больные, страдающие алкогольной или наркотической зависимостью часто не осознают свою болезнь и лечиться категорически отказывают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Мифы об алкоголе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1. С помощью алкоголя можно быстро согреть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2. Алкоголь усиливает аппети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3. Алкоголь снимает стрес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4. Алкоголь повышает работоспособ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5. Алкоголь понижает артериальное давл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6. Качественный алкоголь вреда не наноси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7. Алкоголь — лекарство от простуды. Многие лечатся от простуды водкой — с яблоками, с медом, с чем-нибудь ещ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8. Пиво — это не алкоголь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9. Алкоголь не калори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ф 10. Надо не запивать, а закусывать. Большинство из нас уверены, что крепкие напитки нужно непременно закусы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4" descr="29156"/>
          <p:cNvPicPr/>
          <p:nvPr/>
        </p:nvPicPr>
        <p:blipFill>
          <a:blip r:embed="rId1"/>
          <a:stretch/>
        </p:blipFill>
        <p:spPr>
          <a:xfrm>
            <a:off x="4281480" y="0"/>
            <a:ext cx="4862520" cy="3446640"/>
          </a:xfrm>
          <a:prstGeom prst="rect">
            <a:avLst/>
          </a:prstGeom>
          <a:ln w="0">
            <a:noFill/>
          </a:ln>
        </p:spPr>
      </p:pic>
      <p:sp>
        <p:nvSpPr>
          <p:cNvPr id="659" name="Text Box 5"/>
          <p:cNvSpPr/>
          <p:nvPr/>
        </p:nvSpPr>
        <p:spPr>
          <a:xfrm>
            <a:off x="0" y="228600"/>
            <a:ext cx="4191120" cy="1739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Как влияет алкоголизм </a:t>
            </a:r>
            <a:br>
              <a:rPr sz="3600"/>
            </a:b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на жизн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6"/>
          <p:cNvSpPr/>
          <p:nvPr/>
        </p:nvSpPr>
        <p:spPr>
          <a:xfrm>
            <a:off x="152280" y="2209680"/>
            <a:ext cx="38862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алкоголизацией связано 50% дорожно-транспортных происшествий, 50% убийств, 25% самоубийств, до 50% семей распадается на почве злоупотребления алкоголем одним из супруг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7"/>
          <p:cNvSpPr/>
          <p:nvPr/>
        </p:nvSpPr>
        <p:spPr>
          <a:xfrm>
            <a:off x="3809880" y="3581280"/>
            <a:ext cx="533412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езультате цирроза печени и целого букета других заболеваний, связанных с употреблением алкоголя, средняя продолжительность жизни больных укорочена на 10 лет, по сравнению со здоровым населени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WordArt 4"/>
          <p:cNvSpPr txBox="1"/>
          <p:nvPr/>
        </p:nvSpPr>
        <p:spPr>
          <a:xfrm>
            <a:off x="228600" y="304920"/>
            <a:ext cx="8686800" cy="579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ркоман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ифы о наркотика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жизни все надо попробовать, в том числе и нарко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ть люди, которые принимают наркотики много лет и прекрасно жив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гкие наркотики принимать можно, это безопа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ркотики делают людей свободн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ркотики часто принимают сильные и смелые лю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истые наркотики безвред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265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лияние наркотиков на организм челове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ркотическая зависим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сутствие нравственных установ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рушение закона, влекущее уголовную ответств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сутствие нормальной семь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ловек в постоянном поиске психоактивных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тоянные материальные затруд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сутствие работы, постоянного зарабо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огочисленные болезни, вызванные разладом в работе орга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иск заболеть СПИ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нижение остроты зрения, слу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нний атеросклеро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нняя смер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4" descr="p22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ты любишь себя и ценишь свое здоровье, ты скажешь «нет» всему, что может принести тебе вр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8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6"/>
          <p:cNvSpPr/>
          <p:nvPr/>
        </p:nvSpPr>
        <p:spPr>
          <a:xfrm>
            <a:off x="380880" y="717120"/>
            <a:ext cx="8153640" cy="4968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Посейте поступок – и вы пожнете привычку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посейте привычку – и вы пожнете характер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посейте характер – и вы пожнете судьбу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У.Теккерей – англ. </a:t>
            </a:r>
            <a:r>
              <a:rPr b="1" i="1" lang="uk-UA" sz="3200" spc="-1" strike="noStrike">
                <a:solidFill>
                  <a:srgbClr val="000099"/>
                </a:solidFill>
                <a:latin typeface="Arial"/>
              </a:rPr>
              <a:t>п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иса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9"/>
          <p:cNvSpPr/>
          <p:nvPr/>
        </p:nvSpPr>
        <p:spPr>
          <a:xfrm>
            <a:off x="152280" y="109440"/>
            <a:ext cx="8839440" cy="6677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66ff"/>
                </a:solidFill>
                <a:latin typeface="Arial"/>
              </a:rPr>
              <a:t>Привычка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 – это поведение, ставшее для человека обычным, постоянным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ff"/>
                </a:solidFill>
                <a:latin typeface="Arial"/>
              </a:rPr>
              <a:t>Игровое задание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8394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лабоволие, любовь к спорту, жажда наслаждений, благоразумие,  любопытство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клонность к подражанию, сила воли, неорганизованность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жадность, осторож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WordArt 8"/>
          <p:cNvSpPr txBox="1"/>
          <p:nvPr/>
        </p:nvSpPr>
        <p:spPr>
          <a:xfrm>
            <a:off x="228600" y="152280"/>
            <a:ext cx="8534520" cy="670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урени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Состав табачного дым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809880" cy="498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икот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гарный газ (С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нильная кис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ксусная кис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равьиная кис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сляная кис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мми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ин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6"/>
          <p:cNvSpPr/>
          <p:nvPr/>
        </p:nvSpPr>
        <p:spPr>
          <a:xfrm>
            <a:off x="4267080" y="1676520"/>
            <a:ext cx="44197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ту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шья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диоактивные вещества: полоний, висмут, кал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ен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ачный дёготь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2" descr="F:\курение\8d3d6e78190d.jpg"/>
          <p:cNvPicPr/>
          <p:nvPr/>
        </p:nvPicPr>
        <p:blipFill>
          <a:blip r:embed="rId1"/>
          <a:stretch/>
        </p:blipFill>
        <p:spPr>
          <a:xfrm>
            <a:off x="5715000" y="4191120"/>
            <a:ext cx="3429000" cy="2666880"/>
          </a:xfrm>
          <a:prstGeom prst="rect">
            <a:avLst/>
          </a:prstGeom>
          <a:ln w="0">
            <a:noFill/>
          </a:ln>
        </p:spPr>
      </p:pic>
      <p:sp>
        <p:nvSpPr>
          <p:cNvPr id="6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Мифы о курен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5334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урят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Все взрослые кур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Бросить курить лег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Курение – безвредное заня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.Курение опасно только тому, кто ку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.Курение помогает оставаться строй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7" descr="j0301252"/>
          <p:cNvPicPr/>
          <p:nvPr/>
        </p:nvPicPr>
        <p:blipFill>
          <a:blip r:embed="rId1"/>
          <a:stretch/>
        </p:blipFill>
        <p:spPr>
          <a:xfrm>
            <a:off x="4989600" y="1447920"/>
            <a:ext cx="4154400" cy="4343400"/>
          </a:xfrm>
          <a:prstGeom prst="rect">
            <a:avLst/>
          </a:prstGeom>
          <a:ln w="0">
            <a:noFill/>
          </a:ln>
        </p:spPr>
      </p:pic>
      <p:sp>
        <p:nvSpPr>
          <p:cNvPr id="6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зультаты влияния курения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 орган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3" descr="small_information_items_11917957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981080"/>
            <a:ext cx="2305080" cy="320040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4" descr="small_information_items_119179571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00400" y="1981080"/>
            <a:ext cx="2416320" cy="312444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5" descr="small_information_items_119066425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19920" y="1981080"/>
            <a:ext cx="2819160" cy="3124440"/>
          </a:xfrm>
          <a:prstGeom prst="rect">
            <a:avLst/>
          </a:prstGeom>
          <a:ln w="0">
            <a:noFill/>
          </a:ln>
        </p:spPr>
      </p:pic>
      <p:sp>
        <p:nvSpPr>
          <p:cNvPr id="6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WordArt 5"/>
          <p:cNvSpPr txBox="1"/>
          <p:nvPr/>
        </p:nvSpPr>
        <p:spPr>
          <a:xfrm>
            <a:off x="228600" y="152280"/>
            <a:ext cx="861048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ьянств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9" name="WordArt 6"/>
          <p:cNvSpPr txBox="1"/>
          <p:nvPr/>
        </p:nvSpPr>
        <p:spPr>
          <a:xfrm>
            <a:off x="3809880" y="3200400"/>
            <a:ext cx="762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0" name="WordArt 7"/>
          <p:cNvSpPr txBox="1"/>
          <p:nvPr/>
        </p:nvSpPr>
        <p:spPr>
          <a:xfrm>
            <a:off x="228600" y="4343400"/>
            <a:ext cx="86104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лкоголизм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12T09:31:47Z</dcterms:modified>
  <cp:revision>19</cp:revision>
  <dc:subject/>
  <dc:title>Урок на тему: Полезные 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