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3909-4BC2-484A-96E1-6B3BF69B235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на тему: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Полезные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2D1B-E945-43B9-B254-B1EF712B0C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Calibri"/>
              </a:rPr>
              <a:t>Отличие алкоголизма как болезни от других заболеваний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D2E0-2D97-4109-AA1C-93882CA213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Calibri"/>
              </a:rPr>
              <a:t>Отличие алкоголизма как болезни от других заболеваний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A7F8-2D1A-4C50-818C-4DF869957C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ак влияет алкоголизм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на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алкоголизацией связано 50% дорожно-транспортных происшествий, 50% убийств, 25% самоубийств, до 50% семей распадается на почве злоупотребления алкоголем одним из супру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цирроза печени и целого букета других заболеваний, связанных с употреблением алкоголя, средняя продолжительность жизни больных укорочена на 10 лет, по сравнению со здоровым насел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8873-F10F-4A97-8911-33F540240F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3DF9-3BB0-4971-BB06-CF54AA0560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фы о наркоти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жизни все надо попробовать, в том числе и 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ть люди, которые принимают наркотики много лет и прекрасно жив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гкие наркотики принимать можно, это безопа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ки делают людей свобод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ки часто принимают сильные и смел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тые наркотики безвред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E31C-5AC3-403E-9678-CC49478E80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лияние наркотиков на организм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ческая завис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нравственных устано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шение закона, влекущее уголовную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нормальной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в постоянном поиске психоактив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оянные материальные затруд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работы, постоянного зараб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численные болезни, вызванные разладом в работе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иск заболеть СП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ижение остроты зрения, сл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нний атеросклер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нняя смер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DA7F-67DB-4EC6-A2F1-A4FCF8E4C2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2790-2333-4250-98AF-8ABCE0E5F0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поступок – и вы пожнете привыч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привычку – и вы пожнете характе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характер – и вы пожнете судь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У.Теккерей – англ. </a:t>
            </a:r>
            <a:r>
              <a:rPr b="1" i="1" lang="uk-UA" sz="12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4F44-B298-43EC-8BD5-C7E4BDDF91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Привыч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это поведение, ставшее для человека обычным, постоя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7D20-56EF-4E9F-85C0-92D00BE654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Calibri"/>
              </a:rPr>
              <a:t>Игровое зад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боволие, любовь к спорту, жажда наслаждений, благоразумие,  любопыт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лонность к подражанию, сила воли, неорганизова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адность, осторо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4349-3F60-4CE3-948F-9889F855FA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104D-8D43-44CB-8CB0-3912ABEE4E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Состав табачного ды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арный газ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ксус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ля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и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460F-18A8-4A2F-9475-C259D6C78E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фы о куре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ят в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се взрослые кур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Бросить курить лег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Курение – безвредное зан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Курение опасно только тому, кто кур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Курение помогает оставаться строй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EB29-3B63-4CF2-93C7-FC9D54900D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влияния кур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8392-0CC7-4E43-9864-58CD05B42A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Пьянство</a:t>
            </a:r>
            <a:r>
              <a:rPr b="0" lang="en-US" sz="1200" spc="-1" strike="noStrike">
                <a:solidFill>
                  <a:srgbClr val="33ccff"/>
                </a:solidFill>
                <a:latin typeface="Impact"/>
              </a:rPr>
              <a:t>       </a:t>
            </a: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и</a:t>
            </a:r>
            <a:r>
              <a:rPr b="0" lang="en-US" sz="1200" spc="-1" strike="noStrike">
                <a:solidFill>
                  <a:srgbClr val="33ccff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алкого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15C0-5F94-4368-A2B3-52310C1084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79D-E0C7-4FFF-A4FB-C19B0948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5D9-EB93-448B-80FB-3194F2FF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846A0-E50F-4796-A67D-FAF3EDCD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7F64B-E6CC-4ADA-A0A4-6C29A590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8329B-7A89-4EC6-BE76-4DF1CED5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BA71B-AB2F-4DD2-82B4-5ABD5894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6BCF3-4733-44CC-8F5C-BCBCAD0E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1A95A-22AC-43D7-837E-CCF7018D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B9C9A-9F5E-4281-AD03-95D3B6E1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E57FF-C665-413F-ABE2-5F892A83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AE010-D28B-465C-870D-B000ABFB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91C72-6AD6-4E97-9214-C63312A6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260-E21A-4923-82D3-18E5501A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580A7-CC44-4EF8-BA64-A537BFF7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434F5-7839-4D89-84AC-5DD76FB7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85D65-C106-48BF-9E28-C147D970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5EE69-7F52-46CA-97DF-33C7A50A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F78A6-F977-4E20-BA67-6B9C8DAF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A7FBA-6B8D-4C07-BE48-241A1E53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C46BB-C8F3-42F2-8222-C8F89D7A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AEB9B-013E-4B4E-895A-F843BC3E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6D5DC-B86B-40C1-9B5C-375AA719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1EFD9-5D1B-4570-A977-34599282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0B2-9CC0-4306-A233-64A4A3DE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73EFD-9D85-441D-8B32-4861290C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00E48-61AB-4944-8C7C-A40D5FF0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6B986-1C54-487D-9B54-A5789C11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ACA72-F0DC-4FCB-B941-DAC9B20A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4ECFE-3863-4605-B33A-C77F7DA7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77A2D-2F6A-47F3-A6E8-70B9927B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7910E-72A4-4009-BB9F-440D629A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8B784-C684-4711-865F-8DC00832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53FF7-845B-4F0E-AE1A-4C05EF73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95695-AA6C-408A-9A79-F6CFB298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1E4B-E764-4B78-B368-F71C208B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AA221-9BC4-4CA2-BF2D-C66408DF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54B39-E628-4851-9D03-D00ED95B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014F6-8008-4F13-A93F-9EE28134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B1741-62B4-4FA1-B315-78F4B394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C1F43-26DF-4FD4-9876-E29CB976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DEA28-71D9-4259-9BF2-02C5C194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7B52A-D660-47D9-AA36-CBC3B838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BE1C8-A76B-4E5D-9EED-107DCCE0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6B8B3-50D1-406C-8F6D-28A709E4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72B66-F8C0-443F-9855-8C341E82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3AAC-B3DF-43C6-8A59-8ADC22DF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6DBF7-0E95-4128-83E8-C7AFAAFE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B2AEA-13F0-4B29-AD7F-035234D1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3460C-17D5-48F7-838F-1EDA74E4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7CDC1-EB6C-46E6-A5D6-3B74B3DA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21EB5-5DAA-40A6-ADB1-E71E73BD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1D052-AD34-4821-B02F-5C4A6F6F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725454-AF95-4214-AF74-1A72B22D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28957-2401-426E-AC40-66EAE1C6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98EB4-2D3D-415F-815A-080C7913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23CF1C-9CBD-426D-819F-BBF94C4B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AA18-5C2D-4CAC-AF98-B6CA1C89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D3D2B-A726-4928-B098-F1C6190D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25A889-56D0-44F7-BD91-21B66D4C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2EB27-6A17-4595-A34B-6D4BAD43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F2354-8AD8-45F2-8D68-EA559D2F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3E865-96DD-474B-95C4-AFE77080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26678-5C1E-4426-93BC-0CD43D1F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78B1C-B577-41CA-929D-4797D06D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D21A-6F1A-4E4D-802B-454CCF73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9A56-BF7F-488F-8E0F-4A5FCCCE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772D-3756-4AF8-9D71-60C41AEE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C78C-CBF0-48BF-B51F-68ECD6A8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33F-2CD0-4E0F-9098-EB7C8AA3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DD4E-BC09-4555-978A-5838034B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EB2A-0B3E-4856-9D90-216EC466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680E-A1EC-48EB-B163-D7C1E757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8E17-1EDE-4C64-AD3F-92868C77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7430-9E52-4BDB-9DE5-37FC9064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72321-026B-41A9-9284-D99A750C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E3700-7268-4780-BE6A-CE70ADB4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7D2F5-EC18-426A-A364-49B70811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94179-E6DD-427D-963A-F895B47A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1A48F-6122-4632-87AA-824485AE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12F-913C-46BF-AE90-70B0CAC8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8016E-8FCD-4160-97F2-D9FF5715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14D19-4697-4303-A0AB-69C57271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E2E23-553E-40F4-97D0-81CA76E3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DE2C-5711-4012-AE60-89C7D8B5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DCFE5-1F87-41E6-8DA8-BE5AF19B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EF6CA-F9F6-416D-921A-E0E16D36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3BFDF-FA5E-4156-A27D-1E581895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868FF-4B7D-45A5-BC73-1B83AD15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6E52C-6E2A-420E-9633-0A8D8094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2BB9A-3F9C-4F0B-B234-0D0EE554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B5A-8ACC-43AA-BC2E-12F68741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CAF8E-67CB-428F-9990-5B4151AA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BB3C8-77D1-493D-939C-C85490C7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B1777-D766-468D-8416-80D2F75C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31FA3-76E4-441A-A229-70784149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2F92F-ED9F-4629-A2C7-453E6C27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647FC-FB39-4AE5-9B74-8FB7F13D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AF4A8-F2A9-4FE8-91D0-0C03FFF2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2A93D-718C-4402-9815-80C138CB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B080A-784D-4F17-9D94-B77557B3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1F15B-E895-42D1-85A0-AFC5CF31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58C-410D-4E53-A122-0B978E69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CC7E4-D8C3-4250-B649-A032BBE5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11776-DCD4-49F4-823F-BF8E9521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AE154-3A0A-40D1-8CE9-A1E04F11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E83DF-C08A-4A90-9F1A-13D47FD8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63E83-5387-4354-80C5-BEBF14BD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5113B-CADF-4BD7-9C68-7C76358D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19C9D-4A6B-4B3D-AF6D-A91DC5E7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B25D5-A8EA-4B78-A436-25B55875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90A46-A09A-4892-BDB1-8B690055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0AACA-2EF3-4E89-AE79-8C8B32DB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288F-11E6-403C-BD77-ADF909CC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8B22F-9253-4FB4-990E-3245E349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0F22B-4498-40C9-85DF-8C65EB67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C9CAC-18CB-4CF2-ADA6-7EC917BD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4E663-43F8-4E1B-B62A-60EBF736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7BD16-C4BB-42DF-A2A0-9FCEB9A9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F355A-64FB-4BEF-9E9E-44945CCC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E08A5-D691-41C1-863E-8EF5AA83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320DA-885D-4134-A7E3-B35E879A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D5517-BE19-451B-9367-5571B97B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F92CC-50C5-4597-B070-ED8C21EB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956-8571-4C35-A560-7821265B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819CC-0E75-4CA1-8329-60E7DABB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8B3DB-7545-4846-A130-D003DB47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F820C-CFB9-4573-870A-8668A527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1C927-0729-4ECC-B73F-531C150F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7CE34-FB39-4F65-8601-A521872C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9EDF6-BFBD-4F2A-9FA1-32038A2D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AB5D3-BAFD-4F47-ACDC-76944127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8FA2D-2A4E-460E-939C-9FBED124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A7E9D-751D-4366-BF8B-814313F1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1D757-9ED9-4C8B-BCC7-921F7F46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765-2885-4105-A2FA-DC537739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010E5-B081-4BFE-A9D6-85A56B63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1F19E-06A2-4C66-8362-D93A27CB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4EA1D-BE5B-4922-A640-D9D9C595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88BE7-F430-40A5-B5EE-1C19B4AE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B7249-2694-41BC-AED9-DD09BC01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9C418-A498-4A6E-9E43-4C1F5576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F37DD-2E99-406A-9CCA-CDF7B378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A8299-DF4B-4855-B087-D1C331E7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94C84-6D5C-4112-AC78-06DF8BD6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924C0-4157-4D8F-96B7-D9B2C27C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4BF-AC09-44C5-A379-95153785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64880-D5D0-49B4-9647-AFE0867A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BDFDC-D016-4B9A-B650-BAD68ED0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07CC6-ED1A-432C-A8AD-795BC68E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7A9C5-D992-484A-8CEB-4737341E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7FD41-EAC9-4F83-A3F7-FF23FD19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47FC7-453F-490A-AF3A-B2F28BBA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A5BC4-C9BC-45A8-8302-671EACE3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633C5-97AC-426A-8D25-0AE7E28D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85AC4-5210-43D7-A71F-203DC465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DED81-3A4B-48BA-B243-00BF6935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85C1-F2D1-4CBD-B77E-68FA2DC168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3F92-A480-405D-A99D-BF114F1860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4076-BF6C-4499-9669-B6A08B8C64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8487-1B73-446F-996C-10C55C1FE5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48F4-7B53-4D17-AF0F-4D0777C064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BE7A-BD27-47B2-9EDB-2D35AF777F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283A-E0E9-4DAE-9682-BB6BAEF2CA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3EC9-DCF7-4BD9-9E91-7882D9D28F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C8E9-421D-4167-A3D1-7511598D3E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6AC8-3E4B-4075-A4FB-2A13E35D1D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A1CE-A326-489D-8E1C-3A162128DC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BC00-8159-44C5-973E-0331BDF429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EA1D-7A30-4428-A01C-AEF2D23787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-kurim.ru/photogallery/zdorovie/legkie_kurilshhika1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ne-kurim.ru/photogallery/zdorovie/legkie_nekurjashhego/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ne-kurim.ru/photogallery/zdorovie/119066425546f8183fa54d8/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5"/>
          <p:cNvSpPr txBox="1"/>
          <p:nvPr/>
        </p:nvSpPr>
        <p:spPr>
          <a:xfrm>
            <a:off x="380880" y="2057400"/>
            <a:ext cx="8305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1" i="1" lang="en-US" sz="4000" spc="1" strike="noStrike">
              <a:ln w="9360">
                <a:solidFill>
                  <a:srgbClr val="0066ff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  <p:pic>
        <p:nvPicPr>
          <p:cNvPr id="620" name="Picture 11" descr="shkolniki_kurieniie"/>
          <p:cNvPicPr/>
          <p:nvPr/>
        </p:nvPicPr>
        <p:blipFill>
          <a:blip r:embed="rId1"/>
          <a:stretch/>
        </p:blipFill>
        <p:spPr>
          <a:xfrm>
            <a:off x="2819520" y="3124080"/>
            <a:ext cx="3504960" cy="2590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о вредных привычках&#10;детей, советы детских психологов"/>
          <p:cNvPicPr/>
          <p:nvPr/>
        </p:nvPicPr>
        <p:blipFill>
          <a:blip r:embed="rId2"/>
          <a:stretch/>
        </p:blipFill>
        <p:spPr>
          <a:xfrm>
            <a:off x="152280" y="4038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3" descr="вредные привычки у детей"/>
          <p:cNvPicPr/>
          <p:nvPr/>
        </p:nvPicPr>
        <p:blipFill>
          <a:blip r:embed="rId3"/>
          <a:stretch/>
        </p:blipFill>
        <p:spPr>
          <a:xfrm>
            <a:off x="6324480" y="3886200"/>
            <a:ext cx="2708280" cy="29718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8"/>
          <p:cNvSpPr/>
          <p:nvPr/>
        </p:nvSpPr>
        <p:spPr>
          <a:xfrm>
            <a:off x="152280" y="76320"/>
            <a:ext cx="8839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рок на тему: </a:t>
            </a:r>
            <a:r>
              <a:rPr b="1" lang="ru-RU" sz="8000" spc="-1" strike="noStrike">
                <a:solidFill>
                  <a:srgbClr val="0033cc"/>
                </a:solidFill>
                <a:latin typeface="Arial"/>
              </a:rPr>
              <a:t>Полезные 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Отличие алкоголизма как болезни от других заболеваний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ифы об алкогол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1. С помощью алкоголя можно быстро согре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2. Алкоголь усиливает аппет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3. Алкоголь снимает стре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4. Алкоголь повышает работоспособ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5. Алкоголь понижает артериальное дав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6. Качественный алкоголь вреда не нанос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7. Алкоголь — лекарство от простуды. Многие лечатся от простуды водкой — с яблоками, с медом, с чем-нибудь ещ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8. Пиво — это не алкогол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9. Алкоголь не калори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10. Надо не запивать, а закусывать. Большинство из нас уверены, что крепкие напитки нужно непременно закус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291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344664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5"/>
          <p:cNvSpPr/>
          <p:nvPr/>
        </p:nvSpPr>
        <p:spPr>
          <a:xfrm>
            <a:off x="0" y="228600"/>
            <a:ext cx="419112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ак влияет алкоголизм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на жиз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152280" y="2209680"/>
            <a:ext cx="38862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алкоголизацией связано 50% дорожно-транспортных происшествий, 50% убийств, 25% самоубийств, до 50% семей распадается на почве злоупотребления алкоголем одним из супруг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3809880" y="3581280"/>
            <a:ext cx="53341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цирроза печени и целого букета других заболеваний, связанных с употреблением алкоголя, средняя продолжительность жизни больных укорочена на 10 лет, по сравнению со здоровым насел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4"/>
          <p:cNvSpPr txBox="1"/>
          <p:nvPr/>
        </p:nvSpPr>
        <p:spPr>
          <a:xfrm>
            <a:off x="228600" y="304920"/>
            <a:ext cx="868680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ркома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ифы о наркотик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жизни все надо попробовать, в том числе и нарко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ь люди, которые принимают наркотики много лет и прекрасно жив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гкие наркотики принимать можно, это безоп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котики делают людей свобод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котики часто принимают сильные и смелые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ые наркотики безвред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65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лияние наркотиков на организм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котическая завис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нравственных устано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ушение закона, влекущее уголовную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нормальной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в постоянном поиске психоактив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оянные материальные затруд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работы, постоянного зараб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численные болезни, вызванные разладом в работе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ск заболеть СПИ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ижение остроты зрения, сл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ий атеросклер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яя см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4" descr="p22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6"/>
          <p:cNvSpPr/>
          <p:nvPr/>
        </p:nvSpPr>
        <p:spPr>
          <a:xfrm>
            <a:off x="380880" y="717120"/>
            <a:ext cx="8153640" cy="49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поступок – и вы пожнете привычк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привычку – и вы пожнете характер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характер – и вы пожнете судьб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У.Теккерей – англ. </a:t>
            </a:r>
            <a:r>
              <a:rPr b="1" i="1" lang="uk-UA" sz="3200" spc="-1" strike="noStrike">
                <a:solidFill>
                  <a:srgbClr val="000099"/>
                </a:solidFill>
                <a:latin typeface="Arial"/>
              </a:rPr>
              <a:t>п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ис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9"/>
          <p:cNvSpPr/>
          <p:nvPr/>
        </p:nvSpPr>
        <p:spPr>
          <a:xfrm>
            <a:off x="152280" y="109440"/>
            <a:ext cx="8839440" cy="6677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ff"/>
                </a:solidFill>
                <a:latin typeface="Arial"/>
              </a:rPr>
              <a:t>Привычка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– это поведение, ставшее для человека обычным, постоянны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ff"/>
                </a:solidFill>
                <a:latin typeface="Arial"/>
              </a:rPr>
              <a:t>Игровое задани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абоволие, любовь к спорту, жажда наслаждений, благоразумие,  любопытств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лонность к подражанию, сила воли, неорганизованнос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адность, осторож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WordArt 8"/>
          <p:cNvSpPr txBox="1"/>
          <p:nvPr/>
        </p:nvSpPr>
        <p:spPr>
          <a:xfrm>
            <a:off x="228600" y="152280"/>
            <a:ext cx="8534520" cy="670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ур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Состав табачного ды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0988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арный газ (С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иль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сус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равьи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ля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и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4267080" y="1676520"/>
            <a:ext cx="4419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ья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иоактивные вещества: полоний, висмут, ка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н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ачный дёготь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2" descr="F:\курение\8d3d6e78190d.jpg"/>
          <p:cNvPicPr/>
          <p:nvPr/>
        </p:nvPicPr>
        <p:blipFill>
          <a:blip r:embed="rId1"/>
          <a:stretch/>
        </p:blipFill>
        <p:spPr>
          <a:xfrm>
            <a:off x="5715000" y="4191120"/>
            <a:ext cx="3429000" cy="2666880"/>
          </a:xfrm>
          <a:prstGeom prst="rect">
            <a:avLst/>
          </a:prstGeom>
          <a:ln w="0">
            <a:noFill/>
          </a:ln>
        </p:spPr>
      </p:pic>
      <p:sp>
        <p:nvSpPr>
          <p:cNvPr id="6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ифы о кур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ря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Все взрослые кур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Бросить курить лег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Курение – безвредное зан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Курение опасно только тому, кто ку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Курение помогает оставаться строй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j0301252"/>
          <p:cNvPicPr/>
          <p:nvPr/>
        </p:nvPicPr>
        <p:blipFill>
          <a:blip r:embed="rId1"/>
          <a:stretch/>
        </p:blipFill>
        <p:spPr>
          <a:xfrm>
            <a:off x="4989600" y="1447920"/>
            <a:ext cx="4154400" cy="4343400"/>
          </a:xfrm>
          <a:prstGeom prst="rect">
            <a:avLst/>
          </a:prstGeom>
          <a:ln w="0">
            <a:noFill/>
          </a:ln>
        </p:spPr>
      </p:pic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 влияния куре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орга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3" descr="small_information_items_11917957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81080"/>
            <a:ext cx="2305080" cy="32004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small_information_items_11917957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1981080"/>
            <a:ext cx="2416320" cy="31244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" descr="small_information_items_119066425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1981080"/>
            <a:ext cx="2819160" cy="3124440"/>
          </a:xfrm>
          <a:prstGeom prst="rect">
            <a:avLst/>
          </a:prstGeom>
          <a:ln w="0">
            <a:noFill/>
          </a:ln>
        </p:spPr>
      </p:pic>
      <p:sp>
        <p:nvSpPr>
          <p:cNvPr id="6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5"/>
          <p:cNvSpPr txBox="1"/>
          <p:nvPr/>
        </p:nvSpPr>
        <p:spPr>
          <a:xfrm>
            <a:off x="228600" y="152280"/>
            <a:ext cx="86104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ьянст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9" name="WordArt 6"/>
          <p:cNvSpPr txBox="1"/>
          <p:nvPr/>
        </p:nvSpPr>
        <p:spPr>
          <a:xfrm>
            <a:off x="3809880" y="32004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0" name="WordArt 7"/>
          <p:cNvSpPr txBox="1"/>
          <p:nvPr/>
        </p:nvSpPr>
        <p:spPr>
          <a:xfrm>
            <a:off x="228600" y="434340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коголиз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9:31:47Z</dcterms:modified>
  <cp:revision>19</cp:revision>
  <dc:subject/>
  <dc:title>Урок на тему: Полезные 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