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8FD8-48BA-4298-89DF-A5E52ACAA2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Родительское собр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одросток в мире вредных привы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010-FB66-42B9-BD34-D8692880AC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ерп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ак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лика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очное использование слова как важного инструмента в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52F3-DA78-4312-BA5A-A3A42084B8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мение поставить себя на место ребё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Гибкая система контроля, не довлеющая над сознанием ребёнка, а поддерживающая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65FD-66CB-4775-BF41-170DE89348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Всякий порок есть следствие праздности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          П.Кур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0077-2363-4F28-BE11-881CB6B69C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Опасность, которую таят наркоти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мания ведёт к нравственной и интеллектуальной деград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744D-BFE1-40BC-85FE-E54253F14F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чины начала употребления нарко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Бесплатное предложение попробовать нарк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 любопы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 незн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изкая самооценка подрос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тремление уйти от тоски и одино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201A-7D62-49C2-A235-DEE8400B20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B195-83AC-4BD6-BD0C-5706563CE2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61A7-DD3D-42E6-95F2-59D4C9AECB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7009-1189-491D-80B1-3B79D3EA0A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ая смена друз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ое ухудшение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ение пищев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учаи забывчивости, бессвязная р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ие перемены на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F1B9-EFA5-48B6-8EB3-03FF983504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лная утрата прежни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езапное нарушение координации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е упоминание о наркотиках в шутках и разгов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9CD8-A19B-499A-81DF-CAC71F8E5D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Это значит любить 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0869-6E1E-4667-87DF-B9365B52EE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DFF-B48E-4472-9139-F9D530B1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994-B3F5-417E-AF90-B6A69699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A69-8197-44E8-BD07-85FF79D2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8C4-74C9-4987-BB0C-A798DE82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9345-9624-449D-8F29-5B7C4E3A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9CA6-382D-433E-9477-5AA05D99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1B23-1C1E-4626-AEAE-8CB203CC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4731-0D6F-4D35-99D8-E0B244C1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8BB4-8C44-4119-A22F-F468C9EF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C83D-13D8-4699-8778-5ACEC3AD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9344-EA88-41A8-99E0-541707D7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0D5-4191-410F-8D82-CB072F0B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A43B-B868-4CC2-ABFA-40EF311C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F0DD-CFCA-4911-AE61-DA25EF49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7F6F-F2C9-41F1-8860-7BA7B348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E4FD-ABD9-494B-8666-5310EA2B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DEC5-5918-4490-A45E-FB134F40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3FE-FE08-4F28-83EC-4D492245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B47-D4DE-4888-806C-AE22D30A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E3C-EC2B-4153-B724-8A732CE2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B7B-762E-4226-979D-D5669A1D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F6B-1E79-4CDC-8830-F6B96044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298-8A58-4FA3-BEF1-7B101832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AD7-1F2E-4A76-9AEC-D060E8B4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0E3A-836C-49A3-AF22-ADFDA02978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9801-3920-4056-861E-402A26EB118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Родительское собрание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32000" y="242064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«Подросток в мире вредных привычек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рп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ак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елика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чное использование слова как важного инструмента в отношени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Умение поставить себя на место ребё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Гибкая система контроля, не довлеющая над сознанием ребёнка, а поддерживающая 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Всякий порок есть следствие праздности.</a:t>
            </a:r>
            <a:br>
              <a:rPr sz="7200"/>
            </a:b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                П.Курье.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пасность, которую таят наркотик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мания ведёт к нравственной и интеллектуальной деград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чины начала употребления наркотик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Бесплатное предложение попробовать наркоти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 любопыт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о незнани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Низкая самооценка подрост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тремление уйти от тоски и одиноч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ая смена друз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ое ухудшение повед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менение пищевых привыче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лучаи забывчивости, бессвязная р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ие перемены настро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олная утрата прежних интерес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незапное нарушение координации движ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Частое упоминание о наркотиках в шутках и разговор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4800"/>
            </a:b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Это значит любить и поддерживать его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20:41:30Z</dcterms:created>
  <dc:creator>dom</dc:creator>
  <dc:description/>
  <dc:language>en-US</dc:language>
  <cp:lastModifiedBy>LEGION</cp:lastModifiedBy>
  <dcterms:modified xsi:type="dcterms:W3CDTF">2015-05-12T09:32:12Z</dcterms:modified>
  <cp:revision>5</cp:revision>
  <dc:subject/>
  <dc:title>«Подросток в мире вредных привычек»</dc:title>
</cp:coreProperties>
</file>