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21A4-1118-4E1E-AC48-F931CBF6A4C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Родительское собра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Подросток в мире вредных привыч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7A0C-AA09-44E4-9C58-ABE1543FBB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4f81bd"/>
                </a:solidFill>
                <a:latin typeface="Calibri"/>
              </a:rPr>
              <a:t>Принципы поддержки подростк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ерп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ак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Делика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очное использование слова как важного инструмента в отнош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0566-B8B4-407F-800B-42E477069B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81bd"/>
                </a:solidFill>
                <a:latin typeface="Calibri"/>
              </a:rPr>
              <a:t>Принципы поддержки подростк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Умение поставить себя на место ребё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Гибкая система контроля, не довлеющая над сознанием ребёнка, а поддерживающая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знакомление подростка с научными фактами и сведениями о вреде наркотиков, курения и алк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ED7D-D9D4-4E4A-90D5-65D9B553A5C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Всякий порок есть следствие праздности.</a:t>
            </a:r>
            <a:br>
              <a:rPr sz="1200"/>
            </a:b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                П.Кур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B9F4-6A0C-4623-A50B-883B20627F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Опасность, которую таят наркотик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ркотик – это средство, которое постоянно увеличивает потребности его ис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вязанность к наркотику ведёт к быстрой деградации личности подростка, физической завис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ркомания ведёт к нравственной и интеллектуальной деград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DB23-537B-4987-9F81-DAA6193810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чины начала употребления наркот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Бесплатное предложение попробовать наркот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з любопы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о незн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изкая самооценка подрос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тремление уйти от тоски и одино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0E4C-07AF-40E1-90A4-830998FE8F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акторы, способствующие вовлечению подростков в наркоман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ложности во взаимоотношениях со старшими или отсутствие контроля со стороны р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1481-0728-43DE-A293-B4550BFDD0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акторы, способствующие вовлечению подростков в наркоман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тдельные подростки стремятся выделиться в коллективе сверстников любой ценой – из-за того, что привыкли к повышенному вниманию в сем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0C7A-406C-4EB2-99F5-34E13AA6E1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акторы, способствующие вовлечению подростков в наркоман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ередко используется сила принуждения, особенно к слабовольным, либо к подросткам, лишённым внимания взросл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B382-7E0E-4BC4-AA1A-AABD872389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Признаки пристрастия ребёнка к наркотик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зкая смена друз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зкое ухудшение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зменение пищев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лучаи забывчивости, бессвязная ре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зкие перемены настро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98B0-3984-4EA0-BE66-EA7DD5455B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81bd"/>
                </a:solidFill>
                <a:latin typeface="Calibri"/>
              </a:rPr>
              <a:t>Признаки пристрастия ребёнка к наркотика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олная утрата прежни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незапное нарушение координации дви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Частое упоминание о наркотиках в шутках и разгово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 фоне полного здоровья – расширение зрачков, покраснение глаз, кашель, насморк, рв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8F5D-B253-4826-B9BB-6C587DB20B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Быть внимательным к ребёнку – это не значит пристально следить за каждым его шагом и подозревать во всём плохом.</a:t>
            </a:r>
            <a:br>
              <a:rPr sz="1200"/>
            </a:b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Это значит любить и поддерживать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E013-52CF-4EED-9CF4-288951877C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53D9-ACA9-416F-ABA1-164C2754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07B3-8F79-4842-9ABC-171407E8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E30-A2B8-41FA-A328-B3B1324F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584-C789-4B1D-B8E9-6550DC12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C28E-9E96-4D80-B13A-9EC538D5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DD27-4E0F-478A-BDFE-779B3664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F544-3686-443E-9A91-302EF9D0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B914-0C0F-4028-B561-31AD9BFF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B861-C2FF-4292-A302-5FF3A078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E146-65D2-4AAD-BC8A-96B42C96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8789-9485-4CFB-9919-E05F7AD9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B752-4105-4F4C-AF5F-882D9C95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0588-2B1A-4E6B-A355-422A2680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7838-D7A1-492B-9482-68B8D526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E015-2CA6-458E-985F-55636DC1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3D10-068E-4F8C-A1F1-FF778061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53C3-0DED-4B4B-A705-D68E062CC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7B27-FAF2-4C4D-BDCD-49982EA3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7325-3E40-48C2-BDF4-9B4E99F6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E854-4695-4577-A08D-7B4D24FB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D00-22BE-4FB7-8608-87B6899B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4C9A-05B6-4911-90B9-60ED34C9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D74A-C90A-4884-81E9-C6D12533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D46-7CE7-44FB-9895-131B7493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A50B-FBD0-4E61-908F-CD21BD52FFF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BBBB-5EF9-4ECB-8BFC-9E45600376C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Arial"/>
              </a:rPr>
              <a:t>Родительское собрание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32000" y="242064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«Подросток в мире вредных привычек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нципы поддержки подростк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ерп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Вним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актич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Деликат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очное использование слова как важного инструмента в отношения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нципы поддержки подростк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Умение поставить себя на место ребён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Гибкая система контроля, не довлеющая над сознанием ребёнка, а поддерживающая е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Ознакомление подростка с научными фактами и сведениями о вреде наркотиков, курения и алкогол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603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99ff"/>
                </a:solidFill>
                <a:latin typeface="Arial"/>
              </a:rPr>
              <a:t>Всякий порок есть следствие праздности.</a:t>
            </a:r>
            <a:br>
              <a:rPr sz="7200"/>
            </a:br>
            <a:r>
              <a:rPr b="1" lang="ru-RU" sz="7200" spc="-1" strike="noStrike">
                <a:solidFill>
                  <a:srgbClr val="3399ff"/>
                </a:solidFill>
                <a:latin typeface="Arial"/>
              </a:rPr>
              <a:t>                П.Курье.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пасность, которую таят наркотик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Наркотик – это средство, которое постоянно увеличивает потребности его использова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Привязанность к наркотику ведёт к быстрой деградации личности подростка, физической зависим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Наркомания ведёт к нравственной и интеллектуальной деградац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ичины начала употребления наркотиков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Бесплатное предложение попробовать наркотик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Из любопыт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По незнанию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Низкая самооценка подрост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Стремление уйти от тоски и одиноче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75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акторы, способствующие вовлечению подростков в наркоманию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Сложности во взаимоотношениях со старшими или отсутствие контроля со стороны родителе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75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акторы, способствующие вовлечению подростков в наркоманию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Отдельные подростки стремятся выделиться в коллективе сверстников любой ценой – из-за того, что привыкли к повышенному вниманию в семь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75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акторы, способствующие вовлечению подростков в наркоманию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Нередко используется сила принуждения, особенно к слабовольным, либо к подросткам, лишённым внимания взрослых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знаки пристрастия ребёнка к наркотика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Резкая смена друз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Резкое ухудшение повед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Изменение пищевых привычек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Случаи забывчивости, бессвязная реч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Резкие перемены настро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Полная утрата прежних интерес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Внезапное нарушение координации движен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Частое упоминание о наркотиках в шутках и разговора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На фоне полного здоровья – расширение зрачков, покраснение глаз, кашель, насморк, рво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знаки пристрастия ребёнка к наркотика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603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99ff"/>
                </a:solidFill>
                <a:latin typeface="Arial"/>
              </a:rPr>
              <a:t>Быть внимательным к ребёнку – это не значит пристально следить за каждым его шагом и подозревать во всём плохом.</a:t>
            </a:r>
            <a:br>
              <a:rPr sz="4800"/>
            </a:br>
            <a:r>
              <a:rPr b="1" lang="ru-RU" sz="4800" spc="-1" strike="noStrike">
                <a:solidFill>
                  <a:srgbClr val="3399ff"/>
                </a:solidFill>
                <a:latin typeface="Arial"/>
              </a:rPr>
              <a:t>Это значит любить и поддерживать его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20:41:30Z</dcterms:created>
  <dc:creator>dom</dc:creator>
  <dc:description/>
  <dc:language>en-US</dc:language>
  <cp:lastModifiedBy>LEGION</cp:lastModifiedBy>
  <dcterms:modified xsi:type="dcterms:W3CDTF">2015-05-12T09:32:12Z</dcterms:modified>
  <cp:revision>5</cp:revision>
  <dc:subject/>
  <dc:title>«Подросток в мире вредных привычек»</dc:title>
</cp:coreProperties>
</file>