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CDF2-AD27-4FE7-8CF4-60C86E858E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Родительское собр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одросток в мире вредных привы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0BBD-5C58-49C1-BCDC-5F3AAA8B5F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ерп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ак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лика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очное использование слова как важного инструмента в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E560-B053-4CDF-A659-E576AA8E0F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мение поставить себя на место ребё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Гибкая система контроля, не довлеющая над сознанием ребёнка, а поддерживающая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BD39-1B2E-42B0-B69D-E9FD06B433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Всякий порок есть следствие праздности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          П.Кур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A666-AB4D-4F12-BC3E-F94088C2BC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Опасность, которую таят наркоти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мания ведёт к нравственной и интеллектуальной деград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3EC-2C19-4DB1-85F1-6026ED8CBA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чины начала употребления нарко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Бесплатное предложение попробовать нарк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 любопы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 незн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изкая самооценка подрос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тремление уйти от тоски и одино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E795-DC56-48DF-ADC4-D30E6A0076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1C4E-1A10-429C-ABE0-2B48A98DF3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E898-053A-418C-8AC9-F8A0D44F82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0497-A241-42F5-841A-F32463F42D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ая смена друз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ое ухудшение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ение пищев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учаи забывчивости, бессвязная р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ие перемены на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1A46-42F3-4A07-96DF-BE4C260521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лная утрата прежни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езапное нарушение координации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е упоминание о наркотиках в шутках и разгов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5CD4-3AA7-4B69-9D87-47F7328A26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Это значит любить 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883E-0441-455C-8CC0-8473A061EC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C1C-4686-40E3-AC7C-F71A01DA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5E2-B1B1-491F-8D8E-205D6D63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42E-7CA3-4A40-B7C2-48FB6447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5CB-E0AA-4FF3-B553-A676B5C4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84FD-9C16-44A0-928D-D02EF97E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EA3F-0BC8-4455-B594-BFB63449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3078-3562-4DDA-AB0E-3F577DB9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FBC4-0082-4F61-BDC4-1F9A816D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5BFA-A8D2-44EB-B55D-F9700F33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F601-35EB-4487-9FA4-461E5838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AEF6-40BC-4E78-8B86-B6D95EFC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575-B7A7-4FF8-916F-C04A6FF0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9CF9-B95D-4783-B933-70D0F4E1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1DFC-81A5-47FE-8F56-D1B59209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A53A-57FF-4C40-8F87-7DAE112A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9A4D-C638-4F28-A3DC-B9DB272D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E0B9-5C56-4C2F-90E7-1D52A6FE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38C-EA5B-40F7-863C-29BD356D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1BB-631D-4F14-BC73-BAA1E7A4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6FE-E456-4740-B4E4-D9609B7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44B-5850-472C-A82A-1CB980EF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0E8-6ECA-4F2C-9557-BDF8B868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F8B-C6F1-4517-BB0A-57BC8999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627-0BFE-4AAF-9A6F-9ED60002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01FE-8915-40A6-BCA9-DF9AB04809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FEAE-0AF3-497E-9D3B-4005AADF87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Родительское собрани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2420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«Подросток в мире вредных привычек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рп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ак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елика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чное использование слова как важного инструмента в отнош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Умение поставить себя на место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ибкая система контроля, не довлеющая над сознанием ребёнка, а поддерживающая 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Всякий порок есть следствие праздности.</a:t>
            </a:r>
            <a:br>
              <a:rPr sz="7200"/>
            </a:b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                П.Курье.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пасность, которую таят наркотик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мания ведёт к нравственной и интеллектуальной деград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чины начала употребления наркотик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Бесплатное предложение попробовать наркот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 любопыт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незнани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изкая самооценка подрост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тремление уйти от тоски и одино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ая смена друз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ое ухудшение повед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менение пищевых привыче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лучаи забывчивости, бессвязная р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ие перемены настро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олная утрата прежних интере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незапное нарушение координации дви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Частое упоминание о наркотиках в шутках и разгов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4800"/>
            </a:b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Это значит любить и поддерживать его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20:41:30Z</dcterms:created>
  <dc:creator>dom</dc:creator>
  <dc:description/>
  <dc:language>en-US</dc:language>
  <cp:lastModifiedBy>LEGION</cp:lastModifiedBy>
  <dcterms:modified xsi:type="dcterms:W3CDTF">2015-05-12T09:32:12Z</dcterms:modified>
  <cp:revision>5</cp:revision>
  <dc:subject/>
  <dc:title>«Подросток в мире вредных привычек»</dc:title>
</cp:coreProperties>
</file>