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08F3-0C1C-482A-AE1E-8382EA4767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Родительское собр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одросток в мире вредных привы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7599-88F2-4067-9A3D-35BBD5F35B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ерп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ак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лика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очное использование слова как важного инструмента в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7FA6-E750-48C2-A9B0-93A679A438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мение поставить себя на место ребё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Гибкая система контроля, не довлеющая над сознанием ребёнка, а поддерживающая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5A02-0CC4-4669-947C-C25FD86D07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Всякий порок есть следствие праздности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          П.Кур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4960-165C-4347-AC38-558128C050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Опасность, которую таят наркоти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мания ведёт к нравственной и интеллектуальной деград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8DF7-42E6-4D58-8DA5-33124C8655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чины начала употребления нарко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Бесплатное предложение попробовать нарк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 любопы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 незн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изкая самооценка подрос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тремление уйти от тоски и одино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2699-9954-4882-8372-608AAC554A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7FD-FF7B-49E0-AF3D-A87CA3FA75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9B9E-0478-45CC-A85B-6FA2775EF0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FD34-F4DD-4839-A628-928CD837B0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ая смена друз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ое ухудшение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ение пищев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учаи забывчивости, бессвязная р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ие перемены на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F0A2-5F87-4F5D-A489-2007AA2A14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лная утрата прежни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езапное нарушение координации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е упоминание о наркотиках в шутках и разгов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C90C-F439-47B6-AFE7-77C72B6019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Это значит любить 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7B82-CF7C-4CD8-8791-446127A549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D16-0E09-41CF-9F6E-3280480F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0AE-DD80-405F-BC47-83E07962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2AD-1705-487C-AB4B-700A915F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3B9-AD71-4C6B-A543-A7537D77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B905-968D-4BE9-BCA0-A30D5732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0990-7A4E-4377-93F8-ECEDFBDC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B76A-6336-4B9A-AB3A-2B91EFD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69BD-6D2B-42B0-B819-08717DBD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7552-3F6A-4212-9620-0225EE97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74EB-9938-4F8B-8D40-C5D6F51B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64DF-86ED-4383-97F1-94B722A0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07D-5146-4659-AC56-73500EA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5309-C482-421D-8ABB-04EC4998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447A-1D7C-47A1-952C-9BA6AB6B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EF32-55E4-4BE8-AC27-0B4CFF2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E6A8-7C4E-46AB-AB66-0B680C44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2FA9-80A1-4231-BEC7-71FF2286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006-E3EF-48F2-9214-41BB74FA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5D8-7577-44C5-8F5D-1C4E8D15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7CA-807A-4451-B765-7E907D09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2AE-8C86-4D00-BCA0-CF73F5DD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C69-E345-4F07-A5A3-795B9C0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43E-CEDE-40CF-B34E-D3BAC72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190-A51E-4353-87C3-AE014B45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B7CD-7010-4CA8-84E2-7266391DDD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6015-E0C9-4C5D-A27A-041E75CDC8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Родительское собрани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2420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«Подросток в мире вредных привычек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рп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ак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елика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чное использование слова как важного инструмента в отнош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Умение поставить себя на место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ибкая система контроля, не довлеющая над сознанием ребёнка, а поддерживающая 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Всякий порок есть следствие праздности.</a:t>
            </a:r>
            <a:br>
              <a:rPr sz="7200"/>
            </a:b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                П.Курье.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пасность, которую таят наркотик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мания ведёт к нравственной и интеллектуальной деград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чины начала употребления наркотик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Бесплатное предложение попробовать наркот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 любопыт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незнани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изкая самооценка подрост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тремление уйти от тоски и одино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ая смена друз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ое ухудшение повед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менение пищевых привыче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лучаи забывчивости, бессвязная р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ие перемены настро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олная утрата прежних интере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незапное нарушение координации дви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Частое упоминание о наркотиках в шутках и разгов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4800"/>
            </a:b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Это значит любить и поддерживать его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20:41:30Z</dcterms:created>
  <dc:creator>dom</dc:creator>
  <dc:description/>
  <dc:language>en-US</dc:language>
  <cp:lastModifiedBy>LEGION</cp:lastModifiedBy>
  <dcterms:modified xsi:type="dcterms:W3CDTF">2015-05-12T09:32:12Z</dcterms:modified>
  <cp:revision>5</cp:revision>
  <dc:subject/>
  <dc:title>«Подросток в мире вредных привычек»</dc:title>
</cp:coreProperties>
</file>