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6956-95FF-4D90-AA23-B14AB9B8D8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Родительское собр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одросток в мире вредных привы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BC00-7098-4C45-BA6F-D71200E0A4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ерп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ак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лика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очное использование слова как важного инструмента в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C35C-B3AC-44C0-BD2A-B4AE17E031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мение поставить себя на место ребё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Гибкая система контроля, не довлеющая над сознанием ребёнка, а поддерживающая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30CE-C307-4BCE-9F29-3BD6E0F6EA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Всякий порок есть следствие праздности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          П.Кур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191E-F54D-4082-BC54-216CA16871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Опасность, которую таят наркоти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мания ведёт к нравственной и интеллектуальной деград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968C-DA11-496A-BA29-B593EF27FA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чины начала употребления нарко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Бесплатное предложение попробовать нарк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 любопы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 незн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изкая самооценка подрос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тремление уйти от тоски и одино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4069-182D-44C4-A1E9-64154EA461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A501-84A9-4DF7-9CF0-D58970B3C7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F0C6-6643-4B86-A69D-C63583D946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8546-8718-4128-ACCC-FA27921B17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ая смена друз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ое ухудшение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ение пищев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учаи забывчивости, бессвязная р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ие перемены на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B9A8-88BD-47A6-835F-8B213D79EE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лная утрата прежни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езапное нарушение координации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е упоминание о наркотиках в шутках и разгов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5F97-3C98-41A5-84B2-D07964D6FA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Это значит любить 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3518-6FCF-4F9B-9465-875E8F57B5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0A9-7748-43F9-A4A2-F91E5C23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16A-F6C2-490F-A8DB-8AC4DA63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438-AC5F-4FDE-A86F-0B4A012F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111-A1E2-4698-94BE-E308CE98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83A2-36E2-4A3C-8375-A325120F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CF2D-4240-4DA7-9772-81F38CBF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352C-C051-4B23-990B-A9F3C51D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C8F5-BC25-4533-BC9E-5A78C8C7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BCEF-970A-4F95-B3EC-57B2AA7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58FF-751A-49E6-BC1D-AF904F73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F14A-A92A-43A3-9E6F-FA8219BD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FFD-24D8-473A-8B54-72216133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D1ED-9166-44C8-BA90-AD3170AC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F8C8-5968-4CE7-B2CF-2923D55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F060-14C6-4406-BF58-7C7A6D45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4B76-5E88-4FF3-9228-33445AC7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6B22-ADC5-4AD4-B829-2EEEC5FD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A4A-C9F9-4609-B552-553B515C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137-DF9F-4AC2-AA2D-3D2C15D6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E9A-AB21-4604-83BC-70EE6A32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39F-779D-4BEC-94EF-8B85178F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718-14A2-49FA-8386-1263080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324-05CC-4497-B92D-74EED62D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3EE-089E-4A07-B55B-D2C9ADAD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5DF9-1557-4EFF-8391-E83CE1B2C7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BA26-7318-40B9-BF14-83B1FB5BB0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Родительское собрани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0" y="242064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«Подросток в мире вредных привычек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рп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ак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елика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чное использование слова как важного инструмента в отношен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Умение поставить себя на место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Гибкая система контроля, не довлеющая над сознанием ребёнка, а поддерживающая 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Всякий порок есть следствие праздности.</a:t>
            </a:r>
            <a:br>
              <a:rPr sz="7200"/>
            </a:b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                П.Курье.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пасность, которую таят наркотик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мания ведёт к нравственной и интеллектуальной деград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чины начала употребления наркотик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Бесплатное предложение попробовать наркот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 любопыт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 незнани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изкая самооценка подрост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тремление уйти от тоски и одиноч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ая смена друз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ое ухудшение повед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менение пищевых привыче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лучаи забывчивости, бессвязная р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ие перемены настро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олная утрата прежних интере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незапное нарушение координации движ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Частое упоминание о наркотиках в шутках и разговор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4800"/>
            </a:b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Это значит любить и поддерживать его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20:41:30Z</dcterms:created>
  <dc:creator>dom</dc:creator>
  <dc:description/>
  <dc:language>en-US</dc:language>
  <cp:lastModifiedBy>LEGION</cp:lastModifiedBy>
  <dcterms:modified xsi:type="dcterms:W3CDTF">2015-05-12T09:32:12Z</dcterms:modified>
  <cp:revision>5</cp:revision>
  <dc:subject/>
  <dc:title>«Подросток в мире вредных привычек»</dc:title>
</cp:coreProperties>
</file>