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.wmf" ContentType="image/x-wmf"/>
  <Override PartName="/ppt/media/image2.wmf" ContentType="image/x-wmf"/>
  <Override PartName="/ppt/media/image3.gif" ContentType="image/gif"/>
  <Override PartName="/ppt/media/image11.wmf" ContentType="image/x-wmf"/>
  <Override PartName="/ppt/media/image4.gif" ContentType="image/gif"/>
  <Override PartName="/ppt/media/image7.wmf" ContentType="image/x-wmf"/>
  <Override PartName="/ppt/media/image6.gif" ContentType="image/gif"/>
  <Override PartName="/ppt/media/image12.gif" ContentType="image/gif"/>
  <Override PartName="/ppt/media/image15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CE6F-6685-4361-8069-49BE932779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роект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«Информационное общ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EC2A-DF86-42FB-B361-1C74F1B0855B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ополагающий вопрос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эффективно организовать индивидуальное информационное пространство уче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9B78-32B7-4940-985F-B96621601DFA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роблем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закономерности и проблемы становления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азвивается личности в информационном обществ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перспективы развития информационных и коммуникационных технологий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A8CF-9074-42E8-8554-3191FF33397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Учебные вопрос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новные критерии развитост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характеристики информацио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нформационные ресурсы современного обществ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и этика в Интерн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1543-F00F-4062-ADE9-FB10DD8B4066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CD1C-60DC-4328-8625-B8192CD1456D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апы и сроки проведения 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A20A-1AE9-4B92-85E9-E377D9246FB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ные темы для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волю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асности 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 и автор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ый кодекс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"Об электронно-цифровой подпис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645A-26CE-4FEA-8083-88BBEBD952F0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74F1-C85D-4760-9623-DF3D1567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72CB-6F1E-4D2E-83F7-04358E8E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4942-2FC0-485F-ACF8-54DB3117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EFF-35AC-4A42-AAA5-7FD01BB0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B79B-19BC-4BEB-9B54-C38C28C7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3CE8-6530-4DFF-96A9-87B93B5F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ED1A-1AEE-4173-A964-F1E5338A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452C-1D7F-445D-8009-1AB64D27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6330-B597-4B87-B38B-DCA6E0DC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8DFC-BF60-40E7-878A-D1A0ADA8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33AB-DC66-4B56-8D48-2D3521D0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210-09B7-4872-909B-7DDE4C01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CC8A-1856-4C95-A039-85C69CF7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5614-2369-40EB-A436-36C8D3E7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B48D-DBD4-4C5D-AF8E-E71D8685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F09D-3017-4673-902D-715630B0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1805-216B-406A-9A9E-A92E9B0F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88C-325B-4107-8A4B-051415E6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215-ACEE-4F94-91CF-5C728BA6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7C0-EA62-4A7E-B3A5-ECDDBB01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F10-8CD3-430A-B27F-5E176ACD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AE6-2803-4C22-99DB-DD01F101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76B-E58D-4834-8AC7-6AF356EF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8CB-FF5F-43E8-95B1-A7B03B18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C67F-209B-44F7-9F1D-2102B544D9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000"/>
              <a:ext cx="3622680" cy="6129000"/>
              <a:chOff x="5407560" y="63000"/>
              <a:chExt cx="362268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656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5600" y="2592360"/>
                <a:ext cx="43956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28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4280" y="264528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240" y="1243080"/>
                <a:ext cx="19080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297720"/>
              <a:ext cx="891360" cy="829440"/>
              <a:chOff x="5653800" y="29772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64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5720" y="3974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33400"/>
              <a:chOff x="961200" y="5253480"/>
              <a:chExt cx="1062360" cy="8334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8000" y="57308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03B1-4681-47B2-A743-87C085E0A0EC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1844640"/>
            <a:ext cx="889308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236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Проект:</a:t>
            </a:r>
            <a:br>
              <a:rPr sz="4800"/>
            </a:br>
            <a:r>
              <a:rPr b="1" lang="ru-RU" sz="4800" spc="-1" strike="noStrike">
                <a:solidFill>
                  <a:srgbClr val="006699"/>
                </a:solidFill>
                <a:latin typeface="Monotype Corsiva"/>
              </a:rPr>
              <a:t>«Информационное общество»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03280" y="189000"/>
            <a:ext cx="684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Муниципальное общеобразовательное учреждение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гимназия №15 города Костро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908000" y="60930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Кострома, 2010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Picture 6" descr="MC900297565[1]"/>
          <p:cNvPicPr/>
          <p:nvPr/>
        </p:nvPicPr>
        <p:blipFill>
          <a:blip r:embed="rId1"/>
          <a:stretch/>
        </p:blipFill>
        <p:spPr>
          <a:xfrm>
            <a:off x="3132000" y="4005360"/>
            <a:ext cx="2808360" cy="1798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MC900326024[1]"/>
          <p:cNvPicPr/>
          <p:nvPr/>
        </p:nvPicPr>
        <p:blipFill>
          <a:blip r:embed="rId2"/>
          <a:stretch/>
        </p:blipFill>
        <p:spPr>
          <a:xfrm>
            <a:off x="611280" y="4005360"/>
            <a:ext cx="1152360" cy="1141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MM900236374[1]"/>
          <p:cNvPicPr/>
          <p:nvPr/>
        </p:nvPicPr>
        <p:blipFill>
          <a:blip r:embed="rId3"/>
          <a:stretch/>
        </p:blipFill>
        <p:spPr>
          <a:xfrm>
            <a:off x="6877080" y="3860640"/>
            <a:ext cx="1512720" cy="14274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Основополагающий вопрос</a:t>
            </a:r>
            <a:br>
              <a:rPr sz="40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Как эффективно организовать индивидуальное информационное пространство ученика?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Picture 6" descr="MM900254500[1]"/>
          <p:cNvPicPr/>
          <p:nvPr/>
        </p:nvPicPr>
        <p:blipFill>
          <a:blip r:embed="rId1"/>
          <a:stretch/>
        </p:blipFill>
        <p:spPr>
          <a:xfrm>
            <a:off x="3203640" y="378936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Проблем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ие существуют закономерности и проблемы становления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 развивается личности в информационном обществе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перспективы развития информационных и коммуникационных технологий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MC900437631[1]"/>
          <p:cNvPicPr/>
          <p:nvPr/>
        </p:nvPicPr>
        <p:blipFill>
          <a:blip r:embed="rId1"/>
          <a:stretch/>
        </p:blipFill>
        <p:spPr>
          <a:xfrm>
            <a:off x="6386400" y="2060640"/>
            <a:ext cx="2757600" cy="275760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66"/>
                </a:solidFill>
                <a:latin typeface="Verdana"/>
              </a:rPr>
              <a:t>Учебные вопросы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основные критерии развитост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характеристики информацио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вы информационные ресурсы современного общества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акое Законодательство РФ осуществляет правовое регулирование проблем, связанных с информацией и компьютерами?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аво и этика в Интернет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1" name="Picture 4" descr="MM900254490[1]"/>
          <p:cNvPicPr/>
          <p:nvPr/>
        </p:nvPicPr>
        <p:blipFill>
          <a:blip r:embed="rId1"/>
          <a:stretch/>
        </p:blipFill>
        <p:spPr>
          <a:xfrm>
            <a:off x="7380360" y="5445000"/>
            <a:ext cx="838080" cy="119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j0300840"/>
          <p:cNvPicPr/>
          <p:nvPr/>
        </p:nvPicPr>
        <p:blipFill>
          <a:blip r:embed="rId2"/>
          <a:stretch/>
        </p:blipFill>
        <p:spPr>
          <a:xfrm>
            <a:off x="7667640" y="3429000"/>
            <a:ext cx="1152360" cy="97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MC900438634[1]"/>
          <p:cNvPicPr/>
          <p:nvPr/>
        </p:nvPicPr>
        <p:blipFill>
          <a:blip r:embed="rId3"/>
          <a:stretch/>
        </p:blipFill>
        <p:spPr>
          <a:xfrm>
            <a:off x="6664320" y="1700280"/>
            <a:ext cx="2479680" cy="10414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9280" y="1341360"/>
          <a:ext cx="8785440" cy="5146920"/>
        </p:xfrm>
        <a:graphic>
          <a:graphicData uri="http://schemas.openxmlformats.org/drawingml/2006/table">
            <a:tbl>
              <a:tblPr/>
              <a:tblGrid>
                <a:gridCol w="1293840"/>
                <a:gridCol w="5688000"/>
                <a:gridCol w="1803600"/>
              </a:tblGrid>
              <a:tr h="73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этап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мя или с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ирование тем исследований учеников (постановка основного проблемного вопроса и «мозговой штурм» учащихся)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1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ирование групп для проведения исследований, выдвижение гипотез решения проблем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творческого названия проекта (учитель совместно с учащимися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я плана работы учащихся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2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суждение со школьниками возможных источников информации, вопросов защиты авторских пра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Times New Roman"/>
                        </a:rPr>
                        <a:t>2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66"/>
                </a:solidFill>
                <a:latin typeface="Verdana"/>
              </a:rPr>
              <a:t>Этапы и сроки проведения 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1413000"/>
          <a:ext cx="8964720" cy="4557600"/>
        </p:xfrm>
        <a:graphic>
          <a:graphicData uri="http://schemas.openxmlformats.org/drawingml/2006/table">
            <a:tbl>
              <a:tblPr/>
              <a:tblGrid>
                <a:gridCol w="1320840"/>
                <a:gridCol w="5803920"/>
                <a:gridCol w="183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учащихся по обсуждению задания каждого в группе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3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Самостоятельная работа групп по выполнению заданий (работа с Интернет-ресурсами и электронными энциклопедиями)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4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Подготовка школьниками результатов исследований в виде электронных документ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5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ндивидуальные консультации групп с преподавателем (предзащита  проекта-исследования), анализ предварительных результатов исследований, корректирование проектов групп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4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Защита результатов и выводов.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30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60033"/>
                          </a:solidFill>
                          <a:latin typeface="Monotype Corsiva"/>
                        </a:rPr>
                        <a:t>6-й урок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Выполнение контрольного теста по теме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9933"/>
                          </a:solidFill>
                          <a:latin typeface="Monotype Corsiva"/>
                        </a:rPr>
                        <a:t>15 минут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Control 4"/>
          <p:cNvSpPr/>
          <p:nvPr/>
        </p:nvSpPr>
        <p:spPr>
          <a:xfrm>
            <a:off x="2322360" y="-541440"/>
            <a:ext cx="5616720" cy="64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имерные темы для исследовани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волю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Критерии развит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Опасности информацио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формационные ресурсы современного обществ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Развитие личности в информационном общест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Интернет и авторское прав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Доктрина информационной безопасности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 правой охране программ для электронно-вычислительных машин и баз данных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«Об информации, информатизации и защите информаци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Уголовный кодекс Российской Федерац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кон "Об электронно-цифровой подписи"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Times New Roman"/>
              </a:rPr>
              <a:t>Защита информации от несанкционированного доступ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5" name="Picture 5" descr="MC900333398[1]"/>
          <p:cNvPicPr/>
          <p:nvPr/>
        </p:nvPicPr>
        <p:blipFill>
          <a:blip r:embed="rId1"/>
          <a:stretch/>
        </p:blipFill>
        <p:spPr>
          <a:xfrm>
            <a:off x="7596360" y="1844640"/>
            <a:ext cx="1037880" cy="1866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MP900408864[1]"/>
          <p:cNvPicPr/>
          <p:nvPr/>
        </p:nvPicPr>
        <p:blipFill>
          <a:blip r:embed="rId2"/>
          <a:stretch/>
        </p:blipFill>
        <p:spPr>
          <a:xfrm>
            <a:off x="7667640" y="4797360"/>
            <a:ext cx="1312920" cy="1312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MC900071191[1]"/>
          <p:cNvPicPr/>
          <p:nvPr/>
        </p:nvPicPr>
        <p:blipFill>
          <a:blip r:embed="rId3"/>
          <a:stretch/>
        </p:blipFill>
        <p:spPr>
          <a:xfrm>
            <a:off x="7451640" y="189000"/>
            <a:ext cx="1530360" cy="1643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MM900284137[1]"/>
          <p:cNvPicPr/>
          <p:nvPr/>
        </p:nvPicPr>
        <p:blipFill>
          <a:blip r:embed="rId4"/>
          <a:stretch/>
        </p:blipFill>
        <p:spPr>
          <a:xfrm>
            <a:off x="0" y="0"/>
            <a:ext cx="1819440" cy="148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MM900234673[1]"/>
          <p:cNvPicPr/>
          <p:nvPr/>
        </p:nvPicPr>
        <p:blipFill>
          <a:blip r:embed="rId5"/>
          <a:stretch/>
        </p:blipFill>
        <p:spPr>
          <a:xfrm>
            <a:off x="324000" y="59580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68360" y="1268280"/>
            <a:ext cx="82072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"Дорогу осилит идущий"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99"/>
                </a:solidFill>
                <a:latin typeface="Times New Roman"/>
              </a:rPr>
              <a:t>Удачи!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017520" cy="3202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2"/>
          <a:stretch/>
        </p:blipFill>
        <p:spPr>
          <a:xfrm>
            <a:off x="6372360" y="3141720"/>
            <a:ext cx="2116080" cy="324000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8:18:57Z</dcterms:created>
  <dc:creator>Ирина</dc:creator>
  <dc:description/>
  <dc:language>en-US</dc:language>
  <cp:lastModifiedBy>LEGION</cp:lastModifiedBy>
  <dcterms:modified xsi:type="dcterms:W3CDTF">2015-07-01T12:06:47Z</dcterms:modified>
  <cp:revision>6</cp:revision>
  <dc:subject/>
  <dc:title>Информационное общество</dc:title>
</cp:coreProperties>
</file>