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7.wmf" ContentType="image/x-wmf"/>
  <Override PartName="/ppt/media/image6.gif" ContentType="image/gif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880-F090-4741-8DE2-F59EE87615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роек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Информационное общ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618-3259-4EFB-ACD0-B29CADE3C04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ффективно организовать индивидуальное информационное пространство уче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D66C-D07A-4771-A45D-79939C2FC82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закономерности и проблемы становления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вивается личности в информационном обществ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ерспективы развития информационных и коммуникационных технологи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648D-E380-4BA2-BD9C-FA317A45010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критерии развитост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характеристик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нформационные ресурсы совреме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этика в Интерн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6102-41E0-4B27-959D-1A11053E69A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5EC2-3FBE-4346-89D1-68AD1AAB231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569-BFA6-41F3-BCE0-34A454CF046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темы для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асн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 и автор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ый кодекс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б электронно-цифровой подпис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48F-6B3F-422E-81DB-4AD37102CA2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243-FE6C-4AC8-AFD9-D8DAFDF1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C27-DA32-435E-8191-A2D42DA1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FB6-C08D-4713-8B8E-77BDF559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207-3D91-4548-8322-085DA4AE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395A-7920-4DD2-A599-40099BA6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36EC-573B-41E3-A03D-556EE94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1BF3-A0BE-4962-B01B-F7A4B26A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5586-39BB-41C7-8178-D31EB4F0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91D0-09F5-41F0-A73E-D2F46736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4A89-DF2E-4826-94E1-03566BAD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60B5-D129-45A8-B8A1-E25EADE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88F-8788-4DEE-91E8-C16D6A0F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763E-332D-42D1-95C7-96639221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DC8F-37AC-4CCB-AA88-C096725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8808-10E3-44B6-9882-5D2FD4AC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457F-E338-4FB4-85EA-B3521CC7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8F37-ED4B-440B-AB68-1D77107B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322-2FEB-44C0-9B42-6D48DC00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EFB-6A9A-4096-8CB0-EDA2B509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CF1-233C-40E8-AA30-7C37F0F0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13E-1746-47B5-9308-4AA5B55F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143-57EF-4BC1-80F0-5B570B9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F81-0058-4737-ABF0-A6E721D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C4D-A48B-46DF-AFE6-6F1A710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16A-0E82-43C8-863E-26A7FFD87E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37E0-40A5-48EB-9703-6C4EAD8832F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44640"/>
            <a:ext cx="889308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Проект:</a:t>
            </a:r>
            <a:br>
              <a:rPr sz="4800"/>
            </a:b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«Информационное общество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03280" y="189000"/>
            <a:ext cx="68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имназия №15 города Костро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08000" y="6093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строма, 201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MC900297565[1]"/>
          <p:cNvPicPr/>
          <p:nvPr/>
        </p:nvPicPr>
        <p:blipFill>
          <a:blip r:embed="rId1"/>
          <a:stretch/>
        </p:blipFill>
        <p:spPr>
          <a:xfrm>
            <a:off x="3132000" y="4005360"/>
            <a:ext cx="2808360" cy="1798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MC900326024[1]"/>
          <p:cNvPicPr/>
          <p:nvPr/>
        </p:nvPicPr>
        <p:blipFill>
          <a:blip r:embed="rId2"/>
          <a:stretch/>
        </p:blipFill>
        <p:spPr>
          <a:xfrm>
            <a:off x="611280" y="4005360"/>
            <a:ext cx="1152360" cy="114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M900236374[1]"/>
          <p:cNvPicPr/>
          <p:nvPr/>
        </p:nvPicPr>
        <p:blipFill>
          <a:blip r:embed="rId3"/>
          <a:stretch/>
        </p:blipFill>
        <p:spPr>
          <a:xfrm>
            <a:off x="6877080" y="3860640"/>
            <a:ext cx="1512720" cy="14274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ополагающий вопрос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Как эффективно организовать индивидуальное информационное пространство ученика?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MM900254500[1]"/>
          <p:cNvPicPr/>
          <p:nvPr/>
        </p:nvPicPr>
        <p:blipFill>
          <a:blip r:embed="rId1"/>
          <a:stretch/>
        </p:blipFill>
        <p:spPr>
          <a:xfrm>
            <a:off x="3203640" y="3789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существуют закономерности и проблемы становления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развивается личности в информационном обществе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перспективы развития информационных и коммуникационных технологий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437631[1]"/>
          <p:cNvPicPr/>
          <p:nvPr/>
        </p:nvPicPr>
        <p:blipFill>
          <a:blip r:embed="rId1"/>
          <a:stretch/>
        </p:blipFill>
        <p:spPr>
          <a:xfrm>
            <a:off x="6386400" y="206064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Учеб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основные критерии развитост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характеристик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информационные ресурсы совреме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аво и этика в Интернет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MM900254490[1]"/>
          <p:cNvPicPr/>
          <p:nvPr/>
        </p:nvPicPr>
        <p:blipFill>
          <a:blip r:embed="rId1"/>
          <a:stretch/>
        </p:blipFill>
        <p:spPr>
          <a:xfrm>
            <a:off x="7380360" y="5445000"/>
            <a:ext cx="838080" cy="119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00840"/>
          <p:cNvPicPr/>
          <p:nvPr/>
        </p:nvPicPr>
        <p:blipFill>
          <a:blip r:embed="rId2"/>
          <a:stretch/>
        </p:blipFill>
        <p:spPr>
          <a:xfrm>
            <a:off x="7667640" y="3429000"/>
            <a:ext cx="115236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MC900438634[1]"/>
          <p:cNvPicPr/>
          <p:nvPr/>
        </p:nvPicPr>
        <p:blipFill>
          <a:blip r:embed="rId3"/>
          <a:stretch/>
        </p:blipFill>
        <p:spPr>
          <a:xfrm>
            <a:off x="6664320" y="1700280"/>
            <a:ext cx="247968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1341360"/>
          <a:ext cx="8785440" cy="5146920"/>
        </p:xfrm>
        <a:graphic>
          <a:graphicData uri="http://schemas.openxmlformats.org/drawingml/2006/table">
            <a:tbl>
              <a:tblPr/>
              <a:tblGrid>
                <a:gridCol w="1293840"/>
                <a:gridCol w="5688000"/>
                <a:gridCol w="1803600"/>
              </a:tblGrid>
              <a:tr h="73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этап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или с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тем исследований учеников (постановка основного проблемного вопроса и «мозговой штурм» учащихся)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й, выдвижение гипотез решения пробл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творческого названия проекта (учитель совместно с учащимися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я плана работы учащихся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со школьниками возможных источников информации, вопросов защиты авторских пра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413000"/>
          <a:ext cx="8964720" cy="4557600"/>
        </p:xfrm>
        <a:graphic>
          <a:graphicData uri="http://schemas.openxmlformats.org/drawingml/2006/table">
            <a:tbl>
              <a:tblPr/>
              <a:tblGrid>
                <a:gridCol w="1320840"/>
                <a:gridCol w="5803920"/>
                <a:gridCol w="183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учащихся по обсуждению задания каждого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групп по выполнению заданий (работа с Интернет-ресурсами и электронными энциклопедиям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готовка школьниками результатов исследований в виде электронных документ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ндивидуальные консультации групп с преподавателем (предзащита  проекта-исследования), анализ предварительных результатов исследований, корректирование проектов групп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щита результатов и вывод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полнение контрольного теста по тем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ные темы для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волю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пасн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тернет и авторское пра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головный кодекс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б электронно-цифровой подписи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MC900333398[1]"/>
          <p:cNvPicPr/>
          <p:nvPr/>
        </p:nvPicPr>
        <p:blipFill>
          <a:blip r:embed="rId1"/>
          <a:stretch/>
        </p:blipFill>
        <p:spPr>
          <a:xfrm>
            <a:off x="7596360" y="1844640"/>
            <a:ext cx="1037880" cy="18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MP900408864[1]"/>
          <p:cNvPicPr/>
          <p:nvPr/>
        </p:nvPicPr>
        <p:blipFill>
          <a:blip r:embed="rId2"/>
          <a:stretch/>
        </p:blipFill>
        <p:spPr>
          <a:xfrm>
            <a:off x="7667640" y="4797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MC900071191[1]"/>
          <p:cNvPicPr/>
          <p:nvPr/>
        </p:nvPicPr>
        <p:blipFill>
          <a:blip r:embed="rId3"/>
          <a:stretch/>
        </p:blipFill>
        <p:spPr>
          <a:xfrm>
            <a:off x="7451640" y="18900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MM900284137[1]"/>
          <p:cNvPicPr/>
          <p:nvPr/>
        </p:nvPicPr>
        <p:blipFill>
          <a:blip r:embed="rId4"/>
          <a:stretch/>
        </p:blipFill>
        <p:spPr>
          <a:xfrm>
            <a:off x="0" y="0"/>
            <a:ext cx="1819440" cy="14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M900234673[1]"/>
          <p:cNvPicPr/>
          <p:nvPr/>
        </p:nvPicPr>
        <p:blipFill>
          <a:blip r:embed="rId5"/>
          <a:stretch/>
        </p:blipFill>
        <p:spPr>
          <a:xfrm>
            <a:off x="324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1268280"/>
            <a:ext cx="820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"Дорогу осилит идущий"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Удачи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017520" cy="320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116080" cy="3240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18:57Z</dcterms:created>
  <dc:creator>Ирина</dc:creator>
  <dc:description/>
  <dc:language>en-US</dc:language>
  <cp:lastModifiedBy>LEGION</cp:lastModifiedBy>
  <dcterms:modified xsi:type="dcterms:W3CDTF">2015-07-01T12:06:47Z</dcterms:modified>
  <cp:revision>6</cp:revision>
  <dc:subject/>
  <dc:title>Информационное общество</dc:title>
</cp:coreProperties>
</file>