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39FC-CA77-4B6C-8222-89E82B462E10}" type="datetime">
              <a:rPr b="0" lang="en-GB" sz="1200" spc="-1" strike="noStrike">
                <a:solidFill>
                  <a:srgbClr val="000000"/>
                </a:solidFill>
                <a:latin typeface="Arial Narrow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065F-D3AC-4CA2-805E-C180A367457E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4B2F-F5F9-40A8-B2D4-3EF9EA685323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достижение высокого уровня европейских разработок в информационных и коммуникационных технологиях (ИКТ), направленных на удовлетворение общественных и экономических потребностей. Укрепление научно-технической базы Европы в области ИКТ, приведение в движение и стимулирование инноваций через ИКТ. Обеспечение быстрой трансформации прогресса в области ИКТ в преимущества для европейских граждан, бизнеса, промышленности и правительст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0922-78D9-4A77-A78B-967187C6BC45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щие и возникающи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C196-FDA0-45AB-8DB7-93D7DCA71554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ческие основы ИК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электрон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ника и интегрированные микр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етвленные коммуникационные сети неограниченной мо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роенные системы, вычисления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зна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нитивные и обучающи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, визуализ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4BAF-3272-4712-8C95-C6C92AF774A7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грация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ьные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ототехнически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ллектуальные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80A3-611C-4A5A-8280-AE3627957FFB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кладные иссле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здравоохра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людей с ограниченными способност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в интересах охраны окружающей сред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прави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контен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ативности и развития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-поддержка для бизнес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доверия и конфиден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9FDE-D4FA-46B0-A80A-85D773C23BCA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электроник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ника и интегрированные микр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нан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стемы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доление ограничений в миниатюриз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образие и плот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производительности и технологичности производства при низких затрата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ощенная  интеграция ИКТ в различные прилож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терфейс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овые исследования, основанные на новых концепц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етвленные коммуникационные сети неограниченной мощно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семестный доступ к неоднородным сетям – фиксированным, мобильным, беспроводным и широковещательным сетям для персональных, региональных и глобальных целей – обеспечивающий предоставление прямого доступа к все возрастающим объемам данных и услуг повсеместно и в любое врем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4868-0161-4FC1-BAF6-37D9664CEE72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роенные системы, вычисления и управлени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щные, безопасные и распределенные вычислительные и коммуникационные системы, встраиваемые в объекты и физические инфраструктуры и способные взаимодействовать со средой и адаптироваться к не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чное, адаптивное, надежное и безопасное программное обеспечение и услуг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ые вычислительные архитекту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предоставляемые в виде утили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C272-03D8-4E25-BBD9-817A7B71423A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стемы знани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гнитивные и обучающие систем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лечение и использование знаний, контент, встроенный в веб и мультимеди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усственные системы, построенные на принципах биологических систем, способные воспринимать, понимать, обучаться, эволюционировать и действовать автоном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 применением машин и человеческого фактора, основанные на углубленном понимании когнитивных процессов челове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делирование, визуализаци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альные средства инновационного проектирования  и креативность в продуктах, услугах и цифровых  мульти-медиа, а также естественного взаимодействия и контекстуаль-ного взаимодействия с лингвистической поддерж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135B-F54B-4B74-B0BB-E2D623AA7FAF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,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достиже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ки, биотехнологий,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оведения, наук о жизни, с целью миниатюризации ИКТ устройств до размеров, совместимых и взаимодействующих с живыми организмами, для повышения производительности системного инжиниринга и обработки информации, а также для моделирования и имитации живого ми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08AA-1AAB-4A3D-8349-D72750465C69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сональные сред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ля персональных комму-никаций и вычисл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ированные в аксессуа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-меты одежды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лантант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х интерфейсы и взаимосвязь с услугами и ресурсам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ие сред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данных, мониторинг, управле-ние и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имость и интегрированное использо-вание всех устройст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ый цифровой контен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бототехнические систем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ные автономные сист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управление, операционные способ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взаимодейств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атюриз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ектуальные инфраструктур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альные средства для создания инфраструктур, которые позволят сделать повседневную жизнь более эффективной, легко адаптируемой и устойчив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530D-EEA3-4C9B-8B4D-BA0D5DE8691B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ussels, 6 April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al fo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 OF THE EUROPEAN PARLIAMENT AND OF THE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cerning the seventh framework programme of the European Community for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earch, technological development and demonstration activities (2007 to 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THE EUROPE OF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resented by the Commi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6A1F-AE03-4FA9-AAA8-39AAC432F8DA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решения социальных пробле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системы и службы в областях, представляющих интерес для широкой общественности, в интересах повышения качества, эффективности, улучшения доступа и охва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добные для пользователя приложения, интеграция новых технологий и инициатив, таких как интеллектуальный образ жизн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здравоохранени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я профилактики заболеваний и ранней диагности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сть, безопасность и мобильность пациен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странство знаний по здравоохранен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обеспечения цифрового равенств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дей с ограниченными способностя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еодоления цифровой дискримин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спомогатель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зайн для все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ABA6-37A5-4CA0-8943-6CD0A3C4B7AD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бильности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ллектуальные транспортные системы на основе ИКТ, обеспечивающие безопасную, комфортную и эффективную транспортировку людей и товар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в интересах охраны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развит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овышения степени защищенности и преодоления последствий природных и промышленных катастро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правительст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, открытость и отчетность для органов общественного и государственного управления и связей с гражданами и бизнесом на принципах демократ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49CF-8766-4B76-ABB2-17A8D60B3D90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 для контент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реативности и развития лич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ые парадигм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ультимеди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овые формы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ние интерактивного цифрового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гащение опыта пользовател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нтабельная доставка 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овершенствованные технолог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станционного обучени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аптивные и контекстно-ориентированные реш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ктивное обуч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КТ-системы для поддержк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оступности и долговременного использования цифровых культурных ресурс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многоязычной сре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DDA4-DA4B-491B-BE56-C67B0B9572B7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-поддержка для бизнеса и промышлен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ые формы динамических сетевых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изне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процес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ые экосистем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тимизированная организация работ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поративные рабочие пространст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строе и адаптивное проектирование, производство и доставка заказных товар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ое и виртуальное производств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струментальные средства моделирования, имитации и презента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ниатюрные и интегрированные ИКТ-продукт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 для доверия и конфиденциаль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идентификаци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тверждение подлинности и авторизац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ехнологии, обеспечивающие секретность  информа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правами и ресурса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щита от киберугро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AA23-0AB8-4814-9B1D-2E2B4B345CA0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Будущие и возникающи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ущие и возникающие технологи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исследований на передовых рубежах знаний на основе ИКТ и их комбинация с другими релевантными областями и дисциплинами с целью стимулирования новых идей и радикально новых применений и использования новых опций в глобальных направлениях исследований в области ИК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0F68-227A-4D3F-8933-C6FF0C5FA8E5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рок действия: 2007 – 2013 г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юджет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72 726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иллионов евро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руктур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трудничеств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44432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лн евро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деи (11862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юди (7129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тенциал (7486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6002-D723-49E8-A0AA-AB71805E44F3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Сотрудничество» (4443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держка всего спектра научной деятельности, осущес-твляемой в рамках транснационального сотрудничества, от совместных проектов и сетей до координации национальных научных 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ущей силой в этой программе станет промышл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Сотрудничество» состоит из трех под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вместные исследования будут затрачены основные средства, выделяемые ЕС на финансирование нау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ые технологические инициативы, созданные, как правило, на основе Европейских Технологических Платфор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ция национальных научных 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странами ЕС и третьими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351A-7715-4171-A201-98DD4B68D47F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Идеи» (1186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содействие динамизму, креативности и обеспечение научного превосходства европейских исследований  на передовых рубежах знаний во всех научных и технологических областях, включая инженерные науки, социо-экономические и гуманитарные исслед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у программу будет координировать Европейский Научный Сове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Люди» (7129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количественное и качественное укрепление кадрового потенциала европейской науки и технологий через серию акций Мари Кюр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A3BA-0F55-45B1-956D-0EC37C8E5FB0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Потенциал»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ies) – 7486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лн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держка научной инфраструкту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я, проводимые в интересах средних и малых предприятий и научного потенциала европейских регион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Regions of Knowledge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же стимулирование реализации полного научного потенциал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Convergence Regions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яющегося ЕС  и построение эффективного и демократического европейского общества, основанного на знан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C540-6BDA-41F2-8257-EC4BD3B47DDA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равоохране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8317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ы питания, сельское хозяйство и био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455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267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науки, нанотехнологии, материалы и новые производствен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83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931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среда и изменения клима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535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 и аэронавт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594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-экономические и гуманитарные исслед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79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ические исследования и исследования в области безопасности (396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86CF-3ED6-4B61-B13E-90A31DD3D4AB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чество с третьими странами будет направлено в особенности на следующие группы стра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-кандидаты на вступление в Е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, граничащие с ЕС, страны Средиземноморья, Западных Балкан и новые независимые государств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wly Independent Stat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иеся страны с учетом их конкретных нуж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переходной экономи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рамках тематических приоритетов будет поддержано по конкурсам программы «Сотрудничество». Международные акции в сфере кадрового научного потенциала будут поддержаны в рамках программы «Люди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958E-ECC1-4749-83D3-4B40418C4BCF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D673-8DF4-4C70-B63D-DB641EAA9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9EF9-8BB6-4F66-87DB-3F652841F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9465-48AC-44B2-B0F1-D8C79C286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F4AD-23DC-4D02-A683-02B849343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2653C-4284-45D0-8995-9FDEB293C4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939DD-65D6-4E15-91D8-45086CA7B5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4AD2-438A-4205-839E-86808D868A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17C6-FEFE-482C-8B30-B832A72508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7FA4-9067-430F-AEA0-CD628AF100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895120" y="533520"/>
            <a:ext cx="6838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5CBB-11D9-44F2-BFE0-020F397A77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2A2EC-CDEC-4DF8-AD33-00F2E97A1F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F1EC3-0D55-4656-87C8-D05558C49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4E71E-D013-4DDE-ABD0-6E361407CA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CA8E-44FF-4AC9-A7F7-93A7452C29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B0AE-C424-4C71-8FD5-298FAFE87B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417C4-AF92-46E4-9031-B18DCB07B3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E60B7-3240-4CBF-8D03-B620C1A0D9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2012-DA13-46E9-8929-C732ECC90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EEFE-3C67-4DD8-85A5-9BB8F331E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5B31-C1A3-4995-A542-7C017BF42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895120" y="533520"/>
            <a:ext cx="6838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EE3B-9815-4E7F-9263-0FC534204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51CE-8B7B-4A5D-8D0D-0BD4673E2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86E8-E03D-47D8-8E3F-A425BA181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A71B-BA72-4E2B-B37D-30AED25DC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55306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1219320"/>
            <a:ext cx="9909000" cy="0"/>
          </a:xfrm>
          <a:prstGeom prst="line">
            <a:avLst/>
          </a:prstGeom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AutoShape 25"/>
          <p:cNvSpPr/>
          <p:nvPr/>
        </p:nvSpPr>
        <p:spPr>
          <a:xfrm>
            <a:off x="1905120" y="171360"/>
            <a:ext cx="419040" cy="419040"/>
          </a:xfrm>
          <a:custGeom>
            <a:avLst/>
            <a:gdLst/>
            <a:ahLst/>
            <a:rect l="l" t="t" r="r" b="b"/>
            <a:pathLst>
              <a:path w="419100" h="419100">
                <a:moveTo>
                  <a:pt x="0" y="160082"/>
                </a:moveTo>
                <a:lnTo>
                  <a:pt x="160083" y="160083"/>
                </a:lnTo>
                <a:lnTo>
                  <a:pt x="209550" y="0"/>
                </a:lnTo>
                <a:lnTo>
                  <a:pt x="259017" y="160083"/>
                </a:lnTo>
                <a:lnTo>
                  <a:pt x="419100" y="160082"/>
                </a:lnTo>
                <a:lnTo>
                  <a:pt x="289590" y="259017"/>
                </a:lnTo>
                <a:lnTo>
                  <a:pt x="339059" y="419099"/>
                </a:lnTo>
                <a:lnTo>
                  <a:pt x="209550" y="320162"/>
                </a:lnTo>
                <a:lnTo>
                  <a:pt x="80041" y="419099"/>
                </a:lnTo>
                <a:lnTo>
                  <a:pt x="129510" y="259017"/>
                </a:lnTo>
                <a:lnTo>
                  <a:pt x="0" y="160082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AutoShape 26"/>
          <p:cNvSpPr/>
          <p:nvPr/>
        </p:nvSpPr>
        <p:spPr>
          <a:xfrm rot="20940000">
            <a:off x="1219320" y="228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AutoShape 27"/>
          <p:cNvSpPr/>
          <p:nvPr/>
        </p:nvSpPr>
        <p:spPr>
          <a:xfrm rot="1320000">
            <a:off x="168120" y="244080"/>
            <a:ext cx="882720" cy="882720"/>
          </a:xfrm>
          <a:custGeom>
            <a:avLst/>
            <a:gdLst/>
            <a:ahLst/>
            <a:rect l="l" t="t" r="r" b="b"/>
            <a:pathLst>
              <a:path w="882650" h="882650">
                <a:moveTo>
                  <a:pt x="1" y="337141"/>
                </a:moveTo>
                <a:lnTo>
                  <a:pt x="337144" y="337144"/>
                </a:lnTo>
                <a:lnTo>
                  <a:pt x="441325" y="0"/>
                </a:lnTo>
                <a:lnTo>
                  <a:pt x="545506" y="337144"/>
                </a:lnTo>
                <a:lnTo>
                  <a:pt x="882649" y="337141"/>
                </a:lnTo>
                <a:lnTo>
                  <a:pt x="609893" y="545505"/>
                </a:lnTo>
                <a:lnTo>
                  <a:pt x="714078" y="882648"/>
                </a:lnTo>
                <a:lnTo>
                  <a:pt x="441325" y="674280"/>
                </a:lnTo>
                <a:lnTo>
                  <a:pt x="168572" y="882648"/>
                </a:lnTo>
                <a:lnTo>
                  <a:pt x="272757" y="545505"/>
                </a:lnTo>
                <a:lnTo>
                  <a:pt x="1" y="33714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AutoShape 28"/>
          <p:cNvSpPr/>
          <p:nvPr/>
        </p:nvSpPr>
        <p:spPr>
          <a:xfrm rot="1086000">
            <a:off x="2590920" y="304920"/>
            <a:ext cx="380880" cy="30456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5" y="304799"/>
                </a:lnTo>
                <a:lnTo>
                  <a:pt x="190500" y="232845"/>
                </a:lnTo>
                <a:lnTo>
                  <a:pt x="72765" y="304799"/>
                </a:lnTo>
                <a:lnTo>
                  <a:pt x="117737" y="188376"/>
                </a:lnTo>
                <a:lnTo>
                  <a:pt x="0" y="116423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AutoShape 29"/>
          <p:cNvSpPr/>
          <p:nvPr/>
        </p:nvSpPr>
        <p:spPr>
          <a:xfrm rot="2313600">
            <a:off x="3231720" y="533160"/>
            <a:ext cx="304920" cy="228600"/>
          </a:xfrm>
          <a:custGeom>
            <a:avLst/>
            <a:gdLst/>
            <a:ahLst/>
            <a:rect l="l" t="t" r="r" b="b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lnTo>
                  <a:pt x="0" y="87317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Text Box 32"/>
          <p:cNvSpPr/>
          <p:nvPr/>
        </p:nvSpPr>
        <p:spPr>
          <a:xfrm>
            <a:off x="234360" y="1324080"/>
            <a:ext cx="465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Ф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" name="Picture 34" descr="C:\LENA\Enrin\Flyer\iosLogoEng.gif"/>
          <p:cNvPicPr/>
          <p:nvPr/>
        </p:nvPicPr>
        <p:blipFill>
          <a:blip r:embed="rId2"/>
          <a:stretch/>
        </p:blipFill>
        <p:spPr>
          <a:xfrm>
            <a:off x="9112320" y="6350040"/>
            <a:ext cx="403200" cy="42372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sldNum" idx="1"/>
          </p:nvPr>
        </p:nvSpPr>
        <p:spPr>
          <a:xfrm>
            <a:off x="80010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999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B2D4-ED01-4AC6-A9FD-FFFA4647B519}" type="slidenum">
              <a:rPr b="0" lang="ru-RU" sz="2000" spc="-1" strike="noStrike">
                <a:solidFill>
                  <a:srgbClr val="009999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rc 48"/>
          <p:cNvSpPr/>
          <p:nvPr/>
        </p:nvSpPr>
        <p:spPr>
          <a:xfrm>
            <a:off x="0" y="839880"/>
            <a:ext cx="55306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Line 2"/>
          <p:cNvSpPr/>
          <p:nvPr/>
        </p:nvSpPr>
        <p:spPr>
          <a:xfrm>
            <a:off x="1523880" y="1219320"/>
            <a:ext cx="8385120" cy="0"/>
          </a:xfrm>
          <a:prstGeom prst="line">
            <a:avLst/>
          </a:prstGeom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AutoShape 37"/>
          <p:cNvSpPr/>
          <p:nvPr/>
        </p:nvSpPr>
        <p:spPr>
          <a:xfrm>
            <a:off x="1905120" y="171360"/>
            <a:ext cx="419040" cy="419040"/>
          </a:xfrm>
          <a:custGeom>
            <a:avLst/>
            <a:gdLst/>
            <a:ahLst/>
            <a:rect l="l" t="t" r="r" b="b"/>
            <a:pathLst>
              <a:path w="419100" h="419100">
                <a:moveTo>
                  <a:pt x="0" y="160082"/>
                </a:moveTo>
                <a:lnTo>
                  <a:pt x="160083" y="160083"/>
                </a:lnTo>
                <a:lnTo>
                  <a:pt x="209550" y="0"/>
                </a:lnTo>
                <a:lnTo>
                  <a:pt x="259017" y="160083"/>
                </a:lnTo>
                <a:lnTo>
                  <a:pt x="419100" y="160082"/>
                </a:lnTo>
                <a:lnTo>
                  <a:pt x="289590" y="259017"/>
                </a:lnTo>
                <a:lnTo>
                  <a:pt x="339059" y="419099"/>
                </a:lnTo>
                <a:lnTo>
                  <a:pt x="209550" y="320162"/>
                </a:lnTo>
                <a:lnTo>
                  <a:pt x="80041" y="419099"/>
                </a:lnTo>
                <a:lnTo>
                  <a:pt x="129510" y="259017"/>
                </a:lnTo>
                <a:lnTo>
                  <a:pt x="0" y="160082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AutoShape 38"/>
          <p:cNvSpPr/>
          <p:nvPr/>
        </p:nvSpPr>
        <p:spPr>
          <a:xfrm rot="20940000">
            <a:off x="1219320" y="228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AutoShape 39"/>
          <p:cNvSpPr/>
          <p:nvPr/>
        </p:nvSpPr>
        <p:spPr>
          <a:xfrm rot="1320000">
            <a:off x="168120" y="244080"/>
            <a:ext cx="882720" cy="882720"/>
          </a:xfrm>
          <a:custGeom>
            <a:avLst/>
            <a:gdLst/>
            <a:ahLst/>
            <a:rect l="l" t="t" r="r" b="b"/>
            <a:pathLst>
              <a:path w="882650" h="882650">
                <a:moveTo>
                  <a:pt x="1" y="337141"/>
                </a:moveTo>
                <a:lnTo>
                  <a:pt x="337144" y="337144"/>
                </a:lnTo>
                <a:lnTo>
                  <a:pt x="441325" y="0"/>
                </a:lnTo>
                <a:lnTo>
                  <a:pt x="545506" y="337144"/>
                </a:lnTo>
                <a:lnTo>
                  <a:pt x="882649" y="337141"/>
                </a:lnTo>
                <a:lnTo>
                  <a:pt x="609893" y="545505"/>
                </a:lnTo>
                <a:lnTo>
                  <a:pt x="714078" y="882648"/>
                </a:lnTo>
                <a:lnTo>
                  <a:pt x="441325" y="674280"/>
                </a:lnTo>
                <a:lnTo>
                  <a:pt x="168572" y="882648"/>
                </a:lnTo>
                <a:lnTo>
                  <a:pt x="272757" y="545505"/>
                </a:lnTo>
                <a:lnTo>
                  <a:pt x="1" y="33714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AutoShape 40"/>
          <p:cNvSpPr/>
          <p:nvPr/>
        </p:nvSpPr>
        <p:spPr>
          <a:xfrm rot="1086000">
            <a:off x="2590920" y="304920"/>
            <a:ext cx="380880" cy="30456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5" y="304799"/>
                </a:lnTo>
                <a:lnTo>
                  <a:pt x="190500" y="232845"/>
                </a:lnTo>
                <a:lnTo>
                  <a:pt x="72765" y="304799"/>
                </a:lnTo>
                <a:lnTo>
                  <a:pt x="117737" y="188376"/>
                </a:lnTo>
                <a:lnTo>
                  <a:pt x="0" y="116423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AutoShape 41"/>
          <p:cNvSpPr/>
          <p:nvPr/>
        </p:nvSpPr>
        <p:spPr>
          <a:xfrm rot="2313600">
            <a:off x="3231720" y="533160"/>
            <a:ext cx="304920" cy="228600"/>
          </a:xfrm>
          <a:custGeom>
            <a:avLst/>
            <a:gdLst/>
            <a:ahLst/>
            <a:rect l="l" t="t" r="r" b="b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lnTo>
                  <a:pt x="0" y="87317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Text Box 43"/>
          <p:cNvSpPr/>
          <p:nvPr/>
        </p:nvSpPr>
        <p:spPr>
          <a:xfrm>
            <a:off x="4114800" y="6307200"/>
            <a:ext cx="5029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242280" y="1324080"/>
            <a:ext cx="465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Ф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6" name="Picture 46" descr="C:\LENA\Enrin\Flyer\iosLogoEng.gif"/>
          <p:cNvPicPr/>
          <p:nvPr/>
        </p:nvPicPr>
        <p:blipFill>
          <a:blip r:embed="rId2"/>
          <a:stretch/>
        </p:blipFill>
        <p:spPr>
          <a:xfrm>
            <a:off x="9112320" y="6350040"/>
            <a:ext cx="403200" cy="423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467480" y="-360"/>
            <a:ext cx="2438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8901-1D55-42F5-9A13-9F6155FE7F63}" type="slidenum">
              <a:rPr b="0" lang="ru-RU" sz="1400" spc="-1" strike="noStrike">
                <a:solidFill>
                  <a:srgbClr val="00999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99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3520" y="449532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.М.Михов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Директор ГосНИИ ОС, Руководитель НКТ «ИНФОТЕХ»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143000" y="1752480"/>
            <a:ext cx="8153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066680" y="1219320"/>
            <a:ext cx="83822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аучно-техническая программа «Информационные и коммуникационные технологии» Седьмой рамочной программы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аучно-технического развития ЕС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достижение высокого уровня европейских разработок в информационных и коммуникационных технологиях (ИКТ), направленных на удовлетворение общественных и экономических потребностей. Укрепление научно-технической базы Европы в области ИКТ, приведение в движение и стимулирование инноваций через ИКТ. Обеспечение быстрой трансформации прогресса в области ИКТ в преимущества для европейских граждан, бизнеса, промышленности и правительств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Rectangle 1029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труктура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Технологические основы ИКТ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Интеграция технологий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Прикладные исследования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Будущие и возникающие технологии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Технологические основы ИКТ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ноэлектроник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отоника и интегрированные микро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но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азветвленные коммуникационные сети неограниченной мощ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троенные системы, вычисления и управление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истемы знаний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огнитивные и обучающие 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оделирование, визуализаци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теграция технологий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ерсональные сред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омашние сред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бототехнические 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нтеллектуальные инфраструктур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икладные исследования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решения социальных проблем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здравоохранения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людей с ограниченными способностям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оби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в интересах охраны окружающей среды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правительств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контент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реативности и развития лич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-поддержка для бизнеса и промышлен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доверия и конфиденциа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Наноэлектроник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фотоника и интегрированные микр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/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нан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системы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еодоление ограничений в миниатюриз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гр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ногообразие и плотность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вышение производительности и технологичности производства при низких затрата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ощенная  интеграция ИКТ в различные приложе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интерфейс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исковые исследования, основанные на новых концепция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Разветвленные коммуникационные сети неограниченной мощ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всеместный доступ к неоднородным сетям – фиксированным, мобильным, беспроводным и широковещательным сетям для персональных, региональных и глобальных целей – обеспечивающий предоставление прямого доступа к все возрастающим объемам данных и услуг повсеместно и в любое врем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Встроенные системы, вычисления и управление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ощные, безопасные и распределенные вычислительные и коммуникационные системы, встраиваемые в объекты и физические инфраструктуры и способные взаимодействовать со средой и адаптироваться к н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инамичное, адаптивное, надежное и безопасное программное обеспечение и услуг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новые вычислительные архитектур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в т.ч. предоставляемые в виде утили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Системы знаний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когнитивные и обучающие систем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звлечение и использование знаний, контент, встроенный в веб и мультимеди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скусственные системы, построенные на принципах биологических систем, способные воспринимать, понимать, обучаться, эволюционировать и действовать автономн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учение с применением машин и человеческого фактора, основанные на углубленном понимании когнитивных процессов челове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оделирование, визуализац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инновационного проектирования  и креативность в продуктах, услугах и цифровых  мульти-медиа, а также естественного взаимодействия и контекстуаль-ного взаимодействия с лингвистической поддержк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,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т.ч. достижения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области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изики, биотехнологий,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атериаловедения, наук о жизни, с целью миниатюризации ИКТ устройств до размеров, совместимых и взаимодействующих с живыми организмами, для повышения производительности системного инжиниринга и обработки информации, а также для моделирования и имитации живого мир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ерсональные сред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стройства для персональных комму-никаций и вычислени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грированные в аксессуар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пред-меты одежды 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мплантан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их интерфейсы и взаимосвязь с услугами и ресурсам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омашние сред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ередача данных, мониторинг, управле-ние и поддерж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вместимость и интегрированное использо-вание всех устройст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рактивный цифровой контен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Робототехнические систем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ерспективные автономные систе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учение, управление, операционные способност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естественное взаимодейств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иниатюриз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нтеллектуальные инфраструктур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для создания инфраструктур, которые позволят сделать повседневную жизнь более эффективной, легко адаптируемой и устойчив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Интеграция технологий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Brussels, 6 April 2005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Proposal for 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DECISION OF THE EUROPEAN PARLIAMENT AND OF THE COUNCI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concerning the seventh framework programme of the European Community for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research, technological development and demonstration activities (2007 to 2013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BUILDING THE EUROPE OF KNOWLED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(presented by the Commission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решения социальных проблем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системы и службы в областях, представляющих интерес для широкой общественности, в интересах повышения качества, эффективности, улучшения доступа и охва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удобные для пользователя приложения, интеграция новых технологий и инициатив, таких как интеллектуальный образ жизн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здравоохранен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лучшения профилактики заболеваний и ранней диагностик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втономность, безопасность и мобильность пациент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формационное пространство знаний по здравоохранению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обеспечения цифрового равенств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людей с ограниченными способностями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преодоления цифровой дискримин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вспомогатель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изайн для все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142640" y="15238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обильности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ллектуальные транспортные системы на основе ИКТ, обеспечивающие безопасную, комфортную и эффективную транспортировку людей и товар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в интересах охраны окружающей среды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устойчивого развит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ля повышения степени защищенности и преодоления последствий природных и промышленных катастроф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правительств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ффективность, открытость и отчетность для органов общественного и государственного управления и связей с гражданами и бизнесом на принципах демократ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контент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креативности и развития лич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парадиг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ультимеди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новые формы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здание интерактивного цифрового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огащение опыта пользовател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рентабельная доставка 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совершенствованные технологии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истанционного обучен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даптивные и контекстно-ориентированные реше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ктивное обучен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КТ-системы для поддержки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оступности и долговременного использования цифровых культурных ресурсов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в многоязычной среде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-поддержка для бизнеса и промышлен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формы динамических сетевых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бизнес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-процесс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ифровые экосисте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птимизированная организация рабо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рпоративные рабочие пространств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роизводств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быстрое и адаптивное проектирование, производство и доставка заказных товар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ифровое и виртуальное производств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моделирования, имитации и презент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иниатюрные и интегрированные ИКТ-продук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доверия и конфиденциаль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авление идентификаци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дтверждение подлинности и авториз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технологии, обеспечивающие секретность  информ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авление правами и ресурсам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защита от киберугроз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Будущие и возникающие технологи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ддержка исследований на передовых рубежах знаний на основе ИКТ и их комбинация с другими релевантными областями и дисциплинами с целью стимулирования новых идей и радикально новых применений и использования новых опций в глобальных направлениях исследований в области ИК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Будущие и возникающие технологии</a:t>
            </a:r>
            <a:endParaRPr b="1" lang="en-US" sz="22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3520" y="15998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рок действия: 2007 – 2013 гг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Бюджет: 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  <a:ea typeface="Times New Roman"/>
              </a:rPr>
              <a:t>72 726 </a:t>
            </a: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миллионов евро</a:t>
            </a:r>
            <a:r>
              <a:rPr b="1" lang="ru-RU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труктура: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отрудничество 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(44432 </a:t>
            </a: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млн евро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деи (11862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Люди (7129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Потенциал (7486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1" name="Object 7"/>
          <p:cNvGraphicFramePr/>
          <p:nvPr/>
        </p:nvGraphicFramePr>
        <p:xfrm>
          <a:off x="838080" y="1295280"/>
          <a:ext cx="4419720" cy="34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441972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0"/>
          <p:cNvGraphicFramePr/>
          <p:nvPr/>
        </p:nvGraphicFramePr>
        <p:xfrm>
          <a:off x="5105520" y="3435480"/>
          <a:ext cx="4647960" cy="278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4" name="Object 18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435480"/>
                    <a:ext cx="464796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90720" y="13712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грамма «Сотрудничество» (4443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ель: поддержка всего спектра научной деятельности, осущес-твляемой в рамках транснационального сотрудничества, от совместных проектов и сетей до координации национальных научных 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вижущей силой в этой программе станет промышленность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грамма «Сотрудничество» состоит из трех под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а совместные исследования будут затрачены основные средства, выделяемые ЕС на финансирование наук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вместные технологические инициативы, созданные, как правило, на основе Европейских Технологических Платфор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ординация национальных научных 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народное сотрудничеств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 странами ЕС и третьими странами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Идеи» (11862 млн евро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содействие динамизму, креативности и обеспечение научного превосходства европейских исследований  на передовых рубежах знаний во всех научных и технологических областях, включая инженерные науки, социо-экономические и гуманитарные исследовани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ту программу будет координировать Европейский Научный Совет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Люди» (7129 млн евро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количественное и качественное укрепление кадрового потенциала европейской науки и технологий через серию акций Мари Кюри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Потенциал» (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pacities) – 7486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лн евро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поддержка научной инфраструктуры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сследования, проводимые в интересах средних и малых предприятий и научного потенциала европейских регионов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(Regions of Knowledge)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, а также стимулирование реализации полного научного потенциала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(Convergence Regions)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асширяющегося ЕС  и построение эффективного и демократического европейского общества, основанного на знаниях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90360" y="14475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Здравоохранен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8317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дукты питания, сельское хозяйство и био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455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1267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анонауки, нанотехнологии, материалы и новые производствен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483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нергети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931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кружающая среда и изменения клима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535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Транспорт и аэронавти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594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цио-экономические и гуманитарные исследова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79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смические исследования и исследования в области безопасности (396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сновные тематические направления 7РП в рамках программы «Сотрудничество»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еждународное сотрудничество в 7РП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трудничество с третьими странами будет направлено в особенности на следующие группы стран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-кандидаты на вступление в ЕС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, граничащие с ЕС, страны Средиземноморья, Западных Балкан и новые независимые государства (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the Newly Independent States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Развивающиеся страны с учетом их конкретных нуж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 с переходной экономик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народное сотрудничество в рамках тематических приоритетов будет поддержано по конкурсам программы «Сотрудничество». Международные акции в сфере кадрового научного потенциала будут поддержаны в рамках программы «Люди»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7:53:13Z</dcterms:created>
  <dc:creator>mvm</dc:creator>
  <dc:description/>
  <dc:language>en-US</dc:language>
  <cp:lastModifiedBy>LEGION</cp:lastModifiedBy>
  <cp:lastPrinted>1999-02-08T15:51:10Z</cp:lastPrinted>
  <dcterms:modified xsi:type="dcterms:W3CDTF">2015-07-01T12:07:50Z</dcterms:modified>
  <cp:revision>157</cp:revision>
  <dc:subject/>
  <dc:title>Презентация PowerPoint</dc:title>
</cp:coreProperties>
</file>