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122E-5704-45D4-AA15-9B37F5127672}" type="datetime">
              <a:rPr b="0" lang="en-GB" sz="1200" spc="-1" strike="noStrike">
                <a:solidFill>
                  <a:srgbClr val="000000"/>
                </a:solidFill>
                <a:latin typeface="Arial Narrow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90EB-D9E2-40A4-9D89-01040502250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2B71-AD37-4C9D-9FB8-9818B775920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E247-64B5-4268-8943-531CCAD0F1A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707F-4250-4FCA-B6C1-AD572B8165C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4B8E-8A6C-4DF6-AD28-2CE22B38DBA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68AA-A9E4-4007-A8AC-859D9132861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людей с ограниченными способ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E579-152A-40DB-8D9B-1F9BFE7776F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образие и плот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терфейс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5872-0AE5-42B3-B638-1D42DD4C533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ычислительные архите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предоставляемые в виде утил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342C-4C28-4350-9B5A-490400EB171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8A69-C32D-4C71-A8E6-08915CDBFFD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достиж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и, биотехнологий,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AF1-F780-4313-89EF-CF4DD3FD4DA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в аксессуа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-меты одежды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лантан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й цифровой контен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ные автономные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взаимодейств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атюр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7CE3-C394-4514-8A32-AAD75CC7DBE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ussels, 6 Apri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al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THE EUROPE OF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resented by the Com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087-D580-4B4F-8089-4898178F2A4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дей с ограниченными способност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одоления цифровой дискримин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помогатель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для все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C54-7997-4F2A-B89A-74D2F9BCA0B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бильност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развит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9176-5C4D-4226-A499-296694192115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1E1C-CFC2-4062-8793-897DF017F6B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93F3-2C43-4016-A13B-1F3114E4E068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BE88-1225-467C-86AB-5FB20E4077D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DC54-BC13-43D7-B28E-ECBF02DBFC6C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(444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транами ЕС и третьи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D6DE-98AF-4B57-8E45-D68F9ADF6971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Идеи» (1186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Люди» (7129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01BC-D47B-486A-B3CE-7CD7D193C95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Потенциал»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ies) – 748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н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7F17-B470-4AC8-B3E2-B524E8C900E1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317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45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267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8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931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и изменения клим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3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 и аэронав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594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79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575-7573-49AC-AE3F-54AFCECA030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-кандидаты на вступление в Е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переходной экономи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93A6-9A20-4347-978C-1AAA1C7CBF5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0C5F-5685-4F30-B1C1-2CE81A18A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99F3-3431-42BE-8324-F31B091B2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A904-2245-4445-9787-3D093534A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0404-538D-4065-985B-956368DAF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F368-2086-44BA-AA66-1FDCA2247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C3F1-9A10-4B3A-9CBD-78191C271B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AE0F-D81E-436C-874B-83C77EFD24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6FDA-8B56-445C-A609-492B6A6FB0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4A53-1BA2-46DD-924C-A1E5FF1EAE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8EC1-9C18-4233-BF17-7ABD836FA7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1254-5B2E-47AD-9385-C2E0D17F5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2CA2-259F-401C-B5E6-3993433BB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A33F-8DC5-4289-8208-472F85636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556F-F574-4408-9999-A91A9CB3C7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03BB-BC8F-40CF-9915-F4A63ECB86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0ABF-87B8-4293-A209-0FEAB3E0CB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47BD-6D75-4127-9AC5-954ADDF56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D83F-87F7-4D8B-AD94-F4CAAC36B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ED90-F863-472B-AA58-348BB3BFF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A80D-A705-4235-9870-4D1687054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D484-3A65-4CF1-8727-B7FBA5E2F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BA64-9199-4833-AB9E-392DE3D06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8020-6F6B-4548-8F0F-D166886C8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317C-F3F0-4D0E-A3E9-F32EBD8AB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1219320"/>
            <a:ext cx="990900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AutoShape 25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AutoShape 26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AutoShape 27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AutoShape 28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AutoShape 29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Text Box 32"/>
          <p:cNvSpPr/>
          <p:nvPr/>
        </p:nvSpPr>
        <p:spPr>
          <a:xfrm>
            <a:off x="23436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" name="Picture 34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0010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7F88-B832-4A45-B991-807C8AA1912F}" type="slidenum">
              <a:rPr b="0" lang="ru-RU" sz="20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rc 48"/>
          <p:cNvSpPr/>
          <p:nvPr/>
        </p:nvSpPr>
        <p:spPr>
          <a:xfrm>
            <a:off x="0" y="83988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Line 2"/>
          <p:cNvSpPr/>
          <p:nvPr/>
        </p:nvSpPr>
        <p:spPr>
          <a:xfrm>
            <a:off x="1523880" y="1219320"/>
            <a:ext cx="838512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AutoShape 37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AutoShape 38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AutoShape 39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AutoShape 40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AutoShape 41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114800" y="6307200"/>
            <a:ext cx="5029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24228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" name="Picture 46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467480" y="-36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D6FB-2B72-47BB-8E8C-68E2EED55067}" type="slidenum">
              <a:rPr b="0" lang="ru-RU" sz="14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99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520" y="449532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.М.Михов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Директор ГосНИИ ОС, Руководитель НКТ «ИНФОТЕХ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143000" y="1752480"/>
            <a:ext cx="8153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66680" y="12193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ая программа «Информационные и коммуникационные технологии» Седьмой рамочной программы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ого развития ЕС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029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Технологические основы ИКТ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Интеграция технологий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Прикладные исследования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ехнологические основы ИКТ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теграция технологий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икладные исследования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людей с ограниченными способностям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би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нан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ногообразие и плотность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нтерфейс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новые вычислительные архитекту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в т.ч. предоставляемые в виде утили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т.ч. достижения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области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изики, биотехнологий,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ированные в аксессуа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пред-меты одежды 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мплантан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рактивный цифровой контен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спективные автономные 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естественное взаимодейств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Интеграция технологий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russels, 6 April 2005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oposal for 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UILDING THE EUROPE OF KNOWLED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presented by the Commission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людей с ограниченными способностями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преодоления цифровой дискримин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спомогатель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зайн для все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142640" y="1523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бильности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устойчивого развит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1" lang="en-US" sz="2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838080" y="1295280"/>
          <a:ext cx="4419720" cy="34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441972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0"/>
          <p:cNvGraphicFramePr/>
          <p:nvPr/>
        </p:nvGraphicFramePr>
        <p:xfrm>
          <a:off x="5105520" y="3435480"/>
          <a:ext cx="4647960" cy="278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Object 1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35480"/>
                    <a:ext cx="464796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(444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 странами ЕС и третьими странами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Идеи» (11862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Люди» (7129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Потенциал»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pacities) – 7486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лн евро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дравоохран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8317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45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1267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48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нерге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931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кружающая среда и изменения клим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53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Транспорт и аэронав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594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79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новные тематические направления 7РП в рамках программы «Сотрудничество»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ждународное сотрудничество в 7РП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-кандидаты на вступление в ЕС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 с переходной экономи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7:53:13Z</dcterms:created>
  <dc:creator>mvm</dc:creator>
  <dc:description/>
  <dc:language>en-US</dc:language>
  <cp:lastModifiedBy>LEGION</cp:lastModifiedBy>
  <cp:lastPrinted>1999-02-08T15:51:10Z</cp:lastPrinted>
  <dcterms:modified xsi:type="dcterms:W3CDTF">2015-07-01T12:07:50Z</dcterms:modified>
  <cp:revision>157</cp:revision>
  <dc:subject/>
  <dc:title>Презентация PowerPoint</dc:title>
</cp:coreProperties>
</file>