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6101-9F7A-4D4D-B750-A106B3C04503}" type="datetime">
              <a:rPr b="0" lang="en-GB" sz="1200" spc="-1" strike="noStrike">
                <a:solidFill>
                  <a:srgbClr val="000000"/>
                </a:solidFill>
                <a:latin typeface="Arial Narrow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5FDF-C471-44E7-9A36-3FCA88362097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4813-C64E-4AB1-9C91-E06178869616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ормационные и коммуникационные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достижение высокого уровня европейских разработок в информационных и коммуникационных технологиях (ИКТ), направленных на удовлетворение общественных и экономических потребностей. Укрепление научно-технической базы Европы в области ИКТ, приведение в движение и стимулирование инноваций через ИКТ. Обеспечение быстрой трансформации прогресса в области ИКТ в преимущества для европейских граждан, бизнеса, промышленности и правительст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18B1-CCE2-4D8C-9EAA-AB733AC09348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ормационные и коммуникационные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укту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еские основы И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перспективы взаимодействия ИКТ с другими научными дисциплинами и технологическими област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грация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кладные ис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дущие и возникающие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0173-0238-453D-8BB1-AECBF6C457C4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ормационные и коммуникационные технолог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хнологические основы ИК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электрони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ника и интегрированные микр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етвленные коммуникационные сети неограниченной мощ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троенные системы, вычисления и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ное обеспечение, грид-технологии, безопасность и надеж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 знани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нитивные и обучающие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рование, визуализац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действие и комбинирование виртуальной и реальной ре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9D11-A326-40C6-8CF8-E4557694B683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нформационные и коммуникационные технологи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вые перспективы взаимодействия ИКТ с другими научными дисциплинами и технологическими област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грация технолог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ьные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ие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бототехнические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ллектуальные инфраструк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E754-3254-43CF-8C65-98EAFC12B658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нформационные и коммуникационные технологи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кладные исследов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 для решения соци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 для здравоохра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 для людей с ограниченными способност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 дл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би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 в интересах охраны окружающей среды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 для правитель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 для контент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ативности и развития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-поддержка для бизнеса и промыш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 для доверия и конфиденци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E2ED-81FB-405C-9B92-7BCFC02D711D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Технологические основы И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ноэлектроник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тоника и интегрированные микр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нан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стемы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одоление ограничений в миниатюризац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ообразие и плотност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производительности и технологичности производства при низких затрата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ощенная  интеграция ИКТ в различные приложе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нтерфейс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овые исследования, основанные на новых концепция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ветвленные коммуникационные сети неограниченной мощности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семестный доступ к неоднородным сетям – фиксированным, мобильным, беспроводным и широковещательным сетям для персональных, региональных и глобальных целей – обеспечивающий предоставление прямого доступа к все возрастающим объемам данных и услуг повсеместно и в любое врем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9711-B81C-4D96-9238-40D375656475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Технологические основы И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роенные системы, вычисления и управление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щные, безопасные и распределенные вычислительные и коммуникационные системы, встраиваемые в объекты и физические инфраструктуры и способные взаимодействовать со средой и адаптироваться к не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граммное обеспечение, грид-технологии, безопасность и надежность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намичное, адаптивное, надежное и безопасное программное обеспечение и услуг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овые вычислительные архитектур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.ч. предоставляемые в виде утили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FD4B-31F8-42C3-BEE9-F847398C561F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стемы знаний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гнитивные и обучающие системы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влечение и использование знаний, контент, встроенный в веб и мультимеди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кусственные системы, построенные на принципах биологических систем, способные воспринимать, понимать, обучаться, эволюционировать и действовать автономн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 с применением машин и человеческого фактора, основанные на углубленном понимании когнитивных процессов челове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делирование, визуализаци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заимодействие и комбинирование виртуальной и реальной реальности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рументальные средства инновационного проектирования  и креативность в продуктах, услугах и цифровых  мульти-медиа, а также естественного взаимодействия и контекстуаль-ного взаимодействия с лингвистической поддержко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E5DE-449B-4284-B390-68044662DBC5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вые перспективы взаимодействия ИКТ с другими научными дисциплинами и технологическими областями,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.ч. достижения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бласти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ки, биотехнологий,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оведения, наук о жизни, с целью миниатюризации ИКТ устройств до размеров, совместимых и взаимодействующих с живыми организмами, для повышения производительности системного инжиниринга и обработки информации, а также для моделирования и имитации живого мир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ADEC-888B-4AB1-B7FA-A6B6ABEB7A60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сональные среды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а для персональных комму-никаций и вычислени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грированные в аксессуар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ед-меты одежды 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плантант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х интерфейсы и взаимосвязь с услугами и ресурсам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машние среды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данных, мониторинг, управле-ние и поддерж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имость и интегрированное использо-вание всех устройст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активный цифровой контен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обототехнические системы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пективные автономные систем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, управление, операционные способност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ественное взаимодействи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атюризац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ллектуальные инфраструктуры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рументальные средства для создания инфраструктур, которые позволят сделать повседневную жизнь более эффективной, легко адаптируемой и устойчиво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4D76-ABE1-46D4-87FD-266DCDF7119A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russels, 6 April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posal for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CISION OF THE EUROPEAN PARLIAMENT AND OF THE COU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ncerning the seventh framework programme of the European Community for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search, technological development and demonstration activities (2007 to 20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UILDING THE EUROPE OF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resented by the Commis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BD9F-A851-4021-8452-0D21A12FCEE0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КТ для решения социальных проблем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системы и службы в областях, представляющих интерес для широкой общественности, в интересах повышения качества, эффективности, улучшения доступа и охват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добные для пользователя приложения, интеграция новых технологий и инициатив, таких как интеллектуальный образ жизн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КТ для здравоохранени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я профилактики заболеваний и ранней диагностик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номность, безопасность и мобильность пациент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е пространство знаний по здравоохранени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КТ для обеспечения цифрового равенств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юдей с ограниченными способностям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реодоления цифровой дискриминац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спомогательные технолог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зайн для все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831B-D8A3-4E4F-845F-ADCB65DC09BA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КТ дл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бильности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ллектуальные транспортные системы на основе ИКТ, обеспечивающие безопасную, комфортную и эффективную транспортировку людей и товар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КТ в интересах охраны окружающей среды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устойчивого развит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овышения степени защищенности и преодоления последствий природных и промышленных катастро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КТ для правительств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сть, открытость и отчетность для органов общественного и государственного управления и связей с гражданами и бизнесом на принципах демократ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A715-01D4-4048-99CD-2FA94B879B9B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Прикладные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КТ для контент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реативности и развития личности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вые парадигмы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ультимеди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новые формы контент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здание интерактивного цифрового контент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гащение опыта пользователе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нтабельная доставка  контент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овершенствованные технологи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истанционного обучения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даптивные и контекстно-ориентированные решен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ктивное обучени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КТ-системы для поддержк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оступности и долговременного использования цифровых культурных ресурсо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 многоязычной сред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A03A-92ED-49DD-A8F4-C272D8743218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Прикладные ис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КТ-поддержка для бизнеса и промышленности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вые формы динамических сетевых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бизнес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процессо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ифровые экосистемы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тимизированная организация работы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рпоративные рабочие пространств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ыстрое и адаптивное проектирование, производство и доставка заказных товаро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ифровое и виртуальное производств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струментальные средства моделирования, имитации и презентаци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иниатюрные и интегрированные ИКТ-продукты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КТ для доверия и конфиденциальности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правление идентификацие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тверждение подлинности и авторизац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технологии, обеспечивающие секретность  информаци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правление правами и ресурсам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щита от киберугроз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5471-0D40-4203-9BB4-FA8EF610E4D6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Будущие и возникающие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удущие и возникающие технологии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держка исследований на передовых рубежах знаний на основе ИКТ и их комбинация с другими релевантными областями и дисциплинами с целью стимулирования новых идей и радикально новых применений и использования новых опций в глобальных направлениях исследований в области ИК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B7A9-0229-49C2-B1DC-7EBE0AF53DB0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рок действия: 2007 – 2013 г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юджет: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72 726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иллионов евро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труктура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отрудничество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44432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лн евро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деи (11862 млн евро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Люди (7129 млн евро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тенциал (7486 млн евро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B1A5-0E71-4D1C-A6AD-9726B7AA35CF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а «Сотрудничество» (44432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поддержка всего спектра научной деятельности, осущес-твляемой в рамках транснационального сотрудничества, от совместных проектов и сетей до координации национальных научных програм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ущей силой в этой программе станет промышл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а «Сотрудничество» состоит из трех подпрограм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овместные исследования будут затрачены основные средства, выделяемые ЕС на финансирование наук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ые технологические инициативы, созданные, как правило, на основе Европейских Технологических Платфор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ординация национальных научных програм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ое сотрудничеств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странами ЕС и третьими стра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E8B7-6455-46D0-B480-E0A325A71F54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а «Идеи» (11862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содействие динамизму, креативности и обеспечение научного превосходства европейских исследований  на передовых рубежах знаний во всех научных и технологических областях, включая инженерные науки, социо-экономические и гуманитарные исследова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у программу будет координировать Европейский Научный Сове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а «Люди» (7129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количественное и качественное укрепление кадрового потенциала европейской науки и технологий через серию акций Мари Кюр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313B-2A9C-4186-A6B2-00136A39B0D7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а «Потенциал»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acities) – 7486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лн евр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поддержка научной инфраструктур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я, проводимые в интересах средних и малых предприятий и научного потенциала европейских регион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(Regions of Knowledge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также стимулирование реализации полного научного потенциал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Convergence Regions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ширяющегося ЕС  и построение эффективного и демократического европейского общества, основанного на знания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E032-9C4C-48CC-AE2F-BBB6DAB5FE66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дравоохранени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8317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ты питания, сельское хозяйство и биотехнолог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2455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ормационные и коммуникационные технолог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2670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науки, нанотехнологии, материалы и новые производственные технолог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4832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ети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2931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ружающая среда и изменения климат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2535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 и аэронавти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5940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о-экономические и гуманитарные исследова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792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мические исследования и исследования в области безопасности (3960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7294-DA48-4E47-B2DE-00F2D39E86F7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трудничество с третьими странами будет направлено в особенности на следующие группы стра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-кандидаты на вступление в Е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, граничащие с ЕС, страны Средиземноморья, Западных Балкан и новые независимые государства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Newly Independent State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вающиеся страны с учетом их конкретных нуж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переходной экономико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ое сотрудничество в рамках тематических приоритетов будет поддержано по конкурсам программы «Сотрудничество». Международные акции в сфере кадрового научного потенциала будут поддержаны в рамках программы «Люди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D81A-3D2D-472F-B190-FC6D17520134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FC666-4E78-4FDF-83A6-488ADB654C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8AF59-D217-423D-ACB9-670A7427B0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09755-D469-497D-AD21-26906D3E6F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A827D-BBA8-4BD7-9BDC-CC285DFC6F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8F72F-0298-4B62-8178-581BCBFE9B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C47D2-C194-4345-B862-E3259E7507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B0B46-DD5A-49BA-B524-331DF6DB0D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1AACA-B2E7-44DA-BCD6-71483E685B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6313A-CF6C-4E73-BE9A-B8AC181EA5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895120" y="533520"/>
            <a:ext cx="6838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D6FBF-D0EF-40E8-BC08-47DAAEACD5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AEBEC-D998-411C-8FAA-9610C07144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B3F7B-05F8-4751-9B68-6A1F4FE4B6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6FCCF-43F4-45C8-96D3-A32F13F98D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C7C29-1810-4729-8126-5D3CAFF4F4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67B90-8A69-493D-9FFC-12D0583D64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2FB0A-672E-401E-8202-CB8D25F357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CE2F0-FED4-40DB-B136-6CEBA06D41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38BE0-3504-4848-A3AF-EE2BD2DD3B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30C58-E8DF-4F32-8017-6070FFF606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66C5F-171D-4A85-AEED-3073A0BCE0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895120" y="533520"/>
            <a:ext cx="6838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512D2-811C-43F6-909C-594E3D3FE6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B049C-7D8C-472C-A548-E4DE4245AD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A963E-E6B8-4C85-84CA-1C0AEB3A95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C780B-574E-4857-80E7-D2095DCB7F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5530680" cy="60181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Line 24"/>
          <p:cNvSpPr/>
          <p:nvPr/>
        </p:nvSpPr>
        <p:spPr>
          <a:xfrm>
            <a:off x="0" y="1219320"/>
            <a:ext cx="9909000" cy="0"/>
          </a:xfrm>
          <a:prstGeom prst="line">
            <a:avLst/>
          </a:prstGeom>
          <a:ln cap="sq"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AutoShape 25"/>
          <p:cNvSpPr/>
          <p:nvPr/>
        </p:nvSpPr>
        <p:spPr>
          <a:xfrm>
            <a:off x="1905120" y="171360"/>
            <a:ext cx="419040" cy="419040"/>
          </a:xfrm>
          <a:custGeom>
            <a:avLst/>
            <a:gdLst/>
            <a:ahLst/>
            <a:rect l="l" t="t" r="r" b="b"/>
            <a:pathLst>
              <a:path w="419100" h="419100">
                <a:moveTo>
                  <a:pt x="0" y="160082"/>
                </a:moveTo>
                <a:lnTo>
                  <a:pt x="160083" y="160083"/>
                </a:lnTo>
                <a:lnTo>
                  <a:pt x="209550" y="0"/>
                </a:lnTo>
                <a:lnTo>
                  <a:pt x="259017" y="160083"/>
                </a:lnTo>
                <a:lnTo>
                  <a:pt x="419100" y="160082"/>
                </a:lnTo>
                <a:lnTo>
                  <a:pt x="289590" y="259017"/>
                </a:lnTo>
                <a:lnTo>
                  <a:pt x="339059" y="419099"/>
                </a:lnTo>
                <a:lnTo>
                  <a:pt x="209550" y="320162"/>
                </a:lnTo>
                <a:lnTo>
                  <a:pt x="80041" y="419099"/>
                </a:lnTo>
                <a:lnTo>
                  <a:pt x="129510" y="259017"/>
                </a:lnTo>
                <a:lnTo>
                  <a:pt x="0" y="160082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AutoShape 26"/>
          <p:cNvSpPr/>
          <p:nvPr/>
        </p:nvSpPr>
        <p:spPr>
          <a:xfrm rot="20940000">
            <a:off x="1219320" y="22860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AutoShape 27"/>
          <p:cNvSpPr/>
          <p:nvPr/>
        </p:nvSpPr>
        <p:spPr>
          <a:xfrm rot="1320000">
            <a:off x="168120" y="244080"/>
            <a:ext cx="882720" cy="882720"/>
          </a:xfrm>
          <a:custGeom>
            <a:avLst/>
            <a:gdLst/>
            <a:ahLst/>
            <a:rect l="l" t="t" r="r" b="b"/>
            <a:pathLst>
              <a:path w="882650" h="882650">
                <a:moveTo>
                  <a:pt x="1" y="337141"/>
                </a:moveTo>
                <a:lnTo>
                  <a:pt x="337144" y="337144"/>
                </a:lnTo>
                <a:lnTo>
                  <a:pt x="441325" y="0"/>
                </a:lnTo>
                <a:lnTo>
                  <a:pt x="545506" y="337144"/>
                </a:lnTo>
                <a:lnTo>
                  <a:pt x="882649" y="337141"/>
                </a:lnTo>
                <a:lnTo>
                  <a:pt x="609893" y="545505"/>
                </a:lnTo>
                <a:lnTo>
                  <a:pt x="714078" y="882648"/>
                </a:lnTo>
                <a:lnTo>
                  <a:pt x="441325" y="674280"/>
                </a:lnTo>
                <a:lnTo>
                  <a:pt x="168572" y="882648"/>
                </a:lnTo>
                <a:lnTo>
                  <a:pt x="272757" y="545505"/>
                </a:lnTo>
                <a:lnTo>
                  <a:pt x="1" y="337141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AutoShape 28"/>
          <p:cNvSpPr/>
          <p:nvPr/>
        </p:nvSpPr>
        <p:spPr>
          <a:xfrm rot="1086000">
            <a:off x="2590920" y="304920"/>
            <a:ext cx="380880" cy="304560"/>
          </a:xfrm>
          <a:custGeom>
            <a:avLst/>
            <a:gdLst/>
            <a:ahLst/>
            <a:rect l="l" t="t" r="r" b="b"/>
            <a:pathLst>
              <a:path w="381000" h="304800">
                <a:moveTo>
                  <a:pt x="0" y="116423"/>
                </a:moveTo>
                <a:lnTo>
                  <a:pt x="145530" y="116424"/>
                </a:lnTo>
                <a:lnTo>
                  <a:pt x="190500" y="0"/>
                </a:lnTo>
                <a:lnTo>
                  <a:pt x="235470" y="116424"/>
                </a:lnTo>
                <a:lnTo>
                  <a:pt x="381000" y="116423"/>
                </a:lnTo>
                <a:lnTo>
                  <a:pt x="263263" y="188376"/>
                </a:lnTo>
                <a:lnTo>
                  <a:pt x="308235" y="304799"/>
                </a:lnTo>
                <a:lnTo>
                  <a:pt x="190500" y="232845"/>
                </a:lnTo>
                <a:lnTo>
                  <a:pt x="72765" y="304799"/>
                </a:lnTo>
                <a:lnTo>
                  <a:pt x="117737" y="188376"/>
                </a:lnTo>
                <a:lnTo>
                  <a:pt x="0" y="116423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AutoShape 29"/>
          <p:cNvSpPr/>
          <p:nvPr/>
        </p:nvSpPr>
        <p:spPr>
          <a:xfrm rot="2313600">
            <a:off x="3231720" y="533160"/>
            <a:ext cx="304920" cy="228600"/>
          </a:xfrm>
          <a:custGeom>
            <a:avLst/>
            <a:gdLst/>
            <a:ahLst/>
            <a:rect l="l" t="t" r="r" b="b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lnTo>
                  <a:pt x="0" y="87317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" name="Text Box 32"/>
          <p:cNvSpPr/>
          <p:nvPr/>
        </p:nvSpPr>
        <p:spPr>
          <a:xfrm>
            <a:off x="234360" y="1324080"/>
            <a:ext cx="4658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Ф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Х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" name="Picture 34" descr="C:\LENA\Enrin\Flyer\iosLogoEng.gif"/>
          <p:cNvPicPr/>
          <p:nvPr/>
        </p:nvPicPr>
        <p:blipFill>
          <a:blip r:embed="rId2"/>
          <a:stretch/>
        </p:blipFill>
        <p:spPr>
          <a:xfrm>
            <a:off x="9112320" y="6350040"/>
            <a:ext cx="403200" cy="42372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2"/>
          <p:cNvSpPr>
            <a:spLocks noGrp="1"/>
          </p:cNvSpPr>
          <p:nvPr>
            <p:ph type="sldNum" idx="1"/>
          </p:nvPr>
        </p:nvSpPr>
        <p:spPr>
          <a:xfrm>
            <a:off x="80010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9999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146B-153B-4BCE-9C6F-CD4C0054C7D3}" type="slidenum">
              <a:rPr b="0" lang="ru-RU" sz="2000" spc="-1" strike="noStrike">
                <a:solidFill>
                  <a:srgbClr val="009999"/>
                </a:solidFill>
                <a:latin typeface="Arial Narrow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rc 48"/>
          <p:cNvSpPr/>
          <p:nvPr/>
        </p:nvSpPr>
        <p:spPr>
          <a:xfrm>
            <a:off x="0" y="839880"/>
            <a:ext cx="5530680" cy="60181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" name="Line 2"/>
          <p:cNvSpPr/>
          <p:nvPr/>
        </p:nvSpPr>
        <p:spPr>
          <a:xfrm>
            <a:off x="1523880" y="1219320"/>
            <a:ext cx="8385120" cy="0"/>
          </a:xfrm>
          <a:prstGeom prst="line">
            <a:avLst/>
          </a:prstGeom>
          <a:ln cap="sq"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AutoShape 37"/>
          <p:cNvSpPr/>
          <p:nvPr/>
        </p:nvSpPr>
        <p:spPr>
          <a:xfrm>
            <a:off x="1905120" y="171360"/>
            <a:ext cx="419040" cy="419040"/>
          </a:xfrm>
          <a:custGeom>
            <a:avLst/>
            <a:gdLst/>
            <a:ahLst/>
            <a:rect l="l" t="t" r="r" b="b"/>
            <a:pathLst>
              <a:path w="419100" h="419100">
                <a:moveTo>
                  <a:pt x="0" y="160082"/>
                </a:moveTo>
                <a:lnTo>
                  <a:pt x="160083" y="160083"/>
                </a:lnTo>
                <a:lnTo>
                  <a:pt x="209550" y="0"/>
                </a:lnTo>
                <a:lnTo>
                  <a:pt x="259017" y="160083"/>
                </a:lnTo>
                <a:lnTo>
                  <a:pt x="419100" y="160082"/>
                </a:lnTo>
                <a:lnTo>
                  <a:pt x="289590" y="259017"/>
                </a:lnTo>
                <a:lnTo>
                  <a:pt x="339059" y="419099"/>
                </a:lnTo>
                <a:lnTo>
                  <a:pt x="209550" y="320162"/>
                </a:lnTo>
                <a:lnTo>
                  <a:pt x="80041" y="419099"/>
                </a:lnTo>
                <a:lnTo>
                  <a:pt x="129510" y="259017"/>
                </a:lnTo>
                <a:lnTo>
                  <a:pt x="0" y="160082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" name="AutoShape 38"/>
          <p:cNvSpPr/>
          <p:nvPr/>
        </p:nvSpPr>
        <p:spPr>
          <a:xfrm rot="20940000">
            <a:off x="1219320" y="22860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AutoShape 39"/>
          <p:cNvSpPr/>
          <p:nvPr/>
        </p:nvSpPr>
        <p:spPr>
          <a:xfrm rot="1320000">
            <a:off x="168120" y="244080"/>
            <a:ext cx="882720" cy="882720"/>
          </a:xfrm>
          <a:custGeom>
            <a:avLst/>
            <a:gdLst/>
            <a:ahLst/>
            <a:rect l="l" t="t" r="r" b="b"/>
            <a:pathLst>
              <a:path w="882650" h="882650">
                <a:moveTo>
                  <a:pt x="1" y="337141"/>
                </a:moveTo>
                <a:lnTo>
                  <a:pt x="337144" y="337144"/>
                </a:lnTo>
                <a:lnTo>
                  <a:pt x="441325" y="0"/>
                </a:lnTo>
                <a:lnTo>
                  <a:pt x="545506" y="337144"/>
                </a:lnTo>
                <a:lnTo>
                  <a:pt x="882649" y="337141"/>
                </a:lnTo>
                <a:lnTo>
                  <a:pt x="609893" y="545505"/>
                </a:lnTo>
                <a:lnTo>
                  <a:pt x="714078" y="882648"/>
                </a:lnTo>
                <a:lnTo>
                  <a:pt x="441325" y="674280"/>
                </a:lnTo>
                <a:lnTo>
                  <a:pt x="168572" y="882648"/>
                </a:lnTo>
                <a:lnTo>
                  <a:pt x="272757" y="545505"/>
                </a:lnTo>
                <a:lnTo>
                  <a:pt x="1" y="337141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AutoShape 40"/>
          <p:cNvSpPr/>
          <p:nvPr/>
        </p:nvSpPr>
        <p:spPr>
          <a:xfrm rot="1086000">
            <a:off x="2590920" y="304920"/>
            <a:ext cx="380880" cy="304560"/>
          </a:xfrm>
          <a:custGeom>
            <a:avLst/>
            <a:gdLst/>
            <a:ahLst/>
            <a:rect l="l" t="t" r="r" b="b"/>
            <a:pathLst>
              <a:path w="381000" h="304800">
                <a:moveTo>
                  <a:pt x="0" y="116423"/>
                </a:moveTo>
                <a:lnTo>
                  <a:pt x="145530" y="116424"/>
                </a:lnTo>
                <a:lnTo>
                  <a:pt x="190500" y="0"/>
                </a:lnTo>
                <a:lnTo>
                  <a:pt x="235470" y="116424"/>
                </a:lnTo>
                <a:lnTo>
                  <a:pt x="381000" y="116423"/>
                </a:lnTo>
                <a:lnTo>
                  <a:pt x="263263" y="188376"/>
                </a:lnTo>
                <a:lnTo>
                  <a:pt x="308235" y="304799"/>
                </a:lnTo>
                <a:lnTo>
                  <a:pt x="190500" y="232845"/>
                </a:lnTo>
                <a:lnTo>
                  <a:pt x="72765" y="304799"/>
                </a:lnTo>
                <a:lnTo>
                  <a:pt x="117737" y="188376"/>
                </a:lnTo>
                <a:lnTo>
                  <a:pt x="0" y="116423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AutoShape 41"/>
          <p:cNvSpPr/>
          <p:nvPr/>
        </p:nvSpPr>
        <p:spPr>
          <a:xfrm rot="2313600">
            <a:off x="3231720" y="533160"/>
            <a:ext cx="304920" cy="228600"/>
          </a:xfrm>
          <a:custGeom>
            <a:avLst/>
            <a:gdLst/>
            <a:ahLst/>
            <a:rect l="l" t="t" r="r" b="b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lnTo>
                  <a:pt x="0" y="87317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Text Box 43"/>
          <p:cNvSpPr/>
          <p:nvPr/>
        </p:nvSpPr>
        <p:spPr>
          <a:xfrm>
            <a:off x="4114800" y="6307200"/>
            <a:ext cx="50292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Text Box 45"/>
          <p:cNvSpPr/>
          <p:nvPr/>
        </p:nvSpPr>
        <p:spPr>
          <a:xfrm>
            <a:off x="242280" y="1324080"/>
            <a:ext cx="4658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Ф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Х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6" name="Picture 46" descr="C:\LENA\Enrin\Flyer\iosLogoEng.gif"/>
          <p:cNvPicPr/>
          <p:nvPr/>
        </p:nvPicPr>
        <p:blipFill>
          <a:blip r:embed="rId2"/>
          <a:stretch/>
        </p:blipFill>
        <p:spPr>
          <a:xfrm>
            <a:off x="9112320" y="6350040"/>
            <a:ext cx="403200" cy="4237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ldNum" idx="2"/>
          </p:nvPr>
        </p:nvSpPr>
        <p:spPr>
          <a:xfrm>
            <a:off x="7467480" y="-360"/>
            <a:ext cx="2438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9999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D412-F36E-496B-991F-E39A76E57D83}" type="slidenum">
              <a:rPr b="0" lang="ru-RU" sz="1400" spc="-1" strike="noStrike">
                <a:solidFill>
                  <a:srgbClr val="009999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ff9966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523520" y="4495320"/>
            <a:ext cx="7239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В.М.Михов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Директор ГосНИИ ОС, Руководитель НКТ «ИНФОТЕХ»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1143000" y="1752480"/>
            <a:ext cx="81532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1066680" y="1219320"/>
            <a:ext cx="83822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Научно-техническая программа «Информационные и коммуникационные технологии» Седьмой рамочной программы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научно-технического развития ЕС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Информационные и коммуникационные технологии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Цель: достижение высокого уровня европейских разработок в информационных и коммуникационных технологиях (ИКТ), направленных на удовлетворение общественных и экономических потребностей. Укрепление научно-технической базы Европы в области ИКТ, приведение в движение и стимулирование инноваций через ИКТ. Обеспечение быстрой трансформации прогресса в области ИКТ в преимущества для европейских граждан, бизнеса, промышленности и правительств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Rectangle 1029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«Информационные и коммуникационные технологии» в 7-ой рамочной программе ЕС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Информационные и коммуникационные технологии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Структура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99"/>
                </a:solidFill>
                <a:latin typeface="Arial"/>
              </a:rPr>
              <a:t>Технологические основы ИКТ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99"/>
                </a:solidFill>
                <a:latin typeface="Arial"/>
              </a:rPr>
              <a:t>Новые перспективы взаимодействия ИКТ с другими научными дисциплинами и технологическими областями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99"/>
                </a:solidFill>
                <a:latin typeface="Arial"/>
              </a:rPr>
              <a:t>Интеграция технологий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99"/>
                </a:solidFill>
                <a:latin typeface="Arial"/>
              </a:rPr>
              <a:t>Прикладные исследования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99"/>
                </a:solidFill>
                <a:latin typeface="Arial"/>
              </a:rPr>
              <a:t>Будущие и возникающие технологии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«Информационные и коммуникационные технологии» в 7-ой рамочной программе ЕС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Информационные и коммуникационные технологии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Технологические основы ИКТ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Наноэлектроника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фотоника и интегрированные микро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/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нано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системы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Разветвленные коммуникационные сети неограниченной мощности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строенные системы, вычисления и управление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рограммное обеспечение, грид-технологии, безопасность и надежность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Системы знаний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когнитивные и обучающие системы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Моделирование, визуализация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заимодействие и комбинирование виртуальной и реальной реальности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«Информационные и коммуникационные технологии» в 7-ой рамочной программе ЕС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Информационные и коммуникационные технологии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Новые перспективы взаимодействия ИКТ с другими научными дисциплинами и технологическими областями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Интеграция технологий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ерсональные среды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Домашние среды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Робототехнические системы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нтеллектуальные инфраструктуры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«Информационные и коммуникационные технологии» в 7-ой рамочной программе ЕС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90360" y="137124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Информационные и коммуникационные технологии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Прикладные исследования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 для решения социальных проблем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 для здравоохранения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 для людей с ограниченными способностями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 для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мобильности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 в интересах охраны окружающей среды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 для правительств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 для контента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креативности и развития личности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-поддержка для бизнеса и промышленности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 для доверия и конфиденциальности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«Информационные и коммуникационные технологии» в 7-ой рамочной программе ЕС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142640" y="13712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Наноэлектроника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фотоника и интегрированные микро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/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 нано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системы: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реодоление ограничений в миниатюризац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нтеграция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многообразие и плотность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овышение производительности и технологичности производства при низких затратах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упрощенная  интеграция ИКТ в различные приложения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интерфейс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оисковые исследования, основанные на новых концепциях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Разветвленные коммуникационные сети неограниченной мощности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овсеместный доступ к неоднородным сетям – фиксированным, мобильным, беспроводным и широковещательным сетям для персональных, региональных и глобальных целей – обеспечивающий предоставление прямого доступа к все возрастающим объемам данных и услуг повсеместно и в любое время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Технологические основы ИКТ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264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Встроенные системы, вычисления и управление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мощные, безопасные и распределенные вычислительные и коммуникационные системы, встраиваемые в объекты и физические инфраструктуры и способные взаимодействовать со средой и адаптироваться к ней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Программное обеспечение, грид-технологии, безопасность и надежность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динамичное, адаптивное, надежное и безопасное программное обеспечение и услуг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новые вычислительные архитектур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в т.ч. предоставляемые в виде утилит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Технологические основы ИКТ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142640" y="14475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Системы знаний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когнитивные и обучающие системы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звлечение и использование знаний, контент, встроенный в веб и мультимеди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скусственные системы, построенные на принципах биологических систем, способные воспринимать, понимать, обучаться, эволюционировать и действовать автономно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обучение с применением машин и человеческого фактора, основанные на углубленном понимании когнитивных процессов человек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Моделирование, визуализация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взаимодействие и комбинирование виртуальной и реальной реальности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нструментальные средства инновационного проектирования  и креативность в продуктах, услугах и цифровых  мульти-медиа, а также естественного взаимодействия и контекстуаль-ного взаимодействия с лингвистической поддержкой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Технологические основы ИКТ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4264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Новые перспективы взаимодействия ИКТ с другими научными дисциплинами и технологическими областями,</a:t>
            </a:r>
            <a:r>
              <a:rPr b="1" i="1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 т.ч. достижения</a:t>
            </a:r>
            <a:r>
              <a:rPr b="0" i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 области</a:t>
            </a:r>
            <a:r>
              <a:rPr b="0" i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физики, биотехнологий,</a:t>
            </a:r>
            <a:r>
              <a:rPr b="0" i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материаловедения, наук о жизни, с целью миниатюризации ИКТ устройств до размеров, совместимых и взаимодействующих с живыми организмами, для повышения производительности системного инжиниринга и обработки информации, а также для моделирования и имитации живого мира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142640" y="14475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Персональные среды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устройства для персональных комму-никаций и вычислений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нтегрированные в аксессуар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пред-меты одежды 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мплантант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их интерфейсы и взаимосвязь с услугами и ресурсам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Домашние среды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ередача данных, мониторинг, управле-ние и поддержк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совместимость и интегрированное использо-вание всех устройств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нтерактивный цифровой контент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Робототехнические системы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ерспективные автономные систем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обучение, управление, операционные способност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естественное взаимодействие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миниатюризация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нтеллектуальные инфраструктуры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нструментальные средства для создания инфраструктур, которые позволят сделать повседневную жизнь более эффективной, легко адаптируемой и устойчивой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Интеграция технологий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Brussels, 6 April 2005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Proposal for 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DECISION OF THE EUROPEAN PARLIAMENT AND OF THE COUNCI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concerning the seventh framework programme of the European Community for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research, technological development and demonstration activities (2007 to 2013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BUILDING THE EUROPE OF KNOWLEDG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(presented by the Commission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оект 7-ой рамочной программы научно-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ехнического развития Европейского Союза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142640" y="14475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 для решения социальных проблем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Новые системы и службы в областях, представляющих интерес для широкой общественности, в интересах повышения качества, эффективности, улучшения доступа и охват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удобные для пользователя приложения, интеграция новых технологий и инициатив, таких как интеллектуальный образ жизн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 для здравоохранения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улучшения профилактики заболеваний и ранней диагностик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автономность, безопасность и мобильность пациентов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нформационное пространство знаний по здравоохранению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 для обеспечения цифрового равенства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людей с ограниченными способностями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 преодоления цифровой дискриминац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вспомогательные технолог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дизайн для всех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Прикладные исследования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142640" y="152388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 для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мобильности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нтеллектуальные транспортные системы на основе ИКТ, обеспечивающие безопасную, комфортную и эффективную транспортировку людей и товаров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 в интересах охраны окружающей среды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 устойчивого развития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для повышения степени защищенности и преодоления последствий природных и промышленных катастроф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 для правительств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эффективность, открытость и отчетность для органов общественного и государственного управления и связей с гражданами и бизнесом на принципах демократ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Прикладные исследования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14264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 для контента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креативности и развития личности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новые парадигм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мультимеди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 новые формы контент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создание интерактивного цифрового контент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обогащение опыта пользователей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рентабельная доставка  контент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усовершенствованные технологии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дистанционного обучения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адаптивные и контекстно-ориентированные решения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активное обучение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КТ-системы для поддержки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доступности и долговременного использования цифровых культурных ресурсов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в многоязычной среде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Прикладные исследования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14264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-поддержка для бизнеса и промышленности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новые формы динамических сетевых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бизнес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-процессов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цифровые экосистем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оптимизированная организация работ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корпоративные рабочие пространств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–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производство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быстрое и адаптивное проектирование, производство и доставка заказных товаров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цифровое и виртуальное производство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нструментальные средства моделирования, имитации и презентац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миниатюрные и интегрированные ИКТ-продукт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 для доверия и конфиденциальности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управление идентификацией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одтверждение подлинности и авторизация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технологии, обеспечивающие секретность  информац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управление правами и ресурсам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защита от киберугроз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Прикладные исследования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14264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Будущие и возникающие технологии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оддержка исследований на передовых рубежах знаний на основе ИКТ и их комбинация с другими релевантными областями и дисциплинами с целью стимулирования новых идей и радикально новых применений и использования новых опций в глобальных направлениях исследований в области ИКТ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Будущие и возникающие технологии</a:t>
            </a:r>
            <a:endParaRPr b="1" lang="en-US" sz="22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23520" y="15998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Срок действия: 2007 – 2013 гг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Бюджет: </a:t>
            </a:r>
            <a:r>
              <a:rPr b="1" lang="en-US" sz="2600" spc="-1" strike="noStrike">
                <a:solidFill>
                  <a:srgbClr val="003399"/>
                </a:solidFill>
                <a:latin typeface="Arial"/>
                <a:ea typeface="Times New Roman"/>
              </a:rPr>
              <a:t>72 726 </a:t>
            </a: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миллионов евро</a:t>
            </a:r>
            <a:r>
              <a:rPr b="1" lang="ru-RU" sz="26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Структура: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Сотрудничество </a:t>
            </a: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(44432 </a:t>
            </a: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млн евро</a:t>
            </a: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Идеи (11862 млн евро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Люди (7129 млн евро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Потенциал (7486 млн евро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оект 7-ой рамочной программы научно-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ехнического развития Европейского Союза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оект 7-ой рамочной программы научно-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ехнического развития Европейского Союза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11" name="Object 7"/>
          <p:cNvGraphicFramePr/>
          <p:nvPr/>
        </p:nvGraphicFramePr>
        <p:xfrm>
          <a:off x="838080" y="1295280"/>
          <a:ext cx="4419720" cy="349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95280"/>
                    <a:ext cx="4419720" cy="34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80"/>
          <p:cNvGraphicFramePr/>
          <p:nvPr/>
        </p:nvGraphicFramePr>
        <p:xfrm>
          <a:off x="5105520" y="3435480"/>
          <a:ext cx="4647960" cy="2782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4" name="Object 18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3435480"/>
                    <a:ext cx="4647960" cy="27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90720" y="13712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рограмма «Сотрудничество» (44432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Цель: поддержка всего спектра научной деятельности, осущес-твляемой в рамках транснационального сотрудничества, от совместных проектов и сетей до координации национальных научных программ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Движущей силой в этой программе станет промышленность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рограмма «Сотрудничество» состоит из трех подпрограмм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На совместные исследования будут затрачены основные средства, выделяемые ЕС на финансирование наук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Совместные технологические инициативы, созданные, как правило, на основе Европейских Технологических Платформ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Координация национальных научных программ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Международное сотрудничество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между странами ЕС и третьими странами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труктура 7-ой рамочной программы научно-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ехнического развития Европейского Союза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рограмма «Идеи» (11862 млн евро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Цель: содействие динамизму, креативности и обеспечение научного превосходства европейских исследований  на передовых рубежах знаний во всех научных и технологических областях, включая инженерные науки, социо-экономические и гуманитарные исследования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Эту программу будет координировать Европейский Научный Совет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рограмма «Люди» (7129 млн евро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Цель: количественное и качественное укрепление кадрового потенциала европейской науки и технологий через серию акций Мари Кюри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труктура 7-ой рамочной программы научно-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ехнического развития Европейского Союза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рограмма «Потенциал» (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apacities) – 7486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млн евро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Цель: поддержка научной инфраструктуры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сследования, проводимые в интересах средних и малых предприятий и научного потенциала европейских регионов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 (Regions of Knowledge)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, а также стимулирование реализации полного научного потенциала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(Convergence Regions)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расширяющегося ЕС  и построение эффективного и демократического европейского общества, основанного на знаниях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труктура 7-ой рамочной программы научно-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ехнического развития Европейского Союза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90360" y="14475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Здравоохранение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(8317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родукты питания, сельское хозяйство и биотехнолог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(2455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нформационные и коммуникационные технолог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(12670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Нанонауки, нанотехнологии, материалы и новые производственные технолог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(4832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Энергетик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(2931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Окружающая среда и изменения климат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(2535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Транспорт и аэронавтик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(5940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Социо-экономические и гуманитарные исследования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(792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Космические исследования и исследования в области безопасности (3960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Основные тематические направления 7РП в рамках программы «Сотрудничество»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Международное сотрудничество в 7РП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90360" y="137124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Сотрудничество с третьими странами будет направлено в особенности на следующие группы стран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Страны-кандидаты на вступление в ЕС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Страны, граничащие с ЕС, страны Средиземноморья, Западных Балкан и новые независимые государства (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the Newly Independent States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Развивающиеся страны с учетом их конкретных нуж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Страны с переходной экономикой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Международное сотрудничество в рамках тематических приоритетов будет поддержано по конкурсам программы «Сотрудничество». Международные акции в сфере кадрового научного потенциала будут поддержаны в рамках программы «Люди»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7:53:13Z</dcterms:created>
  <dc:creator>mvm</dc:creator>
  <dc:description/>
  <dc:language>en-US</dc:language>
  <cp:lastModifiedBy>LEGION</cp:lastModifiedBy>
  <cp:lastPrinted>1999-02-08T15:51:10Z</cp:lastPrinted>
  <dcterms:modified xsi:type="dcterms:W3CDTF">2015-07-01T12:07:50Z</dcterms:modified>
  <cp:revision>157</cp:revision>
  <dc:subject/>
  <dc:title>Презентация PowerPoint</dc:title>
</cp:coreProperties>
</file>