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png" ContentType="image/png"/>
  <Override PartName="/ppt/media/image5.gif" ContentType="image/gif"/>
  <Override PartName="/ppt/media/image1.wmf" ContentType="image/x-wmf"/>
  <Override PartName="/ppt/media/image2.wmf" ContentType="image/x-wmf"/>
  <Override PartName="/ppt/media/image4.jpeg" ContentType="image/jpeg"/>
  <Override PartName="/ppt/media/image8.wmf" ContentType="image/x-wmf"/>
  <Override PartName="/ppt/media/image13.png" ContentType="image/png"/>
  <Override PartName="/ppt/media/image12.png" ContentType="image/png"/>
  <Override PartName="/ppt/media/image7.wmf" ContentType="image/x-wmf"/>
  <Override PartName="/ppt/media/image9.gif" ContentType="image/gif"/>
  <Override PartName="/ppt/media/image6.jpeg" ContentType="image/jpeg"/>
  <Override PartName="/ppt/media/image10.png" ContentType="image/png"/>
  <Override PartName="/ppt/media/image3.png" ContentType="image/png"/>
  <Override PartName="/ppt/media/image1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F360-57AE-40BF-BEF7-9831C1C1836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ая деятельность челове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70EC9-2710-42E9-8A2A-1CE8EE5A2A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любом процессе передачи или обмене информацией существуют ее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источник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олучатель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а сама информация передается по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аналу связ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с помощью сигналов: механических, электрических, тепловых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5B3F8-5EA7-42BC-8EBF-E2EE266074F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дирующее устройство необходимо для преобразования информации в форму, удобную для передач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кодирующее устройство преобразует информацию в форму, понятную получател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6000-7C35-416D-B165-953D5C67B9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ение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ческий разум является совершенным инструментом познания окружающего мира. А память человека – великолепным устройством для хранения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ако для долговременного хранения информации, ее накопления и передачи из поколения в поколение необходимо иметь возможность ее хранить не только в памяти  человека. Для этого используются носители информаци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9CBD2-E7C9-40B4-B070-5D10CDDE5FA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ранение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Носитель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материальный объект, предназначенный для хранения и передачи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риальная природа носителей информации может быть различной: молекулы ДНК, которые хранят генетическую информацию; бумага, на которой хранятся тексты и изображения; магнитная лента, на которой хранится звуковая информация; фото- и кинопленки, на которых хранится графическая информация; микросхемы памяти, магнитные и лазерные диски, на которых хранятся программы и данные в компьютере, и так далее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04CA-D4DC-4B5F-BB1B-3FE2C9DA11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0E445-0471-4D40-90EB-B259A5E38C1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то сохранить информацию недостаточно. Нужно уметь ею пользоваться. А для того чтобы воспользоваться нужной информацией в нужный момент необходимо уметь ее быстро най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AB1F7-72AB-4078-9E9A-2B351B8082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иск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Поиск информации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— это извлечение хранимой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ручной и автоматизированный методы поиска информации в хранилищ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оиска информации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осредственное наблюдение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щение со специалистами по интересующему вас вопросу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ение соответствующей литературы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мотр теле-, видеопрограмм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слушивание радиопередач и аудиокассет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бота в библиотеках, архива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прос к информационным системам, базам и банкам компьютерных данных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е методы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жизни человека информация играет очень важную роль. От нее зависит принятие решений, влияющих на развитие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едотвращения потери информации разрабатываются различные механизмы ее защиты, которые используются на всех этапах работы с н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BC717-F2D9-4D0F-930A-E8F385D2D1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защиты информации используют различные способ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ь доступ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граничение доступ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блирование каналов связ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иптографическое преобразование информации с помощью шиф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41862-6DC9-45E7-86CB-7F6698F59D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щит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Шифром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азывают секретный код преобразования информации с целью ее защиты от незаконный пользова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обретением и использованием шифров занимается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риптограф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3E915-B1E4-416A-A5DD-D68506FFF4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Информационная деятельность челове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бор информац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Обработка информац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ередача информац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Хранение информац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иск информации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Защита информации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5762-2B00-4DB5-95FE-07D9ED6F73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я деятельность человека связана с различными действиями с информацией, и помогают ему в этом разнообразные технические устр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507D3-1BBA-4FA9-9A0C-25870224AA6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просы и зад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 помогает людям получать информацию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думайте способ передачи информа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чему важно защищать информацию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кие способы защиты вы знаете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думайте шифр и зашифруйте фразу «Я учу информатику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2C9C6-D2A6-482F-A367-C890A1CBD60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бое научное знание начинается тогда, когда мы можем оценить полученную информацию, сравнить ее, а значит измерить. Поэтому для получения недоступной обычным органам чувств информации широко используются специальные технические устр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D02A-5856-4FB8-9CEF-66436F4E2DA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A04D-EE68-40C2-845E-ABB1211CAB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бор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 из древних сооруже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уемых для получения астрономической информации, находится в Англии недалеко от города Солсбери. Это </a:t>
            </a: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тоунхендж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«висячие камни». Он был построен примерно во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I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еке до н.э. С помощью новейшим методов исследования было установлено, что каменные арки дают направления на крайние положения Солнца и Луны, а 56 белых лунок помогают предсказать время Солнечный и Лунных затм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861A7-99CE-4966-87D3-D0DF46CB214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обретая жизненный опыт, наблюдая мир вокруг себя, иначе говоря – накапливая все больше и больше информации, человек учится делать вывод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древности говорили, что человек познает мир с помощью органов чувств и осмысливает познанное разум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055E4-DAAF-4DEC-900A-26EAECBDD91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работк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ходная информ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информация, которую получает человек или устрой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Выходная информац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– информация, которая получается после обработки человеком или устройств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B6A72-1C29-46DC-88B8-2C59F36B51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ача информ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витие человека не было бы возможно без обмена информа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давних времен люди из поколения в поколение передавали свои знания, извещали об опасности или передавали важную и срочную информацию, обменивались свед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6EB6A4-0884-494C-BF05-C27CA7C6125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C8BA-673F-43EF-89D0-849241101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5FDF-2F55-413F-BE24-17425A5EC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F7F9F-64ED-4164-8F61-B330641F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0E6AC-843C-4BEC-A88C-70DE5F38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6D8D-133D-43B4-812F-6D589D301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81D5-E29D-4F52-9DDB-B73F12D4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ED54-AD3A-4E7C-8B92-F300A0DAC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D935-412D-4397-8636-5CF9DC6E55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36631-788A-43CF-A777-88624DCD2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74DA-6221-4529-AF1E-1EA13BBAC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4BD05-C9EC-49AC-ABEC-B5E1FE437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FF3F-1CC0-417D-8A96-A9CD6408D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5A9CF7-BE53-4992-B752-F9D2D50F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33277-1FA7-4A90-B642-E30C1DF24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98215-CE43-4FC3-ACDA-405BB14B6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9353E-4792-4236-9A3F-C17C380123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82880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76280"/>
            <a:ext cx="264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CBC33-2653-4701-A8FD-D4497C177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B82B-C5C5-42EB-9234-8E1E50FB4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1F1EC-FEDE-4C57-B63A-5258104C02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B7267-D685-48C3-8C67-03A06A653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2045E-EF56-4086-BB11-1E10DE6DE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1C5B-6DEF-4083-BAC7-182CB481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407628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3618-4E23-425F-9EFA-5B14BE57B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828800"/>
            <a:ext cx="40158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76280"/>
            <a:ext cx="8229600" cy="205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24C72-8578-46BC-B79C-DA5F09B03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http://www.klyaksa.net/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hyperlink" Target="http://www.klyaksa.net/" TargetMode="External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A95A8-BEC2-4C09-8C2D-FF16A2087E2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6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" name="Text Box 13"/>
          <p:cNvSpPr/>
          <p:nvPr/>
        </p:nvSpPr>
        <p:spPr>
          <a:xfrm>
            <a:off x="450720" y="93600"/>
            <a:ext cx="813780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нформатика в школ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14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www.klyaksa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66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50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66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99996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Text Box 15"/>
          <p:cNvSpPr/>
          <p:nvPr/>
        </p:nvSpPr>
        <p:spPr>
          <a:xfrm>
            <a:off x="468360" y="404640"/>
            <a:ext cx="77756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Информатика в школе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        </a:t>
            </a:r>
            <a:r>
              <a:rPr b="0" lang="en-US" sz="1400" spc="-1" strike="noStrike" u="sng">
                <a:solidFill>
                  <a:srgbClr val="996633"/>
                </a:solidFill>
                <a:uFillTx/>
                <a:latin typeface="Verdana"/>
                <a:hlinkClick r:id="rId2"/>
              </a:rPr>
              <a:t>www.klyaksa.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66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cc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D9C72-2CCA-4AF7-A753-D4D78F3DE17B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1371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420000"/>
                </a:solidFill>
                <a:latin typeface="Times New Roman"/>
              </a:rPr>
              <a:t>Информационная деятельность человека</a:t>
            </a:r>
            <a:endParaRPr b="0" lang="en-US" sz="5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762120" y="3765240"/>
            <a:ext cx="7696080" cy="205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ередач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3499920"/>
            <a:ext cx="8229600" cy="26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460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любом процессе передачи или обмене информацией существуют ее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источник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получатель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, а сама информация передается по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аналу связ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с помощью сигналов: механических, электрических, тепловых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Group 8"/>
          <p:cNvGrpSpPr/>
          <p:nvPr/>
        </p:nvGrpSpPr>
        <p:grpSpPr>
          <a:xfrm>
            <a:off x="1403280" y="2205000"/>
            <a:ext cx="6480360" cy="1079640"/>
            <a:chOff x="1403280" y="2205000"/>
            <a:chExt cx="6480360" cy="1079640"/>
          </a:xfrm>
        </p:grpSpPr>
        <p:sp>
          <p:nvSpPr>
            <p:cNvPr id="151" name="AutoShape 4"/>
            <p:cNvSpPr/>
            <p:nvPr/>
          </p:nvSpPr>
          <p:spPr>
            <a:xfrm>
              <a:off x="1403280" y="2347920"/>
              <a:ext cx="1871640" cy="7923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точни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AutoShape 6"/>
            <p:cNvSpPr/>
            <p:nvPr/>
          </p:nvSpPr>
          <p:spPr>
            <a:xfrm>
              <a:off x="6012000" y="2276640"/>
              <a:ext cx="1871640" cy="79200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лучател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AutoShape 7"/>
            <p:cNvSpPr/>
            <p:nvPr/>
          </p:nvSpPr>
          <p:spPr>
            <a:xfrm>
              <a:off x="3564000" y="2205000"/>
              <a:ext cx="2305080" cy="1079640"/>
            </a:xfrm>
            <a:prstGeom prst="rightArrow">
              <a:avLst>
                <a:gd name="adj1" fmla="val 50000"/>
                <a:gd name="adj2" fmla="val 53376"/>
              </a:avLst>
            </a:prstGeom>
            <a:solidFill>
              <a:srgbClr val="66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cccc00"/>
                  </a:solidFill>
                  <a:latin typeface="Times New Roman"/>
                </a:rPr>
                <a:t>Канал связи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4" name="Text Box 9"/>
          <p:cNvSpPr/>
          <p:nvPr/>
        </p:nvSpPr>
        <p:spPr>
          <a:xfrm>
            <a:off x="1116000" y="177336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ередача информации от источника к получателю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ередач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3212640"/>
            <a:ext cx="8229600" cy="291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дирующее устройство необходимо для преобразования информации в форму, удобную для передач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90000"/>
              </a:lnSpc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екодирующее устройство преобразует информацию в форму, понятную получателю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Group 12"/>
          <p:cNvGrpSpPr/>
          <p:nvPr/>
        </p:nvGrpSpPr>
        <p:grpSpPr>
          <a:xfrm>
            <a:off x="108000" y="2133720"/>
            <a:ext cx="8893080" cy="1077840"/>
            <a:chOff x="108000" y="2133720"/>
            <a:chExt cx="8893080" cy="1077840"/>
          </a:xfrm>
        </p:grpSpPr>
        <p:sp>
          <p:nvSpPr>
            <p:cNvPr id="159" name="AutoShape 5"/>
            <p:cNvSpPr/>
            <p:nvPr/>
          </p:nvSpPr>
          <p:spPr>
            <a:xfrm>
              <a:off x="108000" y="2278080"/>
              <a:ext cx="1439640" cy="7923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Источник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AutoShape 6"/>
            <p:cNvSpPr/>
            <p:nvPr/>
          </p:nvSpPr>
          <p:spPr>
            <a:xfrm>
              <a:off x="7345440" y="2278080"/>
              <a:ext cx="1655640" cy="792360"/>
            </a:xfrm>
            <a:prstGeom prst="roundRect">
              <a:avLst>
                <a:gd name="adj" fmla="val 16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Получатель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AutoShape 7"/>
            <p:cNvSpPr/>
            <p:nvPr/>
          </p:nvSpPr>
          <p:spPr>
            <a:xfrm>
              <a:off x="3421080" y="2133720"/>
              <a:ext cx="1871640" cy="1077840"/>
            </a:xfrm>
            <a:prstGeom prst="rightArrow">
              <a:avLst>
                <a:gd name="adj1" fmla="val 50000"/>
                <a:gd name="adj2" fmla="val 43412"/>
              </a:avLst>
            </a:prstGeom>
            <a:solidFill>
              <a:srgbClr val="66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cccc00"/>
                  </a:solidFill>
                  <a:latin typeface="Times New Roman"/>
                </a:rPr>
                <a:t>Канал связи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Rectangle 8"/>
            <p:cNvSpPr/>
            <p:nvPr/>
          </p:nvSpPr>
          <p:spPr>
            <a:xfrm>
              <a:off x="1908000" y="2278080"/>
              <a:ext cx="1441440" cy="792360"/>
            </a:xfrm>
            <a:prstGeom prst="rect">
              <a:avLst/>
            </a:prstGeom>
            <a:solidFill>
              <a:srgbClr val="ca9f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Кодирующе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устройств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Rectangle 9"/>
            <p:cNvSpPr/>
            <p:nvPr/>
          </p:nvSpPr>
          <p:spPr>
            <a:xfrm>
              <a:off x="5365800" y="2278080"/>
              <a:ext cx="1655640" cy="792360"/>
            </a:xfrm>
            <a:prstGeom prst="rect">
              <a:avLst/>
            </a:prstGeom>
            <a:solidFill>
              <a:srgbClr val="ca9f0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Декодирующее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устройство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AutoShape 10"/>
            <p:cNvSpPr/>
            <p:nvPr/>
          </p:nvSpPr>
          <p:spPr>
            <a:xfrm>
              <a:off x="1620720" y="2421000"/>
              <a:ext cx="216000" cy="5050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AutoShape 11"/>
            <p:cNvSpPr/>
            <p:nvPr/>
          </p:nvSpPr>
          <p:spPr>
            <a:xfrm>
              <a:off x="7093080" y="2421000"/>
              <a:ext cx="215640" cy="505080"/>
            </a:xfrm>
            <a:prstGeom prst="rightArrow">
              <a:avLst>
                <a:gd name="adj1" fmla="val 50000"/>
                <a:gd name="adj2" fmla="val 25000"/>
              </a:avLst>
            </a:prstGeom>
            <a:solidFill>
              <a:srgbClr val="99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Text Box 13"/>
          <p:cNvSpPr/>
          <p:nvPr/>
        </p:nvSpPr>
        <p:spPr>
          <a:xfrm>
            <a:off x="1116000" y="1773360"/>
            <a:ext cx="712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Схема передачи информаци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Хранение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Человеческий разум является совершенным инструментом познания окружающего мира. А память человека – великолепным устройством для хранения информ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нако для долговременного хранения информации, ее накопления и передачи из поколения в поколение необходимо иметь возможность ее хранить не только в памяти  человека. Для этого используются носители информации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Picture 4" descr="j0196400"/>
          <p:cNvPicPr/>
          <p:nvPr/>
        </p:nvPicPr>
        <p:blipFill>
          <a:blip r:embed="rId1"/>
          <a:stretch/>
        </p:blipFill>
        <p:spPr>
          <a:xfrm>
            <a:off x="7448400" y="5045040"/>
            <a:ext cx="1695600" cy="1812960"/>
          </a:xfrm>
          <a:prstGeom prst="rect">
            <a:avLst/>
          </a:prstGeom>
          <a:ln w="0">
            <a:noFill/>
          </a:ln>
        </p:spPr>
      </p:pic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Хранение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Носитель информации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материальный объект, предназначенный для хранения и передачи информ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000" spc="-1" strike="noStrike">
                <a:solidFill>
                  <a:srgbClr val="420000"/>
                </a:solidFill>
                <a:latin typeface="Times New Roman"/>
              </a:rPr>
              <a:t>Материальная природа носителей информации может быть различной: молекулы ДНК, которые хранят генетическую информацию; бумага, на которой хранятся тексты и изображения; магнитная лента, на которой хранится звуковая информация; фото- и кинопленки, на которых хранится графическая информация; микросхемы памяти, магнитные и лазерные диски, на которых хранятся программы и данные в компьютере, и так далее.</a:t>
            </a:r>
            <a:r>
              <a:rPr b="0" lang="ru-RU" sz="3200" spc="-1" strike="noStrike">
                <a:solidFill>
                  <a:srgbClr val="42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оиск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сто сохранить информацию недостаточно. Нужно уметь ею пользоваться. А для того чтобы воспользоваться нужной информацией в нужный момент необходимо уметь ее быстро найт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лупа"/>
          <p:cNvPicPr/>
          <p:nvPr/>
        </p:nvPicPr>
        <p:blipFill>
          <a:blip r:embed="rId1"/>
          <a:stretch/>
        </p:blipFill>
        <p:spPr>
          <a:xfrm>
            <a:off x="6576840" y="4365720"/>
            <a:ext cx="2260800" cy="249228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4" descr="лупа"/>
          <p:cNvPicPr/>
          <p:nvPr/>
        </p:nvPicPr>
        <p:blipFill>
          <a:blip r:embed="rId1"/>
          <a:stretch/>
        </p:blipFill>
        <p:spPr>
          <a:xfrm>
            <a:off x="6576840" y="4365720"/>
            <a:ext cx="2260800" cy="249228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оиск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40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 u="sng">
                <a:solidFill>
                  <a:srgbClr val="000000"/>
                </a:solidFill>
                <a:uFillTx/>
                <a:latin typeface="Times New Roman"/>
              </a:rPr>
              <a:t>Поиск информации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 — это извлечение хранимой информации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Существуют ручной и автоматизированный методы поиска информации в хранилищах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Методы поиска информации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непосредственное наблюдение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общение со специалистами по интересующему вас вопросу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чтение соответствующей литературы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смотр теле-, видеопрограмм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прослушивание радиопередач и аудиокассет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работа в библиотеках, архивах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запрос к информационным системам, базам и банкам компьютерных данных;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550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</a:rPr>
              <a:t>другие методы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Защит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жизни человека информация играет очень важную роль. От нее зависит принятие решений, влияющих на развитие обще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предотвращения потери информации разрабатываются различные механизмы ее защиты, которые используются на всех этапах работы с н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Picture 4" descr="замок"/>
          <p:cNvPicPr/>
          <p:nvPr/>
        </p:nvPicPr>
        <p:blipFill>
          <a:blip r:embed="rId1"/>
          <a:stretch/>
        </p:blipFill>
        <p:spPr>
          <a:xfrm>
            <a:off x="7032600" y="5013360"/>
            <a:ext cx="1560600" cy="184464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Защит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ля защиты информации используют различные способы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онтроль доступ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граничение доступа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дублирование каналов связи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риптографическое преобразование информации с помощью шифров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Защит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Шифром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называют секретный код преобразования информации с целью ее защиты от незаконный пользовател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Изобретением и использованием шифров занимается 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криптограф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>
            <a:lum contrast="30000"/>
          </a:blip>
          <a:stretch/>
        </p:blipFill>
        <p:spPr>
          <a:xfrm>
            <a:off x="8067600" y="5491080"/>
            <a:ext cx="1076400" cy="1366920"/>
          </a:xfrm>
          <a:prstGeom prst="rect">
            <a:avLst/>
          </a:prstGeom>
          <a:ln w="0">
            <a:noFill/>
          </a:ln>
        </p:spPr>
      </p:pic>
      <p:sp>
        <p:nvSpPr>
          <p:cNvPr id="1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420000"/>
                </a:solidFill>
                <a:latin typeface="Times New Roman"/>
              </a:rPr>
              <a:t>Информационная деятельность человека</a:t>
            </a:r>
            <a:endParaRPr b="0" lang="en-US" sz="40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Сбор информаци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Обработка информаци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ередача информаци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Хранение информаци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Поиск информации;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lvl="1" marL="889560" indent="-427320">
              <a:spcBef>
                <a:spcPts val="1001"/>
              </a:spcBef>
              <a:buClr>
                <a:srgbClr val="99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Защита информации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бор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ся деятельность человека связана с различными действиями с информацией, и помогают ему в этом разнообразные технические устрой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4" descr="j0300840"/>
          <p:cNvPicPr/>
          <p:nvPr/>
        </p:nvPicPr>
        <p:blipFill>
          <a:blip r:embed="rId1"/>
          <a:stretch/>
        </p:blipFill>
        <p:spPr>
          <a:xfrm>
            <a:off x="3924360" y="4365720"/>
            <a:ext cx="1814400" cy="15285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j0305257"/>
          <p:cNvPicPr/>
          <p:nvPr/>
        </p:nvPicPr>
        <p:blipFill>
          <a:blip r:embed="rId2"/>
          <a:stretch/>
        </p:blipFill>
        <p:spPr>
          <a:xfrm>
            <a:off x="1403280" y="4221000"/>
            <a:ext cx="1138320" cy="182880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термометр"/>
          <p:cNvPicPr/>
          <p:nvPr/>
        </p:nvPicPr>
        <p:blipFill>
          <a:blip r:embed="rId3"/>
          <a:stretch/>
        </p:blipFill>
        <p:spPr>
          <a:xfrm>
            <a:off x="7308720" y="3357720"/>
            <a:ext cx="1095480" cy="29527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Вопросы и задания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Что помогает людям получать информацию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думайте способ передачи информаци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очему важно защищать информацию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способы защиты вы знает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spcBef>
                <a:spcPts val="799"/>
              </a:spcBef>
              <a:buClr>
                <a:srgbClr val="66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думайте шифр и зашифруйте фразу «Я учу информатику»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WordArt 4"/>
          <p:cNvSpPr txBox="1"/>
          <p:nvPr/>
        </p:nvSpPr>
        <p:spPr>
          <a:xfrm>
            <a:off x="8101080" y="981000"/>
            <a:ext cx="61596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?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4" descr="1681"/>
          <p:cNvPicPr/>
          <p:nvPr/>
        </p:nvPicPr>
        <p:blipFill>
          <a:blip r:embed="rId1"/>
          <a:stretch/>
        </p:blipFill>
        <p:spPr>
          <a:xfrm>
            <a:off x="468360" y="584280"/>
            <a:ext cx="8207280" cy="6157800"/>
          </a:xfrm>
          <a:prstGeom prst="rect">
            <a:avLst/>
          </a:prstGeom>
          <a:ln w="0">
            <a:noFill/>
          </a:ln>
        </p:spPr>
      </p:pic>
      <p:sp>
        <p:nvSpPr>
          <p:cNvPr id="11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бор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Любое научное знание начинается тогда, когда мы можем оценить полученную информацию, сравнить ее, а значит измерить. Поэтому для получения недоступной обычным органам чувств информации широко используются специальные технические устрой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5" descr="j0234687"/>
          <p:cNvPicPr/>
          <p:nvPr/>
        </p:nvPicPr>
        <p:blipFill>
          <a:blip r:embed="rId1"/>
          <a:stretch/>
        </p:blipFill>
        <p:spPr>
          <a:xfrm>
            <a:off x="6732720" y="5437080"/>
            <a:ext cx="2411280" cy="1420920"/>
          </a:xfrm>
          <a:prstGeom prst="rect">
            <a:avLst/>
          </a:prstGeom>
          <a:ln w="0">
            <a:noFill/>
          </a:ln>
        </p:spPr>
      </p:pic>
      <p:sp>
        <p:nvSpPr>
          <p:cNvPr id="12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бор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pic>
        <p:nvPicPr>
          <p:cNvPr id="123" name="Picture 4" descr="2466"/>
          <p:cNvPicPr/>
          <p:nvPr/>
        </p:nvPicPr>
        <p:blipFill>
          <a:blip r:embed="rId1"/>
          <a:stretch/>
        </p:blipFill>
        <p:spPr>
          <a:xfrm>
            <a:off x="179280" y="625320"/>
            <a:ext cx="8820360" cy="568332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Сбор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9152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Одно из древних сооружений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спользуемых для получения астрономической информации, находится в Англии недалеко от города Солсбери. Это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тоунхендж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«висячие камни». Он был построен примерно во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I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веке до н.э. С помощью новейшим методов исследования было установлено, что каменные арки дают направления на крайние положения Солнца и Луны, а 56 белых лунок помогают предсказать время Солнечный и Лунных затмени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4" descr="2466"/>
          <p:cNvPicPr/>
          <p:nvPr/>
        </p:nvPicPr>
        <p:blipFill>
          <a:blip r:embed="rId1"/>
          <a:stretch/>
        </p:blipFill>
        <p:spPr>
          <a:xfrm>
            <a:off x="6156360" y="549360"/>
            <a:ext cx="2698560" cy="1739880"/>
          </a:xfrm>
          <a:prstGeom prst="rect">
            <a:avLst/>
          </a:prstGeom>
          <a:ln w="0">
            <a:noFill/>
          </a:ln>
        </p:spPr>
      </p:pic>
      <p:sp>
        <p:nvSpPr>
          <p:cNvPr id="12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Обработк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обретая жизненный опыт, наблюдая мир вокруг себя, иначе говоря – накапливая все больше и больше информации, человек учится делать вывод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древности говорили, что человек познает мир с помощью органов чувств и осмысливает познанное разум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5" descr="j0299125"/>
          <p:cNvPicPr/>
          <p:nvPr/>
        </p:nvPicPr>
        <p:blipFill>
          <a:blip r:embed="rId1"/>
          <a:stretch/>
        </p:blipFill>
        <p:spPr>
          <a:xfrm>
            <a:off x="7812000" y="2637000"/>
            <a:ext cx="1100160" cy="1804680"/>
          </a:xfrm>
          <a:prstGeom prst="rect">
            <a:avLst/>
          </a:prstGeom>
          <a:ln w="0">
            <a:noFill/>
          </a:ln>
        </p:spPr>
      </p:pic>
      <p:sp>
        <p:nvSpPr>
          <p:cNvPr id="13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Обработк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5" name="Group 9"/>
          <p:cNvGrpSpPr/>
          <p:nvPr/>
        </p:nvGrpSpPr>
        <p:grpSpPr>
          <a:xfrm>
            <a:off x="1041480" y="1773360"/>
            <a:ext cx="7130880" cy="1501560"/>
            <a:chOff x="1041480" y="1773360"/>
            <a:chExt cx="7130880" cy="1501560"/>
          </a:xfrm>
        </p:grpSpPr>
        <p:sp>
          <p:nvSpPr>
            <p:cNvPr id="136" name="Rectangle 4"/>
            <p:cNvSpPr/>
            <p:nvPr/>
          </p:nvSpPr>
          <p:spPr>
            <a:xfrm>
              <a:off x="1041480" y="1916280"/>
              <a:ext cx="1441440" cy="86508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Входн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информац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Rectangle 5"/>
            <p:cNvSpPr/>
            <p:nvPr/>
          </p:nvSpPr>
          <p:spPr>
            <a:xfrm>
              <a:off x="6730920" y="1916280"/>
              <a:ext cx="1441440" cy="86508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Выходна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ru-RU" sz="1800" spc="-1" strike="noStrike">
                  <a:solidFill>
                    <a:srgbClr val="000000"/>
                  </a:solidFill>
                  <a:latin typeface="Times New Roman"/>
                </a:rPr>
                <a:t>информация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AutoShape 6"/>
            <p:cNvSpPr/>
            <p:nvPr/>
          </p:nvSpPr>
          <p:spPr>
            <a:xfrm>
              <a:off x="2770200" y="2205000"/>
              <a:ext cx="792000" cy="216000"/>
            </a:xfrm>
            <a:prstGeom prst="rightArrow">
              <a:avLst>
                <a:gd name="adj1" fmla="val 50000"/>
                <a:gd name="adj2" fmla="val 91667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AutoShape 7"/>
            <p:cNvSpPr/>
            <p:nvPr/>
          </p:nvSpPr>
          <p:spPr>
            <a:xfrm>
              <a:off x="5649840" y="2205000"/>
              <a:ext cx="792360" cy="216000"/>
            </a:xfrm>
            <a:prstGeom prst="rightArrow">
              <a:avLst>
                <a:gd name="adj1" fmla="val 50000"/>
                <a:gd name="adj2" fmla="val 91708"/>
              </a:avLst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40" name="Picture 8" descr="j0292020"/>
            <p:cNvPicPr/>
            <p:nvPr/>
          </p:nvPicPr>
          <p:blipFill>
            <a:blip r:embed="rId1"/>
            <a:stretch/>
          </p:blipFill>
          <p:spPr>
            <a:xfrm>
              <a:off x="3849840" y="1773360"/>
              <a:ext cx="1582560" cy="1501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1" name="Text Box 10"/>
          <p:cNvSpPr/>
          <p:nvPr/>
        </p:nvSpPr>
        <p:spPr>
          <a:xfrm>
            <a:off x="755640" y="3284640"/>
            <a:ext cx="777708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ходная информ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информация, которую получает человек или устройства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00"/>
                </a:solidFill>
                <a:uFillTx/>
                <a:latin typeface="Times New Roman"/>
              </a:rPr>
              <a:t>Выходная информация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– информация, которая получается после обработки человеком или устройств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420000"/>
                </a:solidFill>
                <a:latin typeface="Times New Roman"/>
              </a:rPr>
              <a:t>Передача информации</a:t>
            </a:r>
            <a:endParaRPr b="0" lang="en-US" sz="4400" spc="-1" strike="noStrike">
              <a:solidFill>
                <a:srgbClr val="42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азвитие человека не было бы возможно без обмена информацие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 давних времен люди из поколения в поколение передавали свои знания, извещали об опасности или передавали важную и срочную информацию, обменивались сведениям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Picture 4" descr="j0300520"/>
          <p:cNvPicPr/>
          <p:nvPr/>
        </p:nvPicPr>
        <p:blipFill>
          <a:blip r:embed="rId1"/>
          <a:stretch/>
        </p:blipFill>
        <p:spPr>
          <a:xfrm>
            <a:off x="7380360" y="5340240"/>
            <a:ext cx="1763640" cy="15177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>
            <a:lum contrast="30000"/>
          </a:blip>
          <a:stretch/>
        </p:blipFill>
        <p:spPr>
          <a:xfrm>
            <a:off x="0" y="5364000"/>
            <a:ext cx="1908000" cy="1494000"/>
          </a:xfrm>
          <a:prstGeom prst="rect">
            <a:avLst/>
          </a:prstGeom>
          <a:ln w="0">
            <a:noFill/>
          </a:ln>
        </p:spPr>
      </p:pic>
      <p:sp>
        <p:nvSpPr>
          <p:cNvPr id="1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2:52:04Z</dcterms:created>
  <dc:creator>bas</dc:creator>
  <dc:description/>
  <dc:language>en-US</dc:language>
  <cp:lastModifiedBy>LEGION</cp:lastModifiedBy>
  <dcterms:modified xsi:type="dcterms:W3CDTF">2015-07-01T12:08:28Z</dcterms:modified>
  <cp:revision>21</cp:revision>
  <dc:subject/>
  <dc:title>Информационная деятельность человека</dc:title>
</cp:coreProperties>
</file>