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9F48-E56F-47E3-823E-D801DAB6D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03AB-944E-46FE-9537-20099538A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е передачи или обмене информацией существуют е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уч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ама информация передается п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налу связ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мощью сигналов: механических, электрических, тепловых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2D3A-AE34-41A7-B556-ABCDFD7F7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ующее устройство преобразует информацию в форму, понятную получа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CD56-D49F-4EBA-9A49-650626F92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93C4-F7AB-489F-BC3B-762EA501F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ьный объект, предназначенный для хранения 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9311-3B6F-4C29-866B-A2A407E9A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EF11-385A-4C96-AB00-5D5BB8BAA4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936F-F57E-4BB3-BDF3-9785236B0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иск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это извлечение храним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учной и автоматизированный методы поиска информации в хранили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иска информ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е наблю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 со специалистами по интересующему вас вопро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оответствующей литерату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теле-, видеопрограм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ушивание радиопередач и аудиокасс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библиотеках, архив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 к информационным системам, базам и банкам компьютерных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мет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D976-4CD4-4492-BD03-8F86F1CE5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щиты информации используют различные спосо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граничение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блирование каналов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птографическое преобразование информации с помощью шиф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4AE0-F5DA-487D-9063-21E087445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Шиф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и использованием шифров заним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п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418-4059-486F-B9FC-5F4A23C8C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1189-4ECD-43DC-B4DA-891DDE740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B8C9-95E4-4298-8ADA-3A0DC204D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могает людям получ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способ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ажно защищ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пособы защиты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шифр и зашифруйте фразу «Я учу информати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6972-9254-4735-BC93-5A974460B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3CA0-CC82-4AE4-B905-31990C4E2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B401-38B9-4B03-9917-82267CB88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из древних соору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унхенд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«висячие камни». Он был построен примерно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0661-E9A0-4D60-8621-71FE54C00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1EF-E94B-4D1A-9DAE-7130ECE33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ую получает человек или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ы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ая получается после обработки человеком или 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CF62-34ED-4D89-803D-688189CFF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человека не было бы возможно без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5709-65E3-4E87-B406-038276DE6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0C7-FEAB-4150-9DB2-D9EA4884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96A-C5A7-4D7F-ABCA-37261D0D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F70-F735-45F7-8175-CB9691F3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5B9-83E6-4580-8215-C9D3729D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FF8B-5A59-40F7-9C4D-A73B7143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F987-3134-4587-A7BE-06069A36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3B74-DF45-499A-8D89-E50FC3F4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98B5-7445-4AD5-8E8F-8F257FF9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3366-DE44-4EA6-9120-A65541B2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A199-22E7-48BB-9D69-A69E685D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B1E3-2678-4C26-B32A-60512CB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C61-0176-4C67-BA98-DF9014EB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0AE3-23EE-4D0E-A77F-54AF072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861-C853-41BF-8B94-389D98F7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1B97-21AD-418C-A2F1-24E6DED0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D109-96BB-4163-B5F8-A8319B13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4E2F-745F-40F4-A7C1-AB679195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632-82C3-4C31-ADEF-0C699DF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2A7-AFFC-430C-AC0B-55B3AC3A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A55-8CC1-48E6-B559-97CC5E6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5F2-B677-448F-B422-35EAFD5D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AB1-8B93-48D6-9701-FA6FB84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A77-E9BF-4A4F-ACEB-CEA23516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CC6-7489-4B07-8EFF-63B12C39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DE8E-1EF8-49CC-86B9-E4713AF645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7DAB-D884-479E-82AD-A8FA321AC96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юбом процессе передачи или обмене информацией существуют е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ама информация перед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налу связ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сигналов: механических, электрических, тепловых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1403280" y="2205000"/>
            <a:ext cx="6480360" cy="1079640"/>
            <a:chOff x="1403280" y="2205000"/>
            <a:chExt cx="6480360" cy="1079640"/>
          </a:xfrm>
        </p:grpSpPr>
        <p:sp>
          <p:nvSpPr>
            <p:cNvPr id="151" name="AutoShape 4"/>
            <p:cNvSpPr/>
            <p:nvPr/>
          </p:nvSpPr>
          <p:spPr>
            <a:xfrm>
              <a:off x="1403280" y="234792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6012000" y="2276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2205000"/>
              <a:ext cx="2305080" cy="1079640"/>
            </a:xfrm>
            <a:prstGeom prst="rightArrow">
              <a:avLst>
                <a:gd name="adj1" fmla="val 50000"/>
                <a:gd name="adj2" fmla="val 53376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9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информации от источника к получ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дирующее устройство преобразует информацию в форму, понятную получат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108000" y="2133720"/>
            <a:ext cx="8893080" cy="1077840"/>
            <a:chOff x="108000" y="2133720"/>
            <a:chExt cx="8893080" cy="1077840"/>
          </a:xfrm>
        </p:grpSpPr>
        <p:sp>
          <p:nvSpPr>
            <p:cNvPr id="159" name="AutoShape 5"/>
            <p:cNvSpPr/>
            <p:nvPr/>
          </p:nvSpPr>
          <p:spPr>
            <a:xfrm>
              <a:off x="108000" y="2278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7345440" y="2278080"/>
              <a:ext cx="1655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421080" y="2133720"/>
              <a:ext cx="1871640" cy="1077840"/>
            </a:xfrm>
            <a:prstGeom prst="rightArrow">
              <a:avLst>
                <a:gd name="adj1" fmla="val 50000"/>
                <a:gd name="adj2" fmla="val 43412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1908000" y="2278080"/>
              <a:ext cx="14414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5365800" y="2278080"/>
              <a:ext cx="16556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е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1620720" y="2421000"/>
              <a:ext cx="21600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7093080" y="2421000"/>
              <a:ext cx="21564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ередачи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j0196400"/>
          <p:cNvPicPr/>
          <p:nvPr/>
        </p:nvPicPr>
        <p:blipFill>
          <a:blip r:embed="rId1"/>
          <a:stretch/>
        </p:blipFill>
        <p:spPr>
          <a:xfrm>
            <a:off x="7448400" y="50450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иск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извлечение хранимой информ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ют ручной и автоматизированный методы поиска информации в хранилищ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ы поиска информаци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осредственное наблюден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ас вопрос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мотр теле-, видеопрограм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лушивание радиопередач и аудиокассет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в библиотеках, архив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зам и банкам компьютерных данны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метод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замок"/>
          <p:cNvPicPr/>
          <p:nvPr/>
        </p:nvPicPr>
        <p:blipFill>
          <a:blip r:embed="rId1"/>
          <a:stretch/>
        </p:blipFill>
        <p:spPr>
          <a:xfrm>
            <a:off x="7032600" y="5013360"/>
            <a:ext cx="1560600" cy="184464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щиты информации используют различные способ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раничение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каналов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птографическое преобразование информации с помощью шиф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ением и использованием шифров занимае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067600" y="5491080"/>
            <a:ext cx="107640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j0300840"/>
          <p:cNvPicPr/>
          <p:nvPr/>
        </p:nvPicPr>
        <p:blipFill>
          <a:blip r:embed="rId1"/>
          <a:stretch/>
        </p:blipFill>
        <p:spPr>
          <a:xfrm>
            <a:off x="3924360" y="43657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305257"/>
          <p:cNvPicPr/>
          <p:nvPr/>
        </p:nvPicPr>
        <p:blipFill>
          <a:blip r:embed="rId2"/>
          <a:stretch/>
        </p:blipFill>
        <p:spPr>
          <a:xfrm>
            <a:off x="1403280" y="422100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термометр"/>
          <p:cNvPicPr/>
          <p:nvPr/>
        </p:nvPicPr>
        <p:blipFill>
          <a:blip r:embed="rId3"/>
          <a:stretch/>
        </p:blipFill>
        <p:spPr>
          <a:xfrm>
            <a:off x="7308720" y="3357720"/>
            <a:ext cx="10954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и зад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могает людям получ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способ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важно защищ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пособы защиты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шифр и зашифруйте фразу «Я учу информатик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8101080" y="981000"/>
            <a:ext cx="6159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1681"/>
          <p:cNvPicPr/>
          <p:nvPr/>
        </p:nvPicPr>
        <p:blipFill>
          <a:blip r:embed="rId1"/>
          <a:stretch/>
        </p:blipFill>
        <p:spPr>
          <a:xfrm>
            <a:off x="468360" y="584280"/>
            <a:ext cx="8207280" cy="61578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0234687"/>
          <p:cNvPicPr/>
          <p:nvPr/>
        </p:nvPicPr>
        <p:blipFill>
          <a:blip r:embed="rId1"/>
          <a:stretch/>
        </p:blipFill>
        <p:spPr>
          <a:xfrm>
            <a:off x="6732720" y="5437080"/>
            <a:ext cx="2411280" cy="142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4" descr="2466"/>
          <p:cNvPicPr/>
          <p:nvPr/>
        </p:nvPicPr>
        <p:blipFill>
          <a:blip r:embed="rId1"/>
          <a:stretch/>
        </p:blipFill>
        <p:spPr>
          <a:xfrm>
            <a:off x="179280" y="625320"/>
            <a:ext cx="8820360" cy="5683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91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древних сооружен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висячие камни». Он был построен примерно 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2466"/>
          <p:cNvPicPr/>
          <p:nvPr/>
        </p:nvPicPr>
        <p:blipFill>
          <a:blip r:embed="rId1"/>
          <a:stretch/>
        </p:blipFill>
        <p:spPr>
          <a:xfrm>
            <a:off x="6156360" y="549360"/>
            <a:ext cx="2698560" cy="1739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36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8" descr="j0292020"/>
            <p:cNvPicPr/>
            <p:nvPr/>
          </p:nvPicPr>
          <p:blipFill>
            <a:blip r:embed="rId1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10"/>
          <p:cNvSpPr/>
          <p:nvPr/>
        </p:nvSpPr>
        <p:spPr>
          <a:xfrm>
            <a:off x="755640" y="328464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человека не было бы возможно без обмена информа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j0300520"/>
          <p:cNvPicPr/>
          <p:nvPr/>
        </p:nvPicPr>
        <p:blipFill>
          <a:blip r:embed="rId1"/>
          <a:stretch/>
        </p:blipFill>
        <p:spPr>
          <a:xfrm>
            <a:off x="7380360" y="5340240"/>
            <a:ext cx="176364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5364000"/>
            <a:ext cx="1908000" cy="1494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LEGION</cp:lastModifiedBy>
  <dcterms:modified xsi:type="dcterms:W3CDTF">2015-07-01T12:08:28Z</dcterms:modified>
  <cp:revision>21</cp:revision>
  <dc:subject/>
  <dc:title>Информационная деятельность человека</dc:title>
</cp:coreProperties>
</file>