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5.gif" ContentType="image/gif"/>
  <Override PartName="/ppt/media/image1.wmf" ContentType="image/x-wmf"/>
  <Override PartName="/ppt/media/image2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7.wmf" ContentType="image/x-wmf"/>
  <Override PartName="/ppt/media/image9.gif" ContentType="image/gif"/>
  <Override PartName="/ppt/media/image6.jpeg" ContentType="image/jpeg"/>
  <Override PartName="/ppt/media/image10.png" ContentType="image/png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E5FC-371C-41B3-A804-EE1AC0C3C9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00EA-FC7A-45F4-A5D9-FF9B37F1B9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юбом процессе передачи или обмене информацией существуют е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луча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сама информация передается п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налу связ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помощью сигналов: механических, электрических, тепловых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E2F4-9A8D-405F-A822-EA13C9C46D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ующее устройство необходимо для преобразования информации в форму, удобную для пере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ующее устройство преобразует информацию в форму, понятную получа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A86D-900D-4116-BCBA-361EBEA899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ческий разум является совершенным инструментом познания окружающего мира. А память человека – великолепным устройством для хранения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для долговременного хранения информации, ее накопления и передачи из поколения в поколение необходимо иметь возможность ее хранить не только в памяти  человека. Для этого используются носители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95C8-AA91-49FB-8342-A2816B6770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оситель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атериальный объект, предназначенный для хранения и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ая природа носителей информации может быть различной: молекулы ДНК, которые хранят генетическую информацию; бумага, на которой хранятся тексты и изображения; магнитная лента, на которой хранится звуковая информация; фото- и кинопленки, на которых хранится графическая информация; микросхемы памяти, магнитные и лазерные диски, на которых хранятся программы и данные в компьютере, и так дал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F640-7627-4303-9B57-24228D837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AFE9-7EC7-4217-8EAD-AD10210BE5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 сохранить информацию недостаточно. Нужно уметь ею пользоваться. А для того чтобы воспользоваться нужной информацией в нужный момент необходимо уметь ее быстро най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AB14-328E-4156-ACD0-3194739C8C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иск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это извлечение храним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ручной и автоматизированный методы поиска информации в хранилищ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оиска информац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средственное наблюд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ние со специалистами по интересующему вас вопрос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ение соответствующей литератур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мотр теле-, видеопрограм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лушивание радиопередач и аудиокассе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в библиотеках, архив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ос к информационным системам, базам и банкам компьютерных данны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мет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жизни человека информация играет очень важную роль. От нее зависит принятие решений, влияющих на развитие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едотвращения потери информации разрабатываются различные механизмы ее защиты, которые используются на всех этапах работы с 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3EF2-5E67-48A9-B851-35D6A8D642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защиты информации используют различные способ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доступ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граничение доступ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блирование каналов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птографическое преобразование информации с помощью шиф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F03C-6688-4C0C-8BE8-948AB10994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Шифр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зывают секретный код преобразования информации с целью ее защиты от незаконный пользов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ением и использованием шифров занима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иптограф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6656-68A7-46AA-A0E6-91EE36EA4D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бор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работка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дача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ранение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иск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щита информ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7201-A7A4-4A00-AFF6-5FF910322B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 деятельность человека связана с различными действиями с информацией, и помогают ему в этом разнообразные технические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8667-344A-40E8-B38B-EB51FAC748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и 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могает людям получать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думайте способ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ажно защищать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способы защиты вы зн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думайте шифр и зашифруйте фразу «Я учу информатик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2906-48F2-4D4A-B009-3E6B404AA0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е научное знание начинается тогда, когда мы можем оценить полученную информацию, сравнить ее, а значит измерить. Поэтому для получения недоступной обычным органам чувств информации широко используются специальные технические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E08E-C14F-4B60-9A68-A7CD9C0C82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ACC3-4E1C-4D71-A479-4F4E4C3708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 из древних сооруж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х для получения астрономической информации, находится в Англии недалеко от города Солсбери. Э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оунхендж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«висячие камни». Он был построен примерно в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е до н.э. С помощью новейшим методов исследования было установлено, что каменные арки дают направления на крайние положения Солнца и Луны, а 56 белых лунок помогают предсказать время Солнечный и Лунных затм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31E8-FA71-4C7E-BB31-943CE963B7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ая жизненный опыт, наблюдая мир вокруг себя, иначе говоря – накапливая все больше и больше информации, человек учится делать вы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ревности говорили, что человек познает мир с помощью органов чувств и осмысливает познанное разу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1DDA-944F-4471-A9C8-EC0266457F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ходн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ормация, которую получает человек или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ыходн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ормация, которая получается после обработки человеком или устрой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6D8D-9002-4B3B-9C20-CD43F6FC09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человека не было бы возможно без обмена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авних времен люди из поколения в поколение передавали свои знания, извещали об опасности или передавали важную и срочную информацию, обменивались свед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E090-C6FF-427A-8061-DC44F069F6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4D0-03F6-4E12-81C9-23FBB306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A61D-6E44-4100-B7A7-B9E397A0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20A-2CA9-4533-B56D-3AA8F8B0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339-9934-4A28-B5CA-6CE94EA3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75FB-3662-46FA-ADB3-F6EB37E9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AF30-A017-47DA-B795-9BEDC535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D34D-8419-4B1C-A857-7731A40D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0FE9-C1E5-44D4-8B84-6351D0DE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1865-6E6D-4474-B475-501749F0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4587-8E03-4770-803E-4DE77DCD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42F5-59C6-4F29-972E-006F64BD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D10-F4E5-40C8-AC29-C929AD34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7448-AD9B-45A7-A7FF-BAAC5C65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9940-5EC3-4C5F-95DD-7884044A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18BE-7989-4319-A54E-267A1A7B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062B-073F-4835-BC31-53E27495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9A49-1B8E-4532-820C-0E83D96C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9A35-DB52-4BBD-8BD6-0D8DACBA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2F21-046C-4889-9A42-62AD2CE8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D3F-A9BF-4C18-AC14-A854A99D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DBDE-5722-49B4-9CC9-D6BE1FD9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D81-A4D9-46F9-BF5F-EF54576E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F96-10A2-4B74-924C-1C35AAC7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5BB-CFF6-4616-9234-1B89CF9A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D9E1-5D23-437A-B51F-2E8BF14004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Text Box 13"/>
          <p:cNvSpPr/>
          <p:nvPr/>
        </p:nvSpPr>
        <p:spPr>
          <a:xfrm>
            <a:off x="450720" y="93600"/>
            <a:ext cx="8137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468360" y="404640"/>
            <a:ext cx="777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DE4B-587A-4661-A9A1-292D4727A4F9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юбом процессе передачи или обмене информацией существуют е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сточ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лучат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сама информация передается п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аналу связ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помощью сигналов: механических, электрических, тепловых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1403280" y="2205000"/>
            <a:ext cx="6480360" cy="1079640"/>
            <a:chOff x="1403280" y="2205000"/>
            <a:chExt cx="6480360" cy="1079640"/>
          </a:xfrm>
        </p:grpSpPr>
        <p:sp>
          <p:nvSpPr>
            <p:cNvPr id="151" name="AutoShape 4"/>
            <p:cNvSpPr/>
            <p:nvPr/>
          </p:nvSpPr>
          <p:spPr>
            <a:xfrm>
              <a:off x="1403280" y="2347920"/>
              <a:ext cx="1871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ч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6"/>
            <p:cNvSpPr/>
            <p:nvPr/>
          </p:nvSpPr>
          <p:spPr>
            <a:xfrm>
              <a:off x="6012000" y="227664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лучател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7"/>
            <p:cNvSpPr/>
            <p:nvPr/>
          </p:nvSpPr>
          <p:spPr>
            <a:xfrm>
              <a:off x="3564000" y="2205000"/>
              <a:ext cx="2305080" cy="1079640"/>
            </a:xfrm>
            <a:prstGeom prst="rightArrow">
              <a:avLst>
                <a:gd name="adj1" fmla="val 50000"/>
                <a:gd name="adj2" fmla="val 53376"/>
              </a:avLst>
            </a:prstGeom>
            <a:solidFill>
              <a:srgbClr val="66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cc00"/>
                  </a:solidFill>
                  <a:latin typeface="Times New Roman"/>
                </a:rPr>
                <a:t>Канал связ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Text Box 9"/>
          <p:cNvSpPr/>
          <p:nvPr/>
        </p:nvSpPr>
        <p:spPr>
          <a:xfrm>
            <a:off x="1116000" y="177336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дача информации от источника к получател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3212640"/>
            <a:ext cx="822960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дирующее устройство необходимо для преобразования информации в форму, удобную для передач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кодирующее устройство преобразует информацию в форму, понятную получател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2"/>
          <p:cNvGrpSpPr/>
          <p:nvPr/>
        </p:nvGrpSpPr>
        <p:grpSpPr>
          <a:xfrm>
            <a:off x="108000" y="2133720"/>
            <a:ext cx="8893080" cy="1077840"/>
            <a:chOff x="108000" y="2133720"/>
            <a:chExt cx="8893080" cy="1077840"/>
          </a:xfrm>
        </p:grpSpPr>
        <p:sp>
          <p:nvSpPr>
            <p:cNvPr id="159" name="AutoShape 5"/>
            <p:cNvSpPr/>
            <p:nvPr/>
          </p:nvSpPr>
          <p:spPr>
            <a:xfrm>
              <a:off x="108000" y="227808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ч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6"/>
            <p:cNvSpPr/>
            <p:nvPr/>
          </p:nvSpPr>
          <p:spPr>
            <a:xfrm>
              <a:off x="7345440" y="2278080"/>
              <a:ext cx="1655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лучател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421080" y="2133720"/>
              <a:ext cx="1871640" cy="1077840"/>
            </a:xfrm>
            <a:prstGeom prst="rightArrow">
              <a:avLst>
                <a:gd name="adj1" fmla="val 50000"/>
                <a:gd name="adj2" fmla="val 43412"/>
              </a:avLst>
            </a:prstGeom>
            <a:solidFill>
              <a:srgbClr val="66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cc00"/>
                  </a:solidFill>
                  <a:latin typeface="Times New Roman"/>
                </a:rPr>
                <a:t>Канал связ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8"/>
            <p:cNvSpPr/>
            <p:nvPr/>
          </p:nvSpPr>
          <p:spPr>
            <a:xfrm>
              <a:off x="1908000" y="2278080"/>
              <a:ext cx="1441440" cy="792360"/>
            </a:xfrm>
            <a:prstGeom prst="rect">
              <a:avLst/>
            </a:prstGeom>
            <a:solidFill>
              <a:srgbClr val="ca9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Кодирующе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стройств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9"/>
            <p:cNvSpPr/>
            <p:nvPr/>
          </p:nvSpPr>
          <p:spPr>
            <a:xfrm>
              <a:off x="5365800" y="2278080"/>
              <a:ext cx="1655640" cy="792360"/>
            </a:xfrm>
            <a:prstGeom prst="rect">
              <a:avLst/>
            </a:prstGeom>
            <a:solidFill>
              <a:srgbClr val="ca9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екодирующе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стройств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10"/>
            <p:cNvSpPr/>
            <p:nvPr/>
          </p:nvSpPr>
          <p:spPr>
            <a:xfrm>
              <a:off x="1620720" y="2421000"/>
              <a:ext cx="216000" cy="5050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1"/>
            <p:cNvSpPr/>
            <p:nvPr/>
          </p:nvSpPr>
          <p:spPr>
            <a:xfrm>
              <a:off x="7093080" y="2421000"/>
              <a:ext cx="215640" cy="5050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 Box 13"/>
          <p:cNvSpPr/>
          <p:nvPr/>
        </p:nvSpPr>
        <p:spPr>
          <a:xfrm>
            <a:off x="1116000" y="177336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хема передачи информ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Хранение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ловеческий разум является совершенным инструментом познания окружающего мира. А память человека – великолепным устройством для хранения ин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ако для долговременного хранения информации, ее накопления и передачи из поколения в поколение необходимо иметь возможность ее хранить не только в памяти  человека. Для этого используются носители информ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j0196400"/>
          <p:cNvPicPr/>
          <p:nvPr/>
        </p:nvPicPr>
        <p:blipFill>
          <a:blip r:embed="rId1"/>
          <a:stretch/>
        </p:blipFill>
        <p:spPr>
          <a:xfrm>
            <a:off x="7448400" y="504504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Хранение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оситель 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материальный объект, предназначенный для хранения и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Материальная природа носителей информации может быть различной: молекулы ДНК, которые хранят генетическую информацию; бумага, на которой хранятся тексты и изображения; магнитная лента, на которой хранится звуковая информация; фото- и кинопленки, на которых хранится графическая информация; микросхемы памяти, магнитные и лазерные диски, на которых хранятся программы и данные в компьютере, и так далее.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оиск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 сохранить информацию недостаточно. Нужно уметь ею пользоваться. А для того чтобы воспользоваться нужной информацией в нужный момент необходимо уметь ее быстро най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лупа"/>
          <p:cNvPicPr/>
          <p:nvPr/>
        </p:nvPicPr>
        <p:blipFill>
          <a:blip r:embed="rId1"/>
          <a:stretch/>
        </p:blipFill>
        <p:spPr>
          <a:xfrm>
            <a:off x="6576840" y="4365720"/>
            <a:ext cx="2260800" cy="24922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лупа"/>
          <p:cNvPicPr/>
          <p:nvPr/>
        </p:nvPicPr>
        <p:blipFill>
          <a:blip r:embed="rId1"/>
          <a:stretch/>
        </p:blipFill>
        <p:spPr>
          <a:xfrm>
            <a:off x="6576840" y="4365720"/>
            <a:ext cx="2260800" cy="24922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оиск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оиск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— это извлечение хранимой информац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уществуют ручной и автоматизированный методы поиска информации в хранилища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тоды поиска информаци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посредственное наблюдение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щение со специалистами по интересующему вас вопросу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тение соответствующей литературы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смотр теле-, видеопрограмм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слушивание радиопередач и аудиокассет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бота в библиотеках, архива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прос к информационным системам, базам и банкам компьютерных данны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гие метод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жизни человека информация играет очень важную роль. От нее зависит принятие решений, влияющих на развитие обще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редотвращения потери информации разрабатываются различные механизмы ее защиты, которые используются на всех этапах работы с н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замок"/>
          <p:cNvPicPr/>
          <p:nvPr/>
        </p:nvPicPr>
        <p:blipFill>
          <a:blip r:embed="rId1"/>
          <a:stretch/>
        </p:blipFill>
        <p:spPr>
          <a:xfrm>
            <a:off x="7032600" y="5013360"/>
            <a:ext cx="1560600" cy="184464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защиты информации используют различные способ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троль досту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граничение досту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блирование каналов связ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птографическое преобразование информации с помощью шиф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Шиф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 секретный код преобразования информации с целью ее защиты от незаконный пользова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етением и использованием шифров занимаетс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риптограф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8067600" y="5491080"/>
            <a:ext cx="1076400" cy="13669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бор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работка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редача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Хранение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иск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щита информац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я деятельность человека связана с различными действиями с информацией, и помогают ему в этом разнообразные технические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j0300840"/>
          <p:cNvPicPr/>
          <p:nvPr/>
        </p:nvPicPr>
        <p:blipFill>
          <a:blip r:embed="rId1"/>
          <a:stretch/>
        </p:blipFill>
        <p:spPr>
          <a:xfrm>
            <a:off x="3924360" y="4365720"/>
            <a:ext cx="1814400" cy="1528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j0305257"/>
          <p:cNvPicPr/>
          <p:nvPr/>
        </p:nvPicPr>
        <p:blipFill>
          <a:blip r:embed="rId2"/>
          <a:stretch/>
        </p:blipFill>
        <p:spPr>
          <a:xfrm>
            <a:off x="1403280" y="422100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термометр"/>
          <p:cNvPicPr/>
          <p:nvPr/>
        </p:nvPicPr>
        <p:blipFill>
          <a:blip r:embed="rId3"/>
          <a:stretch/>
        </p:blipFill>
        <p:spPr>
          <a:xfrm>
            <a:off x="7308720" y="3357720"/>
            <a:ext cx="109548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опросы и зада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помогает людям получать информаци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думайте способ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чему важно защищать информаци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способы защиты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думайте шифр и зашифруйте фразу «Я учу информатику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8101080" y="981000"/>
            <a:ext cx="6159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1681"/>
          <p:cNvPicPr/>
          <p:nvPr/>
        </p:nvPicPr>
        <p:blipFill>
          <a:blip r:embed="rId1"/>
          <a:stretch/>
        </p:blipFill>
        <p:spPr>
          <a:xfrm>
            <a:off x="468360" y="584280"/>
            <a:ext cx="8207280" cy="61578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научное знание начинается тогда, когда мы можем оценить полученную информацию, сравнить ее, а значит измерить. Поэтому для получения недоступной обычным органам чувств информации широко используются специальные технические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j0234687"/>
          <p:cNvPicPr/>
          <p:nvPr/>
        </p:nvPicPr>
        <p:blipFill>
          <a:blip r:embed="rId1"/>
          <a:stretch/>
        </p:blipFill>
        <p:spPr>
          <a:xfrm>
            <a:off x="6732720" y="5437080"/>
            <a:ext cx="2411280" cy="1420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3" name="Picture 4" descr="2466"/>
          <p:cNvPicPr/>
          <p:nvPr/>
        </p:nvPicPr>
        <p:blipFill>
          <a:blip r:embed="rId1"/>
          <a:stretch/>
        </p:blipFill>
        <p:spPr>
          <a:xfrm>
            <a:off x="179280" y="625320"/>
            <a:ext cx="8820360" cy="5683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91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о из древних сооружени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емых для получения астрономической информации, находится в Англии недалеко от города Солсбери. Э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оунхендж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«висячие камни». Он был построен примерно в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е до н.э. С помощью новейшим методов исследования было установлено, что каменные арки дают направления на крайние положения Солнца и Луны, а 56 белых лунок помогают предсказать время Солнечный и Лунных затм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2466"/>
          <p:cNvPicPr/>
          <p:nvPr/>
        </p:nvPicPr>
        <p:blipFill>
          <a:blip r:embed="rId1"/>
          <a:stretch/>
        </p:blipFill>
        <p:spPr>
          <a:xfrm>
            <a:off x="6156360" y="549360"/>
            <a:ext cx="2698560" cy="1739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обретая жизненный опыт, наблюдая мир вокруг себя, иначе говоря – накапливая все больше и больше информации, человек учится делать выво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древности говорили, что человек познает мир с помощью органов чувств и осмысливает познанное разум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j0299125"/>
          <p:cNvPicPr/>
          <p:nvPr/>
        </p:nvPicPr>
        <p:blipFill>
          <a:blip r:embed="rId1"/>
          <a:stretch/>
        </p:blipFill>
        <p:spPr>
          <a:xfrm>
            <a:off x="7812000" y="2637000"/>
            <a:ext cx="1100160" cy="1804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1041480" y="1773360"/>
            <a:ext cx="7130880" cy="1501560"/>
            <a:chOff x="1041480" y="1773360"/>
            <a:chExt cx="7130880" cy="1501560"/>
          </a:xfrm>
        </p:grpSpPr>
        <p:sp>
          <p:nvSpPr>
            <p:cNvPr id="136" name="Rectangle 4"/>
            <p:cNvSpPr/>
            <p:nvPr/>
          </p:nvSpPr>
          <p:spPr>
            <a:xfrm>
              <a:off x="1041480" y="1916280"/>
              <a:ext cx="1441440" cy="865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ход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форм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6730920" y="1916280"/>
              <a:ext cx="1441440" cy="865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ыход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форм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6"/>
            <p:cNvSpPr/>
            <p:nvPr/>
          </p:nvSpPr>
          <p:spPr>
            <a:xfrm>
              <a:off x="2770200" y="2205000"/>
              <a:ext cx="792000" cy="216000"/>
            </a:xfrm>
            <a:prstGeom prst="rightArrow">
              <a:avLst>
                <a:gd name="adj1" fmla="val 50000"/>
                <a:gd name="adj2" fmla="val 91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5649840" y="2205000"/>
              <a:ext cx="792360" cy="216000"/>
            </a:xfrm>
            <a:prstGeom prst="rightArrow">
              <a:avLst>
                <a:gd name="adj1" fmla="val 50000"/>
                <a:gd name="adj2" fmla="val 9170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Picture 8" descr="j0292020"/>
            <p:cNvPicPr/>
            <p:nvPr/>
          </p:nvPicPr>
          <p:blipFill>
            <a:blip r:embed="rId1"/>
            <a:stretch/>
          </p:blipFill>
          <p:spPr>
            <a:xfrm>
              <a:off x="3849840" y="1773360"/>
              <a:ext cx="1582560" cy="150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 Box 10"/>
          <p:cNvSpPr/>
          <p:nvPr/>
        </p:nvSpPr>
        <p:spPr>
          <a:xfrm>
            <a:off x="755640" y="3284640"/>
            <a:ext cx="77770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ходн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нформация, которую получает человек или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ыходн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нформация, которая получается после обработки человеком или устройств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человека не было бы возможно без обмена информаци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авних времен люди из поколения в поколение передавали свои знания, извещали об опасности или передавали важную и срочную информацию, обменивались сведени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j0300520"/>
          <p:cNvPicPr/>
          <p:nvPr/>
        </p:nvPicPr>
        <p:blipFill>
          <a:blip r:embed="rId1"/>
          <a:stretch/>
        </p:blipFill>
        <p:spPr>
          <a:xfrm>
            <a:off x="7380360" y="5340240"/>
            <a:ext cx="1763640" cy="1517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5364000"/>
            <a:ext cx="1908000" cy="1494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2:52:04Z</dcterms:created>
  <dc:creator>bas</dc:creator>
  <dc:description/>
  <dc:language>en-US</dc:language>
  <cp:lastModifiedBy>LEGION</cp:lastModifiedBy>
  <dcterms:modified xsi:type="dcterms:W3CDTF">2015-07-01T12:08:28Z</dcterms:modified>
  <cp:revision>21</cp:revision>
  <dc:subject/>
  <dc:title>Информационная деятельность человека</dc:title>
</cp:coreProperties>
</file>