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700C-5661-4438-B724-187C96F2C3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2FF3-F0F2-4E0A-9692-7A0E6FA00D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Характер философского знания и задачи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A0A2-813D-4649-965B-FC2450A774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иодизация западной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нтич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 до н.э.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 н.э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нняя античная философ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-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ысокая классика»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конец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– I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ллинистическая философия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ец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V – 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дняя античная философ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-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.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редневеков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V-XIV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тристика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ластика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I-XI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Философия Возрожд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V-XVI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ов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VII – 1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т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чальный период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 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чало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я Просвещен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середин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мецкая классическая философ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конец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I – 1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еть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времен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с 40-х гг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F1E3-862C-4512-9E2C-5D64CE75F0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лан лекционного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водный разд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Характер философского знания и задачи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илософ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дел 1. Античная и средневековая философ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2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нняя греческая натурфилософ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3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нтичный атомизм: обоснование материал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4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латон: обоснование идеал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5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илософия Аристоте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6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пикурейцы и сто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7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нтичный скептиц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8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редневековая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илософия: патрист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9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редневековая философия: схоласт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дел 2. Философия Нового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0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экон: обоснование эмпир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1. Декарт и Спиноза: обоснование рационал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2. Локк и Лейбниц: онтологические предпосылки и природа позн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3. Беркли и Юм: субъективный идеал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4. Кант: трансцендентальный идеал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5. Гегель: абсолютный идеал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6. Фейербах и Маркс: конец классической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мецкой философ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0EBA-1E91-4658-8B23-7DF2626866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A928-11F3-4353-93DE-B6EFC9573C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Характер философского знания и задачи философ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нятие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взгляда на предмет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раздела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философские трад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иодизация западн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лан лекционного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07FB-B056-4C4E-9613-6AF9CCADD5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нятие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8E05-8A44-4D53-A4C7-EA1A05BE5C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взгляда на предмет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25E0-5E3A-4E4C-B0D7-5A9F27EEBF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AD31-1E88-4D57-91EB-5E49ECB08E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BC2F-5055-4B1A-A305-85AD948874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68F2-3240-4CA9-BD74-A87B48D104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F9A4-E8A6-4F3B-94DD-79B5CEBF24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философские трад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4663-56FC-4B7F-AE75-FBD7BDF6B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D534-12DB-4BFA-9CB7-DA290020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0916-59C8-4702-A9F2-CC3A1948E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E7BA-22B5-419F-A3AB-F71681CEF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3F59-AB48-41BE-9032-D375849F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AC11-5158-42CE-A64D-AFF9BEB3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DFF2-00A6-4CF5-B475-8FD8E048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4FD5-2FC1-4CDA-8BD6-ABC0D4FB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8C72-A76E-44A7-B44B-C0119884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A05A-E456-46D4-AE3C-3C3D2FCC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9403-A341-4A54-89C5-8E4B9CCC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D3AB-519A-4D50-B651-53A3135C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EE35-DEE4-46D9-AFF4-E28723E814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85480" y="1999800"/>
            <a:ext cx="856116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Характер философского знания и задачи философ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иодизация западной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58560" y="1438200"/>
            <a:ext cx="85899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нтич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 до н.э.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 н.э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нняя античная философ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-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ысокая классика»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конец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– I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ллинистическая философия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ец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V – 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дняя античная философ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-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.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редневеков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V-XIV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тристика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ластика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I-XI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Философия Возрожд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V-XVI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ов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VII – 1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т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чальный период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 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чало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я Просвещен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середин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мецкая классическая философ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конец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I – 1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еть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времен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с 40-х гг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0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9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10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31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6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17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19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21" dur="1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22" dur="1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32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8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29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331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33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34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лан лекционного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7760" y="1168560"/>
            <a:ext cx="8805960" cy="54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водный разд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Характер философского знания и задачи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илософ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дел 1. Античная и средневековая философ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2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нняя греческая натурфилософ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3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нтичный атомизм: обоснование материал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4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латон: обоснование идеал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5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илософия Аристоте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6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пикурейцы и сто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7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нтичный скептиц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8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редневековая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илософия: патрист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9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редневековая философия: схоласт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дел 2. Философия Нового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0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экон: обоснование эмпир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1. Декарт и Спиноза: обоснование рационал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2. Локк и Лейбниц: онтологические предпосылки и природа позн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3. Беркли и Юм: субъективный идеал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4. Кант: трансцендентальный идеал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5. Гегель: абсолютный идеал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6. Фейербах и Маркс: конец классической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мецкой философ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1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1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арактер философского знания и задачи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6480" y="2139840"/>
            <a:ext cx="679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нятие фило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 взгляда на предмет фило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 раздела фило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 философские тради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иодизация западной фило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лан лекционного кур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нятие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5037120" y="2085840"/>
            <a:ext cx="3598920" cy="234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Φιλοσοφί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5510520" y="3057480"/>
            <a:ext cx="2637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00"/>
                </a:solidFill>
                <a:latin typeface="Times New Roman"/>
              </a:rPr>
              <a:t>φιλειν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 – люб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00"/>
                </a:solidFill>
                <a:latin typeface="Times New Roman"/>
              </a:rPr>
              <a:t>σοφία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 – мудр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514520" y="5505480"/>
            <a:ext cx="1623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ифагор 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Raphael, Pythagoras (School of Athens - red)"/>
          <p:cNvPicPr/>
          <p:nvPr/>
        </p:nvPicPr>
        <p:blipFill>
          <a:blip r:embed="rId1"/>
          <a:stretch/>
        </p:blipFill>
        <p:spPr>
          <a:xfrm>
            <a:off x="719280" y="1798560"/>
            <a:ext cx="3771720" cy="323856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19980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и взгляда на предмет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466560" y="1438200"/>
            <a:ext cx="3598920" cy="172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аука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 наиболее общих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аконах мироздания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(о мире как цел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2770200" y="3094200"/>
            <a:ext cx="3598920" cy="172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ознание,</a:t>
            </a:r>
            <a:br>
              <a:rPr sz="2000"/>
            </a:b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свободное от догм,</a:t>
            </a:r>
            <a:br>
              <a:rPr sz="2000"/>
            </a:b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но не достигшее</a:t>
            </a:r>
            <a:br>
              <a:rPr sz="2000"/>
            </a:b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научной то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"/>
          <p:cNvSpPr/>
          <p:nvPr/>
        </p:nvSpPr>
        <p:spPr>
          <a:xfrm>
            <a:off x="5073480" y="4749840"/>
            <a:ext cx="3598920" cy="172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зучение не мира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амого по себе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 отношени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человека и ми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2769120" y="6056280"/>
            <a:ext cx="168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ристо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5038560" y="1522440"/>
            <a:ext cx="107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с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4" descr="hare, russell (cut, red)"/>
          <p:cNvPicPr/>
          <p:nvPr/>
        </p:nvPicPr>
        <p:blipFill>
          <a:blip r:embed="rId1"/>
          <a:stretch/>
        </p:blipFill>
        <p:spPr>
          <a:xfrm>
            <a:off x="6513480" y="1438200"/>
            <a:ext cx="2158920" cy="215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9" name="Picture 15" descr="hare_aristotle (cut, red)"/>
          <p:cNvPicPr/>
          <p:nvPr/>
        </p:nvPicPr>
        <p:blipFill>
          <a:blip r:embed="rId2"/>
          <a:stretch/>
        </p:blipFill>
        <p:spPr>
          <a:xfrm>
            <a:off x="466560" y="4317840"/>
            <a:ext cx="2159280" cy="21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"/>
          <p:cNvSpPr/>
          <p:nvPr/>
        </p:nvSpPr>
        <p:spPr>
          <a:xfrm>
            <a:off x="2986200" y="1798560"/>
            <a:ext cx="3238560" cy="1008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Философ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358920" y="3886200"/>
            <a:ext cx="259056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Онтология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(метафизи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3309840" y="3886200"/>
            <a:ext cx="259092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Гносеология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(эпистемолог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6261120" y="3886200"/>
            <a:ext cx="259092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Этика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(аксиолог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AutoShape 13"/>
          <p:cNvCxnSpPr/>
          <p:nvPr/>
        </p:nvCxnSpPr>
        <p:spPr>
          <a:xfrm>
            <a:off x="4605480" y="2806560"/>
            <a:ext cx="2160" cy="540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7" name="AutoShape 14"/>
          <p:cNvCxnSpPr/>
          <p:nvPr/>
        </p:nvCxnSpPr>
        <p:spPr>
          <a:xfrm>
            <a:off x="4605480" y="3346200"/>
            <a:ext cx="2160" cy="54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8" name="Line 15"/>
          <p:cNvSpPr/>
          <p:nvPr/>
        </p:nvSpPr>
        <p:spPr>
          <a:xfrm>
            <a:off x="1654200" y="3346560"/>
            <a:ext cx="2951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6"/>
          <p:cNvSpPr/>
          <p:nvPr/>
        </p:nvSpPr>
        <p:spPr>
          <a:xfrm>
            <a:off x="4605480" y="3346560"/>
            <a:ext cx="2950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AutoShape 17"/>
          <p:cNvCxnSpPr/>
          <p:nvPr/>
        </p:nvCxnSpPr>
        <p:spPr>
          <a:xfrm>
            <a:off x="1654200" y="3346200"/>
            <a:ext cx="2160" cy="54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1" name="AutoShape 18"/>
          <p:cNvCxnSpPr/>
          <p:nvPr/>
        </p:nvCxnSpPr>
        <p:spPr>
          <a:xfrm>
            <a:off x="7556040" y="3346200"/>
            <a:ext cx="2520" cy="54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82" name="Rectangle 19"/>
          <p:cNvSpPr/>
          <p:nvPr/>
        </p:nvSpPr>
        <p:spPr>
          <a:xfrm>
            <a:off x="358920" y="5037120"/>
            <a:ext cx="259056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учение о бы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0"/>
          <p:cNvSpPr/>
          <p:nvPr/>
        </p:nvSpPr>
        <p:spPr>
          <a:xfrm>
            <a:off x="3309840" y="5037120"/>
            <a:ext cx="25909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чение о зн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1"/>
          <p:cNvSpPr/>
          <p:nvPr/>
        </p:nvSpPr>
        <p:spPr>
          <a:xfrm>
            <a:off x="6261120" y="5037120"/>
            <a:ext cx="25909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чение о благ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ценност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9"/>
          <p:cNvSpPr/>
          <p:nvPr/>
        </p:nvSpPr>
        <p:spPr>
          <a:xfrm>
            <a:off x="358920" y="1798560"/>
            <a:ext cx="3958920" cy="39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Онтолог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όν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од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όντο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уще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λόγο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лово, понятие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дел философии, изучающий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фундаментальные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ринципы быт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иболее общие сущност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категории сущего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огда отождествляе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br>
              <a:rPr sz="1800"/>
            </a:b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метафизикой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чаще рассматривается ка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ё основополагающая часть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.е. как метафизика бы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0"/>
          <p:cNvSpPr/>
          <p:nvPr/>
        </p:nvSpPr>
        <p:spPr>
          <a:xfrm>
            <a:off x="4786200" y="1798560"/>
            <a:ext cx="3959280" cy="39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Метафизи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μετά</a:t>
            </a:r>
            <a:r>
              <a:rPr b="1" lang="ru-RU" sz="2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τά</a:t>
            </a:r>
            <a:r>
              <a:rPr b="1" lang="ru-RU" sz="2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φυσικά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после физики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ское учение о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верхопытных началах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и законах бытия вообщ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ли какого-либо типа бытия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огда употребля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синоним слова</a:t>
            </a:r>
            <a:br>
              <a:rPr sz="1800"/>
            </a:b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«философия»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ли сближается с понятием</a:t>
            </a:r>
            <a:br>
              <a:rPr sz="1800"/>
            </a:b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«онтолог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358920" y="1798560"/>
            <a:ext cx="3958920" cy="39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Гносеолог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γνώσι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нание, позна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λόγο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лово, понятие) –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теория познан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дел философии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учающий природ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возможности знан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го предпосылки, средств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условия достовер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4786200" y="1798560"/>
            <a:ext cx="3959280" cy="39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Эпистемолог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επιςτήμη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на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λόγο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лово, понятие) –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теория познания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ноним слова</a:t>
            </a:r>
            <a:br>
              <a:rPr sz="1800"/>
            </a:b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«гносеология»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потребляемы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английск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французском язык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58920" y="1798560"/>
            <a:ext cx="3958920" cy="39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Эти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ηθικ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ά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  <a:ea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т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ηθικό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носящийся к нраву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арактеру;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ethica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дел философии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учающий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орал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сферу высших ценност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долженствова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равственнос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ак сторону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знедеятельности челове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форму обществен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786200" y="1798560"/>
            <a:ext cx="3959280" cy="39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Аксиолог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αξια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ценность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λόγο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лово, понятие) –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учение о ценност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ская дисциплин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учающая характеристик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руктуру и иерархи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нностного мир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го онтологический статус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способы познан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роду и специфик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нностных сужд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001compr"/>
          <p:cNvPicPr/>
          <p:nvPr/>
        </p:nvPicPr>
        <p:blipFill>
          <a:blip r:embed="rId1"/>
          <a:stretch/>
        </p:blipFill>
        <p:spPr>
          <a:xfrm>
            <a:off x="669960" y="2158920"/>
            <a:ext cx="7802640" cy="3902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и философские тради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4859280" y="2997360"/>
            <a:ext cx="457200" cy="457200"/>
          </a:xfrm>
          <a:custGeom>
            <a:avLst/>
            <a:gdLst>
              <a:gd name="textAreaLeft" fmla="*/ 104400 w 457200"/>
              <a:gd name="textAreaRight" fmla="*/ 352800 w 45720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6877080" y="3141720"/>
            <a:ext cx="457200" cy="457200"/>
          </a:xfrm>
          <a:custGeom>
            <a:avLst/>
            <a:gdLst>
              <a:gd name="textAreaLeft" fmla="*/ 104400 w 457200"/>
              <a:gd name="textAreaRight" fmla="*/ 352800 w 45720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6012000" y="3357720"/>
            <a:ext cx="457200" cy="457200"/>
          </a:xfrm>
          <a:custGeom>
            <a:avLst/>
            <a:gdLst>
              <a:gd name="textAreaLeft" fmla="*/ 104400 w 457200"/>
              <a:gd name="textAreaRight" fmla="*/ 352800 w 45720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Aristotle_compr1"/>
          <p:cNvPicPr/>
          <p:nvPr/>
        </p:nvPicPr>
        <p:blipFill>
          <a:blip r:embed="rId2"/>
          <a:stretch/>
        </p:blipFill>
        <p:spPr>
          <a:xfrm>
            <a:off x="395280" y="1798560"/>
            <a:ext cx="1440000" cy="2040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4" name="Picture 9" descr="Будда (01)"/>
          <p:cNvPicPr/>
          <p:nvPr/>
        </p:nvPicPr>
        <p:blipFill>
          <a:blip r:embed="rId3"/>
          <a:stretch/>
        </p:blipFill>
        <p:spPr>
          <a:xfrm>
            <a:off x="5721480" y="4497480"/>
            <a:ext cx="1619280" cy="1982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5" name="Picture 11" descr="s3_1 ed (0-red)"/>
          <p:cNvPicPr/>
          <p:nvPr/>
        </p:nvPicPr>
        <p:blipFill>
          <a:blip r:embed="rId4"/>
          <a:stretch/>
        </p:blipFill>
        <p:spPr>
          <a:xfrm>
            <a:off x="7448400" y="1438200"/>
            <a:ext cx="1384560" cy="2146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6" name="Text Box 12"/>
          <p:cNvSpPr/>
          <p:nvPr/>
        </p:nvSpPr>
        <p:spPr>
          <a:xfrm>
            <a:off x="2050920" y="151128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е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6224400" y="151128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4498200" y="6224760"/>
            <a:ext cx="98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д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1T11:47:34Z</dcterms:created>
  <dc:creator>Николай Бирюков / Nikolai Biryukov</dc:creator>
  <dc:description>Редакция сентября 2009 г.</dc:description>
  <dc:language>en-US</dc:language>
  <cp:lastModifiedBy>LEGION</cp:lastModifiedBy>
  <dcterms:modified xsi:type="dcterms:W3CDTF">2014-11-11T10:05:35Z</dcterms:modified>
  <cp:revision>100</cp:revision>
  <dc:subject>Основы философии - Тема 1</dc:subject>
  <dc:title>Характер философского знания и задачи философии</dc:title>
</cp:coreProperties>
</file>