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1337-A358-42EF-9067-0B156464E2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6F9A-B36E-4F92-8E27-288794B049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E636-A1F6-446C-8571-A32B2945CE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CBE0-30CC-44A7-A7EE-980CFBD842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CCD1-014C-47AA-BC41-2FD3C1811A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4A8F-0CD2-4EE2-95A9-BEF17B774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924C-2089-4660-AD16-E59C7AD2C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759B-ED2B-48A0-980F-ECC816F9C9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954-0CD2-4BD2-9434-E76C7D3A8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FE3E-C629-47CE-A22C-371E134CB6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3CBC-3CF6-438E-BCD8-085ACB806B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08EF-26F5-45CC-91C5-058F7650A0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781F-BFC6-4ADC-A7EE-1050EE4ED5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ED3-93E3-46F5-A20E-F6948DA19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8392-ADAC-4F53-B94B-5D39DA53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FE88-71F9-41F2-8939-9763C164A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FA9-DEA6-4926-ACA1-76A62DB7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E97-45ED-447C-BA24-FD17B407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73E4-05B5-4C2E-8BA9-223896B5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4E2-DFDF-4730-9019-5A3464DCF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8D6-B0DF-4990-8F9D-06E4B4F6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846B-A2C2-47EC-9981-F89EFFF9C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8E0-328D-419B-A470-A8BFF202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7E0-E60B-4D93-8496-E50FA06B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01C8-6D73-4FF6-8059-F42C63C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58E6-C38F-4958-A868-99AD0F1B01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85480" y="1999800"/>
            <a:ext cx="856116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8560" y="1438200"/>
            <a:ext cx="85899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тич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до н.э. 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н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-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ысокая классика»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– 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линистическая философи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 – 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дняя античная философ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-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редневек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V-XIV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атри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астика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-XIV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илософия Возрожден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-XVI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VII – 1-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ьный период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 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чало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я Просвещения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редин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конец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VIII – 1-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ть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временная философ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с 40-х гг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0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31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6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17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1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22" dur="10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3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8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9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331" nodeType="afterEffect" fill="hold" presetClass="emph" presetID="16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3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0,0)"/>
                                      </p:to>
                                    </p:set>
                                    <p:set>
                                      <p:cBhvr>
                                        <p:cTn id="334" dur="1000" fill="hold"/>
                                        <p:tgtEl>
                                          <p:spTgt spid="11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1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760" y="1168560"/>
            <a:ext cx="8805960" cy="54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водный разд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1. Античная и средневековая философ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2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нняя греческая натурфилософ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3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атомизм: обоснование матери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4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латон: обоснование иде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5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 Аристо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6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пикурейцы и сто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7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нтичный скептиц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8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илософия: патри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9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редневековая философия: схоласт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здел 2. Философия Нового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0.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экон: обоснование эмпир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1. Декарт и Спиноза: обоснование рацион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2. Локк и Лейбниц: онтологические предпосылки и природа позн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3. Беркли и Юм: субъектив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4. Кант: трансценденталь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5. Гегель: абсолютный идеализ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ма 16. Фейербах и Маркс: конец классической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мецкой философ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 философского знания и задачи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9840"/>
            <a:ext cx="6791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раздела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иодизация западной философ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лан лекцио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нятие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037120" y="2085840"/>
            <a:ext cx="3598920" cy="234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Φιλοσοφί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510520" y="3057480"/>
            <a:ext cx="2637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φιλειν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люби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00"/>
                </a:solidFill>
                <a:latin typeface="Times New Roman"/>
              </a:rPr>
              <a:t>σοφία</a:t>
            </a:r>
            <a:r>
              <a:rPr b="1" lang="ru-RU" sz="2200" spc="-1" strike="noStrike">
                <a:solidFill>
                  <a:srgbClr val="0000ff"/>
                </a:solidFill>
                <a:latin typeface="Arial"/>
              </a:rPr>
              <a:t> – мудрос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514520" y="5505480"/>
            <a:ext cx="1623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ифагор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до н.э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Raphael, Pythagoras (School of Athens - red)"/>
          <p:cNvPicPr/>
          <p:nvPr/>
        </p:nvPicPr>
        <p:blipFill>
          <a:blip r:embed="rId1"/>
          <a:stretch/>
        </p:blipFill>
        <p:spPr>
          <a:xfrm>
            <a:off x="719280" y="1798560"/>
            <a:ext cx="377172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760" y="19980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згляда на предмет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466560" y="143820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аук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 наиболее общих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ах мироздания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(о мире как цел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2770200" y="3094200"/>
            <a:ext cx="3598920" cy="17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Познание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вободное от догм,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о не достигшее</a:t>
            </a:r>
            <a:br>
              <a:rPr sz="2000"/>
            </a:b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научной то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5073480" y="4749840"/>
            <a:ext cx="3598920" cy="1727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учение не мира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самого по себе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 отношен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еловека и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2769120" y="6056280"/>
            <a:ext cx="168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5038560" y="15224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е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hare, russell (cut, red)"/>
          <p:cNvPicPr/>
          <p:nvPr/>
        </p:nvPicPr>
        <p:blipFill>
          <a:blip r:embed="rId1"/>
          <a:stretch/>
        </p:blipFill>
        <p:spPr>
          <a:xfrm>
            <a:off x="6513480" y="1438200"/>
            <a:ext cx="21589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9" name="Picture 15" descr="hare_aristotle (cut, red)"/>
          <p:cNvPicPr/>
          <p:nvPr/>
        </p:nvPicPr>
        <p:blipFill>
          <a:blip r:embed="rId2"/>
          <a:stretch/>
        </p:blipFill>
        <p:spPr>
          <a:xfrm>
            <a:off x="466560" y="4317840"/>
            <a:ext cx="215928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/>
          <p:cNvSpPr/>
          <p:nvPr/>
        </p:nvSpPr>
        <p:spPr>
          <a:xfrm>
            <a:off x="2986200" y="1798560"/>
            <a:ext cx="3238560" cy="1008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илософ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920" y="3886200"/>
            <a:ext cx="259056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Онт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метафиз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30984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Гносеология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эпистем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6261120" y="3886200"/>
            <a:ext cx="2590920" cy="1150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Этика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(аксиолог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AutoShape 13"/>
          <p:cNvCxnSpPr/>
          <p:nvPr/>
        </p:nvCxnSpPr>
        <p:spPr>
          <a:xfrm>
            <a:off x="4605480" y="2806560"/>
            <a:ext cx="2160" cy="540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7" name="AutoShape 14"/>
          <p:cNvCxnSpPr/>
          <p:nvPr/>
        </p:nvCxnSpPr>
        <p:spPr>
          <a:xfrm>
            <a:off x="460548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15"/>
          <p:cNvSpPr/>
          <p:nvPr/>
        </p:nvSpPr>
        <p:spPr>
          <a:xfrm>
            <a:off x="1654200" y="3346560"/>
            <a:ext cx="2951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4605480" y="3346560"/>
            <a:ext cx="2950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17"/>
          <p:cNvCxnSpPr/>
          <p:nvPr/>
        </p:nvCxnSpPr>
        <p:spPr>
          <a:xfrm>
            <a:off x="1654200" y="3346200"/>
            <a:ext cx="216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1" name="AutoShape 18"/>
          <p:cNvCxnSpPr/>
          <p:nvPr/>
        </p:nvCxnSpPr>
        <p:spPr>
          <a:xfrm>
            <a:off x="7556040" y="3346200"/>
            <a:ext cx="2520" cy="540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2" name="Rectangle 19"/>
          <p:cNvSpPr/>
          <p:nvPr/>
        </p:nvSpPr>
        <p:spPr>
          <a:xfrm>
            <a:off x="358920" y="5037120"/>
            <a:ext cx="259056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ение о бы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0"/>
          <p:cNvSpPr/>
          <p:nvPr/>
        </p:nvSpPr>
        <p:spPr>
          <a:xfrm>
            <a:off x="330984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1"/>
          <p:cNvSpPr/>
          <p:nvPr/>
        </p:nvSpPr>
        <p:spPr>
          <a:xfrm>
            <a:off x="6261120" y="5037120"/>
            <a:ext cx="259092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ение о бла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ценност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Онт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од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όντ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у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изучающий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фундаментальные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ринципы быт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иболее общие сущ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категории сущего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отождествляет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метафизикой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чаще рассматривается к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ё основополагающая ча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как метафизика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етафиз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με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τά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φυσικ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после физики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ое учение о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ерхопытных началах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законах бытия вообщ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какого-либо типа быт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огда употреб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философия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сближается с понятием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онтолог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Гносе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γνώσι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 по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приро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зможности 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предпосылки, средств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условия достовер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пистем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επιςτήμη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на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теория познания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ноним слова</a:t>
            </a:r>
            <a:br>
              <a:rPr sz="1800"/>
            </a:br>
            <a:r>
              <a:rPr b="1" lang="ru-RU" sz="1800" spc="-1" strike="noStrike">
                <a:solidFill>
                  <a:srgbClr val="ff9900"/>
                </a:solidFill>
                <a:latin typeface="Arial"/>
              </a:rPr>
              <a:t>«гносеология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требляе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нглийск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ранцузском язы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философ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58920" y="1798560"/>
            <a:ext cx="395892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Эт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ά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от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ηθικό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носящийся к нраву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рактеру;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ethica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 философии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ий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орал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сферу высших ценносте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лженствова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равствен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ак сторону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едеятельности челове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у обществен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4786200" y="1798560"/>
            <a:ext cx="3959280" cy="395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ксиолог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αξια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ценност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ение о ценност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дисципли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учающая характеристи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и иерарх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ого мир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го онтологический статус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пособы познан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у и специфик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енностных сужд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01compr"/>
          <p:cNvPicPr/>
          <p:nvPr/>
        </p:nvPicPr>
        <p:blipFill>
          <a:blip r:embed="rId1"/>
          <a:stretch/>
        </p:blipFill>
        <p:spPr>
          <a:xfrm>
            <a:off x="669960" y="2158920"/>
            <a:ext cx="7802640" cy="3902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философск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4859280" y="299736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77080" y="3141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6012000" y="3357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Aristotle_compr1"/>
          <p:cNvPicPr/>
          <p:nvPr/>
        </p:nvPicPr>
        <p:blipFill>
          <a:blip r:embed="rId2"/>
          <a:stretch/>
        </p:blipFill>
        <p:spPr>
          <a:xfrm>
            <a:off x="395280" y="1798560"/>
            <a:ext cx="1440000" cy="2040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4" name="Picture 9" descr="Будда (01)"/>
          <p:cNvPicPr/>
          <p:nvPr/>
        </p:nvPicPr>
        <p:blipFill>
          <a:blip r:embed="rId3"/>
          <a:stretch/>
        </p:blipFill>
        <p:spPr>
          <a:xfrm>
            <a:off x="5721480" y="4497480"/>
            <a:ext cx="1619280" cy="198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05" name="Picture 11" descr="s3_1 ed (0-red)"/>
          <p:cNvPicPr/>
          <p:nvPr/>
        </p:nvPicPr>
        <p:blipFill>
          <a:blip r:embed="rId4"/>
          <a:stretch/>
        </p:blipFill>
        <p:spPr>
          <a:xfrm>
            <a:off x="7448400" y="1438200"/>
            <a:ext cx="1384560" cy="2146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6" name="Text Box 12"/>
          <p:cNvSpPr/>
          <p:nvPr/>
        </p:nvSpPr>
        <p:spPr>
          <a:xfrm>
            <a:off x="2050920" y="1511280"/>
            <a:ext cx="10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е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224400" y="1511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4498200" y="6224760"/>
            <a:ext cx="98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11:47:34Z</dcterms:created>
  <dc:creator>Николай Бирюков / Nikolai Biryukov</dc:creator>
  <dc:description>Редакция сентября 2009 г.</dc:description>
  <dc:language>en-US</dc:language>
  <cp:lastModifiedBy>LEGION</cp:lastModifiedBy>
  <dcterms:modified xsi:type="dcterms:W3CDTF">2014-11-11T10:05:35Z</dcterms:modified>
  <cp:revision>100</cp:revision>
  <dc:subject>Основы философии - Тема 1</dc:subject>
  <dc:title>Характер философского знания и задачи философии</dc:title>
</cp:coreProperties>
</file>