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031F-5B50-4428-BC08-E9170BC0F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D695-5084-4CF3-8F44-496AA8916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Информационная деятельность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BC40-2171-46E0-B0DA-B987AE3BA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7E5C-90E5-45B9-A1E4-28BEE3A84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3289-2BC4-4989-8822-792E7A115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F22C-92F4-4DD4-8779-B842320E6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214A-9E34-4280-AA2E-459989984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89DB-EF47-4C09-995C-EE58162D2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AA5F-5657-4747-A9A1-42487CE7C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Домашня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283-8CA9-4813-9656-A3208297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33E-AD39-4A32-8CBB-9E5CF8D3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6FB-588B-4F61-B032-65B2B4CD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E95-EC84-46AF-BF9C-6C3FE899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5DE-2D08-4794-B3CA-59313B4D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EEE-AC12-4210-8F9E-CC5135F5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4F4-0490-4DC3-895A-8FC6A4F5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F48-68D1-4934-8EB5-09E25DDC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BBA-7C05-426A-9A7F-304EE50B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E29-FA38-4F27-8C82-28C741B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457-39D3-411C-8769-FAADAEE3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D2F-4ADF-440E-9944-31DE0B82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3533-EAD8-4D52-B2C2-ADDC44A92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5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LEGION</cp:lastModifiedBy>
  <dcterms:modified xsi:type="dcterms:W3CDTF">2015-07-01T12:08:45Z</dcterms:modified>
  <cp:revision>17</cp:revision>
  <dc:subject/>
  <dc:title>Информационная деятельность человека </dc:title>
</cp:coreProperties>
</file>