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3.gif" ContentType="image/gif"/>
  <Override PartName="/ppt/media/image14.wmf" ContentType="image/x-wmf"/>
  <Override PartName="/ppt/media/image5.wmf" ContentType="image/x-wmf"/>
  <Override PartName="/ppt/media/image10.png" ContentType="image/png"/>
  <Override PartName="/ppt/media/image2.wmf" ContentType="image/x-wmf"/>
  <Override PartName="/ppt/media/image25.wmf" ContentType="image/x-wmf"/>
  <Override PartName="/ppt/media/image4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gif" ContentType="image/gif"/>
  <Override PartName="/ppt/media/image20.wmf" ContentType="image/x-wmf"/>
  <Override PartName="/ppt/media/image18.gif" ContentType="image/gif"/>
  <Override PartName="/ppt/media/image21.gif" ContentType="image/gif"/>
  <Override PartName="/ppt/media/image19.gif" ContentType="image/gif"/>
  <Override PartName="/ppt/media/image17.wmf" ContentType="image/x-wmf"/>
  <Override PartName="/ppt/media/image16.gif" ContentType="image/gif"/>
  <Override PartName="/ppt/media/image15.gif" ContentType="image/gif"/>
  <Override PartName="/ppt/media/image1.jpeg" ContentType="image/jpeg"/>
  <Override PartName="/ppt/media/image2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E6B9-EDD4-444A-84A7-8D2A025B90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0F59-40AE-41B9-BBA1-DB94BCCA44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классИнформационная деятельность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ы чувств человека – главный инструмент познания мира. Но чтобы проникнуть в тайны Природы и Космоса, необходимы специальны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ехнические устройства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копы и телескопы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ы и термометры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собирает информацию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C94B-A844-4FEC-81F6-74DDBFE11E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ще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BF49-EE84-44B3-A418-210FD7AC14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атыва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5E46-4DD7-40AF-848C-0DAB0C53E2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7FDE-EDE0-4B51-A845-ACC1E584DD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и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83AF-C2FB-427E-B9C5-4AE4943FDF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е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CBF4-0A1B-4065-9509-FEE410E69E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E4F9-BA60-4853-AA22-7F8EF3E7B6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. Домашня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ред. Макаровой, 7-9 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060-CB5C-4852-B095-2E12F343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840-0FA6-402D-A44F-D6F2C288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D62B-48D4-4AD4-845F-84E28B8E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24AD-AAB0-4E48-A330-80957ACC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EA60-7B1F-4D7E-90C3-B92529D2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CE1-EDBE-4091-A033-5A62C349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8A0-6590-4D11-A266-325C3B09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0B6-B4F3-4808-98F9-B6974EB3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9DF6-1DC8-4E1D-91A8-86F2E78F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B1B-98C5-4F89-89A0-B0E30399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6BF-122B-4E4F-B717-C24BD629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A06-9926-4860-8B11-901AA045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C0EE-E343-4BAF-A652-63CFA7FCD0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j0305257"/>
          <p:cNvPicPr/>
          <p:nvPr/>
        </p:nvPicPr>
        <p:blipFill>
          <a:blip r:embed="rId1"/>
          <a:stretch/>
        </p:blipFill>
        <p:spPr>
          <a:xfrm>
            <a:off x="971640" y="3860640"/>
            <a:ext cx="2305080" cy="299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8200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ы чувств человека – главный инструмент познания мира. Но чтобы проникнуть в тайны Природы и Космоса, необходимы специаль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ческие устройства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роскопы и телескопы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ы и термометры,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ловек собирает информацию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9523698214112a2699c95c4zc"/>
          <p:cNvPicPr/>
          <p:nvPr/>
        </p:nvPicPr>
        <p:blipFill>
          <a:blip r:embed="rId1"/>
          <a:stretch/>
        </p:blipFill>
        <p:spPr>
          <a:xfrm>
            <a:off x="3995640" y="2514600"/>
            <a:ext cx="5148360" cy="434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j0149481"/>
          <p:cNvPicPr/>
          <p:nvPr/>
        </p:nvPicPr>
        <p:blipFill>
          <a:blip r:embed="rId2"/>
          <a:stretch/>
        </p:blipFill>
        <p:spPr>
          <a:xfrm>
            <a:off x="684360" y="1125360"/>
            <a:ext cx="3189240" cy="324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j0299171"/>
          <p:cNvPicPr/>
          <p:nvPr/>
        </p:nvPicPr>
        <p:blipFill>
          <a:blip r:embed="rId3"/>
          <a:stretch/>
        </p:blipFill>
        <p:spPr>
          <a:xfrm>
            <a:off x="1116000" y="4653000"/>
            <a:ext cx="1535040" cy="180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4"/>
          <a:stretch/>
        </p:blipFill>
        <p:spPr>
          <a:xfrm>
            <a:off x="9144000" y="1052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-0.55903 -0.0051 E">
                                      <p:cBhvr>
                                        <p:cTn id="33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ще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j0301076"/>
          <p:cNvPicPr/>
          <p:nvPr/>
        </p:nvPicPr>
        <p:blipFill>
          <a:blip r:embed="rId1"/>
          <a:stretch/>
        </p:blipFill>
        <p:spPr>
          <a:xfrm>
            <a:off x="179280" y="189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j0215086"/>
          <p:cNvPicPr/>
          <p:nvPr/>
        </p:nvPicPr>
        <p:blipFill>
          <a:blip r:embed="rId2"/>
          <a:stretch/>
        </p:blipFill>
        <p:spPr>
          <a:xfrm>
            <a:off x="7483320" y="6858000"/>
            <a:ext cx="1660680" cy="260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v66854qw"/>
          <p:cNvPicPr/>
          <p:nvPr/>
        </p:nvPicPr>
        <p:blipFill>
          <a:blip r:embed="rId3"/>
          <a:stretch/>
        </p:blipFill>
        <p:spPr>
          <a:xfrm>
            <a:off x="3564000" y="1557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4"/>
          <a:stretch/>
        </p:blipFill>
        <p:spPr>
          <a:xfrm>
            <a:off x="684360" y="4149720"/>
            <a:ext cx="2087280" cy="20876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88622E-006 L -0.00764 -0.98265 E">
                                      <p:cBhvr>
                                        <p:cTn id="54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батыв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l5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00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j0233018"/>
          <p:cNvPicPr/>
          <p:nvPr/>
        </p:nvPicPr>
        <p:blipFill>
          <a:blip r:embed="rId2"/>
          <a:stretch/>
        </p:blipFill>
        <p:spPr>
          <a:xfrm>
            <a:off x="179280" y="2492280"/>
            <a:ext cx="2575080" cy="2614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j0293844"/>
          <p:cNvPicPr/>
          <p:nvPr/>
        </p:nvPicPr>
        <p:blipFill>
          <a:blip r:embed="rId3"/>
          <a:stretch/>
        </p:blipFill>
        <p:spPr>
          <a:xfrm>
            <a:off x="7405560" y="692280"/>
            <a:ext cx="1738440" cy="1827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j0195384"/>
          <p:cNvPicPr/>
          <p:nvPr/>
        </p:nvPicPr>
        <p:blipFill>
          <a:blip r:embed="rId4"/>
          <a:stretch/>
        </p:blipFill>
        <p:spPr>
          <a:xfrm>
            <a:off x="2771640" y="2565360"/>
            <a:ext cx="2467080" cy="2519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av165049me"/>
          <p:cNvPicPr/>
          <p:nvPr/>
        </p:nvPicPr>
        <p:blipFill>
          <a:blip r:embed="rId5"/>
          <a:stretch/>
        </p:blipFill>
        <p:spPr>
          <a:xfrm>
            <a:off x="5940360" y="3573360"/>
            <a:ext cx="3192480" cy="32846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4643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д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j0300520"/>
          <p:cNvPicPr/>
          <p:nvPr/>
        </p:nvPicPr>
        <p:blipFill>
          <a:blip r:embed="rId1"/>
          <a:stretch/>
        </p:blipFill>
        <p:spPr>
          <a:xfrm>
            <a:off x="324000" y="2133720"/>
            <a:ext cx="2808000" cy="2414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332268"/>
          <p:cNvPicPr/>
          <p:nvPr/>
        </p:nvPicPr>
        <p:blipFill>
          <a:blip r:embed="rId2"/>
          <a:stretch/>
        </p:blipFill>
        <p:spPr>
          <a:xfrm>
            <a:off x="6516720" y="1989000"/>
            <a:ext cx="2230560" cy="252108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8"/>
          <p:cNvGrpSpPr/>
          <p:nvPr/>
        </p:nvGrpSpPr>
        <p:grpSpPr>
          <a:xfrm>
            <a:off x="3419640" y="4149720"/>
            <a:ext cx="2761560" cy="2565000"/>
            <a:chOff x="3419640" y="4149720"/>
            <a:chExt cx="2761560" cy="2565000"/>
          </a:xfrm>
        </p:grpSpPr>
        <p:sp>
          <p:nvSpPr>
            <p:cNvPr id="75" name="Film"/>
            <p:cNvSpPr/>
            <p:nvPr/>
          </p:nvSpPr>
          <p:spPr>
            <a:xfrm>
              <a:off x="3419640" y="4803120"/>
              <a:ext cx="1152000" cy="1911600"/>
            </a:xfrm>
            <a:custGeom>
              <a:avLst/>
              <a:gdLst>
                <a:gd name="textAreaLeft" fmla="*/ 264960 w 1152000"/>
                <a:gd name="textAreaRight" fmla="*/ 910800 w 1152000"/>
                <a:gd name="textAreaTop" fmla="*/ 719640 h 1911600"/>
                <a:gd name="textAreaBottom" fmla="*/ 1188720 h 191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ound"/>
            <p:cNvSpPr/>
            <p:nvPr/>
          </p:nvSpPr>
          <p:spPr>
            <a:xfrm>
              <a:off x="4086000" y="4149720"/>
              <a:ext cx="1599840" cy="1267560"/>
            </a:xfrm>
            <a:custGeom>
              <a:avLst/>
              <a:gdLst>
                <a:gd name="textAreaLeft" fmla="*/ 17280 w 1599840"/>
                <a:gd name="textAreaRight" fmla="*/ 796680 w 1599840"/>
                <a:gd name="textAreaTop" fmla="*/ 445680 h 1267560"/>
                <a:gd name="textAreaBottom" fmla="*/ 795600 h 126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hoto"/>
            <p:cNvSpPr/>
            <p:nvPr/>
          </p:nvSpPr>
          <p:spPr>
            <a:xfrm>
              <a:off x="4695480" y="4902480"/>
              <a:ext cx="1485720" cy="1148760"/>
            </a:xfrm>
            <a:custGeom>
              <a:avLst/>
              <a:gdLst>
                <a:gd name="textAreaLeft" fmla="*/ 534960 w 1485720"/>
                <a:gd name="textAreaRight" fmla="*/ 946080 w 1485720"/>
                <a:gd name="textAreaTop" fmla="*/ 437400 h 1148760"/>
                <a:gd name="textAreaBottom" fmla="*/ 897840 h 114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3085"/>
                  </a:lnTo>
                  <a:lnTo>
                    <a:pt x="1542" y="3085"/>
                  </a:lnTo>
                  <a:lnTo>
                    <a:pt x="1542" y="1028"/>
                  </a:lnTo>
                  <a:lnTo>
                    <a:pt x="3857" y="1028"/>
                  </a:lnTo>
                  <a:lnTo>
                    <a:pt x="3857" y="3085"/>
                  </a:lnTo>
                  <a:lnTo>
                    <a:pt x="5400" y="3085"/>
                  </a:lnTo>
                  <a:lnTo>
                    <a:pt x="6942" y="0"/>
                  </a:lnTo>
                  <a:lnTo>
                    <a:pt x="14657" y="0"/>
                  </a:lnTo>
                  <a:lnTo>
                    <a:pt x="16200" y="3085"/>
                  </a:ln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0" y="3085"/>
                  </a:move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3085"/>
                  </a:lnTo>
                  <a:close/>
                </a:path>
                <a:path w="21600" h="21600">
                  <a:moveTo>
                    <a:pt x="10800" y="4800"/>
                  </a:moveTo>
                  <a:lnTo>
                    <a:pt x="11925" y="4971"/>
                  </a:lnTo>
                  <a:lnTo>
                    <a:pt x="13017" y="5442"/>
                  </a:lnTo>
                  <a:lnTo>
                    <a:pt x="14046" y="6128"/>
                  </a:lnTo>
                  <a:lnTo>
                    <a:pt x="14914" y="7071"/>
                  </a:lnTo>
                  <a:lnTo>
                    <a:pt x="15621" y="8271"/>
                  </a:lnTo>
                  <a:lnTo>
                    <a:pt x="16167" y="9514"/>
                  </a:lnTo>
                  <a:lnTo>
                    <a:pt x="16425" y="11014"/>
                  </a:lnTo>
                  <a:lnTo>
                    <a:pt x="16585" y="12471"/>
                  </a:lnTo>
                  <a:lnTo>
                    <a:pt x="16489" y="14014"/>
                  </a:lnTo>
                  <a:lnTo>
                    <a:pt x="16135" y="15471"/>
                  </a:lnTo>
                  <a:lnTo>
                    <a:pt x="15621" y="16800"/>
                  </a:lnTo>
                  <a:lnTo>
                    <a:pt x="14914" y="18000"/>
                  </a:lnTo>
                  <a:lnTo>
                    <a:pt x="14046" y="18942"/>
                  </a:lnTo>
                  <a:lnTo>
                    <a:pt x="13050" y="19671"/>
                  </a:lnTo>
                  <a:lnTo>
                    <a:pt x="11925" y="20057"/>
                  </a:lnTo>
                  <a:lnTo>
                    <a:pt x="10832" y="20185"/>
                  </a:lnTo>
                  <a:lnTo>
                    <a:pt x="9675" y="20142"/>
                  </a:lnTo>
                  <a:lnTo>
                    <a:pt x="8582" y="19628"/>
                  </a:lnTo>
                  <a:lnTo>
                    <a:pt x="7553" y="18942"/>
                  </a:lnTo>
                  <a:lnTo>
                    <a:pt x="6717" y="17957"/>
                  </a:lnTo>
                  <a:lnTo>
                    <a:pt x="5946" y="16842"/>
                  </a:lnTo>
                  <a:lnTo>
                    <a:pt x="5464" y="15514"/>
                  </a:lnTo>
                  <a:lnTo>
                    <a:pt x="5078" y="14014"/>
                  </a:lnTo>
                  <a:lnTo>
                    <a:pt x="5014" y="12514"/>
                  </a:lnTo>
                  <a:lnTo>
                    <a:pt x="5110" y="11014"/>
                  </a:lnTo>
                  <a:lnTo>
                    <a:pt x="5528" y="9557"/>
                  </a:lnTo>
                  <a:lnTo>
                    <a:pt x="6010" y="8228"/>
                  </a:lnTo>
                  <a:lnTo>
                    <a:pt x="6750" y="7114"/>
                  </a:lnTo>
                  <a:lnTo>
                    <a:pt x="7650" y="6085"/>
                  </a:lnTo>
                  <a:lnTo>
                    <a:pt x="8614" y="5400"/>
                  </a:lnTo>
                  <a:lnTo>
                    <a:pt x="9707" y="4971"/>
                  </a:lnTo>
                  <a:lnTo>
                    <a:pt x="10800" y="4800"/>
                  </a:lnTo>
                  <a:close/>
                </a:path>
                <a:path w="21600" h="21600">
                  <a:moveTo>
                    <a:pt x="8003" y="8057"/>
                  </a:moveTo>
                  <a:lnTo>
                    <a:pt x="8807" y="7371"/>
                  </a:lnTo>
                  <a:lnTo>
                    <a:pt x="9546" y="6985"/>
                  </a:lnTo>
                  <a:lnTo>
                    <a:pt x="10446" y="6771"/>
                  </a:lnTo>
                  <a:lnTo>
                    <a:pt x="11217" y="6771"/>
                  </a:lnTo>
                  <a:lnTo>
                    <a:pt x="12053" y="7028"/>
                  </a:lnTo>
                  <a:lnTo>
                    <a:pt x="12889" y="7457"/>
                  </a:lnTo>
                  <a:lnTo>
                    <a:pt x="13628" y="8100"/>
                  </a:lnTo>
                  <a:lnTo>
                    <a:pt x="14175" y="8871"/>
                  </a:lnTo>
                  <a:lnTo>
                    <a:pt x="14625" y="9814"/>
                  </a:lnTo>
                  <a:lnTo>
                    <a:pt x="14978" y="10885"/>
                  </a:lnTo>
                  <a:lnTo>
                    <a:pt x="15171" y="12042"/>
                  </a:lnTo>
                  <a:lnTo>
                    <a:pt x="15107" y="13114"/>
                  </a:lnTo>
                  <a:lnTo>
                    <a:pt x="15042" y="14228"/>
                  </a:lnTo>
                  <a:lnTo>
                    <a:pt x="14689" y="15257"/>
                  </a:lnTo>
                  <a:lnTo>
                    <a:pt x="14207" y="16285"/>
                  </a:lnTo>
                  <a:lnTo>
                    <a:pt x="13596" y="17057"/>
                  </a:lnTo>
                  <a:lnTo>
                    <a:pt x="12889" y="17657"/>
                  </a:lnTo>
                  <a:lnTo>
                    <a:pt x="12053" y="18085"/>
                  </a:lnTo>
                  <a:lnTo>
                    <a:pt x="11185" y="18257"/>
                  </a:lnTo>
                  <a:lnTo>
                    <a:pt x="10414" y="18214"/>
                  </a:lnTo>
                  <a:lnTo>
                    <a:pt x="9546" y="18042"/>
                  </a:lnTo>
                  <a:lnTo>
                    <a:pt x="8742" y="17614"/>
                  </a:lnTo>
                  <a:lnTo>
                    <a:pt x="8003" y="17014"/>
                  </a:lnTo>
                  <a:lnTo>
                    <a:pt x="7457" y="16242"/>
                  </a:lnTo>
                  <a:lnTo>
                    <a:pt x="6975" y="15257"/>
                  </a:lnTo>
                  <a:lnTo>
                    <a:pt x="6653" y="14142"/>
                  </a:lnTo>
                  <a:lnTo>
                    <a:pt x="6492" y="13114"/>
                  </a:lnTo>
                  <a:lnTo>
                    <a:pt x="6525" y="11914"/>
                  </a:lnTo>
                  <a:lnTo>
                    <a:pt x="6621" y="10842"/>
                  </a:lnTo>
                  <a:lnTo>
                    <a:pt x="6942" y="9771"/>
                  </a:lnTo>
                  <a:lnTo>
                    <a:pt x="7457" y="8785"/>
                  </a:lnTo>
                  <a:lnTo>
                    <a:pt x="8003" y="805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Music"/>
            <p:cNvSpPr/>
            <p:nvPr/>
          </p:nvSpPr>
          <p:spPr>
            <a:xfrm>
              <a:off x="4867200" y="5575680"/>
              <a:ext cx="1218600" cy="1109160"/>
            </a:xfrm>
            <a:custGeom>
              <a:avLst/>
              <a:gdLst>
                <a:gd name="textAreaLeft" fmla="*/ 450720 w 1218600"/>
                <a:gd name="textAreaRight" fmla="*/ 1180800 w 1218600"/>
                <a:gd name="textAreaTop" fmla="*/ 47520 h 1109160"/>
                <a:gd name="textAreaBottom" fmla="*/ 275400 h 110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Picture 13" descr="4l3"/>
          <p:cNvPicPr/>
          <p:nvPr/>
        </p:nvPicPr>
        <p:blipFill>
          <a:blip r:embed="rId3"/>
          <a:stretch/>
        </p:blipFill>
        <p:spPr>
          <a:xfrm>
            <a:off x="155520" y="0"/>
            <a:ext cx="8988480" cy="1038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0011928vj"/>
          <p:cNvPicPr/>
          <p:nvPr/>
        </p:nvPicPr>
        <p:blipFill>
          <a:blip r:embed="rId4"/>
          <a:stretch/>
        </p:blipFill>
        <p:spPr>
          <a:xfrm>
            <a:off x="3708360" y="148428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353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ани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j0293236"/>
          <p:cNvPicPr/>
          <p:nvPr/>
        </p:nvPicPr>
        <p:blipFill>
          <a:blip r:embed="rId1"/>
          <a:stretch/>
        </p:blipFill>
        <p:spPr>
          <a:xfrm>
            <a:off x="-1800360" y="2492280"/>
            <a:ext cx="1800360" cy="132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2l3"/>
          <p:cNvPicPr/>
          <p:nvPr/>
        </p:nvPicPr>
        <p:blipFill>
          <a:blip r:embed="rId2"/>
          <a:stretch/>
        </p:blipFill>
        <p:spPr>
          <a:xfrm>
            <a:off x="1403280" y="907920"/>
            <a:ext cx="6048360" cy="965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32"/>
          <p:cNvPicPr/>
          <p:nvPr/>
        </p:nvPicPr>
        <p:blipFill>
          <a:blip r:embed="rId3"/>
          <a:stretch/>
        </p:blipFill>
        <p:spPr>
          <a:xfrm>
            <a:off x="3851280" y="4365720"/>
            <a:ext cx="2233440" cy="2233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0291984"/>
          <p:cNvPicPr/>
          <p:nvPr/>
        </p:nvPicPr>
        <p:blipFill>
          <a:blip r:embed="rId4"/>
          <a:stretch/>
        </p:blipFill>
        <p:spPr>
          <a:xfrm>
            <a:off x="324000" y="4508640"/>
            <a:ext cx="1807920" cy="191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j0196400"/>
          <p:cNvPicPr/>
          <p:nvPr/>
        </p:nvPicPr>
        <p:blipFill>
          <a:blip r:embed="rId5"/>
          <a:stretch/>
        </p:blipFill>
        <p:spPr>
          <a:xfrm>
            <a:off x="6084720" y="1700280"/>
            <a:ext cx="2868840" cy="3066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93698 -0.06528 E">
                                      <p:cBhvr>
                                        <p:cTn id="99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j0298653"/>
          <p:cNvPicPr/>
          <p:nvPr/>
        </p:nvPicPr>
        <p:blipFill>
          <a:blip r:embed="rId1"/>
          <a:stretch/>
        </p:blipFill>
        <p:spPr>
          <a:xfrm>
            <a:off x="971640" y="3500280"/>
            <a:ext cx="4105080" cy="244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299125"/>
          <p:cNvPicPr/>
          <p:nvPr/>
        </p:nvPicPr>
        <p:blipFill>
          <a:blip r:embed="rId2"/>
          <a:stretch/>
        </p:blipFill>
        <p:spPr>
          <a:xfrm>
            <a:off x="826920" y="1628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91" name="Lock"/>
          <p:cNvSpPr/>
          <p:nvPr/>
        </p:nvSpPr>
        <p:spPr>
          <a:xfrm>
            <a:off x="3419640" y="-243000"/>
            <a:ext cx="2160360" cy="2082960"/>
          </a:xfrm>
          <a:custGeom>
            <a:avLst/>
            <a:gdLst>
              <a:gd name="textAreaLeft" fmla="*/ 74160 w 2160360"/>
              <a:gd name="textAreaRight" fmla="*/ 2113920 w 2160360"/>
              <a:gd name="textAreaTop" fmla="*/ 955080 h 2082960"/>
              <a:gd name="textAreaBottom" fmla="*/ 1478880 h 208296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lnTo>
                  <a:pt x="93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anim_ftnv"/>
          <p:cNvPicPr/>
          <p:nvPr/>
        </p:nvPicPr>
        <p:blipFill>
          <a:blip r:embed="rId3"/>
          <a:stretch/>
        </p:blipFill>
        <p:spPr>
          <a:xfrm>
            <a:off x="5688000" y="3402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16000" y="404640"/>
            <a:ext cx="325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щища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00000" y="2565360"/>
            <a:ext cx="7777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19 - 29.  (Информатика под ред. Н.В. Макаровой, 7-9 к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1, 2, 3, 4, 11,12, 15, 19 (письмен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5:14:56Z</dcterms:created>
  <dc:creator>Victor</dc:creator>
  <dc:description/>
  <dc:language>en-US</dc:language>
  <cp:lastModifiedBy>LEGION</cp:lastModifiedBy>
  <dcterms:modified xsi:type="dcterms:W3CDTF">2015-07-01T12:08:45Z</dcterms:modified>
  <cp:revision>17</cp:revision>
  <dc:subject/>
  <dc:title>Информационная деятельность человека </dc:title>
</cp:coreProperties>
</file>