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3.png" ContentType="image/png"/>
  <Override PartName="/ppt/media/image10.wmf" ContentType="image/x-wmf"/>
  <Override PartName="/ppt/media/image22.png" ContentType="image/png"/>
  <Override PartName="/ppt/media/image21.gif" ContentType="image/gif"/>
  <Override PartName="/ppt/media/image19.wmf" ContentType="image/x-wmf"/>
  <Override PartName="/ppt/media/image24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2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DA76-1540-4ED6-B188-B5F61104B0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уров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езяк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EC58-6D99-4258-A71C-DCC9D0D8673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СМ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7E99-1830-4703-8611-9E7011689B1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C459-6289-42D1-9600-4F61F38F817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4B7E-74D1-4F34-8C0C-7F443A973CD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FE76-9013-4408-8EA1-E8EB2F22133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B27F-4B46-40E0-A0A5-8CBC07398F1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тех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F69A-4DE0-4233-A39A-9AC72793540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73D3-7751-4F57-9B10-0E448824EA9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в Интернете осуществляется передача информации между компьют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09AC-6468-403E-AB81-B36DF4453D3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45A9-551D-4B7B-9242-DFFA57EE756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FF0A-4D32-4861-84AC-A4C82D6F645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ды информационных процессов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CF54-7AF1-4BA1-86C3-A05A9249AC6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FFBE-D269-46CE-BA7E-A084DA23D02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EA3F-0D04-46BA-98B3-8BB6F10870B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а презента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ED86-C610-4BD9-ADFA-B7B5836C2C7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живой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8470-8742-4781-98D6-04B42AB2E21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18F4-72F1-405F-8A25-37E45472B02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5905-D69F-4C7D-B206-553DB5C0023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CFBA-0C7C-462E-A101-5DCAE0DBDB3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2518-7DDD-4951-8AC0-4F9D3AB96B9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4DB4-A68F-4613-A8E6-E4E65821213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57CA-BE33-4935-856C-278C0F95182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542-0B6F-4D8D-8B4C-7ADECF8B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72F-C04C-45D0-8C27-6783DBF7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76B-94CB-417C-B878-A26F130D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171-EE93-4AF7-8D12-995BE3D4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A172-DBC5-4230-9F5C-0F3AC348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59DA-5504-4975-AA56-53C49D18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1FAE-DFB1-41FF-AB19-31D73317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A19B-5CEB-4D98-8F9B-D4918E2D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C468-6D8D-40FF-B1E5-391ECB93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18D7-8F35-4611-BBAD-C1AD9B17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B33D-D0CD-4757-9DC3-E7DD46B6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1F3-606F-48A2-B545-1D13438E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0D78-1800-41AF-9AC2-F79F6068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2A22-3363-441D-B2EF-3523E5EC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1072-7797-4B0A-9F0B-C7113714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D6EC-5B43-4406-A35E-DEE23305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6DB7-7A35-48A2-B562-025CA12A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761-C1A1-4559-9846-377C6F7C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77C-9DDF-43A6-9921-015CEC0B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1525-3453-4E8F-BAAE-F9E29C01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32C-6269-432A-B6E3-E7953C9B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B84-9816-4A78-8E19-E55BE87B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F25-E842-4DB5-B6F3-7A3D1DE3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40F-F9F3-431D-9247-2E990381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A05D-61BB-47B1-953D-D667C3AB89E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D52E-2D43-486D-B4DE-D15CC9FD543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78680" y="1508400"/>
            <a:ext cx="7437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ормационные процес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ыполнил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атурова Да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елезяк Ан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3068640"/>
          <a:ext cx="2819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068640"/>
                    <a:ext cx="2819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644364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3881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7" name="Group 7"/>
          <p:cNvGrpSpPr/>
          <p:nvPr/>
        </p:nvGrpSpPr>
        <p:grpSpPr>
          <a:xfrm>
            <a:off x="4986360" y="2913120"/>
            <a:ext cx="3794040" cy="3095640"/>
            <a:chOff x="4986360" y="2913120"/>
            <a:chExt cx="3794040" cy="3095640"/>
          </a:xfrm>
        </p:grpSpPr>
        <p:pic>
          <p:nvPicPr>
            <p:cNvPr id="148" name="Object 4" descr=""/>
            <p:cNvPicPr/>
            <p:nvPr/>
          </p:nvPicPr>
          <p:blipFill>
            <a:blip r:embed="rId1"/>
            <a:stretch/>
          </p:blipFill>
          <p:spPr>
            <a:xfrm>
              <a:off x="4986360" y="2913120"/>
              <a:ext cx="31478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Object 5" descr=""/>
            <p:cNvPicPr/>
            <p:nvPr/>
          </p:nvPicPr>
          <p:blipFill>
            <a:blip r:embed="rId2"/>
            <a:stretch/>
          </p:blipFill>
          <p:spPr>
            <a:xfrm>
              <a:off x="7620120" y="4724280"/>
              <a:ext cx="1160280" cy="11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932000" y="2707920"/>
            <a:ext cx="380988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900000" y="3068640"/>
          <a:ext cx="395928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68640"/>
                    <a:ext cx="39592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708280"/>
            <a:ext cx="38102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4932360" y="2349360"/>
          <a:ext cx="1600200" cy="15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349360"/>
                    <a:ext cx="1600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7740720" y="3284640"/>
          <a:ext cx="6523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3284640"/>
                    <a:ext cx="65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6"/>
          <p:cNvGraphicFramePr/>
          <p:nvPr/>
        </p:nvGraphicFramePr>
        <p:xfrm>
          <a:off x="4356000" y="4724280"/>
          <a:ext cx="2425680" cy="184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724280"/>
                    <a:ext cx="242568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AutoShape 9"/>
          <p:cNvSpPr/>
          <p:nvPr/>
        </p:nvSpPr>
        <p:spPr>
          <a:xfrm rot="4395600">
            <a:off x="6966720" y="2763000"/>
            <a:ext cx="573120" cy="609840"/>
          </a:xfrm>
          <a:custGeom>
            <a:avLst/>
            <a:gdLst>
              <a:gd name="textAreaLeft" fmla="*/ 329760 w 573120"/>
              <a:gd name="textAreaRight" fmla="*/ 483840 w 573120"/>
              <a:gd name="textAreaTop" fmla="*/ 82080 h 609840"/>
              <a:gd name="textAreaBottom" fmla="*/ 261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 rot="10431600">
            <a:off x="7163640" y="5300280"/>
            <a:ext cx="522360" cy="555480"/>
          </a:xfrm>
          <a:custGeom>
            <a:avLst/>
            <a:gdLst>
              <a:gd name="textAreaLeft" fmla="*/ 300600 w 522360"/>
              <a:gd name="textAreaRight" fmla="*/ 441000 w 522360"/>
              <a:gd name="textAreaTop" fmla="*/ 74880 h 555480"/>
              <a:gd name="textAreaBottom" fmla="*/ 23760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427280" y="2852640"/>
            <a:ext cx="40129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15" descr="j0299125"/>
          <p:cNvPicPr/>
          <p:nvPr/>
        </p:nvPicPr>
        <p:blipFill>
          <a:blip r:embed="rId1"/>
          <a:stretch/>
        </p:blipFill>
        <p:spPr>
          <a:xfrm>
            <a:off x="1332000" y="2708280"/>
            <a:ext cx="2019240" cy="3313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26920" y="2492280"/>
            <a:ext cx="40132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7" descr="j0240695"/>
          <p:cNvPicPr/>
          <p:nvPr/>
        </p:nvPicPr>
        <p:blipFill>
          <a:blip r:embed="rId1"/>
          <a:stretch/>
        </p:blipFill>
        <p:spPr>
          <a:xfrm>
            <a:off x="5219640" y="3141720"/>
            <a:ext cx="2808360" cy="22492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техни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2362320" y="2514600"/>
          <a:ext cx="4000320" cy="31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00032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3640" y="90864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640" y="2852280"/>
            <a:ext cx="439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6" descr="j0195384"/>
          <p:cNvPicPr/>
          <p:nvPr/>
        </p:nvPicPr>
        <p:blipFill>
          <a:blip r:embed="rId1"/>
          <a:stretch/>
        </p:blipFill>
        <p:spPr>
          <a:xfrm>
            <a:off x="5114880" y="2646360"/>
            <a:ext cx="2919600" cy="2828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716360" y="2781360"/>
            <a:ext cx="372600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 время работы в Интернете осуществляется передача информации между компьютер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5" descr="j0300520"/>
          <p:cNvPicPr/>
          <p:nvPr/>
        </p:nvPicPr>
        <p:blipFill>
          <a:blip r:embed="rId1"/>
          <a:stretch/>
        </p:blipFill>
        <p:spPr>
          <a:xfrm>
            <a:off x="1187280" y="2997360"/>
            <a:ext cx="2567160" cy="20937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4248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9" name="Object 36"/>
          <p:cNvGraphicFramePr/>
          <p:nvPr/>
        </p:nvGraphicFramePr>
        <p:xfrm>
          <a:off x="5649840" y="2738520"/>
          <a:ext cx="1990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9840" y="2738520"/>
                    <a:ext cx="1990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427640" y="2636640"/>
            <a:ext cx="4356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4" name="Object 13"/>
          <p:cNvGraphicFramePr/>
          <p:nvPr/>
        </p:nvGraphicFramePr>
        <p:xfrm>
          <a:off x="1187280" y="3573360"/>
          <a:ext cx="26035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573360"/>
                    <a:ext cx="26035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иды информационных процессов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517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уч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редач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обра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ран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j0299171"/>
          <p:cNvPicPr/>
          <p:nvPr/>
        </p:nvPicPr>
        <p:blipFill>
          <a:blip r:embed="rId1"/>
          <a:stretch/>
        </p:blipFill>
        <p:spPr>
          <a:xfrm>
            <a:off x="5508720" y="278136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021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8" descr="j0149481"/>
          <p:cNvPicPr/>
          <p:nvPr/>
        </p:nvPicPr>
        <p:blipFill>
          <a:blip r:embed="rId1"/>
          <a:stretch/>
        </p:blipFill>
        <p:spPr>
          <a:xfrm>
            <a:off x="5219640" y="2781360"/>
            <a:ext cx="2975040" cy="3024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ша презентация оконче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835280" y="3428640"/>
            <a:ext cx="45972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формационные процессы в живой природ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Object 8"/>
          <p:cNvGraphicFramePr/>
          <p:nvPr/>
        </p:nvGraphicFramePr>
        <p:xfrm>
          <a:off x="2124000" y="2349360"/>
          <a:ext cx="480384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349360"/>
                    <a:ext cx="48038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352908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4284720" y="2637000"/>
          <a:ext cx="4495680" cy="30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637000"/>
                    <a:ext cx="449568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83808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858920" y="274284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4716360" y="2349360"/>
          <a:ext cx="41148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971640" y="2565360"/>
          <a:ext cx="358452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65360"/>
                    <a:ext cx="3584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716360" y="2491920"/>
            <a:ext cx="38102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3770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476100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обществ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666880" y="2590920"/>
          <a:ext cx="4038840" cy="30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038840" cy="30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9:26:26Z</dcterms:created>
  <dc:creator>Белезяк</dc:creator>
  <dc:description/>
  <dc:language>en-US</dc:language>
  <cp:lastModifiedBy>LEGION</cp:lastModifiedBy>
  <dcterms:modified xsi:type="dcterms:W3CDTF">2015-07-01T12:09:19Z</dcterms:modified>
  <cp:revision>26</cp:revision>
  <dc:subject/>
  <dc:title>Информационные процессы</dc:title>
</cp:coreProperties>
</file>