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23.png" ContentType="image/png"/>
  <Override PartName="/ppt/media/image10.wmf" ContentType="image/x-wmf"/>
  <Override PartName="/ppt/media/image22.png" ContentType="image/png"/>
  <Override PartName="/ppt/media/image21.gif" ContentType="image/gif"/>
  <Override PartName="/ppt/media/image19.wmf" ContentType="image/x-wmf"/>
  <Override PartName="/ppt/media/image24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2.wmf" ContentType="image/x-wmf"/>
  <Override PartName="/ppt/media/image6.png" ContentType="image/png"/>
  <Override PartName="/ppt/media/image1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B4856-7819-4737-96C5-95B1D20D23C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проце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турова Дар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лезяк Ан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CC74D-8847-470B-8F35-02C96AEC8137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информации в обществе происходит посредством исследования объектов или использования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СМИ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93EA9-08EC-48F4-98CD-62B99CDE5E6D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ача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ди передают информацию из поколения в поколение различными способами. Одним из таких способов является процесс обучения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C5D03-F7F2-4811-9242-00A8949CD667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разова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преобразует зрительную и другую информацию в знания об изучаемом объекте. Преобразованием информации человеком обуславливается процесс мыш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7D5C8-9626-4039-9234-69E8DD3CF84F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ане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анение информации необходимо в обществе. Человек хранит накопленную в течении жизни информацию в своей памя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65567-337B-4F36-BDE5-D41A717C6735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использует накопленную информацию во всех сферах жизнедеятельности. Например: мастер-столяр использует свои знания о металле и инструментах для успешного выполнения своей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098C8-4414-4425-AE01-A7EE9040176A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процессы в техн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84978-340B-4E37-B17B-5A8762FDF060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обработки информации компьютером  необходимо ввести эту информацию через устройства ввода. Это является примером получения информации в техн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239F4-F4D2-4B2C-92BD-7C1221F418EA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ача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ремя работы в Интернете осуществляется передача информации между компьютер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CB0A8-E733-4F4E-B709-60DD3583AFB6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разова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ом преобразования информации в технике является кодирование. Кодирование необходимо ЭВМ для того, чтобы переводить различную информацию в двоичный код, который способна обрабатывать маш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D6FB8-2817-4A2F-8CD0-215F03CFB060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ане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вычислительной технике информация хранится в памяти. Память разделяют на внутреннюю (оперативную) и внешнюю (долговременную), представленную жестким диском и различными съемными носителями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FF2D7-8320-4E4D-8A32-9F141E38FFF0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иды информационных процессов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ач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разо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ан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EB67A-1CCF-41AA-9365-4983BEE13424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мпьютере использование информации происходит при работе программ. Программа использует заложенную программистом информацию для осуществления запрограммированных дейст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54A76-CC6B-4E72-9DE5-BAB4DC1E6EA7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процессы происходят во всех областях жизни: в природе, в обществе и в технике. По-этому изучение и исследование этих процессов, а также создание на их основе более совершенных информационных технологий играет большую роль в прогрессе науки и техн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7C8CD-6247-4C6B-AFB4-F693BF259DB1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ша презентация оконч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пасибо за вним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92103-62C8-466C-B58C-471EC072599F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процессы в живой приро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313FA-52E7-4DB4-B7C9-E41F57AC8B73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живой природе получение информации идет самыми разнообразными способами. Например: китообразные получают информацию при помощи эхолок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59ADE-AB9A-4FFC-AD30-53CE29C8F367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ача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ача информации играет важную роль в жизни общественных животных. Например: пчелы передают друг другу информацию путем «пчелиного танц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FDFB4-0B0E-4CCD-B9A9-91211421F53A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разова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получение и передача информации не имеют смысла без ее преобразования. Например: собака улавливает запахи и преобразует эти данные в информацию о прошедшем здесь челове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F2B38-F9C7-4FD9-B6A1-F93108A60446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ане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анение информации так же имеет большое значение в мире живой природы. Так птицы хранят информацию о положении места рождения, куда они возвращаются вес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D747A-0CC2-46CF-BEAE-49A1ACB7F3B6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вотные используют информацию в своей жизнедеятельности. Например знания о съедобности / несъедобности различных растений у травояд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BDAB7-3F32-4A0C-B871-BE4195E152E9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процессы в обще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6D814-564C-42F2-AC1F-EC2260C721B6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C385-1BA0-4DAC-AE18-DFFA303C7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A1ED-C135-4094-A5BB-CF1F4F75F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2112-529F-4319-8C37-58538A23F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50E0-1C6B-4DD2-ACDA-C1158AC38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BFE0A-C460-4A23-A056-70FD0ACC4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53126-B026-49F2-B8E0-0BA941F13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D1A5C-06CC-471B-A8B4-5C827A84C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91D80-03BC-46DA-B019-4547FFA53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584D2-720D-4932-B229-11D9718C8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C91A2-C04F-470A-A7DF-71F5E2EA5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3A6AC-5C7C-4EEA-9805-FEBC59C5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6714-CA85-4BE4-A091-7F0DBC9FA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2A390-B66A-4F4C-8E28-CB5BCCC5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125EE-82AC-4F5A-B027-83D4531A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B476A-EE89-4221-9369-108B09677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92629-8067-4F2F-9358-55BA53A5B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B6A61-012A-4CD0-890F-3A37DD112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385A-0013-4629-847F-A14DA6595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A89B-8CBA-480B-B522-0C5D5DE5F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4482-665F-4523-9D84-E5EFD1904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15AE-9BDC-478D-9D14-675D7D321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79DE-B0E5-420B-BBB3-9D7E57E9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4AC4-A31F-4768-9667-2D25EC9C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7418-4C7F-4AA0-B2BC-2B12BA5E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DBB6A-EFDF-4359-8185-C86A7FDEA5F1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86C3D-A438-4325-9BA2-E4C4691AA6C9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778680" y="1508400"/>
            <a:ext cx="7437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Информационные процесс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33200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Выполнили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Батурова Дарь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Белезяк Анна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4" name="Object 6"/>
          <p:cNvGraphicFramePr/>
          <p:nvPr/>
        </p:nvGraphicFramePr>
        <p:xfrm>
          <a:off x="4716360" y="3068640"/>
          <a:ext cx="281952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3068640"/>
                    <a:ext cx="28195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Picture 7" descr=""/>
          <p:cNvPicPr/>
          <p:nvPr/>
        </p:nvPicPr>
        <p:blipFill>
          <a:blip r:embed="rId3"/>
          <a:stretch/>
        </p:blipFill>
        <p:spPr>
          <a:xfrm>
            <a:off x="6443640" y="83664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луче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26920" y="2781000"/>
            <a:ext cx="388152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лучение информации в обществе происходит посредством исследования объектов или использования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СМ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47" name="Group 7"/>
          <p:cNvGrpSpPr/>
          <p:nvPr/>
        </p:nvGrpSpPr>
        <p:grpSpPr>
          <a:xfrm>
            <a:off x="4986360" y="2913120"/>
            <a:ext cx="3794040" cy="3095640"/>
            <a:chOff x="4986360" y="2913120"/>
            <a:chExt cx="3794040" cy="3095640"/>
          </a:xfrm>
        </p:grpSpPr>
        <p:pic>
          <p:nvPicPr>
            <p:cNvPr id="148" name="Object 4" descr=""/>
            <p:cNvPicPr/>
            <p:nvPr/>
          </p:nvPicPr>
          <p:blipFill>
            <a:blip r:embed="rId1"/>
            <a:stretch/>
          </p:blipFill>
          <p:spPr>
            <a:xfrm>
              <a:off x="4986360" y="2913120"/>
              <a:ext cx="3147840" cy="30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Object 5" descr=""/>
            <p:cNvPicPr/>
            <p:nvPr/>
          </p:nvPicPr>
          <p:blipFill>
            <a:blip r:embed="rId2"/>
            <a:stretch/>
          </p:blipFill>
          <p:spPr>
            <a:xfrm>
              <a:off x="7620120" y="4724280"/>
              <a:ext cx="1160280" cy="117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Місце для нижнього колонтитула 2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ередача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932000" y="2707920"/>
            <a:ext cx="380988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Люди передают информацию из поколения в поколение различными способами. Одним из таких способов является процесс обучения детей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53" name="Object 5"/>
          <p:cNvGraphicFramePr/>
          <p:nvPr/>
        </p:nvGraphicFramePr>
        <p:xfrm>
          <a:off x="900000" y="3068640"/>
          <a:ext cx="3959280" cy="258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3068640"/>
                    <a:ext cx="3959280" cy="25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еобразова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26920" y="2708280"/>
            <a:ext cx="381024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Человек преобразует зрительную и другую информацию в знания об изучаемом объекте. Преобразованием информации человеком обуславливается процесс мышлени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58" name="Object 4"/>
          <p:cNvGraphicFramePr/>
          <p:nvPr/>
        </p:nvGraphicFramePr>
        <p:xfrm>
          <a:off x="4932360" y="2349360"/>
          <a:ext cx="1600200" cy="157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2349360"/>
                    <a:ext cx="1600200" cy="15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5"/>
          <p:cNvGraphicFramePr/>
          <p:nvPr/>
        </p:nvGraphicFramePr>
        <p:xfrm>
          <a:off x="7740720" y="3284640"/>
          <a:ext cx="652320" cy="19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40720" y="3284640"/>
                    <a:ext cx="65232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6"/>
          <p:cNvGraphicFramePr/>
          <p:nvPr/>
        </p:nvGraphicFramePr>
        <p:xfrm>
          <a:off x="4356000" y="4724280"/>
          <a:ext cx="2425680" cy="184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56000" y="4724280"/>
                    <a:ext cx="2425680" cy="18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AutoShape 9"/>
          <p:cNvSpPr/>
          <p:nvPr/>
        </p:nvSpPr>
        <p:spPr>
          <a:xfrm rot="4395600">
            <a:off x="6966720" y="2763000"/>
            <a:ext cx="573120" cy="609840"/>
          </a:xfrm>
          <a:custGeom>
            <a:avLst/>
            <a:gdLst>
              <a:gd name="textAreaLeft" fmla="*/ 329760 w 573120"/>
              <a:gd name="textAreaRight" fmla="*/ 483840 w 573120"/>
              <a:gd name="textAreaTop" fmla="*/ 82080 h 609840"/>
              <a:gd name="textAreaBottom" fmla="*/ 261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66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AutoShape 10"/>
          <p:cNvSpPr/>
          <p:nvPr/>
        </p:nvSpPr>
        <p:spPr>
          <a:xfrm rot="10431600">
            <a:off x="7163640" y="5300280"/>
            <a:ext cx="522360" cy="555480"/>
          </a:xfrm>
          <a:custGeom>
            <a:avLst/>
            <a:gdLst>
              <a:gd name="textAreaLeft" fmla="*/ 300600 w 522360"/>
              <a:gd name="textAreaRight" fmla="*/ 441000 w 522360"/>
              <a:gd name="textAreaTop" fmla="*/ 74880 h 555480"/>
              <a:gd name="textAreaBottom" fmla="*/ 237600 h 5554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66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Хране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427280" y="2852640"/>
            <a:ext cx="401292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Хранение информации необходимо в обществе. Человек хранит накопленную в течении жизни информацию в своей памят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9" name="Picture 15" descr="j0299125"/>
          <p:cNvPicPr/>
          <p:nvPr/>
        </p:nvPicPr>
        <p:blipFill>
          <a:blip r:embed="rId1"/>
          <a:stretch/>
        </p:blipFill>
        <p:spPr>
          <a:xfrm>
            <a:off x="1332000" y="2708280"/>
            <a:ext cx="2019240" cy="331308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Использова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826920" y="2492280"/>
            <a:ext cx="401328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Человек использует накопленную информацию во всех сферах жизнедеятельности. Например: мастер-столяр использует свои знания о металле и инструментах для успешного выполнения своей работ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3" name="Picture 7" descr="j0240695"/>
          <p:cNvPicPr/>
          <p:nvPr/>
        </p:nvPicPr>
        <p:blipFill>
          <a:blip r:embed="rId1"/>
          <a:stretch/>
        </p:blipFill>
        <p:spPr>
          <a:xfrm>
            <a:off x="5219640" y="3141720"/>
            <a:ext cx="2808360" cy="224928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Информационные процессы в техник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76" name="Object 3"/>
          <p:cNvGraphicFramePr/>
          <p:nvPr/>
        </p:nvGraphicFramePr>
        <p:xfrm>
          <a:off x="2362320" y="2514600"/>
          <a:ext cx="4000320" cy="31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514600"/>
                    <a:ext cx="4000320" cy="31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3640" y="908640"/>
            <a:ext cx="76276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луче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755640" y="2852280"/>
            <a:ext cx="439272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ля обработки информации компьютером  необходимо ввести эту информацию через устройства ввода. Это является примером получения информации в техник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1" name="Picture 6" descr="j0195384"/>
          <p:cNvPicPr/>
          <p:nvPr/>
        </p:nvPicPr>
        <p:blipFill>
          <a:blip r:embed="rId1"/>
          <a:stretch/>
        </p:blipFill>
        <p:spPr>
          <a:xfrm>
            <a:off x="5114880" y="2646360"/>
            <a:ext cx="2919600" cy="282888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4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ередача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716360" y="2781360"/>
            <a:ext cx="3726000" cy="28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о время работы в Интернете осуществляется передача информации между компьютерам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5" name="Picture 5" descr="j0300520"/>
          <p:cNvPicPr/>
          <p:nvPr/>
        </p:nvPicPr>
        <p:blipFill>
          <a:blip r:embed="rId1"/>
          <a:stretch/>
        </p:blipFill>
        <p:spPr>
          <a:xfrm>
            <a:off x="1187280" y="2997360"/>
            <a:ext cx="2567160" cy="209376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2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еобразова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755640" y="2349360"/>
            <a:ext cx="42480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имером преобразования информации в технике является кодирование. Кодирование необходимо ЭВМ для того, чтобы переводить различную информацию в двоичный код, который способна обрабатывать машин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89" name="Object 36"/>
          <p:cNvGraphicFramePr/>
          <p:nvPr/>
        </p:nvGraphicFramePr>
        <p:xfrm>
          <a:off x="5649840" y="2738520"/>
          <a:ext cx="199080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49840" y="2738520"/>
                    <a:ext cx="19908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0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Хране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427640" y="2636640"/>
            <a:ext cx="43560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вычислительной технике информация хранится в памяти. Память разделяют на внутреннюю (оперативную) и внешнюю (долговременную), представленную жестким диском и различными съемными носителями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94" name="Object 13"/>
          <p:cNvGraphicFramePr/>
          <p:nvPr/>
        </p:nvGraphicFramePr>
        <p:xfrm>
          <a:off x="1187280" y="3573360"/>
          <a:ext cx="2603520" cy="140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573360"/>
                    <a:ext cx="2603520" cy="14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8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Виды информационных процессов: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3517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лучение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ередача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еобразование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Хранение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спользование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Picture 4" descr="j0299171"/>
          <p:cNvPicPr/>
          <p:nvPr/>
        </p:nvPicPr>
        <p:blipFill>
          <a:blip r:embed="rId1"/>
          <a:stretch/>
        </p:blipFill>
        <p:spPr>
          <a:xfrm>
            <a:off x="5508720" y="2781360"/>
            <a:ext cx="2382840" cy="280836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Использова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402120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компьютере использование информации происходит при работе программ. Программа использует заложенную программистом информацию для осуществления запрограммированных действий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9" name="Picture 8" descr="j0149481"/>
          <p:cNvPicPr/>
          <p:nvPr/>
        </p:nvPicPr>
        <p:blipFill>
          <a:blip r:embed="rId1"/>
          <a:stretch/>
        </p:blipFill>
        <p:spPr>
          <a:xfrm>
            <a:off x="5219640" y="2781360"/>
            <a:ext cx="2975040" cy="302400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6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ключе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нформационные процессы происходят во всех областях жизни: в природе, в обществе и в технике. По-этому изучение и исследование этих процессов, а также создание на их основе более совершенных информационных технологий играет большую роль в прогрессе науки и техник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4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Наша презентация окончен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1835280" y="3428640"/>
            <a:ext cx="4597200" cy="77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Спасибо за внимание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6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Информационные процессы в живой природ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3" name="Object 8"/>
          <p:cNvGraphicFramePr/>
          <p:nvPr/>
        </p:nvGraphicFramePr>
        <p:xfrm>
          <a:off x="2124000" y="2349360"/>
          <a:ext cx="4803840" cy="381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349360"/>
                    <a:ext cx="480384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луче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55280" y="2349360"/>
            <a:ext cx="3529080" cy="42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живой природе получение информации идет самыми разнообразными способами. Например: китообразные получают информацию при помощи эхолокаци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8" name="Object 4"/>
          <p:cNvGraphicFramePr/>
          <p:nvPr/>
        </p:nvGraphicFramePr>
        <p:xfrm>
          <a:off x="4284720" y="2637000"/>
          <a:ext cx="4495680" cy="309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2637000"/>
                    <a:ext cx="4495680" cy="30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ередача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2" name="Object 3"/>
          <p:cNvGraphicFramePr/>
          <p:nvPr/>
        </p:nvGraphicFramePr>
        <p:xfrm>
          <a:off x="838080" y="2790720"/>
          <a:ext cx="3770280" cy="28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90720"/>
                    <a:ext cx="377028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858920" y="2742840"/>
            <a:ext cx="380988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ередача информации играет важную роль в жизни общественных животных. Например: пчелы передают друг другу информацию путем «пчелиного танца»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еобразова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84000" y="2362320"/>
            <a:ext cx="3770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о получение и передача информации не имеют смысла без ее преобразования. Например: собака улавливает запахи и преобразует эти данные в информацию о прошедшем здесь человеке.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8" name="Object 4"/>
          <p:cNvGraphicFramePr/>
          <p:nvPr/>
        </p:nvGraphicFramePr>
        <p:xfrm>
          <a:off x="4716360" y="2349360"/>
          <a:ext cx="411480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2349360"/>
                    <a:ext cx="41148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Хране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2" name="Object 3"/>
          <p:cNvGraphicFramePr/>
          <p:nvPr/>
        </p:nvGraphicFramePr>
        <p:xfrm>
          <a:off x="971640" y="2565360"/>
          <a:ext cx="3584520" cy="307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565360"/>
                    <a:ext cx="3584520" cy="30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716360" y="2491920"/>
            <a:ext cx="381024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Хранение информации так же имеет большое значение в мире живой природы. Так птицы хранят информацию о положении места рождения, куда они возвращаются весной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Использова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26920" y="2636640"/>
            <a:ext cx="377064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Животные используют информацию в своей жизнедеятельности. Например знания о съедобности / несъедобности различных растений у травоядных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38" name="Object 4"/>
          <p:cNvGraphicFramePr/>
          <p:nvPr/>
        </p:nvGraphicFramePr>
        <p:xfrm>
          <a:off x="4761000" y="2790720"/>
          <a:ext cx="3770280" cy="28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1000" y="2790720"/>
                    <a:ext cx="377028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Информационные процессы в обществ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2" name="Object 4"/>
          <p:cNvGraphicFramePr/>
          <p:nvPr/>
        </p:nvGraphicFramePr>
        <p:xfrm>
          <a:off x="2666880" y="2590920"/>
          <a:ext cx="4038840" cy="309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590920"/>
                    <a:ext cx="4038840" cy="30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2T09:26:26Z</dcterms:created>
  <dc:creator>Белезяк</dc:creator>
  <dc:description/>
  <dc:language>en-US</dc:language>
  <cp:lastModifiedBy>LEGION</cp:lastModifiedBy>
  <dcterms:modified xsi:type="dcterms:W3CDTF">2015-07-01T12:09:19Z</dcterms:modified>
  <cp:revision>26</cp:revision>
  <dc:subject/>
  <dc:title>Информационные процессы</dc:title>
</cp:coreProperties>
</file>