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3.png" ContentType="image/png"/>
  <Override PartName="/ppt/media/image10.wmf" ContentType="image/x-wmf"/>
  <Override PartName="/ppt/media/image22.png" ContentType="image/png"/>
  <Override PartName="/ppt/media/image21.gif" ContentType="image/gif"/>
  <Override PartName="/ppt/media/image19.wmf" ContentType="image/x-wmf"/>
  <Override PartName="/ppt/media/image24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2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CE9D-E4FE-4F65-8F8B-050E2301C7A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уров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езяк Ан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D6D0-9E0C-4FAA-AD5B-CFFE7F5894B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в обществе происходит посредством исследования объектов или использовани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СМ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4E63-4C13-4EED-B46A-4009AC94DA9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передают информацию из поколения в поколение различными способами. Одним из таких способов является процесс обучени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56C9-91DE-4313-A6E9-D321CC5CEB7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преобразует зрительную и другую информацию в знания об изучаемом объекте. Преобразованием информации человеком обуславливается процесс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909D-E71F-44B3-8620-3D3A92074C3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 необходимо в обществе. Человек хранит накопленную в течении жизни информацию в свое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144E-78F3-4208-B39C-F33CEB737C6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использует накопленную информацию во всех сферах жизнедеятельности. Например: мастер-столяр использует свои знания о металле и инструментах для успешного выполнения свое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8F85-5863-4EAC-93CE-C734FD04B39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тех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C326-A3F8-495C-AA15-B60CC909A43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работки информации компьютером  необходимо ввести эту информацию через устройства ввода. Это является примером получения информации в техн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F8FF-A6E1-4984-A134-BEDABAB14F9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в Интернете осуществляется передача информации между компьют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C383-7BD0-46B0-830C-DA5A4306082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преобразования информации в технике является кодирование. Кодирование необходимо ЭВМ для того, чтобы переводить различную информацию в двоичный код, который способна обрабатывать маш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E652-58E5-460F-A7F7-A82A91D0F49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ычислительной технике информация хранится в памяти. Память разделяют на внутреннюю (оперативную) и внешнюю (долговременную), представленную жестким диском и различными съемными носителя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F6B9-3C8D-4C41-87B7-E4072FC5B86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ды информационных процессов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EF45-CE1E-4B1A-808C-35B8B6A4171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ьютере использование информации происходит при работе программ. Программа использует заложенную программистом информацию для осуществления запрограммирован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92DD-31BB-4337-AFA5-E22DBFE4829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происходят во всех областях жизни: в природе, в обществе и в технике. По-этому изучение и исследование этих процессов, а также создание на их основе более совершенных информационных технологий играет большую роль в прогрессе науки и тех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1CF1-6F38-4BF4-AB9F-F7E4564D98D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а презентация оконч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9FCD-F016-47CC-B281-C861D39844D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живой при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03BB-2320-469C-B181-9E19D894CD2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живой природе получение информации идет самыми разнообразными способами. Например: китообразные получают информацию при помощи эхоло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75E2-0ABA-42A9-97EE-C843BF2A97B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 играет важную роль в жизни общественных животных. Например: пчелы передают друг другу информацию путем «пчелиного танц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E426-4BEA-4272-BF83-E05A28A2582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лучение и передача информации не имеют смысла без ее преобразования. Например: собака улавливает запахи и преобразует эти данные в информацию о прошедшем здесь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CAF1-E42A-48CF-97D1-C3B50679C86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 так же имеет большое значение в мире живой природы. Так птицы хранят информацию о положении места рождения, куда они возвращаются вес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733B-9DB7-4939-BF4F-91CED22BFC0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используют информацию в своей жизнедеятельности. Например знания о съедобности / несъедобности различных растений у травоя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9D0A-9926-46D4-A048-C169658E8E9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D613-5744-4678-A094-EBDA39E6BD8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71F-5A4F-47EF-99C6-92D2289F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9DFA-133F-4413-B603-54D0E15F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CAF-0351-490A-8DC0-2E9671B0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D79-CC1E-4DE3-B9A2-A6BA6427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3795-BD6B-4B59-95AB-2603644B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B0C0-B22A-46C9-8EE5-03A31DBF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C25A-E2B7-4645-9D03-D74A7CEB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2F72-361C-47F5-9670-308C50E1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2544-5644-4CBB-BDE9-15F4C461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7E82-E68F-4AB3-B657-D0FDF243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8446-A6A2-476D-98CD-BB76B293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B8B-90B7-4CD7-BAEE-D6954FCD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3A40-5C26-4522-9794-B908633C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2228-3D1C-46AF-A379-3808093F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70E2-30B5-4B0F-9317-D4D62F4C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1E28-B5DF-41AF-952B-CB90EEC0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D0E5-08D2-4219-BFB6-A319B49F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470-2477-4F54-A40D-92CD67D8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063-7711-46AE-9700-FB183EEE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03E-354B-4936-9AC7-83B40673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EF33-8EFF-4015-AAF5-A15CD933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F0A-3E8B-4D5A-8592-B5A99D7C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7EDC-3C54-4FF8-96C1-2BA102C5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B9A-14A6-4F82-894D-3D4DD6E2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D609-0237-4747-97B8-AE36F9EF046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251D-6988-4FF1-8B3A-C0D3FEF6142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78680" y="1508400"/>
            <a:ext cx="7437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нформационные процес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ыполнил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атурова Дар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елезяк Ан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4716360" y="3068640"/>
          <a:ext cx="2819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068640"/>
                    <a:ext cx="2819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7" descr=""/>
          <p:cNvPicPr/>
          <p:nvPr/>
        </p:nvPicPr>
        <p:blipFill>
          <a:blip r:embed="rId3"/>
          <a:stretch/>
        </p:blipFill>
        <p:spPr>
          <a:xfrm>
            <a:off x="644364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26920" y="2781000"/>
            <a:ext cx="38815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лучение информации в обществе происходит посредством исследования объектов или использован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С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7" name="Group 7"/>
          <p:cNvGrpSpPr/>
          <p:nvPr/>
        </p:nvGrpSpPr>
        <p:grpSpPr>
          <a:xfrm>
            <a:off x="4986360" y="2913120"/>
            <a:ext cx="3794040" cy="3095640"/>
            <a:chOff x="4986360" y="2913120"/>
            <a:chExt cx="3794040" cy="3095640"/>
          </a:xfrm>
        </p:grpSpPr>
        <p:pic>
          <p:nvPicPr>
            <p:cNvPr id="148" name="Object 4" descr=""/>
            <p:cNvPicPr/>
            <p:nvPr/>
          </p:nvPicPr>
          <p:blipFill>
            <a:blip r:embed="rId1"/>
            <a:stretch/>
          </p:blipFill>
          <p:spPr>
            <a:xfrm>
              <a:off x="4986360" y="2913120"/>
              <a:ext cx="314784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Object 5" descr=""/>
            <p:cNvPicPr/>
            <p:nvPr/>
          </p:nvPicPr>
          <p:blipFill>
            <a:blip r:embed="rId2"/>
            <a:stretch/>
          </p:blipFill>
          <p:spPr>
            <a:xfrm>
              <a:off x="7620120" y="4724280"/>
              <a:ext cx="1160280" cy="11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932000" y="2707920"/>
            <a:ext cx="380988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ди передают информацию из поколения в поколение различными способами. Одним из таких способов является процесс обучения де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900000" y="3068640"/>
          <a:ext cx="3959280" cy="25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068640"/>
                    <a:ext cx="39592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2708280"/>
            <a:ext cx="38102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преобразует зрительную и другую информацию в знания об изучаемом объекте. Преобразованием информации человеком обуславливается процесс мышл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4932360" y="2349360"/>
          <a:ext cx="1600200" cy="15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349360"/>
                    <a:ext cx="16002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7740720" y="3284640"/>
          <a:ext cx="6523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3284640"/>
                    <a:ext cx="65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6"/>
          <p:cNvGraphicFramePr/>
          <p:nvPr/>
        </p:nvGraphicFramePr>
        <p:xfrm>
          <a:off x="4356000" y="4724280"/>
          <a:ext cx="2425680" cy="184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4724280"/>
                    <a:ext cx="242568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AutoShape 9"/>
          <p:cNvSpPr/>
          <p:nvPr/>
        </p:nvSpPr>
        <p:spPr>
          <a:xfrm rot="4395600">
            <a:off x="6966720" y="2763000"/>
            <a:ext cx="573120" cy="609840"/>
          </a:xfrm>
          <a:custGeom>
            <a:avLst/>
            <a:gdLst>
              <a:gd name="textAreaLeft" fmla="*/ 329760 w 573120"/>
              <a:gd name="textAreaRight" fmla="*/ 483840 w 573120"/>
              <a:gd name="textAreaTop" fmla="*/ 82080 h 609840"/>
              <a:gd name="textAreaBottom" fmla="*/ 261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 rot="10431600">
            <a:off x="7163640" y="5300280"/>
            <a:ext cx="522360" cy="555480"/>
          </a:xfrm>
          <a:custGeom>
            <a:avLst/>
            <a:gdLst>
              <a:gd name="textAreaLeft" fmla="*/ 300600 w 522360"/>
              <a:gd name="textAreaRight" fmla="*/ 441000 w 522360"/>
              <a:gd name="textAreaTop" fmla="*/ 74880 h 555480"/>
              <a:gd name="textAreaBottom" fmla="*/ 23760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427280" y="2852640"/>
            <a:ext cx="401292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ранение информации необходимо в обществе. Человек хранит накопленную в течении жизни информацию в своей памя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15" descr="j0299125"/>
          <p:cNvPicPr/>
          <p:nvPr/>
        </p:nvPicPr>
        <p:blipFill>
          <a:blip r:embed="rId1"/>
          <a:stretch/>
        </p:blipFill>
        <p:spPr>
          <a:xfrm>
            <a:off x="1332000" y="2708280"/>
            <a:ext cx="2019240" cy="33130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26920" y="2492280"/>
            <a:ext cx="40132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использует накопленную информацию во всех сферах жизнедеятельности. Например: мастер-столяр использует свои знания о металле и инструментах для успешного выполнения своей работ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Picture 7" descr="j0240695"/>
          <p:cNvPicPr/>
          <p:nvPr/>
        </p:nvPicPr>
        <p:blipFill>
          <a:blip r:embed="rId1"/>
          <a:stretch/>
        </p:blipFill>
        <p:spPr>
          <a:xfrm>
            <a:off x="5219640" y="3141720"/>
            <a:ext cx="2808360" cy="22492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ормационные процессы в техни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6" name="Object 3"/>
          <p:cNvGraphicFramePr/>
          <p:nvPr/>
        </p:nvGraphicFramePr>
        <p:xfrm>
          <a:off x="2362320" y="2514600"/>
          <a:ext cx="4000320" cy="31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00032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3640" y="90864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640" y="2852280"/>
            <a:ext cx="439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обработки информации компьютером  необходимо ввести эту информацию через устройства ввода. Это является примером получения информации в техни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6" descr="j0195384"/>
          <p:cNvPicPr/>
          <p:nvPr/>
        </p:nvPicPr>
        <p:blipFill>
          <a:blip r:embed="rId1"/>
          <a:stretch/>
        </p:blipFill>
        <p:spPr>
          <a:xfrm>
            <a:off x="5114880" y="2646360"/>
            <a:ext cx="2919600" cy="28288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716360" y="2781360"/>
            <a:ext cx="372600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 время работы в Интернете осуществляется передача информации между компьютер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5" descr="j0300520"/>
          <p:cNvPicPr/>
          <p:nvPr/>
        </p:nvPicPr>
        <p:blipFill>
          <a:blip r:embed="rId1"/>
          <a:stretch/>
        </p:blipFill>
        <p:spPr>
          <a:xfrm>
            <a:off x="1187280" y="2997360"/>
            <a:ext cx="2567160" cy="20937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4248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ром преобразования информации в технике является кодирование. Кодирование необходимо ЭВМ для того, чтобы переводить различную информацию в двоичный код, который способна обрабатывать машин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9" name="Object 36"/>
          <p:cNvGraphicFramePr/>
          <p:nvPr/>
        </p:nvGraphicFramePr>
        <p:xfrm>
          <a:off x="5649840" y="2738520"/>
          <a:ext cx="19908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9840" y="2738520"/>
                    <a:ext cx="1990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427640" y="2636640"/>
            <a:ext cx="4356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вычислительной технике информация хранится в памяти. Память разделяют на внутреннюю (оперативную) и внешнюю (долговременную), представленную жестким диском и различными съемными носителями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4" name="Object 13"/>
          <p:cNvGraphicFramePr/>
          <p:nvPr/>
        </p:nvGraphicFramePr>
        <p:xfrm>
          <a:off x="1187280" y="3573360"/>
          <a:ext cx="260352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573360"/>
                    <a:ext cx="26035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иды информационных процессов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517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уче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редач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образов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ране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пользов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" descr="j0299171"/>
          <p:cNvPicPr/>
          <p:nvPr/>
        </p:nvPicPr>
        <p:blipFill>
          <a:blip r:embed="rId1"/>
          <a:stretch/>
        </p:blipFill>
        <p:spPr>
          <a:xfrm>
            <a:off x="5508720" y="278136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0212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компьютере использование информации происходит при работе программ. Программа использует заложенную программистом информацию для осуществления запрограммированных действ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8" descr="j0149481"/>
          <p:cNvPicPr/>
          <p:nvPr/>
        </p:nvPicPr>
        <p:blipFill>
          <a:blip r:embed="rId1"/>
          <a:stretch/>
        </p:blipFill>
        <p:spPr>
          <a:xfrm>
            <a:off x="5219640" y="2781360"/>
            <a:ext cx="2975040" cy="3024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ационные процессы происходят во всех областях жизни: в природе, в обществе и в технике. По-этому изучение и исследование этих процессов, а также создание на их основе более совершенных информационных технологий играет большую роль в прогрессе науки и техни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ша презентация оконче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835280" y="3428640"/>
            <a:ext cx="45972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нформационные процессы в живой природ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Object 8"/>
          <p:cNvGraphicFramePr/>
          <p:nvPr/>
        </p:nvGraphicFramePr>
        <p:xfrm>
          <a:off x="2124000" y="2349360"/>
          <a:ext cx="480384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349360"/>
                    <a:ext cx="48038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352908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живой природе получение информации идет самыми разнообразными способами. Например: китообразные получают информацию при помощи эхолокац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4284720" y="2637000"/>
          <a:ext cx="4495680" cy="30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637000"/>
                    <a:ext cx="4495680" cy="30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838080" y="2790720"/>
          <a:ext cx="3770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90720"/>
                    <a:ext cx="3770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858920" y="2742840"/>
            <a:ext cx="3809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дача информации играет важную роль в жизни общественных животных. Например: пчелы передают друг другу информацию путем «пчелиного танца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 получение и передача информации не имеют смысла без ее преобразования. Например: собака улавливает запахи и преобразует эти данные в информацию о прошедшем здесь человеке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4716360" y="2349360"/>
          <a:ext cx="41148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349360"/>
                    <a:ext cx="41148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971640" y="2565360"/>
          <a:ext cx="3584520" cy="30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65360"/>
                    <a:ext cx="35845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716360" y="2491920"/>
            <a:ext cx="38102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ранение информации так же имеет большое значение в мире живой природы. Так птицы хранят информацию о положении места рождения, куда они возвращаются весн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26920" y="2636640"/>
            <a:ext cx="3770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ивотные используют информацию в своей жизнедеятельности. Например знания о съедобности / несъедобности различных растений у травоядн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4761000" y="2790720"/>
          <a:ext cx="3770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2790720"/>
                    <a:ext cx="3770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ормационные процессы в обществ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666880" y="2590920"/>
          <a:ext cx="4038840" cy="30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4038840" cy="30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09:26:26Z</dcterms:created>
  <dc:creator>Белезяк</dc:creator>
  <dc:description/>
  <dc:language>en-US</dc:language>
  <cp:lastModifiedBy>LEGION</cp:lastModifiedBy>
  <dcterms:modified xsi:type="dcterms:W3CDTF">2015-07-01T12:09:19Z</dcterms:modified>
  <cp:revision>26</cp:revision>
  <dc:subject/>
  <dc:title>Информационные процессы</dc:title>
</cp:coreProperties>
</file>