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png" ContentType="image/png"/>
  <Override PartName="/ppt/media/image10.wmf" ContentType="image/x-wmf"/>
  <Override PartName="/ppt/media/image22.png" ContentType="image/png"/>
  <Override PartName="/ppt/media/image21.gif" ContentType="image/gif"/>
  <Override PartName="/ppt/media/image19.wmf" ContentType="image/x-wmf"/>
  <Override PartName="/ppt/media/image24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146-5FFE-464A-9BF9-0E7E60067A5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урова Да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лезяк Ан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2943-1DE3-4511-A81D-B54BCA7A616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СМ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7326-CD5A-46C6-8251-9C13ABF5CF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388-B637-4292-BAB2-C876D87D132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BCAC-5331-4555-89BD-E57FB6BCC9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7364-5D41-4223-B252-B5B8CD120B2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B3D-E201-4FCA-A880-730B9A4601F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тех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FC7C-E54B-4ADC-A1A6-73579952D7B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C7AF-EDEC-4ED4-A97B-527BAEE6351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работы в Интернете осуществляется передача информации между компьют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2C4-4DFD-4FD3-8C8D-A4B33C7F8F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DB3A-80E9-4322-A133-E22FEA6387A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7D77-C912-420A-B0BF-D3215A7C3D3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иды информационных процессов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4F47-0EA1-464D-B31E-55B3F1768AE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5E40-F4FF-49E7-AF40-88A0EB46965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03B-8B08-4F96-8464-23EB29E8B72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презента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1007-A17B-4E30-B796-D2D0253001E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живой при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C1CC-0EAF-4675-86A6-6735DC3A00D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EE66-6232-47CA-AE00-57CF66EEA64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C840-E445-4DD1-941D-2A0FD0256E2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F273-1D62-4660-8C47-0F8D32E2CE3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E96-7167-438E-A916-C3816E4AA68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B143-768F-4571-BC35-A947583FB0C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процессы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1DFF-BAE4-449C-AFBF-0102CBC988B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596-1B84-466C-988B-7140EC18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D2F-FC5F-4064-860E-2C165A85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F7B-4593-4DEE-8605-DA59D60F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46B-BBFB-4C56-8B33-D2DB1C8F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FBD3-F4C4-4379-867E-CAFC9E55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FAA0-0265-4F7D-94E6-5E0E834C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866-AD9D-49A9-948C-4A0F5EE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6D46-9A46-4536-9254-0DF7D443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C5A3-4461-4F74-8843-5D9889E8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09A2-8FAD-4FCB-A600-755ADAAE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964F-9271-42E9-9BE7-A0F1FE2E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A4D-AB7A-4E78-82BE-A248EF2B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23D1-C3A6-479E-8147-737F862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91E4-F29F-45DA-BD81-D2F69A0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3D18-6CC8-47B1-A6B7-C08FEB0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1522-FEC4-4C97-B0D7-1AC9966A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8CE3-334D-42B5-BBCE-D2DE52A3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FB1-50D7-45CC-B82E-D0DE4601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204B-A2A2-486F-B2F1-E042951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1CB0-4E1F-43FF-A06E-C43409C8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192C-4D6E-4082-B56A-D476BF4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631-234D-4E3A-999E-BDE34250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D63-F00C-4681-802E-6E64C6D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AA7-CEF7-4E24-AC9D-837564C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3826-ABB4-4508-834D-671BBCF16E1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DA2-4AF4-4CEF-AC52-D1EE0DCB2F1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78680" y="1508400"/>
            <a:ext cx="7437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ормационные проце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ыполнил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атурова Да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елезяк Анн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3068640"/>
          <a:ext cx="281952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068640"/>
                    <a:ext cx="2819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6443640" y="83664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26920" y="2781000"/>
            <a:ext cx="38815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лучение информации в обществе происходит посредством исследования объектов или использовани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С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4986360" y="2913120"/>
            <a:ext cx="3794040" cy="3095640"/>
            <a:chOff x="4986360" y="2913120"/>
            <a:chExt cx="3794040" cy="3095640"/>
          </a:xfrm>
        </p:grpSpPr>
        <p:pic>
          <p:nvPicPr>
            <p:cNvPr id="148" name="Object 4" descr=""/>
            <p:cNvPicPr/>
            <p:nvPr/>
          </p:nvPicPr>
          <p:blipFill>
            <a:blip r:embed="rId1"/>
            <a:stretch/>
          </p:blipFill>
          <p:spPr>
            <a:xfrm>
              <a:off x="4986360" y="2913120"/>
              <a:ext cx="314784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Object 5" descr=""/>
            <p:cNvPicPr/>
            <p:nvPr/>
          </p:nvPicPr>
          <p:blipFill>
            <a:blip r:embed="rId2"/>
            <a:stretch/>
          </p:blipFill>
          <p:spPr>
            <a:xfrm>
              <a:off x="7620120" y="4724280"/>
              <a:ext cx="1160280" cy="11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32000" y="2707920"/>
            <a:ext cx="380988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юди передают информацию из поколения в поколение различными способами. Одним из таких способов является процесс обучения де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900000" y="3068640"/>
          <a:ext cx="3959280" cy="25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9592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708280"/>
            <a:ext cx="3810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преобразует зрительную и другую информацию в знания об изучаемом объекте. Преобразованием информации человеком обуславливается процесс мыш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932360" y="2349360"/>
          <a:ext cx="1600200" cy="15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349360"/>
                    <a:ext cx="16002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5"/>
          <p:cNvGraphicFramePr/>
          <p:nvPr/>
        </p:nvGraphicFramePr>
        <p:xfrm>
          <a:off x="7740720" y="3284640"/>
          <a:ext cx="65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3284640"/>
                    <a:ext cx="65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6"/>
          <p:cNvGraphicFramePr/>
          <p:nvPr/>
        </p:nvGraphicFramePr>
        <p:xfrm>
          <a:off x="4356000" y="4724280"/>
          <a:ext cx="2425680" cy="184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724280"/>
                    <a:ext cx="24256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AutoShape 9"/>
          <p:cNvSpPr/>
          <p:nvPr/>
        </p:nvSpPr>
        <p:spPr>
          <a:xfrm rot="4395600">
            <a:off x="6966720" y="2763000"/>
            <a:ext cx="573120" cy="609840"/>
          </a:xfrm>
          <a:custGeom>
            <a:avLst/>
            <a:gdLst>
              <a:gd name="textAreaLeft" fmla="*/ 329760 w 573120"/>
              <a:gd name="textAreaRight" fmla="*/ 483840 w 573120"/>
              <a:gd name="textAreaTop" fmla="*/ 82080 h 609840"/>
              <a:gd name="textAreaBottom" fmla="*/ 261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AutoShape 10"/>
          <p:cNvSpPr/>
          <p:nvPr/>
        </p:nvSpPr>
        <p:spPr>
          <a:xfrm rot="10431600">
            <a:off x="7163640" y="5300280"/>
            <a:ext cx="522360" cy="555480"/>
          </a:xfrm>
          <a:custGeom>
            <a:avLst/>
            <a:gdLst>
              <a:gd name="textAreaLeft" fmla="*/ 300600 w 522360"/>
              <a:gd name="textAreaRight" fmla="*/ 441000 w 522360"/>
              <a:gd name="textAreaTop" fmla="*/ 74880 h 555480"/>
              <a:gd name="textAreaBottom" fmla="*/ 23760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66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2852640"/>
            <a:ext cx="40129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необходимо в обществе. Человек хранит накопленную в течении жизни информацию в своей памя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15" descr="j0299125"/>
          <p:cNvPicPr/>
          <p:nvPr/>
        </p:nvPicPr>
        <p:blipFill>
          <a:blip r:embed="rId1"/>
          <a:stretch/>
        </p:blipFill>
        <p:spPr>
          <a:xfrm>
            <a:off x="1332000" y="2708280"/>
            <a:ext cx="2019240" cy="33130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40132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спользует накопленную информацию во всех сферах жизнедеятельности. Например: мастер-столяр использует свои знания о металле и инструментах для успешного выполнения своей работ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7" descr="j0240695"/>
          <p:cNvPicPr/>
          <p:nvPr/>
        </p:nvPicPr>
        <p:blipFill>
          <a:blip r:embed="rId1"/>
          <a:stretch/>
        </p:blipFill>
        <p:spPr>
          <a:xfrm>
            <a:off x="5219640" y="3141720"/>
            <a:ext cx="2808360" cy="22492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техни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2362320" y="2514600"/>
          <a:ext cx="4000320" cy="31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00032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3640" y="90864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5640" y="2852280"/>
            <a:ext cx="439272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обработки информации компьютером  необходимо ввести эту информацию через устройства ввода. Это является примером получения информации в техник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6" descr="j0195384"/>
          <p:cNvPicPr/>
          <p:nvPr/>
        </p:nvPicPr>
        <p:blipFill>
          <a:blip r:embed="rId1"/>
          <a:stretch/>
        </p:blipFill>
        <p:spPr>
          <a:xfrm>
            <a:off x="5114880" y="2646360"/>
            <a:ext cx="2919600" cy="2828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716360" y="2781360"/>
            <a:ext cx="3726000" cy="28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 время работы в Интернете осуществляется передача информации между компьютер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5" descr="j0300520"/>
          <p:cNvPicPr/>
          <p:nvPr/>
        </p:nvPicPr>
        <p:blipFill>
          <a:blip r:embed="rId1"/>
          <a:stretch/>
        </p:blipFill>
        <p:spPr>
          <a:xfrm>
            <a:off x="1187280" y="2997360"/>
            <a:ext cx="2567160" cy="20937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248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мером преобразования информации в технике является кодирование. Кодирование необходимо ЭВМ для того, чтобы переводить различную информацию в двоичный код, который способна обрабатывать машин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9" name="Object 36"/>
          <p:cNvGraphicFramePr/>
          <p:nvPr/>
        </p:nvGraphicFramePr>
        <p:xfrm>
          <a:off x="5649840" y="2738520"/>
          <a:ext cx="19908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2738520"/>
                    <a:ext cx="1990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427640" y="2636640"/>
            <a:ext cx="4356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вычислительной технике информация хранится в памяти. Память разделяют на внутреннюю (оперативную) и внешнюю (долговременную), представленную жестким диском и различными съемными носителями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4" name="Object 13"/>
          <p:cNvGraphicFramePr/>
          <p:nvPr/>
        </p:nvGraphicFramePr>
        <p:xfrm>
          <a:off x="1187280" y="3573360"/>
          <a:ext cx="260352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573360"/>
                    <a:ext cx="260352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иды информационных процессов: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517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редач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обра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Хране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j0299171"/>
          <p:cNvPicPr/>
          <p:nvPr/>
        </p:nvPicPr>
        <p:blipFill>
          <a:blip r:embed="rId1"/>
          <a:stretch/>
        </p:blipFill>
        <p:spPr>
          <a:xfrm>
            <a:off x="5508720" y="278136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021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компьютере использование информации происходит при работе программ. Программа использует заложенную программистом информацию для осуществления запрограммированных действ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j0149481"/>
          <p:cNvPicPr/>
          <p:nvPr/>
        </p:nvPicPr>
        <p:blipFill>
          <a:blip r:embed="rId1"/>
          <a:stretch/>
        </p:blipFill>
        <p:spPr>
          <a:xfrm>
            <a:off x="5219640" y="2781360"/>
            <a:ext cx="2975040" cy="3024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формационные процессы происходят во всех областях жизни: в природе, в обществе и в технике. По-этому изучение и исследование этих процессов, а также создание на их основе более совершенных информационных технологий играет большую роль в прогрессе науки и техни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ша презентация оконче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835280" y="3428640"/>
            <a:ext cx="459720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нформационные процессы в живой природ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2124000" y="2349360"/>
          <a:ext cx="480384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349360"/>
                    <a:ext cx="480384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уч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352908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вой природе получение информации идет самыми разнообразными способами. Например: китообразные получают информацию при помощи эхолокац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4284720" y="2637000"/>
          <a:ext cx="4495680" cy="30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637000"/>
                    <a:ext cx="449568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ередача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83808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58920" y="274284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ача информации играет важную роль в жизни общественных животных. Например: пчелы передают друг другу информацию путем «пчелиного танца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обра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2362320"/>
            <a:ext cx="377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о получение и передача информации не имеют смысла без ее преобразования. Например: собака улавливает запахи и преобразует эти данные в информацию о прошедшем здесь человеке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716360" y="2349360"/>
          <a:ext cx="411480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ране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971640" y="2565360"/>
          <a:ext cx="3584520" cy="30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358452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716360" y="2491920"/>
            <a:ext cx="38102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Хранение информации так же имеет большое значение в мире живой природы. Так птицы хранят информацию о положении места рождения, куда они возвращаются весн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спользование информ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3770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ивотные используют информацию в своей жизнедеятельности. Например знания о съедобности / несъедобности различных растений у травоядн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4761000" y="2790720"/>
          <a:ext cx="37702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790720"/>
                    <a:ext cx="37702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ормационные процессы в обществ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666880" y="2590920"/>
          <a:ext cx="4038840" cy="30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90920"/>
                    <a:ext cx="4038840" cy="30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9:26:26Z</dcterms:created>
  <dc:creator>Белезяк</dc:creator>
  <dc:description/>
  <dc:language>en-US</dc:language>
  <cp:lastModifiedBy>LEGION</cp:lastModifiedBy>
  <dcterms:modified xsi:type="dcterms:W3CDTF">2015-07-01T12:09:19Z</dcterms:modified>
  <cp:revision>26</cp:revision>
  <dc:subject/>
  <dc:title>Информационные процессы</dc:title>
</cp:coreProperties>
</file>