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8B87-BCA3-4F41-91DA-452D089565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CD90-7FFE-4B16-8440-9D8C7EE12F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7D69-53CF-4B52-ABE5-CBBE3BA877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2674-466E-4EC6-A013-EDAE6A8949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2222-1C69-48B4-A19D-D70BA63996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2F1B-FD6A-4A28-A937-378822E123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85DB-8397-4523-85EF-16B01E157B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D6BA-67BD-4D5B-AAE5-FA84984612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0CFB-E30E-4928-BD0B-219E0F8EFE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6532-3921-4F2F-BCFF-836A9B4809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F1DD-4E45-4792-9878-95D86461F6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DE59-093B-4703-A00F-D491623DF2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0F3E-EBF6-41CD-A64C-B58E782E7F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D95E-E676-4A82-8D94-85AB72DA7E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D10A-2031-4D11-9E83-5F31B9A353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C509-31D7-49D6-B939-09063BE848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8A11-0244-4663-B3F2-A234C428CD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 тогдашнем поколении чувствуется имен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ое неодолимо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лечение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к философи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ая-то философска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трасть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яга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точ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агическое притяжение к философским тема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вопросам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В предыдущем поколени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аким культурно-психологическим магнит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ыла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зия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теперь уже перестаёт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м быть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з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тического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фазис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культурно-творческое созна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ереходит в фазис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лософ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BAC2-7344-4987-991E-19E163A010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именно «из нашей жизни», из господствующи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просов и интересов родной жизн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в те годы русская философия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 историософического изумлен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чти испуга, в болезненном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цесс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ционально-историческог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амонахождения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разду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A237-7FC0-4EA1-B6D7-68BE1604DD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EB55-04A4-4C21-88C3-578D7823BF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0083-5B7B-474E-8714-14C1F8A638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968C-CCDB-468F-93B5-93FD74CD8E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Истоки русской философи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Речь Философ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6)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крещение Руси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Слово о законе и благодати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тр. Илларион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05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весть временных лет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нач. </a:t>
            </a: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XII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в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стяжатели и осифляне (кон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 –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ч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I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аксим Гре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470-155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еписка Ивана Грозного с А. Курбским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564-157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18C1-3A59-4566-BDCA-8B80221031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иево-Могилянская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ллегия (позднее – академия)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3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литик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Ю. Крижанич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6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авяно-греко-латинская академ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8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кадемия нау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2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В. Ломоносо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11-176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осковский университет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М. Щербат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33-179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. Н. Радище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49-180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6973-890D-4A3B-A35C-88C3529618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 русские «любомудры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. М. Карамзин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66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. Б. Шад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8-183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. М. Веллански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74-184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Г. Павл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93-184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Любомудры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3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4A5B-8076-4BD7-98BC-5B3B556E7C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. Я. Чаадаев (1794-1856)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илософические пись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9-1830, 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Calibri"/>
              </a:rPr>
              <a:t>опубл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. 1836-199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пология сумасшедшего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(183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AACA-A93D-4433-B951-E4FE2324FA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C9F4-D879-4183-A091-5E47AB02D6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DCF5-F408-42BC-9460-EDA5786CB4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C91D-BE13-4BC8-B90E-2BE7897DB0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6D7-8D12-42EB-984E-D6F3A9BE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6C4-0B14-4C5A-9ACA-50FC6113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F00-0ACE-45C2-812D-CE3A573A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503-9F1E-49FB-9F30-FB19E5B5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243-FF25-440E-B931-1A973AEB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C82-05F2-498E-93F3-57CFD460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FA0-8959-4946-87BD-13A73513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4D4-C3D9-4D98-A8BE-EF129030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40B-251B-460E-971B-E874641B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47E7-D207-49E1-836C-F5C0EDBF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E95C-102E-4117-80E9-85A0C83F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5B0-CDF0-49E7-B557-77819B84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45A9-0B50-49DE-9674-3D11FF41A5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00080" y="2428920"/>
            <a:ext cx="7043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живём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амом ограниче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тоящем без прошедшего и без буд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плоского застоя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оминания не идут далее вчерашн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ня; мы как бы чужие для себя сами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так удивительно шествуем во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мере движения вперёд, пережит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падает для нас безвозвратн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с совс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нутреннего разви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ественного прогресса; прежние иде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метаются новыми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е не происходят из первы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оявляются у нас неизвестно отку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Vasnetsov, Moving House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2009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то естествен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ледствие культуры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ецело заимствованной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подражате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baxt_cost_battista_les_femmes_bon"/>
          <p:cNvPicPr/>
          <p:nvPr/>
        </p:nvPicPr>
        <p:blipFill>
          <a:blip r:embed="rId1"/>
          <a:stretch/>
        </p:blipFill>
        <p:spPr>
          <a:xfrm>
            <a:off x="682560" y="1870200"/>
            <a:ext cx="1922400" cy="28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всех народов есть период бу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лнений, страстного беспокой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ятельности без обдуманных намерений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ора великих побуж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ких свершений, великих стра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родов. Они тогда неистовству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ясного повода, но не без польз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грядущих поколений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о увлекательная эпоха в истор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родов, это их юность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всего сильнее развиваются 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ования, и память о нём 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аду и поучение их зрел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Gerome, The_Pyrrhic_Dance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19280" cy="176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напротив, не имели ничего подобн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ачала дикое варварство, затем груб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еверие, далее иноземное владыче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стокое и унизительное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 котор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циональная власть впоследств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аследовала, – в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чальная истор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й юност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поха нашей социаль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, соответствующая этому возраст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наполнена тусклым и мрач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м без силы, без энерг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ушевляемом только злодея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мягчаемом только рабств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Глазунов, Иван Грозный (ум)"/>
          <p:cNvPicPr/>
          <p:nvPr/>
        </p:nvPicPr>
        <p:blipFill>
          <a:blip r:embed="rId1"/>
          <a:stretch/>
        </p:blipFill>
        <p:spPr>
          <a:xfrm>
            <a:off x="863640" y="1870200"/>
            <a:ext cx="141444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ые наши год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шие в неподвижной дик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ставили никакого следа в нашей у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т в нас нич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 нам прис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что могла бы опереться наша мысл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деленные по странной воле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всеобщего движения человеч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сприняли мы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ди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 между тем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их основана жизнь народов;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их идей вытекает их будуще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ходит их нравственн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Delaroche, Hemicycle_of_the_Ecole_des_Beaux-Arts_right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21080" cy="1609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чь идёт здесь не об учё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 чтении, не о чём-то литератур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м, а просто о соприкоснов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й, о мыслях, которые охват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бёнка в колыбели, окружают его сред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гр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в форме различ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 проникают до мозга его к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е с воздухом, которым он дышит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и о долге, справедлив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е, порядке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и происходят из т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ых событий, которые создали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о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т она, атмосфе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а…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что вы видите у нас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Alma-Tadema, A_Birth_Chamber (red)"/>
          <p:cNvPicPr/>
          <p:nvPr/>
        </p:nvPicPr>
        <p:blipFill>
          <a:blip r:embed="rId1"/>
          <a:stretch/>
        </p:blipFill>
        <p:spPr>
          <a:xfrm>
            <a:off x="287280" y="2338560"/>
            <a:ext cx="2535120" cy="1852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ы – существа нравстве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но так, как и отдельные личност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х воспитывают века, как лю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итывают годы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сказать, что мы состав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бы исключение среди народов.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ринадлежим к тем из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как бы не вход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ной частью в род человеческ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уществуют лишь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великий урок мир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Gerome, Moses_on_Mount_Sinai_red1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45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0800000">
            <a:off x="2516040" y="1869840"/>
            <a:ext cx="647856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человека теряться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находит способа связаться с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было до него и что будет после н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тогда утрачивает всякую твёрд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ую уверенность; не руководим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щущением непрерывной длительности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чувствует себя заблудившимся в 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е растерянные существа встре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ранах; у нас это общее свойство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наших головах нет реш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его обще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сё там обособ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там шатко и непол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Gerome, Cave_Canem"/>
          <p:cNvPicPr/>
          <p:nvPr/>
        </p:nvPicPr>
        <p:blipFill>
          <a:blip r:embed="rId1"/>
          <a:stretch/>
        </p:blipFill>
        <p:spPr>
          <a:xfrm>
            <a:off x="324000" y="1870200"/>
            <a:ext cx="2431800" cy="287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орды варваров, потряс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, не прошли прежде нашеств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 по нашей стране, мы ед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бы главой всемирной истори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бы заставить себя заметить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м пришлось растянуть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Берингова пролива до Оде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Vasnetsov, After Prince Igor's Battle with the Polovtsy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1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0800000">
            <a:off x="2374920" y="1545480"/>
            <a:ext cx="665784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 время, когда среди бор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исполненным силы варвар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ов Севера и возвыш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ью религии воздвига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дание современ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елали мы? По воле роковой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братились за нравственным учени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должно было нас воспит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тленной Византи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предмет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убокого презрения этих народов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всё тогда было одуше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вотворным началом единства. Всё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го происходило, всё к нему сходилось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ждые этому чудотворному начал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али жертвой завоев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Waterhouse, The_Favourites_of_the_Emperor_Honorious_red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1485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2373480" y="1869480"/>
            <a:ext cx="66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 знаете, что ни один философ древ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ытался представить себе общества б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в, да и не находил никаких возраже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 рабств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 знаете также и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признанию самых даже упо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ов, уничтожением крепостнич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мы обязаны христианству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 христианство не имело таких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ствий у нас?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, наоборо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ий народ попал в рабство 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е того, как стал христианским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усть православ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яснит это явл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urday"/>
          <p:cNvPicPr/>
          <p:nvPr/>
        </p:nvPicPr>
        <p:blipFill>
          <a:blip r:embed="rId1"/>
          <a:stretch/>
        </p:blipFill>
        <p:spPr>
          <a:xfrm>
            <a:off x="324000" y="1870200"/>
            <a:ext cx="2328840" cy="287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наю, но мне каж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 это могло бы застави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омниться в православ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 мы кичим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Православие (2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812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м словом, мы жили и сейч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щё живём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какой-то великий уро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алённым потомк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поймут 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а, что бы там ни говори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оставляем пробе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нтеллектуаль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Gerome, Polyphemus_red0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57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не пройд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еда и то наставл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ам суждено д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кто знает день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вновь обретём себ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человечеств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бед испытаем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свершения наших судеб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гдашнем поколении чувствуется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е неодолим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еч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философ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ая-то философс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я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ч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гическое притяжение к философским тем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опросам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предыдущем поко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культурно-психологическим магни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з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теперь уже переста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 быть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ическ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фазис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культурно-творческ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ходит в фази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соф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менно «из нашей жизни», из господствующ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ов и интересов родной жиз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в те годы русская философ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сториософического изум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ти испуга, в болезнен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ционально-истори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нахожд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разду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48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0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755720" y="1725480"/>
            <a:ext cx="566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токи русской философ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чь Философ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6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ещение Рус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лово о законе и благодати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тр. Илларион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0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весть временных лет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ач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тяжатели и осифляне (кон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I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ксим Гр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470-15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Ивана Грозного с А. Курбски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64-15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asnetsov, The Chronicler Nestor"/>
          <p:cNvPicPr/>
          <p:nvPr/>
        </p:nvPicPr>
        <p:blipFill>
          <a:blip r:embed="rId1"/>
          <a:stretch/>
        </p:blipFill>
        <p:spPr>
          <a:xfrm>
            <a:off x="358920" y="1619280"/>
            <a:ext cx="11905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7" descr="Нил Сорский (1)"/>
          <p:cNvPicPr/>
          <p:nvPr/>
        </p:nvPicPr>
        <p:blipFill>
          <a:blip r:embed="rId2"/>
          <a:stretch/>
        </p:blipFill>
        <p:spPr>
          <a:xfrm>
            <a:off x="1798560" y="1798560"/>
            <a:ext cx="184968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9" descr="Vasnetsov, Tsar Ivan IV the Terrible"/>
          <p:cNvPicPr/>
          <p:nvPr/>
        </p:nvPicPr>
        <p:blipFill>
          <a:blip r:embed="rId3"/>
          <a:stretch/>
        </p:blipFill>
        <p:spPr>
          <a:xfrm>
            <a:off x="2484360" y="4317840"/>
            <a:ext cx="1150920" cy="2156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10" descr="Максим Грек (2)"/>
          <p:cNvPicPr/>
          <p:nvPr/>
        </p:nvPicPr>
        <p:blipFill>
          <a:blip r:embed="rId4"/>
          <a:stretch/>
        </p:blipFill>
        <p:spPr>
          <a:xfrm>
            <a:off x="324000" y="4138560"/>
            <a:ext cx="185400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ево-Могилянска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легия (позднее – академия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литик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 Крижанич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авяно-греко-латинская академ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адемия нау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В. Ломонос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1-17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университе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М. Щерба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33-17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Н. Радище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9-18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Фасад Московского университета 1784 год"/>
          <p:cNvPicPr/>
          <p:nvPr/>
        </p:nvPicPr>
        <p:blipFill>
          <a:blip r:embed="rId1"/>
          <a:stretch/>
        </p:blipFill>
        <p:spPr>
          <a:xfrm>
            <a:off x="539640" y="3525840"/>
            <a:ext cx="2880000" cy="930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Радищев (2)"/>
          <p:cNvPicPr/>
          <p:nvPr/>
        </p:nvPicPr>
        <p:blipFill>
          <a:blip r:embed="rId2"/>
          <a:stretch/>
        </p:blipFill>
        <p:spPr>
          <a:xfrm>
            <a:off x="1979640" y="4678200"/>
            <a:ext cx="1460520" cy="1797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7" name="Picture 7" descr="Могила (с тенью)"/>
          <p:cNvPicPr/>
          <p:nvPr/>
        </p:nvPicPr>
        <p:blipFill>
          <a:blip r:embed="rId3"/>
          <a:stretch/>
        </p:blipFill>
        <p:spPr>
          <a:xfrm>
            <a:off x="358920" y="1438200"/>
            <a:ext cx="1199880" cy="185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Щербатов (1)"/>
          <p:cNvPicPr/>
          <p:nvPr/>
        </p:nvPicPr>
        <p:blipFill>
          <a:blip r:embed="rId4"/>
          <a:stretch/>
        </p:blipFill>
        <p:spPr>
          <a:xfrm>
            <a:off x="539640" y="4678200"/>
            <a:ext cx="1295640" cy="179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Ломоносов (3-1)"/>
          <p:cNvPicPr/>
          <p:nvPr/>
        </p:nvPicPr>
        <p:blipFill>
          <a:blip r:embed="rId5"/>
          <a:stretch/>
        </p:blipFill>
        <p:spPr>
          <a:xfrm>
            <a:off x="2124000" y="1619280"/>
            <a:ext cx="1230480" cy="16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840" y="128520"/>
            <a:ext cx="85183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русские «любомудры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7840" y="1798200"/>
            <a:ext cx="43182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. Б. Ша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8-18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 М. Велланск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74-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Г. Пав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93-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Любомудры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23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173480" y="6189840"/>
            <a:ext cx="2454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. В. Веневитинов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5-18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Карамз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194004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5" name="Picture 13" descr="Одоевский_red2"/>
          <p:cNvPicPr/>
          <p:nvPr/>
        </p:nvPicPr>
        <p:blipFill>
          <a:blip r:embed="rId2"/>
          <a:stretch/>
        </p:blipFill>
        <p:spPr>
          <a:xfrm>
            <a:off x="2698920" y="2878200"/>
            <a:ext cx="1612800" cy="2163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6" name="Text Box 14"/>
          <p:cNvSpPr/>
          <p:nvPr/>
        </p:nvSpPr>
        <p:spPr>
          <a:xfrm>
            <a:off x="2517840" y="5110200"/>
            <a:ext cx="197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Ф. Одоев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3-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39640" y="4030560"/>
            <a:ext cx="194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Д В Веневитинов Портрет маслом А Лагрене 1826 г  (2)"/>
          <p:cNvPicPr/>
          <p:nvPr/>
        </p:nvPicPr>
        <p:blipFill>
          <a:blip r:embed="rId3"/>
          <a:stretch/>
        </p:blipFill>
        <p:spPr>
          <a:xfrm>
            <a:off x="4533840" y="3957480"/>
            <a:ext cx="173520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 Я. Чаадаев (1794-1856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57840" y="3417480"/>
            <a:ext cx="403848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ческие пись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29-1830,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пуб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1836-19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логия сумасшедшег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чаадаев"/>
          <p:cNvPicPr/>
          <p:nvPr/>
        </p:nvPicPr>
        <p:blipFill>
          <a:blip r:embed="rId1"/>
          <a:stretch/>
        </p:blipFill>
        <p:spPr>
          <a:xfrm>
            <a:off x="611280" y="1978200"/>
            <a:ext cx="387972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3" name="Text Box 5"/>
          <p:cNvSpPr/>
          <p:nvPr/>
        </p:nvSpPr>
        <p:spPr>
          <a:xfrm>
            <a:off x="5397480" y="1978200"/>
            <a:ext cx="280836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ч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 rot="10800000">
            <a:off x="2625480" y="186948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видени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будто совс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нималось нашей судьб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азывая нам в своём благодете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ействии на человеческий разум,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оставило нас всецело самим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желало ни в чём вмешива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 дела, не пожелало ничему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ить. Опыт времён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ует. Века и поко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ли для нас бесплодн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ядя на нас, можно сказать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отношению к нам всеобщий зак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тва сведён на не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когда не ш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месте с другими народ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надлежим ни к одн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звестных семейст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к Западу, ни к Восто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ем традиц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того, ни друг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оим как 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рное воспит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распростран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Vasnetsov, A Knight at the Crossroads (Serpukhov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42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ссы подчиняются известным сил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ящим у вершин обществ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о они не размышляют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них имеется известное чис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елей, которые за них дум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дают толчок коллектив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ю нации и приводят её в движен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начительное меньшинство мысли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ьная часть чувствует, в ито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чается общее движение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перь, я вас спрошу, 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удрец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ыслители? Кто из нас когд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ма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то за нас дум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пер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Raphael 054 The School of Athens (detail 1)_compr"/>
          <p:cNvPicPr/>
          <p:nvPr/>
        </p:nvPicPr>
        <p:blipFill>
          <a:blip r:embed="rId1"/>
          <a:stretch/>
        </p:blipFill>
        <p:spPr>
          <a:xfrm>
            <a:off x="431640" y="1870200"/>
            <a:ext cx="21988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4:33Z</dcterms:created>
  <dc:creator>Николай Бирюков / Nikolai Biryukov</dc:creator>
  <dc:description>Версия декабря 2006 г.</dc:description>
  <dc:language>en-US</dc:language>
  <cp:lastModifiedBy>LEGION</cp:lastModifiedBy>
  <dcterms:modified xsi:type="dcterms:W3CDTF">2014-11-11T10:06:51Z</dcterms:modified>
  <cp:revision>68</cp:revision>
  <dc:subject>История русской философии - Лекция 1</dc:subject>
  <dc:title>Истоки и начало русской философии</dc:title>
</cp:coreProperties>
</file>