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jpeg" ContentType="image/jpeg"/>
  <Override PartName="/ppt/media/image22.jpeg" ContentType="image/jpeg"/>
  <Override PartName="/ppt/media/image9.png" ContentType="image/png"/>
  <Override PartName="/ppt/media/image26.jpeg" ContentType="image/jpeg"/>
  <Override PartName="/ppt/media/image5.jpeg" ContentType="image/jpeg"/>
  <Override PartName="/ppt/media/image28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27.jpeg" ContentType="image/jpeg"/>
  <Override PartName="/ppt/media/image6.jpeg" ContentType="image/jpeg"/>
  <Override PartName="/ppt/media/image10.png" ContentType="image/png"/>
  <Override PartName="/ppt/media/image11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6.png" ContentType="image/png"/>
  <Override PartName="/ppt/media/image17.jpeg" ContentType="image/jpeg"/>
  <Override PartName="/ppt/media/image15.png" ContentType="image/png"/>
  <Override PartName="/ppt/media/image18.jpeg" ContentType="image/jpeg"/>
  <Override PartName="/ppt/media/image19.jpeg" ContentType="image/jpeg"/>
  <Override PartName="/ppt/media/image20.jpeg" ContentType="image/jpe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DC71B-40A5-4FC9-AB00-5E344E4ED6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br>
              <a:rPr sz="8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7A6AD-4776-4D05-92C2-DE7444A582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43957-210F-4F1C-8029-E5535C30767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ED8BF-FF4B-4B7E-A2F3-1EE2C738DA6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88E286-88DA-4B75-B84A-4BF7B3E84F8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626B6-BDBF-48F7-96E4-FE21682F7E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8A12E-75E2-4DBC-AA80-1AE1A2E938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8C4CE-40B8-486D-AB2D-9AB8F1DBF6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C88CA-6F4D-41B2-BC1F-A74CB064FA8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A611C-2CD1-4824-88AF-4BE46241753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F42F-5766-4C37-A98E-B2918220FE5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445AC-1FEF-42F8-BB87-2DD9E47E6B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Calibri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Calibri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80000"/>
              </a:lnSpc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252D5-C0AD-4194-B65F-90D3E0A860F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5CCBE-54EB-491F-94CF-E90D6F03FF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сторическая неудача правосла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D7E00-1B71-49CD-8512-5FFC61557CF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30742-1BED-43A6-AAEE-57E080BE211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 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ссия России – урок потомству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A9D5-5C15-4E9B-84D3-5BF7B46A064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 тогдашнем поколении чувствуется имен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ое неодолимое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влечение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к философи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какая-то философска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трасть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тяга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точно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магическое притяжение к философским тема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вопросам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В предыдущем поколении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таким культурно-психологическим магнитом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была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зия,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– теперь уже перестаёт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м быть. </a:t>
            </a:r>
            <a:r>
              <a:rPr b="1" lang="ru-RU" sz="1200" spc="-1" strike="noStrike">
                <a:solidFill>
                  <a:srgbClr val="0066ff"/>
                </a:solidFill>
                <a:latin typeface="Calibri"/>
              </a:rPr>
              <a:t>&lt;…&gt;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з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оэтического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фазиса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культурно-творческое сознание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ереходит в фазис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философск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7046C-E90A-44A4-8230-C4DD2D1CB1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именно «из нашей жизни», из господствующих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вопросов и интересов родной жизни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в те годы русская философия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из историософического изумлен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почти испуга, в болезненном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процессе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национально-исторического</a:t>
            </a:r>
            <a:br>
              <a:rPr sz="1200"/>
            </a:b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самонахождения</a:t>
            </a: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 и раздумь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E7346-5BE9-49D8-BDD3-01362174265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CF9B2-6172-44D6-AA0B-C4D50E88FA8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 рождается именно </a:t>
            </a: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русская философия,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 только – философия в России.</a:t>
            </a:r>
            <a:r>
              <a:rPr b="0" lang="ru-RU" sz="1200" spc="-1" strike="noStrike">
                <a:solidFill>
                  <a:srgbClr val="0000ff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Ибо рождается или пробуждае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усское философское сознание,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то новый начинает философствов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Рождается или становится </a:t>
            </a:r>
            <a:br>
              <a:rPr sz="1200"/>
            </a:br>
            <a:r>
              <a:rPr b="1" lang="ru-RU" sz="1200" spc="-1" strike="noStrike">
                <a:solidFill>
                  <a:srgbClr val="0000ff"/>
                </a:solidFill>
                <a:latin typeface="Calibri"/>
              </a:rPr>
              <a:t>некий новый «субъект философии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A6A5-8BA3-4FE1-82FA-03CED5066D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1200"/>
            </a:br>
            <a:r>
              <a:rPr b="1" lang="ru-RU" sz="12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59FD-A5A7-426C-9E1E-C3FCD1D98D6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Истоки русской философии</a:t>
            </a: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авославная мысль в средневековой России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Речь Философ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6)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 и крещение Руси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98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Слово о законе и благодати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итр. Илларион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05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весть временных лет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нач. </a:t>
            </a:r>
            <a:r>
              <a:rPr b="1" lang="en-US" sz="1100" spc="-1" strike="noStrike">
                <a:solidFill>
                  <a:srgbClr val="ffffff"/>
                </a:solidFill>
                <a:latin typeface="Calibri"/>
              </a:rPr>
              <a:t>XII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в.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естяжатели и осифляне (кон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 –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ач. 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XVI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вв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аксим Гре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470-155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Переписка Ивана Грозного с А. Курбским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564-1578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C2C02-2F35-4B48-A986-6209EC28818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Русское Просвещение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иево-Могилянская</a:t>
            </a:r>
            <a:r>
              <a:rPr b="1" lang="en-US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коллегия (позднее – академия)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3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Политика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Ю. Крижанича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63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Славяно-греко-латинская академия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68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кадемия наук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2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В. Ломоносо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11-176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осковский университет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5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М. Щербат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33-179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А. Н. Радищев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49-1802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4ADD3-8A2E-419B-A104-6C4F01E824F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Истоки русской философии </a:t>
            </a:r>
            <a:br>
              <a:rPr sz="18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Немецкая классическая философия </a:t>
            </a: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 русские «любомудры»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Н. М. Карамзин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66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И. Б. Шад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58-1834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Д. М. Велланский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74-184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М. Г. Павлов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793-1840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«Любомудры»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3-1826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F830-EFC4-4837-8E63-C13B7549775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П. Я. Чаадаев (1794-1856)</a:t>
            </a:r>
            <a:br>
              <a:rPr sz="1600"/>
            </a:b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илософические письма</a:t>
            </a: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(1829-1830, </a:t>
            </a:r>
            <a:br>
              <a:rPr sz="1100"/>
            </a:br>
            <a:r>
              <a:rPr b="1" i="1" lang="ru-RU" sz="1100" spc="-1" strike="noStrike">
                <a:solidFill>
                  <a:srgbClr val="ffffff"/>
                </a:solidFill>
                <a:latin typeface="Calibri"/>
              </a:rPr>
              <a:t>опубл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. 1836-1991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Апология сумасшедшего</a:t>
            </a:r>
            <a:r>
              <a:rPr b="1" lang="ru-RU" sz="1100" spc="-1" strike="noStrike">
                <a:solidFill>
                  <a:srgbClr val="ffffff"/>
                </a:solidFill>
                <a:latin typeface="Calibri"/>
              </a:rPr>
              <a:t> (1837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6BE57-FC5A-4B1D-931F-CDE7767E098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C200-2D82-40A3-B4C9-48090004588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E0DB6-2C2F-4CCB-A701-67E0408BD16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Calibri"/>
              </a:rPr>
              <a:t>Аномалии русской истории</a:t>
            </a:r>
            <a:br>
              <a:rPr sz="1400"/>
            </a:b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Россия – исключение из общего прави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B9098-7136-4BD2-A217-995A39E9A73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25F32-2C74-434E-A70C-81AB3AAD1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2D387-95A2-4ECF-B8C8-F15CA1BEC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847E6-638E-4094-942C-4045C0A82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2E12-2493-427D-A7F9-7B41DDE68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D90DF-F931-4E24-BE2D-DA7EE8A9F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7A93-E17D-4734-8550-B8670B430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D229-B8F3-46BB-A3FB-50B60F967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8DB88-0A35-4E40-9AE3-C5AE84A2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055-5988-44FB-9B1A-0A8F3B3D6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058C-CD66-4FB3-92CD-53B3E359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03D84-A64F-4042-9FD7-52430503E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7EF63-6C22-493B-AB8B-7B7B712FD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298C-BA83-484B-AC2C-43978F589E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000080" y="2428920"/>
            <a:ext cx="7043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1000"/>
            </a:b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4"/>
          <p:cNvSpPr/>
          <p:nvPr/>
        </p:nvSpPr>
        <p:spPr>
          <a:xfrm>
            <a:off x="1442880" y="539640"/>
            <a:ext cx="64008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сковский государственный институт международных отношений</a:t>
            </a:r>
            <a:br>
              <a:rPr sz="2400"/>
            </a:b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афедра философ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logo2"/>
          <p:cNvPicPr/>
          <p:nvPr/>
        </p:nvPicPr>
        <p:blipFill>
          <a:blip r:embed="rId1"/>
          <a:stretch/>
        </p:blipFill>
        <p:spPr>
          <a:xfrm>
            <a:off x="250920" y="617400"/>
            <a:ext cx="1127160" cy="755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chouet1"/>
          <p:cNvPicPr/>
          <p:nvPr/>
        </p:nvPicPr>
        <p:blipFill>
          <a:blip r:embed="rId2"/>
          <a:stretch/>
        </p:blipFill>
        <p:spPr>
          <a:xfrm>
            <a:off x="7848720" y="620640"/>
            <a:ext cx="826920" cy="1133640"/>
          </a:xfrm>
          <a:prstGeom prst="rect">
            <a:avLst/>
          </a:prstGeom>
          <a:ln w="0">
            <a:noFill/>
          </a:ln>
        </p:spPr>
      </p:pic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живём лишь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самом ограниченном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стоящем без прошедшего и без буд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плоского застоя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ш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споминания не идут далее вчерашне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ня; мы как бы чужие для себя самих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так удивительно шествуем во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мере движения вперёд, пережит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падает для нас безвозвратно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с совсе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т внутреннего развит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тественного прогресса; прежние иде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метаются новыми, потому чт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ние не происходят из первы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появляются у нас неизвестно откуд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2" descr="Vasnetsov, Moving House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20095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0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6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Это естественное</a:t>
            </a:r>
            <a:br>
              <a:rPr sz="2000"/>
            </a:b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последствие культуры,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сецело заимствованной</a:t>
            </a:r>
            <a:br>
              <a:rPr sz="2000"/>
            </a:b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и подражательн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8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12" descr="baxt_cost_battista_les_femmes_bon"/>
          <p:cNvPicPr/>
          <p:nvPr/>
        </p:nvPicPr>
        <p:blipFill>
          <a:blip r:embed="rId1"/>
          <a:stretch/>
        </p:blipFill>
        <p:spPr>
          <a:xfrm>
            <a:off x="682560" y="1870200"/>
            <a:ext cx="1922400" cy="28810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nodeType="clickEffect" fill="hold">
                      <p:stCondLst>
                        <p:cond delay="0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всех народов есть период бу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лнений, страстного беспокой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еятельности без обдуманных намерений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пора великих побужден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еликих свершений, великих стра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 народов. Они тогда неистовству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ясного повода, но не без польз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ля грядущих поколений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Это увлекательная эпоха в истори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родов, это их юность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то врем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гда всего сильнее развиваются 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арования, и память о нём  составляе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раду и поучение их зрелого возрас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2" descr="Gerome, The_Pyrrhic_Dance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19280" cy="17668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34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, напротив, не имели ничего подобн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начала дикое варварство, затем грубо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еверие, далее иноземное владычеств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естокое и унизительное,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ух которог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циональная власть впоследств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унаследовала, – во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ечальная истори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ей юности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Эпоха нашей социаль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зни, соответствующая этому возраст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наполнена тусклым и мрачны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уществованием без силы, без энерги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ушевляемом только злодеяниям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 смягчаемом только рабством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12" descr="Глазунов, Иван Грозный (ум)"/>
          <p:cNvPicPr/>
          <p:nvPr/>
        </p:nvPicPr>
        <p:blipFill>
          <a:blip r:embed="rId1"/>
          <a:stretch/>
        </p:blipFill>
        <p:spPr>
          <a:xfrm>
            <a:off x="863640" y="1870200"/>
            <a:ext cx="141444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0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45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вые наши год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шие в неподвижной дик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ставили никакого следа в нашей ум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нет в нас ничег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лично нам присущег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что могла бы опереться наша мысль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деленные по странной воле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всеобщего движения человечеств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восприняли мы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радиционных и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кого рода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А между тем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их основана жизнь народов;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этих идей вытекает их будущее 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исходит их нравственное развит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" descr="Delaroche, Hemicycle_of_the_Ecole_des_Beaux-Arts_right_red0"/>
          <p:cNvPicPr/>
          <p:nvPr/>
        </p:nvPicPr>
        <p:blipFill>
          <a:blip r:embed="rId1"/>
          <a:stretch/>
        </p:blipFill>
        <p:spPr>
          <a:xfrm>
            <a:off x="287280" y="2338560"/>
            <a:ext cx="2521080" cy="1609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"/>
          <p:cNvSpPr/>
          <p:nvPr/>
        </p:nvSpPr>
        <p:spPr>
          <a:xfrm rot="10800000">
            <a:off x="251784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чь идёт здесь не об учёност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о чтении, не о чём-то литератур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ли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ном, а просто о соприкоснов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й, о мыслях, которые охватываю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ебёнка в колыбели, окружают его сред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гр,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…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оторые в форме различ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вств проникают до мозга его косте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месте с воздухом, которым он дышит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Эт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мысли о долге, справедливости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аве, порядке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Они происходят из те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амых событий, которые создали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щество…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т она, атмосфер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апада…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что вы видите у нас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13" descr="Alma-Tadema, A_Birth_Chamber (red)"/>
          <p:cNvPicPr/>
          <p:nvPr/>
        </p:nvPicPr>
        <p:blipFill>
          <a:blip r:embed="rId1"/>
          <a:stretch/>
        </p:blipFill>
        <p:spPr>
          <a:xfrm>
            <a:off x="287280" y="2338560"/>
            <a:ext cx="2535120" cy="185256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nodeType="clickEffect" fill="hold">
                      <p:stCondLst>
                        <p:cond delay="0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3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ы – существа нравственны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очно так, как и отдельные личност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х воспитывают века, как людей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оспитывают годы.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Про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ожно сказать, что мы составля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 бы исключение среди народов.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принадлежим к тем из них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как бы не входя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ставной частью в род человеческий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 существуют лишь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великий урок миру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10" descr="Gerome, Moses_on_Mount_Sinai_red1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4554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nodeType="clickEffect" fill="hold">
                      <p:stCondLst>
                        <p:cond delay="0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AutoShape 3"/>
          <p:cNvSpPr/>
          <p:nvPr/>
        </p:nvSpPr>
        <p:spPr>
          <a:xfrm rot="10800000">
            <a:off x="2516040" y="1869840"/>
            <a:ext cx="647856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природе человека теряться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не находит способа связаться с т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было до него и что будет после н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тогда утрачивает всякую твёрдос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якую уверенность; не руководимы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щущением непрерывной длительности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н чувствует себя заблудившимся в мир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е растерянные существа встречаю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 всех странах; у нас это общее свойство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 наших головах нет решительн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ичего общего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сё там обособ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сё там шатко и неполно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8" descr="Gerome, Cave_Canem"/>
          <p:cNvPicPr/>
          <p:nvPr/>
        </p:nvPicPr>
        <p:blipFill>
          <a:blip r:embed="rId1"/>
          <a:stretch/>
        </p:blipFill>
        <p:spPr>
          <a:xfrm>
            <a:off x="324000" y="1870200"/>
            <a:ext cx="2431800" cy="28764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nodeType="clickEffect" fill="hold">
                      <p:stCondLst>
                        <p:cond delay="0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8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89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сли бы орды варваров, потрясш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ир, не прошли прежде нашеств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Запад по нашей стране, мы ед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и бы главой всемирной истории.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тобы заставить себя заметить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м пришлось растянуться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 Берингова пролива до Одера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3" descr="Vasnetsov, After Prince Igor's Battle with the Polovtsy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11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0" dur="indefinite" restart="never" nodeType="tmRoot">
          <p:childTnLst>
            <p:seq>
              <p:cTn id="391" dur="indefinite" nodeType="mainSeq">
                <p:childTnLst>
                  <p:par>
                    <p:cTn id="392" nodeType="clickEffect" fill="hold">
                      <p:stCondLst>
                        <p:cond delay="0"/>
                      </p:stCondLst>
                      <p:childTnLst>
                        <p:par>
                          <p:cTn id="3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0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3"/>
          <p:cNvSpPr/>
          <p:nvPr/>
        </p:nvSpPr>
        <p:spPr>
          <a:xfrm rot="10800000">
            <a:off x="2374920" y="1545480"/>
            <a:ext cx="6657840" cy="503892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 время, когда среди бор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ежду исполненным силы варварств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родов Севера и возвышенно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ью религии воздвигалос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здание современной цивилизац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 делали мы? По воле роковой судьб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обратились за нравственным учение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должно было нас воспит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астленной Византии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предмет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убокого презрения этих народов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всё тогда было одушевле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животворным началом единства. Всё т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з него происходило, всё к нему сходилось.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уждые этому чудотворному начал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али жертвой завоевани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9" descr="Waterhouse, The_Favourites_of_the_Emperor_Honorious_red"/>
          <p:cNvPicPr/>
          <p:nvPr/>
        </p:nvPicPr>
        <p:blipFill>
          <a:blip r:embed="rId1"/>
          <a:stretch/>
        </p:blipFill>
        <p:spPr>
          <a:xfrm>
            <a:off x="250920" y="2338560"/>
            <a:ext cx="2519280" cy="1485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7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Истоки и начало русской философ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Истоки русской философии (введение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и русские «любомудры»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П. Я. Чаадаев: Аномалии русской исто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исторических традици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начал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естественного результата исторического развит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национального единств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3"/>
          <p:cNvSpPr/>
          <p:nvPr/>
        </p:nvSpPr>
        <p:spPr>
          <a:xfrm rot="10800000">
            <a:off x="2373480" y="1869480"/>
            <a:ext cx="665784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ы знаете, что ни один философ древност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ытался представить себе общества без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абов, да и не находил никаких возражен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ив рабства.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ы знаете также и то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то, по признанию самых даже упорны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ептиков, уничтожением крепостничеств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Европе мы обязаны христианству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 же христианство не имело таких ж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следствий у нас?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ему, наоборот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ий народ попал в рабство лиш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сле того, как стал христианским?</a:t>
            </a:r>
            <a:br>
              <a:rPr sz="1800"/>
            </a:b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усть православная церковь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бъяснит это явление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8" descr="urday"/>
          <p:cNvPicPr/>
          <p:nvPr/>
        </p:nvPicPr>
        <p:blipFill>
          <a:blip r:embed="rId1"/>
          <a:stretch/>
        </p:blipFill>
        <p:spPr>
          <a:xfrm>
            <a:off x="324000" y="1870200"/>
            <a:ext cx="2328840" cy="287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nodeType="clickEffect" fill="hold">
                      <p:stCondLst>
                        <p:cond delay="0"/>
                      </p:stCondLst>
                      <p:childTnLst>
                        <p:par>
                          <p:cTn id="4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2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сторическая неудача правосла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наю, но мне кажется,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дно это могло бы заставить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усомниться в православ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м мы кичимся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9" descr="Православие (2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812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3" dur="indefinite" restart="never" nodeType="tmRoot">
          <p:childTnLst>
            <p:seq>
              <p:cTn id="424" dur="indefinite" nodeType="mainSeq">
                <p:childTnLst>
                  <p:par>
                    <p:cTn id="425" nodeType="clickEffect" fill="hold">
                      <p:stCondLst>
                        <p:cond delay="0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3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дним словом, мы жили и сейч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ещё живём для того, чтобы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еподать какой-то великий урок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отдалённым потомк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поймут его;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ка, что бы там ни говорил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оставляем пробел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интеллектуальном поряд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12" descr="Gerome, Polyphemus_red0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574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0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иссия России – урок потомству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AutoShape 5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нечно, не пройд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ез следа и то наставлени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ое нам суждено дать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о кто знает день, ког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вновь обретём себ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человечества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колько бед испытаем мы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до свершения наших судеб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8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1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nodeType="clickEffect" fill="hold">
                      <p:stCondLst>
                        <p:cond delay="0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4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тогдашнем поколении чувствуется имен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ое неодолимо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лечение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 философи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акая-то философска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трасть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яга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точ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гическое притяжение к философским тема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вопросам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В предыдущем поколении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аким культурно-психологическим магнит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была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зия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– теперь уже перестаёт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м быть. 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&lt;…&gt;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з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этического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фазис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культурно-творческое созн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ереходит в фази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философск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nodeType="clickEffect" fill="hold">
                      <p:stCondLst>
                        <p:cond delay="0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именно «из нашей жизни», из господствующих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просов и интересов родной жиз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в те годы русская философия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сториософического изумлен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чти испуга, в болезненном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роцессе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ционально-историческог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нахождения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и раздумь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nodeType="clickEffect" fill="hold">
                      <p:stCondLst>
                        <p:cond delay="0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0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AutoShape 2"/>
          <p:cNvSpPr/>
          <p:nvPr/>
        </p:nvSpPr>
        <p:spPr>
          <a:xfrm>
            <a:off x="934920" y="719280"/>
            <a:ext cx="7197840" cy="4678200"/>
          </a:xfrm>
          <a:prstGeom prst="horizont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рождается именн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русская философия,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только – философия в России.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бо рождается или пробуждае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усское философское сознание,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то новый начинает философствовать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Рождается или становится 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кий новый «субъект философии»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"/>
          <p:cNvSpPr/>
          <p:nvPr/>
        </p:nvSpPr>
        <p:spPr>
          <a:xfrm>
            <a:off x="3061440" y="5576760"/>
            <a:ext cx="53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Г. Флоровский. «Пути русского богословия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0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after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4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484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5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486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487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2150"/>
                            </p:stCondLst>
                            <p:childTnLst>
                              <p:par>
                                <p:cTn id="489" nodeType="afterEffect" fill="hold" presetClass="emph" presetID="3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Clr clrSpc="rgb">
                                      <p:cBhvr>
                                        <p:cTn id="490" dur="2000" fill="hold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2"/>
          <p:cNvSpPr/>
          <p:nvPr/>
        </p:nvSpPr>
        <p:spPr>
          <a:xfrm>
            <a:off x="1755720" y="1725480"/>
            <a:ext cx="56656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екто новый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начинает </a:t>
            </a:r>
            <a:br>
              <a:rPr sz="5400"/>
            </a:br>
            <a:r>
              <a:rPr b="1" lang="ru-RU" sz="5400" spc="-1" strike="noStrike">
                <a:solidFill>
                  <a:srgbClr val="00ffff"/>
                </a:solidFill>
                <a:latin typeface="Times New Roman"/>
              </a:rPr>
              <a:t>философствоват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0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2"/>
          <p:cNvSpPr/>
          <p:nvPr/>
        </p:nvSpPr>
        <p:spPr>
          <a:xfrm>
            <a:off x="1979640" y="1438200"/>
            <a:ext cx="503856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Arial"/>
              </a:rPr>
              <a:t>Вопросы?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3" descr="Gozzoli, Averroes"/>
          <p:cNvPicPr/>
          <p:nvPr/>
        </p:nvPicPr>
        <p:blipFill>
          <a:blip r:embed="rId1"/>
          <a:stretch/>
        </p:blipFill>
        <p:spPr>
          <a:xfrm>
            <a:off x="2158920" y="3598920"/>
            <a:ext cx="4822920" cy="1430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nodeType="clickEffect" fill="hold">
                      <p:stCondLst>
                        <p:cond delay="0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0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0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5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4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5760" y="274320"/>
            <a:ext cx="8589960" cy="1144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Истоки русской философии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равославная мысль в средневековой Росс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Речь Философ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6)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и крещение Руси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98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Слово о законе и благодати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итр. Илларион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05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весть временных лет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нач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XII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естяжатели и осифляне (кон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 –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ч.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в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аксим Гре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470-155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ереписка Ивана Грозного с А. Курбским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564-1578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Vasnetsov, The Chronicler Nestor"/>
          <p:cNvPicPr/>
          <p:nvPr/>
        </p:nvPicPr>
        <p:blipFill>
          <a:blip r:embed="rId1"/>
          <a:stretch/>
        </p:blipFill>
        <p:spPr>
          <a:xfrm>
            <a:off x="358920" y="1619280"/>
            <a:ext cx="119052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59" name="Picture 7" descr="Нил Сорский (1)"/>
          <p:cNvPicPr/>
          <p:nvPr/>
        </p:nvPicPr>
        <p:blipFill>
          <a:blip r:embed="rId2"/>
          <a:stretch/>
        </p:blipFill>
        <p:spPr>
          <a:xfrm>
            <a:off x="1798560" y="1798560"/>
            <a:ext cx="184968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0" name="Picture 9" descr="Vasnetsov, Tsar Ivan IV the Terrible"/>
          <p:cNvPicPr/>
          <p:nvPr/>
        </p:nvPicPr>
        <p:blipFill>
          <a:blip r:embed="rId3"/>
          <a:stretch/>
        </p:blipFill>
        <p:spPr>
          <a:xfrm>
            <a:off x="2484360" y="4317840"/>
            <a:ext cx="1150920" cy="21560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1" name="Picture 10" descr="Максим Грек (2)"/>
          <p:cNvPicPr/>
          <p:nvPr/>
        </p:nvPicPr>
        <p:blipFill>
          <a:blip r:embed="rId4"/>
          <a:stretch/>
        </p:blipFill>
        <p:spPr>
          <a:xfrm>
            <a:off x="324000" y="4138560"/>
            <a:ext cx="1854000" cy="21607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8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усское Просвещени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317480" y="1906200"/>
            <a:ext cx="4318200" cy="43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иево-Могилянская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коллегия (позднее – академия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3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Политика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Ю. Крижанича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6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лавяно-греко-латинская академия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68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кадемия наук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2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В. Ломоносо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11-176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осковский университет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М. Щербат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33-179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А. Н. Радищев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49-180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4" descr="Фасад Московского университета 1784 год"/>
          <p:cNvPicPr/>
          <p:nvPr/>
        </p:nvPicPr>
        <p:blipFill>
          <a:blip r:embed="rId1"/>
          <a:stretch/>
        </p:blipFill>
        <p:spPr>
          <a:xfrm>
            <a:off x="539640" y="3525840"/>
            <a:ext cx="2880000" cy="9302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6" name="Picture 5" descr="Радищев (2)"/>
          <p:cNvPicPr/>
          <p:nvPr/>
        </p:nvPicPr>
        <p:blipFill>
          <a:blip r:embed="rId2"/>
          <a:stretch/>
        </p:blipFill>
        <p:spPr>
          <a:xfrm>
            <a:off x="1979640" y="4678200"/>
            <a:ext cx="1460520" cy="17971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67" name="Picture 7" descr="Могила (с тенью)"/>
          <p:cNvPicPr/>
          <p:nvPr/>
        </p:nvPicPr>
        <p:blipFill>
          <a:blip r:embed="rId3"/>
          <a:stretch/>
        </p:blipFill>
        <p:spPr>
          <a:xfrm>
            <a:off x="358920" y="1438200"/>
            <a:ext cx="1199880" cy="18576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Щербатов (1)"/>
          <p:cNvPicPr/>
          <p:nvPr/>
        </p:nvPicPr>
        <p:blipFill>
          <a:blip r:embed="rId4"/>
          <a:stretch/>
        </p:blipFill>
        <p:spPr>
          <a:xfrm>
            <a:off x="539640" y="4678200"/>
            <a:ext cx="1295640" cy="179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2" descr="Ломоносов (3-1)"/>
          <p:cNvPicPr/>
          <p:nvPr/>
        </p:nvPicPr>
        <p:blipFill>
          <a:blip r:embed="rId5"/>
          <a:stretch/>
        </p:blipFill>
        <p:spPr>
          <a:xfrm>
            <a:off x="2124000" y="1619280"/>
            <a:ext cx="1230480" cy="161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0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4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6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8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12840" y="128520"/>
            <a:ext cx="8518320" cy="1440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Истоки русской философ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Немецкая классическая философия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 русские «любомудры»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77840" y="1798200"/>
            <a:ext cx="4318200" cy="19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И. Б. Шад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58-183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Д. М. Велланский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74-184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М. Г. Павлов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93-184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«Любомудры»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23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4173480" y="6189840"/>
            <a:ext cx="24544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. В. Веневитинов 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5-182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9" descr="Карамзин (3)"/>
          <p:cNvPicPr/>
          <p:nvPr/>
        </p:nvPicPr>
        <p:blipFill>
          <a:blip r:embed="rId1"/>
          <a:stretch/>
        </p:blipFill>
        <p:spPr>
          <a:xfrm>
            <a:off x="539640" y="1798560"/>
            <a:ext cx="1940040" cy="215892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pic>
        <p:nvPicPr>
          <p:cNvPr id="75" name="Picture 13" descr="Одоевский_red2"/>
          <p:cNvPicPr/>
          <p:nvPr/>
        </p:nvPicPr>
        <p:blipFill>
          <a:blip r:embed="rId2"/>
          <a:stretch/>
        </p:blipFill>
        <p:spPr>
          <a:xfrm>
            <a:off x="2698920" y="2878200"/>
            <a:ext cx="1612800" cy="21636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6" name="Text Box 14"/>
          <p:cNvSpPr/>
          <p:nvPr/>
        </p:nvSpPr>
        <p:spPr>
          <a:xfrm>
            <a:off x="2517840" y="5110200"/>
            <a:ext cx="1971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. Ф. Одоевский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803-1869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15"/>
          <p:cNvSpPr/>
          <p:nvPr/>
        </p:nvSpPr>
        <p:spPr>
          <a:xfrm>
            <a:off x="539640" y="4030560"/>
            <a:ext cx="194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. М. Карамзин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(1766-182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Д В Веневитинов Портрет маслом А Лагрене 1826 г  (2)"/>
          <p:cNvPicPr/>
          <p:nvPr/>
        </p:nvPicPr>
        <p:blipFill>
          <a:blip r:embed="rId3"/>
          <a:stretch/>
        </p:blipFill>
        <p:spPr>
          <a:xfrm>
            <a:off x="4533840" y="3957480"/>
            <a:ext cx="1735200" cy="215928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90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3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2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3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2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00"/>
                </a:solidFill>
                <a:latin typeface="Arial"/>
              </a:rPr>
              <a:t>П. Я. Чаадаев (1794-1856)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857840" y="3417480"/>
            <a:ext cx="40384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Философические письма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(1829-1830, </a:t>
            </a:r>
            <a:br>
              <a:rPr sz="2000"/>
            </a:b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опубл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1836-199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Апология сумасшедшего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(183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чаадаев"/>
          <p:cNvPicPr/>
          <p:nvPr/>
        </p:nvPicPr>
        <p:blipFill>
          <a:blip r:embed="rId1"/>
          <a:stretch/>
        </p:blipFill>
        <p:spPr>
          <a:xfrm>
            <a:off x="611280" y="1978200"/>
            <a:ext cx="3879720" cy="43178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83" name="Text Box 5"/>
          <p:cNvSpPr/>
          <p:nvPr/>
        </p:nvSpPr>
        <p:spPr>
          <a:xfrm>
            <a:off x="5397480" y="1978200"/>
            <a:ext cx="2808360" cy="10688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новные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сочин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4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3"/>
          <p:cNvSpPr/>
          <p:nvPr/>
        </p:nvSpPr>
        <p:spPr>
          <a:xfrm rot="10800000">
            <a:off x="2625480" y="1869480"/>
            <a:ext cx="629748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0066ff"/>
                </a:solidFill>
                <a:latin typeface="Arial"/>
              </a:rPr>
              <a:t>Провидение</a:t>
            </a:r>
            <a:r>
              <a:rPr b="1" lang="en-US" sz="1800" spc="-1" strike="noStrike">
                <a:solidFill>
                  <a:srgbClr val="0066ff"/>
                </a:solidFill>
                <a:latin typeface="Arial"/>
              </a:rPr>
              <a:t>]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ак будто совсе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занималось нашей судьбой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тказывая нам в своём благодетельном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оздействии на человеческий разум, он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едоставило нас всецело самим себе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ожелало ни в чём вмешиватьс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 наши дела, не пожелало ничему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учить. Опыт времён для нас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существует. Века и поколения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ротекли для нас бесплодн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лядя на нас, можно сказать, что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по отношению к нам всеобщий закон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человечества сведён на н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Чаадаев (1)"/>
          <p:cNvPicPr/>
          <p:nvPr/>
        </p:nvPicPr>
        <p:blipFill>
          <a:blip r:embed="rId1"/>
          <a:stretch/>
        </p:blipFill>
        <p:spPr>
          <a:xfrm>
            <a:off x="503280" y="1978200"/>
            <a:ext cx="2241360" cy="26971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7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nodeType="clickEffect" fill="hold">
                      <p:stCondLst>
                        <p:cond delay="0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9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7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3"/>
          <p:cNvSpPr/>
          <p:nvPr/>
        </p:nvSpPr>
        <p:spPr>
          <a:xfrm rot="10800000">
            <a:off x="2698560" y="1869840"/>
            <a:ext cx="6118200" cy="43178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никогда не шли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месте с другими народам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 принадлежим ни к одному</a:t>
            </a:r>
            <a:br>
              <a:rPr sz="1800"/>
            </a:b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из известных семейств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к Западу, ни к Востоку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и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имеем традиций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и того, ни другого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 стоим как бы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вне времени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всемирное воспитани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человеческого род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а нас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е распространилось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3" descr="Vasnetsov, A Knight at the Crossroads (Serpukhov)"/>
          <p:cNvPicPr/>
          <p:nvPr/>
        </p:nvPicPr>
        <p:blipFill>
          <a:blip r:embed="rId1"/>
          <a:stretch/>
        </p:blipFill>
        <p:spPr>
          <a:xfrm>
            <a:off x="358920" y="2338560"/>
            <a:ext cx="2519280" cy="134280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nodeType="clickEffect" fill="hold">
                      <p:stCondLst>
                        <p:cond delay="0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6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0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Аномалии русской истории </a:t>
            </a:r>
            <a:br>
              <a:rPr sz="3200"/>
            </a:b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оссия – исключение из общего прави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 rot="10800000">
            <a:off x="2446200" y="1869480"/>
            <a:ext cx="6478560" cy="467820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ассы подчиняются известным силам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тоящим у вершин общества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посредственно они не размышляют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реди них имеется известное число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мыслителей, которые за них думаю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которые дают толчок коллективному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сознанию нации и приводят её в движение.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Незначительное меньшинство мыслит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остальная часть чувствует, в итоге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получается общее движение.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&lt;…&gt; 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А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теперь, я вас спрошу, 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удрецы,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где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наши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мыслители? Кто из нас когда-</a:t>
            </a:r>
            <a:br>
              <a:rPr sz="1800"/>
            </a:b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либо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умал,</a:t>
            </a:r>
            <a:r>
              <a:rPr b="1" lang="ru-RU" sz="1800" spc="-1" strike="noStrike">
                <a:solidFill>
                  <a:srgbClr val="0000ff"/>
                </a:solidFill>
                <a:latin typeface="Arial"/>
              </a:rPr>
              <a:t> кто за нас думает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теперь?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5"/>
          <p:cNvSpPr/>
          <p:nvPr/>
        </p:nvSpPr>
        <p:spPr>
          <a:xfrm>
            <a:off x="502920" y="503712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. Я. Чаадаев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илософические</a:t>
            </a:r>
            <a:br>
              <a:rPr sz="1800"/>
            </a:b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ись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7" descr="Raphael 054 The School of Athens (detail 1)_compr"/>
          <p:cNvPicPr/>
          <p:nvPr/>
        </p:nvPicPr>
        <p:blipFill>
          <a:blip r:embed="rId1"/>
          <a:stretch/>
        </p:blipFill>
        <p:spPr>
          <a:xfrm>
            <a:off x="431640" y="1870200"/>
            <a:ext cx="2198880" cy="2879640"/>
          </a:xfrm>
          <a:prstGeom prst="rect">
            <a:avLst/>
          </a:prstGeom>
          <a:ln w="38160">
            <a:solidFill>
              <a:srgbClr val="ffffff"/>
            </a:solidFill>
            <a:miter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0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99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3T21:14:33Z</dcterms:created>
  <dc:creator>Николай Бирюков / Nikolai Biryukov</dc:creator>
  <dc:description>Версия декабря 2006 г.</dc:description>
  <dc:language>en-US</dc:language>
  <cp:lastModifiedBy>LEGION</cp:lastModifiedBy>
  <dcterms:modified xsi:type="dcterms:W3CDTF">2014-11-11T10:06:51Z</dcterms:modified>
  <cp:revision>68</cp:revision>
  <dc:subject>История русской философии - Лекция 1</dc:subject>
  <dc:title>Истоки и начало русской философии</dc:title>
</cp:coreProperties>
</file>