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DBF16-5EC0-4046-8B2A-241795892E9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униципальное общеобразовательное учреждение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Средняя общеобразовательная школа с.Прималкинского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ок биологии в 10 класс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следствен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менчив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итель биологии Петухова Т.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униципальное общеобразовательное учреждение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Средняя общеобразовательная школа с.Прималкинского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рок биологии в 10 класс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следственн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менчив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итель биологии Петухова Т.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Генные</a:t>
            </a:r>
            <a:br>
              <a:rPr sz="1200"/>
            </a:b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(точечные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Генные</a:t>
            </a:r>
            <a:br>
              <a:rPr sz="1200"/>
            </a:b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(точечные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Виды хромосомных мутац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Виды хромосомных мута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Цитоплазматическая мута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Цитоплазматическая му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лизкородственные вид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роды благодаря сходству генотипов обладаю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сходством наследственной изменчив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он гомологических рядо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следственной изменчив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лизкородственные вид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роды благодаря сходству генотипов обладаю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сходством наследственной изменчив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он гомологических рядо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следственной изменчив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машнее задани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раграф 30, 31, ответить на вопро-сы №1, 2, 5 на странице 119-123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*задание №3 страница 122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* презентация на тему «Наследст-венная изменчивость человека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машнее задание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араграф 30, 31, ответить на вопро-сы №1, 2, 5 на странице 119-123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*задание №3 страница 122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* презентация на тему «Наследст-венная изменчивость человека»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и урок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знать о видах наследственной изменчивости, их материальной основ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ить значение её для эволюции, селекции и медици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следственная изменчиво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ли урок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знать о видах наследственной изменчивости, их материальной основ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ределить значение её для эволюции, селекции и медицин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следственная изменчивост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авнение модификационной и мутационной изменчив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равнение модификационной и мутационной изменчив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Проверим свои зн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Проверим свои зн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бинативная изменчив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учайная комбинация генов в генотип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мбинативная изменчив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лучайная комбинация генов в генотип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утации – внезапно возникающие стойкие изменения генов и хромосом, передающиеся по наследств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утации – внезапно возникающие стойкие изменения генов и хромосом, передающиеся по наследств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ханизм мутац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еном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водят к изменению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исла хромос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ен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язаны с изменени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ледовательност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уклеотидов молекул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Н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ромосом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язаны с  изменение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уктуры хромосо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итоплазматическ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зультат измене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НК клеточн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оидов 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стид, митохондри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ханизм мута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еном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водят к изменению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исла хромос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ен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вязаны с изменение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ледовательност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уклеотидов молекул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Н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ромосом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вязаны с  изменением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уктуры хромосом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итоплазматическ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зультат изменен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НК клеточны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оидов 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ластид, митохондри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Примеры хромосомных мутац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Примеры хромосомных мута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17DC0-A7F5-46CE-9FB1-18B5914D2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29DDB-80FE-4D0C-A878-3B95ACCEF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F5BED-2398-4305-AB05-1B59F0FEE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CA822-13D0-483F-831F-7DD6CA39C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8B1B7-2447-4212-BD63-C16599C64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460FD-5E2A-4469-9843-F96CA1342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F250A-85F4-4330-B9C8-67CB1397F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D6B10-DE92-47F8-9F07-DA5F0DD88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A7604-7DDB-4480-8418-F9FF2F96C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9BF8B-43F9-4F19-972D-8BC15376F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065B0-37C4-4CA9-9B65-9C20C4CBE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F1648-A06A-4685-AD16-68C83B588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33"/>
            </a:gs>
            <a:gs pos="50000">
              <a:srgbClr val="66ffff"/>
            </a:gs>
            <a:gs pos="100000">
              <a:srgbClr val="66ff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C3160-0151-45A5-9E47-FBE7C413A80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240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униципальное общеобразовательное учреждение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Средняя общеобразовательная школа с.Прималкинского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403280" y="1268280"/>
            <a:ext cx="6400800" cy="8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Урок биологии в 10 класс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WordArt 5"/>
          <p:cNvSpPr txBox="1"/>
          <p:nvPr/>
        </p:nvSpPr>
        <p:spPr>
          <a:xfrm>
            <a:off x="900000" y="2060640"/>
            <a:ext cx="7559640" cy="187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аследственная</a:t>
            </a:r>
            <a:endParaRPr b="1" lang="en-US" sz="1800" spc="1" strike="noStrike">
              <a:ln w="19080">
                <a:solidFill>
                  <a:srgbClr val="ff0000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r>
              <a:rPr b="1" lang="en-US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зменчивость</a:t>
            </a:r>
            <a:endParaRPr b="1" lang="en-US" sz="1800" spc="1" strike="noStrike">
              <a:ln w="19080">
                <a:solidFill>
                  <a:srgbClr val="ff0000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1" name="Rectangle 6"/>
          <p:cNvSpPr/>
          <p:nvPr/>
        </p:nvSpPr>
        <p:spPr>
          <a:xfrm>
            <a:off x="468360" y="5992920"/>
            <a:ext cx="835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Учитель биологии Петухова Т.В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7" descr="фото"/>
          <p:cNvPicPr/>
          <p:nvPr/>
        </p:nvPicPr>
        <p:blipFill>
          <a:blip r:embed="rId1"/>
          <a:srcRect l="0" t="0" r="0" b="3791"/>
          <a:stretch/>
        </p:blipFill>
        <p:spPr>
          <a:xfrm>
            <a:off x="2916360" y="3860640"/>
            <a:ext cx="3187440" cy="2259000"/>
          </a:xfrm>
          <a:prstGeom prst="rect">
            <a:avLst/>
          </a:prstGeom>
          <a:ln w="0">
            <a:noFill/>
          </a:ln>
        </p:spPr>
      </p:pic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-360" y="1989000"/>
            <a:ext cx="2987640" cy="249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0033"/>
                </a:solidFill>
                <a:latin typeface="Arial"/>
              </a:rPr>
              <a:t>Генные</a:t>
            </a:r>
            <a:br>
              <a:rPr sz="4000"/>
            </a:br>
            <a:r>
              <a:rPr b="1" lang="ru-RU" sz="4000" spc="-1" strike="noStrike">
                <a:solidFill>
                  <a:srgbClr val="990033"/>
                </a:solidFill>
                <a:latin typeface="Arial"/>
              </a:rPr>
              <a:t> (точечные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7" descr="генная  мутация"/>
          <p:cNvPicPr/>
          <p:nvPr/>
        </p:nvPicPr>
        <p:blipFill>
          <a:blip r:embed="rId1"/>
          <a:srcRect l="17898" t="5901" r="17757" b="11481"/>
          <a:stretch/>
        </p:blipFill>
        <p:spPr>
          <a:xfrm>
            <a:off x="2843280" y="260280"/>
            <a:ext cx="6300720" cy="6270840"/>
          </a:xfrm>
          <a:prstGeom prst="rect">
            <a:avLst/>
          </a:prstGeom>
          <a:ln w="0">
            <a:noFill/>
          </a:ln>
        </p:spPr>
      </p:pic>
      <p:sp>
        <p:nvSpPr>
          <p:cNvPr id="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4" descr="виды хромасомных мутаций"/>
          <p:cNvPicPr/>
          <p:nvPr/>
        </p:nvPicPr>
        <p:blipFill>
          <a:blip r:embed="rId1"/>
          <a:srcRect l="6640" t="3927" r="4750" b="11417"/>
          <a:stretch/>
        </p:blipFill>
        <p:spPr>
          <a:xfrm>
            <a:off x="0" y="907920"/>
            <a:ext cx="9144000" cy="595008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5"/>
          <p:cNvSpPr/>
          <p:nvPr/>
        </p:nvSpPr>
        <p:spPr>
          <a:xfrm>
            <a:off x="39528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Arial"/>
              </a:rPr>
              <a:t>Виды хромосомных мутац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4" descr="цитоплазмотическая мутация"/>
          <p:cNvPicPr/>
          <p:nvPr/>
        </p:nvPicPr>
        <p:blipFill>
          <a:blip r:embed="rId1"/>
          <a:srcRect l="14683" t="10536" r="15203" b="15586"/>
          <a:stretch/>
        </p:blipFill>
        <p:spPr>
          <a:xfrm>
            <a:off x="1258920" y="1268280"/>
            <a:ext cx="6985080" cy="551988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5"/>
          <p:cNvSpPr/>
          <p:nvPr/>
        </p:nvSpPr>
        <p:spPr>
          <a:xfrm>
            <a:off x="250920" y="333360"/>
            <a:ext cx="856908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Цитоплазматическая мутац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53964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66"/>
                </a:solidFill>
                <a:latin typeface="Arial"/>
              </a:rPr>
              <a:t>Близкородственные виды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66"/>
                </a:solidFill>
                <a:latin typeface="Arial"/>
              </a:rPr>
              <a:t>и роды благодаря сходству генотипов обладают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66"/>
                </a:solidFill>
                <a:latin typeface="Arial"/>
              </a:rPr>
              <a:t>и сходством наследственной изменчивост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WordArt 4"/>
          <p:cNvSpPr txBox="1"/>
          <p:nvPr/>
        </p:nvSpPr>
        <p:spPr>
          <a:xfrm>
            <a:off x="395280" y="260280"/>
            <a:ext cx="8424720" cy="172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акон гомологических рядов </a:t>
            </a:r>
            <a:endParaRPr b="0" lang="en-US" sz="1800" spc="1" strike="noStrike">
              <a:ln w="19080">
                <a:solidFill>
                  <a:srgbClr val="ff0000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аследственной изменчивости.</a:t>
            </a:r>
            <a:endParaRPr b="0" lang="en-US" sz="1800" spc="1" strike="noStrike">
              <a:ln w="19080">
                <a:solidFill>
                  <a:srgbClr val="ff0000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ff"/>
                </a:solidFill>
                <a:latin typeface="Arial"/>
              </a:rPr>
              <a:t>Домашнее задание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араграф 30, 31, ответить на вопро-сы №1, 2, 5 на странице 119-123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*задание №3 страница 122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* презентация на тему «Наследст-венная изменчивость человека»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4000" y="2349000"/>
            <a:ext cx="7088040" cy="328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33520" indent="-5335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Цели урок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знать о видах наследственной изменчивости, их материальной основ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пределить значение её для эволюции, селекции и медицин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WordArt 6"/>
          <p:cNvSpPr txBox="1"/>
          <p:nvPr/>
        </p:nvSpPr>
        <p:spPr>
          <a:xfrm>
            <a:off x="395280" y="620640"/>
            <a:ext cx="84978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аследственная изменчивость.</a:t>
            </a:r>
            <a:endParaRPr b="0" lang="en-US" sz="1800" spc="1" strike="noStrike">
              <a:ln w="19080">
                <a:solidFill>
                  <a:srgbClr val="ff0000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Arial"/>
              </a:rPr>
              <a:t>Сравнение модификационной и мутационной изменчивос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395280" y="1623960"/>
          <a:ext cx="8507520" cy="5235480"/>
        </p:xfrm>
        <a:graphic>
          <a:graphicData uri="http://schemas.openxmlformats.org/drawingml/2006/table">
            <a:tbl>
              <a:tblPr/>
              <a:tblGrid>
                <a:gridCol w="3313080"/>
                <a:gridCol w="2735280"/>
                <a:gridCol w="2459160"/>
              </a:tblGrid>
              <a:tr h="762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знак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дификационная изменчивос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следственная изменчивос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4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пределе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уть явлен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4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астота появлен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правленнос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4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наче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42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гут ли наследоватьс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роверим свои зна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таблица сравнение модификаций"/>
          <p:cNvPicPr/>
          <p:nvPr/>
        </p:nvPicPr>
        <p:blipFill>
          <a:blip r:embed="rId1">
            <a:lum bright="-6000"/>
          </a:blip>
          <a:srcRect l="4998" t="7879" r="35810" b="8484"/>
          <a:stretch/>
        </p:blipFill>
        <p:spPr>
          <a:xfrm>
            <a:off x="1332000" y="981000"/>
            <a:ext cx="6553080" cy="5877000"/>
          </a:xfrm>
          <a:prstGeom prst="rect">
            <a:avLst/>
          </a:prstGeom>
          <a:ln w="0">
            <a:noFill/>
          </a:ln>
        </p:spPr>
      </p:pic>
      <p:sp>
        <p:nvSpPr>
          <p:cNvPr id="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Arial"/>
              </a:rPr>
              <a:t>Комбинативная изменчивос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1125360"/>
            <a:ext cx="914400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лучайная комбинация генов в генотип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" descr="Биол"/>
          <p:cNvPicPr/>
          <p:nvPr/>
        </p:nvPicPr>
        <p:blipFill>
          <a:blip r:embed="rId1"/>
          <a:srcRect l="15333" t="5464" r="15409" b="19581"/>
          <a:stretch/>
        </p:blipFill>
        <p:spPr>
          <a:xfrm>
            <a:off x="1908000" y="1557360"/>
            <a:ext cx="5546880" cy="5052960"/>
          </a:xfrm>
          <a:prstGeom prst="rect">
            <a:avLst/>
          </a:prstGeom>
          <a:ln w="38160">
            <a:solidFill>
              <a:srgbClr val="008000"/>
            </a:solidFill>
            <a:miter/>
          </a:ln>
        </p:spPr>
      </p:pic>
      <p:sp>
        <p:nvSpPr>
          <p:cNvPr id="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4" descr="таблица источники изменчивости"/>
          <p:cNvPicPr/>
          <p:nvPr/>
        </p:nvPicPr>
        <p:blipFill>
          <a:blip r:embed="rId1"/>
          <a:srcRect l="2215" t="14390" r="2181" b="1866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утации – внезапно возникающие стойкие изменения генов и хромосом, передающиеся по наследств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пример мутации"/>
          <p:cNvPicPr/>
          <p:nvPr/>
        </p:nvPicPr>
        <p:blipFill>
          <a:blip r:embed="rId1"/>
          <a:stretch/>
        </p:blipFill>
        <p:spPr>
          <a:xfrm>
            <a:off x="1476360" y="971640"/>
            <a:ext cx="6408720" cy="5886360"/>
          </a:xfrm>
          <a:prstGeom prst="rect">
            <a:avLst/>
          </a:prstGeom>
          <a:ln w="0">
            <a:noFill/>
          </a:ln>
        </p:spPr>
      </p:pic>
      <p:sp>
        <p:nvSpPr>
          <p:cNvPr id="7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5"/>
          <p:cNvSpPr/>
          <p:nvPr/>
        </p:nvSpPr>
        <p:spPr>
          <a:xfrm>
            <a:off x="2340000" y="620640"/>
            <a:ext cx="4753080" cy="1079640"/>
          </a:xfrm>
          <a:prstGeom prst="rect">
            <a:avLst/>
          </a:prstGeom>
          <a:solidFill>
            <a:srgbClr val="ff99cc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Механизм мутац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6"/>
          <p:cNvSpPr/>
          <p:nvPr/>
        </p:nvSpPr>
        <p:spPr>
          <a:xfrm>
            <a:off x="684360" y="2349360"/>
            <a:ext cx="2808000" cy="936720"/>
          </a:xfrm>
          <a:prstGeom prst="rect">
            <a:avLst/>
          </a:prstGeom>
          <a:solidFill>
            <a:srgbClr val="ff99cc"/>
          </a:solidFill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еном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водят к изменению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исла хромос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7"/>
          <p:cNvSpPr/>
          <p:nvPr/>
        </p:nvSpPr>
        <p:spPr>
          <a:xfrm>
            <a:off x="684360" y="3789360"/>
            <a:ext cx="2808000" cy="1512720"/>
          </a:xfrm>
          <a:prstGeom prst="rect">
            <a:avLst/>
          </a:prstGeom>
          <a:solidFill>
            <a:srgbClr val="ff99cc"/>
          </a:solidFill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ен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вязаны с изменени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следовательност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уклеотидов молекул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Н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"/>
          <p:cNvSpPr/>
          <p:nvPr/>
        </p:nvSpPr>
        <p:spPr>
          <a:xfrm>
            <a:off x="5580000" y="2276640"/>
            <a:ext cx="2808360" cy="936360"/>
          </a:xfrm>
          <a:prstGeom prst="rect">
            <a:avLst/>
          </a:prstGeom>
          <a:solidFill>
            <a:srgbClr val="ff99cc"/>
          </a:solidFill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ромосом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вязаны с  изменение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руктуры хромосо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9"/>
          <p:cNvSpPr/>
          <p:nvPr/>
        </p:nvSpPr>
        <p:spPr>
          <a:xfrm>
            <a:off x="5580000" y="3860640"/>
            <a:ext cx="2808360" cy="1440000"/>
          </a:xfrm>
          <a:prstGeom prst="rect">
            <a:avLst/>
          </a:prstGeom>
          <a:solidFill>
            <a:srgbClr val="ff99cc"/>
          </a:solidFill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итоплазматическ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зультат измене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НК клеточ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рганоидов 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ластид, митохондри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10"/>
          <p:cNvSpPr/>
          <p:nvPr/>
        </p:nvSpPr>
        <p:spPr>
          <a:xfrm flipH="1">
            <a:off x="2123640" y="1700280"/>
            <a:ext cx="1871640" cy="649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11"/>
          <p:cNvSpPr/>
          <p:nvPr/>
        </p:nvSpPr>
        <p:spPr>
          <a:xfrm flipH="1">
            <a:off x="3492000" y="1700280"/>
            <a:ext cx="863640" cy="3024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12"/>
          <p:cNvSpPr/>
          <p:nvPr/>
        </p:nvSpPr>
        <p:spPr>
          <a:xfrm>
            <a:off x="4356000" y="1773360"/>
            <a:ext cx="1224000" cy="2950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13"/>
          <p:cNvSpPr/>
          <p:nvPr/>
        </p:nvSpPr>
        <p:spPr>
          <a:xfrm>
            <a:off x="4859280" y="1700280"/>
            <a:ext cx="2233800" cy="576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ff"/>
                </a:solidFill>
                <a:latin typeface="Bookman Old Style"/>
              </a:rPr>
              <a:t>Примеры хромосомных мутаций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болезнь Дауна"/>
          <p:cNvPicPr/>
          <p:nvPr/>
        </p:nvPicPr>
        <p:blipFill>
          <a:blip r:embed="rId1"/>
          <a:srcRect l="4318" t="3829" r="5902" b="10571"/>
          <a:stretch/>
        </p:blipFill>
        <p:spPr>
          <a:xfrm>
            <a:off x="1403280" y="1760400"/>
            <a:ext cx="7128000" cy="5097600"/>
          </a:xfrm>
          <a:prstGeom prst="rect">
            <a:avLst/>
          </a:prstGeom>
          <a:ln w="0">
            <a:noFill/>
          </a:ln>
        </p:spPr>
      </p:pic>
      <p:sp>
        <p:nvSpPr>
          <p:cNvPr id="8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3T12:26:44Z</dcterms:created>
  <dc:creator>User</dc:creator>
  <dc:description/>
  <dc:language>en-US</dc:language>
  <cp:lastModifiedBy>LEGION</cp:lastModifiedBy>
  <dcterms:modified xsi:type="dcterms:W3CDTF">2015-11-27T10:45:04Z</dcterms:modified>
  <cp:revision>16</cp:revision>
  <dc:subject/>
  <dc:title>Наследственная изменчивость. Цели: Узнать о видах наследственной изменчивости, их материальной основе, определить значение её для эволюции и селекции. </dc:title>
</cp:coreProperties>
</file>