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56589-C184-451A-88D6-AF4C368B669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ниципальное общеобразовательное учрежден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Средняя общеобразовательная школа с.Прималкинского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рок биологии в 10 класс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ледствен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чив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биологии Петухова Т.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ниципальное общеобразовательное учреждение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редняя общеобразовательная школа с.Прималкинского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к биологии в 10 класс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ледствен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менчив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биологии Петухова Т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Генные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(точечны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Генные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(точечны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Виды хромосомных мут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Виды хромосомных мут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Цитоплазматическая мутац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Цитоплазматическая му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изкородственные вид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роды благодаря сходству генотипов облада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сходством наследственной изменчив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гомологических рядо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ледственной изменчив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лизкородственные вид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роды благодаря сходству генотипов обладаю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сходством наследственной изменчив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гомологических ряд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ледственной изменчив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араграф 30, 31, ответить на вопро-сы №1, 2, 5 на странице 119-123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задание №3 страница 122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* презентация на тему «Наследст-венная изменчивость человека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раграф 30, 31, ответить на вопро-сы №1, 2, 5 на странице 119-123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задание №3 страница 122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* презентация на тему «Наследст-венная изменчивость человека»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и урок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знать о видах наследственной изменчивости, их материальной основ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ить значение её для эволюции, селекции и медици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ледственная изменчив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ли уро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знать о видах наследственной изменчивости, их материальной основ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ределить значение её для эволюции, селекции и медици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следственная изменчив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авнение модификационной и мутационной изменчив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авнение модификационной и мутационной изменчив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оверим свои зн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оверим свои зн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бинативная изменчив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учайная комбинация генов в генотип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бинативная изменчив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учайная комбинация генов в генотип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утации – внезапно возникающие стойкие изменения генов и хромосом, передающиеся по наследст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утации – внезапно возникающие стойкие изменения генов и хромосом, передающиеся по наследств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ханизм мут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ном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водят к изменени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исла хромос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н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язаны с измене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довательност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уклеотидов молекул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Н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ромосомн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язаны с  изменени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уктуры хромосо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итоплазматическ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зультат измен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НК клеточн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оидов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стид, митохондр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ханизм мут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ном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водят к изменени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сла хромос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е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аны с изменение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довательност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уклеотидов молекул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Н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ромосом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аны с  изменение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уктуры хромосо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топлазматическ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зультат измен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НК клеточ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оидов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стид, митохондр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Примеры хромосомных мутац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Примеры хромосомных мута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8429-2DCC-4504-BEE7-8C067B9A6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432F-13F3-4DB3-8288-3018605FC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3DDA-9587-482D-B6A8-C01813DDE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0435-D871-48A0-A06E-D739BC2E2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6E23-C427-47E6-A285-998E121C9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1655-9ECD-4E12-86BA-7F2EBB0B2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22EE4-8351-4FFA-926C-1ACA274A1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BCB0-1D1E-4D0E-946E-28BFF4663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50CE-F2B5-4EC2-BF36-907A03338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CF54F-87AF-4B45-BB79-541DDE1FD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124B-406B-4A34-B3B1-59E504DCA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34D0A-F1E4-4E70-88EB-6225FA9F9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33"/>
            </a:gs>
            <a:gs pos="50000">
              <a:srgbClr val="66ffff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07704-4A57-4BAA-9DC2-5E5112AD75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54900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униципальное общеобразовательное учреждение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Средняя общеобразовательная школа с.Прималкинского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03280" y="1268280"/>
            <a:ext cx="6400800" cy="8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Урок биологии в 10 класс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WordArt 5"/>
          <p:cNvSpPr txBox="1"/>
          <p:nvPr/>
        </p:nvSpPr>
        <p:spPr>
          <a:xfrm>
            <a:off x="900000" y="2060640"/>
            <a:ext cx="7559640" cy="187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следственная</a:t>
            </a:r>
            <a:endParaRPr b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 </a:t>
            </a:r>
            <a:r>
              <a:rPr b="1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зменчивость</a:t>
            </a:r>
            <a:endParaRPr b="1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468360" y="5992920"/>
            <a:ext cx="8353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Учитель биологии Петухова Т.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фото"/>
          <p:cNvPicPr/>
          <p:nvPr/>
        </p:nvPicPr>
        <p:blipFill>
          <a:blip r:embed="rId1"/>
          <a:srcRect l="0" t="0" r="0" b="3791"/>
          <a:stretch/>
        </p:blipFill>
        <p:spPr>
          <a:xfrm>
            <a:off x="2916360" y="3860640"/>
            <a:ext cx="3187440" cy="225900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1989000"/>
            <a:ext cx="2987640" cy="249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Генные</a:t>
            </a:r>
            <a:br>
              <a:rPr sz="4000"/>
            </a:br>
            <a:r>
              <a:rPr b="1" lang="ru-RU" sz="4000" spc="-1" strike="noStrike">
                <a:solidFill>
                  <a:srgbClr val="990033"/>
                </a:solidFill>
                <a:latin typeface="Arial"/>
              </a:rPr>
              <a:t> (точечные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7" descr="генная  мутация"/>
          <p:cNvPicPr/>
          <p:nvPr/>
        </p:nvPicPr>
        <p:blipFill>
          <a:blip r:embed="rId1"/>
          <a:srcRect l="17898" t="5901" r="17757" b="11481"/>
          <a:stretch/>
        </p:blipFill>
        <p:spPr>
          <a:xfrm>
            <a:off x="2843280" y="260280"/>
            <a:ext cx="6300720" cy="627084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виды хромасомных мутаций"/>
          <p:cNvPicPr/>
          <p:nvPr/>
        </p:nvPicPr>
        <p:blipFill>
          <a:blip r:embed="rId1"/>
          <a:srcRect l="6640" t="3927" r="4750" b="11417"/>
          <a:stretch/>
        </p:blipFill>
        <p:spPr>
          <a:xfrm>
            <a:off x="0" y="907920"/>
            <a:ext cx="9144000" cy="59500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5"/>
          <p:cNvSpPr/>
          <p:nvPr/>
        </p:nvSpPr>
        <p:spPr>
          <a:xfrm>
            <a:off x="39528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Arial"/>
              </a:rPr>
              <a:t>Виды хромосомных мутац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цитоплазмотическая мутация"/>
          <p:cNvPicPr/>
          <p:nvPr/>
        </p:nvPicPr>
        <p:blipFill>
          <a:blip r:embed="rId1"/>
          <a:srcRect l="14683" t="10536" r="15203" b="15586"/>
          <a:stretch/>
        </p:blipFill>
        <p:spPr>
          <a:xfrm>
            <a:off x="1258920" y="1268280"/>
            <a:ext cx="6985080" cy="55198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5"/>
          <p:cNvSpPr/>
          <p:nvPr/>
        </p:nvSpPr>
        <p:spPr>
          <a:xfrm>
            <a:off x="250920" y="333360"/>
            <a:ext cx="856908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Цитоплазматическая мутац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53964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Близкородственные виды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и роды благодаря сходству генотипов обладаю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Arial"/>
              </a:rPr>
              <a:t>и сходством наследственной изменчивости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WordArt 4"/>
          <p:cNvSpPr txBox="1"/>
          <p:nvPr/>
        </p:nvSpPr>
        <p:spPr>
          <a:xfrm>
            <a:off x="395280" y="260280"/>
            <a:ext cx="8424720" cy="172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акон гомологических рядов 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следственной изменчивости.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Arial"/>
              </a:rPr>
              <a:t>Домашнее задание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араграф 30, 31, ответить на вопро-сы №1, 2, 5 на странице 119-123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*задание №3 страница 122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* презентация на тему «Наследст-венная изменчивость человека»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4000" y="2349000"/>
            <a:ext cx="7088040" cy="32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-5335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Цели уро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знать о видах наследственной изменчивости, их материальной основ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ределить значение её для эволюции, селекции и медиц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WordArt 6"/>
          <p:cNvSpPr txBox="1"/>
          <p:nvPr/>
        </p:nvSpPr>
        <p:spPr>
          <a:xfrm>
            <a:off x="395280" y="620640"/>
            <a:ext cx="8497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ff0000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следственная изменчивость.</a:t>
            </a:r>
            <a:endParaRPr b="0" lang="en-US" sz="1800" spc="1" strike="noStrike">
              <a:ln w="19080">
                <a:solidFill>
                  <a:srgbClr val="ff0000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Сравнение модификационной и мутационной изменчивост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395280" y="1623960"/>
          <a:ext cx="8507520" cy="5235480"/>
        </p:xfrm>
        <a:graphic>
          <a:graphicData uri="http://schemas.openxmlformats.org/drawingml/2006/table">
            <a:tbl>
              <a:tblPr/>
              <a:tblGrid>
                <a:gridCol w="3313080"/>
                <a:gridCol w="2735280"/>
                <a:gridCol w="2459160"/>
              </a:tblGrid>
              <a:tr h="762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ризна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дификационная изменчив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следственная изменчивос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Определ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Суть явл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Частота появлени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аправленност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47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Знач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4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Могут ли наследоватьс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верим свои зн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таблица сравнение модификаций"/>
          <p:cNvPicPr/>
          <p:nvPr/>
        </p:nvPicPr>
        <p:blipFill>
          <a:blip r:embed="rId1">
            <a:lum bright="-6000"/>
          </a:blip>
          <a:srcRect l="4998" t="7879" r="35810" b="8484"/>
          <a:stretch/>
        </p:blipFill>
        <p:spPr>
          <a:xfrm>
            <a:off x="1332000" y="981000"/>
            <a:ext cx="6553080" cy="587700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Комбинативная изменчивос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125360"/>
            <a:ext cx="91440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лучайная комбинация генов в генотип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Биол"/>
          <p:cNvPicPr/>
          <p:nvPr/>
        </p:nvPicPr>
        <p:blipFill>
          <a:blip r:embed="rId1"/>
          <a:srcRect l="15333" t="5464" r="15409" b="19581"/>
          <a:stretch/>
        </p:blipFill>
        <p:spPr>
          <a:xfrm>
            <a:off x="1908000" y="1557360"/>
            <a:ext cx="5546880" cy="505296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4" descr="таблица источники изменчивости"/>
          <p:cNvPicPr/>
          <p:nvPr/>
        </p:nvPicPr>
        <p:blipFill>
          <a:blip r:embed="rId1"/>
          <a:srcRect l="2215" t="14390" r="2181" b="1866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утации – внезапно возникающие стойкие изменения генов и хромосом, передающиеся по наследств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пример мутации"/>
          <p:cNvPicPr/>
          <p:nvPr/>
        </p:nvPicPr>
        <p:blipFill>
          <a:blip r:embed="rId1"/>
          <a:stretch/>
        </p:blipFill>
        <p:spPr>
          <a:xfrm>
            <a:off x="1476360" y="971640"/>
            <a:ext cx="6408720" cy="588636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5"/>
          <p:cNvSpPr/>
          <p:nvPr/>
        </p:nvSpPr>
        <p:spPr>
          <a:xfrm>
            <a:off x="2340000" y="620640"/>
            <a:ext cx="4753080" cy="1079640"/>
          </a:xfrm>
          <a:prstGeom prst="rect">
            <a:avLst/>
          </a:prstGeom>
          <a:solidFill>
            <a:srgbClr val="ff99cc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Механизм мутаци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6"/>
          <p:cNvSpPr/>
          <p:nvPr/>
        </p:nvSpPr>
        <p:spPr>
          <a:xfrm>
            <a:off x="684360" y="2349360"/>
            <a:ext cx="2808000" cy="936720"/>
          </a:xfrm>
          <a:prstGeom prst="rect">
            <a:avLst/>
          </a:prstGeom>
          <a:solidFill>
            <a:srgbClr val="ff99cc"/>
          </a:solidFill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ном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водят к изменению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исла хромос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7"/>
          <p:cNvSpPr/>
          <p:nvPr/>
        </p:nvSpPr>
        <p:spPr>
          <a:xfrm>
            <a:off x="684360" y="3789360"/>
            <a:ext cx="2808000" cy="1512720"/>
          </a:xfrm>
          <a:prstGeom prst="rect">
            <a:avLst/>
          </a:prstGeom>
          <a:solidFill>
            <a:srgbClr val="ff99cc"/>
          </a:solidFill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язаны с измене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дователь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уклеотидов молекул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Н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"/>
          <p:cNvSpPr/>
          <p:nvPr/>
        </p:nvSpPr>
        <p:spPr>
          <a:xfrm>
            <a:off x="5580000" y="2276640"/>
            <a:ext cx="2808360" cy="936360"/>
          </a:xfrm>
          <a:prstGeom prst="rect">
            <a:avLst/>
          </a:prstGeom>
          <a:solidFill>
            <a:srgbClr val="ff99cc"/>
          </a:solidFill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ромосом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вязаны с  изменени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труктуры хромосо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9"/>
          <p:cNvSpPr/>
          <p:nvPr/>
        </p:nvSpPr>
        <p:spPr>
          <a:xfrm>
            <a:off x="5580000" y="3860640"/>
            <a:ext cx="2808360" cy="1440000"/>
          </a:xfrm>
          <a:prstGeom prst="rect">
            <a:avLst/>
          </a:prstGeom>
          <a:solidFill>
            <a:srgbClr val="ff99cc"/>
          </a:solidFill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Цитоплазматическ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ультат измен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НК клеточ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рганоидов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ластид, митохондр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0"/>
          <p:cNvSpPr/>
          <p:nvPr/>
        </p:nvSpPr>
        <p:spPr>
          <a:xfrm flipH="1">
            <a:off x="2123640" y="1700280"/>
            <a:ext cx="1871640" cy="6490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1"/>
          <p:cNvSpPr/>
          <p:nvPr/>
        </p:nvSpPr>
        <p:spPr>
          <a:xfrm flipH="1">
            <a:off x="3492000" y="1700280"/>
            <a:ext cx="863640" cy="3024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2"/>
          <p:cNvSpPr/>
          <p:nvPr/>
        </p:nvSpPr>
        <p:spPr>
          <a:xfrm>
            <a:off x="4356000" y="1773360"/>
            <a:ext cx="1224000" cy="2950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3"/>
          <p:cNvSpPr/>
          <p:nvPr/>
        </p:nvSpPr>
        <p:spPr>
          <a:xfrm>
            <a:off x="4859280" y="1700280"/>
            <a:ext cx="2233800" cy="57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Bookman Old Style"/>
              </a:rPr>
              <a:t>Примеры хромосомных мутаций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4" descr="болезнь Дауна"/>
          <p:cNvPicPr/>
          <p:nvPr/>
        </p:nvPicPr>
        <p:blipFill>
          <a:blip r:embed="rId1"/>
          <a:srcRect l="4318" t="3829" r="5902" b="10571"/>
          <a:stretch/>
        </p:blipFill>
        <p:spPr>
          <a:xfrm>
            <a:off x="1403280" y="1760400"/>
            <a:ext cx="7128000" cy="509760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2:26:44Z</dcterms:created>
  <dc:creator>User</dc:creator>
  <dc:description/>
  <dc:language>en-US</dc:language>
  <cp:lastModifiedBy>LEGION</cp:lastModifiedBy>
  <dcterms:modified xsi:type="dcterms:W3CDTF">2015-11-27T10:45:04Z</dcterms:modified>
  <cp:revision>16</cp:revision>
  <dc:subject/>
  <dc:title>Наследственная изменчивость. Цели: Узнать о видах наследственной изменчивости, их материальной основе, определить значение её для эволюции и селекции. </dc:title>
</cp:coreProperties>
</file>