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FCF84-913D-4CD9-9EF4-3217DC547618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рытосеменные или цветковые раст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в 6 клас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БУ СОШ №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. Пойков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химии и б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ийчук Ирина Иванов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рытосеменные или цветковые раст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в 6 клас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БУ СОШ №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. Пойков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химии и б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ийчук Ирина Иванов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на лотоса орехоносного, обнаруженные в 1951 г. в Японии, в торфяном болоте на глубине 5,5 м, находились в лодке, принадлежащей человеку каменного века. После извлечения их из торфа они проросли, причем лотосы нормально развивались и цвели. Захоронение этих семян в торфе без доступа кислорода способ­ствовало сохранению их жизнеспособности. Радиоуглеродный анализ показал, что им было не менее 10400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на лотоса орехоносного, обнаруженные в 1951 г. в Японии, в торфяном болоте на глубине 5,5 м, находились в лодке, принадлежащей человеку каменного века. После извлечения их из торфа они проросли, причем лотосы нормально развивались и цвели. Захоронение этих семян в торфе без доступа кислорода способ­ствовало сохранению их жизнеспособности. Радиоуглеродный анализ показал, что им было не менее 10400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е крупные клубни (видоизмененные подземные побеги) - у растения азиатский ямс. Клубни окультуренного ямса достигают 50 кг. Они употребляются в пищу и напоминают по вкусу картоф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е крупные клубни (видоизмененные подземные побеги) - у растения азиатский ямс. Клубни окультуренного ямса достигают 50 кг. Они употребляются в пищу и напоминают по вкусу картоф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м высоким цветковым растением является эвкалипт царственный (известны два самых высоких экземпляра: 99,4 м и 98,1 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м высоким цветковым растением является эвкалипт царственный (известны два самых высоких экземпляра: 99,4 м и 98,1 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м «жароустойчивым» сухопутным растением является верблюжья колючка. Она выносит температуру до +70 °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м «жароустойчивым» сухопутным растением является верблюжья колючка. Она выносит температуру до +70 °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беги березы и тополя, напротив, отличаются большой холодостойкостью. Они способны выдерживать охлаждение до -196 °С. Черенки черной смородины выдерживают охлаждение до -253 °С, не теряя мосле оттаивания способности к укоренен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беги березы и тополя, напротив, отличаются большой холодостойкостью. Они способны выдерживать охлаждение до -196 °С. Черенки черной смородины выдерживают охлаждение до -253 °С, не теряя мосле оттаивания способности к укоренен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й большой скоростью роста обладает один из родственников бамбука - злак листоколосник съедобный, в диком виде встречающийся на юге Китая. Ежесуточный прирост побегов этого растения достигает 40 см, то есть оно вырастает на 1,7 см в час. Всего за несколько месяцев злак вырастает на 30-метровую высоту; достигая 50 см в диамет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й большой скоростью роста обладает один из родственников бамбука - злак листоколосник съедобный, в диком виде встречающийся на юге Китая. Ежесуточный прирост побегов этого растения достигает 40 см, то есть оно вырастает на 1,7 см в час. Всего за несколько месяцев злак вырастает на 30-метровую высоту; достигая 50 см в диамет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ивительные деревья. Тюльпанное дерево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цветки напоминают степные тюльпаны, только они зеленоватой окраски с крупным оранжевым пятном у основания. Его родина - восточные штаты Северной Америки, где деревья могут достигать 70 м высоты и до 3,5 м в диаметре. Из древесины изготавливают музыкальные инструменты, используют ее для отделки салонов автомобилей. Кора обладает лекарственными свойств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ивительные деревья. Тюльпанное дерево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цветки напоминают степные тюльпаны, только они зеленоватой окраски с крупным оранжевым пятном у основания. Его родина - восточные штаты Северной Америки, где деревья могут достигать 70 м высоты и до 3,5 м в диаметре. Из древесины изготавливают музыкальные инструменты, используют ее для отделки салонов автомобилей. Кора обладает лекарственными свойств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фетное дере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его ветках растут «конфетки» - веточки-плодоножки коричневого цвета, причудливо изогнутые, чуть тоньше карандаша. Они содержат до 40 % фруктозы, очень сладкие и по вкусу близки к изюму. Настоящие же плоды конфетного дерева мелкие и жестк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фетное дере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его ветках растут «конфетки» - веточки-плодоножки коричневого цвета, причудливо изогнутые, чуть тоньше карандаша. Они содержат до 40 % фруктозы, очень сладкие и по вкусу близки к изюму. Настоящие же плоды конфетного дерева мелкие и жестк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яничное дере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плоды внешне действительно напоминают плоды земляники - они ярко- красные, с мелкобугорчатой поверхностью. Плоды земляничного дерева съедобны, они сочные и сладкие. Из них готовят варенье, вино, лике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яничное дере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плоды внешне действительно напоминают плоды земляники - они ярко- красные, с мелкобугорчатой поверхностью. Плоды земляничного дерева съедобны, они сочные и сладкие. Из них готовят варенье, вино, лике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уречное дере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тельно является родственником настоящего огурца, тыквы и т. д. Это единственное древесное растение в семействе. Произрастает огуречное дерево на затерянном в Индийском океане острове Сокотра у восточного побережья Афр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уречное дере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тельно является родственником настоящего огурца, тыквы и т. д. Это единственное древесное растение в семействе. Произрастает огуречное дерево на затерянном в Индийском океане острове Сокотра у восточного побережья Афр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крытосеменных характерно наличие следующих орган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ень, побег, цветок, плод с семен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органы разнообразны по строению и выполняемым функц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способительные признаки покрытосеменных вырабатывались многие тысячелетия под влиянием различных условий сре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крытосеменных характерно наличие следующих орган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ень, побег, цветок, плод с семен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органы разнообразны по строению и выполняемым функц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способительные признаки покрытосеменных вырабатывались многие тысячелетия под влиянием различных условий сре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очные дерев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ут в Южной Америке, они выделяют млечный сок. Сок содержит воду, растительный воск, сахар, немного смол. Он более густой и вязкий, чем настоящее молоко, обладает бальзамическим ароматом. «Молоко» не портится в течение педели даже в тропиках, хорошо смешивается с водой, не сворачивается. Местное население использует его в качестве заменителя коровьего молока, называя растение деревом-коров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очные дерев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ут в Южной Америке, они выделяют млечный сок. Сок содержит воду, растительный воск, сахар, немного смол. Он более густой и вязкий, чем настоящее молоко, обладает бальзамическим ароматом. «Молоко» не портится в течение педели даже в тропиках, хорошо смешивается с водой, не сворачивается. Местное население использует его в качестве заменителя коровьего молока, называя растение деревом-коров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ление изученн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растения называют покрытосеменны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их называют цветковы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они занимают господствующее положение на Земл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окрытосеменные приспособлены к условиям обита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ую роль в жизни человека играют эти раст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ление изученн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растения называют покрытосеменны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их называют цветковы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они занимают господствующее положение на Земл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окрытосеменные приспособлены к условиям обита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ую роль в жизни человека играют эти раст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 § 17; вопросы в конце параграф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 § 17; вопросы в конце параграф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ик для 6 класса "Биология: Бактерии. Грибы. Растения" , М.: Дрофа,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.Е. Буяло, Т.М. Васютина «Уроки биологии» пособие для учителя «Учебная книга» – Богда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pedsovet.su/ шабло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ндекс - картин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ик для 6 класса "Биология: Бактерии. Грибы. Растения" , М.: Дрофа,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.Е. Буяло, Т.М. Васютина «Уроки биологии» пособие для учителя «Учебная книга» – Богда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pedsovet.su/ шабло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ндекс - картин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ько покрытосеменные имеют цветок, из которого образуется плод с семенами. Плод покрывает семена, защищая их от неблагоприятных условий, поэтому растения и назвали покрытосемен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крытосеменных характерно наличие хорошо развитых органов: корня и побега (стебля, листьев); наблюдается большое разнообразие этих органов по строению и выполняемым функц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крытосеменных характерна хорошо развитая проводящая система, обеспечивающая быстрое передвижение веществ в раст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крытосеменных характерно не только семенное, но и вегетативное размножение, что обеспечивает их быстрое распростран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ько покрытосеменные имеют цветок, из которого образуется плод с семенами. Плод покрывает семена, защищая их от неблагоприятных условий, поэтому растения и назвали покрытосемен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крытосеменных характерно наличие хорошо развитых органов: корня и побега (стебля, листьев); наблюдается большое разнообразие этих органов по строению и выполняемым функц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крытосеменных характерна хорошо развитая проводящая система, обеспечивающая быстрое передвижение веществ в раст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крытосеменных характерно не только семенное, но и вегетативное размножение, что обеспечивает их быстрое распростран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зненные формы растени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 «жизненная форма» в отношении растений был предложен в 80-х гг. прошлого века датским ботаником Варминг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минг подразумевал под понятием жизненная форма «...форму, в которой вегетативное тело растения находится в гармонии с внешней средой в течение всей его жизни, от семени до отмиран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зненные формы растени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 «жизненная форма» в отношении растений был предложен в 80-х гг. прошлого века датским ботаником Варминг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минг подразумевал под понятием жизненная форма «...форму, в которой вегетативное тело растения находится в гармонии с внешней средой в течение всей его жизни, от семени до отмиран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жизненных форм растений по Серебряко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есные раст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ревь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старни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старнич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емные трав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летние травы, цветут много раз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летние трав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живут один год или несколько лет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ут один раз и отмираю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жизненных форм растений по Серебряко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есные раст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ревь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старни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старнич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емные трав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летние травы, цветут много раз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летние трав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живут один год или несколько лет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ут один раз и отмираю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орды растительного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м «толстым» деревом считается африканский баобаб - до 49 м в диаметре. Однако диаметр у обычного съедобного европейского каштана, растущего на горе Этна в Сицилии, в 1845 г. был 20,4 м, то есть 64 м в обхвате! Возраст его оценивался в 3600-4000 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орды растительного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м «толстым» деревом считается африканский баобаб - до 49 м в диаметре. Однако диаметр у обычного съедобного европейского каштана, растущего на горе Этна в Сицилии, в 1845 г. был 20,4 м, то есть 64 м в обхвате! Возраст его оценивался в 3600-4000 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е маленькое цветковое растение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льфия бескорневая (семейство Рясковые), встречающаяся в пресных водоемах Австралии и тропиках Старого Света. Крошечный листочек вольфии имеет диаметр 0,5-2 м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е маленькое цветковое растение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льфия бескорневая (семейство Рясковые), встречающаяся в пресных водоемах Австралии и тропиках Старого Света. Крошечный листочек вольфии имеет диаметр 0,5-2 м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е крупные соцвет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ми крупными соцветиями обладает пальма корифа зонтичная, растущая в Юго-Восточной Азии и на острове Шри-Ланка. Высота её соцветия достигает 6 м, а число цветков в соцветии - полумилли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е крупные соцвет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ми крупными соцветиями обладает пальма корифа зонтичная, растущая в Юго-Восточной Азии и на острове Шри-Ланка. Высота её соцветия достигает 6 м, а число цветков в соцветии - полумилли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е мелкие среди цветковых растений семена имеет парази- тическое растение заразиха. Масса одного семени составляет всего одну стомиллионную долю грам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е мелкие среди цветковых растений семена имеет парази- тическое растение заразиха. Масса одного семени составляет всего одну стомиллионную долю грам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D746-AE72-4943-AFC9-91569703F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268D-3230-48E9-808D-9F215F2E8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9BB0-C1DF-456D-B65B-9C833A662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2CED-D9C3-4EA1-8753-4D76B4D61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37AB-21E4-4424-88EA-05112D48C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3719-18DD-4EBB-9374-BAE481239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E68D-5ABA-4C19-B360-8D17C65C1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FA3B-F28B-4048-B974-EECE1850E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0CC9-298B-4E9A-A6B7-058E87A62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F73F-FE29-487F-A907-815C965E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30F3-0C55-47BC-9CFE-74F39815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2DD3-BAE8-43B6-9252-BC9A4FA2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DD65A-6C0C-4DF7-90A9-538CB8F1B48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8E91-8BFA-4265-BEA3-C5255445BF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pedsovet.su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66880" y="1958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крытосеменные или цветковые растен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771640" y="5589360"/>
            <a:ext cx="392112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Урок в 6 класс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C:\Users\Пользователь\Desktop\63833722_Orhideya01.jpg"/>
          <p:cNvPicPr/>
          <p:nvPr/>
        </p:nvPicPr>
        <p:blipFill>
          <a:blip r:embed="rId1"/>
          <a:stretch/>
        </p:blipFill>
        <p:spPr>
          <a:xfrm>
            <a:off x="3492360" y="3429000"/>
            <a:ext cx="2522520" cy="2054160"/>
          </a:xfrm>
          <a:prstGeom prst="rect">
            <a:avLst/>
          </a:prstGeom>
          <a:ln w="0">
            <a:noFill/>
          </a:ln>
        </p:spPr>
      </p:pic>
      <p:sp>
        <p:nvSpPr>
          <p:cNvPr id="51" name="TextBox 1"/>
          <p:cNvSpPr/>
          <p:nvPr/>
        </p:nvSpPr>
        <p:spPr>
          <a:xfrm>
            <a:off x="1908000" y="608040"/>
            <a:ext cx="597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МОБУ СОШ № 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п. Пойковск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Учитель химии и биолог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Линийчук Ирина Иванов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539280" y="692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емена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лотоса орехоносного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обнаруженные в 1951 г. в Японии, в торфяном болоте на глубине 5,5 м, находились в лодке, принадлежащей человеку каменного века. После извлечения их из торфа они проросли, причем лотосы нормально развивались и цвели. Захоронение этих семян в торфе без доступа кислорода способ­ствовало сохранению их жизнеспособности. Радиоуглеродный анализ показал, что им было не менее 10400 ле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C:\Users\Пользователь\Desktop\2.jpg"/>
          <p:cNvPicPr/>
          <p:nvPr/>
        </p:nvPicPr>
        <p:blipFill>
          <a:blip r:embed="rId1"/>
          <a:stretch/>
        </p:blipFill>
        <p:spPr>
          <a:xfrm>
            <a:off x="4419720" y="765000"/>
            <a:ext cx="3903480" cy="2592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C:\Users\Пользователь\Desktop\lotos-1_large.jpg"/>
          <p:cNvPicPr/>
          <p:nvPr/>
        </p:nvPicPr>
        <p:blipFill>
          <a:blip r:embed="rId2"/>
          <a:stretch/>
        </p:blipFill>
        <p:spPr>
          <a:xfrm>
            <a:off x="5292720" y="3500280"/>
            <a:ext cx="2857680" cy="308628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ut thruBlk="true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826920" y="764640"/>
            <a:ext cx="3168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мые крупные клубни (видоизмененные подземные побеги) - у растения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азиатский ямс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Клубни окультуренного ямса достигают 50 кг. Они употребляются в пищу и напоминают по вкусу картофел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C:\Users\Пользователь\Desktop\Dioscorea-alata-L..jpg"/>
          <p:cNvPicPr/>
          <p:nvPr/>
        </p:nvPicPr>
        <p:blipFill>
          <a:blip r:embed="rId1"/>
          <a:stretch/>
        </p:blipFill>
        <p:spPr>
          <a:xfrm>
            <a:off x="4716360" y="692280"/>
            <a:ext cx="3570480" cy="554508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11280" y="981000"/>
            <a:ext cx="345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амым высоким цветковым растением является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эвкалипт царственны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известны два самых высоких экземпляра: 99,4 м и 98,1 м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4" descr="C:\Users\Пользователь\Desktop\0_62beb_90072faa_XL.jpg"/>
          <p:cNvPicPr/>
          <p:nvPr/>
        </p:nvPicPr>
        <p:blipFill>
          <a:blip r:embed="rId1"/>
          <a:stretch/>
        </p:blipFill>
        <p:spPr>
          <a:xfrm>
            <a:off x="4356000" y="981000"/>
            <a:ext cx="3940200" cy="483084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ut thruBlk="true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62064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ым «жароустойчивым» сухопутным растением является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верблюжья колючка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на выносит температуру до +70 °С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C:\Users\Пользователь\Desktop\111.jpg"/>
          <p:cNvPicPr/>
          <p:nvPr/>
        </p:nvPicPr>
        <p:blipFill>
          <a:blip r:embed="rId1"/>
          <a:stretch/>
        </p:blipFill>
        <p:spPr>
          <a:xfrm>
            <a:off x="1692360" y="2205000"/>
            <a:ext cx="5832360" cy="387504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1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61128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беги березы и тополя, напротив, отличаются большой холодостойкостью. Они способны выдерживать охлаждение до -196 °С. Черенки черной смородины выдерживают охлаждение до -253 °С, не теряя мосле оттаивания способности к укоренению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4" descr="C:\Users\Пользователь\Desktop\0_970a9_ed952eaf_orig.jpg"/>
          <p:cNvPicPr/>
          <p:nvPr/>
        </p:nvPicPr>
        <p:blipFill>
          <a:blip r:embed="rId1"/>
          <a:stretch/>
        </p:blipFill>
        <p:spPr>
          <a:xfrm>
            <a:off x="1042920" y="2565360"/>
            <a:ext cx="2649600" cy="3527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2"/>
          <a:stretch/>
        </p:blipFill>
        <p:spPr>
          <a:xfrm>
            <a:off x="4356000" y="2852640"/>
            <a:ext cx="3705480" cy="271800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84000" y="4221000"/>
            <a:ext cx="772452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амой большой скоростью роста обладает один из родственников бамбука - злак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листоколосник съедобный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в диком виде встречающийся на юге Китая. Ежесуточный прирост побегов этого растения достигает 40 см, то есть оно вырастает на 1,7 см в час. Всего за несколько месяцев злак вырастает на 30-метровую высоту; достигая 50 см в диаметр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C:\Users\Пользователь\Desktop\Bamboo.jpg"/>
          <p:cNvPicPr/>
          <p:nvPr/>
        </p:nvPicPr>
        <p:blipFill>
          <a:blip r:embed="rId1"/>
          <a:stretch/>
        </p:blipFill>
        <p:spPr>
          <a:xfrm>
            <a:off x="1908000" y="765000"/>
            <a:ext cx="5034240" cy="333540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Удивительные деревья. Тюльпанное дерево.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9280" y="1700280"/>
            <a:ext cx="375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го цветки напоминают степные тюльпаны, только они зеленоватой окраски с крупным оранжевым пятном у основания. Его родина - восточные штаты Северной Америки, где деревья могут достигать 70 м высоты и до 3,5 м в диаметре. Из древесины изготавливают музыкальные инструменты, используют ее для отделки салонов автомобилей. Кора обладает лекарственными свойств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4" descr="C:\Users\Пользователь\Desktop\020.jpg"/>
          <p:cNvPicPr/>
          <p:nvPr/>
        </p:nvPicPr>
        <p:blipFill>
          <a:blip r:embed="rId1"/>
          <a:stretch/>
        </p:blipFill>
        <p:spPr>
          <a:xfrm>
            <a:off x="4284720" y="1989000"/>
            <a:ext cx="3909960" cy="381816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Конфетное дерево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его ветках растут «конфетки» - веточки-плодоножки коричневого цвета, причудливо изогнутые, чуть тоньше карандаша. Они содержат до 40 % фруктозы, очень сладкие и по вкусу близки к изюму. Настоящие же плоды конфетного дерева мелкие и жестк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4" descr="C:\Users\Пользователь\Desktop\ghtojgwywb.png"/>
          <p:cNvPicPr/>
          <p:nvPr/>
        </p:nvPicPr>
        <p:blipFill>
          <a:blip r:embed="rId1"/>
          <a:stretch/>
        </p:blipFill>
        <p:spPr>
          <a:xfrm>
            <a:off x="1979640" y="2924280"/>
            <a:ext cx="5067360" cy="318456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0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Земляничное дере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го плоды внешне действительно напоминают плоды земляники - они ярко- красные, с мелкобугорчатой поверхностью. Плоды земляничного дерева съедобны, они сочные и сладкие. Из них готовят варенье, вино, ликер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5" descr="C:\Users\Пользователь\Desktop\878f78b0e235337ddc97ecbb99547438.jpg"/>
          <p:cNvPicPr/>
          <p:nvPr/>
        </p:nvPicPr>
        <p:blipFill>
          <a:blip r:embed="rId1"/>
          <a:stretch/>
        </p:blipFill>
        <p:spPr>
          <a:xfrm>
            <a:off x="2556000" y="3068640"/>
            <a:ext cx="3925800" cy="294624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ut thruBlk="true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Огуречное дерево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8360" y="11970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йствительно является родственником настоящего огурца, тыквы и т. д. Это единственное древесное растение в семействе. Произрастает огуречное дерево на затерянном в Индийском океане острове Сокотра у восточного побережья Африк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4" descr="C:\Users\Пользователь\Desktop\Bilimbi.jpg"/>
          <p:cNvPicPr/>
          <p:nvPr/>
        </p:nvPicPr>
        <p:blipFill>
          <a:blip r:embed="rId1"/>
          <a:stretch/>
        </p:blipFill>
        <p:spPr>
          <a:xfrm>
            <a:off x="2124000" y="2708280"/>
            <a:ext cx="4470480" cy="340524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0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ля покрытосеменных характерно наличие следующих органо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рень, побег, цветок, плод с семен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и органы разнообразны по строению и выполняемым функция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способительные признаки покрытосеменных вырабатывались многие тысячелетия под влиянием различных условий сред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C:\Users\Пользователь\Desktop\670.jpg"/>
          <p:cNvPicPr/>
          <p:nvPr/>
        </p:nvPicPr>
        <p:blipFill>
          <a:blip r:embed="rId1"/>
          <a:stretch/>
        </p:blipFill>
        <p:spPr>
          <a:xfrm>
            <a:off x="4572000" y="1773360"/>
            <a:ext cx="3816360" cy="346860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Молочные деревь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39640" y="981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стут в Южной Америке, они выделяют млечный сок. Сок содержит воду, растительный воск, сахар, немного смол. Он более густой и вязкий, чем настоящее молоко, обладает бальзамическим ароматом. «Молоко» не портится в течение педели даже в тропиках, хорошо смешивается с водой, не сворачивается. Местное население использует его в качестве заменителя коровьего молока, называя растение деревом-коров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4" descr="C:\Users\Пользователь\Desktop\6.jpg"/>
          <p:cNvPicPr/>
          <p:nvPr/>
        </p:nvPicPr>
        <p:blipFill>
          <a:blip r:embed="rId1"/>
          <a:stretch/>
        </p:blipFill>
        <p:spPr>
          <a:xfrm>
            <a:off x="1258920" y="3141720"/>
            <a:ext cx="6469200" cy="299088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2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Закрепление изученного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ие растения называют покрытосеменным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чему их называют цветковым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чему они занимают господствующее положение на Земл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покрытосеменные приспособлены к условиям обитани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ую роль в жизни человека играют эти растени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омашнее задание: § 17; вопросы в конце параграф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0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точник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ебник для 6 класса "Биология: Бактерии. Грибы. Растения" , М.: Дрофа,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.Е. Буяло, Т.М. Васютина «Уроки биологии» пособие для учителя «Учебная книга» – Богдан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pedsovet.su/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шаблон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ндекс - картин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воды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олько покрытосеменные имеют цветок, из которого образуется плод с семенами. Плод покрывает семена, защищая их от неблагоприятных условий, поэтому растения и назвали покрытосеменны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покрытосеменных характерно наличие хорошо развитых органов: корня и побега (стебля, листьев); наблюдается большое разнообразие этих органов по строению и выполняемым функция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покрытосеменных характерна хорошо развитая проводящая система, обеспечивающая быстрое передвижение веществ в растен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покрытосеменных характерно не только семенное, но и вегетативное размножение, что обеспечивает их быстрое распростране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ut thruBlk="true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Жизненные формы растений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240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рмин «жизненная форма» в отношении растений был предложен в 80-х гг. прошлого века датским ботаником Варминг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арминг подразумевал под понятием жизненная форма «...форму, в которой вегетативное тело растения находится в гармонии с внешней средой в течение всей его жизни, от семени до отмирания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ut thruBlk="true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лассификация жизненных форм растений по Серебряков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ревесные расте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ревья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устарники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устарнич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земные трав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ноголетние травы, цветут много раз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днолетние трав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живут один год или несколько лет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ветут один раз и отмирают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5" descr="C:\Users\Пользователь\Desktop\tree2.gif"/>
          <p:cNvPicPr/>
          <p:nvPr/>
        </p:nvPicPr>
        <p:blipFill>
          <a:blip r:embed="rId1"/>
          <a:stretch/>
        </p:blipFill>
        <p:spPr>
          <a:xfrm>
            <a:off x="4067280" y="1413000"/>
            <a:ext cx="1189080" cy="1342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C:\Users\Пользователь\Desktop\gard4-1-1.jpg"/>
          <p:cNvPicPr/>
          <p:nvPr/>
        </p:nvPicPr>
        <p:blipFill>
          <a:blip r:embed="rId2"/>
          <a:stretch/>
        </p:blipFill>
        <p:spPr>
          <a:xfrm>
            <a:off x="5580000" y="1484280"/>
            <a:ext cx="1536840" cy="1152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C:\Users\Пользователь\Desktop\medherb038.jpg"/>
          <p:cNvPicPr/>
          <p:nvPr/>
        </p:nvPicPr>
        <p:blipFill>
          <a:blip r:embed="rId3"/>
          <a:stretch/>
        </p:blipFill>
        <p:spPr>
          <a:xfrm>
            <a:off x="7236000" y="1052640"/>
            <a:ext cx="1161720" cy="1662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C:\Users\Пользователь\Desktop\trava1465.png"/>
          <p:cNvPicPr/>
          <p:nvPr/>
        </p:nvPicPr>
        <p:blipFill>
          <a:blip r:embed="rId4"/>
          <a:stretch/>
        </p:blipFill>
        <p:spPr>
          <a:xfrm>
            <a:off x="6156360" y="2997360"/>
            <a:ext cx="2104920" cy="1587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C:\Users\Пользователь\Desktop\i (1).jpg"/>
          <p:cNvPicPr/>
          <p:nvPr/>
        </p:nvPicPr>
        <p:blipFill>
          <a:blip r:embed="rId5"/>
          <a:stretch/>
        </p:blipFill>
        <p:spPr>
          <a:xfrm>
            <a:off x="5796000" y="4508640"/>
            <a:ext cx="1952640" cy="142848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1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10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10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100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1000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Рекорды растительного мир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39280" y="4724280"/>
            <a:ext cx="785988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амым «толстым» деревом считается африканский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баобаб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- до 49 м в диаметре. Однако диаметр у обычного съедобного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европейского каштана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растущего на горе Этна в Сицилии, в 1845 г. был 20,4 м, то есть 64 м в обхвате! Возраст его оценивался в 3600-4000 лет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C:\Users\Пользователь\Desktop\9.jpg"/>
          <p:cNvPicPr/>
          <p:nvPr/>
        </p:nvPicPr>
        <p:blipFill>
          <a:blip r:embed="rId1"/>
          <a:stretch/>
        </p:blipFill>
        <p:spPr>
          <a:xfrm>
            <a:off x="1547640" y="836640"/>
            <a:ext cx="5962680" cy="396864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ut thruBlk="true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амое маленькое цветковое растение на Земл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Вольфия бескорнева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семейство Рясковые), встречающаяся в пресных водоемах Австралии и тропиках Старого Света. Крошечный листочек вольфии имеет диаметр 0,5-2 м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5" descr="C:\Users\Пользователь\Desktop\volfiya-beskornevaya1.jpg"/>
          <p:cNvPicPr/>
          <p:nvPr/>
        </p:nvPicPr>
        <p:blipFill>
          <a:blip r:embed="rId1"/>
          <a:stretch/>
        </p:blipFill>
        <p:spPr>
          <a:xfrm>
            <a:off x="2050920" y="3141720"/>
            <a:ext cx="4762800" cy="301932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амые крупные соцветия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4000" y="1628640"/>
            <a:ext cx="3825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мыми крупными соцветиями обладает пальма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корифа зонтична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растущая в Юго-Восточной Азии и на острове Шри-Ланка. Высота её соцветия достигает 6 м, а число цветков в соцветии - полумиллио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4" descr="C:\Users\Пользователь\Desktop\Corypha umbraculifera.JPG"/>
          <p:cNvPicPr/>
          <p:nvPr/>
        </p:nvPicPr>
        <p:blipFill>
          <a:blip r:embed="rId1"/>
          <a:stretch/>
        </p:blipFill>
        <p:spPr>
          <a:xfrm>
            <a:off x="4788000" y="1557360"/>
            <a:ext cx="3492360" cy="457200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ut thruBlk="true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4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9280" y="836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амые мелкие среди цветковых растений семена имеет парази- тическое растение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заразиха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Масса одного семени составляет всего одну стомиллионную долю грамм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5" descr="C:\Users\Пользователь\Desktop\Zarazixa4.JPG"/>
          <p:cNvPicPr/>
          <p:nvPr/>
        </p:nvPicPr>
        <p:blipFill>
          <a:blip r:embed="rId1"/>
          <a:stretch/>
        </p:blipFill>
        <p:spPr>
          <a:xfrm>
            <a:off x="4716360" y="836640"/>
            <a:ext cx="3506760" cy="49244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6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15:29:49Z</dcterms:created>
  <dc:creator>Катенок</dc:creator>
  <dc:description/>
  <dc:language>en-US</dc:language>
  <cp:lastModifiedBy>LEGION</cp:lastModifiedBy>
  <dcterms:modified xsi:type="dcterms:W3CDTF">2015-11-27T10:44:52Z</dcterms:modified>
  <cp:revision>26</cp:revision>
  <dc:subject/>
  <dc:title>Презентация PowerPoint</dc:title>
</cp:coreProperties>
</file>