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6962-D56C-4A90-A892-C4AD6FEF025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Пой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йчук Ирина Иван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Пой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йчук Ирина Иван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а лотоса орехоносного,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а лотоса орехоносного,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 азиатский ямс. Клубни окультуренного ямса достигают 50 кг. Они употребляются в пищу и напоминают по вкусу картоф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 азиатский ямс. Клубни окультуренного ямса достигают 50 кг. Они употребляются в пищу и напоминают по вкусу картоф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 эвкалипт царственный (известны два самых высоких экземпляра: 99,4 м и 98,1 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 эвкалипт царственный (известны два самых высоких экземпляра: 99,4 м и 98,1 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верблюжья колючка. Она выносит температуру до +70 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верблюжья колючка. Она выносит температуру до +70 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 листоколосник съедобный,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 листоколосник съедобный,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edsovet.su/ шабл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edsovet.su/ шабл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 баобаб - до 49 м в диаметре. Однако диаметр у обычного съедобного европейского каштана, растущего на горе Этна в Сицилии, в 1845 г. был 20,4 м, то есть 64 м в обхвате! Возраст его оценивался в 3600-400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 баобаб - до 49 м в диаметре. Однако диаметр у обычного съедобного европейского каштана, растущего на горе Этна в Сицилии, в 1845 г. был 20,4 м, то есть 64 м в обхвате! Возраст его оценивался в 3600-400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фия бескорневая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фия бескорневая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 корифа зонтичная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 корифа зонтичная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 заразиха. Масса одного семени составляет всего одну стомиллионную долю 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 заразиха. Масса одного семени составляет всего одну стомиллионную долю 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FDF-9283-47CC-A8BE-4584DBA5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A86-4C57-4EF0-81EE-C7FCB070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787-501C-4966-8CA9-CDB73D2A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6467-9C3A-444A-994C-B7B37FC4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126-414E-4C90-8E35-2F48FA4A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DD2-0DE1-4022-AFC1-4875BA2E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1F6-3BC7-430C-B13E-966890D0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656-E787-4B19-8299-59CE2230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230-50BD-44BC-A8DE-535DD1B2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E7C-4D3F-4BFD-A9A1-54637B3A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2CE-D846-48E5-85CA-B0EE43A4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E7A-DDF8-433B-9175-DE438E7D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DA1B-188C-487F-9949-B8523A9B75C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E018-B96A-43CD-A1D8-7734982FA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688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71640" y="5589360"/>
            <a:ext cx="392112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в 6 клас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Пользователь\Desktop\63833722_Orhideya01.jpg"/>
          <p:cNvPicPr/>
          <p:nvPr/>
        </p:nvPicPr>
        <p:blipFill>
          <a:blip r:embed="rId1"/>
          <a:stretch/>
        </p:blipFill>
        <p:spPr>
          <a:xfrm>
            <a:off x="3492360" y="3429000"/>
            <a:ext cx="2522520" cy="20541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908000" y="608040"/>
            <a:ext cx="59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ОБУ СОШ №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. Пойков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инийчук Ирина Ивано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280" y="692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ен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лотоса орехоносного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C:\Users\Пользователь\Desktop\2.jpg"/>
          <p:cNvPicPr/>
          <p:nvPr/>
        </p:nvPicPr>
        <p:blipFill>
          <a:blip r:embed="rId1"/>
          <a:stretch/>
        </p:blipFill>
        <p:spPr>
          <a:xfrm>
            <a:off x="4419720" y="765000"/>
            <a:ext cx="3903480" cy="259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Пользователь\Desktop\lotos-1_large.jpg"/>
          <p:cNvPicPr/>
          <p:nvPr/>
        </p:nvPicPr>
        <p:blipFill>
          <a:blip r:embed="rId2"/>
          <a:stretch/>
        </p:blipFill>
        <p:spPr>
          <a:xfrm>
            <a:off x="5292720" y="3500280"/>
            <a:ext cx="2857680" cy="30862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826920" y="764640"/>
            <a:ext cx="3168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азиатский ямс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лубни окультуренного ямса достигают 50 кг. Они употребляются в пищу и напоминают по вкусу картоф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:\Users\Пользователь\Desktop\Dioscorea-alata-L..jpg"/>
          <p:cNvPicPr/>
          <p:nvPr/>
        </p:nvPicPr>
        <p:blipFill>
          <a:blip r:embed="rId1"/>
          <a:stretch/>
        </p:blipFill>
        <p:spPr>
          <a:xfrm>
            <a:off x="4716360" y="692280"/>
            <a:ext cx="3570480" cy="55450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98100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эвкалипт царственны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известны два самых высоких экземпляра: 99,4 м и 98,1 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C:\Users\Пользователь\Desktop\0_62beb_90072faa_XL.jpg"/>
          <p:cNvPicPr/>
          <p:nvPr/>
        </p:nvPicPr>
        <p:blipFill>
          <a:blip r:embed="rId1"/>
          <a:stretch/>
        </p:blipFill>
        <p:spPr>
          <a:xfrm>
            <a:off x="4356000" y="981000"/>
            <a:ext cx="3940200" cy="48308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6206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ерблюжья колюч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на выносит температуру до +70 °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C:\Users\Пользователь\Desktop\111.jpg"/>
          <p:cNvPicPr/>
          <p:nvPr/>
        </p:nvPicPr>
        <p:blipFill>
          <a:blip r:embed="rId1"/>
          <a:stretch/>
        </p:blipFill>
        <p:spPr>
          <a:xfrm>
            <a:off x="1692360" y="2205000"/>
            <a:ext cx="5832360" cy="38750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:\Users\Пользователь\Desktop\0_970a9_ed952eaf_orig.jpg"/>
          <p:cNvPicPr/>
          <p:nvPr/>
        </p:nvPicPr>
        <p:blipFill>
          <a:blip r:embed="rId1"/>
          <a:stretch/>
        </p:blipFill>
        <p:spPr>
          <a:xfrm>
            <a:off x="1042920" y="2565360"/>
            <a:ext cx="2649600" cy="352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4356000" y="2852640"/>
            <a:ext cx="3705480" cy="2718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4000" y="4221000"/>
            <a:ext cx="77245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листоколосник съедобный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C:\Users\Пользователь\Desktop\Bamboo.jpg"/>
          <p:cNvPicPr/>
          <p:nvPr/>
        </p:nvPicPr>
        <p:blipFill>
          <a:blip r:embed="rId1"/>
          <a:stretch/>
        </p:blipFill>
        <p:spPr>
          <a:xfrm>
            <a:off x="1908000" y="765000"/>
            <a:ext cx="5034240" cy="33354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280" y="170028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C:\Users\Пользователь\Desktop\020.jpg"/>
          <p:cNvPicPr/>
          <p:nvPr/>
        </p:nvPicPr>
        <p:blipFill>
          <a:blip r:embed="rId1"/>
          <a:stretch/>
        </p:blipFill>
        <p:spPr>
          <a:xfrm>
            <a:off x="4284720" y="1989000"/>
            <a:ext cx="3909960" cy="38181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C:\Users\Пользователь\Desktop\ghtojgwywb.png"/>
          <p:cNvPicPr/>
          <p:nvPr/>
        </p:nvPicPr>
        <p:blipFill>
          <a:blip r:embed="rId1"/>
          <a:stretch/>
        </p:blipFill>
        <p:spPr>
          <a:xfrm>
            <a:off x="1979640" y="2924280"/>
            <a:ext cx="5067360" cy="3184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Users\Пользователь\Desktop\878f78b0e235337ddc97ecbb99547438.jpg"/>
          <p:cNvPicPr/>
          <p:nvPr/>
        </p:nvPicPr>
        <p:blipFill>
          <a:blip r:embed="rId1"/>
          <a:stretch/>
        </p:blipFill>
        <p:spPr>
          <a:xfrm>
            <a:off x="2556000" y="3068640"/>
            <a:ext cx="3925800" cy="29462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197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C:\Users\Пользователь\Desktop\Bilimbi.jpg"/>
          <p:cNvPicPr/>
          <p:nvPr/>
        </p:nvPicPr>
        <p:blipFill>
          <a:blip r:embed="rId1"/>
          <a:stretch/>
        </p:blipFill>
        <p:spPr>
          <a:xfrm>
            <a:off x="2124000" y="2708280"/>
            <a:ext cx="4470480" cy="34052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:\Users\Пользователь\Desktop\670.jpg"/>
          <p:cNvPicPr/>
          <p:nvPr/>
        </p:nvPicPr>
        <p:blipFill>
          <a:blip r:embed="rId1"/>
          <a:stretch/>
        </p:blipFill>
        <p:spPr>
          <a:xfrm>
            <a:off x="4572000" y="1773360"/>
            <a:ext cx="3816360" cy="34686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981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C:\Users\Пользователь\Desktop\6.jpg"/>
          <p:cNvPicPr/>
          <p:nvPr/>
        </p:nvPicPr>
        <p:blipFill>
          <a:blip r:embed="rId1"/>
          <a:stretch/>
        </p:blipFill>
        <p:spPr>
          <a:xfrm>
            <a:off x="1258920" y="3141720"/>
            <a:ext cx="6469200" cy="29908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edsovet.su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шабло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C:\Users\Пользователь\Desktop\tree2.gif"/>
          <p:cNvPicPr/>
          <p:nvPr/>
        </p:nvPicPr>
        <p:blipFill>
          <a:blip r:embed="rId1"/>
          <a:stretch/>
        </p:blipFill>
        <p:spPr>
          <a:xfrm>
            <a:off x="4067280" y="1413000"/>
            <a:ext cx="1189080" cy="134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Пользователь\Desktop\gard4-1-1.jpg"/>
          <p:cNvPicPr/>
          <p:nvPr/>
        </p:nvPicPr>
        <p:blipFill>
          <a:blip r:embed="rId2"/>
          <a:stretch/>
        </p:blipFill>
        <p:spPr>
          <a:xfrm>
            <a:off x="5580000" y="1484280"/>
            <a:ext cx="153684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Users\Пользователь\Desktop\medherb038.jpg"/>
          <p:cNvPicPr/>
          <p:nvPr/>
        </p:nvPicPr>
        <p:blipFill>
          <a:blip r:embed="rId3"/>
          <a:stretch/>
        </p:blipFill>
        <p:spPr>
          <a:xfrm>
            <a:off x="7236000" y="1052640"/>
            <a:ext cx="1161720" cy="1662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Users\Пользователь\Desktop\trava1465.png"/>
          <p:cNvPicPr/>
          <p:nvPr/>
        </p:nvPicPr>
        <p:blipFill>
          <a:blip r:embed="rId4"/>
          <a:stretch/>
        </p:blipFill>
        <p:spPr>
          <a:xfrm>
            <a:off x="6156360" y="2997360"/>
            <a:ext cx="2104920" cy="158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C:\Users\Пользователь\Desktop\i (1).jpg"/>
          <p:cNvPicPr/>
          <p:nvPr/>
        </p:nvPicPr>
        <p:blipFill>
          <a:blip r:embed="rId5"/>
          <a:stretch/>
        </p:blipFill>
        <p:spPr>
          <a:xfrm>
            <a:off x="5796000" y="4508640"/>
            <a:ext cx="195264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280" y="4724280"/>
            <a:ext cx="78598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баоба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до 49 м в диаметре. Однако диаметр у обычного съедобного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европейского каштана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стущего на горе Этна в Сицилии, в 1845 г. был 20,4 м, то есть 64 м в обхвате! Возраст его оценивался в 3600-4000 л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Users\Пользователь\Desktop\9.jpg"/>
          <p:cNvPicPr/>
          <p:nvPr/>
        </p:nvPicPr>
        <p:blipFill>
          <a:blip r:embed="rId1"/>
          <a:stretch/>
        </p:blipFill>
        <p:spPr>
          <a:xfrm>
            <a:off x="1547640" y="836640"/>
            <a:ext cx="5962680" cy="3968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ольфия бескорнев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C:\Users\Пользователь\Desktop\volfiya-beskornevaya1.jpg"/>
          <p:cNvPicPr/>
          <p:nvPr/>
        </p:nvPicPr>
        <p:blipFill>
          <a:blip r:embed="rId1"/>
          <a:stretch/>
        </p:blipFill>
        <p:spPr>
          <a:xfrm>
            <a:off x="2050920" y="3141720"/>
            <a:ext cx="4762800" cy="30193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4000" y="162864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корифа зонтич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Users\Пользователь\Desktop\Corypha umbraculifera.JPG"/>
          <p:cNvPicPr/>
          <p:nvPr/>
        </p:nvPicPr>
        <p:blipFill>
          <a:blip r:embed="rId1"/>
          <a:stretch/>
        </p:blipFill>
        <p:spPr>
          <a:xfrm>
            <a:off x="4788000" y="1557360"/>
            <a:ext cx="349236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9280" y="836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заразиха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асса одного семени составляет всего одну стомиллионную долю грам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C:\Users\Пользователь\Desktop\Zarazixa4.JPG"/>
          <p:cNvPicPr/>
          <p:nvPr/>
        </p:nvPicPr>
        <p:blipFill>
          <a:blip r:embed="rId1"/>
          <a:stretch/>
        </p:blipFill>
        <p:spPr>
          <a:xfrm>
            <a:off x="4716360" y="836640"/>
            <a:ext cx="3506760" cy="49244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LEGION</cp:lastModifiedBy>
  <dcterms:modified xsi:type="dcterms:W3CDTF">2015-11-27T10:44:52Z</dcterms:modified>
  <cp:revision>26</cp:revision>
  <dc:subject/>
  <dc:title>Презентация PowerPoint</dc:title>
</cp:coreProperties>
</file>