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9671-BE62-4D62-9987-03A41FD82D9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ытосеменные или цветковые раст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в 6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У СОШ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Пойк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химии и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йчук Ирина Ивано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ытосеменные или цветковые раст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в 6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У СОШ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Пойк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химии и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йчук Ирина Ивано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а лотоса орехоносного, обнаруженные в 1951 г. в Японии, в торфяном болоте на глубине 5,5 м, находились в лодке, принадлежащей человеку каменного века. После извлечения их из торфа они проросли, причем лотосы нормально развивались и цвели. Захоронение этих семян в торфе без доступа кислорода способ­ствовало сохранению их жизнеспособности. Радиоуглеродный анализ показал, что им было не менее 10400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а лотоса орехоносного, обнаруженные в 1951 г. в Японии, в торфяном болоте на глубине 5,5 м, находились в лодке, принадлежащей человеку каменного века. После извлечения их из торфа они проросли, причем лотосы нормально развивались и цвели. Захоронение этих семян в торфе без доступа кислорода способ­ствовало сохранению их жизнеспособности. Радиоуглеродный анализ показал, что им было не менее 10400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крупные клубни (видоизмененные подземные побеги) - у растения азиатский ямс. Клубни окультуренного ямса достигают 50 кг. Они употребляются в пищу и напоминают по вкусу картоф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крупные клубни (видоизмененные подземные побеги) - у растения азиатский ямс. Клубни окультуренного ямса достигают 50 кг. Они употребляются в пищу и напоминают по вкусу картоф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высоким цветковым растением является эвкалипт царственный (известны два самых высоких экземпляра: 99,4 м и 98,1 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высоким цветковым растением является эвкалипт царственный (известны два самых высоких экземпляра: 99,4 м и 98,1 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«жароустойчивым» сухопутным растением является верблюжья колючка. Она выносит температуру до +70 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«жароустойчивым» сухопутным растением является верблюжья колючка. Она выносит температуру до +70 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ги березы и тополя, напротив, отличаются большой холодостойкостью. Они способны выдерживать охлаждение до -196 °С. Черенки черной смородины выдерживают охлаждение до -253 °С, не теряя мосле оттаивания способности к укорен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ги березы и тополя, напротив, отличаются большой холодостойкостью. Они способны выдерживать охлаждение до -196 °С. Черенки черной смородины выдерживают охлаждение до -253 °С, не теряя мосле оттаивания способности к укорен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й большой скоростью роста обладает один из родственников бамбука - злак листоколосник съедобный, в диком виде встречающийся на юге Китая. Ежесуточный прирост побегов этого растения достигает 40 см, то есть оно вырастает на 1,7 см в час. Всего за несколько месяцев злак вырастает на 30-метровую высоту; достигая 50 см в диамет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й большой скоростью роста обладает один из родственников бамбука - злак листоколосник съедобный, в диком виде встречающийся на юге Китая. Ежесуточный прирост побегов этого растения достигает 40 см, то есть оно вырастает на 1,7 см в час. Всего за несколько месяцев злак вырастает на 30-метровую высоту; достигая 50 см в диамет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ивительные деревья. Тюльпанное дерев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цветки напоминают степные тюльпаны, только они зеленоватой окраски с крупным оранжевым пятном у основания. Его родина - восточные штаты Северной Америки, где деревья могут достигать 70 м высоты и до 3,5 м в диаметре. Из древесины изготавливают музыкальные инструменты, используют ее для отделки салонов автомобилей. Кора обладает лекарственными свой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ивительные деревья. Тюльпанное дерев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цветки напоминают степные тюльпаны, только они зеленоватой окраски с крупным оранжевым пятном у основания. Его родина - восточные штаты Северной Америки, где деревья могут достигать 70 м высоты и до 3,5 м в диаметре. Из древесины изготавливают музыкальные инструменты, используют ее для отделки салонов автомобилей. Кора обладает лекарственными свой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етное дер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его ветках растут «конфетки» - веточки-плодоножки коричневого цвета, причудливо изогнутые, чуть тоньше карандаша. Они содержат до 40 % фруктозы, очень сладкие и по вкусу близки к изюму. Настоящие же плоды конфетного дерева мелкие и жест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етное дер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его ветках растут «конфетки» - веточки-плодоножки коричневого цвета, причудливо изогнутые, чуть тоньше карандаша. Они содержат до 40 % фруктозы, очень сладкие и по вкусу близки к изюму. Настоящие же плоды конфетного дерева мелкие и жест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ничное дер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лоды внешне действительно напоминают плоды земляники - они ярко- красные, с мелкобугорчатой поверхностью. Плоды земляничного дерева съедобны, они сочные и сладкие. Из них готовят варенье, вино, лик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ничное дер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лоды внешне действительно напоминают плоды земляники - они ярко- красные, с мелкобугорчатой поверхностью. Плоды земляничного дерева съедобны, они сочные и сладкие. Из них готовят варенье, вино, лик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уречное дер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тельно является родственником настоящего огурца, тыквы и т. д. Это единственное древесное растение в семействе. Произрастает огуречное дерево на затерянном в Индийском океане острове Сокотра у восточного побережья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уречное дер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тельно является родственником настоящего огурца, тыквы и т. д. Это единственное древесное растение в семействе. Произрастает огуречное дерево на затерянном в Индийском океане острове Сокотра у восточного побережья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следующих орга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ень, побег, цветок, плод с сем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органы разнообразны по строению и выполняемым фун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пособительные признаки покрытосеменных вырабатывались многие тысячелетия под влиянием различных условий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следующих орга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ень, побег, цветок, плод с сем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органы разнообразны по строению и выполняемым фун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пособительные признаки покрытосеменных вырабатывались многие тысячелетия под влиянием различных условий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ые дере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ут в Южной Америке, они выделяют млечный сок. Сок содержит воду, растительный воск, сахар, немного смол. Он более густой и вязкий, чем настоящее молоко, обладает бальзамическим ароматом. «Молоко» не портится в течение педели даже в тропиках, хорошо смешивается с водой, не сворачивается. Местное население использует его в качестве заменителя коровьего молока, называя растение деревом-ко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ые дере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ут в Южной Америке, они выделяют млечный сок. Сок содержит воду, растительный воск, сахар, немного смол. Он более густой и вязкий, чем настоящее молоко, обладает бальзамическим ароматом. «Молоко» не портится в течение педели даже в тропиках, хорошо смешивается с водой, не сворачивается. Местное население использует его в качестве заменителя коровьего молока, называя растение деревом-ко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изучен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растения называют покрытосемен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их называют цветков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они занимают господствующее положение на Земл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крытосеменные приспособлены к условиям обит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в жизни человека играют эти раст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изучен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растения называют покрытосемен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их называют цветков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они занимают господствующее положение на Земл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крытосеменные приспособлены к условиям обит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в жизни человека играют эти раст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§ 17; вопросы в конце параграф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§ 17; вопросы в конце параграф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 для 6 класса "Биология: Бактерии. Грибы. Растения" , М.: Дрофа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Е. Буяло, Т.М. Васютина «Уроки биологии» пособие для учителя «Учебная книга» – Бог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edsovet.su/ шабл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декс - карти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 для 6 класса "Биология: Бактерии. Грибы. Растения" , М.: Дрофа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Е. Буяло, Т.М. Васютина «Уроки биологии» пособие для учителя «Учебная книга» – Бог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edsovet.su/ шабл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декс - карти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покрытосеменные имеют цветок, из которого образуется плод с семенами. Плод покрывает семена, защищая их от неблагоприятных условий, поэтому растения и назвали покрытосем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хорошо развитых органов: корня и побега (стебля, листьев); наблюдается большое разнообразие этих органов по строению и выполняемым фун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а хорошо развитая проводящая система, обеспечивающая быстрое передвижение веществ в раст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е только семенное, но и вегетативное размножение, что обеспечивает их быстрое распростра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покрытосеменные имеют цветок, из которого образуется плод с семенами. Плод покрывает семена, защищая их от неблагоприятных условий, поэтому растения и назвали покрытосем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хорошо развитых органов: корня и побега (стебля, листьев); наблюдается большое разнообразие этих органов по строению и выполняемым фун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а хорошо развитая проводящая система, обеспечивающая быстрое передвижение веществ в раст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е только семенное, но и вегетативное размножение, что обеспечивает их быстрое распростра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ые формы расте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жизненная форма» в отношении растений был предложен в 80-х гг. прошлого века датским ботаником Варминг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минг подразумевал под понятием жизненная форма «...форму, в которой вегетативное тело растения находится в гармонии с внешней средой в течение всей его жизни, от семени до отмир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ые формы расте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жизненная форма» в отношении растений был предложен в 80-х гг. прошлого века датским ботаником Варминг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минг подразумевал под понятием жизненная форма «...форму, в которой вегетативное тело растения находится в гармонии с внешней средой в течение всей его жизни, от семени до отмир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жизненных форм растений по Серебряк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есные раст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ь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рн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рни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емные трав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летние травы, цветут много раз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летние трав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живут один год или несколько л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ут один раз и отмираю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жизненных форм растений по Серебряк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есные раст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ь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рн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рни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емные трав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летние травы, цветут много раз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летние трав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живут один год или несколько л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ут один раз и отмираю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рды растительно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«толстым» деревом считается африканский баобаб - до 49 м в диаметре. Однако диаметр у обычного съедобного европейского каштана, растущего на горе Этна в Сицилии, в 1845 г. был 20,4 м, то есть 64 м в обхвате! Возраст его оценивался в 3600-4000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рды растительно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«толстым» деревом считается африканский баобаб - до 49 м в диаметре. Однако диаметр у обычного съедобного европейского каштана, растущего на горе Этна в Сицилии, в 1845 г. был 20,4 м, то есть 64 м в обхвате! Возраст его оценивался в 3600-4000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маленькое цветковое растение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ьфия бескорневая (семейство Рясковые), встречающаяся в пресных водоемах Австралии и тропиках Старого Света. Крошечный листочек вольфии имеет диаметр 0,5-2 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маленькое цветковое растение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ьфия бескорневая (семейство Рясковые), встречающаяся в пресных водоемах Австралии и тропиках Старого Света. Крошечный листочек вольфии имеет диаметр 0,5-2 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крупные соцве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и крупными соцветиями обладает пальма корифа зонтичная, растущая в Юго-Восточной Азии и на острове Шри-Ланка. Высота её соцветия достигает 6 м, а число цветков в соцветии - полумилл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крупные соцве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и крупными соцветиями обладает пальма корифа зонтичная, растущая в Юго-Восточной Азии и на острове Шри-Ланка. Высота её соцветия достигает 6 м, а число цветков в соцветии - полумилл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мелкие среди цветковых растений семена имеет парази- тическое растение заразиха. Масса одного семени составляет всего одну стомиллионную долю грам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мелкие среди цветковых растений семена имеет парази- тическое растение заразиха. Масса одного семени составляет всего одну стомиллионную долю грам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915A-F804-4803-A035-75276A18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D474-601F-4748-AD95-B2AE2AC3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A6A7-929D-4D96-83B9-1AD25428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161F-C1B7-4FD1-8A1B-B598042A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FAE1-5AD0-4412-BE73-B97B5CB8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9F5D-A187-4E30-B9AE-C6E081A9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0EFE-555F-4E04-9722-3A307CF7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419-C4E7-40D1-BB2B-9C56A476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C608-6CAF-4637-8F09-1BADD32A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2E0C-4006-4F23-96E5-0D419D3B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AEB0-197C-4E40-8506-ABA047F7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CB61-1684-4859-AEDA-B1104C6B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DE73-1F9E-424C-BC4A-44104C9FAB7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7E94-721D-477F-BFEC-B64CF0016A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edsovet.s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6880" y="195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крытосеменные или цветковые раст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71640" y="5589360"/>
            <a:ext cx="392112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рок в 6 клас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Users\Пользователь\Desktop\63833722_Orhideya01.jpg"/>
          <p:cNvPicPr/>
          <p:nvPr/>
        </p:nvPicPr>
        <p:blipFill>
          <a:blip r:embed="rId1"/>
          <a:stretch/>
        </p:blipFill>
        <p:spPr>
          <a:xfrm>
            <a:off x="3492360" y="3429000"/>
            <a:ext cx="2522520" cy="20541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1908000" y="608040"/>
            <a:ext cx="59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МОБУ СОШ №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. Пойков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Учитель химии и би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инийчук Ирина Иванов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39280" y="692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мен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лотоса орехоносного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бнаруженные в 1951 г. в Японии, в торфяном болоте на глубине 5,5 м, находились в лодке, принадлежащей человеку каменного века. После извлечения их из торфа они проросли, причем лотосы нормально развивались и цвели. Захоронение этих семян в торфе без доступа кислорода способ­ствовало сохранению их жизнеспособности. Радиоуглеродный анализ показал, что им было не менее 10400 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C:\Users\Пользователь\Desktop\2.jpg"/>
          <p:cNvPicPr/>
          <p:nvPr/>
        </p:nvPicPr>
        <p:blipFill>
          <a:blip r:embed="rId1"/>
          <a:stretch/>
        </p:blipFill>
        <p:spPr>
          <a:xfrm>
            <a:off x="4419720" y="765000"/>
            <a:ext cx="3903480" cy="2592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Пользователь\Desktop\lotos-1_large.jpg"/>
          <p:cNvPicPr/>
          <p:nvPr/>
        </p:nvPicPr>
        <p:blipFill>
          <a:blip r:embed="rId2"/>
          <a:stretch/>
        </p:blipFill>
        <p:spPr>
          <a:xfrm>
            <a:off x="5292720" y="3500280"/>
            <a:ext cx="2857680" cy="30862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826920" y="764640"/>
            <a:ext cx="3168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е крупные клубни (видоизмененные подземные побеги) - у растения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азиатский ямс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лубни окультуренного ямса достигают 50 кг. Они употребляются в пищу и напоминают по вкусу картофе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C:\Users\Пользователь\Desktop\Dioscorea-alata-L..jpg"/>
          <p:cNvPicPr/>
          <p:nvPr/>
        </p:nvPicPr>
        <p:blipFill>
          <a:blip r:embed="rId1"/>
          <a:stretch/>
        </p:blipFill>
        <p:spPr>
          <a:xfrm>
            <a:off x="4716360" y="692280"/>
            <a:ext cx="3570480" cy="55450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11280" y="98100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ым высоким цветковым растением является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эвкалипт царственны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известны два самых высоких экземпляра: 99,4 м и 98,1 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C:\Users\Пользователь\Desktop\0_62beb_90072faa_XL.jpg"/>
          <p:cNvPicPr/>
          <p:nvPr/>
        </p:nvPicPr>
        <p:blipFill>
          <a:blip r:embed="rId1"/>
          <a:stretch/>
        </p:blipFill>
        <p:spPr>
          <a:xfrm>
            <a:off x="4356000" y="981000"/>
            <a:ext cx="3940200" cy="48308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6206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ым «жароустойчивым» сухопутным растением является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ерблюжья колючк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на выносит температуру до +70 °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C:\Users\Пользователь\Desktop\111.jpg"/>
          <p:cNvPicPr/>
          <p:nvPr/>
        </p:nvPicPr>
        <p:blipFill>
          <a:blip r:embed="rId1"/>
          <a:stretch/>
        </p:blipFill>
        <p:spPr>
          <a:xfrm>
            <a:off x="1692360" y="2205000"/>
            <a:ext cx="5832360" cy="38750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ги березы и тополя, напротив, отличаются большой холодостойкостью. Они способны выдерживать охлаждение до -196 °С. Черенки черной смородины выдерживают охлаждение до -253 °С, не теряя мосле оттаивания способности к укоренен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C:\Users\Пользователь\Desktop\0_970a9_ed952eaf_orig.jpg"/>
          <p:cNvPicPr/>
          <p:nvPr/>
        </p:nvPicPr>
        <p:blipFill>
          <a:blip r:embed="rId1"/>
          <a:stretch/>
        </p:blipFill>
        <p:spPr>
          <a:xfrm>
            <a:off x="1042920" y="2565360"/>
            <a:ext cx="2649600" cy="3527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4356000" y="2852640"/>
            <a:ext cx="3705480" cy="2718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4000" y="4221000"/>
            <a:ext cx="77245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ой большой скоростью роста обладает один из родственников бамбука - злак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листоколосник съедобный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 диком виде встречающийся на юге Китая. Ежесуточный прирост побегов этого растения достигает 40 см, то есть оно вырастает на 1,7 см в час. Всего за несколько месяцев злак вырастает на 30-метровую высоту; достигая 50 см в диамет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C:\Users\Пользователь\Desktop\Bamboo.jpg"/>
          <p:cNvPicPr/>
          <p:nvPr/>
        </p:nvPicPr>
        <p:blipFill>
          <a:blip r:embed="rId1"/>
          <a:stretch/>
        </p:blipFill>
        <p:spPr>
          <a:xfrm>
            <a:off x="1908000" y="765000"/>
            <a:ext cx="5034240" cy="33354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Удивительные деревья. Тюльпанное дерево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9280" y="170028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го цветки напоминают степные тюльпаны, только они зеленоватой окраски с крупным оранжевым пятном у основания. Его родина - восточные штаты Северной Америки, где деревья могут достигать 70 м высоты и до 3,5 м в диаметре. Из древесины изготавливают музыкальные инструменты, используют ее для отделки салонов автомобилей. Кора обладает лекарственными свойств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C:\Users\Пользователь\Desktop\020.jpg"/>
          <p:cNvPicPr/>
          <p:nvPr/>
        </p:nvPicPr>
        <p:blipFill>
          <a:blip r:embed="rId1"/>
          <a:stretch/>
        </p:blipFill>
        <p:spPr>
          <a:xfrm>
            <a:off x="4284720" y="1989000"/>
            <a:ext cx="3909960" cy="38181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Конфетное дерев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его ветках растут «конфетки» - веточки-плодоножки коричневого цвета, причудливо изогнутые, чуть тоньше карандаша. Они содержат до 40 % фруктозы, очень сладкие и по вкусу близки к изюму. Настоящие же плоды конфетного дерева мелкие и жестк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C:\Users\Пользователь\Desktop\ghtojgwywb.png"/>
          <p:cNvPicPr/>
          <p:nvPr/>
        </p:nvPicPr>
        <p:blipFill>
          <a:blip r:embed="rId1"/>
          <a:stretch/>
        </p:blipFill>
        <p:spPr>
          <a:xfrm>
            <a:off x="1979640" y="2924280"/>
            <a:ext cx="5067360" cy="31845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Земляничное дере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го плоды внешне действительно напоминают плоды земляники - они ярко- красные, с мелкобугорчатой поверхностью. Плоды земляничного дерева съедобны, они сочные и сладкие. Из них готовят варенье, вино, лике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C:\Users\Пользователь\Desktop\878f78b0e235337ddc97ecbb99547438.jpg"/>
          <p:cNvPicPr/>
          <p:nvPr/>
        </p:nvPicPr>
        <p:blipFill>
          <a:blip r:embed="rId1"/>
          <a:stretch/>
        </p:blipFill>
        <p:spPr>
          <a:xfrm>
            <a:off x="2556000" y="3068640"/>
            <a:ext cx="3925800" cy="29462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Огуречное дерев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1970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йствительно является родственником настоящего огурца, тыквы и т. д. Это единственное древесное растение в семействе. Произрастает огуречное дерево на затерянном в Индийском океане острове Сокотра у восточного побережья Афри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C:\Users\Пользователь\Desktop\Bilimbi.jpg"/>
          <p:cNvPicPr/>
          <p:nvPr/>
        </p:nvPicPr>
        <p:blipFill>
          <a:blip r:embed="rId1"/>
          <a:stretch/>
        </p:blipFill>
        <p:spPr>
          <a:xfrm>
            <a:off x="2124000" y="2708280"/>
            <a:ext cx="4470480" cy="34052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следующих орган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ень, побег, цветок, плод с семен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и органы разнообразны по строению и выполняемым функци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способительные признаки покрытосеменных вырабатывались многие тысячелетия под влиянием различных условий сред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C:\Users\Пользователь\Desktop\670.jpg"/>
          <p:cNvPicPr/>
          <p:nvPr/>
        </p:nvPicPr>
        <p:blipFill>
          <a:blip r:embed="rId1"/>
          <a:stretch/>
        </p:blipFill>
        <p:spPr>
          <a:xfrm>
            <a:off x="4572000" y="1773360"/>
            <a:ext cx="3816360" cy="346860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Молочные деревь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9640" y="981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тут в Южной Америке, они выделяют млечный сок. Сок содержит воду, растительный воск, сахар, немного смол. Он более густой и вязкий, чем настоящее молоко, обладает бальзамическим ароматом. «Молоко» не портится в течение педели даже в тропиках, хорошо смешивается с водой, не сворачивается. Местное население использует его в качестве заменителя коровьего молока, называя растение деревом-коров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C:\Users\Пользователь\Desktop\6.jpg"/>
          <p:cNvPicPr/>
          <p:nvPr/>
        </p:nvPicPr>
        <p:blipFill>
          <a:blip r:embed="rId1"/>
          <a:stretch/>
        </p:blipFill>
        <p:spPr>
          <a:xfrm>
            <a:off x="1258920" y="3141720"/>
            <a:ext cx="6469200" cy="29908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крепление изученног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растения называют покрытосеменны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их называют цветковы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они занимают господствующее положение на Зем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покрытосеменные приспособлены к условиям обита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ую роль в жизни человека играют эти раст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машнее задание: § 17; вопросы в конце параграф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ик для 6 класса "Биология: Бактерии. Грибы. Растения" , М.: Дрофа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.Е. Буяло, Т.М. Васютина «Уроки биологии» пособие для учителя «Учебная книга» – Богда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edsovet.su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шабло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ндекс - картин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лько покрытосеменные имеют цветок, из которого образуется плод с семенами. Плод покрывает семена, защищая их от неблагоприятных условий, поэтому растения и назвали покрытосеменны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хорошо развитых органов: корня и побега (стебля, листьев); наблюдается большое разнообразие этих органов по строению и выполняемым функци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а хорошо развитая проводящая система, обеспечивающая быстрое передвижение веществ в расте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е только семенное, но и вегетативное размножение, что обеспечивает их быстрое распростран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Жизненные формы растени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рмин «жизненная форма» в отношении растений был предложен в 80-х гг. прошлого века датским ботаником Варминг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рминг подразумевал под понятием жизненная форма «...форму, в которой вегетативное тело растения находится в гармонии с внешней средой в течение всей его жизни, от семени до отмирани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ификация жизненных форм растений по Серебряко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евесные раст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ревь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старник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старнич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земные трав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олетние травы, цветут много раз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олетние трав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живут один год или несколько лет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ветут один раз и отмираю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C:\Users\Пользователь\Desktop\tree2.gif"/>
          <p:cNvPicPr/>
          <p:nvPr/>
        </p:nvPicPr>
        <p:blipFill>
          <a:blip r:embed="rId1"/>
          <a:stretch/>
        </p:blipFill>
        <p:spPr>
          <a:xfrm>
            <a:off x="4067280" y="1413000"/>
            <a:ext cx="1189080" cy="134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Users\Пользователь\Desktop\gard4-1-1.jpg"/>
          <p:cNvPicPr/>
          <p:nvPr/>
        </p:nvPicPr>
        <p:blipFill>
          <a:blip r:embed="rId2"/>
          <a:stretch/>
        </p:blipFill>
        <p:spPr>
          <a:xfrm>
            <a:off x="5580000" y="1484280"/>
            <a:ext cx="1536840" cy="1152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C:\Users\Пользователь\Desktop\medherb038.jpg"/>
          <p:cNvPicPr/>
          <p:nvPr/>
        </p:nvPicPr>
        <p:blipFill>
          <a:blip r:embed="rId3"/>
          <a:stretch/>
        </p:blipFill>
        <p:spPr>
          <a:xfrm>
            <a:off x="7236000" y="1052640"/>
            <a:ext cx="1161720" cy="1662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C:\Users\Пользователь\Desktop\trava1465.png"/>
          <p:cNvPicPr/>
          <p:nvPr/>
        </p:nvPicPr>
        <p:blipFill>
          <a:blip r:embed="rId4"/>
          <a:stretch/>
        </p:blipFill>
        <p:spPr>
          <a:xfrm>
            <a:off x="6156360" y="2997360"/>
            <a:ext cx="2104920" cy="1587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C:\Users\Пользователь\Desktop\i (1).jpg"/>
          <p:cNvPicPr/>
          <p:nvPr/>
        </p:nvPicPr>
        <p:blipFill>
          <a:blip r:embed="rId5"/>
          <a:stretch/>
        </p:blipFill>
        <p:spPr>
          <a:xfrm>
            <a:off x="5796000" y="4508640"/>
            <a:ext cx="1952640" cy="14284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10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Рекорды растительного ми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280" y="4724280"/>
            <a:ext cx="785988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«толстым» деревом считается африканский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баобаб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до 49 м в диаметре. Однако диаметр у обычного съедобного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европейского каштана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астущего на горе Этна в Сицилии, в 1845 г. был 20,4 м, то есть 64 м в обхвате! Возраст его оценивался в 3600-4000 л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C:\Users\Пользователь\Desktop\9.jpg"/>
          <p:cNvPicPr/>
          <p:nvPr/>
        </p:nvPicPr>
        <p:blipFill>
          <a:blip r:embed="rId1"/>
          <a:stretch/>
        </p:blipFill>
        <p:spPr>
          <a:xfrm>
            <a:off x="1547640" y="836640"/>
            <a:ext cx="5962680" cy="3968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е маленькое цветковое растение на Земл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ольфия бескорнев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семейство Рясковые), встречающаяся в пресных водоемах Австралии и тропиках Старого Света. Крошечный листочек вольфии имеет диаметр 0,5-2 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C:\Users\Пользователь\Desktop\volfiya-beskornevaya1.jpg"/>
          <p:cNvPicPr/>
          <p:nvPr/>
        </p:nvPicPr>
        <p:blipFill>
          <a:blip r:embed="rId1"/>
          <a:stretch/>
        </p:blipFill>
        <p:spPr>
          <a:xfrm>
            <a:off x="2050920" y="3141720"/>
            <a:ext cx="4762800" cy="30193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ые крупные соцветия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4000" y="1628640"/>
            <a:ext cx="382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ми крупными соцветиями обладает пальм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корифа зонтичн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растущая в Юго-Восточной Азии и на острове Шри-Ланка. Высота её соцветия достигает 6 м, а число цветков в соцветии - полумилли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C:\Users\Пользователь\Desktop\Corypha umbraculifera.JPG"/>
          <p:cNvPicPr/>
          <p:nvPr/>
        </p:nvPicPr>
        <p:blipFill>
          <a:blip r:embed="rId1"/>
          <a:stretch/>
        </p:blipFill>
        <p:spPr>
          <a:xfrm>
            <a:off x="4788000" y="1557360"/>
            <a:ext cx="3492360" cy="45720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9280" y="836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ые мелкие среди цветковых растений семена имеет парази- тическое растение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заразиха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асса одного семени составляет всего одну стомиллионную долю грам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C:\Users\Пользователь\Desktop\Zarazixa4.JPG"/>
          <p:cNvPicPr/>
          <p:nvPr/>
        </p:nvPicPr>
        <p:blipFill>
          <a:blip r:embed="rId1"/>
          <a:stretch/>
        </p:blipFill>
        <p:spPr>
          <a:xfrm>
            <a:off x="4716360" y="836640"/>
            <a:ext cx="3506760" cy="49244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LEGION</cp:lastModifiedBy>
  <dcterms:modified xsi:type="dcterms:W3CDTF">2015-11-27T10:44:52Z</dcterms:modified>
  <cp:revision>26</cp:revision>
  <dc:subject/>
  <dc:title>Презентация PowerPoint</dc:title>
</cp:coreProperties>
</file>