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5F6C-3F22-4507-8961-E888F461126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7DE-0AAD-4BB9-8D29-BCDE06A1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DB7-FC87-4988-ADB3-6E1C441E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341-3D99-4597-826A-E70B34A6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4F5-ACBF-429B-8CE3-6BA818E6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587-035B-446C-9DEB-1AA17DD7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E3E-0A74-44FD-8257-C25DBACC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2AB-7617-4C37-9BDC-D5F03657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C12-156D-432C-85E5-1113DA29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D8F-3861-4481-98ED-C5696704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F84-CC1B-4F55-8B65-28027B2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B0B-B194-4095-9733-0300B78B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8DF-D17D-49CC-9A87-1D45DAE4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4F4F-386E-4C5F-AB5C-CF45D65CD3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FFD4-2C7F-4F2C-BA08-04EBA4AAA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688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640" y="5589360"/>
            <a:ext cx="39211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6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Пользователь\Desktop\63833722_Orhideya01.jpg"/>
          <p:cNvPicPr/>
          <p:nvPr/>
        </p:nvPicPr>
        <p:blipFill>
          <a:blip r:embed="rId1"/>
          <a:stretch/>
        </p:blipFill>
        <p:spPr>
          <a:xfrm>
            <a:off x="3492360" y="3429000"/>
            <a:ext cx="2522520" cy="2054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8000" y="60804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БУ СОШ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. Пой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йчук Ирина Ива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28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н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отоса орехоносног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Пользователь\Desktop\2.jpg"/>
          <p:cNvPicPr/>
          <p:nvPr/>
        </p:nvPicPr>
        <p:blipFill>
          <a:blip r:embed="rId1"/>
          <a:stretch/>
        </p:blipFill>
        <p:spPr>
          <a:xfrm>
            <a:off x="4419720" y="765000"/>
            <a:ext cx="3903480" cy="259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Пользователь\Desktop\lotos-1_large.jpg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764640"/>
            <a:ext cx="31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зиатский ям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лубни окультуренного ямса достигают 50 кг. Они употребляются в пищу и напоминают по вкусу картоф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Пользователь\Desktop\Dioscorea-alata-L..jpg"/>
          <p:cNvPicPr/>
          <p:nvPr/>
        </p:nvPicPr>
        <p:blipFill>
          <a:blip r:embed="rId1"/>
          <a:stretch/>
        </p:blipFill>
        <p:spPr>
          <a:xfrm>
            <a:off x="4716360" y="692280"/>
            <a:ext cx="3570480" cy="5545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9810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эвкалипт цар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вестны два самых высоких экземпляра: 99,4 м и 98,1 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esktop\0_62beb_90072faa_XL.jpg"/>
          <p:cNvPicPr/>
          <p:nvPr/>
        </p:nvPicPr>
        <p:blipFill>
          <a:blip r:embed="rId1"/>
          <a:stretch/>
        </p:blipFill>
        <p:spPr>
          <a:xfrm>
            <a:off x="4356000" y="981000"/>
            <a:ext cx="3940200" cy="4830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ерблюжья колюч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а выносит температуру до +70 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Пользователь\Desktop\0_970a9_ed952eaf_orig.jpg"/>
          <p:cNvPicPr/>
          <p:nvPr/>
        </p:nvPicPr>
        <p:blipFill>
          <a:blip r:embed="rId1"/>
          <a:stretch/>
        </p:blipFill>
        <p:spPr>
          <a:xfrm>
            <a:off x="1042920" y="2565360"/>
            <a:ext cx="2649600" cy="35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3705480" cy="271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4000" y="4221000"/>
            <a:ext cx="7724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истоколосник съедобн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Пользователь\Desktop\Bamboo.jpg"/>
          <p:cNvPicPr/>
          <p:nvPr/>
        </p:nvPicPr>
        <p:blipFill>
          <a:blip r:embed="rId1"/>
          <a:stretch/>
        </p:blipFill>
        <p:spPr>
          <a:xfrm>
            <a:off x="1908000" y="765000"/>
            <a:ext cx="5034240" cy="3335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70028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Users\Пользователь\Desktop\020.jpg"/>
          <p:cNvPicPr/>
          <p:nvPr/>
        </p:nvPicPr>
        <p:blipFill>
          <a:blip r:embed="rId1"/>
          <a:stretch/>
        </p:blipFill>
        <p:spPr>
          <a:xfrm>
            <a:off x="4284720" y="1989000"/>
            <a:ext cx="3909960" cy="38181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Пользователь\Desktop\ghtojgwywb.png"/>
          <p:cNvPicPr/>
          <p:nvPr/>
        </p:nvPicPr>
        <p:blipFill>
          <a:blip r:embed="rId1"/>
          <a:stretch/>
        </p:blipFill>
        <p:spPr>
          <a:xfrm>
            <a:off x="1979640" y="2924280"/>
            <a:ext cx="5067360" cy="318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Пользователь\Desktop\878f78b0e235337ddc97ecbb99547438.jpg"/>
          <p:cNvPicPr/>
          <p:nvPr/>
        </p:nvPicPr>
        <p:blipFill>
          <a:blip r:embed="rId1"/>
          <a:stretch/>
        </p:blipFill>
        <p:spPr>
          <a:xfrm>
            <a:off x="2556000" y="3068640"/>
            <a:ext cx="392580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Пользователь\Desktop\Bilimbi.jpg"/>
          <p:cNvPicPr/>
          <p:nvPr/>
        </p:nvPicPr>
        <p:blipFill>
          <a:blip r:embed="rId1"/>
          <a:stretch/>
        </p:blipFill>
        <p:spPr>
          <a:xfrm>
            <a:off x="2124000" y="2708280"/>
            <a:ext cx="4470480" cy="34052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Пользователь\Desktop\670.jpg"/>
          <p:cNvPicPr/>
          <p:nvPr/>
        </p:nvPicPr>
        <p:blipFill>
          <a:blip r:embed="rId1"/>
          <a:stretch/>
        </p:blipFill>
        <p:spPr>
          <a:xfrm>
            <a:off x="4572000" y="1773360"/>
            <a:ext cx="3816360" cy="3468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Пользователь\Desktop\6.jpg"/>
          <p:cNvPicPr/>
          <p:nvPr/>
        </p:nvPicPr>
        <p:blipFill>
          <a:blip r:embed="rId1"/>
          <a:stretch/>
        </p:blipFill>
        <p:spPr>
          <a:xfrm>
            <a:off x="1258920" y="3141720"/>
            <a:ext cx="6469200" cy="2990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шабло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Пользователь\Desktop\tree2.gif"/>
          <p:cNvPicPr/>
          <p:nvPr/>
        </p:nvPicPr>
        <p:blipFill>
          <a:blip r:embed="rId1"/>
          <a:stretch/>
        </p:blipFill>
        <p:spPr>
          <a:xfrm>
            <a:off x="4067280" y="1413000"/>
            <a:ext cx="1189080" cy="134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Пользователь\Desktop\gard4-1-1.jpg"/>
          <p:cNvPicPr/>
          <p:nvPr/>
        </p:nvPicPr>
        <p:blipFill>
          <a:blip r:embed="rId2"/>
          <a:stretch/>
        </p:blipFill>
        <p:spPr>
          <a:xfrm>
            <a:off x="5580000" y="1484280"/>
            <a:ext cx="153684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Пользователь\Desktop\medherb038.jpg"/>
          <p:cNvPicPr/>
          <p:nvPr/>
        </p:nvPicPr>
        <p:blipFill>
          <a:blip r:embed="rId3"/>
          <a:stretch/>
        </p:blipFill>
        <p:spPr>
          <a:xfrm>
            <a:off x="7236000" y="1052640"/>
            <a:ext cx="1161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Пользователь\Desktop\trava1465.png"/>
          <p:cNvPicPr/>
          <p:nvPr/>
        </p:nvPicPr>
        <p:blipFill>
          <a:blip r:embed="rId4"/>
          <a:stretch/>
        </p:blipFill>
        <p:spPr>
          <a:xfrm>
            <a:off x="6156360" y="2997360"/>
            <a:ext cx="2104920" cy="15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Пользователь\Desktop\i (1).jpg"/>
          <p:cNvPicPr/>
          <p:nvPr/>
        </p:nvPicPr>
        <p:blipFill>
          <a:blip r:embed="rId5"/>
          <a:stretch/>
        </p:blipFill>
        <p:spPr>
          <a:xfrm>
            <a:off x="5796000" y="4508640"/>
            <a:ext cx="195264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4724280"/>
            <a:ext cx="7859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баоба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о 49 м в диаметре. Однако диаметр у обычного съедобног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европейского каштана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тущего на горе Этна в Сицилии, в 1845 г. был 20,4 м, то есть 64 м в обхвате! Возраст его оценивался в 3600-40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1547640" y="836640"/>
            <a:ext cx="5962680" cy="3968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ьфия бескорнев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:\Users\Пользователь\Desktop\volfiya-beskornevaya1.jpg"/>
          <p:cNvPicPr/>
          <p:nvPr/>
        </p:nvPicPr>
        <p:blipFill>
          <a:blip r:embed="rId1"/>
          <a:stretch/>
        </p:blipFill>
        <p:spPr>
          <a:xfrm>
            <a:off x="2050920" y="3141720"/>
            <a:ext cx="4762800" cy="30193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62864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рифа зонт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ользователь\Desktop\Corypha umbraculifera.JPG"/>
          <p:cNvPicPr/>
          <p:nvPr/>
        </p:nvPicPr>
        <p:blipFill>
          <a:blip r:embed="rId1"/>
          <a:stretch/>
        </p:blipFill>
        <p:spPr>
          <a:xfrm>
            <a:off x="4788000" y="1557360"/>
            <a:ext cx="349236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28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заразих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сса одного семени составляет всего одну стомиллионную долю 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Пользователь\Desktop\Zarazixa4.JPG"/>
          <p:cNvPicPr/>
          <p:nvPr/>
        </p:nvPicPr>
        <p:blipFill>
          <a:blip r:embed="rId1"/>
          <a:stretch/>
        </p:blipFill>
        <p:spPr>
          <a:xfrm>
            <a:off x="4716360" y="836640"/>
            <a:ext cx="3506760" cy="492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11-27T10:44:52Z</dcterms:modified>
  <cp:revision>26</cp:revision>
  <dc:subject/>
  <dc:title>Презентация PowerPoint</dc:title>
</cp:coreProperties>
</file>