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2.wmf" ContentType="image/x-wmf"/>
  <Override PartName="/ppt/media/image20.jpeg" ContentType="image/jpe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18.wmf" ContentType="image/x-wmf"/>
  <Override PartName="/ppt/media/image36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13.wmf" ContentType="image/x-wmf"/>
  <Override PartName="/ppt/media/image5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0ACDF2-B75A-4FBD-B565-39F8BCAE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ешествие  по  страницам Красной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5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утешествие  по  страницам Красной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6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гиб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6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ий  к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7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Гепар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7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Num" idx="7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Лот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дк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7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Желт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едк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7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Амурски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sldNum" idx="7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Мор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7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рав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7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ер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алоизвест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народная  Красная  книга  издана  в  1963 году  и хранится в швейцарском городе Морх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Международная  Красная  книга  издана  в  1963 году  и хранится в швейцарском городе Морх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7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лоновая  черепах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7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ст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езающи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Num" idx="8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ыстр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счезающи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8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8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нежный  бар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8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Фламин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ленные  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лёные  ст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8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сстановленные  ви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лёные 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8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ый  медвед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8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Num" idx="8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Зуб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97 году издана Красная книга Республики Марий 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8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1997 году издана Красная книга Республики Марий Э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ЫЛЬЦЕГОЛОВ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ЕРИН БАШМАЧ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ТРЫШНИК ШЛЕМ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8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ДБОРОДНИК  БЕЗЛИСТ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ЫЛЬЦЕГОЛОВН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ЕНЕРИН БАШМА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ЯТРЫШНИК ШЛЕМ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ОВИК КОРАЛЛОВИ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ДЯНОЙ ОР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Num" idx="9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ЕЖОВИК КОРАЛЛОВИД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ОДЯНОЙ ОРЕ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УХ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НОЙ ЗА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9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ЫХУХО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ЕМЛЯНОЙ ЗА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УРУНД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ЛКА-ЛЕТ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9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НОР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УРУНД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ЫД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ЛКА-ЛЕТЯ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Л - БЕРК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МЕЕ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ЫЙ  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П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9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РЕЛ - БЕРК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МЕЕЯ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РНЫЙ  АИ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ПС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9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9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ранствующий голуб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6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теллерова кор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6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ольшерогий  ол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6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Саблезубый  тиг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6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+mn-ea"/>
              </a:rPr>
              <a:t>Бескрылые  гагар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2F78-29B3-43D0-B230-FB19FE2F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50D-6E7E-40FE-8DBB-26E0F682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1A9-277E-441C-8DE0-4F4A1455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20E-C2A8-4496-AF01-0E38ECE3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0C48-1F3C-4292-9B93-09624439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A825-021C-4684-AB1E-43D37057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C75D-5FA3-42E3-940E-31C22134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BCEC-6185-488E-A4E2-6E0466E3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3D2A-314B-4C70-A700-65D9F9FA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7C86-BD24-4B7F-AE09-63289F88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DD14-63B6-42D9-8590-9FA63237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C31-88F0-4508-8A51-F07D42B2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AFDB-D063-4005-BEF1-7EF19684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E9CA-0B6D-4AD5-9B53-582FBCFE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CC28-74AB-48CC-8AB5-2B7EF3DF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FDC4-491B-4F34-8AFA-96261AEE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56AE-B941-4538-A84D-AF3ABF70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2F96-79C7-476D-9874-28F4A40A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5579-F5CD-47B7-95C1-7F86F26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D5C4-5EB5-4940-93BB-B6D8A86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198F-FF1C-46E4-A5A4-20F4CA46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3CA8-866A-4039-9D19-4CCD006A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B14-1DF5-4332-A903-E981DB7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524AE-D2EA-446D-A4AF-F1372225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00A94-E823-43E7-8599-9070545D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F128A-0EDC-40A9-AB8A-FF469A4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5885C-0081-470B-B1F0-ACEF2D1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0D04-F706-46A2-A5CB-A64C2F2A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A0F3-B40B-4BD3-AA32-B5DF74A7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1E8E-21BA-4867-A606-453717EF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A9E2-902D-41F5-B868-B802DF58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5AFA9-1FA2-4449-B4CE-8474E5D2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DDDA-B0F7-485D-8233-78F35C97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D9D-190C-4169-A352-5E71D0A7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E517E-025E-4C7F-8526-D5EEDC87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BF8A2-1D3C-42F9-9216-CA753D92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85962-D73C-441A-A0BC-D8B2D9B0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0B37-5125-4807-904A-4502ACC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D41DB-D161-48E3-98DB-DFD7C493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264D-4ECD-4B1F-9DD9-404A2BCA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58084-8BDD-4D07-BB1B-BBC52B3D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4F497-B60E-49FC-BEF2-D8303FFE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B1EC-D2D5-4258-B8BA-4B8F72F2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91BC-EF67-4200-AAC8-D8F5DA1C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4F9-C080-4678-8B9C-EF043E65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70EF3-609D-4BB0-8DB9-A2AB6711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84CEF-CC4D-4A25-BA8F-38BCEF86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61C16-91C1-475F-8BE5-E48AA21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D5035-4C77-4B9B-86A1-9CDA2FB6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0B9BD-A5A4-431E-A8EE-57F28B0A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1E882-0C7B-4ED3-8F86-53992E20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0549D-BF74-49D3-92FE-3FBEB1F9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85DD-B859-44D4-84E0-CD2EAAB0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8D4D7-DE9C-43F6-8724-74CF6E91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47E6-710D-4D10-8634-B7650279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43E-268E-4CD1-B3F8-07CE1F4C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2CC8-41EF-43E7-8B50-E5B459A6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9B05-E66C-406D-BA65-93F701B1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C8A2-F14F-46C5-B7CA-E2930AAD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6B619-165F-4575-8C83-BF6B19C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9259B-42A5-4DF2-92F2-8BFC2B2F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6B533-2F4A-4498-BFDC-3870FCDF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DBA1-B5DA-4C42-A4C8-0AF1C3F1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7713-8587-489B-B13C-8E76EDF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DE528-5F8B-4CD2-8980-4FDF3AC4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06714-775B-4AE4-A920-69629EA2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B85-F075-4D87-ABF8-5F05AF8D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56F09-88BA-466B-A055-77765513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1777E-97B6-4C19-B595-C0DAC946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0BF73-966D-4A5A-B65D-D52AAEB8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DE2-FC79-4E74-B299-7365D1C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74E-A722-40D2-8028-9642BBCC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C7C8E1-1343-455F-A59B-1BCE02CA14A0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917960" y="1905120"/>
            <a:ext cx="3927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863A91-6890-4CB8-85F5-37FB1E3C4285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234E9C-5E47-4C80-B4C5-BA1C524D034C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437E3D-0708-426E-B435-124E57FA3E28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505320" y="616680"/>
            <a:ext cx="5028840" cy="3657240"/>
          </a:xfrm>
          <a:prstGeom prst="rect">
            <a:avLst/>
          </a:prstGeom>
          <a:solidFill>
            <a:srgbClr val="ffffff"/>
          </a:solidFill>
          <a:ln w="6480">
            <a:solidFill>
              <a:srgbClr val="f0a22e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авка рисунк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C82E37-EFFB-4E38-9583-103781447099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body"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dt" idx="16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294C4D-DF99-4678-9974-C23CE3148B9A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10&amp;uinfo=sw-1226-sh-612-fw-1001-fh-448-pd-1&amp;rpt=simage&amp;img_url=http://www.mirknig.com/uploads/posts/2012-09/1347870737_krasnaya-kniga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82;&#1072;&#1088;&#1090;&#1080;&#1085;&#1082;&#1072;%20&#1085;&#1072;&#1076;&#1073;&#1086;&#1088;&#1086;&#1076;&#1085;&#1080;&#1082;%20&#1073;&#1077;&#1079;&#1083;&#1080;&#1089;&#1090;&#1085;&#1099;&#1081;&amp;noreask=1&amp;pos=6&amp;rpt=simage&amp;lr=41&amp;uinfo=sw-1226-sh-612-fw-1001-fh-448-pd-1&amp;img_url=http://serpregion.ru/im1/smena/nov/2011/january/redbookmo7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s.yandex.ru/yandsearch?text=&#1082;&#1072;&#1088;&#1090;&#1080;&#1085;&#1082;&#1072;%20&#1087;&#1099;&#1083;&#1100;&#1094;&#1077;&#1075;&#1086;&#1083;&#1086;&#1074;&#1085;&#1080;&#1082;&amp;pos=1&amp;uinfo=sw-1226-sh-612-fw-1001-fh-448-pd-1&amp;rpt=simage&amp;img_url=http://www.vashsad.ua/i/encyclopedia/218_159/9af2L6gE.jpg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images.yandex.ru/yandsearch?p=6&amp;text=&#1082;&#1072;&#1088;&#1090;&#1080;&#1085;&#1082;&#1072;%20&#1050;&#1088;&#1072;&#1089;&#1085;&#1072;&#1103;%20&#1082;&#1085;&#1080;&#1075;&#1072;%20&#1056;&#1077;&#1089;&#1087;&#1091;&#1073;&#1083;&#1080;&#1082;&#1080;%20&#1052;&#1072;&#1088;&#1080;&#1081;%20&#1069;&#1083;&amp;pos=200&amp;uinfo=sw-1226-sh-612-fw-1001-fh-448-pd-1&amp;rpt=simage&amp;img_url=http://img-fotki.yandex.ru/get/5210/pplatner.7b/0_52254_ffeefd18_XL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images.yandex.ru/yandsearch?source=wiz&amp;text=&#1103;&#1090;&#1088;&#1099;&#1096;&#1085;&#1080;&#1082;%20&#1096;&#1083;&#1077;&#1084;&#1086;&#1074;&#1080;&#1076;&#1085;&#1099;&#1081;%20&#1092;&#1086;&#1090;&#1086;&amp;noreask=1&amp;pos=4&amp;rpt=simage&amp;lr=41&amp;uinfo=sw-1226-sh-612-fw-1001-fh-448-pd-1&amp;img_url=http://online-media.uni-marburg.de/biologie/nutzpflanzen/christian_gropp/Bilder/Orchis_militaris.jpg" TargetMode="External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2;&#1072;&#1088;&#1090;&#1080;&#1085;&#1082;&#1072;%20&#1077;&#1078;&#1086;&#1074;&#1080;&#1082;%20&#1082;&#1086;&#1088;&#1072;&#1083;&#1083;&#1086;&#1074;&#1080;&#1076;&#1085;&#1099;&#1081;&amp;pos=55&amp;uinfo=sw-1226-sh-612-fw-1001-fh-448-pd-1&amp;rpt=simage&amp;img_url=http://les-altai.narod.ru/images/4344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ages.yandex.ru/yandsearch?text=&#1082;&#1072;&#1088;&#1090;&#1080;&#1085;&#1082;&#1072;%20&#1074;&#1086;&#1076;&#1103;&#1085;&#1086;&#1081;%20&#1086;&#1088;&#1077;&#1093;&amp;pos=4&amp;uinfo=sw-1226-sh-612-fw-1001-fh-448-pd-1&amp;rpt=simage&amp;img_url=http://www.stihi.ru/pics/2013/07/18/7708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4;&#1099;&#1093;&#1091;&#1093;&#1086;&#1083;&#1100;&amp;pos=5&amp;uinfo=sw-1226-sh-612-fw-1001-fh-448-pd-1&amp;rpt=simage&amp;img_url=http://pit.dirty.ru/d3/1/2006/06/08/9849-112008-e944f004ebb647a08fbe050b74b8a391.jpg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yandex.ru/yandsearch?text=&#1082;&#1072;&#1088;&#1090;&#1080;&#1085;&#1082;&#1072;%20&#1079;&#1077;&#1084;&#1083;&#1103;&#1085;&#1086;&#1081;%20&#1079;&#1072;&#1103;&#1094;&amp;pos=0&amp;uinfo=sw-1226-sh-612-fw-1001-fh-448-pd-1&amp;rpt=simage&amp;img_url=http://club.foto.ru/gallery/images/photo/2010/08/07/1612930.jpg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64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77;&#1074;&#1088;&#1086;&#1087;&#1077;&#1081;&#1089;&#1082;&#1072;&#1103;%20&#1085;&#1086;&#1088;&#1082;&#1072;&amp;pos=3&amp;uinfo=sw-1226-sh-612-fw-1001-fh-448-pd-1&amp;rpt=simage&amp;img_url=http://www.zooclub.ru/attach/wild/461.jpg" TargetMode="External"/><Relationship Id="rId2" Type="http://schemas.openxmlformats.org/officeDocument/2006/relationships/image" Target="../media/image42.jpeg"/><Relationship Id="rId3" Type="http://schemas.openxmlformats.org/officeDocument/2006/relationships/hyperlink" Target="http://images.yandex.ru/yandsearch?text=&#1082;&#1072;&#1088;&#1090;&#1080;&#1085;&#1082;&#1072;%20&#1074;&#1099;&#1076;&#1088;&#1072;&amp;pos=7&amp;uinfo=sw-1226-sh-612-fw-1001-fh-448-pd-1&amp;rpt=simage&amp;img_url=http://www.floranimal.ru/pages/animal/v/92.jpg" TargetMode="External"/><Relationship Id="rId4" Type="http://schemas.openxmlformats.org/officeDocument/2006/relationships/image" Target="../media/image43.jpeg"/><Relationship Id="rId5" Type="http://schemas.openxmlformats.org/officeDocument/2006/relationships/hyperlink" Target="http://images.yandex.ru/yandsearch?text=&#1082;&#1072;&#1088;&#1090;&#1080;&#1085;&#1082;&#1072;%20&#1073;&#1091;&#1088;&#1091;&#1085;&#1076;&#1091;&#1082;&amp;pos=1&amp;uinfo=sw-1226-sh-612-fw-1001-fh-448-pd-1&amp;rpt=simage&amp;img_url=http://userserve-ak.last.fm/serve/34s/23891857.jpg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images.yandex.ru/yandsearch?text=&#1082;&#1072;&#1088;&#1090;&#1080;&#1085;&#1082;&#1072;%20&#1073;&#1077;&#1083;&#1082;&#1072;-&#1083;&#1077;&#1090;&#1103;&#1075;&#1072;&amp;pos=1&amp;uinfo=sw-1226-sh-612-fw-1001-fh-448-pd-1&amp;rpt=simage&amp;img_url=http://www.rpnrb.ru/sopt/archiv/animals/333.jpg" TargetMode="External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72;%20&#1086;&#1088;&#1077;&#1083;-&#1073;&#1077;&#1088;&#1082;&#1091;&#1090;&amp;pos=8&amp;uinfo=sw-1226-sh-612-fw-1001-fh-448-pd-1&amp;rpt=simage&amp;img_url=http://maxpark.com/static/u/photo/2589010399/s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images.yandex.ru/yandsearch?text=&#1082;&#1072;&#1088;&#1090;&#1080;&#1085;&#1082;&#1072;%20&#1079;&#1084;&#1077;&#1077;&#1103;&#1076;&amp;pos=8&amp;uinfo=sw-1226-sh-612-fw-1001-fh-448-pd-1&amp;rpt=simage&amp;img_url=http://i52.tinypic.com/s27h1l.jpg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images.yandex.ru/yandsearch?text=&#1082;&#1072;&#1088;&#1090;&#1080;&#1085;&#1082;&#1072;%20&#1095;&#1077;&#1088;&#1085;&#1099;&#1081;%20&#1072;&#1080;&#1089;&#1090;&amp;pos=5&amp;uinfo=sw-1226-sh-612-fw-1001-fh-448-pd-1&amp;rpt=simage&amp;img_url=http://img1.liveinternet.ru/images/attach/c/2/73/475/73475485_3858368_fekete_golya_1.jpg" TargetMode="External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6&amp;text=&#1082;&#1072;&#1088;&#1090;&#1080;&#1085;&#1082;&#1080;%20&#1078;&#1080;&#1074;&#1086;&#1090;&#1085;&#1099;&#1093;%20&#1080;&#1079;%20%20&#1050;&#1088;&#1072;&#1089;&#1085;&#1086;&#1081;%20&#1082;&#1085;&#1080;&#1075;&#1080;%20&#1084;&#1080;&#1088;&#1088;&#1072;&amp;pos=191&amp;uinfo=sw-1206-sh-605-fw-981-fh-448-pd-1&amp;rpt=simage&amp;img_url=http://900igr.net/datas/okruzhajuschij-mir/ZHivotnye-Krasnoj-knigi/0018-018-Zapomni.jpg" TargetMode="External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4684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ff0000"/>
                </a:solidFill>
                <a:latin typeface="Book Antiqua"/>
              </a:rPr>
              <a:t>Путешествие  по  страницам Красной книги</a:t>
            </a: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971640" y="4292640"/>
            <a:ext cx="7632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endParaRPr b="1" lang="ru-RU" sz="2800" spc="-1" strike="noStrike">
              <a:solidFill>
                <a:srgbClr val="f65116"/>
              </a:solidFill>
              <a:latin typeface="Arial"/>
            </a:endParaRPr>
          </a:p>
        </p:txBody>
      </p:sp>
      <p:pic>
        <p:nvPicPr>
          <p:cNvPr id="276" name="Рисунок 2" descr=""/>
          <p:cNvPicPr/>
          <p:nvPr/>
        </p:nvPicPr>
        <p:blipFill>
          <a:blip r:embed="rId1"/>
          <a:stretch/>
        </p:blipFill>
        <p:spPr>
          <a:xfrm>
            <a:off x="2643120" y="2652840"/>
            <a:ext cx="4705920" cy="4204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 type="ftr" idx="2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Box 2"/>
          <p:cNvSpPr/>
          <p:nvPr/>
        </p:nvSpPr>
        <p:spPr>
          <a:xfrm>
            <a:off x="2340000" y="213372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4932360" y="2133720"/>
            <a:ext cx="2376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гиб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ftr" idx="3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900000" y="333720"/>
            <a:ext cx="7343280" cy="550764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1060560" y="5950080"/>
            <a:ext cx="7200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ний  к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"/>
          <p:cNvPicPr/>
          <p:nvPr/>
        </p:nvPicPr>
        <p:blipFill>
          <a:blip r:embed="rId1"/>
          <a:stretch/>
        </p:blipFill>
        <p:spPr>
          <a:xfrm>
            <a:off x="827640" y="263160"/>
            <a:ext cx="7515000" cy="57124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989280" y="5976000"/>
            <a:ext cx="7079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пар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ftr" idx="3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1" descr=""/>
          <p:cNvPicPr/>
          <p:nvPr/>
        </p:nvPicPr>
        <p:blipFill>
          <a:blip r:embed="rId1"/>
          <a:stretch/>
        </p:blipFill>
        <p:spPr>
          <a:xfrm>
            <a:off x="827640" y="335160"/>
            <a:ext cx="7344360" cy="550836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"/>
          <p:cNvSpPr/>
          <p:nvPr/>
        </p:nvSpPr>
        <p:spPr>
          <a:xfrm>
            <a:off x="1152000" y="5886720"/>
            <a:ext cx="669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нерин  башма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ftr" idx="3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1" descr=""/>
          <p:cNvPicPr/>
          <p:nvPr/>
        </p:nvPicPr>
        <p:blipFill>
          <a:blip r:embed="rId1"/>
          <a:stretch/>
        </p:blipFill>
        <p:spPr>
          <a:xfrm>
            <a:off x="611280" y="428760"/>
            <a:ext cx="7949880" cy="4968360"/>
          </a:xfrm>
          <a:prstGeom prst="rect">
            <a:avLst/>
          </a:prstGeom>
          <a:ln w="0">
            <a:noFill/>
          </a:ln>
        </p:spPr>
      </p:pic>
      <p:sp>
        <p:nvSpPr>
          <p:cNvPr id="318" name="TextBox 2"/>
          <p:cNvSpPr/>
          <p:nvPr/>
        </p:nvSpPr>
        <p:spPr>
          <a:xfrm>
            <a:off x="1116000" y="5732640"/>
            <a:ext cx="6624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т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Объект 1"/>
          <p:cNvGraphicFramePr/>
          <p:nvPr/>
        </p:nvGraphicFramePr>
        <p:xfrm>
          <a:off x="539640" y="692280"/>
          <a:ext cx="8152920" cy="52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92280"/>
                    <a:ext cx="8152920" cy="52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Box 2"/>
          <p:cNvSpPr/>
          <p:nvPr/>
        </p:nvSpPr>
        <p:spPr>
          <a:xfrm>
            <a:off x="2411280" y="2246400"/>
            <a:ext cx="18712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Желт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5292720" y="2297160"/>
            <a:ext cx="20156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Редк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ftr" idx="3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1" descr=""/>
          <p:cNvPicPr/>
          <p:nvPr/>
        </p:nvPicPr>
        <p:blipFill>
          <a:blip r:embed="rId1"/>
          <a:stretch/>
        </p:blipFill>
        <p:spPr>
          <a:xfrm>
            <a:off x="902520" y="204480"/>
            <a:ext cx="7338600" cy="5788080"/>
          </a:xfrm>
          <a:prstGeom prst="rect">
            <a:avLst/>
          </a:prstGeom>
          <a:ln w="0">
            <a:noFill/>
          </a:ln>
        </p:spPr>
      </p:pic>
      <p:sp>
        <p:nvSpPr>
          <p:cNvPr id="326" name="TextBox 2"/>
          <p:cNvSpPr/>
          <p:nvPr/>
        </p:nvSpPr>
        <p:spPr>
          <a:xfrm>
            <a:off x="1332000" y="5918760"/>
            <a:ext cx="6479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мурски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ftr" idx="3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"/>
          <p:cNvPicPr/>
          <p:nvPr/>
        </p:nvPicPr>
        <p:blipFill>
          <a:blip r:embed="rId1"/>
          <a:stretch/>
        </p:blipFill>
        <p:spPr>
          <a:xfrm>
            <a:off x="539640" y="478800"/>
            <a:ext cx="8064360" cy="50223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2"/>
          <p:cNvSpPr/>
          <p:nvPr/>
        </p:nvSpPr>
        <p:spPr>
          <a:xfrm>
            <a:off x="2124000" y="5589720"/>
            <a:ext cx="511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р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1" descr=""/>
          <p:cNvPicPr/>
          <p:nvPr/>
        </p:nvPicPr>
        <p:blipFill>
          <a:blip r:embed="rId1"/>
          <a:stretch/>
        </p:blipFill>
        <p:spPr>
          <a:xfrm>
            <a:off x="895320" y="260280"/>
            <a:ext cx="4624200" cy="61653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"/>
          <p:cNvSpPr/>
          <p:nvPr/>
        </p:nvSpPr>
        <p:spPr>
          <a:xfrm>
            <a:off x="6012000" y="4797360"/>
            <a:ext cx="2663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рав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ftr" idx="3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Box 2"/>
          <p:cNvSpPr/>
          <p:nvPr/>
        </p:nvSpPr>
        <p:spPr>
          <a:xfrm>
            <a:off x="2411640" y="2205000"/>
            <a:ext cx="208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3"/>
          <p:cNvSpPr/>
          <p:nvPr/>
        </p:nvSpPr>
        <p:spPr>
          <a:xfrm>
            <a:off x="4519080" y="2205000"/>
            <a:ext cx="302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оизвест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ftr" idx="4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chemeClr val="accent4">
                    <a:lumMod val="50000"/>
                  </a:schemeClr>
                </a:solidFill>
                <a:latin typeface="Franklin Gothic Book"/>
              </a:rPr>
              <a:t>Международная  Красная  книга  издана  в  1963 году  и хранится в швейцарском городе Морхе</a:t>
            </a:r>
            <a:endParaRPr b="0" lang="ru-RU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9" name="Picture 10" descr=""/>
          <p:cNvPicPr/>
          <p:nvPr/>
        </p:nvPicPr>
        <p:blipFill>
          <a:blip r:embed="rId1"/>
          <a:stretch/>
        </p:blipFill>
        <p:spPr>
          <a:xfrm>
            <a:off x="5619600" y="620640"/>
            <a:ext cx="2916000" cy="3436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9" descr=""/>
          <p:cNvPicPr/>
          <p:nvPr/>
        </p:nvPicPr>
        <p:blipFill>
          <a:blip r:embed="rId2"/>
          <a:stretch/>
        </p:blipFill>
        <p:spPr>
          <a:xfrm>
            <a:off x="683640" y="773640"/>
            <a:ext cx="4174920" cy="31309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2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Рисунок 1" descr=""/>
          <p:cNvPicPr/>
          <p:nvPr/>
        </p:nvPicPr>
        <p:blipFill>
          <a:blip r:embed="rId1"/>
          <a:stretch/>
        </p:blipFill>
        <p:spPr>
          <a:xfrm>
            <a:off x="899640" y="333360"/>
            <a:ext cx="7271640" cy="54172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1787400" y="5732640"/>
            <a:ext cx="6119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новая 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3640" cy="494964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1800360" y="5732640"/>
            <a:ext cx="56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Жук-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ftr" idx="4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Box 2"/>
          <p:cNvSpPr/>
          <p:nvPr/>
        </p:nvSpPr>
        <p:spPr>
          <a:xfrm>
            <a:off x="5148000" y="2421000"/>
            <a:ext cx="2880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ыст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исчезающи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"/>
          <p:cNvSpPr/>
          <p:nvPr/>
        </p:nvSpPr>
        <p:spPr>
          <a:xfrm>
            <a:off x="2411280" y="2421000"/>
            <a:ext cx="194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Бел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ftr" idx="4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1" descr=""/>
          <p:cNvPicPr/>
          <p:nvPr/>
        </p:nvPicPr>
        <p:blipFill>
          <a:blip r:embed="rId1"/>
          <a:stretch/>
        </p:blipFill>
        <p:spPr>
          <a:xfrm>
            <a:off x="611640" y="189000"/>
            <a:ext cx="7810920" cy="563148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1332000" y="5877000"/>
            <a:ext cx="676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л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Рисунок 1" descr=""/>
          <p:cNvPicPr/>
          <p:nvPr/>
        </p:nvPicPr>
        <p:blipFill>
          <a:blip r:embed="rId1"/>
          <a:stretch/>
        </p:blipFill>
        <p:spPr>
          <a:xfrm>
            <a:off x="750240" y="405000"/>
            <a:ext cx="7787880" cy="50065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403280" y="5732640"/>
            <a:ext cx="6481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ежный  ба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ftr" idx="4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844200" y="404640"/>
            <a:ext cx="7485120" cy="5346360"/>
          </a:xfrm>
          <a:prstGeom prst="rect">
            <a:avLst/>
          </a:prstGeom>
          <a:ln w="0">
            <a:noFill/>
          </a:ln>
        </p:spPr>
      </p:pic>
      <p:sp>
        <p:nvSpPr>
          <p:cNvPr id="357" name="TextBox 2"/>
          <p:cNvSpPr/>
          <p:nvPr/>
        </p:nvSpPr>
        <p:spPr>
          <a:xfrm>
            <a:off x="1382400" y="5877360"/>
            <a:ext cx="640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амин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ftr" idx="4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Объект 1"/>
          <p:cNvGraphicFramePr/>
          <p:nvPr/>
        </p:nvGraphicFramePr>
        <p:xfrm>
          <a:off x="495360" y="990720"/>
          <a:ext cx="81529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990720"/>
                    <a:ext cx="815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TextBox 2"/>
          <p:cNvSpPr/>
          <p:nvPr/>
        </p:nvSpPr>
        <p:spPr>
          <a:xfrm>
            <a:off x="4428000" y="2423880"/>
            <a:ext cx="3241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Восстановленные 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2411280" y="2349360"/>
            <a:ext cx="194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4">
                    <a:lumMod val="10000"/>
                  </a:schemeClr>
                </a:solidFill>
                <a:latin typeface="Arial"/>
              </a:rPr>
              <a:t>Зелёные  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tretch/>
        </p:blipFill>
        <p:spPr>
          <a:xfrm>
            <a:off x="683640" y="411120"/>
            <a:ext cx="7774920" cy="54320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1862280" y="587700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урый  медве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ftr" idx="4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Рисунок 1" descr=""/>
          <p:cNvPicPr/>
          <p:nvPr/>
        </p:nvPicPr>
        <p:blipFill>
          <a:blip r:embed="rId1"/>
          <a:stretch/>
        </p:blipFill>
        <p:spPr>
          <a:xfrm>
            <a:off x="827640" y="2667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2"/>
          <p:cNvSpPr/>
          <p:nvPr/>
        </p:nvSpPr>
        <p:spPr>
          <a:xfrm>
            <a:off x="1620000" y="599148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ftr" idx="4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587520" y="260640"/>
            <a:ext cx="8112240" cy="554436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1619640" y="5949360"/>
            <a:ext cx="6048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уб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Рисунок 1" descr=""/>
          <p:cNvPicPr/>
          <p:nvPr/>
        </p:nvPicPr>
        <p:blipFill>
          <a:blip r:embed="rId1"/>
          <a:stretch/>
        </p:blipFill>
        <p:spPr>
          <a:xfrm>
            <a:off x="683640" y="188640"/>
            <a:ext cx="3601800" cy="45111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2"/>
          <p:cNvSpPr/>
          <p:nvPr/>
        </p:nvSpPr>
        <p:spPr>
          <a:xfrm>
            <a:off x="167760" y="4663080"/>
            <a:ext cx="8975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Красная  книга  СССР  была  издана  в  1978  году, а Красная  книга  РФ вышла  в  свет  в 2001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1" descr=""/>
          <p:cNvPicPr/>
          <p:nvPr/>
        </p:nvPicPr>
        <p:blipFill>
          <a:blip r:embed="rId2"/>
          <a:stretch/>
        </p:blipFill>
        <p:spPr>
          <a:xfrm>
            <a:off x="5292000" y="166680"/>
            <a:ext cx="3166560" cy="4433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3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634240" cy="16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4e3b30"/>
                </a:solidFill>
                <a:latin typeface="Franklin Gothic Medium"/>
              </a:rPr>
              <a:t>В 1997 году издана Красная книга Республики Марий Эл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Содержимое 3" descr="http://presidentusa.ru/images/referat_vosstanie_emelyana_pugacheva_1363_10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2357280"/>
            <a:ext cx="3499920" cy="3928680"/>
          </a:xfrm>
          <a:prstGeom prst="rect">
            <a:avLst/>
          </a:prstGeom>
          <a:ln w="9525">
            <a:noFill/>
          </a:ln>
        </p:spPr>
      </p:pic>
      <p:sp>
        <p:nvSpPr>
          <p:cNvPr id="375" name="PlaceHolder 2"/>
          <p:cNvSpPr>
            <a:spLocks noGrp="1"/>
          </p:cNvSpPr>
          <p:nvPr>
            <p:ph type="ftr" idx="51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1" descr="http://serpregion.ru/im1/smena/nov/2011/january/redbookmo7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14200"/>
            <a:ext cx="3857400" cy="2999880"/>
          </a:xfrm>
          <a:prstGeom prst="rect">
            <a:avLst/>
          </a:prstGeom>
          <a:ln w="9525">
            <a:noFill/>
          </a:ln>
        </p:spPr>
      </p:pic>
      <p:pic>
        <p:nvPicPr>
          <p:cNvPr id="377" name="Рисунок 2" descr="http://www.vashsad.ua/i/encyclopedia/218_159/9af2L6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14200"/>
            <a:ext cx="4071600" cy="2999880"/>
          </a:xfrm>
          <a:prstGeom prst="rect">
            <a:avLst/>
          </a:prstGeom>
          <a:ln w="9525">
            <a:noFill/>
          </a:ln>
        </p:spPr>
      </p:pic>
      <p:sp>
        <p:nvSpPr>
          <p:cNvPr id="378" name="TextBox 4"/>
          <p:cNvSpPr/>
          <p:nvPr/>
        </p:nvSpPr>
        <p:spPr>
          <a:xfrm>
            <a:off x="785880" y="2500200"/>
            <a:ext cx="3285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АДБОРОДНИК  БЕЗ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"/>
          <p:cNvSpPr/>
          <p:nvPr/>
        </p:nvSpPr>
        <p:spPr>
          <a:xfrm>
            <a:off x="5072040" y="2428920"/>
            <a:ext cx="4071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ЫЛЬЦЕГОЛ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Рисунок 7" descr="http://stat16.privet.ru/lr/0b072e5bc2328e05fbb37ad051304dd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3429000"/>
            <a:ext cx="3714480" cy="3428640"/>
          </a:xfrm>
          <a:prstGeom prst="rect">
            <a:avLst/>
          </a:prstGeom>
          <a:ln w="9525">
            <a:noFill/>
          </a:ln>
        </p:spPr>
      </p:pic>
      <p:sp>
        <p:nvSpPr>
          <p:cNvPr id="381" name="TextBox 8"/>
          <p:cNvSpPr/>
          <p:nvPr/>
        </p:nvSpPr>
        <p:spPr>
          <a:xfrm>
            <a:off x="357120" y="6072120"/>
            <a:ext cx="4285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ЕНЕРИН 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9" descr="http://online-media.uni-marburg.de/biologie/nutzpflanzen/christian_gropp/Bilder/Orchis_militar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86200" y="3357720"/>
            <a:ext cx="4000320" cy="3499920"/>
          </a:xfrm>
          <a:prstGeom prst="rect">
            <a:avLst/>
          </a:prstGeom>
          <a:ln w="9525">
            <a:noFill/>
          </a:ln>
        </p:spPr>
      </p:pic>
      <p:sp>
        <p:nvSpPr>
          <p:cNvPr id="383" name="TextBox 10"/>
          <p:cNvSpPr/>
          <p:nvPr/>
        </p:nvSpPr>
        <p:spPr>
          <a:xfrm>
            <a:off x="4572000" y="6143760"/>
            <a:ext cx="45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ЯТРЫШНИК ШЛЕМОВИД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ftr" idx="5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8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Місце для зображення 4" descr="http://les-altai.narod.ru/images/43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0"/>
            <a:ext cx="4428720" cy="392868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286160"/>
            <a:ext cx="6786360" cy="7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c00000"/>
                </a:solidFill>
                <a:latin typeface="Bookman Old Style"/>
              </a:rPr>
              <a:t>ЕЖОВИК КОРАЛЛОВИДНЫЙ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714840" y="4857840"/>
            <a:ext cx="5428800" cy="99972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man Old Style"/>
              </a:rPr>
              <a:t>ВОДЯНОЙ ОРЕХ</a:t>
            </a:r>
            <a:endParaRPr b="0" lang="ru-RU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8" name="Рисунок 6" descr="http://www.stihi.ru/pics/2013/07/18/770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0"/>
            <a:ext cx="4142880" cy="4142880"/>
          </a:xfrm>
          <a:prstGeom prst="rect">
            <a:avLst/>
          </a:prstGeom>
          <a:ln w="9525">
            <a:noFill/>
          </a:ln>
        </p:spPr>
      </p:pic>
      <p:sp>
        <p:nvSpPr>
          <p:cNvPr id="389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47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c00000"/>
                </a:solidFill>
                <a:latin typeface="Franklin Gothic Medium"/>
              </a:rPr>
              <a:t>Из животных в Красную книгу занесена  выхухоль – небольшой водный зверек с красивым ценным мехом. Редким  стал и земляной заяц- мелкий зверек с укороченными  передними и длинными задними конечностям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Содержимое 4" descr="http://pit.dirty.ru/dirty/1/2010/03/30/1300-155057-41341d5ee8769d9cc4b0239b683a82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6240" y="2438280"/>
            <a:ext cx="3047760" cy="3047760"/>
          </a:xfrm>
          <a:prstGeom prst="rect">
            <a:avLst/>
          </a:prstGeom>
          <a:ln w="9525">
            <a:noFill/>
          </a:ln>
        </p:spPr>
      </p:pic>
      <p:pic>
        <p:nvPicPr>
          <p:cNvPr id="392" name="Содержимое 5" descr="http://club.foto.ru/gallery/images/photo/2010/08/07/161293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2230920"/>
            <a:ext cx="4343040" cy="3462480"/>
          </a:xfrm>
          <a:prstGeom prst="rect">
            <a:avLst/>
          </a:prstGeom>
          <a:ln w="9525">
            <a:noFill/>
          </a:ln>
        </p:spPr>
      </p:pic>
      <p:sp>
        <p:nvSpPr>
          <p:cNvPr id="393" name="TextBox 6"/>
          <p:cNvSpPr/>
          <p:nvPr/>
        </p:nvSpPr>
        <p:spPr>
          <a:xfrm>
            <a:off x="428760" y="5643720"/>
            <a:ext cx="3785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ЫХУХ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8"/>
          <p:cNvSpPr/>
          <p:nvPr/>
        </p:nvSpPr>
        <p:spPr>
          <a:xfrm>
            <a:off x="4786200" y="5857920"/>
            <a:ext cx="400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ЕМЛЯНОЙ 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5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Місце для зображення 4" descr="http://www.zooclub.ru/attach/wild/461.jpg">
            <a:hlinkClick r:id="rId1"/>
          </p:cNvPr>
          <p:cNvPicPr/>
          <p:nvPr/>
        </p:nvPicPr>
        <p:blipFill>
          <a:blip r:embed="rId2"/>
          <a:srcRect l="0" t="11639" r="0" b="11639"/>
          <a:stretch/>
        </p:blipFill>
        <p:spPr>
          <a:xfrm>
            <a:off x="285840" y="285840"/>
            <a:ext cx="4208040" cy="3357360"/>
          </a:xfrm>
          <a:prstGeom prst="rect">
            <a:avLst/>
          </a:prstGeom>
          <a:ln w="9525">
            <a:noFill/>
          </a:ln>
          <a:effectLst>
            <a:reflection algn="bl" blurRad="1000" dir="5400000" dist="900" endA="500" endPos="10000" rotWithShape="0" stA="49000" sy="-90000"/>
          </a:effectLst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4993920"/>
            <a:ext cx="586692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2000" spc="-1" strike="noStrike" cap="all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80880" y="5533200"/>
            <a:ext cx="5866920" cy="767880"/>
          </a:xfrm>
          <a:prstGeom prst="rect">
            <a:avLst/>
          </a:prstGeom>
          <a:noFill/>
          <a:ln w="0">
            <a:noFill/>
          </a:ln>
        </p:spPr>
        <p:txBody>
          <a:bodyPr lIns="109800" rIns="90000" tIns="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9" name="Рисунок 5" descr="http://biber.nm.ru/animal/mammalia/predator/kuniza/kuniza/lutr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2040" y="285840"/>
            <a:ext cx="3711960" cy="3214440"/>
          </a:xfrm>
          <a:prstGeom prst="rect">
            <a:avLst/>
          </a:prstGeom>
          <a:ln w="9525">
            <a:noFill/>
          </a:ln>
        </p:spPr>
      </p:pic>
      <p:pic>
        <p:nvPicPr>
          <p:cNvPr id="400" name="Рисунок 6" descr="http://gif-and-jpeg.ru/d/41357-2/jivotniy_mir269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840" y="3714840"/>
            <a:ext cx="3928680" cy="3142800"/>
          </a:xfrm>
          <a:prstGeom prst="rect">
            <a:avLst/>
          </a:prstGeom>
          <a:ln w="9525">
            <a:noFill/>
          </a:ln>
        </p:spPr>
      </p:pic>
      <p:sp>
        <p:nvSpPr>
          <p:cNvPr id="401" name="TextBox 7"/>
          <p:cNvSpPr/>
          <p:nvPr/>
        </p:nvSpPr>
        <p:spPr>
          <a:xfrm>
            <a:off x="357120" y="2786040"/>
            <a:ext cx="2999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Н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714240" y="6072120"/>
            <a:ext cx="328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УРУНД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6357960" y="2786040"/>
            <a:ext cx="27856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Д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Рисунок 10" descr="http://www.rpnrb.ru/sopt/archiv/animals/33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3714840"/>
            <a:ext cx="4214520" cy="2857320"/>
          </a:xfrm>
          <a:prstGeom prst="rect">
            <a:avLst/>
          </a:prstGeom>
          <a:ln w="9525">
            <a:noFill/>
          </a:ln>
        </p:spPr>
      </p:pic>
      <p:sp>
        <p:nvSpPr>
          <p:cNvPr id="405" name="TextBox 11"/>
          <p:cNvSpPr/>
          <p:nvPr/>
        </p:nvSpPr>
        <p:spPr>
          <a:xfrm>
            <a:off x="6286680" y="5929200"/>
            <a:ext cx="264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ЕЛКА-ЛЕТЯ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5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http://img01.chitalnya.ru/upload2/476/21563404193148016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14200"/>
            <a:ext cx="3857400" cy="3071520"/>
          </a:xfrm>
          <a:prstGeom prst="rect">
            <a:avLst/>
          </a:prstGeom>
          <a:ln w="9525">
            <a:noFill/>
          </a:ln>
        </p:spPr>
      </p:pic>
      <p:pic>
        <p:nvPicPr>
          <p:cNvPr id="408" name="Рисунок 3" descr="http://kireas.org/images/Circaetus%20gallicu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4200"/>
            <a:ext cx="4214520" cy="3142800"/>
          </a:xfrm>
          <a:prstGeom prst="rect">
            <a:avLst/>
          </a:prstGeom>
          <a:ln w="9525">
            <a:noFill/>
          </a:ln>
        </p:spPr>
      </p:pic>
      <p:pic>
        <p:nvPicPr>
          <p:cNvPr id="409" name="Рисунок 4" descr="http://girnyk.at.ua/chornij_lelek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320" y="3500280"/>
            <a:ext cx="3428640" cy="3071520"/>
          </a:xfrm>
          <a:prstGeom prst="rect">
            <a:avLst/>
          </a:prstGeom>
          <a:ln w="9525">
            <a:noFill/>
          </a:ln>
        </p:spPr>
      </p:pic>
      <p:sp>
        <p:nvSpPr>
          <p:cNvPr id="410" name="TextBox 6"/>
          <p:cNvSpPr/>
          <p:nvPr/>
        </p:nvSpPr>
        <p:spPr>
          <a:xfrm>
            <a:off x="357120" y="642960"/>
            <a:ext cx="20714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ОРЕЛ - БЕРК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4714920" y="571320"/>
            <a:ext cx="207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МЕЕЯ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571320" y="3571920"/>
            <a:ext cx="1928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ЧЕРНЫЙ  А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9" descr="http://cdn.bolshoyvopros.ru/files/users/images/34/cb/34cb48310a3c74f918a8bdb84f8388e1.jpg"/>
          <p:cNvPicPr/>
          <p:nvPr/>
        </p:nvPicPr>
        <p:blipFill>
          <a:blip r:embed="rId7"/>
          <a:stretch/>
        </p:blipFill>
        <p:spPr>
          <a:xfrm>
            <a:off x="4572000" y="3500280"/>
            <a:ext cx="4214520" cy="3071520"/>
          </a:xfrm>
          <a:prstGeom prst="rect">
            <a:avLst/>
          </a:prstGeom>
          <a:ln w="9525">
            <a:noFill/>
          </a:ln>
        </p:spPr>
      </p:pic>
      <p:sp>
        <p:nvSpPr>
          <p:cNvPr id="414" name="TextBox 10"/>
          <p:cNvSpPr/>
          <p:nvPr/>
        </p:nvSpPr>
        <p:spPr>
          <a:xfrm>
            <a:off x="6786720" y="5786280"/>
            <a:ext cx="235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9933"/>
                </a:solidFill>
                <a:latin typeface="Arial"/>
              </a:rPr>
              <a:t>САП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ttp://900igr.net/datas/okruzhajuschij-mir/ZHivotnye-Krasnoj-knigi/0018-018-Zapomn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14240"/>
            <a:ext cx="7043400" cy="52858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ftr" idx="5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0" y="857160"/>
            <a:ext cx="8857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СПАСИБО З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ru-RU" sz="8000" spc="-1" strike="noStrike">
                <a:solidFill>
                  <a:srgbClr val="c00000"/>
                </a:solidFill>
                <a:latin typeface="Arial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ftr" idx="5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1"/>
          <a:stretch/>
        </p:blipFill>
        <p:spPr>
          <a:xfrm>
            <a:off x="233280" y="571320"/>
            <a:ext cx="8624880" cy="5071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ftr" idx="25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941040" y="260280"/>
            <a:ext cx="7297200" cy="51282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785880" y="5643720"/>
            <a:ext cx="7714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нствующий голуб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Рисунок 1" descr=""/>
          <p:cNvPicPr/>
          <p:nvPr/>
        </p:nvPicPr>
        <p:blipFill>
          <a:blip r:embed="rId1"/>
          <a:stretch/>
        </p:blipFill>
        <p:spPr>
          <a:xfrm>
            <a:off x="820800" y="479880"/>
            <a:ext cx="7597440" cy="42055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1428840" y="5072040"/>
            <a:ext cx="6143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еллерова кор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1" descr=""/>
          <p:cNvPicPr/>
          <p:nvPr/>
        </p:nvPicPr>
        <p:blipFill>
          <a:blip r:embed="rId1"/>
          <a:stretch/>
        </p:blipFill>
        <p:spPr>
          <a:xfrm>
            <a:off x="1187640" y="358200"/>
            <a:ext cx="6657480" cy="55094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>
            <a:off x="1452600" y="5880240"/>
            <a:ext cx="619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рогий  ол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ftr" idx="2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Рисунок 1" descr=""/>
          <p:cNvPicPr/>
          <p:nvPr/>
        </p:nvPicPr>
        <p:blipFill>
          <a:blip r:embed="rId1"/>
          <a:stretch/>
        </p:blipFill>
        <p:spPr>
          <a:xfrm>
            <a:off x="611640" y="1052640"/>
            <a:ext cx="7954560" cy="45097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2"/>
          <p:cNvSpPr/>
          <p:nvPr/>
        </p:nvSpPr>
        <p:spPr>
          <a:xfrm>
            <a:off x="1015560" y="5833080"/>
            <a:ext cx="691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аблезубый  т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1" descr=""/>
          <p:cNvPicPr/>
          <p:nvPr/>
        </p:nvPicPr>
        <p:blipFill>
          <a:blip r:embed="rId1"/>
          <a:stretch/>
        </p:blipFill>
        <p:spPr>
          <a:xfrm>
            <a:off x="611280" y="343800"/>
            <a:ext cx="7848360" cy="4922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826920" y="5516640"/>
            <a:ext cx="7416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скрылые  гага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ftr" idx="30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d38e28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1103</TotalTime>
  <Application>LibreOffice/7.4.7.2$Linux_X86_64 LibreOffice_project/40$Build-2</Application>
  <AppVersion>15.0000</AppVersion>
  <Words>600</Words>
  <Paragraphs>276</Paragraphs>
  <Company>IPP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10:16:35Z</dcterms:created>
  <dc:creator>---</dc:creator>
  <dc:description/>
  <dc:language>en-US</dc:language>
  <cp:lastModifiedBy>LEGION</cp:lastModifiedBy>
  <dcterms:modified xsi:type="dcterms:W3CDTF">2015-11-27T10:46:36Z</dcterms:modified>
  <cp:revision>95</cp:revision>
  <dc:subject/>
  <dc:title>Красная книга Краснодарского кр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7</vt:r8>
  </property>
  <property fmtid="{D5CDD505-2E9C-101B-9397-08002B2CF9AE}" pid="3" name="PresentationFormat">
    <vt:lpwstr>Екран (4:3)</vt:lpwstr>
  </property>
  <property fmtid="{D5CDD505-2E9C-101B-9397-08002B2CF9AE}" pid="4" name="Slides">
    <vt:r8>37</vt:r8>
  </property>
</Properties>
</file>