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2.wmf" ContentType="image/x-wmf"/>
  <Override PartName="/ppt/media/image20.jpeg" ContentType="image/jpeg"/>
  <Override PartName="/ppt/media/image21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5.wmf" ContentType="image/x-wmf"/>
  <Override PartName="/ppt/media/image14.jpeg" ContentType="image/jpeg"/>
  <Override PartName="/ppt/media/image41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18.wmf" ContentType="image/x-wmf"/>
  <Override PartName="/ppt/media/image36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27.jpeg" ContentType="image/jpeg"/>
  <Override PartName="/ppt/media/image13.wmf" ContentType="image/x-wmf"/>
  <Override PartName="/ppt/media/image5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ECB91B-0F48-4CAF-A3B7-0B7575379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ешествие  по  страницам Красной кни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Num" idx="5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утешествие  по  страницам Красной кни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ные 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гибающие  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6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расные 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огибающие  в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иний  к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6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ий  к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епар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7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Гепар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енерин  башмач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7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Венерин  башмач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Лот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Num" idx="7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Лот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лтые 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дкие  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7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Желтые 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едкие  в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мурский  т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7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Амурский  тиг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7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Мор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л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журав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7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ел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журав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ые 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оизвестные  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7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ерые 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Малоизвестные  в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народная  Красная  книга  издана  в  1963 году  и хранится в швейцарском городе Морх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6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Международная  Красная  книга  издана  в  1963 году  и хранится в швейцарском городе Морх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лоновая  черепа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7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лоновая  черепа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Жук-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7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Жук-ол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стр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чезающие  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ые 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Num" idx="8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Быстро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исчезающие  в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Белые 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лый 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sldNum" idx="8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елый  медвед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нежный  бар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Num" idx="8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нежный  бар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Фламин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8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Фламин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становленные  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лёные 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Num" idx="8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осстановленные  в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елёные 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урый 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8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урый  медвед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Num" idx="8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Ол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уб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Num" idx="8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Зуб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ная  книга  СССР  была  издана  в  1978  году, а Красная  книга  РФ вышла  в  свет  в 2001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6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расная  книга  СССР  была  издана  в  1978  году, а Красная  книга  РФ вышла  в  свет  в 2001 г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97 году издана Красная книга Республики Марий Э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Num" idx="8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1997 году издана Красная книга Республики Марий Э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БОРОДНИК  БЕЗЛИСТ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ЫЛЬЦЕГОЛОВ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НЕРИН БАШМАЧ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ТРЫШНИК ШЛЕМОВИ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sldNum" idx="8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ДБОРОДНИК  БЕЗЛИСТ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ЫЛЬЦЕГОЛОВНИ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ЕНЕРИН БАШМАЧ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ЯТРЫШНИК ШЛЕМОВИД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ОВИК КОРАЛЛОВИ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ЯНОЙ ОРЕ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Num" idx="9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ЕЖОВИК КОРАЛЛОВИД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ОДЯНОЙ ОРЕ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животных в Красную книгу занесена  выхухоль – небольшой водный зверек с красивым ценным мехом. Редким  стал и земляной заяц- мелкий зверек с укороченными  передними и длинными задними конечн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ХУХ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МЛЯНОЙ ЗА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sldNum" idx="9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Из животных в Красную книгу занесена  выхухоль – небольшой водный зверек с красивым ценным мехом. Редким  стал и земляной заяц- мелкий зверек с укороченными  передними и длинными задними конечност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ЫХУХО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ЕМЛЯНОЙ ЗАЯ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О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УРУНД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ЫД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ЛКА-ЛЕТЯ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9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НОР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УРУНДУ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ВЫД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ЕЛКА-ЛЕТЯ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ЕЛ - БЕРК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МЕЕЯ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НЫЙ  А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ПС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Num" idx="9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РЕЛ - БЕРК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МЕЕЯ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ЕРНЫЙ  АИС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АПС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АСИБО 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НИМАНИЕ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Num" idx="9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ПАСИБО 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ВНИМАНИЕ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6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ранствующий голу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Num" idx="6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транствующий голуб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еллерова ко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Num" idx="6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теллерова кор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ольшерогий 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6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ольшерогий  ол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аблезубый  т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6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аблезубый  тиг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скрылые  гага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6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ескрылые  гагар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17B0-FACE-4F52-9158-BCE5E4194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7F6B-2E3A-476D-930A-025C4F39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0747-9F1E-4894-AF02-F5174FFFA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6D09-CFD7-449C-8AFE-2DA7FFCA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9DE3-5F32-4526-A231-291DE558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3F54-A44F-4D1B-A2AE-70797234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3C3D-6DC3-4785-9140-85BBBEA6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292E-414E-4388-AC19-B835C3AA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9008-AD98-4515-82CB-86CE19BB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1FC3-815D-4484-95B5-745DD528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4C6D-FA3A-45B6-8731-C45B9067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314C-21F9-442C-BED8-B2177009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DE15-B986-422B-8BEC-DB64BCD6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DBE8-DCE2-41BE-8BE6-BC548F6C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7EAC-0188-4BEA-B72F-5DABE811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BC43-6133-4E84-9E08-3DECE8D2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CA32-9B4F-46B0-B11D-1520F29C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584D2-717B-4F85-96F0-CC524EE3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265A9-3E68-4644-A561-F2E30A75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32AE4-EA50-40C2-A265-66C417FA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600CB-A185-4316-B611-CBB91727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8B040-57ED-4CE2-B029-39CA023E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8CCE-CA11-4D4C-89FF-6B46D126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5EDDD-D244-4AB2-A3FF-1BCA67D5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9507A-2BEA-485D-BC31-CAE39D97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91DCA-A7D2-42D7-B838-2FEDFDA9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9C70B-15BD-46D4-BB6D-D7BDEC4E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1E2BA-AA03-4109-ACE2-7C9826FE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917C8-E53C-4C9C-A358-E0EAF733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A8ECD-5EA2-435A-8CD6-072B28BF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0B47C-51B6-4FB1-B0DD-7F3D1AA6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3004B-BF34-40BC-A177-F526C9E4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D4D29-D211-479F-A8F4-F06AD1E1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8B7C-678C-4087-9D4B-FB575C2E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501F3-07F0-4DC3-A933-BB5303C5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98B7A-7152-40CD-B35F-D8327A7A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5AB14-DA1E-4B4E-8D6F-433FEB0F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7A9AE-FCF7-40D5-B50A-5C0BF59F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95240-A823-49BF-A472-1700D928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9513E-FB30-4C18-B776-0954029D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F83C3-8B60-40E5-9A3C-142E4B8F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FE336-40B2-4CD3-A5D3-92935AE4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4791E-0248-4E59-B0E9-87090266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3C47F-63E7-448D-9D51-FCA35B379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C9E7-6B33-4A65-B176-189E3E73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04E7D-A866-4D42-A054-785FBDEE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7F289-AD76-4B40-B1B2-B8A056F1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4731F-538E-4C5D-A27F-40891F89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2DFBD-BB42-4F68-8BA9-418E162F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34BD9-0DDB-42B4-9049-1636F6B8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EF171-07C0-420F-A415-FCE463A9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4350B-7D44-491E-9BC8-55B555D5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CCC9A-6723-4728-82F7-0F81B8AD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12EF7-8B8F-4C53-8777-5A2A09FD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7D58D-30A5-4570-B8DA-C9752A3F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FE3A-0BB6-498C-A093-032D000A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EAE40-07EF-4832-A2F9-632A15B0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0CFF9-B221-45A4-96C0-BAC288AA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2EC6F-DF92-4144-800C-2353339A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6AD97-93FB-4471-A183-A1E80361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B5341-AD9F-475E-A8DB-67E74EB0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0EC56-905C-4E84-A953-AD70831A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3C9CD-494C-432A-92BB-627AE322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6558B-E4D1-4690-99D1-51C6E02A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6CE93-830C-41FD-BBED-C4211146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9F549-E5AA-485C-B761-AFC9E37A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D6B1-EAB7-4788-97F5-F0F76F98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3CD38-388A-4420-8286-D3CAAC46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4F763-1EF8-40D4-B53C-A325C7908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207C3-105A-4446-AC41-251DD60C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0593-B0F4-41C1-9BCB-D2FD3198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9F62-D040-4AA4-81BA-56BC54F0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ая соединительная линия 6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9DBEC3-D580-4CE0-88B1-13AE59426BCF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47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392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917960" y="1905120"/>
            <a:ext cx="392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4F3BB6-C229-4813-8924-3491E5FC507E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9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57C268-F0CF-4774-B75D-F3C1BE111F62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670B56-7FBD-45D9-81B2-7B0D937A9BCE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3505320" y="616680"/>
            <a:ext cx="5028840" cy="3657240"/>
          </a:xfrm>
          <a:prstGeom prst="rect">
            <a:avLst/>
          </a:prstGeom>
          <a:solidFill>
            <a:srgbClr val="ffffff"/>
          </a:solidFill>
          <a:ln w="6480">
            <a:solidFill>
              <a:srgbClr val="f0a22e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авка рисунк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5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CF3A00-F0FE-4D47-BF23-209A37BBBB2A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title"/>
          </p:nvPr>
        </p:nvSpPr>
        <p:spPr>
          <a:xfrm>
            <a:off x="380880" y="4993920"/>
            <a:ext cx="586692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body"/>
          </p:nvPr>
        </p:nvSpPr>
        <p:spPr>
          <a:xfrm>
            <a:off x="380880" y="5533200"/>
            <a:ext cx="5866920" cy="76788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500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419076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34304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dt" idx="16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sldNum" idx="18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69E66D-A5FA-4642-839E-6EB462B8E2EB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72;%20&#1050;&#1088;&#1072;&#1089;&#1085;&#1072;&#1103;%20&#1082;&#1085;&#1080;&#1075;&#1072;%20&#1056;&#1077;&#1089;&#1087;&#1091;&#1073;&#1083;&#1080;&#1082;&#1080;%20&#1052;&#1072;&#1088;&#1080;&#1081;%20&#1069;&#1083;&amp;pos=10&amp;uinfo=sw-1226-sh-612-fw-1001-fh-448-pd-1&amp;rpt=simage&amp;img_url=http://www.mirknig.com/uploads/posts/2012-09/1347870737_krasnaya-kniga.jpg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text=&#1082;&#1072;&#1088;&#1090;&#1080;&#1085;&#1082;&#1072;%20&#1085;&#1072;&#1076;&#1073;&#1086;&#1088;&#1086;&#1076;&#1085;&#1080;&#1082;%20&#1073;&#1077;&#1079;&#1083;&#1080;&#1089;&#1090;&#1085;&#1099;&#1081;&amp;noreask=1&amp;pos=6&amp;rpt=simage&amp;lr=41&amp;uinfo=sw-1226-sh-612-fw-1001-fh-448-pd-1&amp;img_url=http://serpregion.ru/im1/smena/nov/2011/january/redbookmo78.jpg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s.yandex.ru/yandsearch?text=&#1082;&#1072;&#1088;&#1090;&#1080;&#1085;&#1082;&#1072;%20&#1087;&#1099;&#1083;&#1100;&#1094;&#1077;&#1075;&#1086;&#1083;&#1086;&#1074;&#1085;&#1080;&#1082;&amp;pos=1&amp;uinfo=sw-1226-sh-612-fw-1001-fh-448-pd-1&amp;rpt=simage&amp;img_url=http://www.vashsad.ua/i/encyclopedia/218_159/9af2L6gE.jpg" TargetMode="External"/><Relationship Id="rId4" Type="http://schemas.openxmlformats.org/officeDocument/2006/relationships/image" Target="../media/image35.jpeg"/><Relationship Id="rId5" Type="http://schemas.openxmlformats.org/officeDocument/2006/relationships/hyperlink" Target="http://images.yandex.ru/yandsearch?p=6&amp;text=&#1082;&#1072;&#1088;&#1090;&#1080;&#1085;&#1082;&#1072;%20&#1050;&#1088;&#1072;&#1089;&#1085;&#1072;&#1103;%20&#1082;&#1085;&#1080;&#1075;&#1072;%20&#1056;&#1077;&#1089;&#1087;&#1091;&#1073;&#1083;&#1080;&#1082;&#1080;%20&#1052;&#1072;&#1088;&#1080;&#1081;%20&#1069;&#1083;&amp;pos=200&amp;uinfo=sw-1226-sh-612-fw-1001-fh-448-pd-1&amp;rpt=simage&amp;img_url=http://img-fotki.yandex.ru/get/5210/pplatner.7b/0_52254_ffeefd18_XL" TargetMode="External"/><Relationship Id="rId6" Type="http://schemas.openxmlformats.org/officeDocument/2006/relationships/image" Target="../media/image36.jpeg"/><Relationship Id="rId7" Type="http://schemas.openxmlformats.org/officeDocument/2006/relationships/hyperlink" Target="http://images.yandex.ru/yandsearch?source=wiz&amp;text=&#1103;&#1090;&#1088;&#1099;&#1096;&#1085;&#1080;&#1082;%20&#1096;&#1083;&#1077;&#1084;&#1086;&#1074;&#1080;&#1076;&#1085;&#1099;&#1081;%20&#1092;&#1086;&#1090;&#1086;&amp;noreask=1&amp;pos=4&amp;rpt=simage&amp;lr=41&amp;uinfo=sw-1226-sh-612-fw-1001-fh-448-pd-1&amp;img_url=http://online-media.uni-marburg.de/biologie/nutzpflanzen/christian_gropp/Bilder/Orchis_militaris.jpg" TargetMode="External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2;&#1072;&#1088;&#1090;&#1080;&#1085;&#1082;&#1072;%20&#1077;&#1078;&#1086;&#1074;&#1080;&#1082;%20&#1082;&#1086;&#1088;&#1072;&#1083;&#1083;&#1086;&#1074;&#1080;&#1076;&#1085;&#1099;&#1081;&amp;pos=55&amp;uinfo=sw-1226-sh-612-fw-1001-fh-448-pd-1&amp;rpt=simage&amp;img_url=http://les-altai.narod.ru/images/4344.jpg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images.yandex.ru/yandsearch?text=&#1082;&#1072;&#1088;&#1090;&#1080;&#1085;&#1082;&#1072;%20&#1074;&#1086;&#1076;&#1103;&#1085;&#1086;&#1081;%20&#1086;&#1088;&#1077;&#1093;&amp;pos=4&amp;uinfo=sw-1226-sh-612-fw-1001-fh-448-pd-1&amp;rpt=simage&amp;img_url=http://www.stihi.ru/pics/2013/07/18/7708.jpg" TargetMode="External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72;%20&#1074;&#1099;&#1093;&#1091;&#1093;&#1086;&#1083;&#1100;&amp;pos=5&amp;uinfo=sw-1226-sh-612-fw-1001-fh-448-pd-1&amp;rpt=simage&amp;img_url=http://pit.dirty.ru/d3/1/2006/06/08/9849-112008-e944f004ebb647a08fbe050b74b8a391.jpg" TargetMode="External"/><Relationship Id="rId2" Type="http://schemas.openxmlformats.org/officeDocument/2006/relationships/image" Target="../media/image40.jpeg"/><Relationship Id="rId3" Type="http://schemas.openxmlformats.org/officeDocument/2006/relationships/hyperlink" Target="http://images.yandex.ru/yandsearch?text=&#1082;&#1072;&#1088;&#1090;&#1080;&#1085;&#1082;&#1072;%20&#1079;&#1077;&#1084;&#1083;&#1103;&#1085;&#1086;&#1081;%20&#1079;&#1072;&#1103;&#1094;&amp;pos=0&amp;uinfo=sw-1226-sh-612-fw-1001-fh-448-pd-1&amp;rpt=simage&amp;img_url=http://club.foto.ru/gallery/images/photo/2010/08/07/1612930.jpg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64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72;%20&#1077;&#1074;&#1088;&#1086;&#1087;&#1077;&#1081;&#1089;&#1082;&#1072;&#1103;%20&#1085;&#1086;&#1088;&#1082;&#1072;&amp;pos=3&amp;uinfo=sw-1226-sh-612-fw-1001-fh-448-pd-1&amp;rpt=simage&amp;img_url=http://www.zooclub.ru/attach/wild/461.jpg" TargetMode="External"/><Relationship Id="rId2" Type="http://schemas.openxmlformats.org/officeDocument/2006/relationships/image" Target="../media/image42.jpeg"/><Relationship Id="rId3" Type="http://schemas.openxmlformats.org/officeDocument/2006/relationships/hyperlink" Target="http://images.yandex.ru/yandsearch?text=&#1082;&#1072;&#1088;&#1090;&#1080;&#1085;&#1082;&#1072;%20&#1074;&#1099;&#1076;&#1088;&#1072;&amp;pos=7&amp;uinfo=sw-1226-sh-612-fw-1001-fh-448-pd-1&amp;rpt=simage&amp;img_url=http://www.floranimal.ru/pages/animal/v/92.jpg" TargetMode="External"/><Relationship Id="rId4" Type="http://schemas.openxmlformats.org/officeDocument/2006/relationships/image" Target="../media/image43.jpeg"/><Relationship Id="rId5" Type="http://schemas.openxmlformats.org/officeDocument/2006/relationships/hyperlink" Target="http://images.yandex.ru/yandsearch?text=&#1082;&#1072;&#1088;&#1090;&#1080;&#1085;&#1082;&#1072;%20&#1073;&#1091;&#1088;&#1091;&#1085;&#1076;&#1091;&#1082;&amp;pos=1&amp;uinfo=sw-1226-sh-612-fw-1001-fh-448-pd-1&amp;rpt=simage&amp;img_url=http://userserve-ak.last.fm/serve/34s/23891857.jpg" TargetMode="External"/><Relationship Id="rId6" Type="http://schemas.openxmlformats.org/officeDocument/2006/relationships/image" Target="../media/image44.jpeg"/><Relationship Id="rId7" Type="http://schemas.openxmlformats.org/officeDocument/2006/relationships/hyperlink" Target="http://images.yandex.ru/yandsearch?text=&#1082;&#1072;&#1088;&#1090;&#1080;&#1085;&#1082;&#1072;%20&#1073;&#1077;&#1083;&#1082;&#1072;-&#1083;&#1077;&#1090;&#1103;&#1075;&#1072;&amp;pos=1&amp;uinfo=sw-1226-sh-612-fw-1001-fh-448-pd-1&amp;rpt=simage&amp;img_url=http://www.rpnrb.ru/sopt/archiv/animals/333.jpg" TargetMode="External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72;%20&#1086;&#1088;&#1077;&#1083;-&#1073;&#1077;&#1088;&#1082;&#1091;&#1090;&amp;pos=8&amp;uinfo=sw-1226-sh-612-fw-1001-fh-448-pd-1&amp;rpt=simage&amp;img_url=http://maxpark.com/static/u/photo/2589010399/s.jpg" TargetMode="External"/><Relationship Id="rId2" Type="http://schemas.openxmlformats.org/officeDocument/2006/relationships/image" Target="../media/image46.jpeg"/><Relationship Id="rId3" Type="http://schemas.openxmlformats.org/officeDocument/2006/relationships/hyperlink" Target="http://images.yandex.ru/yandsearch?text=&#1082;&#1072;&#1088;&#1090;&#1080;&#1085;&#1082;&#1072;%20&#1079;&#1084;&#1077;&#1077;&#1103;&#1076;&amp;pos=8&amp;uinfo=sw-1226-sh-612-fw-1001-fh-448-pd-1&amp;rpt=simage&amp;img_url=http://i52.tinypic.com/s27h1l.jpg" TargetMode="External"/><Relationship Id="rId4" Type="http://schemas.openxmlformats.org/officeDocument/2006/relationships/image" Target="../media/image47.jpeg"/><Relationship Id="rId5" Type="http://schemas.openxmlformats.org/officeDocument/2006/relationships/hyperlink" Target="http://images.yandex.ru/yandsearch?text=&#1082;&#1072;&#1088;&#1090;&#1080;&#1085;&#1082;&#1072;%20&#1095;&#1077;&#1088;&#1085;&#1099;&#1081;%20&#1072;&#1080;&#1089;&#1090;&amp;pos=5&amp;uinfo=sw-1226-sh-612-fw-1001-fh-448-pd-1&amp;rpt=simage&amp;img_url=http://img1.liveinternet.ru/images/attach/c/2/73/475/73475485_3858368_fekete_golya_1.jpg" TargetMode="External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6&amp;text=&#1082;&#1072;&#1088;&#1090;&#1080;&#1085;&#1082;&#1080;%20&#1078;&#1080;&#1074;&#1086;&#1090;&#1085;&#1099;&#1093;%20&#1080;&#1079;%20%20&#1050;&#1088;&#1072;&#1089;&#1085;&#1086;&#1081;%20&#1082;&#1085;&#1080;&#1075;&#1080;%20&#1084;&#1080;&#1088;&#1088;&#1072;&amp;pos=191&amp;uinfo=sw-1206-sh-605-fw-981-fh-448-pd-1&amp;rpt=simage&amp;img_url=http://900igr.net/datas/okruzhajuschij-mir/ZHivotnye-Krasnoj-knigi/0018-018-Zapomni.jpg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7746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 cap="all">
                <a:solidFill>
                  <a:srgbClr val="ff0000"/>
                </a:solidFill>
                <a:latin typeface="Book Antiqua"/>
              </a:rPr>
              <a:t>Путешествие  по  страницам Красной книги</a:t>
            </a:r>
            <a:endParaRPr b="0" lang="ru-RU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971640" y="4292640"/>
            <a:ext cx="7632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endParaRPr b="1" lang="ru-RU" sz="2800" spc="-1" strike="noStrike">
              <a:solidFill>
                <a:srgbClr val="f65116"/>
              </a:solidFill>
              <a:latin typeface="Arial"/>
            </a:endParaRPr>
          </a:p>
        </p:txBody>
      </p:sp>
      <p:pic>
        <p:nvPicPr>
          <p:cNvPr id="276" name="Рисунок 2" descr=""/>
          <p:cNvPicPr/>
          <p:nvPr/>
        </p:nvPicPr>
        <p:blipFill>
          <a:blip r:embed="rId1"/>
          <a:stretch/>
        </p:blipFill>
        <p:spPr>
          <a:xfrm>
            <a:off x="2643120" y="2652840"/>
            <a:ext cx="4705920" cy="42048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2"/>
          <p:cNvSpPr>
            <a:spLocks noGrp="1"/>
          </p:cNvSpPr>
          <p:nvPr>
            <p:ph type="ftr" idx="2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Объект 1"/>
          <p:cNvGraphicFramePr/>
          <p:nvPr/>
        </p:nvGraphicFramePr>
        <p:xfrm>
          <a:off x="495360" y="990720"/>
          <a:ext cx="81529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990720"/>
                    <a:ext cx="815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TextBox 2"/>
          <p:cNvSpPr/>
          <p:nvPr/>
        </p:nvSpPr>
        <p:spPr>
          <a:xfrm>
            <a:off x="2340000" y="2133720"/>
            <a:ext cx="2015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сные 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3"/>
          <p:cNvSpPr/>
          <p:nvPr/>
        </p:nvSpPr>
        <p:spPr>
          <a:xfrm>
            <a:off x="4932360" y="2133720"/>
            <a:ext cx="2376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гибающие 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ftr" idx="31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Рисунок 1" descr=""/>
          <p:cNvPicPr/>
          <p:nvPr/>
        </p:nvPicPr>
        <p:blipFill>
          <a:blip r:embed="rId1"/>
          <a:stretch/>
        </p:blipFill>
        <p:spPr>
          <a:xfrm>
            <a:off x="900000" y="333720"/>
            <a:ext cx="7343280" cy="550764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1060560" y="5950080"/>
            <a:ext cx="7200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ний  к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Рисунок 1" descr=""/>
          <p:cNvPicPr/>
          <p:nvPr/>
        </p:nvPicPr>
        <p:blipFill>
          <a:blip r:embed="rId1"/>
          <a:stretch/>
        </p:blipFill>
        <p:spPr>
          <a:xfrm>
            <a:off x="827640" y="263160"/>
            <a:ext cx="7515000" cy="5712480"/>
          </a:xfrm>
          <a:prstGeom prst="rect">
            <a:avLst/>
          </a:prstGeom>
          <a:ln w="0">
            <a:noFill/>
          </a:ln>
        </p:spPr>
      </p:pic>
      <p:sp>
        <p:nvSpPr>
          <p:cNvPr id="312" name="TextBox 2"/>
          <p:cNvSpPr/>
          <p:nvPr/>
        </p:nvSpPr>
        <p:spPr>
          <a:xfrm>
            <a:off x="989280" y="5976000"/>
            <a:ext cx="7079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епа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ftr" idx="3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1" descr=""/>
          <p:cNvPicPr/>
          <p:nvPr/>
        </p:nvPicPr>
        <p:blipFill>
          <a:blip r:embed="rId1"/>
          <a:stretch/>
        </p:blipFill>
        <p:spPr>
          <a:xfrm>
            <a:off x="827640" y="335160"/>
            <a:ext cx="7344360" cy="5508360"/>
          </a:xfrm>
          <a:prstGeom prst="rect">
            <a:avLst/>
          </a:prstGeom>
          <a:ln w="0">
            <a:noFill/>
          </a:ln>
        </p:spPr>
      </p:pic>
      <p:sp>
        <p:nvSpPr>
          <p:cNvPr id="315" name="TextBox 2"/>
          <p:cNvSpPr/>
          <p:nvPr/>
        </p:nvSpPr>
        <p:spPr>
          <a:xfrm>
            <a:off x="1152000" y="5886720"/>
            <a:ext cx="6695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нерин  башмач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ftr" idx="3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Рисунок 1" descr=""/>
          <p:cNvPicPr/>
          <p:nvPr/>
        </p:nvPicPr>
        <p:blipFill>
          <a:blip r:embed="rId1"/>
          <a:stretch/>
        </p:blipFill>
        <p:spPr>
          <a:xfrm>
            <a:off x="611280" y="428760"/>
            <a:ext cx="7949880" cy="4968360"/>
          </a:xfrm>
          <a:prstGeom prst="rect">
            <a:avLst/>
          </a:prstGeom>
          <a:ln w="0">
            <a:noFill/>
          </a:ln>
        </p:spPr>
      </p:pic>
      <p:sp>
        <p:nvSpPr>
          <p:cNvPr id="318" name="TextBox 2"/>
          <p:cNvSpPr/>
          <p:nvPr/>
        </p:nvSpPr>
        <p:spPr>
          <a:xfrm>
            <a:off x="1116000" y="5732640"/>
            <a:ext cx="6624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от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Объект 1"/>
          <p:cNvGraphicFramePr/>
          <p:nvPr/>
        </p:nvGraphicFramePr>
        <p:xfrm>
          <a:off x="539640" y="692280"/>
          <a:ext cx="8152920" cy="52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92280"/>
                    <a:ext cx="8152920" cy="52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TextBox 2"/>
          <p:cNvSpPr/>
          <p:nvPr/>
        </p:nvSpPr>
        <p:spPr>
          <a:xfrm>
            <a:off x="2411280" y="2246400"/>
            <a:ext cx="18712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Желтые 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3"/>
          <p:cNvSpPr/>
          <p:nvPr/>
        </p:nvSpPr>
        <p:spPr>
          <a:xfrm>
            <a:off x="5292720" y="2297160"/>
            <a:ext cx="2015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Редкие 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ftr" idx="3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1" descr=""/>
          <p:cNvPicPr/>
          <p:nvPr/>
        </p:nvPicPr>
        <p:blipFill>
          <a:blip r:embed="rId1"/>
          <a:stretch/>
        </p:blipFill>
        <p:spPr>
          <a:xfrm>
            <a:off x="902520" y="204480"/>
            <a:ext cx="7338600" cy="5788080"/>
          </a:xfrm>
          <a:prstGeom prst="rect">
            <a:avLst/>
          </a:prstGeom>
          <a:ln w="0">
            <a:noFill/>
          </a:ln>
        </p:spPr>
      </p:pic>
      <p:sp>
        <p:nvSpPr>
          <p:cNvPr id="326" name="TextBox 2"/>
          <p:cNvSpPr/>
          <p:nvPr/>
        </p:nvSpPr>
        <p:spPr>
          <a:xfrm>
            <a:off x="1332000" y="5918760"/>
            <a:ext cx="6479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мурский  тиг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ftr" idx="3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Рисунок 1" descr=""/>
          <p:cNvPicPr/>
          <p:nvPr/>
        </p:nvPicPr>
        <p:blipFill>
          <a:blip r:embed="rId1"/>
          <a:stretch/>
        </p:blipFill>
        <p:spPr>
          <a:xfrm>
            <a:off x="539640" y="478800"/>
            <a:ext cx="8064360" cy="5022360"/>
          </a:xfrm>
          <a:prstGeom prst="rect">
            <a:avLst/>
          </a:prstGeom>
          <a:ln w="0">
            <a:noFill/>
          </a:ln>
        </p:spPr>
      </p:pic>
      <p:sp>
        <p:nvSpPr>
          <p:cNvPr id="329" name="TextBox 2"/>
          <p:cNvSpPr/>
          <p:nvPr/>
        </p:nvSpPr>
        <p:spPr>
          <a:xfrm>
            <a:off x="2124000" y="5589720"/>
            <a:ext cx="5111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р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Рисунок 1" descr=""/>
          <p:cNvPicPr/>
          <p:nvPr/>
        </p:nvPicPr>
        <p:blipFill>
          <a:blip r:embed="rId1"/>
          <a:stretch/>
        </p:blipFill>
        <p:spPr>
          <a:xfrm>
            <a:off x="895320" y="260280"/>
            <a:ext cx="4624200" cy="6165360"/>
          </a:xfrm>
          <a:prstGeom prst="rect">
            <a:avLst/>
          </a:prstGeom>
          <a:ln w="0">
            <a:noFill/>
          </a:ln>
        </p:spPr>
      </p:pic>
      <p:sp>
        <p:nvSpPr>
          <p:cNvPr id="332" name="TextBox 2"/>
          <p:cNvSpPr/>
          <p:nvPr/>
        </p:nvSpPr>
        <p:spPr>
          <a:xfrm>
            <a:off x="6012000" y="4797360"/>
            <a:ext cx="26636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л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урав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ftr" idx="39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4" name="Объект 1"/>
          <p:cNvGraphicFramePr/>
          <p:nvPr/>
        </p:nvGraphicFramePr>
        <p:xfrm>
          <a:off x="495360" y="990720"/>
          <a:ext cx="81529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990720"/>
                    <a:ext cx="815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TextBox 2"/>
          <p:cNvSpPr/>
          <p:nvPr/>
        </p:nvSpPr>
        <p:spPr>
          <a:xfrm>
            <a:off x="2411640" y="2205000"/>
            <a:ext cx="2088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рые 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3"/>
          <p:cNvSpPr/>
          <p:nvPr/>
        </p:nvSpPr>
        <p:spPr>
          <a:xfrm>
            <a:off x="4519080" y="2205000"/>
            <a:ext cx="3024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лоизвестные 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ftr" idx="4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357120" y="4500720"/>
            <a:ext cx="857232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chemeClr val="accent4">
                    <a:lumMod val="50000"/>
                  </a:schemeClr>
                </a:solidFill>
                <a:latin typeface="Franklin Gothic Book"/>
              </a:rPr>
              <a:t>Международная  Красная  книга  издана  в  1963 году  и хранится в швейцарском городе Морхе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79" name="Picture 10" descr=""/>
          <p:cNvPicPr/>
          <p:nvPr/>
        </p:nvPicPr>
        <p:blipFill>
          <a:blip r:embed="rId1"/>
          <a:stretch/>
        </p:blipFill>
        <p:spPr>
          <a:xfrm>
            <a:off x="5619600" y="620640"/>
            <a:ext cx="2916000" cy="3436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9" descr=""/>
          <p:cNvPicPr/>
          <p:nvPr/>
        </p:nvPicPr>
        <p:blipFill>
          <a:blip r:embed="rId2"/>
          <a:stretch/>
        </p:blipFill>
        <p:spPr>
          <a:xfrm>
            <a:off x="683640" y="773640"/>
            <a:ext cx="4174920" cy="31309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2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Рисунок 1" descr=""/>
          <p:cNvPicPr/>
          <p:nvPr/>
        </p:nvPicPr>
        <p:blipFill>
          <a:blip r:embed="rId1"/>
          <a:stretch/>
        </p:blipFill>
        <p:spPr>
          <a:xfrm>
            <a:off x="899640" y="333360"/>
            <a:ext cx="7271640" cy="5417280"/>
          </a:xfrm>
          <a:prstGeom prst="rect">
            <a:avLst/>
          </a:prstGeom>
          <a:ln w="0">
            <a:noFill/>
          </a:ln>
        </p:spPr>
      </p:pic>
      <p:sp>
        <p:nvSpPr>
          <p:cNvPr id="340" name="TextBox 2"/>
          <p:cNvSpPr/>
          <p:nvPr/>
        </p:nvSpPr>
        <p:spPr>
          <a:xfrm>
            <a:off x="1787400" y="5732640"/>
            <a:ext cx="6119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новая  черепах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Рисунок 1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703640" cy="4949640"/>
          </a:xfrm>
          <a:prstGeom prst="rect">
            <a:avLst/>
          </a:prstGeom>
          <a:ln w="0">
            <a:noFill/>
          </a:ln>
        </p:spPr>
      </p:pic>
      <p:sp>
        <p:nvSpPr>
          <p:cNvPr id="343" name="TextBox 2"/>
          <p:cNvSpPr/>
          <p:nvPr/>
        </p:nvSpPr>
        <p:spPr>
          <a:xfrm>
            <a:off x="1800360" y="5732640"/>
            <a:ext cx="5616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ук-ол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ftr" idx="4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Объект 1"/>
          <p:cNvGraphicFramePr/>
          <p:nvPr/>
        </p:nvGraphicFramePr>
        <p:xfrm>
          <a:off x="495360" y="990720"/>
          <a:ext cx="81529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990720"/>
                    <a:ext cx="815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TextBox 2"/>
          <p:cNvSpPr/>
          <p:nvPr/>
        </p:nvSpPr>
        <p:spPr>
          <a:xfrm>
            <a:off x="5148000" y="2421000"/>
            <a:ext cx="2880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Быстр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исчезающие 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3"/>
          <p:cNvSpPr/>
          <p:nvPr/>
        </p:nvSpPr>
        <p:spPr>
          <a:xfrm>
            <a:off x="2411280" y="2421000"/>
            <a:ext cx="1944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Белые 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ftr" idx="4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Рисунок 1" descr=""/>
          <p:cNvPicPr/>
          <p:nvPr/>
        </p:nvPicPr>
        <p:blipFill>
          <a:blip r:embed="rId1"/>
          <a:stretch/>
        </p:blipFill>
        <p:spPr>
          <a:xfrm>
            <a:off x="611640" y="189000"/>
            <a:ext cx="7810920" cy="5631480"/>
          </a:xfrm>
          <a:prstGeom prst="rect">
            <a:avLst/>
          </a:prstGeom>
          <a:ln w="0">
            <a:noFill/>
          </a:ln>
        </p:spPr>
      </p:pic>
      <p:sp>
        <p:nvSpPr>
          <p:cNvPr id="351" name="TextBox 2"/>
          <p:cNvSpPr/>
          <p:nvPr/>
        </p:nvSpPr>
        <p:spPr>
          <a:xfrm>
            <a:off x="1332000" y="5877000"/>
            <a:ext cx="6768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лый  медве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Рисунок 1" descr=""/>
          <p:cNvPicPr/>
          <p:nvPr/>
        </p:nvPicPr>
        <p:blipFill>
          <a:blip r:embed="rId1"/>
          <a:stretch/>
        </p:blipFill>
        <p:spPr>
          <a:xfrm>
            <a:off x="750240" y="405000"/>
            <a:ext cx="7787880" cy="5006520"/>
          </a:xfrm>
          <a:prstGeom prst="rect">
            <a:avLst/>
          </a:prstGeom>
          <a:ln w="0">
            <a:noFill/>
          </a:ln>
        </p:spPr>
      </p:pic>
      <p:sp>
        <p:nvSpPr>
          <p:cNvPr id="354" name="TextBox 2"/>
          <p:cNvSpPr/>
          <p:nvPr/>
        </p:nvSpPr>
        <p:spPr>
          <a:xfrm>
            <a:off x="1403280" y="5732640"/>
            <a:ext cx="6481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нежный  бар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ftr" idx="4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1" descr=""/>
          <p:cNvPicPr/>
          <p:nvPr/>
        </p:nvPicPr>
        <p:blipFill>
          <a:blip r:embed="rId1"/>
          <a:stretch/>
        </p:blipFill>
        <p:spPr>
          <a:xfrm>
            <a:off x="844200" y="404640"/>
            <a:ext cx="7485120" cy="5346360"/>
          </a:xfrm>
          <a:prstGeom prst="rect">
            <a:avLst/>
          </a:prstGeom>
          <a:ln w="0">
            <a:noFill/>
          </a:ln>
        </p:spPr>
      </p:pic>
      <p:sp>
        <p:nvSpPr>
          <p:cNvPr id="357" name="TextBox 2"/>
          <p:cNvSpPr/>
          <p:nvPr/>
        </p:nvSpPr>
        <p:spPr>
          <a:xfrm>
            <a:off x="1382400" y="5877360"/>
            <a:ext cx="6408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ламин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ftr" idx="4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Объект 1"/>
          <p:cNvGraphicFramePr/>
          <p:nvPr/>
        </p:nvGraphicFramePr>
        <p:xfrm>
          <a:off x="495360" y="990720"/>
          <a:ext cx="81529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990720"/>
                    <a:ext cx="815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TextBox 2"/>
          <p:cNvSpPr/>
          <p:nvPr/>
        </p:nvSpPr>
        <p:spPr>
          <a:xfrm>
            <a:off x="4428000" y="2423880"/>
            <a:ext cx="32414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Восстановленные 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2411280" y="2349360"/>
            <a:ext cx="19429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Зелёные 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1" descr=""/>
          <p:cNvPicPr/>
          <p:nvPr/>
        </p:nvPicPr>
        <p:blipFill>
          <a:blip r:embed="rId1"/>
          <a:stretch/>
        </p:blipFill>
        <p:spPr>
          <a:xfrm>
            <a:off x="683640" y="411120"/>
            <a:ext cx="7774920" cy="54320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2"/>
          <p:cNvSpPr/>
          <p:nvPr/>
        </p:nvSpPr>
        <p:spPr>
          <a:xfrm>
            <a:off x="1862280" y="5877000"/>
            <a:ext cx="6192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урый  медве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ftr" idx="4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Рисунок 1" descr=""/>
          <p:cNvPicPr/>
          <p:nvPr/>
        </p:nvPicPr>
        <p:blipFill>
          <a:blip r:embed="rId1"/>
          <a:stretch/>
        </p:blipFill>
        <p:spPr>
          <a:xfrm>
            <a:off x="827640" y="2667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368" name="TextBox 2"/>
          <p:cNvSpPr/>
          <p:nvPr/>
        </p:nvSpPr>
        <p:spPr>
          <a:xfrm>
            <a:off x="1620000" y="5991480"/>
            <a:ext cx="6048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л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ftr" idx="49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1" descr=""/>
          <p:cNvPicPr/>
          <p:nvPr/>
        </p:nvPicPr>
        <p:blipFill>
          <a:blip r:embed="rId1"/>
          <a:stretch/>
        </p:blipFill>
        <p:spPr>
          <a:xfrm>
            <a:off x="587520" y="260640"/>
            <a:ext cx="8112240" cy="5544360"/>
          </a:xfrm>
          <a:prstGeom prst="rect">
            <a:avLst/>
          </a:prstGeom>
          <a:ln w="0">
            <a:noFill/>
          </a:ln>
        </p:spPr>
      </p:pic>
      <p:sp>
        <p:nvSpPr>
          <p:cNvPr id="371" name="TextBox 2"/>
          <p:cNvSpPr/>
          <p:nvPr/>
        </p:nvSpPr>
        <p:spPr>
          <a:xfrm>
            <a:off x="1619640" y="5949360"/>
            <a:ext cx="6048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уб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Рисунок 1" descr=""/>
          <p:cNvPicPr/>
          <p:nvPr/>
        </p:nvPicPr>
        <p:blipFill>
          <a:blip r:embed="rId1"/>
          <a:stretch/>
        </p:blipFill>
        <p:spPr>
          <a:xfrm>
            <a:off x="683640" y="188640"/>
            <a:ext cx="3601800" cy="4511160"/>
          </a:xfrm>
          <a:prstGeom prst="rect">
            <a:avLst/>
          </a:prstGeom>
          <a:ln w="0">
            <a:noFill/>
          </a:ln>
        </p:spPr>
      </p:pic>
      <p:sp>
        <p:nvSpPr>
          <p:cNvPr id="283" name="TextBox 2"/>
          <p:cNvSpPr/>
          <p:nvPr/>
        </p:nvSpPr>
        <p:spPr>
          <a:xfrm>
            <a:off x="167760" y="4663080"/>
            <a:ext cx="89758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Красная  книга  СССР  была  издана  в  1978  году, а Красная  книга  РФ вышла  в  свет  в 2001 го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Рисунок 1" descr=""/>
          <p:cNvPicPr/>
          <p:nvPr/>
        </p:nvPicPr>
        <p:blipFill>
          <a:blip r:embed="rId2"/>
          <a:stretch/>
        </p:blipFill>
        <p:spPr>
          <a:xfrm>
            <a:off x="5292000" y="166680"/>
            <a:ext cx="3166560" cy="44334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ftr" idx="2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57120" y="457200"/>
            <a:ext cx="8634240" cy="16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800" spc="-1" strike="noStrike" cap="all">
                <a:solidFill>
                  <a:srgbClr val="4e3b30"/>
                </a:solidFill>
                <a:latin typeface="Franklin Gothic Medium"/>
              </a:rPr>
              <a:t>В 1997 году издана Красная книга Республики Марий Эл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Содержимое 3" descr="http://presidentusa.ru/images/referat_vosstanie_emelyana_pugacheva_1363_10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14840" y="2357280"/>
            <a:ext cx="3499920" cy="3928680"/>
          </a:xfrm>
          <a:prstGeom prst="rect">
            <a:avLst/>
          </a:prstGeom>
          <a:ln w="9525">
            <a:noFill/>
          </a:ln>
        </p:spPr>
      </p:pic>
      <p:sp>
        <p:nvSpPr>
          <p:cNvPr id="375" name="PlaceHolder 2"/>
          <p:cNvSpPr>
            <a:spLocks noGrp="1"/>
          </p:cNvSpPr>
          <p:nvPr>
            <p:ph type="ftr" idx="51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Рисунок 1" descr="http://serpregion.ru/im1/smena/nov/2011/january/redbookmo7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214200"/>
            <a:ext cx="3857400" cy="2999880"/>
          </a:xfrm>
          <a:prstGeom prst="rect">
            <a:avLst/>
          </a:prstGeom>
          <a:ln w="9525">
            <a:noFill/>
          </a:ln>
        </p:spPr>
      </p:pic>
      <p:pic>
        <p:nvPicPr>
          <p:cNvPr id="377" name="Рисунок 2" descr="http://www.vashsad.ua/i/encyclopedia/218_159/9af2L6g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6200" y="214200"/>
            <a:ext cx="4071600" cy="2999880"/>
          </a:xfrm>
          <a:prstGeom prst="rect">
            <a:avLst/>
          </a:prstGeom>
          <a:ln w="9525">
            <a:noFill/>
          </a:ln>
        </p:spPr>
      </p:pic>
      <p:sp>
        <p:nvSpPr>
          <p:cNvPr id="378" name="TextBox 4"/>
          <p:cNvSpPr/>
          <p:nvPr/>
        </p:nvSpPr>
        <p:spPr>
          <a:xfrm>
            <a:off x="785880" y="2500200"/>
            <a:ext cx="3285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НАДБОРОДНИК  БЕЗЛИСТ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5"/>
          <p:cNvSpPr/>
          <p:nvPr/>
        </p:nvSpPr>
        <p:spPr>
          <a:xfrm>
            <a:off x="5072040" y="2428920"/>
            <a:ext cx="4071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ПЫЛЬЦЕГОЛО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Рисунок 7" descr="http://stat16.privet.ru/lr/0b072e5bc2328e05fbb37ad051304dd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120" y="3429000"/>
            <a:ext cx="3714480" cy="3428640"/>
          </a:xfrm>
          <a:prstGeom prst="rect">
            <a:avLst/>
          </a:prstGeom>
          <a:ln w="9525">
            <a:noFill/>
          </a:ln>
        </p:spPr>
      </p:pic>
      <p:sp>
        <p:nvSpPr>
          <p:cNvPr id="381" name="TextBox 8"/>
          <p:cNvSpPr/>
          <p:nvPr/>
        </p:nvSpPr>
        <p:spPr>
          <a:xfrm>
            <a:off x="357120" y="6072120"/>
            <a:ext cx="4285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ЕНЕРИН БАШМА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Рисунок 9" descr="http://online-media.uni-marburg.de/biologie/nutzpflanzen/christian_gropp/Bilder/Orchis_militaris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86200" y="3357720"/>
            <a:ext cx="4000320" cy="3499920"/>
          </a:xfrm>
          <a:prstGeom prst="rect">
            <a:avLst/>
          </a:prstGeom>
          <a:ln w="9525">
            <a:noFill/>
          </a:ln>
        </p:spPr>
      </p:pic>
      <p:sp>
        <p:nvSpPr>
          <p:cNvPr id="383" name="TextBox 10"/>
          <p:cNvSpPr/>
          <p:nvPr/>
        </p:nvSpPr>
        <p:spPr>
          <a:xfrm>
            <a:off x="4572000" y="6143760"/>
            <a:ext cx="457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ЯТРЫШНИК ШЛЕМОВИ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ftr" idx="5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8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8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8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Місце для зображення 4" descr="http://les-altai.narod.ru/images/434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0"/>
            <a:ext cx="4428720" cy="3928680"/>
          </a:xfrm>
          <a:prstGeom prst="rect">
            <a:avLst/>
          </a:prstGeom>
          <a:ln w="9525">
            <a:noFill/>
          </a:ln>
          <a:effectLst>
            <a:reflection algn="bl" blurRad="1000" dir="5400000" dist="900" endA="500" endPos="10000" rotWithShape="0" stA="49000" sy="-90000"/>
          </a:effectLst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4286160"/>
            <a:ext cx="6786360" cy="7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c00000"/>
                </a:solidFill>
                <a:latin typeface="Bookman Old Style"/>
              </a:rPr>
              <a:t>ЕЖОВИК КОРАЛЛОВИДНЫЙ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714840" y="4857840"/>
            <a:ext cx="5428800" cy="99972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5000"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ВОДЯНОЙ ОРЕХ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88" name="Рисунок 6" descr="http://www.stihi.ru/pics/2013/07/18/770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4920" y="0"/>
            <a:ext cx="4142880" cy="4142880"/>
          </a:xfrm>
          <a:prstGeom prst="rect">
            <a:avLst/>
          </a:prstGeom>
          <a:ln w="9525">
            <a:noFill/>
          </a:ln>
        </p:spPr>
      </p:pic>
      <p:sp>
        <p:nvSpPr>
          <p:cNvPr id="389" name="PlaceHolder 3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47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c00000"/>
                </a:solidFill>
                <a:latin typeface="Franklin Gothic Medium"/>
              </a:rPr>
              <a:t>Из животных в Красную книгу занесена  выхухоль – небольшой водный зверек с красивым ценным мехом. Редким  стал и земляной заяц- мелкий зверек с укороченными  передними и длинными задними конечностями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Содержимое 4" descr="http://pit.dirty.ru/dirty/1/2010/03/30/1300-155057-41341d5ee8769d9cc4b0239b683a822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76240" y="2438280"/>
            <a:ext cx="3047760" cy="3047760"/>
          </a:xfrm>
          <a:prstGeom prst="rect">
            <a:avLst/>
          </a:prstGeom>
          <a:ln w="9525">
            <a:noFill/>
          </a:ln>
        </p:spPr>
      </p:pic>
      <p:pic>
        <p:nvPicPr>
          <p:cNvPr id="392" name="Содержимое 5" descr="http://club.foto.ru/gallery/images/photo/2010/08/07/161293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2230920"/>
            <a:ext cx="4343040" cy="3462480"/>
          </a:xfrm>
          <a:prstGeom prst="rect">
            <a:avLst/>
          </a:prstGeom>
          <a:ln w="9525">
            <a:noFill/>
          </a:ln>
        </p:spPr>
      </p:pic>
      <p:sp>
        <p:nvSpPr>
          <p:cNvPr id="393" name="TextBox 6"/>
          <p:cNvSpPr/>
          <p:nvPr/>
        </p:nvSpPr>
        <p:spPr>
          <a:xfrm>
            <a:off x="428760" y="5643720"/>
            <a:ext cx="3785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ЫХУХ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8"/>
          <p:cNvSpPr/>
          <p:nvPr/>
        </p:nvSpPr>
        <p:spPr>
          <a:xfrm>
            <a:off x="4786200" y="5857920"/>
            <a:ext cx="4000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ЕМЛЯНОЙ ЗАЯ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ftr" idx="5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Місце для зображення 4" descr="http://www.zooclub.ru/attach/wild/461.jpg">
            <a:hlinkClick r:id="rId1"/>
          </p:cNvPr>
          <p:cNvPicPr/>
          <p:nvPr/>
        </p:nvPicPr>
        <p:blipFill>
          <a:blip r:embed="rId2"/>
          <a:srcRect l="0" t="11639" r="0" b="11639"/>
          <a:stretch/>
        </p:blipFill>
        <p:spPr>
          <a:xfrm>
            <a:off x="285840" y="285840"/>
            <a:ext cx="4208040" cy="3357360"/>
          </a:xfrm>
          <a:prstGeom prst="rect">
            <a:avLst/>
          </a:prstGeom>
          <a:ln w="9525">
            <a:noFill/>
          </a:ln>
          <a:effectLst>
            <a:reflection algn="bl" blurRad="1000" dir="5400000" dist="900" endA="500" endPos="10000" rotWithShape="0" stA="49000" sy="-90000"/>
          </a:effectLst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4993920"/>
            <a:ext cx="586692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20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80880" y="5533200"/>
            <a:ext cx="5866920" cy="76788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99" name="Рисунок 5" descr="http://biber.nm.ru/animal/mammalia/predator/kuniza/kuniza/lutr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2040" y="285840"/>
            <a:ext cx="3711960" cy="3214440"/>
          </a:xfrm>
          <a:prstGeom prst="rect">
            <a:avLst/>
          </a:prstGeom>
          <a:ln w="9525">
            <a:noFill/>
          </a:ln>
        </p:spPr>
      </p:pic>
      <p:pic>
        <p:nvPicPr>
          <p:cNvPr id="400" name="Рисунок 6" descr="http://gif-and-jpeg.ru/d/41357-2/jivotniy_mir2697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5840" y="3714840"/>
            <a:ext cx="3928680" cy="3142800"/>
          </a:xfrm>
          <a:prstGeom prst="rect">
            <a:avLst/>
          </a:prstGeom>
          <a:ln w="9525">
            <a:noFill/>
          </a:ln>
        </p:spPr>
      </p:pic>
      <p:sp>
        <p:nvSpPr>
          <p:cNvPr id="401" name="TextBox 7"/>
          <p:cNvSpPr/>
          <p:nvPr/>
        </p:nvSpPr>
        <p:spPr>
          <a:xfrm>
            <a:off x="357120" y="2786040"/>
            <a:ext cx="2999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О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8"/>
          <p:cNvSpPr/>
          <p:nvPr/>
        </p:nvSpPr>
        <p:spPr>
          <a:xfrm>
            <a:off x="714240" y="6072120"/>
            <a:ext cx="3285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БУРУНД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9"/>
          <p:cNvSpPr/>
          <p:nvPr/>
        </p:nvSpPr>
        <p:spPr>
          <a:xfrm>
            <a:off x="6357960" y="2786040"/>
            <a:ext cx="27856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ЫД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Рисунок 10" descr="http://www.rpnrb.ru/sopt/archiv/animals/333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4920" y="3714840"/>
            <a:ext cx="4214520" cy="2857320"/>
          </a:xfrm>
          <a:prstGeom prst="rect">
            <a:avLst/>
          </a:prstGeom>
          <a:ln w="9525">
            <a:noFill/>
          </a:ln>
        </p:spPr>
      </p:pic>
      <p:sp>
        <p:nvSpPr>
          <p:cNvPr id="405" name="TextBox 11"/>
          <p:cNvSpPr/>
          <p:nvPr/>
        </p:nvSpPr>
        <p:spPr>
          <a:xfrm>
            <a:off x="6286680" y="5929200"/>
            <a:ext cx="264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ЕЛКА-ЛЕТЯ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5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Рисунок 1" descr="http://img01.chitalnya.ru/upload2/476/21563404193148016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14200"/>
            <a:ext cx="3857400" cy="3071520"/>
          </a:xfrm>
          <a:prstGeom prst="rect">
            <a:avLst/>
          </a:prstGeom>
          <a:ln w="9525">
            <a:noFill/>
          </a:ln>
        </p:spPr>
      </p:pic>
      <p:pic>
        <p:nvPicPr>
          <p:cNvPr id="408" name="Рисунок 3" descr="http://kireas.org/images/Circaetus%20gallicu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214200"/>
            <a:ext cx="4214520" cy="3142800"/>
          </a:xfrm>
          <a:prstGeom prst="rect">
            <a:avLst/>
          </a:prstGeom>
          <a:ln w="9525">
            <a:noFill/>
          </a:ln>
        </p:spPr>
      </p:pic>
      <p:pic>
        <p:nvPicPr>
          <p:cNvPr id="409" name="Рисунок 4" descr="http://girnyk.at.ua/chornij_lelek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320" y="3500280"/>
            <a:ext cx="3428640" cy="3071520"/>
          </a:xfrm>
          <a:prstGeom prst="rect">
            <a:avLst/>
          </a:prstGeom>
          <a:ln w="9525">
            <a:noFill/>
          </a:ln>
        </p:spPr>
      </p:pic>
      <p:sp>
        <p:nvSpPr>
          <p:cNvPr id="410" name="TextBox 6"/>
          <p:cNvSpPr/>
          <p:nvPr/>
        </p:nvSpPr>
        <p:spPr>
          <a:xfrm>
            <a:off x="357120" y="642960"/>
            <a:ext cx="20714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ОРЕЛ - БЕРК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7"/>
          <p:cNvSpPr/>
          <p:nvPr/>
        </p:nvSpPr>
        <p:spPr>
          <a:xfrm>
            <a:off x="4714920" y="571320"/>
            <a:ext cx="2071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МЕЕ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8"/>
          <p:cNvSpPr/>
          <p:nvPr/>
        </p:nvSpPr>
        <p:spPr>
          <a:xfrm>
            <a:off x="571320" y="3571920"/>
            <a:ext cx="19285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ЧЕРНЫЙ  А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Рисунок 9" descr="http://cdn.bolshoyvopros.ru/files/users/images/34/cb/34cb48310a3c74f918a8bdb84f8388e1.jpg"/>
          <p:cNvPicPr/>
          <p:nvPr/>
        </p:nvPicPr>
        <p:blipFill>
          <a:blip r:embed="rId7"/>
          <a:stretch/>
        </p:blipFill>
        <p:spPr>
          <a:xfrm>
            <a:off x="4572000" y="3500280"/>
            <a:ext cx="4214520" cy="3071520"/>
          </a:xfrm>
          <a:prstGeom prst="rect">
            <a:avLst/>
          </a:prstGeom>
          <a:ln w="9525">
            <a:noFill/>
          </a:ln>
        </p:spPr>
      </p:pic>
      <p:sp>
        <p:nvSpPr>
          <p:cNvPr id="414" name="TextBox 10"/>
          <p:cNvSpPr/>
          <p:nvPr/>
        </p:nvSpPr>
        <p:spPr>
          <a:xfrm>
            <a:off x="6786720" y="5786280"/>
            <a:ext cx="2356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САПС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ftr" idx="5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http://900igr.net/datas/okruzhajuschij-mir/ZHivotnye-Krasnoj-knigi/0018-018-Zapomn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714240"/>
            <a:ext cx="7043400" cy="52858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ftr" idx="5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1"/>
          <p:cNvSpPr/>
          <p:nvPr/>
        </p:nvSpPr>
        <p:spPr>
          <a:xfrm>
            <a:off x="0" y="857160"/>
            <a:ext cx="8857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8000" spc="-1" strike="noStrike">
                <a:solidFill>
                  <a:srgbClr val="c00000"/>
                </a:solidFill>
                <a:latin typeface="Arial"/>
              </a:rPr>
              <a:t>СПАСИБО З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8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ru-RU" sz="8000" spc="-1" strike="noStrike">
                <a:solidFill>
                  <a:srgbClr val="c00000"/>
                </a:solidFill>
                <a:latin typeface="Arial"/>
              </a:rPr>
              <a:t>ВНИМАНИЕ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ftr" idx="5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Рисунок 1" descr=""/>
          <p:cNvPicPr/>
          <p:nvPr/>
        </p:nvPicPr>
        <p:blipFill>
          <a:blip r:embed="rId1"/>
          <a:stretch/>
        </p:blipFill>
        <p:spPr>
          <a:xfrm>
            <a:off x="233280" y="571320"/>
            <a:ext cx="8624880" cy="50716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ftr" idx="2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Рисунок 1" descr=""/>
          <p:cNvPicPr/>
          <p:nvPr/>
        </p:nvPicPr>
        <p:blipFill>
          <a:blip r:embed="rId1"/>
          <a:stretch/>
        </p:blipFill>
        <p:spPr>
          <a:xfrm>
            <a:off x="941040" y="260280"/>
            <a:ext cx="7297200" cy="5128200"/>
          </a:xfrm>
          <a:prstGeom prst="rect">
            <a:avLst/>
          </a:prstGeom>
          <a:ln w="0">
            <a:noFill/>
          </a:ln>
        </p:spPr>
      </p:pic>
      <p:sp>
        <p:nvSpPr>
          <p:cNvPr id="289" name="TextBox 2"/>
          <p:cNvSpPr/>
          <p:nvPr/>
        </p:nvSpPr>
        <p:spPr>
          <a:xfrm>
            <a:off x="785880" y="5643720"/>
            <a:ext cx="7714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анствующий голуб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Рисунок 1" descr=""/>
          <p:cNvPicPr/>
          <p:nvPr/>
        </p:nvPicPr>
        <p:blipFill>
          <a:blip r:embed="rId1"/>
          <a:stretch/>
        </p:blipFill>
        <p:spPr>
          <a:xfrm>
            <a:off x="820800" y="479880"/>
            <a:ext cx="7597440" cy="4205520"/>
          </a:xfrm>
          <a:prstGeom prst="rect">
            <a:avLst/>
          </a:prstGeom>
          <a:ln w="0">
            <a:noFill/>
          </a:ln>
        </p:spPr>
      </p:pic>
      <p:sp>
        <p:nvSpPr>
          <p:cNvPr id="292" name="TextBox 3"/>
          <p:cNvSpPr/>
          <p:nvPr/>
        </p:nvSpPr>
        <p:spPr>
          <a:xfrm>
            <a:off x="1428840" y="5072040"/>
            <a:ext cx="6143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еллерова кор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ftr" idx="2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1" descr=""/>
          <p:cNvPicPr/>
          <p:nvPr/>
        </p:nvPicPr>
        <p:blipFill>
          <a:blip r:embed="rId1"/>
          <a:stretch/>
        </p:blipFill>
        <p:spPr>
          <a:xfrm>
            <a:off x="1187640" y="358200"/>
            <a:ext cx="6657480" cy="5509440"/>
          </a:xfrm>
          <a:prstGeom prst="rect">
            <a:avLst/>
          </a:prstGeom>
          <a:ln w="0">
            <a:noFill/>
          </a:ln>
        </p:spPr>
      </p:pic>
      <p:sp>
        <p:nvSpPr>
          <p:cNvPr id="295" name="TextBox 4"/>
          <p:cNvSpPr/>
          <p:nvPr/>
        </p:nvSpPr>
        <p:spPr>
          <a:xfrm>
            <a:off x="1452600" y="5880240"/>
            <a:ext cx="6192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ольшерогий  ол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ftr" idx="2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Рисунок 1" descr=""/>
          <p:cNvPicPr/>
          <p:nvPr/>
        </p:nvPicPr>
        <p:blipFill>
          <a:blip r:embed="rId1"/>
          <a:stretch/>
        </p:blipFill>
        <p:spPr>
          <a:xfrm>
            <a:off x="611640" y="1052640"/>
            <a:ext cx="7954560" cy="4509720"/>
          </a:xfrm>
          <a:prstGeom prst="rect">
            <a:avLst/>
          </a:prstGeom>
          <a:ln w="0">
            <a:noFill/>
          </a:ln>
        </p:spPr>
      </p:pic>
      <p:sp>
        <p:nvSpPr>
          <p:cNvPr id="298" name="TextBox 2"/>
          <p:cNvSpPr/>
          <p:nvPr/>
        </p:nvSpPr>
        <p:spPr>
          <a:xfrm>
            <a:off x="1015560" y="5833080"/>
            <a:ext cx="6913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блезубый  тиг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Рисунок 1" descr=""/>
          <p:cNvPicPr/>
          <p:nvPr/>
        </p:nvPicPr>
        <p:blipFill>
          <a:blip r:embed="rId1"/>
          <a:stretch/>
        </p:blipFill>
        <p:spPr>
          <a:xfrm>
            <a:off x="611280" y="343800"/>
            <a:ext cx="7848360" cy="4922640"/>
          </a:xfrm>
          <a:prstGeom prst="rect">
            <a:avLst/>
          </a:prstGeom>
          <a:ln w="0">
            <a:noFill/>
          </a:ln>
        </p:spPr>
      </p:pic>
      <p:sp>
        <p:nvSpPr>
          <p:cNvPr id="301" name="TextBox 2"/>
          <p:cNvSpPr/>
          <p:nvPr/>
        </p:nvSpPr>
        <p:spPr>
          <a:xfrm>
            <a:off x="826920" y="5516640"/>
            <a:ext cx="7416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скрылые  гага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ftr" idx="3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1103</TotalTime>
  <Application>LibreOffice/7.4.7.2$Linux_X86_64 LibreOffice_project/40$Build-2</Application>
  <AppVersion>15.0000</AppVersion>
  <Words>600</Words>
  <Paragraphs>276</Paragraphs>
  <Company>IPP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10:16:35Z</dcterms:created>
  <dc:creator>---</dc:creator>
  <dc:description/>
  <dc:language>en-US</dc:language>
  <cp:lastModifiedBy>LEGION</cp:lastModifiedBy>
  <dcterms:modified xsi:type="dcterms:W3CDTF">2015-11-27T10:46:36Z</dcterms:modified>
  <cp:revision>95</cp:revision>
  <dc:subject/>
  <dc:title>Красная книга Краснодарского кра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7</vt:r8>
  </property>
  <property fmtid="{D5CDD505-2E9C-101B-9397-08002B2CF9AE}" pid="3" name="PresentationFormat">
    <vt:lpwstr>Екран (4:3)</vt:lpwstr>
  </property>
  <property fmtid="{D5CDD505-2E9C-101B-9397-08002B2CF9AE}" pid="4" name="Slides">
    <vt:r8>37</vt:r8>
  </property>
</Properties>
</file>