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C0C3-04D8-4008-A99D-7C6BACB96A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Волобуева Юлия 7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на тему:разнообразие па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зентация на тему:разнообразие паук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ядовиты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ная вд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о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ahoma"/>
              </a:rPr>
              <a:t>спосибо за внимани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BE7-9883-4A54-8CC5-C673980A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CC0-F046-4B9C-ABDB-C0F61C03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9F2-5B99-4CBA-95A4-A1FF853B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9DB-AFE3-4623-B38A-7213A0CB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5A204-58C7-47B6-B5C6-CAC90BE2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958B1-8894-4012-A036-03B1D8B8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8B2C6-3DD4-47ED-B43E-4137FD7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E09AC-B4EE-4582-A769-A60934EB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46F22-F038-4969-A900-8F18D33B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596CC-F52D-4F7B-84AA-BE44999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8C4F7-0308-4126-8CDC-BB2106D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471-1DED-416C-872C-8B5DD7A5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81A23-1307-4C0D-BB6D-451C53A1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7FF29-0FAC-49D4-8BA1-2C97506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074A9-A0CF-4EA1-A619-FF25D8D5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5BEB6-B262-4D12-991D-9E860228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259AC-D92D-4502-8056-8CD0DAEA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042-90E8-4133-89AE-1FD4F435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C2F-D9F2-4BDF-8CD0-41BE9522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869-1906-4AFC-9DA1-03B606F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8AE-C046-46F9-B162-9108AEFF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B39-360B-4810-9571-939358E4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1D4-69CC-47D4-9A31-B4A2F645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1A5-D0BD-4CBC-B9C5-FA2C8C61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47A0-5DB1-47CA-987B-279D21B1D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1F9F-44EA-426B-9C00-7EECFA92E2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24000" y="1484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на тему:разнообразие пау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888000" cy="40338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989000"/>
            <a:ext cx="54705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о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9:44Z</dcterms:created>
  <dc:creator>Admin</dc:creator>
  <dc:description/>
  <dc:language>en-US</dc:language>
  <cp:lastModifiedBy>LEGION</cp:lastModifiedBy>
  <dcterms:modified xsi:type="dcterms:W3CDTF">2015-11-27T10:45:39Z</dcterms:modified>
  <cp:revision>5</cp:revision>
  <dc:subject/>
  <dc:title>Презентация на тему разнообразие пауков</dc:title>
</cp:coreProperties>
</file>