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6FEEE-A545-48A4-80CE-83D484FCCD3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итель Волобуева Юлия 7 «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я на тему:разнообразие пау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Представитель Волобуева Юлия 7 «А»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презентация на тему:разнообразие пауков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у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яд класса паукообразных, включающего также клещей, скорпионов, сенокосцев и т.д. Пауки по ряду признаков близки к насекомым, но четко от них отличаются, и связаны эти группы лишь весьма отдаленным родством. Хорошо известная характерная особенность многих пауков - умение плести сложно устроенные ловчие сети (тенета) из шелкоподобного вещества, выделяемого паутинными желез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пауки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отряд класса паукообразных, включающего также клещей, скорпионов, сенокосцев и т.д. Пауки по ряду признаков близки к насекомым, но четко от них отличаются, и связаны эти группы лишь весьма отдаленным родством. Хорошо известная характерная особенность многих пауков - умение плести сложно устроенные ловчие сети (тенета) из шелкоподобного вещества, выделяемого паутинными железами.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й большой паук в ми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е большие пауки – птицееды терафоза Блонда, размах ног может достигать 25 см, а длина туловища – 9 см. Этот паук способен нападать даже на змей небольших размеров, что уже говорить о ящерицах и птицах. Самый крупный представитель этого вида был найден в 1965 году в Венесуэле. Размах лап этого гиганта достигал 28 сантимет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Самый большой паук в мире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Самые большие пауки – птицееды терафоза Блонда, размах ног может достигать 25 см, а длина туловища – 9 см. Этот паук способен нападать даже на змей небольших размеров, что уже говорить о ящерицах и птицах. Самый крупный представитель этого вида был найден в 1965 году в Венесуэле. Размах лап этого гиганта достигал 28 сантиметров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й большой паук в ми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Самый большой паук в мире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й ядовитый пау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м ядовитым пауком в мире, по версии Книги рекордов Гиннеса, считается "Бразильский странствующий паук".  Своё название этот паук получил за то, что не сидит на одном месте и не плетёт паутины, а активно перемещается в поисках пропитания. Другим крайне опасным пауком считается Чёрная вдова - которого можно встретить на Кавказе и в Кры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Самый ядовитый паук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Самым ядовитым пауком в мире, по версии Книги рекордов Гиннеса, считается "Бразильский странствующий паук".  Своё название этот паук получил за то, что не сидит на одном месте и не плетёт паутины, а активно перемещается в поисках пропитания. Другим крайне опасным пауком считается Чёрная вдова - которого можно встретить на Кавказе и в Крыму.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азильский странствующий пау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азильский странствующий паук (Phoneutria) - быстрый, очень активный и самое главное - ядовитый. Бразильское название животного: aranha armadeira, aranha de bananeira (аранья армадейра, аранья де бананейра) - вооруженный паук или банановый пау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Бразильский странствующий паук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Бразильский странствующий паук (Phoneutria) - быстрый, очень активный и самое главное - ядовитый. Бразильское название животного: aranha armadeira, aranha de bananeira (аранья армадейра, аранья де бананейра) - вооруженный паук или банановый паук. 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ная вд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ёрная вдова, или южная чёрная вдова (лат. Latrodectus mactans) — вид ядовитых арахнидов, распространённых в Америке. Взрослый паук окрашен в черный цвет. На особях, в основном, расположены красные пятна или длинное красное пятно. У неполовозрелых самок на брюшке присутствуют красные пятна с белой обвод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Черная вдова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Чёрная вдова, или южная чёрная вдова (лат. Latrodectus mactans) — вид ядовитых арахнидов, распространённых в Америке. Взрослый паук окрашен в черный цвет. На особях, в основном, расположены красные пятна или длинное красное пятно. У неполовозрелых самок на брюшке присутствуют красные пятна с белой обводкой.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посибо за вним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Tahoma"/>
              </a:rPr>
              <a:t>спосибо за внимание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E1C2-E2B2-4400-AC1C-F9ECA4016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AB12-C1E8-4F0D-8857-7E94A6EB5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8BFA-9EE4-4D6C-B67D-09152DF58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7900-7685-4346-B5BA-5035CDEAA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80F818-7422-4B42-A1EF-66E926FB9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53C2AD-F950-4CFB-B8A6-1F7EA9B60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4A2E94-BDC8-49BC-BD40-793EAF003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945E6C-CD94-421B-AD94-211867F29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B41761-FFC6-452B-8D7B-72AC29F62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573418-912D-4018-A348-5E508CA65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869154-A2B3-4E88-B2CD-FD5C9DD1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5F9A-8F83-48BF-B018-B967E2DEE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A3F6D2-286D-41AF-842C-F162AE5D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90B482-DF0A-414C-A9ED-2B797FB4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F899BD-AE15-47E8-893B-0EF7BAF77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CEA0B0-2332-4A20-9AD2-6C644FA0B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F302A6-1AAF-46DC-90B1-44A44FB6B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F60E-2B53-487E-A513-7301E5DEA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438F-690A-483E-9132-1858818C9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2A81-1949-4012-9DE7-3489959C4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D614-5603-4322-8DF5-F7E259D2A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FC81-CDDA-4060-899B-84F84A8D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DE63-8948-4BB0-965E-7580435F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6183-8E46-459E-A468-7C462712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B23B-63DF-4350-AA32-5E30339F30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C8518-D637-4220-A580-A38B798B939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50560" y="3886200"/>
            <a:ext cx="8713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дставитель Волобуева Юлия 7 «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WordArt 6"/>
          <p:cNvSpPr txBox="1"/>
          <p:nvPr/>
        </p:nvSpPr>
        <p:spPr>
          <a:xfrm>
            <a:off x="324000" y="1484280"/>
            <a:ext cx="8569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езентация на тему:разнообразие пауков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ау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ряд класса паукообразных, включающего также клещей, скорпионов, сенокосцев и т.д. Пауки по ряду признаков близки к насекомым, но четко от них отличаются, и связаны эти группы лишь весьма отдаленным родством. Хорошо известная характерная особенность многих пауков - умение плести сложно устроенные ловчие сети (тенета) из шелкоподобного вещества, выделяемого паутинными железа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амый большой паук в мир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амые большие пауки – птицееды терафоза Блонда, размах ног может достигать 25 см, а длина туловища – 9 см. Этот паук способен нападать даже на змей небольших размеров, что уже говорить о ящерицах и птицах. Самый крупный представитель этого вида был найден в 1965 году в Венесуэле. Размах лап этого гиганта достигал 28 сантиметр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амый большой паук в мир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1835280" y="1773360"/>
            <a:ext cx="5400720" cy="405108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амый ядовитый пау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амым ядовитым пауком в мире, по версии Книги рекордов Гиннеса, считается "Бразильский странствующий паук".  Своё название этот паук получил за то, что не сидит на одном месте и не плетёт паутины, а активно перемещается в поисках пропитания. Другим крайне опасным пауком считается Чёрная вдова - которого можно встретить на Кавказе и в Крым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Бразильский странствующий пау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разильский странствующий паук (Phoneutria) - быстрый, очень активный и самое главное - ядовитый. Бразильское название животного: aranha armadeira, aranha de bananeira (аранья армадейра, аранья де бананейра) - вооруженный паук или банановый паук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"/>
          <p:cNvPicPr/>
          <p:nvPr/>
        </p:nvPicPr>
        <p:blipFill>
          <a:blip r:embed="rId2"/>
          <a:stretch/>
        </p:blipFill>
        <p:spPr>
          <a:xfrm>
            <a:off x="4716360" y="1916280"/>
            <a:ext cx="3888000" cy="403380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Черная вдов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ёрная вдова, или южная чёрная вдова (лат. Latrodectus mactans) — вид ядовитых арахнидов, распространённых в Америке. Взрослый паук окрашен в черный цвет. На особях, в основном, расположены красные пятна или длинное красное пятно. У неполовозрелых самок на брюшке присутствуют красные пятна с белой обводко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6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4038480" cy="41148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4"/>
          <p:cNvSpPr txBox="1"/>
          <p:nvPr/>
        </p:nvSpPr>
        <p:spPr>
          <a:xfrm>
            <a:off x="1835280" y="1989000"/>
            <a:ext cx="547056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спосибо за внима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7:49:44Z</dcterms:created>
  <dc:creator>Admin</dc:creator>
  <dc:description/>
  <dc:language>en-US</dc:language>
  <cp:lastModifiedBy>LEGION</cp:lastModifiedBy>
  <dcterms:modified xsi:type="dcterms:W3CDTF">2015-11-27T10:45:39Z</dcterms:modified>
  <cp:revision>5</cp:revision>
  <dc:subject/>
  <dc:title>Презентация на тему разнообразие пауков</dc:title>
</cp:coreProperties>
</file>