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D494-9FCC-4C9B-8810-2CEE4727E4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Волобуева Юлия 7 «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на тему:разнообразие па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резентация на тему:разнообразие паук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большой паук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ядовиты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ная вд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о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Tahoma"/>
              </a:rPr>
              <a:t>спосибо за внимание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220-07A4-443C-8C35-765DCD8F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4A4-34F0-4968-8E02-50E908D8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327-CB68-4D6F-BA1E-9E555F74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F2F-63B7-4B93-8F30-FAA31A20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799F5-328A-428C-95D2-CD1CC0FF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1D24F-6381-4132-8BF8-3FB01BB3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757BA-682B-4F68-AF31-3D813880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EA70F-17EF-4695-9C71-B9CFE18B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38560-3932-4BD7-A02D-9B26D09A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0E61B-BFB8-4D2B-98BC-B6F34C9F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AEE22-947C-4859-99A2-21C36590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857-8B78-44CA-B895-77CE8533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AE939-AEDD-46C0-86BA-51C8F1EA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E64A1-DB5B-4903-BEAE-5605D851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CC8BD-5B10-4FCD-855B-602C8CE9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9201E-CFB4-482A-AB31-45A4BBB0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C982-05C6-4593-9F5C-582694A5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91A-5203-4FFB-AEB8-B4FF876D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5DD-DA9F-4E56-BA3A-8ED8E8C8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06E-69ED-4500-99A9-79A3035D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F96-712C-4978-8A63-7A2051F5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7F3-A2B1-4ECD-B85F-81764E2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3C44-2E85-4F9D-AE2F-477D62D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091-EDE9-4BDF-9840-E9CF8749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A790-5DA9-4588-A7DB-8E5562EDE1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B6F4-E27D-4F14-B6A9-CE0836ADE8C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Волобуева Юлия 7 «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324000" y="1484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 на тему:разнообразие паук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у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яд класса паукообразных, включающего также клещей, скорпионов, сенокосцев и т.д. Пауки по ряду признаков близки к насекомым, но четко от них отличаются, и связаны эти группы лишь весьма отдаленным родством. Хорошо известная характерная особенность многих пауков - умение плести сложно устроенные ловчие сети (тенета) из шелкоподобного вещества, выделяемого паутинными желез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е большие пауки – птицееды терафоза Блонда, размах ног может достигать 25 см, а длина туловища – 9 см. Этот паук способен нападать даже на змей небольших размеров, что уже говорить о ящерицах и птицах. Самый крупный представитель этого вида был найден в 1965 году в Венесуэле. Размах лап этого гиганта достигал 28 сантимет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большой паук в мир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400720" cy="40510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амый ядовитый пау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мым ядовитым пауком в мире, по версии Книги рекордов Гиннеса, считается "Бразильский странствующий паук".  Своё название этот паук получил за то, что не сидит на одном месте и не плетёт паутины, а активно перемещается в поисках пропитания. Другим крайне опасным пауком считается Чёрная вдова - которого можно встретить на Кавказе и в Кры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зильский странствующий паук (Phoneutria) - быстрый, очень активный и самое главное - ядовитый. Бразильское название животного: aranha armadeira, aranha de bananeira (аранья армадейра, аранья де бананейра) - вооруженный паук или банановый пау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888000" cy="40338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Черная вдов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ёрная вдова, или южная чёрная вдова (лат. Latrodectus mactans) — вид ядовитых арахнидов, распространённых в Америке. Взрослый паук окрашен в черный цвет. На особях, в основном, расположены красные пятна или длинное красное пятно. У неполовозрелых самок на брюшке присутствуют красные пятна с белой обводк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835280" y="1989000"/>
            <a:ext cx="54705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осибо 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49:44Z</dcterms:created>
  <dc:creator>Admin</dc:creator>
  <dc:description/>
  <dc:language>en-US</dc:language>
  <cp:lastModifiedBy>LEGION</cp:lastModifiedBy>
  <dcterms:modified xsi:type="dcterms:W3CDTF">2015-11-27T10:45:39Z</dcterms:modified>
  <cp:revision>5</cp:revision>
  <dc:subject/>
  <dc:title>Презентация на тему разнообразие пауков</dc:title>
</cp:coreProperties>
</file>