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wmf" ContentType="image/x-wmf"/>
  <Override PartName="/ppt/media/image4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19.wmf" ContentType="image/x-wmf"/>
  <Override PartName="/ppt/media/image18.jpeg" ContentType="image/jpeg"/>
  <Override PartName="/ppt/media/image6.wmf" ContentType="image/x-wmf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20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C4B5-1ABA-4B52-AA59-04184A1FACC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врем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школьни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в 8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илова Ю.В., 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Остров. Псковская об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современ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школьник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ок биологии в 8 кла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р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нилова Ю.В., учитель би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Остров. Псковская обла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школьника [7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школьника [7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астрономических часах) [8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астрономических часах) [8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4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 текст учебной статьи с.188-1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4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 текст учебной статьи с.188-18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работы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от каждой группы знакомит одноклассников с результатами работы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ние итогов работы груп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ставитель от каждой группы знакомит одноклассников с результатами работы групп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а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бы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ве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гу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а в школе и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ая гиги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по д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мпонен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а дн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быва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 свеж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дух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рогулк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еба в школе и до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грова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 интерес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дых по интерес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мощь по д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режим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вн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р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ро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ганизованны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режим дн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ебн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у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альн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бенк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доровь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вное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др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строе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ворческ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 организованный режим приводи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оспособ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рж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мления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утом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рационально организованный режим приводит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нижен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тоспособ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ерж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а 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аль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ю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омления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утомле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ьно организовать режим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ильно организуйте свое рабоч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авильно организовать режим дн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Правильно организуйте свое рабочее место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Ужинать необходимо не позднее, чем за 1,5-2 ч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Рационально используйте дневные часы, не экономить время за счет с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Обратите внимание на гигиен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. Ужинать необходимо не позднее, чем за 1,5-2 ч до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3. Рационально используйте дневные часы, не экономить время за счет сн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4. Обратите внимание на гигиену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крепл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анкетирова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Закреплени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чебного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значение режима дня для поддержания здоровья и работоспособ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чебного занят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яснить значение режима дня для поддержания здоровья и работоспособ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анкеты «Мой режим дн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полняете ли вы утром физическую зарядку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втракаете ли вы утром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какое время вы обычно учите уро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разу, как прихожу из школ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тдыхаю и только потом начинаю делать уро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бедаю и сажусь за у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колько времени вы затрачиваете на приготовление домашних зада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о 1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1 - 2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2 -3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3 -4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лаете ли вы перерывы при выполнении домашнего задания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ы ложитесь с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21-22.00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22-23.00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осле 23.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Как часто вы просыпаетесь не выспавш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колько часов в день вы смотрите телевизор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1 - 2 часа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3- 4 часа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се свобод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Как обычно вы проводите воскресный де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мотрю телевизор, играю в компьютерные иг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лоняюсь по д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уляю, занимаюсь спор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другое (укажите что имен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Как часто вы стараетесь спланировать свой де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ультаты исследова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анкеты «Мой режим дн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Выполняете ли вы утром физическую зарядку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втракаете ли вы утром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В какое время вы обычно учите уро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сразу, как прихожу из школы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отдыхаю и только потом начинаю делать урок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бедаю и сажусь за уро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Сколько времени вы затрачиваете на приготовление домашних задани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до 1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1 - 2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2 -3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3 -4 ча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Делаете ли вы перерывы при выполнении домашнего задания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Вы ложитесь спа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 21-22.00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в 22-23.00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осле 23.0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Как часто вы просыпаетесь не выспавшись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Сколько часов в день вы смотрите телевизор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1 - 2 часа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3- 4 часа;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все свободное врем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. Как обычно вы проводите воскресный день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смотрю телевизор, играю в компьютерные игр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слоняюсь по дом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гуляю, занимаюсь спорто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другое (укажите что именно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.Как часто вы стараетесь спланировать свой ден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тельная активность как компонент режима дн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гательная активность как компонент режима дн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питание основа нормального физического и нервно-психического развит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трак - обязательный компонент режима дн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е питание основа нормального физического и нервно-психического развития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трак - обязательный компонент режима дня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день школьника состоит из занятий в школе и приготовления уроков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чий день школьника состоит из занятий в школе и приготовления уроков дом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время школьников может быть отведено занятиям в кружках, спортивных секциях, клуб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вободное время школьников может быть отведено занятиям в кружках, спортивных секциях, клуба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- это режим жиз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- это режим жизн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урока. 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ление оценок учителем в журнал, их аргумент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§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вой распорядок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тоги урока. 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ставление оценок учителем в журнал, их аргументац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читать §6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ить свой распорядок дн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злов В. И. Береги   здоровье   смолоду. — М.: Физкультура    и     спорт, 1987. —32 с.,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http://www.tspu.tula.ru/res/fizvosp/hygiene/g_4htm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http://upr.1september.ru/2005/22/14.htm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терату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Козлов В. И. Береги   здоровье   смолоду. — М.: Физкультура    и     спорт, 1987. —32 с.,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http://www.tspu.tula.ru/res/fizvosp/hygiene/g_4htm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http://upr.1september.ru/2005/22/14.htm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формированию представления о режиме дня, его основных компонен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обучению школьников умению  составить свой режим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навыков работы с текстом, анализа, сравнения, обобщ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агандировать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ч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овать формированию представления о режиме дня, его основных компонента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овать обучению школьников умению  составить свой режим дн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ов работы с текстом, анализа, сравнения, обобщени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пагандировать здоровый образ жиз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становка и решение учебных задач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же такое режим дня? Реально ли выполнение строгого режим д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остановка и решение учебных задач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же такое режим дня? Реально ли выполнение строгого режим дня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- это распределение времени на все виды суточной деятельности и отдыха с учетом возраста, состояния здоровья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е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- это распределение времени на все виды суточной деятельности и отдыха с учетом возраста, состояния здоровья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обенностей лич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учение нового матери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ся работа в группах по 5 челов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Изучение нового материала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ганизуется работа в группах по 5 челове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1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ответ на вопрос: «Какие факторы влияют на режим дня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хему «Основными компонентами режима дня школь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1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йдите ответ на вопрос: «Какие факторы влияют на режим дня?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ьте схему «Основными компонентами режима дня школьник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айдите ответы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чего необходим режим 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 чему приводит нерационально организованный режим 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запишите в виде сх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2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Найдите ответы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Для чего необходим режим 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К чему приводит нерационально организованный режим 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ы запишите в виде сх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3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пишите в тетради свой распорядок дня и сравните его с рекомендова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делайте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ьно составить режим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3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пишите в тетради свой распорядок дня и сравните его с рекомендованны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Сделайте выво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авильно составить режим дн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215-7DF7-4DBB-81D7-89AF1746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0C45-CEB4-4EA0-9E8C-2246064F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25D-CFA6-4146-A7C5-00DB2EEE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F27-8B8F-425F-8B01-382BAF33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DED-B632-4881-BE52-A8C25CD1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BA2-AE10-4C72-B0AA-2AFF342F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3E9-12A0-49E1-96FE-36E3B9BB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CE1-13A1-4085-BB3D-81FA8ACD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4E5-2188-419F-8384-007D937C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D08-92AE-4ADB-A192-212B9127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AD73-6A0D-465E-B555-F240E741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8CB-C78E-4774-B5E8-488175CD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81CA-1E29-4D69-85BF-CA237884CB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tspu.tula.ru/res/fizvosp/hygiene/g_4htm" TargetMode="External"/><Relationship Id="rId2" Type="http://schemas.openxmlformats.org/officeDocument/2006/relationships/hyperlink" Target="http://upr.1september.ru/2005/22/14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ежим дня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современного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школьник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рок биологии в 8 класс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365360"/>
            <a:ext cx="6400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Автор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Данилова Ю.В., учитель биолог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г.Остров. Псковская обла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жим дня школьник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[7]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684360" y="333360"/>
          <a:ext cx="7559640" cy="939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559640" cy="939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(в астрономических часах)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[8]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1187280" y="1413000"/>
          <a:ext cx="7272360" cy="66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7272360" cy="66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4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рочитайте  текст учебной статьи с.188-18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дведение итогов работы груп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тель от каждой группы знакомит одноклассников с результатами работы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2"/>
          <p:cNvSpPr/>
          <p:nvPr/>
        </p:nvSpPr>
        <p:spPr>
          <a:xfrm>
            <a:off x="3276720" y="1844640"/>
            <a:ext cx="2735280" cy="2665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Основ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компонен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режима д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школь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84360" y="119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79280" y="2924280"/>
            <a:ext cx="25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бы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свеж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дух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прогул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940360" y="98100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а в школе и до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659640" y="2924280"/>
            <a:ext cx="30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ов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ятель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интерес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372360" y="551664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дых по интерес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132000" y="5950080"/>
            <a:ext cx="27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564000" y="189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684360" y="5445000"/>
            <a:ext cx="193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ощь по до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1"/>
          <p:cNvSpPr/>
          <p:nvPr/>
        </p:nvSpPr>
        <p:spPr>
          <a:xfrm flipH="1">
            <a:off x="2339640" y="3645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2"/>
          <p:cNvSpPr/>
          <p:nvPr/>
        </p:nvSpPr>
        <p:spPr>
          <a:xfrm flipH="1">
            <a:off x="2339640" y="4437000"/>
            <a:ext cx="1079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5724360" y="4508640"/>
            <a:ext cx="11527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643280" y="51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3348000" y="2349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16"/>
          <p:cNvSpPr/>
          <p:nvPr/>
        </p:nvSpPr>
        <p:spPr>
          <a:xfrm flipH="1" flipV="1">
            <a:off x="2050560" y="1844640"/>
            <a:ext cx="12258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 flipV="1">
            <a:off x="5940360" y="1773000"/>
            <a:ext cx="1368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8"/>
          <p:cNvSpPr/>
          <p:nvPr/>
        </p:nvSpPr>
        <p:spPr>
          <a:xfrm flipV="1">
            <a:off x="4572000" y="76500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4500720" y="4653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6084720" y="3573360"/>
            <a:ext cx="57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700360" y="2852640"/>
            <a:ext cx="3672000" cy="2158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Прави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организованный</a:t>
            </a: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 режим д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324000" y="1268280"/>
            <a:ext cx="2736720" cy="158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б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324000" y="5157720"/>
            <a:ext cx="2663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особству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рмально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бен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3203640" y="260280"/>
            <a:ext cx="2663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храня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доровь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6227640" y="1341360"/>
            <a:ext cx="2664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вно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др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стро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227640" y="5084640"/>
            <a:ext cx="2664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зда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ворческ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Нерационально организованный режим приводит к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539640" y="3141720"/>
            <a:ext cx="2664000" cy="143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нижен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ботоспособ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5796000" y="3213000"/>
            <a:ext cx="280836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держ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ста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рмаль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76720" y="4221000"/>
            <a:ext cx="273528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ю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томления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еутомл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7"/>
          <p:cNvSpPr/>
          <p:nvPr/>
        </p:nvSpPr>
        <p:spPr>
          <a:xfrm flipH="1">
            <a:off x="2124000" y="1989000"/>
            <a:ext cx="237672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4643280" y="1989000"/>
            <a:ext cx="24498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4643280" y="2060640"/>
            <a:ext cx="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ак правильно организовать режим дня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8400" y="128592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Правильно организуйте свое рабочее мест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3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3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3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3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3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. Ужинать необходимо не позднее, чем за 1,5-2 ч до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3. Рационально используйте дневные часы, не экономить время за счет с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4. Обратите внимание на гигиену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3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. Закрепление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642600"/>
            <a:ext cx="797256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учебного занят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снить значение режима дня для поддержания здоровья и работоспособ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зультаты исследов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03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cc66"/>
                </a:solidFill>
                <a:uFillTx/>
                <a:latin typeface="Tahoma"/>
              </a:rPr>
              <a:t>Вопросы анкеты «Мой режим дня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1. Выполняете ли вы утром физическую зарядку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2. Завтракаете ли вы утром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3. В какое время вы обычно учите уроки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сразу, как прихожу из школы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отдыхаю и только потом начинаю делать урок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обедаю и сажусь за уро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4. Сколько времени вы затрачиваете на приготовление домашних заданий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до 1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1 - 2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2 -3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г) 3 -4 ча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5. Делаете ли вы перерывы при выполнении домашнего задания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2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4034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6. Вы ложитесь сп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 21-22.00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в 22-23.00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после 23.00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7.Как часто вы просыпаетесь не выспавшис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8. Сколько часов в день вы смотрите телевизор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1 - 2 часа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3- 4 часа;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все свободное врем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9. Как обычно вы проводите воскресный ден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смотрю телевизор, играю в компьютерные игр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слоняюсь по дом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гуляю, занимаюсь спорт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г) другое (укажите что именно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10.Как часто вы стараетесь спланировать свой день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Двигательная активность как компонент режима дня.</a:t>
            </a:r>
            <a:br>
              <a:rPr sz="24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-214200" y="2081160"/>
          <a:ext cx="525924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4200" y="2081160"/>
                    <a:ext cx="525924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3240000" cy="3456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авильное питание основа нормального физического и нервно-психического развития.</a:t>
            </a:r>
            <a:r>
              <a:rPr b="1" lang="ru-RU" sz="23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Завтрак - обязательный компонент режима дня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4178160" y="2492280"/>
          <a:ext cx="4965840" cy="25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8160" y="2492280"/>
                    <a:ext cx="496584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2766960" cy="37436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Рабочий день школьника состоит из занятий в школе и приготовления уроков дома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577800" y="1763640"/>
          <a:ext cx="4864320" cy="397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63640"/>
                    <a:ext cx="486432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5651640" y="1989000"/>
            <a:ext cx="2808000" cy="3600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404640" y="438120"/>
          <a:ext cx="4165920" cy="590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438120"/>
                    <a:ext cx="416592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4929120" y="403200"/>
          <a:ext cx="3814920" cy="590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9120" y="403200"/>
                    <a:ext cx="381492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Свободное время школьников может быть отведено занятиям в кружках, спортивных секциях,</a:t>
            </a: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клубах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179280" y="2205000"/>
          <a:ext cx="472284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05000"/>
                    <a:ext cx="4722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8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3306600" cy="2187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4"/>
          <a:stretch/>
        </p:blipFill>
        <p:spPr>
          <a:xfrm>
            <a:off x="5148360" y="4221000"/>
            <a:ext cx="3311280" cy="21164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Режим дня - это режим жизн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8000" y="1341360"/>
            <a:ext cx="38098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j0234131"/>
          <p:cNvPicPr/>
          <p:nvPr/>
        </p:nvPicPr>
        <p:blipFill>
          <a:blip r:embed="rId1"/>
          <a:stretch/>
        </p:blipFill>
        <p:spPr>
          <a:xfrm>
            <a:off x="7020000" y="4581360"/>
            <a:ext cx="1952640" cy="20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Object 5"/>
          <p:cNvGraphicFramePr/>
          <p:nvPr/>
        </p:nvGraphicFramePr>
        <p:xfrm>
          <a:off x="642960" y="1714680"/>
          <a:ext cx="4429080" cy="3890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1714680"/>
                    <a:ext cx="442908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тоги урока. Домашнее зада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тавление оценок учителем в журнал, их аргумент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читать §6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ть свой распорядок дн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Литератур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Козлов В. И. Береги   здоровье   смолоду. — М.: Физкультура    и     спорт, 1987. —32 с.,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tspu.tula.ru/res/fizvosp/hygiene/g_4ht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upr.1september.ru/2005/22/14.ht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формированию представления о режиме дня, его основных компонент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обучению школьников умению  составить свой режим дн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ов работы с текстом, анализа, сравнения, обобще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пагандировать здоровый образ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. Постановка и решение учебных задач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же такое режим дня? Реально ли выполнение строгого режим дня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Режим дня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- это распределение времени на все виды суточной деятельности и отдыха с учетом возраста, состояния здоровья и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особенностей личност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166920" cy="273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31687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5724360" y="2276640"/>
            <a:ext cx="2951280" cy="27367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. Изучение нового материала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уется работа в группах по 5 челове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1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85520" y="928440"/>
            <a:ext cx="79722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йдите ответ на вопрос: «Какие факторы влияют на режим дня?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ставьте схему «Основными компонентами режима дня школьник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2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Найдите ответы на вопросы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Для чего необходим режим дн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К чему приводит нерационально организованный режим дн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веты запишите в виде сх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3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714240"/>
            <a:ext cx="797220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Запишите в тетради свой распорядок дня и сравните его с рекомендованны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. Сделайте выво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к правильно составить режим дн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6:34:21Z</dcterms:created>
  <dc:creator>Dale</dc:creator>
  <dc:description/>
  <dc:language>en-US</dc:language>
  <cp:lastModifiedBy>LEGION</cp:lastModifiedBy>
  <dcterms:modified xsi:type="dcterms:W3CDTF">2015-11-27T10:46:02Z</dcterms:modified>
  <cp:revision>20</cp:revision>
  <dc:subject/>
  <dc:title>Режим дня  современного  школьника урок биологии в 8 классе</dc:title>
</cp:coreProperties>
</file>