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FAAA-821D-4822-B45E-AACC0CDE0A0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8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лова Ю.В., 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Остров. Псковск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биологии в 8 кла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нилова Ю.В., учитель би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Остров. Псковская обла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школьника [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школьника [7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астрономических часах) [8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астрономических часах) [8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работы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работы груп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а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бы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ве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гу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а в школе и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по д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мпонен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а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режим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вн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р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режим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бенк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доровь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строе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о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мления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ут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оспособ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утомл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анкетиров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чебного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чебного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анкеты «Мой режим д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зу, как прихожу из шко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бедаю и сажусь за у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о 1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1 - 2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2 -3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3 -4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ы ложитесь с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21-22.00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22-23.00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сле 23.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1 - 2 час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3- 4 час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се свобод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лоняюсь по д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уляю, занимаюсь с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другое (укажите что имен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ультаты исследова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анкеты «Мой режим дн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разу, как прихожу из школы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бедаю и сажусь за уро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о 1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1 - 2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2 -3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3 -4 ча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Вы ложитесь спа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 21-22.00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 22-23.00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осле 23.0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1 - 2 час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3- 4 часа;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все свободное врем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слоняюсь по д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гуляю, занимаюсь спорто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другое (укажите что именн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ежим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ежим жизн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урока. 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§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вой распорядок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оги урока. 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ей лич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айдите ответы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чего необходим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запишите в виде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делайте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составить режим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4E2-E0CF-49E4-932A-46EB6F15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854-4829-4CA2-8C0B-7B5D0D55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8E2-6ED9-45EE-B3CC-E6E838D9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D8B-188C-4964-A1BE-2FAD9F61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BDE-A357-4726-B3A1-FF809D5E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6DA-DA85-4099-AD33-DB4497B4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F68-1747-477F-B38B-66201F0A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6E0-81F0-404B-B4D8-167711A4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318-66A9-4A3C-864A-3AF5FE10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9FC-C6A4-42E8-A2F5-7C52ADD3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640-6A9E-4C3B-AC5C-B1270285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1A2-8B28-4ED9-9A06-435046D6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949F-4188-45AB-A16B-AE9655BBA3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spu.tula.ru/res/fizvosp/hygiene/g_4htm" TargetMode="External"/><Relationship Id="rId2" Type="http://schemas.openxmlformats.org/officeDocument/2006/relationships/hyperlink" Target="http://upr.1september.ru/2005/22/14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современного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школьник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рок биологии в 8 класс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36536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Авто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Данилова Ю.В., учитель биолог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г.Остров. Псковская обла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жим дня школьник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[7]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684360" y="333360"/>
          <a:ext cx="7559640" cy="939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559640" cy="939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(в астрономических часах)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[8]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1187280" y="1413000"/>
          <a:ext cx="7272360" cy="66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727236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4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ведение итогов работы груп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3276720" y="1844640"/>
            <a:ext cx="2735280" cy="2665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Основ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омпон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режима д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школь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4360" y="119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79280" y="2924280"/>
            <a:ext cx="25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940360" y="981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659640" y="2924280"/>
            <a:ext cx="30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372360" y="551664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132000" y="595008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564000" y="189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84360" y="5445000"/>
            <a:ext cx="193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233964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2339640" y="443700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724360" y="4508640"/>
            <a:ext cx="1152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43280" y="51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348000" y="234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6"/>
          <p:cNvSpPr/>
          <p:nvPr/>
        </p:nvSpPr>
        <p:spPr>
          <a:xfrm flipH="1" flipV="1">
            <a:off x="2050560" y="1844640"/>
            <a:ext cx="12258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5940360" y="1773000"/>
            <a:ext cx="136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4572000" y="765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500720" y="465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6084720" y="357336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700360" y="2852640"/>
            <a:ext cx="3672000" cy="21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рганизованный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 режим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324000" y="1268280"/>
            <a:ext cx="273672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24000" y="515772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бен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203640" y="26028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доров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6227640" y="134136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227640" y="508464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ерационально организованный режим приводит к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539640" y="3141720"/>
            <a:ext cx="266400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тоспособ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5796000" y="3213000"/>
            <a:ext cx="280836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76720" y="4221000"/>
            <a:ext cx="273528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утом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124000" y="1989000"/>
            <a:ext cx="2376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643280" y="1989000"/>
            <a:ext cx="24498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643280" y="206064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правильно организовать режим дня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400" y="128592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3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3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Закреплен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642600"/>
            <a:ext cx="79725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учебного занят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03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cc66"/>
                </a:solidFill>
                <a:uFillTx/>
                <a:latin typeface="Tahoma"/>
              </a:rPr>
              <a:t>Вопросы анкеты «Мой режим дня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. Выполняете ли вы утром физическую зарядку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2. Завтракаете ли вы утром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3. В какое время вы обычно учите уро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разу, как прихожу из школы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обедаю и сажусь за уро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до 1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1 - 2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2 -3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3 -4 ча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403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6. Вы ложитесь с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 21-22.00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в 22-23.00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после 23.0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7.Как часто вы просыпаетесь не выспавшис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8. Сколько часов в день вы смотрите телевизор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1 - 2 час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3- 4 часа;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все свободное врем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9. Как обычно вы проводите воскресный ден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слоняюсь по дом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гуляю, занимаюсь спорт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другое (укажите что именно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24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-214200" y="2081160"/>
          <a:ext cx="525924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2081160"/>
                    <a:ext cx="52592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240000" cy="345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ильное питание основа нормального физического и нервно-психического развития.</a:t>
            </a:r>
            <a:r>
              <a:rPr b="1" lang="ru-RU" sz="23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Завтрак - обязательный компонент режима дн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4178160" y="2492280"/>
          <a:ext cx="4965840" cy="25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2492280"/>
                    <a:ext cx="496584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2766960" cy="3743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Рабочий день школьника состоит из занятий в школе и приготовления уроков дом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577800" y="1763640"/>
          <a:ext cx="4864320" cy="39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63640"/>
                    <a:ext cx="486432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2808000" cy="3600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04640" y="438120"/>
          <a:ext cx="4165920" cy="590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38120"/>
                    <a:ext cx="4165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929120" y="403200"/>
          <a:ext cx="3814920" cy="590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403200"/>
                    <a:ext cx="3814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клубах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179280" y="2205000"/>
          <a:ext cx="472284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472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8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3306600" cy="218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4"/>
          <a:stretch/>
        </p:blipFill>
        <p:spPr>
          <a:xfrm>
            <a:off x="5148360" y="4221000"/>
            <a:ext cx="3311280" cy="21164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ежим дня - это режим жизн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809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j0234131"/>
          <p:cNvPicPr/>
          <p:nvPr/>
        </p:nvPicPr>
        <p:blipFill>
          <a:blip r:embed="rId1"/>
          <a:stretch/>
        </p:blipFill>
        <p:spPr>
          <a:xfrm>
            <a:off x="7020000" y="4581360"/>
            <a:ext cx="1952640" cy="20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5"/>
          <p:cNvGraphicFramePr/>
          <p:nvPr/>
        </p:nvGraphicFramePr>
        <p:xfrm>
          <a:off x="642960" y="1714680"/>
          <a:ext cx="4429080" cy="389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1714680"/>
                    <a:ext cx="44290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тоги урока. Домашнее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tspu.tula.ru/res/fizvosp/hygiene/g_4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upr.1september.ru/2005/22/14.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Постановка и решение учебных задач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- это распределение времени на все виды суточной деятельности и отдыха с учетом возраста, состояния здоровья и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собенностей лич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166920" cy="273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724360" y="2276640"/>
            <a:ext cx="2951280" cy="27367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Изучение нового материала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1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85520" y="928440"/>
            <a:ext cx="79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2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3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714240"/>
            <a:ext cx="79722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6:34:21Z</dcterms:created>
  <dc:creator>Dale</dc:creator>
  <dc:description/>
  <dc:language>en-US</dc:language>
  <cp:lastModifiedBy>LEGION</cp:lastModifiedBy>
  <dcterms:modified xsi:type="dcterms:W3CDTF">2015-11-27T10:46:02Z</dcterms:modified>
  <cp:revision>20</cp:revision>
  <dc:subject/>
  <dc:title>Режим дня  современного  школьника урок биологии в 8 классе</dc:title>
</cp:coreProperties>
</file>