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7E17-6625-44F1-9010-ADDDFCDA30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CF9E-B066-4D5A-AAB2-D610A8D96E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русск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8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5383-29CA-4A06-B8FF-4C32113535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1BC7-59CE-4993-BAF9-CB7253CCA5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AD21-154E-46A3-89A6-D7DF11C78D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844D-0EC2-4150-B828-076C0A10B2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620B-4668-40C2-AF62-F7C35BAA7E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византийском наследии нет ничего ценн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0C3E-B77E-49C5-B80B-4F7AFFB667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византийском наследии нет ничего ценн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лияние восточной церкви было чисто негатив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F425-4F38-48CA-9571-4FCB64031A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86D8-8D93-4E67-BE1C-C64CBE5B7B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CA17-4368-48EF-9E0F-01FC14AED9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падничество как уто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D393-0C57-4722-989A-82066398F2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падничество как уто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BA69-08EB-431E-90BB-C2F2225666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. Белинский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1‑1848)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. Герцен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2‑1870)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. Н. Грановский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3-185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 В. Станкевич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3-184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. А. Бакунин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4-187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8-188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EFA2-6047-4EA4-A250-A6D9248679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A6AD-AFF2-447F-A1D4-1804915F65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D935-4E17-486B-9DEB-6238C89410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ое бессилие Запа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64A0-62C5-4BC9-803E-09EB9B33D4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ое бессилие Запа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8007-5B96-4F8C-AC58-4B01D32077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естьянский социализм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историческая миссия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D44C-E0F2-47F4-83B2-95B35AFA94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. Н. Грановский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813-185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екции по истории средневековья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9/5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современном состоянии и значении всеобщей истор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D03B-60EB-4624-8871-F600A29E7C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. В. Станкевич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3-184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Переписка </a:t>
            </a: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900" spc="-1" strike="noStrike">
                <a:solidFill>
                  <a:srgbClr val="ffffff"/>
                </a:solidFill>
                <a:latin typeface="Arial"/>
              </a:rPr>
              <a:t>опубл. </a:t>
            </a: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185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27A5-5054-4047-BB45-D0487C04C4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. А. Бакунин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814-187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акция в Герман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2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едерализм, социализм и антитеологизм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6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ские рассуждения о божественном призраке, о действительном мире и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человеке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70-1871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осударственность и анархия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7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DBB8-D004-4ABF-9F09-36AB5C0C29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стика револю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9238-16D3-45E3-A116-83CC365200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теолог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CF06-BA40-42E8-B881-31428EBD29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. Бел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уманистический персона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религии и социальной роли церк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. Герцен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естьянский социализм и историческая миссия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. А. Баку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стика револю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теолог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арх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. Д. Каве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чностное начало как предпосылка культурного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развитость личностного начала 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DC7C-CC7A-4D3F-9BAF-9476ED9CF4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арх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70BA-A681-4457-9C1B-34647FA942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. Д. Кавелин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818-188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згляд на юридический быт древней Росс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дачи психолог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7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дачи этик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84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517C-ED97-4CDE-A938-3FC6B2FF7E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ичностное начало как предпосылка прогр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5146-DB92-427C-A051-5633FBA528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развитость личностного начала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4374-1FD8-4951-9021-C31136B084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падники и славянофи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5046-40C1-4E7F-8075-9B2C933443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0152-521F-450F-843A-29BBFC8F35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. Белинский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811‑184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згляд на русскую литературу 1846 год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вет «Москвитянину»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исьмо к Гоголю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556C-ED80-40AB-A96D-0A8304E49C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. Белинский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уманистический персон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562F-A645-4553-AF05-9B0DBDE20F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2F6F-9FD5-4B34-94B9-89C2AC3504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. Белинский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A403-0739-4015-A364-689932AEED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. Герцен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812‑187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исьма об изучении природы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5‑184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 того берег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развитии революционных идей в Росс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народ и социализм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ылое и думы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2‑186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7DF5-2CA8-47B6-8BA5-BD5AC3FC4E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Герцен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2‑18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славянофиль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очарование в Запа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ничество как утоп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способность Запада осуществить собственный социальный иде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естьянский социализм и историческая миссия Росси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F492-D040-47A6-8BE4-CE758FDB5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3BBD-9611-4FC9-8BF2-C16503A0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1161-8F9B-4CF0-9E86-9600D7EC3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FB10-3468-4961-95E3-F382FEB3F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FD3A-AA2C-4902-8688-5162363F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9130-4383-42F6-94ED-A0F7FDFA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119B-85B7-4126-8A9F-A6FD7EB3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3844-2DF0-4331-9AAA-0AC51B71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D984-8393-4865-B5F9-7F515D8B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1B28-8223-47E1-A56E-95466B4E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E09A-0395-4755-B30D-5164BE10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9E33-0BFC-4456-AEAE-94B1716B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459A-F594-48A0-8F8D-F1C1E83EB5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6880" y="2338560"/>
            <a:ext cx="8493120" cy="17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тория русской философ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28840" y="3642840"/>
            <a:ext cx="64008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"/>
          <p:cNvSpPr/>
          <p:nvPr/>
        </p:nvSpPr>
        <p:spPr>
          <a:xfrm rot="10800000">
            <a:off x="28692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рия не возвращаетс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ь богата тканя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й никогда не быва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ужны старые плать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восстановл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реставра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и всегда маскарадам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6697080" y="492912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развит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волюцион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й в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клонники исторического принцип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славянофилы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оя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бывали, что всё, происшедш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 Петра 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,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же истор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что никакая живая сил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говоря уже о выходцах с того свет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гла ни вычеркну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вершившиеся факт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устранить их последств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м, сверх т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к чему возвращаться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осударственная жизн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петровской Росс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ла уродлива, бедна, дик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к ней-то и хотели славя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вратиться, хотя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признаются в этом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 rot="10800000">
            <a:off x="352260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вгородский вечевой колоко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 только перелит в пушк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тром, а снят с колоколь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оанном Васильевичем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епостное состояние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реплено ревизией при Петр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введено Годуновым;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 и кнут, батоги, пле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ются гораздо преж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пицрутенов и фухтел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4120" y="1798560"/>
            <a:ext cx="329256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9010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 rot="10800000">
            <a:off x="352260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форма и дух Запа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дходили Росс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что же было общ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нею и устрой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точной Римской империи?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иное предста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бой эта Византия, как не Рим,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им времён упадк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им без славных воспомина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угрызений совести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4120" y="1798560"/>
            <a:ext cx="329256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византийском наследии нет ничего цен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589320" y="4965840"/>
            <a:ext cx="270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развит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волюционных ид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"/>
          <p:cNvSpPr/>
          <p:nvPr/>
        </p:nvSpPr>
        <p:spPr>
          <a:xfrm rot="10800000">
            <a:off x="352260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чём видно благотворн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ияние восточной церкви?</a:t>
            </a:r>
            <a:br>
              <a:rPr sz="1800"/>
            </a:b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осточная церков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никла в Россию в цветущ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етлую киевскую эпох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великом князе Владимир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привела Россию к печальн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гнусным временам, описанн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[то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ихиным, она утверди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лагословила все мер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нятые против свободы наро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4120" y="1798560"/>
            <a:ext cx="329256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византийском наследии нет ничего цен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лияние восточной церкви было чисто негатив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574920" y="4965840"/>
            <a:ext cx="270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развит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волюционных ид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осредственных основ быт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достаточно.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щная мысль Запад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которой примык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я длинная история 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остояни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лодотвори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родыши, дремлющ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атриархальн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ту славянск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приимчивый характер славян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женствен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достаток самодеятель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ольшая способ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воения и пластицизм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лают их по преимуществу народом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уждающимся в других народа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не вполне довлеют себ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падничество как утоп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знаю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ё воззрение на Европ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третит у нас дурной приём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, для утешения себ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отим другой Европ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ерим в неё так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 христиане верят в ра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падничество как утоп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живши год, другой в Европ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с удивлением видим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общ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падные люд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оответствую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ему понятию о ни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он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ораздо ниже ег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400" y="1798560"/>
            <a:ext cx="323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. Белинский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1‑1848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. Герцен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2‑1870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. Н. Грановский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3-18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 В. Станкевич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3-184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. А. Бакун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4-187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8-188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Белинский (2)"/>
          <p:cNvPicPr/>
          <p:nvPr/>
        </p:nvPicPr>
        <p:blipFill>
          <a:blip r:embed="rId1"/>
          <a:stretch/>
        </p:blipFill>
        <p:spPr>
          <a:xfrm>
            <a:off x="3741840" y="1906560"/>
            <a:ext cx="1709640" cy="1798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7" name="Picture 5" descr="герцен"/>
          <p:cNvPicPr/>
          <p:nvPr/>
        </p:nvPicPr>
        <p:blipFill>
          <a:blip r:embed="rId2"/>
          <a:stretch/>
        </p:blipFill>
        <p:spPr>
          <a:xfrm>
            <a:off x="5380200" y="2266920"/>
            <a:ext cx="1616040" cy="1798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8" name="Picture 6" descr="Грановский"/>
          <p:cNvPicPr/>
          <p:nvPr/>
        </p:nvPicPr>
        <p:blipFill>
          <a:blip r:embed="rId3"/>
          <a:stretch/>
        </p:blipFill>
        <p:spPr>
          <a:xfrm>
            <a:off x="6923160" y="2625840"/>
            <a:ext cx="1800000" cy="1800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9" name="Picture 7" descr="станкевич"/>
          <p:cNvPicPr/>
          <p:nvPr/>
        </p:nvPicPr>
        <p:blipFill>
          <a:blip r:embed="rId4"/>
          <a:stretch/>
        </p:blipFill>
        <p:spPr>
          <a:xfrm>
            <a:off x="4030560" y="3670200"/>
            <a:ext cx="1616040" cy="1798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0" name="Picture 8" descr="Бакунин (2)"/>
          <p:cNvPicPr/>
          <p:nvPr/>
        </p:nvPicPr>
        <p:blipFill>
          <a:blip r:embed="rId5"/>
          <a:stretch/>
        </p:blipFill>
        <p:spPr>
          <a:xfrm>
            <a:off x="5576760" y="4030560"/>
            <a:ext cx="1328760" cy="179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1" name="Picture 9" descr="Кавелин (2)"/>
          <p:cNvPicPr/>
          <p:nvPr/>
        </p:nvPicPr>
        <p:blipFill>
          <a:blip r:embed="rId6"/>
          <a:stretch/>
        </p:blipFill>
        <p:spPr>
          <a:xfrm>
            <a:off x="6837480" y="4389480"/>
            <a:ext cx="1587240" cy="180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 rot="10800000">
            <a:off x="212760" y="1690200"/>
            <a:ext cx="647856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идеал, составленный на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ходят элементы верные, 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уществующие боле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совершенно изменившиес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ыцарская добле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ящество аристократических нрав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рогая чинность протестант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рдая независимость англичан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скошная жизнь итальянских художник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крящийся ум энциклопедист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мрачная энергия террористов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 это переплавилось и переродилос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целую совокупность друг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подствующих нравов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щанских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 rot="10800000">
            <a:off x="249120" y="1797840"/>
            <a:ext cx="6297840" cy="449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ременное поколение име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ого Бога – капита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имеет богов кроме его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а прийти к покойному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иренному сознанию, что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ещанств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кончательная форм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падной цивилизац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ё совершеннолетие – état adulte;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и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амыкается длинный ря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ё сновид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канчивается эпопея рост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ман юности – всё, вносивш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лько поэзии и бед в жизнь народов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ое бессилие Зап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о врем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гда полусвободный Запа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рдо смотрел на Россию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давленную императорским трон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бразованная Россия, вздых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отрела на счастие старших брати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время прошло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венство рабства водворилос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ое бессилие Зап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вропа показа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ивительну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способ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социальному перевороту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думаем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оссия не так неспособна к не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а этом сходимся со славянам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этом основа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а вера в её будущност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естьянский социализм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историческая миссия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тех пор, как туман, покрывавш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евральскую революцию, рассеялс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зкая простота заменила путаницу,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лось только два интересных вопроса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прос социальный и вопрос русски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ущности эти два вопро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авляют один и тот 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ное и свободное разви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усского народного быт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падает с стремления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падного социализм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. Н. Грановский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3-185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02200" y="3057120"/>
            <a:ext cx="39657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екции по истории средневековь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9/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современном состоянии и значении всеобщей истор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Грановский"/>
          <p:cNvPicPr/>
          <p:nvPr/>
        </p:nvPicPr>
        <p:blipFill>
          <a:blip r:embed="rId1"/>
          <a:stretch/>
        </p:blipFill>
        <p:spPr>
          <a:xfrm>
            <a:off x="466560" y="1798560"/>
            <a:ext cx="431820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73" name="Text Box 7"/>
          <p:cNvSpPr/>
          <p:nvPr/>
        </p:nvSpPr>
        <p:spPr>
          <a:xfrm>
            <a:off x="5218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 В. Станкевич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3-184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1520" y="3238200"/>
            <a:ext cx="38941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писк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публ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85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станкевич"/>
          <p:cNvPicPr/>
          <p:nvPr/>
        </p:nvPicPr>
        <p:blipFill>
          <a:blip r:embed="rId1"/>
          <a:stretch/>
        </p:blipFill>
        <p:spPr>
          <a:xfrm>
            <a:off x="4857840" y="1798560"/>
            <a:ext cx="387972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78" name="Text Box 8"/>
          <p:cNvSpPr/>
          <p:nvPr/>
        </p:nvSpPr>
        <p:spPr>
          <a:xfrm>
            <a:off x="61128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. А. Бакун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4-187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Бакунин (2)"/>
          <p:cNvPicPr/>
          <p:nvPr/>
        </p:nvPicPr>
        <p:blipFill>
          <a:blip r:embed="rId1"/>
          <a:stretch/>
        </p:blipFill>
        <p:spPr>
          <a:xfrm>
            <a:off x="5397480" y="1798560"/>
            <a:ext cx="3192480" cy="432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2877840"/>
            <a:ext cx="4073760" cy="30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акция в Герман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2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едерализм, социализм и антитеологиз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ские рассуждения о божественном призраке, о действительном мире 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человек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0-1871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осударственность и анарх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79056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стика револю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/>
          <p:cNvSpPr/>
          <p:nvPr/>
        </p:nvSpPr>
        <p:spPr>
          <a:xfrm rot="10800000">
            <a:off x="43164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нергия всеобъемлющ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и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противоречия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раз состоит в неустанн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сожжении положитель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 чистом огне отрицательног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6049800" y="539748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. А. Бакун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еакция в Герман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Бакунин (2)"/>
          <p:cNvPicPr/>
          <p:nvPr/>
        </p:nvPicPr>
        <p:blipFill>
          <a:blip r:embed="rId1"/>
          <a:stretch/>
        </p:blipFill>
        <p:spPr>
          <a:xfrm>
            <a:off x="6440400" y="1906560"/>
            <a:ext cx="1936800" cy="21607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теолог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 rot="10800000">
            <a:off x="17892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Бога обязатель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полагает отреч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человеческого разума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й справедливости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является отрицанием человеческ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боды и неизбежно привод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только к теоретическ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и к практическому рабству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ли Бог существует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чит, человек – раб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к разумен, справедли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ен, – значит, Бога нет.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973480" y="5218200"/>
            <a:ext cx="31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. А. Бакун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Федерализм, социализ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антитеологиз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Бакунин (2)"/>
          <p:cNvPicPr/>
          <p:nvPr/>
        </p:nvPicPr>
        <p:blipFill>
          <a:blip r:embed="rId1"/>
          <a:stretch/>
        </p:blipFill>
        <p:spPr>
          <a:xfrm>
            <a:off x="6440400" y="1906560"/>
            <a:ext cx="1936800" cy="216072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3784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. Бел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уманистический персона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религии и социальной роли церк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. Герцен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естьянский социализм и историческая миссия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. А. Баку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стика револю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теолог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арх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. Д. Каве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чностное начало как предпосылка культурного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развитость личностного начала 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арх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 rot="10800000">
            <a:off x="43164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спотизм заключ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только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ударства или вла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олько в сам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цип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ударства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итической власти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5617080" y="5218200"/>
            <a:ext cx="339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. А. Бакун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нуто-германская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мпер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оциальная революц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Бакунин (2)"/>
          <p:cNvPicPr/>
          <p:nvPr/>
        </p:nvPicPr>
        <p:blipFill>
          <a:blip r:embed="rId1"/>
          <a:stretch/>
        </p:blipFill>
        <p:spPr>
          <a:xfrm>
            <a:off x="6440400" y="1906560"/>
            <a:ext cx="1936800" cy="216072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. Д. Кавел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8-188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317840" y="3057120"/>
            <a:ext cx="42897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згляд на юридический быт древней Росс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и психолог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и этик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7" descr="Кавелин, Константин Дмитриевич (sm10)"/>
          <p:cNvPicPr/>
          <p:nvPr/>
        </p:nvPicPr>
        <p:blipFill>
          <a:blip r:embed="rId1"/>
          <a:stretch/>
        </p:blipFill>
        <p:spPr>
          <a:xfrm>
            <a:off x="466560" y="1798560"/>
            <a:ext cx="315936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03" name="Text Box 8"/>
          <p:cNvSpPr/>
          <p:nvPr/>
        </p:nvSpPr>
        <p:spPr>
          <a:xfrm>
            <a:off x="471312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чностное начало как предпосылка прогре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6"/>
          <p:cNvSpPr/>
          <p:nvPr/>
        </p:nvSpPr>
        <p:spPr>
          <a:xfrm rot="10800000">
            <a:off x="280620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Когда мы говорим, что наро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ует, мыслит, чувствует, м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ражаемся отвлечённо: собств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уют, чувствуют, мысля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ицы, лица, его составляющи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личность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ющ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а по себе своё бесконеч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 достоинство, –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е условие вся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овного развития наро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Кавелин, Константин Дмитриевич (sm10)"/>
          <p:cNvPicPr/>
          <p:nvPr/>
        </p:nvPicPr>
        <p:blipFill>
          <a:blip r:embed="rId1"/>
          <a:stretch/>
        </p:blipFill>
        <p:spPr>
          <a:xfrm>
            <a:off x="324000" y="1727280"/>
            <a:ext cx="2504880" cy="3105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8"/>
          <p:cNvSpPr/>
          <p:nvPr/>
        </p:nvSpPr>
        <p:spPr>
          <a:xfrm>
            <a:off x="361800" y="500220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Д. Кавел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згляд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ридический бы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евней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развитость личностного начала в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3"/>
          <p:cNvSpPr/>
          <p:nvPr/>
        </p:nvSpPr>
        <p:spPr>
          <a:xfrm rot="10800000">
            <a:off x="280620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о по себе оно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общинное начало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имело зачатков жизни и развит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клонилось всё более и бол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упадку, потому что не бы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ано на личном начал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ом необходимом услов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якой гражданственност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Кавелин, Константин Дмитриевич (sm10)"/>
          <p:cNvPicPr/>
          <p:nvPr/>
        </p:nvPicPr>
        <p:blipFill>
          <a:blip r:embed="rId1"/>
          <a:stretch/>
        </p:blipFill>
        <p:spPr>
          <a:xfrm>
            <a:off x="324000" y="1727280"/>
            <a:ext cx="2504880" cy="31050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7"/>
          <p:cNvSpPr/>
          <p:nvPr/>
        </p:nvSpPr>
        <p:spPr>
          <a:xfrm>
            <a:off x="361800" y="500220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Д. Кавел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згляд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ридический бы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евней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падники и славяноф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4"/>
          <p:cNvSpPr/>
          <p:nvPr/>
        </p:nvSpPr>
        <p:spPr>
          <a:xfrm>
            <a:off x="59436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Самобытность (национализм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3"/>
          <p:cNvSpPr/>
          <p:nvPr/>
        </p:nvSpPr>
        <p:spPr>
          <a:xfrm>
            <a:off x="32004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Универсализм (космополитизм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2"/>
          <p:cNvSpPr/>
          <p:nvPr/>
        </p:nvSpPr>
        <p:spPr>
          <a:xfrm>
            <a:off x="4572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окультурная ори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1"/>
          <p:cNvSpPr/>
          <p:nvPr/>
        </p:nvSpPr>
        <p:spPr>
          <a:xfrm>
            <a:off x="59436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ера и религ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0"/>
          <p:cNvSpPr/>
          <p:nvPr/>
        </p:nvSpPr>
        <p:spPr>
          <a:xfrm>
            <a:off x="32004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Разум и наук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9"/>
          <p:cNvSpPr/>
          <p:nvPr/>
        </p:nvSpPr>
        <p:spPr>
          <a:xfrm>
            <a:off x="4572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уховная ори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8"/>
          <p:cNvSpPr/>
          <p:nvPr/>
        </p:nvSpPr>
        <p:spPr>
          <a:xfrm>
            <a:off x="59436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рганическое развит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7"/>
          <p:cNvSpPr/>
          <p:nvPr/>
        </p:nvSpPr>
        <p:spPr>
          <a:xfrm>
            <a:off x="32004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бщественный догово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6"/>
          <p:cNvSpPr/>
          <p:nvPr/>
        </p:nvSpPr>
        <p:spPr>
          <a:xfrm>
            <a:off x="4572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литическая онт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5"/>
          <p:cNvSpPr/>
          <p:nvPr/>
        </p:nvSpPr>
        <p:spPr>
          <a:xfrm>
            <a:off x="59436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Культура как продукт стихийного развит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4"/>
          <p:cNvSpPr/>
          <p:nvPr/>
        </p:nvSpPr>
        <p:spPr>
          <a:xfrm>
            <a:off x="32004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Культура как сознательное творчеств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3"/>
          <p:cNvSpPr/>
          <p:nvPr/>
        </p:nvSpPr>
        <p:spPr>
          <a:xfrm>
            <a:off x="4572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ая онт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2"/>
          <p:cNvSpPr/>
          <p:nvPr/>
        </p:nvSpPr>
        <p:spPr>
          <a:xfrm>
            <a:off x="59436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Славянофи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1"/>
          <p:cNvSpPr/>
          <p:nvPr/>
        </p:nvSpPr>
        <p:spPr>
          <a:xfrm>
            <a:off x="32004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Запад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0"/>
          <p:cNvSpPr/>
          <p:nvPr/>
        </p:nvSpPr>
        <p:spPr>
          <a:xfrm>
            <a:off x="4572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45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6"/>
          <p:cNvSpPr/>
          <p:nvPr/>
        </p:nvSpPr>
        <p:spPr>
          <a:xfrm>
            <a:off x="457200" y="25052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7"/>
          <p:cNvSpPr/>
          <p:nvPr/>
        </p:nvSpPr>
        <p:spPr>
          <a:xfrm>
            <a:off x="457200" y="34639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48"/>
          <p:cNvSpPr/>
          <p:nvPr/>
        </p:nvSpPr>
        <p:spPr>
          <a:xfrm>
            <a:off x="457200" y="43704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9"/>
          <p:cNvSpPr/>
          <p:nvPr/>
        </p:nvSpPr>
        <p:spPr>
          <a:xfrm>
            <a:off x="457200" y="52754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50"/>
          <p:cNvSpPr/>
          <p:nvPr/>
        </p:nvSpPr>
        <p:spPr>
          <a:xfrm>
            <a:off x="457200" y="618012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1"/>
          <p:cNvSpPr/>
          <p:nvPr/>
        </p:nvSpPr>
        <p:spPr>
          <a:xfrm>
            <a:off x="457200" y="1600200"/>
            <a:ext cx="0" cy="4579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2"/>
          <p:cNvSpPr/>
          <p:nvPr/>
        </p:nvSpPr>
        <p:spPr>
          <a:xfrm>
            <a:off x="3200400" y="1600200"/>
            <a:ext cx="0" cy="4579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3"/>
          <p:cNvSpPr/>
          <p:nvPr/>
        </p:nvSpPr>
        <p:spPr>
          <a:xfrm>
            <a:off x="5943600" y="1600200"/>
            <a:ext cx="0" cy="4579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54"/>
          <p:cNvSpPr/>
          <p:nvPr/>
        </p:nvSpPr>
        <p:spPr>
          <a:xfrm>
            <a:off x="8686800" y="1600200"/>
            <a:ext cx="0" cy="4579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7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nodeType="clickEffect" fill="hold">
                      <p:stCondLst>
                        <p:cond delay="0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. Белинский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1‑184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857840" y="3057480"/>
            <a:ext cx="41464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згляд на русскую литературу 1846 год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вет «Москвитянину»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исьмо к Гоголю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Белинский (2)"/>
          <p:cNvPicPr/>
          <p:nvPr/>
        </p:nvPicPr>
        <p:blipFill>
          <a:blip r:embed="rId1"/>
          <a:stretch/>
        </p:blipFill>
        <p:spPr>
          <a:xfrm>
            <a:off x="466560" y="1798560"/>
            <a:ext cx="4102200" cy="4316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9" name="Text Box 7"/>
          <p:cNvSpPr/>
          <p:nvPr/>
        </p:nvSpPr>
        <p:spPr>
          <a:xfrm>
            <a:off x="507348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 Белинск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уманистический персон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"/>
          <p:cNvSpPr/>
          <p:nvPr/>
        </p:nvSpPr>
        <p:spPr>
          <a:xfrm rot="10800000">
            <a:off x="2122560" y="1726920"/>
            <a:ext cx="6837120" cy="4930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дьба субъекта, индивидуума, лич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ажнее судеб всего мира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Если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не и удалось взлезть на верхнюю ступен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естницы развития – я и там бы попроси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ас отдать мне отчёт во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сех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жертв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ловий жизни и истории,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наче я 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рхней ступени бросаюсь вниз голово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хочу счастья и даром, если не буд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коен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счёт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каждог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з моих братье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крови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ворят, ч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исгармония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ловие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армонии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ожет быть, это очен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годно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усладительно для меломан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уж,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ечно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для тех, кому сужде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разить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ей участью идею дисгармонии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82320" y="5037120"/>
            <a:ext cx="203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Г. Белин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письм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В. П. Ботк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Белинский (2)"/>
          <p:cNvPicPr/>
          <p:nvPr/>
        </p:nvPicPr>
        <p:blipFill>
          <a:blip r:embed="rId1"/>
          <a:stretch/>
        </p:blipFill>
        <p:spPr>
          <a:xfrm>
            <a:off x="431640" y="1906560"/>
            <a:ext cx="1781280" cy="21574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 Белинск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религии и церк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 rot="10800000">
            <a:off x="1869840" y="1510560"/>
            <a:ext cx="7126200" cy="52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ссия видит своё спасение не в мистицизм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 аскетизме, не в пиетизме, а в успех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ивилизации, просвещения и гуманност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й нужн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повед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довольно она слыша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!)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литв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довольно она твердила их!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буждение в народе чувства 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стоинств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только веков потерян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грязи и навозе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а и законы, сообразны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 учением церкви, а с здравым смысло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раведливостью, и строгое, по возмож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выполнение. А вместо этого она предста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бой ужасное зрелище страны,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где н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только никаких гарантий для личности, че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обственности, но нет даже и полицейског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ядка, а есть только огромные корпора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ных служебных воров и грабител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13840" y="5037120"/>
            <a:ext cx="203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Г. Белин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письм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Н. В. Гого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Белинский (2)"/>
          <p:cNvPicPr/>
          <p:nvPr/>
        </p:nvPicPr>
        <p:blipFill>
          <a:blip r:embed="rId1"/>
          <a:stretch/>
        </p:blipFill>
        <p:spPr>
          <a:xfrm>
            <a:off x="431640" y="1906560"/>
            <a:ext cx="1781280" cy="21574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 Белинский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 rot="10800000">
            <a:off x="1869840" y="1510560"/>
            <a:ext cx="7126200" cy="52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и важность этой литератур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ери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исто отрицательные…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ложитель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рона их доктрин заключается в каких-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уманных, мистических предчувствия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беды Востока над Западом, котор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состоятельность обнаруживается факт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сти, всеми вместе и кажд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ознь. Но отрицательная сторона их уч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раздо более заслуживает внима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 том, что она говори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ив гниющ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удто бы Запад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Запада славянофил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шительно не понимают, потому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рят его на восточный аршин), но в т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они говоря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ив русского европеизма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об этом они говорят много дельног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66960" y="5037120"/>
            <a:ext cx="232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Г. Белин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згляд на русскую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тератур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846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Белинский (2)"/>
          <p:cNvPicPr/>
          <p:nvPr/>
        </p:nvPicPr>
        <p:blipFill>
          <a:blip r:embed="rId1"/>
          <a:stretch/>
        </p:blipFill>
        <p:spPr>
          <a:xfrm>
            <a:off x="431640" y="1906560"/>
            <a:ext cx="1781280" cy="215748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. Герцен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2‑18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4240" y="2877840"/>
            <a:ext cx="4397400" cy="30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исьма об изучении природы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5‑184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того берег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развитии революционных идей в Росс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сский народ и социализ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ылое и думы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2‑186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герцен"/>
          <p:cNvPicPr/>
          <p:nvPr/>
        </p:nvPicPr>
        <p:blipFill>
          <a:blip r:embed="rId1"/>
          <a:stretch/>
        </p:blipFill>
        <p:spPr>
          <a:xfrm>
            <a:off x="4857840" y="1798560"/>
            <a:ext cx="388296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9" name="Text Box 7"/>
          <p:cNvSpPr/>
          <p:nvPr/>
        </p:nvSpPr>
        <p:spPr>
          <a:xfrm>
            <a:off x="771984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61128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Герцен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2‑18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славянофиль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очарование в Запа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ничество как утоп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способность Запада осуществить собственный социальный иде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естьянский социализм и историческая миссия Росси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21:18:04Z</dcterms:created>
  <dc:creator>Николай Бирюков / Nikolai Biryukov</dc:creator>
  <dc:description>Версия марта 2006 г.</dc:description>
  <dc:language>en-US</dc:language>
  <cp:lastModifiedBy>LEGION</cp:lastModifiedBy>
  <dcterms:modified xsi:type="dcterms:W3CDTF">2014-11-11T10:08:18Z</dcterms:modified>
  <cp:revision>67</cp:revision>
  <dc:subject>История русской философии - Лекция 3</dc:subject>
  <dc:title>Западники</dc:title>
</cp:coreProperties>
</file>