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EAE7-AFA3-4F45-BEB6-6A2D763D6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0E93-5BAA-4846-A44A-D0D90CCD7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8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7F97-8FB3-49B9-BC00-36A61AE07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BA9C-1685-4834-9AE2-E5E15268A6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D726-F177-4148-97FD-6B51FB55CE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9AC2-9F9D-42BE-9699-0E00F196C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6D36-A5AD-49FC-853E-F96A405C0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B1F7-068A-44F9-B333-F8BDB9EC6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CF99-3F07-4F0A-BEAE-70666AD4E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4FD7-C24F-49C2-B7CA-0799086960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CFA3-F802-44F1-88B2-B7855668FB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FDD8-FA56-4C64-9399-BED4C11A2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4758-F076-48DC-A375-5596DE46B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9C60-8268-4B11-8924-D792AF940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B88B-4E42-4EB3-860C-393F92B51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F931-E818-4296-9005-B70B07F33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ADED-2B7B-4064-80F1-7A18A1C327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F0C3-8E3C-4130-B904-CCAFCF884E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D586-69B7-4643-981D-E8525069A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C661-2C5D-4C86-B919-AAEB6E014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9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4B4D-AB37-406E-86AC-5DBF7CB46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270E-1A02-4BF6-934C-A93EBEFD6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CEB4-F278-4E0A-87A2-C5657CDCFC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1247-3B83-4ED3-8BF1-9FECC240B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E23F-8FCB-446D-B7BC-3C8138F9A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F8FE-FFF4-464F-BB9B-D7B9E063D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DE4B-6EFF-40F0-A61D-FB0FD347A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89F2-232F-4C00-8E34-643BA6488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381E-8B19-4674-8F41-9BD97C8DF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74F5-BE0B-48DA-BC62-2BAB04DCC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1915-A423-431C-87F3-84F35AE8AF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83BE-38FE-4281-814B-4A53899F2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D9D1-5BC9-481D-8384-F803997F9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E4E9-0781-48C7-A3C5-1BA055637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29F4-182E-49E8-94FF-E5FE69708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737A-2320-42F3-B22A-9397A57F5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92E-C706-492C-8A14-607BA835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B1AE-23B7-4CC6-88C8-C4AB71A2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0A9-6B63-4122-AD16-4CFB5473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FD8-D832-4643-B418-2FFCB8E2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5F9-473F-40C7-81AC-702C32B8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BAE-7AEC-4065-914E-9C817A16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77C-549C-4AFC-9762-A9F68207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342-C594-45DA-948A-A91284F1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FB3-5D1E-4C4F-9491-222AFC6F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F46-B8EB-4EF9-9D04-592785A3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7F9-2D88-4D03-8601-5E1EED6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93F-D7D3-4F97-B43D-5B802C9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1D99-7EC8-453D-BDC5-A780F8056A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0:08:18Z</dcterms:modified>
  <cp:revision>67</cp:revision>
  <dc:subject>История русской философии - Лекция 3</dc:subject>
  <dc:title>Западники</dc:title>
</cp:coreProperties>
</file>