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140E-B39E-4C50-8D8B-799E12D5A4B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биологии, 6 клас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Рост и развитие раст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биологии Мартыненко Екатерина Васильев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Тихвинская СО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рок биологии, 6 клас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ема: Рост и развитие раст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итель биологии Мартыненко Екатерина Васильев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У «Тихвинская СО школа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V этап - 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своих про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яют таблицу – образ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одят итоги, делают выводы о практическом применении полученных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IV этап - рефлексия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ащита своих проектов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аполняют таблицу – образец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дводят итоги, делают выводы о практическом применении полученных знаний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чка корр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ля чего замачивают семена многих овощных растений перед посев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Почему огурцы и томаты выращивают рассадным способом, а не сразу в гряд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ужен ли свет для прорастания семя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Почему иногда не появляются всходы, хотя мы часто и обильно поливаем гряд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Мелкие сухие семена гороха посеяли на глубину 1см. Всходы не появились. Почему?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рточка коррекции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 Для чего замачивают семена многих овощных растений перед посевом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Почему огурцы и томаты выращивают рассадным способом, а не сразу в грядки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 Нужен ли свет для прорастания семян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4.Почему иногда не появляются всходы, хотя мы часто и обильно поливаем грядку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5.Мелкие сухие семена гороха посеяли на глубину 1см. Всходы не появились. Почему?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ожение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 по опыту «Условия прорастания семян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Цель оп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Как заложить оп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Описание или рису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Результ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ложение №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тчет по опыту «Условия прорастания семян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Цель опыт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Как заложить опыт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Описание или рисунок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4.Наблюдение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5.Результат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ожение №2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аждая группа заполняет свою строч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ложение №2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(каждая группа заполняет свою строчку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ческая мастерская. Проект  урока «Спросим мнение самого растения». Урок биологи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 «Рост и развитие растен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урока по Д.Ц – проблемно-проект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урока по форме – лабораторный практик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еническая мастерская. Проект  урока «Спросим мнение самого растения». Урок биологи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ема урока «Рост и развитие растений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ип урока по Д.Ц – проблемно-проектный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ип урока по форме – лабораторный практикум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ость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шла весна,  пора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 еще на солнечном окн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семена проверены на всхоже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 ящички посеяны в теп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ждем чудес – и вот они, пожалуйста, вот появился маленький росток.         Расти огурчик, мне так сильно хочется  отправить тебя     поскорей в роток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ктуальность урок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шла весна,  пора работы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ка еще на солнечном окне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се семена проверены на всхожесть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 в ящички посеяны в тепле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ы ждем чудес – и вот они, пожалуйста, вот появился маленький росток.         Расти огурчик, мне так сильно хочется  отправить тебя     поскорей в роток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Образовате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ть: а)что такое  всхожесть семян б) благоприятные (оптимальные) усло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ть: а) определять всхожесть сем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ставить опыт по определению необходимых условий для прорастания сем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азвивающие: аналитическое мышление, способность выдвигать собственные гипотезы, аргументированно обосновывать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оспитательные: согласованная работа в коллективе, экономическое просвещ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 Образовательные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нать: а)что такое  всхожесть семян б) благоприятные (оптимальные) условия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меть: а) определять всхожесть семян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) ставить опыт по определению необходимых условий для прорастания семян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 Развивающие: аналитическое мышление, способность выдвигать собственные гипотезы, аргументированно обосновывать их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 Воспитательные: согласованная работа в коллективе, экономическое просвещение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ая ц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, какие условия необходимы для прорастания семян, где это знание может пригодиться в жизни, а также для чего определяют всхожесть сем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ебная цель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ыяснить, какие условия необходимы для прорастания семян, где это знание может пригодиться в жизни, а также для чего определяют всхожесть семян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урока - мастер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этап. Организационный момент. Проверка готовности к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этап. Мотивация и целеполаг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з года в год тополя, березы, ивы, одуванчики образуют сотни тысяч семян. Зачем их так много? Почему прорастают только единицы семян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тапы урока - мастерской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I этап. Организационный момент. Проверка готовности к работе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II этап. Мотивация и целеполагание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ОБЛЕМ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«Из года в год тополя, березы, ивы, одуванчики образуют сотни тысяч семян. Зачем их так много? Почему прорастают только единицы семян?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бораторный опыт (домашнее зад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эксперимент по прорастанию семян. Составить отчет по форм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Цель оп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емена каких растений посея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Условия посева, время пос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ремя появления первых проро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х и опы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Выводы, оформление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Лабораторный опыт (домашнее задание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овести эксперимент по прорастанию семян. Составить отчет по форме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Цель опыт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 Семена каких растений посеяны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Условия посева, время посев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4. Время появления первых проростков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онтрольных и опытных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5 Выводы, оформление работы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групп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думайте, зарисуйте  или запишите:» Что нужно семени для появления на свет проростка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нарисовать те условия, которые вы считаете необходимыми для прорастания семени. (проек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суждение предло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ыберите одно из условий прорастания семян для выполнения проекта (по жребию) – вода, тепло, воздух, зародыш с запасом питательны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адание группам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 Подумайте, зарисуйте  или запишите:» Что нужно семени для появления на свет проростка?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жно нарисовать те условия, которые вы считаете необходимыми для прорастания семени. (проект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 Обсуждение предложений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 Выберите одно из условий прорастания семян для выполнения проекта (по жребию) – вода, тепло, воздух, зародыш с запасом питательных веществ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 этап – работа над проек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ставить опыт, чтобы доказать необходимость тех или иных условий для прорастания семя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увидеть происходящие измен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тразить результа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едставить классу свои выво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дите в группе вопросы и подготовьтесь к защите своего проекта. (сообщения о результатах домашнего опы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III этап – работа над проектом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к поставить опыт, чтобы доказать необходимость тех или иных условий для прорастания семян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к увидеть происходящие изменения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к отразить результаты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к представить классу свои выводы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бсудите в группе вопросы и подготовьтесь к защите своего проекта. (сообщения о результатах домашнего опыта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F641-805E-42BC-9F84-6F3C2F9E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4A6E-8F04-430A-81A0-E85F382A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C3BA-A733-43AF-9B64-EE1F1721F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9876-FE4F-4815-9F49-6813D88CE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CFE7-C813-4462-9C0F-F367508AE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44B3-C474-4422-B9EC-1BE36695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1DBD-1410-4EDC-A2C9-375D5B54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0F24-7C51-481B-A2BC-054045E7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BE4F-6FFE-4443-AC0C-A914BD8D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07CB-54A3-4ECC-BC27-4338CACE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C7CF-D9C6-443E-AD60-224D7986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FECC-53D8-4E31-92D8-D9525341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B799-DFAE-420A-B484-4C850925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6926-70DB-4126-9113-837CA6C7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815A-8315-4006-8D85-79907942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B7BD-A7B8-40BB-8129-3758EBD2A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734B-03AA-4653-B16C-73BA91FA5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EEA0-D224-4B81-898E-0FD7573F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077D-1B27-494C-BF87-EAB6E55E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1631-D7E5-4D1E-A1F4-60B9AA04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A3FB-B50A-437E-91BD-8582F84D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A79F-C125-4A53-925F-DB624E34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A441-8D24-46F9-A68D-4DB4A454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2933-2B98-4F69-AC36-67FCF5B8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FD2D-83B7-48EE-9C2D-EDF4647A733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12CD-D968-4405-B312-BEC7DBDB6CC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550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рок биологии, 6 класс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ема: Рост и развитие растений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читель биологии Мартыненко Екатерина Васильевн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ОУ «Тихвинская СО школа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V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этап - рефлекс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щита своих проект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полняют таблицу – образец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одводят итоги, делают выводы о практическом применении полученных знаний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арточка коррек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ветьте на вопрос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 Для чего замачивают семена многих овощных растений перед посевом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Почему огурцы и томаты выращивают рассадным способом, а не сразу в грядк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Нужен ли свет для прорастания семян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.Почему иногда не появляются всходы, хотя мы часто и обильно поливаем грядку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.Мелкие сухие семена гороха посеяли на глубину 1см. Всходы не появились. Почему?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иложение №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чет по опыту «Условия прорастания семян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.Цель опы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Как заложить опы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Описание или рисуно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.Наблюд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.Результа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84036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иложение №2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каждая группа заполняет свою строчку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85800" y="1844640"/>
          <a:ext cx="8062920" cy="4079880"/>
        </p:xfrm>
        <a:graphic>
          <a:graphicData uri="http://schemas.openxmlformats.org/drawingml/2006/table">
            <a:tbl>
              <a:tblPr/>
              <a:tblGrid>
                <a:gridCol w="1282680"/>
                <a:gridCol w="1282680"/>
                <a:gridCol w="1536840"/>
                <a:gridCol w="1368360"/>
                <a:gridCol w="942840"/>
                <a:gridCol w="1649520"/>
              </a:tblGrid>
              <a:tr h="105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№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ла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озду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еп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езульт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Ученическая мастерская. Проект  урока «Спросим мнение самого растения». Урок биологии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6 клас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43862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ма урока «Рост и развитие растений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ип урока по Д.Ц – проблемно-проект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ип урока по форме – лабораторный практику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6" descr="j0285444"/>
          <p:cNvPicPr/>
          <p:nvPr/>
        </p:nvPicPr>
        <p:blipFill>
          <a:blip r:embed="rId1"/>
          <a:stretch/>
        </p:blipFill>
        <p:spPr>
          <a:xfrm>
            <a:off x="5148360" y="2349360"/>
            <a:ext cx="3533760" cy="38880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Актуальность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246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ишла весна,  пора работ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ка еще на солнечном окне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се семена проверены на всхожес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 в ящички посеяны в тепл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ы ждем чудес – и вот они, пожалуйста, вот появился маленький росток.         Расти огурчик, мне так сильно хочется  отправить тебя     поскорей в роток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8" descr="j0281904"/>
          <p:cNvPicPr/>
          <p:nvPr/>
        </p:nvPicPr>
        <p:blipFill>
          <a:blip r:embed="rId1"/>
          <a:stretch/>
        </p:blipFill>
        <p:spPr>
          <a:xfrm>
            <a:off x="4932360" y="198900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28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769644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бразовательны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знать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а)что такое  всхожесть семян б) благоприятные (оптимальные) услов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умет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а) определять всхожесть семя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б) ставить опыт по определению необходимых условий для прорастания семя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Развивающие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аналитическое мышление, способность выдвигать собственные гипотезы, аргументированно обосновывать и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оспитательные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согласованная работа в коллективе, экономическое просвещ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чебная цель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яснить, какие условия необходимы для прорастания семян, где это знание может пригодиться в жизни, а также для чего определяют всхожесть семян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6" descr="j0233018"/>
          <p:cNvPicPr/>
          <p:nvPr/>
        </p:nvPicPr>
        <p:blipFill>
          <a:blip r:embed="rId1"/>
          <a:stretch/>
        </p:blipFill>
        <p:spPr>
          <a:xfrm>
            <a:off x="4788000" y="1916280"/>
            <a:ext cx="3600360" cy="388908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Этапы урока - мастерско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ап. Организационный момент. Проверка готовности к работ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ап. Мотивация и целеполагани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БЛЕМ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Из года в год тополя, березы, ивы, одуванчики образуют сотни тысяч семян. Зачем их так много? Почему прорастают только единицы семян?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Лабораторный опыт (домашнее задание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вести эксперимент по прорастанию семян. Составить отчет по форм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Цель опы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 Семена каких растений посеян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Условия посева, время посе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. Время появления первых проростк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нтрольных и опытны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 Выводы, оформление работ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дание группам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 Подумайте, зарисуйте  или запишите:» Что нужно семени для появления на свет проростка?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жно нарисовать те условия, которые вы считаете необходимыми для прорастания семени. (проект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 Обсуждение предложен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Выберите одно из условий прорастания семян для выполнения проекта (по жребию) – вода, тепло, воздух, зародыш с запасом питательных вещест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II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этап – работа над проекто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29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 поставить опыт, чтобы доказать необходимость тех или иных условий для прорастания семян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 увидеть происходящие изменения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 отразить результаты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 представить классу свои выводы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судите в группе вопросы и подготовьтесь к защите своего проекта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общения о результатах домашнего опыта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7" descr="j0088542"/>
          <p:cNvPicPr/>
          <p:nvPr/>
        </p:nvPicPr>
        <p:blipFill>
          <a:blip r:embed="rId1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14:28:12Z</dcterms:created>
  <dc:creator>КАТЯ</dc:creator>
  <dc:description/>
  <dc:language>en-US</dc:language>
  <cp:lastModifiedBy>LEGION</cp:lastModifiedBy>
  <dcterms:modified xsi:type="dcterms:W3CDTF">2015-11-27T10:45:30Z</dcterms:modified>
  <cp:revision>11</cp:revision>
  <dc:subject/>
  <dc:title>Педагогическая мастерская. Проект  урока «Спросим мнение самого растения». Биология, 6 класс</dc:title>
</cp:coreProperties>
</file>