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3BBD-384A-4609-895A-EE433142279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, 6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Рост и развитие раст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биологии Мартыненко Екатерина Васильев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Тихвинская СО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рок биологии, 6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ма: Рост и развитие раст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итель биологии Мартыненко Екатерина Васильев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У «Тихвинская СО школа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V этап - 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своих про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яют таблицу – образ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одят итоги, делают выводы о практическом применении полученных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V этап - рефлексия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щита своих проекто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полняют таблицу – образец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дводят итоги, делают выводы о практическом применении полученных знаний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чка корр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ля чего замачивают семена многих овощных растений перед посев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Почему огурцы и томаты выращивают рассадным способом, а не сразу в гряд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ужен ли свет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Почему иногда не появляются всходы, хотя мы часто и обильно поливаем гряд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Мелкие сухие семена гороха посеяли на глубину 1см. Всходы не появились. Почему?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рточка коррекции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 Для чего замачивают семена многих овощных растений перед посевом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Почему огурцы и томаты выращивают рассадным способом, а не сразу в грядки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Нужен ли свет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Почему иногда не появляются всходы, хотя мы часто и обильно поливаем грядку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.Мелкие сухие семена гороха посеяли на глубину 1см. Всходы не появились. Почему?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 по опыту «Условия прорастания семя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Как заложить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Описание или рису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ложение №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тчет по опыту «Условия прорастания семян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Как заложить опыт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Описание или рисунок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Наблюдение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.Результат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№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аждая группа заполняет свою строч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ложение №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(каждая группа заполняет свою строчку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ческая мастерская. Проект  урока «Спросим мнение самого растения». Урок биолог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 «Рост и развитие расте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урока по Д.Ц – проблемно-проек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урока по форме – лабораторный 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еническая мастерская. Проект  урока «Спросим мнение самого растения». Урок биолог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ма урока «Рост и развитие растений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ип урока по Д.Ц – проблемно-проектны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ип урока по форме – лабораторный практикум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шла весна,  пора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 еще на солнечном ок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емена проверены на всхож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ящички посеяны в теп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ждем чудес – и вот они, пожалуйста, вот появился маленький росток.         Расти огурчик, мне так сильно хочется  отправить тебя     поскорей в роток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ктуальность урок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шла весна,  пора работ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ка еще на солнечном окне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се семена проверены на всхожесть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 в ящички посеяны в тепл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ы ждем чудес – и вот они, пожалуйста, вот появился маленький росток.         Расти огурчик, мне так сильно хочется  отправить тебя     поскорей в роток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Образова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: а)что такое  всхожесть семян б) благоприятные (оптимальные) 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: а) определять всхожесть сем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тавить опыт по определению необходимых условий для прорастания сем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звивающие: аналитическое мышление, способность выдвигать собственные гипотезы, аргументированно обосновывать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оспитательные: согласованная работа в коллективе, экономическое просвещ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 Образовательные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нать: а)что такое  всхожесть семян б) благоприятные (оптимальные) условия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меть: а) определять всхожесть семя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) ставить опыт по определению необходимых условий для прорастания семя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Развивающие: аналитическое мышление, способность выдвигать собственные гипотезы, аргументированно обосновывать их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Воспитательные: согласованная работа в коллективе, экономическое просвещение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ая 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какие условия необходимы для прорастания семян, где это знание может пригодиться в жизни, а также для чего определяют всхожесть сем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ебная цель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ыяснить, какие условия необходимы для прорастания семян, где это знание может пригодиться в жизни, а также для чего определяют всхожесть семян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урока - мастер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этап. Организационный момент. Проверка готовности к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этап. Мотивация и целеполаг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з года в год тополя, березы, ивы, одуванчики образуют сотни тысяч семян. Зачем их так много? Почему прорастают только единицы семян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тапы урока - мастерско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 этап. Организационный момент. Проверка готовности к работ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I этап. Мотивация и целеполагани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«Из года в год тополя, березы, ивы, одуванчики образуют сотни тысяч семян. Зачем их так много? Почему прорастают только единицы семян?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бораторный опыт (домашнее зад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эксперимент по прорастанию семян. Составить отчет по форм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емена каких растений посея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Условия посева, время пос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ремя появления первых про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х и опы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Выводы, оформлени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Лабораторный опыт (домашнее задание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вести эксперимент по прорастанию семян. Составить отчет по форме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Семена каких растений посеян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Условия посева, время посев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 Время появления первых проростко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трольных и опытных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 Выводы, оформление работ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групп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думайте, зарисуйте  или запишите:» Что нужно семени для появления на свет проростка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нарисовать те условия, которые вы считаете необходимыми для прорастания семени. (прое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суждение предло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ыберите одно из условий прорастания семян для выполнения проекта (по жребию) – вода, тепло, воздух, зародыш с запасом питатель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дание группам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 Подумайте, зарисуйте  или запишите:» Что нужно семени для появления на свет проростка?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жно нарисовать те условия, которые вы считаете необходимыми для прорастания семени. (проект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Обсуждение предложени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Выберите одно из условий прорастания семян для выполнения проекта (по жребию) – вода, тепло, воздух, зародыш с запасом питательных веществ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 этап – работа над проек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ставить опыт, чтобы доказать необходимость тех или иных условий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видеть происходящие измен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тразить результа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едставить классу свои выво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дите в группе вопросы и подготовьтесь к защите своего проекта. (сообщения о результатах домашнего опы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II этап – работа над проектом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поставить опыт, чтобы доказать необходимость тех или иных условий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увидеть происходящие изменения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отразить результаты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представить классу свои выводы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бсудите в группе вопросы и подготовьтесь к защите своего проекта. (сообщения о результатах домашнего опыта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6D68-68FC-4392-AC97-BE71AA67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4A2C-0B26-4229-9D24-F08C64EA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40BE-0646-4024-BDBC-B217D892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AA56-B4AE-4641-A033-5167C423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3431-D76C-40A9-A290-BC5DBF88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7CBD-A54C-46C8-8DAB-4F92D06C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1762-1965-429D-9056-3D7FD843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8235-7B3B-4712-8780-B5FA122F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5A98-1A94-4446-93B5-D85B59E8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1A0F-5926-4A90-9C5A-20403532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1A57-5CCA-4FD8-9D38-B9FD895E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A6DC-498D-48F5-9893-5A47837B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7EF2-6B0E-4472-82A8-B5BE54D6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88E5-E6E5-4000-9B16-78E8CE11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B727-6497-4444-A169-F67EFAC6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70D1-8084-4C90-8922-04194656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9873-820F-4885-82D8-FA98BB67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369-FAED-432A-BA57-47A80904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9F6-DE02-4354-84FD-63CE9AB7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4F01-5157-4C98-9C14-80C6C615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E7BF-C5B4-408D-BBBD-2D84A586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651C-9EF0-40F6-8FA1-A680CF8F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8FD-35A4-43DF-9FB3-9FF9504A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2E73-56C1-415E-90D5-49D7F246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6CFE-67B5-4B23-A959-0513922F97F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C959-C28A-4A99-96E2-9A89873FC8B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55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рок биологии, 6 класс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ема: Рост и развитие растени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читель биологии Мартыненко Екатерина Васильев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ОУ «Тихвинская СО школ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этап - рефлекс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щита своих проект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полняют таблицу – образец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одводят итоги, делают выводы о практическом применении полученных знани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рточка корре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ьте на вопрос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Для чего замачивают семена многих овощных растений перед посевом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Почему огурцы и томаты выращивают рассадным способом, а не сразу в грядк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Нужен ли свет для прорастания семян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Почему иногда не появляются всходы, хотя мы часто и обильно поливаем грядку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Мелкие сухие семена гороха посеяли на глубину 1см. Всходы не появились. Почему?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ложение №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чет по опыту «Условия прорастания семян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Как заложить опы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Описание или рисун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Наблюд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.Результ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4036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иложение №2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каждая группа заполняет свою строчку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85800" y="1844640"/>
          <a:ext cx="8062920" cy="407988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536840"/>
                <a:gridCol w="1368360"/>
                <a:gridCol w="942840"/>
                <a:gridCol w="1649520"/>
              </a:tblGrid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ла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зду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еп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ченическая мастерская. Проект  урока «Спросим мнение самого растения». Урок биологии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 клас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43862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а урока «Рост и развитие растений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п урока по Д.Ц – проблемно-проект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п урока по форме – лабораторный практику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6" descr="j0285444"/>
          <p:cNvPicPr/>
          <p:nvPr/>
        </p:nvPicPr>
        <p:blipFill>
          <a:blip r:embed="rId1"/>
          <a:stretch/>
        </p:blipFill>
        <p:spPr>
          <a:xfrm>
            <a:off x="5148360" y="2349360"/>
            <a:ext cx="3533760" cy="38880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ктуальность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46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шла весна,  пора работ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ка еще на солнечном окне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се семена проверены на всхоже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 в ящички посеяны в тепл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ы ждем чудес – и вот они, пожалуйста, вот появился маленький росток.         Расти огурчик, мне так сильно хочется  отправить тебя     поскорей в роток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8" descr="j0281904"/>
          <p:cNvPicPr/>
          <p:nvPr/>
        </p:nvPicPr>
        <p:blipFill>
          <a:blip r:embed="rId1"/>
          <a:stretch/>
        </p:blipFill>
        <p:spPr>
          <a:xfrm>
            <a:off x="4932360" y="1989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769644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разовательны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нать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)что такое  всхожесть семян б) благоприятные (оптимальные) услов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ме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) определять всхожесть семя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б) ставить опыт по определению необходимых условий для прорастания семя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азвивающие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налитическое мышление, способность выдвигать собственные гипотезы, аргументированно обосновывать и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оспитательные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огласованная работа в коллективе, экономическое просвещ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чебная цел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яснить, какие условия необходимы для прорастания семян, где это знание может пригодиться в жизни, а также для чего определяют всхожесть семя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6" descr="j0233018"/>
          <p:cNvPicPr/>
          <p:nvPr/>
        </p:nvPicPr>
        <p:blipFill>
          <a:blip r:embed="rId1"/>
          <a:stretch/>
        </p:blipFill>
        <p:spPr>
          <a:xfrm>
            <a:off x="4788000" y="1916280"/>
            <a:ext cx="3600360" cy="388908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апы урока - мастерско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п. Организационный момент. Проверка готовности к работ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п. Мотивация и целеполаган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БЛЕ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Из года в год тополя, березы, ивы, одуванчики образуют сотни тысяч семян. Зачем их так много? Почему прорастают только единицы семян?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абораторный опыт (домашнее задание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вести эксперимент по прорастанию семян. Составить отчет по форм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Семена каких растений посеян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Условия посева, время посе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Время появления первых пророст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нтрольных и опытны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 Выводы, оформление рабо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дание группам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Подумайте, зарисуйте  или запишите:» Что нужно семени для появления на свет проростка?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жно нарисовать те условия, которые вы считаете необходимыми для прорастания семени. (проек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Обсуждение предложен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Выберите одно из условий прорастания семян для выполнения проекта (по жребию) – вода, тепло, воздух, зародыш с запасом питательных вещест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II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ап – работа над проект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29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поставить опыт, чтобы доказать необходимость тех или иных условий для прорастания семян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увидеть происходящие изменени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отразить результат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представить классу свои вывод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судите в группе вопросы и подготовьтесь к защите своего проект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общения о результатах домашнего опыт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7" descr="j0088542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4:28:12Z</dcterms:created>
  <dc:creator>КАТЯ</dc:creator>
  <dc:description/>
  <dc:language>en-US</dc:language>
  <cp:lastModifiedBy>LEGION</cp:lastModifiedBy>
  <dcterms:modified xsi:type="dcterms:W3CDTF">2015-11-27T10:45:30Z</dcterms:modified>
  <cp:revision>11</cp:revision>
  <dc:subject/>
  <dc:title>Педагогическая мастерская. Проект  урока «Спросим мнение самого растения». Биология, 6 класс</dc:title>
</cp:coreProperties>
</file>