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7E50-9BC9-4E39-9810-2742ECF1BB0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162-9BE4-4BC0-8B51-C2C52CA0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EC9-8818-4674-8A02-09BA2288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868-1AF2-4461-BF1E-3AF1B346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349-F3A7-4CAD-90B7-3E134800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8C06-7BCC-4D09-803F-395BDCD3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3E1C-55BC-4018-8588-C50B51B4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0540-E7B4-4F1B-A43F-185FCC30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986E-BC21-4020-893A-384E78B7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CD9E-AED0-451E-9CE0-259B681F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DC25-E407-4115-AD5A-C68B7E12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C727-1AEC-4B72-B660-CC9DF56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0CE-D9C3-4C04-935B-064266DE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C7BC-60B0-49D4-99FD-680CFE99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1EC0-2B45-492F-B175-182435D8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441-166A-42AE-8A25-092E9255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A725-A3C1-47DE-AF8A-84BFF762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A87E-0EC5-4080-A55D-2BC9D1CD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6C5-9F1B-4AA5-86CA-7F986B95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388-A959-482F-A555-DC5408B4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29B-B417-451B-AA7D-D405E0C8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B60-C89F-4D78-9747-EFA8ADC2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85E-36D8-4624-B7F8-838888B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D75-6D51-4908-8C52-6F93612D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3BC-8D8B-423F-B5BF-D00593A7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3087-9C9D-4B62-968A-774CB280712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0117-F049-4801-8DED-B8B1DBB524E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55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этап - 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40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844640"/>
          <a:ext cx="8062920" cy="4079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536840"/>
                <a:gridCol w="1368360"/>
                <a:gridCol w="942840"/>
                <a:gridCol w="164952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л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п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43862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j0285444"/>
          <p:cNvPicPr/>
          <p:nvPr/>
        </p:nvPicPr>
        <p:blipFill>
          <a:blip r:embed="rId1"/>
          <a:stretch/>
        </p:blipFill>
        <p:spPr>
          <a:xfrm>
            <a:off x="5148360" y="2349360"/>
            <a:ext cx="3533760" cy="388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j0281904"/>
          <p:cNvPicPr/>
          <p:nvPr/>
        </p:nvPicPr>
        <p:blipFill>
          <a:blip r:embed="rId1"/>
          <a:stretch/>
        </p:blipFill>
        <p:spPr>
          <a:xfrm>
            <a:off x="49323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что такое  всхожесть семян б) благоприятные (оптимальные) услов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м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 определять всхожесть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алитическое мышление, способность выдвигать собственные гипотезы, аргументированно обосновывать 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огласованная работа в коллективе, экономическое просвещ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8890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Организационный момент. Проверка готовности к рабо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Мотивация и целеполаг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 –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ения о результатах домашнего опы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j008854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8:12Z</dcterms:created>
  <dc:creator>КАТЯ</dc:creator>
  <dc:description/>
  <dc:language>en-US</dc:language>
  <cp:lastModifiedBy>LEGION</cp:lastModifiedBy>
  <dcterms:modified xsi:type="dcterms:W3CDTF">2015-11-27T10:45:30Z</dcterms:modified>
  <cp:revision>11</cp:revision>
  <dc:subject/>
  <dc:title>Педагогическая мастерская. Проект  урока «Спросим мнение самого растения». Биология, 6 класс</dc:title>
</cp:coreProperties>
</file>