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492-9C4B-4369-A67D-011F34479F0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V этап - рефлекс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 Образовательны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нать: а)что такое  всхожесть семян б) благоприятные (оптимальные) условия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меть: а) определять всхожесть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Развивающие: аналитическое мышление, способность выдвигать собственные гипотезы, аргументированно обосновывать их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оспитательные: согласованная работа в коллективе, экономическое просвещение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 этап. Организационный момент. Проверка готовности к работ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 этап. Мотивация и целеполагание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III этап – работа над проектом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 (сообщения о результатах домашнего опыта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5F1-0025-4921-9221-3334166D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7AA9-04C2-4E6C-A94A-160E347F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D4A-AC51-484B-A7B1-20FD92CD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90F-B992-43CE-8727-F036F16D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DE68-5C58-4C2C-8A6F-6B60CE3B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BBED-58D3-4310-AB5E-8C54D6B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2C0B-E0AE-4D4F-A1D1-09DF74EF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BC5-A86A-4C50-A921-1D837795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B2F2-B1CA-438E-9A39-8EEDED7E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768-FDA2-4B7C-B206-79A0D51F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9CEE-9DB2-41B1-A58C-148B687E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175-E567-4489-A59A-1FB245F8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1173-BFB3-43C6-896E-75818C61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E4D7-ED95-4BDD-B55E-0D56AC65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9A53-80DC-42E5-966A-C9C34BF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51EA-2B15-4672-B2AF-2372B9B5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853C-F503-43EC-9FED-0853DFA5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229-F932-4889-888D-719C92FC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1C8-8009-4A73-8328-4179F892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FE5-E58B-40A3-9B99-9EF13101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77D-EF52-4512-B312-6EC46596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896-7AE9-4702-9722-32570F15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25D8-5CE0-4528-A559-D71CFEE1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EB2-E731-4F00-849A-1DE4C2D1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92E2-3BEE-4B51-8985-09946DF1B2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DAE-DF72-4221-B966-85C13FBD4F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550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рок биологии, 6 класс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: Рост и развитие растени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итель биологии Мартыненко Екатерина Васильевн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ОУ «Тихвинская СО школ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этап - рефлекс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щита своих проектов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олняют таблицу – образец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дводят итоги, делают выводы о практическом применении полученных знаний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рточка корре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ветьте на вопрос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Для чего замачивают семена многих овощных растений перед посевом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Почему огурцы и томаты выращивают рассадным способом, а не сразу в грядк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Нужен ли свет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Почему иногда не появляются всходы, хотя мы часто и обильно поливаем грядку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Мелкие сухие семена гороха посеяли на глубину 1см. Всходы не появились. Почему?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ложение №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чет по опыту «Условия прорастания семян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.Как заложить опы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.Описание или рисун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.Наблюд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.Результ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84036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риложение №2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каждая группа заполняет свою строчку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1844640"/>
          <a:ext cx="8062920" cy="4079880"/>
        </p:xfrm>
        <a:graphic>
          <a:graphicData uri="http://schemas.openxmlformats.org/drawingml/2006/table">
            <a:tbl>
              <a:tblPr/>
              <a:tblGrid>
                <a:gridCol w="1282680"/>
                <a:gridCol w="1282680"/>
                <a:gridCol w="1536840"/>
                <a:gridCol w="1368360"/>
                <a:gridCol w="942840"/>
                <a:gridCol w="164952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л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зду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еп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зульт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ченическая мастерская. Проект  урока «Спросим мнение самого растения». Урок биологии,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43862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ма урока «Рост и развитие растений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Д.Ц – проблемно-проект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п урока по форме – лабораторный практику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j0285444"/>
          <p:cNvPicPr/>
          <p:nvPr/>
        </p:nvPicPr>
        <p:blipFill>
          <a:blip r:embed="rId1"/>
          <a:stretch/>
        </p:blipFill>
        <p:spPr>
          <a:xfrm>
            <a:off x="5148360" y="2349360"/>
            <a:ext cx="3533760" cy="388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ктуальность уро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24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шла весна,  пора работ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ка еще на солнечном окн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се семена проверены на всхоже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 в ящички посеяны в теп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ы ждем чудес – и вот они, пожалуйста, вот появился маленький росток.         Расти огурчик, мне так сильно хочется  отправить тебя     поскорей в роток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8" descr="j0281904"/>
          <p:cNvPicPr/>
          <p:nvPr/>
        </p:nvPicPr>
        <p:blipFill>
          <a:blip r:embed="rId1"/>
          <a:stretch/>
        </p:blipFill>
        <p:spPr>
          <a:xfrm>
            <a:off x="4932360" y="19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-316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769644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ователь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знать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что такое  всхожесть семян б) благоприятные (оптимальные) услов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м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) определять всхожесть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б) ставить опыт по определению необходимых условий для прорастания семя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и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аналитическое мышление, способность выдвигать собственные гипотезы, аргументированно обосновывать и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оспитательные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согласованная работа в коллективе, экономическое просвещ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Учебная цель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яснить, какие условия необходимы для прорастания семян, где это знание может пригодиться в жизни, а также для чего определяют всхожесть семян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6" descr="j0233018"/>
          <p:cNvPicPr/>
          <p:nvPr/>
        </p:nvPicPr>
        <p:blipFill>
          <a:blip r:embed="rId1"/>
          <a:stretch/>
        </p:blipFill>
        <p:spPr>
          <a:xfrm>
            <a:off x="4788000" y="1916280"/>
            <a:ext cx="3600360" cy="388908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ы урока - мастерско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Организационный момент. Проверка готовности к работ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ап. Мотивация и целеполага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Из года в год тополя, березы, ивы, одуванчики образуют сотни тысяч семян. Зачем их так много? Почему прорастают только единицы семян?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абораторный опыт (домашнее задание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сти эксперимент по прорастанию семян. Составить отчет по форм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Цель опы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Семена каких растений посеян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Условия посева, время посе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ремя появления первых проростк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нтрольных и опытных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Выводы, оформление рабо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адание группа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 Подумайте, зарисуйте  или запишите:» Что нужно семени для появления на свет проростка?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жно нарисовать те условия, которые вы считаете необходимыми для прорастания семени. (проек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 Обсуждение предложе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 Выберите одно из условий прорастания семян для выполнения проекта (по жребию) – вода, тепло, воздух, зародыш с запасом питательных вещест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II 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тап – работа над проект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оставить опыт, чтобы доказать необходимость тех или иных условий для прорастания семян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увидеть происходящие изменения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отразить результат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представить классу свои вывод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судите в группе вопросы и подготовьтесь к защите своего проекта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общения о результатах домашнего опыт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7" descr="j0088542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8:12Z</dcterms:created>
  <dc:creator>КАТЯ</dc:creator>
  <dc:description/>
  <dc:language>en-US</dc:language>
  <cp:lastModifiedBy>LEGION</cp:lastModifiedBy>
  <dcterms:modified xsi:type="dcterms:W3CDTF">2015-11-27T10:45:30Z</dcterms:modified>
  <cp:revision>11</cp:revision>
  <dc:subject/>
  <dc:title>Педагогическая мастерская. Проект  урока «Спросим мнение самого растения». Биология, 6 класс</dc:title>
</cp:coreProperties>
</file>