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00F6-ECAD-42F0-B40F-B5EAFCB13DE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F39-4761-4C1A-8585-48B2B898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51C-471A-4B0D-8E87-88888205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52F-8814-446B-B8D4-F53A13B5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350-E254-482A-9936-57D0B2FD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E3B4-D54C-4EE5-A57A-F8BB1996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0872-0FD8-4C06-8487-39B9B31D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217E-B5B5-4978-9AB5-D64AC55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1ABD-E6DB-4B84-AA22-52D87185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714F-1E52-4368-9337-A1D3B781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03F9-C508-456C-ADEF-3D9E3809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6BD6-11D5-47CA-B2E7-F7D289F6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A86-8797-4EF8-A386-6A44F298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F4E2-CE65-40E0-9861-656342C3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10D0-1139-4458-9F11-26FC12D1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C727-BF1D-454B-B879-C3780A42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27F7-B711-4CC0-A28C-AEDDDAA7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72E6-7C2D-47A5-98FF-1D7F6519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C22-201F-4734-9BAF-3A83B2AB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2E6-41E9-45AA-A4FA-093E58D1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0B9-FCD9-4B43-BC30-0AC86040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8B3-E3CE-44C0-A456-C6717D10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779-CC79-4CA4-A4B8-834635F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E9D-5BE5-4EC5-9EC6-49E18515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CEA-E356-4381-9FC9-77EDE5DB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68F2-51E8-4F2B-839A-33AD7233F80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50DB-3E69-4BB3-808F-FCB56E68DF6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55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этап - 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403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1844640"/>
          <a:ext cx="8062920" cy="40798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536840"/>
                <a:gridCol w="1368360"/>
                <a:gridCol w="942840"/>
                <a:gridCol w="164952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л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п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43862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j0285444"/>
          <p:cNvPicPr/>
          <p:nvPr/>
        </p:nvPicPr>
        <p:blipFill>
          <a:blip r:embed="rId1"/>
          <a:stretch/>
        </p:blipFill>
        <p:spPr>
          <a:xfrm>
            <a:off x="5148360" y="2349360"/>
            <a:ext cx="3533760" cy="388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4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j0281904"/>
          <p:cNvPicPr/>
          <p:nvPr/>
        </p:nvPicPr>
        <p:blipFill>
          <a:blip r:embed="rId1"/>
          <a:stretch/>
        </p:blipFill>
        <p:spPr>
          <a:xfrm>
            <a:off x="493236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6964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ть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что такое  всхожесть семян б) благоприятные (оптимальные) услов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м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 определять всхожесть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ющ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налитическое мышление, способность выдвигать собственные гипотезы, аргументированно обосновывать 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спитательны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огласованная работа в коллективе, экономическое просвещ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j0233018"/>
          <p:cNvPicPr/>
          <p:nvPr/>
        </p:nvPicPr>
        <p:blipFill>
          <a:blip r:embed="rId1"/>
          <a:stretch/>
        </p:blipFill>
        <p:spPr>
          <a:xfrm>
            <a:off x="4788000" y="1916280"/>
            <a:ext cx="3600360" cy="38890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Организационный момент. Проверка готовности к рабо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Мотивация и целеполаг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 – работа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общения о результатах домашнего опыт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j0088542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8:12Z</dcterms:created>
  <dc:creator>КАТЯ</dc:creator>
  <dc:description/>
  <dc:language>en-US</dc:language>
  <cp:lastModifiedBy>LEGION</cp:lastModifiedBy>
  <dcterms:modified xsi:type="dcterms:W3CDTF">2015-11-27T10:45:30Z</dcterms:modified>
  <cp:revision>11</cp:revision>
  <dc:subject/>
  <dc:title>Педагогическая мастерская. Проект  урока «Спросим мнение самого растения». Биология, 6 класс</dc:title>
</cp:coreProperties>
</file>