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9577-3A68-499F-A3F1-82087760678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13D-6AEF-4F8A-A6CE-388237FD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789-2756-472B-98F2-3A9311B3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65B-E81D-44B7-A7DB-66D67868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B3A-A593-4681-85B1-9DBB069B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3229-B4A0-46F0-A6C4-1CFB4EE8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7B3F-7ED3-43F5-AC47-8573BF6E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19FD-0C57-4C73-BC5A-AD93EF99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F303-EBC5-4AA2-955A-ED4451BF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4D11-5CEC-4E12-9721-0364E536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6E73-1051-4B5E-AA2D-783FFBE8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1F00-DC01-4E00-932F-970CE739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B51B-9877-4A27-B167-BC0807C1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3746-7F9F-4062-9351-1D826A18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EF3E-2FFE-41FA-852E-32DDF287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6EDB-C165-496E-BB69-F8D5B707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F957-061C-48FE-B990-3A609D92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E058-E9AE-4F76-87FF-84950FED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936-C91D-4482-A341-12791321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CEB-1FED-4D07-B19D-75323B19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CAD6-F8B6-41BC-A9E7-548BF734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4AA-CCE0-414A-9A93-D93494C7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923-ECC5-463D-9EC0-2FB55809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D75-0AEC-4929-B37E-6AA6AE44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467-0F81-4F20-8AB4-F2CA1868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0DD3-322F-462C-A2CB-D7F2D3E420C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FBAA-08C4-4FB7-AD11-FA2E0DA9381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55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этап - рефлекс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4036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1844640"/>
          <a:ext cx="8062920" cy="407988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536840"/>
                <a:gridCol w="1368360"/>
                <a:gridCol w="942840"/>
                <a:gridCol w="164952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ла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зду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еп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43862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6" descr="j0285444"/>
          <p:cNvPicPr/>
          <p:nvPr/>
        </p:nvPicPr>
        <p:blipFill>
          <a:blip r:embed="rId1"/>
          <a:stretch/>
        </p:blipFill>
        <p:spPr>
          <a:xfrm>
            <a:off x="5148360" y="2349360"/>
            <a:ext cx="3533760" cy="388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4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8" descr="j0281904"/>
          <p:cNvPicPr/>
          <p:nvPr/>
        </p:nvPicPr>
        <p:blipFill>
          <a:blip r:embed="rId1"/>
          <a:stretch/>
        </p:blipFill>
        <p:spPr>
          <a:xfrm>
            <a:off x="4932360" y="19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6964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разователь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нать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что такое  всхожесть семян б) благоприятные (оптимальные) услов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ме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 определять всхожесть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звивающ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налитическое мышление, способность выдвигать собственные гипотезы, аргументированно обосновывать 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оспитательны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огласованная работа в коллективе, экономическое просвещ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j0233018"/>
          <p:cNvPicPr/>
          <p:nvPr/>
        </p:nvPicPr>
        <p:blipFill>
          <a:blip r:embed="rId1"/>
          <a:stretch/>
        </p:blipFill>
        <p:spPr>
          <a:xfrm>
            <a:off x="4788000" y="1916280"/>
            <a:ext cx="3600360" cy="38890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Организационный момент. Проверка готовности к работ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Мотивация и целеполага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 – работа над проект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общения о результатах домашнего опыт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j0088542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8:12Z</dcterms:created>
  <dc:creator>КАТЯ</dc:creator>
  <dc:description/>
  <dc:language>en-US</dc:language>
  <cp:lastModifiedBy>LEGION</cp:lastModifiedBy>
  <dcterms:modified xsi:type="dcterms:W3CDTF">2015-11-27T10:45:30Z</dcterms:modified>
  <cp:revision>11</cp:revision>
  <dc:subject/>
  <dc:title>Педагогическая мастерская. Проект  урока «Спросим мнение самого растения». Биология, 6 класс</dc:title>
</cp:coreProperties>
</file>