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96B-5E68-4058-9017-7C567A8BC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урок по те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Строение клетки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10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«Общая биология 10-11 клас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А. Каменский, Е.А. Криксунов, В.В. Пасечни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Дрофа», 2010г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ающий урок по тем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флексия: 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Эмоции- это чёткий показатель на правильном ли мы пути …»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Мысли создают эмоци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«Радуга чувств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 Мысли создают эмоции…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: 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аспекты изучения строения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«класт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центрифуг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кле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«класте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цитологии:                                                                Клеточная тео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клеток:                                                             Органоиды клет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укариотические                                                Цитоплазматическая мембра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тения, грибы, животные                      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оение клет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теграция учебных зна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нтеграция учебных зн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таж уч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вете соблюд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Л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Ответ развёрнут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Нагляд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- все требования соблю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-нет чёткой логики  в из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-не все вопросы раскры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Всякое обучение по своей сути есть создание условий для развития личности…»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И.С. Якиман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таж уч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я в группах учащиеся готовят ответ на 5  вопро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людается регламент выступления-3 ми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твете соблюда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. Лог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. Ответ развёрнут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. Нагля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терии оценки учащих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- все требования соблюд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-нет чёткой логики  в изложе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-не все вопросы раскры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ие молекулы органических веществ присутствуют в мембране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свойства липидов влияют на функции, выполняемые цитоплазматической мембрано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акое имеет значение для клетки гидрофильность молекул липид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Какова роль углеводов, расположенных на поверхности белковых молекул в мемб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акой принцип лежит в основе строения школьного микроскоп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В чём отличие светового микроскопа от электронног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чему возникла идея использования в микроскопе вместо луча света поток электронов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возможности для изучения клетки раскрывает сканирующий микроскоп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Вопросы для обсуж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разновид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 строение и функции рибос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 комплекса Гольдж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.Вопросы для обсужд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оло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«Цитоплазма и цитоскелет»                                                             II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Чем представлена цитоплазма клетки?                                                                             эукариот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Отличается ли набор хромосом соматических и              III     «Мембранные органоиды» 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нк подведения ит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   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   Хи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  Биологи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  Биологи-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    Биологи-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бал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           1  2   3  4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нк подведения ит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     Физ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    Хи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   Биологи-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   Биологи-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V    Биологи-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балл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:            1  2   3  4 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AC91-D317-4203-852C-4F7B30DC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C4B-7B22-4EFD-8207-08C3647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7C2-45EC-46E8-9158-E07494A4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F80-052F-4E1F-9AE1-A380E166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5EFB-F0DD-475B-8F92-D17A92BE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5687-9BB5-4031-8986-03B799B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08A7-41C0-4BDC-A117-3E5326EF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81B-F724-40D1-9A07-82078BCE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D50C-3BA2-43F4-82BB-0F90E4DD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318-72B7-4335-B858-01B1BA1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BD77-EEE9-473C-9069-1AE036B1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BCB-77BD-4729-B531-E547782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88E7-6BAF-4CB0-9001-AABE2011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D68-29DC-4B4D-ADBD-D690BFF4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A953-958B-4676-9BE7-F32D82FB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00E7-D407-44C0-AED9-759EE5F4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DD1B-0771-42D2-B9E1-59237288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142B-AC0E-4B29-82F2-300C03E7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3EC1-9F3B-4B6F-8D72-55A152F4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DFEB-B3AE-4C1D-B1A0-ED1FEDFC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BC68-6715-4CEF-BD63-76F8656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457E-E35A-471F-833E-CDE4B708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63E-9F22-4D5D-835F-602C42D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79E6-95A1-4FD8-AFE7-CD167B5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6F91-F1F9-4E15-867E-AFDC8B1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91ED-3D89-4954-A180-A267267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B8AB-76E8-4C8B-BA79-0448DAB2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8953-AE59-49D9-93C1-A4B6338F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9588F-B181-4AB0-8343-BA13952D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14C8-9C08-4FDD-B24D-A7583FA5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0CAE-F2DE-4EC8-A54E-233389A6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866D-7044-4FC0-ABEF-47F3BAF6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5555B-A0E6-4B09-B821-26BEC183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884-0A31-4D8F-A25C-28B4221A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4EE6-3E53-4FA0-B7E5-399E1DB5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AB13-BB59-4CB9-AF18-93BD8AE2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9568-3AC3-48BC-86BD-64397B94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B87E-5D78-4812-A52D-E5F7F08F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368F-0AEE-4A8C-A5AD-115BD28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0FFBF-2C1C-45BC-A08F-4723687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5349-548E-4ABE-A96F-862D48EE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B3DA-D84F-4EC7-9F03-CB315744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0526-D016-4314-A141-A027D832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E216-B9E5-468C-A740-9E583488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5D-CC72-4585-B2E8-28EAB12E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32153-71C6-4A6E-9672-6D6D048F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CE045-EB69-4DF9-9811-99AC712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281A-5D13-4AC1-A184-46F21E26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F9592-0F7E-4381-903B-7192AC2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EC27-A075-4655-B41C-122EAEF0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EA86-D533-49B9-BDAA-5042D1F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AC3C-D94E-4208-A80B-F45003E8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B0DC1-A688-4CB2-BEFC-E7D55A1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BED61-5FCD-41BA-9741-32F16B70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54D5-CF23-4734-AF28-F78D320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F48-EAFA-4752-8B5C-0180FBDD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0668D-BD92-4B12-808A-6A790C77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F9C5-721A-4AAD-A308-B86AECFF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F8E71-544F-4EAE-A337-A6310D37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D08F2-5A30-4194-8504-EAB879E8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9C3E-1FCD-4B75-8331-F9C77214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87E84-DEE0-4721-AD68-E4497D8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40084-F750-414E-BB9A-9BFFDBA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9CDAA-2F1E-486F-BD7F-AE69A48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AFB09-25CA-40FD-AB3D-AB252370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B639-BE16-456A-92FD-6EAF687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9A3-4A13-44AC-9B14-E081F7EB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249D-754C-476F-8F86-63A7433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E43FA-00AF-4494-9352-5216A11A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C829F-F76F-4F54-9860-2143AABE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6303B-50E3-40C7-874A-A20A2E94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1A44-598E-4A22-BC6D-FD4928E7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5D4AE-83A4-4C2D-9D56-F741940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79A7-90E0-4374-BC7A-2FFFE951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C1DF-2F1E-4541-B8D8-466D3B65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E4F2-E3A5-4FC0-BB8C-E458B6E1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DB8EB-2AE3-4DAC-AE17-817C2BEE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31E-5856-4800-BC26-32F66E88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DA0A4-81EC-4DFE-BF55-AD59D3E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0812-9461-436D-974F-B7329A2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C00ED-B0FF-4149-A9B0-AF7209E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A741D-8F09-4BA6-B3A5-775DF00E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533A-97A9-495E-8617-11053370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59D-DEA4-4214-A0E1-B199870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2C8-CADA-4820-BB70-B813CB2DA96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F91C-004D-4D4F-B1C8-4F71EDDD3E8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432-5EC4-4B28-B24B-BD68BC28A646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E06F-72FC-484A-9AF9-84961FC2979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339-0455-4AAA-956F-87F5D7A0D569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101D-BEEE-40C9-B9FF-3F03FD9211D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F69-0E52-4BA5-88DB-079A81156953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E20-F9E6-4BE2-8F06-F78DF797844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CACB-A40A-4A24-B413-BFB4DC69AFDC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F1D-A836-49CB-A301-07DB05AC308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C7E8-52CC-4AD9-9600-48B7880092C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8A9C-F4BC-4EBD-94A8-D7A68F8FCE2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ACB-5771-4405-8E3D-A15598B8B55B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F5A8-E2D4-44AF-B3A8-7429950E429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725400" y="4254480"/>
            <a:ext cx="7961400" cy="22129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Обобщающий урок по тем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Consolas"/>
              </a:rPr>
              <a:t>Рефлексия: «Радуга чувств»</a:t>
            </a:r>
            <a:br>
              <a:rPr sz="4000"/>
            </a:br>
            <a:r>
              <a:rPr b="0" lang="ru-RU" sz="2000" spc="-1" strike="noStrike">
                <a:solidFill>
                  <a:srgbClr val="835e01"/>
                </a:solidFill>
                <a:latin typeface="Consolas"/>
              </a:rPr>
              <a:t>«Эмоции- это чёткий показатель на правильном ли мы пути …».</a:t>
            </a:r>
            <a:br>
              <a:rPr sz="2000"/>
            </a:b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5" name="Схема 3" descr=""/>
          <p:cNvPicPr/>
          <p:nvPr/>
        </p:nvPicPr>
        <p:blipFill>
          <a:blip r:embed="rId1"/>
          <a:stretch/>
        </p:blipFill>
        <p:spPr>
          <a:xfrm>
            <a:off x="1523880" y="1712880"/>
            <a:ext cx="6096240" cy="4784760"/>
          </a:xfrm>
          <a:prstGeom prst="rect">
            <a:avLst/>
          </a:prstGeom>
          <a:ln w="0">
            <a:noFill/>
          </a:ln>
        </p:spPr>
      </p:pic>
      <p:pic>
        <p:nvPicPr>
          <p:cNvPr id="416" name="Схема 4" descr=""/>
          <p:cNvPicPr/>
          <p:nvPr/>
        </p:nvPicPr>
        <p:blipFill>
          <a:blip r:embed="rId2"/>
          <a:stretch/>
        </p:blipFill>
        <p:spPr>
          <a:xfrm>
            <a:off x="1566720" y="2567160"/>
            <a:ext cx="6113520" cy="28638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02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en-US" sz="4000" spc="-1" strike="noStrike">
                <a:solidFill>
                  <a:srgbClr val="c58d01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c58d01"/>
                </a:solidFill>
                <a:latin typeface="Consolas"/>
              </a:rPr>
              <a:t>«Радуга чувств»</a:t>
            </a:r>
            <a:br>
              <a:rPr sz="4000"/>
            </a:br>
            <a:r>
              <a:rPr b="0" lang="ru-RU" sz="2800" spc="-1" strike="noStrike">
                <a:solidFill>
                  <a:srgbClr val="c58d01"/>
                </a:solidFill>
                <a:latin typeface="Consolas"/>
              </a:rPr>
              <a:t>« Мысли создают эмоции…»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Содержимое 4" descr=""/>
          <p:cNvPicPr/>
          <p:nvPr/>
        </p:nvPicPr>
        <p:blipFill>
          <a:blip r:embed="rId1"/>
          <a:stretch/>
        </p:blipFill>
        <p:spPr>
          <a:xfrm>
            <a:off x="914400" y="1779480"/>
            <a:ext cx="7772400" cy="459108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1eeff"/>
                </a:solidFill>
                <a:latin typeface="Consolas"/>
              </a:rPr>
              <a:t>Цель:</a:t>
            </a: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1800" spc="-1" strike="noStrike">
                <a:solidFill>
                  <a:srgbClr val="c1eeff"/>
                </a:solidFill>
                <a:latin typeface="Consolas"/>
              </a:rPr>
              <a:t>интеграция учебного материала по теме «Строение клетки»,как способ синхронизированного обучения, направленный на развитие познавательного интереса.</a:t>
            </a: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5" descr=""/>
          <p:cNvPicPr/>
          <p:nvPr/>
        </p:nvPicPr>
        <p:blipFill>
          <a:blip r:embed="rId1"/>
          <a:stretch/>
        </p:blipFill>
        <p:spPr>
          <a:xfrm>
            <a:off x="792000" y="1712880"/>
            <a:ext cx="7986960" cy="458460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eea"/>
                </a:solidFill>
                <a:latin typeface="Consolas"/>
              </a:rPr>
              <a:t> </a:t>
            </a:r>
            <a:r>
              <a:rPr b="0" lang="ru-RU" sz="3600" spc="-1" strike="noStrike">
                <a:solidFill>
                  <a:srgbClr val="007eea"/>
                </a:solidFill>
                <a:latin typeface="Consolas"/>
              </a:rPr>
              <a:t>Основные аспекты изучения строения клетки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Содержимое 3" descr=""/>
          <p:cNvPicPr/>
          <p:nvPr/>
        </p:nvPicPr>
        <p:blipFill>
          <a:blip r:embed="rId1"/>
          <a:stretch/>
        </p:blipFill>
        <p:spPr>
          <a:xfrm>
            <a:off x="914400" y="1785960"/>
            <a:ext cx="7772400" cy="4572000"/>
          </a:xfrm>
          <a:prstGeom prst="rect">
            <a:avLst/>
          </a:prstGeom>
          <a:ln w="0">
            <a:noFill/>
          </a:ln>
        </p:spPr>
      </p:pic>
      <p:sp>
        <p:nvSpPr>
          <p:cNvPr id="383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5fe8d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   </a:t>
            </a:r>
            <a:r>
              <a:rPr b="0" lang="ru-RU" sz="4000" spc="-1" strike="noStrike">
                <a:solidFill>
                  <a:srgbClr val="003f75"/>
                </a:solidFill>
                <a:latin typeface="Consolas"/>
              </a:rPr>
              <a:t>Создание «кластера»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етоды цитологии:                                                                Клеточная теор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ветовая микроскопия                                                                                                                   Т. Шванн и М. Шлейден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лектронная микроскопия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Сканирующая электронная микроскоп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Ультрацентрифугирования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Многообразие клеток:                                                             Органоиды клетки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рокариотические                                                                                                    Ядро и ядрышко. Митохондрии. ЭПС. Комплекс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актерии                                                                                                                                    Гольджи. Лизосомы. Клеточный центр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Эукариотические                                                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Цитоплазматическая мембрана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растения, грибы, животные</a:t>
            </a:r>
            <a:r>
              <a:rPr b="0" lang="ru-RU" sz="2000" spc="-1" strike="noStrike">
                <a:solidFill>
                  <a:srgbClr val="0d5a50"/>
                </a:solidFill>
                <a:latin typeface="Corbel"/>
              </a:rPr>
              <a:t>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лковые молекулы. Молекулы липидов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Овал 3"/>
          <p:cNvSpPr/>
          <p:nvPr/>
        </p:nvSpPr>
        <p:spPr>
          <a:xfrm>
            <a:off x="3286080" y="3857760"/>
            <a:ext cx="3357720" cy="914400"/>
          </a:xfrm>
          <a:prstGeom prst="ellipse">
            <a:avLst/>
          </a:prstGeom>
          <a:solidFill>
            <a:srgbClr val="138677"/>
          </a:solidFill>
          <a:ln w="19080">
            <a:solidFill>
              <a:srgbClr val="0d5a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5a50"/>
                </a:solidFill>
                <a:latin typeface="Corbel"/>
              </a:rPr>
              <a:t>Строение кл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7" name="Прямая со стрелкой 5"/>
          <p:cNvCxnSpPr/>
          <p:nvPr/>
        </p:nvCxnSpPr>
        <p:spPr>
          <a:xfrm>
            <a:off x="5928840" y="4643280"/>
            <a:ext cx="715320" cy="64332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8" name="Прямая со стрелкой 7"/>
          <p:cNvCxnSpPr>
            <a:stCxn id="386" idx="3"/>
          </p:cNvCxnSpPr>
          <p:nvPr/>
        </p:nvCxnSpPr>
        <p:spPr>
          <a:xfrm flipH="1">
            <a:off x="3071520" y="4638240"/>
            <a:ext cx="707040" cy="648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89" name="Прямая со стрелкой 10"/>
          <p:cNvCxnSpPr>
            <a:stCxn id="386" idx="4"/>
          </p:cNvCxnSpPr>
          <p:nvPr/>
        </p:nvCxnSpPr>
        <p:spPr>
          <a:xfrm>
            <a:off x="4964760" y="4772160"/>
            <a:ext cx="35640" cy="7293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0" name="Прямая со стрелкой 14"/>
          <p:cNvCxnSpPr/>
          <p:nvPr/>
        </p:nvCxnSpPr>
        <p:spPr>
          <a:xfrm flipV="1">
            <a:off x="5571000" y="3214440"/>
            <a:ext cx="715320" cy="71496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cxnSp>
        <p:nvCxnSpPr>
          <p:cNvPr id="391" name="Прямая со стрелкой 19"/>
          <p:cNvCxnSpPr/>
          <p:nvPr/>
        </p:nvCxnSpPr>
        <p:spPr>
          <a:xfrm flipH="1" flipV="1">
            <a:off x="3142800" y="3357360"/>
            <a:ext cx="1000800" cy="786240"/>
          </a:xfrm>
          <a:prstGeom prst="straightConnector1">
            <a:avLst/>
          </a:prstGeom>
          <a:ln w="11880">
            <a:solidFill>
              <a:srgbClr val="138677"/>
            </a:solidFill>
            <a:miter/>
            <a:tailEnd len="med" type="arrow" w="med"/>
          </a:ln>
        </p:spPr>
      </p:cxnSp>
      <p:sp>
        <p:nvSpPr>
          <p:cNvPr id="392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5a50"/>
                </a:solidFill>
                <a:latin typeface="Consolas"/>
              </a:rPr>
              <a:t>Интеграция учебных знаний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4" name="Содержимое 3" descr=""/>
          <p:cNvPicPr/>
          <p:nvPr/>
        </p:nvPicPr>
        <p:blipFill>
          <a:blip r:embed="rId1"/>
          <a:stretch/>
        </p:blipFill>
        <p:spPr>
          <a:xfrm>
            <a:off x="907920" y="1706400"/>
            <a:ext cx="7785360" cy="5516640"/>
          </a:xfrm>
          <a:prstGeom prst="rect">
            <a:avLst/>
          </a:prstGeom>
          <a:ln w="0">
            <a:noFill/>
          </a:ln>
        </p:spPr>
      </p:pic>
      <p:sp>
        <p:nvSpPr>
          <p:cNvPr id="3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solidFill>
            <a:srgbClr val="0019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a1ca"/>
                </a:solidFill>
                <a:latin typeface="Consolas"/>
              </a:rPr>
              <a:t>Работа в группах.</a:t>
            </a:r>
            <a:br>
              <a:rPr sz="36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«Всякое обучение по своей сути есть создание условий для развития личности…»</a:t>
            </a:r>
            <a:br>
              <a:rPr sz="1400"/>
            </a:br>
            <a:r>
              <a:rPr b="0" lang="ru-RU" sz="1400" spc="-1" strike="noStrike">
                <a:solidFill>
                  <a:srgbClr val="f7a1ca"/>
                </a:solidFill>
                <a:latin typeface="Consolas"/>
              </a:rPr>
              <a:t>                                                                  И.С. Якиманская</a:t>
            </a:r>
            <a:endParaRPr b="0" lang="en-US" sz="1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434960"/>
            <a:ext cx="31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Инструктаж учител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Работая в группах учащиеся готовят ответ на 5  вопросов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Соблюдается регламент выступления-3 мин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При ответе соблюдается: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А). Логика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Б). Ответ развёрнутый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7a1ca"/>
                </a:solidFill>
                <a:latin typeface="Corbel"/>
              </a:rPr>
              <a:t>В). Наглядность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285800" y="143496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   </a:t>
            </a:r>
            <a:r>
              <a:rPr b="0" lang="ru-RU" sz="2800" spc="-1" strike="noStrike">
                <a:solidFill>
                  <a:srgbClr val="750b3d"/>
                </a:solidFill>
                <a:latin typeface="Corbel"/>
              </a:rPr>
              <a:t>Критерии оценки учащихс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5»- все требования соблюден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4»-нет чёткой логики  в изложени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a1ca"/>
                </a:solidFill>
                <a:latin typeface="Corbel"/>
              </a:rPr>
              <a:t>«3»-не все вопросы раскрыт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44720" y="2999880"/>
            <a:ext cx="404172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ие молекулы органических веществ присутствуют в мембране клеток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 Как свойства липидов влияют на функции, выполняемые цитоплазматической мембраной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Какое имеет значение для клетки гидрофильность молекул липидов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Молекулы белка располагаются на внешней, внутренней стороне мембраны либо пронизывают её насквозь, почему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Какова роль углеводов, расположенных на поверхности белковых молекул в мемб</a:t>
            </a: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ране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0b3d"/>
                </a:solidFill>
                <a:latin typeface="Consolas"/>
              </a:rPr>
              <a:t>Вопросы для обсужд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Физ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65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orbel"/>
              </a:rPr>
              <a:t>II</a:t>
            </a:r>
            <a:r>
              <a:rPr b="1" lang="ru-RU" sz="4000" spc="-1" strike="noStrike">
                <a:solidFill>
                  <a:srgbClr val="ea157a"/>
                </a:solidFill>
                <a:latin typeface="Corbel"/>
              </a:rPr>
              <a:t>   Химики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2999880"/>
            <a:ext cx="4040280" cy="34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. Какой принцип лежит в основе строения школьного микроскопа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2.В чём отличие светового микроскопа от электронного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3. Почему возникла идея использования в микроскопе вместо луча света поток электронов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. Какие возможности для изучения клетки раскрывает сканирующий микроскоп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5*. Для выделения и изучения отдельных органоидов клетки используют метод  ультрацентрифугирования. На какие знания из области физики опирается этот метод?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f7a1c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r>
              <a:rPr b="0" lang="en-US" sz="4000" spc="-1" strike="noStrike">
                <a:solidFill>
                  <a:srgbClr val="b0105c"/>
                </a:solidFill>
                <a:latin typeface="Consolas"/>
              </a:rPr>
              <a:t>II</a:t>
            </a:r>
            <a:r>
              <a:rPr b="0" lang="ru-RU" sz="4000" spc="-1" strike="noStrike">
                <a:solidFill>
                  <a:srgbClr val="b0105c"/>
                </a:solidFill>
                <a:latin typeface="Consolas"/>
              </a:rPr>
              <a:t>.Вопросы для обсуждени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28800" y="1714680"/>
            <a:ext cx="7772400" cy="4572000"/>
          </a:xfrm>
          <a:prstGeom prst="rect">
            <a:avLst/>
          </a:prstGeom>
          <a:solidFill>
            <a:srgbClr val="750b3d"/>
          </a:solidFill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7d6ff"/>
                </a:solidFill>
                <a:latin typeface="Corbel"/>
              </a:rPr>
              <a:t>Биологи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Цитоплазма и цитоскелет»                                               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«Ядро- как важнейшая структура клеток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1. Чем представлена цитоплазма клетки?                                                                             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эукариот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2. Как называется основное вещество цитоплазмы?                1. Каково строение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3.Что относится к опорной системе цитоплазмы?                      2. Почему ядро называют  «хранилищем»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ово строение микротрубочек?                                                            наследственной информаци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Какую функцию выполняет цитоплазма?                                   3. Что такое хромосомный набор,  каковы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его разновидност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4. Какие хромосомы называют гомологичным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5. Отличается ли набор хромосом соматических и              </a:t>
            </a:r>
            <a:r>
              <a:rPr b="0" lang="en-US" sz="1200" spc="-1" strike="noStrike">
                <a:solidFill>
                  <a:srgbClr val="f273af"/>
                </a:solidFill>
                <a:latin typeface="Corbel"/>
              </a:rPr>
              <a:t>III</a:t>
            </a:r>
            <a:r>
              <a:rPr b="0" lang="ru-RU" sz="1200" spc="-1" strike="noStrike">
                <a:solidFill>
                  <a:srgbClr val="f273af"/>
                </a:solidFill>
                <a:latin typeface="Corbel"/>
              </a:rPr>
              <a:t>     «Мембранные органоиды» </a:t>
            </a: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                                                                                                               половых клеток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ая структура располагается вблизи ядра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о  строение и функции рибосом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Значение  комплекса Гольдж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Почему митохондрии называют « силовыми станциями» клетки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Какова роль хлоропластов и клеточных включений?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solidFill>
            <a:srgbClr val="138677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e8d6"/>
                </a:solidFill>
                <a:latin typeface="Consolas"/>
              </a:rPr>
              <a:t>Бланк подведения итог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-36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Групп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6760" y="228600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 Физ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 Химик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II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   Биологи-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IV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V    </a:t>
            </a:r>
            <a:r>
              <a:rPr b="0" lang="ru-RU" sz="3000" spc="-1" strike="noStrike">
                <a:solidFill>
                  <a:srgbClr val="94f0e4"/>
                </a:solidFill>
                <a:latin typeface="Corbel"/>
              </a:rPr>
              <a:t>Биологи</a:t>
            </a:r>
            <a:r>
              <a:rPr b="0" lang="en-US" sz="3000" spc="-1" strike="noStrike">
                <a:solidFill>
                  <a:srgbClr val="94f0e4"/>
                </a:solidFill>
                <a:latin typeface="Corbel"/>
              </a:rPr>
              <a:t>-II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Общий балл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457440" y="1809360"/>
            <a:ext cx="5686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  </a:t>
            </a:r>
            <a:r>
              <a:rPr b="0" lang="ru-RU" sz="3000" spc="-1" strike="noStrike">
                <a:solidFill>
                  <a:srgbClr val="5fe8d6"/>
                </a:solidFill>
                <a:latin typeface="Corbel"/>
              </a:rPr>
              <a:t>Вопросы:            1  2   3  4 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36:13Z</dcterms:created>
  <dc:creator>Admin</dc:creator>
  <dc:description/>
  <dc:language>en-US</dc:language>
  <cp:lastModifiedBy>LEGION</cp:lastModifiedBy>
  <dcterms:modified xsi:type="dcterms:W3CDTF">2015-11-27T10:45:19Z</dcterms:modified>
  <cp:revision>44</cp:revision>
  <dc:subject/>
  <dc:title>«Строение клетки»     10 класс учебник: «Общая биология 10-11 класс А.А. Каменский, Е.А. Криксунов, В.В. Пасечник «Дрофа», 2010г.   </dc:title>
</cp:coreProperties>
</file>