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8855-D1DD-4131-92C9-A6ED19C633F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ые реакции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 по тес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а урока: «Темновая фаза фотосинтеза»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лан урока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выводы световой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сновные выводы световой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·Н. Синтез глюкозы происходит в ходе циклического процесса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2 ,  18 молекул АТФ, 12 НАДФ•Н и 24 прот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еобразование углерода в темновую фазу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фото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, ОПАСНОС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НИМАНИЕ, ОПАСНОСТЬ!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ветовая и темнов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молекулы АТФ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гранах хлоропластов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по циклу Кальвина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лиз вод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(световая и темновая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002-DB00-4B55-926C-65585C1E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608-788C-4B0E-8AEA-C9853DA0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2A1-AB02-48C3-9FFF-E4F92D5C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F61-A791-46B3-A102-32A3B2E2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21AD-4A20-4873-ABE7-0A2074D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B183-2DCB-46D2-BD3C-962720AD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BC66-9053-4284-9635-60E53D5B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3E74-FE59-47F3-BA61-0D85BB1F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500E-CFD6-4E66-A032-48E21986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F781-4FBE-45E0-9754-159C7EAB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6D7-DE40-4220-A69B-A2394BB5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1CF0-070B-4838-A45D-85B9C4C6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59E4-FE19-4CAD-85F0-5E8DE9D2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8F9B-580E-400F-B824-AB38F9D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B5CA-C687-4443-ACFB-BFB70F9C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52DC-669C-49E6-BCE2-D4487DEB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701F-986E-48E6-916E-D28D588F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609-915C-48A9-9D7E-C441F71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D3B-42B9-4052-9BA9-6D9FE98D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12A-7FCE-4A48-A072-5B7C4B0C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E20-F821-4686-9F37-1580914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611-6A70-41A6-B032-0B6CF5A9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5B1-A600-4ED4-AF96-2EFDEBF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9990-2646-487C-9853-D486E38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AA94-4326-44B1-985B-A87FC7501D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D241-21F9-4C8B-9803-43DE5B42A5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Тема урока:</a:t>
            </a:r>
            <a:r>
              <a:rPr b="1" lang="ru-RU" sz="4000" spc="-1" strike="noStrike">
                <a:solidFill>
                  <a:srgbClr val="b9efee"/>
                </a:solidFill>
                <a:latin typeface="Arial"/>
              </a:rPr>
              <a:t> «Темновая фаза фотосинтеза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7161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9efee"/>
                </a:solidFill>
                <a:latin typeface="Arial"/>
              </a:rPr>
              <a:t>План урока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мновые реакции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начение фотосинте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Группов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амостоятельная работа по теста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флекси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 клас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сновные выводы световой фазы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клетках автотрофов происходит фотосинте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включает два типа реакций: световая и темновая фаз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идут на свету, в них участвуют пигменты – хлорофиллы и каротинои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ходе световых реакций расщепляются молекулы воды (фотолиз) с образованием протонов, электронов и молекулярного кислорода; синтезируются молекулы АТФ, восстанавливаются молекулы НАДФ•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ветовые реакции протекают в гранах хлоропла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мновая фаза фотосинтеза осуществляетс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цитоплазме у прокариот и в строме хлоропласта у растений. В этой фазе, энергия, накопленная клеткой в молекулу АТФ, используется на синтез глюкозы и других органических веществ. Глюкоза образуется при восстановлении углекислого газа с участием протонов воды  и НАДФ</a:t>
            </a:r>
            <a:r>
              <a:rPr b="0" lang="el-GR" sz="2800" spc="-1" strike="noStrike">
                <a:solidFill>
                  <a:srgbClr val="ffffff"/>
                </a:solidFill>
                <a:latin typeface="Garamond"/>
              </a:rPr>
              <a:t>·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. Синтез глюкозы происходит в ходе циклического процесс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цикл Кальвина). Для синтеза одной молекулы глюкозы необходимо 6 оборотов цикла, 6 молекул СО</a:t>
            </a:r>
            <a:r>
              <a:rPr b="0" lang="ru-RU" sz="900" spc="-1" strike="noStrike">
                <a:solidFill>
                  <a:srgbClr val="ffffff"/>
                </a:solidFill>
                <a:latin typeface="Garamond"/>
              </a:rPr>
              <a:t>2 ,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18 молекул АТФ, 12 НАДФ•Н и 24 прото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образование углерода в темновую фазу фотосинтез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484280"/>
          <a:ext cx="8207640" cy="5079960"/>
        </p:xfrm>
        <a:graphic>
          <a:graphicData uri="http://schemas.openxmlformats.org/drawingml/2006/table">
            <a:tbl>
              <a:tblPr/>
              <a:tblGrid>
                <a:gridCol w="3384720"/>
                <a:gridCol w="4822920"/>
              </a:tblGrid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 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нестойко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лекулы пятиуглеродного соединения фиксируют углекислый газ, образуя нестойкое соедин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8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(ФГК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естиуглеродное соединение под действием ферментов распадается на 2 трехуглеродные молекулы фосфоглицериновые кислоты (ФГК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→3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 помощью энергии АТФ и НАДФ•Н из трехуглеродной молекулы образуется молекула глюкозы и молекулы пятиуглеродного сахара (опять включается в цикл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8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С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+6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→С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2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+6О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уммарное уравнение фотосинте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Значение фотосинтеза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 фотосинтезе зеленый лист использует лишь около 1% падающей на него солнечной энерг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год на земле образуется 150 млрд. т органики и выделяется 200 млрд. т кислород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цесс фотосинтеза способствует предохранению поверхности Земли от парникового эффект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Фотосинтез способствует образованию защитного озонового экрана вокруг планет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лагодаря фотосинтезу создается и поддерживается состав среды, необходимый для обитания всех живых организм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счет фотосинтеза поддерживается на Земле постоянный уровень газового состава атмосферы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НИМАНИЕ, ОПАСНОСТЬ!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дооценка значения фотосинтеза при всеобщей глобальности его проявления в настоящее время привела к некоторым экологическим катастрофам местного масштаба и неуклонно приближает нас к планетарному кризису. С каждым годом промышленное потребление кислорода достигает почти 5 % от его биологической продукции. Ежегодный дефицит кислорода составляет почти 10 млрд. т. Одновременно регистрируется ежегодный прирост углекислого газа, составляющий до 1,5 % от содержания его в атмосфере (0,03 %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Групповая работа</a:t>
            </a:r>
            <a:br>
              <a:rPr sz="2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соотнесите перечисленные утверждения к фазам фотосинтеза</a:t>
            </a:r>
            <a:br>
              <a:rPr sz="1800"/>
            </a:br>
            <a:r>
              <a:rPr b="1" lang="ru-RU" sz="1800" spc="-1" strike="noStrike">
                <a:solidFill>
                  <a:srgbClr val="b9efee"/>
                </a:solidFill>
                <a:latin typeface="Garamond"/>
              </a:rPr>
              <a:t> (световая и темновая)</a:t>
            </a:r>
            <a:endParaRPr b="1" lang="en-US" sz="1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ыделение молекулярного кислород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молекулы АТФ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интез углеводов из углекислого газа и воды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збуждение хлорофилла фотоном свет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в гранах хлоропластов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текает по циклу Кальвина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Фотолиз вод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ход электрона на более высокий энергетический уровень 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осстановление углекислого газа до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пользование энергии молекулы АТФ на синтез углеводов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бразование молекулы крахмала из глюкозы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исходит образование протонов водорода –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3:51:48Z</dcterms:created>
  <dc:creator>Admin</dc:creator>
  <dc:description/>
  <dc:language>en-US</dc:language>
  <cp:lastModifiedBy>LEGION</cp:lastModifiedBy>
  <dcterms:modified xsi:type="dcterms:W3CDTF">2015-11-27T10:46:16Z</dcterms:modified>
  <cp:revision>8</cp:revision>
  <dc:subject/>
  <dc:title>Тема урока: Темновая фаза фотосинтеза</dc:title>
</cp:coreProperties>
</file>