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9746-D90E-44D0-B9EB-B638E83EB3A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ые реакции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 по тес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лан урока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 световой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сновные выводы световой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, ОПАСНОС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НИМАНИЕ, ОПАСНОСТЬ!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ветовая и темнов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молекулы АТФ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в гранах хлоропласт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по циклу Кальвин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лиз вод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(световая и темновая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6BB0-0BD3-444E-82D7-EBC87A00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937-FDC5-4639-AB72-6852787F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D6F-6F18-46FB-8182-F4346AD9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497-9D83-42D8-8E23-A923B467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D381-4F0F-4063-B85C-349D3288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C2DE-0AAC-466B-9768-93476A34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45EE-057C-4A3E-A50F-BC1F14E5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95BB-C2D9-4FDB-9501-68D3C1A2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98A4-04E3-4C10-849F-40F04C8B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01FB-DFFD-4BBB-B19F-E650ABC4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4E13-1BFD-49A9-A14B-0B72E2BB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A52-3ED2-4D09-B4AC-76995355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12B3-3524-400D-B1EB-570FB7FC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0DC7-2A09-4702-AAA1-C8E56DB7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392B-D3C3-45EE-933B-B6A0CD94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EB60-9267-4140-8747-67308A98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FF46-668A-40FD-AA1D-409BD1DA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98C5-F0FF-436C-8701-1F8A42F7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1F8-33F0-46BC-8838-75209DEF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9EB-75EE-46F9-9C2E-E2DFF137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89B-0720-4A4E-B015-5FECA353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996-41DC-4443-BAF7-D53ABDCD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647-A7CD-4776-8FA3-8AD23C23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34F-4D7D-4F81-8053-E094B984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C19B-5ECB-4E1C-95E4-0EA263551E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2B3E-0391-43D9-B39D-4BFDDE3F694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ема урока:</a:t>
            </a: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 «Темновая фаза фотосинтеза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7161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9efee"/>
                </a:solidFill>
                <a:latin typeface="Arial"/>
              </a:rPr>
              <a:t>План урока</a:t>
            </a:r>
            <a:r>
              <a:rPr b="1" i="1" lang="ru-RU" sz="2000" spc="-1" strike="noStrike">
                <a:solidFill>
                  <a:srgbClr val="b9efee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Основные выводы световой фазы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·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 Синтез глюкозы происходит в ходе циклического процесс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</a:t>
            </a:r>
            <a:r>
              <a:rPr b="0" lang="ru-RU" sz="900" spc="-1" strike="noStrike">
                <a:solidFill>
                  <a:srgbClr val="ffffff"/>
                </a:solidFill>
                <a:latin typeface="Garamond"/>
              </a:rPr>
              <a:t>2 ,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18 молекул АТФ, 12 НАДФ•Н и 24 прот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образование углерода в темновую фазу фотосинтез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484280"/>
          <a:ext cx="8207640" cy="5079960"/>
        </p:xfrm>
        <a:graphic>
          <a:graphicData uri="http://schemas.openxmlformats.org/drawingml/2006/table">
            <a:tbl>
              <a:tblPr/>
              <a:tblGrid>
                <a:gridCol w="3384720"/>
                <a:gridCol w="4822920"/>
              </a:tblGrid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нестойко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екулы пятиуглеродного соединения фиксируют углекислый газ, образуя нестойкое соеди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ФГ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естиуглеродное соединение под действием ферментов распадается на 2 трехуглеродные молекулы фосфоглицериновые кислоты (ФГ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3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помощью энергии АТФ и НАДФ•Н из трехуглеродной молекулы образуется молекула глюкозы и молекулы пятиуглеродного сахара (опять включается в цик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6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уммарное уравнение фотосинт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Значение фотосинтез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ВНИМАНИЕ, ОПАСНОСТЬ!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Групповая работа</a:t>
            </a:r>
            <a:br>
              <a:rPr sz="2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 (световая и темновая)</a:t>
            </a:r>
            <a:endParaRPr b="1" lang="en-US" sz="1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3:51:48Z</dcterms:created>
  <dc:creator>Admin</dc:creator>
  <dc:description/>
  <dc:language>en-US</dc:language>
  <cp:lastModifiedBy>LEGION</cp:lastModifiedBy>
  <dcterms:modified xsi:type="dcterms:W3CDTF">2015-11-27T10:46:16Z</dcterms:modified>
  <cp:revision>8</cp:revision>
  <dc:subject/>
  <dc:title>Тема урока: Темновая фаза фотосинтеза</dc:title>
</cp:coreProperties>
</file>