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EB2E-9076-4993-A004-E596B6F966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пасибо за ур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1 Задания для повто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№1 Задания для повтор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го же, мы всё же произош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 кого же, мы всё же произош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пы антропоген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Этапы антропогене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ок корана и биб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сунок корана и библ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келеты людей раско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келеты людей раскоп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авизмы руд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тавизмы рудимен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046-3258-4138-883D-D0FAAEF4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C1B-A3D4-4AD1-BCF5-8A6EFF1B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094C-1131-4FBD-88EE-4E1C7C5A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50D-FBE0-4E5F-8F10-84B336F9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9DF-6A94-43FB-AC3D-D81757BB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C14-431D-46B0-A802-F4AFDAD8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928-01C6-4AB8-AE08-8007F917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276-2DF6-48C9-A9DE-B44795E4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DD3-6BDC-4544-875F-EFB39921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E3B-AA69-4AC3-A1FE-41798E71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8BA-07D1-4DEF-B9F4-8FD29B84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86A-48A6-41F6-96F5-A672A50A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2E2A-B96A-4B66-857B-87D987301D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Урок-дискуссия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тема: Теории и гипотезы происхождения челове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bright="18000"/>
          </a:blip>
          <a:srcRect l="0" t="19092" r="4147" b="4576"/>
          <a:stretch/>
        </p:blipFill>
        <p:spPr>
          <a:xfrm>
            <a:off x="762120" y="1676520"/>
            <a:ext cx="7848360" cy="4924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124440" cy="2147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2757600" cy="19954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715000" y="1752480"/>
            <a:ext cx="3200400" cy="23608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0880" y="1587600"/>
            <a:ext cx="8458200" cy="49575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697200" y="1857240"/>
            <a:ext cx="2057400" cy="31356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 rot="20671200">
            <a:off x="1326960" y="2147400"/>
            <a:ext cx="2251080" cy="3505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2" name="Picture 6" descr="12"/>
          <p:cNvPicPr/>
          <p:nvPr/>
        </p:nvPicPr>
        <p:blipFill>
          <a:blip r:embed="rId3"/>
          <a:stretch/>
        </p:blipFill>
        <p:spPr>
          <a:xfrm rot="1188600">
            <a:off x="5714640" y="2286000"/>
            <a:ext cx="2065320" cy="32004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 rot="21174600">
            <a:off x="1294920" y="2209680"/>
            <a:ext cx="632484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546000"/>
                </a:gradFill>
                <a:latin typeface="Impact"/>
              </a:rPr>
              <a:t>Спасибо за ур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546000"/>
              </a:gradFill>
              <a:latin typeface="Impact"/>
              <a:ea typeface="Impact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Слайд №1 Задания для повторения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 flipV="1">
            <a:off x="1600200" y="1600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1680" y="1219320"/>
          <a:ext cx="8537400" cy="4468680"/>
        </p:xfrm>
        <a:graphic>
          <a:graphicData uri="http://schemas.openxmlformats.org/drawingml/2006/table">
            <a:tbl>
              <a:tblPr/>
              <a:tblGrid>
                <a:gridCol w="4268880"/>
                <a:gridCol w="4268520"/>
              </a:tblGrid>
              <a:tr h="53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йте определения терми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т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диме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т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л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тавизм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ифик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хематично зарисуйте строение животной кле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ишите основные понятия клеточной теор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3360600" cy="4267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55" name="Picture 6" descr="5"/>
          <p:cNvPicPr/>
          <p:nvPr/>
        </p:nvPicPr>
        <p:blipFill>
          <a:blip r:embed="rId2"/>
          <a:stretch/>
        </p:blipFill>
        <p:spPr>
          <a:xfrm>
            <a:off x="3809880" y="2743200"/>
            <a:ext cx="4724640" cy="35272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724280" y="11430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 кого же, мы всё же произош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617640" cy="41148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Этапы антропогенез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0" t="16756" r="0" b="4494"/>
          <a:stretch/>
        </p:blipFill>
        <p:spPr>
          <a:xfrm>
            <a:off x="228600" y="1905120"/>
            <a:ext cx="8686800" cy="4343400"/>
          </a:xfrm>
          <a:prstGeom prst="rect">
            <a:avLst/>
          </a:prstGeom>
          <a:ln w="57240">
            <a:solidFill>
              <a:srgbClr val="ee941c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исунок корана и биб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 rot="20746200">
            <a:off x="1295280" y="1676520"/>
            <a:ext cx="3143520" cy="4324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i"/>
          <p:cNvPicPr/>
          <p:nvPr/>
        </p:nvPicPr>
        <p:blipFill>
          <a:blip r:embed="rId2"/>
          <a:stretch/>
        </p:blipFill>
        <p:spPr>
          <a:xfrm>
            <a:off x="5715000" y="1600200"/>
            <a:ext cx="2833560" cy="449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0" t="0" r="0" b="2946"/>
          <a:stretch/>
        </p:blipFill>
        <p:spPr>
          <a:xfrm>
            <a:off x="2819520" y="1676520"/>
            <a:ext cx="3174840" cy="4190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келеты людей раскоп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496040" cy="44960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тавизмы рудимен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14299" t="0" r="10394" b="0"/>
          <a:stretch/>
        </p:blipFill>
        <p:spPr>
          <a:xfrm>
            <a:off x="457200" y="1295280"/>
            <a:ext cx="3276720" cy="3262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3200400" y="4038480"/>
            <a:ext cx="5562720" cy="25909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0:46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