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8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354CC-F782-480B-A734-E97FDCD3854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-дискусс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: Теории и гипотезы происхождения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рок-дискуссия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ма: Теории и гипотезы происхождения челове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одство скелета человека и человекообразных обезьян (горилла, орангутанг, гиббон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ходство скелета человека и человекообразных обезьян (горилла, орангутанг, гиббон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одство головного мозга человека, шимпанзе и орангутан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ходство головного мозга человека, шимпанзе и орангутанг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одство стадий эмбрионального развития позвоночных (рыба, амфибия, рептилия, млекопитающие и челове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ходство стадий эмбрионального развития позвоночных (рыба, амфибия, рептилия, млекопитающие и человек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есные книги о происхождении человека и 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тересные книги о происхождении человека и мир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пасибо за ур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Спасибо за урок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йд №1 Задания для повто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лайд №1 Задания для повтор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кого же, мы всё же произошл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 кого же, мы всё же произошли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ходная форма между обезьяной и челове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еходная форма между обезьяной и человеко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Этапы антропоген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Этапы антропогенез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унок корана и библ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исунок корана и библ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рльз Дарвин, основоположник эволюционной те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арльз Дарвин, основоположник эволюционной теор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келеты людей раскоп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Скелеты людей раскоп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тавизмы руди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Атавизмы рудимен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DD0B-1CA6-417F-A8BE-9B6B3FF24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DCF6-EE32-4FBA-BFEB-8085051EC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6382-FD7B-4A4E-88BB-C2B794A05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4AAB-DC34-4ED0-93DE-1D7D40672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60FE-2BCF-4D96-8E1B-EFB2B90F2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01A7-0F55-4A4F-8FC2-D0209B34C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76B7-6942-44BB-B88C-F1082B18D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F464-917F-4050-BCF1-64847D04D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1847-A2BC-4FDF-92ED-F513003C1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0D00-688D-46EB-961B-EA47F16CA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77FE-0C3B-46FE-9E99-6347D7F23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5A4A-A034-4CED-ABAD-26D391F6F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DAA99-F65E-47CC-86F5-931977EF5BD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Franklin Gothic Heavy"/>
              </a:rPr>
              <a:t>Урок-дискуссия</a:t>
            </a:r>
            <a:br>
              <a:rPr sz="4000"/>
            </a:br>
            <a:r>
              <a:rPr b="0" lang="ru-RU" sz="4000" spc="-1" strike="noStrike">
                <a:solidFill>
                  <a:srgbClr val="ff6600"/>
                </a:solidFill>
                <a:latin typeface="Franklin Gothic Heavy"/>
              </a:rPr>
              <a:t>тема: Теории и гипотезы происхождения человека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ходство скелета человека и человекообразных обезьян (горилла, орангутанг, гиббон).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>
            <a:lum bright="18000"/>
          </a:blip>
          <a:srcRect l="0" t="19092" r="4147" b="4576"/>
          <a:stretch/>
        </p:blipFill>
        <p:spPr>
          <a:xfrm>
            <a:off x="762120" y="1676520"/>
            <a:ext cx="7848360" cy="492444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Сходство головного мозга человека, шимпанзе и орангутанга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3124440" cy="214776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pic>
        <p:nvPicPr>
          <p:cNvPr id="83" name="Picture 5" descr=""/>
          <p:cNvPicPr/>
          <p:nvPr/>
        </p:nvPicPr>
        <p:blipFill>
          <a:blip r:embed="rId2"/>
          <a:stretch/>
        </p:blipFill>
        <p:spPr>
          <a:xfrm>
            <a:off x="3124080" y="3657600"/>
            <a:ext cx="2757600" cy="199548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pic>
        <p:nvPicPr>
          <p:cNvPr id="84" name="Picture 6" descr=""/>
          <p:cNvPicPr/>
          <p:nvPr/>
        </p:nvPicPr>
        <p:blipFill>
          <a:blip r:embed="rId3"/>
          <a:stretch/>
        </p:blipFill>
        <p:spPr>
          <a:xfrm>
            <a:off x="5715000" y="1752480"/>
            <a:ext cx="3200400" cy="236088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Сходство стадий эмбрионального развития позвоночных (рыба, амфибия, рептилия, млекопитающие и человек)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380880" y="1587600"/>
            <a:ext cx="8458200" cy="495756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Интересные книги о происхождении человека и мира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3697200" y="1857240"/>
            <a:ext cx="2057400" cy="313560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pic>
        <p:nvPicPr>
          <p:cNvPr id="91" name="Picture 5" descr=""/>
          <p:cNvPicPr/>
          <p:nvPr/>
        </p:nvPicPr>
        <p:blipFill>
          <a:blip r:embed="rId2"/>
          <a:stretch/>
        </p:blipFill>
        <p:spPr>
          <a:xfrm rot="20671200">
            <a:off x="1326960" y="2147400"/>
            <a:ext cx="2251080" cy="350532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pic>
        <p:nvPicPr>
          <p:cNvPr id="92" name="Picture 6" descr="12"/>
          <p:cNvPicPr/>
          <p:nvPr/>
        </p:nvPicPr>
        <p:blipFill>
          <a:blip r:embed="rId3"/>
          <a:stretch/>
        </p:blipFill>
        <p:spPr>
          <a:xfrm rot="1188600">
            <a:off x="5714640" y="2286000"/>
            <a:ext cx="2065320" cy="320040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4"/>
          <p:cNvSpPr txBox="1"/>
          <p:nvPr/>
        </p:nvSpPr>
        <p:spPr>
          <a:xfrm rot="21174600">
            <a:off x="1294920" y="2209680"/>
            <a:ext cx="632484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3546000"/>
                </a:gradFill>
                <a:latin typeface="Impact"/>
              </a:rPr>
              <a:t>Спасибо за урок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3546000"/>
              </a:gradFill>
              <a:latin typeface="Impact"/>
              <a:ea typeface="Impact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7e7ff"/>
                </a:solidFill>
                <a:latin typeface="Arial"/>
              </a:rPr>
              <a:t>Слайд №1 Задания для повторения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Line 14"/>
          <p:cNvSpPr/>
          <p:nvPr/>
        </p:nvSpPr>
        <p:spPr>
          <a:xfrm flipV="1">
            <a:off x="1600200" y="16002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01680" y="1219320"/>
          <a:ext cx="8537400" cy="4468680"/>
        </p:xfrm>
        <a:graphic>
          <a:graphicData uri="http://schemas.openxmlformats.org/drawingml/2006/table">
            <a:tbl>
              <a:tblPr/>
              <a:tblGrid>
                <a:gridCol w="4268880"/>
                <a:gridCol w="4268520"/>
              </a:tblGrid>
              <a:tr h="533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вариан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вариан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376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айте определения термина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69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ffcc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нтогене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cc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удимен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cc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утационная изменчиво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ffcc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илогене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cc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тавизмы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cc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дификационная изменчиво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76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хематично зарисуйте строение животной клетк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416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пишите основные понятия клеточной теор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3360600" cy="426744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pic>
        <p:nvPicPr>
          <p:cNvPr id="55" name="Picture 6" descr="5"/>
          <p:cNvPicPr/>
          <p:nvPr/>
        </p:nvPicPr>
        <p:blipFill>
          <a:blip r:embed="rId2"/>
          <a:stretch/>
        </p:blipFill>
        <p:spPr>
          <a:xfrm>
            <a:off x="3809880" y="2743200"/>
            <a:ext cx="4724640" cy="352728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sp>
        <p:nvSpPr>
          <p:cNvPr id="56" name="Text Box 7"/>
          <p:cNvSpPr/>
          <p:nvPr/>
        </p:nvSpPr>
        <p:spPr>
          <a:xfrm>
            <a:off x="4724280" y="1143000"/>
            <a:ext cx="373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От кого же, мы всё же произошл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Переходная форма между обезьяной и человеком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3048120" y="1752480"/>
            <a:ext cx="3617640" cy="411480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Этапы антропогенез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rcRect l="0" t="16756" r="0" b="4494"/>
          <a:stretch/>
        </p:blipFill>
        <p:spPr>
          <a:xfrm>
            <a:off x="228600" y="1905120"/>
            <a:ext cx="8686800" cy="4343400"/>
          </a:xfrm>
          <a:prstGeom prst="rect">
            <a:avLst/>
          </a:prstGeom>
          <a:ln w="57240">
            <a:solidFill>
              <a:srgbClr val="ee941c"/>
            </a:solidFill>
            <a:miter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Рисунок корана и библи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 rot="20746200">
            <a:off x="1295280" y="1676520"/>
            <a:ext cx="3143520" cy="43243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6" name="Picture 5" descr="i"/>
          <p:cNvPicPr/>
          <p:nvPr/>
        </p:nvPicPr>
        <p:blipFill>
          <a:blip r:embed="rId2"/>
          <a:stretch/>
        </p:blipFill>
        <p:spPr>
          <a:xfrm>
            <a:off x="5715000" y="1600200"/>
            <a:ext cx="2833560" cy="44956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Чарльз Дарвин, основоположник эволюционной теории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rcRect l="0" t="0" r="0" b="2946"/>
          <a:stretch/>
        </p:blipFill>
        <p:spPr>
          <a:xfrm>
            <a:off x="2819520" y="1676520"/>
            <a:ext cx="3174840" cy="419076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келеты людей раскопк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2209680" y="1523880"/>
            <a:ext cx="4496040" cy="449604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Атавизмы рудименты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rcRect l="14299" t="0" r="10394" b="0"/>
          <a:stretch/>
        </p:blipFill>
        <p:spPr>
          <a:xfrm>
            <a:off x="457200" y="1295280"/>
            <a:ext cx="3276720" cy="326232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pic>
        <p:nvPicPr>
          <p:cNvPr id="76" name="Picture 5" descr=""/>
          <p:cNvPicPr/>
          <p:nvPr/>
        </p:nvPicPr>
        <p:blipFill>
          <a:blip r:embed="rId2"/>
          <a:stretch/>
        </p:blipFill>
        <p:spPr>
          <a:xfrm>
            <a:off x="3200400" y="4038480"/>
            <a:ext cx="5562720" cy="259092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11-27T10:46:26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