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45D2-5D80-41D3-8B70-32970E8C53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с по биолог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«Энергетический обмен в клетк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е начинается путь к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 – центральная молекула клеточного дых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нее начинается путь к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сахар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ирува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сахари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Анаэробный гликолиз – бескислород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ре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ируват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 – пировиноградная  кислота С3Н4О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Л Ю К О З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 – анаэробное дых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,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винные дрож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окис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р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 Л Ю К О З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 В 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 – анаэробное дых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мало кислорода или организм – принципиальный анаэро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вотные, бакте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винные дрожж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окисл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рт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лочная кис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ловый спи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р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этапа энергетического обм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этапа энергетического об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наэробный (бескислородный)  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н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2Н3РО4 + 2 АДФ      2С3Н6О3 + 2 АТФ + 2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Аэробный этап - кислор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-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ко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 е т к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. Аэробный этап - кислород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-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кол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л е т к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тохонд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В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 и Н2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 молекул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б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тохонд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В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2 и Н2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6 молекул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эроб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эробный (кислородный)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Аэробный (кислородный)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ммарное уравнение аэробного этап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6Н12О6 + 6О2 + 36 АДФ + 36 Ф —&gt; 6СО2 + 6 Н2О + 36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б энергетическом об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, его строение и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энергетического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мен веществ и его роль в клетке. Энергетический обмен. Синтез АТ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об энергетическом обме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, его строение и знач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пы энергетического обме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ице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ино-кисл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-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ле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ицер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р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ино-кисл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х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цетил-Ко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в циф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жизни – несколько секу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адо расщепить 166 кг АТ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→ АДФ →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в циф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жизни – несколько секун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 затрачивает ~ 2 300 ккал энергии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адо расщепить 166 кг АТФ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самом деле в организме содержится только ~ 50 г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каждая молекула АТФ должна вновь синтезироваться 166 кг : 50 г ≈ 3320 раз в 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→ АДФ →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способу питания организмы делятся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трофы – организмы, питающиеся за счет не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етеротрофы – организмы питающиеся за счет органических соедин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щепление в клетке 1 молекулы глюкозы до оксида углерода (IV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ие энергии живыми существ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б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або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нергетический обмен (диссимиляция) 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рг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– универсальный источник энергии в клет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роэргические связ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ист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й сахар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б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та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 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ен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Ф + Н2О             АДФ + Н3РО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ТФ + Н2О             АДФ + Н3РО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АТФ. Превращение АТФ в АД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сомы в кле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. Подготовительный эта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ема этапов энергетического обм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1C9-9D26-4007-B969-77CE99E8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621-378A-4AAA-985C-4924007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561-EEBC-49BB-A902-F8C5C608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399-E9BA-46CA-8CCB-5D636AED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4E63-E0BD-4A19-BEBF-9A991985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3B48-6FCE-4881-A61A-6E37F62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1BE2-81F8-4860-AE85-55E6E39A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71B2-0C3B-44B3-84E7-05A734DD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2AEB-90B8-49FF-A111-6910086D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BC68-F3B3-41B0-8F8D-433DE7DC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6B2B-6DAB-4032-B977-1B844D6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880-0C24-4310-AADC-67F2A729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6452-7981-4F27-8476-8156D9F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7066-4EA7-4E1B-A2CB-FA670135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04F0-42F0-407F-96AD-3C40062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635C-7528-49DA-A907-330FE95B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5FC3-D012-4B36-8B98-2B4D161C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748B-9BDE-48F2-8449-61DA9406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A344-C30E-4153-A924-D8C4BAD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204A-E0B1-4796-B761-34D5CA5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A525-598C-47A8-A0B7-44A22E56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20CF-7D58-4A56-A828-570557B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BC2-2788-403D-B587-1F62A7B1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5DD9-128D-46B9-9018-C2A20898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BBB7-B657-43BE-BC40-696EEDD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AE6E-2C3B-4257-9B8C-898319AF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E850-6BB6-4D84-BCBF-768F7A4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087D-A865-4897-865D-D291D05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0132-5F2E-45C6-9572-982B8B4E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35BB-55FA-40B8-A280-0FCB1DAB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DDB0-6759-4BD7-9C09-C8E9A98D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191E4-7006-43E5-AF5D-489793D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AC1A-2868-472E-976B-E9764480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6DF-837D-4956-B84A-7418FAA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8723-99DB-478E-878F-91A2444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40A3-3F0B-4991-9000-0D6E672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CAAFC-AD13-4B41-A898-D2295F3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6D36-5917-4083-B2BA-8739874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FFA9-4EA8-4806-9B5C-670187A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3EC3-AE35-4F1F-A446-088E657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436F5-2571-4F97-973C-9C304011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ECB6-97BD-4533-A8BC-FD6B9FFE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7E05-C43E-455C-BAB8-6E59EE3F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9C10-4AE0-467F-A54D-246F80F2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07D-3249-479B-99CB-7E13A508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8CEC-48AB-4F1E-9BBF-A00F58B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2C85C-274E-469E-B344-2153F18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AEAF4-0E19-4461-BE7A-81BDA9B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CDAB8-22FB-4441-8BF4-1CBB686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0499-99C4-4945-B115-B26DF20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FE54-184F-4D6A-AC6B-11C6793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56F0-4599-4998-828C-0DBED8A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360C-A954-4C02-924D-D778D73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5755-63BA-4EA9-88FF-502E3B2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2D0F-3404-4880-B881-1B945794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5BE-4721-4C68-9666-C74918D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E840B-9929-4982-8F36-C3646CC5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3353-8780-45DF-8F95-7EAB01E9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9475-E5E3-430F-A79A-81A033C7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E158-7831-4367-9167-EE19CD4C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DD5B-02AB-4D08-8072-351BBD56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02CFD-FCBA-4A40-9FBD-8CD9424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6285-89DF-4562-B463-561629B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0214-DA47-4324-B563-C54AA00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27E2-FB72-423B-A0D6-4011EBFF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DDC3-3108-4BFD-BD49-43CCD27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CD9-94E5-4A6E-8710-485D6447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B914A-A11B-4DB9-8911-3AFD80D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7A504-2ABD-4A92-B696-69FB2CD0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5D5B6-E4CA-4BEA-B944-68A29DA3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BB20-2119-4123-871F-77F97C03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E18D7-5976-42F9-B9A6-BFE8361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F377-031F-4382-A6D3-5D3DD48B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B886-ABEF-4753-918F-48F030EC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D85E-86E3-475E-AF94-E512BBB9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5B47A-6BDA-4054-815E-7DAB1F4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FF0F-5FDF-4E92-B76C-72D2DE60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3DA-9F45-481C-8C22-64F68C0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6D7F7-1739-423B-8188-46214E1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2BAB-36CC-48AF-B917-D7566C9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CCF2-3849-4516-82B8-2DC4E22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813C-89A8-46CB-B472-A941F9B7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62229-44C0-43EC-A7A2-AD3060E5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7C5-D37F-46EB-ABB8-84808E4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3DF4-5303-4310-925E-56D1B834F0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271-7EDE-4A09-9DBE-F92CB334B8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64B2-ACDC-4314-A1ED-CEF5F889F2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2EE8-B152-410D-95DE-D7596F362D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88C8-238A-4A37-832A-E0DEE60A24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2105-7E9C-4C22-B2EC-786D3C7948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8E14-F6C6-4C99-BEAE-EA79B44BB5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b2bfe"/>
                </a:solidFill>
                <a:latin typeface="Arial"/>
              </a:rPr>
              <a:t>Конкурс по биологии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00ffcc"/>
                </a:solidFill>
                <a:latin typeface="Arial"/>
              </a:rPr>
              <a:t>Тема: «Энергетический обмен в клетке»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7760" y="512244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рутдинова Алсу Рамисовна . 9 кла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69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800"/>
                </a:solidFill>
                <a:latin typeface="Verdana"/>
              </a:rPr>
              <a:t>Глюкоз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– центральная молекула клеточного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1979640" y="1773360"/>
          <a:ext cx="446544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46544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2560" y="566748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 нее начинается путь к 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6589800" y="1916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"/>
          <p:cNvSpPr/>
          <p:nvPr/>
        </p:nvSpPr>
        <p:spPr>
          <a:xfrm>
            <a:off x="973080" y="3068640"/>
            <a:ext cx="6767640" cy="316692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348000" y="198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324000" y="10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сахар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3851280" y="16286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869080" y="41338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324000" y="14616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a8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  <a:ea typeface="Arial"/>
              </a:rPr>
              <a:t>.</a:t>
            </a: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Анаэробный гликолиз</a:t>
            </a:r>
            <a:r>
              <a:rPr b="1" lang="ru-RU" sz="3200" spc="-1" strike="noStrike">
                <a:solidFill>
                  <a:srgbClr val="00a8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– бескислородн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725480" y="4973040"/>
            <a:ext cx="1670400" cy="889560"/>
            <a:chOff x="1725480" y="4973040"/>
            <a:chExt cx="1670400" cy="889560"/>
          </a:xfrm>
        </p:grpSpPr>
        <p:sp>
          <p:nvSpPr>
            <p:cNvPr id="392" name="Oval 9"/>
            <p:cNvSpPr/>
            <p:nvPr/>
          </p:nvSpPr>
          <p:spPr>
            <a:xfrm rot="498600">
              <a:off x="1765080" y="5084280"/>
              <a:ext cx="1590480" cy="66672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 rot="498600">
              <a:off x="1922400" y="5142600"/>
              <a:ext cx="1353240" cy="53820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Text Box 11"/>
          <p:cNvSpPr/>
          <p:nvPr/>
        </p:nvSpPr>
        <p:spPr>
          <a:xfrm>
            <a:off x="378144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dc6ff"/>
                </a:solidFill>
                <a:latin typeface="Verdana"/>
              </a:rPr>
              <a:t>к л е т к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3421080" y="3330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 реак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5869080" y="465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ирув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4"/>
          <p:cNvSpPr/>
          <p:nvPr/>
        </p:nvSpPr>
        <p:spPr>
          <a:xfrm>
            <a:off x="3492360" y="393372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23229 0.30439 E">
                                      <p:cBhvr>
                                        <p:cTn id="21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42640" y="24382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ccff"/>
                </a:solidFill>
                <a:latin typeface="Verdana"/>
              </a:rPr>
              <a:t>ПВК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 – пировиноградная  кислота С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Н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4</a:t>
            </a:r>
            <a:r>
              <a:rPr b="1" lang="ru-RU" sz="3600" spc="-1" strike="noStrike">
                <a:solidFill>
                  <a:srgbClr val="cccc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ccccff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C:\Users\HOME\Desktop\tmp3E1-5.jpg"/>
          <p:cNvPicPr/>
          <p:nvPr/>
        </p:nvPicPr>
        <p:blipFill>
          <a:blip r:embed="rId1"/>
          <a:stretch/>
        </p:blipFill>
        <p:spPr>
          <a:xfrm>
            <a:off x="1905120" y="4224240"/>
            <a:ext cx="5118120" cy="990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484360" y="981000"/>
            <a:ext cx="367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Г Л Ю К О З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3745080" y="1987560"/>
            <a:ext cx="1008000" cy="722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529080" y="270828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П В 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113440" y="19890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  <a:ea typeface="Tahoma"/>
              </a:rPr>
              <a:t>2 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4753080" y="2349360"/>
            <a:ext cx="57600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 rot="13036800">
            <a:off x="3420720" y="349992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39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8"/>
          <p:cNvSpPr/>
          <p:nvPr/>
        </p:nvSpPr>
        <p:spPr>
          <a:xfrm rot="8816400">
            <a:off x="4500720" y="3500280"/>
            <a:ext cx="574560" cy="719280"/>
          </a:xfrm>
          <a:prstGeom prst="upArrow">
            <a:avLst>
              <a:gd name="adj1" fmla="val 50000"/>
              <a:gd name="adj2" fmla="val 31297"/>
            </a:avLst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181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188640"/>
            <a:ext cx="8883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Брож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анаэробное дых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5257800" y="2590920"/>
            <a:ext cx="37339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сли мало кислорода или организм – принципиальный анаэр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539640" y="4363920"/>
            <a:ext cx="3600720" cy="6336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Молоч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861080" y="4365720"/>
            <a:ext cx="3166920" cy="631800"/>
          </a:xfrm>
          <a:prstGeom prst="rect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  <a:ea typeface="Tahoma"/>
              </a:rPr>
              <a:t>Этиловый спи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52360" y="56610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Животные, 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500720" y="55879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Растения, винные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921600" y="51195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лочнокис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5671800" y="5119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иртов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847440" y="34275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Р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875160" y="20606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ЛИКОЛИ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755640" y="1700280"/>
          <a:ext cx="173844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17384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3"/>
          <p:cNvSpPr/>
          <p:nvPr/>
        </p:nvSpPr>
        <p:spPr>
          <a:xfrm>
            <a:off x="4629240" y="1528920"/>
            <a:ext cx="7668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V="1">
            <a:off x="2771640" y="2204640"/>
            <a:ext cx="1295640" cy="79236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2700360" y="3645000"/>
            <a:ext cx="1224000" cy="863640"/>
          </a:xfrm>
          <a:prstGeom prst="line">
            <a:avLst/>
          </a:prstGeom>
          <a:ln w="57240">
            <a:solidFill>
              <a:srgbClr val="ff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755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ПВ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6019920" y="28195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молочная кисл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5867280" y="5877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этиловый спи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9"/>
          <p:cNvGrpSpPr/>
          <p:nvPr/>
        </p:nvGrpSpPr>
        <p:grpSpPr>
          <a:xfrm>
            <a:off x="4140360" y="2924280"/>
            <a:ext cx="2160360" cy="3213000"/>
            <a:chOff x="4140360" y="2924280"/>
            <a:chExt cx="2160360" cy="3213000"/>
          </a:xfrm>
        </p:grpSpPr>
        <p:grpSp>
          <p:nvGrpSpPr>
            <p:cNvPr id="429" name="Group 10"/>
            <p:cNvGrpSpPr/>
            <p:nvPr/>
          </p:nvGrpSpPr>
          <p:grpSpPr>
            <a:xfrm>
              <a:off x="4140360" y="2924280"/>
              <a:ext cx="2160360" cy="3213000"/>
              <a:chOff x="4140360" y="2924280"/>
              <a:chExt cx="2160360" cy="3213000"/>
            </a:xfrm>
          </p:grpSpPr>
          <p:sp>
            <p:nvSpPr>
              <p:cNvPr id="430" name="Text Box 11"/>
              <p:cNvSpPr/>
              <p:nvPr/>
            </p:nvSpPr>
            <p:spPr>
              <a:xfrm>
                <a:off x="5724720" y="4272120"/>
                <a:ext cx="57600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31" name="Object 12"/>
              <p:cNvGraphicFramePr/>
              <p:nvPr/>
            </p:nvGraphicFramePr>
            <p:xfrm>
              <a:off x="4141800" y="2968560"/>
              <a:ext cx="1736640" cy="316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2" name="Object 1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41800" y="2968560"/>
                        <a:ext cx="1736640" cy="31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33" name="Group 13"/>
              <p:cNvGrpSpPr/>
              <p:nvPr/>
            </p:nvGrpSpPr>
            <p:grpSpPr>
              <a:xfrm>
                <a:off x="4140360" y="2924280"/>
                <a:ext cx="1655640" cy="1584360"/>
                <a:chOff x="4140360" y="2924280"/>
                <a:chExt cx="1655640" cy="1584360"/>
              </a:xfrm>
            </p:grpSpPr>
            <p:sp>
              <p:nvSpPr>
                <p:cNvPr id="434" name="Rectangle 14"/>
                <p:cNvSpPr/>
                <p:nvPr/>
              </p:nvSpPr>
              <p:spPr>
                <a:xfrm>
                  <a:off x="5003640" y="4292640"/>
                  <a:ext cx="43164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140360" y="2924280"/>
                  <a:ext cx="1655640" cy="144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16"/>
            <p:cNvSpPr/>
            <p:nvPr/>
          </p:nvSpPr>
          <p:spPr>
            <a:xfrm>
              <a:off x="4570560" y="4221000"/>
              <a:ext cx="4334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17"/>
          <p:cNvSpPr/>
          <p:nvPr/>
        </p:nvSpPr>
        <p:spPr>
          <a:xfrm>
            <a:off x="661680" y="33336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Verdana"/>
              </a:rPr>
              <a:t>Бро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8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81360" cy="2303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tretch/>
        </p:blipFill>
        <p:spPr>
          <a:xfrm>
            <a:off x="6948360" y="4149720"/>
            <a:ext cx="1729080" cy="152568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0"/>
          <p:cNvGrpSpPr/>
          <p:nvPr/>
        </p:nvGrpSpPr>
        <p:grpSpPr>
          <a:xfrm>
            <a:off x="4211640" y="404640"/>
            <a:ext cx="2088720" cy="3097440"/>
            <a:chOff x="4211640" y="404640"/>
            <a:chExt cx="2088720" cy="3097440"/>
          </a:xfrm>
        </p:grpSpPr>
        <p:grpSp>
          <p:nvGrpSpPr>
            <p:cNvPr id="441" name="Group 21"/>
            <p:cNvGrpSpPr/>
            <p:nvPr/>
          </p:nvGrpSpPr>
          <p:grpSpPr>
            <a:xfrm>
              <a:off x="4211640" y="404640"/>
              <a:ext cx="2088720" cy="3097440"/>
              <a:chOff x="4211640" y="404640"/>
              <a:chExt cx="2088720" cy="3097440"/>
            </a:xfrm>
          </p:grpSpPr>
          <p:sp>
            <p:nvSpPr>
              <p:cNvPr id="442" name="Text Box 22"/>
              <p:cNvSpPr/>
              <p:nvPr/>
            </p:nvSpPr>
            <p:spPr>
              <a:xfrm>
                <a:off x="5743440" y="1676880"/>
                <a:ext cx="5569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443" name="Object 23"/>
              <p:cNvGraphicFramePr/>
              <p:nvPr/>
            </p:nvGraphicFramePr>
            <p:xfrm>
              <a:off x="4211640" y="404640"/>
              <a:ext cx="1680480" cy="309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4" name="Object 2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211640" y="404640"/>
                        <a:ext cx="1680480" cy="309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5" name="Rectangle 24"/>
              <p:cNvSpPr/>
              <p:nvPr/>
            </p:nvSpPr>
            <p:spPr>
              <a:xfrm>
                <a:off x="4629240" y="1672200"/>
                <a:ext cx="76572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6" name="Text Box 25"/>
            <p:cNvSpPr/>
            <p:nvPr/>
          </p:nvSpPr>
          <p:spPr>
            <a:xfrm>
              <a:off x="4572000" y="1635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26" descr="C:\Users\HOME\Desktop\0007-007-Brozhenie.jpg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cc"/>
                </a:solidFill>
                <a:latin typeface="Arial"/>
              </a:rPr>
              <a:t>Три этапа энергетического обмен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2. Анаэробный (бескислородный)  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н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+ 2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Р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4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ДФ      2С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 + 2 АТФ + 2 Н</a:t>
            </a:r>
            <a:r>
              <a:rPr b="0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0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6172200" y="449568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"/>
          <p:cNvSpPr/>
          <p:nvPr/>
        </p:nvSpPr>
        <p:spPr>
          <a:xfrm>
            <a:off x="826920" y="1844640"/>
            <a:ext cx="7705800" cy="4681440"/>
          </a:xfrm>
          <a:prstGeom prst="ellipse">
            <a:avLst/>
          </a:prstGeom>
          <a:solidFill>
            <a:srgbClr val="d6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533520" y="260280"/>
            <a:ext cx="72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. Аэробный этап - кисло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1820520" y="3508920"/>
            <a:ext cx="4985280" cy="3021480"/>
            <a:chOff x="1820520" y="3508920"/>
            <a:chExt cx="4985280" cy="3021480"/>
          </a:xfrm>
        </p:grpSpPr>
        <p:sp>
          <p:nvSpPr>
            <p:cNvPr id="456" name="Oval 5"/>
            <p:cNvSpPr/>
            <p:nvPr/>
          </p:nvSpPr>
          <p:spPr>
            <a:xfrm rot="498600">
              <a:off x="1967040" y="3835440"/>
              <a:ext cx="4692240" cy="2368080"/>
            </a:xfrm>
            <a:prstGeom prst="ellipse">
              <a:avLst/>
            </a:prstGeom>
            <a:solidFill>
              <a:srgbClr val="9fff9f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498600">
              <a:off x="2432160" y="4038480"/>
              <a:ext cx="3992400" cy="1911960"/>
            </a:xfrm>
            <a:custGeom>
              <a:avLst/>
              <a:gdLst/>
              <a:ahLst/>
              <a:rect l="l" t="t" r="r" b="b"/>
              <a:pathLst>
                <a:path w="1621" h="696">
                  <a:moveTo>
                    <a:pt x="85" y="205"/>
                  </a:moveTo>
                  <a:cubicBezTo>
                    <a:pt x="202" y="152"/>
                    <a:pt x="320" y="99"/>
                    <a:pt x="448" y="69"/>
                  </a:cubicBezTo>
                  <a:cubicBezTo>
                    <a:pt x="576" y="39"/>
                    <a:pt x="781" y="0"/>
                    <a:pt x="856" y="23"/>
                  </a:cubicBezTo>
                  <a:cubicBezTo>
                    <a:pt x="931" y="46"/>
                    <a:pt x="886" y="167"/>
                    <a:pt x="901" y="205"/>
                  </a:cubicBezTo>
                  <a:cubicBezTo>
                    <a:pt x="916" y="243"/>
                    <a:pt x="931" y="243"/>
                    <a:pt x="946" y="250"/>
                  </a:cubicBezTo>
                  <a:cubicBezTo>
                    <a:pt x="961" y="257"/>
                    <a:pt x="977" y="262"/>
                    <a:pt x="992" y="250"/>
                  </a:cubicBezTo>
                  <a:cubicBezTo>
                    <a:pt x="1007" y="238"/>
                    <a:pt x="1019" y="209"/>
                    <a:pt x="1036" y="180"/>
                  </a:cubicBezTo>
                  <a:cubicBezTo>
                    <a:pt x="1053" y="151"/>
                    <a:pt x="1036" y="81"/>
                    <a:pt x="1096" y="78"/>
                  </a:cubicBezTo>
                  <a:cubicBezTo>
                    <a:pt x="1156" y="75"/>
                    <a:pt x="1357" y="125"/>
                    <a:pt x="1396" y="162"/>
                  </a:cubicBezTo>
                  <a:cubicBezTo>
                    <a:pt x="1435" y="199"/>
                    <a:pt x="1328" y="269"/>
                    <a:pt x="1330" y="300"/>
                  </a:cubicBezTo>
                  <a:cubicBezTo>
                    <a:pt x="1332" y="331"/>
                    <a:pt x="1372" y="353"/>
                    <a:pt x="1408" y="348"/>
                  </a:cubicBezTo>
                  <a:cubicBezTo>
                    <a:pt x="1444" y="343"/>
                    <a:pt x="1517" y="256"/>
                    <a:pt x="1546" y="270"/>
                  </a:cubicBezTo>
                  <a:cubicBezTo>
                    <a:pt x="1575" y="284"/>
                    <a:pt x="1621" y="375"/>
                    <a:pt x="1582" y="432"/>
                  </a:cubicBezTo>
                  <a:cubicBezTo>
                    <a:pt x="1543" y="489"/>
                    <a:pt x="1377" y="613"/>
                    <a:pt x="1309" y="613"/>
                  </a:cubicBezTo>
                  <a:cubicBezTo>
                    <a:pt x="1241" y="613"/>
                    <a:pt x="1207" y="459"/>
                    <a:pt x="1173" y="432"/>
                  </a:cubicBezTo>
                  <a:cubicBezTo>
                    <a:pt x="1139" y="405"/>
                    <a:pt x="1116" y="412"/>
                    <a:pt x="1108" y="450"/>
                  </a:cubicBezTo>
                  <a:cubicBezTo>
                    <a:pt x="1100" y="488"/>
                    <a:pt x="1162" y="623"/>
                    <a:pt x="1128" y="658"/>
                  </a:cubicBezTo>
                  <a:cubicBezTo>
                    <a:pt x="1094" y="693"/>
                    <a:pt x="939" y="696"/>
                    <a:pt x="901" y="658"/>
                  </a:cubicBezTo>
                  <a:cubicBezTo>
                    <a:pt x="863" y="620"/>
                    <a:pt x="916" y="470"/>
                    <a:pt x="901" y="432"/>
                  </a:cubicBezTo>
                  <a:cubicBezTo>
                    <a:pt x="886" y="394"/>
                    <a:pt x="833" y="395"/>
                    <a:pt x="810" y="432"/>
                  </a:cubicBezTo>
                  <a:cubicBezTo>
                    <a:pt x="787" y="469"/>
                    <a:pt x="810" y="620"/>
                    <a:pt x="765" y="658"/>
                  </a:cubicBezTo>
                  <a:cubicBezTo>
                    <a:pt x="720" y="696"/>
                    <a:pt x="576" y="688"/>
                    <a:pt x="538" y="658"/>
                  </a:cubicBezTo>
                  <a:cubicBezTo>
                    <a:pt x="500" y="628"/>
                    <a:pt x="553" y="511"/>
                    <a:pt x="538" y="477"/>
                  </a:cubicBezTo>
                  <a:cubicBezTo>
                    <a:pt x="523" y="443"/>
                    <a:pt x="477" y="431"/>
                    <a:pt x="448" y="456"/>
                  </a:cubicBezTo>
                  <a:cubicBezTo>
                    <a:pt x="419" y="481"/>
                    <a:pt x="416" y="613"/>
                    <a:pt x="364" y="630"/>
                  </a:cubicBezTo>
                  <a:cubicBezTo>
                    <a:pt x="312" y="647"/>
                    <a:pt x="190" y="583"/>
                    <a:pt x="136" y="558"/>
                  </a:cubicBezTo>
                  <a:cubicBezTo>
                    <a:pt x="82" y="533"/>
                    <a:pt x="16" y="500"/>
                    <a:pt x="39" y="477"/>
                  </a:cubicBezTo>
                  <a:cubicBezTo>
                    <a:pt x="62" y="454"/>
                    <a:pt x="237" y="442"/>
                    <a:pt x="274" y="420"/>
                  </a:cubicBezTo>
                  <a:cubicBezTo>
                    <a:pt x="311" y="398"/>
                    <a:pt x="303" y="354"/>
                    <a:pt x="262" y="342"/>
                  </a:cubicBezTo>
                  <a:cubicBezTo>
                    <a:pt x="221" y="330"/>
                    <a:pt x="56" y="372"/>
                    <a:pt x="28" y="348"/>
                  </a:cubicBezTo>
                  <a:cubicBezTo>
                    <a:pt x="0" y="324"/>
                    <a:pt x="80" y="229"/>
                    <a:pt x="94" y="198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Text Box 7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87640" y="431172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итохон-д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84720" y="2924280"/>
            <a:ext cx="1440000" cy="519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 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3635280" y="2708280"/>
            <a:ext cx="2232000" cy="936720"/>
          </a:xfrm>
          <a:prstGeom prst="pie">
            <a:avLst/>
          </a:pr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Lucida Console"/>
              </a:rPr>
              <a:t>глико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3708360" y="20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Verdana"/>
              </a:rPr>
              <a:t>к л е т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684360" y="126828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5434E-006 L 0.08264 0.24555 E">
                                      <p:cBhvr>
                                        <p:cTn id="46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48555E-006 L -0.17309 0.25826 E">
                                      <p:cBhvr>
                                        <p:cTn id="5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136080" y="704880"/>
            <a:ext cx="8836560" cy="6314760"/>
            <a:chOff x="136080" y="704880"/>
            <a:chExt cx="8836560" cy="6314760"/>
          </a:xfrm>
        </p:grpSpPr>
        <p:sp>
          <p:nvSpPr>
            <p:cNvPr id="466" name="Oval 3"/>
            <p:cNvSpPr/>
            <p:nvPr/>
          </p:nvSpPr>
          <p:spPr>
            <a:xfrm rot="498600">
              <a:off x="468000" y="1267920"/>
              <a:ext cx="8172360" cy="5187960"/>
            </a:xfrm>
            <a:prstGeom prst="ellipse">
              <a:avLst/>
            </a:prstGeom>
            <a:solidFill>
              <a:srgbClr val="60e2c0"/>
            </a:solidFill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4"/>
            <p:cNvSpPr/>
            <p:nvPr/>
          </p:nvSpPr>
          <p:spPr>
            <a:xfrm>
              <a:off x="1332000" y="1685880"/>
              <a:ext cx="6872040" cy="4132440"/>
            </a:xfrm>
            <a:custGeom>
              <a:avLst/>
              <a:gdLst/>
              <a:ahLst/>
              <a:rect l="l" t="t" r="r" b="b"/>
              <a:pathLst>
                <a:path w="4329" h="2603">
                  <a:moveTo>
                    <a:pt x="314" y="456"/>
                  </a:moveTo>
                  <a:cubicBezTo>
                    <a:pt x="391" y="406"/>
                    <a:pt x="602" y="226"/>
                    <a:pt x="779" y="154"/>
                  </a:cubicBezTo>
                  <a:cubicBezTo>
                    <a:pt x="956" y="82"/>
                    <a:pt x="1133" y="49"/>
                    <a:pt x="1374" y="26"/>
                  </a:cubicBezTo>
                  <a:cubicBezTo>
                    <a:pt x="1615" y="3"/>
                    <a:pt x="2000" y="0"/>
                    <a:pt x="2224" y="17"/>
                  </a:cubicBezTo>
                  <a:cubicBezTo>
                    <a:pt x="2448" y="34"/>
                    <a:pt x="2552" y="78"/>
                    <a:pt x="2718" y="127"/>
                  </a:cubicBezTo>
                  <a:cubicBezTo>
                    <a:pt x="2884" y="176"/>
                    <a:pt x="3027" y="200"/>
                    <a:pt x="3220" y="309"/>
                  </a:cubicBezTo>
                  <a:cubicBezTo>
                    <a:pt x="3413" y="418"/>
                    <a:pt x="3802" y="642"/>
                    <a:pt x="3879" y="784"/>
                  </a:cubicBezTo>
                  <a:cubicBezTo>
                    <a:pt x="3956" y="926"/>
                    <a:pt x="3686" y="1044"/>
                    <a:pt x="3682" y="1160"/>
                  </a:cubicBezTo>
                  <a:cubicBezTo>
                    <a:pt x="3678" y="1276"/>
                    <a:pt x="3772" y="1462"/>
                    <a:pt x="3856" y="1480"/>
                  </a:cubicBezTo>
                  <a:cubicBezTo>
                    <a:pt x="3940" y="1498"/>
                    <a:pt x="4129" y="1201"/>
                    <a:pt x="4185" y="1270"/>
                  </a:cubicBezTo>
                  <a:cubicBezTo>
                    <a:pt x="4241" y="1339"/>
                    <a:pt x="4329" y="1693"/>
                    <a:pt x="4194" y="1892"/>
                  </a:cubicBezTo>
                  <a:cubicBezTo>
                    <a:pt x="4057" y="2090"/>
                    <a:pt x="3531" y="2424"/>
                    <a:pt x="3364" y="2464"/>
                  </a:cubicBezTo>
                  <a:cubicBezTo>
                    <a:pt x="3197" y="2504"/>
                    <a:pt x="3268" y="2186"/>
                    <a:pt x="3189" y="2130"/>
                  </a:cubicBezTo>
                  <a:cubicBezTo>
                    <a:pt x="3110" y="2074"/>
                    <a:pt x="2953" y="2062"/>
                    <a:pt x="2887" y="2130"/>
                  </a:cubicBezTo>
                  <a:cubicBezTo>
                    <a:pt x="2821" y="2198"/>
                    <a:pt x="2880" y="2478"/>
                    <a:pt x="2791" y="2540"/>
                  </a:cubicBezTo>
                  <a:cubicBezTo>
                    <a:pt x="2702" y="2602"/>
                    <a:pt x="2427" y="2603"/>
                    <a:pt x="2352" y="2504"/>
                  </a:cubicBezTo>
                  <a:cubicBezTo>
                    <a:pt x="2277" y="2405"/>
                    <a:pt x="2388" y="2057"/>
                    <a:pt x="2338" y="1947"/>
                  </a:cubicBezTo>
                  <a:cubicBezTo>
                    <a:pt x="2288" y="1837"/>
                    <a:pt x="2134" y="1765"/>
                    <a:pt x="2051" y="1844"/>
                  </a:cubicBezTo>
                  <a:cubicBezTo>
                    <a:pt x="1968" y="1923"/>
                    <a:pt x="1951" y="2341"/>
                    <a:pt x="1840" y="2421"/>
                  </a:cubicBezTo>
                  <a:cubicBezTo>
                    <a:pt x="1729" y="2501"/>
                    <a:pt x="1458" y="2418"/>
                    <a:pt x="1383" y="2321"/>
                  </a:cubicBezTo>
                  <a:cubicBezTo>
                    <a:pt x="1308" y="2224"/>
                    <a:pt x="1427" y="1937"/>
                    <a:pt x="1392" y="1836"/>
                  </a:cubicBezTo>
                  <a:cubicBezTo>
                    <a:pt x="1357" y="1735"/>
                    <a:pt x="1266" y="1663"/>
                    <a:pt x="1172" y="1717"/>
                  </a:cubicBezTo>
                  <a:cubicBezTo>
                    <a:pt x="1078" y="1771"/>
                    <a:pt x="980" y="2145"/>
                    <a:pt x="828" y="2159"/>
                  </a:cubicBezTo>
                  <a:cubicBezTo>
                    <a:pt x="676" y="2173"/>
                    <a:pt x="388" y="1915"/>
                    <a:pt x="258" y="1800"/>
                  </a:cubicBezTo>
                  <a:cubicBezTo>
                    <a:pt x="127" y="1684"/>
                    <a:pt x="0" y="1531"/>
                    <a:pt x="42" y="1458"/>
                  </a:cubicBezTo>
                  <a:cubicBezTo>
                    <a:pt x="84" y="1385"/>
                    <a:pt x="435" y="1433"/>
                    <a:pt x="510" y="1362"/>
                  </a:cubicBezTo>
                  <a:cubicBezTo>
                    <a:pt x="585" y="1291"/>
                    <a:pt x="563" y="1097"/>
                    <a:pt x="492" y="1032"/>
                  </a:cubicBezTo>
                  <a:cubicBezTo>
                    <a:pt x="421" y="967"/>
                    <a:pt x="109" y="1070"/>
                    <a:pt x="84" y="970"/>
                  </a:cubicBezTo>
                  <a:cubicBezTo>
                    <a:pt x="59" y="870"/>
                    <a:pt x="287" y="544"/>
                    <a:pt x="342" y="432"/>
                  </a:cubicBezTo>
                </a:path>
              </a:pathLst>
            </a:custGeom>
            <a:solidFill>
              <a:srgbClr val="c5ffc5"/>
            </a:solidFill>
            <a:ln w="381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5"/>
          <p:cNvSpPr/>
          <p:nvPr/>
        </p:nvSpPr>
        <p:spPr>
          <a:xfrm>
            <a:off x="7328520" y="0"/>
            <a:ext cx="152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9900"/>
                </a:solidFill>
                <a:latin typeface="Tahoma"/>
              </a:rPr>
              <a:t>О</a:t>
            </a:r>
            <a:r>
              <a:rPr b="0" lang="ru-RU" sz="5400" spc="-1" strike="noStrike">
                <a:solidFill>
                  <a:srgbClr val="ff9900"/>
                </a:solidFill>
                <a:latin typeface="Tahoma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492360" y="5805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00"/>
                </a:solidFill>
                <a:latin typeface="Verdana"/>
              </a:rPr>
              <a:t>Митохонд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95280" y="112536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В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3203640" y="2743200"/>
            <a:ext cx="911160" cy="38160"/>
          </a:xfrm>
          <a:prstGeom prst="line">
            <a:avLst/>
          </a:prstGeom>
          <a:ln w="76320">
            <a:solidFill>
              <a:srgbClr val="808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3124080" y="1905120"/>
            <a:ext cx="30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2"/>
          <p:cNvSpPr/>
          <p:nvPr/>
        </p:nvSpPr>
        <p:spPr>
          <a:xfrm>
            <a:off x="5364000" y="3429000"/>
            <a:ext cx="2376720" cy="1512720"/>
          </a:xfrm>
          <a:prstGeom prst="irregularSeal2">
            <a:avLst/>
          </a:prstGeom>
          <a:solidFill>
            <a:srgbClr val="ffff00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6 молекул АТ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1258920" y="189000"/>
            <a:ext cx="64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Аэробный эта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L 0.14983 0.20347 E">
                                      <p:cBhvr>
                                        <p:cTn id="65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48 L 0.05521 0.06736 E">
                                      <p:cBhvr>
                                        <p:cTn id="80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31214E-007 L -0.24791 0.12069 E">
                                      <p:cBhvr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t-RU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458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800" spc="-1" strike="noStrike" u="sng">
                <a:solidFill>
                  <a:srgbClr val="ffffcc"/>
                </a:solidFill>
                <a:uFillTx/>
                <a:latin typeface="Verdana"/>
              </a:rPr>
              <a:t>3. Аэробный (кислородный) эта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уммарное уравнение аэробного этап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С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1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6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6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36 АДФ + 36 Ф </a:t>
            </a: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—&gt;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6СО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 + 6 Н</a:t>
            </a:r>
            <a:r>
              <a:rPr b="1" lang="ru-RU" sz="29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ru-RU" sz="2900" spc="-1" strike="noStrike">
                <a:solidFill>
                  <a:srgbClr val="ffff00"/>
                </a:solidFill>
                <a:latin typeface="Verdana"/>
              </a:rPr>
              <a:t>О + </a:t>
            </a:r>
            <a:r>
              <a:rPr b="1" lang="ru-RU" sz="2900" spc="-1" strike="noStrike">
                <a:solidFill>
                  <a:srgbClr val="ffccff"/>
                </a:solidFill>
                <a:latin typeface="Verdana"/>
              </a:rPr>
              <a:t>36 АТФ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1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 Narrow"/>
              </a:rPr>
              <a:t>Обмен веществ и его роль в клетке. Энергетический обмен. Синтез АТФ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ла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Понятие об энергетическом обмен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АТФ, его строение и значени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33cc33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00"/>
                </a:solidFill>
                <a:latin typeface="Arial Narrow"/>
              </a:rPr>
              <a:t>Этапы энергетического обмена</a:t>
            </a:r>
            <a:r>
              <a:rPr b="0" lang="ru-RU" sz="3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324000" y="549360"/>
            <a:ext cx="1944360" cy="7095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659640" y="641520"/>
            <a:ext cx="1944720" cy="61740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Бе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421080" y="641520"/>
            <a:ext cx="2303280" cy="61740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Угл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5"/>
          <p:cNvSpPr/>
          <p:nvPr/>
        </p:nvSpPr>
        <p:spPr>
          <a:xfrm>
            <a:off x="4427640" y="1330200"/>
            <a:ext cx="360360" cy="586080"/>
          </a:xfrm>
          <a:prstGeom prst="downArrow">
            <a:avLst>
              <a:gd name="adj1" fmla="val 50000"/>
              <a:gd name="adj2" fmla="val 40659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6"/>
          <p:cNvSpPr/>
          <p:nvPr/>
        </p:nvSpPr>
        <p:spPr>
          <a:xfrm>
            <a:off x="4427640" y="2409840"/>
            <a:ext cx="360360" cy="952560"/>
          </a:xfrm>
          <a:prstGeom prst="downArrow">
            <a:avLst>
              <a:gd name="adj1" fmla="val 50000"/>
              <a:gd name="adj2" fmla="val 66084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4427640" y="3562200"/>
            <a:ext cx="360360" cy="617760"/>
          </a:xfrm>
          <a:prstGeom prst="downArrow">
            <a:avLst>
              <a:gd name="adj1" fmla="val 50000"/>
              <a:gd name="adj2" fmla="val 42857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740040" y="5979960"/>
            <a:ext cx="1695600" cy="617760"/>
          </a:xfrm>
          <a:prstGeom prst="rect">
            <a:avLst/>
          </a:prstGeom>
          <a:gradFill rotWithShape="0">
            <a:gsLst>
              <a:gs pos="0">
                <a:srgbClr val="c6c6c6"/>
              </a:gs>
              <a:gs pos="50000">
                <a:srgbClr val="dddddd"/>
              </a:gs>
              <a:gs pos="100000">
                <a:srgbClr val="c6c6c6"/>
              </a:gs>
            </a:gsLst>
            <a:lin ang="5400000"/>
          </a:gradFill>
          <a:ln w="3816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Verdana"/>
                <a:ea typeface="Tahoma"/>
              </a:rPr>
              <a:t>АТ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0"/>
          <p:cNvSpPr/>
          <p:nvPr/>
        </p:nvSpPr>
        <p:spPr>
          <a:xfrm>
            <a:off x="4427640" y="5516640"/>
            <a:ext cx="360360" cy="390600"/>
          </a:xfrm>
          <a:prstGeom prst="downArrow">
            <a:avLst>
              <a:gd name="adj1" fmla="val 50000"/>
              <a:gd name="adj2" fmla="val 27098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11"/>
          <p:cNvSpPr/>
          <p:nvPr/>
        </p:nvSpPr>
        <p:spPr>
          <a:xfrm>
            <a:off x="1476360" y="1268280"/>
            <a:ext cx="3024360" cy="1440000"/>
          </a:xfrm>
          <a:custGeom>
            <a:avLst/>
            <a:gdLst/>
            <a:ahLst/>
            <a:rect l="l" t="t" r="r" b="b"/>
            <a:pathLst>
              <a:path w="1905" h="907">
                <a:moveTo>
                  <a:pt x="0" y="0"/>
                </a:moveTo>
                <a:cubicBezTo>
                  <a:pt x="10" y="65"/>
                  <a:pt x="6" y="264"/>
                  <a:pt x="57" y="390"/>
                </a:cubicBezTo>
                <a:cubicBezTo>
                  <a:pt x="108" y="516"/>
                  <a:pt x="124" y="676"/>
                  <a:pt x="304" y="755"/>
                </a:cubicBezTo>
                <a:cubicBezTo>
                  <a:pt x="484" y="834"/>
                  <a:pt x="869" y="840"/>
                  <a:pt x="1136" y="865"/>
                </a:cubicBezTo>
                <a:cubicBezTo>
                  <a:pt x="1403" y="890"/>
                  <a:pt x="1745" y="898"/>
                  <a:pt x="1905" y="907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2"/>
          <p:cNvSpPr/>
          <p:nvPr/>
        </p:nvSpPr>
        <p:spPr>
          <a:xfrm>
            <a:off x="468360" y="1700280"/>
            <a:ext cx="2154240" cy="63828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Freeform 13"/>
          <p:cNvSpPr/>
          <p:nvPr/>
        </p:nvSpPr>
        <p:spPr>
          <a:xfrm>
            <a:off x="539640" y="1268280"/>
            <a:ext cx="2871720" cy="2094120"/>
          </a:xfrm>
          <a:custGeom>
            <a:avLst/>
            <a:gdLst/>
            <a:ahLst/>
            <a:rect l="l" t="t" r="r" b="b"/>
            <a:pathLst>
              <a:path w="1809" h="1319">
                <a:moveTo>
                  <a:pt x="0" y="0"/>
                </a:moveTo>
                <a:cubicBezTo>
                  <a:pt x="39" y="146"/>
                  <a:pt x="142" y="670"/>
                  <a:pt x="236" y="874"/>
                </a:cubicBezTo>
                <a:cubicBezTo>
                  <a:pt x="330" y="1078"/>
                  <a:pt x="425" y="1150"/>
                  <a:pt x="565" y="1222"/>
                </a:cubicBezTo>
                <a:cubicBezTo>
                  <a:pt x="705" y="1294"/>
                  <a:pt x="870" y="1289"/>
                  <a:pt x="1077" y="1304"/>
                </a:cubicBezTo>
                <a:cubicBezTo>
                  <a:pt x="1284" y="1319"/>
                  <a:pt x="1657" y="1311"/>
                  <a:pt x="1809" y="1313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468360" y="2779560"/>
            <a:ext cx="1800000" cy="1154160"/>
          </a:xfrm>
          <a:prstGeom prst="rect">
            <a:avLst/>
          </a:prstGeom>
          <a:gradFill rotWithShape="0">
            <a:gsLst>
              <a:gs pos="0">
                <a:srgbClr val="e5e5b7"/>
              </a:gs>
              <a:gs pos="50000">
                <a:srgbClr val="ffffcc"/>
              </a:gs>
              <a:gs pos="100000">
                <a:srgbClr val="e5e5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Жир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>
            <a:off x="5994360" y="1268280"/>
            <a:ext cx="1496880" cy="1968480"/>
          </a:xfrm>
          <a:custGeom>
            <a:avLst/>
            <a:gdLst/>
            <a:ahLst/>
            <a:rect l="l" t="t" r="r" b="b"/>
            <a:pathLst>
              <a:path w="943" h="1240">
                <a:moveTo>
                  <a:pt x="919" y="0"/>
                </a:moveTo>
                <a:cubicBezTo>
                  <a:pt x="920" y="74"/>
                  <a:pt x="928" y="301"/>
                  <a:pt x="923" y="444"/>
                </a:cubicBezTo>
                <a:cubicBezTo>
                  <a:pt x="918" y="587"/>
                  <a:pt x="943" y="745"/>
                  <a:pt x="887" y="856"/>
                </a:cubicBezTo>
                <a:cubicBezTo>
                  <a:pt x="831" y="967"/>
                  <a:pt x="733" y="1048"/>
                  <a:pt x="585" y="1112"/>
                </a:cubicBezTo>
                <a:cubicBezTo>
                  <a:pt x="437" y="1176"/>
                  <a:pt x="122" y="1213"/>
                  <a:pt x="0" y="1240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5283360" y="2849400"/>
            <a:ext cx="2307960" cy="1795680"/>
          </a:xfrm>
          <a:custGeom>
            <a:avLst/>
            <a:gdLst/>
            <a:ahLst/>
            <a:rect l="l" t="t" r="r" b="b"/>
            <a:pathLst>
              <a:path w="1454" h="1131">
                <a:moveTo>
                  <a:pt x="1454" y="34"/>
                </a:moveTo>
                <a:cubicBezTo>
                  <a:pt x="1439" y="39"/>
                  <a:pt x="1379" y="0"/>
                  <a:pt x="1362" y="61"/>
                </a:cubicBezTo>
                <a:cubicBezTo>
                  <a:pt x="1345" y="122"/>
                  <a:pt x="1367" y="282"/>
                  <a:pt x="1353" y="399"/>
                </a:cubicBezTo>
                <a:cubicBezTo>
                  <a:pt x="1339" y="516"/>
                  <a:pt x="1344" y="667"/>
                  <a:pt x="1280" y="765"/>
                </a:cubicBezTo>
                <a:cubicBezTo>
                  <a:pt x="1216" y="863"/>
                  <a:pt x="1182" y="923"/>
                  <a:pt x="969" y="984"/>
                </a:cubicBezTo>
                <a:cubicBezTo>
                  <a:pt x="756" y="1045"/>
                  <a:pt x="202" y="1101"/>
                  <a:pt x="0" y="1131"/>
                </a:cubicBezTo>
              </a:path>
            </a:pathLst>
          </a:custGeom>
          <a:noFill/>
          <a:ln w="101520">
            <a:solidFill>
              <a:srgbClr val="ff9999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6804000" y="2205000"/>
            <a:ext cx="2016000" cy="1295280"/>
          </a:xfrm>
          <a:prstGeom prst="rect">
            <a:avLst/>
          </a:prstGeom>
          <a:gradFill rotWithShape="0">
            <a:gsLst>
              <a:gs pos="0">
                <a:srgbClr val="8bc6b8"/>
              </a:gs>
              <a:gs pos="50000">
                <a:srgbClr val="9bddcd"/>
              </a:gs>
              <a:gs pos="100000">
                <a:srgbClr val="8bc6b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мино-кисл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18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484360" cy="2238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9"/>
          <p:cNvSpPr/>
          <p:nvPr/>
        </p:nvSpPr>
        <p:spPr>
          <a:xfrm>
            <a:off x="3421080" y="1720800"/>
            <a:ext cx="230328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Сах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3348000" y="3027240"/>
            <a:ext cx="2590920" cy="617760"/>
          </a:xfrm>
          <a:prstGeom prst="rect">
            <a:avLst/>
          </a:prstGeom>
          <a:gradFill rotWithShape="0">
            <a:gsLst>
              <a:gs pos="0">
                <a:srgbClr val="aac7e5"/>
              </a:gs>
              <a:gs pos="50000">
                <a:srgbClr val="bddeff"/>
              </a:gs>
              <a:gs pos="100000">
                <a:srgbClr val="aac7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  <a:ea typeface="Tahoma"/>
              </a:rPr>
              <a:t>Ацетил-Ко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2"/>
          <a:stretch/>
        </p:blipFill>
        <p:spPr>
          <a:xfrm>
            <a:off x="304920" y="4343400"/>
            <a:ext cx="2317680" cy="2349360"/>
          </a:xfrm>
          <a:prstGeom prst="rect">
            <a:avLst/>
          </a:prstGeom>
          <a:ln w="0">
            <a:noFill/>
          </a:ln>
        </p:spPr>
      </p:pic>
      <p:sp>
        <p:nvSpPr>
          <p:cNvPr id="500" name="Line 22"/>
          <p:cNvSpPr/>
          <p:nvPr/>
        </p:nvSpPr>
        <p:spPr>
          <a:xfrm flipH="1">
            <a:off x="4787640" y="2708280"/>
            <a:ext cx="2089080" cy="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480" y="11592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Ф в циф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87280" y="90972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жизни – несколько секу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затрачива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300 ккал энергии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надо расщепить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66 к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амом деле в организме содержится только ~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50 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каждая молекула АТФ должна вновь синтезироваться 166 кг : 50 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32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 в су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2484360" y="5950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Ф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Т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ffcc"/>
                </a:solidFill>
                <a:latin typeface="Garamond"/>
              </a:rPr>
              <a:t>По способу питания организмы делятся на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Авт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, питающиеся за счет не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ffcc"/>
                </a:solidFill>
                <a:latin typeface="Arial"/>
              </a:rPr>
              <a:t>Гетеротрофы</a:t>
            </a:r>
            <a:r>
              <a:rPr b="0" lang="ru-RU" sz="3000" spc="-1" strike="noStrike">
                <a:solidFill>
                  <a:srgbClr val="f8f8f8"/>
                </a:solidFill>
                <a:latin typeface="Arial"/>
              </a:rPr>
              <a:t> – организмы питающиеся за счет органических соедин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8f8f8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ff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99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асщепление в клетке 1 молекулы глюкозы до оксида углерода (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IV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) и воды обеспечивает синтез 38 молекул АТФ, из которых в бескислородную стадию синтезируется 2 молекулы, а в кислородную 36 молекул АТФ, что дает право говорить об эффективности кислородного процесса почти в 20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олучение энергии живыми существами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3" name="Picture 4" descr="C:\Users\HOME\Desktop\0004-004-Sposoby-poluchenija-energii-zhivymi-suschestvami.jpg"/>
          <p:cNvPicPr/>
          <p:nvPr/>
        </p:nvPicPr>
        <p:blipFill>
          <a:blip r:embed="rId1"/>
          <a:stretch/>
        </p:blipFill>
        <p:spPr>
          <a:xfrm>
            <a:off x="762120" y="914400"/>
            <a:ext cx="7157880" cy="536904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                   </a:t>
            </a: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Метаболи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16" name="Picture 2" descr="C:\Users\HOME\Desktop\0003-003-Metabolizm.jpg"/>
          <p:cNvPicPr/>
          <p:nvPr/>
        </p:nvPicPr>
        <p:blipFill>
          <a:blip r:embed="rId1"/>
          <a:stretch/>
        </p:blipFill>
        <p:spPr>
          <a:xfrm>
            <a:off x="990720" y="914400"/>
            <a:ext cx="7059600" cy="529416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C:\Users\HOME\Desktop\Новая папка (3)\0007-007-Sravnitelnaja-tablitsa.jpg"/>
          <p:cNvPicPr/>
          <p:nvPr/>
        </p:nvPicPr>
        <p:blipFill>
          <a:blip r:embed="rId1"/>
          <a:stretch/>
        </p:blipFill>
        <p:spPr>
          <a:xfrm>
            <a:off x="457200" y="15228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09480" y="22096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Энергетический обмен </a:t>
            </a:r>
            <a:r>
              <a:rPr b="1" i="1" lang="ru-RU" sz="2900" spc="-1" strike="noStrike" u="sng">
                <a:solidFill>
                  <a:srgbClr val="ccccff"/>
                </a:solidFill>
                <a:uFillTx/>
                <a:latin typeface="Verdana"/>
              </a:rPr>
              <a:t>(диссимиляция)</a:t>
            </a: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— это совокупность реакций расщепления высокомолекулярных соединений, которые сопровождаются выделением и запасанием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5904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АТФ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– универсальный источник энергии в клет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684360" y="1557360"/>
            <a:ext cx="7812000" cy="4131720"/>
            <a:chOff x="684360" y="1557360"/>
            <a:chExt cx="7812000" cy="4131720"/>
          </a:xfrm>
        </p:grpSpPr>
        <p:grpSp>
          <p:nvGrpSpPr>
            <p:cNvPr id="332" name="Group 4"/>
            <p:cNvGrpSpPr/>
            <p:nvPr/>
          </p:nvGrpSpPr>
          <p:grpSpPr>
            <a:xfrm>
              <a:off x="684360" y="1557360"/>
              <a:ext cx="7812000" cy="3743280"/>
              <a:chOff x="684360" y="1557360"/>
              <a:chExt cx="7812000" cy="374328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1"/>
              <a:srcRect l="0" t="0" r="34894" b="53822"/>
              <a:stretch/>
            </p:blipFill>
            <p:spPr>
              <a:xfrm>
                <a:off x="684360" y="1557360"/>
                <a:ext cx="7812000" cy="37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Rectangle 6"/>
              <p:cNvSpPr/>
              <p:nvPr/>
            </p:nvSpPr>
            <p:spPr>
              <a:xfrm>
                <a:off x="6732720" y="3789360"/>
                <a:ext cx="1152360" cy="64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Text Box 7"/>
            <p:cNvSpPr/>
            <p:nvPr/>
          </p:nvSpPr>
          <p:spPr>
            <a:xfrm>
              <a:off x="5580000" y="162864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Адени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4932360" y="5229360"/>
              <a:ext cx="1657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Рибо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9"/>
            <p:cNvSpPr/>
            <p:nvPr/>
          </p:nvSpPr>
          <p:spPr>
            <a:xfrm>
              <a:off x="1042920" y="1989000"/>
              <a:ext cx="2808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cccc"/>
                  </a:solidFill>
                  <a:latin typeface="Arial"/>
                </a:rPr>
                <a:t>Три фосфа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116000" y="4221000"/>
              <a:ext cx="2735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Text Box 11"/>
          <p:cNvSpPr/>
          <p:nvPr/>
        </p:nvSpPr>
        <p:spPr>
          <a:xfrm>
            <a:off x="468360" y="5229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Макроэргические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>
            <a:off x="1547640" y="3429000"/>
            <a:ext cx="28764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>
            <a:off x="2556000" y="3429000"/>
            <a:ext cx="287280" cy="71280"/>
          </a:xfrm>
          <a:custGeom>
            <a:avLst/>
            <a:gdLst/>
            <a:ahLst/>
            <a:rect l="l" t="t" r="r" b="b"/>
            <a:pathLst>
              <a:path w="541" h="124">
                <a:moveTo>
                  <a:pt x="0" y="112"/>
                </a:moveTo>
                <a:cubicBezTo>
                  <a:pt x="31" y="95"/>
                  <a:pt x="145" y="22"/>
                  <a:pt x="185" y="11"/>
                </a:cubicBezTo>
                <a:cubicBezTo>
                  <a:pt x="225" y="0"/>
                  <a:pt x="211" y="30"/>
                  <a:pt x="240" y="48"/>
                </a:cubicBezTo>
                <a:cubicBezTo>
                  <a:pt x="269" y="66"/>
                  <a:pt x="313" y="124"/>
                  <a:pt x="359" y="121"/>
                </a:cubicBezTo>
                <a:cubicBezTo>
                  <a:pt x="405" y="118"/>
                  <a:pt x="487" y="44"/>
                  <a:pt x="514" y="30"/>
                </a:cubicBezTo>
                <a:cubicBezTo>
                  <a:pt x="541" y="16"/>
                  <a:pt x="521" y="37"/>
                  <a:pt x="523" y="3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 flipV="1">
            <a:off x="1692360" y="3573000"/>
            <a:ext cx="576000" cy="158436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 flipV="1">
            <a:off x="2268360" y="3500280"/>
            <a:ext cx="432000" cy="1657440"/>
          </a:xfrm>
          <a:prstGeom prst="line">
            <a:avLst/>
          </a:prstGeom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Arial Narrow"/>
              </a:rPr>
              <a:t>Состав АТ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76720" y="1219320"/>
            <a:ext cx="2514600" cy="1143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 flipH="1">
            <a:off x="2209320" y="198108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5680" y="2362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5715000" y="1981080"/>
            <a:ext cx="10666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228600" y="2971800"/>
            <a:ext cx="266688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зотист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ие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д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200400" y="3429000"/>
            <a:ext cx="259092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ой саха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6477120" y="2819520"/>
            <a:ext cx="2438280" cy="13716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оста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РО</a:t>
            </a:r>
            <a:r>
              <a:rPr b="0" i="1" lang="ru-R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rial Narrow"/>
              </a:rPr>
              <a:t>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ТФ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ДФ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 Н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3733920" y="25909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труктура АТФ. Превращение АТФ в 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2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34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4800" y="259920"/>
            <a:ext cx="4957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15920"/>
            <a:ext cx="2181240" cy="30258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4"/>
          <p:cNvGrpSpPr/>
          <p:nvPr/>
        </p:nvGrpSpPr>
        <p:grpSpPr>
          <a:xfrm>
            <a:off x="250920" y="3433680"/>
            <a:ext cx="4032000" cy="3423960"/>
            <a:chOff x="250920" y="3433680"/>
            <a:chExt cx="4032000" cy="3423960"/>
          </a:xfrm>
        </p:grpSpPr>
        <p:pic>
          <p:nvPicPr>
            <p:cNvPr id="364" name="Picture 5" descr=""/>
            <p:cNvPicPr/>
            <p:nvPr/>
          </p:nvPicPr>
          <p:blipFill>
            <a:blip r:embed="rId2"/>
            <a:srcRect l="0" t="0" r="0" b="2571"/>
            <a:stretch/>
          </p:blipFill>
          <p:spPr>
            <a:xfrm>
              <a:off x="250920" y="3433680"/>
              <a:ext cx="4032000" cy="34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3"/>
            <a:stretch/>
          </p:blipFill>
          <p:spPr>
            <a:xfrm>
              <a:off x="1906200" y="4296960"/>
              <a:ext cx="21564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4"/>
            <a:stretch/>
          </p:blipFill>
          <p:spPr>
            <a:xfrm>
              <a:off x="3058920" y="5594040"/>
              <a:ext cx="2869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5"/>
            <a:stretch/>
          </p:blipFill>
          <p:spPr>
            <a:xfrm>
              <a:off x="1547640" y="4802040"/>
              <a:ext cx="215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9" descr=""/>
            <p:cNvPicPr/>
            <p:nvPr/>
          </p:nvPicPr>
          <p:blipFill>
            <a:blip r:embed="rId6"/>
            <a:stretch/>
          </p:blipFill>
          <p:spPr>
            <a:xfrm>
              <a:off x="971280" y="4225680"/>
              <a:ext cx="21564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AutoShape 10"/>
          <p:cNvSpPr/>
          <p:nvPr/>
        </p:nvSpPr>
        <p:spPr>
          <a:xfrm rot="5400000">
            <a:off x="2159640" y="2959920"/>
            <a:ext cx="718920" cy="647640"/>
          </a:xfrm>
          <a:custGeom>
            <a:avLst/>
            <a:gdLst>
              <a:gd name="textAreaLeft" fmla="*/ 112320 w 718920"/>
              <a:gd name="textAreaRight" fmla="*/ 549000 w 718920"/>
              <a:gd name="textAreaTop" fmla="*/ 133200 h 647640"/>
              <a:gd name="textAreaBottom" fmla="*/ 514440 h 647640"/>
            </a:gdLst>
            <a:ahLst/>
            <a:rect l="textAreaLeft" t="textAreaTop" r="textAreaRight" b="textAreaBottom"/>
            <a:pathLst>
              <a:path w="21600" h="21600">
                <a:moveTo>
                  <a:pt x="12921" y="0"/>
                </a:moveTo>
                <a:lnTo>
                  <a:pt x="12921" y="4447"/>
                </a:lnTo>
                <a:lnTo>
                  <a:pt x="3375" y="4447"/>
                </a:lnTo>
                <a:lnTo>
                  <a:pt x="3375" y="17153"/>
                </a:lnTo>
                <a:lnTo>
                  <a:pt x="12921" y="17153"/>
                </a:lnTo>
                <a:lnTo>
                  <a:pt x="12921" y="21600"/>
                </a:lnTo>
                <a:lnTo>
                  <a:pt x="21600" y="10800"/>
                </a:lnTo>
                <a:lnTo>
                  <a:pt x="12921" y="0"/>
                </a:lnTo>
                <a:close/>
              </a:path>
              <a:path w="21600" h="21600">
                <a:moveTo>
                  <a:pt x="1350" y="4447"/>
                </a:moveTo>
                <a:lnTo>
                  <a:pt x="1350" y="17153"/>
                </a:lnTo>
                <a:lnTo>
                  <a:pt x="2700" y="17153"/>
                </a:lnTo>
                <a:lnTo>
                  <a:pt x="2700" y="4447"/>
                </a:lnTo>
                <a:lnTo>
                  <a:pt x="1350" y="4447"/>
                </a:lnTo>
                <a:close/>
              </a:path>
              <a:path w="21600" h="21600">
                <a:moveTo>
                  <a:pt x="0" y="4447"/>
                </a:moveTo>
                <a:lnTo>
                  <a:pt x="0" y="17153"/>
                </a:lnTo>
                <a:lnTo>
                  <a:pt x="675" y="17153"/>
                </a:lnTo>
                <a:lnTo>
                  <a:pt x="675" y="4447"/>
                </a:lnTo>
                <a:lnTo>
                  <a:pt x="0" y="4447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1"/>
          <p:cNvSpPr/>
          <p:nvPr/>
        </p:nvSpPr>
        <p:spPr>
          <a:xfrm flipH="1">
            <a:off x="2556000" y="260280"/>
            <a:ext cx="1079280" cy="64764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16c87"/>
              </a:gs>
              <a:gs pos="50000">
                <a:srgbClr val="99ccff"/>
              </a:gs>
              <a:gs pos="100000">
                <a:srgbClr val="516c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716360" y="1700280"/>
            <a:ext cx="42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зосомы в клет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050920" y="249228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4427640" y="3860640"/>
            <a:ext cx="4716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07672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хема этапов энергетическ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Untitled-Scanned-01"/>
          <p:cNvPicPr/>
          <p:nvPr/>
        </p:nvPicPr>
        <p:blipFill>
          <a:blip r:embed="rId1"/>
          <a:stretch/>
        </p:blipFill>
        <p:spPr>
          <a:xfrm>
            <a:off x="1447920" y="1066680"/>
            <a:ext cx="6634080" cy="55533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яшина Н.Л.</dc:creator>
  <dc:description/>
  <dc:language>en-US</dc:language>
  <cp:lastModifiedBy>LEGION</cp:lastModifiedBy>
  <dcterms:modified xsi:type="dcterms:W3CDTF">2015-11-27T10:45:50Z</dcterms:modified>
  <cp:revision>182</cp:revision>
  <dc:subject>Цитология</dc:subject>
  <dc:title>Энергетический обм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