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9.jpeg" ContentType="image/jpeg"/>
  <Override PartName="/ppt/media/image10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A912-64AC-40FC-A62A-22F7969FC0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е начинается путь к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нее начинается путь к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сахар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ирува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сахари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ре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ируват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Л Ю К О З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 – анаэроб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,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винные дрож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окис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р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 Л Ю К О З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 В 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 – анаэробное дых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вотные, бакте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винные дрожж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окис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рт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этапа энергетического об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этапа энергетического об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Аэробный этап - кислор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-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. Аэробный этап - кислород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-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 и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 молекул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б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2 и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6 молекул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эроб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эробный (кислородный)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Аэробный (кислородный)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б энергетическом об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, его строение и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энергетического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об энергетическом обме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, его строение и знач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ы энергетического обме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це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ино-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-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ле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ино-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ха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цетил-Ко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в циф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жизни – несколько секу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адо расщепить 166 кг АТ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→ АДФ →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в цифр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жизни – несколько секун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адо расщепить 166 кг АТФ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→ АДФ →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б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або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рг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роэргические связ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ист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й сахар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б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та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ен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+ Н2О             АДФ + 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+ Н2О             АДФ + 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сомы в кле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. Подготовитель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22F-7EEB-43E6-BC23-8216B627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3C0-DF6D-4CCA-887F-7D909FE5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248-7A30-45E5-AA7F-C929DFA5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7D9-0D2D-4BF7-BF2A-7A7A993C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F1C5-FC98-4235-AA2E-D19FB3B0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AE07-EDDD-4C1A-B450-4D1488A4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ECAF-BF53-445A-B314-F935180B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2471-0C18-4C93-92A8-874A3AA0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D774-8C89-472C-AF17-6C69A692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AB9E-F67A-4E98-AF44-AA184F60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F560-A561-45E7-9385-C9B21966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3BC-8237-4D51-BD67-BEE8A08D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2C2F-5BA3-486C-88C8-B236AA4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8C47-1AA9-4268-A66F-D77D6089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B959-ED98-48EE-A5C6-AEE70A8B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3D40-9DB0-4487-887B-F743C281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60F6-DC46-4D6B-A72A-B4965EA7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47BA-4490-4806-9A41-EB0FE8C7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DB7E-DFA9-48C1-A152-EF7D3B4F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1967A-1F13-4215-8871-B54AD2A4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D7C5-22FD-4328-AAD2-630EEEC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96FEA-8394-42E3-9692-B07D6FB9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B4C-7FDF-49C7-B3C8-AC756777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233DF-9858-4EA2-A06D-D8972F8D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2EC2-82AF-445C-9590-E46A7E8E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5174-7B7E-4D7C-A6BA-54CF51EB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1E4A-ABF0-4B27-9AC2-C5555AC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0C7AF-3271-4476-9B93-3AB14AD9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D149D-D909-44C5-A888-59F56036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12EE0-0072-404D-AD77-20010A86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EDD33-4927-4F78-87ED-86B79C56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1849F-18E9-4D65-B715-AE6F54D7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617C5-336B-4E07-B179-85E9C4FE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4B0-9CA0-4906-93FF-53475789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4214-3D00-4BBC-B6F8-945E99CE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38488-B04F-4DF8-ADB2-33B02DC8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4F702-1E99-4FB8-803A-FD913A93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3063-BA08-4296-8FBA-39367FBE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40211-0076-459D-BC65-4FD9B251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AF859-2D72-49ED-A397-DF57894C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22061-F74B-4DC7-9884-8A47C2A3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FE7A-D545-4DE3-9B7F-1A5BACDD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8B8CA-C6E4-4907-BD0A-82409F98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396B8-8BA2-4D75-AFA9-88A4C13C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35C-F8C2-4BEE-87DC-152A2A2B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48444-B215-482D-AC1D-01DC5258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441AA-B4CC-4002-81DC-5187C583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A5694-A527-437D-91F9-72FA00DD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3FA5D-6AE6-424A-8D14-48CE0AA1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9450E-E9C5-410D-9697-73F1A5AA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A57F6-9F8D-463C-B11C-C4580AB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09B3A-1C17-47AC-8679-04061B7E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9EB30-83F1-4737-BD96-623BEEB9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131A-BDAE-44DA-98DE-D4420C23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0B64D-809C-4DAB-90DC-A52AB027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929-FABE-4815-83FC-78D1C977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507F8-1AD2-4BF4-A9ED-95B8653B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7F387-9E3D-4BEC-B280-28EAC062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780DC-16B9-4A0E-9192-3434A743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4E0EF-80D0-487B-9C21-67BBB391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438B7-571B-4CAB-8F8A-3D8118F1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74338-4040-4F4D-A1E5-6B5977FA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C603F-865C-424C-8AAC-C8E35291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E67EF-15B3-4DD1-917E-DAB7CF63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3595C-70B0-4BF9-A2BF-93C58168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7039D-5F29-4AAB-BCF8-4C5A6834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7AD-4C33-460C-8BD5-22826711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ED3F-630A-4A52-874B-94CB673F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3160F-8685-4499-A0F6-5DCF0B6A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008D0-8FCC-4186-B0CE-A7988520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0A0CC-EE55-4960-9999-5E9B5C3B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3795F-8110-48EE-AD20-A9029FF8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B56D-29B4-465B-BAA9-C62517AD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2F1F3-212D-4DFD-B5DA-2A8F4DBC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9428D-72CA-4AB8-8113-B57BC345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3E006-2FFB-4099-A2C1-66F51E65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B404A-CE83-4F27-A4BA-926EFCB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A7E-6EEC-4F27-95E0-00B1778C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5D417-7E2A-4670-8469-6BA75901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E7B1-5DCA-47BD-B043-48ADBBC8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4FB7B-5CCF-4397-81F4-79B55675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7198-6EAE-451F-801C-D47380FC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6411-9275-4592-A9EB-6C5D6FAC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ADB-B7D9-481C-894A-2E649ECD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4ABF-59D8-4902-A9D0-9A3741FC83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AA5A-DACB-456B-8227-6F0C288F30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E44B-987E-494B-AD9F-111018B276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92A1-AAC8-493A-ACDD-1B561288710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ECE4-54FC-4980-A31F-C1FEA5465F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62CB-E083-494D-96BF-6C31DDE366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BD6B-50D1-4B99-9A93-B6D6F6EBD7F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b2bfe"/>
                </a:solidFill>
                <a:latin typeface="Arial"/>
              </a:rPr>
              <a:t>Конкурс по биологии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Тема: «Энергетический обмен в клетке»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7760" y="512244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69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800"/>
                </a:solidFill>
                <a:latin typeface="Verdana"/>
              </a:rPr>
              <a:t>Глюкоз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центральная молекула клеточного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1979640" y="1773360"/>
          <a:ext cx="446544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446544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2560" y="56674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 нее начинается путь к 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6589800" y="1916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"/>
          <p:cNvSpPr/>
          <p:nvPr/>
        </p:nvSpPr>
        <p:spPr>
          <a:xfrm>
            <a:off x="973080" y="3068640"/>
            <a:ext cx="6767640" cy="316692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348000" y="19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324000" y="105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сахар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3851280" y="16286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869080" y="41338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324000" y="1461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a8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.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</a:rPr>
              <a:t>Анаэробный гликолиз</a:t>
            </a:r>
            <a:r>
              <a:rPr b="1" lang="ru-RU" sz="3200" spc="-1" strike="noStrike">
                <a:solidFill>
                  <a:srgbClr val="00a8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– бескислородны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725480" y="4973040"/>
            <a:ext cx="1670400" cy="889560"/>
            <a:chOff x="1725480" y="4973040"/>
            <a:chExt cx="1670400" cy="889560"/>
          </a:xfrm>
        </p:grpSpPr>
        <p:sp>
          <p:nvSpPr>
            <p:cNvPr id="392" name="Oval 9"/>
            <p:cNvSpPr/>
            <p:nvPr/>
          </p:nvSpPr>
          <p:spPr>
            <a:xfrm rot="498600">
              <a:off x="1765080" y="5084280"/>
              <a:ext cx="1590480" cy="66672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rot="498600">
              <a:off x="1922400" y="5142600"/>
              <a:ext cx="1353240" cy="53820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Text Box 11"/>
          <p:cNvSpPr/>
          <p:nvPr/>
        </p:nvSpPr>
        <p:spPr>
          <a:xfrm>
            <a:off x="3781440" y="50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6ff"/>
                </a:solidFill>
                <a:latin typeface="Verdana"/>
              </a:rPr>
              <a:t>к л е т к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3421080" y="3330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5869080" y="465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ирув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3492360" y="393372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23229 0.30439 E">
                                      <p:cBhvr>
                                        <p:cTn id="21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42640" y="24382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ccff"/>
                </a:solidFill>
                <a:latin typeface="Verdana"/>
              </a:rPr>
              <a:t>ПВК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 – пировиноградная  кислота С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Н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4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О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C:\Users\HOME\Desktop\tmp3E1-5.jpg"/>
          <p:cNvPicPr/>
          <p:nvPr/>
        </p:nvPicPr>
        <p:blipFill>
          <a:blip r:embed="rId1"/>
          <a:stretch/>
        </p:blipFill>
        <p:spPr>
          <a:xfrm>
            <a:off x="1905120" y="4224240"/>
            <a:ext cx="511812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484360" y="981000"/>
            <a:ext cx="367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Г Л Ю К О З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745080" y="1987560"/>
            <a:ext cx="1008000" cy="722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529080" y="2708280"/>
            <a:ext cx="13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П В 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113440" y="198900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2 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753080" y="2349360"/>
            <a:ext cx="57600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 rot="13036800">
            <a:off x="3420720" y="349992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39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8"/>
          <p:cNvSpPr/>
          <p:nvPr/>
        </p:nvSpPr>
        <p:spPr>
          <a:xfrm rot="8816400">
            <a:off x="4500720" y="350028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81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188640"/>
            <a:ext cx="8883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Бр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анаэробное дых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5257800" y="2590920"/>
            <a:ext cx="3733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ли мало кислорода или организм – принципиальный анаэр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539640" y="4363920"/>
            <a:ext cx="3600720" cy="6336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Молоч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861080" y="4365720"/>
            <a:ext cx="3166920" cy="6318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Этиловый спи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252360" y="56610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Животные,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4500720" y="558792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Растения, винные дрож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921600" y="51195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лочнокис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5671800" y="5119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иртов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847440" y="34275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Р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875160" y="20606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ИКОЛ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755640" y="1700280"/>
          <a:ext cx="173844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17384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3"/>
          <p:cNvSpPr/>
          <p:nvPr/>
        </p:nvSpPr>
        <p:spPr>
          <a:xfrm>
            <a:off x="4629240" y="1528920"/>
            <a:ext cx="7668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 flipV="1">
            <a:off x="2771640" y="2204640"/>
            <a:ext cx="1295640" cy="79236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2700360" y="3645000"/>
            <a:ext cx="1224000" cy="86364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75564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ПВ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6019920" y="2819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молочная 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5867280" y="587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этиловый спи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9"/>
          <p:cNvGrpSpPr/>
          <p:nvPr/>
        </p:nvGrpSpPr>
        <p:grpSpPr>
          <a:xfrm>
            <a:off x="4140360" y="2924280"/>
            <a:ext cx="2160360" cy="3213000"/>
            <a:chOff x="4140360" y="2924280"/>
            <a:chExt cx="2160360" cy="3213000"/>
          </a:xfrm>
        </p:grpSpPr>
        <p:grpSp>
          <p:nvGrpSpPr>
            <p:cNvPr id="429" name="Group 10"/>
            <p:cNvGrpSpPr/>
            <p:nvPr/>
          </p:nvGrpSpPr>
          <p:grpSpPr>
            <a:xfrm>
              <a:off x="4140360" y="2924280"/>
              <a:ext cx="2160360" cy="3213000"/>
              <a:chOff x="4140360" y="2924280"/>
              <a:chExt cx="2160360" cy="3213000"/>
            </a:xfrm>
          </p:grpSpPr>
          <p:sp>
            <p:nvSpPr>
              <p:cNvPr id="430" name="Text Box 11"/>
              <p:cNvSpPr/>
              <p:nvPr/>
            </p:nvSpPr>
            <p:spPr>
              <a:xfrm>
                <a:off x="5724720" y="4272120"/>
                <a:ext cx="576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31" name="Object 12"/>
              <p:cNvGraphicFramePr/>
              <p:nvPr/>
            </p:nvGraphicFramePr>
            <p:xfrm>
              <a:off x="4141800" y="2968560"/>
              <a:ext cx="1736640" cy="3168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2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41800" y="2968560"/>
                        <a:ext cx="1736640" cy="31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33" name="Group 13"/>
              <p:cNvGrpSpPr/>
              <p:nvPr/>
            </p:nvGrpSpPr>
            <p:grpSpPr>
              <a:xfrm>
                <a:off x="4140360" y="2924280"/>
                <a:ext cx="1655640" cy="1584360"/>
                <a:chOff x="4140360" y="2924280"/>
                <a:chExt cx="1655640" cy="1584360"/>
              </a:xfrm>
            </p:grpSpPr>
            <p:sp>
              <p:nvSpPr>
                <p:cNvPr id="434" name="Rectangle 14"/>
                <p:cNvSpPr/>
                <p:nvPr/>
              </p:nvSpPr>
              <p:spPr>
                <a:xfrm>
                  <a:off x="5003640" y="4292640"/>
                  <a:ext cx="43164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140360" y="2924280"/>
                  <a:ext cx="1655640" cy="144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16"/>
            <p:cNvSpPr/>
            <p:nvPr/>
          </p:nvSpPr>
          <p:spPr>
            <a:xfrm>
              <a:off x="4570560" y="4221000"/>
              <a:ext cx="4334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Text Box 17"/>
          <p:cNvSpPr/>
          <p:nvPr/>
        </p:nvSpPr>
        <p:spPr>
          <a:xfrm>
            <a:off x="661680" y="33336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Verdana"/>
              </a:rPr>
              <a:t>Бр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8" descr=""/>
          <p:cNvPicPr/>
          <p:nvPr/>
        </p:nvPicPr>
        <p:blipFill>
          <a:blip r:embed="rId5"/>
          <a:stretch/>
        </p:blipFill>
        <p:spPr>
          <a:xfrm>
            <a:off x="6948360" y="333360"/>
            <a:ext cx="1881360" cy="2303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tretch/>
        </p:blipFill>
        <p:spPr>
          <a:xfrm>
            <a:off x="6948360" y="4149720"/>
            <a:ext cx="1729080" cy="152568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0"/>
          <p:cNvGrpSpPr/>
          <p:nvPr/>
        </p:nvGrpSpPr>
        <p:grpSpPr>
          <a:xfrm>
            <a:off x="4211640" y="404640"/>
            <a:ext cx="2088720" cy="3097440"/>
            <a:chOff x="4211640" y="404640"/>
            <a:chExt cx="2088720" cy="3097440"/>
          </a:xfrm>
        </p:grpSpPr>
        <p:grpSp>
          <p:nvGrpSpPr>
            <p:cNvPr id="441" name="Group 21"/>
            <p:cNvGrpSpPr/>
            <p:nvPr/>
          </p:nvGrpSpPr>
          <p:grpSpPr>
            <a:xfrm>
              <a:off x="4211640" y="404640"/>
              <a:ext cx="2088720" cy="3097440"/>
              <a:chOff x="4211640" y="404640"/>
              <a:chExt cx="2088720" cy="3097440"/>
            </a:xfrm>
          </p:grpSpPr>
          <p:sp>
            <p:nvSpPr>
              <p:cNvPr id="442" name="Text Box 22"/>
              <p:cNvSpPr/>
              <p:nvPr/>
            </p:nvSpPr>
            <p:spPr>
              <a:xfrm>
                <a:off x="5743440" y="1676880"/>
                <a:ext cx="55692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43" name="Object 23"/>
              <p:cNvGraphicFramePr/>
              <p:nvPr/>
            </p:nvGraphicFramePr>
            <p:xfrm>
              <a:off x="4211640" y="404640"/>
              <a:ext cx="1680480" cy="309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44" name="Object 2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1640" y="404640"/>
                        <a:ext cx="1680480" cy="309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5" name="Rectangle 24"/>
              <p:cNvSpPr/>
              <p:nvPr/>
            </p:nvSpPr>
            <p:spPr>
              <a:xfrm>
                <a:off x="4629240" y="1672200"/>
                <a:ext cx="76572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6" name="Text Box 25"/>
            <p:cNvSpPr/>
            <p:nvPr/>
          </p:nvSpPr>
          <p:spPr>
            <a:xfrm>
              <a:off x="4572000" y="1635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7" name="Picture 26" descr="C:\Users\HOME\Desktop\0007-007-Brozhenie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cc"/>
                </a:solidFill>
                <a:latin typeface="Arial"/>
              </a:rPr>
              <a:t>Три этапа энергетического обмен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2. Анаэробный (бескислородный)  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н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+ 2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Р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4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ДФ      2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ТФ + 2 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6172200" y="449568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val 2"/>
          <p:cNvSpPr/>
          <p:nvPr/>
        </p:nvSpPr>
        <p:spPr>
          <a:xfrm>
            <a:off x="826920" y="1844640"/>
            <a:ext cx="7705800" cy="468144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533520" y="260280"/>
            <a:ext cx="72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. Аэробный этап - кислород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820520" y="3508920"/>
            <a:ext cx="4985280" cy="3021480"/>
            <a:chOff x="1820520" y="3508920"/>
            <a:chExt cx="4985280" cy="3021480"/>
          </a:xfrm>
        </p:grpSpPr>
        <p:sp>
          <p:nvSpPr>
            <p:cNvPr id="456" name="Oval 5"/>
            <p:cNvSpPr/>
            <p:nvPr/>
          </p:nvSpPr>
          <p:spPr>
            <a:xfrm rot="498600">
              <a:off x="1967040" y="3835440"/>
              <a:ext cx="4692240" cy="236808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498600">
              <a:off x="2432160" y="4038480"/>
              <a:ext cx="3992400" cy="191196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87640" y="4311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итохон-д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084720" y="2924280"/>
            <a:ext cx="1440000" cy="5191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3635280" y="270828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3708360" y="206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Verdana"/>
              </a:rPr>
              <a:t>к л е т к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684360" y="1268280"/>
            <a:ext cx="22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5434E-006 L 0.08264 0.24555 E">
                                      <p:cBhvr>
                                        <p:cTn id="4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48555E-006 L -0.17309 0.25826 E">
                                      <p:cBhvr>
                                        <p:cTn id="59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136080" y="704880"/>
            <a:ext cx="8836560" cy="6314760"/>
            <a:chOff x="136080" y="704880"/>
            <a:chExt cx="8836560" cy="6314760"/>
          </a:xfrm>
        </p:grpSpPr>
        <p:sp>
          <p:nvSpPr>
            <p:cNvPr id="466" name="Oval 3"/>
            <p:cNvSpPr/>
            <p:nvPr/>
          </p:nvSpPr>
          <p:spPr>
            <a:xfrm rot="498600">
              <a:off x="468000" y="1267920"/>
              <a:ext cx="8172360" cy="5187960"/>
            </a:xfrm>
            <a:prstGeom prst="ellipse">
              <a:avLst/>
            </a:prstGeom>
            <a:solidFill>
              <a:srgbClr val="60e2c0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4"/>
            <p:cNvSpPr/>
            <p:nvPr/>
          </p:nvSpPr>
          <p:spPr>
            <a:xfrm>
              <a:off x="1332000" y="1685880"/>
              <a:ext cx="6872040" cy="4132440"/>
            </a:xfrm>
            <a:custGeom>
              <a:avLst/>
              <a:gdLst/>
              <a:ahLst/>
              <a:rect l="l" t="t" r="r" b="b"/>
              <a:pathLst>
                <a:path w="4329" h="2603">
                  <a:moveTo>
                    <a:pt x="314" y="456"/>
                  </a:moveTo>
                  <a:cubicBezTo>
                    <a:pt x="391" y="406"/>
                    <a:pt x="602" y="226"/>
                    <a:pt x="779" y="154"/>
                  </a:cubicBezTo>
                  <a:cubicBezTo>
                    <a:pt x="956" y="82"/>
                    <a:pt x="1133" y="49"/>
                    <a:pt x="1374" y="26"/>
                  </a:cubicBezTo>
                  <a:cubicBezTo>
                    <a:pt x="1615" y="3"/>
                    <a:pt x="2000" y="0"/>
                    <a:pt x="2224" y="17"/>
                  </a:cubicBezTo>
                  <a:cubicBezTo>
                    <a:pt x="2448" y="34"/>
                    <a:pt x="2552" y="78"/>
                    <a:pt x="2718" y="127"/>
                  </a:cubicBezTo>
                  <a:cubicBezTo>
                    <a:pt x="2884" y="176"/>
                    <a:pt x="3027" y="200"/>
                    <a:pt x="3220" y="309"/>
                  </a:cubicBezTo>
                  <a:cubicBezTo>
                    <a:pt x="3413" y="418"/>
                    <a:pt x="3802" y="642"/>
                    <a:pt x="3879" y="784"/>
                  </a:cubicBezTo>
                  <a:cubicBezTo>
                    <a:pt x="3956" y="926"/>
                    <a:pt x="3686" y="1044"/>
                    <a:pt x="3682" y="1160"/>
                  </a:cubicBezTo>
                  <a:cubicBezTo>
                    <a:pt x="3678" y="1276"/>
                    <a:pt x="3772" y="1462"/>
                    <a:pt x="3856" y="1480"/>
                  </a:cubicBezTo>
                  <a:cubicBezTo>
                    <a:pt x="3940" y="1498"/>
                    <a:pt x="4129" y="1201"/>
                    <a:pt x="4185" y="1270"/>
                  </a:cubicBezTo>
                  <a:cubicBezTo>
                    <a:pt x="4241" y="1339"/>
                    <a:pt x="4329" y="1693"/>
                    <a:pt x="4194" y="1892"/>
                  </a:cubicBezTo>
                  <a:cubicBezTo>
                    <a:pt x="4057" y="2090"/>
                    <a:pt x="3531" y="2424"/>
                    <a:pt x="3364" y="2464"/>
                  </a:cubicBezTo>
                  <a:cubicBezTo>
                    <a:pt x="3197" y="2504"/>
                    <a:pt x="3268" y="2186"/>
                    <a:pt x="3189" y="2130"/>
                  </a:cubicBezTo>
                  <a:cubicBezTo>
                    <a:pt x="3110" y="2074"/>
                    <a:pt x="2953" y="2062"/>
                    <a:pt x="2887" y="2130"/>
                  </a:cubicBezTo>
                  <a:cubicBezTo>
                    <a:pt x="2821" y="2198"/>
                    <a:pt x="2880" y="2478"/>
                    <a:pt x="2791" y="2540"/>
                  </a:cubicBezTo>
                  <a:cubicBezTo>
                    <a:pt x="2702" y="2602"/>
                    <a:pt x="2427" y="2603"/>
                    <a:pt x="2352" y="2504"/>
                  </a:cubicBezTo>
                  <a:cubicBezTo>
                    <a:pt x="2277" y="2405"/>
                    <a:pt x="2388" y="2057"/>
                    <a:pt x="2338" y="1947"/>
                  </a:cubicBezTo>
                  <a:cubicBezTo>
                    <a:pt x="2288" y="1837"/>
                    <a:pt x="2134" y="1765"/>
                    <a:pt x="2051" y="1844"/>
                  </a:cubicBezTo>
                  <a:cubicBezTo>
                    <a:pt x="1968" y="1923"/>
                    <a:pt x="1951" y="2341"/>
                    <a:pt x="1840" y="2421"/>
                  </a:cubicBezTo>
                  <a:cubicBezTo>
                    <a:pt x="1729" y="2501"/>
                    <a:pt x="1458" y="2418"/>
                    <a:pt x="1383" y="2321"/>
                  </a:cubicBezTo>
                  <a:cubicBezTo>
                    <a:pt x="1308" y="2224"/>
                    <a:pt x="1427" y="1937"/>
                    <a:pt x="1392" y="1836"/>
                  </a:cubicBezTo>
                  <a:cubicBezTo>
                    <a:pt x="1357" y="1735"/>
                    <a:pt x="1266" y="1663"/>
                    <a:pt x="1172" y="1717"/>
                  </a:cubicBezTo>
                  <a:cubicBezTo>
                    <a:pt x="1078" y="1771"/>
                    <a:pt x="980" y="2145"/>
                    <a:pt x="828" y="2159"/>
                  </a:cubicBezTo>
                  <a:cubicBezTo>
                    <a:pt x="676" y="2173"/>
                    <a:pt x="388" y="1915"/>
                    <a:pt x="258" y="1800"/>
                  </a:cubicBezTo>
                  <a:cubicBezTo>
                    <a:pt x="127" y="1684"/>
                    <a:pt x="0" y="1531"/>
                    <a:pt x="42" y="1458"/>
                  </a:cubicBezTo>
                  <a:cubicBezTo>
                    <a:pt x="84" y="1385"/>
                    <a:pt x="435" y="1433"/>
                    <a:pt x="510" y="1362"/>
                  </a:cubicBezTo>
                  <a:cubicBezTo>
                    <a:pt x="585" y="1291"/>
                    <a:pt x="563" y="1097"/>
                    <a:pt x="492" y="1032"/>
                  </a:cubicBezTo>
                  <a:cubicBezTo>
                    <a:pt x="421" y="967"/>
                    <a:pt x="109" y="1070"/>
                    <a:pt x="84" y="970"/>
                  </a:cubicBezTo>
                  <a:cubicBezTo>
                    <a:pt x="59" y="870"/>
                    <a:pt x="287" y="544"/>
                    <a:pt x="342" y="432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5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3492360" y="580536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Митохонд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95280" y="1125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3203640" y="2743200"/>
            <a:ext cx="911160" cy="38160"/>
          </a:xfrm>
          <a:prstGeom prst="line">
            <a:avLst/>
          </a:prstGeom>
          <a:ln w="76320">
            <a:solidFill>
              <a:srgbClr val="808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3124080" y="1905120"/>
            <a:ext cx="30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>
            <a:off x="5364000" y="3429000"/>
            <a:ext cx="2376720" cy="1512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6 молекул АТ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1258920" y="18900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Аэроб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L 0.14983 0.20347 E">
                                      <p:cBhvr>
                                        <p:cTn id="65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648 L 0.05521 0.06736 E">
                                      <p:cBhvr>
                                        <p:cTn id="80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7 L -0.24791 0.12069 E">
                                      <p:cBhvr>
                                        <p:cTn id="9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t-RU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3. Аэробный (кислородный)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+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6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36 АДФ + 36 Ф </a:t>
            </a: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—&gt;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6С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6 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 + </a:t>
            </a:r>
            <a:r>
              <a:rPr b="1" lang="ru-RU" sz="2900" spc="-1" strike="noStrike">
                <a:solidFill>
                  <a:srgbClr val="ffccff"/>
                </a:solidFill>
                <a:latin typeface="Verdana"/>
              </a:rPr>
              <a:t>36 АТФ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1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Narrow"/>
              </a:rPr>
              <a:t>Обмен веществ и его роль в клетке. Энергетический обмен. Синтез АТФ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лан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онятие об энергетическом обмен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АТФ, его строение и значени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Этапы энергетического обмена</a:t>
            </a:r>
            <a:r>
              <a:rPr b="0" lang="ru-RU" sz="34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24000" y="549360"/>
            <a:ext cx="1944360" cy="7095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659640" y="641520"/>
            <a:ext cx="1944720" cy="61740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Бе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421080" y="641520"/>
            <a:ext cx="2303280" cy="61740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Угле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4427640" y="1330200"/>
            <a:ext cx="360360" cy="586080"/>
          </a:xfrm>
          <a:prstGeom prst="downArrow">
            <a:avLst>
              <a:gd name="adj1" fmla="val 50000"/>
              <a:gd name="adj2" fmla="val 40659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4427640" y="2409840"/>
            <a:ext cx="360360" cy="952560"/>
          </a:xfrm>
          <a:prstGeom prst="downArrow">
            <a:avLst>
              <a:gd name="adj1" fmla="val 50000"/>
              <a:gd name="adj2" fmla="val 66084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4427640" y="3562200"/>
            <a:ext cx="360360" cy="617760"/>
          </a:xfrm>
          <a:prstGeom prst="downArrow">
            <a:avLst>
              <a:gd name="adj1" fmla="val 50000"/>
              <a:gd name="adj2" fmla="val 4285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740040" y="5979960"/>
            <a:ext cx="1695600" cy="617760"/>
          </a:xfrm>
          <a:prstGeom prst="rect">
            <a:avLst/>
          </a:prstGeom>
          <a:gradFill rotWithShape="0">
            <a:gsLst>
              <a:gs pos="0">
                <a:srgbClr val="c6c6c6"/>
              </a:gs>
              <a:gs pos="50000">
                <a:srgbClr val="dddddd"/>
              </a:gs>
              <a:gs pos="100000">
                <a:srgbClr val="c6c6c6"/>
              </a:gs>
            </a:gsLst>
            <a:lin ang="5400000"/>
          </a:gradFill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Verdana"/>
                <a:ea typeface="Tahoma"/>
              </a:rPr>
              <a:t>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4427640" y="5516640"/>
            <a:ext cx="360360" cy="39060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11"/>
          <p:cNvSpPr/>
          <p:nvPr/>
        </p:nvSpPr>
        <p:spPr>
          <a:xfrm>
            <a:off x="1476360" y="1268280"/>
            <a:ext cx="3024360" cy="1440000"/>
          </a:xfrm>
          <a:custGeom>
            <a:avLst/>
            <a:gdLst/>
            <a:ahLst/>
            <a:rect l="l" t="t" r="r" b="b"/>
            <a:pathLst>
              <a:path w="1905" h="907">
                <a:moveTo>
                  <a:pt x="0" y="0"/>
                </a:moveTo>
                <a:cubicBezTo>
                  <a:pt x="10" y="65"/>
                  <a:pt x="6" y="264"/>
                  <a:pt x="57" y="390"/>
                </a:cubicBezTo>
                <a:cubicBezTo>
                  <a:pt x="108" y="516"/>
                  <a:pt x="124" y="676"/>
                  <a:pt x="304" y="755"/>
                </a:cubicBezTo>
                <a:cubicBezTo>
                  <a:pt x="484" y="834"/>
                  <a:pt x="869" y="840"/>
                  <a:pt x="1136" y="865"/>
                </a:cubicBezTo>
                <a:cubicBezTo>
                  <a:pt x="1403" y="890"/>
                  <a:pt x="1745" y="898"/>
                  <a:pt x="1905" y="907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68360" y="1700280"/>
            <a:ext cx="2154240" cy="63828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Глице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Freeform 13"/>
          <p:cNvSpPr/>
          <p:nvPr/>
        </p:nvSpPr>
        <p:spPr>
          <a:xfrm>
            <a:off x="539640" y="1268280"/>
            <a:ext cx="2871720" cy="2094120"/>
          </a:xfrm>
          <a:custGeom>
            <a:avLst/>
            <a:gdLst/>
            <a:ahLst/>
            <a:rect l="l" t="t" r="r" b="b"/>
            <a:pathLst>
              <a:path w="1809" h="1319">
                <a:moveTo>
                  <a:pt x="0" y="0"/>
                </a:moveTo>
                <a:cubicBezTo>
                  <a:pt x="39" y="146"/>
                  <a:pt x="142" y="670"/>
                  <a:pt x="236" y="874"/>
                </a:cubicBezTo>
                <a:cubicBezTo>
                  <a:pt x="330" y="1078"/>
                  <a:pt x="425" y="1150"/>
                  <a:pt x="565" y="1222"/>
                </a:cubicBezTo>
                <a:cubicBezTo>
                  <a:pt x="705" y="1294"/>
                  <a:pt x="870" y="1289"/>
                  <a:pt x="1077" y="1304"/>
                </a:cubicBezTo>
                <a:cubicBezTo>
                  <a:pt x="1284" y="1319"/>
                  <a:pt x="1657" y="1311"/>
                  <a:pt x="1809" y="1313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468360" y="2779560"/>
            <a:ext cx="1800000" cy="11541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5"/>
          <p:cNvSpPr/>
          <p:nvPr/>
        </p:nvSpPr>
        <p:spPr>
          <a:xfrm>
            <a:off x="5994360" y="1268280"/>
            <a:ext cx="1496880" cy="1968480"/>
          </a:xfrm>
          <a:custGeom>
            <a:avLst/>
            <a:gdLst/>
            <a:ahLst/>
            <a:rect l="l" t="t" r="r" b="b"/>
            <a:pathLst>
              <a:path w="943" h="1240">
                <a:moveTo>
                  <a:pt x="919" y="0"/>
                </a:moveTo>
                <a:cubicBezTo>
                  <a:pt x="920" y="74"/>
                  <a:pt x="928" y="301"/>
                  <a:pt x="923" y="444"/>
                </a:cubicBezTo>
                <a:cubicBezTo>
                  <a:pt x="918" y="587"/>
                  <a:pt x="943" y="745"/>
                  <a:pt x="887" y="856"/>
                </a:cubicBezTo>
                <a:cubicBezTo>
                  <a:pt x="831" y="967"/>
                  <a:pt x="733" y="1048"/>
                  <a:pt x="585" y="1112"/>
                </a:cubicBezTo>
                <a:cubicBezTo>
                  <a:pt x="437" y="1176"/>
                  <a:pt x="122" y="1213"/>
                  <a:pt x="0" y="1240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5283360" y="2849400"/>
            <a:ext cx="2307960" cy="1795680"/>
          </a:xfrm>
          <a:custGeom>
            <a:avLst/>
            <a:gdLst/>
            <a:ahLst/>
            <a:rect l="l" t="t" r="r" b="b"/>
            <a:pathLst>
              <a:path w="1454" h="1131">
                <a:moveTo>
                  <a:pt x="1454" y="34"/>
                </a:moveTo>
                <a:cubicBezTo>
                  <a:pt x="1439" y="39"/>
                  <a:pt x="1379" y="0"/>
                  <a:pt x="1362" y="61"/>
                </a:cubicBezTo>
                <a:cubicBezTo>
                  <a:pt x="1345" y="122"/>
                  <a:pt x="1367" y="282"/>
                  <a:pt x="1353" y="399"/>
                </a:cubicBezTo>
                <a:cubicBezTo>
                  <a:pt x="1339" y="516"/>
                  <a:pt x="1344" y="667"/>
                  <a:pt x="1280" y="765"/>
                </a:cubicBezTo>
                <a:cubicBezTo>
                  <a:pt x="1216" y="863"/>
                  <a:pt x="1182" y="923"/>
                  <a:pt x="969" y="984"/>
                </a:cubicBezTo>
                <a:cubicBezTo>
                  <a:pt x="756" y="1045"/>
                  <a:pt x="202" y="1101"/>
                  <a:pt x="0" y="1131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6804000" y="2205000"/>
            <a:ext cx="2016000" cy="129528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мино-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18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484360" cy="2238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9"/>
          <p:cNvSpPr/>
          <p:nvPr/>
        </p:nvSpPr>
        <p:spPr>
          <a:xfrm>
            <a:off x="3421080" y="1720800"/>
            <a:ext cx="230328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Сах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3348000" y="3027240"/>
            <a:ext cx="259092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цетил-Ко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2317680" cy="2349360"/>
          </a:xfrm>
          <a:prstGeom prst="rect">
            <a:avLst/>
          </a:prstGeom>
          <a:ln w="0">
            <a:noFill/>
          </a:ln>
        </p:spPr>
      </p:pic>
      <p:sp>
        <p:nvSpPr>
          <p:cNvPr id="500" name="Line 22"/>
          <p:cNvSpPr/>
          <p:nvPr/>
        </p:nvSpPr>
        <p:spPr>
          <a:xfrm flipH="1">
            <a:off x="4787640" y="2708280"/>
            <a:ext cx="2089080" cy="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480" y="1159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ТФ в циф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7280" y="90972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жизни – несколько секу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затрачива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300 ккал энергии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надо расщепить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66 к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амом деле в организме содержится только ~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50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каждая молекула АТФ должна вновь синтезироваться 166 кг : 50 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32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2484360" y="59500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Т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cc"/>
                </a:solidFill>
                <a:latin typeface="Garamond"/>
              </a:rPr>
              <a:t>По способу питания организмы делятся н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Авт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, питающиеся за счет не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Гетер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 питающиеся за счет 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8f8f8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ffcc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сщепление в клетке 1 молекулы глюкозы до оксида углерода (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  <a:ea typeface="Arial"/>
              </a:rPr>
              <a:t>IV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лучение энергии живыми существами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3" name="Picture 4" descr="C:\Users\HOME\Desktop\0004-004-Sposoby-poluchenija-energii-zhivymi-suschestvami.jpg"/>
          <p:cNvPicPr/>
          <p:nvPr/>
        </p:nvPicPr>
        <p:blipFill>
          <a:blip r:embed="rId1"/>
          <a:stretch/>
        </p:blipFill>
        <p:spPr>
          <a:xfrm>
            <a:off x="762120" y="914400"/>
            <a:ext cx="7157880" cy="536904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                  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Метаболиз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6" name="Picture 2" descr="C:\Users\HOME\Desktop\0003-003-Metabolizm.jpg"/>
          <p:cNvPicPr/>
          <p:nvPr/>
        </p:nvPicPr>
        <p:blipFill>
          <a:blip r:embed="rId1"/>
          <a:stretch/>
        </p:blipFill>
        <p:spPr>
          <a:xfrm>
            <a:off x="990720" y="914400"/>
            <a:ext cx="7059600" cy="529416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C:\Users\HOME\Desktop\Новая папка (3)\0007-007-Sravnitelnaja-tablitsa.jpg"/>
          <p:cNvPicPr/>
          <p:nvPr/>
        </p:nvPicPr>
        <p:blipFill>
          <a:blip r:embed="rId1"/>
          <a:stretch/>
        </p:blipFill>
        <p:spPr>
          <a:xfrm>
            <a:off x="457200" y="15228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Энергетический обмен </a:t>
            </a:r>
            <a:r>
              <a:rPr b="1" i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(диссимиляция)</a:t>
            </a:r>
            <a:r>
              <a:rPr b="0" i="1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5904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АТФ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– универсальный источник энергии в клет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684360" y="1557360"/>
            <a:ext cx="7812000" cy="4131720"/>
            <a:chOff x="684360" y="1557360"/>
            <a:chExt cx="7812000" cy="4131720"/>
          </a:xfrm>
        </p:grpSpPr>
        <p:grpSp>
          <p:nvGrpSpPr>
            <p:cNvPr id="332" name="Group 4"/>
            <p:cNvGrpSpPr/>
            <p:nvPr/>
          </p:nvGrpSpPr>
          <p:grpSpPr>
            <a:xfrm>
              <a:off x="684360" y="1557360"/>
              <a:ext cx="7812000" cy="3743280"/>
              <a:chOff x="684360" y="1557360"/>
              <a:chExt cx="7812000" cy="374328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1"/>
              <a:srcRect l="0" t="0" r="34894" b="53822"/>
              <a:stretch/>
            </p:blipFill>
            <p:spPr>
              <a:xfrm>
                <a:off x="684360" y="1557360"/>
                <a:ext cx="7812000" cy="37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Rectangle 6"/>
              <p:cNvSpPr/>
              <p:nvPr/>
            </p:nvSpPr>
            <p:spPr>
              <a:xfrm>
                <a:off x="6732720" y="3789360"/>
                <a:ext cx="1152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Text Box 7"/>
            <p:cNvSpPr/>
            <p:nvPr/>
          </p:nvSpPr>
          <p:spPr>
            <a:xfrm>
              <a:off x="5580000" y="162864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Адени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8"/>
            <p:cNvSpPr/>
            <p:nvPr/>
          </p:nvSpPr>
          <p:spPr>
            <a:xfrm>
              <a:off x="4932360" y="522936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Рибоз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9"/>
            <p:cNvSpPr/>
            <p:nvPr/>
          </p:nvSpPr>
          <p:spPr>
            <a:xfrm>
              <a:off x="1042920" y="1989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Три фосфа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116000" y="4221000"/>
              <a:ext cx="27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Text Box 11"/>
          <p:cNvSpPr/>
          <p:nvPr/>
        </p:nvSpPr>
        <p:spPr>
          <a:xfrm>
            <a:off x="468360" y="5229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Макроэргические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12"/>
          <p:cNvSpPr/>
          <p:nvPr/>
        </p:nvSpPr>
        <p:spPr>
          <a:xfrm>
            <a:off x="1547640" y="3429000"/>
            <a:ext cx="28764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3"/>
          <p:cNvSpPr/>
          <p:nvPr/>
        </p:nvSpPr>
        <p:spPr>
          <a:xfrm>
            <a:off x="2556000" y="3429000"/>
            <a:ext cx="28728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 flipV="1">
            <a:off x="1692360" y="3573000"/>
            <a:ext cx="576000" cy="158436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 flipV="1">
            <a:off x="2268360" y="3500280"/>
            <a:ext cx="432000" cy="165744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 Narrow"/>
              </a:rPr>
              <a:t>Состав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3276720" y="1219320"/>
            <a:ext cx="251460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2209320" y="198108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495680" y="2362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5715000" y="1981080"/>
            <a:ext cx="10666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228600" y="2971800"/>
            <a:ext cx="266688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д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200400" y="3429000"/>
            <a:ext cx="259092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6477120" y="2819520"/>
            <a:ext cx="243828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РО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 Narrow"/>
              </a:rPr>
              <a:t>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ТФ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ДФ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3733920" y="25909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труктура АТФ. 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2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4734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4800" y="259920"/>
            <a:ext cx="4957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15920"/>
            <a:ext cx="2181240" cy="30258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4"/>
          <p:cNvGrpSpPr/>
          <p:nvPr/>
        </p:nvGrpSpPr>
        <p:grpSpPr>
          <a:xfrm>
            <a:off x="250920" y="3433680"/>
            <a:ext cx="4032000" cy="3423960"/>
            <a:chOff x="250920" y="3433680"/>
            <a:chExt cx="4032000" cy="3423960"/>
          </a:xfrm>
        </p:grpSpPr>
        <p:pic>
          <p:nvPicPr>
            <p:cNvPr id="364" name="Picture 5" descr=""/>
            <p:cNvPicPr/>
            <p:nvPr/>
          </p:nvPicPr>
          <p:blipFill>
            <a:blip r:embed="rId2"/>
            <a:srcRect l="0" t="0" r="0" b="2571"/>
            <a:stretch/>
          </p:blipFill>
          <p:spPr>
            <a:xfrm>
              <a:off x="250920" y="3433680"/>
              <a:ext cx="4032000" cy="34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"/>
            <p:cNvPicPr/>
            <p:nvPr/>
          </p:nvPicPr>
          <p:blipFill>
            <a:blip r:embed="rId3"/>
            <a:stretch/>
          </p:blipFill>
          <p:spPr>
            <a:xfrm>
              <a:off x="1906200" y="4296960"/>
              <a:ext cx="21564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7" descr=""/>
            <p:cNvPicPr/>
            <p:nvPr/>
          </p:nvPicPr>
          <p:blipFill>
            <a:blip r:embed="rId4"/>
            <a:stretch/>
          </p:blipFill>
          <p:spPr>
            <a:xfrm>
              <a:off x="3058920" y="5594040"/>
              <a:ext cx="2869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" descr=""/>
            <p:cNvPicPr/>
            <p:nvPr/>
          </p:nvPicPr>
          <p:blipFill>
            <a:blip r:embed="rId5"/>
            <a:stretch/>
          </p:blipFill>
          <p:spPr>
            <a:xfrm>
              <a:off x="1547640" y="4802040"/>
              <a:ext cx="215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9" descr=""/>
            <p:cNvPicPr/>
            <p:nvPr/>
          </p:nvPicPr>
          <p:blipFill>
            <a:blip r:embed="rId6"/>
            <a:stretch/>
          </p:blipFill>
          <p:spPr>
            <a:xfrm>
              <a:off x="971280" y="4225680"/>
              <a:ext cx="21564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AutoShape 10"/>
          <p:cNvSpPr/>
          <p:nvPr/>
        </p:nvSpPr>
        <p:spPr>
          <a:xfrm rot="5400000">
            <a:off x="2159640" y="2959920"/>
            <a:ext cx="718920" cy="647640"/>
          </a:xfrm>
          <a:custGeom>
            <a:avLst/>
            <a:gdLst>
              <a:gd name="textAreaLeft" fmla="*/ 112320 w 718920"/>
              <a:gd name="textAreaRight" fmla="*/ 549000 w 718920"/>
              <a:gd name="textAreaTop" fmla="*/ 133200 h 647640"/>
              <a:gd name="textAreaBottom" fmla="*/ 514440 h 647640"/>
            </a:gdLst>
            <a:ahLst/>
            <a:rect l="textAreaLeft" t="textAreaTop" r="textAreaRight" b="textAreaBottom"/>
            <a:pathLst>
              <a:path w="21600" h="21600">
                <a:moveTo>
                  <a:pt x="12921" y="0"/>
                </a:moveTo>
                <a:lnTo>
                  <a:pt x="12921" y="4447"/>
                </a:lnTo>
                <a:lnTo>
                  <a:pt x="3375" y="4447"/>
                </a:lnTo>
                <a:lnTo>
                  <a:pt x="3375" y="17153"/>
                </a:lnTo>
                <a:lnTo>
                  <a:pt x="12921" y="17153"/>
                </a:lnTo>
                <a:lnTo>
                  <a:pt x="12921" y="21600"/>
                </a:lnTo>
                <a:lnTo>
                  <a:pt x="21600" y="10800"/>
                </a:lnTo>
                <a:lnTo>
                  <a:pt x="12921" y="0"/>
                </a:lnTo>
                <a:close/>
              </a:path>
              <a:path w="21600" h="21600">
                <a:moveTo>
                  <a:pt x="1350" y="4447"/>
                </a:moveTo>
                <a:lnTo>
                  <a:pt x="1350" y="17153"/>
                </a:lnTo>
                <a:lnTo>
                  <a:pt x="2700" y="17153"/>
                </a:lnTo>
                <a:lnTo>
                  <a:pt x="2700" y="4447"/>
                </a:lnTo>
                <a:lnTo>
                  <a:pt x="1350" y="4447"/>
                </a:lnTo>
                <a:close/>
              </a:path>
              <a:path w="21600" h="21600">
                <a:moveTo>
                  <a:pt x="0" y="4447"/>
                </a:moveTo>
                <a:lnTo>
                  <a:pt x="0" y="17153"/>
                </a:lnTo>
                <a:lnTo>
                  <a:pt x="675" y="17153"/>
                </a:lnTo>
                <a:lnTo>
                  <a:pt x="675" y="4447"/>
                </a:lnTo>
                <a:lnTo>
                  <a:pt x="0" y="4447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 flipH="1">
            <a:off x="2556000" y="260280"/>
            <a:ext cx="1079280" cy="64764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716360" y="1700280"/>
            <a:ext cx="42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050920" y="24922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427640" y="3860640"/>
            <a:ext cx="471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076720" y="51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хема этапов энергетического об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Untitled-Scanned-01"/>
          <p:cNvPicPr/>
          <p:nvPr/>
        </p:nvPicPr>
        <p:blipFill>
          <a:blip r:embed="rId1"/>
          <a:stretch/>
        </p:blipFill>
        <p:spPr>
          <a:xfrm>
            <a:off x="1447920" y="1066680"/>
            <a:ext cx="6634080" cy="55533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яшина Н.Л.</dc:creator>
  <dc:description/>
  <dc:language>en-US</dc:language>
  <cp:lastModifiedBy>LEGION</cp:lastModifiedBy>
  <dcterms:modified xsi:type="dcterms:W3CDTF">2015-11-27T10:45:50Z</dcterms:modified>
  <cp:revision>182</cp:revision>
  <dc:subject>Цитология</dc:subject>
  <dc:title>Энергетический обм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