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302F-CFC8-4B6D-9D24-D445D33683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F8B2-7ACA-47DE-8CE9-2A0CDBA3B3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1B84-D155-409B-85A2-0EB8FA3C00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4CCD-6EA3-4330-9939-F748738609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8477-4134-4367-A143-36DDC545E2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FCEE-3241-4312-A145-D1A70EE683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Кин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E973-79B4-4EA4-A5F6-8BAEEF3085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ин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469E-4F69-4D3C-8238-61CF6AF089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D38F-F3F5-4539-9EB7-D34C851A12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DAE7-C183-42EA-BE43-EFC90609A1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7CEF-FA34-4A3F-86A0-DE77ACE47A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8428-0FC0-4E6C-AD9D-AA0641DA7F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4D6F-486B-41C1-B04D-7E5E86C06A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кратические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гед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: обоснование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одор: аморал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гесий: пессим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никерид: гедонистический 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н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аске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сфен: обоснование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: практика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: критика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линис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эвдем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о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автаркия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076E-E133-45F5-9E8D-9DA072AF54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1C07-904C-40C2-B641-6B533C2A2F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6CAA-EF5F-4516-8B48-6958CE5857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189E-D39B-4C83-B9F8-54E98E1479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О природе </a:t>
            </a: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(не сохр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Письмо к Герод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Письмо к Менеке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Главные мысли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ит Лукреций Кар. О природе вещ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B73C-1D69-4166-A03D-74851478EF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4388-3535-4804-94FA-5315A9D4A3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8A22-E73F-4FD7-A40A-7E8B719559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BAB9-5435-4560-8E40-37FA1A321C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B1A3-8592-43B2-9F37-78E45DD6DB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F446-4783-4186-9701-605B68B6A5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Нравственные письма к Луцил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благодея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Рассуждения о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блаженной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скоротечности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провиден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тет. Беседы 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записаны Ф. Аррианом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рк Аврелий. К самому себ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2A94-0BFE-43C0-BA68-CC737095FE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кратические школы и их преем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572F-ECDC-41F7-943A-1119D66396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8A23-334F-49D2-B26B-21C21C7153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CCE3-00E2-441B-80E1-6EBF78D3DB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44AD-EA1C-463B-A000-39B21EEC45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1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FDBC-B5D7-4A1D-B2DA-1C86968349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838B-F52C-4EE0-BBF5-46B4ACEFAD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фины – центр греческой философ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56D4-DABD-4DC5-9D1B-B8E44323DB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3E49-3E3F-4F3B-8995-8C595BA97C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ирена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2409-9AF2-4C6B-A9B9-FC8C9F79B1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ристипп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1953-B1B5-44ED-81A4-082FEC0672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одо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морал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485B-165C-4E2B-AEC7-B80F4EE14C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30B-31D0-4511-909E-EA48DFD4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D97D-FF18-4527-9BD6-969E7CE9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CC0-EE9F-4EED-A34D-F146E472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5E1-8DDF-472F-860A-62FC7D08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6F8-C62B-41DC-9E74-E3255E6D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B91-1430-4F2B-AECD-DB8D26F4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C12D-BAF1-49D2-AB1D-C82B0FF4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E26-894B-43B3-84D1-D041ABAA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28D-CC10-40B7-A0A7-B4129099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747-67C4-40AD-8B39-2C223EE1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00C-A6EA-48A7-9E17-17BC66C0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C6E-59F8-4562-BEF7-02CC9331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DC8D-CD0E-4130-86E3-C6A7344CF0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00" y="2714400"/>
            <a:ext cx="8561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flipH="1" flipV="1">
            <a:off x="178920" y="1797840"/>
            <a:ext cx="8637840" cy="37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какую избрать нам дорогу? В общественном мес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Тяжбы, да спор о делах, дома – своя сует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льская жизнь многотрудна; тревоги полно мореходств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трашно в чужих нам краях, если имеем мы ч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нет ничего – много горя; женатым забот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Не миновать, холостым – дни одиноко влачит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и – обуза, бездетная жизнь неполна; в молодёж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Благоразумия нет, старость седая сла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о, одно лишь из двух остаётся нам, смертным, на выбор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Иль не родиться совсем, или скорей умере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760360" y="5937120"/>
            <a:ext cx="2696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идипп, «О жизни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3994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29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183528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755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250920" y="136692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ь, полная удовольств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полне возможна, ес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водить удовольств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телесным наслажд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1330200" y="2446200"/>
            <a:ext cx="431820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Признание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слажден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ширяет самы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уг возможных удоволь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2409840" y="352584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Удовлетворение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 не связано 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чтожением того, что нуж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их удовлетв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3489480" y="46054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, удовлетвор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и духовные потребности, 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лишаем други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редств д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4570560" y="568476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В отличие от телесны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ые наслажд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коротеч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 flipH="1" flipV="1">
            <a:off x="178920" y="1797840"/>
            <a:ext cx="8637840" cy="37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любая годится дорога. В общественном мес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лава и мудрость в делах, дома – покой от трудов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ёлах – природы благие дары, в мореплаванье – прибыл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В крае чужом нам почёт, если имеем мы ч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нет ничего, мы одни это знаем; женитьб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Красит очаг, холостым – более лёгкая жизн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и – отрада, бездетная жизнь без забот. Молодёж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ила дана, старики благочестивы душ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все не нужно одно нам из двух выбирать – не род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Или скорей умереть; всякая доля благ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759640" y="5937120"/>
            <a:ext cx="2696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родор, «О жизни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ин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046880" y="3814920"/>
            <a:ext cx="1657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35- ок. 3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307320" y="3814920"/>
            <a:ext cx="2535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оген Синопский</a:t>
            </a:r>
            <a:br>
              <a:rPr sz="20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04 - 3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185880" y="3814920"/>
            <a:ext cx="2576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тет Фиванский </a:t>
            </a:r>
            <a:br>
              <a:rPr sz="20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39640" y="5073480"/>
            <a:ext cx="2519640" cy="1187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низ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κύων</a:t>
            </a:r>
            <a:r>
              <a:rPr b="1" lang="ru-RU" sz="1800" spc="-1" strike="noStrike">
                <a:solidFill>
                  <a:srgbClr val="66ff33"/>
                </a:solidFill>
                <a:latin typeface="Arial Unicode MS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ёс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κυ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ν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ό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598920" y="4678200"/>
            <a:ext cx="496548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скет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άσκητής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пражняющийс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поведующее самоотречение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авление чувственных влечений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о достижения высшего б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Антисфен (red)"/>
          <p:cNvPicPr/>
          <p:nvPr/>
        </p:nvPicPr>
        <p:blipFill>
          <a:blip r:embed="rId1"/>
          <a:stretch/>
        </p:blipFill>
        <p:spPr>
          <a:xfrm>
            <a:off x="1079640" y="1511280"/>
            <a:ext cx="1562040" cy="2247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Диоген (Рим, Капитолийский музей - red)"/>
          <p:cNvPicPr/>
          <p:nvPr/>
        </p:nvPicPr>
        <p:blipFill>
          <a:blip r:embed="rId2"/>
          <a:stretch/>
        </p:blipFill>
        <p:spPr>
          <a:xfrm>
            <a:off x="3525840" y="1511280"/>
            <a:ext cx="2085840" cy="2247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Кратет (Джорджано - red)"/>
          <p:cNvPicPr/>
          <p:nvPr/>
        </p:nvPicPr>
        <p:blipFill>
          <a:blip r:embed="rId3"/>
          <a:stretch/>
        </p:blipFill>
        <p:spPr>
          <a:xfrm>
            <a:off x="6332400" y="1511280"/>
            <a:ext cx="2143440" cy="224784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н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5802480" y="251784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719280" y="1654200"/>
            <a:ext cx="4425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счастье зависит о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потреб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 достижимее, ч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ьше у нас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1798560" y="2914560"/>
            <a:ext cx="4426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Кратчайший и вернейший п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частью лежит поэтому чере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ение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2878200" y="4173480"/>
            <a:ext cx="4425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таком ограничении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возможного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требности п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й части искусствен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3957480" y="5433840"/>
            <a:ext cx="4426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 меньше наши нужды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ьше наша зависимость от друг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 и внешних обстоятельст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 больше наша св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" descr="Антисфен (сидит)"/>
          <p:cNvPicPr/>
          <p:nvPr/>
        </p:nvPicPr>
        <p:blipFill>
          <a:blip r:embed="rId1"/>
          <a:stretch/>
        </p:blipFill>
        <p:spPr>
          <a:xfrm>
            <a:off x="179280" y="3670200"/>
            <a:ext cx="1629000" cy="30290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5668560" y="5757840"/>
            <a:ext cx="229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жон Уотерхаус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оген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" descr="waterhouse_diogenes [Athen]_red08"/>
          <p:cNvPicPr/>
          <p:nvPr/>
        </p:nvPicPr>
        <p:blipFill>
          <a:blip r:embed="rId1"/>
          <a:stretch/>
        </p:blipFill>
        <p:spPr>
          <a:xfrm>
            <a:off x="1079640" y="1546200"/>
            <a:ext cx="3276360" cy="504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999680" y="5757840"/>
            <a:ext cx="29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Пуссен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йзаж с Диоген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poussin_landscape_with_diogenes"/>
          <p:cNvPicPr/>
          <p:nvPr/>
        </p:nvPicPr>
        <p:blipFill>
          <a:blip r:embed="rId1"/>
          <a:stretch/>
        </p:blipFill>
        <p:spPr>
          <a:xfrm>
            <a:off x="1295280" y="1690560"/>
            <a:ext cx="6578640" cy="476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6982200" y="5757840"/>
            <a:ext cx="17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оген 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лександ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Диоген и Александр (блюдо из Урбино - red)"/>
          <p:cNvPicPr/>
          <p:nvPr/>
        </p:nvPicPr>
        <p:blipFill>
          <a:blip r:embed="rId1"/>
          <a:stretch/>
        </p:blipFill>
        <p:spPr>
          <a:xfrm>
            <a:off x="2085840" y="1619280"/>
            <a:ext cx="4972320" cy="496260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 flipH="1" flipV="1">
            <a:off x="2805480" y="1690560"/>
            <a:ext cx="611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я, что смертным родилс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тарайся питать свою душ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адостной негой пиров,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сле смерти ведь нет нам отрад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ах обратился и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Ниневии великий властител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с собой и унёс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что выпил и съел и что взя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й от любви; вся же роскош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моя и богатство осталис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ости это житей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моё поучение люд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81440" y="4857840"/>
            <a:ext cx="2937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ерил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а гроб Сарданапала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50920"/>
            <a:ext cx="822960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кратические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гед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: обоснование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одор: аморал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гесий: пессим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никерид: гедонистический 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н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аске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сфен: обоснование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: практика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: критика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линис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эвдем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о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автаркия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Кратет (Джорджано - red)"/>
          <p:cNvPicPr/>
          <p:nvPr/>
        </p:nvPicPr>
        <p:blipFill>
          <a:blip r:embed="rId1"/>
          <a:stretch/>
        </p:blipFill>
        <p:spPr>
          <a:xfrm>
            <a:off x="466560" y="1690560"/>
            <a:ext cx="2143440" cy="2248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 flipH="1" flipV="1">
            <a:off x="2805480" y="1690560"/>
            <a:ext cx="611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я, что смертным родилс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старайся питать свою душ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адостью мудрых речей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не в еде для души ведь отрад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алок я, евший так м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и так наслаждавшийся в жизни!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с собой и унёс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что ум мой познал и что муз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ли прекрасного мне;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все же прочие блага остали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10520" y="4678200"/>
            <a:ext cx="2936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 Фиванский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одия на эпиграмму-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тафию Херила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2374920" y="5218200"/>
            <a:ext cx="4390920" cy="1403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вдемон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εύδαιμονία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часть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 утверждаю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цель жизни – счаст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827280" y="4317840"/>
            <a:ext cx="109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41-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2986200" y="4317840"/>
            <a:ext cx="1250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ма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4895280" y="4317840"/>
            <a:ext cx="1442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ро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30-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8"/>
          <p:cNvSpPr/>
          <p:nvPr/>
        </p:nvSpPr>
        <p:spPr>
          <a:xfrm>
            <a:off x="6689880" y="4317840"/>
            <a:ext cx="242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99-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9" descr="Rubens, The Four Philosophers - Bust of Seneca (auto)"/>
          <p:cNvPicPr/>
          <p:nvPr/>
        </p:nvPicPr>
        <p:blipFill>
          <a:blip r:embed="rId1"/>
          <a:stretch/>
        </p:blipFill>
        <p:spPr>
          <a:xfrm>
            <a:off x="7197840" y="1690560"/>
            <a:ext cx="1514520" cy="2411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3" descr="Эпикур (Рим - Капитолийский музей - red3)"/>
          <p:cNvPicPr/>
          <p:nvPr/>
        </p:nvPicPr>
        <p:blipFill>
          <a:blip r:embed="rId2"/>
          <a:stretch/>
        </p:blipFill>
        <p:spPr>
          <a:xfrm>
            <a:off x="358920" y="1690560"/>
            <a:ext cx="2022480" cy="2521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1" descr="Гермарх (Рим - Ватиканский музей - red)"/>
          <p:cNvPicPr/>
          <p:nvPr/>
        </p:nvPicPr>
        <p:blipFill>
          <a:blip r:embed="rId3"/>
          <a:stretch/>
        </p:blipFill>
        <p:spPr>
          <a:xfrm>
            <a:off x="2949480" y="1690560"/>
            <a:ext cx="1252800" cy="2414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3" descr="Метродор (Париж, Лувр - red)"/>
          <p:cNvPicPr/>
          <p:nvPr/>
        </p:nvPicPr>
        <p:blipFill>
          <a:blip r:embed="rId4"/>
          <a:stretch/>
        </p:blipFill>
        <p:spPr>
          <a:xfrm>
            <a:off x="4786200" y="1690560"/>
            <a:ext cx="1681200" cy="2411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0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5802480" y="255420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4"/>
          <p:cNvSpPr/>
          <p:nvPr/>
        </p:nvSpPr>
        <p:spPr>
          <a:xfrm>
            <a:off x="5076720" y="4076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4504680" y="4281480"/>
            <a:ext cx="907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6"/>
          <p:cNvSpPr/>
          <p:nvPr/>
        </p:nvSpPr>
        <p:spPr>
          <a:xfrm>
            <a:off x="511020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7"/>
          <p:cNvSpPr/>
          <p:nvPr/>
        </p:nvSpPr>
        <p:spPr>
          <a:xfrm>
            <a:off x="5225400" y="3022560"/>
            <a:ext cx="1142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мп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8"/>
          <p:cNvSpPr/>
          <p:nvPr/>
        </p:nvSpPr>
        <p:spPr>
          <a:xfrm>
            <a:off x="507672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5261400" y="3417840"/>
            <a:ext cx="12992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т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58920" y="3057480"/>
            <a:ext cx="431784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О природе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не сох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Письмо к Герод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Письмо к Менеке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Главные мысли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. О природе ве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719280" y="197820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Эпикур (Рим - Капитолийский музей - red3)"/>
          <p:cNvPicPr/>
          <p:nvPr/>
        </p:nvPicPr>
        <p:blipFill>
          <a:blip r:embed="rId1"/>
          <a:stretch/>
        </p:blipFill>
        <p:spPr>
          <a:xfrm>
            <a:off x="4749840" y="1978200"/>
            <a:ext cx="2022480" cy="25207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5253120" y="4678200"/>
            <a:ext cx="109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41-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9" descr="Rubens, The Four Philosophers - Bust of Seneca (auto)"/>
          <p:cNvPicPr/>
          <p:nvPr/>
        </p:nvPicPr>
        <p:blipFill>
          <a:blip r:embed="rId2"/>
          <a:stretch/>
        </p:blipFill>
        <p:spPr>
          <a:xfrm>
            <a:off x="7124760" y="2770200"/>
            <a:ext cx="1514520" cy="24112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0"/>
          <p:cNvSpPr/>
          <p:nvPr/>
        </p:nvSpPr>
        <p:spPr>
          <a:xfrm>
            <a:off x="6618600" y="5433840"/>
            <a:ext cx="242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99-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83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5" descr="Pain-cont"/>
          <p:cNvPicPr/>
          <p:nvPr/>
        </p:nvPicPr>
        <p:blipFill>
          <a:blip r:embed="rId1"/>
          <a:stretch/>
        </p:blipFill>
        <p:spPr>
          <a:xfrm>
            <a:off x="6548400" y="4605480"/>
            <a:ext cx="1471680" cy="1619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12"/>
          <p:cNvSpPr/>
          <p:nvPr/>
        </p:nvSpPr>
        <p:spPr>
          <a:xfrm>
            <a:off x="6116760" y="4317840"/>
            <a:ext cx="251928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ерывная бо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лговременн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затяжные немо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авляют пло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слажд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б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23328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ахи –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ины несчас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39640" y="305748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 перед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б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179856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AutoShape 7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1" name="AutoShape 8"/>
          <p:cNvCxnSpPr/>
          <p:nvPr/>
        </p:nvCxnSpPr>
        <p:spPr>
          <a:xfrm>
            <a:off x="179820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2" name="AutoShape 9"/>
          <p:cNvCxnSpPr/>
          <p:nvPr/>
        </p:nvCxnSpPr>
        <p:spPr>
          <a:xfrm>
            <a:off x="737712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3" name="AutoShape 10"/>
          <p:cNvSpPr/>
          <p:nvPr/>
        </p:nvSpPr>
        <p:spPr>
          <a:xfrm>
            <a:off x="539640" y="4317840"/>
            <a:ext cx="251964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и – сущ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смертны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же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ие ни с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бот не име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друг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доставля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3327480" y="4317840"/>
            <a:ext cx="251928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 не име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м ник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: пок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есть, смер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щё нет, а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 наступ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нас уже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3"/>
          <p:cNvSpPr/>
          <p:nvPr/>
        </p:nvSpPr>
        <p:spPr>
          <a:xfrm>
            <a:off x="302256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4"/>
          <p:cNvSpPr/>
          <p:nvPr/>
        </p:nvSpPr>
        <p:spPr>
          <a:xfrm>
            <a:off x="332748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5"/>
          <p:cNvSpPr/>
          <p:nvPr/>
        </p:nvSpPr>
        <p:spPr>
          <a:xfrm>
            <a:off x="581184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611676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 перед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трад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AutoShape 19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20" name="Line 20"/>
          <p:cNvSpPr/>
          <p:nvPr/>
        </p:nvSpPr>
        <p:spPr>
          <a:xfrm>
            <a:off x="458784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1" descr="Zeus"/>
          <p:cNvPicPr/>
          <p:nvPr/>
        </p:nvPicPr>
        <p:blipFill>
          <a:blip r:embed="rId2"/>
          <a:stretch/>
        </p:blipFill>
        <p:spPr>
          <a:xfrm>
            <a:off x="539640" y="647640"/>
            <a:ext cx="1127160" cy="1619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Death (2)"/>
          <p:cNvPicPr/>
          <p:nvPr/>
        </p:nvPicPr>
        <p:blipFill>
          <a:blip r:embed="rId3"/>
          <a:stretch/>
        </p:blipFill>
        <p:spPr>
          <a:xfrm>
            <a:off x="7664400" y="647640"/>
            <a:ext cx="752400" cy="161928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4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6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8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77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5" dur="770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7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9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"/>
          <p:cNvSpPr/>
          <p:nvPr/>
        </p:nvSpPr>
        <p:spPr>
          <a:xfrm>
            <a:off x="3687840" y="1619280"/>
            <a:ext cx="30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елания бы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1708200" y="287820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Ест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2968560" y="2698920"/>
            <a:ext cx="22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AutoShape 6"/>
          <p:cNvCxnSpPr/>
          <p:nvPr/>
        </p:nvCxnSpPr>
        <p:spPr>
          <a:xfrm>
            <a:off x="5218200" y="251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29" name="AutoShape 7"/>
          <p:cNvCxnSpPr/>
          <p:nvPr/>
        </p:nvCxnSpPr>
        <p:spPr>
          <a:xfrm>
            <a:off x="296820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0" name="AutoShape 8"/>
          <p:cNvCxnSpPr/>
          <p:nvPr/>
        </p:nvCxnSpPr>
        <p:spPr>
          <a:xfrm>
            <a:off x="746712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1" name="AutoShape 9"/>
          <p:cNvSpPr/>
          <p:nvPr/>
        </p:nvSpPr>
        <p:spPr>
          <a:xfrm>
            <a:off x="35892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збавляющи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т страда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тьё при жаж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305748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нообразящи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слажд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ысканная п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620712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 естественны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не необходим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 вен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чётные стату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358920" y="413856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обход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3"/>
          <p:cNvSpPr/>
          <p:nvPr/>
        </p:nvSpPr>
        <p:spPr>
          <a:xfrm>
            <a:off x="6207120" y="287820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зд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4"/>
          <p:cNvSpPr/>
          <p:nvPr/>
        </p:nvSpPr>
        <p:spPr>
          <a:xfrm>
            <a:off x="3057480" y="413856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 необход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5"/>
          <p:cNvSpPr/>
          <p:nvPr/>
        </p:nvSpPr>
        <p:spPr>
          <a:xfrm>
            <a:off x="1619280" y="395748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6"/>
          <p:cNvCxnSpPr/>
          <p:nvPr/>
        </p:nvCxnSpPr>
        <p:spPr>
          <a:xfrm>
            <a:off x="161928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9" name="AutoShape 17"/>
          <p:cNvCxnSpPr/>
          <p:nvPr/>
        </p:nvCxnSpPr>
        <p:spPr>
          <a:xfrm>
            <a:off x="431748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0" name="AutoShape 18"/>
          <p:cNvCxnSpPr/>
          <p:nvPr/>
        </p:nvCxnSpPr>
        <p:spPr>
          <a:xfrm>
            <a:off x="2968200" y="37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1" name="AutoShape 20"/>
          <p:cNvCxnSpPr/>
          <p:nvPr/>
        </p:nvCxnSpPr>
        <p:spPr>
          <a:xfrm>
            <a:off x="1619280" y="503712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2" name="AutoShape 21"/>
          <p:cNvCxnSpPr/>
          <p:nvPr/>
        </p:nvCxnSpPr>
        <p:spPr>
          <a:xfrm>
            <a:off x="4317480" y="50371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3" name="AutoShape 22"/>
          <p:cNvCxnSpPr/>
          <p:nvPr/>
        </p:nvCxnSpPr>
        <p:spPr>
          <a:xfrm>
            <a:off x="7467120" y="3778200"/>
            <a:ext cx="2520" cy="14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4" name="Line 24"/>
          <p:cNvSpPr/>
          <p:nvPr/>
        </p:nvSpPr>
        <p:spPr>
          <a:xfrm>
            <a:off x="5218200" y="2698920"/>
            <a:ext cx="22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>
            <a:off x="2968560" y="395748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6" descr="Thirst"/>
          <p:cNvPicPr/>
          <p:nvPr/>
        </p:nvPicPr>
        <p:blipFill>
          <a:blip r:embed="rId1"/>
          <a:stretch/>
        </p:blipFill>
        <p:spPr>
          <a:xfrm>
            <a:off x="539640" y="647640"/>
            <a:ext cx="1036800" cy="1619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7" descr="Feast"/>
          <p:cNvPicPr/>
          <p:nvPr/>
        </p:nvPicPr>
        <p:blipFill>
          <a:blip r:embed="rId2"/>
          <a:stretch/>
        </p:blipFill>
        <p:spPr>
          <a:xfrm>
            <a:off x="7737480" y="647640"/>
            <a:ext cx="792000" cy="1622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8" descr="Laurel"/>
          <p:cNvPicPr/>
          <p:nvPr/>
        </p:nvPicPr>
        <p:blipFill>
          <a:blip r:embed="rId3"/>
          <a:stretch/>
        </p:blipFill>
        <p:spPr>
          <a:xfrm>
            <a:off x="7880400" y="4138560"/>
            <a:ext cx="676080" cy="108756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6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8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0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4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77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7" dur="770" fill="hold"/>
                                        <p:tgtEl>
                                          <p:spTgt spid="3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9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1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8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0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2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287280" y="233856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ан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-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3165480" y="269892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ред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6045120" y="305748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зд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-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358920" y="323856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но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Кития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36-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6116760" y="3957480"/>
            <a:ext cx="26985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ций Анней Сенека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-65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8"/>
          <p:cNvSpPr/>
          <p:nvPr/>
        </p:nvSpPr>
        <p:spPr>
          <a:xfrm>
            <a:off x="358920" y="413856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еанф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1/30 – ок. 2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358920" y="503712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рисипп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280/277 – ок. 208/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3238560" y="359892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эт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80 – после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3238560" y="449748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идон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35 – ок.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2"/>
          <p:cNvSpPr/>
          <p:nvPr/>
        </p:nvSpPr>
        <p:spPr>
          <a:xfrm>
            <a:off x="6116760" y="485784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пиктет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50 – 1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3"/>
          <p:cNvSpPr/>
          <p:nvPr/>
        </p:nvSpPr>
        <p:spPr>
          <a:xfrm>
            <a:off x="6116760" y="575784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арк Аврел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21-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6008760" y="1619280"/>
            <a:ext cx="2879640" cy="82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то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Σ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τ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ο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ά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85480" y="3994200"/>
            <a:ext cx="2111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енон из Кит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36-2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1909080" y="4425840"/>
            <a:ext cx="2998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рисипп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280/277 – ок. 208/2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206960" y="5073480"/>
            <a:ext cx="2794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уций Анней Сенек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4-65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6907320" y="5433840"/>
            <a:ext cx="200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21-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287280" y="5613480"/>
            <a:ext cx="4318200" cy="107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втарк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αύτάρκι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ние, самодостато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Зенон Стоик (red - красн)"/>
          <p:cNvPicPr/>
          <p:nvPr/>
        </p:nvPicPr>
        <p:blipFill>
          <a:blip r:embed="rId1"/>
          <a:stretch/>
        </p:blipFill>
        <p:spPr>
          <a:xfrm>
            <a:off x="431640" y="14382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Хрисипп (Лондон - Британский музей - red)"/>
          <p:cNvPicPr/>
          <p:nvPr/>
        </p:nvPicPr>
        <p:blipFill>
          <a:blip r:embed="rId2"/>
          <a:stretch/>
        </p:blipFill>
        <p:spPr>
          <a:xfrm>
            <a:off x="2554200" y="1798560"/>
            <a:ext cx="1924200" cy="2629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Рубенс, Смерть Сенеки (голова - red)"/>
          <p:cNvPicPr/>
          <p:nvPr/>
        </p:nvPicPr>
        <p:blipFill>
          <a:blip r:embed="rId3"/>
          <a:stretch/>
        </p:blipFill>
        <p:spPr>
          <a:xfrm>
            <a:off x="4570560" y="2158920"/>
            <a:ext cx="2295360" cy="2590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Марк Аврелий (Неаполь - голова 2 - red)"/>
          <p:cNvPicPr/>
          <p:nvPr/>
        </p:nvPicPr>
        <p:blipFill>
          <a:blip r:embed="rId4"/>
          <a:stretch/>
        </p:blipFill>
        <p:spPr>
          <a:xfrm>
            <a:off x="6872400" y="2517840"/>
            <a:ext cx="1990440" cy="262872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7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5802480" y="255420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24"/>
          <p:cNvSpPr/>
          <p:nvPr/>
        </p:nvSpPr>
        <p:spPr>
          <a:xfrm>
            <a:off x="5076720" y="4076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5"/>
          <p:cNvSpPr/>
          <p:nvPr/>
        </p:nvSpPr>
        <p:spPr>
          <a:xfrm>
            <a:off x="4504680" y="4281480"/>
            <a:ext cx="907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6"/>
          <p:cNvSpPr/>
          <p:nvPr/>
        </p:nvSpPr>
        <p:spPr>
          <a:xfrm>
            <a:off x="511020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5225400" y="3022560"/>
            <a:ext cx="1142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мп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8"/>
          <p:cNvSpPr/>
          <p:nvPr/>
        </p:nvSpPr>
        <p:spPr>
          <a:xfrm>
            <a:off x="507672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5261400" y="3417840"/>
            <a:ext cx="12992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т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30"/>
          <p:cNvSpPr/>
          <p:nvPr/>
        </p:nvSpPr>
        <p:spPr>
          <a:xfrm>
            <a:off x="6516720" y="4724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1"/>
          <p:cNvSpPr/>
          <p:nvPr/>
        </p:nvSpPr>
        <p:spPr>
          <a:xfrm>
            <a:off x="6701400" y="4749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32"/>
          <p:cNvSpPr/>
          <p:nvPr/>
        </p:nvSpPr>
        <p:spPr>
          <a:xfrm>
            <a:off x="5076720" y="3573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4433040" y="3454560"/>
            <a:ext cx="598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4"/>
          <p:cNvSpPr/>
          <p:nvPr/>
        </p:nvSpPr>
        <p:spPr>
          <a:xfrm>
            <a:off x="66214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5"/>
          <p:cNvSpPr/>
          <p:nvPr/>
        </p:nvSpPr>
        <p:spPr>
          <a:xfrm>
            <a:off x="6770520" y="4210200"/>
            <a:ext cx="8254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6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7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38"/>
          <p:cNvSpPr/>
          <p:nvPr/>
        </p:nvSpPr>
        <p:spPr>
          <a:xfrm>
            <a:off x="6281640" y="3922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9"/>
          <p:cNvSpPr/>
          <p:nvPr/>
        </p:nvSpPr>
        <p:spPr>
          <a:xfrm>
            <a:off x="6412680" y="3814920"/>
            <a:ext cx="1407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ера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0"/>
          <p:cNvSpPr/>
          <p:nvPr/>
        </p:nvSpPr>
        <p:spPr>
          <a:xfrm>
            <a:off x="400680" y="3573360"/>
            <a:ext cx="14335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←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рд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560" y="3057120"/>
            <a:ext cx="47862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Нравственные письма к Луцил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благодея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Рассуждения о при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блажен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скоротечности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провиде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тет. Беседы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записаны Ф. Аррианом)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. К самому с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790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9" descr="Рубенс, Смерть Сенеки (голова - red)"/>
          <p:cNvPicPr/>
          <p:nvPr/>
        </p:nvPicPr>
        <p:blipFill>
          <a:blip r:embed="rId1"/>
          <a:stretch/>
        </p:blipFill>
        <p:spPr>
          <a:xfrm>
            <a:off x="5326200" y="1798560"/>
            <a:ext cx="1957320" cy="22100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0"/>
          <p:cNvSpPr/>
          <p:nvPr/>
        </p:nvSpPr>
        <p:spPr>
          <a:xfrm>
            <a:off x="5358960" y="4138560"/>
            <a:ext cx="19029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уций Анней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4-65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Марк Аврелий (Неаполь - голова 2 - red)"/>
          <p:cNvPicPr/>
          <p:nvPr/>
        </p:nvPicPr>
        <p:blipFill>
          <a:blip r:embed="rId2"/>
          <a:stretch/>
        </p:blipFill>
        <p:spPr>
          <a:xfrm>
            <a:off x="7161120" y="3598920"/>
            <a:ext cx="1695600" cy="22366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2"/>
          <p:cNvSpPr/>
          <p:nvPr/>
        </p:nvSpPr>
        <p:spPr>
          <a:xfrm>
            <a:off x="7051680" y="5973840"/>
            <a:ext cx="200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21-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кратические школы и их преем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3778200" y="10796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69-3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5541840" y="3165480"/>
            <a:ext cx="169092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идо-эри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й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7928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истипп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5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978200" y="2266920"/>
            <a:ext cx="161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вклид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0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77820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ат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28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48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557676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17 – 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737712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тисфе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14292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ре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194328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га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374184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br>
              <a:rPr sz="18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(платони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34076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н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>
            <a:off x="17928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пи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41-2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>
            <a:off x="737712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н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36-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142920" y="5541840"/>
            <a:ext cx="169056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пикурей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7"/>
          <p:cNvSpPr/>
          <p:nvPr/>
        </p:nvSpPr>
        <p:spPr>
          <a:xfrm>
            <a:off x="7340760" y="5541840"/>
            <a:ext cx="169056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>
            <a:off x="471312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истотель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84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22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9"/>
          <p:cNvSpPr/>
          <p:nvPr/>
        </p:nvSpPr>
        <p:spPr>
          <a:xfrm>
            <a:off x="2806560" y="4641840"/>
            <a:ext cx="1690920" cy="20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евн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>
            <a:off x="4678200" y="5541840"/>
            <a:ext cx="169092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кей</a:t>
            </a:r>
            <a:br>
              <a:rPr sz="18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(перипате-</a:t>
            </a:r>
            <a:br>
              <a:rPr sz="17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ти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>
            <a:off x="3022560" y="5684760"/>
            <a:ext cx="12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278748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3652920" y="4497480"/>
            <a:ext cx="93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24"/>
          <p:cNvCxnSpPr/>
          <p:nvPr/>
        </p:nvCxnSpPr>
        <p:spPr>
          <a:xfrm>
            <a:off x="98856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9" name="AutoShape 25"/>
          <p:cNvCxnSpPr/>
          <p:nvPr/>
        </p:nvCxnSpPr>
        <p:spPr>
          <a:xfrm>
            <a:off x="8186760" y="212220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0" name="AutoShape 26"/>
          <p:cNvCxnSpPr/>
          <p:nvPr/>
        </p:nvCxnSpPr>
        <p:spPr>
          <a:xfrm>
            <a:off x="988560" y="435456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27"/>
          <p:cNvCxnSpPr/>
          <p:nvPr/>
        </p:nvCxnSpPr>
        <p:spPr>
          <a:xfrm>
            <a:off x="638604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2" name="AutoShape 28"/>
          <p:cNvCxnSpPr/>
          <p:nvPr/>
        </p:nvCxnSpPr>
        <p:spPr>
          <a:xfrm>
            <a:off x="4587480" y="4354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3" name="AutoShape 29"/>
          <p:cNvCxnSpPr/>
          <p:nvPr/>
        </p:nvCxnSpPr>
        <p:spPr>
          <a:xfrm>
            <a:off x="5522400" y="449712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4" name="AutoShape 30"/>
          <p:cNvCxnSpPr/>
          <p:nvPr/>
        </p:nvCxnSpPr>
        <p:spPr>
          <a:xfrm>
            <a:off x="3652920" y="449712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5" name="AutoShape 31"/>
          <p:cNvCxnSpPr/>
          <p:nvPr/>
        </p:nvCxnSpPr>
        <p:spPr>
          <a:xfrm>
            <a:off x="278712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6" name="AutoShape 32"/>
          <p:cNvCxnSpPr/>
          <p:nvPr/>
        </p:nvCxnSpPr>
        <p:spPr>
          <a:xfrm>
            <a:off x="4587480" y="197820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7" name="AutoShape 33"/>
          <p:cNvCxnSpPr/>
          <p:nvPr/>
        </p:nvCxnSpPr>
        <p:spPr>
          <a:xfrm>
            <a:off x="8186760" y="435456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8" name="Line 35"/>
          <p:cNvSpPr/>
          <p:nvPr/>
        </p:nvSpPr>
        <p:spPr>
          <a:xfrm>
            <a:off x="458784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4587840" y="4497480"/>
            <a:ext cx="93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8"/>
          <p:cNvSpPr/>
          <p:nvPr/>
        </p:nvSpPr>
        <p:spPr>
          <a:xfrm>
            <a:off x="98892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"/>
          <p:cNvSpPr/>
          <p:nvPr/>
        </p:nvSpPr>
        <p:spPr>
          <a:xfrm>
            <a:off x="638640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7"/>
          <p:cNvSpPr/>
          <p:nvPr/>
        </p:nvSpPr>
        <p:spPr>
          <a:xfrm flipH="1" flipV="1">
            <a:off x="106920" y="1619280"/>
            <a:ext cx="7450200" cy="50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смос представляет соб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ы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одушевлённый организ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ождествляемы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 Богом (пантеиз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ша мир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пневма)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ящая из смеси огн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 воздуха, есть манифестация божествен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азума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ос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й и правит мир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добно тому как душа управляет т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сущее, будучи лишь частью еди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космического организма, всецело определя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следним (отождествление логиче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необходимости с причинностью, отрицан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лучайности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ый детермин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роисходит с человеком, такж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редопределе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фатализм)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7126920" y="4857840"/>
            <a:ext cx="1916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нон из Кит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336-26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5" descr="Зенон Стоик (red3 - красн)"/>
          <p:cNvPicPr/>
          <p:nvPr/>
        </p:nvPicPr>
        <p:blipFill>
          <a:blip r:embed="rId1"/>
          <a:stretch/>
        </p:blipFill>
        <p:spPr>
          <a:xfrm>
            <a:off x="7232760" y="2590920"/>
            <a:ext cx="1619280" cy="20574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3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4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5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0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1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2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8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9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4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78200" y="1978200"/>
            <a:ext cx="521784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атал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fatum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удьба;</a:t>
            </a:r>
            <a:br>
              <a:rPr sz="1800"/>
            </a:b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fatalis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роковой, предопределённы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яющая необходим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допределённостью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избеж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го происходяще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ироде и жизни челове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на этом основан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лючающе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лучай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об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 flipH="1" flipV="1">
            <a:off x="178200" y="179856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ститель неба, мой отец, веди мен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уда захочешь! Следую не мешк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сё готовый. А не захочу – тогд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 стонами идти придётся греш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пя всё то, что претерпел бы праведным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корных рок ведёт, влечёт строптив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6489360" y="5398920"/>
            <a:ext cx="252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уций Анней Сене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перевод из Клеанф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1" descr="Рубенс, Смерть Сенеки (голова - red1)"/>
          <p:cNvPicPr/>
          <p:nvPr/>
        </p:nvPicPr>
        <p:blipFill>
          <a:blip r:embed="rId1"/>
          <a:stretch/>
        </p:blipFill>
        <p:spPr>
          <a:xfrm>
            <a:off x="6800760" y="2517840"/>
            <a:ext cx="1990800" cy="224784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/>
          <p:cNvSpPr/>
          <p:nvPr/>
        </p:nvSpPr>
        <p:spPr>
          <a:xfrm>
            <a:off x="3525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2554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1582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611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216000" y="136692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им благ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признать лишь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и при каких обстоятельств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стать причиной несча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187280" y="2446200"/>
            <a:ext cx="4822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принадлежащее на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богатство, здоровье и т.п.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быть утрачено, утрата же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мы ценим, делает нас несчас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2158920" y="352584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ни богатство, ни здоровь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 высокое общественное полож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семейное благополуч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т считаться высшим бла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3130560" y="460548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достояние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е может быть у него отня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мудрость, следова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ость и есть высшее бла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"/>
          <p:cNvSpPr/>
          <p:nvPr/>
        </p:nvSpPr>
        <p:spPr>
          <a:xfrm>
            <a:off x="4102200" y="568476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 тот, кто понимает, что та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шее благо, счастлив – тот, кто 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ет, а так как высшее благ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мудрость, 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ец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частл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2" descr="Рубенс, Смерть Сенеки (голова - red1)"/>
          <p:cNvPicPr/>
          <p:nvPr/>
        </p:nvPicPr>
        <p:blipFill>
          <a:blip r:embed="rId1"/>
          <a:stretch/>
        </p:blipFill>
        <p:spPr>
          <a:xfrm>
            <a:off x="6872400" y="1366920"/>
            <a:ext cx="1990440" cy="224784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nodeType="clickEffect" fill="hold">
                      <p:stCondLst>
                        <p:cond delay="0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5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5287680" y="5757840"/>
            <a:ext cx="268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фаэль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финская шко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nb_pinacoteca_raphael_the_school_of_athens"/>
          <p:cNvPicPr/>
          <p:nvPr/>
        </p:nvPicPr>
        <p:blipFill>
          <a:blip r:embed="rId1"/>
          <a:stretch/>
        </p:blipFill>
        <p:spPr>
          <a:xfrm>
            <a:off x="1258920" y="1546200"/>
            <a:ext cx="6618240" cy="49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фины – центр греческой философ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2268360" y="530064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ифаго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 rot="10800000">
            <a:off x="4066920" y="53607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Геракли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986200" y="503712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арменид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059280" y="438948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Сокра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3886200" y="43545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ато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 rot="10800000">
            <a:off x="4678200" y="4354200"/>
            <a:ext cx="565200" cy="244440"/>
          </a:xfrm>
          <a:prstGeom prst="rightArrow">
            <a:avLst>
              <a:gd name="adj1" fmla="val 50000"/>
              <a:gd name="adj2" fmla="val 578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ристотел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2590920" y="42465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нтисфе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 rot="10800000">
            <a:off x="5003640" y="510984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Диоге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727280" y="482112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Эпику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366920" y="4713120"/>
            <a:ext cx="493560" cy="244800"/>
          </a:xfrm>
          <a:prstGeom prst="rightArrow">
            <a:avLst>
              <a:gd name="adj1" fmla="val 50000"/>
              <a:gd name="adj2" fmla="val 504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Зено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 rot="10800000">
            <a:off x="6692760" y="4317840"/>
            <a:ext cx="493920" cy="244800"/>
          </a:xfrm>
          <a:prstGeom prst="rightArrow">
            <a:avLst>
              <a:gd name="adj1" fmla="val 50000"/>
              <a:gd name="adj2" fmla="val 50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оти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2158920" y="503712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верроэс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 rot="5400000">
            <a:off x="3742200" y="3740760"/>
            <a:ext cx="636480" cy="244440"/>
          </a:xfrm>
          <a:prstGeom prst="rightArrow">
            <a:avLst>
              <a:gd name="adj1" fmla="val 50000"/>
              <a:gd name="adj2" fmla="val 650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атоник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 rot="5400000">
            <a:off x="4786560" y="3740760"/>
            <a:ext cx="636480" cy="244440"/>
          </a:xfrm>
          <a:prstGeom prst="rightArrow">
            <a:avLst>
              <a:gd name="adj1" fmla="val 50000"/>
              <a:gd name="adj2" fmla="val 650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ерипатетик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3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3388680" y="363384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рена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417840" y="161928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ристи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к. 435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 ок.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417840" y="26989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А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417840" y="377820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Аристипп </a:t>
            </a:r>
            <a:br>
              <a:rPr sz="20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(Младш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341784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гес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89856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ео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593712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никер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AutoShape 9"/>
          <p:cNvCxnSpPr/>
          <p:nvPr/>
        </p:nvCxnSpPr>
        <p:spPr>
          <a:xfrm>
            <a:off x="4587480" y="251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6" name="AutoShape 10"/>
          <p:cNvCxnSpPr/>
          <p:nvPr/>
        </p:nvCxnSpPr>
        <p:spPr>
          <a:xfrm>
            <a:off x="4587480" y="35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7" name="AutoShape 11"/>
          <p:cNvCxnSpPr/>
          <p:nvPr/>
        </p:nvCxnSpPr>
        <p:spPr>
          <a:xfrm>
            <a:off x="458748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8" name="AutoShape 12"/>
          <p:cNvCxnSpPr/>
          <p:nvPr/>
        </p:nvCxnSpPr>
        <p:spPr>
          <a:xfrm>
            <a:off x="2068560" y="48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9" name="AutoShape 13"/>
          <p:cNvCxnSpPr/>
          <p:nvPr/>
        </p:nvCxnSpPr>
        <p:spPr>
          <a:xfrm>
            <a:off x="710676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40" name="Line 14"/>
          <p:cNvSpPr/>
          <p:nvPr/>
        </p:nvSpPr>
        <p:spPr>
          <a:xfrm>
            <a:off x="2068560" y="4857840"/>
            <a:ext cx="251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93492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мор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345456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сс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597384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едонистическ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344520" y="1665360"/>
            <a:ext cx="2698560" cy="223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дон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ήδονή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довольстви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яю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ла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удовольств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22"/>
          <p:cNvCxnSpPr/>
          <p:nvPr/>
        </p:nvCxnSpPr>
        <p:spPr>
          <a:xfrm>
            <a:off x="458748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46" name="Line 23"/>
          <p:cNvSpPr/>
          <p:nvPr/>
        </p:nvSpPr>
        <p:spPr>
          <a:xfrm>
            <a:off x="4587840" y="4857840"/>
            <a:ext cx="251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6" descr="Аристипп (red2)"/>
          <p:cNvPicPr/>
          <p:nvPr/>
        </p:nvPicPr>
        <p:blipFill>
          <a:blip r:embed="rId1"/>
          <a:stretch/>
        </p:blipFill>
        <p:spPr>
          <a:xfrm>
            <a:off x="6837480" y="719280"/>
            <a:ext cx="1733400" cy="37526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ристипп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 flipH="1" flipV="1">
            <a:off x="178920" y="1690560"/>
            <a:ext cx="7197840" cy="478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подлинное благо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ес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е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з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телес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и несчастны потому, что принимают з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благо то, что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 средством дл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его получ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например, богатств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 тот, кто знает, что есть истинное бла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 что есть действительное зло, и  знает, как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спользовать это знание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ость – эт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ум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искусство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ь счастл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стремлении к удовольствиям мудрец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уководствуется принцип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ы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 –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аб, а господин своих удовольств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150680" y="5541840"/>
            <a:ext cx="1759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35 – ок.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Аристипп (red3)"/>
          <p:cNvPicPr/>
          <p:nvPr/>
        </p:nvPicPr>
        <p:blipFill>
          <a:blip r:embed="rId1"/>
          <a:stretch/>
        </p:blipFill>
        <p:spPr>
          <a:xfrm>
            <a:off x="7305840" y="2266920"/>
            <a:ext cx="1390320" cy="30002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13"/>
          <p:cNvSpPr/>
          <p:nvPr/>
        </p:nvSpPr>
        <p:spPr>
          <a:xfrm>
            <a:off x="3525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2554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1582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611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16000" y="136692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наслажде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бла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традани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187280" y="2446200"/>
            <a:ext cx="4822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всё прочее (что н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наслаждение, ни страдани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различ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2158920" y="352584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мудрец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читает зл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кражу, ни святотатство, 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ятвопреступление, ни изм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130560" y="460548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бега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х, но не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ет их чем-то дурным сам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ебе, а потому что не жел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ь наказан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стра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одо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морал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4102200" y="568476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й 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антию безнаказан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колеблясь пошёл бы на эти т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мые «преступления»,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 э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лило ему насла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3994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9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83528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55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50920" y="136692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ть стоит только рад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ольствий, но такая жиз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возможна, 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тделимы от стр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1330200" y="2446200"/>
            <a:ext cx="431820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Удовольствие мы получа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яя наши потреб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начала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даем от т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они не удовлетвор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409840" y="352584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При этом пребывать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и неудовлетворё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долго, тогда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летворения скороте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489480" y="46054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Средства удовлетвор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 ограничены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аются с труд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доступны лишь немног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570560" y="568476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) Но и эти немногие не буд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-настоящему счастливы, так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достаётся легко, больш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я не доставля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22:45:51Z</dcterms:created>
  <dc:creator>Николай Бирюков / Nikolai Biryukov</dc:creator>
  <dc:description>Редакция ноября 2007 г.</dc:description>
  <dc:language>en-US</dc:language>
  <cp:lastModifiedBy>LEGION</cp:lastModifiedBy>
  <dcterms:modified xsi:type="dcterms:W3CDTF">2014-11-11T10:09:47Z</dcterms:modified>
  <cp:revision>142</cp:revision>
  <dc:subject>Основы философии - Тема 6</dc:subject>
  <dc:title>Эпикурейцы и стоики</dc:title>
</cp:coreProperties>
</file>