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E1E3-E55B-4F95-A5F7-B01894FDA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F928-7965-4620-A324-D3FF74F48A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208E-AB50-4102-97B6-486D870F0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B322-AA92-4033-8C5D-35531FB2A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3352-5567-46AD-BAE8-E0104206B2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19D6-DCE4-4842-A438-6A99E3A3B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2A38-2AD2-47A4-98B1-C4750357DB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B7CF-1A3C-47D8-AD14-E7AFF54F69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C628-577D-4AF9-A3C8-2F22D6CCB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213F-CF46-4907-858A-C97BF12985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55B4-31CE-4587-A9F7-86DA5D0071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B294-5582-454D-8D94-7691C4317C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B350-E8AB-471B-9C1B-5B14268F1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907B-D7B1-44D7-A2FF-53C515CA6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3F7B-6302-455C-805E-9F4DE8843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FC10-2674-439C-9C27-17EAA7E9A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6114-4576-4AAA-815D-3688D7D6CA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0407-0CC4-4061-9833-84E523A53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E914-241E-4798-8147-EC13A1A5A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3A34-9538-4C20-AD70-139A0E515E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BAD6-F051-49B4-B6DC-D40C15677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4C28-580A-4D60-8E38-B1116CD073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E713-87B9-4CBA-81AD-4DCA100C9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77C2-85E7-4610-9494-BFFD76F4A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26F5-67D3-490D-A61E-EB8CD12A77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203A-5C4A-4FB2-8E31-2D02BEB26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A4EC-DB5B-43A7-8C39-9D103AD5E8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DD15-0937-4311-9DDF-CC6775C45A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1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20E6-6024-4802-9844-AF761D5AA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A1DF-89F5-45BE-A71B-9662D0297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3BA2-C557-422C-9F4D-CA93A811B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0021-2307-45F1-A883-CBF55090C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8482-EA89-4302-B385-6B574FA1A2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5B34-5830-41AA-96D2-012EFF8AF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167B-3B27-4779-B440-DCB63BCC1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90C-81B3-4BA3-8272-070D7BB8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836-7703-4A64-8CEE-A82783AB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3D5-0A76-4B08-A2C6-DEA9C24C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ADF-E9CB-44BA-8257-AA84914D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E50-DCC0-4A4F-97AB-4BE3225D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246-32FB-4BE7-9E26-27C0F381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8ECE-4E25-45EB-8D46-FD635DD2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20D-541A-4B8E-BA86-C530BC74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362-46CB-48C6-A32C-C3EAAEB1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D2B-29E2-4A62-980E-32EE9ED7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728-1237-42F5-ABB7-07238A0C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83D-6500-4C79-A9D8-E90EE9D1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6735-CD4E-4766-B530-ABEB42FAF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7144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какую избрать нам дорогу?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Тяжбы, да спор о делах, дома – своя сует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льская жизнь многотрудна; тревоги полно мореходств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трашно в чужих нам краях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 – много горя; женатым забо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Не миновать, холостым – дни одиноко влачит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буза, бездетная жизнь неполна; в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Благоразумия нет, старость седая сл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о, одно лишь из двух остаётся нам, смертным, на выбор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ь не родиться совсем, или скорей умере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76036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идипп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, полная удовольств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полне возможна, ес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водить 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телесным наслаж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зна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ширяет самы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 возможных удоволь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Удовлетворе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не связано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ением того, что ну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их удовле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, удовлетвор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и духовные потребности,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лишаем друг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редств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В отличие от телесн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ые наслажд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короте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бая годится дорога.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лава и мудрость в делах, дома – покой от трудов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ёлах – природы благие дары, в мореплаванье – прибыл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В крае чужом нам почёт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, мы одни это знаем; женитьб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Красит очаг, холостым – более лёгкая жизн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трада, бездетная жизнь без забот.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ила дана, старики благочестивы ду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нужно одно нам из двух выбирать – не р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и скорей умереть; всякая доля бла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75964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родор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046880" y="3814920"/>
            <a:ext cx="1657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- ок. 3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307320" y="3814920"/>
            <a:ext cx="2535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оген Синопский</a:t>
            </a:r>
            <a:br>
              <a:rPr sz="20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04 - 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185880" y="3814920"/>
            <a:ext cx="2576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тет Фиванский 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9640" y="5073480"/>
            <a:ext cx="2519640" cy="11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н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κύων</a:t>
            </a:r>
            <a:r>
              <a:rPr b="1" lang="ru-RU" sz="1800" spc="-1" strike="noStrike">
                <a:solidFill>
                  <a:srgbClr val="66ff33"/>
                </a:solidFill>
                <a:latin typeface="Arial Unicode MS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ёс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κυ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ν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ό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598920" y="4678200"/>
            <a:ext cx="49654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скет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σκητή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пражняющийс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поведующее самоотречение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авление чувственных влечений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о достижения высшего 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Антисфен (red)"/>
          <p:cNvPicPr/>
          <p:nvPr/>
        </p:nvPicPr>
        <p:blipFill>
          <a:blip r:embed="rId1"/>
          <a:stretch/>
        </p:blipFill>
        <p:spPr>
          <a:xfrm>
            <a:off x="1079640" y="1511280"/>
            <a:ext cx="1562040" cy="2247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Диоген (Рим, Капитолийский музей - red)"/>
          <p:cNvPicPr/>
          <p:nvPr/>
        </p:nvPicPr>
        <p:blipFill>
          <a:blip r:embed="rId2"/>
          <a:stretch/>
        </p:blipFill>
        <p:spPr>
          <a:xfrm>
            <a:off x="3525840" y="1511280"/>
            <a:ext cx="2085840" cy="2247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Кратет (Джорджано - red)"/>
          <p:cNvPicPr/>
          <p:nvPr/>
        </p:nvPicPr>
        <p:blipFill>
          <a:blip r:embed="rId3"/>
          <a:stretch/>
        </p:blipFill>
        <p:spPr>
          <a:xfrm>
            <a:off x="6332400" y="1511280"/>
            <a:ext cx="2143440" cy="22478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580248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19280" y="1654200"/>
            <a:ext cx="4425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счастье зависит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потреб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достижимее, ч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 у нас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1798560" y="291456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Кратчайший и вернейший п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частью лежит поэтому чере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ие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878200" y="4173480"/>
            <a:ext cx="4425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таком ограничении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возможного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требности 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й части искусствен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3957480" y="543384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 меньше наши нужды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ьше наша зависимость от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и внешних обстоятельст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больше наша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Антисфен (сидит)"/>
          <p:cNvPicPr/>
          <p:nvPr/>
        </p:nvPicPr>
        <p:blipFill>
          <a:blip r:embed="rId1"/>
          <a:stretch/>
        </p:blipFill>
        <p:spPr>
          <a:xfrm>
            <a:off x="179280" y="3670200"/>
            <a:ext cx="1629000" cy="30290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5668560" y="5757840"/>
            <a:ext cx="229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жон Уотерхаус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waterhouse_diogenes [Athen]_red08"/>
          <p:cNvPicPr/>
          <p:nvPr/>
        </p:nvPicPr>
        <p:blipFill>
          <a:blip r:embed="rId1"/>
          <a:stretch/>
        </p:blipFill>
        <p:spPr>
          <a:xfrm>
            <a:off x="1079640" y="1546200"/>
            <a:ext cx="3276360" cy="504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999680" y="5757840"/>
            <a:ext cx="29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Пуссе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йзаж с Диоген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poussin_landscape_with_diogenes"/>
          <p:cNvPicPr/>
          <p:nvPr/>
        </p:nvPicPr>
        <p:blipFill>
          <a:blip r:embed="rId1"/>
          <a:stretch/>
        </p:blipFill>
        <p:spPr>
          <a:xfrm>
            <a:off x="1295280" y="1690560"/>
            <a:ext cx="6578640" cy="476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982200" y="5757840"/>
            <a:ext cx="17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лександ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Диоген и Александр (блюдо из Урбино - red)"/>
          <p:cNvPicPr/>
          <p:nvPr/>
        </p:nvPicPr>
        <p:blipFill>
          <a:blip r:embed="rId1"/>
          <a:stretch/>
        </p:blipFill>
        <p:spPr>
          <a:xfrm>
            <a:off x="2085840" y="1619280"/>
            <a:ext cx="4972320" cy="49626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ной негой пиров,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 смерти ведь нет нам отрад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ах обратился и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иневии великий властител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что выпил и съел и что вз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й от любви; вся же роскош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моя и богатство осталис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ости это житей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моё поучение люд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81440" y="4857840"/>
            <a:ext cx="293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ерил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а гроб Сарданапала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5092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Кратет (Джорджано - red)"/>
          <p:cNvPicPr/>
          <p:nvPr/>
        </p:nvPicPr>
        <p:blipFill>
          <a:blip r:embed="rId1"/>
          <a:stretch/>
        </p:blipFill>
        <p:spPr>
          <a:xfrm>
            <a:off x="466560" y="1690560"/>
            <a:ext cx="2143440" cy="2248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ью мудрых рече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не в еде для души ведь отра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алок я, евший так м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и так наслаждавшийся в жизни!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что ум мой познал и что му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и прекрасного мне;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все же прочие блага ост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0520" y="4678200"/>
            <a:ext cx="2936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 Фиванский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дия на эпиграмму-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тафию Херила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2374920" y="5218200"/>
            <a:ext cx="4390920" cy="140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вдем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εύδαιμονία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часть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цель жизни – счас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827280" y="431784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986200" y="4317840"/>
            <a:ext cx="1250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а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4895280" y="4317840"/>
            <a:ext cx="1442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р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30-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6689880" y="4317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9" descr="Rubens, The Four Philosophers - Bust of Seneca (auto)"/>
          <p:cNvPicPr/>
          <p:nvPr/>
        </p:nvPicPr>
        <p:blipFill>
          <a:blip r:embed="rId1"/>
          <a:stretch/>
        </p:blipFill>
        <p:spPr>
          <a:xfrm>
            <a:off x="7197840" y="1690560"/>
            <a:ext cx="1514520" cy="241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3" descr="Эпикур (Рим - Капитолийский музей - red3)"/>
          <p:cNvPicPr/>
          <p:nvPr/>
        </p:nvPicPr>
        <p:blipFill>
          <a:blip r:embed="rId2"/>
          <a:stretch/>
        </p:blipFill>
        <p:spPr>
          <a:xfrm>
            <a:off x="358920" y="1690560"/>
            <a:ext cx="2022480" cy="2521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1" descr="Гермарх (Рим - Ватиканский музей - red)"/>
          <p:cNvPicPr/>
          <p:nvPr/>
        </p:nvPicPr>
        <p:blipFill>
          <a:blip r:embed="rId3"/>
          <a:stretch/>
        </p:blipFill>
        <p:spPr>
          <a:xfrm>
            <a:off x="2949480" y="1690560"/>
            <a:ext cx="1252800" cy="2414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3" descr="Метродор (Париж, Лувр - red)"/>
          <p:cNvPicPr/>
          <p:nvPr/>
        </p:nvPicPr>
        <p:blipFill>
          <a:blip r:embed="rId4"/>
          <a:stretch/>
        </p:blipFill>
        <p:spPr>
          <a:xfrm>
            <a:off x="4786200" y="1690560"/>
            <a:ext cx="1681200" cy="24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0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8920" y="3057480"/>
            <a:ext cx="43178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1928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Эпикур (Рим - Капитолийский музей - red3)"/>
          <p:cNvPicPr/>
          <p:nvPr/>
        </p:nvPicPr>
        <p:blipFill>
          <a:blip r:embed="rId1"/>
          <a:stretch/>
        </p:blipFill>
        <p:spPr>
          <a:xfrm>
            <a:off x="4749840" y="1978200"/>
            <a:ext cx="2022480" cy="25207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5253120" y="467820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Rubens, The Four Philosophers - Bust of Seneca (auto)"/>
          <p:cNvPicPr/>
          <p:nvPr/>
        </p:nvPicPr>
        <p:blipFill>
          <a:blip r:embed="rId2"/>
          <a:stretch/>
        </p:blipFill>
        <p:spPr>
          <a:xfrm>
            <a:off x="7124760" y="2770200"/>
            <a:ext cx="1514520" cy="24112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0"/>
          <p:cNvSpPr/>
          <p:nvPr/>
        </p:nvSpPr>
        <p:spPr>
          <a:xfrm>
            <a:off x="6618600" y="5433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5" descr="Pain-cont"/>
          <p:cNvPicPr/>
          <p:nvPr/>
        </p:nvPicPr>
        <p:blipFill>
          <a:blip r:embed="rId1"/>
          <a:stretch/>
        </p:blipFill>
        <p:spPr>
          <a:xfrm>
            <a:off x="6548400" y="4605480"/>
            <a:ext cx="1471680" cy="1619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2"/>
          <p:cNvSpPr/>
          <p:nvPr/>
        </p:nvSpPr>
        <p:spPr>
          <a:xfrm>
            <a:off x="611676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ерывная бо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лговремен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затяжные немо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авляют пло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23328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ахи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 несчас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1" name="AutoShape 8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9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3" name="AutoShape 10"/>
          <p:cNvSpPr/>
          <p:nvPr/>
        </p:nvSpPr>
        <p:spPr>
          <a:xfrm>
            <a:off x="539640" y="4317840"/>
            <a:ext cx="251964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и – су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мерт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ж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ие ни с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от не име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друг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доставля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332748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е име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м ник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: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есть, смер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нет, а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аступ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ас уж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302256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>
            <a:off x="581184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трад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AutoShape 19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20" name="Line 20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1" descr="Zeus"/>
          <p:cNvPicPr/>
          <p:nvPr/>
        </p:nvPicPr>
        <p:blipFill>
          <a:blip r:embed="rId2"/>
          <a:stretch/>
        </p:blipFill>
        <p:spPr>
          <a:xfrm>
            <a:off x="539640" y="647640"/>
            <a:ext cx="1127160" cy="161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Death (2)"/>
          <p:cNvPicPr/>
          <p:nvPr/>
        </p:nvPicPr>
        <p:blipFill>
          <a:blip r:embed="rId3"/>
          <a:stretch/>
        </p:blipFill>
        <p:spPr>
          <a:xfrm>
            <a:off x="7664400" y="647640"/>
            <a:ext cx="752400" cy="16192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4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6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9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3687840" y="1619280"/>
            <a:ext cx="30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лания б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170820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Ест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968560" y="2698920"/>
            <a:ext cx="22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AutoShape 6"/>
          <p:cNvCxnSpPr/>
          <p:nvPr/>
        </p:nvCxnSpPr>
        <p:spPr>
          <a:xfrm>
            <a:off x="5218200" y="25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29" name="AutoShape 7"/>
          <p:cNvCxnSpPr/>
          <p:nvPr/>
        </p:nvCxnSpPr>
        <p:spPr>
          <a:xfrm>
            <a:off x="296820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0" name="AutoShape 8"/>
          <p:cNvCxnSpPr/>
          <p:nvPr/>
        </p:nvCxnSpPr>
        <p:spPr>
          <a:xfrm>
            <a:off x="746712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1" name="AutoShape 9"/>
          <p:cNvSpPr/>
          <p:nvPr/>
        </p:nvSpPr>
        <p:spPr>
          <a:xfrm>
            <a:off x="3589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збавляю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 страд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тьё при жаж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305748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нообразя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сла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ысканная п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62071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 естественны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не необходим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 вен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чётные стат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35892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3"/>
          <p:cNvSpPr/>
          <p:nvPr/>
        </p:nvSpPr>
        <p:spPr>
          <a:xfrm>
            <a:off x="620712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зд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305748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 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161928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6"/>
          <p:cNvCxnSpPr/>
          <p:nvPr/>
        </p:nvCxnSpPr>
        <p:spPr>
          <a:xfrm>
            <a:off x="16192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7"/>
          <p:cNvCxnSpPr/>
          <p:nvPr/>
        </p:nvCxnSpPr>
        <p:spPr>
          <a:xfrm>
            <a:off x="4317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8"/>
          <p:cNvCxnSpPr/>
          <p:nvPr/>
        </p:nvCxnSpPr>
        <p:spPr>
          <a:xfrm>
            <a:off x="296820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20"/>
          <p:cNvCxnSpPr/>
          <p:nvPr/>
        </p:nvCxnSpPr>
        <p:spPr>
          <a:xfrm>
            <a:off x="1619280" y="50371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2" name="AutoShape 21"/>
          <p:cNvCxnSpPr/>
          <p:nvPr/>
        </p:nvCxnSpPr>
        <p:spPr>
          <a:xfrm>
            <a:off x="4317480" y="50371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3" name="AutoShape 22"/>
          <p:cNvCxnSpPr/>
          <p:nvPr/>
        </p:nvCxnSpPr>
        <p:spPr>
          <a:xfrm>
            <a:off x="7467120" y="3778200"/>
            <a:ext cx="2520" cy="14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4"/>
          <p:cNvSpPr/>
          <p:nvPr/>
        </p:nvSpPr>
        <p:spPr>
          <a:xfrm>
            <a:off x="5218200" y="2698920"/>
            <a:ext cx="22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296856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6" descr="Thirst"/>
          <p:cNvPicPr/>
          <p:nvPr/>
        </p:nvPicPr>
        <p:blipFill>
          <a:blip r:embed="rId1"/>
          <a:stretch/>
        </p:blipFill>
        <p:spPr>
          <a:xfrm>
            <a:off x="539640" y="647640"/>
            <a:ext cx="1036800" cy="1619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Feast"/>
          <p:cNvPicPr/>
          <p:nvPr/>
        </p:nvPicPr>
        <p:blipFill>
          <a:blip r:embed="rId2"/>
          <a:stretch/>
        </p:blipFill>
        <p:spPr>
          <a:xfrm>
            <a:off x="7737480" y="647640"/>
            <a:ext cx="792000" cy="1622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Laurel"/>
          <p:cNvPicPr/>
          <p:nvPr/>
        </p:nvPicPr>
        <p:blipFill>
          <a:blip r:embed="rId3"/>
          <a:stretch/>
        </p:blipFill>
        <p:spPr>
          <a:xfrm>
            <a:off x="7880400" y="4138560"/>
            <a:ext cx="676080" cy="10875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6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8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7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9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1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8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0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2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280" y="233856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н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-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3165480" y="269892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ре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045120" y="305748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з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-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358920" y="32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ития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6116760" y="3957480"/>
            <a:ext cx="269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-65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>
            <a:off x="358920" y="41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еанф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1/30 – ок. 2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358920" y="50371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рис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280/277 – ок. 208/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3238560" y="35989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эт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0 – после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3238560" y="449748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идон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35 – ок.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6116760" y="48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тет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0 – 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"/>
          <p:cNvSpPr/>
          <p:nvPr/>
        </p:nvSpPr>
        <p:spPr>
          <a:xfrm>
            <a:off x="6116760" y="57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рк Аврел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21-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6008760" y="1619280"/>
            <a:ext cx="2879640" cy="82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о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Σ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τ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ο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85480" y="3994200"/>
            <a:ext cx="211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909080" y="4425840"/>
            <a:ext cx="2998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ипп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280/277 – ок. 208/2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206960" y="5073480"/>
            <a:ext cx="2794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6907320" y="543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87280" y="5613480"/>
            <a:ext cx="4318200" cy="107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арк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αύτάρκ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ние, самодостато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Зенон Стоик (red - красн)"/>
          <p:cNvPicPr/>
          <p:nvPr/>
        </p:nvPicPr>
        <p:blipFill>
          <a:blip r:embed="rId1"/>
          <a:stretch/>
        </p:blipFill>
        <p:spPr>
          <a:xfrm>
            <a:off x="431640" y="14382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Хрисипп (Лондон - Британский музей - red)"/>
          <p:cNvPicPr/>
          <p:nvPr/>
        </p:nvPicPr>
        <p:blipFill>
          <a:blip r:embed="rId2"/>
          <a:stretch/>
        </p:blipFill>
        <p:spPr>
          <a:xfrm>
            <a:off x="2554200" y="1798560"/>
            <a:ext cx="1924200" cy="262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Рубенс, Смерть Сенеки (голова - red)"/>
          <p:cNvPicPr/>
          <p:nvPr/>
        </p:nvPicPr>
        <p:blipFill>
          <a:blip r:embed="rId3"/>
          <a:stretch/>
        </p:blipFill>
        <p:spPr>
          <a:xfrm>
            <a:off x="4570560" y="2158920"/>
            <a:ext cx="2295360" cy="2590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Марк Аврелий (Неаполь - голова 2 - red)"/>
          <p:cNvPicPr/>
          <p:nvPr/>
        </p:nvPicPr>
        <p:blipFill>
          <a:blip r:embed="rId4"/>
          <a:stretch/>
        </p:blipFill>
        <p:spPr>
          <a:xfrm>
            <a:off x="6872400" y="2517840"/>
            <a:ext cx="1990440" cy="2628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7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0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32"/>
          <p:cNvSpPr/>
          <p:nvPr/>
        </p:nvSpPr>
        <p:spPr>
          <a:xfrm>
            <a:off x="5076720" y="3573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4433040" y="3454560"/>
            <a:ext cx="598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4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6770520" y="421020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6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8"/>
          <p:cNvSpPr/>
          <p:nvPr/>
        </p:nvSpPr>
        <p:spPr>
          <a:xfrm>
            <a:off x="6281640" y="3922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9"/>
          <p:cNvSpPr/>
          <p:nvPr/>
        </p:nvSpPr>
        <p:spPr>
          <a:xfrm>
            <a:off x="6412680" y="3814920"/>
            <a:ext cx="1407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ера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0"/>
          <p:cNvSpPr/>
          <p:nvPr/>
        </p:nvSpPr>
        <p:spPr>
          <a:xfrm>
            <a:off x="400680" y="3573360"/>
            <a:ext cx="1433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←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д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3057120"/>
            <a:ext cx="4786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790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Рубенс, Смерть Сенеки (голова - red)"/>
          <p:cNvPicPr/>
          <p:nvPr/>
        </p:nvPicPr>
        <p:blipFill>
          <a:blip r:embed="rId1"/>
          <a:stretch/>
        </p:blipFill>
        <p:spPr>
          <a:xfrm>
            <a:off x="5326200" y="1798560"/>
            <a:ext cx="1957320" cy="22100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0"/>
          <p:cNvSpPr/>
          <p:nvPr/>
        </p:nvSpPr>
        <p:spPr>
          <a:xfrm>
            <a:off x="5358960" y="4138560"/>
            <a:ext cx="1902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Марк Аврелий (Неаполь - голова 2 - red)"/>
          <p:cNvPicPr/>
          <p:nvPr/>
        </p:nvPicPr>
        <p:blipFill>
          <a:blip r:embed="rId2"/>
          <a:stretch/>
        </p:blipFill>
        <p:spPr>
          <a:xfrm>
            <a:off x="7161120" y="3598920"/>
            <a:ext cx="1695600" cy="22366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2"/>
          <p:cNvSpPr/>
          <p:nvPr/>
        </p:nvSpPr>
        <p:spPr>
          <a:xfrm>
            <a:off x="7051680" y="597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778200" y="10796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69-3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5541840" y="3165480"/>
            <a:ext cx="169092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идо-эри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7928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978200" y="2266920"/>
            <a:ext cx="161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кли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0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77820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2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57676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7 – 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737712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исф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14292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р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194328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га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374184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латон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34076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17928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1-2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7377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4292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пикурей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734076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4713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84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2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2806560" y="4641840"/>
            <a:ext cx="1690920" cy="20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ев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4678200" y="5541840"/>
            <a:ext cx="169092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кей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ерипате-</a:t>
            </a:r>
            <a:br>
              <a:rPr sz="17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т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3022560" y="568476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278748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365292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4"/>
          <p:cNvCxnSpPr/>
          <p:nvPr/>
        </p:nvCxnSpPr>
        <p:spPr>
          <a:xfrm>
            <a:off x="98856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9" name="AutoShape 25"/>
          <p:cNvCxnSpPr/>
          <p:nvPr/>
        </p:nvCxnSpPr>
        <p:spPr>
          <a:xfrm>
            <a:off x="8186760" y="212220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0" name="AutoShape 26"/>
          <p:cNvCxnSpPr/>
          <p:nvPr/>
        </p:nvCxnSpPr>
        <p:spPr>
          <a:xfrm>
            <a:off x="988560" y="4354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27"/>
          <p:cNvCxnSpPr/>
          <p:nvPr/>
        </p:nvCxnSpPr>
        <p:spPr>
          <a:xfrm>
            <a:off x="638604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28"/>
          <p:cNvCxnSpPr/>
          <p:nvPr/>
        </p:nvCxnSpPr>
        <p:spPr>
          <a:xfrm>
            <a:off x="4587480" y="4354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3" name="AutoShape 29"/>
          <p:cNvCxnSpPr/>
          <p:nvPr/>
        </p:nvCxnSpPr>
        <p:spPr>
          <a:xfrm>
            <a:off x="5522400" y="449712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4" name="AutoShape 30"/>
          <p:cNvCxnSpPr/>
          <p:nvPr/>
        </p:nvCxnSpPr>
        <p:spPr>
          <a:xfrm>
            <a:off x="3652920" y="4497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5" name="AutoShape 31"/>
          <p:cNvCxnSpPr/>
          <p:nvPr/>
        </p:nvCxnSpPr>
        <p:spPr>
          <a:xfrm>
            <a:off x="278712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6" name="AutoShape 32"/>
          <p:cNvCxnSpPr/>
          <p:nvPr/>
        </p:nvCxnSpPr>
        <p:spPr>
          <a:xfrm>
            <a:off x="4587480" y="197820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7" name="AutoShape 33"/>
          <p:cNvCxnSpPr/>
          <p:nvPr/>
        </p:nvCxnSpPr>
        <p:spPr>
          <a:xfrm>
            <a:off x="8186760" y="4354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8" name="Line 35"/>
          <p:cNvSpPr/>
          <p:nvPr/>
        </p:nvSpPr>
        <p:spPr>
          <a:xfrm>
            <a:off x="458784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458784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>
            <a:off x="98892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638640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 flipH="1" flipV="1">
            <a:off x="106920" y="1619280"/>
            <a:ext cx="745020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с представляет соб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одушевлённый орга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ождествляем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 Богом (пантеиз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ша мир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пневма)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ящая из смеси ог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воздуха, есть манифестация божествен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зума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ос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 и правит мир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добно тому как душа управляет т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сущее, будучи лишь частью еди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космического организма, всецело опреде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дним (отождествление лог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еобходимости с причинностью, отрицан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лучайност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ый детермин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роисходит с человеком, такж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редопредел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атализм)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7126920" y="4857840"/>
            <a:ext cx="1916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Зенон Стоик (red3 - красн)"/>
          <p:cNvPicPr/>
          <p:nvPr/>
        </p:nvPicPr>
        <p:blipFill>
          <a:blip r:embed="rId1"/>
          <a:stretch/>
        </p:blipFill>
        <p:spPr>
          <a:xfrm>
            <a:off x="7232760" y="2590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5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2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78200" y="1978200"/>
            <a:ext cx="521784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атал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um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дьба;</a:t>
            </a:r>
            <a:br>
              <a:rPr sz="1800"/>
            </a:b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alis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оковой, предопредел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ая необх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до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избеж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го происходяще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ироде и жизни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 этом основа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лучай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 flipH="1" flipV="1">
            <a:off x="178200" y="179856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ститель неба, мой отец, веди мен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да захочешь! Следую не мешк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сё готовый. А не захочу – тогд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тонами идти придётся греш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пя всё то, что претерпел бы праведным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орных рок ведёт, влечёт строптив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6489360" y="5398920"/>
            <a:ext cx="252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перевод из Клеанф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1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00760" y="2517840"/>
            <a:ext cx="1990800" cy="224784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им бла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ризнать лишь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и при каких обстоятельс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стать причиной не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принадлежащее на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богатство, здоровье и т.п.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быть утрачено, утрата же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мы ценим, делает нас несчас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ни богатство, ни здоровь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 высокое общественное по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семейное благополуч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считаться высшим бла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достояни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е может быть у него отня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следова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и есть высшее бла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понимает, что та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шее благо, счастлив – тот, кто 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ет, а так как выс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ец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част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2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72400" y="1366920"/>
            <a:ext cx="1990440" cy="22478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nodeType="clickEffect" fill="hold">
                      <p:stCondLst>
                        <p:cond delay="0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5287680" y="5757840"/>
            <a:ext cx="268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фаэль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финская шко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nb_pinacoteca_raphael_the_school_of_athens"/>
          <p:cNvPicPr/>
          <p:nvPr/>
        </p:nvPicPr>
        <p:blipFill>
          <a:blip r:embed="rId1"/>
          <a:stretch/>
        </p:blipFill>
        <p:spPr>
          <a:xfrm>
            <a:off x="1258920" y="1546200"/>
            <a:ext cx="6618240" cy="49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268360" y="53006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ифаго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10800000">
            <a:off x="4066920" y="53607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Геракли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986200" y="5037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арменид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059280" y="438948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Сокра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3886200" y="4354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 rot="10800000">
            <a:off x="4678200" y="4354200"/>
            <a:ext cx="565200" cy="244440"/>
          </a:xfrm>
          <a:prstGeom prst="rightArrow">
            <a:avLst>
              <a:gd name="adj1" fmla="val 50000"/>
              <a:gd name="adj2" fmla="val 578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ристотел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2590920" y="4246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нтисф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 rot="10800000">
            <a:off x="5003640" y="51098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Диог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727280" y="4821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Эпику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66920" y="4713120"/>
            <a:ext cx="493560" cy="244800"/>
          </a:xfrm>
          <a:prstGeom prst="rightArrow">
            <a:avLst>
              <a:gd name="adj1" fmla="val 50000"/>
              <a:gd name="adj2" fmla="val 504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Зен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 rot="10800000">
            <a:off x="6692760" y="4317840"/>
            <a:ext cx="493920" cy="244800"/>
          </a:xfrm>
          <a:prstGeom prst="rightArrow">
            <a:avLst>
              <a:gd name="adj1" fmla="val 50000"/>
              <a:gd name="adj2" fmla="val 50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оти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2158920" y="503712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верроэ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 rot="5400000">
            <a:off x="374220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 rot="5400000">
            <a:off x="478656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ерипатет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388680" y="3633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417840" y="161928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к. 43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417840" y="26989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17840" y="37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истипп </a:t>
            </a:r>
            <a:br>
              <a:rPr sz="20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(Младш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41784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ге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89856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593712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нике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9"/>
          <p:cNvCxnSpPr/>
          <p:nvPr/>
        </p:nvCxnSpPr>
        <p:spPr>
          <a:xfrm>
            <a:off x="4587480" y="251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6" name="AutoShape 10"/>
          <p:cNvCxnSpPr/>
          <p:nvPr/>
        </p:nvCxnSpPr>
        <p:spPr>
          <a:xfrm>
            <a:off x="4587480" y="35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7" name="AutoShape 11"/>
          <p:cNvCxnSpPr/>
          <p:nvPr/>
        </p:nvCxnSpPr>
        <p:spPr>
          <a:xfrm>
            <a:off x="4587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8" name="AutoShape 12"/>
          <p:cNvCxnSpPr/>
          <p:nvPr/>
        </p:nvCxnSpPr>
        <p:spPr>
          <a:xfrm>
            <a:off x="206856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9" name="AutoShape 13"/>
          <p:cNvCxnSpPr/>
          <p:nvPr/>
        </p:nvCxnSpPr>
        <p:spPr>
          <a:xfrm>
            <a:off x="710676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0" name="Line 14"/>
          <p:cNvSpPr/>
          <p:nvPr/>
        </p:nvSpPr>
        <p:spPr>
          <a:xfrm>
            <a:off x="206856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93492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мор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345456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сс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597384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донист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44520" y="1665360"/>
            <a:ext cx="2698560" cy="22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д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ήδονή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овольстви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а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удоволь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22"/>
          <p:cNvCxnSpPr/>
          <p:nvPr/>
        </p:nvCxnSpPr>
        <p:spPr>
          <a:xfrm>
            <a:off x="4587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6" name="Line 23"/>
          <p:cNvSpPr/>
          <p:nvPr/>
        </p:nvSpPr>
        <p:spPr>
          <a:xfrm>
            <a:off x="458784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6" descr="Аристипп (red2)"/>
          <p:cNvPicPr/>
          <p:nvPr/>
        </p:nvPicPr>
        <p:blipFill>
          <a:blip r:embed="rId1"/>
          <a:stretch/>
        </p:blipFill>
        <p:spPr>
          <a:xfrm>
            <a:off x="6837480" y="719280"/>
            <a:ext cx="1733400" cy="37526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 flipH="1" flipV="1">
            <a:off x="178920" y="1690560"/>
            <a:ext cx="7197840" cy="478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подлинное благ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ес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е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з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телес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несчастны потому, что принимают з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благо то, что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 средством дл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его получ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апример, богат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знает, что есть истинное бла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что есть действительное зло, и  знает, как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спользовать это знание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– э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ум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скусство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счаст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стремлении к удовольствиям мудрец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уководствуется принцип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ы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 –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б, а господин своих удовольств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150680" y="5541840"/>
            <a:ext cx="175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 –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Аристипп (red3)"/>
          <p:cNvPicPr/>
          <p:nvPr/>
        </p:nvPicPr>
        <p:blipFill>
          <a:blip r:embed="rId1"/>
          <a:stretch/>
        </p:blipFill>
        <p:spPr>
          <a:xfrm>
            <a:off x="7305840" y="2266920"/>
            <a:ext cx="139032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3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аслажде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радани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ё прочее (что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наслаждение, ни страдани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удрец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читает зл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ражу, ни святотатство, 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ятвопреступление, ни из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бега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х, но не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ет их чем-то дурным сам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ебе, а потому что не жел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наказан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стра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й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антию безнаказан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колеблясь пошёл бы на эти т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мые «преступления»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 э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лило ему насла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ть стоит только ра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ольствий, но такая 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а, 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делимы от стр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Удовольствие мы получа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яя наши потреб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начала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ем от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они не удовлетвор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При этом пребывать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неудовлетворё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долго, тогд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летворения скорот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Средства удовлетво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ограничен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ются с труд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доступны лишь немно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Но и эти немногие не буд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-настоящему счастливы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достаётся легко, больш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 не доставля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2:45:51Z</dcterms:created>
  <dc:creator>Николай Бирюков / Nikolai Biryukov</dc:creator>
  <dc:description>Редакция ноября 2007 г.</dc:description>
  <dc:language>en-US</dc:language>
  <cp:lastModifiedBy>LEGION</cp:lastModifiedBy>
  <dcterms:modified xsi:type="dcterms:W3CDTF">2014-11-11T10:09:47Z</dcterms:modified>
  <cp:revision>142</cp:revision>
  <dc:subject>Основы философии - Тема 6</dc:subject>
  <dc:title>Эпикурейцы и стоики</dc:title>
</cp:coreProperties>
</file>