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7.gif" ContentType="image/gif"/>
  <Override PartName="/ppt/media/image28.png" ContentType="image/png"/>
  <Override PartName="/ppt/media/image5.gif" ContentType="image/gif"/>
  <Override PartName="/ppt/media/image38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6.gif" ContentType="image/gif"/>
  <Override PartName="/ppt/media/image27.png" ContentType="image/png"/>
  <Override PartName="/ppt/media/image12.wmf" ContentType="image/x-wmf"/>
  <Override PartName="/ppt/media/image10.gif" ContentType="image/gif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26.jpeg" ContentType="image/jpeg"/>
  <Override PartName="/ppt/media/image36.png" ContentType="image/png"/>
  <Override PartName="/ppt/media/image40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4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9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2DD3-FC88-4D57-BD2E-ED9EF6EF4B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D63-D963-4E3F-833D-2E99F12D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EB0-33C9-48E8-BECB-D1885FA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5FA-F86D-40C3-9F30-3A3FAD12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714-FA60-40B0-9A5D-A1FF579F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AD82-2B9C-4020-8B35-C1799945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D6F0-9A2B-4243-840F-C9F35AEB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CCF9-4D3E-4B1A-A2F6-EB289337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D36A-C6C9-4004-B331-D2A52527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662F-B80E-4253-A3D7-DA0A9366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DE3B-8DA8-41D4-B03D-4DC1A94F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1F9B-8490-487A-89DF-A2C02EDD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FC4-D78F-485C-B3F6-1E5039D0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67DF-B9C6-44F3-BB57-55D42301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D6FE-B2CB-4939-B8E1-F8AA0B1B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57C9-C1C2-470B-B5A0-52007B5C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93C8-49DB-477C-AB00-F295E898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CDC6-3BA9-4EC2-A1EA-9A58CB7F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09C-55B4-478A-9A22-0B372990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C92-F97E-4492-8B90-A151DEED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526-D297-41A7-8A4F-539C2B81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250-E3A5-44BB-BD27-48CA6F1F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2B3-0F54-4611-9056-2A1E9985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E32-9978-4EAE-85FD-1FD62E0B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B1A-61BD-4721-B4E9-8EB09E80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71E1-407B-4A7F-96AD-990401A453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8C69-6EE2-4FCA-86BC-C2AC27B066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3284640"/>
            <a:ext cx="5411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Автор работы: Черникова  Екатерина, 8 «В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Руководитель :социальный педагог Афанасьева И.И.</a:t>
            </a: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627280" y="62064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офилактика,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2050920" y="2637000"/>
            <a:ext cx="5113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УБЕРКУЛЕЗ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771640" y="1989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2700360" y="1341360"/>
            <a:ext cx="3457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диагностик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3564000" y="198900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ечение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1847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Палочки Коха"/>
          <p:cNvPicPr/>
          <p:nvPr/>
        </p:nvPicPr>
        <p:blipFill>
          <a:blip r:embed="rId1"/>
          <a:stretch/>
        </p:blipFill>
        <p:spPr>
          <a:xfrm>
            <a:off x="5479920" y="1844640"/>
            <a:ext cx="334008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332640" y="403920"/>
            <a:ext cx="82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Каки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обладает возбудитель туберкулеза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79280" y="2272320"/>
            <a:ext cx="5184720" cy="3506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1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797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Как происходит заражение</a:t>
            </a:r>
            <a:br>
              <a:rPr sz="36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327640" cy="38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 Black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колонии бактерий туберкулеза"/>
          <p:cNvPicPr/>
          <p:nvPr/>
        </p:nvPicPr>
        <p:blipFill>
          <a:blip r:embed="rId1"/>
          <a:stretch/>
        </p:blipFill>
        <p:spPr>
          <a:xfrm>
            <a:off x="5506920" y="1773360"/>
            <a:ext cx="3457800" cy="33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3str3"/>
          <p:cNvPicPr/>
          <p:nvPr/>
        </p:nvPicPr>
        <p:blipFill>
          <a:blip r:embed="rId2"/>
          <a:stretch/>
        </p:blipFill>
        <p:spPr>
          <a:xfrm>
            <a:off x="250920" y="1989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str3"/>
          <p:cNvPicPr/>
          <p:nvPr/>
        </p:nvPicPr>
        <p:blipFill>
          <a:blip r:embed="rId3"/>
          <a:stretch/>
        </p:blipFill>
        <p:spPr>
          <a:xfrm>
            <a:off x="250920" y="335772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3str3"/>
          <p:cNvPicPr/>
          <p:nvPr/>
        </p:nvPicPr>
        <p:blipFill>
          <a:blip r:embed="rId4"/>
          <a:stretch/>
        </p:blipFill>
        <p:spPr>
          <a:xfrm>
            <a:off x="250920" y="4653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80" name="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704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000" y="1844640"/>
            <a:ext cx="61563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Аэрогенны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вдыхании воздух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Контак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ерез предметы бы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Пищ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употреблении в пищу зараженных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туб1"/>
          <p:cNvPicPr/>
          <p:nvPr/>
        </p:nvPicPr>
        <p:blipFill>
          <a:blip r:embed="rId1"/>
          <a:stretch/>
        </p:blipFill>
        <p:spPr>
          <a:xfrm>
            <a:off x="6084720" y="1700280"/>
            <a:ext cx="2881440" cy="36734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395280" y="4762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ути заражения микобактериями туберкул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1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24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979640" y="69228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79280" y="163872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сителями туберкулезной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187280" y="422100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1538280"/>
            <a:ext cx="9144000" cy="374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0" y="1216080"/>
            <a:ext cx="9144000" cy="563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6" name="Picture 7" descr="tuberculosis_roentgen_300"/>
          <p:cNvPicPr/>
          <p:nvPr/>
        </p:nvPicPr>
        <p:blipFill>
          <a:blip r:embed="rId1"/>
          <a:stretch/>
        </p:blipFill>
        <p:spPr>
          <a:xfrm>
            <a:off x="5219640" y="1413000"/>
            <a:ext cx="3702240" cy="4537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98" name="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076720" cy="45352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86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61563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uber7"/>
          <p:cNvPicPr/>
          <p:nvPr/>
        </p:nvPicPr>
        <p:blipFill>
          <a:blip r:embed="rId1"/>
          <a:stretch/>
        </p:blipFill>
        <p:spPr>
          <a:xfrm>
            <a:off x="6877080" y="1557360"/>
            <a:ext cx="1582560" cy="1795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6446160" y="34999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?id=12635762&amp;tov=7"/>
          <p:cNvPicPr/>
          <p:nvPr/>
        </p:nvPicPr>
        <p:blipFill>
          <a:blip r:embed="rId2"/>
          <a:stretch/>
        </p:blipFill>
        <p:spPr>
          <a:xfrm>
            <a:off x="6300720" y="4149720"/>
            <a:ext cx="1582920" cy="1801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5363640" y="5805360"/>
            <a:ext cx="2673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-63360" bIns="23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иар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208" name="15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4677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3str3"/>
          <p:cNvPicPr/>
          <p:nvPr/>
        </p:nvPicPr>
        <p:blipFill>
          <a:blip r:embed="rId1"/>
          <a:stretch/>
        </p:blipFill>
        <p:spPr>
          <a:xfrm>
            <a:off x="324000" y="191628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str3"/>
          <p:cNvPicPr/>
          <p:nvPr/>
        </p:nvPicPr>
        <p:blipFill>
          <a:blip r:embed="rId2"/>
          <a:stretch/>
        </p:blipFill>
        <p:spPr>
          <a:xfrm>
            <a:off x="324000" y="2349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3str3"/>
          <p:cNvPicPr/>
          <p:nvPr/>
        </p:nvPicPr>
        <p:blipFill>
          <a:blip r:embed="rId3"/>
          <a:stretch/>
        </p:blipFill>
        <p:spPr>
          <a:xfrm>
            <a:off x="250920" y="299736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3str3"/>
          <p:cNvPicPr/>
          <p:nvPr/>
        </p:nvPicPr>
        <p:blipFill>
          <a:blip r:embed="rId4"/>
          <a:stretch/>
        </p:blipFill>
        <p:spPr>
          <a:xfrm>
            <a:off x="25092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3str3"/>
          <p:cNvPicPr/>
          <p:nvPr/>
        </p:nvPicPr>
        <p:blipFill>
          <a:blip r:embed="rId5"/>
          <a:stretch/>
        </p:blipFill>
        <p:spPr>
          <a:xfrm>
            <a:off x="250920" y="4221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3str3"/>
          <p:cNvPicPr/>
          <p:nvPr/>
        </p:nvPicPr>
        <p:blipFill>
          <a:blip r:embed="rId6"/>
          <a:stretch/>
        </p:blipFill>
        <p:spPr>
          <a:xfrm>
            <a:off x="324000" y="4941720"/>
            <a:ext cx="342720" cy="23976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1"/>
          <p:cNvSpPr txBox="1"/>
          <p:nvPr/>
        </p:nvSpPr>
        <p:spPr>
          <a:xfrm>
            <a:off x="1619280" y="476280"/>
            <a:ext cx="53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ак распозна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219" name="1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217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7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9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1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684360" y="549360"/>
            <a:ext cx="7769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 при появлении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изнаков заболевания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68360" y="2148840"/>
            <a:ext cx="820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327680" y="5013360"/>
            <a:ext cx="687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к врач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за медицинской помощ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053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 repeatCount="5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Если зараженный человек не заболевает сразу, то он становится носителем инфекции. Это можно выявить только с помощью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робы Мант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456000" cy="226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692440" cy="3240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4572000" y="4512240"/>
            <a:ext cx="41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акция на пробу Манту считается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оложительной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формировании инфильтрата (папулы) диаметром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5мм и более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1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3061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2"/>
          <p:cNvPicPr/>
          <p:nvPr/>
        </p:nvPicPr>
        <p:blipFill>
          <a:blip r:embed="rId1"/>
          <a:stretch/>
        </p:blipFill>
        <p:spPr>
          <a:xfrm>
            <a:off x="5148360" y="1125360"/>
            <a:ext cx="3744720" cy="3600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250920" y="1768680"/>
            <a:ext cx="511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флюорографическое обследование (ФЛ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98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2521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Туберкулез: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угроза для всей планеты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187280" y="33336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68360" y="1888200"/>
            <a:ext cx="7991280" cy="41781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к врачу-фтизиатру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4000" y="1760400"/>
            <a:ext cx="8569080" cy="448308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Заподозрить и выявить туберкулезный процесс можно следующими основными методам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1.при проведении проб Мант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2. ФЛГ обследован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3. при исследовании мокроты на наличие бактер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6335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5029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Картинка 6 из 3246"/>
          <p:cNvPicPr/>
          <p:nvPr/>
        </p:nvPicPr>
        <p:blipFill>
          <a:blip r:embed="rId1"/>
          <a:stretch/>
        </p:blipFill>
        <p:spPr>
          <a:xfrm>
            <a:off x="5796000" y="2347920"/>
            <a:ext cx="3097080" cy="3529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179280" y="1557360"/>
            <a:ext cx="667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2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2724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16000" y="1197000"/>
            <a:ext cx="8893080" cy="55803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изиотерапию, дыхательную гимнастику и препараты, поднимающие иммуните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2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4281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туб1"/>
          <p:cNvPicPr/>
          <p:nvPr/>
        </p:nvPicPr>
        <p:blipFill>
          <a:blip r:embed="rId1"/>
          <a:stretch/>
        </p:blipFill>
        <p:spPr>
          <a:xfrm>
            <a:off x="6588000" y="2637000"/>
            <a:ext cx="2376720" cy="2954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ves1"/>
          <p:cNvPicPr/>
          <p:nvPr/>
        </p:nvPicPr>
        <p:blipFill>
          <a:blip r:embed="rId2"/>
          <a:stretch/>
        </p:blipFill>
        <p:spPr>
          <a:xfrm>
            <a:off x="6443640" y="333360"/>
            <a:ext cx="1379520" cy="1339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3str3"/>
          <p:cNvPicPr/>
          <p:nvPr/>
        </p:nvPicPr>
        <p:blipFill>
          <a:blip r:embed="rId3"/>
          <a:stretch/>
        </p:blipFill>
        <p:spPr>
          <a:xfrm>
            <a:off x="324000" y="3573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3str3"/>
          <p:cNvPicPr/>
          <p:nvPr/>
        </p:nvPicPr>
        <p:blipFill>
          <a:blip r:embed="rId4"/>
          <a:stretch/>
        </p:blipFill>
        <p:spPr>
          <a:xfrm>
            <a:off x="324000" y="4437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3str3"/>
          <p:cNvPicPr/>
          <p:nvPr/>
        </p:nvPicPr>
        <p:blipFill>
          <a:blip r:embed="rId5"/>
          <a:stretch/>
        </p:blipFill>
        <p:spPr>
          <a:xfrm>
            <a:off x="324000" y="5229360"/>
            <a:ext cx="342720" cy="2394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900000" y="620640"/>
            <a:ext cx="4319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рофилак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262" name="23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33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71280" y="1649160"/>
            <a:ext cx="8964720" cy="484884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252080" y="332280"/>
            <a:ext cx="65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Как защитить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от заражения туберкулезом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2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152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0920" y="1088280"/>
            <a:ext cx="8424720" cy="155700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4689360" cy="3125880"/>
          </a:xfrm>
          <a:prstGeom prst="rect">
            <a:avLst/>
          </a:prstGeom>
          <a:ln w="0">
            <a:noFill/>
          </a:ln>
        </p:spPr>
      </p:pic>
      <p:pic>
        <p:nvPicPr>
          <p:cNvPr id="270" name="2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117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0" y="547560"/>
            <a:ext cx="9144000" cy="3506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на 3-7 день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, первая ревакцинаци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7 лет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и втора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1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232000" cy="2055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2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081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5"/>
          <p:cNvSpPr txBox="1"/>
          <p:nvPr/>
        </p:nvSpPr>
        <p:spPr>
          <a:xfrm>
            <a:off x="826920" y="260280"/>
            <a:ext cx="750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, если туберкулезом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олен Ваш друг или родственник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333440" y="2238480"/>
            <a:ext cx="631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Немедл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посоветуйте 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обратиться к врач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2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630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3059280" y="836640"/>
            <a:ext cx="308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95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одумайте о сохранении своего здоровья и окружающих Вас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&amp;usg=AFQjCNEIKSW-FOzZQEtsKAcbgKBFgvhwuw"/>
          <p:cNvPicPr/>
          <p:nvPr/>
        </p:nvPicPr>
        <p:blipFill>
          <a:blip r:embed="rId1"/>
          <a:stretch/>
        </p:blipFill>
        <p:spPr>
          <a:xfrm>
            <a:off x="5003640" y="1989000"/>
            <a:ext cx="3810240" cy="3241800"/>
          </a:xfrm>
          <a:prstGeom prst="rect">
            <a:avLst/>
          </a:prstGeom>
          <a:ln w="0">
            <a:noFill/>
          </a:ln>
        </p:spPr>
      </p:pic>
      <p:pic>
        <p:nvPicPr>
          <p:cNvPr id="286" name="2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3739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89" name="Picture 4" descr="0607241539340_m"/>
          <p:cNvPicPr/>
          <p:nvPr/>
        </p:nvPicPr>
        <p:blipFill>
          <a:blip r:embed="rId1"/>
          <a:stretch/>
        </p:blipFill>
        <p:spPr>
          <a:xfrm>
            <a:off x="6588000" y="260280"/>
            <a:ext cx="1749600" cy="1440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5"/>
          <p:cNvSpPr txBox="1"/>
          <p:nvPr/>
        </p:nvSpPr>
        <p:spPr>
          <a:xfrm>
            <a:off x="2627280" y="765000"/>
            <a:ext cx="3087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50920" y="1916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3311280" cy="271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4032360" cy="2640240"/>
          </a:xfrm>
          <a:prstGeom prst="rect">
            <a:avLst/>
          </a:prstGeom>
          <a:ln w="0">
            <a:noFill/>
          </a:ln>
        </p:spPr>
      </p:pic>
      <p:pic>
        <p:nvPicPr>
          <p:cNvPr id="294" name="29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1654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60520"/>
            <a:ext cx="8353440" cy="98712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распространенно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инфекционное заболевани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возбудителем которого является микобактерия туберкулеза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МБТ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)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9" name="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1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856800"/>
            <a:ext cx="8136000" cy="2266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24 марта – </a:t>
            </a:r>
            <a:br>
              <a:rPr sz="4500"/>
            </a:b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Всемирный день борьбы с туберкулезом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775080" y="6068880"/>
            <a:ext cx="77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Символ борьбы с туберкулезом – рома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7813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Презентацию подготовил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Бронникова Екатерина Львовна,</a:t>
            </a: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учитель МБОУ СОШ № 82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Дзержинского райо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города Новосибирс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2009 го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80360" cy="114300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096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27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важнейшая социальная и медицинская пробле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901800" y="3754440"/>
          <a:ext cx="475596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3754440"/>
                    <a:ext cx="475596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2280" y="306864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болев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8472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6083280" y="3608280"/>
          <a:ext cx="220680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3280" y="3608280"/>
                    <a:ext cx="2206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87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j0219106"/>
          <p:cNvPicPr/>
          <p:nvPr/>
        </p:nvPicPr>
        <p:blipFill>
          <a:blip r:embed="rId1"/>
          <a:stretch/>
        </p:blipFill>
        <p:spPr>
          <a:xfrm>
            <a:off x="6443640" y="4292640"/>
            <a:ext cx="1944720" cy="175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213513"/>
          <p:cNvPicPr/>
          <p:nvPr/>
        </p:nvPicPr>
        <p:blipFill>
          <a:blip r:embed="rId2"/>
          <a:stretch/>
        </p:blipFill>
        <p:spPr>
          <a:xfrm>
            <a:off x="539640" y="4581360"/>
            <a:ext cx="2592360" cy="18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j0205360"/>
          <p:cNvPicPr/>
          <p:nvPr/>
        </p:nvPicPr>
        <p:blipFill>
          <a:blip r:embed="rId3"/>
          <a:stretch/>
        </p:blipFill>
        <p:spPr>
          <a:xfrm>
            <a:off x="6877080" y="2060640"/>
            <a:ext cx="1811160" cy="155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j0205361"/>
          <p:cNvPicPr/>
          <p:nvPr/>
        </p:nvPicPr>
        <p:blipFill>
          <a:blip r:embed="rId4"/>
          <a:stretch/>
        </p:blipFill>
        <p:spPr>
          <a:xfrm>
            <a:off x="468360" y="206064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j0236210"/>
          <p:cNvPicPr/>
          <p:nvPr/>
        </p:nvPicPr>
        <p:blipFill>
          <a:blip r:embed="rId5"/>
          <a:stretch/>
        </p:blipFill>
        <p:spPr>
          <a:xfrm>
            <a:off x="3348000" y="703440"/>
            <a:ext cx="2664000" cy="92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j0283229"/>
          <p:cNvPicPr/>
          <p:nvPr/>
        </p:nvPicPr>
        <p:blipFill>
          <a:blip r:embed="rId6"/>
          <a:stretch/>
        </p:blipFill>
        <p:spPr>
          <a:xfrm>
            <a:off x="2627280" y="1916280"/>
            <a:ext cx="3665520" cy="26143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22"/>
          <p:cNvSpPr txBox="1"/>
          <p:nvPr/>
        </p:nvSpPr>
        <p:spPr>
          <a:xfrm>
            <a:off x="611280" y="189000"/>
            <a:ext cx="7921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то болеет туберкулезом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9" name="Picture 20" descr="j0282831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j0186348"/>
          <p:cNvPicPr/>
          <p:nvPr/>
        </p:nvPicPr>
        <p:blipFill>
          <a:blip r:embed="rId8"/>
          <a:stretch/>
        </p:blipFill>
        <p:spPr>
          <a:xfrm>
            <a:off x="3276720" y="1484280"/>
            <a:ext cx="2668320" cy="3745080"/>
          </a:xfrm>
          <a:prstGeom prst="rect">
            <a:avLst/>
          </a:prstGeom>
          <a:ln w="0">
            <a:noFill/>
          </a:ln>
        </p:spPr>
      </p:pic>
      <p:pic>
        <p:nvPicPr>
          <p:cNvPr id="131" name="5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01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316240" cy="32414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334800" y="476280"/>
            <a:ext cx="8809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гда стало известно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б этом заболевании?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00960" y="5156640"/>
            <a:ext cx="361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(460 - 377 г. до нашей эр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219040" cy="316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824360" y="494172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Абу Али Хуса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ибн Абдаллах ибн Сина (Авицен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(980 — 10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-729720"/>
            <a:ext cx="9144000" cy="7772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основные клинические проявления туберкул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длительный 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слаб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мок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истощение, снижение ве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кровохаркан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отливость в ночн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боль в гр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669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1636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76104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065400" cy="381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5439240" y="620640"/>
            <a:ext cx="24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4527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755640" y="692280"/>
            <a:ext cx="318456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485880" cy="4464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435640" y="620640"/>
            <a:ext cx="273528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7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997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акторы, способствующие заболеванию туберкулезом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3str3"/>
          <p:cNvPicPr/>
          <p:nvPr/>
        </p:nvPicPr>
        <p:blipFill>
          <a:blip r:embed="rId1"/>
          <a:stretch/>
        </p:blipFill>
        <p:spPr>
          <a:xfrm>
            <a:off x="468360" y="206064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3str3"/>
          <p:cNvPicPr/>
          <p:nvPr/>
        </p:nvPicPr>
        <p:blipFill>
          <a:blip r:embed="rId2"/>
          <a:stretch/>
        </p:blipFill>
        <p:spPr>
          <a:xfrm>
            <a:off x="395280" y="292428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str3"/>
          <p:cNvPicPr/>
          <p:nvPr/>
        </p:nvPicPr>
        <p:blipFill>
          <a:blip r:embed="rId3"/>
          <a:stretch/>
        </p:blipFill>
        <p:spPr>
          <a:xfrm>
            <a:off x="32400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str3"/>
          <p:cNvPicPr/>
          <p:nvPr/>
        </p:nvPicPr>
        <p:blipFill>
          <a:blip r:embed="rId4"/>
          <a:stretch/>
        </p:blipFill>
        <p:spPr>
          <a:xfrm>
            <a:off x="395280" y="4365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3str3"/>
          <p:cNvPicPr/>
          <p:nvPr/>
        </p:nvPicPr>
        <p:blipFill>
          <a:blip r:embed="rId5"/>
          <a:stretch/>
        </p:blipFill>
        <p:spPr>
          <a:xfrm>
            <a:off x="395280" y="4941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8" name="8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151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360" y="5157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оберт Кох </a:t>
            </a:r>
            <a:br>
              <a:rPr sz="2900"/>
            </a:b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(1843–1910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белевской пре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РОБЕРТ КОХ "/>
          <p:cNvPicPr/>
          <p:nvPr/>
        </p:nvPicPr>
        <p:blipFill>
          <a:blip r:embed="rId1"/>
          <a:stretch/>
        </p:blipFill>
        <p:spPr>
          <a:xfrm>
            <a:off x="5292720" y="1701720"/>
            <a:ext cx="3141720" cy="3672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95280" y="312480"/>
            <a:ext cx="84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то открыл возбудителя туберкулеза и доказал, что это не наследственное, а 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инфекционное заболевание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24000" y="1989000"/>
            <a:ext cx="4895640" cy="383364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“</a:t>
            </a: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алочкой Коха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76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04:17Z</dcterms:created>
  <dc:creator>User</dc:creator>
  <dc:description/>
  <dc:language>en-US</dc:language>
  <cp:lastModifiedBy>LEGION</cp:lastModifiedBy>
  <dcterms:modified xsi:type="dcterms:W3CDTF">2015-11-27T12:47:27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