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3.wmf" ContentType="image/x-wmf"/>
  <Override PartName="/ppt/media/image7.gif" ContentType="image/gif"/>
  <Override PartName="/ppt/media/image28.png" ContentType="image/png"/>
  <Override PartName="/ppt/media/image5.gif" ContentType="image/gif"/>
  <Override PartName="/ppt/media/image38.jpeg" ContentType="image/jpeg"/>
  <Override PartName="/ppt/media/image23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6.gif" ContentType="image/gif"/>
  <Override PartName="/ppt/media/image27.png" ContentType="image/png"/>
  <Override PartName="/ppt/media/image12.wmf" ContentType="image/x-wmf"/>
  <Override PartName="/ppt/media/image10.gif" ContentType="image/gif"/>
  <Override PartName="/ppt/media/image13.png" ContentType="image/png"/>
  <Override PartName="/ppt/media/image37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9.gif" ContentType="image/gif"/>
  <Override PartName="/ppt/media/image31.jpeg" ContentType="image/jpeg"/>
  <Override PartName="/ppt/media/image33.png" ContentType="image/png"/>
  <Override PartName="/ppt/media/image34.png" ContentType="image/png"/>
  <Override PartName="/ppt/media/image35.png" ContentType="image/png"/>
  <Override PartName="/ppt/media/image26.jpeg" ContentType="image/jpeg"/>
  <Override PartName="/ppt/media/image36.png" ContentType="image/png"/>
  <Override PartName="/ppt/media/image40.png" ContentType="image/png"/>
  <Override PartName="/ppt/media/image11.gif" ContentType="image/gif"/>
  <Override PartName="/ppt/media/image14.png" ContentType="image/png"/>
  <Override PartName="/ppt/media/image8.gif" ContentType="image/gif"/>
  <Override PartName="/ppt/media/image4.wmf" ContentType="image/x-wmf"/>
  <Override PartName="/ppt/media/image2.png" ContentType="image/png"/>
  <Override PartName="/ppt/media/image25.jpeg" ContentType="image/jpeg"/>
  <Override PartName="/ppt/media/image32.png" ContentType="image/png"/>
  <Override PartName="/ppt/media/image1.png" ContentType="image/png"/>
  <Override PartName="/ppt/media/image19.gif" ContentType="image/gif"/>
  <Override PartName="/ppt/media/image16.png" ContentType="image/png"/>
  <Override PartName="/ppt/media/image17.png" ContentType="image/png"/>
  <Override PartName="/ppt/media/image18.png" ContentType="image/png"/>
  <Override PartName="/ppt/media/image2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9B9C-EAD1-4987-BC32-21C8606C869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Черникова  Екатерина, 8 «В»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:социальный педагог Афанасьева И.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работы: Черникова  Екатерина, 8 «В»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ь :социальный педагог Афанасьева И.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к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 отличие от других микробов, микобактерия туберкулеза чрезвычайно живуча: отлично себя чувствует и в земле, и в снегу, устойчива к воздействию спирта, кислоты и щелочи. Погибнуть она может лишь под длительным воздействием прямых солнечных лучей, высоких температур и хлорсодержащих веще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и свойств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дает возбудитель туберкулез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температуре +23 градуса бактерии остаются жизнеспособными до 7 лет, в высохшей мокроте - до 1 года, на страницах книг- до 6 месяцев, на одежде и белье больного - до 4 месяц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 отличие от других микробов, микобактерия туберкулеза чрезвычайно живуча: отлично себя чувствует и в земле, и в снегу, устойчива к воздействию спирта, кислоты и щелочи. Погибнуть она может лишь под длительным воздействием прямых солнечных лучей, высоких температур и хлорсодержащих веще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ми свой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дает возбудитель туберкулеза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температуре +23 градуса бактерии остаются жизнеспособными до 7 лет, в высохшей мокроте - до 1 года, на страницах книг- до 6 месяцев, на одежде и белье больного - до 4 месяце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оисходит зараже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источник инфекции — больной открытой формой, у которого в капле мокроты содержится до 2-3 миллионов микобактер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е заражение наступает при употреблении в пищу молочных продуктов от больных туберкулезом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жение возможно через предметы обихода больного, при поцелуях, при докуривании чужих сигарет, отмечено также внутриутробное заражение плода у больных беременных женщ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оисходит зараже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источник инфекции — больной открытой формой, у которого в капле мокроты содержится до 2-3 миллионов микобактер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е заражение наступает при употреблении в пищу молочных продуктов от больных туберкулезом живот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ажение возможно через предметы обихода больного, при поцелуях, при докуривании чужих сигарет, отмечено также внутриутробное заражение плода у больных беременных женщ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Аэрогенный: (при вдыхании воздух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ушно-капельный (при чихании и кашле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ушно-пылевой (в запыленных помещениях, где находился больной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ный (через предметы быт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щевой (при употреблении в пищу зараженных продуктов питан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заражения микобактериями 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Аэрогенный: (при вдыхании воздух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шно-капельный (при чихании и кашле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шно-пылевой (в запыленных помещениях, где находился больной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актный (через предметы быта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щевой (при употреблении в пищу зараженных продуктов питан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заражения микобактериями туберкуле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недрении в организм микобактерий туберкулеза происходит инфицирование (заражение), которое определяется у детей пробой Манту. Такие люди называются носителями туберкулезной инфе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 % взрослых жителей нашей планеты являются постоянными носителями микобактерий туберкулеза, т.е. они инфицирова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ые возбудители длительное время могут оставаться в организме, и не всегда вызывают заболевание туберкулез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внедрении в организм микобактерий туберкулеза происходит инфицирование (заражение), которое определяется у детей пробой Манту. Такие люди называются носителями туберкулезной инфек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% взрослых жителей нашей планеты являются постоянными носителями микобактерий туберкулеза, т.е. они инфицирова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возбудители длительное время могут оставаться в организме, и не всегда вызывают заболевание туберкулез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знь развивается лишь у 15% процентов лиц, заразившихся микобактерией туберкулеза. Главной причиной этого является снижение иммунитета. К факторам, снижающим уровень иммунитета, относятся: простудные заболевания, грипп, инфекционные заболевания (ветряная оспа, корь, коклюш), хронический бронхит, бронхиальная астма, сахарный диабет, язвенная болезнь желудка и двенадцатиперстной кишки. СПИД, применение гормональных препаратов для лечения других заболеваний, неполноценное питание, злоупотребление алкоголем и наркотиками, курение, физическое перенапря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очка Коха попадает в человеческий организм и приводит к изменению состояния иммунной систе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активной форме туберкулеза палочка Коха быстро размножается в легких больного и питается человеческими тканями, разрушая легкие, отравляя организм человека продуктами своей жизнедеятельности. Вместе с кровью и лимфой она может распространяться по всему организ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ь развивается лишь у 15% процентов лиц, заразившихся микобактерией туберкулеза. Главной причиной этого является снижение иммунитета. К факторам, снижающим уровень иммунитета, относятся: простудные заболевания, грипп, инфекционные заболевания (ветряная оспа, корь, коклюш), хронический бронхит, бронхиальная астма, сахарный диабет, язвенная болезнь желудка и двенадцатиперстной кишки. СПИД, применение гормональных препаратов для лечения других заболеваний, неполноценное питание, злоупотребление алкоголем и наркотиками, курение, физическое перенапря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лочка Коха попадает в человеческий организм и приводит к изменению состояния иммунной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активной форме туберкулеза палочка Коха быстро размножается в легких больного и питается человеческими тканями, разрушая легкие, отравляя организм человека продуктами своей жизнедеятельности. Вместе с кровью и лимфой она может распространяться по всему организ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может поражать различные органы и ткани человека: глаза, кости, кожу, мочеполовую систему, кишечник и т.д. Тогда туберкулез называется внелегочным, но чаще всего встречается туберкулез легких (83-88 %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рротичес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лег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лиарный туберкуле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может поражать различные органы и ткани человека: глаза, кости, кожу, мочеполовую систему, кишечник и т.д. Тогда туберкулез называется внелегочным, но чаще всего встречается туберкулез легких (83-88 %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рротиче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легк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лиарный туберкуле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ая утомляемость и появление слаб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или отсутствие аппетита, потеря в весе до 5-10 к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ная потливость, особенно по ноч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ение одышки при небольших физических нагрузк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начительное повышение температуры до 37-37,5 граду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шель или покашливание с выделением мокроты, возможно с кровь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распозн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страя утомляемость и появление слаб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или отсутствие аппетита, потеря в весе до 5-10 к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ная потливость, особенно по ноч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ление одышки при небольших физических нагрузка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начительное повышение температуры до 37-37,5 граду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шель или покашливание с выделением мокроты, возможно с кровь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распозн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делать при появл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ов заболевани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явлении первых признаков заболевания самолечением заниматься нельзя, следует как можно скорее обрати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врач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медицинской помощ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делать при появл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ов заболевания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явлении первых признаков заболевания самолечением заниматься нельзя, следует как можно скорее обрати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врач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медицинской помощ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зараженный человек не заболевает сразу, то он становится носителем инфекции. Это можно выявить только с помощью пробы Ман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кция на пробу Манту считается положительной при формировании инфильтрата (папулы) диаметром 5мм и боле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зараженный человек не заболевает сразу, то он становится носителем инфекции. Это можно выявить только с помощью пробы Ман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кция на пробу Манту считается положительной при формировании инфильтрата (папулы) диаметром 5мм и боле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ыявления заболевания кроме пробы Манту проводят флюорографическое обследование (ФЛГ) органов дыхания, которое позволяет обнаружить ранние стадии туберкулеза легких. Этот метод диагностики совершенно безвреден при одно - двукратном исследовании в течение года, доза рентгеновского облучения очень м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выявления заболевания кроме пробы Манту проводят флюорографическое обследование (ФЛГ) органов дыхания, которое позволяет обнаружить ранние стадии туберкулеза легких. Этот метод диагностики совершенно безвреден при одно - двукратном исследовании в течение года, доза рентгеновского облучения очень м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оза для всей планеты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оза для всей планеты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явлении подозрения на заболевание туберкулезом все подозреваемые направляются на консультац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врачу-фтизиатр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меньше времени прошло с момента выявления заражения туберкулезом тем выше вероятность того, что заболевание будет выявлено своевременно. Поэтому фтизиатром должны быть осмотрены все направленные на консультацию лица в течение 10 - 14 дней с момента установления у них инфицирования туберкулез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дозрить и выявить туберкулезный процесс можно следующими основными методам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ри проведении проб Мант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ФЛГ обследован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и исследовании мокроты на наличие бактер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выявлении подозрения на заболевание туберкулезом все подозреваемые направляются на консультац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врачу-фтизиатр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меньше времени прошло с момента выявления заражения туберкулезом тем выше вероятность того, что заболевание будет выявлено своевременно. Поэтому фтизиатром должны быть осмотрены все направленные на консультацию лица в течение 10 - 14 дней с момента установления у них инфицирования туберкулез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дозрить и выявить туберкулезный процесс можно следующими основными методам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ри проведении проб Мант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ФЛГ обследован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и исследовании мокроты на наличие бактер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х пациентов с выявленным туберкулезом можно вылечить, главное — делать это правильно.     Лечение должно быть непрерывным и обязательно должно проводиться одновремен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колькими противотуберкулезными препаратами. Каждое из 4-5 лекарств, которые больной приним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дневно в течение 6 месяце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 разному воздействует на палоч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ха, и только совместное их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может достичь цели — окончательно ее уничтожи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х пациентов с выявленным туберкулезом можно вылечить, главное — делать это правильно.     Лечение должно быть непрерывным и обязательно должно проводиться одновремен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колькими противотуберкулезными препаратами. Каждое из 4-5 лекарств, которые больной приним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дневно в течение 6 месяцев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 разному воздействует на палоч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ха, и только совместное их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может достичь цели — окончательно ее уничтожи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ачественного излечения одних противотуберкулезных лекарств недостаточно. Больным также прописывают физиотерапию, дыхательную гимнастику и препараты, поднимающие иммунитет. Неправильное лечение превращает легко излечимую форму болезни в трудно излечимый лекарственно-устойчивый туберкулез. Хирургическое лечение — удаление части легкого — применяется лишь в запущенных случаях туберкуле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тсутствии лечения смертность от активного туберкулеза доходит до 50% в течение одного-двух лет. В остальных случаях туберкулез переходит в хроническую форму. Хронический больной живет дольше, продолжая выделять микобактерии и заражать окружающ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качественного излечения одних противотуберкулезных лекарств недостаточно. Больным также прописывают физиотерапию, дыхательную гимнастику и препараты, поднимающие иммунитет. Неправильное лечение превращает легко излечимую форму болезни в трудно излечимый лекарственно-устойчивый туберкулез. Хирургическое лечение — удаление части легкого — применяется лишь в запущенных случаях туберкулез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тсутствии лечения смертность от активного туберкулеза доходит до 50% в течение одного-двух лет. В остальных случаях туберкулез переходит в хроническую форму. Хронический больной живет дольше, продолжая выделять микобактерии и заражать окружающи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уменьшить вероятность заражения окружающих, человек, больной активным туберкулезом, должен придерживаться определенных правил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рывать рот платком или рукой и отворачиваться при кашл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жигать бумажные носовые платки немедленно после употреб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оваться отдельной посудой и не позволять пользоваться ей друг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уменьшить вероятность заражения окружающих, человек, больной активным туберкулезом, должен придерживаться определенных прави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рывать рот платком или рукой и отворачиваться при кашл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жигать бумажные носовые платки немедленно после употребле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ьзоваться отдельной посудой и не позволять пользоваться ей други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егайте всего, что может ослабить защитные силы Вашего организма. Берегите свое здоровье. Соблюдайте режим труда, отдыха и питания. Регулярно занимайтесь спортом. Больше находитесь на свежем воздухе. Не курите, не позволяйте курить другим в Вашем окружении. Не злоупотребляйте алкоголем, наркотиками. Чаще проветривайте помещения, где находитесь (класс, квартира и др.). Систематически проводите влажную уборку помещений. Пользуйтесь индивидуальной посудой и средствами гигиены. Обязательно соблюдайте личную гигиену (мытье рук после возвращения с улицы, из транспорта, из туалета и перед едой). Держитесь подальше от кашляющих люд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защитить себ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заражения туберкулезо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бегайте всего, что может ослабить защитные силы Вашего организма. Берегите свое здоровье. Соблюдайте режим труда, отдыха и питания. Регулярно занимайтесь спортом. Больше находитесь на свежем воздухе. Не курите, не позволяйте курить другим в Вашем окружении. Не злоупотребляйте алкоголем, наркотиками. Чаще проветривайте помещения, где находитесь (класс, квартира и др.). Систематически проводите влажную уборку помещений. Пользуйтесь индивидуальной посудой и средствами гигиены. Обязательно соблюдайте личную гигиену (мытье рук после возвращения с улицы, из транспорта, из туалета и перед едой). Держитесь подальше от кашляющих люд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защитить себ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заражения туберкулезом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рекомендациям Всемирной Организации Здравоохранения (ВОЗ), иммунизацию вакциной БЦЖ считают одной из наиболее важных мер по предупреждению туберкуле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рекомендациям Всемирной Организации Здравоохранения (ВОЗ), иммунизацию вакциной БЦЖ считают одной из наиболее важных мер по предупреждению туберкуле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и приказом Минздрава РФ от 27.06.01 г . № 229 «О национальном календаре профилактических прививок и календаре профилактических прививок по эпидемическим показаниям» предусмотрена вакцинация против туберкулеза новорожденных на 3-7 день, первая ревакцинация в 7 л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торая в 14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приказом Минздрава РФ от 27.06.01 г . № 229 «О национальном календаре профилактических прививок и календаре профилактических прививок по эпидемическим показаниям» предусмотрена вакцинация против туберкулеза новорожденных на 3-7 день, первая ревакцинация в 7 л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торая в 14 л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делать, если туберкулез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н Ваш друг или родственник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дл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оветуйте ем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иться к врач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делать, если туберкулез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н Ваш друг или родственник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длен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оветуйте е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титься к врач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сейчас представляет серьезную опасность для населения.  Ежегодно увеличивается количество людей заболевших туберкулезом и умерших от н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йте о сохранении своего здоровья и окружающих Вас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сейчас представляет серьезную опасность для населения.  Ежегодно увеличивается количество людей заболевших туберкулезом и умерших от н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умайте о сохранении своего здоровья и окружающих Вас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ещайте флюорографический кабинет не реже 1 раза в год. Не препятствуйте проведению противотуберкулезных мероприятий и не отказывайтесь от противотуберкулезных привив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ещайте флюорографический кабинет не реже 1 раза в год. Не препятствуйте проведению противотуберкулезных мероприятий и не отказывайтесь от противотуберкулезных привив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- распространенное, инфекционное заболевание, возбудителем которого является микобактерия туберкулеза (МБТ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- одна из самых распространенных инфекций в ми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туберкулез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- распространенное, инфекционное заболевание, возбудителем которого является микобактерия туберкулеза (МБТ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- одна из самых распространенных инфекций в мир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туберкулез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 марта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ирный день борьбы с туберкулез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вол борьбы с туберкулезом – ромаш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 марта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мирный день борьбы с туберкулез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вол борьбы с туберкулезом – ромаш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нникова Екатерина Льво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БОУ СОШ № 8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зержинского рай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а Новосибир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9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ю подготови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никова Екатерина Львов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БОУ СОШ № 8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зерж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Новосибир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- важнейшая социальная и медицин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туберкулез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е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- важнейшая социальная и медицинск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туберкулез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е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ер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то болеет туберкулез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то болеет туберкулезо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стало извес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этом заболевани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пок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460 - 377 г. до нашей эр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у Али Хуса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бн Абдаллах ибн Сина (Авиценн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980 — 103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клинические проявления 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ительный каш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б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кр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щение, снижение ве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охаркан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ливость в ночн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в гру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стало извест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 этом заболевани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покр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60 - 377 г. до нашей эры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у Али Хусай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бн Абдаллах ибн Сина (Авицен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980 — 103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клинические проявления туберкуле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ительный каш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б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кр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щение, снижение ве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вохаркань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ливость в ночное вре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 в гру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Виссарио́н Григо́рь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Бели́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11 — 184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Фёдор Миха́йл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Достое́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21 — 188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Анто́н Па́влович Че́х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60 — 190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Макси́м Го́рь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68 — 193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Виссарио́н Григо́р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Бели́н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11 — 18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Фёдор Миха́йл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Достое́в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21 — 188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Анто́н Па́влович Че́х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60 — 19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Макси́м Го́рь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68 — 193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способствующие заболеванию туберкуле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лагоприятные социальные и экологические условия жиз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лноценное пита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изм, курение, наркомания; — снижение иммуните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сс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сопутствующих заболеваний (диабета, язвенной болезни желудка или 12-перстной кишки, заболеваний легких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способствующие заболеванию туберкуле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лагоприятные социальные и экологические условия жизн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лноценное питани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коголизм, курение, наркомания; — снижение иммуните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сс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сопутствующих заболеваний (диабета, язвенной болезни желудка или 12-перстной кишки, заболеваний легких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берт Ко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43–19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цкий бактериолог, удостоенный в 1905го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белевской пре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физиологии и медицине за открытие и выделение возбудителя туберкуле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открыл возбудителя туберкулеза и доказал, что это не наследственное, а инфекционное заболевани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будитель заболевания – микобактерия туберкулеза – была открыта Робертом Кохом в 1882 год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е назва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очкой Коха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 Ко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43–19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цкий бактериолог, удостоенный в 1905год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белевской пре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физиологии и медицине за открытие и выделение возбудителя туберкулез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то открыл возбудителя туберкулеза и доказал, что это не наследственное, а инфекционное заболевание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будитель заболевания – микобактерия туберкулеза – была открыта Робертом Кохом в 1882 год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е назва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лочкой Коха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0A8C-3633-49A8-9BE6-C79B5467D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B504-68CC-46B4-AAD1-CA1B65BA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BD21-1518-4C57-9888-B37D1591A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080E-3330-4532-9CBD-B1AB1D3CD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BEC4-C623-4CC7-96FF-77D4E043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CC4A-6282-473B-8066-1EFE4960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B9FB-3256-4FF9-9057-4CB67B6F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0AC9-14EC-484B-8E42-39AA4576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2E60-CCCC-41C5-9682-A7666BE1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9040-0541-4051-9708-8F733E38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65C2-7ADE-48A5-BE1D-3BF90D36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7E3A-A227-4A1D-BDCE-9B371251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C08F-9878-4C4A-8B63-72B57FC5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9736-3956-4334-B5BD-BCB09972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11FD-E3D8-4363-A22A-DD67C9D5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89B2-EBC9-4E69-AF17-FC5D9C1A8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CC51-8A20-41F0-8EA9-D1DF7A7F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B5C1-50C8-4691-BC02-D234D4A9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63A5-9D4A-42F9-9171-AE12AA3F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3148-FCE0-4FBE-ACCA-379A6C34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A5FB-BD7D-4055-8B3F-FF9C55E4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6598-BBEE-4E3F-AD0E-C2468AE9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B181-1DF0-4466-8CCA-EA7C8E59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8979-5D22-4904-BE46-2631E416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3e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A26D-BD34-43CA-B2D2-3767C798EC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3e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8110-5D86-4E99-B807-BDED7F3CAA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wmf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120" y="3284640"/>
            <a:ext cx="54118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yal Times New Roman"/>
              </a:rPr>
              <a:t>Автор работы: Черникова  Екатерина, 8 «В»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yal Times New Roman"/>
              </a:rPr>
              <a:t>Руководитель :социальный педагог Афанасьева И.И.</a:t>
            </a:r>
            <a:r>
              <a:rPr b="0" lang="ru-RU" sz="1800" spc="-1" strike="noStrike">
                <a:solidFill>
                  <a:srgbClr val="000000"/>
                </a:solidFill>
                <a:latin typeface="Royal 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8"/>
          <p:cNvSpPr txBox="1"/>
          <p:nvPr/>
        </p:nvSpPr>
        <p:spPr>
          <a:xfrm>
            <a:off x="2627280" y="620640"/>
            <a:ext cx="3527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Профилактика,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97" name="WordArt 9"/>
          <p:cNvSpPr txBox="1"/>
          <p:nvPr/>
        </p:nvSpPr>
        <p:spPr>
          <a:xfrm>
            <a:off x="2050920" y="2637000"/>
            <a:ext cx="511344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ТУБЕРКУЛЕЗА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98" name="WordArt 10"/>
          <p:cNvSpPr txBox="1"/>
          <p:nvPr/>
        </p:nvSpPr>
        <p:spPr>
          <a:xfrm>
            <a:off x="2771640" y="1989000"/>
            <a:ext cx="36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99" name="WordArt 11"/>
          <p:cNvSpPr txBox="1"/>
          <p:nvPr/>
        </p:nvSpPr>
        <p:spPr>
          <a:xfrm>
            <a:off x="2700360" y="1341360"/>
            <a:ext cx="3457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диагностика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100" name="WordArt 12"/>
          <p:cNvSpPr txBox="1"/>
          <p:nvPr/>
        </p:nvSpPr>
        <p:spPr>
          <a:xfrm>
            <a:off x="3564000" y="1989000"/>
            <a:ext cx="244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лечение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5184720" cy="38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 отличие от других микробов, микобактерия туберкулеза чрезвычайно живуча: отлично себя чувствует и в земле, и в снегу, устойчива к воздействию спирта, кислоты и щелочи. Погибнуть она может лишь под длительным воздействием прямых солнечных лучей, высоких температур и хлорсодержащих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Палочки Коха"/>
          <p:cNvPicPr/>
          <p:nvPr/>
        </p:nvPicPr>
        <p:blipFill>
          <a:blip r:embed="rId1"/>
          <a:stretch/>
        </p:blipFill>
        <p:spPr>
          <a:xfrm>
            <a:off x="5479920" y="1844640"/>
            <a:ext cx="3340080" cy="40323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2"/>
          <p:cNvSpPr/>
          <p:nvPr/>
        </p:nvSpPr>
        <p:spPr>
          <a:xfrm>
            <a:off x="332640" y="403920"/>
            <a:ext cx="821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Какими свойст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обладает возбудитель туберкулеза?</a:t>
            </a:r>
            <a:r>
              <a:rPr b="0" lang="ru-RU" sz="3200" spc="-1" strike="noStrike">
                <a:solidFill>
                  <a:srgbClr val="cc33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179280" y="2272320"/>
            <a:ext cx="5184720" cy="350676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При температуре +23 градуса бактерии остаются жизнеспособными до 7 лет, в высохшей мокроте - до 1 года, на страницах книг- до 6 месяцев, на одежде и белье больного - до 4 месяце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10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37974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Как происходит заражение</a:t>
            </a:r>
            <a:br>
              <a:rPr sz="3600"/>
            </a:b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5327640" cy="38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2000" spc="-1" strike="noStrike">
                <a:solidFill>
                  <a:srgbClr val="0033cc"/>
                </a:solidFill>
                <a:latin typeface="Arial Black"/>
              </a:rPr>
              <a:t>Основной источник инфекции — больной открытой формой, у которого в капле мокроты содержится до 2-3 миллионов микобактер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Реже заражение наступает при употреблении в пищу молочных продуктов от больных туберкулезом живо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2000" spc="-1" strike="noStrike">
                <a:solidFill>
                  <a:srgbClr val="6600cc"/>
                </a:solidFill>
                <a:latin typeface="Arial Black"/>
              </a:rPr>
              <a:t>Заражение возможно через предметы обихода больного, при поцелуях, при докуривании чужих сигарет, отмечено также внутриутробное заражение плода у больных беременных женщ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колонии бактерий туберкулеза"/>
          <p:cNvPicPr/>
          <p:nvPr/>
        </p:nvPicPr>
        <p:blipFill>
          <a:blip r:embed="rId1"/>
          <a:stretch/>
        </p:blipFill>
        <p:spPr>
          <a:xfrm>
            <a:off x="5506920" y="1773360"/>
            <a:ext cx="3457800" cy="3335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3str3"/>
          <p:cNvPicPr/>
          <p:nvPr/>
        </p:nvPicPr>
        <p:blipFill>
          <a:blip r:embed="rId2"/>
          <a:stretch/>
        </p:blipFill>
        <p:spPr>
          <a:xfrm>
            <a:off x="250920" y="198900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3str3"/>
          <p:cNvPicPr/>
          <p:nvPr/>
        </p:nvPicPr>
        <p:blipFill>
          <a:blip r:embed="rId3"/>
          <a:stretch/>
        </p:blipFill>
        <p:spPr>
          <a:xfrm>
            <a:off x="250920" y="3357720"/>
            <a:ext cx="342720" cy="239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3str3"/>
          <p:cNvPicPr/>
          <p:nvPr/>
        </p:nvPicPr>
        <p:blipFill>
          <a:blip r:embed="rId4"/>
          <a:stretch/>
        </p:blipFill>
        <p:spPr>
          <a:xfrm>
            <a:off x="250920" y="465300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180" name="11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5704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4000" y="1844640"/>
            <a:ext cx="61563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cc3300"/>
                </a:solidFill>
                <a:latin typeface="Arial Black"/>
              </a:rPr>
              <a:t>Аэрогенный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 вдыхании воздух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душно-капельный (при чихании и кашле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душно-пылевой (в запыленных помещениях, где находился больной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3300"/>
                </a:solidFill>
                <a:latin typeface="Arial Black"/>
              </a:rPr>
              <a:t>Контакт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через предметы быт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3300"/>
                </a:solidFill>
                <a:latin typeface="Arial Black"/>
              </a:rPr>
              <a:t>Пищев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 употреблении в пищу зараженных продуктов питани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7" descr="туб1"/>
          <p:cNvPicPr/>
          <p:nvPr/>
        </p:nvPicPr>
        <p:blipFill>
          <a:blip r:embed="rId1"/>
          <a:stretch/>
        </p:blipFill>
        <p:spPr>
          <a:xfrm>
            <a:off x="6084720" y="1700280"/>
            <a:ext cx="2881440" cy="36734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9"/>
          <p:cNvSpPr/>
          <p:nvPr/>
        </p:nvSpPr>
        <p:spPr>
          <a:xfrm>
            <a:off x="395280" y="476280"/>
            <a:ext cx="83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пути заражения микобактериями туберкул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12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4248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4"/>
          <p:cNvSpPr txBox="1"/>
          <p:nvPr/>
        </p:nvSpPr>
        <p:spPr>
          <a:xfrm>
            <a:off x="1979640" y="692280"/>
            <a:ext cx="489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Что происходит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79280" y="1638720"/>
            <a:ext cx="777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ри внедрении в организм микобактерий туберкулеза происходит инфицирование (заражение), которое определяется у детей пробой Манту. Такие люди называются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осителями туберкулезной инфе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1187280" y="4221000"/>
            <a:ext cx="82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80 % взрослых жителей нашей планеты являются постоянными носителями микобактерий туберкулеза, т.е. они инфицирова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0" y="1538280"/>
            <a:ext cx="9144000" cy="374976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 Black"/>
              </a:rPr>
              <a:t>Живые возбудители длительное время могут оставаться в организме, и не всегда вызывают заболевание туберкулезо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13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60000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4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"/>
          <p:cNvSpPr/>
          <p:nvPr/>
        </p:nvSpPr>
        <p:spPr>
          <a:xfrm>
            <a:off x="0" y="1216080"/>
            <a:ext cx="9144000" cy="563976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езнь развивается лишь у 15% процентов лиц, заразившихся микобактерией туберкулеза. Главной причиной этого является снижение иммунитета. К факторам, снижающим уровень иммунитета, относятся: простудные заболевания, грипп, инфекционные заболевания (ветряная оспа, корь, коклюш), хронический бронхит, бронхиальная астма, сахарный диабет, язвенная болезнь желудка и двенадцатиперстной кишки. СПИД, применение гормональных препаратов для лечения других заболеваний, неполноценное питание, злоупотребление алкоголем и наркотиками, курение, физическое перенапря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96" name="Picture 7" descr="tuberculosis_roentgen_300"/>
          <p:cNvPicPr/>
          <p:nvPr/>
        </p:nvPicPr>
        <p:blipFill>
          <a:blip r:embed="rId1"/>
          <a:stretch/>
        </p:blipFill>
        <p:spPr>
          <a:xfrm>
            <a:off x="5219640" y="1413000"/>
            <a:ext cx="3702240" cy="4537080"/>
          </a:xfrm>
          <a:prstGeom prst="rect">
            <a:avLst/>
          </a:prstGeom>
          <a:ln w="0">
            <a:noFill/>
          </a:ln>
        </p:spPr>
      </p:pic>
      <p:sp>
        <p:nvSpPr>
          <p:cNvPr id="197" name="WordArt 9"/>
          <p:cNvSpPr txBox="1"/>
          <p:nvPr/>
        </p:nvSpPr>
        <p:spPr>
          <a:xfrm>
            <a:off x="1979640" y="333360"/>
            <a:ext cx="489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Что происходит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pic>
        <p:nvPicPr>
          <p:cNvPr id="198" name="14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5076720" cy="453528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лочка Коха попадает в человеческий организм и приводит к изменению состояния иммунной систе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активной форме туберкулеза палочка Коха быстро размножается в легких больного и питается человеческими тканями, разрушая легкие, отравляя организм человека продуктами своей жизнедеятельности. Вместе с кровью и лимфой она может распространяться по всему организ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48600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7">
                                  <p:stCondLst>
                                    <p:cond delay="1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7">
                                  <p:stCondLst>
                                    <p:cond delay="1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7">
                                  <p:stCondLst>
                                    <p:cond delay="1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1700280"/>
            <a:ext cx="615636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уберкулез может поражать различные органы и ткани человека: глаза, кости, кожу, мочеполовую систему, кишечник и т.д. Тогда туберкулез называется внелегочным, но чаще всего встречается туберкулез легких (83-88 %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tuber7"/>
          <p:cNvPicPr/>
          <p:nvPr/>
        </p:nvPicPr>
        <p:blipFill>
          <a:blip r:embed="rId1"/>
          <a:stretch/>
        </p:blipFill>
        <p:spPr>
          <a:xfrm>
            <a:off x="6877080" y="1557360"/>
            <a:ext cx="1582560" cy="17953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7"/>
          <p:cNvSpPr/>
          <p:nvPr/>
        </p:nvSpPr>
        <p:spPr>
          <a:xfrm>
            <a:off x="6446160" y="34999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рротиче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беркуле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г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9" descr="i?id=12635762&amp;tov=7"/>
          <p:cNvPicPr/>
          <p:nvPr/>
        </p:nvPicPr>
        <p:blipFill>
          <a:blip r:embed="rId2"/>
          <a:stretch/>
        </p:blipFill>
        <p:spPr>
          <a:xfrm>
            <a:off x="6300720" y="4149720"/>
            <a:ext cx="1582920" cy="18018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0"/>
          <p:cNvSpPr/>
          <p:nvPr/>
        </p:nvSpPr>
        <p:spPr>
          <a:xfrm>
            <a:off x="5363640" y="5805360"/>
            <a:ext cx="26730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" rIns="9360" tIns="-63360" bIns="23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лиарны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беркуле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WordArt 12"/>
          <p:cNvSpPr txBox="1"/>
          <p:nvPr/>
        </p:nvSpPr>
        <p:spPr>
          <a:xfrm>
            <a:off x="1979640" y="333360"/>
            <a:ext cx="489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Что происходит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pic>
        <p:nvPicPr>
          <p:cNvPr id="208" name="15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14677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0550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ыстрая утомляемость и появление слабост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нижение или отсутствие аппетита, потеря в весе до 5-10 кг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овышенная потливость, особенно по ночам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оявление одышки при небольших физических нагрузках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езначительное повышение температуры до 37-37,5 градусов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Кашель или покашливание с выделением мокроты, возможно с кровью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3str3"/>
          <p:cNvPicPr/>
          <p:nvPr/>
        </p:nvPicPr>
        <p:blipFill>
          <a:blip r:embed="rId1"/>
          <a:stretch/>
        </p:blipFill>
        <p:spPr>
          <a:xfrm>
            <a:off x="324000" y="1916280"/>
            <a:ext cx="342720" cy="239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3str3"/>
          <p:cNvPicPr/>
          <p:nvPr/>
        </p:nvPicPr>
        <p:blipFill>
          <a:blip r:embed="rId2"/>
          <a:stretch/>
        </p:blipFill>
        <p:spPr>
          <a:xfrm>
            <a:off x="324000" y="234936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3str3"/>
          <p:cNvPicPr/>
          <p:nvPr/>
        </p:nvPicPr>
        <p:blipFill>
          <a:blip r:embed="rId3"/>
          <a:stretch/>
        </p:blipFill>
        <p:spPr>
          <a:xfrm>
            <a:off x="250920" y="2997360"/>
            <a:ext cx="342720" cy="239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3str3"/>
          <p:cNvPicPr/>
          <p:nvPr/>
        </p:nvPicPr>
        <p:blipFill>
          <a:blip r:embed="rId4"/>
          <a:stretch/>
        </p:blipFill>
        <p:spPr>
          <a:xfrm>
            <a:off x="250920" y="350028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3str3"/>
          <p:cNvPicPr/>
          <p:nvPr/>
        </p:nvPicPr>
        <p:blipFill>
          <a:blip r:embed="rId5"/>
          <a:stretch/>
        </p:blipFill>
        <p:spPr>
          <a:xfrm>
            <a:off x="250920" y="422100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3str3"/>
          <p:cNvPicPr/>
          <p:nvPr/>
        </p:nvPicPr>
        <p:blipFill>
          <a:blip r:embed="rId6"/>
          <a:stretch/>
        </p:blipFill>
        <p:spPr>
          <a:xfrm>
            <a:off x="324000" y="4941720"/>
            <a:ext cx="342720" cy="239760"/>
          </a:xfrm>
          <a:prstGeom prst="rect">
            <a:avLst/>
          </a:prstGeom>
          <a:ln w="0">
            <a:noFill/>
          </a:ln>
        </p:spPr>
      </p:pic>
      <p:sp>
        <p:nvSpPr>
          <p:cNvPr id="218" name="WordArt 11"/>
          <p:cNvSpPr txBox="1"/>
          <p:nvPr/>
        </p:nvSpPr>
        <p:spPr>
          <a:xfrm>
            <a:off x="1619280" y="476280"/>
            <a:ext cx="532908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Как распознать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pic>
        <p:nvPicPr>
          <p:cNvPr id="219" name="16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52172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7">
                                  <p:stCondLst>
                                    <p:cond delay="5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7">
                                  <p:stCondLst>
                                    <p:cond delay="7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7">
                                  <p:stCondLst>
                                    <p:cond delay="9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7">
                                  <p:stCondLst>
                                    <p:cond delay="1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5"/>
          <p:cNvSpPr txBox="1"/>
          <p:nvPr/>
        </p:nvSpPr>
        <p:spPr>
          <a:xfrm>
            <a:off x="684360" y="549360"/>
            <a:ext cx="77691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Что делать при появлении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признаков заболевания? 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468360" y="2148840"/>
            <a:ext cx="8207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При появлении первых признаков заболевания самолечением заниматься нельзя, следует как можно скорее обрати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327680" y="5013360"/>
            <a:ext cx="687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3300"/>
                </a:solidFill>
                <a:uFillTx/>
                <a:latin typeface="Arial Black"/>
              </a:rPr>
              <a:t>к врач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3300"/>
                </a:solidFill>
                <a:uFillTx/>
                <a:latin typeface="Arial Black"/>
              </a:rPr>
              <a:t>за медицинской помощ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17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10537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5" repeatCount="5000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агностика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1915920"/>
            <a:ext cx="46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Если зараженный человек не заболевает сразу, то он становится носителем инфекции. Это можно выявить только с помощью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пробы Манту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9" descr=""/>
          <p:cNvPicPr/>
          <p:nvPr/>
        </p:nvPicPr>
        <p:blipFill>
          <a:blip r:embed="rId1"/>
          <a:stretch/>
        </p:blipFill>
        <p:spPr>
          <a:xfrm>
            <a:off x="468360" y="3645000"/>
            <a:ext cx="3456000" cy="2263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"/>
          <p:cNvPicPr/>
          <p:nvPr/>
        </p:nvPicPr>
        <p:blipFill>
          <a:blip r:embed="rId2"/>
          <a:stretch/>
        </p:blipFill>
        <p:spPr>
          <a:xfrm>
            <a:off x="5508720" y="1052640"/>
            <a:ext cx="2692440" cy="32400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11"/>
          <p:cNvSpPr/>
          <p:nvPr/>
        </p:nvSpPr>
        <p:spPr>
          <a:xfrm>
            <a:off x="4572000" y="4512240"/>
            <a:ext cx="4162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еакция на пробу Манту считается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положительной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ри формировании инфильтрата (папулы) диаметром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5мм и более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18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3061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агностика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46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2"/>
          <p:cNvPicPr/>
          <p:nvPr/>
        </p:nvPicPr>
        <p:blipFill>
          <a:blip r:embed="rId1"/>
          <a:stretch/>
        </p:blipFill>
        <p:spPr>
          <a:xfrm>
            <a:off x="5148360" y="1125360"/>
            <a:ext cx="3744720" cy="360072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7"/>
          <p:cNvSpPr/>
          <p:nvPr/>
        </p:nvSpPr>
        <p:spPr>
          <a:xfrm>
            <a:off x="250920" y="1768680"/>
            <a:ext cx="511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ыявления заболевания кроме пробы Манту проводят </a:t>
            </a:r>
            <a:r>
              <a:rPr b="0" lang="ru-RU" sz="2400" spc="-1" strike="noStrike">
                <a:solidFill>
                  <a:srgbClr val="cc3300"/>
                </a:solidFill>
                <a:latin typeface="Arial Black"/>
              </a:rPr>
              <a:t>флюорографическое обследование (ФЛГ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рганов дыхания, которое позволяет обнаружить ранние стадии туберкулеза легких. Этот метод диагностики совершенно безвреден при одно - двукратном исследовании в течение года, доза рентгеновского облучения очень м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19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19845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07280" cy="252108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ddf4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3600" spc="-1" strike="noStrike">
                <a:solidFill>
                  <a:srgbClr val="0000ff"/>
                </a:solidFill>
                <a:latin typeface="Arial Black"/>
              </a:rPr>
              <a:t>Туберкулез: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Arial Black"/>
              </a:rPr>
              <a:t>угроза для всей планеты</a:t>
            </a: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pom"/>
          <p:cNvPicPr/>
          <p:nvPr/>
        </p:nvPicPr>
        <p:blipFill>
          <a:blip r:embed="rId1"/>
          <a:stretch/>
        </p:blipFill>
        <p:spPr>
          <a:xfrm>
            <a:off x="3132000" y="3284640"/>
            <a:ext cx="2735280" cy="23050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1187280" y="333360"/>
            <a:ext cx="769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агностика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68360" y="1888200"/>
            <a:ext cx="7991280" cy="417816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При выявлении подозрения на заболевание туберкулезом все подозреваемые направляются на консультац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к врачу-фтизиатру</a:t>
            </a: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Чем меньше времени прошло с момента выявления заражения туберкулезом тем выше вероятность того, что заболевание будет выявлено своевременно. Поэтому фтизиатром должны быть осмотрены все направленные на консультацию лица в течение 10 - 14 дней с момента установления у них инфицирования туберкулез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324000" y="1760400"/>
            <a:ext cx="8569080" cy="448308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Заподозрить и выявить туберкулезный процесс можно следующими основными методам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1.при проведении проб Мант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2. ФЛГ обследовани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3. при исследовании мокроты на наличие бактери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20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46335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5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Лечение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50292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8" descr="Картинка 6 из 3246"/>
          <p:cNvPicPr/>
          <p:nvPr/>
        </p:nvPicPr>
        <p:blipFill>
          <a:blip r:embed="rId1"/>
          <a:stretch/>
        </p:blipFill>
        <p:spPr>
          <a:xfrm>
            <a:off x="5796000" y="2347920"/>
            <a:ext cx="3097080" cy="35290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1"/>
          <p:cNvSpPr/>
          <p:nvPr/>
        </p:nvSpPr>
        <p:spPr>
          <a:xfrm>
            <a:off x="179280" y="1557360"/>
            <a:ext cx="667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х пациентов с выявленным туберкулезом можно вылечить, главное — делать это правильно.     Лечение должно быть непрерывным и обязательно должно проводиться одновремен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колькими противотуберкулезными препаратами. Каждое из 4-5 лекарств, которые больной приним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жедневно в течение 6 месяце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 разному воздействует на пало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ха, и только совместное их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может достичь цели — окончательно ее уничтож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21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27249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Лечение.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216000" y="1197000"/>
            <a:ext cx="8893080" cy="558036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качественного излечения одних противотуберкулезных лекарств недостаточно. Больным также прописывают </a:t>
            </a: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физиотерапию, дыхательную гимнастику и препараты, поднимающие иммунитет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еправильное лечение превращает легко излечимую форму болезни в трудно излечимый лекарственно-устойчивый туберкулез. Хирургическое лечение — удаление части легкого — применяется лишь в запущенных случаях туберкуле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отсутствии лечения смертность от активного туберкулеза доходит до 50% в течение одного-двух лет. В остальных случаях туберкулез переходит в хроническую форму. Хронический больной живет дольше, продолжая выделять микобактерии и заражать окружающ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22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42813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10" descr="туб1"/>
          <p:cNvPicPr/>
          <p:nvPr/>
        </p:nvPicPr>
        <p:blipFill>
          <a:blip r:embed="rId1"/>
          <a:stretch/>
        </p:blipFill>
        <p:spPr>
          <a:xfrm>
            <a:off x="6588000" y="2637000"/>
            <a:ext cx="2376720" cy="29541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Чтобы уменьшить вероятность заражения окружающих, человек, больной активным туберкулезом, должен придерживаться определенных правил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рикрывать рот платком или рукой и отворачиваться при кашле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жигать бумажные носовые платки немедленно после употребления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ользоваться отдельной посудой и не позволять пользоваться ей другим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ves1"/>
          <p:cNvPicPr/>
          <p:nvPr/>
        </p:nvPicPr>
        <p:blipFill>
          <a:blip r:embed="rId2"/>
          <a:stretch/>
        </p:blipFill>
        <p:spPr>
          <a:xfrm>
            <a:off x="6443640" y="333360"/>
            <a:ext cx="1379520" cy="1339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3str3"/>
          <p:cNvPicPr/>
          <p:nvPr/>
        </p:nvPicPr>
        <p:blipFill>
          <a:blip r:embed="rId3"/>
          <a:stretch/>
        </p:blipFill>
        <p:spPr>
          <a:xfrm>
            <a:off x="324000" y="357336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3str3"/>
          <p:cNvPicPr/>
          <p:nvPr/>
        </p:nvPicPr>
        <p:blipFill>
          <a:blip r:embed="rId4"/>
          <a:stretch/>
        </p:blipFill>
        <p:spPr>
          <a:xfrm>
            <a:off x="324000" y="443700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3str3"/>
          <p:cNvPicPr/>
          <p:nvPr/>
        </p:nvPicPr>
        <p:blipFill>
          <a:blip r:embed="rId5"/>
          <a:stretch/>
        </p:blipFill>
        <p:spPr>
          <a:xfrm>
            <a:off x="324000" y="5229360"/>
            <a:ext cx="342720" cy="239400"/>
          </a:xfrm>
          <a:prstGeom prst="rect">
            <a:avLst/>
          </a:prstGeom>
          <a:ln w="0">
            <a:noFill/>
          </a:ln>
        </p:spPr>
      </p:pic>
      <p:sp>
        <p:nvSpPr>
          <p:cNvPr id="261" name="WordArt 9"/>
          <p:cNvSpPr txBox="1"/>
          <p:nvPr/>
        </p:nvSpPr>
        <p:spPr>
          <a:xfrm>
            <a:off x="900000" y="620640"/>
            <a:ext cx="431964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Профилак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  <p:pic>
        <p:nvPicPr>
          <p:cNvPr id="262" name="23.wav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20334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71280" y="1649160"/>
            <a:ext cx="8964720" cy="484884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Избегайте всего, что может ослабить защитные силы Вашего организма. Берегите свое здоровье. Соблюдайте режим труда, отдыха и питания. Регулярно занимайтесь спортом. Больше находитесь на свежем воздухе. Не курите, не позволяйте курить другим в Вашем окружении. Не злоупотребляйте алкоголем, наркотиками. Чаще проветривайте помещения, где находитесь (класс, квартира и др.). Систематически проводите влажную уборку помещений. Пользуйтесь индивидуальной посудой и средствами гигиены. Обязательно соблюдайте личную гигиену (мытье рук после возвращения с улицы, из транспорта, из туалета и перед едой). Держитесь подальше от кашляющих люд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1252080" y="332280"/>
            <a:ext cx="655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 Black"/>
              </a:rPr>
              <a:t>Как защитить себ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 Black"/>
              </a:rPr>
              <a:t>от заражения туберкулезом?</a:t>
            </a:r>
            <a:r>
              <a:rPr b="0" lang="ru-RU" sz="3200" spc="-1" strike="noStrike">
                <a:solidFill>
                  <a:srgbClr val="cc33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24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9" dur="41526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250920" y="1088280"/>
            <a:ext cx="8424720" cy="155700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 Black"/>
              </a:rPr>
              <a:t>Согласно рекомендациям Всемирной Организации Здравоохранения (ВОЗ), иммунизацию вакциной БЦЖ считают одной из наиболее важных мер по предупреждению туберкуле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3924360" y="2852640"/>
            <a:ext cx="4689360" cy="3125880"/>
          </a:xfrm>
          <a:prstGeom prst="rect">
            <a:avLst/>
          </a:prstGeom>
          <a:ln w="0">
            <a:noFill/>
          </a:ln>
        </p:spPr>
      </p:pic>
      <p:pic>
        <p:nvPicPr>
          <p:cNvPr id="270" name="25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41117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4"/>
          <p:cNvSpPr/>
          <p:nvPr/>
        </p:nvSpPr>
        <p:spPr>
          <a:xfrm>
            <a:off x="0" y="547560"/>
            <a:ext cx="9144000" cy="350676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В России приказом Минздрава РФ от 27.06.01 г . № 229 «О национальном календаре профилактических прививок и календаре профилактических прививок по эпидемическим показаниям» предусмотрена вакцинация против туберкулеза новорожденных </a:t>
            </a: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на 3-7 день</a:t>
            </a: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, первая ревакцинация </a:t>
            </a: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в 7 лет</a:t>
            </a: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и вторая </a:t>
            </a: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в 14 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395280" y="4292640"/>
            <a:ext cx="2232000" cy="20556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"/>
          <p:cNvPicPr/>
          <p:nvPr/>
        </p:nvPicPr>
        <p:blipFill>
          <a:blip r:embed="rId2"/>
          <a:stretch/>
        </p:blipFill>
        <p:spPr>
          <a:xfrm>
            <a:off x="6804000" y="4221000"/>
            <a:ext cx="1873440" cy="2087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"/>
          <p:cNvPicPr/>
          <p:nvPr/>
        </p:nvPicPr>
        <p:blipFill>
          <a:blip r:embed="rId3"/>
          <a:stretch/>
        </p:blipFill>
        <p:spPr>
          <a:xfrm>
            <a:off x="3708360" y="422100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276" name="26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1" dur="20813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WordArt 5"/>
          <p:cNvSpPr txBox="1"/>
          <p:nvPr/>
        </p:nvSpPr>
        <p:spPr>
          <a:xfrm>
            <a:off x="826920" y="260280"/>
            <a:ext cx="7506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Что делать, если туберкулезом 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болен Ваш друг или родственник? 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1333440" y="2238480"/>
            <a:ext cx="6311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Arial Black"/>
              </a:rPr>
              <a:t>Немедлен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Arial Black"/>
              </a:rPr>
              <a:t>посоветуйте ем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Arial Black"/>
              </a:rPr>
              <a:t>обратиться к врачу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27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" dur="26301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9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83" name="WordArt 9"/>
          <p:cNvSpPr txBox="1"/>
          <p:nvPr/>
        </p:nvSpPr>
        <p:spPr>
          <a:xfrm>
            <a:off x="3059280" y="836640"/>
            <a:ext cx="3087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ПОМНИ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395280" y="170028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Туберкулез сейчас представляет серьезную опасность для населения.  Ежегодно увеличивается количество людей заболевших туберкулезом и умерших от н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Подумайте о сохранении своего здоровья и окружающих Вас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12" descr="&amp;usg=AFQjCNEIKSW-FOzZQEtsKAcbgKBFgvhwuw"/>
          <p:cNvPicPr/>
          <p:nvPr/>
        </p:nvPicPr>
        <p:blipFill>
          <a:blip r:embed="rId1"/>
          <a:stretch/>
        </p:blipFill>
        <p:spPr>
          <a:xfrm>
            <a:off x="5003640" y="1989000"/>
            <a:ext cx="3810240" cy="3241800"/>
          </a:xfrm>
          <a:prstGeom prst="rect">
            <a:avLst/>
          </a:prstGeom>
          <a:ln w="0">
            <a:noFill/>
          </a:ln>
        </p:spPr>
      </p:pic>
      <p:pic>
        <p:nvPicPr>
          <p:cNvPr id="286" name="28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87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5" dur="13739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289" name="Picture 4" descr="0607241539340_m"/>
          <p:cNvPicPr/>
          <p:nvPr/>
        </p:nvPicPr>
        <p:blipFill>
          <a:blip r:embed="rId1"/>
          <a:stretch/>
        </p:blipFill>
        <p:spPr>
          <a:xfrm>
            <a:off x="6588000" y="260280"/>
            <a:ext cx="1749600" cy="1440000"/>
          </a:xfrm>
          <a:prstGeom prst="rect">
            <a:avLst/>
          </a:prstGeom>
          <a:ln w="0">
            <a:noFill/>
          </a:ln>
        </p:spPr>
      </p:pic>
      <p:sp>
        <p:nvSpPr>
          <p:cNvPr id="290" name="WordArt 5"/>
          <p:cNvSpPr txBox="1"/>
          <p:nvPr/>
        </p:nvSpPr>
        <p:spPr>
          <a:xfrm>
            <a:off x="2627280" y="765000"/>
            <a:ext cx="3087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ПОМНИ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250920" y="191628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Посещайте флюорографический кабинет не реже 1 раза в год. Не препятствуйте проведению противотуберкулезных мероприятий и не отказывайтесь от противотуберкулезных привив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8" descr=""/>
          <p:cNvPicPr/>
          <p:nvPr/>
        </p:nvPicPr>
        <p:blipFill>
          <a:blip r:embed="rId2"/>
          <a:stretch/>
        </p:blipFill>
        <p:spPr>
          <a:xfrm>
            <a:off x="5508720" y="3789360"/>
            <a:ext cx="3311280" cy="2719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9" descr=""/>
          <p:cNvPicPr/>
          <p:nvPr/>
        </p:nvPicPr>
        <p:blipFill>
          <a:blip r:embed="rId3"/>
          <a:stretch/>
        </p:blipFill>
        <p:spPr>
          <a:xfrm>
            <a:off x="468360" y="3860640"/>
            <a:ext cx="4032360" cy="2640240"/>
          </a:xfrm>
          <a:prstGeom prst="rect">
            <a:avLst/>
          </a:prstGeom>
          <a:ln w="0">
            <a:noFill/>
          </a:ln>
        </p:spPr>
      </p:pic>
      <p:pic>
        <p:nvPicPr>
          <p:cNvPr id="294" name="29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95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1" dur="11654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60520"/>
            <a:ext cx="8353440" cy="987120"/>
          </a:xfrm>
          <a:prstGeom prst="rect">
            <a:avLst/>
          </a:prstGeom>
          <a:solidFill>
            <a:srgbClr val="a3e0ff"/>
          </a:solidFill>
          <a:ln w="9360">
            <a:solidFill>
              <a:srgbClr val="97cdcc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7696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100" spc="-1" strike="noStrike">
                <a:solidFill>
                  <a:srgbClr val="cc3300"/>
                </a:solidFill>
                <a:latin typeface="Arial"/>
              </a:rPr>
              <a:t>Туберкулез </a:t>
            </a:r>
            <a:r>
              <a:rPr b="1" i="1" lang="en-US" sz="3100" spc="-1" strike="noStrike">
                <a:solidFill>
                  <a:srgbClr val="cc3300"/>
                </a:solidFill>
                <a:latin typeface="Arial"/>
              </a:rPr>
              <a:t>- </a:t>
            </a:r>
            <a:r>
              <a:rPr b="1" i="1" lang="ru-RU" sz="3100" spc="-1" strike="noStrike">
                <a:solidFill>
                  <a:srgbClr val="cc3300"/>
                </a:solidFill>
                <a:latin typeface="Arial"/>
              </a:rPr>
              <a:t>распространенное</a:t>
            </a:r>
            <a:r>
              <a:rPr b="1" i="1" lang="en-US" sz="3100" spc="-1" strike="noStrike">
                <a:solidFill>
                  <a:srgbClr val="cc3300"/>
                </a:solidFill>
                <a:latin typeface="Arial"/>
              </a:rPr>
              <a:t>, </a:t>
            </a:r>
            <a:r>
              <a:rPr b="1" i="1" lang="ru-RU" sz="3100" spc="-1" strike="noStrike">
                <a:solidFill>
                  <a:srgbClr val="cc3300"/>
                </a:solidFill>
                <a:latin typeface="Arial"/>
              </a:rPr>
              <a:t>инфекционное заболевание</a:t>
            </a:r>
            <a:r>
              <a:rPr b="1" i="1" lang="en-US" sz="3100" spc="-1" strike="noStrike">
                <a:solidFill>
                  <a:srgbClr val="cc3300"/>
                </a:solidFill>
                <a:latin typeface="Arial"/>
              </a:rPr>
              <a:t>, </a:t>
            </a:r>
            <a:r>
              <a:rPr b="1" i="1" lang="ru-RU" sz="3100" spc="-1" strike="noStrike">
                <a:solidFill>
                  <a:srgbClr val="cc3300"/>
                </a:solidFill>
                <a:latin typeface="Arial"/>
              </a:rPr>
              <a:t>возбудителем которого является микобактерия туберкулеза </a:t>
            </a:r>
            <a:r>
              <a:rPr b="1" i="1" lang="en-US" sz="31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i="1" lang="ru-RU" sz="3100" spc="-1" strike="noStrike">
                <a:solidFill>
                  <a:srgbClr val="cc3300"/>
                </a:solidFill>
                <a:latin typeface="Arial"/>
              </a:rPr>
              <a:t>МБТ</a:t>
            </a:r>
            <a:r>
              <a:rPr b="1" i="1" lang="en-US" sz="3100" spc="-1" strike="noStrike">
                <a:solidFill>
                  <a:srgbClr val="cc3300"/>
                </a:solidFill>
                <a:latin typeface="Arial"/>
              </a:rPr>
              <a:t>).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Туберкулез - одна из самых распространенных инфекций в мире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5"/>
          <p:cNvSpPr txBox="1"/>
          <p:nvPr/>
        </p:nvSpPr>
        <p:spPr>
          <a:xfrm>
            <a:off x="611280" y="620640"/>
            <a:ext cx="792144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Что такое туберкулез?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09" name="3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81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640" y="856800"/>
            <a:ext cx="8136000" cy="226692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ddf4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336666"/>
                </a:solidFill>
                <a:latin typeface="Arial Black"/>
              </a:rPr>
              <a:t>24 марта – </a:t>
            </a:r>
            <a:br>
              <a:rPr sz="4500"/>
            </a:br>
            <a:r>
              <a:rPr b="0" lang="ru-RU" sz="4500" spc="-1" strike="noStrike">
                <a:solidFill>
                  <a:srgbClr val="336666"/>
                </a:solidFill>
                <a:latin typeface="Arial Black"/>
              </a:rPr>
              <a:t>Всемирный день борьбы с туберкулезом</a:t>
            </a:r>
            <a:r>
              <a:rPr b="0" i="1" lang="ru-RU" sz="45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4" descr="pom"/>
          <p:cNvPicPr/>
          <p:nvPr/>
        </p:nvPicPr>
        <p:blipFill>
          <a:blip r:embed="rId1"/>
          <a:stretch/>
        </p:blipFill>
        <p:spPr>
          <a:xfrm>
            <a:off x="3132000" y="3284640"/>
            <a:ext cx="2735280" cy="230508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5"/>
          <p:cNvSpPr/>
          <p:nvPr/>
        </p:nvSpPr>
        <p:spPr>
          <a:xfrm>
            <a:off x="775080" y="6068880"/>
            <a:ext cx="778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Символ борьбы с туберкулезом – ромаш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30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7813" fill="hold"/>
                                        <p:tgtEl>
                                          <p:spTgt spid="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Презентацию подготовил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99"/>
                </a:solidFill>
                <a:latin typeface="Arial"/>
              </a:rPr>
              <a:t>Бронникова Екатерина Львовна,</a:t>
            </a: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учитель МБОУ СОШ № 82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Дзержинского район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города Новосибирск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2009 год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8280360" cy="1143000"/>
          </a:xfrm>
          <a:prstGeom prst="rect">
            <a:avLst/>
          </a:prstGeom>
          <a:solidFill>
            <a:srgbClr val="a3e0ff"/>
          </a:solidFill>
          <a:ln w="9360">
            <a:solidFill>
              <a:srgbClr val="97cdcc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770960" cy="94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3300"/>
                </a:solidFill>
                <a:latin typeface="Arial"/>
              </a:rPr>
              <a:t>Туберкулез </a:t>
            </a:r>
            <a:r>
              <a:rPr b="1" i="1" lang="en-US" sz="2700" spc="-1" strike="noStrike">
                <a:solidFill>
                  <a:srgbClr val="cc3300"/>
                </a:solidFill>
                <a:latin typeface="Arial"/>
              </a:rPr>
              <a:t>- </a:t>
            </a:r>
            <a:r>
              <a:rPr b="1" i="1" lang="ru-RU" sz="2700" spc="-1" strike="noStrike">
                <a:solidFill>
                  <a:srgbClr val="cc3300"/>
                </a:solidFill>
                <a:latin typeface="Arial"/>
              </a:rPr>
              <a:t>важнейшая социальная и медицинская проблем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9"/>
          <p:cNvGraphicFramePr/>
          <p:nvPr/>
        </p:nvGraphicFramePr>
        <p:xfrm>
          <a:off x="901800" y="3754440"/>
          <a:ext cx="4755960" cy="21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3754440"/>
                    <a:ext cx="475596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WordArt 5"/>
          <p:cNvSpPr txBox="1"/>
          <p:nvPr/>
        </p:nvSpPr>
        <p:spPr>
          <a:xfrm>
            <a:off x="611280" y="620640"/>
            <a:ext cx="792144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Что такое туберкулез?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872280" y="306864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Заболевае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084720" y="31417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мер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13"/>
          <p:cNvGraphicFramePr/>
          <p:nvPr/>
        </p:nvGraphicFramePr>
        <p:xfrm>
          <a:off x="6083280" y="3608280"/>
          <a:ext cx="2206800" cy="224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3280" y="3608280"/>
                    <a:ext cx="2206800" cy="22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4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8879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j0219106"/>
          <p:cNvPicPr/>
          <p:nvPr/>
        </p:nvPicPr>
        <p:blipFill>
          <a:blip r:embed="rId1"/>
          <a:stretch/>
        </p:blipFill>
        <p:spPr>
          <a:xfrm>
            <a:off x="6443640" y="4292640"/>
            <a:ext cx="1944720" cy="1758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j0213513"/>
          <p:cNvPicPr/>
          <p:nvPr/>
        </p:nvPicPr>
        <p:blipFill>
          <a:blip r:embed="rId2"/>
          <a:stretch/>
        </p:blipFill>
        <p:spPr>
          <a:xfrm>
            <a:off x="539640" y="4581360"/>
            <a:ext cx="2592360" cy="1879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j0205360"/>
          <p:cNvPicPr/>
          <p:nvPr/>
        </p:nvPicPr>
        <p:blipFill>
          <a:blip r:embed="rId3"/>
          <a:stretch/>
        </p:blipFill>
        <p:spPr>
          <a:xfrm>
            <a:off x="6877080" y="2060640"/>
            <a:ext cx="1811160" cy="1558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j0205361"/>
          <p:cNvPicPr/>
          <p:nvPr/>
        </p:nvPicPr>
        <p:blipFill>
          <a:blip r:embed="rId4"/>
          <a:stretch/>
        </p:blipFill>
        <p:spPr>
          <a:xfrm>
            <a:off x="468360" y="2060640"/>
            <a:ext cx="1800000" cy="1631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j0236210"/>
          <p:cNvPicPr/>
          <p:nvPr/>
        </p:nvPicPr>
        <p:blipFill>
          <a:blip r:embed="rId5"/>
          <a:stretch/>
        </p:blipFill>
        <p:spPr>
          <a:xfrm>
            <a:off x="3348000" y="703440"/>
            <a:ext cx="2664000" cy="925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9" descr="j0283229"/>
          <p:cNvPicPr/>
          <p:nvPr/>
        </p:nvPicPr>
        <p:blipFill>
          <a:blip r:embed="rId6"/>
          <a:stretch/>
        </p:blipFill>
        <p:spPr>
          <a:xfrm>
            <a:off x="2627280" y="1916280"/>
            <a:ext cx="3665520" cy="2614320"/>
          </a:xfrm>
          <a:prstGeom prst="rect">
            <a:avLst/>
          </a:prstGeom>
          <a:ln w="0">
            <a:noFill/>
          </a:ln>
        </p:spPr>
      </p:pic>
      <p:sp>
        <p:nvSpPr>
          <p:cNvPr id="128" name="WordArt 22"/>
          <p:cNvSpPr txBox="1"/>
          <p:nvPr/>
        </p:nvSpPr>
        <p:spPr>
          <a:xfrm>
            <a:off x="611280" y="189000"/>
            <a:ext cx="792144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то болеет туберкулезом?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29" name="Picture 20" descr="j0282831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1" descr="j0186348"/>
          <p:cNvPicPr/>
          <p:nvPr/>
        </p:nvPicPr>
        <p:blipFill>
          <a:blip r:embed="rId8"/>
          <a:stretch/>
        </p:blipFill>
        <p:spPr>
          <a:xfrm>
            <a:off x="3276720" y="1484280"/>
            <a:ext cx="2668320" cy="3745080"/>
          </a:xfrm>
          <a:prstGeom prst="rect">
            <a:avLst/>
          </a:prstGeom>
          <a:ln w="0">
            <a:noFill/>
          </a:ln>
        </p:spPr>
      </p:pic>
      <p:pic>
        <p:nvPicPr>
          <p:cNvPr id="131" name="5.wav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014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2316240" cy="3241440"/>
          </a:xfrm>
          <a:prstGeom prst="rect">
            <a:avLst/>
          </a:prstGeom>
          <a:ln w="0">
            <a:noFill/>
          </a:ln>
        </p:spPr>
      </p:pic>
      <p:sp>
        <p:nvSpPr>
          <p:cNvPr id="134" name="WordArt 6"/>
          <p:cNvSpPr txBox="1"/>
          <p:nvPr/>
        </p:nvSpPr>
        <p:spPr>
          <a:xfrm>
            <a:off x="334800" y="476280"/>
            <a:ext cx="88092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Когда стало известно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об этом заболевании? 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300960" y="5156640"/>
            <a:ext cx="361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 Black"/>
              </a:rPr>
              <a:t>Гиппок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6600cc"/>
                </a:solidFill>
                <a:latin typeface="Arial Black"/>
              </a:rPr>
              <a:t>(460 - 377 г. до нашей эры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2"/>
          <a:stretch/>
        </p:blipFill>
        <p:spPr>
          <a:xfrm>
            <a:off x="6012000" y="1773360"/>
            <a:ext cx="2219040" cy="3168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9"/>
          <p:cNvSpPr/>
          <p:nvPr/>
        </p:nvSpPr>
        <p:spPr>
          <a:xfrm>
            <a:off x="4824360" y="4941720"/>
            <a:ext cx="431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Абу Али Хусай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ибн Абдаллах ибн Сина (Авицен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(980 — 10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0" y="-729720"/>
            <a:ext cx="9144000" cy="777276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 Black"/>
              </a:rPr>
              <a:t>основные клинические проявления туберкулез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длительный каш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слаб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мокр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истощение, снижение вес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кровохаркан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потливость в ночное 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боль в гру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6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56692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3163680" cy="39607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761040" y="62064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ссарио́н Григо́р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ли́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11 — 184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2"/>
          <a:stretch/>
        </p:blipFill>
        <p:spPr>
          <a:xfrm>
            <a:off x="5219640" y="1916280"/>
            <a:ext cx="3065400" cy="38178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7"/>
          <p:cNvSpPr/>
          <p:nvPr/>
        </p:nvSpPr>
        <p:spPr>
          <a:xfrm>
            <a:off x="5439240" y="620640"/>
            <a:ext cx="24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ёдор Миха́йл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стое́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21 — 188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3"/>
          <a:stretch/>
        </p:blipFill>
        <p:spPr>
          <a:xfrm>
            <a:off x="611280" y="1773360"/>
            <a:ext cx="3452760" cy="43923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9"/>
          <p:cNvSpPr/>
          <p:nvPr/>
        </p:nvSpPr>
        <p:spPr>
          <a:xfrm>
            <a:off x="755640" y="692280"/>
            <a:ext cx="3184560" cy="9169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о́н Па́влович Че́х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60 — 19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4"/>
          <a:stretch/>
        </p:blipFill>
        <p:spPr>
          <a:xfrm>
            <a:off x="5148360" y="1773360"/>
            <a:ext cx="3485880" cy="4464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1"/>
          <p:cNvSpPr/>
          <p:nvPr/>
        </p:nvSpPr>
        <p:spPr>
          <a:xfrm>
            <a:off x="5435640" y="620640"/>
            <a:ext cx="2735280" cy="9169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кси́м Го́рь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68 — 193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7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29972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Факторы, способствующие заболеванию туберкулезом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еблагоприятные социальные и экологические условия жизни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еполноценное питание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лкоголизм, курение, наркомания; — снижение иммунитета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трессы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аличие сопутствующих заболеваний (диабета, язвенной болезни желудка или 12-перстной кишки, заболеваний легких 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3str3"/>
          <p:cNvPicPr/>
          <p:nvPr/>
        </p:nvPicPr>
        <p:blipFill>
          <a:blip r:embed="rId1"/>
          <a:stretch/>
        </p:blipFill>
        <p:spPr>
          <a:xfrm>
            <a:off x="468360" y="206064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3str3"/>
          <p:cNvPicPr/>
          <p:nvPr/>
        </p:nvPicPr>
        <p:blipFill>
          <a:blip r:embed="rId2"/>
          <a:stretch/>
        </p:blipFill>
        <p:spPr>
          <a:xfrm>
            <a:off x="395280" y="2924280"/>
            <a:ext cx="343080" cy="239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3str3"/>
          <p:cNvPicPr/>
          <p:nvPr/>
        </p:nvPicPr>
        <p:blipFill>
          <a:blip r:embed="rId3"/>
          <a:stretch/>
        </p:blipFill>
        <p:spPr>
          <a:xfrm>
            <a:off x="324000" y="350028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3str3"/>
          <p:cNvPicPr/>
          <p:nvPr/>
        </p:nvPicPr>
        <p:blipFill>
          <a:blip r:embed="rId4"/>
          <a:stretch/>
        </p:blipFill>
        <p:spPr>
          <a:xfrm>
            <a:off x="395280" y="4365720"/>
            <a:ext cx="343080" cy="239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3str3"/>
          <p:cNvPicPr/>
          <p:nvPr/>
        </p:nvPicPr>
        <p:blipFill>
          <a:blip r:embed="rId5"/>
          <a:stretch/>
        </p:blipFill>
        <p:spPr>
          <a:xfrm>
            <a:off x="395280" y="4941720"/>
            <a:ext cx="343080" cy="239760"/>
          </a:xfrm>
          <a:prstGeom prst="rect">
            <a:avLst/>
          </a:prstGeom>
          <a:ln w="0">
            <a:noFill/>
          </a:ln>
        </p:spPr>
      </p:pic>
      <p:pic>
        <p:nvPicPr>
          <p:cNvPr id="158" name="8.wav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51513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32360" y="515736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Роберт Кох </a:t>
            </a:r>
            <a:br>
              <a:rPr sz="2900"/>
            </a:br>
            <a:r>
              <a:rPr b="0" lang="ru-RU" sz="2500" spc="-1" strike="noStrike">
                <a:solidFill>
                  <a:srgbClr val="336666"/>
                </a:solidFill>
                <a:latin typeface="Arial Black"/>
              </a:rPr>
              <a:t>(1843–1910)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916280"/>
            <a:ext cx="5040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мецкий бактериолог, удостоенный в 1905г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обелевской прем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физиологии и медицине за открытие и выделение возбудителя туберкулез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РОБЕРТ КОХ "/>
          <p:cNvPicPr/>
          <p:nvPr/>
        </p:nvPicPr>
        <p:blipFill>
          <a:blip r:embed="rId1"/>
          <a:stretch/>
        </p:blipFill>
        <p:spPr>
          <a:xfrm>
            <a:off x="5292720" y="1701720"/>
            <a:ext cx="3141720" cy="3672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395280" y="312480"/>
            <a:ext cx="847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Кто открыл возбудителя туберкулеза и доказал, что это не наследственное, а </a:t>
            </a:r>
            <a:r>
              <a:rPr b="1" lang="ru-RU" sz="2800" spc="-1" strike="noStrike">
                <a:solidFill>
                  <a:srgbClr val="cc3300"/>
                </a:solidFill>
                <a:latin typeface="Arial Black"/>
              </a:rPr>
              <a:t>инфекционное заболевание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324000" y="1989000"/>
            <a:ext cx="4895640" cy="383364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збудитель заболевания – микобактерия туберкулеза – была открыта Робертом Кохом в 1882 год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е назва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“</a:t>
            </a: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палочкой Коха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9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57640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10:04:17Z</dcterms:created>
  <dc:creator>User</dc:creator>
  <dc:description/>
  <dc:language>en-US</dc:language>
  <cp:lastModifiedBy>LEGION</cp:lastModifiedBy>
  <dcterms:modified xsi:type="dcterms:W3CDTF">2015-11-27T12:47:27Z</dcterms:modified>
  <cp:revision>13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