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7.gif" ContentType="image/gif"/>
  <Override PartName="/ppt/media/image28.png" ContentType="image/png"/>
  <Override PartName="/ppt/media/image5.gif" ContentType="image/gif"/>
  <Override PartName="/ppt/media/image38.jpeg" ContentType="image/jpeg"/>
  <Override PartName="/ppt/media/image23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6.gif" ContentType="image/gif"/>
  <Override PartName="/ppt/media/image27.png" ContentType="image/png"/>
  <Override PartName="/ppt/media/image12.wmf" ContentType="image/x-wmf"/>
  <Override PartName="/ppt/media/image10.gif" ContentType="image/gif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9.gif" ContentType="image/gif"/>
  <Override PartName="/ppt/media/image31.jpeg" ContentType="image/jpeg"/>
  <Override PartName="/ppt/media/image33.png" ContentType="image/png"/>
  <Override PartName="/ppt/media/image34.png" ContentType="image/png"/>
  <Override PartName="/ppt/media/image35.png" ContentType="image/png"/>
  <Override PartName="/ppt/media/image26.jpeg" ContentType="image/jpeg"/>
  <Override PartName="/ppt/media/image36.png" ContentType="image/png"/>
  <Override PartName="/ppt/media/image40.png" ContentType="image/png"/>
  <Override PartName="/ppt/media/image11.gif" ContentType="image/gif"/>
  <Override PartName="/ppt/media/image14.png" ContentType="image/png"/>
  <Override PartName="/ppt/media/image8.gif" ContentType="image/gif"/>
  <Override PartName="/ppt/media/image4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9.gif" ContentType="image/gif"/>
  <Override PartName="/ppt/media/image16.png" ContentType="image/png"/>
  <Override PartName="/ppt/media/image17.png" ContentType="image/png"/>
  <Override PartName="/ppt/media/image18.png" ContentType="image/png"/>
  <Override PartName="/ppt/media/image2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D0F9-2C0A-4F55-8290-CC1362DF466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Черникова  Екатерина, 8 «В»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:социальный педагог Афанасьева И.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Черникова  Екатерина, 8 «В»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 :социальный педагог Афанасьева И.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св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ет возбудитель туберкулез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ми св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дает возбудитель туберкулез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исходит зараж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оисходит зараж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эрогенный: (при вдыхании воздух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шно-капельный (при чихании и кашле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шно-пылевой (в запыленных помещениях, где находился больно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ый (через предметы быт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евой (при употреблении в пищу зараженных продуктов пита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заражения микобактериями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Аэрогенный: (при вдыхании воздух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шно-капельный (при чихании и кашл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шно-пылевой (в запыленных помещениях, где находился больно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й (через предметы быт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евой (при употреблении в пищу зараженных продуктов пита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заражения микобактериями 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носителями туберкулезной инфе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носителями туберкулезной инфек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рротиче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лег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иарный туберкуле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ротиче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лег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иарный туберкуле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ая утомляемость и появление слаб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или отсутствие аппетита, потеря в весе до 5-10 к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ая потливость, особенно по ноч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одышки при небольших физических нагруз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чительное повышение температуры до 37-37,5 граду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ель или покашливание с выделением мокроты, возможно с кров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спозн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ая утомляемость и появление слаб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или отсутствие аппетита, потеря в весе до 5-10 к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ная потливость, особенно по ноч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одышки при небольших физических нагрузк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начительное повышение температуры до 37-37,5 граду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ель или покашливание с выделением мокроты, возможно с кров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распозн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ть при появ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ов заболев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рач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медицинской помо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елать при поя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ов заболеван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врач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медицинской помо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зараженный человек не заболевает сразу, то он становится носителем инфекции. Это можно выявить только с помощью пробы Ман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ция на пробу Манту считается положительной при формировании инфильтрата (папулы) диаметром 5мм и бол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зараженный человек не заболевает сразу, то он становится носителем инфекции. Это можно выявить только с помощью пробы Ман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кция на пробу Манту считается положительной при формировании инфильтрата (папулы) диаметром 5мм и бол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ыявления заболевания кроме пробы Манту проводят флюорографическое обследование (ФЛГ)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явления заболевания кроме пробы Манту проводят флюорографическое обследование (ФЛГ)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а для всей планеты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а для всей планеты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рачу-фтизиат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дозрить и выявить туберкулезный процесс можно следующими основными метод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и проведении проб Мант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ЛГ обследован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 исследовании мокроты на наличие бакте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врачу-фтизиатр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дозрить и выявить туберкулезный процесс можно следующими основными методам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ри проведении проб Мант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ФЛГ обследован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 исследовании мокроты на наличие бактер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дневно в течение 6 месяце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 разному воздействует на пал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ха, и только совместное их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может достичь цели — окончательно ее уничтожи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в течение 6 месяце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 разному воздействует на палоч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ха, и только совместное их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может достичь цели — окончательно ее уничтожи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чественного излечения одних противотуберкулезных лекарств недостаточно. Больным также прописывают физиотерапию, дыхательную гимнастику и препараты, поднимающие иммунитет.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качественного излечения одних противотуберкулезных лекарств недостаточно. Больным также прописывают физиотерапию, дыхательную гимнастику и препараты, поднимающие иммунитет.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рывать рот платком или рукой и отворачиваться при каш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жигать бумажные носовые платки немедленно после употреб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ться отдельной посудой и не позволять пользоваться ей друг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рывать рот платком или рукой и отворачиваться при кашл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жигать бумажные носовые платки немедленно после употреб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ьзоваться отдельной посудой и не позволять пользоваться ей други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защитить себ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заражения туберкулезо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защитить себ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заражения туберкулезо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на 3-7 день, первая ревакцинация в 7 л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торая в 14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на 3-7 день, первая ревакцинация в 7 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торая в 14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ть, если туберкулез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н Ваш друг или родственник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дл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ветуйте е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ься к врач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елать, если туберкуле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н Ваш друг или родственник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дл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оветуйте е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ься к врач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те о сохранении своего здоровья и окружающих Вас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те о сохранении своего здоровья и окружающих Вас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распространенное, инфекционное заболевание, возбудителем которого является микобактерия туберкулеза (МБ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одна из самых распространенных инфекций в ми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распространенное, инфекционное заболевание, возбудителем которого является микобактерия туберкулеза (МБ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одна из самых распространенных инфекций в ми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 март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ый день борьбы с туберкулез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вол борьбы с туберкулезом – ромаш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 март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мирный день борьбы с туберкуле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борьбы с туберкулезом – ромаш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нникова Екатерина Льв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БОУ СОШ № 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зержин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а Новосибир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никова Екатерина Льво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БОУ СОШ № 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зерж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Новосибир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важнейшая социальная и медицин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важнейшая социальная и медицинск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болеет туберкулез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то болеет туберкулез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стало изве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этом заболева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пок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460 - 377 г. до нашей эр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у Али Хус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бн Абдаллах ибн Сина (Авицен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980 — 10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линические проявления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тельный каш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кр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щение, снижение в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охаркан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ливость в ноч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в гру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стало извес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 этом заболевани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пок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60 - 377 г. до нашей эры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у Али Хус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бн Абдаллах ибн Сина (Авицен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980 — 103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инические проявления 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ый каш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кр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щение, снижение ве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охаркан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ливость в ночно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в гру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способствующие заболеванию туберкуле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лагоприятные социальные и экологические условия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ценное пит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зм, курение, наркомания; — снижение иммуните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сс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пособствующие заболеванию туберкуле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лагоприятные социальные и экологические условия жиз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лноценное пита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изм, курение, наркомания; — снижение иммуните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с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Ко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43–19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бактериолог, удостоенный в 1905го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белевской пре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изиологии и медицине за открытие и выделение возбудителя туберкуле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открыл возбудителя туберкулеза и доказал, что это не наследственное, а инфекционное заболевани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назва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ой Коха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о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43–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бактериолог, удостоенный в 1905год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белевской пре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физиологии и медицине за открытие и выделение возбудителя туберкуле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открыл возбудителя туберкулеза и доказал, что это не наследственное, а инфекционное заболевани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е назва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очкой Коха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B70-4F4E-4991-B076-67F9C157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1581-F526-44A3-9FB4-94C83F11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22A-666C-482D-8238-A85DBD37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703-2AA3-4C1E-9A1E-01B60637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8030-1A2D-41E1-AD98-6A8D8196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2950-CF17-46F6-B739-1C817520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D02A-DA63-4C9B-AFC9-AAE580F8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6A56-5CD0-4B32-8B0D-62EF4863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3894-F0AE-473F-9E14-D06CFB68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9F9D-4D6B-44C9-BFF2-C61F44DF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7320-C5A8-43B6-BF70-B33345A8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AA4-EC84-40CB-AC73-80D8F175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EC72-0604-4CB9-820B-BEB16F5C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67C0-05BC-46F3-8F5B-1FBC7E58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0420-573E-4C67-A4D1-EB1F96A2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826D-4C76-4AB1-B559-50C49A77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F2B0-F7AD-4C2D-AB99-ABCD9706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92F-5FF9-49FD-BC07-860E1B9C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11EC-0588-40FA-AA1E-519E5DCC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D535-99DC-42E4-855D-AB049D3F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1D2-B27C-46D2-B3B5-E767E977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B10-B7E8-49E8-AF0B-B6C163F0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860-ADC6-4675-B10E-AB2AC537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1592-121D-4FE9-9B13-EFFAD971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e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B9B4-5275-496D-998E-B024906DCC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e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1B25-DDEB-4FC7-AD76-E8A3D4D261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wmf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120" y="3284640"/>
            <a:ext cx="54118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Автор работы: Черникова  Екатерина, 8 «В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Руководитель :социальный педагог Афанасьева И.И.</a:t>
            </a: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2627280" y="620640"/>
            <a:ext cx="35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Профилактика,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97" name="WordArt 9"/>
          <p:cNvSpPr txBox="1"/>
          <p:nvPr/>
        </p:nvSpPr>
        <p:spPr>
          <a:xfrm>
            <a:off x="2050920" y="2637000"/>
            <a:ext cx="511344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ТУБЕРКУЛЕЗА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98" name="WordArt 10"/>
          <p:cNvSpPr txBox="1"/>
          <p:nvPr/>
        </p:nvSpPr>
        <p:spPr>
          <a:xfrm>
            <a:off x="2771640" y="198900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99" name="WordArt 11"/>
          <p:cNvSpPr txBox="1"/>
          <p:nvPr/>
        </p:nvSpPr>
        <p:spPr>
          <a:xfrm>
            <a:off x="2700360" y="1341360"/>
            <a:ext cx="3457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диагностика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00" name="WordArt 12"/>
          <p:cNvSpPr txBox="1"/>
          <p:nvPr/>
        </p:nvSpPr>
        <p:spPr>
          <a:xfrm>
            <a:off x="3564000" y="1989000"/>
            <a:ext cx="24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лечение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518472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Палочки Коха"/>
          <p:cNvPicPr/>
          <p:nvPr/>
        </p:nvPicPr>
        <p:blipFill>
          <a:blip r:embed="rId1"/>
          <a:stretch/>
        </p:blipFill>
        <p:spPr>
          <a:xfrm>
            <a:off x="5479920" y="1844640"/>
            <a:ext cx="3340080" cy="4032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2"/>
          <p:cNvSpPr/>
          <p:nvPr/>
        </p:nvSpPr>
        <p:spPr>
          <a:xfrm>
            <a:off x="332640" y="403920"/>
            <a:ext cx="821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Какими св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обладает возбудитель туберкулеза?</a:t>
            </a: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179280" y="2272320"/>
            <a:ext cx="5184720" cy="3506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1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3797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Как происходит заражение</a:t>
            </a:r>
            <a:br>
              <a:rPr sz="3600"/>
            </a:b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5327640" cy="38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0033cc"/>
                </a:solidFill>
                <a:latin typeface="Arial Black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колонии бактерий туберкулеза"/>
          <p:cNvPicPr/>
          <p:nvPr/>
        </p:nvPicPr>
        <p:blipFill>
          <a:blip r:embed="rId1"/>
          <a:stretch/>
        </p:blipFill>
        <p:spPr>
          <a:xfrm>
            <a:off x="5506920" y="1773360"/>
            <a:ext cx="3457800" cy="3335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3str3"/>
          <p:cNvPicPr/>
          <p:nvPr/>
        </p:nvPicPr>
        <p:blipFill>
          <a:blip r:embed="rId2"/>
          <a:stretch/>
        </p:blipFill>
        <p:spPr>
          <a:xfrm>
            <a:off x="250920" y="1989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3str3"/>
          <p:cNvPicPr/>
          <p:nvPr/>
        </p:nvPicPr>
        <p:blipFill>
          <a:blip r:embed="rId3"/>
          <a:stretch/>
        </p:blipFill>
        <p:spPr>
          <a:xfrm>
            <a:off x="250920" y="335772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3str3"/>
          <p:cNvPicPr/>
          <p:nvPr/>
        </p:nvPicPr>
        <p:blipFill>
          <a:blip r:embed="rId4"/>
          <a:stretch/>
        </p:blipFill>
        <p:spPr>
          <a:xfrm>
            <a:off x="250920" y="4653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80" name="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704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000" y="1844640"/>
            <a:ext cx="61563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Аэрогенны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вдыхании воздух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о-капельный (при чихании и кашл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о-пылевой (в запыленных помещениях, где находился больно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Контакт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через предметы быт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Пище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употреблении в пищу зараженных продуктов пита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туб1"/>
          <p:cNvPicPr/>
          <p:nvPr/>
        </p:nvPicPr>
        <p:blipFill>
          <a:blip r:embed="rId1"/>
          <a:stretch/>
        </p:blipFill>
        <p:spPr>
          <a:xfrm>
            <a:off x="6084720" y="1700280"/>
            <a:ext cx="2881440" cy="36734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395280" y="47628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пути заражения микобактериями туберкул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1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4248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979640" y="69228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79280" y="163872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осителями туберкулезной инфе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187280" y="4221000"/>
            <a:ext cx="82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1538280"/>
            <a:ext cx="9144000" cy="3749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 Black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1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6000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4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0" y="1216080"/>
            <a:ext cx="9144000" cy="5639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96" name="Picture 7" descr="tuberculosis_roentgen_300"/>
          <p:cNvPicPr/>
          <p:nvPr/>
        </p:nvPicPr>
        <p:blipFill>
          <a:blip r:embed="rId1"/>
          <a:stretch/>
        </p:blipFill>
        <p:spPr>
          <a:xfrm>
            <a:off x="5219640" y="1413000"/>
            <a:ext cx="3702240" cy="45370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9"/>
          <p:cNvSpPr txBox="1"/>
          <p:nvPr/>
        </p:nvSpPr>
        <p:spPr>
          <a:xfrm>
            <a:off x="1979640" y="33336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98" name="1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5076720" cy="453528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8600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615636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tuber7"/>
          <p:cNvPicPr/>
          <p:nvPr/>
        </p:nvPicPr>
        <p:blipFill>
          <a:blip r:embed="rId1"/>
          <a:stretch/>
        </p:blipFill>
        <p:spPr>
          <a:xfrm>
            <a:off x="6877080" y="1557360"/>
            <a:ext cx="1582560" cy="17953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6446160" y="34999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ррот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беркуле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г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i?id=12635762&amp;tov=7"/>
          <p:cNvPicPr/>
          <p:nvPr/>
        </p:nvPicPr>
        <p:blipFill>
          <a:blip r:embed="rId2"/>
          <a:stretch/>
        </p:blipFill>
        <p:spPr>
          <a:xfrm>
            <a:off x="6300720" y="4149720"/>
            <a:ext cx="1582920" cy="18018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0"/>
          <p:cNvSpPr/>
          <p:nvPr/>
        </p:nvSpPr>
        <p:spPr>
          <a:xfrm>
            <a:off x="5363640" y="5805360"/>
            <a:ext cx="2673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" rIns="9360" tIns="-63360" bIns="23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иар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беркуле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12"/>
          <p:cNvSpPr txBox="1"/>
          <p:nvPr/>
        </p:nvSpPr>
        <p:spPr>
          <a:xfrm>
            <a:off x="1979640" y="33336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208" name="15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4677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ыстрая утомляемость и появление слабост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нижение или отсутствие аппетита, потеря в весе до 5-10 кг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вышенная потливость, особенно по ноча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явление одышки при небольших физических нагрузках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значительное повышение температуры до 37-37,5 градусов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ашель или покашливание с выделением мокроты, возможно с кровью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3str3"/>
          <p:cNvPicPr/>
          <p:nvPr/>
        </p:nvPicPr>
        <p:blipFill>
          <a:blip r:embed="rId1"/>
          <a:stretch/>
        </p:blipFill>
        <p:spPr>
          <a:xfrm>
            <a:off x="324000" y="191628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3str3"/>
          <p:cNvPicPr/>
          <p:nvPr/>
        </p:nvPicPr>
        <p:blipFill>
          <a:blip r:embed="rId2"/>
          <a:stretch/>
        </p:blipFill>
        <p:spPr>
          <a:xfrm>
            <a:off x="324000" y="234936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3str3"/>
          <p:cNvPicPr/>
          <p:nvPr/>
        </p:nvPicPr>
        <p:blipFill>
          <a:blip r:embed="rId3"/>
          <a:stretch/>
        </p:blipFill>
        <p:spPr>
          <a:xfrm>
            <a:off x="250920" y="299736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3str3"/>
          <p:cNvPicPr/>
          <p:nvPr/>
        </p:nvPicPr>
        <p:blipFill>
          <a:blip r:embed="rId4"/>
          <a:stretch/>
        </p:blipFill>
        <p:spPr>
          <a:xfrm>
            <a:off x="250920" y="350028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3str3"/>
          <p:cNvPicPr/>
          <p:nvPr/>
        </p:nvPicPr>
        <p:blipFill>
          <a:blip r:embed="rId5"/>
          <a:stretch/>
        </p:blipFill>
        <p:spPr>
          <a:xfrm>
            <a:off x="250920" y="4221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3str3"/>
          <p:cNvPicPr/>
          <p:nvPr/>
        </p:nvPicPr>
        <p:blipFill>
          <a:blip r:embed="rId6"/>
          <a:stretch/>
        </p:blipFill>
        <p:spPr>
          <a:xfrm>
            <a:off x="324000" y="4941720"/>
            <a:ext cx="342720" cy="239760"/>
          </a:xfrm>
          <a:prstGeom prst="rect">
            <a:avLst/>
          </a:prstGeom>
          <a:ln w="0">
            <a:noFill/>
          </a:ln>
        </p:spPr>
      </p:pic>
      <p:sp>
        <p:nvSpPr>
          <p:cNvPr id="218" name="WordArt 11"/>
          <p:cNvSpPr txBox="1"/>
          <p:nvPr/>
        </p:nvSpPr>
        <p:spPr>
          <a:xfrm>
            <a:off x="1619280" y="476280"/>
            <a:ext cx="5329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ак распознать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pic>
        <p:nvPicPr>
          <p:cNvPr id="219" name="16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52172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7">
                                  <p:stCondLst>
                                    <p:cond delay="7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9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7">
                                  <p:stCondLst>
                                    <p:cond delay="1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>
            <a:off x="684360" y="549360"/>
            <a:ext cx="7769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Что делать при появлении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ризнаков заболевания?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468360" y="2148840"/>
            <a:ext cx="8207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327680" y="5013360"/>
            <a:ext cx="687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3300"/>
                </a:solidFill>
                <a:uFillTx/>
                <a:latin typeface="Arial Black"/>
              </a:rPr>
              <a:t>к врач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3300"/>
                </a:solidFill>
                <a:uFillTx/>
                <a:latin typeface="Arial Black"/>
              </a:rPr>
              <a:t>за медицинской помощ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17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0537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5" repeatCount="5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46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Если зараженный человек не заболевает сразу, то он становится носителем инфекции. Это можно выявить только с помощью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пробы Манту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468360" y="3645000"/>
            <a:ext cx="3456000" cy="2263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2"/>
          <a:stretch/>
        </p:blipFill>
        <p:spPr>
          <a:xfrm>
            <a:off x="5508720" y="1052640"/>
            <a:ext cx="2692440" cy="3240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1"/>
          <p:cNvSpPr/>
          <p:nvPr/>
        </p:nvSpPr>
        <p:spPr>
          <a:xfrm>
            <a:off x="4572000" y="4512240"/>
            <a:ext cx="416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еакция на пробу Манту считается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положительной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и формировании инфильтрата (папулы) диаметром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5мм и более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18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3061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46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2"/>
          <p:cNvPicPr/>
          <p:nvPr/>
        </p:nvPicPr>
        <p:blipFill>
          <a:blip r:embed="rId1"/>
          <a:stretch/>
        </p:blipFill>
        <p:spPr>
          <a:xfrm>
            <a:off x="5148360" y="1125360"/>
            <a:ext cx="3744720" cy="36007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7"/>
          <p:cNvSpPr/>
          <p:nvPr/>
        </p:nvSpPr>
        <p:spPr>
          <a:xfrm>
            <a:off x="250920" y="1768680"/>
            <a:ext cx="511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ыявления заболевания кроме пробы Манту проводят 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флюорографическое обследование (ФЛ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19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984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25210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ddf4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Туберкулез: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угроза для всей планеты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om"/>
          <p:cNvPicPr/>
          <p:nvPr/>
        </p:nvPicPr>
        <p:blipFill>
          <a:blip r:embed="rId1"/>
          <a:stretch/>
        </p:blipFill>
        <p:spPr>
          <a:xfrm>
            <a:off x="3132000" y="3284640"/>
            <a:ext cx="2735280" cy="2305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1187280" y="33336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68360" y="1888200"/>
            <a:ext cx="7991280" cy="41781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к врачу-фтизиатру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24000" y="1760400"/>
            <a:ext cx="8569080" cy="448308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Заподозрить и выявить туберкулезный процесс можно следующими основными методам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1.при проведении проб Мант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2. ФЛГ обследован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3. при исследовании мокроты на наличие бактер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20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46335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чение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5029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Картинка 6 из 3246"/>
          <p:cNvPicPr/>
          <p:nvPr/>
        </p:nvPicPr>
        <p:blipFill>
          <a:blip r:embed="rId1"/>
          <a:stretch/>
        </p:blipFill>
        <p:spPr>
          <a:xfrm>
            <a:off x="5796000" y="2347920"/>
            <a:ext cx="3097080" cy="35290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1"/>
          <p:cNvSpPr/>
          <p:nvPr/>
        </p:nvSpPr>
        <p:spPr>
          <a:xfrm>
            <a:off x="179280" y="1557360"/>
            <a:ext cx="667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дневно в течение 6 месяце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 разному воздействует на пал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ха, и только совместное их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может достичь цели — окончательно ее уничтож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2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27249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чение.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216000" y="1197000"/>
            <a:ext cx="8893080" cy="55803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качественного излечения одних противотуберкулезных лекарств недостаточно. Больным также прописывают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физиотерапию, дыхательную гимнастику и препараты, поднимающие иммунитет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22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4281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0" descr="туб1"/>
          <p:cNvPicPr/>
          <p:nvPr/>
        </p:nvPicPr>
        <p:blipFill>
          <a:blip r:embed="rId1"/>
          <a:stretch/>
        </p:blipFill>
        <p:spPr>
          <a:xfrm>
            <a:off x="6588000" y="2637000"/>
            <a:ext cx="2376720" cy="29541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крывать рот платком или рукой и отворачиваться при кашле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жигать бумажные носовые платки немедленно после употребления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льзоваться отдельной посудой и не позволять пользоваться ей другим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ves1"/>
          <p:cNvPicPr/>
          <p:nvPr/>
        </p:nvPicPr>
        <p:blipFill>
          <a:blip r:embed="rId2"/>
          <a:stretch/>
        </p:blipFill>
        <p:spPr>
          <a:xfrm>
            <a:off x="6443640" y="333360"/>
            <a:ext cx="1379520" cy="1339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3str3"/>
          <p:cNvPicPr/>
          <p:nvPr/>
        </p:nvPicPr>
        <p:blipFill>
          <a:blip r:embed="rId3"/>
          <a:stretch/>
        </p:blipFill>
        <p:spPr>
          <a:xfrm>
            <a:off x="324000" y="357336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3str3"/>
          <p:cNvPicPr/>
          <p:nvPr/>
        </p:nvPicPr>
        <p:blipFill>
          <a:blip r:embed="rId4"/>
          <a:stretch/>
        </p:blipFill>
        <p:spPr>
          <a:xfrm>
            <a:off x="324000" y="4437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3str3"/>
          <p:cNvPicPr/>
          <p:nvPr/>
        </p:nvPicPr>
        <p:blipFill>
          <a:blip r:embed="rId5"/>
          <a:stretch/>
        </p:blipFill>
        <p:spPr>
          <a:xfrm>
            <a:off x="324000" y="5229360"/>
            <a:ext cx="342720" cy="239400"/>
          </a:xfrm>
          <a:prstGeom prst="rect">
            <a:avLst/>
          </a:prstGeom>
          <a:ln w="0">
            <a:noFill/>
          </a:ln>
        </p:spPr>
      </p:pic>
      <p:sp>
        <p:nvSpPr>
          <p:cNvPr id="261" name="WordArt 9"/>
          <p:cNvSpPr txBox="1"/>
          <p:nvPr/>
        </p:nvSpPr>
        <p:spPr>
          <a:xfrm>
            <a:off x="900000" y="620640"/>
            <a:ext cx="43196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Профилак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pic>
        <p:nvPicPr>
          <p:cNvPr id="262" name="23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20334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71280" y="1649160"/>
            <a:ext cx="8964720" cy="484884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1252080" y="332280"/>
            <a:ext cx="655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 Black"/>
              </a:rPr>
              <a:t>Как защитить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 Black"/>
              </a:rPr>
              <a:t>от заражения туберкулезом?</a:t>
            </a: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2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41526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250920" y="1088280"/>
            <a:ext cx="8424720" cy="155700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4689360" cy="3125880"/>
          </a:xfrm>
          <a:prstGeom prst="rect">
            <a:avLst/>
          </a:prstGeom>
          <a:ln w="0">
            <a:noFill/>
          </a:ln>
        </p:spPr>
      </p:pic>
      <p:pic>
        <p:nvPicPr>
          <p:cNvPr id="270" name="2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41117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0" y="547560"/>
            <a:ext cx="9144000" cy="35067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на 3-7 день</a:t>
            </a: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, первая ревакцинация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в 7 лет</a:t>
            </a: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и вторая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в 14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2232000" cy="2055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6804000" y="4221000"/>
            <a:ext cx="1873440" cy="2087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"/>
          <p:cNvPicPr/>
          <p:nvPr/>
        </p:nvPicPr>
        <p:blipFill>
          <a:blip r:embed="rId3"/>
          <a:stretch/>
        </p:blipFill>
        <p:spPr>
          <a:xfrm>
            <a:off x="3708360" y="42210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76" name="26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2081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5"/>
          <p:cNvSpPr txBox="1"/>
          <p:nvPr/>
        </p:nvSpPr>
        <p:spPr>
          <a:xfrm>
            <a:off x="826920" y="260280"/>
            <a:ext cx="750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Что делать, если туберкулезом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болен Ваш друг или родственник?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333440" y="2238480"/>
            <a:ext cx="631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Немедл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посоветуйте ем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обратиться к врачу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27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2630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3" name="WordArt 9"/>
          <p:cNvSpPr txBox="1"/>
          <p:nvPr/>
        </p:nvSpPr>
        <p:spPr>
          <a:xfrm>
            <a:off x="3059280" y="836640"/>
            <a:ext cx="308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ОМН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395280" y="1700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одумайте о сохранении своего здоровья и окружающих Вас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2" descr="&amp;usg=AFQjCNEIKSW-FOzZQEtsKAcbgKBFgvhwuw"/>
          <p:cNvPicPr/>
          <p:nvPr/>
        </p:nvPicPr>
        <p:blipFill>
          <a:blip r:embed="rId1"/>
          <a:stretch/>
        </p:blipFill>
        <p:spPr>
          <a:xfrm>
            <a:off x="5003640" y="1989000"/>
            <a:ext cx="3810240" cy="3241800"/>
          </a:xfrm>
          <a:prstGeom prst="rect">
            <a:avLst/>
          </a:prstGeom>
          <a:ln w="0">
            <a:noFill/>
          </a:ln>
        </p:spPr>
      </p:pic>
      <p:pic>
        <p:nvPicPr>
          <p:cNvPr id="286" name="2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13739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89" name="Picture 4" descr="0607241539340_m"/>
          <p:cNvPicPr/>
          <p:nvPr/>
        </p:nvPicPr>
        <p:blipFill>
          <a:blip r:embed="rId1"/>
          <a:stretch/>
        </p:blipFill>
        <p:spPr>
          <a:xfrm>
            <a:off x="6588000" y="260280"/>
            <a:ext cx="1749600" cy="1440000"/>
          </a:xfrm>
          <a:prstGeom prst="rect">
            <a:avLst/>
          </a:prstGeom>
          <a:ln w="0">
            <a:noFill/>
          </a:ln>
        </p:spPr>
      </p:pic>
      <p:sp>
        <p:nvSpPr>
          <p:cNvPr id="290" name="WordArt 5"/>
          <p:cNvSpPr txBox="1"/>
          <p:nvPr/>
        </p:nvSpPr>
        <p:spPr>
          <a:xfrm>
            <a:off x="2627280" y="765000"/>
            <a:ext cx="3087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ОМН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250920" y="191628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8" descr=""/>
          <p:cNvPicPr/>
          <p:nvPr/>
        </p:nvPicPr>
        <p:blipFill>
          <a:blip r:embed="rId2"/>
          <a:stretch/>
        </p:blipFill>
        <p:spPr>
          <a:xfrm>
            <a:off x="5508720" y="3789360"/>
            <a:ext cx="3311280" cy="2719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4032360" cy="2640240"/>
          </a:xfrm>
          <a:prstGeom prst="rect">
            <a:avLst/>
          </a:prstGeom>
          <a:ln w="0">
            <a:noFill/>
          </a:ln>
        </p:spPr>
      </p:pic>
      <p:pic>
        <p:nvPicPr>
          <p:cNvPr id="294" name="29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1654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60520"/>
            <a:ext cx="8353440" cy="987120"/>
          </a:xfrm>
          <a:prstGeom prst="rect">
            <a:avLst/>
          </a:prstGeom>
          <a:solidFill>
            <a:srgbClr val="a3e0ff"/>
          </a:solidFill>
          <a:ln w="9360">
            <a:solidFill>
              <a:srgbClr val="97cd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Туберкулез 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распространенное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инфекционное заболевание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возбудителем которого является микобактерия туберкулеза 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МБТ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)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Туберкулез - одна из самых распространенных инфекций в мире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611280" y="620640"/>
            <a:ext cx="7921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то такое туберкулез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09" name="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81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856800"/>
            <a:ext cx="8136000" cy="22669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ddf4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336666"/>
                </a:solidFill>
                <a:latin typeface="Arial Black"/>
              </a:rPr>
              <a:t>24 марта – </a:t>
            </a:r>
            <a:br>
              <a:rPr sz="4500"/>
            </a:br>
            <a:r>
              <a:rPr b="0" lang="ru-RU" sz="4500" spc="-1" strike="noStrike">
                <a:solidFill>
                  <a:srgbClr val="336666"/>
                </a:solidFill>
                <a:latin typeface="Arial Black"/>
              </a:rPr>
              <a:t>Всемирный день борьбы с туберкулезом</a:t>
            </a:r>
            <a:r>
              <a:rPr b="0" i="1" lang="ru-RU" sz="45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pom"/>
          <p:cNvPicPr/>
          <p:nvPr/>
        </p:nvPicPr>
        <p:blipFill>
          <a:blip r:embed="rId1"/>
          <a:stretch/>
        </p:blipFill>
        <p:spPr>
          <a:xfrm>
            <a:off x="3132000" y="3284640"/>
            <a:ext cx="2735280" cy="23050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775080" y="6068880"/>
            <a:ext cx="778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Символ борьбы с туберкулезом – ромаш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3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7813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Презентацию подготовил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Бронникова Екатерина Львовна,</a:t>
            </a: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учитель МБОУ СОШ № 82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Дзержинского райо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города Новосибирс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2009 го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280360" cy="1143000"/>
          </a:xfrm>
          <a:prstGeom prst="rect">
            <a:avLst/>
          </a:prstGeom>
          <a:solidFill>
            <a:srgbClr val="a3e0ff"/>
          </a:solidFill>
          <a:ln w="9360">
            <a:solidFill>
              <a:srgbClr val="97cd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70960" cy="94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3300"/>
                </a:solidFill>
                <a:latin typeface="Arial"/>
              </a:rPr>
              <a:t>Туберкулез </a:t>
            </a:r>
            <a:r>
              <a:rPr b="1" i="1" lang="en-US" sz="27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i="1" lang="ru-RU" sz="2700" spc="-1" strike="noStrike">
                <a:solidFill>
                  <a:srgbClr val="cc3300"/>
                </a:solidFill>
                <a:latin typeface="Arial"/>
              </a:rPr>
              <a:t>важнейшая социальная и медицинская проблем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901800" y="3754440"/>
          <a:ext cx="475596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3754440"/>
                    <a:ext cx="475596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WordArt 5"/>
          <p:cNvSpPr txBox="1"/>
          <p:nvPr/>
        </p:nvSpPr>
        <p:spPr>
          <a:xfrm>
            <a:off x="611280" y="620640"/>
            <a:ext cx="7921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то такое туберкулез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72280" y="306864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аболева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084720" y="3141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мер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3"/>
          <p:cNvGraphicFramePr/>
          <p:nvPr/>
        </p:nvGraphicFramePr>
        <p:xfrm>
          <a:off x="6083280" y="3608280"/>
          <a:ext cx="2206800" cy="22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3280" y="3608280"/>
                    <a:ext cx="220680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4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8879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j0219106"/>
          <p:cNvPicPr/>
          <p:nvPr/>
        </p:nvPicPr>
        <p:blipFill>
          <a:blip r:embed="rId1"/>
          <a:stretch/>
        </p:blipFill>
        <p:spPr>
          <a:xfrm>
            <a:off x="6443640" y="4292640"/>
            <a:ext cx="1944720" cy="175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j0213513"/>
          <p:cNvPicPr/>
          <p:nvPr/>
        </p:nvPicPr>
        <p:blipFill>
          <a:blip r:embed="rId2"/>
          <a:stretch/>
        </p:blipFill>
        <p:spPr>
          <a:xfrm>
            <a:off x="539640" y="4581360"/>
            <a:ext cx="2592360" cy="187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j0205360"/>
          <p:cNvPicPr/>
          <p:nvPr/>
        </p:nvPicPr>
        <p:blipFill>
          <a:blip r:embed="rId3"/>
          <a:stretch/>
        </p:blipFill>
        <p:spPr>
          <a:xfrm>
            <a:off x="6877080" y="2060640"/>
            <a:ext cx="1811160" cy="155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j0205361"/>
          <p:cNvPicPr/>
          <p:nvPr/>
        </p:nvPicPr>
        <p:blipFill>
          <a:blip r:embed="rId4"/>
          <a:stretch/>
        </p:blipFill>
        <p:spPr>
          <a:xfrm>
            <a:off x="468360" y="2060640"/>
            <a:ext cx="1800000" cy="1631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j0236210"/>
          <p:cNvPicPr/>
          <p:nvPr/>
        </p:nvPicPr>
        <p:blipFill>
          <a:blip r:embed="rId5"/>
          <a:stretch/>
        </p:blipFill>
        <p:spPr>
          <a:xfrm>
            <a:off x="3348000" y="703440"/>
            <a:ext cx="2664000" cy="925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j0283229"/>
          <p:cNvPicPr/>
          <p:nvPr/>
        </p:nvPicPr>
        <p:blipFill>
          <a:blip r:embed="rId6"/>
          <a:stretch/>
        </p:blipFill>
        <p:spPr>
          <a:xfrm>
            <a:off x="2627280" y="1916280"/>
            <a:ext cx="3665520" cy="2614320"/>
          </a:xfrm>
          <a:prstGeom prst="rect">
            <a:avLst/>
          </a:prstGeom>
          <a:ln w="0">
            <a:noFill/>
          </a:ln>
        </p:spPr>
      </p:pic>
      <p:sp>
        <p:nvSpPr>
          <p:cNvPr id="128" name="WordArt 22"/>
          <p:cNvSpPr txBox="1"/>
          <p:nvPr/>
        </p:nvSpPr>
        <p:spPr>
          <a:xfrm>
            <a:off x="611280" y="189000"/>
            <a:ext cx="7921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то болеет туберкулезом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29" name="Picture 20" descr="j0282831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j0186348"/>
          <p:cNvPicPr/>
          <p:nvPr/>
        </p:nvPicPr>
        <p:blipFill>
          <a:blip r:embed="rId8"/>
          <a:stretch/>
        </p:blipFill>
        <p:spPr>
          <a:xfrm>
            <a:off x="3276720" y="1484280"/>
            <a:ext cx="2668320" cy="3745080"/>
          </a:xfrm>
          <a:prstGeom prst="rect">
            <a:avLst/>
          </a:prstGeom>
          <a:ln w="0">
            <a:noFill/>
          </a:ln>
        </p:spPr>
      </p:pic>
      <p:pic>
        <p:nvPicPr>
          <p:cNvPr id="131" name="5.wav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014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2316240" cy="3241440"/>
          </a:xfrm>
          <a:prstGeom prst="rect">
            <a:avLst/>
          </a:prstGeom>
          <a:ln w="0">
            <a:noFill/>
          </a:ln>
        </p:spPr>
      </p:pic>
      <p:sp>
        <p:nvSpPr>
          <p:cNvPr id="134" name="WordArt 6"/>
          <p:cNvSpPr txBox="1"/>
          <p:nvPr/>
        </p:nvSpPr>
        <p:spPr>
          <a:xfrm>
            <a:off x="334800" y="476280"/>
            <a:ext cx="88092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огда стало известно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об этом заболевании? 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00960" y="5156640"/>
            <a:ext cx="361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Гиппок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(460 - 377 г. до нашей эр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2219040" cy="3168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4824360" y="4941720"/>
            <a:ext cx="431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Абу Али Хуса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ибн Абдаллах ибн Сина (Авицен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(980 — 10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0" y="-729720"/>
            <a:ext cx="9144000" cy="77727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 Black"/>
              </a:rPr>
              <a:t>основные клинические проявления туберкуле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длительный каш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слаб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мок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истощение, снижение ве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кровохаркан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потливость в ночное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боль в гру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6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56692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1636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761040" y="620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5219640" y="1916280"/>
            <a:ext cx="3065400" cy="3817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7"/>
          <p:cNvSpPr/>
          <p:nvPr/>
        </p:nvSpPr>
        <p:spPr>
          <a:xfrm>
            <a:off x="5439240" y="620640"/>
            <a:ext cx="24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34527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9"/>
          <p:cNvSpPr/>
          <p:nvPr/>
        </p:nvSpPr>
        <p:spPr>
          <a:xfrm>
            <a:off x="755640" y="692280"/>
            <a:ext cx="3184560" cy="9169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4"/>
          <a:stretch/>
        </p:blipFill>
        <p:spPr>
          <a:xfrm>
            <a:off x="5148360" y="1773360"/>
            <a:ext cx="3485880" cy="4464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1"/>
          <p:cNvSpPr/>
          <p:nvPr/>
        </p:nvSpPr>
        <p:spPr>
          <a:xfrm>
            <a:off x="5435640" y="620640"/>
            <a:ext cx="2735280" cy="9169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7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9972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Факторы, способствующие заболеванию туберкулезом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благоприятные социальные и экологические условия жизни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полноценное питание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лкоголизм, курение, наркомания; — снижение иммунитета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трессы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3str3"/>
          <p:cNvPicPr/>
          <p:nvPr/>
        </p:nvPicPr>
        <p:blipFill>
          <a:blip r:embed="rId1"/>
          <a:stretch/>
        </p:blipFill>
        <p:spPr>
          <a:xfrm>
            <a:off x="468360" y="206064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3str3"/>
          <p:cNvPicPr/>
          <p:nvPr/>
        </p:nvPicPr>
        <p:blipFill>
          <a:blip r:embed="rId2"/>
          <a:stretch/>
        </p:blipFill>
        <p:spPr>
          <a:xfrm>
            <a:off x="395280" y="292428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str3"/>
          <p:cNvPicPr/>
          <p:nvPr/>
        </p:nvPicPr>
        <p:blipFill>
          <a:blip r:embed="rId3"/>
          <a:stretch/>
        </p:blipFill>
        <p:spPr>
          <a:xfrm>
            <a:off x="324000" y="350028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str3"/>
          <p:cNvPicPr/>
          <p:nvPr/>
        </p:nvPicPr>
        <p:blipFill>
          <a:blip r:embed="rId4"/>
          <a:stretch/>
        </p:blipFill>
        <p:spPr>
          <a:xfrm>
            <a:off x="395280" y="436572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3str3"/>
          <p:cNvPicPr/>
          <p:nvPr/>
        </p:nvPicPr>
        <p:blipFill>
          <a:blip r:embed="rId5"/>
          <a:stretch/>
        </p:blipFill>
        <p:spPr>
          <a:xfrm>
            <a:off x="395280" y="494172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8" name="8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51513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360" y="515736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Роберт Кох </a:t>
            </a:r>
            <a:br>
              <a:rPr sz="2900"/>
            </a:br>
            <a:r>
              <a:rPr b="0" lang="ru-RU" sz="2500" spc="-1" strike="noStrike">
                <a:solidFill>
                  <a:srgbClr val="336666"/>
                </a:solidFill>
                <a:latin typeface="Arial Black"/>
              </a:rPr>
              <a:t>(1843–1910)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5040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ецкий бактериолог, удостоенный в 1905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обелевской пре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изиологии и медицине за открытие и выделение возбудителя туберкуле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РОБЕРТ КОХ "/>
          <p:cNvPicPr/>
          <p:nvPr/>
        </p:nvPicPr>
        <p:blipFill>
          <a:blip r:embed="rId1"/>
          <a:stretch/>
        </p:blipFill>
        <p:spPr>
          <a:xfrm>
            <a:off x="5292720" y="1701720"/>
            <a:ext cx="3141720" cy="3672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395280" y="312480"/>
            <a:ext cx="84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Кто открыл возбудителя туберкулеза и доказал, что это не наследственное, а </a:t>
            </a: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инфекционное заболевание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324000" y="1989000"/>
            <a:ext cx="4895640" cy="383364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е назва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“</a:t>
            </a: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палочкой Коха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9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5764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0:04:17Z</dcterms:created>
  <dc:creator>User</dc:creator>
  <dc:description/>
  <dc:language>en-US</dc:language>
  <cp:lastModifiedBy>LEGION</cp:lastModifiedBy>
  <dcterms:modified xsi:type="dcterms:W3CDTF">2015-11-27T12:47:27Z</dcterms:modified>
  <cp:revision>1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