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B87D39-5724-4799-B447-33BC4E6C8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, его клинические симптомы и современная классифик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, его клинические симптомы и современная классифик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линические  симптомы 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ее  начало  заболе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 контакта  с  матер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ное  аутистическое  пове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 стереотип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вномерное  созревание  всех  функциональных  сф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 становления 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линические  симптомы 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ее  начало  заболе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рушение  контакта  с  матерь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ное  аутистическое  повед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личие  стереотип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вномерное  созревание  всех  функциональных  сф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сти  становления 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нико – психологическая  класс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С.Никольской (1985 – 1987) выделены  четыре  основные  группы  Р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ритерии  данной  классифик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нарушений  взаимодействия  с  внешней  сред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первичных  расстр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инико – психологическая  класс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.С.Никольской (1985 – 1987) выделены  четыре  основные  группы  Р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ритерии  данной  классиф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нарушений  взаимодействия  с  внешней  сред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первичных  рас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аутиз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икольская О.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– полная отрешенность от происходящег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– активное отверж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– захваченность аутистическими интерес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– чрезвычайная трудность организации общ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аутиз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(Никольская О.С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– полная отрешенность от происходящег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– активное отверж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– захваченность аутистическими интересам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– чрезвычайная трудность организации общ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сутств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второй группы более активн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ть менее ранимы в контактах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уща избирательность в одежде, еде, вку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второй группы более активны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уть менее ранимы в контактах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суща избирательность в одежде, еде, вкус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учать проще действуя их же руками, задавая извне готовые инстру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яет экстремальную конфлик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оявляет экстремальную конфликт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легкий вариант аут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звитость самих форм общения, аграмматичность 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сосредоточения и организации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нтизм, повышенное  пристрастие к по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в це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легкий вариант аут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звитость самих форм общения, аграмматичность 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удности сосредоточения и организации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дантизм, повышенное  пристрастие к поряд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держка психического развития в цел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се отношения с миром ребенок стремится строить через взросл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акторы, которые могут вызвать врожденные дефекты – ре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Химические вещества, такие как тяжелые металлы, пестициды, вакцины - весьма спо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е развитие (сенсорные лишения, питание / диета) – лишь в некоторых случа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Факторы, которые могут вызвать врожденные дефекты – ре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Химические вещества, такие как тяжелые металлы, пестициды, вакцины - весьма спор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граниченное развитие (сенсорные лишения, питание / диета) – лишь в некоторых случа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АННЕГО ДЕТСКОГО АУ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АННЕГО ДЕТСКОГО АУ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сты-знат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сты-зна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еобычные реакции на раздражители (дискомфорт или поглощенность впечатления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Раннее проявление – до 30-го месяц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писание заболе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. Необычные реакции на раздражители (дискомфорт или поглощенность впечатлениям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5. Раннее проявление – до 30-го месяц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общих расстройств психологического развития по МКБ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общих расстройств психологического развития по МКБ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 аутизм (F 84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альчиков встречается в 3 – 4 раза ча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ипичный аутизм (F 84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ский  аутизм (F 8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У мальчиков встречается в 3 – 4 раза ча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типичный аутизм (F 84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етта (F 84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етта (F 84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дезинтегративные расстройства детского возраста (F 84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и характеризуются названием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ругие дезинтегративные расстройства детского возраста (F 84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знаки характеризуются названием заболе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Аспергера (F 84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Аспергера (F 8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D9B-AE46-4271-8B3F-32678B7F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4A0-48FF-4FBB-9A4D-6F97FFB5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874-B87F-4F54-A89E-67C9B8A7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1DB-303C-4217-B703-2E81F4D2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D7CE-1C44-4EB2-A15D-47A22091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84AA-9EC1-4530-9749-855AE491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2F0E-9BA0-4BE9-83A6-683E9504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7783-80A3-4EC0-897B-972B12F0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26BC-2960-486F-B95D-03822D0E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4AAB-AD38-4A3F-AC21-5098C689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2B81-A8D7-40C0-B0D6-ABA72681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CF9-8B2D-44AB-B273-3353DBEA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E7A5-85BB-4DB4-B1C9-DFC924A5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284B-EC2D-41AF-8144-E75C6B22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C91E-3A95-42CB-B127-A0703BD3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E76C-CC1C-4CA6-8AD5-7AABB4ED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9B79-BFCA-4D69-8ACD-D1A68A03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2E27B-3B93-425E-B198-02647374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51513-19D2-48AD-BEC9-D6E9AF2E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0FD86-51C6-4944-89BC-605EC3BE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0A2CC-EC78-43F5-982A-5ED72918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5E611-ADAA-4304-95BE-10FB18BE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A0D-B26D-4B86-9B7C-C3C1FE4E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3A2E2-740A-4E30-9E4B-42953F0C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3147-887B-4D73-9CA9-DCF43ED2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3B715-38A9-4388-B8AC-8B48333E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5B165-58A1-4690-A134-C9E6738B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448FC-01ED-4ACB-8904-FC20D0D6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504C-3EB7-45FF-8239-58BC8344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AD546-3CD5-427C-BD68-A62C2872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C3837-7324-4370-8A97-FC0F3C45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CA00B-9F8C-4545-80F5-C2AF3E68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6A60A-52B7-4DA9-9970-78752C4C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C60-5D1D-4CEF-9C72-79F64FFC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B2B4C-CD02-4ACC-8BF2-B816FF33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143E6-DDAE-4669-B532-07815A7B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37AA6-BB01-4814-9095-D0655F11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0B207-9785-4FC7-9BA5-2CA531B7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FE7A5-FDFC-4BEB-8DBC-EDAFD9FE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87D2E-A6B8-40F9-A304-89C44C74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4295F-AFA8-45DA-880F-E783185F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2DF15-46BE-44FD-85A8-1FFAB13C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80302-1FAC-4833-A89F-4DFB6765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BB3-9EB0-4234-973E-304AB40B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AAD-5A32-48FF-BE89-012C141E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2E6-D49C-4A16-8E7F-B99B953D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A41-7583-4E37-B6D6-35E8938E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702-0110-4CD5-885A-AD029C8E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591432-9BDE-4FE8-AAB8-9CC5C91EE4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C20ED2-2F02-45F8-928F-095B3963AE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A15CBE-2E9C-4BB1-8CAB-041227C689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4A881B-8F04-45F9-A4EE-2086DC259B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0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</a:t>
            </a: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его клинические симптомы и современная классификация.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large_140948"/>
          <p:cNvPicPr/>
          <p:nvPr/>
        </p:nvPicPr>
        <p:blipFill>
          <a:blip r:embed="rId1"/>
          <a:stretch/>
        </p:blipFill>
        <p:spPr>
          <a:xfrm>
            <a:off x="1981080" y="3581280"/>
            <a:ext cx="5681160" cy="2852280"/>
          </a:xfrm>
          <a:prstGeom prst="rect">
            <a:avLst/>
          </a:prstGeom>
          <a:ln w="9525">
            <a:noFill/>
          </a:ln>
        </p:spPr>
      </p:pic>
      <p:sp>
        <p:nvSpPr>
          <p:cNvPr id="173" name="AutoShape 4">
            <a:hlinkClick r:id="" action="ppaction://hlinkshowjump?jump=previousslide"/>
          </p:cNvPr>
          <p:cNvSpPr/>
          <p:nvPr/>
        </p:nvSpPr>
        <p:spPr>
          <a:xfrm>
            <a:off x="0" y="6784920"/>
            <a:ext cx="69480" cy="7272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9074160" y="6742080"/>
            <a:ext cx="69480" cy="115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6">
            <a:hlinkClick r:id="rId2" action="ppaction://hlinksldjump"/>
          </p:cNvPr>
          <p:cNvSpPr/>
          <p:nvPr/>
        </p:nvSpPr>
        <p:spPr>
          <a:xfrm>
            <a:off x="0" y="0"/>
            <a:ext cx="69480" cy="72720"/>
          </a:xfrm>
          <a:prstGeom prst="actionButtonHome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571680"/>
            <a:ext cx="8229240" cy="555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4" descr="DSC_0286"/>
          <p:cNvPicPr/>
          <p:nvPr/>
        </p:nvPicPr>
        <p:blipFill>
          <a:blip r:embed="rId1"/>
          <a:stretch/>
        </p:blipFill>
        <p:spPr>
          <a:xfrm>
            <a:off x="285840" y="357120"/>
            <a:ext cx="8679960" cy="5785920"/>
          </a:xfrm>
          <a:prstGeom prst="rect">
            <a:avLst/>
          </a:prstGeom>
          <a:ln w="9525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линические  симптомы  РД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Раннее  начало  заболевания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рушение  контакта  с  матерью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ное  аутистическое  поведение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личие  стереотипи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еравномерное  созревание  всех  функциональных  сфер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обенности  становления  речи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Клинико – психологическая  классификац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.С.Никольской (1985 – 1987) выделены  четыре  основные  группы  РДА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ритерии  данной  классификации: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нарушений  взаимодействия  с  внешней  средо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первичных  расстройств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утизма </a:t>
            </a:r>
            <a:br>
              <a:rPr sz="4000"/>
            </a:b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(Никольская О.С.)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рв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полная отрешенность от происходящего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тор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активное отвержение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Треть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захваченность аутистическими интересами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Четверт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чрезвычайная трудность организации общения и взаимодействия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ерв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240" cy="536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сутствие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возможность организовать ребенка: поймать взгляд, добиться ответной улыбки,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лучить отклик на зов, обратить его внимание на инструкцию, добиться выполнения поручения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тор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и второй группы более активны 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уть менее ранимы в контактах со средо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исуща избирательность в одежде, еде, вкусах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ть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ей третьей группы легче всего отличить по внешним проявлениям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: лицо ребенка хранит выражение энтузиазма, блестящие глаза, застывшая улыбка, говорит быстро и без смысл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акие дети выглядят уже не отрешенными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 скорее сверхзахваченными своими собственными стойкими интересами, проявляющимися в стереотипной форме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оявляет экстремальную конфликтность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воеобразие таких детей особенно проявляется в их речи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 многословие, большой словарный запас), не учитывая присутствие собеседни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тверт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иболее легкий вариант аутизма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развитость самих форм общения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аграмматичность 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удности сосредоточения и организации ребен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дантизм, повышенное  пристрастие к порядку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Задержка психического развития в целом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43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</a:t>
            </a: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440" cy="464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акторы, которые могут вызвать врожденные дефекты – редки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Хими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ск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ие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вещества, такие как тяжелые металлы, пестициды, вакцины - весьма спорны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граниченное развитие (сенсорные лишения, питание / диета) – лишь в некоторых случаях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8760" cy="278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ИНДРОМ РАННЕГО ДЕТСКОГО АУТИЗМ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DSC_03444222"/>
          <p:cNvPicPr/>
          <p:nvPr/>
        </p:nvPicPr>
        <p:blipFill>
          <a:blip r:embed="rId1"/>
          <a:stretch/>
        </p:blipFill>
        <p:spPr>
          <a:xfrm>
            <a:off x="214200" y="214200"/>
            <a:ext cx="3552480" cy="3601800"/>
          </a:xfrm>
          <a:prstGeom prst="rect">
            <a:avLst/>
          </a:prstGeom>
          <a:ln w="9525">
            <a:noFill/>
          </a:ln>
        </p:spPr>
      </p:pic>
      <p:sp>
        <p:nvSpPr>
          <p:cNvPr id="180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сты-знатоки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5363640" cy="5643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2" name="Содержимое 5" descr="Человек дождя.jpg"/>
          <p:cNvPicPr/>
          <p:nvPr/>
        </p:nvPicPr>
        <p:blipFill>
          <a:blip r:embed="rId1"/>
          <a:stretch/>
        </p:blipFill>
        <p:spPr>
          <a:xfrm>
            <a:off x="5715000" y="1285920"/>
            <a:ext cx="3428640" cy="3560400"/>
          </a:xfrm>
          <a:prstGeom prst="rect">
            <a:avLst/>
          </a:prstGeom>
          <a:ln w="9525">
            <a:noFill/>
          </a:ln>
        </p:spPr>
      </p:pic>
      <p:sp>
        <p:nvSpPr>
          <p:cNvPr id="243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28760" y="5716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пасибо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за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имание!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писание заболеван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9150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. Стереотипность поведения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с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мление к постоянству, сверхпристрастие к различным объектам, сопротивление изменениям в окружающем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3. Необычные реакции на раздражители (дискомфорт или поглощенность впечатлениями)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5. Раннее проявление – до 30-го месяца жизни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80520" cy="30456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8763120" y="6553080"/>
            <a:ext cx="380520" cy="304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3640" cy="1085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лассификация общих расстройств психологического развития по 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МК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10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1403280" y="1844640"/>
            <a:ext cx="6552720" cy="4248000"/>
            <a:chOff x="1403280" y="1844640"/>
            <a:chExt cx="6552720" cy="4248000"/>
          </a:xfrm>
        </p:grpSpPr>
        <p:sp>
          <p:nvSpPr>
            <p:cNvPr id="188" name="Rectangle 4"/>
            <p:cNvSpPr/>
            <p:nvPr/>
          </p:nvSpPr>
          <p:spPr>
            <a:xfrm>
              <a:off x="1403280" y="1844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0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Детский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1403280" y="234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1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Атипичный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1403280" y="285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2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Рет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1403280" y="335772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3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дезинтегративные расстройства детского возрас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1403280" y="3860640"/>
              <a:ext cx="6552720" cy="7189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4. 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Г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иперактивные расстройства, сочетающиеся с умствен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тсталостью и стереотипными движениями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1403280" y="472428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5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Асперге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1403280" y="522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8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общие расстройства развития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1403280" y="573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9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бщие расстройства развития, не уточне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8567640" y="6453360"/>
            <a:ext cx="396360" cy="28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143680" y="3929040"/>
            <a:ext cx="192852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4" descr="DSC_0213"/>
          <p:cNvPicPr/>
          <p:nvPr/>
        </p:nvPicPr>
        <p:blipFill>
          <a:blip r:embed="rId1"/>
          <a:stretch/>
        </p:blipFill>
        <p:spPr>
          <a:xfrm>
            <a:off x="3784680" y="3286080"/>
            <a:ext cx="5358960" cy="3571560"/>
          </a:xfrm>
          <a:prstGeom prst="rect">
            <a:avLst/>
          </a:prstGeom>
          <a:ln w="9525">
            <a:noFill/>
          </a:ln>
        </p:spPr>
      </p:pic>
      <p:pic>
        <p:nvPicPr>
          <p:cNvPr id="200" name="Picture 5" descr="DSC_0230"/>
          <p:cNvPicPr/>
          <p:nvPr/>
        </p:nvPicPr>
        <p:blipFill>
          <a:blip r:embed="rId2"/>
          <a:stretch/>
        </p:blipFill>
        <p:spPr>
          <a:xfrm>
            <a:off x="0" y="285840"/>
            <a:ext cx="5000400" cy="3333240"/>
          </a:xfrm>
          <a:prstGeom prst="rect">
            <a:avLst/>
          </a:prstGeom>
          <a:ln w="9525">
            <a:noFill/>
          </a:ln>
        </p:spPr>
      </p:pic>
      <p:sp>
        <p:nvSpPr>
          <p:cNvPr id="20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8197560" cy="595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етский 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0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У мальчиков встречается в 3 – 4 раза чаще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Атипичный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1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00040" y="357120"/>
            <a:ext cx="8268840" cy="579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Рет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2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61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ругие дезинтегративные расстройства детского возрас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3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Гиперактивные расстройства, сочетающиеся с умственной отсталостью и стереотипными движениями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4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Признаки характеризуются названием заболева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57120" y="357120"/>
            <a:ext cx="8329320" cy="576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Аспергер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5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  <Words>2902</Words>
  <Paragraphs>2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7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1</vt:r8>
  </property>
  <property fmtid="{D5CDD505-2E9C-101B-9397-08002B2CF9AE}" pid="3" name="PresentationFormat">
    <vt:lpwstr>Екран (4:3)</vt:lpwstr>
  </property>
  <property fmtid="{D5CDD505-2E9C-101B-9397-08002B2CF9AE}" pid="4" name="Slides">
    <vt:r8>21</vt:r8>
  </property>
</Properties>
</file>