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633E0A-10B1-44E7-A501-FE83A0B9E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ИЙ ДЕТСКИЙ АУТИЗМ, его клинические симптомы и современная классифик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АННИЙ ДЕТСКИЙ АУТИЗМ, его клинические симптомы и современная классификац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 клинические  симптомы 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ее  начало  заболе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 контакта  с  матер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ное  аутистическое  повед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 стереотип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равномерное  созревание  всех  функциональных  сфе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сти  становления 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новные  клинические  симптомы 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аннее  начало  заболе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рушение  контакта  с  матерью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Характерное  аутистическое  повед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личие  стереотип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еравномерное  созревание  всех  функциональных  сфе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обенности  становления  реч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нико – психологическая  классифик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.С.Никольской (1985 – 1987) выделены  четыре  основные  группы  Р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 критерии  данной  классифик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  и  степень  нарушений  взаимодействия  с  внешней  сред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  и  степень  первичных  расстрой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линико – психологическая  классифик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.С.Никольской (1985 – 1987) выделены  четыре  основные  группы  Р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новные  критерии  данной  классифика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Характер  и  степень  нарушений  взаимодействия  с  внешней  средо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Характер  и  степень  первичных  рас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аутизм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икольская О.С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ая форма – полная отрешенность от происходящег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форма – активное отверже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ья форма – захваченность аутистическими интерес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ая форма – чрезвычайная трудность организации общения и взаимодейств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лассификация аутизм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(Никольская О.С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ервая форма – полная отрешенность от происходящего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торая форма – активное отвержени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ретья форма – захваченность аутистическими интересами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етвертая форма – чрезвычайная трудность организации общения и взаимодейств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а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озможность организовать ребенка: поймать взгляд, добиться ответной улыбки, получить отклик на зов, обратить его внимание на инструкцию, добиться выполнения пор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не откликаются на просьбы, ничего не просят сами, часто не реагируют даже на боль, голод и холод, не проявляют испуга в ситуациях, в которых испугался бы любой другой ребенок. При  попытке добиться  внимания, заставить что-то сделать, может возникнуть реакция – крик, самоагрес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утизм таких детей максимально глубок, он проявляется как полная отрешенность от происходящего вокру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ерва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тсутствие реч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евозможность организовать ребенка: поймать взгляд, добиться ответной улыбки, получить отклик на зов, обратить его внимание на инструкцию, добиться выполнения пор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и не откликаются на просьбы, ничего не просят сами, часто не реагируют даже на боль, голод и холод, не проявляют испуга в ситуациях, в которых испугался бы любой другой ребенок. При  попытке добиться  внимания, заставить что-то сделать, может возникнуть реакция – крик, самоагресс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Аутизм таких детей максимально глубок, он проявляется как полная отрешенность от происходящего вокру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второй группы более активн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ть менее ранимы в контактах со сре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е – это наиболее  страдающие дети: лицо их обычно напряжено, искажено гримасой страха, характерна для них скованность в движениях, они пользуются эхолаличными ответами, их речь напряженно скандиров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уща избирательность в одежде, еде, вку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ения напряженно скованны, механичны, действия рук и ног плохо скоординированы; пересекают пространство комнаты согнувшись, перебежками, как будто это опасное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ть проще действуя их же руками, задавая извне готовые инстру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тора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и второй группы более активны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уть менее ранимы в контактах со сред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нешне – это наиболее  страдающие дети: лицо их обычно напряжено, искажено гримасой страха, характерна для них скованность в движениях, они пользуются эхолаличными ответами, их речь напряженно скандирова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суща избирательность в одежде, еде, вкус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вижения напряженно скованны, механичны, действия рук и ног плохо скоординированы; пересекают пространство комнаты согнувшись, перебежками, как будто это опасное мес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бучать проще действуя их же руками, задавая извне готовые инструк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ь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ей третьей группы легче всего отличить по внешним проявлениям: лицо ребенка хранит выражение энтузиазма, блестящие глаза, застывшая улыбка, говорит быстро и без смы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е дети выглядят уже не отрешенными, а скорее сверхзахваченными своими собственными стойкими интересами, проявляющимися в стереотипн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являет экстремальную конфликт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еобразие таких детей особенно проявляется в их речи ( многословие, большой словарный запас), не учитывая присутствие собесе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реть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ей третьей группы легче всего отличить по внешним проявлениям: лицо ребенка хранит выражение энтузиазма, блестящие глаза, застывшая улыбка, говорит быстро и без смыс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акие дети выглядят уже не отрешенными, а скорее сверхзахваченными своими собственными стойкими интересами, проявляющимися в стереотипной форм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оявляет экстремальную конфликт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воеобразие таких детей особенно проявляется в их речи ( многословие, большой словарный запас), не учитывая присутствие собесед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а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легкий вариант аут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ервый план здесь выступают уже не защита, а повышенная ранимость, тормозимость в контак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развитость самих форм общения, аграмматичность 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сти сосредоточения и организации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дантизм, повышенное  пристрастие к по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ержка психического развития в цел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отношения с миром ребенок стремится строить через взрослого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етверта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иболее легкий вариант аутиз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 первый план здесь выступают уже не защита, а повышенная ранимость, тормозимость в контакт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еразвитость самих форм общения, аграмматичность  реч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рудности сосредоточения и организации реб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едантизм, повышенное  пристрастие к поряд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адержка психического развития в цел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се отношения с миром ребенок стремится строить через взрослого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ы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чале 50-х годов возникла гипотеза о психогенном происхождении отклонения, но она не получила подтвер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тоящее время большинство авторов полагают, что РДА является следствием особой патологии, в основе которой лежит  недостаточность центральной нервной систе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ДА может проявиться вследствие самых разных заболеваний, например врожденной краснухи или туберозного скле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5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чины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начале 50-х годов возникла гипотеза о психогенном происхождении отклонения, но она не получила подтверж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настоящее время большинство авторов полагают, что РДА является следствием особой патологии, в основе которой лежит  недостаточность центральной нервной систе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ДА может проявиться вследствие самых разных заболеваний, например врожденной краснухи или туберозного склеро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ы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Факторы, которые могут вызвать врожденные дефекты – ре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Химические вещества, такие как тяжелые металлы, пестициды, вакцины - весьма спор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ное развитие (сенсорные лишения, питание / диета) – лишь в некоторых случа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чины 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- Факторы, которые могут вызвать врожденные дефекты – ред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- Химические вещества, такие как тяжелые металлы, пестициды, вакцины - весьма спор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граниченное развитие (сенсорные лишения, питание / диета) – лишь в некоторых случая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РАННЕГО ДЕТСКОГО АУ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ыв от реальности, отгороженность от внешнего мира, отсутствие или парадоксальность реакций на внешние раздражители, нарушение адекватной эмоциональной связи со сре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ДРОМ РАННЕГО ДЕТСКОГО АУТИЗ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трыв от реальности, отгороженность от внешнего мира, отсутствие или парадоксальность реакций на внешние раздражители, нарушение адекватной эмоциональной связи со сред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утисты-знат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м известным аутистом-знатоком, благодаря Голливуду, стал «человек дождя» в исполнении Дастина Хоффмана. Прототип этого персонажа Ким Пик знает наизусть тысячи книг, его называют мегаученым, так как он гениален сразу в пятнадцати областях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ти четверть программистов Microsoft – люди с симптомами аутизма. У аутистов с сохраненными умственными способностями, а таких около трети, интеллект существенно выше среднего, но неумение общаться мешает им проявить с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5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Аутисты-знато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амым известным аутистом-знатоком, благодаря Голливуду, стал «человек дождя» в исполнении Дастина Хоффмана. Прототип этого персонажа Ким Пик знает наизусть тысячи книг, его называют мегаученым, так как он гениален сразу в пятнадцати областях зн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очти четверть программистов Microsoft – люди с симптомами аутизма. У аутистов с сохраненными умственными способностями, а таких около трети, интеллект существенно выше среднего, но неумение общаться мешает им проявить себ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5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пасиб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забол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ий детский аутизм — клинический синдром, впервые описанный Л. Каннером в 1943 г. Его основными признаками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рожденная неспособность ребенка к установлению  контакта посредством взгляда, мимики, жеста, не обусловленная низким интеллектуальным уровн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Стереотипность поведения (стремление к постоянству, сверхпристрастие к различным объектам, сопротивление изменениям в окружающе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Необычные реакции на раздражители (дискомфорт или поглощенность впечатления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обая характерная задержка в развитии речи вне связи с уровнем интеллектуального разви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Раннее проявление – до 30-го месяца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 ярко аутизм проявляется в возрасте 3–5 лет и сопровождается страхами, негативизмом, агрессией. В дальнейшем острый период сменяется нарушениями интеллектуального и личностно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писание заболе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анний детский аутизм — клинический синдром, впервые описанный Л. Каннером в 1943 г. Его основными признаками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1. Врожденная неспособность ребенка к установлению  контакта посредством взгляда, мимики, жеста, не обусловленная низким интеллектуальным уровне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2. Стереотипность поведения (стремление к постоянству, сверхпристрастие к различным объектам, сопротивление изменениям в окружающем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. Необычные реакции на раздражители (дискомфорт или поглощенность впечатлениям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4. Особая характерная задержка в развитии речи вне связи с уровнем интеллектуального разви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5. Раннее проявление – до 30-го месяца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обенно ярко аутизм проявляется в возрасте 3–5 лет и сопровождается страхами, негативизмом, агрессией. В дальнейшем острый период сменяется нарушениями интеллектуального и личностного разви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общих расстройств психологического развития по МКБ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лассификация общих расстройств психологического развития по МКБ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ий  аутизм (F 84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е расстройство развития, определяется наличием аномального или нарушенного развития, которое проявляется в возрасте до 3 лет, и аномальным функционированием во всех трех сферах социального общения и ограниченного, повторяющегося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мальчиков встречается в 3 – 4 раза чащ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ипичный аутизм (F 84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часто возникает у детей с умственной отсталостью или тяжелым расстройством развития рецептивной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ается от детского аутизма возрастом начала ( 3 – 5 лет) или отсутствием хотя бы одного из трех диагностических критери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ский  аутизм (F 8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бщее расстройство развития, определяется наличием аномального или нарушенного развития, которое проявляется в возрасте до 3 лет, и аномальным функционированием во всех трех сферах социального общения и ограниченного, повторяющегося пове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У мальчиков встречается в 3 – 4 раза чащ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Атипичный аутизм (F 84.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иболее часто возникает у детей с умственной отсталостью или тяжелым расстройством развития рецептивной реч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тличается от детского аутизма возрастом начала ( 3 – 5 лет) или отсутствием хотя бы одного из трех диагностических критерие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Ретта (F 84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ледственное заболевания, встречается почти исключительно у девочек с частотой 1:15 000, являясь следующей по частоте после синдрома Дауна специфической причиной умственной отсталости у девочек. Развитие ребенка до 1 – 1,5 лет протекает нормально, но потом у девочек начинают распадаться только что приобретенные речевые, двигательные и предметно – ролевые навыки. Характерны стереотипные, однообразные движения рук, их потирание, заламывание. Речь затрудняется, временами совсем пропадает ( мутизм). Приступы насильственного смеха периодически сменяются приступами импульсивного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дром Ретта (F 84.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следственное заболевания, встречается почти исключительно у девочек с частотой 1:15 000, являясь следующей по частоте после синдрома Дауна специфической причиной умственной отсталости у девочек. Развитие ребенка до 1 – 1,5 лет протекает нормально, но потом у девочек начинают распадаться только что приобретенные речевые, двигательные и предметно – ролевые навыки. Характерны стереотипные, однообразные движения рук, их потирание, заламывание. Речь затрудняется, временами совсем пропадает ( мутизм). Приступы насильственного смеха периодически сменяются приступами импульсивного пове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ие дезинтегративные расстройства детского возраста (F 84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людается постепенное прогрессирование заболевания с развитием деменции. Но нарушения социализации и общения типичны скорее для аутизма, чем для нарушения интелл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перактивные расстройства, сочетающиеся с умственной отсталостью и стереотипными движениями (F 84.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наки характеризуются названием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ругие дезинтегративные расстройства детского возраста (F 84.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блюдается постепенное прогрессирование заболевания с развитием деменции. Но нарушения социализации и общения типичны скорее для аутизма, чем для нарушения интелл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Гиперактивные расстройства, сочетающиеся с умственной отсталостью и стереотипными движениями (F 84.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знаки характеризуются названием заболе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Аспергера (F 84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аутизма, при котором способность функционировать относительно сохранена. Аутистическим расстройствам этого синдрома свойственна стертость клинических проявлений. Дети обладают нормальным интеллектом, но нестандартными или слаборазвитыми социальными способностями. Отмечаются качественные нарушения в социальном взаимодействии и ограниченных, повторяющихся и стереотипных особенностях поведения, интересов и зан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альнейшем онтогенезе ребенка наблюдается формирование особой личности, близкой личностям шизоидного кру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дром Аспергера (F 84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Форма аутизма, при котором способность функционировать относительно сохранена. Аутистическим расстройствам этого синдрома свойственна стертость клинических проявлений. Дети обладают нормальным интеллектом, но нестандартными или слаборазвитыми социальными способностями. Отмечаются качественные нарушения в социальном взаимодействии и ограниченных, повторяющихся и стереотипных особенностях поведения, интересов и заня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дальнейшем онтогенезе ребенка наблюдается формирование особой личности, близкой личностям шизоидного кру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E5A4-FBCA-4DF9-988E-4D1922BA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E443-D520-4836-9600-5BDE4756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68F6-5DCB-41B5-A63A-48902D19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6E2A-8301-4DC6-A5EF-0DE7F081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1247-4F9B-48A7-B1D5-F05317A8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AE2E-C640-444D-ADD3-1F11BED3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4EFC-FBD7-4D0B-8676-71E5F0AD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F5C0-9575-4369-AE73-0289C5E9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7080-181A-44D4-82F2-4DA8E9AD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9B0B-FEC4-4D21-8074-6E1B43B4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EF9D-EA1A-4AA3-B020-FA4DDB7C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FDDA-1387-436C-AFF6-A65B2E00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BFC1-F517-405E-8F41-41EF1831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EC71-9A1F-4446-A0DC-4C412AD5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CF94-8235-40CE-959B-D460A2E3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9F92-205D-4BF9-83B8-973F3388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08F6-30BE-4684-A599-38CC5A98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B6073-9D97-4F9A-94A5-BFA24101A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6EEEE-1AEB-4DA0-913C-E9846725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DCEDF-19B9-439D-98B7-D2E9FBCD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A05E0-6F23-4F15-8883-7685EE07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B54D0-76F3-437A-BA7A-02BFFB6E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5467-240C-4380-8E39-6D949FE9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E846C-C814-4BE7-A40E-6F2604F0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C316C-F634-4772-BBBF-26F0A9DB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BEBCF-129F-4446-8A3F-1D2ABA79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01784-B86D-41AE-A5BB-0928029C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6B0E1-38EB-4C8A-B0C6-B4F6C5F0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0D079-7892-48DC-AD0F-B3A9861B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2FE0F-B33E-4566-B438-507275B8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0E660-8120-4457-8DB9-1ED3656E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707A0-6160-473B-ABE9-CECA146D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CDC7F-D469-48AB-8D69-4C144DCA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B304-0DC8-4893-BDFE-3FA65A84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F8E2B-04D5-446F-800A-32DB8D16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398EE-B1E2-4D10-8452-8627C93D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ED7F1-9317-44CB-A604-4892470F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D6B6D-0313-45D3-875C-A592576F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083AE-5CFA-43E5-9C42-55288DDD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DE293-4E16-4B2E-83D3-0D593446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FAF15-8D9F-41C2-BD5E-E8ECE2C0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DE49B-94C7-4A7B-AA73-23052220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F9DBE-370D-4653-B905-40E2A95E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9FD5-3466-494C-9579-CE8B53BD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8AB5-966B-4492-85E2-7B2ACE53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E231-873C-47B0-BEE5-6E9668E6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CC11-59A7-45F6-82C3-81954C5E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03D4-34C8-4ADD-8A84-2E63CE10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BF9DF4-62AD-4B6A-877F-D3D639ACBD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0E15B0-969C-4C8E-87C1-E3141B7813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4BE316-5F75-49C1-9D3A-60AD40F570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FC1630-C502-4ACA-A158-1ACA92EE34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0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РАННИЙ ДЕТСКИЙ АУТИЗМ</a:t>
            </a: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, его клинические симптомы и современная классификация.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large_140948"/>
          <p:cNvPicPr/>
          <p:nvPr/>
        </p:nvPicPr>
        <p:blipFill>
          <a:blip r:embed="rId1"/>
          <a:stretch/>
        </p:blipFill>
        <p:spPr>
          <a:xfrm>
            <a:off x="1981080" y="3581280"/>
            <a:ext cx="5681160" cy="2852280"/>
          </a:xfrm>
          <a:prstGeom prst="rect">
            <a:avLst/>
          </a:prstGeom>
          <a:ln w="9525">
            <a:noFill/>
          </a:ln>
        </p:spPr>
      </p:pic>
      <p:sp>
        <p:nvSpPr>
          <p:cNvPr id="173" name="AutoShape 4">
            <a:hlinkClick r:id="" action="ppaction://hlinkshowjump?jump=previousslide"/>
          </p:cNvPr>
          <p:cNvSpPr/>
          <p:nvPr/>
        </p:nvSpPr>
        <p:spPr>
          <a:xfrm>
            <a:off x="0" y="6784920"/>
            <a:ext cx="69480" cy="72720"/>
          </a:xfrm>
          <a:prstGeom prst="actionButtonBackPrevious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5">
            <a:hlinkClick r:id="" action="ppaction://hlinkshowjump?jump=nextslide"/>
          </p:cNvPr>
          <p:cNvSpPr/>
          <p:nvPr/>
        </p:nvSpPr>
        <p:spPr>
          <a:xfrm>
            <a:off x="9074160" y="6742080"/>
            <a:ext cx="69480" cy="115560"/>
          </a:xfrm>
          <a:prstGeom prst="actionButtonForwardNext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6">
            <a:hlinkClick r:id="rId2" action="ppaction://hlinksldjump"/>
          </p:cNvPr>
          <p:cNvSpPr/>
          <p:nvPr/>
        </p:nvSpPr>
        <p:spPr>
          <a:xfrm>
            <a:off x="0" y="0"/>
            <a:ext cx="69480" cy="72720"/>
          </a:xfrm>
          <a:prstGeom prst="actionButtonHome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571680"/>
            <a:ext cx="8229240" cy="555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Picture 4" descr="DSC_0286"/>
          <p:cNvPicPr/>
          <p:nvPr/>
        </p:nvPicPr>
        <p:blipFill>
          <a:blip r:embed="rId1"/>
          <a:stretch/>
        </p:blipFill>
        <p:spPr>
          <a:xfrm>
            <a:off x="285840" y="357120"/>
            <a:ext cx="8679960" cy="5785920"/>
          </a:xfrm>
          <a:prstGeom prst="rect">
            <a:avLst/>
          </a:prstGeom>
          <a:ln w="9525">
            <a:noFill/>
          </a:ln>
        </p:spPr>
      </p:pic>
      <p:sp>
        <p:nvSpPr>
          <p:cNvPr id="212" name="PlaceHolder 2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сновные  клинические  симптомы  РДА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Раннее  начало  заболевания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рушение  контакта  с  матерью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Характерное  аутистическое  поведение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личие  стереотипий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еравномерное  созревание  всех  функциональных  сфер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собенности  становления  речи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Клинико – психологическая  классификация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.С.Никольской (1985 – 1987) выделены  четыре  основные  группы  РДА.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сновные  критерии  данной  классификации: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Характер  и  степень  нарушений  взаимодействия  с  внешней  средой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Характер  и  степень  первичных  расстройств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аутизма </a:t>
            </a:r>
            <a:br>
              <a:rPr sz="4000"/>
            </a:b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(Никольская О.С.)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ерва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полная отрешенность от происходящего;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тора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активное отвержение;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Треть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захваченность аутистическими интересами;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Четверта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чрезвычайная трудность организации общения и взаимодействия.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836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ерва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240" cy="5360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тсутствие речи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евозможность организовать ребенка: поймать взгляд, добиться ответной улыбки,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лучить отклик на зов, обратить его внимание на инструкцию, добиться выполнения поручения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Дети не откликаются на просьбы, ничего не просят сами, часто не реагируют даже на боль, голод и холод, не проявляют испуга в ситуациях, в которых испугался бы любой другой ребенок. При  попытке добиться  внимания, заставить что-то сделать, может возникнуть реакция – крик, самоагресс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утизм таких детей максимально глубок, он проявляется как полная отрешенность от происходящего вокруг.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Втора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Дети второй группы более активны  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Чуть менее ранимы в контактах со средой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нешне – это наиболее  страдающие дети: лицо их обычно напряжено, искажено гримасой страха, характерна для них скованность в движениях, они пользуются эхолаличными ответами, их речь напряженно скандирована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рисуща избирательность в одежде, еде, вкусах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Движения напряженно скованны, механичны, действия рук и ног плохо скоординированы; пересекают пространство комнаты согнувшись, перебежками, как будто это опасное место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Обучать проще действуя их же руками, задавая извне готовые инструкции 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реть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Детей третьей группы легче всего отличить по внешним проявлениям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: лицо ребенка хранит выражение энтузиазма, блестящие глаза, застывшая улыбка, говорит быстро и без смысл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акие дети выглядят уже не отрешенными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 скорее сверхзахваченными своими собственными стойкими интересами, проявляющимися в стереотипной форме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роявляет экстремальную конфликтность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воеобразие таких детей особенно проявляется в их речи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( многословие, большой словарный запас), не учитывая присутствие собеседник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Четверта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240" cy="500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аиболее легкий вариант аутизма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а первый план здесь выступают уже не защита, а повышенная ранимость, тормозимость в контактах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еразвитость самих форм общения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, аграмматичность  речи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рудности сосредоточения и организации ребенк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едантизм, повышенное  пристрастие к порядку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Задержка психического развития в целом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се отношения с миром ребенок стремится строить через взрослого человек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ичины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043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В начале 50-х годов возникла гипотеза о психогенном происхождении отклонения, но она не получила подтверждения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В настоящее время большинство авторов полагают, что РДА является следствием особой патологии, в основе которой лежит  недостаточность центральной нервной системы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РДА может проявиться вследствие самых разных заболеваний, например врожденной краснухи или туберозного склероз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ичины </a:t>
            </a: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440" cy="464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Факторы, которые могут вызвать врожденные дефекты – редки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 Хими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ческ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ие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вещества, такие как тяжелые металлы, пестициды, вакцины - весьма спорны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граниченное развитие (сенсорные лишения, питание / диета) – лишь в некоторых случаях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00680" y="285840"/>
            <a:ext cx="4928760" cy="278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ИНДРОМ РАННЕГО ДЕТСКОГО АУТИЗМ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трыв от реальности, отгороженность от внешнего мира, отсутствие или парадоксальность реакций на внешние раздражители, нарушение адекватной эмоциональной связи со ср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DSC_03444222"/>
          <p:cNvPicPr/>
          <p:nvPr/>
        </p:nvPicPr>
        <p:blipFill>
          <a:blip r:embed="rId1"/>
          <a:stretch/>
        </p:blipFill>
        <p:spPr>
          <a:xfrm>
            <a:off x="214200" y="214200"/>
            <a:ext cx="3552480" cy="3601800"/>
          </a:xfrm>
          <a:prstGeom prst="rect">
            <a:avLst/>
          </a:prstGeom>
          <a:ln w="9525">
            <a:noFill/>
          </a:ln>
        </p:spPr>
      </p:pic>
      <p:sp>
        <p:nvSpPr>
          <p:cNvPr id="180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утисты-знатоки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5363640" cy="5643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амым известным аутистом-знатоком, благодаря Голливуду, стал «человек дождя» в исполнении Дастина Хоффмана. Прототип этого персонажа Ким Пик знает наизусть тысячи книг, его называют мегаученым, так как он гениален сразу в пятнадцати областях знаний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чти четверть программистов Microsoft – люди с симптомами аутизма. У аутистов с сохраненными умственными способностями, а таких около трети, интеллект существенно выше среднего, но неумение общаться мешает им проявить себя.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2" name="Содержимое 5" descr="Человек дождя.jpg"/>
          <p:cNvPicPr/>
          <p:nvPr/>
        </p:nvPicPr>
        <p:blipFill>
          <a:blip r:embed="rId1"/>
          <a:stretch/>
        </p:blipFill>
        <p:spPr>
          <a:xfrm>
            <a:off x="5715000" y="1285920"/>
            <a:ext cx="3428640" cy="3560400"/>
          </a:xfrm>
          <a:prstGeom prst="rect">
            <a:avLst/>
          </a:prstGeom>
          <a:ln w="9525">
            <a:noFill/>
          </a:ln>
        </p:spPr>
      </p:pic>
      <p:sp>
        <p:nvSpPr>
          <p:cNvPr id="243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28760" y="5716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Спасибо </a:t>
            </a: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за </a:t>
            </a: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нимание!</a:t>
            </a: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06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писание заболевания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91504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9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Ранний детский аутизм — клинический синдром, впервые описанный Л. Каннером в 1943 г. Его основными признаками являются: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1. Врожденная неспособность ребенка к установлению  контакта посредством взгляда, мимики, жеста, не обусловленная низким интеллектуальным уровнем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2. Стереотипность поведения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(с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ремление к постоянству, сверхпристрастие к различным объектам, сопротивление изменениям в окружающем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3. Необычные реакции на раздражители (дискомфорт или поглощенность впечатлениями)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4. Особая характерная задержка в развитии речи вне связи с уровнем интеллектуального развития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5. Раннее проявление – до 30-го месяца жизни.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     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собенно ярко аутизм проявляется в возрасте 3–5 лет и сопровождается страхами, негативизмом, агрессией. В дальнейшем острый период сменяется нарушениями интеллектуального и личностного развития.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>
            <a:hlinkClick r:id="" action="ppaction://hlinkshowjump?jump=previousslide"/>
          </p:cNvPr>
          <p:cNvSpPr/>
          <p:nvPr/>
        </p:nvSpPr>
        <p:spPr>
          <a:xfrm>
            <a:off x="0" y="6553080"/>
            <a:ext cx="380520" cy="304560"/>
          </a:xfrm>
          <a:prstGeom prst="actionButtonBackPrevious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5">
            <a:hlinkClick r:id="" action="ppaction://hlinkshowjump?jump=nextslide"/>
          </p:cNvPr>
          <p:cNvSpPr/>
          <p:nvPr/>
        </p:nvSpPr>
        <p:spPr>
          <a:xfrm>
            <a:off x="8763120" y="6553080"/>
            <a:ext cx="380520" cy="304560"/>
          </a:xfrm>
          <a:prstGeom prst="actionButtonForwardNext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3640" cy="1085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Классификация общих расстройств психологического развития по </a:t>
            </a: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МК</a:t>
            </a: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Б</a:t>
            </a: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10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1403280" y="1844640"/>
            <a:ext cx="6552720" cy="4248000"/>
            <a:chOff x="1403280" y="1844640"/>
            <a:chExt cx="6552720" cy="4248000"/>
          </a:xfrm>
        </p:grpSpPr>
        <p:sp>
          <p:nvSpPr>
            <p:cNvPr id="188" name="Rectangle 4"/>
            <p:cNvSpPr/>
            <p:nvPr/>
          </p:nvSpPr>
          <p:spPr>
            <a:xfrm>
              <a:off x="1403280" y="184464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0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Детский аутиз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5"/>
            <p:cNvSpPr/>
            <p:nvPr/>
          </p:nvSpPr>
          <p:spPr>
            <a:xfrm>
              <a:off x="1403280" y="234936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1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Атипичный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 аутиз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1403280" y="285264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2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Синдром Рет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7"/>
            <p:cNvSpPr/>
            <p:nvPr/>
          </p:nvSpPr>
          <p:spPr>
            <a:xfrm>
              <a:off x="1403280" y="335772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3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Другие дезинтегративные расстройства детского возрас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8"/>
            <p:cNvSpPr/>
            <p:nvPr/>
          </p:nvSpPr>
          <p:spPr>
            <a:xfrm>
              <a:off x="1403280" y="3860640"/>
              <a:ext cx="6552720" cy="71892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4. 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Г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иперактивные расстройства, сочетающиеся с умственн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отсталостью и стереотипными движениями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1403280" y="472428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5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Синдром Асперге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0"/>
            <p:cNvSpPr/>
            <p:nvPr/>
          </p:nvSpPr>
          <p:spPr>
            <a:xfrm>
              <a:off x="1403280" y="522936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 84.8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Другие общие расстройства развития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1403280" y="573264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 84.9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Общие расстройства развития, не уточнен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7"/>
          <p:cNvSpPr/>
          <p:nvPr/>
        </p:nvSpPr>
        <p:spPr>
          <a:xfrm>
            <a:off x="8567640" y="6453360"/>
            <a:ext cx="396360" cy="288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</a:pP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143680" y="3929040"/>
            <a:ext cx="192852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9" name="Picture 4" descr="DSC_0213"/>
          <p:cNvPicPr/>
          <p:nvPr/>
        </p:nvPicPr>
        <p:blipFill>
          <a:blip r:embed="rId1"/>
          <a:stretch/>
        </p:blipFill>
        <p:spPr>
          <a:xfrm>
            <a:off x="3784680" y="3286080"/>
            <a:ext cx="5358960" cy="3571560"/>
          </a:xfrm>
          <a:prstGeom prst="rect">
            <a:avLst/>
          </a:prstGeom>
          <a:ln w="9525">
            <a:noFill/>
          </a:ln>
        </p:spPr>
      </p:pic>
      <p:pic>
        <p:nvPicPr>
          <p:cNvPr id="200" name="Picture 5" descr="DSC_0230"/>
          <p:cNvPicPr/>
          <p:nvPr/>
        </p:nvPicPr>
        <p:blipFill>
          <a:blip r:embed="rId2"/>
          <a:stretch/>
        </p:blipFill>
        <p:spPr>
          <a:xfrm>
            <a:off x="0" y="285840"/>
            <a:ext cx="5000400" cy="3333240"/>
          </a:xfrm>
          <a:prstGeom prst="rect">
            <a:avLst/>
          </a:prstGeom>
          <a:ln w="9525">
            <a:noFill/>
          </a:ln>
        </p:spPr>
      </p:pic>
      <p:sp>
        <p:nvSpPr>
          <p:cNvPr id="20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00040" y="428760"/>
            <a:ext cx="8197560" cy="595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Детский  аутизм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0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бщее расстройство развития, определяется наличием аномального или нарушенного развития, которое проявляется в возрасте до 3 лет, и аномальным функционированием во всех трех сферах социального общения и ограниченного, повторяющегося поведен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У мальчиков встречается в 3 – 4 раза чаще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Атипичный аутизм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1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иболее часто возникает у детей с умственной отсталостью или тяжелым расстройством развития рецептивной речи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тличается от детского аутизма возрастом начала ( 3 – 5 лет) или отсутствием хотя бы одного из трех диагностических критериев.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00040" y="357120"/>
            <a:ext cx="8268840" cy="5797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Синдром Ретта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2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следственное заболевания, встречается почти исключительно у девочек с частотой 1:15 000, являясь следующей по частоте после синдрома Дауна специфической причиной умственной отсталости у девочек. Развитие ребенка до 1 – 1,5 лет протекает нормально, но потом у девочек начинают распадаться только что приобретенные речевые, двигательные и предметно – ролевые навыки. Характерны стереотипные, однообразные движения рук, их потирание, заламывание. Речь затрудняется, временами совсем пропадает ( мутизм). Приступы насильственного смеха периодически сменяются приступами импульсивного поведен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240" cy="61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Другие дезинтегративные расстройства детского возраста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3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блюдается постепенное прогрессирование заболевания с развитием деменции. Но нарушения социализации и общения типичны скорее для аутизма, чем для нарушения интеллекта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Гиперактивные расстройства, сочетающиеся с умственной отсталостью и стереотипными движениями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4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Признаки характеризуются названием заболеван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57120" y="357120"/>
            <a:ext cx="8329320" cy="5768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Синдром Аспергера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5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Форма аутизма, при котором способность функционировать относительно сохранена. Аутистическим расстройствам этого синдрома свойственна стертость клинических проявлений. Дети обладают нормальным интеллектом, но нестандартными или слаборазвитыми социальными способностями. Отмечаются качественные нарушения в социальном взаимодействии и ограниченных, повторяющихся и стереотипных особенностях поведения, интересов и занятий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В дальнейшем онтогенезе ребенка наблюдается формирование особой личности, близкой личностям шизоидного круга.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  <Words>2902</Words>
  <Paragraphs>28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2:47:36Z</dcterms:modified>
  <cp:revision>6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1</vt:r8>
  </property>
  <property fmtid="{D5CDD505-2E9C-101B-9397-08002B2CF9AE}" pid="3" name="PresentationFormat">
    <vt:lpwstr>Екран (4:3)</vt:lpwstr>
  </property>
  <property fmtid="{D5CDD505-2E9C-101B-9397-08002B2CF9AE}" pid="4" name="Slides">
    <vt:r8>21</vt:r8>
  </property>
</Properties>
</file>