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9FFE8E-0933-4E8C-82B8-0470134EC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, его клинические симптомы и современная классиф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, его клинические симптомы и современная классифи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линические  симптомы 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ее  начало 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 контакта  с  матер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ое  аутистическое  по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 стереотип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вномерное  созревание  всех  функциональных  сф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 становления 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линические  симптомы 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ее  начало  заболе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рушение  контакта  с  матерь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ное  аутистическое  повед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личие  стереотип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вномерное  созревание  всех  функциональных  сф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сти  становления 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нико – психологическая  клас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С.Никольской (1985 – 1987) выделены  четыре  основные  группы  Р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ритерии  данной  классифик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нарушений  взаимодействия  с  внешней  сре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первичных  рас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инико – психологическая  класс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.С.Никольской (1985 – 1987) выделены  четыре  основные  группы  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ритерии  данной  классиф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нарушений  взаимодействия  с  внешней  сред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первичных  рас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аутиз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икольская О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– полная отрешенность от происходящ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– активное отвер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– захваченность аутистическими интерес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– чрезвычайная трудность организации общ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аутиз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(Никольская О.С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– полная отрешенность от происходящег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– активное отверж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– захваченность аутистическими интересам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– чрезвычайная трудность организации общ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сутств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второй группы более акти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менее ранимы в контактах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уща избирательность в одежде, еде, вку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второй группы более активны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уть менее ранимы в контактах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суща избирательность в одежде, еде, вкус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учать проще действуя их же руками, задавая извне готовые инстру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ет экстремальную конфлик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оявляет экстремальную конфликт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легкий вариант аут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звитость самих форм общения, аграмматичность 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сосредоточения и организаци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нтизм, повышенное  пристрастие к по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в це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легкий вариант аут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звитость самих форм общения, аграмматичность 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удности сосредоточения и организации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дантизм, повышенное  пристрастие к поряд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держка психического развития в цел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се отношения с миром ребенок стремится строить через взросл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оры, которые могут вызвать врожденные дефекты – ре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имические вещества, такие как тяжелые металлы, пестициды, вакцины - весьма спо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е развитие (сенсорные лишения, питание / диета) – лишь в некоторых слу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Факторы, которые могут вызвать врожденные дефекты – ре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Химические вещества, такие как тяжелые металлы, пестициды, вакцины - весьма спор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граниченное развитие (сенсорные лишения, питание / диета) – лишь в некоторых случа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АННЕГО ДЕТСКОГО АУ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АННЕГО ДЕТСКОГО АУ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сты-знат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сты-зна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обычные реакции на раздражители (дискомфорт или поглощенность впечатления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Раннее проявление – до 30-го месяц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писан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. Необычные реакции на раздражители (дискомфорт или поглощенность впечатлениям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5. Раннее проявление – до 30-го месяц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общих расстройств психологического развития по МКБ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общих расстройств психологического развития по МКБ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 аутизм (F 84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альчиков встречается в 3 – 4 раза ча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ый аутизм (F 8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ский  аутизм (F 8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У мальчиков встречается в 3 – 4 раза ча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типичный аутизм (F 84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етта (F 84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етта (F 84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дезинтегративные расстройства детского возраста (F 84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 характеризуются названием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ругие дезинтегративные расстройства детского возраста (F 84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знаки характеризуются названием заболе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Аспергера (F 8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Аспергера (F 8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6B4-7AC4-4205-9022-A33963BC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0C5-1506-4120-A425-C167E3C4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C93-350F-431C-9E18-1ABBF174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759-876B-4C60-B1B0-E08BA31B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A20F-2A8F-4767-8963-560C4C92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8157-265A-42E9-9E38-081EEA4A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A35D-74E7-44DA-B79B-0975714D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E62B-6146-4C6E-8C03-A058B73C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88B6-9961-4D8A-9A04-C500D7E3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9329-1AC3-4AC3-96D0-F8C18E35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4F18-5FE0-4271-A4B4-1D3D6DDF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A60-3F86-4817-8277-7780142F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66FF-6EE1-4D75-BA2E-4DCF6F54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F01D-CC69-4703-BC24-879AAB62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F98B-8C02-4B63-A49A-2D9D0102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71B6-8FF8-446C-A6BA-2C1236FC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C348-2CC8-44F9-BEED-9B0D7D63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3DE1-5BEE-4D30-A8BE-EBCFED18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80B5-62A7-4C16-B1BA-32F9DDE8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C30B-9CC6-401F-A213-DCC19DA3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C126-1E87-482F-838C-2AE6D1F4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B53F-27A7-477A-A1B4-CECA7911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A2C-9202-4BC5-9EA4-2A97909C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D2B8-EC4F-4676-B724-FB5F96D1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7CC5-6F98-4336-9384-FC7DE5C0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06AF-CE32-46CA-AD73-D4460546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FA23E-C569-4781-BF96-DB796BAD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53BA2-5142-44B6-AED0-1C074683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A674-0BBA-4CFD-864B-16FDF9B7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0B53-2CD0-4414-B49C-8CDCDDD4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CBF4-F2FC-48DD-BF24-8C1F8A0F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1C05-5DED-40D0-B0F5-2914A615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EEAB-821A-44ED-B5D3-FCE07E7D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FE4-FE40-44E3-8C83-C192FCAB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E3840-0E0A-4F1F-8949-6C540A15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92C43-2B64-4E51-BAA3-E189D0B8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30F5E-2322-46CC-8B3B-19DBA21E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4450C-E8DD-4B3B-A0E5-D821F089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32A6-E4BC-47B9-B896-6D9354F5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791D3-DE6E-4C2A-A575-2E7325D3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7613-EDBC-4182-B6BA-6E42575C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3659F-8A83-44BE-A5FE-E8BA3DFD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445F8-2918-4837-9EEE-C76A9118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6A5-5E5E-4EAE-934A-7BCE31DF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6A1-0AF8-48D6-9773-DB1D4DCD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F47-06BC-459F-8B49-AE28953D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59D-6A06-48F4-A8D9-999F6F21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BE3-3F81-4EE0-8665-1AA632E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781CF0-8D55-478A-AD62-7F9A5AA540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04DBAA-06B1-4664-B01C-D51D8E7129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F933B0-05F7-4E83-81E5-CB1166509D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D38668-4EF2-4F7F-ABC4-FC9438ABC0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0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</a:t>
            </a: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его клинические симптомы и современная классификация.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large_140948"/>
          <p:cNvPicPr/>
          <p:nvPr/>
        </p:nvPicPr>
        <p:blipFill>
          <a:blip r:embed="rId1"/>
          <a:stretch/>
        </p:blipFill>
        <p:spPr>
          <a:xfrm>
            <a:off x="1981080" y="3581280"/>
            <a:ext cx="5681160" cy="2852280"/>
          </a:xfrm>
          <a:prstGeom prst="rect">
            <a:avLst/>
          </a:prstGeom>
          <a:ln w="9525">
            <a:noFill/>
          </a:ln>
        </p:spPr>
      </p:pic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>
            <a:off x="0" y="6784920"/>
            <a:ext cx="69480" cy="7272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9074160" y="6742080"/>
            <a:ext cx="69480" cy="115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>
            <a:hlinkClick r:id="rId2" action="ppaction://hlinksldjump"/>
          </p:cNvPr>
          <p:cNvSpPr/>
          <p:nvPr/>
        </p:nvSpPr>
        <p:spPr>
          <a:xfrm>
            <a:off x="0" y="0"/>
            <a:ext cx="69480" cy="72720"/>
          </a:xfrm>
          <a:prstGeom prst="actionButtonHome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240" cy="555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4" descr="DSC_0286"/>
          <p:cNvPicPr/>
          <p:nvPr/>
        </p:nvPicPr>
        <p:blipFill>
          <a:blip r:embed="rId1"/>
          <a:stretch/>
        </p:blipFill>
        <p:spPr>
          <a:xfrm>
            <a:off x="285840" y="357120"/>
            <a:ext cx="8679960" cy="578592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линические  симптомы  РД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Раннее  начало  заболевания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рушение  контакта  с  матерью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ное  аутистическое  поведение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личие  стереотипи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еравномерное  созревание  всех  функциональных  сфер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обенности  становления  реч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Клинико – психологическая  классификац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.С.Никольской (1985 – 1987) выделены  четыре  основные  группы  РДА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ритерии  данной  классификации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нарушений  взаимодействия  с  внешней  средо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первичных  расстройств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утизма </a:t>
            </a:r>
            <a:br>
              <a:rPr sz="4000"/>
            </a:b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(Никольская О.С.)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рв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полная отрешенность от происходящего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тор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активное отвержение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Треть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захваченность аутистическими интересами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Четверт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чрезвычайная трудность организации общения и взаимодействия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ерв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240" cy="53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сутствие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возможность организовать ребенка: поймать взгляд, добиться ответной улыбки,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лучить отклик на зов, обратить его внимание на инструкцию, добиться выполнения поручения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тор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и второй группы более активны 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уть менее ранимы в контактах со средо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исуща избирательность в одежде, еде, вкусах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ть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ей третьей группы легче всего отличить по внешним проявлениям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: лицо ребенка хранит выражение энтузиазма, блестящие глаза, застывшая улыбка, говорит быстро и без смысл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акие дети выглядят уже не отрешенными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 скорее сверхзахваченными своими собственными стойкими интересами, проявляющимися в стереотипной форме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оявляет экстремальную конфликтность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еобразие таких детей особенно проявляется в их речи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 многословие, большой словарный запас), не учитывая присутствие собеседни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тверт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иболее легкий вариант аутизма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развитость самих форм общения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аграмматичность 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удности сосредоточения и организации ребен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дантизм, повышенное  пристрастие к порядку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Задержка психического развития в целом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4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</a:t>
            </a: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440" cy="464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кторы, которые могут вызвать врожденные дефекты – редк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Хими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ск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ие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вещества, такие как тяжелые металлы, пестициды, вакцины - весьма спорны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граниченное развитие (сенсорные лишения, питание / диета) – лишь в некоторых случаях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8760" cy="278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НДРОМ РАННЕГО ДЕТСКОГО АУТИЗМ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DSC_03444222"/>
          <p:cNvPicPr/>
          <p:nvPr/>
        </p:nvPicPr>
        <p:blipFill>
          <a:blip r:embed="rId1"/>
          <a:stretch/>
        </p:blipFill>
        <p:spPr>
          <a:xfrm>
            <a:off x="214200" y="214200"/>
            <a:ext cx="3552480" cy="3601800"/>
          </a:xfrm>
          <a:prstGeom prst="rect">
            <a:avLst/>
          </a:prstGeom>
          <a:ln w="9525">
            <a:noFill/>
          </a:ln>
        </p:spPr>
      </p:pic>
      <p:sp>
        <p:nvSpPr>
          <p:cNvPr id="1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сты-знатоки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5363640" cy="564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Содержимое 5" descr="Человек дождя.jpg"/>
          <p:cNvPicPr/>
          <p:nvPr/>
        </p:nvPicPr>
        <p:blipFill>
          <a:blip r:embed="rId1"/>
          <a:stretch/>
        </p:blipFill>
        <p:spPr>
          <a:xfrm>
            <a:off x="5715000" y="1285920"/>
            <a:ext cx="3428640" cy="3560400"/>
          </a:xfrm>
          <a:prstGeom prst="rect">
            <a:avLst/>
          </a:prstGeom>
          <a:ln w="9525">
            <a:noFill/>
          </a:ln>
        </p:spPr>
      </p:pic>
      <p:sp>
        <p:nvSpPr>
          <p:cNvPr id="243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28760" y="5716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пасибо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за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имание!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писание заболеван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9150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. Стереотипность поведения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с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мление к постоянству, сверхпристрастие к различным объектам, сопротивление изменениям в окружающем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3. Необычные реакции на раздражители (дискомфорт или поглощенность впечатлениями)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5. Раннее проявление – до 30-го месяца жизни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80520" cy="30456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8763120" y="6553080"/>
            <a:ext cx="380520" cy="304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3640" cy="1085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лассификация общих расстройств психологического развития по 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К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10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403280" y="1844640"/>
            <a:ext cx="6552720" cy="4248000"/>
            <a:chOff x="1403280" y="1844640"/>
            <a:chExt cx="6552720" cy="4248000"/>
          </a:xfrm>
        </p:grpSpPr>
        <p:sp>
          <p:nvSpPr>
            <p:cNvPr id="188" name="Rectangle 4"/>
            <p:cNvSpPr/>
            <p:nvPr/>
          </p:nvSpPr>
          <p:spPr>
            <a:xfrm>
              <a:off x="1403280" y="1844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0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Детский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403280" y="234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1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Атипичный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403280" y="285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2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Рет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1403280" y="335772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3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дезинтегративные расстройства детского возрас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403280" y="3860640"/>
              <a:ext cx="6552720" cy="7189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4. 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Г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иперактивные расстройства, сочетающиеся с умстве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тсталостью и стереотипными движениями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1403280" y="472428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5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Асперг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1403280" y="522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8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общие расстройства развит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403280" y="573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9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бщие расстройства развития, не уточн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8567640" y="6453360"/>
            <a:ext cx="39636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43680" y="3929040"/>
            <a:ext cx="192852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4" descr="DSC_0213"/>
          <p:cNvPicPr/>
          <p:nvPr/>
        </p:nvPicPr>
        <p:blipFill>
          <a:blip r:embed="rId1"/>
          <a:stretch/>
        </p:blipFill>
        <p:spPr>
          <a:xfrm>
            <a:off x="3784680" y="3286080"/>
            <a:ext cx="5358960" cy="357156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5" descr="DSC_0230"/>
          <p:cNvPicPr/>
          <p:nvPr/>
        </p:nvPicPr>
        <p:blipFill>
          <a:blip r:embed="rId2"/>
          <a:stretch/>
        </p:blipFill>
        <p:spPr>
          <a:xfrm>
            <a:off x="0" y="285840"/>
            <a:ext cx="5000400" cy="3333240"/>
          </a:xfrm>
          <a:prstGeom prst="rect">
            <a:avLst/>
          </a:prstGeom>
          <a:ln w="9525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197560" cy="595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етский 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0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 мальчиков встречается в 3 – 4 раза чаще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Атипичный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1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00040" y="357120"/>
            <a:ext cx="8268840" cy="57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Рет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61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ругие дезинтегративные расстройства детского возрас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3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Гиперактивные расстройства, сочетающиеся с умственной отсталостью и стереотипными движениями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4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изнаки характеризуются названием заболева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576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Аспергер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5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  <Words>2902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7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Екран (4:3)</vt:lpwstr>
  </property>
  <property fmtid="{D5CDD505-2E9C-101B-9397-08002B2CF9AE}" pid="4" name="Slides">
    <vt:r8>21</vt:r8>
  </property>
</Properties>
</file>