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colors6.xml" ContentType="application/vnd.openxmlformats-officedocument.drawingml.diagramColors+xml"/>
  <Override PartName="/ppt/diagrams/drawing5.xml" ContentType="application/vnd.ms-office.drawingml.diagramDrawing+xml"/>
  <Override PartName="/ppt/diagrams/layout6.xml" ContentType="application/vnd.openxmlformats-officedocument.drawingml.diagramLayout+xml"/>
  <Override PartName="/ppt/diagrams/data6.xml" ContentType="application/vnd.openxmlformats-officedocument.drawingml.diagramData+xml"/>
  <Override PartName="/ppt/diagrams/drawing1.xml" ContentType="application/vnd.ms-office.drawingml.diagramDrawing+xml"/>
  <Override PartName="/ppt/diagrams/colors2.xml" ContentType="application/vnd.openxmlformats-officedocument.drawingml.diagramColors+xml"/>
  <Override PartName="/ppt/diagrams/quickStyle3.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1.xml" ContentType="application/vnd.openxmlformats-officedocument.drawingml.diagramStyle+xml"/>
  <Override PartName="/ppt/diagrams/data7.xml" ContentType="application/vnd.openxmlformats-officedocument.drawingml.diagramData+xml"/>
  <Override PartName="/ppt/diagrams/layout7.xml" ContentType="application/vnd.openxmlformats-officedocument.drawingml.diagramLayout+xml"/>
  <Override PartName="/ppt/diagrams/data1.xml" ContentType="application/vnd.openxmlformats-officedocument.drawingml.diagramData+xml"/>
  <Override PartName="/ppt/diagrams/quickStyle7.xml" ContentType="application/vnd.openxmlformats-officedocument.drawingml.diagramStyle+xml"/>
  <Override PartName="/ppt/diagrams/data3.xml" ContentType="application/vnd.openxmlformats-officedocument.drawingml.diagramData+xml"/>
  <Override PartName="/ppt/diagrams/colors7.xml" ContentType="application/vnd.openxmlformats-officedocument.drawingml.diagramColors+xml"/>
  <Override PartName="/ppt/diagrams/layout1.xml" ContentType="application/vnd.openxmlformats-officedocument.drawingml.diagramLayout+xml"/>
  <Override PartName="/ppt/diagrams/layout2.xml" ContentType="application/vnd.openxmlformats-officedocument.drawingml.diagramLayout+xml"/>
  <Override PartName="/ppt/diagrams/drawing2.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data4.xml" ContentType="application/vnd.openxmlformats-officedocument.drawingml.diagramData+xml"/>
  <Override PartName="/ppt/diagrams/layout4.xml" ContentType="application/vnd.openxmlformats-officedocument.drawingml.diagramLayout+xml"/>
  <Override PartName="/ppt/diagrams/drawing3.xml" ContentType="application/vnd.ms-office.drawingml.diagramDrawing+xml"/>
  <Override PartName="/ppt/diagrams/colors4.xml" ContentType="application/vnd.openxmlformats-officedocument.drawingml.diagramColors+xml"/>
  <Override PartName="/ppt/diagrams/quickStyle5.xml" ContentType="application/vnd.openxmlformats-officedocument.drawingml.diagramStyle+xml"/>
  <Override PartName="/ppt/diagrams/data5.xml" ContentType="application/vnd.openxmlformats-officedocument.drawingml.diagramData+xml"/>
  <Override PartName="/ppt/diagrams/layout5.xml" ContentType="application/vnd.openxmlformats-officedocument.drawingml.diagramLayout+xml"/>
  <Override PartName="/ppt/diagrams/drawing4.xml" ContentType="application/vnd.ms-office.drawingml.diagramDrawing+xml"/>
  <Override PartName="/ppt/diagrams/colors5.xml" ContentType="application/vnd.openxmlformats-officedocument.drawingml.diagramColors+xml"/>
  <Override PartName="/ppt/diagrams/quickStyle6.xml" ContentType="application/vnd.openxmlformats-officedocument.drawingml.diagramStyl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gif" ContentType="image/gif"/>
  <Override PartName="/ppt/media/image11.wmf" ContentType="image/x-wmf"/>
  <Override PartName="/ppt/media/hdphoto2.wdp" ContentType="image/vnd.ms-photo"/>
  <Override PartName="/ppt/media/image14.png" ContentType="image/png"/>
  <Override PartName="/ppt/media/hdphoto1.wdp" ContentType="image/vnd.ms-photo"/>
  <Override PartName="/ppt/media/image12.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10.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942CAB3-A351-49F3-BD45-7B4C5B3961FA}"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ru-RU"/>
        </a:p>
      </dgm:t>
    </dgm:pt>
    <dgm:pt modelId="{D658EE59-86CB-4DA3-93CB-3F6275AFD9EE}">
      <dgm:prSet phldrT="[Текст]" custT="1"/>
      <dgm:spPr>
        <a:solidFill>
          <a:schemeClr val="accent1">
            <a:hueOff val="0"/>
            <a:satOff val="0"/>
            <a:lumOff val="0"/>
            <a:alpha val="70000"/>
          </a:schemeClr>
        </a:solidFill>
      </dgm:spPr>
      <dgm:t>
        <a:bodyPr/>
        <a:lstStyle/>
        <a:p>
          <a:r>
            <a:rPr lang="ru-RU" sz="2000" b="0" i="0" baseline="0" dirty="0" smtClean="0">
              <a:solidFill>
                <a:srgbClr val="FF0000"/>
              </a:solidFill>
            </a:rPr>
            <a:t>Послеоперационный период </a:t>
          </a:r>
          <a:r>
            <a:rPr lang="ru-RU" sz="2000" b="0" i="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dirty="0"/>
        </a:p>
      </dgm:t>
    </dgm:pt>
    <dgm:pt modelId="{05270A7C-2302-47A6-BF3C-10CF137B5C27}" type="parTrans" cxnId="{123E788D-4828-49BE-8D72-B826A030927D}">
      <dgm:prSet/>
      <dgm:spPr/>
      <dgm:t>
        <a:bodyPr/>
        <a:lstStyle/>
        <a:p>
          <a:endParaRPr lang="ru-RU"/>
        </a:p>
      </dgm:t>
    </dgm:pt>
    <dgm:pt modelId="{0C5650CE-5D49-41BB-8F32-FE8CCF836480}" type="sibTrans" cxnId="{123E788D-4828-49BE-8D72-B826A030927D}">
      <dgm:prSet/>
      <dgm:spPr/>
      <dgm:t>
        <a:bodyPr/>
        <a:lstStyle/>
        <a:p>
          <a:endParaRPr lang="ru-RU"/>
        </a:p>
      </dgm:t>
    </dgm:pt>
    <dgm:pt modelId="{F446ADFD-965C-4300-BFCB-163D8BC99573}">
      <dgm:prSet phldrT="[Текст]"/>
      <dgm:spPr>
        <a:solidFill>
          <a:schemeClr val="accent1">
            <a:hueOff val="0"/>
            <a:satOff val="0"/>
            <a:lumOff val="0"/>
            <a:alpha val="70000"/>
          </a:schemeClr>
        </a:solidFill>
      </dgm:spPr>
      <dgm:t>
        <a:bodyPr/>
        <a:lstStyle/>
        <a:p>
          <a:r>
            <a:rPr lang="ru-RU" dirty="0" smtClean="0"/>
            <a:t>Катаболическая фаза </a:t>
          </a:r>
          <a:endParaRPr lang="ru-RU" dirty="0"/>
        </a:p>
      </dgm:t>
    </dgm:pt>
    <dgm:pt modelId="{D9A7F031-2429-417D-92D3-D3A13B1C5544}" type="parTrans" cxnId="{F127D07E-D58A-43D2-99E7-E5B7FA4440BF}">
      <dgm:prSet/>
      <dgm:spPr/>
      <dgm:t>
        <a:bodyPr/>
        <a:lstStyle/>
        <a:p>
          <a:endParaRPr lang="ru-RU"/>
        </a:p>
      </dgm:t>
    </dgm:pt>
    <dgm:pt modelId="{40BBB43B-DEE7-482C-9ADB-DDEC247629E6}" type="sibTrans" cxnId="{F127D07E-D58A-43D2-99E7-E5B7FA4440BF}">
      <dgm:prSet/>
      <dgm:spPr/>
      <dgm:t>
        <a:bodyPr/>
        <a:lstStyle/>
        <a:p>
          <a:endParaRPr lang="ru-RU"/>
        </a:p>
      </dgm:t>
    </dgm:pt>
    <dgm:pt modelId="{3A61E58D-35DF-4480-A7A3-11D0546212A5}">
      <dgm:prSet phldrT="[Текст]"/>
      <dgm:spPr>
        <a:solidFill>
          <a:schemeClr val="accent1">
            <a:hueOff val="0"/>
            <a:satOff val="0"/>
            <a:lumOff val="0"/>
            <a:alpha val="70000"/>
          </a:schemeClr>
        </a:solidFill>
      </dgm:spPr>
      <dgm:t>
        <a:bodyPr/>
        <a:lstStyle/>
        <a:p>
          <a:r>
            <a:rPr lang="ru-RU" dirty="0" smtClean="0"/>
            <a:t>Фаза обратного развития </a:t>
          </a:r>
          <a:endParaRPr lang="ru-RU" dirty="0"/>
        </a:p>
      </dgm:t>
    </dgm:pt>
    <dgm:pt modelId="{C26370DA-D457-4FE7-8FD4-B9B5B4061F4A}" type="parTrans" cxnId="{4059E6A2-B258-459B-A123-98A97850E66E}">
      <dgm:prSet/>
      <dgm:spPr/>
      <dgm:t>
        <a:bodyPr/>
        <a:lstStyle/>
        <a:p>
          <a:endParaRPr lang="ru-RU"/>
        </a:p>
      </dgm:t>
    </dgm:pt>
    <dgm:pt modelId="{A4059E61-8ED3-418C-B715-354BC3F39E0B}" type="sibTrans" cxnId="{4059E6A2-B258-459B-A123-98A97850E66E}">
      <dgm:prSet/>
      <dgm:spPr/>
      <dgm:t>
        <a:bodyPr/>
        <a:lstStyle/>
        <a:p>
          <a:endParaRPr lang="ru-RU"/>
        </a:p>
      </dgm:t>
    </dgm:pt>
    <dgm:pt modelId="{D72B8208-4F88-4F56-A19B-B85D24C13D32}">
      <dgm:prSet phldrT="[Текст]"/>
      <dgm:spPr>
        <a:solidFill>
          <a:schemeClr val="accent1">
            <a:hueOff val="0"/>
            <a:satOff val="0"/>
            <a:lumOff val="0"/>
            <a:alpha val="70000"/>
          </a:schemeClr>
        </a:solidFill>
      </dgm:spPr>
      <dgm:t>
        <a:bodyPr/>
        <a:lstStyle/>
        <a:p>
          <a:r>
            <a:rPr lang="ru-RU" dirty="0" smtClean="0"/>
            <a:t>Анаболическая фаза </a:t>
          </a:r>
          <a:endParaRPr lang="ru-RU" dirty="0"/>
        </a:p>
      </dgm:t>
    </dgm:pt>
    <dgm:pt modelId="{328BE9F4-38BF-4F1C-BE34-5C5DC0129D37}" type="parTrans" cxnId="{185F63CB-D3F2-4AE8-91AF-DAC40FB1D316}">
      <dgm:prSet/>
      <dgm:spPr/>
      <dgm:t>
        <a:bodyPr/>
        <a:lstStyle/>
        <a:p>
          <a:endParaRPr lang="ru-RU"/>
        </a:p>
      </dgm:t>
    </dgm:pt>
    <dgm:pt modelId="{8F86C6FA-EA69-4DB4-ABA5-266E5B5C0E64}" type="sibTrans" cxnId="{185F63CB-D3F2-4AE8-91AF-DAC40FB1D316}">
      <dgm:prSet/>
      <dgm:spPr/>
      <dgm:t>
        <a:bodyPr/>
        <a:lstStyle/>
        <a:p>
          <a:endParaRPr lang="ru-RU"/>
        </a:p>
      </dgm:t>
    </dgm:pt>
    <dgm:pt modelId="{BFEE1A4E-7233-43FE-91F5-ADF0C28C4A42}" type="pres">
      <dgm:prSet presAssocID="{F942CAB3-A351-49F3-BD45-7B4C5B3961FA}" presName="hierChild1" presStyleCnt="0">
        <dgm:presLayoutVars>
          <dgm:orgChart val="1"/>
          <dgm:chPref val="1"/>
          <dgm:dir/>
          <dgm:animOne val="branch"/>
          <dgm:animLvl val="lvl"/>
          <dgm:resizeHandles/>
        </dgm:presLayoutVars>
      </dgm:prSet>
      <dgm:spPr/>
      <dgm:t>
        <a:bodyPr/>
        <a:lstStyle/>
        <a:p>
          <a:endParaRPr lang="ru-RU"/>
        </a:p>
      </dgm:t>
    </dgm:pt>
    <dgm:pt modelId="{C3364CCA-0919-4DB2-B63D-E546AC1D51A9}" type="pres">
      <dgm:prSet presAssocID="{D658EE59-86CB-4DA3-93CB-3F6275AFD9EE}" presName="hierRoot1" presStyleCnt="0">
        <dgm:presLayoutVars>
          <dgm:hierBranch val="init"/>
        </dgm:presLayoutVars>
      </dgm:prSet>
      <dgm:spPr/>
    </dgm:pt>
    <dgm:pt modelId="{7D9F991B-C3B6-4459-854B-957C3498C651}" type="pres">
      <dgm:prSet presAssocID="{D658EE59-86CB-4DA3-93CB-3F6275AFD9EE}" presName="rootComposite1" presStyleCnt="0"/>
      <dgm:spPr/>
    </dgm:pt>
    <dgm:pt modelId="{E279C195-3AEA-450D-8F17-EF6ADBE13DEF}" type="pres">
      <dgm:prSet presAssocID="{D658EE59-86CB-4DA3-93CB-3F6275AFD9EE}" presName="rootText1" presStyleLbl="node0" presStyleIdx="0" presStyleCnt="1" custScaleX="342046" custScaleY="255310" custLinFactNeighborX="218" custLinFactNeighborY="-70273">
        <dgm:presLayoutVars>
          <dgm:chPref val="3"/>
        </dgm:presLayoutVars>
      </dgm:prSet>
      <dgm:spPr/>
      <dgm:t>
        <a:bodyPr/>
        <a:lstStyle/>
        <a:p>
          <a:endParaRPr lang="ru-RU"/>
        </a:p>
      </dgm:t>
    </dgm:pt>
    <dgm:pt modelId="{13DE356D-D69F-4308-B69C-975CAB9705C9}" type="pres">
      <dgm:prSet presAssocID="{D658EE59-86CB-4DA3-93CB-3F6275AFD9EE}" presName="rootConnector1" presStyleLbl="node1" presStyleIdx="0" presStyleCnt="0"/>
      <dgm:spPr/>
      <dgm:t>
        <a:bodyPr/>
        <a:lstStyle/>
        <a:p>
          <a:endParaRPr lang="ru-RU"/>
        </a:p>
      </dgm:t>
    </dgm:pt>
    <dgm:pt modelId="{EDE9F6F1-B692-46FB-A666-E54F46D648CC}" type="pres">
      <dgm:prSet presAssocID="{D658EE59-86CB-4DA3-93CB-3F6275AFD9EE}" presName="hierChild2" presStyleCnt="0"/>
      <dgm:spPr/>
    </dgm:pt>
    <dgm:pt modelId="{0EF891C0-F5B7-4AD4-95F2-F9155B809CE7}" type="pres">
      <dgm:prSet presAssocID="{D9A7F031-2429-417D-92D3-D3A13B1C5544}" presName="Name37" presStyleLbl="parChTrans1D2" presStyleIdx="0" presStyleCnt="3"/>
      <dgm:spPr/>
      <dgm:t>
        <a:bodyPr/>
        <a:lstStyle/>
        <a:p>
          <a:endParaRPr lang="ru-RU"/>
        </a:p>
      </dgm:t>
    </dgm:pt>
    <dgm:pt modelId="{82940BD4-3578-45C3-BC4C-420F5A712591}" type="pres">
      <dgm:prSet presAssocID="{F446ADFD-965C-4300-BFCB-163D8BC99573}" presName="hierRoot2" presStyleCnt="0">
        <dgm:presLayoutVars>
          <dgm:hierBranch val="init"/>
        </dgm:presLayoutVars>
      </dgm:prSet>
      <dgm:spPr/>
    </dgm:pt>
    <dgm:pt modelId="{49529AC5-6EF8-4525-9501-DE2517DE89F3}" type="pres">
      <dgm:prSet presAssocID="{F446ADFD-965C-4300-BFCB-163D8BC99573}" presName="rootComposite" presStyleCnt="0"/>
      <dgm:spPr/>
    </dgm:pt>
    <dgm:pt modelId="{BD496E24-97A9-4FE3-8E6E-6F5BB1D22027}" type="pres">
      <dgm:prSet presAssocID="{F446ADFD-965C-4300-BFCB-163D8BC99573}" presName="rootText" presStyleLbl="node2" presStyleIdx="0" presStyleCnt="3">
        <dgm:presLayoutVars>
          <dgm:chPref val="3"/>
        </dgm:presLayoutVars>
      </dgm:prSet>
      <dgm:spPr/>
      <dgm:t>
        <a:bodyPr/>
        <a:lstStyle/>
        <a:p>
          <a:endParaRPr lang="ru-RU"/>
        </a:p>
      </dgm:t>
    </dgm:pt>
    <dgm:pt modelId="{DA72FBD3-FAB9-4E74-9045-22DA22651B71}" type="pres">
      <dgm:prSet presAssocID="{F446ADFD-965C-4300-BFCB-163D8BC99573}" presName="rootConnector" presStyleLbl="node2" presStyleIdx="0" presStyleCnt="3"/>
      <dgm:spPr/>
      <dgm:t>
        <a:bodyPr/>
        <a:lstStyle/>
        <a:p>
          <a:endParaRPr lang="ru-RU"/>
        </a:p>
      </dgm:t>
    </dgm:pt>
    <dgm:pt modelId="{01E54823-CA5B-4394-9662-2F1B90B2803F}" type="pres">
      <dgm:prSet presAssocID="{F446ADFD-965C-4300-BFCB-163D8BC99573}" presName="hierChild4" presStyleCnt="0"/>
      <dgm:spPr/>
    </dgm:pt>
    <dgm:pt modelId="{A015E8BD-7BDD-4764-ADE1-681BDF5B20F0}" type="pres">
      <dgm:prSet presAssocID="{F446ADFD-965C-4300-BFCB-163D8BC99573}" presName="hierChild5" presStyleCnt="0"/>
      <dgm:spPr/>
    </dgm:pt>
    <dgm:pt modelId="{65E71F7A-9A77-47B8-8D01-1AFCA94516AB}" type="pres">
      <dgm:prSet presAssocID="{C26370DA-D457-4FE7-8FD4-B9B5B4061F4A}" presName="Name37" presStyleLbl="parChTrans1D2" presStyleIdx="1" presStyleCnt="3"/>
      <dgm:spPr/>
      <dgm:t>
        <a:bodyPr/>
        <a:lstStyle/>
        <a:p>
          <a:endParaRPr lang="ru-RU"/>
        </a:p>
      </dgm:t>
    </dgm:pt>
    <dgm:pt modelId="{D7041BB1-EDEB-45DE-B708-FA12F5C03CEA}" type="pres">
      <dgm:prSet presAssocID="{3A61E58D-35DF-4480-A7A3-11D0546212A5}" presName="hierRoot2" presStyleCnt="0">
        <dgm:presLayoutVars>
          <dgm:hierBranch val="init"/>
        </dgm:presLayoutVars>
      </dgm:prSet>
      <dgm:spPr/>
    </dgm:pt>
    <dgm:pt modelId="{B6BFFEAB-0791-466A-A11A-54EFFFF84927}" type="pres">
      <dgm:prSet presAssocID="{3A61E58D-35DF-4480-A7A3-11D0546212A5}" presName="rootComposite" presStyleCnt="0"/>
      <dgm:spPr/>
    </dgm:pt>
    <dgm:pt modelId="{05F8E06A-4815-4FDC-AA6B-733ACBA08BAF}" type="pres">
      <dgm:prSet presAssocID="{3A61E58D-35DF-4480-A7A3-11D0546212A5}" presName="rootText" presStyleLbl="node2" presStyleIdx="1" presStyleCnt="3">
        <dgm:presLayoutVars>
          <dgm:chPref val="3"/>
        </dgm:presLayoutVars>
      </dgm:prSet>
      <dgm:spPr/>
      <dgm:t>
        <a:bodyPr/>
        <a:lstStyle/>
        <a:p>
          <a:endParaRPr lang="ru-RU"/>
        </a:p>
      </dgm:t>
    </dgm:pt>
    <dgm:pt modelId="{2F750A62-8298-4C66-BD91-D04D846FAE53}" type="pres">
      <dgm:prSet presAssocID="{3A61E58D-35DF-4480-A7A3-11D0546212A5}" presName="rootConnector" presStyleLbl="node2" presStyleIdx="1" presStyleCnt="3"/>
      <dgm:spPr/>
      <dgm:t>
        <a:bodyPr/>
        <a:lstStyle/>
        <a:p>
          <a:endParaRPr lang="ru-RU"/>
        </a:p>
      </dgm:t>
    </dgm:pt>
    <dgm:pt modelId="{2B903CCB-C0AF-4429-AB2D-407C9C1C4D44}" type="pres">
      <dgm:prSet presAssocID="{3A61E58D-35DF-4480-A7A3-11D0546212A5}" presName="hierChild4" presStyleCnt="0"/>
      <dgm:spPr/>
    </dgm:pt>
    <dgm:pt modelId="{2B575304-E89C-43E3-B710-360CFF7141AD}" type="pres">
      <dgm:prSet presAssocID="{3A61E58D-35DF-4480-A7A3-11D0546212A5}" presName="hierChild5" presStyleCnt="0"/>
      <dgm:spPr/>
    </dgm:pt>
    <dgm:pt modelId="{9407811D-113E-47CA-A318-9B2CDECC706C}" type="pres">
      <dgm:prSet presAssocID="{328BE9F4-38BF-4F1C-BE34-5C5DC0129D37}" presName="Name37" presStyleLbl="parChTrans1D2" presStyleIdx="2" presStyleCnt="3"/>
      <dgm:spPr/>
      <dgm:t>
        <a:bodyPr/>
        <a:lstStyle/>
        <a:p>
          <a:endParaRPr lang="ru-RU"/>
        </a:p>
      </dgm:t>
    </dgm:pt>
    <dgm:pt modelId="{70A93E88-8BE4-42C8-92E9-161DC921953F}" type="pres">
      <dgm:prSet presAssocID="{D72B8208-4F88-4F56-A19B-B85D24C13D32}" presName="hierRoot2" presStyleCnt="0">
        <dgm:presLayoutVars>
          <dgm:hierBranch val="init"/>
        </dgm:presLayoutVars>
      </dgm:prSet>
      <dgm:spPr/>
    </dgm:pt>
    <dgm:pt modelId="{9FC2642F-2846-470D-B4E8-19B05FB89569}" type="pres">
      <dgm:prSet presAssocID="{D72B8208-4F88-4F56-A19B-B85D24C13D32}" presName="rootComposite" presStyleCnt="0"/>
      <dgm:spPr/>
    </dgm:pt>
    <dgm:pt modelId="{53CD44CB-8412-45C1-96B4-518E14925596}" type="pres">
      <dgm:prSet presAssocID="{D72B8208-4F88-4F56-A19B-B85D24C13D32}" presName="rootText" presStyleLbl="node2" presStyleIdx="2" presStyleCnt="3">
        <dgm:presLayoutVars>
          <dgm:chPref val="3"/>
        </dgm:presLayoutVars>
      </dgm:prSet>
      <dgm:spPr/>
      <dgm:t>
        <a:bodyPr/>
        <a:lstStyle/>
        <a:p>
          <a:endParaRPr lang="ru-RU"/>
        </a:p>
      </dgm:t>
    </dgm:pt>
    <dgm:pt modelId="{DAF6AAA9-5464-4ED1-968E-8A3C28CF55A8}" type="pres">
      <dgm:prSet presAssocID="{D72B8208-4F88-4F56-A19B-B85D24C13D32}" presName="rootConnector" presStyleLbl="node2" presStyleIdx="2" presStyleCnt="3"/>
      <dgm:spPr/>
      <dgm:t>
        <a:bodyPr/>
        <a:lstStyle/>
        <a:p>
          <a:endParaRPr lang="ru-RU"/>
        </a:p>
      </dgm:t>
    </dgm:pt>
    <dgm:pt modelId="{4E274760-6306-4674-85B0-D4A3B2DFBF8A}" type="pres">
      <dgm:prSet presAssocID="{D72B8208-4F88-4F56-A19B-B85D24C13D32}" presName="hierChild4" presStyleCnt="0"/>
      <dgm:spPr/>
    </dgm:pt>
    <dgm:pt modelId="{E1F562D3-D317-4E6B-BBDC-C4ECB6F45FF0}" type="pres">
      <dgm:prSet presAssocID="{D72B8208-4F88-4F56-A19B-B85D24C13D32}" presName="hierChild5" presStyleCnt="0"/>
      <dgm:spPr/>
    </dgm:pt>
    <dgm:pt modelId="{6746F6AE-003C-47A3-81CB-0AA0BE386FB4}" type="pres">
      <dgm:prSet presAssocID="{D658EE59-86CB-4DA3-93CB-3F6275AFD9EE}" presName="hierChild3" presStyleCnt="0"/>
      <dgm:spPr/>
    </dgm:pt>
  </dgm:ptLst>
  <dgm:cxnLst>
    <dgm:cxn modelId="{F127D07E-D58A-43D2-99E7-E5B7FA4440BF}" srcId="{D658EE59-86CB-4DA3-93CB-3F6275AFD9EE}" destId="{F446ADFD-965C-4300-BFCB-163D8BC99573}" srcOrd="0" destOrd="0" parTransId="{D9A7F031-2429-417D-92D3-D3A13B1C5544}" sibTransId="{40BBB43B-DEE7-482C-9ADB-DDEC247629E6}"/>
    <dgm:cxn modelId="{338768B3-E58B-4A95-8F9E-6C56C9480CFC}" type="presOf" srcId="{C26370DA-D457-4FE7-8FD4-B9B5B4061F4A}" destId="{65E71F7A-9A77-47B8-8D01-1AFCA94516AB}" srcOrd="0" destOrd="0" presId="urn:microsoft.com/office/officeart/2005/8/layout/orgChart1"/>
    <dgm:cxn modelId="{7CA00368-3A7E-44A3-AB87-A57B253A49F7}" type="presOf" srcId="{D72B8208-4F88-4F56-A19B-B85D24C13D32}" destId="{DAF6AAA9-5464-4ED1-968E-8A3C28CF55A8}" srcOrd="1" destOrd="0" presId="urn:microsoft.com/office/officeart/2005/8/layout/orgChart1"/>
    <dgm:cxn modelId="{26B675AA-B275-47E5-8B62-606A15056FA2}" type="presOf" srcId="{D72B8208-4F88-4F56-A19B-B85D24C13D32}" destId="{53CD44CB-8412-45C1-96B4-518E14925596}" srcOrd="0" destOrd="0" presId="urn:microsoft.com/office/officeart/2005/8/layout/orgChart1"/>
    <dgm:cxn modelId="{185F63CB-D3F2-4AE8-91AF-DAC40FB1D316}" srcId="{D658EE59-86CB-4DA3-93CB-3F6275AFD9EE}" destId="{D72B8208-4F88-4F56-A19B-B85D24C13D32}" srcOrd="2" destOrd="0" parTransId="{328BE9F4-38BF-4F1C-BE34-5C5DC0129D37}" sibTransId="{8F86C6FA-EA69-4DB4-ABA5-266E5B5C0E64}"/>
    <dgm:cxn modelId="{3E9C742A-18C0-45A0-9FA9-7F3B67A03337}" type="presOf" srcId="{F446ADFD-965C-4300-BFCB-163D8BC99573}" destId="{BD496E24-97A9-4FE3-8E6E-6F5BB1D22027}" srcOrd="0" destOrd="0" presId="urn:microsoft.com/office/officeart/2005/8/layout/orgChart1"/>
    <dgm:cxn modelId="{15A3810D-31D6-4818-BE8E-2EA901235462}" type="presOf" srcId="{D658EE59-86CB-4DA3-93CB-3F6275AFD9EE}" destId="{13DE356D-D69F-4308-B69C-975CAB9705C9}" srcOrd="1" destOrd="0" presId="urn:microsoft.com/office/officeart/2005/8/layout/orgChart1"/>
    <dgm:cxn modelId="{F9E4CA05-E725-4CF8-8AA9-9EDAC93B72A9}" type="presOf" srcId="{D9A7F031-2429-417D-92D3-D3A13B1C5544}" destId="{0EF891C0-F5B7-4AD4-95F2-F9155B809CE7}" srcOrd="0" destOrd="0" presId="urn:microsoft.com/office/officeart/2005/8/layout/orgChart1"/>
    <dgm:cxn modelId="{A048EB65-1275-4CB6-BB67-D1EE84AD21E3}" type="presOf" srcId="{F446ADFD-965C-4300-BFCB-163D8BC99573}" destId="{DA72FBD3-FAB9-4E74-9045-22DA22651B71}" srcOrd="1" destOrd="0" presId="urn:microsoft.com/office/officeart/2005/8/layout/orgChart1"/>
    <dgm:cxn modelId="{331B2C34-28FB-4F1C-971F-BE2596B687FB}" type="presOf" srcId="{3A61E58D-35DF-4480-A7A3-11D0546212A5}" destId="{05F8E06A-4815-4FDC-AA6B-733ACBA08BAF}" srcOrd="0" destOrd="0" presId="urn:microsoft.com/office/officeart/2005/8/layout/orgChart1"/>
    <dgm:cxn modelId="{17551739-C835-479F-9727-D364D2A024BB}" type="presOf" srcId="{D658EE59-86CB-4DA3-93CB-3F6275AFD9EE}" destId="{E279C195-3AEA-450D-8F17-EF6ADBE13DEF}" srcOrd="0" destOrd="0" presId="urn:microsoft.com/office/officeart/2005/8/layout/orgChart1"/>
    <dgm:cxn modelId="{4059E6A2-B258-459B-A123-98A97850E66E}" srcId="{D658EE59-86CB-4DA3-93CB-3F6275AFD9EE}" destId="{3A61E58D-35DF-4480-A7A3-11D0546212A5}" srcOrd="1" destOrd="0" parTransId="{C26370DA-D457-4FE7-8FD4-B9B5B4061F4A}" sibTransId="{A4059E61-8ED3-418C-B715-354BC3F39E0B}"/>
    <dgm:cxn modelId="{CA7D4ACA-FCF5-4D65-A9C0-2219C2506199}" type="presOf" srcId="{328BE9F4-38BF-4F1C-BE34-5C5DC0129D37}" destId="{9407811D-113E-47CA-A318-9B2CDECC706C}" srcOrd="0" destOrd="0" presId="urn:microsoft.com/office/officeart/2005/8/layout/orgChart1"/>
    <dgm:cxn modelId="{123E788D-4828-49BE-8D72-B826A030927D}" srcId="{F942CAB3-A351-49F3-BD45-7B4C5B3961FA}" destId="{D658EE59-86CB-4DA3-93CB-3F6275AFD9EE}" srcOrd="0" destOrd="0" parTransId="{05270A7C-2302-47A6-BF3C-10CF137B5C27}" sibTransId="{0C5650CE-5D49-41BB-8F32-FE8CCF836480}"/>
    <dgm:cxn modelId="{B46E9424-4A67-48BD-9611-B73E05CE0992}" type="presOf" srcId="{3A61E58D-35DF-4480-A7A3-11D0546212A5}" destId="{2F750A62-8298-4C66-BD91-D04D846FAE53}" srcOrd="1" destOrd="0" presId="urn:microsoft.com/office/officeart/2005/8/layout/orgChart1"/>
    <dgm:cxn modelId="{790EDA92-9E58-4892-A079-90E6FCAB9D56}" type="presOf" srcId="{F942CAB3-A351-49F3-BD45-7B4C5B3961FA}" destId="{BFEE1A4E-7233-43FE-91F5-ADF0C28C4A42}" srcOrd="0" destOrd="0" presId="urn:microsoft.com/office/officeart/2005/8/layout/orgChart1"/>
    <dgm:cxn modelId="{73A5E1E7-D005-4DB0-9AA4-87FA2A25FAE8}" type="presParOf" srcId="{BFEE1A4E-7233-43FE-91F5-ADF0C28C4A42}" destId="{C3364CCA-0919-4DB2-B63D-E546AC1D51A9}" srcOrd="0" destOrd="0" presId="urn:microsoft.com/office/officeart/2005/8/layout/orgChart1"/>
    <dgm:cxn modelId="{6C77F5A9-7414-4AF2-AE0D-DE7375393EFD}" type="presParOf" srcId="{C3364CCA-0919-4DB2-B63D-E546AC1D51A9}" destId="{7D9F991B-C3B6-4459-854B-957C3498C651}" srcOrd="0" destOrd="0" presId="urn:microsoft.com/office/officeart/2005/8/layout/orgChart1"/>
    <dgm:cxn modelId="{024DBCE7-75FE-4B32-8E68-C0856E8AC9BB}" type="presParOf" srcId="{7D9F991B-C3B6-4459-854B-957C3498C651}" destId="{E279C195-3AEA-450D-8F17-EF6ADBE13DEF}" srcOrd="0" destOrd="0" presId="urn:microsoft.com/office/officeart/2005/8/layout/orgChart1"/>
    <dgm:cxn modelId="{635E5B8E-B29F-4BC3-B421-D29BBB87B069}" type="presParOf" srcId="{7D9F991B-C3B6-4459-854B-957C3498C651}" destId="{13DE356D-D69F-4308-B69C-975CAB9705C9}" srcOrd="1" destOrd="0" presId="urn:microsoft.com/office/officeart/2005/8/layout/orgChart1"/>
    <dgm:cxn modelId="{2B6AD25E-D4C4-4F7A-B82C-BBF5026A02AB}" type="presParOf" srcId="{C3364CCA-0919-4DB2-B63D-E546AC1D51A9}" destId="{EDE9F6F1-B692-46FB-A666-E54F46D648CC}" srcOrd="1" destOrd="0" presId="urn:microsoft.com/office/officeart/2005/8/layout/orgChart1"/>
    <dgm:cxn modelId="{AB754DD6-DA41-42AA-BACC-E83C17425876}" type="presParOf" srcId="{EDE9F6F1-B692-46FB-A666-E54F46D648CC}" destId="{0EF891C0-F5B7-4AD4-95F2-F9155B809CE7}" srcOrd="0" destOrd="0" presId="urn:microsoft.com/office/officeart/2005/8/layout/orgChart1"/>
    <dgm:cxn modelId="{856E91F1-914F-4377-9BA5-B0B07F07F915}" type="presParOf" srcId="{EDE9F6F1-B692-46FB-A666-E54F46D648CC}" destId="{82940BD4-3578-45C3-BC4C-420F5A712591}" srcOrd="1" destOrd="0" presId="urn:microsoft.com/office/officeart/2005/8/layout/orgChart1"/>
    <dgm:cxn modelId="{10FBF880-D181-4325-80F6-5D9E57FE19D2}" type="presParOf" srcId="{82940BD4-3578-45C3-BC4C-420F5A712591}" destId="{49529AC5-6EF8-4525-9501-DE2517DE89F3}" srcOrd="0" destOrd="0" presId="urn:microsoft.com/office/officeart/2005/8/layout/orgChart1"/>
    <dgm:cxn modelId="{922F9678-E6A2-439B-82BF-5024C45ED0E4}" type="presParOf" srcId="{49529AC5-6EF8-4525-9501-DE2517DE89F3}" destId="{BD496E24-97A9-4FE3-8E6E-6F5BB1D22027}" srcOrd="0" destOrd="0" presId="urn:microsoft.com/office/officeart/2005/8/layout/orgChart1"/>
    <dgm:cxn modelId="{DE2434D8-C494-4A62-BEF0-A55D2A553F9A}" type="presParOf" srcId="{49529AC5-6EF8-4525-9501-DE2517DE89F3}" destId="{DA72FBD3-FAB9-4E74-9045-22DA22651B71}" srcOrd="1" destOrd="0" presId="urn:microsoft.com/office/officeart/2005/8/layout/orgChart1"/>
    <dgm:cxn modelId="{34CC5474-1AD1-4E32-9C5E-C10CCF87E5BE}" type="presParOf" srcId="{82940BD4-3578-45C3-BC4C-420F5A712591}" destId="{01E54823-CA5B-4394-9662-2F1B90B2803F}" srcOrd="1" destOrd="0" presId="urn:microsoft.com/office/officeart/2005/8/layout/orgChart1"/>
    <dgm:cxn modelId="{0FFBF9F8-EC1F-4210-9446-EB33CDD880B4}" type="presParOf" srcId="{82940BD4-3578-45C3-BC4C-420F5A712591}" destId="{A015E8BD-7BDD-4764-ADE1-681BDF5B20F0}" srcOrd="2" destOrd="0" presId="urn:microsoft.com/office/officeart/2005/8/layout/orgChart1"/>
    <dgm:cxn modelId="{ACA01BAE-9E51-4FAB-B3A4-BE1ED9C9D9D4}" type="presParOf" srcId="{EDE9F6F1-B692-46FB-A666-E54F46D648CC}" destId="{65E71F7A-9A77-47B8-8D01-1AFCA94516AB}" srcOrd="2" destOrd="0" presId="urn:microsoft.com/office/officeart/2005/8/layout/orgChart1"/>
    <dgm:cxn modelId="{2B7AA7DA-6620-430F-98A7-70C2ACBD19FD}" type="presParOf" srcId="{EDE9F6F1-B692-46FB-A666-E54F46D648CC}" destId="{D7041BB1-EDEB-45DE-B708-FA12F5C03CEA}" srcOrd="3" destOrd="0" presId="urn:microsoft.com/office/officeart/2005/8/layout/orgChart1"/>
    <dgm:cxn modelId="{689ED6AB-02DD-4A00-8DAB-A6389438C98A}" type="presParOf" srcId="{D7041BB1-EDEB-45DE-B708-FA12F5C03CEA}" destId="{B6BFFEAB-0791-466A-A11A-54EFFFF84927}" srcOrd="0" destOrd="0" presId="urn:microsoft.com/office/officeart/2005/8/layout/orgChart1"/>
    <dgm:cxn modelId="{172A5AFD-30DB-4A27-8CD7-0F5D5882340D}" type="presParOf" srcId="{B6BFFEAB-0791-466A-A11A-54EFFFF84927}" destId="{05F8E06A-4815-4FDC-AA6B-733ACBA08BAF}" srcOrd="0" destOrd="0" presId="urn:microsoft.com/office/officeart/2005/8/layout/orgChart1"/>
    <dgm:cxn modelId="{7B7648E4-FD55-417E-ACCD-37F82C9B8877}" type="presParOf" srcId="{B6BFFEAB-0791-466A-A11A-54EFFFF84927}" destId="{2F750A62-8298-4C66-BD91-D04D846FAE53}" srcOrd="1" destOrd="0" presId="urn:microsoft.com/office/officeart/2005/8/layout/orgChart1"/>
    <dgm:cxn modelId="{423EAFFE-EF8E-4E79-BF4B-9CD5C4968E44}" type="presParOf" srcId="{D7041BB1-EDEB-45DE-B708-FA12F5C03CEA}" destId="{2B903CCB-C0AF-4429-AB2D-407C9C1C4D44}" srcOrd="1" destOrd="0" presId="urn:microsoft.com/office/officeart/2005/8/layout/orgChart1"/>
    <dgm:cxn modelId="{049F9A8D-B954-47BA-8D6D-5C35BAA654A3}" type="presParOf" srcId="{D7041BB1-EDEB-45DE-B708-FA12F5C03CEA}" destId="{2B575304-E89C-43E3-B710-360CFF7141AD}" srcOrd="2" destOrd="0" presId="urn:microsoft.com/office/officeart/2005/8/layout/orgChart1"/>
    <dgm:cxn modelId="{B51EB9F3-A5BC-4F17-B4E4-04B7171B0EA1}" type="presParOf" srcId="{EDE9F6F1-B692-46FB-A666-E54F46D648CC}" destId="{9407811D-113E-47CA-A318-9B2CDECC706C}" srcOrd="4" destOrd="0" presId="urn:microsoft.com/office/officeart/2005/8/layout/orgChart1"/>
    <dgm:cxn modelId="{DB893889-E965-4486-B81A-CEC45AC46797}" type="presParOf" srcId="{EDE9F6F1-B692-46FB-A666-E54F46D648CC}" destId="{70A93E88-8BE4-42C8-92E9-161DC921953F}" srcOrd="5" destOrd="0" presId="urn:microsoft.com/office/officeart/2005/8/layout/orgChart1"/>
    <dgm:cxn modelId="{8BDDBD1F-50F2-49F2-A056-9F497FB02EE4}" type="presParOf" srcId="{70A93E88-8BE4-42C8-92E9-161DC921953F}" destId="{9FC2642F-2846-470D-B4E8-19B05FB89569}" srcOrd="0" destOrd="0" presId="urn:microsoft.com/office/officeart/2005/8/layout/orgChart1"/>
    <dgm:cxn modelId="{EEEF3F52-60C6-43F8-989A-802917F18036}" type="presParOf" srcId="{9FC2642F-2846-470D-B4E8-19B05FB89569}" destId="{53CD44CB-8412-45C1-96B4-518E14925596}" srcOrd="0" destOrd="0" presId="urn:microsoft.com/office/officeart/2005/8/layout/orgChart1"/>
    <dgm:cxn modelId="{0D2FD26F-464F-406C-B031-2002837CA33E}" type="presParOf" srcId="{9FC2642F-2846-470D-B4E8-19B05FB89569}" destId="{DAF6AAA9-5464-4ED1-968E-8A3C28CF55A8}" srcOrd="1" destOrd="0" presId="urn:microsoft.com/office/officeart/2005/8/layout/orgChart1"/>
    <dgm:cxn modelId="{E6877A4A-513C-43F5-93D7-851E7B356F3D}" type="presParOf" srcId="{70A93E88-8BE4-42C8-92E9-161DC921953F}" destId="{4E274760-6306-4674-85B0-D4A3B2DFBF8A}" srcOrd="1" destOrd="0" presId="urn:microsoft.com/office/officeart/2005/8/layout/orgChart1"/>
    <dgm:cxn modelId="{CD89D367-029D-420C-BD0B-9027AC0CC58F}" type="presParOf" srcId="{70A93E88-8BE4-42C8-92E9-161DC921953F}" destId="{E1F562D3-D317-4E6B-BBDC-C4ECB6F45FF0}" srcOrd="2" destOrd="0" presId="urn:microsoft.com/office/officeart/2005/8/layout/orgChart1"/>
    <dgm:cxn modelId="{E8C55BF5-7C9C-40C8-8B3E-C6A40838EB08}" type="presParOf" srcId="{C3364CCA-0919-4DB2-B63D-E546AC1D51A9}" destId="{6746F6AE-003C-47A3-81CB-0AA0BE386FB4}"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9F584DA-A1E4-436E-B539-5B26249E12D6}" type="doc">
      <dgm:prSet loTypeId="urn:microsoft.com/office/officeart/2005/8/layout/matrix1" loCatId="matrix" qsTypeId="urn:microsoft.com/office/officeart/2005/8/quickstyle/simple3" qsCatId="simple" csTypeId="urn:microsoft.com/office/officeart/2005/8/colors/accent1_2" csCatId="accent1" phldr="1"/>
      <dgm:spPr/>
      <dgm:t>
        <a:bodyPr/>
        <a:lstStyle/>
        <a:p>
          <a:endParaRPr lang="ru-RU"/>
        </a:p>
      </dgm:t>
    </dgm:pt>
    <dgm:pt modelId="{86E11D5D-4C03-41C4-8F41-E92AC780C75A}">
      <dgm:prSet phldrT="[Текст]" custT="1"/>
      <dgm:spPr/>
      <dgm:t>
        <a:bodyPr anchor="ctr"/>
        <a:lstStyle/>
        <a:p>
          <a:r>
            <a:rPr lang="ru-RU" sz="1900" b="1" dirty="0" smtClean="0">
              <a:solidFill>
                <a:schemeClr val="tx2">
                  <a:lumMod val="50000"/>
                </a:schemeClr>
              </a:solidFill>
            </a:rPr>
            <a:t>СОЗДАНИЕ И ОБЕСПЕЧЕНИЕ В ОТДЕЛЕНИИ ЛЕЧЕБНО-ОХРАНИТЕЛЬНОГО РЕЖИМА</a:t>
          </a:r>
          <a:endParaRPr lang="ru-RU" sz="1900" b="1" dirty="0">
            <a:solidFill>
              <a:schemeClr val="tx2">
                <a:lumMod val="50000"/>
              </a:schemeClr>
            </a:solidFill>
          </a:endParaRPr>
        </a:p>
      </dgm:t>
    </dgm:pt>
    <dgm:pt modelId="{B7E1587E-6134-416F-8315-2A90C6AB1A5F}" type="parTrans" cxnId="{410EF43A-F00E-48A5-B218-D6EEF200BD38}">
      <dgm:prSet/>
      <dgm:spPr/>
      <dgm:t>
        <a:bodyPr/>
        <a:lstStyle/>
        <a:p>
          <a:endParaRPr lang="ru-RU"/>
        </a:p>
      </dgm:t>
    </dgm:pt>
    <dgm:pt modelId="{234B4BB7-59D8-42CC-B3E0-2E6AA546E48D}" type="sibTrans" cxnId="{410EF43A-F00E-48A5-B218-D6EEF200BD38}">
      <dgm:prSet/>
      <dgm:spPr/>
      <dgm:t>
        <a:bodyPr/>
        <a:lstStyle/>
        <a:p>
          <a:endParaRPr lang="ru-RU"/>
        </a:p>
      </dgm:t>
    </dgm:pt>
    <dgm:pt modelId="{303D6E2C-E77F-4965-B216-CCA8D29BF7ED}">
      <dgm:prSet phldrT="[Текст]"/>
      <dgm:spPr/>
      <dgm:t>
        <a:bodyPr anchor="t"/>
        <a:lstStyle/>
        <a:p>
          <a:r>
            <a:rPr lang="ru-RU" dirty="0" smtClean="0"/>
            <a:t>Строгий постельный режим, придать нужное положение больного в постели, профилактика пролежней</a:t>
          </a:r>
          <a:endParaRPr lang="ru-RU" dirty="0"/>
        </a:p>
      </dgm:t>
    </dgm:pt>
    <dgm:pt modelId="{A0CB78F4-AA04-4C96-A695-F5C56511051A}" type="parTrans" cxnId="{98CDCBBA-4181-49ED-A0D0-06CE4F525947}">
      <dgm:prSet/>
      <dgm:spPr/>
      <dgm:t>
        <a:bodyPr/>
        <a:lstStyle/>
        <a:p>
          <a:endParaRPr lang="ru-RU"/>
        </a:p>
      </dgm:t>
    </dgm:pt>
    <dgm:pt modelId="{F147D345-B54E-44DA-90C1-B18D5D825FB7}" type="sibTrans" cxnId="{98CDCBBA-4181-49ED-A0D0-06CE4F525947}">
      <dgm:prSet/>
      <dgm:spPr/>
      <dgm:t>
        <a:bodyPr/>
        <a:lstStyle/>
        <a:p>
          <a:endParaRPr lang="ru-RU"/>
        </a:p>
      </dgm:t>
    </dgm:pt>
    <dgm:pt modelId="{8D22023F-E561-4977-AC06-59C89A83E144}">
      <dgm:prSet phldrT="[Текст]"/>
      <dgm:spPr/>
      <dgm:t>
        <a:bodyPr anchor="t"/>
        <a:lstStyle/>
        <a:p>
          <a:r>
            <a:rPr lang="ru-RU" dirty="0" smtClean="0"/>
            <a:t>Двигательная активизация больного с целью профилактики пневмонии, тромбоэмболий и т.п. </a:t>
          </a:r>
          <a:endParaRPr lang="ru-RU" dirty="0"/>
        </a:p>
      </dgm:t>
    </dgm:pt>
    <dgm:pt modelId="{08253C84-8927-4CA8-A138-8B0F24E3CDA3}" type="parTrans" cxnId="{6562C824-0A9C-4518-A277-62F465A81A5C}">
      <dgm:prSet/>
      <dgm:spPr/>
      <dgm:t>
        <a:bodyPr/>
        <a:lstStyle/>
        <a:p>
          <a:endParaRPr lang="ru-RU"/>
        </a:p>
      </dgm:t>
    </dgm:pt>
    <dgm:pt modelId="{691FC898-639A-44C4-98EF-E72BAEA22E57}" type="sibTrans" cxnId="{6562C824-0A9C-4518-A277-62F465A81A5C}">
      <dgm:prSet/>
      <dgm:spPr/>
      <dgm:t>
        <a:bodyPr/>
        <a:lstStyle/>
        <a:p>
          <a:endParaRPr lang="ru-RU"/>
        </a:p>
      </dgm:t>
    </dgm:pt>
    <dgm:pt modelId="{EF60778C-A086-4A68-9A3C-597EEA71E615}">
      <dgm:prSet phldrT="[Текст]"/>
      <dgm:spPr/>
      <dgm:t>
        <a:bodyPr anchor="b"/>
        <a:lstStyle/>
        <a:p>
          <a:r>
            <a:rPr lang="ru-RU" dirty="0" smtClean="0"/>
            <a:t>Соблюдение золотого правила асептики: все, что происходит в соприкосновение с раной, должно быть стерильно</a:t>
          </a:r>
          <a:endParaRPr lang="ru-RU" dirty="0"/>
        </a:p>
      </dgm:t>
    </dgm:pt>
    <dgm:pt modelId="{CE266640-FC43-4352-8CB1-FF07F5C7893B}" type="parTrans" cxnId="{98A05957-05B2-476D-A553-812F25F1F818}">
      <dgm:prSet/>
      <dgm:spPr/>
      <dgm:t>
        <a:bodyPr/>
        <a:lstStyle/>
        <a:p>
          <a:endParaRPr lang="ru-RU"/>
        </a:p>
      </dgm:t>
    </dgm:pt>
    <dgm:pt modelId="{29DC5A7B-85E9-482D-8AC9-361FC4138050}" type="sibTrans" cxnId="{98A05957-05B2-476D-A553-812F25F1F818}">
      <dgm:prSet/>
      <dgm:spPr/>
      <dgm:t>
        <a:bodyPr/>
        <a:lstStyle/>
        <a:p>
          <a:endParaRPr lang="ru-RU"/>
        </a:p>
      </dgm:t>
    </dgm:pt>
    <dgm:pt modelId="{1EB80C73-DFDB-4A1A-9336-1BEC8AF14110}">
      <dgm:prSet/>
      <dgm:spPr>
        <a:ln>
          <a:noFill/>
        </a:ln>
      </dgm:spPr>
      <dgm:t>
        <a:bodyPr anchor="b"/>
        <a:lstStyle/>
        <a:p>
          <a:r>
            <a:rPr lang="ru-RU" dirty="0" smtClean="0"/>
            <a:t>Больным в бессознательном состоянии, показано парентеральное питание и парентеральное введение жидкости</a:t>
          </a:r>
          <a:endParaRPr lang="ru-RU" dirty="0"/>
        </a:p>
      </dgm:t>
    </dgm:pt>
    <dgm:pt modelId="{73E0AE46-4E33-47BD-8EC6-5A1D24F24144}" type="parTrans" cxnId="{6CC8C917-D08A-4629-B54A-7FAE86E60B56}">
      <dgm:prSet/>
      <dgm:spPr/>
      <dgm:t>
        <a:bodyPr/>
        <a:lstStyle/>
        <a:p>
          <a:endParaRPr lang="ru-RU"/>
        </a:p>
      </dgm:t>
    </dgm:pt>
    <dgm:pt modelId="{128CFFB5-59C6-41A7-A9B9-99BF75063C43}" type="sibTrans" cxnId="{6CC8C917-D08A-4629-B54A-7FAE86E60B56}">
      <dgm:prSet/>
      <dgm:spPr/>
      <dgm:t>
        <a:bodyPr/>
        <a:lstStyle/>
        <a:p>
          <a:endParaRPr lang="ru-RU"/>
        </a:p>
      </dgm:t>
    </dgm:pt>
    <dgm:pt modelId="{20708B15-6FFF-4CED-99FD-B01D2743A8C1}">
      <dgm:prSet phldrT="[Текст]"/>
      <dgm:spPr/>
      <dgm:t>
        <a:bodyPr/>
        <a:lstStyle/>
        <a:p>
          <a:endParaRPr lang="ru-RU" dirty="0"/>
        </a:p>
      </dgm:t>
    </dgm:pt>
    <dgm:pt modelId="{E95CC407-8918-485F-B895-CBBF4165FEE7}" type="parTrans" cxnId="{AB5DC620-FDAB-4127-BD1A-794EFC5F3B0D}">
      <dgm:prSet/>
      <dgm:spPr/>
      <dgm:t>
        <a:bodyPr/>
        <a:lstStyle/>
        <a:p>
          <a:endParaRPr lang="ru-RU"/>
        </a:p>
      </dgm:t>
    </dgm:pt>
    <dgm:pt modelId="{3FC0C848-7F44-4340-B398-A8F6F6A8208E}" type="sibTrans" cxnId="{AB5DC620-FDAB-4127-BD1A-794EFC5F3B0D}">
      <dgm:prSet/>
      <dgm:spPr/>
      <dgm:t>
        <a:bodyPr/>
        <a:lstStyle/>
        <a:p>
          <a:endParaRPr lang="ru-RU"/>
        </a:p>
      </dgm:t>
    </dgm:pt>
    <dgm:pt modelId="{11F5DD19-4160-4301-A4C0-13DDC94784EF}" type="pres">
      <dgm:prSet presAssocID="{29F584DA-A1E4-436E-B539-5B26249E12D6}" presName="diagram" presStyleCnt="0">
        <dgm:presLayoutVars>
          <dgm:chMax val="1"/>
          <dgm:dir/>
          <dgm:animLvl val="ctr"/>
          <dgm:resizeHandles val="exact"/>
        </dgm:presLayoutVars>
      </dgm:prSet>
      <dgm:spPr/>
      <dgm:t>
        <a:bodyPr/>
        <a:lstStyle/>
        <a:p>
          <a:endParaRPr lang="ru-RU"/>
        </a:p>
      </dgm:t>
    </dgm:pt>
    <dgm:pt modelId="{A6BA936C-1A78-4FC4-950F-ED16062C8257}" type="pres">
      <dgm:prSet presAssocID="{29F584DA-A1E4-436E-B539-5B26249E12D6}" presName="matrix" presStyleCnt="0"/>
      <dgm:spPr/>
    </dgm:pt>
    <dgm:pt modelId="{857F01E3-269A-410B-851B-F5D5F07B4E6F}" type="pres">
      <dgm:prSet presAssocID="{29F584DA-A1E4-436E-B539-5B26249E12D6}" presName="tile1" presStyleLbl="node1" presStyleIdx="0" presStyleCnt="4"/>
      <dgm:spPr/>
      <dgm:t>
        <a:bodyPr/>
        <a:lstStyle/>
        <a:p>
          <a:endParaRPr lang="ru-RU"/>
        </a:p>
      </dgm:t>
    </dgm:pt>
    <dgm:pt modelId="{2768F1DC-4F42-41FF-9184-0E653646C61C}" type="pres">
      <dgm:prSet presAssocID="{29F584DA-A1E4-436E-B539-5B26249E12D6}" presName="tile1text" presStyleLbl="node1" presStyleIdx="0" presStyleCnt="4">
        <dgm:presLayoutVars>
          <dgm:chMax val="0"/>
          <dgm:chPref val="0"/>
          <dgm:bulletEnabled val="1"/>
        </dgm:presLayoutVars>
      </dgm:prSet>
      <dgm:spPr/>
      <dgm:t>
        <a:bodyPr/>
        <a:lstStyle/>
        <a:p>
          <a:endParaRPr lang="ru-RU"/>
        </a:p>
      </dgm:t>
    </dgm:pt>
    <dgm:pt modelId="{C0214495-780E-4A83-8E79-F86814CA3B7A}" type="pres">
      <dgm:prSet presAssocID="{29F584DA-A1E4-436E-B539-5B26249E12D6}" presName="tile2" presStyleLbl="node1" presStyleIdx="1" presStyleCnt="4"/>
      <dgm:spPr/>
      <dgm:t>
        <a:bodyPr/>
        <a:lstStyle/>
        <a:p>
          <a:endParaRPr lang="ru-RU"/>
        </a:p>
      </dgm:t>
    </dgm:pt>
    <dgm:pt modelId="{E4D7C6E8-B79A-416A-AA6B-B5527DA9BBDA}" type="pres">
      <dgm:prSet presAssocID="{29F584DA-A1E4-436E-B539-5B26249E12D6}" presName="tile2text" presStyleLbl="node1" presStyleIdx="1" presStyleCnt="4">
        <dgm:presLayoutVars>
          <dgm:chMax val="0"/>
          <dgm:chPref val="0"/>
          <dgm:bulletEnabled val="1"/>
        </dgm:presLayoutVars>
      </dgm:prSet>
      <dgm:spPr/>
      <dgm:t>
        <a:bodyPr/>
        <a:lstStyle/>
        <a:p>
          <a:endParaRPr lang="ru-RU"/>
        </a:p>
      </dgm:t>
    </dgm:pt>
    <dgm:pt modelId="{50E21B2A-1092-4339-88E8-C41A0A0F64F9}" type="pres">
      <dgm:prSet presAssocID="{29F584DA-A1E4-436E-B539-5B26249E12D6}" presName="tile3" presStyleLbl="node1" presStyleIdx="2" presStyleCnt="4"/>
      <dgm:spPr/>
      <dgm:t>
        <a:bodyPr/>
        <a:lstStyle/>
        <a:p>
          <a:endParaRPr lang="ru-RU"/>
        </a:p>
      </dgm:t>
    </dgm:pt>
    <dgm:pt modelId="{C3FAEA6D-EE3E-4500-B15B-17DF31FA2BB9}" type="pres">
      <dgm:prSet presAssocID="{29F584DA-A1E4-436E-B539-5B26249E12D6}" presName="tile3text" presStyleLbl="node1" presStyleIdx="2" presStyleCnt="4">
        <dgm:presLayoutVars>
          <dgm:chMax val="0"/>
          <dgm:chPref val="0"/>
          <dgm:bulletEnabled val="1"/>
        </dgm:presLayoutVars>
      </dgm:prSet>
      <dgm:spPr/>
      <dgm:t>
        <a:bodyPr/>
        <a:lstStyle/>
        <a:p>
          <a:endParaRPr lang="ru-RU"/>
        </a:p>
      </dgm:t>
    </dgm:pt>
    <dgm:pt modelId="{FC52991E-7FD9-43A5-9529-5D4DDEBC4755}" type="pres">
      <dgm:prSet presAssocID="{29F584DA-A1E4-436E-B539-5B26249E12D6}" presName="tile4" presStyleLbl="node1" presStyleIdx="3" presStyleCnt="4"/>
      <dgm:spPr/>
      <dgm:t>
        <a:bodyPr/>
        <a:lstStyle/>
        <a:p>
          <a:endParaRPr lang="ru-RU"/>
        </a:p>
      </dgm:t>
    </dgm:pt>
    <dgm:pt modelId="{CCC1F20A-3223-4715-BCB1-40B0F829BC72}" type="pres">
      <dgm:prSet presAssocID="{29F584DA-A1E4-436E-B539-5B26249E12D6}" presName="tile4text" presStyleLbl="node1" presStyleIdx="3" presStyleCnt="4">
        <dgm:presLayoutVars>
          <dgm:chMax val="0"/>
          <dgm:chPref val="0"/>
          <dgm:bulletEnabled val="1"/>
        </dgm:presLayoutVars>
      </dgm:prSet>
      <dgm:spPr/>
      <dgm:t>
        <a:bodyPr/>
        <a:lstStyle/>
        <a:p>
          <a:endParaRPr lang="ru-RU"/>
        </a:p>
      </dgm:t>
    </dgm:pt>
    <dgm:pt modelId="{F8E2FC67-23B5-425E-8D5E-8522E455E8D0}" type="pres">
      <dgm:prSet presAssocID="{29F584DA-A1E4-436E-B539-5B26249E12D6}" presName="centerTile" presStyleLbl="fgShp" presStyleIdx="0" presStyleCnt="1" custScaleX="201006" custScaleY="109355">
        <dgm:presLayoutVars>
          <dgm:chMax val="0"/>
          <dgm:chPref val="0"/>
        </dgm:presLayoutVars>
      </dgm:prSet>
      <dgm:spPr/>
      <dgm:t>
        <a:bodyPr/>
        <a:lstStyle/>
        <a:p>
          <a:endParaRPr lang="ru-RU"/>
        </a:p>
      </dgm:t>
    </dgm:pt>
  </dgm:ptLst>
  <dgm:cxnLst>
    <dgm:cxn modelId="{BBD892ED-5E7F-4B47-9657-3EF6552A3B9F}" type="presOf" srcId="{303D6E2C-E77F-4965-B216-CCA8D29BF7ED}" destId="{857F01E3-269A-410B-851B-F5D5F07B4E6F}" srcOrd="0" destOrd="0" presId="urn:microsoft.com/office/officeart/2005/8/layout/matrix1"/>
    <dgm:cxn modelId="{A9C6053A-E7E6-4881-B756-C06CEBE8527E}" type="presOf" srcId="{303D6E2C-E77F-4965-B216-CCA8D29BF7ED}" destId="{2768F1DC-4F42-41FF-9184-0E653646C61C}" srcOrd="1" destOrd="0" presId="urn:microsoft.com/office/officeart/2005/8/layout/matrix1"/>
    <dgm:cxn modelId="{C344D3FE-71A7-430A-9B6B-752732CEB444}" type="presOf" srcId="{29F584DA-A1E4-436E-B539-5B26249E12D6}" destId="{11F5DD19-4160-4301-A4C0-13DDC94784EF}" srcOrd="0" destOrd="0" presId="urn:microsoft.com/office/officeart/2005/8/layout/matrix1"/>
    <dgm:cxn modelId="{9AFF8002-5414-4BC4-A94F-D1C9FC017696}" type="presOf" srcId="{EF60778C-A086-4A68-9A3C-597EEA71E615}" destId="{C3FAEA6D-EE3E-4500-B15B-17DF31FA2BB9}" srcOrd="1" destOrd="0" presId="urn:microsoft.com/office/officeart/2005/8/layout/matrix1"/>
    <dgm:cxn modelId="{410EF43A-F00E-48A5-B218-D6EEF200BD38}" srcId="{29F584DA-A1E4-436E-B539-5B26249E12D6}" destId="{86E11D5D-4C03-41C4-8F41-E92AC780C75A}" srcOrd="0" destOrd="0" parTransId="{B7E1587E-6134-416F-8315-2A90C6AB1A5F}" sibTransId="{234B4BB7-59D8-42CC-B3E0-2E6AA546E48D}"/>
    <dgm:cxn modelId="{AB5DC620-FDAB-4127-BD1A-794EFC5F3B0D}" srcId="{29F584DA-A1E4-436E-B539-5B26249E12D6}" destId="{20708B15-6FFF-4CED-99FD-B01D2743A8C1}" srcOrd="1" destOrd="0" parTransId="{E95CC407-8918-485F-B895-CBBF4165FEE7}" sibTransId="{3FC0C848-7F44-4340-B398-A8F6F6A8208E}"/>
    <dgm:cxn modelId="{98A05957-05B2-476D-A553-812F25F1F818}" srcId="{86E11D5D-4C03-41C4-8F41-E92AC780C75A}" destId="{EF60778C-A086-4A68-9A3C-597EEA71E615}" srcOrd="2" destOrd="0" parTransId="{CE266640-FC43-4352-8CB1-FF07F5C7893B}" sibTransId="{29DC5A7B-85E9-482D-8AC9-361FC4138050}"/>
    <dgm:cxn modelId="{049C302C-9C0D-4AAD-A381-67122AB3F04E}" type="presOf" srcId="{1EB80C73-DFDB-4A1A-9336-1BEC8AF14110}" destId="{CCC1F20A-3223-4715-BCB1-40B0F829BC72}" srcOrd="1" destOrd="0" presId="urn:microsoft.com/office/officeart/2005/8/layout/matrix1"/>
    <dgm:cxn modelId="{98CDCBBA-4181-49ED-A0D0-06CE4F525947}" srcId="{86E11D5D-4C03-41C4-8F41-E92AC780C75A}" destId="{303D6E2C-E77F-4965-B216-CCA8D29BF7ED}" srcOrd="0" destOrd="0" parTransId="{A0CB78F4-AA04-4C96-A695-F5C56511051A}" sibTransId="{F147D345-B54E-44DA-90C1-B18D5D825FB7}"/>
    <dgm:cxn modelId="{6CC8C917-D08A-4629-B54A-7FAE86E60B56}" srcId="{86E11D5D-4C03-41C4-8F41-E92AC780C75A}" destId="{1EB80C73-DFDB-4A1A-9336-1BEC8AF14110}" srcOrd="3" destOrd="0" parTransId="{73E0AE46-4E33-47BD-8EC6-5A1D24F24144}" sibTransId="{128CFFB5-59C6-41A7-A9B9-99BF75063C43}"/>
    <dgm:cxn modelId="{318CEB22-4A6F-45FB-A733-1C3C81714DC2}" type="presOf" srcId="{8D22023F-E561-4977-AC06-59C89A83E144}" destId="{C0214495-780E-4A83-8E79-F86814CA3B7A}" srcOrd="0" destOrd="0" presId="urn:microsoft.com/office/officeart/2005/8/layout/matrix1"/>
    <dgm:cxn modelId="{27B5917E-287C-4F48-9D5D-CFEBE2B64371}" type="presOf" srcId="{1EB80C73-DFDB-4A1A-9336-1BEC8AF14110}" destId="{FC52991E-7FD9-43A5-9529-5D4DDEBC4755}" srcOrd="0" destOrd="0" presId="urn:microsoft.com/office/officeart/2005/8/layout/matrix1"/>
    <dgm:cxn modelId="{80E06B4C-AC25-43C3-992F-D0259A5DC27E}" type="presOf" srcId="{86E11D5D-4C03-41C4-8F41-E92AC780C75A}" destId="{F8E2FC67-23B5-425E-8D5E-8522E455E8D0}" srcOrd="0" destOrd="0" presId="urn:microsoft.com/office/officeart/2005/8/layout/matrix1"/>
    <dgm:cxn modelId="{0D7046DB-9EFD-4319-8821-135A3B084B5C}" type="presOf" srcId="{EF60778C-A086-4A68-9A3C-597EEA71E615}" destId="{50E21B2A-1092-4339-88E8-C41A0A0F64F9}" srcOrd="0" destOrd="0" presId="urn:microsoft.com/office/officeart/2005/8/layout/matrix1"/>
    <dgm:cxn modelId="{6562C824-0A9C-4518-A277-62F465A81A5C}" srcId="{86E11D5D-4C03-41C4-8F41-E92AC780C75A}" destId="{8D22023F-E561-4977-AC06-59C89A83E144}" srcOrd="1" destOrd="0" parTransId="{08253C84-8927-4CA8-A138-8B0F24E3CDA3}" sibTransId="{691FC898-639A-44C4-98EF-E72BAEA22E57}"/>
    <dgm:cxn modelId="{CC1B8CA7-FB93-4907-835D-6EFA3B3222E8}" type="presOf" srcId="{8D22023F-E561-4977-AC06-59C89A83E144}" destId="{E4D7C6E8-B79A-416A-AA6B-B5527DA9BBDA}" srcOrd="1" destOrd="0" presId="urn:microsoft.com/office/officeart/2005/8/layout/matrix1"/>
    <dgm:cxn modelId="{0A7D2BC7-A34A-47E2-A77F-E1A3CC8A1133}" type="presParOf" srcId="{11F5DD19-4160-4301-A4C0-13DDC94784EF}" destId="{A6BA936C-1A78-4FC4-950F-ED16062C8257}" srcOrd="0" destOrd="0" presId="urn:microsoft.com/office/officeart/2005/8/layout/matrix1"/>
    <dgm:cxn modelId="{B95D1E18-1534-4C48-A6D9-17B92879EE83}" type="presParOf" srcId="{A6BA936C-1A78-4FC4-950F-ED16062C8257}" destId="{857F01E3-269A-410B-851B-F5D5F07B4E6F}" srcOrd="0" destOrd="0" presId="urn:microsoft.com/office/officeart/2005/8/layout/matrix1"/>
    <dgm:cxn modelId="{C3F49ED3-FA30-485A-8471-1AD0693DA17B}" type="presParOf" srcId="{A6BA936C-1A78-4FC4-950F-ED16062C8257}" destId="{2768F1DC-4F42-41FF-9184-0E653646C61C}" srcOrd="1" destOrd="0" presId="urn:microsoft.com/office/officeart/2005/8/layout/matrix1"/>
    <dgm:cxn modelId="{D1CAB983-9590-416B-A5D6-AA82116F1D1F}" type="presParOf" srcId="{A6BA936C-1A78-4FC4-950F-ED16062C8257}" destId="{C0214495-780E-4A83-8E79-F86814CA3B7A}" srcOrd="2" destOrd="0" presId="urn:microsoft.com/office/officeart/2005/8/layout/matrix1"/>
    <dgm:cxn modelId="{D49D9C8D-D794-4185-AB6C-1044C2200BC0}" type="presParOf" srcId="{A6BA936C-1A78-4FC4-950F-ED16062C8257}" destId="{E4D7C6E8-B79A-416A-AA6B-B5527DA9BBDA}" srcOrd="3" destOrd="0" presId="urn:microsoft.com/office/officeart/2005/8/layout/matrix1"/>
    <dgm:cxn modelId="{8D355CCA-0AF1-4ECC-86E8-73E828F7C1CF}" type="presParOf" srcId="{A6BA936C-1A78-4FC4-950F-ED16062C8257}" destId="{50E21B2A-1092-4339-88E8-C41A0A0F64F9}" srcOrd="4" destOrd="0" presId="urn:microsoft.com/office/officeart/2005/8/layout/matrix1"/>
    <dgm:cxn modelId="{18A0250F-F31A-4147-B997-38175EDB806A}" type="presParOf" srcId="{A6BA936C-1A78-4FC4-950F-ED16062C8257}" destId="{C3FAEA6D-EE3E-4500-B15B-17DF31FA2BB9}" srcOrd="5" destOrd="0" presId="urn:microsoft.com/office/officeart/2005/8/layout/matrix1"/>
    <dgm:cxn modelId="{989E3501-F6C5-41BE-9965-6AB18FC1E61C}" type="presParOf" srcId="{A6BA936C-1A78-4FC4-950F-ED16062C8257}" destId="{FC52991E-7FD9-43A5-9529-5D4DDEBC4755}" srcOrd="6" destOrd="0" presId="urn:microsoft.com/office/officeart/2005/8/layout/matrix1"/>
    <dgm:cxn modelId="{D30AF339-5B3F-4E4C-8189-DF312EF8DFB4}" type="presParOf" srcId="{A6BA936C-1A78-4FC4-950F-ED16062C8257}" destId="{CCC1F20A-3223-4715-BCB1-40B0F829BC72}" srcOrd="7" destOrd="0" presId="urn:microsoft.com/office/officeart/2005/8/layout/matrix1"/>
    <dgm:cxn modelId="{A22EE3C7-6D5B-4767-BAFB-A12ECCC5FF7B}" type="presParOf" srcId="{11F5DD19-4160-4301-A4C0-13DDC94784EF}" destId="{F8E2FC67-23B5-425E-8D5E-8522E455E8D0}" srcOrd="1" destOrd="0" presId="urn:microsoft.com/office/officeart/2005/8/layout/matrix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dgm:spPr/>
      <dgm:t>
        <a:bodyPr/>
        <a:lstStyle/>
        <a:p>
          <a:r>
            <a:rPr lang="ru-RU" dirty="0" smtClean="0"/>
            <a:t>Внешний вид больного. </a:t>
          </a:r>
          <a:endParaRPr lang="ru-RU"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dgm:spPr/>
      <dgm:t>
        <a:bodyPr/>
        <a:lstStyle/>
        <a:p>
          <a:r>
            <a:rPr lang="ru-RU" dirty="0" smtClean="0"/>
            <a:t>Наблюдение за деятельностью сердца </a:t>
          </a:r>
          <a:endParaRPr lang="ru-RU"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dgm:spPr/>
      <dgm:t>
        <a:bodyPr/>
        <a:lstStyle/>
        <a:p>
          <a:r>
            <a:rPr lang="ru-RU" dirty="0" smtClean="0"/>
            <a:t>Наблюдение за органами дыхания</a:t>
          </a:r>
          <a:endParaRPr lang="ru-RU"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043DD60-5DB3-42E6-8982-19A30DF7CCF5}">
      <dgm:prSet phldrT="[Текст]"/>
      <dgm:spPr/>
      <dgm:t>
        <a:bodyPr/>
        <a:lstStyle/>
        <a:p>
          <a:r>
            <a:rPr lang="ru-RU" dirty="0" smtClean="0"/>
            <a:t>Наблюдение за органами пищеварения </a:t>
          </a:r>
          <a:endParaRPr lang="ru-RU" dirty="0"/>
        </a:p>
      </dgm:t>
    </dgm:pt>
    <dgm:pt modelId="{1E2FD59A-F5A2-4F8D-8B96-6DD5B5065317}" type="parTrans" cxnId="{C78F8822-7D57-4287-B6F6-113B6A642153}">
      <dgm:prSet/>
      <dgm:spPr/>
      <dgm:t>
        <a:bodyPr/>
        <a:lstStyle/>
        <a:p>
          <a:endParaRPr lang="ru-RU"/>
        </a:p>
      </dgm:t>
    </dgm:pt>
    <dgm:pt modelId="{6C1C1E96-C2DA-4349-96FA-8807CD194777}" type="sibTrans" cxnId="{C78F8822-7D57-4287-B6F6-113B6A642153}">
      <dgm:prSet/>
      <dgm:spPr/>
      <dgm:t>
        <a:bodyPr/>
        <a:lstStyle/>
        <a:p>
          <a:endParaRPr lang="ru-RU"/>
        </a:p>
      </dgm:t>
    </dgm:pt>
    <dgm:pt modelId="{8179F452-0F0C-4B2B-82A0-945BF7C0EA18}">
      <dgm:prSet phldrT="[Текст]"/>
      <dgm:spPr/>
      <dgm:t>
        <a:bodyPr/>
        <a:lstStyle/>
        <a:p>
          <a:r>
            <a:rPr lang="ru-RU" dirty="0" smtClean="0"/>
            <a:t>Наблюдение за функцией органов мочевыделения</a:t>
          </a:r>
          <a:endParaRPr lang="ru-RU" dirty="0"/>
        </a:p>
      </dgm:t>
    </dgm:pt>
    <dgm:pt modelId="{2378B2E0-4370-4CA1-A1F2-433F7F1B47A7}" type="parTrans" cxnId="{B2FEC51A-05C4-4AA7-A59B-386BBDB99ECC}">
      <dgm:prSet/>
      <dgm:spPr/>
      <dgm:t>
        <a:bodyPr/>
        <a:lstStyle/>
        <a:p>
          <a:endParaRPr lang="ru-RU"/>
        </a:p>
      </dgm:t>
    </dgm:pt>
    <dgm:pt modelId="{8D058335-AF1E-473A-B7EB-8EDEB9C73755}" type="sibTrans" cxnId="{B2FEC51A-05C4-4AA7-A59B-386BBDB99ECC}">
      <dgm:prSet/>
      <dgm:spPr/>
      <dgm:t>
        <a:bodyPr/>
        <a:lstStyle/>
        <a:p>
          <a:endParaRPr lang="ru-RU"/>
        </a:p>
      </dgm:t>
    </dgm:pt>
    <dgm:pt modelId="{B162BC98-EFAE-4AC5-B2A9-77940DB2BD48}">
      <dgm:prSet phldrT="[Текст]"/>
      <dgm:spPr/>
      <dgm:t>
        <a:bodyPr/>
        <a:lstStyle/>
        <a:p>
          <a:r>
            <a:rPr lang="ru-RU" dirty="0" smtClean="0"/>
            <a:t>Наблюдение за кожными покровами</a:t>
          </a:r>
          <a:endParaRPr lang="ru-RU" dirty="0"/>
        </a:p>
      </dgm:t>
    </dgm:pt>
    <dgm:pt modelId="{89666211-386E-4106-A21C-1D65BB1160C3}" type="parTrans" cxnId="{59FD4EDC-EF4F-48A3-B8DF-9D9FD156D298}">
      <dgm:prSet/>
      <dgm:spPr/>
      <dgm:t>
        <a:bodyPr/>
        <a:lstStyle/>
        <a:p>
          <a:endParaRPr lang="ru-RU"/>
        </a:p>
      </dgm:t>
    </dgm:pt>
    <dgm:pt modelId="{14B7CD8D-8660-4F18-83B3-CB8996527E61}" type="sibTrans" cxnId="{59FD4EDC-EF4F-48A3-B8DF-9D9FD156D298}">
      <dgm:prSet/>
      <dgm:spPr/>
      <dgm:t>
        <a:bodyPr/>
        <a:lstStyle/>
        <a:p>
          <a:endParaRPr lang="ru-RU"/>
        </a:p>
      </dgm:t>
    </dgm:pt>
    <dgm:pt modelId="{278BC881-5838-478F-AAC2-E6A59C75F34A}">
      <dgm:prSet phldrT="[Текст]"/>
      <dgm:spPr/>
      <dgm:t>
        <a:bodyPr/>
        <a:lstStyle/>
        <a:p>
          <a:r>
            <a:rPr lang="ru-RU" dirty="0" smtClean="0"/>
            <a:t>Наблюдение за областью операционной раны</a:t>
          </a:r>
          <a:endParaRPr lang="ru-RU" dirty="0"/>
        </a:p>
      </dgm:t>
    </dgm:pt>
    <dgm:pt modelId="{32BAACAC-367C-4536-B1FB-AD0CA6149A18}" type="parTrans" cxnId="{AD2EC7D6-0A4C-4253-B6C5-8E2B9C9046AE}">
      <dgm:prSet/>
      <dgm:spPr/>
      <dgm:t>
        <a:bodyPr/>
        <a:lstStyle/>
        <a:p>
          <a:endParaRPr lang="ru-RU"/>
        </a:p>
      </dgm:t>
    </dgm:pt>
    <dgm:pt modelId="{228A872C-298E-44A2-903B-63966576EEDD}" type="sibTrans" cxnId="{AD2EC7D6-0A4C-4253-B6C5-8E2B9C9046AE}">
      <dgm:prSet/>
      <dgm:spPr/>
      <dgm:t>
        <a:bodyPr/>
        <a:lstStyle/>
        <a:p>
          <a:endParaRPr lang="ru-RU"/>
        </a:p>
      </dgm:t>
    </dgm:pt>
    <dgm:pt modelId="{596A0BAA-6272-480D-B687-A69BC76F6B8C}">
      <dgm:prSet custT="1"/>
      <dgm:spPr/>
      <dgm:t>
        <a:bodyPr anchor="ctr"/>
        <a:lstStyle/>
        <a:p>
          <a:r>
            <a:rPr lang="ru-RU" sz="1000" b="1"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9B1E874-0340-4D75-A142-2AB18DE87118}">
      <dgm:prSet custT="1"/>
      <dgm:spPr/>
      <dgm:t>
        <a:bodyPr anchor="ctr"/>
        <a:lstStyle/>
        <a:p>
          <a:r>
            <a:rPr lang="ru-RU" sz="1000" b="1" dirty="0" smtClean="0"/>
            <a:t>  Обращаем внимание на ритмичность и частоту дыхательных движений, большое значение имеет также глубина дыхания.</a:t>
          </a:r>
          <a:endParaRPr lang="ru-RU" sz="1000" b="1" dirty="0"/>
        </a:p>
      </dgm:t>
    </dgm:pt>
    <dgm:pt modelId="{4E54E756-7DB3-4AAB-B7BD-F479E7F83F28}" type="parTrans" cxnId="{6BE48EF9-52F4-4CC7-ADC0-F7874F6B2DC5}">
      <dgm:prSet/>
      <dgm:spPr/>
      <dgm:t>
        <a:bodyPr/>
        <a:lstStyle/>
        <a:p>
          <a:endParaRPr lang="ru-RU"/>
        </a:p>
      </dgm:t>
    </dgm:pt>
    <dgm:pt modelId="{8D57C22A-D28F-4A0A-89F9-A18DCAED1DBB}" type="sibTrans" cxnId="{6BE48EF9-52F4-4CC7-ADC0-F7874F6B2DC5}">
      <dgm:prSet/>
      <dgm:spPr/>
      <dgm:t>
        <a:bodyPr/>
        <a:lstStyle/>
        <a:p>
          <a:endParaRPr lang="ru-RU"/>
        </a:p>
      </dgm:t>
    </dgm:pt>
    <dgm:pt modelId="{45CDD4D7-FCF4-443D-90F1-256783B88CA5}">
      <dgm:prSet custT="1"/>
      <dgm:spPr/>
      <dgm:t>
        <a:bodyPr anchor="ctr"/>
        <a:lstStyle/>
        <a:p>
          <a:r>
            <a:rPr lang="ru-RU" sz="1000" b="1" dirty="0" smtClean="0"/>
            <a:t>  Позволяет также оценить состояние больного, выявить некоторые начинающиеся осложнения. </a:t>
          </a:r>
          <a:endParaRPr lang="ru-RU" sz="1000" b="1" dirty="0"/>
        </a:p>
      </dgm:t>
    </dgm:pt>
    <dgm:pt modelId="{C3C3429C-B962-4282-9438-896342165892}" type="parTrans" cxnId="{5CEEF5A8-A467-4345-BD69-631FA711E656}">
      <dgm:prSet/>
      <dgm:spPr/>
      <dgm:t>
        <a:bodyPr/>
        <a:lstStyle/>
        <a:p>
          <a:endParaRPr lang="ru-RU"/>
        </a:p>
      </dgm:t>
    </dgm:pt>
    <dgm:pt modelId="{83C181EE-0F60-4AE7-984A-2A657360F171}" type="sibTrans" cxnId="{5CEEF5A8-A467-4345-BD69-631FA711E656}">
      <dgm:prSet/>
      <dgm:spPr/>
      <dgm:t>
        <a:bodyPr/>
        <a:lstStyle/>
        <a:p>
          <a:endParaRPr lang="ru-RU"/>
        </a:p>
      </dgm:t>
    </dgm:pt>
    <dgm:pt modelId="{58140B7C-E686-4ADC-9927-EFB35525CCB5}">
      <dgm:prSet custT="1"/>
      <dgm:spPr/>
      <dgm:t>
        <a:bodyPr anchor="ctr"/>
        <a:lstStyle/>
        <a:p>
          <a:r>
            <a:rPr lang="ru-RU" sz="1000" b="1"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dirty="0"/>
        </a:p>
      </dgm:t>
    </dgm:pt>
    <dgm:pt modelId="{CC505179-F36A-4900-83CB-DC2C909B3027}" type="parTrans" cxnId="{DD654570-DBB6-4032-8EB2-6B91D4708047}">
      <dgm:prSet/>
      <dgm:spPr/>
      <dgm:t>
        <a:bodyPr/>
        <a:lstStyle/>
        <a:p>
          <a:endParaRPr lang="ru-RU"/>
        </a:p>
      </dgm:t>
    </dgm:pt>
    <dgm:pt modelId="{C067669F-731F-4F42-90CC-52C52A3D84DA}" type="sibTrans" cxnId="{DD654570-DBB6-4032-8EB2-6B91D4708047}">
      <dgm:prSet/>
      <dgm:spPr/>
      <dgm:t>
        <a:bodyPr/>
        <a:lstStyle/>
        <a:p>
          <a:endParaRPr lang="ru-RU"/>
        </a:p>
      </dgm:t>
    </dgm:pt>
    <dgm:pt modelId="{5C1028C7-366E-47B9-A896-797292D3D1CB}">
      <dgm:prSet custT="1"/>
      <dgm:spPr/>
      <dgm:t>
        <a:bodyPr anchor="ctr"/>
        <a:lstStyle/>
        <a:p>
          <a:r>
            <a:rPr lang="ru-RU" sz="1000" b="1"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dirty="0"/>
        </a:p>
      </dgm:t>
    </dgm:pt>
    <dgm:pt modelId="{9C2A51CA-6977-4AC7-AE80-BE5B58A91F7A}" type="parTrans" cxnId="{E6E4FAC2-6062-4181-8B95-FF9BF9A7D322}">
      <dgm:prSet/>
      <dgm:spPr/>
      <dgm:t>
        <a:bodyPr/>
        <a:lstStyle/>
        <a:p>
          <a:endParaRPr lang="ru-RU"/>
        </a:p>
      </dgm:t>
    </dgm:pt>
    <dgm:pt modelId="{1BBD77C9-79EF-4AD2-AC62-0C4CF4FCECE9}" type="sibTrans" cxnId="{E6E4FAC2-6062-4181-8B95-FF9BF9A7D322}">
      <dgm:prSet/>
      <dgm:spPr/>
      <dgm:t>
        <a:bodyPr/>
        <a:lstStyle/>
        <a:p>
          <a:endParaRPr lang="ru-RU"/>
        </a:p>
      </dgm:t>
    </dgm:pt>
    <dgm:pt modelId="{68C8F360-E83D-4124-A824-FF57680A0D9C}">
      <dgm:prSet/>
      <dgm:spPr/>
      <dgm:t>
        <a:bodyPr anchor="ctr"/>
        <a:lstStyle/>
        <a:p>
          <a:r>
            <a:rPr lang="ru-RU" b="1"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b="1" dirty="0"/>
        </a:p>
      </dgm:t>
    </dgm:pt>
    <dgm:pt modelId="{EC04FD93-FDA8-4680-B33E-DB237458499C}" type="parTrans" cxnId="{700F5653-A78B-4FF7-9966-80FA98CEA9E3}">
      <dgm:prSet/>
      <dgm:spPr/>
      <dgm:t>
        <a:bodyPr/>
        <a:lstStyle/>
        <a:p>
          <a:endParaRPr lang="ru-RU"/>
        </a:p>
      </dgm:t>
    </dgm:pt>
    <dgm:pt modelId="{8323FFD2-174E-47AE-96BE-7ECEE238B1CF}" type="sibTrans" cxnId="{700F5653-A78B-4FF7-9966-80FA98CEA9E3}">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7">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7"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7">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7">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7">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7">
        <dgm:presLayoutVars>
          <dgm:bulletEnabled val="1"/>
        </dgm:presLayoutVars>
      </dgm:prSet>
      <dgm:spPr/>
      <dgm:t>
        <a:bodyPr/>
        <a:lstStyle/>
        <a:p>
          <a:endParaRPr lang="ru-RU"/>
        </a:p>
      </dgm:t>
    </dgm:pt>
    <dgm:pt modelId="{F500B05C-6E16-40CB-A727-CCD4B9AAA819}" type="pres">
      <dgm:prSet presAssocID="{1CC264A0-DF2A-4CDE-9AB7-EE15F771B496}" presName="spacing" presStyleCnt="0"/>
      <dgm:spPr/>
    </dgm:pt>
    <dgm:pt modelId="{836116B4-3DE9-48E7-9D5F-D95EEC855DD5}" type="pres">
      <dgm:prSet presAssocID="{5043DD60-5DB3-42E6-8982-19A30DF7CCF5}" presName="linNode" presStyleCnt="0"/>
      <dgm:spPr/>
    </dgm:pt>
    <dgm:pt modelId="{D5386A74-128E-46E3-B514-0A71D32F0AFD}" type="pres">
      <dgm:prSet presAssocID="{5043DD60-5DB3-42E6-8982-19A30DF7CCF5}" presName="parentShp" presStyleLbl="node1" presStyleIdx="3" presStyleCnt="7">
        <dgm:presLayoutVars>
          <dgm:bulletEnabled val="1"/>
        </dgm:presLayoutVars>
      </dgm:prSet>
      <dgm:spPr/>
      <dgm:t>
        <a:bodyPr/>
        <a:lstStyle/>
        <a:p>
          <a:endParaRPr lang="ru-RU"/>
        </a:p>
      </dgm:t>
    </dgm:pt>
    <dgm:pt modelId="{70585421-3264-4AF5-8BC8-817012D9BEFB}" type="pres">
      <dgm:prSet presAssocID="{5043DD60-5DB3-42E6-8982-19A30DF7CCF5}" presName="childShp" presStyleLbl="bgAccFollowNode1" presStyleIdx="3" presStyleCnt="7">
        <dgm:presLayoutVars>
          <dgm:bulletEnabled val="1"/>
        </dgm:presLayoutVars>
      </dgm:prSet>
      <dgm:spPr/>
      <dgm:t>
        <a:bodyPr/>
        <a:lstStyle/>
        <a:p>
          <a:endParaRPr lang="ru-RU"/>
        </a:p>
      </dgm:t>
    </dgm:pt>
    <dgm:pt modelId="{4E4E5027-BDDE-4C65-8946-BFCE676BBC1B}" type="pres">
      <dgm:prSet presAssocID="{6C1C1E96-C2DA-4349-96FA-8807CD194777}" presName="spacing" presStyleCnt="0"/>
      <dgm:spPr/>
    </dgm:pt>
    <dgm:pt modelId="{9B774231-EAE6-4772-8F34-381E574A7F5B}" type="pres">
      <dgm:prSet presAssocID="{8179F452-0F0C-4B2B-82A0-945BF7C0EA18}" presName="linNode" presStyleCnt="0"/>
      <dgm:spPr/>
    </dgm:pt>
    <dgm:pt modelId="{44C8A081-9BC2-482E-BFED-4D15831C6DF1}" type="pres">
      <dgm:prSet presAssocID="{8179F452-0F0C-4B2B-82A0-945BF7C0EA18}" presName="parentShp" presStyleLbl="node1" presStyleIdx="4" presStyleCnt="7">
        <dgm:presLayoutVars>
          <dgm:bulletEnabled val="1"/>
        </dgm:presLayoutVars>
      </dgm:prSet>
      <dgm:spPr/>
      <dgm:t>
        <a:bodyPr/>
        <a:lstStyle/>
        <a:p>
          <a:endParaRPr lang="ru-RU"/>
        </a:p>
      </dgm:t>
    </dgm:pt>
    <dgm:pt modelId="{6455B7C6-DD24-4EE8-8B97-9E8F99E820E0}" type="pres">
      <dgm:prSet presAssocID="{8179F452-0F0C-4B2B-82A0-945BF7C0EA18}" presName="childShp" presStyleLbl="bgAccFollowNode1" presStyleIdx="4" presStyleCnt="7">
        <dgm:presLayoutVars>
          <dgm:bulletEnabled val="1"/>
        </dgm:presLayoutVars>
      </dgm:prSet>
      <dgm:spPr/>
      <dgm:t>
        <a:bodyPr/>
        <a:lstStyle/>
        <a:p>
          <a:endParaRPr lang="ru-RU"/>
        </a:p>
      </dgm:t>
    </dgm:pt>
    <dgm:pt modelId="{7F5B9C64-5292-4A49-B0DC-888C294A7144}" type="pres">
      <dgm:prSet presAssocID="{8D058335-AF1E-473A-B7EB-8EDEB9C73755}" presName="spacing" presStyleCnt="0"/>
      <dgm:spPr/>
    </dgm:pt>
    <dgm:pt modelId="{3ABF24CA-CECD-4632-AB50-B5895B62F796}" type="pres">
      <dgm:prSet presAssocID="{B162BC98-EFAE-4AC5-B2A9-77940DB2BD48}" presName="linNode" presStyleCnt="0"/>
      <dgm:spPr/>
    </dgm:pt>
    <dgm:pt modelId="{C6689A3A-F757-4218-AA55-AA06494D17D5}" type="pres">
      <dgm:prSet presAssocID="{B162BC98-EFAE-4AC5-B2A9-77940DB2BD48}" presName="parentShp" presStyleLbl="node1" presStyleIdx="5" presStyleCnt="7">
        <dgm:presLayoutVars>
          <dgm:bulletEnabled val="1"/>
        </dgm:presLayoutVars>
      </dgm:prSet>
      <dgm:spPr/>
      <dgm:t>
        <a:bodyPr/>
        <a:lstStyle/>
        <a:p>
          <a:endParaRPr lang="ru-RU"/>
        </a:p>
      </dgm:t>
    </dgm:pt>
    <dgm:pt modelId="{FB79170D-415E-421C-B13C-4984A395E372}" type="pres">
      <dgm:prSet presAssocID="{B162BC98-EFAE-4AC5-B2A9-77940DB2BD48}" presName="childShp" presStyleLbl="bgAccFollowNode1" presStyleIdx="5" presStyleCnt="7">
        <dgm:presLayoutVars>
          <dgm:bulletEnabled val="1"/>
        </dgm:presLayoutVars>
      </dgm:prSet>
      <dgm:spPr/>
      <dgm:t>
        <a:bodyPr/>
        <a:lstStyle/>
        <a:p>
          <a:endParaRPr lang="ru-RU"/>
        </a:p>
      </dgm:t>
    </dgm:pt>
    <dgm:pt modelId="{D340D55F-AA9D-4562-B169-917DD56516CB}" type="pres">
      <dgm:prSet presAssocID="{14B7CD8D-8660-4F18-83B3-CB8996527E61}" presName="spacing" presStyleCnt="0"/>
      <dgm:spPr/>
    </dgm:pt>
    <dgm:pt modelId="{2AC89D59-9FBA-41FB-97BB-1B8CC8A735E2}" type="pres">
      <dgm:prSet presAssocID="{278BC881-5838-478F-AAC2-E6A59C75F34A}" presName="linNode" presStyleCnt="0"/>
      <dgm:spPr/>
    </dgm:pt>
    <dgm:pt modelId="{95E8E9CA-AFD0-42FA-AB30-8B867286D362}" type="pres">
      <dgm:prSet presAssocID="{278BC881-5838-478F-AAC2-E6A59C75F34A}" presName="parentShp" presStyleLbl="node1" presStyleIdx="6" presStyleCnt="7">
        <dgm:presLayoutVars>
          <dgm:bulletEnabled val="1"/>
        </dgm:presLayoutVars>
      </dgm:prSet>
      <dgm:spPr/>
      <dgm:t>
        <a:bodyPr/>
        <a:lstStyle/>
        <a:p>
          <a:endParaRPr lang="ru-RU"/>
        </a:p>
      </dgm:t>
    </dgm:pt>
    <dgm:pt modelId="{A77A2579-8F54-4EFE-B3B0-8895F0911A28}" type="pres">
      <dgm:prSet presAssocID="{278BC881-5838-478F-AAC2-E6A59C75F34A}" presName="childShp" presStyleLbl="bgAccFollowNode1" presStyleIdx="6" presStyleCnt="7">
        <dgm:presLayoutVars>
          <dgm:bulletEnabled val="1"/>
        </dgm:presLayoutVars>
      </dgm:prSet>
      <dgm:spPr/>
      <dgm:t>
        <a:bodyPr/>
        <a:lstStyle/>
        <a:p>
          <a:endParaRPr lang="ru-RU"/>
        </a:p>
      </dgm:t>
    </dgm:pt>
  </dgm:ptLst>
  <dgm:cxnLst>
    <dgm:cxn modelId="{B5C90FFF-3263-4660-AB7E-AA41B39F449A}" type="presOf" srcId="{596A0BAA-6272-480D-B687-A69BC76F6B8C}" destId="{4926BEF8-4E25-4B62-BE13-8A88E5F12E81}" srcOrd="0" destOrd="0" presId="urn:microsoft.com/office/officeart/2005/8/layout/vList6"/>
    <dgm:cxn modelId="{68AF7B5A-9B82-45E2-887D-78D1EC6BC3C5}" type="presOf" srcId="{3E1D43C4-E974-430E-B4D8-255723DA5F5A}" destId="{788BE93E-7CE5-4B34-B1D6-DF765871C4BD}" srcOrd="0" destOrd="0" presId="urn:microsoft.com/office/officeart/2005/8/layout/vList6"/>
    <dgm:cxn modelId="{9D78EBF7-B478-4CD0-BED5-19345089C7F8}" type="presOf" srcId="{58140B7C-E686-4ADC-9927-EFB35525CCB5}" destId="{6455B7C6-DD24-4EE8-8B97-9E8F99E820E0}" srcOrd="0" destOrd="0" presId="urn:microsoft.com/office/officeart/2005/8/layout/vList6"/>
    <dgm:cxn modelId="{2FEE9022-F801-479E-BD87-15AAD2CD20A4}" srcId="{7FF7F24F-641B-491F-900A-9E7A434FA15D}" destId="{596A0BAA-6272-480D-B687-A69BC76F6B8C}" srcOrd="0" destOrd="0" parTransId="{A5C62F92-9A81-4F25-8348-00AEE7FB5F59}" sibTransId="{C3D81EA0-7A67-4804-9E27-7591CFF51022}"/>
    <dgm:cxn modelId="{DD654570-DBB6-4032-8EB2-6B91D4708047}" srcId="{8179F452-0F0C-4B2B-82A0-945BF7C0EA18}" destId="{58140B7C-E686-4ADC-9927-EFB35525CCB5}" srcOrd="0" destOrd="0" parTransId="{CC505179-F36A-4900-83CB-DC2C909B3027}" sibTransId="{C067669F-731F-4F42-90CC-52C52A3D84DA}"/>
    <dgm:cxn modelId="{B6BC4080-63CF-419B-8446-D72B777E13F9}" type="presOf" srcId="{68C8F360-E83D-4124-A824-FF57680A0D9C}" destId="{A77A2579-8F54-4EFE-B3B0-8895F0911A28}"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C0BAD75B-ECB9-44F6-8133-8FA1D34F9685}" type="presOf" srcId="{803DADFC-FF22-4A60-A20C-B02958E648F9}" destId="{9ACA42E0-9C6B-4D87-8CDA-86CECF62A32D}" srcOrd="0" destOrd="0" presId="urn:microsoft.com/office/officeart/2005/8/layout/vList6"/>
    <dgm:cxn modelId="{C2DB1462-C658-44A0-9529-A74506391902}" type="presOf" srcId="{8179F452-0F0C-4B2B-82A0-945BF7C0EA18}" destId="{44C8A081-9BC2-482E-BFED-4D15831C6DF1}" srcOrd="0" destOrd="0" presId="urn:microsoft.com/office/officeart/2005/8/layout/vList6"/>
    <dgm:cxn modelId="{CFEC0176-F4D6-4D8C-8D91-B4A7E78D159B}" type="presOf" srcId="{B162BC98-EFAE-4AC5-B2A9-77940DB2BD48}" destId="{C6689A3A-F757-4218-AA55-AA06494D17D5}" srcOrd="0" destOrd="0" presId="urn:microsoft.com/office/officeart/2005/8/layout/vList6"/>
    <dgm:cxn modelId="{3B3E8EFD-6CC8-4B65-B785-783F359F064A}" type="presOf" srcId="{7FF7F24F-641B-491F-900A-9E7A434FA15D}" destId="{E310E5E9-9005-4728-A4F4-65A3F1262937}" srcOrd="0" destOrd="0" presId="urn:microsoft.com/office/officeart/2005/8/layout/vList6"/>
    <dgm:cxn modelId="{700F5653-A78B-4FF7-9966-80FA98CEA9E3}" srcId="{278BC881-5838-478F-AAC2-E6A59C75F34A}" destId="{68C8F360-E83D-4124-A824-FF57680A0D9C}" srcOrd="0" destOrd="0" parTransId="{EC04FD93-FDA8-4680-B33E-DB237458499C}" sibTransId="{8323FFD2-174E-47AE-96BE-7ECEE238B1CF}"/>
    <dgm:cxn modelId="{73C2F541-A834-4BA8-8BAC-D29BB8D93DCC}" type="presOf" srcId="{59ABA316-80AB-444C-BB76-5F7E36CD0259}" destId="{CF09141D-8043-4593-AD38-7503B850EC7B}" srcOrd="0" destOrd="0" presId="urn:microsoft.com/office/officeart/2005/8/layout/vList6"/>
    <dgm:cxn modelId="{B636DD75-90A0-4933-B95D-803E7FEA11EC}" type="presOf" srcId="{45CDD4D7-FCF4-443D-90F1-256783B88CA5}" destId="{70585421-3264-4AF5-8BC8-817012D9BEFB}" srcOrd="0" destOrd="0" presId="urn:microsoft.com/office/officeart/2005/8/layout/vList6"/>
    <dgm:cxn modelId="{C78F8822-7D57-4287-B6F6-113B6A642153}" srcId="{59ABA316-80AB-444C-BB76-5F7E36CD0259}" destId="{5043DD60-5DB3-42E6-8982-19A30DF7CCF5}" srcOrd="3" destOrd="0" parTransId="{1E2FD59A-F5A2-4F8D-8B96-6DD5B5065317}" sibTransId="{6C1C1E96-C2DA-4349-96FA-8807CD194777}"/>
    <dgm:cxn modelId="{51BC63F1-154F-4DE5-94A0-7C708BFE7FD0}" type="presOf" srcId="{5C1028C7-366E-47B9-A896-797292D3D1CB}" destId="{FB79170D-415E-421C-B13C-4984A395E372}" srcOrd="0" destOrd="0" presId="urn:microsoft.com/office/officeart/2005/8/layout/vList6"/>
    <dgm:cxn modelId="{6BE48EF9-52F4-4CC7-ADC0-F7874F6B2DC5}" srcId="{831344FF-A87E-494B-9AF1-BB824E918119}" destId="{69B1E874-0340-4D75-A142-2AB18DE87118}" srcOrd="0" destOrd="0" parTransId="{4E54E756-7DB3-4AAB-B7BD-F479E7F83F28}" sibTransId="{8D57C22A-D28F-4A0A-89F9-A18DCAED1DBB}"/>
    <dgm:cxn modelId="{D3534B15-92BB-4A00-90F8-02BE9FFA6C5E}" type="presOf" srcId="{69B1E874-0340-4D75-A142-2AB18DE87118}" destId="{D0B9CB71-A85C-49FE-BCE1-36F5AF06FF30}" srcOrd="0" destOrd="0" presId="urn:microsoft.com/office/officeart/2005/8/layout/vList6"/>
    <dgm:cxn modelId="{CB8648B2-6A69-44D6-B953-233B04838B1E}" type="presOf" srcId="{278BC881-5838-478F-AAC2-E6A59C75F34A}" destId="{95E8E9CA-AFD0-42FA-AB30-8B867286D362}" srcOrd="0" destOrd="0" presId="urn:microsoft.com/office/officeart/2005/8/layout/vList6"/>
    <dgm:cxn modelId="{E6E4FAC2-6062-4181-8B95-FF9BF9A7D322}" srcId="{B162BC98-EFAE-4AC5-B2A9-77940DB2BD48}" destId="{5C1028C7-366E-47B9-A896-797292D3D1CB}" srcOrd="0" destOrd="0" parTransId="{9C2A51CA-6977-4AC7-AE80-BE5B58A91F7A}" sibTransId="{1BBD77C9-79EF-4AD2-AC62-0C4CF4FCECE9}"/>
    <dgm:cxn modelId="{0F89D268-CEEB-49A8-BC45-0A36FE23E00A}" type="presOf" srcId="{831344FF-A87E-494B-9AF1-BB824E918119}" destId="{171C1C26-68D8-4F8F-A949-5A62B1F9B304}" srcOrd="0" destOrd="0" presId="urn:microsoft.com/office/officeart/2005/8/layout/vList6"/>
    <dgm:cxn modelId="{59FD4EDC-EF4F-48A3-B8DF-9D9FD156D298}" srcId="{59ABA316-80AB-444C-BB76-5F7E36CD0259}" destId="{B162BC98-EFAE-4AC5-B2A9-77940DB2BD48}" srcOrd="5" destOrd="0" parTransId="{89666211-386E-4106-A21C-1D65BB1160C3}" sibTransId="{14B7CD8D-8660-4F18-83B3-CB8996527E61}"/>
    <dgm:cxn modelId="{FF379D4A-15AA-4445-B7F1-5E8A28BE1E0B}" srcId="{59ABA316-80AB-444C-BB76-5F7E36CD0259}" destId="{803DADFC-FF22-4A60-A20C-B02958E648F9}" srcOrd="1" destOrd="0" parTransId="{6418B23E-81A8-49B4-A99C-00DAD5C28405}" sibTransId="{CEC5B969-A6CD-4AF4-9334-07BBCBBB7B17}"/>
    <dgm:cxn modelId="{FF4A296C-21E3-4585-9DE3-92AE9995B7D2}" srcId="{59ABA316-80AB-444C-BB76-5F7E36CD0259}" destId="{831344FF-A87E-494B-9AF1-BB824E918119}" srcOrd="2" destOrd="0" parTransId="{373E1FCE-C60E-449A-8EF4-F1E0858B09FB}" sibTransId="{1CC264A0-DF2A-4CDE-9AB7-EE15F771B496}"/>
    <dgm:cxn modelId="{AD2EC7D6-0A4C-4253-B6C5-8E2B9C9046AE}" srcId="{59ABA316-80AB-444C-BB76-5F7E36CD0259}" destId="{278BC881-5838-478F-AAC2-E6A59C75F34A}" srcOrd="6" destOrd="0" parTransId="{32BAACAC-367C-4536-B1FB-AD0CA6149A18}" sibTransId="{228A872C-298E-44A2-903B-63966576EEDD}"/>
    <dgm:cxn modelId="{B2FEC51A-05C4-4AA7-A59B-386BBDB99ECC}" srcId="{59ABA316-80AB-444C-BB76-5F7E36CD0259}" destId="{8179F452-0F0C-4B2B-82A0-945BF7C0EA18}" srcOrd="4" destOrd="0" parTransId="{2378B2E0-4370-4CA1-A1F2-433F7F1B47A7}" sibTransId="{8D058335-AF1E-473A-B7EB-8EDEB9C73755}"/>
    <dgm:cxn modelId="{69D13B27-83B7-488F-8C96-721220A9E4E0}" type="presOf" srcId="{5043DD60-5DB3-42E6-8982-19A30DF7CCF5}" destId="{D5386A74-128E-46E3-B514-0A71D32F0AFD}"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5CEEF5A8-A467-4345-BD69-631FA711E656}" srcId="{5043DD60-5DB3-42E6-8982-19A30DF7CCF5}" destId="{45CDD4D7-FCF4-443D-90F1-256783B88CA5}" srcOrd="0" destOrd="0" parTransId="{C3C3429C-B962-4282-9438-896342165892}" sibTransId="{83C181EE-0F60-4AE7-984A-2A657360F171}"/>
    <dgm:cxn modelId="{12CA288C-34CD-4B7A-8FB9-714B6041112D}" type="presParOf" srcId="{CF09141D-8043-4593-AD38-7503B850EC7B}" destId="{DF015214-E2D4-4E21-9900-16B1D95F906A}" srcOrd="0" destOrd="0" presId="urn:microsoft.com/office/officeart/2005/8/layout/vList6"/>
    <dgm:cxn modelId="{1497B4D4-08A6-45CD-A845-ECE8886A1E05}" type="presParOf" srcId="{DF015214-E2D4-4E21-9900-16B1D95F906A}" destId="{E310E5E9-9005-4728-A4F4-65A3F1262937}" srcOrd="0" destOrd="0" presId="urn:microsoft.com/office/officeart/2005/8/layout/vList6"/>
    <dgm:cxn modelId="{38205079-F937-4BC0-9D73-F5AAA0042FAD}" type="presParOf" srcId="{DF015214-E2D4-4E21-9900-16B1D95F906A}" destId="{4926BEF8-4E25-4B62-BE13-8A88E5F12E81}" srcOrd="1" destOrd="0" presId="urn:microsoft.com/office/officeart/2005/8/layout/vList6"/>
    <dgm:cxn modelId="{C0AAAC6E-DA49-4896-A019-6AD2421EC0A0}" type="presParOf" srcId="{CF09141D-8043-4593-AD38-7503B850EC7B}" destId="{FC7708E1-75EB-4D1F-A5F8-478A5F5C98DC}" srcOrd="1" destOrd="0" presId="urn:microsoft.com/office/officeart/2005/8/layout/vList6"/>
    <dgm:cxn modelId="{7E1D729A-0B64-4954-8A93-0EE1E31EBD8C}" type="presParOf" srcId="{CF09141D-8043-4593-AD38-7503B850EC7B}" destId="{23DCAB3C-F388-43EC-8E8A-02526C90B086}" srcOrd="2" destOrd="0" presId="urn:microsoft.com/office/officeart/2005/8/layout/vList6"/>
    <dgm:cxn modelId="{41661598-F170-4AD4-9A31-0E831649B8C0}" type="presParOf" srcId="{23DCAB3C-F388-43EC-8E8A-02526C90B086}" destId="{9ACA42E0-9C6B-4D87-8CDA-86CECF62A32D}" srcOrd="0" destOrd="0" presId="urn:microsoft.com/office/officeart/2005/8/layout/vList6"/>
    <dgm:cxn modelId="{5BB7AC0A-679A-404A-99CB-4346251809C0}" type="presParOf" srcId="{23DCAB3C-F388-43EC-8E8A-02526C90B086}" destId="{788BE93E-7CE5-4B34-B1D6-DF765871C4BD}" srcOrd="1" destOrd="0" presId="urn:microsoft.com/office/officeart/2005/8/layout/vList6"/>
    <dgm:cxn modelId="{1368BE09-923C-4418-8E4D-0B23217D4FB3}" type="presParOf" srcId="{CF09141D-8043-4593-AD38-7503B850EC7B}" destId="{D59708E2-5645-4741-8DDD-40A55AAF7B6F}" srcOrd="3" destOrd="0" presId="urn:microsoft.com/office/officeart/2005/8/layout/vList6"/>
    <dgm:cxn modelId="{3E0E9658-00D5-40DC-AF38-E3CE02295025}" type="presParOf" srcId="{CF09141D-8043-4593-AD38-7503B850EC7B}" destId="{B4E5B32A-6DD8-4519-8F98-EA691E89A8D1}" srcOrd="4" destOrd="0" presId="urn:microsoft.com/office/officeart/2005/8/layout/vList6"/>
    <dgm:cxn modelId="{6BF3DFBA-1493-4EA1-BBFF-4A61791FB2E4}" type="presParOf" srcId="{B4E5B32A-6DD8-4519-8F98-EA691E89A8D1}" destId="{171C1C26-68D8-4F8F-A949-5A62B1F9B304}" srcOrd="0" destOrd="0" presId="urn:microsoft.com/office/officeart/2005/8/layout/vList6"/>
    <dgm:cxn modelId="{6B99A92E-8DAA-452B-A445-0B27B1F0E9D0}" type="presParOf" srcId="{B4E5B32A-6DD8-4519-8F98-EA691E89A8D1}" destId="{D0B9CB71-A85C-49FE-BCE1-36F5AF06FF30}" srcOrd="1" destOrd="0" presId="urn:microsoft.com/office/officeart/2005/8/layout/vList6"/>
    <dgm:cxn modelId="{67285F4E-6C5E-4919-85F5-FDFCEB742B2C}" type="presParOf" srcId="{CF09141D-8043-4593-AD38-7503B850EC7B}" destId="{F500B05C-6E16-40CB-A727-CCD4B9AAA819}" srcOrd="5" destOrd="0" presId="urn:microsoft.com/office/officeart/2005/8/layout/vList6"/>
    <dgm:cxn modelId="{CB5EE32A-3EEE-471A-B69B-CFECC5FBAADD}" type="presParOf" srcId="{CF09141D-8043-4593-AD38-7503B850EC7B}" destId="{836116B4-3DE9-48E7-9D5F-D95EEC855DD5}" srcOrd="6" destOrd="0" presId="urn:microsoft.com/office/officeart/2005/8/layout/vList6"/>
    <dgm:cxn modelId="{A5E764DF-7154-49EA-B6A7-A8361657D70D}" type="presParOf" srcId="{836116B4-3DE9-48E7-9D5F-D95EEC855DD5}" destId="{D5386A74-128E-46E3-B514-0A71D32F0AFD}" srcOrd="0" destOrd="0" presId="urn:microsoft.com/office/officeart/2005/8/layout/vList6"/>
    <dgm:cxn modelId="{8B918FBD-BB0C-4620-9AC3-4CF2E5134E57}" type="presParOf" srcId="{836116B4-3DE9-48E7-9D5F-D95EEC855DD5}" destId="{70585421-3264-4AF5-8BC8-817012D9BEFB}" srcOrd="1" destOrd="0" presId="urn:microsoft.com/office/officeart/2005/8/layout/vList6"/>
    <dgm:cxn modelId="{95D36D54-69DF-45D4-8B4B-0DEA45081879}" type="presParOf" srcId="{CF09141D-8043-4593-AD38-7503B850EC7B}" destId="{4E4E5027-BDDE-4C65-8946-BFCE676BBC1B}" srcOrd="7" destOrd="0" presId="urn:microsoft.com/office/officeart/2005/8/layout/vList6"/>
    <dgm:cxn modelId="{5A58EA46-42D2-4054-BD43-6DE2BC067A51}" type="presParOf" srcId="{CF09141D-8043-4593-AD38-7503B850EC7B}" destId="{9B774231-EAE6-4772-8F34-381E574A7F5B}" srcOrd="8" destOrd="0" presId="urn:microsoft.com/office/officeart/2005/8/layout/vList6"/>
    <dgm:cxn modelId="{B4183199-3D60-4AA5-8F90-AEA127468199}" type="presParOf" srcId="{9B774231-EAE6-4772-8F34-381E574A7F5B}" destId="{44C8A081-9BC2-482E-BFED-4D15831C6DF1}" srcOrd="0" destOrd="0" presId="urn:microsoft.com/office/officeart/2005/8/layout/vList6"/>
    <dgm:cxn modelId="{918E4610-9792-4D92-BAE8-BFBE7F68D7FA}" type="presParOf" srcId="{9B774231-EAE6-4772-8F34-381E574A7F5B}" destId="{6455B7C6-DD24-4EE8-8B97-9E8F99E820E0}" srcOrd="1" destOrd="0" presId="urn:microsoft.com/office/officeart/2005/8/layout/vList6"/>
    <dgm:cxn modelId="{564CA3D1-F89A-4FA6-869D-F4D0681FCE10}" type="presParOf" srcId="{CF09141D-8043-4593-AD38-7503B850EC7B}" destId="{7F5B9C64-5292-4A49-B0DC-888C294A7144}" srcOrd="9" destOrd="0" presId="urn:microsoft.com/office/officeart/2005/8/layout/vList6"/>
    <dgm:cxn modelId="{E8B8AB9E-EFED-4B10-A135-2F31F25693EE}" type="presParOf" srcId="{CF09141D-8043-4593-AD38-7503B850EC7B}" destId="{3ABF24CA-CECD-4632-AB50-B5895B62F796}" srcOrd="10" destOrd="0" presId="urn:microsoft.com/office/officeart/2005/8/layout/vList6"/>
    <dgm:cxn modelId="{3262CD4B-B79C-4538-9EC9-2B69DC2A680D}" type="presParOf" srcId="{3ABF24CA-CECD-4632-AB50-B5895B62F796}" destId="{C6689A3A-F757-4218-AA55-AA06494D17D5}" srcOrd="0" destOrd="0" presId="urn:microsoft.com/office/officeart/2005/8/layout/vList6"/>
    <dgm:cxn modelId="{AEF5EF8D-74E7-4237-901F-548869AC7D7B}" type="presParOf" srcId="{3ABF24CA-CECD-4632-AB50-B5895B62F796}" destId="{FB79170D-415E-421C-B13C-4984A395E372}" srcOrd="1" destOrd="0" presId="urn:microsoft.com/office/officeart/2005/8/layout/vList6"/>
    <dgm:cxn modelId="{5442769B-5B95-456A-9D70-17D193AE11C8}" type="presParOf" srcId="{CF09141D-8043-4593-AD38-7503B850EC7B}" destId="{D340D55F-AA9D-4562-B169-917DD56516CB}" srcOrd="11" destOrd="0" presId="urn:microsoft.com/office/officeart/2005/8/layout/vList6"/>
    <dgm:cxn modelId="{DF008B20-4009-4C45-8205-A2CF97D9A158}" type="presParOf" srcId="{CF09141D-8043-4593-AD38-7503B850EC7B}" destId="{2AC89D59-9FBA-41FB-97BB-1B8CC8A735E2}" srcOrd="12" destOrd="0" presId="urn:microsoft.com/office/officeart/2005/8/layout/vList6"/>
    <dgm:cxn modelId="{6FFB1DF3-1911-42DE-A4FC-1E8FA088C4C4}" type="presParOf" srcId="{2AC89D59-9FBA-41FB-97BB-1B8CC8A735E2}" destId="{95E8E9CA-AFD0-42FA-AB30-8B867286D362}" srcOrd="0" destOrd="0" presId="urn:microsoft.com/office/officeart/2005/8/layout/vList6"/>
    <dgm:cxn modelId="{B8E6B4E5-2017-4FF2-9FA1-E008C1EC0E14}" type="presParOf" srcId="{2AC89D59-9FBA-41FB-97BB-1B8CC8A735E2}" destId="{A77A2579-8F54-4EFE-B3B0-8895F0911A28}" srcOrd="1" destOrd="0" presId="urn:microsoft.com/office/officeart/2005/8/layout/vList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custT="1"/>
      <dgm:spPr/>
      <dgm:t>
        <a:bodyPr/>
        <a:lstStyle/>
        <a:p>
          <a:r>
            <a:rPr lang="ru-RU" sz="2400" dirty="0" smtClean="0"/>
            <a:t>Уход за полостью рта</a:t>
          </a:r>
          <a:endParaRPr lang="ru-RU" sz="2400"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custT="1"/>
      <dgm:spPr/>
      <dgm:t>
        <a:bodyPr/>
        <a:lstStyle/>
        <a:p>
          <a:r>
            <a:rPr lang="ru-RU" sz="2400" dirty="0" smtClean="0"/>
            <a:t>Уход за кожей</a:t>
          </a:r>
          <a:endParaRPr lang="ru-RU" sz="2400"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custT="1"/>
      <dgm:spPr/>
      <dgm:t>
        <a:bodyPr/>
        <a:lstStyle/>
        <a:p>
          <a:r>
            <a:rPr lang="ru-RU" sz="2400" dirty="0" smtClean="0"/>
            <a:t>Уход за областью промежности</a:t>
          </a:r>
          <a:endParaRPr lang="ru-RU" sz="2400"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96A0BAA-6272-480D-B687-A69BC76F6B8C}">
      <dgm:prSet custT="1"/>
      <dgm:spPr/>
      <dgm:t>
        <a:bodyPr anchor="ctr"/>
        <a:lstStyle/>
        <a:p>
          <a:r>
            <a:rPr lang="ru-RU" sz="1000" b="1"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8531758-C4C6-4D97-BC5C-261E293D2C4D}">
      <dgm:prSet custT="1"/>
      <dgm:spPr/>
      <dgm:t>
        <a:bodyPr anchor="ctr"/>
        <a:lstStyle/>
        <a:p>
          <a:r>
            <a:rPr lang="ru-RU" sz="1100" b="1" dirty="0" smtClean="0"/>
            <a:t>.</a:t>
          </a:r>
          <a:r>
            <a:rPr lang="ru-RU" sz="1000" b="1"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dirty="0" err="1" smtClean="0"/>
            <a:t>тупфера</a:t>
          </a:r>
          <a:r>
            <a:rPr lang="ru-RU" sz="1000" b="1" dirty="0" smtClean="0"/>
            <a:t> обрабатывают промежность и затем вытирают ее насух</a:t>
          </a:r>
          <a:r>
            <a:rPr lang="ru-RU" sz="1100" b="1" dirty="0" smtClean="0"/>
            <a:t>о</a:t>
          </a:r>
          <a:endParaRPr lang="ru-RU" sz="1100" b="1" dirty="0"/>
        </a:p>
      </dgm:t>
    </dgm:pt>
    <dgm:pt modelId="{8C861C8B-2F56-4788-9928-03AE658410F7}" type="parTrans" cxnId="{4D602320-9BA1-4809-8E1A-FB3917C4A6EF}">
      <dgm:prSet/>
      <dgm:spPr/>
      <dgm:t>
        <a:bodyPr/>
        <a:lstStyle/>
        <a:p>
          <a:endParaRPr lang="ru-RU"/>
        </a:p>
      </dgm:t>
    </dgm:pt>
    <dgm:pt modelId="{26297B8F-5DC1-4BDB-A221-2C344FBC5D93}" type="sibTrans" cxnId="{4D602320-9BA1-4809-8E1A-FB3917C4A6EF}">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3">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3"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3">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3">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3">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3">
        <dgm:presLayoutVars>
          <dgm:bulletEnabled val="1"/>
        </dgm:presLayoutVars>
      </dgm:prSet>
      <dgm:spPr/>
      <dgm:t>
        <a:bodyPr/>
        <a:lstStyle/>
        <a:p>
          <a:endParaRPr lang="ru-RU"/>
        </a:p>
      </dgm:t>
    </dgm:pt>
  </dgm:ptLst>
  <dgm:cxnLst>
    <dgm:cxn modelId="{D1201515-7E52-434F-850C-964683C303B4}" type="presOf" srcId="{68531758-C4C6-4D97-BC5C-261E293D2C4D}" destId="{D0B9CB71-A85C-49FE-BCE1-36F5AF06FF30}" srcOrd="0" destOrd="0" presId="urn:microsoft.com/office/officeart/2005/8/layout/vList6"/>
    <dgm:cxn modelId="{DC146874-24A3-408F-A61F-1D88EC129564}" type="presOf" srcId="{59ABA316-80AB-444C-BB76-5F7E36CD0259}" destId="{CF09141D-8043-4593-AD38-7503B850EC7B}"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8D6DEE49-F605-4CE2-AE6C-E9A32922D2B2}" type="presOf" srcId="{831344FF-A87E-494B-9AF1-BB824E918119}" destId="{171C1C26-68D8-4F8F-A949-5A62B1F9B304}" srcOrd="0" destOrd="0" presId="urn:microsoft.com/office/officeart/2005/8/layout/vList6"/>
    <dgm:cxn modelId="{138D6932-95C1-4A2A-AB08-87AA15E37F7C}" type="presOf" srcId="{7FF7F24F-641B-491F-900A-9E7A434FA15D}" destId="{E310E5E9-9005-4728-A4F4-65A3F1262937}" srcOrd="0" destOrd="0" presId="urn:microsoft.com/office/officeart/2005/8/layout/vList6"/>
    <dgm:cxn modelId="{4D602320-9BA1-4809-8E1A-FB3917C4A6EF}" srcId="{831344FF-A87E-494B-9AF1-BB824E918119}" destId="{68531758-C4C6-4D97-BC5C-261E293D2C4D}" srcOrd="0" destOrd="0" parTransId="{8C861C8B-2F56-4788-9928-03AE658410F7}" sibTransId="{26297B8F-5DC1-4BDB-A221-2C344FBC5D93}"/>
    <dgm:cxn modelId="{FF379D4A-15AA-4445-B7F1-5E8A28BE1E0B}" srcId="{59ABA316-80AB-444C-BB76-5F7E36CD0259}" destId="{803DADFC-FF22-4A60-A20C-B02958E648F9}" srcOrd="1" destOrd="0" parTransId="{6418B23E-81A8-49B4-A99C-00DAD5C28405}" sibTransId="{CEC5B969-A6CD-4AF4-9334-07BBCBBB7B17}"/>
    <dgm:cxn modelId="{2FEE9022-F801-479E-BD87-15AAD2CD20A4}" srcId="{7FF7F24F-641B-491F-900A-9E7A434FA15D}" destId="{596A0BAA-6272-480D-B687-A69BC76F6B8C}" srcOrd="0" destOrd="0" parTransId="{A5C62F92-9A81-4F25-8348-00AEE7FB5F59}" sibTransId="{C3D81EA0-7A67-4804-9E27-7591CFF51022}"/>
    <dgm:cxn modelId="{F5A49CE4-4E95-406E-A2A8-1E2E2711D890}" type="presOf" srcId="{803DADFC-FF22-4A60-A20C-B02958E648F9}" destId="{9ACA42E0-9C6B-4D87-8CDA-86CECF62A32D}"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FF4A296C-21E3-4585-9DE3-92AE9995B7D2}" srcId="{59ABA316-80AB-444C-BB76-5F7E36CD0259}" destId="{831344FF-A87E-494B-9AF1-BB824E918119}" srcOrd="2" destOrd="0" parTransId="{373E1FCE-C60E-449A-8EF4-F1E0858B09FB}" sibTransId="{1CC264A0-DF2A-4CDE-9AB7-EE15F771B496}"/>
    <dgm:cxn modelId="{9E16301F-8FF4-4B77-AE3E-171523285AE1}" type="presOf" srcId="{3E1D43C4-E974-430E-B4D8-255723DA5F5A}" destId="{788BE93E-7CE5-4B34-B1D6-DF765871C4BD}" srcOrd="0" destOrd="0" presId="urn:microsoft.com/office/officeart/2005/8/layout/vList6"/>
    <dgm:cxn modelId="{3CAB348E-8BFB-4DCF-9485-2B371C504721}" type="presOf" srcId="{596A0BAA-6272-480D-B687-A69BC76F6B8C}" destId="{4926BEF8-4E25-4B62-BE13-8A88E5F12E81}" srcOrd="0" destOrd="0" presId="urn:microsoft.com/office/officeart/2005/8/layout/vList6"/>
    <dgm:cxn modelId="{C0CB1DC1-1468-46BD-925B-78369C5535BD}" type="presParOf" srcId="{CF09141D-8043-4593-AD38-7503B850EC7B}" destId="{DF015214-E2D4-4E21-9900-16B1D95F906A}" srcOrd="0" destOrd="0" presId="urn:microsoft.com/office/officeart/2005/8/layout/vList6"/>
    <dgm:cxn modelId="{2C5FAE02-ADC9-40D3-905F-6ADF9701A56D}" type="presParOf" srcId="{DF015214-E2D4-4E21-9900-16B1D95F906A}" destId="{E310E5E9-9005-4728-A4F4-65A3F1262937}" srcOrd="0" destOrd="0" presId="urn:microsoft.com/office/officeart/2005/8/layout/vList6"/>
    <dgm:cxn modelId="{7006EB5B-965D-4D94-8F4B-F5192980D730}" type="presParOf" srcId="{DF015214-E2D4-4E21-9900-16B1D95F906A}" destId="{4926BEF8-4E25-4B62-BE13-8A88E5F12E81}" srcOrd="1" destOrd="0" presId="urn:microsoft.com/office/officeart/2005/8/layout/vList6"/>
    <dgm:cxn modelId="{8DB8C00E-2BB6-40EE-A1AD-461FF33D1A5E}" type="presParOf" srcId="{CF09141D-8043-4593-AD38-7503B850EC7B}" destId="{FC7708E1-75EB-4D1F-A5F8-478A5F5C98DC}" srcOrd="1" destOrd="0" presId="urn:microsoft.com/office/officeart/2005/8/layout/vList6"/>
    <dgm:cxn modelId="{0616019F-9331-44D6-A6D2-5C85097AB77D}" type="presParOf" srcId="{CF09141D-8043-4593-AD38-7503B850EC7B}" destId="{23DCAB3C-F388-43EC-8E8A-02526C90B086}" srcOrd="2" destOrd="0" presId="urn:microsoft.com/office/officeart/2005/8/layout/vList6"/>
    <dgm:cxn modelId="{8EF9C73A-FE88-4A8E-A38E-C731C141E2A1}" type="presParOf" srcId="{23DCAB3C-F388-43EC-8E8A-02526C90B086}" destId="{9ACA42E0-9C6B-4D87-8CDA-86CECF62A32D}" srcOrd="0" destOrd="0" presId="urn:microsoft.com/office/officeart/2005/8/layout/vList6"/>
    <dgm:cxn modelId="{A8341AB5-231C-4C5A-9742-CE5F165C9B91}" type="presParOf" srcId="{23DCAB3C-F388-43EC-8E8A-02526C90B086}" destId="{788BE93E-7CE5-4B34-B1D6-DF765871C4BD}" srcOrd="1" destOrd="0" presId="urn:microsoft.com/office/officeart/2005/8/layout/vList6"/>
    <dgm:cxn modelId="{20D07720-A139-4766-A4C6-F097136558C3}" type="presParOf" srcId="{CF09141D-8043-4593-AD38-7503B850EC7B}" destId="{D59708E2-5645-4741-8DDD-40A55AAF7B6F}" srcOrd="3" destOrd="0" presId="urn:microsoft.com/office/officeart/2005/8/layout/vList6"/>
    <dgm:cxn modelId="{D874F251-8C14-40A9-8CAE-03C7E4351AE7}" type="presParOf" srcId="{CF09141D-8043-4593-AD38-7503B850EC7B}" destId="{B4E5B32A-6DD8-4519-8F98-EA691E89A8D1}" srcOrd="4" destOrd="0" presId="urn:microsoft.com/office/officeart/2005/8/layout/vList6"/>
    <dgm:cxn modelId="{8D06DEB8-047A-4877-9AD0-3FD5E8D36ADE}" type="presParOf" srcId="{B4E5B32A-6DD8-4519-8F98-EA691E89A8D1}" destId="{171C1C26-68D8-4F8F-A949-5A62B1F9B304}" srcOrd="0" destOrd="0" presId="urn:microsoft.com/office/officeart/2005/8/layout/vList6"/>
    <dgm:cxn modelId="{C1A34758-5E51-4818-99B6-EE299B1FD7EE}" type="presParOf" srcId="{B4E5B32A-6DD8-4519-8F98-EA691E89A8D1}" destId="{D0B9CB71-A85C-49FE-BCE1-36F5AF06FF30}" srcOrd="1" destOrd="0" presId="urn:microsoft.com/office/officeart/2005/8/layout/vList6"/>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8F1EEB73-3FAD-46E0-B444-3E04CEAAA537}" type="doc">
      <dgm:prSet loTypeId="urn:microsoft.com/office/officeart/2005/8/layout/default" loCatId="list" qsTypeId="urn:microsoft.com/office/officeart/2005/8/quickstyle/simple3" qsCatId="simple" csTypeId="urn:microsoft.com/office/officeart/2005/8/colors/accent1_2" csCatId="accent1" phldr="1"/>
      <dgm:spPr/>
      <dgm:t>
        <a:bodyPr/>
        <a:lstStyle/>
        <a:p>
          <a:endParaRPr lang="ru-RU"/>
        </a:p>
      </dgm:t>
    </dgm:pt>
    <dgm:pt modelId="{95177487-FBF3-42B5-899E-C2F704E15DFB}">
      <dgm:prSet phldrT="[Текст]"/>
      <dgm:spPr/>
      <dgm:t>
        <a:bodyPr/>
        <a:lstStyle/>
        <a:p>
          <a:r>
            <a:rPr lang="ru-RU"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dirty="0"/>
        </a:p>
      </dgm:t>
    </dgm:pt>
    <dgm:pt modelId="{80C7B8D4-0F77-4CE9-8109-AE371204EB0E}" type="parTrans" cxnId="{9E9C69F8-EB1F-4AFC-A652-BC169E416692}">
      <dgm:prSet/>
      <dgm:spPr/>
      <dgm:t>
        <a:bodyPr/>
        <a:lstStyle/>
        <a:p>
          <a:endParaRPr lang="ru-RU"/>
        </a:p>
      </dgm:t>
    </dgm:pt>
    <dgm:pt modelId="{E5B8C337-E74D-4AF1-91FD-00606FEBFF0F}" type="sibTrans" cxnId="{9E9C69F8-EB1F-4AFC-A652-BC169E416692}">
      <dgm:prSet/>
      <dgm:spPr/>
      <dgm:t>
        <a:bodyPr/>
        <a:lstStyle/>
        <a:p>
          <a:endParaRPr lang="ru-RU"/>
        </a:p>
      </dgm:t>
    </dgm:pt>
    <dgm:pt modelId="{43523076-0396-4619-9FA9-C57DFFD0B5F0}">
      <dgm:prSet phldrT="[Текст]"/>
      <dgm:spPr/>
      <dgm:t>
        <a:bodyPr/>
        <a:lstStyle/>
        <a:p>
          <a:r>
            <a:rPr lang="ru-RU"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dirty="0"/>
        </a:p>
      </dgm:t>
    </dgm:pt>
    <dgm:pt modelId="{1B0C61A6-1ECE-4FF7-BA96-BC250A1EC9C9}" type="parTrans" cxnId="{726392FD-A2B8-4688-AB91-351957741E0C}">
      <dgm:prSet/>
      <dgm:spPr/>
      <dgm:t>
        <a:bodyPr/>
        <a:lstStyle/>
        <a:p>
          <a:endParaRPr lang="ru-RU"/>
        </a:p>
      </dgm:t>
    </dgm:pt>
    <dgm:pt modelId="{836ED007-EB13-4124-87AE-0DA23050E0AA}" type="sibTrans" cxnId="{726392FD-A2B8-4688-AB91-351957741E0C}">
      <dgm:prSet/>
      <dgm:spPr/>
      <dgm:t>
        <a:bodyPr/>
        <a:lstStyle/>
        <a:p>
          <a:endParaRPr lang="ru-RU"/>
        </a:p>
      </dgm:t>
    </dgm:pt>
    <dgm:pt modelId="{27B3DA3A-CBE2-4F22-91F8-469DFB2A8541}">
      <dgm:prSet phldrT="[Текст]"/>
      <dgm:spPr/>
      <dgm:t>
        <a:bodyPr/>
        <a:lstStyle/>
        <a:p>
          <a:r>
            <a:rPr lang="ru-RU" dirty="0" smtClean="0"/>
            <a:t>Преобладающее оперативное лечение среди обследуемой группы – </a:t>
          </a:r>
          <a:r>
            <a:rPr lang="ru-RU" dirty="0" err="1" smtClean="0"/>
            <a:t>холецистэктомия</a:t>
          </a:r>
          <a:r>
            <a:rPr lang="ru-RU" dirty="0" smtClean="0"/>
            <a:t> (15,9%), остальные оперативные вмешательства представлены небольшими группами (от 1,4% - до 7,2%).</a:t>
          </a:r>
          <a:endParaRPr lang="ru-RU" dirty="0"/>
        </a:p>
      </dgm:t>
    </dgm:pt>
    <dgm:pt modelId="{76F0670A-28BF-41F0-A969-E7D80E5ECD47}" type="parTrans" cxnId="{3E242E16-AB54-47E9-A445-027AE6C40B8C}">
      <dgm:prSet/>
      <dgm:spPr/>
      <dgm:t>
        <a:bodyPr/>
        <a:lstStyle/>
        <a:p>
          <a:endParaRPr lang="ru-RU"/>
        </a:p>
      </dgm:t>
    </dgm:pt>
    <dgm:pt modelId="{BBF64748-04EB-4838-86FA-53AF925C57D2}" type="sibTrans" cxnId="{3E242E16-AB54-47E9-A445-027AE6C40B8C}">
      <dgm:prSet/>
      <dgm:spPr/>
      <dgm:t>
        <a:bodyPr/>
        <a:lstStyle/>
        <a:p>
          <a:endParaRPr lang="ru-RU"/>
        </a:p>
      </dgm:t>
    </dgm:pt>
    <dgm:pt modelId="{92AEF80F-1C4F-408B-98EC-28EA74503123}">
      <dgm:prSet phldrT="[Текст]"/>
      <dgm:spPr/>
      <dgm:t>
        <a:bodyPr/>
        <a:lstStyle/>
        <a:p>
          <a:r>
            <a:rPr lang="ru-RU" dirty="0" smtClean="0"/>
            <a:t>Основной причиной осложнений явилось позднее обращение (44,6%), стертость клинической картины (14,2%) и прочие факторы (26,7%).</a:t>
          </a:r>
          <a:endParaRPr lang="ru-RU" dirty="0"/>
        </a:p>
      </dgm:t>
    </dgm:pt>
    <dgm:pt modelId="{5919CA29-541B-40B7-8375-5632DEBAC087}" type="parTrans" cxnId="{72DB9F2F-18AA-4EA9-A43C-9392A7C97CB3}">
      <dgm:prSet/>
      <dgm:spPr/>
      <dgm:t>
        <a:bodyPr/>
        <a:lstStyle/>
        <a:p>
          <a:endParaRPr lang="ru-RU"/>
        </a:p>
      </dgm:t>
    </dgm:pt>
    <dgm:pt modelId="{F39A0414-DE42-419B-91AF-5E3016D9F582}" type="sibTrans" cxnId="{72DB9F2F-18AA-4EA9-A43C-9392A7C97CB3}">
      <dgm:prSet/>
      <dgm:spPr/>
      <dgm:t>
        <a:bodyPr/>
        <a:lstStyle/>
        <a:p>
          <a:endParaRPr lang="ru-RU"/>
        </a:p>
      </dgm:t>
    </dgm:pt>
    <dgm:pt modelId="{9925727D-5FA5-40D3-9BBE-1070787CE238}">
      <dgm:prSet phldrT="[Текст]"/>
      <dgm:spPr/>
      <dgm:t>
        <a:bodyPr/>
        <a:lstStyle/>
        <a:p>
          <a:r>
            <a:rPr lang="ru-RU"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dirty="0"/>
        </a:p>
      </dgm:t>
    </dgm:pt>
    <dgm:pt modelId="{D9362A93-C290-4783-B5EF-91B777D8C0D7}" type="parTrans" cxnId="{DFDC19AB-828B-427A-9B86-1F37B0F29787}">
      <dgm:prSet/>
      <dgm:spPr/>
      <dgm:t>
        <a:bodyPr/>
        <a:lstStyle/>
        <a:p>
          <a:endParaRPr lang="ru-RU"/>
        </a:p>
      </dgm:t>
    </dgm:pt>
    <dgm:pt modelId="{A7278692-ABAF-4966-81B0-26D773A5C063}" type="sibTrans" cxnId="{DFDC19AB-828B-427A-9B86-1F37B0F29787}">
      <dgm:prSet/>
      <dgm:spPr/>
      <dgm:t>
        <a:bodyPr/>
        <a:lstStyle/>
        <a:p>
          <a:endParaRPr lang="ru-RU"/>
        </a:p>
      </dgm:t>
    </dgm:pt>
    <dgm:pt modelId="{9B73B6B6-CDB7-4C04-9777-FD39C3958A94}" type="pres">
      <dgm:prSet presAssocID="{8F1EEB73-3FAD-46E0-B444-3E04CEAAA537}" presName="diagram" presStyleCnt="0">
        <dgm:presLayoutVars>
          <dgm:dir/>
          <dgm:resizeHandles val="exact"/>
        </dgm:presLayoutVars>
      </dgm:prSet>
      <dgm:spPr/>
      <dgm:t>
        <a:bodyPr/>
        <a:lstStyle/>
        <a:p>
          <a:endParaRPr lang="uk-UA"/>
        </a:p>
      </dgm:t>
    </dgm:pt>
    <dgm:pt modelId="{034D678D-5C2D-4733-9F8E-054E1FCF49D2}" type="pres">
      <dgm:prSet presAssocID="{95177487-FBF3-42B5-899E-C2F704E15DFB}" presName="node" presStyleLbl="node1" presStyleIdx="0" presStyleCnt="5">
        <dgm:presLayoutVars>
          <dgm:bulletEnabled val="1"/>
        </dgm:presLayoutVars>
      </dgm:prSet>
      <dgm:spPr/>
      <dgm:t>
        <a:bodyPr/>
        <a:lstStyle/>
        <a:p>
          <a:endParaRPr lang="ru-RU"/>
        </a:p>
      </dgm:t>
    </dgm:pt>
    <dgm:pt modelId="{D5AD1A7D-D953-4605-B39F-4D8D1DF64888}" type="pres">
      <dgm:prSet presAssocID="{E5B8C337-E74D-4AF1-91FD-00606FEBFF0F}" presName="sibTrans" presStyleCnt="0"/>
      <dgm:spPr/>
    </dgm:pt>
    <dgm:pt modelId="{7897E413-281A-4140-BAE8-D09CCC0AAC0D}" type="pres">
      <dgm:prSet presAssocID="{43523076-0396-4619-9FA9-C57DFFD0B5F0}" presName="node" presStyleLbl="node1" presStyleIdx="1" presStyleCnt="5">
        <dgm:presLayoutVars>
          <dgm:bulletEnabled val="1"/>
        </dgm:presLayoutVars>
      </dgm:prSet>
      <dgm:spPr/>
      <dgm:t>
        <a:bodyPr/>
        <a:lstStyle/>
        <a:p>
          <a:endParaRPr lang="ru-RU"/>
        </a:p>
      </dgm:t>
    </dgm:pt>
    <dgm:pt modelId="{EAE67EFE-E8F4-472C-9C16-754355EFABE4}" type="pres">
      <dgm:prSet presAssocID="{836ED007-EB13-4124-87AE-0DA23050E0AA}" presName="sibTrans" presStyleCnt="0"/>
      <dgm:spPr/>
    </dgm:pt>
    <dgm:pt modelId="{50ADA2E5-ED50-4910-8010-6572229D06E2}" type="pres">
      <dgm:prSet presAssocID="{27B3DA3A-CBE2-4F22-91F8-469DFB2A8541}" presName="node" presStyleLbl="node1" presStyleIdx="2" presStyleCnt="5">
        <dgm:presLayoutVars>
          <dgm:bulletEnabled val="1"/>
        </dgm:presLayoutVars>
      </dgm:prSet>
      <dgm:spPr/>
      <dgm:t>
        <a:bodyPr/>
        <a:lstStyle/>
        <a:p>
          <a:endParaRPr lang="ru-RU"/>
        </a:p>
      </dgm:t>
    </dgm:pt>
    <dgm:pt modelId="{E71C1BF9-8101-4B6F-A2E0-0F8D7A2EF7A5}" type="pres">
      <dgm:prSet presAssocID="{BBF64748-04EB-4838-86FA-53AF925C57D2}" presName="sibTrans" presStyleCnt="0"/>
      <dgm:spPr/>
    </dgm:pt>
    <dgm:pt modelId="{A84237B4-49B0-4E27-BDE7-5D99297CF8F2}" type="pres">
      <dgm:prSet presAssocID="{92AEF80F-1C4F-408B-98EC-28EA74503123}" presName="node" presStyleLbl="node1" presStyleIdx="3" presStyleCnt="5">
        <dgm:presLayoutVars>
          <dgm:bulletEnabled val="1"/>
        </dgm:presLayoutVars>
      </dgm:prSet>
      <dgm:spPr/>
      <dgm:t>
        <a:bodyPr/>
        <a:lstStyle/>
        <a:p>
          <a:endParaRPr lang="ru-RU"/>
        </a:p>
      </dgm:t>
    </dgm:pt>
    <dgm:pt modelId="{EE1EEF93-79DD-4CB9-9402-2E63C18857AF}" type="pres">
      <dgm:prSet presAssocID="{F39A0414-DE42-419B-91AF-5E3016D9F582}" presName="sibTrans" presStyleCnt="0"/>
      <dgm:spPr/>
    </dgm:pt>
    <dgm:pt modelId="{68ED2004-3E48-45EA-880E-66C3102B5795}" type="pres">
      <dgm:prSet presAssocID="{9925727D-5FA5-40D3-9BBE-1070787CE238}" presName="node" presStyleLbl="node1" presStyleIdx="4" presStyleCnt="5" custScaleX="212141" custScaleY="51401">
        <dgm:presLayoutVars>
          <dgm:bulletEnabled val="1"/>
        </dgm:presLayoutVars>
      </dgm:prSet>
      <dgm:spPr/>
      <dgm:t>
        <a:bodyPr/>
        <a:lstStyle/>
        <a:p>
          <a:endParaRPr lang="ru-RU"/>
        </a:p>
      </dgm:t>
    </dgm:pt>
  </dgm:ptLst>
  <dgm:cxnLst>
    <dgm:cxn modelId="{9E9C69F8-EB1F-4AFC-A652-BC169E416692}" srcId="{8F1EEB73-3FAD-46E0-B444-3E04CEAAA537}" destId="{95177487-FBF3-42B5-899E-C2F704E15DFB}" srcOrd="0" destOrd="0" parTransId="{80C7B8D4-0F77-4CE9-8109-AE371204EB0E}" sibTransId="{E5B8C337-E74D-4AF1-91FD-00606FEBFF0F}"/>
    <dgm:cxn modelId="{726392FD-A2B8-4688-AB91-351957741E0C}" srcId="{8F1EEB73-3FAD-46E0-B444-3E04CEAAA537}" destId="{43523076-0396-4619-9FA9-C57DFFD0B5F0}" srcOrd="1" destOrd="0" parTransId="{1B0C61A6-1ECE-4FF7-BA96-BC250A1EC9C9}" sibTransId="{836ED007-EB13-4124-87AE-0DA23050E0AA}"/>
    <dgm:cxn modelId="{3E242E16-AB54-47E9-A445-027AE6C40B8C}" srcId="{8F1EEB73-3FAD-46E0-B444-3E04CEAAA537}" destId="{27B3DA3A-CBE2-4F22-91F8-469DFB2A8541}" srcOrd="2" destOrd="0" parTransId="{76F0670A-28BF-41F0-A969-E7D80E5ECD47}" sibTransId="{BBF64748-04EB-4838-86FA-53AF925C57D2}"/>
    <dgm:cxn modelId="{4ED9E1AE-5BC5-4423-9FED-9F0562CF54AD}" type="presOf" srcId="{43523076-0396-4619-9FA9-C57DFFD0B5F0}" destId="{7897E413-281A-4140-BAE8-D09CCC0AAC0D}" srcOrd="0" destOrd="0" presId="urn:microsoft.com/office/officeart/2005/8/layout/default"/>
    <dgm:cxn modelId="{8013844A-68B7-4E0F-9452-0CBB1C4AC73E}" type="presOf" srcId="{95177487-FBF3-42B5-899E-C2F704E15DFB}" destId="{034D678D-5C2D-4733-9F8E-054E1FCF49D2}" srcOrd="0" destOrd="0" presId="urn:microsoft.com/office/officeart/2005/8/layout/default"/>
    <dgm:cxn modelId="{FF38BBED-ECAE-4B9D-98D1-704960DCCFB6}" type="presOf" srcId="{9925727D-5FA5-40D3-9BBE-1070787CE238}" destId="{68ED2004-3E48-45EA-880E-66C3102B5795}" srcOrd="0" destOrd="0" presId="urn:microsoft.com/office/officeart/2005/8/layout/default"/>
    <dgm:cxn modelId="{7F1F311C-03C0-45A9-A1E2-B31A2140F758}" type="presOf" srcId="{8F1EEB73-3FAD-46E0-B444-3E04CEAAA537}" destId="{9B73B6B6-CDB7-4C04-9777-FD39C3958A94}" srcOrd="0" destOrd="0" presId="urn:microsoft.com/office/officeart/2005/8/layout/default"/>
    <dgm:cxn modelId="{415F9FE7-574E-4601-804B-6026D800B02B}" type="presOf" srcId="{92AEF80F-1C4F-408B-98EC-28EA74503123}" destId="{A84237B4-49B0-4E27-BDE7-5D99297CF8F2}" srcOrd="0" destOrd="0" presId="urn:microsoft.com/office/officeart/2005/8/layout/default"/>
    <dgm:cxn modelId="{DFDC19AB-828B-427A-9B86-1F37B0F29787}" srcId="{8F1EEB73-3FAD-46E0-B444-3E04CEAAA537}" destId="{9925727D-5FA5-40D3-9BBE-1070787CE238}" srcOrd="4" destOrd="0" parTransId="{D9362A93-C290-4783-B5EF-91B777D8C0D7}" sibTransId="{A7278692-ABAF-4966-81B0-26D773A5C063}"/>
    <dgm:cxn modelId="{C8D5A2CD-54B9-4FEE-88E5-F4A0FD7D46F6}" type="presOf" srcId="{27B3DA3A-CBE2-4F22-91F8-469DFB2A8541}" destId="{50ADA2E5-ED50-4910-8010-6572229D06E2}" srcOrd="0" destOrd="0" presId="urn:microsoft.com/office/officeart/2005/8/layout/default"/>
    <dgm:cxn modelId="{72DB9F2F-18AA-4EA9-A43C-9392A7C97CB3}" srcId="{8F1EEB73-3FAD-46E0-B444-3E04CEAAA537}" destId="{92AEF80F-1C4F-408B-98EC-28EA74503123}" srcOrd="3" destOrd="0" parTransId="{5919CA29-541B-40B7-8375-5632DEBAC087}" sibTransId="{F39A0414-DE42-419B-91AF-5E3016D9F582}"/>
    <dgm:cxn modelId="{989B9078-8380-43E2-A5F7-95E16DFEB62E}" type="presParOf" srcId="{9B73B6B6-CDB7-4C04-9777-FD39C3958A94}" destId="{034D678D-5C2D-4733-9F8E-054E1FCF49D2}" srcOrd="0" destOrd="0" presId="urn:microsoft.com/office/officeart/2005/8/layout/default"/>
    <dgm:cxn modelId="{2DF0C868-9095-49BB-85B1-AE30CA8C532D}" type="presParOf" srcId="{9B73B6B6-CDB7-4C04-9777-FD39C3958A94}" destId="{D5AD1A7D-D953-4605-B39F-4D8D1DF64888}" srcOrd="1" destOrd="0" presId="urn:microsoft.com/office/officeart/2005/8/layout/default"/>
    <dgm:cxn modelId="{770108E7-D0EB-41D6-90F8-9A0FB9FBB0D6}" type="presParOf" srcId="{9B73B6B6-CDB7-4C04-9777-FD39C3958A94}" destId="{7897E413-281A-4140-BAE8-D09CCC0AAC0D}" srcOrd="2" destOrd="0" presId="urn:microsoft.com/office/officeart/2005/8/layout/default"/>
    <dgm:cxn modelId="{17B8889B-206A-4903-8DC2-33FA7CC872E8}" type="presParOf" srcId="{9B73B6B6-CDB7-4C04-9777-FD39C3958A94}" destId="{EAE67EFE-E8F4-472C-9C16-754355EFABE4}" srcOrd="3" destOrd="0" presId="urn:microsoft.com/office/officeart/2005/8/layout/default"/>
    <dgm:cxn modelId="{16C96E6F-27A1-4493-A364-57CD82CC4494}" type="presParOf" srcId="{9B73B6B6-CDB7-4C04-9777-FD39C3958A94}" destId="{50ADA2E5-ED50-4910-8010-6572229D06E2}" srcOrd="4" destOrd="0" presId="urn:microsoft.com/office/officeart/2005/8/layout/default"/>
    <dgm:cxn modelId="{47144635-0E7F-45C2-988D-644DE21C5ADF}" type="presParOf" srcId="{9B73B6B6-CDB7-4C04-9777-FD39C3958A94}" destId="{E71C1BF9-8101-4B6F-A2E0-0F8D7A2EF7A5}" srcOrd="5" destOrd="0" presId="urn:microsoft.com/office/officeart/2005/8/layout/default"/>
    <dgm:cxn modelId="{2C2748D6-6D70-4298-9276-138C4350587D}" type="presParOf" srcId="{9B73B6B6-CDB7-4C04-9777-FD39C3958A94}" destId="{A84237B4-49B0-4E27-BDE7-5D99297CF8F2}" srcOrd="6" destOrd="0" presId="urn:microsoft.com/office/officeart/2005/8/layout/default"/>
    <dgm:cxn modelId="{54A54DAA-108C-4B51-8B7B-BC9E167C38FE}" type="presParOf" srcId="{9B73B6B6-CDB7-4C04-9777-FD39C3958A94}" destId="{EE1EEF93-79DD-4CB9-9402-2E63C18857AF}" srcOrd="7" destOrd="0" presId="urn:microsoft.com/office/officeart/2005/8/layout/default"/>
    <dgm:cxn modelId="{394BB706-9F23-4F36-8176-B3F85C410944}" type="presParOf" srcId="{9B73B6B6-CDB7-4C04-9777-FD39C3958A94}" destId="{68ED2004-3E48-45EA-880E-66C3102B5795}" srcOrd="8" destOrd="0" presId="urn:microsoft.com/office/officeart/2005/8/layout/defaul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6.xml><?xml version="1.0" encoding="utf-8"?>
<dgm:dataModel xmlns:dgm="http://schemas.openxmlformats.org/drawingml/2006/diagram" xmlns:a="http://schemas.openxmlformats.org/drawingml/2006/main">
  <dgm:ptLst>
    <dgm:pt modelId="{6627CC69-7791-460F-8559-F1046A0E62F3}" type="doc">
      <dgm:prSet loTypeId="urn:microsoft.com/office/officeart/2005/8/layout/vList5"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dgm:spPr/>
      <dgm:t>
        <a:bodyPr/>
        <a:lstStyle/>
        <a:p>
          <a:r>
            <a:rPr lang="ru-RU" b="1" dirty="0" smtClean="0"/>
            <a:t>Профилактика легочных осложнений</a:t>
          </a:r>
          <a:endParaRPr lang="ru-RU"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dgm:t>
        <a:bodyPr/>
        <a:lstStyle/>
        <a:p>
          <a:r>
            <a:rPr lang="ru-RU" sz="1000" dirty="0" smtClean="0"/>
            <a:t>  Придать больному </a:t>
          </a:r>
          <a:r>
            <a:rPr lang="ru-RU" sz="1000" dirty="0" err="1" smtClean="0"/>
            <a:t>полусидячее</a:t>
          </a:r>
          <a:r>
            <a:rPr lang="ru-RU" sz="1000" dirty="0" smtClean="0"/>
            <a:t> положение.</a:t>
          </a:r>
          <a:endParaRPr lang="ru-RU" sz="100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F048682C-6EE2-4D27-BF1D-73D7E3A05E1B}">
      <dgm:prSet phldrT="[Текст]"/>
      <dgm:spPr/>
      <dgm:t>
        <a:bodyPr/>
        <a:lstStyle/>
        <a:p>
          <a:r>
            <a:rPr lang="ru-RU" b="1" dirty="0" smtClean="0"/>
            <a:t>Борьба с гипертермией</a:t>
          </a:r>
          <a:endParaRPr lang="ru-RU" dirty="0"/>
        </a:p>
      </dgm:t>
    </dgm:pt>
    <dgm:pt modelId="{F4192F4B-04F4-4191-B0EA-36230D12F74D}" type="parTrans" cxnId="{CA2949AA-9F30-44FE-9735-B2A10D0660F3}">
      <dgm:prSet/>
      <dgm:spPr/>
      <dgm:t>
        <a:bodyPr/>
        <a:lstStyle/>
        <a:p>
          <a:endParaRPr lang="ru-RU"/>
        </a:p>
      </dgm:t>
    </dgm:pt>
    <dgm:pt modelId="{CC7F7E72-E7FF-40E0-8301-7C283EE71581}" type="sibTrans" cxnId="{CA2949AA-9F30-44FE-9735-B2A10D0660F3}">
      <dgm:prSet/>
      <dgm:spPr/>
      <dgm:t>
        <a:bodyPr/>
        <a:lstStyle/>
        <a:p>
          <a:endParaRPr lang="ru-RU"/>
        </a:p>
      </dgm:t>
    </dgm:pt>
    <dgm:pt modelId="{CD2A66B6-FBFC-4799-9CDB-E04B5F83B14D}">
      <dgm:prSet phldrT="[Текст]" custT="1"/>
      <dgm:spPr/>
      <dgm:t>
        <a:bodyPr/>
        <a:lstStyle/>
        <a:p>
          <a:r>
            <a:rPr lang="ru-RU" sz="1000" dirty="0" smtClean="0"/>
            <a:t>  Снижение температуры, уменьшение неприятных ощущений достигается прикладыванием пузырей со льдом к голове или области операции, накладыванием на лоб холодных компрессов.</a:t>
          </a:r>
          <a:endParaRPr lang="ru-RU" sz="1000" dirty="0"/>
        </a:p>
      </dgm:t>
    </dgm:pt>
    <dgm:pt modelId="{8F47BD34-95ED-4064-A9A7-28E80D68AF6A}" type="parTrans" cxnId="{F8D47BD6-457B-4113-B05F-2E1F7219D422}">
      <dgm:prSet/>
      <dgm:spPr/>
      <dgm:t>
        <a:bodyPr/>
        <a:lstStyle/>
        <a:p>
          <a:endParaRPr lang="ru-RU"/>
        </a:p>
      </dgm:t>
    </dgm:pt>
    <dgm:pt modelId="{98B6C477-B749-4645-A41A-5ACCB0BAEB0D}" type="sibTrans" cxnId="{F8D47BD6-457B-4113-B05F-2E1F7219D422}">
      <dgm:prSet/>
      <dgm:spPr/>
      <dgm:t>
        <a:bodyPr/>
        <a:lstStyle/>
        <a:p>
          <a:endParaRPr lang="ru-RU"/>
        </a:p>
      </dgm:t>
    </dgm:pt>
    <dgm:pt modelId="{795B2FE1-FAF6-45E5-A37C-C58B42F09663}">
      <dgm:prSet phldrT="[Текст]"/>
      <dgm:spPr/>
      <dgm:t>
        <a:bodyPr/>
        <a:lstStyle/>
        <a:p>
          <a:r>
            <a:rPr lang="ru-RU" b="1" dirty="0" smtClean="0"/>
            <a:t>Борьба с парезом желудочно-кишечного тракта</a:t>
          </a:r>
          <a:endParaRPr lang="ru-RU" dirty="0"/>
        </a:p>
      </dgm:t>
    </dgm:pt>
    <dgm:pt modelId="{36F09E14-7F60-48BA-8909-CF8C3C9FD9CF}" type="parTrans" cxnId="{8DB98C67-3A20-4EAE-A27C-418C5D6DB5C5}">
      <dgm:prSet/>
      <dgm:spPr/>
      <dgm:t>
        <a:bodyPr/>
        <a:lstStyle/>
        <a:p>
          <a:endParaRPr lang="ru-RU"/>
        </a:p>
      </dgm:t>
    </dgm:pt>
    <dgm:pt modelId="{59EFCC05-B004-4288-842A-D9FD8A10010A}" type="sibTrans" cxnId="{8DB98C67-3A20-4EAE-A27C-418C5D6DB5C5}">
      <dgm:prSet/>
      <dgm:spPr/>
      <dgm:t>
        <a:bodyPr/>
        <a:lstStyle/>
        <a:p>
          <a:endParaRPr lang="ru-RU"/>
        </a:p>
      </dgm:t>
    </dgm:pt>
    <dgm:pt modelId="{109C9DA1-05AB-480A-B043-E5E9ECD06FA6}">
      <dgm:prSet phldrT="[Текст]" custT="1"/>
      <dgm:spPr/>
      <dgm:t>
        <a:bodyPr/>
        <a:lstStyle/>
        <a:p>
          <a:r>
            <a:rPr lang="ru-RU" sz="1000" dirty="0" smtClean="0"/>
            <a:t>  Введение газоотводной трубки облегчает отхождение газов.</a:t>
          </a:r>
          <a:endParaRPr lang="ru-RU" sz="1000" dirty="0"/>
        </a:p>
      </dgm:t>
    </dgm:pt>
    <dgm:pt modelId="{9D657DE9-DEC4-4717-AB62-AE0FB33BEDF6}" type="parTrans" cxnId="{4D4E8883-0575-4F37-89A4-D50499B18DC0}">
      <dgm:prSet/>
      <dgm:spPr/>
      <dgm:t>
        <a:bodyPr/>
        <a:lstStyle/>
        <a:p>
          <a:endParaRPr lang="ru-RU"/>
        </a:p>
      </dgm:t>
    </dgm:pt>
    <dgm:pt modelId="{ED0D420D-3E34-4951-9F19-617E842FA30E}" type="sibTrans" cxnId="{4D4E8883-0575-4F37-89A4-D50499B18DC0}">
      <dgm:prSet/>
      <dgm:spPr/>
      <dgm:t>
        <a:bodyPr/>
        <a:lstStyle/>
        <a:p>
          <a:endParaRPr lang="ru-RU"/>
        </a:p>
      </dgm:t>
    </dgm:pt>
    <dgm:pt modelId="{A59B74CA-B2CE-46C4-8E78-AC9FEF0DAAAF}">
      <dgm:prSet phldrT="[Текст]" custT="1"/>
      <dgm:spPr/>
      <dgm:t>
        <a:bodyPr/>
        <a:lstStyle/>
        <a:p>
          <a:pPr algn="l"/>
          <a:r>
            <a:rPr lang="ru-RU" sz="1000" dirty="0" smtClean="0"/>
            <a:t>  Больным после несложных операций можно разрешить подняться или отвезти их на каталке в уборную.</a:t>
          </a:r>
          <a:endParaRPr lang="ru-RU" sz="1000" dirty="0"/>
        </a:p>
      </dgm:t>
    </dgm:pt>
    <dgm:pt modelId="{F23A8F3E-11B9-47E3-B513-6710FBC50B11}" type="parTrans" cxnId="{21266F3C-4500-42F8-8916-E3192F6DCF15}">
      <dgm:prSet/>
      <dgm:spPr/>
      <dgm:t>
        <a:bodyPr/>
        <a:lstStyle/>
        <a:p>
          <a:endParaRPr lang="ru-RU"/>
        </a:p>
      </dgm:t>
    </dgm:pt>
    <dgm:pt modelId="{86EE5CDD-08B9-427A-B7D9-DAD174FDDF63}" type="sibTrans" cxnId="{21266F3C-4500-42F8-8916-E3192F6DCF15}">
      <dgm:prSet/>
      <dgm:spPr/>
      <dgm:t>
        <a:bodyPr/>
        <a:lstStyle/>
        <a:p>
          <a:endParaRPr lang="ru-RU"/>
        </a:p>
      </dgm:t>
    </dgm:pt>
    <dgm:pt modelId="{DED39099-2724-4030-AF9E-AF61668EA6C0}">
      <dgm:prSet phldrT="[Текст]"/>
      <dgm:spPr/>
      <dgm:t>
        <a:bodyPr/>
        <a:lstStyle/>
        <a:p>
          <a:r>
            <a:rPr lang="ru-RU" b="1" dirty="0" smtClean="0"/>
            <a:t>Борьба с задержкой мочеиспускания</a:t>
          </a:r>
          <a:endParaRPr lang="ru-RU" dirty="0"/>
        </a:p>
      </dgm:t>
    </dgm:pt>
    <dgm:pt modelId="{8CEA3509-635E-48E9-BC4B-33A91233AD37}" type="parTrans" cxnId="{068CB0A7-1875-41F6-96A7-3D966B555968}">
      <dgm:prSet/>
      <dgm:spPr/>
      <dgm:t>
        <a:bodyPr/>
        <a:lstStyle/>
        <a:p>
          <a:endParaRPr lang="ru-RU"/>
        </a:p>
      </dgm:t>
    </dgm:pt>
    <dgm:pt modelId="{4F6B1DC4-61E4-4BEB-91BA-D7B2C79CCBD8}" type="sibTrans" cxnId="{068CB0A7-1875-41F6-96A7-3D966B555968}">
      <dgm:prSet/>
      <dgm:spPr/>
      <dgm:t>
        <a:bodyPr/>
        <a:lstStyle/>
        <a:p>
          <a:endParaRPr lang="ru-RU"/>
        </a:p>
      </dgm:t>
    </dgm:pt>
    <dgm:pt modelId="{E1A4123B-6141-42BA-9382-B1DC3208D27F}">
      <dgm:prSet phldrT="[Текст]" custT="1"/>
      <dgm:spPr/>
      <dgm:t>
        <a:bodyPr/>
        <a:lstStyle/>
        <a:p>
          <a:pPr algn="l"/>
          <a:r>
            <a:rPr lang="ru-RU" sz="1000" dirty="0" smtClean="0"/>
            <a:t>  Больным, которым нельзя вставать, следует разрешить повернуться на бок или придать им </a:t>
          </a:r>
          <a:r>
            <a:rPr lang="ru-RU" sz="1000" dirty="0" err="1" smtClean="0"/>
            <a:t>полусидячее</a:t>
          </a:r>
          <a:r>
            <a:rPr lang="ru-RU" sz="1000" dirty="0" smtClean="0"/>
            <a:t> положение.</a:t>
          </a:r>
          <a:endParaRPr lang="ru-RU" sz="1000" dirty="0"/>
        </a:p>
      </dgm:t>
    </dgm:pt>
    <dgm:pt modelId="{7695F070-35C3-4DE8-A219-0B22864A3D9E}" type="parTrans" cxnId="{17ABF694-C424-4D1C-B4F0-7863574E4203}">
      <dgm:prSet/>
      <dgm:spPr/>
      <dgm:t>
        <a:bodyPr/>
        <a:lstStyle/>
        <a:p>
          <a:endParaRPr lang="ru-RU"/>
        </a:p>
      </dgm:t>
    </dgm:pt>
    <dgm:pt modelId="{8FC904F6-F192-418F-B254-0E91A9131051}" type="sibTrans" cxnId="{17ABF694-C424-4D1C-B4F0-7863574E4203}">
      <dgm:prSet/>
      <dgm:spPr/>
      <dgm:t>
        <a:bodyPr/>
        <a:lstStyle/>
        <a:p>
          <a:endParaRPr lang="ru-RU"/>
        </a:p>
      </dgm:t>
    </dgm:pt>
    <dgm:pt modelId="{05A0041E-35BE-4132-B562-0973F56774B6}">
      <dgm:prSet phldrT="[Текст]" custT="1"/>
      <dgm:spPr/>
      <dgm:t>
        <a:bodyPr/>
        <a:lstStyle/>
        <a:p>
          <a:pPr algn="l"/>
          <a:r>
            <a:rPr lang="ru-RU" sz="1000" dirty="0" smtClean="0"/>
            <a:t>  Иногда прикладывание к промежности грелки, очистительная клизма ликвидируют задержку мочи.</a:t>
          </a:r>
          <a:endParaRPr lang="ru-RU" sz="1000" dirty="0"/>
        </a:p>
      </dgm:t>
    </dgm:pt>
    <dgm:pt modelId="{F4224AA2-5DF4-4119-8213-A63030DA44B8}" type="parTrans" cxnId="{554C9131-3514-4905-B328-F1A838517A24}">
      <dgm:prSet/>
      <dgm:spPr/>
      <dgm:t>
        <a:bodyPr/>
        <a:lstStyle/>
        <a:p>
          <a:endParaRPr lang="ru-RU"/>
        </a:p>
      </dgm:t>
    </dgm:pt>
    <dgm:pt modelId="{E8DE9995-2408-4598-9C3D-DB92E333E6E8}" type="sibTrans" cxnId="{554C9131-3514-4905-B328-F1A838517A24}">
      <dgm:prSet/>
      <dgm:spPr/>
      <dgm:t>
        <a:bodyPr/>
        <a:lstStyle/>
        <a:p>
          <a:endParaRPr lang="ru-RU"/>
        </a:p>
      </dgm:t>
    </dgm:pt>
    <dgm:pt modelId="{E740A3C5-DE78-46A8-9332-3FBD8C86536B}">
      <dgm:prSet phldrT="[Текст]" custT="1"/>
      <dgm:spPr/>
      <dgm:t>
        <a:bodyPr/>
        <a:lstStyle/>
        <a:p>
          <a:r>
            <a:rPr lang="ru-RU" sz="1000" dirty="0" smtClean="0"/>
            <a:t>  При тяжелых парезах проводится </a:t>
          </a:r>
          <a:r>
            <a:rPr lang="ru-RU" sz="1000" dirty="0" err="1" smtClean="0"/>
            <a:t>паранефральная</a:t>
          </a:r>
          <a:r>
            <a:rPr lang="ru-RU" sz="1000" dirty="0" smtClean="0"/>
            <a:t> блокада и сифонная клизма.</a:t>
          </a:r>
          <a:endParaRPr lang="ru-RU" sz="1000" dirty="0"/>
        </a:p>
      </dgm:t>
    </dgm:pt>
    <dgm:pt modelId="{90324035-C46D-4AC7-BFD2-1F3864790A79}" type="parTrans" cxnId="{6CF1C0CD-7579-4E5A-89F0-8D65A0C2502C}">
      <dgm:prSet/>
      <dgm:spPr/>
      <dgm:t>
        <a:bodyPr/>
        <a:lstStyle/>
        <a:p>
          <a:endParaRPr lang="ru-RU"/>
        </a:p>
      </dgm:t>
    </dgm:pt>
    <dgm:pt modelId="{A66BE24B-6934-4724-9DCE-FC28302859CF}" type="sibTrans" cxnId="{6CF1C0CD-7579-4E5A-89F0-8D65A0C2502C}">
      <dgm:prSet/>
      <dgm:spPr/>
      <dgm:t>
        <a:bodyPr/>
        <a:lstStyle/>
        <a:p>
          <a:endParaRPr lang="ru-RU"/>
        </a:p>
      </dgm:t>
    </dgm:pt>
    <dgm:pt modelId="{39D76D98-6B89-4823-974C-D9DC7AA9BE01}">
      <dgm:prSet phldrT="[Текст]" custT="1"/>
      <dgm:spPr/>
      <dgm:t>
        <a:bodyPr/>
        <a:lstStyle/>
        <a:p>
          <a:r>
            <a:rPr lang="ru-RU" sz="1000" dirty="0" smtClean="0"/>
            <a:t>  Освобождение кишечника от газов происходит лучше после гипертонической клизмы.</a:t>
          </a:r>
          <a:endParaRPr lang="ru-RU" sz="1000" dirty="0"/>
        </a:p>
      </dgm:t>
    </dgm:pt>
    <dgm:pt modelId="{609913D0-ED74-4E0E-B3F6-1445B7FF8954}" type="parTrans" cxnId="{FDA3B414-8020-4812-8B17-7BCA7042EE5C}">
      <dgm:prSet/>
      <dgm:spPr/>
      <dgm:t>
        <a:bodyPr/>
        <a:lstStyle/>
        <a:p>
          <a:endParaRPr lang="ru-RU"/>
        </a:p>
      </dgm:t>
    </dgm:pt>
    <dgm:pt modelId="{59B69C5E-ED98-45FF-A2E1-00D0C03657F1}" type="sibTrans" cxnId="{FDA3B414-8020-4812-8B17-7BCA7042EE5C}">
      <dgm:prSet/>
      <dgm:spPr/>
      <dgm:t>
        <a:bodyPr/>
        <a:lstStyle/>
        <a:p>
          <a:endParaRPr lang="ru-RU"/>
        </a:p>
      </dgm:t>
    </dgm:pt>
    <dgm:pt modelId="{5CC635A0-F911-4250-B5E9-CC7BA78837E6}">
      <dgm:prSet phldrT="[Текст]" custT="1"/>
      <dgm:spPr/>
      <dgm:t>
        <a:bodyPr/>
        <a:lstStyle/>
        <a:p>
          <a:r>
            <a:rPr lang="ru-RU" sz="1000" dirty="0" smtClean="0"/>
            <a:t> Введением в желудок тонкого зонда (через нос).</a:t>
          </a:r>
          <a:endParaRPr lang="ru-RU" sz="1000" dirty="0"/>
        </a:p>
      </dgm:t>
    </dgm:pt>
    <dgm:pt modelId="{6BFDAB32-98E7-4B9B-BE41-9B9D77A12483}" type="parTrans" cxnId="{9AFB94CB-2DCB-441F-8FB7-5B054175E28B}">
      <dgm:prSet/>
      <dgm:spPr/>
      <dgm:t>
        <a:bodyPr/>
        <a:lstStyle/>
        <a:p>
          <a:endParaRPr lang="ru-RU"/>
        </a:p>
      </dgm:t>
    </dgm:pt>
    <dgm:pt modelId="{425F4400-48EE-44F7-8C25-2EED7D0934BE}" type="sibTrans" cxnId="{9AFB94CB-2DCB-441F-8FB7-5B054175E28B}">
      <dgm:prSet/>
      <dgm:spPr/>
      <dgm:t>
        <a:bodyPr/>
        <a:lstStyle/>
        <a:p>
          <a:endParaRPr lang="ru-RU"/>
        </a:p>
      </dgm:t>
    </dgm:pt>
    <dgm:pt modelId="{24306B27-27AE-4911-BAF4-B2DD44E2B1B1}">
      <dgm:prSet phldrT="[Текст]" custT="1"/>
      <dgm:spPr/>
      <dgm:t>
        <a:bodyPr/>
        <a:lstStyle/>
        <a:p>
          <a:r>
            <a:rPr lang="ru-RU" sz="1000" dirty="0" smtClean="0"/>
            <a:t>   При стойких повышениях температуры применяют лек. ср-</a:t>
          </a:r>
          <a:r>
            <a:rPr lang="ru-RU" sz="1000" dirty="0" err="1" smtClean="0"/>
            <a:t>ва</a:t>
          </a:r>
          <a:r>
            <a:rPr lang="ru-RU" sz="1000" dirty="0" smtClean="0"/>
            <a:t>: аспирин, пирамидон, антипирин, в/м введение 5-10 мл 4% раствора пирамидона.</a:t>
          </a:r>
          <a:endParaRPr lang="ru-RU" sz="1000" dirty="0"/>
        </a:p>
      </dgm:t>
    </dgm:pt>
    <dgm:pt modelId="{C307473E-256C-45DA-86C8-BEDC98F8BCF7}" type="parTrans" cxnId="{9447088C-244F-4018-94E1-C0C9A3735280}">
      <dgm:prSet/>
      <dgm:spPr/>
      <dgm:t>
        <a:bodyPr/>
        <a:lstStyle/>
        <a:p>
          <a:endParaRPr lang="ru-RU"/>
        </a:p>
      </dgm:t>
    </dgm:pt>
    <dgm:pt modelId="{F020EDAB-6649-4BE6-A181-5F42BFB7FF5A}" type="sibTrans" cxnId="{9447088C-244F-4018-94E1-C0C9A3735280}">
      <dgm:prSet/>
      <dgm:spPr/>
      <dgm:t>
        <a:bodyPr/>
        <a:lstStyle/>
        <a:p>
          <a:endParaRPr lang="ru-RU"/>
        </a:p>
      </dgm:t>
    </dgm:pt>
    <dgm:pt modelId="{BF96A8F6-E688-4F11-84C8-EE95A783A343}">
      <dgm:prSet phldrT="[Текст]" custT="1"/>
      <dgm:spPr/>
      <dgm:t>
        <a:bodyPr/>
        <a:lstStyle/>
        <a:p>
          <a:r>
            <a:rPr lang="ru-RU" sz="1000" dirty="0" smtClean="0"/>
            <a:t>  Обучить больного дыхательной гимнастике.</a:t>
          </a:r>
          <a:endParaRPr lang="ru-RU" sz="1000" dirty="0"/>
        </a:p>
      </dgm:t>
    </dgm:pt>
    <dgm:pt modelId="{7176FDF2-E593-4E6C-92A1-426ED51463AF}" type="parTrans" cxnId="{BC891473-31AC-49CB-9485-1884A1990A62}">
      <dgm:prSet/>
      <dgm:spPr/>
      <dgm:t>
        <a:bodyPr/>
        <a:lstStyle/>
        <a:p>
          <a:endParaRPr lang="ru-RU"/>
        </a:p>
      </dgm:t>
    </dgm:pt>
    <dgm:pt modelId="{A382952A-94C0-49B1-B5D6-8C9EFAA9BE0E}" type="sibTrans" cxnId="{BC891473-31AC-49CB-9485-1884A1990A62}">
      <dgm:prSet/>
      <dgm:spPr/>
      <dgm:t>
        <a:bodyPr/>
        <a:lstStyle/>
        <a:p>
          <a:endParaRPr lang="ru-RU"/>
        </a:p>
      </dgm:t>
    </dgm:pt>
    <dgm:pt modelId="{314AF9B7-0F8E-450A-B104-D87BFBDB0451}">
      <dgm:prSet phldrT="[Текст]" custT="1"/>
      <dgm:spPr/>
      <dgm:t>
        <a:bodyPr/>
        <a:lstStyle/>
        <a:p>
          <a:r>
            <a:rPr lang="ru-RU" sz="1000" dirty="0" smtClean="0"/>
            <a:t>  Постановка банок или горчичников.</a:t>
          </a:r>
          <a:endParaRPr lang="ru-RU" sz="1000" dirty="0"/>
        </a:p>
      </dgm:t>
    </dgm:pt>
    <dgm:pt modelId="{E4F230B3-7562-4B3B-A1C1-B3FD5D857A28}" type="parTrans" cxnId="{E8B7BE83-01C4-4CCE-A004-5027F9D2A073}">
      <dgm:prSet/>
      <dgm:spPr/>
      <dgm:t>
        <a:bodyPr/>
        <a:lstStyle/>
        <a:p>
          <a:endParaRPr lang="ru-RU"/>
        </a:p>
      </dgm:t>
    </dgm:pt>
    <dgm:pt modelId="{66787E14-2633-4B27-9143-EC7C5C395146}" type="sibTrans" cxnId="{E8B7BE83-01C4-4CCE-A004-5027F9D2A073}">
      <dgm:prSet/>
      <dgm:spPr/>
      <dgm:t>
        <a:bodyPr/>
        <a:lstStyle/>
        <a:p>
          <a:endParaRPr lang="ru-RU"/>
        </a:p>
      </dgm:t>
    </dgm:pt>
    <dgm:pt modelId="{819FF1D9-4241-491F-BA48-85B35E19DEBA}">
      <dgm:prSet phldrT="[Текст]" custT="1"/>
      <dgm:spPr/>
      <dgm:t>
        <a:bodyPr/>
        <a:lstStyle/>
        <a:p>
          <a:r>
            <a:rPr lang="ru-RU" sz="1000" dirty="0" smtClean="0"/>
            <a:t>  Пенициллинотерапия.</a:t>
          </a:r>
          <a:endParaRPr lang="ru-RU" sz="1000" dirty="0"/>
        </a:p>
      </dgm:t>
    </dgm:pt>
    <dgm:pt modelId="{79FCBF0D-03DC-4773-B08B-D5D74B4C8F9E}" type="parTrans" cxnId="{ACE2519B-3ADB-4F1B-91AC-0C6C6CAB5DF6}">
      <dgm:prSet/>
      <dgm:spPr/>
      <dgm:t>
        <a:bodyPr/>
        <a:lstStyle/>
        <a:p>
          <a:endParaRPr lang="ru-RU"/>
        </a:p>
      </dgm:t>
    </dgm:pt>
    <dgm:pt modelId="{D04EEE55-50E1-4649-9363-971E9CB4A35F}" type="sibTrans" cxnId="{ACE2519B-3ADB-4F1B-91AC-0C6C6CAB5DF6}">
      <dgm:prSet/>
      <dgm:spPr/>
      <dgm:t>
        <a:bodyPr/>
        <a:lstStyle/>
        <a:p>
          <a:endParaRPr lang="ru-RU"/>
        </a:p>
      </dgm:t>
    </dgm:pt>
    <dgm:pt modelId="{C078F859-8F17-4ABA-BFFF-C9C753DD97EA}">
      <dgm:prSet phldrT="[Текст]" custT="1"/>
      <dgm:spPr/>
      <dgm:t>
        <a:bodyPr/>
        <a:lstStyle/>
        <a:p>
          <a:r>
            <a:rPr lang="ru-RU" sz="1000" dirty="0" smtClean="0"/>
            <a:t>  Снятие болей наркотиками, дача сердечных средств и препаратов</a:t>
          </a:r>
          <a:endParaRPr lang="ru-RU" sz="1000" dirty="0"/>
        </a:p>
      </dgm:t>
    </dgm:pt>
    <dgm:pt modelId="{90EEB78F-7381-405A-9875-ADF80D1A14BC}" type="parTrans" cxnId="{E63DFB1D-B980-49B0-A8E0-E3FB6386F2F3}">
      <dgm:prSet/>
      <dgm:spPr/>
      <dgm:t>
        <a:bodyPr/>
        <a:lstStyle/>
        <a:p>
          <a:endParaRPr lang="ru-RU"/>
        </a:p>
      </dgm:t>
    </dgm:pt>
    <dgm:pt modelId="{02315A59-022E-416B-9FF5-F5E14AA1979E}" type="sibTrans" cxnId="{E63DFB1D-B980-49B0-A8E0-E3FB6386F2F3}">
      <dgm:prSet/>
      <dgm:spPr/>
      <dgm:t>
        <a:bodyPr/>
        <a:lstStyle/>
        <a:p>
          <a:endParaRPr lang="ru-RU"/>
        </a:p>
      </dgm:t>
    </dgm:pt>
    <dgm:pt modelId="{18A3FA1A-8669-4324-A29B-DC6787893404}" type="pres">
      <dgm:prSet presAssocID="{6627CC69-7791-460F-8559-F1046A0E62F3}" presName="Name0" presStyleCnt="0">
        <dgm:presLayoutVars>
          <dgm:dir/>
          <dgm:animLvl val="lvl"/>
          <dgm:resizeHandles val="exact"/>
        </dgm:presLayoutVars>
      </dgm:prSet>
      <dgm:spPr/>
      <dgm:t>
        <a:bodyPr/>
        <a:lstStyle/>
        <a:p>
          <a:endParaRPr lang="ru-RU"/>
        </a:p>
      </dgm:t>
    </dgm:pt>
    <dgm:pt modelId="{1821C59A-FB83-4C14-823D-EB7C119F4C91}" type="pres">
      <dgm:prSet presAssocID="{19586091-5183-4AB1-975E-BE01F970E6CD}" presName="linNode" presStyleCnt="0"/>
      <dgm:spPr/>
    </dgm:pt>
    <dgm:pt modelId="{F5C46A94-98D8-4883-B975-4791A0BF9436}" type="pres">
      <dgm:prSet presAssocID="{19586091-5183-4AB1-975E-BE01F970E6CD}" presName="parentText" presStyleLbl="node1" presStyleIdx="0" presStyleCnt="4">
        <dgm:presLayoutVars>
          <dgm:chMax val="1"/>
          <dgm:bulletEnabled val="1"/>
        </dgm:presLayoutVars>
      </dgm:prSet>
      <dgm:spPr/>
      <dgm:t>
        <a:bodyPr/>
        <a:lstStyle/>
        <a:p>
          <a:endParaRPr lang="ru-RU"/>
        </a:p>
      </dgm:t>
    </dgm:pt>
    <dgm:pt modelId="{6AC875E2-D3BE-42AF-9668-80841ED3EA6E}" type="pres">
      <dgm:prSet presAssocID="{19586091-5183-4AB1-975E-BE01F970E6CD}" presName="descendantText" presStyleLbl="alignAccFollowNode1" presStyleIdx="0" presStyleCnt="4">
        <dgm:presLayoutVars>
          <dgm:bulletEnabled val="1"/>
        </dgm:presLayoutVars>
      </dgm:prSet>
      <dgm:spPr/>
      <dgm:t>
        <a:bodyPr/>
        <a:lstStyle/>
        <a:p>
          <a:endParaRPr lang="ru-RU"/>
        </a:p>
      </dgm:t>
    </dgm:pt>
    <dgm:pt modelId="{AAE75731-69BE-46DD-8379-3528469FA98D}" type="pres">
      <dgm:prSet presAssocID="{6618790D-47B3-4A2A-AB27-C9365124CC23}" presName="sp" presStyleCnt="0"/>
      <dgm:spPr/>
    </dgm:pt>
    <dgm:pt modelId="{578FEFA7-6654-4B19-9E84-DFF7C6328A7E}" type="pres">
      <dgm:prSet presAssocID="{F048682C-6EE2-4D27-BF1D-73D7E3A05E1B}" presName="linNode" presStyleCnt="0"/>
      <dgm:spPr/>
    </dgm:pt>
    <dgm:pt modelId="{6C803086-5BFA-415D-88BC-AAD0D2BA3A86}" type="pres">
      <dgm:prSet presAssocID="{F048682C-6EE2-4D27-BF1D-73D7E3A05E1B}" presName="parentText" presStyleLbl="node1" presStyleIdx="1" presStyleCnt="4">
        <dgm:presLayoutVars>
          <dgm:chMax val="1"/>
          <dgm:bulletEnabled val="1"/>
        </dgm:presLayoutVars>
      </dgm:prSet>
      <dgm:spPr/>
      <dgm:t>
        <a:bodyPr/>
        <a:lstStyle/>
        <a:p>
          <a:endParaRPr lang="ru-RU"/>
        </a:p>
      </dgm:t>
    </dgm:pt>
    <dgm:pt modelId="{E5701843-E73A-48B2-877C-FABAA4B9FB2A}" type="pres">
      <dgm:prSet presAssocID="{F048682C-6EE2-4D27-BF1D-73D7E3A05E1B}" presName="descendantText" presStyleLbl="alignAccFollowNode1" presStyleIdx="1" presStyleCnt="4">
        <dgm:presLayoutVars>
          <dgm:bulletEnabled val="1"/>
        </dgm:presLayoutVars>
      </dgm:prSet>
      <dgm:spPr/>
      <dgm:t>
        <a:bodyPr/>
        <a:lstStyle/>
        <a:p>
          <a:endParaRPr lang="ru-RU"/>
        </a:p>
      </dgm:t>
    </dgm:pt>
    <dgm:pt modelId="{77BC8E56-3894-4205-BB31-C9928F14AE77}" type="pres">
      <dgm:prSet presAssocID="{CC7F7E72-E7FF-40E0-8301-7C283EE71581}" presName="sp" presStyleCnt="0"/>
      <dgm:spPr/>
    </dgm:pt>
    <dgm:pt modelId="{13669DFA-8715-490F-841A-4A1356A1B4F2}" type="pres">
      <dgm:prSet presAssocID="{795B2FE1-FAF6-45E5-A37C-C58B42F09663}" presName="linNode" presStyleCnt="0"/>
      <dgm:spPr/>
    </dgm:pt>
    <dgm:pt modelId="{D07F989D-EC17-4ED4-B5E1-F79208B699C5}" type="pres">
      <dgm:prSet presAssocID="{795B2FE1-FAF6-45E5-A37C-C58B42F09663}" presName="parentText" presStyleLbl="node1" presStyleIdx="2" presStyleCnt="4">
        <dgm:presLayoutVars>
          <dgm:chMax val="1"/>
          <dgm:bulletEnabled val="1"/>
        </dgm:presLayoutVars>
      </dgm:prSet>
      <dgm:spPr/>
      <dgm:t>
        <a:bodyPr/>
        <a:lstStyle/>
        <a:p>
          <a:endParaRPr lang="ru-RU"/>
        </a:p>
      </dgm:t>
    </dgm:pt>
    <dgm:pt modelId="{06F0F83F-EF6C-4FA7-A33D-2859F2E314A5}" type="pres">
      <dgm:prSet presAssocID="{795B2FE1-FAF6-45E5-A37C-C58B42F09663}" presName="descendantText" presStyleLbl="alignAccFollowNode1" presStyleIdx="2" presStyleCnt="4">
        <dgm:presLayoutVars>
          <dgm:bulletEnabled val="1"/>
        </dgm:presLayoutVars>
      </dgm:prSet>
      <dgm:spPr/>
      <dgm:t>
        <a:bodyPr/>
        <a:lstStyle/>
        <a:p>
          <a:endParaRPr lang="ru-RU"/>
        </a:p>
      </dgm:t>
    </dgm:pt>
    <dgm:pt modelId="{C25BBC23-FD9D-4B4C-928E-A8244F772A8E}" type="pres">
      <dgm:prSet presAssocID="{59EFCC05-B004-4288-842A-D9FD8A10010A}" presName="sp" presStyleCnt="0"/>
      <dgm:spPr/>
    </dgm:pt>
    <dgm:pt modelId="{3B1B2002-40B5-4E68-9996-BCB05C2527D1}" type="pres">
      <dgm:prSet presAssocID="{DED39099-2724-4030-AF9E-AF61668EA6C0}" presName="linNode" presStyleCnt="0"/>
      <dgm:spPr/>
    </dgm:pt>
    <dgm:pt modelId="{67BF29D7-3AEF-4740-A463-952B53663918}" type="pres">
      <dgm:prSet presAssocID="{DED39099-2724-4030-AF9E-AF61668EA6C0}" presName="parentText" presStyleLbl="node1" presStyleIdx="3" presStyleCnt="4">
        <dgm:presLayoutVars>
          <dgm:chMax val="1"/>
          <dgm:bulletEnabled val="1"/>
        </dgm:presLayoutVars>
      </dgm:prSet>
      <dgm:spPr/>
      <dgm:t>
        <a:bodyPr/>
        <a:lstStyle/>
        <a:p>
          <a:endParaRPr lang="ru-RU"/>
        </a:p>
      </dgm:t>
    </dgm:pt>
    <dgm:pt modelId="{0BF0A57D-0F5F-41C6-BA56-7DACA6BF847C}" type="pres">
      <dgm:prSet presAssocID="{DED39099-2724-4030-AF9E-AF61668EA6C0}" presName="descendantText" presStyleLbl="alignAccFollowNode1" presStyleIdx="3" presStyleCnt="4">
        <dgm:presLayoutVars>
          <dgm:bulletEnabled val="1"/>
        </dgm:presLayoutVars>
      </dgm:prSet>
      <dgm:spPr/>
      <dgm:t>
        <a:bodyPr/>
        <a:lstStyle/>
        <a:p>
          <a:endParaRPr lang="ru-RU"/>
        </a:p>
      </dgm:t>
    </dgm:pt>
  </dgm:ptLst>
  <dgm:cxnLst>
    <dgm:cxn modelId="{AF2C519A-BC8B-49DA-9B3B-B09D2488ECD9}" type="presOf" srcId="{795B2FE1-FAF6-45E5-A37C-C58B42F09663}" destId="{D07F989D-EC17-4ED4-B5E1-F79208B699C5}" srcOrd="0" destOrd="0" presId="urn:microsoft.com/office/officeart/2005/8/layout/vList5"/>
    <dgm:cxn modelId="{A35CD003-3AA7-4F34-B3FF-22EA383FC29B}" type="presOf" srcId="{E740A3C5-DE78-46A8-9332-3FBD8C86536B}" destId="{06F0F83F-EF6C-4FA7-A33D-2859F2E314A5}" srcOrd="0" destOrd="2" presId="urn:microsoft.com/office/officeart/2005/8/layout/vList5"/>
    <dgm:cxn modelId="{F8D47BD6-457B-4113-B05F-2E1F7219D422}" srcId="{F048682C-6EE2-4D27-BF1D-73D7E3A05E1B}" destId="{CD2A66B6-FBFC-4799-9CDB-E04B5F83B14D}" srcOrd="0" destOrd="0" parTransId="{8F47BD34-95ED-4064-A9A7-28E80D68AF6A}" sibTransId="{98B6C477-B749-4645-A41A-5ACCB0BAEB0D}"/>
    <dgm:cxn modelId="{17ABF694-C424-4D1C-B4F0-7863574E4203}" srcId="{DED39099-2724-4030-AF9E-AF61668EA6C0}" destId="{E1A4123B-6141-42BA-9382-B1DC3208D27F}" srcOrd="1" destOrd="0" parTransId="{7695F070-35C3-4DE8-A219-0B22864A3D9E}" sibTransId="{8FC904F6-F192-418F-B254-0E91A9131051}"/>
    <dgm:cxn modelId="{BC891473-31AC-49CB-9485-1884A1990A62}" srcId="{19586091-5183-4AB1-975E-BE01F970E6CD}" destId="{BF96A8F6-E688-4F11-84C8-EE95A783A343}" srcOrd="2" destOrd="0" parTransId="{7176FDF2-E593-4E6C-92A1-426ED51463AF}" sibTransId="{A382952A-94C0-49B1-B5D6-8C9EFAA9BE0E}"/>
    <dgm:cxn modelId="{554C9131-3514-4905-B328-F1A838517A24}" srcId="{DED39099-2724-4030-AF9E-AF61668EA6C0}" destId="{05A0041E-35BE-4132-B562-0973F56774B6}" srcOrd="2" destOrd="0" parTransId="{F4224AA2-5DF4-4119-8213-A63030DA44B8}" sibTransId="{E8DE9995-2408-4598-9C3D-DB92E333E6E8}"/>
    <dgm:cxn modelId="{E8B7BE83-01C4-4CCE-A004-5027F9D2A073}" srcId="{19586091-5183-4AB1-975E-BE01F970E6CD}" destId="{314AF9B7-0F8E-450A-B104-D87BFBDB0451}" srcOrd="3" destOrd="0" parTransId="{E4F230B3-7562-4B3B-A1C1-B3FD5D857A28}" sibTransId="{66787E14-2633-4B27-9143-EC7C5C395146}"/>
    <dgm:cxn modelId="{DCEF0B32-1C1C-4241-B921-5622A86F4DC8}" type="presOf" srcId="{A59B74CA-B2CE-46C4-8E78-AC9FEF0DAAAF}" destId="{0BF0A57D-0F5F-41C6-BA56-7DACA6BF847C}" srcOrd="0" destOrd="0" presId="urn:microsoft.com/office/officeart/2005/8/layout/vList5"/>
    <dgm:cxn modelId="{1EE1B6D5-5264-43CD-8DBB-782A67A996AD}" srcId="{19586091-5183-4AB1-975E-BE01F970E6CD}" destId="{395DE8E0-2AB0-41A5-9CEB-F53DE874CC04}" srcOrd="0" destOrd="0" parTransId="{F75BA493-2626-42A9-8B08-9E516C3EE97D}" sibTransId="{11A56EBE-319A-4915-BA92-AF36568C44D9}"/>
    <dgm:cxn modelId="{8DB98C67-3A20-4EAE-A27C-418C5D6DB5C5}" srcId="{6627CC69-7791-460F-8559-F1046A0E62F3}" destId="{795B2FE1-FAF6-45E5-A37C-C58B42F09663}" srcOrd="2" destOrd="0" parTransId="{36F09E14-7F60-48BA-8909-CF8C3C9FD9CF}" sibTransId="{59EFCC05-B004-4288-842A-D9FD8A10010A}"/>
    <dgm:cxn modelId="{ACE2519B-3ADB-4F1B-91AC-0C6C6CAB5DF6}" srcId="{19586091-5183-4AB1-975E-BE01F970E6CD}" destId="{819FF1D9-4241-491F-BA48-85B35E19DEBA}" srcOrd="4" destOrd="0" parTransId="{79FCBF0D-03DC-4773-B08B-D5D74B4C8F9E}" sibTransId="{D04EEE55-50E1-4649-9363-971E9CB4A35F}"/>
    <dgm:cxn modelId="{FF57378F-9C35-4C49-B4F6-6371BF485AAB}" type="presOf" srcId="{395DE8E0-2AB0-41A5-9CEB-F53DE874CC04}" destId="{6AC875E2-D3BE-42AF-9668-80841ED3EA6E}" srcOrd="0" destOrd="0" presId="urn:microsoft.com/office/officeart/2005/8/layout/vList5"/>
    <dgm:cxn modelId="{5A1F7F2B-516D-4AD6-BEE5-0881157E67CD}" type="presOf" srcId="{E1A4123B-6141-42BA-9382-B1DC3208D27F}" destId="{0BF0A57D-0F5F-41C6-BA56-7DACA6BF847C}" srcOrd="0" destOrd="1" presId="urn:microsoft.com/office/officeart/2005/8/layout/vList5"/>
    <dgm:cxn modelId="{CA2949AA-9F30-44FE-9735-B2A10D0660F3}" srcId="{6627CC69-7791-460F-8559-F1046A0E62F3}" destId="{F048682C-6EE2-4D27-BF1D-73D7E3A05E1B}" srcOrd="1" destOrd="0" parTransId="{F4192F4B-04F4-4191-B0EA-36230D12F74D}" sibTransId="{CC7F7E72-E7FF-40E0-8301-7C283EE71581}"/>
    <dgm:cxn modelId="{1BF059E7-8444-4AA7-9F0A-A87313547F6E}" type="presOf" srcId="{24306B27-27AE-4911-BAF4-B2DD44E2B1B1}" destId="{E5701843-E73A-48B2-877C-FABAA4B9FB2A}" srcOrd="0" destOrd="1" presId="urn:microsoft.com/office/officeart/2005/8/layout/vList5"/>
    <dgm:cxn modelId="{5A0376E7-6D19-49C5-82EF-F36B616314DD}" srcId="{6627CC69-7791-460F-8559-F1046A0E62F3}" destId="{19586091-5183-4AB1-975E-BE01F970E6CD}" srcOrd="0" destOrd="0" parTransId="{29E9DF01-EF73-4768-A601-BEB9E6571740}" sibTransId="{6618790D-47B3-4A2A-AB27-C9365124CC23}"/>
    <dgm:cxn modelId="{4D4E8883-0575-4F37-89A4-D50499B18DC0}" srcId="{795B2FE1-FAF6-45E5-A37C-C58B42F09663}" destId="{109C9DA1-05AB-480A-B043-E5E9ECD06FA6}" srcOrd="0" destOrd="0" parTransId="{9D657DE9-DEC4-4717-AB62-AE0FB33BEDF6}" sibTransId="{ED0D420D-3E34-4951-9F19-617E842FA30E}"/>
    <dgm:cxn modelId="{844850E4-5D2E-4471-9D79-B106EE87DCED}" type="presOf" srcId="{19586091-5183-4AB1-975E-BE01F970E6CD}" destId="{F5C46A94-98D8-4883-B975-4791A0BF9436}" srcOrd="0" destOrd="0" presId="urn:microsoft.com/office/officeart/2005/8/layout/vList5"/>
    <dgm:cxn modelId="{6CF1C0CD-7579-4E5A-89F0-8D65A0C2502C}" srcId="{795B2FE1-FAF6-45E5-A37C-C58B42F09663}" destId="{E740A3C5-DE78-46A8-9332-3FBD8C86536B}" srcOrd="2" destOrd="0" parTransId="{90324035-C46D-4AC7-BFD2-1F3864790A79}" sibTransId="{A66BE24B-6934-4724-9DCE-FC28302859CF}"/>
    <dgm:cxn modelId="{CCB36D19-52F2-48C1-B548-E457910D36D8}" type="presOf" srcId="{39D76D98-6B89-4823-974C-D9DC7AA9BE01}" destId="{06F0F83F-EF6C-4FA7-A33D-2859F2E314A5}" srcOrd="0" destOrd="1" presId="urn:microsoft.com/office/officeart/2005/8/layout/vList5"/>
    <dgm:cxn modelId="{0B9093FA-A292-486A-BD7D-27927E51CC3D}" type="presOf" srcId="{819FF1D9-4241-491F-BA48-85B35E19DEBA}" destId="{6AC875E2-D3BE-42AF-9668-80841ED3EA6E}" srcOrd="0" destOrd="4" presId="urn:microsoft.com/office/officeart/2005/8/layout/vList5"/>
    <dgm:cxn modelId="{21266F3C-4500-42F8-8916-E3192F6DCF15}" srcId="{DED39099-2724-4030-AF9E-AF61668EA6C0}" destId="{A59B74CA-B2CE-46C4-8E78-AC9FEF0DAAAF}" srcOrd="0" destOrd="0" parTransId="{F23A8F3E-11B9-47E3-B513-6710FBC50B11}" sibTransId="{86EE5CDD-08B9-427A-B7D9-DAD174FDDF63}"/>
    <dgm:cxn modelId="{716336F6-BAA3-477B-9928-A5EC2D2E8E12}" type="presOf" srcId="{F048682C-6EE2-4D27-BF1D-73D7E3A05E1B}" destId="{6C803086-5BFA-415D-88BC-AAD0D2BA3A86}" srcOrd="0" destOrd="0" presId="urn:microsoft.com/office/officeart/2005/8/layout/vList5"/>
    <dgm:cxn modelId="{FB418AA3-3AC1-4BF6-8DF5-26B9713488C0}" type="presOf" srcId="{C078F859-8F17-4ABA-BFFF-C9C753DD97EA}" destId="{6AC875E2-D3BE-42AF-9668-80841ED3EA6E}" srcOrd="0" destOrd="1" presId="urn:microsoft.com/office/officeart/2005/8/layout/vList5"/>
    <dgm:cxn modelId="{E6D527E4-5FB0-4E3F-9C2D-8A760ADE5EFE}" type="presOf" srcId="{05A0041E-35BE-4132-B562-0973F56774B6}" destId="{0BF0A57D-0F5F-41C6-BA56-7DACA6BF847C}" srcOrd="0" destOrd="2" presId="urn:microsoft.com/office/officeart/2005/8/layout/vList5"/>
    <dgm:cxn modelId="{9447088C-244F-4018-94E1-C0C9A3735280}" srcId="{F048682C-6EE2-4D27-BF1D-73D7E3A05E1B}" destId="{24306B27-27AE-4911-BAF4-B2DD44E2B1B1}" srcOrd="1" destOrd="0" parTransId="{C307473E-256C-45DA-86C8-BEDC98F8BCF7}" sibTransId="{F020EDAB-6649-4BE6-A181-5F42BFB7FF5A}"/>
    <dgm:cxn modelId="{73DC3AEF-3499-45B9-9C2D-E148931098E8}" type="presOf" srcId="{109C9DA1-05AB-480A-B043-E5E9ECD06FA6}" destId="{06F0F83F-EF6C-4FA7-A33D-2859F2E314A5}" srcOrd="0" destOrd="0" presId="urn:microsoft.com/office/officeart/2005/8/layout/vList5"/>
    <dgm:cxn modelId="{02432087-ED08-495A-8BE2-51EA6904F1B0}" type="presOf" srcId="{BF96A8F6-E688-4F11-84C8-EE95A783A343}" destId="{6AC875E2-D3BE-42AF-9668-80841ED3EA6E}" srcOrd="0" destOrd="2" presId="urn:microsoft.com/office/officeart/2005/8/layout/vList5"/>
    <dgm:cxn modelId="{068CB0A7-1875-41F6-96A7-3D966B555968}" srcId="{6627CC69-7791-460F-8559-F1046A0E62F3}" destId="{DED39099-2724-4030-AF9E-AF61668EA6C0}" srcOrd="3" destOrd="0" parTransId="{8CEA3509-635E-48E9-BC4B-33A91233AD37}" sibTransId="{4F6B1DC4-61E4-4BEB-91BA-D7B2C79CCBD8}"/>
    <dgm:cxn modelId="{FDA3B414-8020-4812-8B17-7BCA7042EE5C}" srcId="{795B2FE1-FAF6-45E5-A37C-C58B42F09663}" destId="{39D76D98-6B89-4823-974C-D9DC7AA9BE01}" srcOrd="1" destOrd="0" parTransId="{609913D0-ED74-4E0E-B3F6-1445B7FF8954}" sibTransId="{59B69C5E-ED98-45FF-A2E1-00D0C03657F1}"/>
    <dgm:cxn modelId="{E63DFB1D-B980-49B0-A8E0-E3FB6386F2F3}" srcId="{19586091-5183-4AB1-975E-BE01F970E6CD}" destId="{C078F859-8F17-4ABA-BFFF-C9C753DD97EA}" srcOrd="1" destOrd="0" parTransId="{90EEB78F-7381-405A-9875-ADF80D1A14BC}" sibTransId="{02315A59-022E-416B-9FF5-F5E14AA1979E}"/>
    <dgm:cxn modelId="{9AFB94CB-2DCB-441F-8FB7-5B054175E28B}" srcId="{795B2FE1-FAF6-45E5-A37C-C58B42F09663}" destId="{5CC635A0-F911-4250-B5E9-CC7BA78837E6}" srcOrd="3" destOrd="0" parTransId="{6BFDAB32-98E7-4B9B-BE41-9B9D77A12483}" sibTransId="{425F4400-48EE-44F7-8C25-2EED7D0934BE}"/>
    <dgm:cxn modelId="{3401AC57-C572-480C-BBFD-B257AC6A8239}" type="presOf" srcId="{314AF9B7-0F8E-450A-B104-D87BFBDB0451}" destId="{6AC875E2-D3BE-42AF-9668-80841ED3EA6E}" srcOrd="0" destOrd="3" presId="urn:microsoft.com/office/officeart/2005/8/layout/vList5"/>
    <dgm:cxn modelId="{BAB17267-7ADD-4381-8375-4D0060BC17C8}" type="presOf" srcId="{DED39099-2724-4030-AF9E-AF61668EA6C0}" destId="{67BF29D7-3AEF-4740-A463-952B53663918}" srcOrd="0" destOrd="0" presId="urn:microsoft.com/office/officeart/2005/8/layout/vList5"/>
    <dgm:cxn modelId="{3D1CED1A-F149-4D89-9C3E-B2CB6EC227B4}" type="presOf" srcId="{6627CC69-7791-460F-8559-F1046A0E62F3}" destId="{18A3FA1A-8669-4324-A29B-DC6787893404}" srcOrd="0" destOrd="0" presId="urn:microsoft.com/office/officeart/2005/8/layout/vList5"/>
    <dgm:cxn modelId="{41434204-DF61-4E1D-B797-E573D02F138D}" type="presOf" srcId="{5CC635A0-F911-4250-B5E9-CC7BA78837E6}" destId="{06F0F83F-EF6C-4FA7-A33D-2859F2E314A5}" srcOrd="0" destOrd="3" presId="urn:microsoft.com/office/officeart/2005/8/layout/vList5"/>
    <dgm:cxn modelId="{27C11A0F-242E-44B6-8669-03F26953878B}" type="presOf" srcId="{CD2A66B6-FBFC-4799-9CDB-E04B5F83B14D}" destId="{E5701843-E73A-48B2-877C-FABAA4B9FB2A}" srcOrd="0" destOrd="0" presId="urn:microsoft.com/office/officeart/2005/8/layout/vList5"/>
    <dgm:cxn modelId="{561F13A1-D107-4700-B028-EA24017F9E1F}" type="presParOf" srcId="{18A3FA1A-8669-4324-A29B-DC6787893404}" destId="{1821C59A-FB83-4C14-823D-EB7C119F4C91}" srcOrd="0" destOrd="0" presId="urn:microsoft.com/office/officeart/2005/8/layout/vList5"/>
    <dgm:cxn modelId="{298E6929-C43B-4740-A44D-3E16E5285BC2}" type="presParOf" srcId="{1821C59A-FB83-4C14-823D-EB7C119F4C91}" destId="{F5C46A94-98D8-4883-B975-4791A0BF9436}" srcOrd="0" destOrd="0" presId="urn:microsoft.com/office/officeart/2005/8/layout/vList5"/>
    <dgm:cxn modelId="{78DF4D9E-B84A-48F8-9C05-859CC04158DE}" type="presParOf" srcId="{1821C59A-FB83-4C14-823D-EB7C119F4C91}" destId="{6AC875E2-D3BE-42AF-9668-80841ED3EA6E}" srcOrd="1" destOrd="0" presId="urn:microsoft.com/office/officeart/2005/8/layout/vList5"/>
    <dgm:cxn modelId="{F01565A6-6E48-476A-842F-872510D49C01}" type="presParOf" srcId="{18A3FA1A-8669-4324-A29B-DC6787893404}" destId="{AAE75731-69BE-46DD-8379-3528469FA98D}" srcOrd="1" destOrd="0" presId="urn:microsoft.com/office/officeart/2005/8/layout/vList5"/>
    <dgm:cxn modelId="{79F0B7F8-864E-4947-B82B-AD3C15ECD1B3}" type="presParOf" srcId="{18A3FA1A-8669-4324-A29B-DC6787893404}" destId="{578FEFA7-6654-4B19-9E84-DFF7C6328A7E}" srcOrd="2" destOrd="0" presId="urn:microsoft.com/office/officeart/2005/8/layout/vList5"/>
    <dgm:cxn modelId="{26AEF83B-BA3D-4F7B-B5C1-64F7BFE488F1}" type="presParOf" srcId="{578FEFA7-6654-4B19-9E84-DFF7C6328A7E}" destId="{6C803086-5BFA-415D-88BC-AAD0D2BA3A86}" srcOrd="0" destOrd="0" presId="urn:microsoft.com/office/officeart/2005/8/layout/vList5"/>
    <dgm:cxn modelId="{DF8D179F-C128-4674-ACA6-107A159C4C54}" type="presParOf" srcId="{578FEFA7-6654-4B19-9E84-DFF7C6328A7E}" destId="{E5701843-E73A-48B2-877C-FABAA4B9FB2A}" srcOrd="1" destOrd="0" presId="urn:microsoft.com/office/officeart/2005/8/layout/vList5"/>
    <dgm:cxn modelId="{7B74DC03-20BE-4761-B409-AA060ECAFBC7}" type="presParOf" srcId="{18A3FA1A-8669-4324-A29B-DC6787893404}" destId="{77BC8E56-3894-4205-BB31-C9928F14AE77}" srcOrd="3" destOrd="0" presId="urn:microsoft.com/office/officeart/2005/8/layout/vList5"/>
    <dgm:cxn modelId="{3A0C934F-0A48-4D84-AAD5-F7AF954449CE}" type="presParOf" srcId="{18A3FA1A-8669-4324-A29B-DC6787893404}" destId="{13669DFA-8715-490F-841A-4A1356A1B4F2}" srcOrd="4" destOrd="0" presId="urn:microsoft.com/office/officeart/2005/8/layout/vList5"/>
    <dgm:cxn modelId="{F7BCEBBD-EA25-4E9F-961C-898BEFA99724}" type="presParOf" srcId="{13669DFA-8715-490F-841A-4A1356A1B4F2}" destId="{D07F989D-EC17-4ED4-B5E1-F79208B699C5}" srcOrd="0" destOrd="0" presId="urn:microsoft.com/office/officeart/2005/8/layout/vList5"/>
    <dgm:cxn modelId="{37671637-D277-4191-BA93-9701DFF77864}" type="presParOf" srcId="{13669DFA-8715-490F-841A-4A1356A1B4F2}" destId="{06F0F83F-EF6C-4FA7-A33D-2859F2E314A5}" srcOrd="1" destOrd="0" presId="urn:microsoft.com/office/officeart/2005/8/layout/vList5"/>
    <dgm:cxn modelId="{3EF35993-2B5D-4EC1-A150-99F5A4018417}" type="presParOf" srcId="{18A3FA1A-8669-4324-A29B-DC6787893404}" destId="{C25BBC23-FD9D-4B4C-928E-A8244F772A8E}" srcOrd="5" destOrd="0" presId="urn:microsoft.com/office/officeart/2005/8/layout/vList5"/>
    <dgm:cxn modelId="{1ACA3B4D-2970-4523-B976-5CDB0E72AA4C}" type="presParOf" srcId="{18A3FA1A-8669-4324-A29B-DC6787893404}" destId="{3B1B2002-40B5-4E68-9996-BCB05C2527D1}" srcOrd="6" destOrd="0" presId="urn:microsoft.com/office/officeart/2005/8/layout/vList5"/>
    <dgm:cxn modelId="{5442259F-BF61-47F6-98AA-53FF46F2E006}" type="presParOf" srcId="{3B1B2002-40B5-4E68-9996-BCB05C2527D1}" destId="{67BF29D7-3AEF-4740-A463-952B53663918}" srcOrd="0" destOrd="0" presId="urn:microsoft.com/office/officeart/2005/8/layout/vList5"/>
    <dgm:cxn modelId="{70E64492-DAA1-4677-AB29-BEE323D42D4C}" type="presParOf" srcId="{3B1B2002-40B5-4E68-9996-BCB05C2527D1}" destId="{0BF0A57D-0F5F-41C6-BA56-7DACA6BF847C}" srcOrd="1" destOrd="0" presId="urn:microsoft.com/office/officeart/2005/8/layout/vList5"/>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ata7.xml><?xml version="1.0" encoding="utf-8"?>
<dgm:dataModel xmlns:dgm="http://schemas.openxmlformats.org/drawingml/2006/diagram" xmlns:a="http://schemas.openxmlformats.org/drawingml/2006/main">
  <dgm:ptLst>
    <dgm:pt modelId="{6627CC69-7791-460F-8559-F1046A0E62F3}" type="doc">
      <dgm:prSet loTypeId="urn:microsoft.com/office/officeart/2005/8/layout/list1"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custT="1"/>
      <dgm:spPr/>
      <dgm:t>
        <a:bodyPr/>
        <a:lstStyle/>
        <a:p>
          <a:r>
            <a:rPr lang="ru-RU" sz="1800" b="1" dirty="0" smtClean="0"/>
            <a:t>Профилактика пролежней</a:t>
          </a:r>
          <a:endParaRPr lang="ru-RU" sz="1800"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a:solidFill>
          <a:schemeClr val="tx2">
            <a:lumMod val="20000"/>
            <a:lumOff val="80000"/>
            <a:alpha val="70000"/>
          </a:schemeClr>
        </a:solidFill>
        <a:ln>
          <a:noFill/>
        </a:ln>
      </dgm:spPr>
      <dgm:t>
        <a:bodyPr/>
        <a:lstStyle/>
        <a:p>
          <a:pPr algn="l"/>
          <a:r>
            <a:rPr lang="ru-RU" sz="1150" dirty="0" smtClean="0"/>
            <a:t>  Использовать функциональную кровать.</a:t>
          </a:r>
          <a:endParaRPr lang="ru-RU" sz="115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C13CEBAA-7974-4DA2-B60C-0999408CAA48}">
      <dgm:prSet custT="1"/>
      <dgm:spPr>
        <a:solidFill>
          <a:schemeClr val="tx2">
            <a:lumMod val="20000"/>
            <a:lumOff val="80000"/>
            <a:alpha val="70000"/>
          </a:schemeClr>
        </a:solidFill>
        <a:ln>
          <a:noFill/>
        </a:ln>
      </dgm:spPr>
      <dgm:t>
        <a:bodyPr/>
        <a:lstStyle/>
        <a:p>
          <a:pPr algn="l"/>
          <a:r>
            <a:rPr lang="ru-RU" sz="1150" dirty="0" smtClean="0"/>
            <a:t>  Использовать </a:t>
          </a:r>
          <a:r>
            <a:rPr lang="ru-RU" sz="1150" dirty="0" err="1" smtClean="0"/>
            <a:t>противопролежневый</a:t>
          </a:r>
          <a:r>
            <a:rPr lang="ru-RU" sz="1150" dirty="0" smtClean="0"/>
            <a:t> матрац или кровать "</a:t>
          </a:r>
          <a:r>
            <a:rPr lang="ru-RU" sz="1150" dirty="0" err="1" smtClean="0"/>
            <a:t>Клинитрон</a:t>
          </a:r>
          <a:r>
            <a:rPr lang="ru-RU" sz="1150" dirty="0" smtClean="0"/>
            <a:t>".</a:t>
          </a:r>
          <a:endParaRPr lang="ru-RU" sz="1150" dirty="0"/>
        </a:p>
      </dgm:t>
    </dgm:pt>
    <dgm:pt modelId="{3F66A9FF-E52A-41E2-BAD7-3BE1D4103F12}" type="parTrans" cxnId="{FBDBE15C-0B59-4332-B8D6-64084D758F0E}">
      <dgm:prSet/>
      <dgm:spPr/>
      <dgm:t>
        <a:bodyPr/>
        <a:lstStyle/>
        <a:p>
          <a:endParaRPr lang="ru-RU"/>
        </a:p>
      </dgm:t>
    </dgm:pt>
    <dgm:pt modelId="{3ECAA204-3BED-4407-8598-504139E420B6}" type="sibTrans" cxnId="{FBDBE15C-0B59-4332-B8D6-64084D758F0E}">
      <dgm:prSet/>
      <dgm:spPr/>
      <dgm:t>
        <a:bodyPr/>
        <a:lstStyle/>
        <a:p>
          <a:endParaRPr lang="ru-RU"/>
        </a:p>
      </dgm:t>
    </dgm:pt>
    <dgm:pt modelId="{EB14EFE6-E755-4285-8095-2E55CD14E5F9}">
      <dgm:prSet custT="1"/>
      <dgm:spPr>
        <a:solidFill>
          <a:schemeClr val="tx2">
            <a:lumMod val="20000"/>
            <a:lumOff val="80000"/>
            <a:alpha val="70000"/>
          </a:schemeClr>
        </a:solidFill>
        <a:ln>
          <a:noFill/>
        </a:ln>
      </dgm:spPr>
      <dgm:t>
        <a:bodyPr/>
        <a:lstStyle/>
        <a:p>
          <a:pPr algn="l"/>
          <a:r>
            <a:rPr lang="ru-RU" sz="1150" dirty="0" smtClean="0"/>
            <a:t>  Ежедневно осматривать кожу в местах возможного образования пролежней: крестец, пятки, затылок, лопатки, внутреннюю поверхность коленных суставов, области большого вертела бедра, лодыжек и т.д.</a:t>
          </a:r>
          <a:endParaRPr lang="ru-RU" sz="1150" dirty="0"/>
        </a:p>
      </dgm:t>
    </dgm:pt>
    <dgm:pt modelId="{7500813C-E42C-4AFE-9BB6-1AD74AE22EEA}" type="parTrans" cxnId="{95694DA8-6E0E-4E99-8967-B83EB384F352}">
      <dgm:prSet/>
      <dgm:spPr/>
      <dgm:t>
        <a:bodyPr/>
        <a:lstStyle/>
        <a:p>
          <a:endParaRPr lang="ru-RU"/>
        </a:p>
      </dgm:t>
    </dgm:pt>
    <dgm:pt modelId="{14964810-FFD8-4E6C-8AF1-D1EB5756DC87}" type="sibTrans" cxnId="{95694DA8-6E0E-4E99-8967-B83EB384F352}">
      <dgm:prSet/>
      <dgm:spPr/>
      <dgm:t>
        <a:bodyPr/>
        <a:lstStyle/>
        <a:p>
          <a:endParaRPr lang="ru-RU"/>
        </a:p>
      </dgm:t>
    </dgm:pt>
    <dgm:pt modelId="{5FE443FD-BBBD-420E-9A22-5F5C3786E4AA}">
      <dgm:prSet custT="1"/>
      <dgm:spPr>
        <a:solidFill>
          <a:schemeClr val="tx2">
            <a:lumMod val="20000"/>
            <a:lumOff val="80000"/>
            <a:alpha val="70000"/>
          </a:schemeClr>
        </a:solidFill>
        <a:ln>
          <a:noFill/>
        </a:ln>
      </dgm:spPr>
      <dgm:t>
        <a:bodyPr/>
        <a:lstStyle/>
        <a:p>
          <a:pPr algn="l"/>
          <a:r>
            <a:rPr lang="ru-RU" sz="1150" dirty="0" smtClean="0"/>
            <a:t>  Подкладывать под места длительного давления валики, подушечки из поролона в хлопчатобумажных (х/б) чехлах.</a:t>
          </a:r>
          <a:endParaRPr lang="ru-RU" sz="1150" dirty="0"/>
        </a:p>
      </dgm:t>
    </dgm:pt>
    <dgm:pt modelId="{90932EF4-CDDF-4B2A-82D3-8BB4195C4665}" type="parTrans" cxnId="{0D37B6B4-8B5A-40DB-8CC0-779114DDB54B}">
      <dgm:prSet/>
      <dgm:spPr/>
      <dgm:t>
        <a:bodyPr/>
        <a:lstStyle/>
        <a:p>
          <a:endParaRPr lang="ru-RU"/>
        </a:p>
      </dgm:t>
    </dgm:pt>
    <dgm:pt modelId="{9147A792-59D5-4846-BF63-7AF477AFCF80}" type="sibTrans" cxnId="{0D37B6B4-8B5A-40DB-8CC0-779114DDB54B}">
      <dgm:prSet/>
      <dgm:spPr/>
      <dgm:t>
        <a:bodyPr/>
        <a:lstStyle/>
        <a:p>
          <a:endParaRPr lang="ru-RU"/>
        </a:p>
      </dgm:t>
    </dgm:pt>
    <dgm:pt modelId="{A3BAEB8A-A95B-41B8-9F33-C9AA25434A76}">
      <dgm:prSet custT="1"/>
      <dgm:spPr>
        <a:solidFill>
          <a:schemeClr val="tx2">
            <a:lumMod val="20000"/>
            <a:lumOff val="80000"/>
            <a:alpha val="70000"/>
          </a:schemeClr>
        </a:solidFill>
        <a:ln>
          <a:noFill/>
        </a:ln>
      </dgm:spPr>
      <dgm:t>
        <a:bodyPr/>
        <a:lstStyle/>
        <a:p>
          <a:pPr algn="l"/>
          <a:r>
            <a:rPr lang="ru-RU" sz="1150" dirty="0" smtClean="0"/>
            <a:t>  Использовать только х/б нательное и постельное бельё. Расправлять складки на белье, стряхивать крошки.</a:t>
          </a:r>
          <a:endParaRPr lang="ru-RU" sz="1150" dirty="0"/>
        </a:p>
      </dgm:t>
    </dgm:pt>
    <dgm:pt modelId="{5EE7C1B2-35A9-4DAB-B557-DA92C9048008}" type="parTrans" cxnId="{7AEEA521-7BDC-438E-AD61-387AE304BA9E}">
      <dgm:prSet/>
      <dgm:spPr/>
      <dgm:t>
        <a:bodyPr/>
        <a:lstStyle/>
        <a:p>
          <a:endParaRPr lang="ru-RU"/>
        </a:p>
      </dgm:t>
    </dgm:pt>
    <dgm:pt modelId="{7FE82341-4315-4162-934B-D5DDB0A447DD}" type="sibTrans" cxnId="{7AEEA521-7BDC-438E-AD61-387AE304BA9E}">
      <dgm:prSet/>
      <dgm:spPr/>
      <dgm:t>
        <a:bodyPr/>
        <a:lstStyle/>
        <a:p>
          <a:endParaRPr lang="ru-RU"/>
        </a:p>
      </dgm:t>
    </dgm:pt>
    <dgm:pt modelId="{4D4BE399-B86D-491F-8E1B-686E67B62512}">
      <dgm:prSet custT="1"/>
      <dgm:spPr>
        <a:solidFill>
          <a:schemeClr val="tx2">
            <a:lumMod val="20000"/>
            <a:lumOff val="80000"/>
            <a:alpha val="70000"/>
          </a:schemeClr>
        </a:solidFill>
        <a:ln>
          <a:noFill/>
        </a:ln>
      </dgm:spPr>
      <dgm:t>
        <a:bodyPr/>
        <a:lstStyle/>
        <a:p>
          <a:pPr algn="l"/>
          <a:r>
            <a:rPr lang="ru-RU" sz="1150" dirty="0" smtClean="0"/>
            <a:t>  Изменять положение пациента в постели, каждые два часа.</a:t>
          </a:r>
          <a:endParaRPr lang="ru-RU" sz="1150" dirty="0"/>
        </a:p>
      </dgm:t>
    </dgm:pt>
    <dgm:pt modelId="{0C42403F-FF7A-4694-96B0-94B2296CB5D0}" type="parTrans" cxnId="{EF5B518B-31FE-4825-8280-74932F149F54}">
      <dgm:prSet/>
      <dgm:spPr/>
      <dgm:t>
        <a:bodyPr/>
        <a:lstStyle/>
        <a:p>
          <a:endParaRPr lang="ru-RU"/>
        </a:p>
      </dgm:t>
    </dgm:pt>
    <dgm:pt modelId="{FFD7F655-B7F0-4FCC-928A-81B33D7C3C63}" type="sibTrans" cxnId="{EF5B518B-31FE-4825-8280-74932F149F54}">
      <dgm:prSet/>
      <dgm:spPr/>
      <dgm:t>
        <a:bodyPr/>
        <a:lstStyle/>
        <a:p>
          <a:endParaRPr lang="ru-RU"/>
        </a:p>
      </dgm:t>
    </dgm:pt>
    <dgm:pt modelId="{1DCC4F33-F92A-44ED-A4FA-24239B081B7F}">
      <dgm:prSet custT="1"/>
      <dgm:spPr>
        <a:solidFill>
          <a:schemeClr val="tx2">
            <a:lumMod val="20000"/>
            <a:lumOff val="80000"/>
            <a:alpha val="70000"/>
          </a:schemeClr>
        </a:solidFill>
        <a:ln>
          <a:noFill/>
        </a:ln>
      </dgm:spPr>
      <dgm:t>
        <a:bodyPr/>
        <a:lstStyle/>
        <a:p>
          <a:pPr algn="l"/>
          <a:r>
            <a:rPr lang="ru-RU" sz="1150" dirty="0" smtClean="0"/>
            <a:t>  Перемещать пациента бережно, исключая трение и сдвиг тканей, приподнимая пациента над постелью, или используя подкладную простыню.</a:t>
          </a:r>
          <a:endParaRPr lang="ru-RU" sz="1150" dirty="0"/>
        </a:p>
      </dgm:t>
    </dgm:pt>
    <dgm:pt modelId="{624FACD9-2F8B-4D63-9494-4697E3DF618C}" type="parTrans" cxnId="{41D467F1-462D-4934-95E7-54335F064C7D}">
      <dgm:prSet/>
      <dgm:spPr/>
      <dgm:t>
        <a:bodyPr/>
        <a:lstStyle/>
        <a:p>
          <a:endParaRPr lang="ru-RU"/>
        </a:p>
      </dgm:t>
    </dgm:pt>
    <dgm:pt modelId="{04D77EDE-DB4B-439F-87E4-1E02D003B650}" type="sibTrans" cxnId="{41D467F1-462D-4934-95E7-54335F064C7D}">
      <dgm:prSet/>
      <dgm:spPr/>
      <dgm:t>
        <a:bodyPr/>
        <a:lstStyle/>
        <a:p>
          <a:endParaRPr lang="ru-RU"/>
        </a:p>
      </dgm:t>
    </dgm:pt>
    <dgm:pt modelId="{BD1758B8-2FF2-45D8-B3E4-21ADF08EAAAF}">
      <dgm:prSet custT="1"/>
      <dgm:spPr>
        <a:solidFill>
          <a:schemeClr val="tx2">
            <a:lumMod val="20000"/>
            <a:lumOff val="80000"/>
            <a:alpha val="70000"/>
          </a:schemeClr>
        </a:solidFill>
        <a:ln>
          <a:noFill/>
        </a:ln>
      </dgm:spPr>
      <dgm:t>
        <a:bodyPr/>
        <a:lstStyle/>
        <a:p>
          <a:pPr algn="l"/>
          <a:r>
            <a:rPr lang="ru-RU" sz="1150" dirty="0" smtClean="0"/>
            <a:t>  Не допускать, чтобы в положении "на боку" пациент лежал непосредственно на большом вертеле бедра.</a:t>
          </a:r>
          <a:endParaRPr lang="ru-RU" sz="1150" dirty="0"/>
        </a:p>
      </dgm:t>
    </dgm:pt>
    <dgm:pt modelId="{37EE644B-B437-47D4-AFAF-FA6334BCF110}" type="parTrans" cxnId="{E60F9B8B-C497-4492-8BEC-4D788E0D25C6}">
      <dgm:prSet/>
      <dgm:spPr/>
      <dgm:t>
        <a:bodyPr/>
        <a:lstStyle/>
        <a:p>
          <a:endParaRPr lang="ru-RU"/>
        </a:p>
      </dgm:t>
    </dgm:pt>
    <dgm:pt modelId="{26CD4969-D2AD-49B9-8EB7-71E8437F606C}" type="sibTrans" cxnId="{E60F9B8B-C497-4492-8BEC-4D788E0D25C6}">
      <dgm:prSet/>
      <dgm:spPr/>
      <dgm:t>
        <a:bodyPr/>
        <a:lstStyle/>
        <a:p>
          <a:endParaRPr lang="ru-RU"/>
        </a:p>
      </dgm:t>
    </dgm:pt>
    <dgm:pt modelId="{A13A406B-903B-44E7-89FA-07CC14BC25D9}">
      <dgm:prSet custT="1"/>
      <dgm:spPr>
        <a:solidFill>
          <a:schemeClr val="tx2">
            <a:lumMod val="20000"/>
            <a:lumOff val="80000"/>
            <a:alpha val="70000"/>
          </a:schemeClr>
        </a:solidFill>
        <a:ln>
          <a:noFill/>
        </a:ln>
      </dgm:spPr>
      <dgm:t>
        <a:bodyPr/>
        <a:lstStyle/>
        <a:p>
          <a:pPr algn="l"/>
          <a:r>
            <a:rPr lang="ru-RU" sz="1150" dirty="0" smtClean="0"/>
            <a:t>  Ежедневно по частям мыть кожу водой с жидким мылом, тщательно смывать мыло и высушивать кожу мягким полотенцем промокательными движениями.</a:t>
          </a:r>
          <a:endParaRPr lang="ru-RU" sz="1150" dirty="0"/>
        </a:p>
      </dgm:t>
    </dgm:pt>
    <dgm:pt modelId="{00532497-4708-47A8-9035-B62860EAB5D5}" type="parTrans" cxnId="{6DDBA262-6C40-465F-A54F-408D7615BDCC}">
      <dgm:prSet/>
      <dgm:spPr/>
      <dgm:t>
        <a:bodyPr/>
        <a:lstStyle/>
        <a:p>
          <a:endParaRPr lang="ru-RU"/>
        </a:p>
      </dgm:t>
    </dgm:pt>
    <dgm:pt modelId="{CC94BD15-510F-41A9-BF81-C5583890CC07}" type="sibTrans" cxnId="{6DDBA262-6C40-465F-A54F-408D7615BDCC}">
      <dgm:prSet/>
      <dgm:spPr/>
      <dgm:t>
        <a:bodyPr/>
        <a:lstStyle/>
        <a:p>
          <a:endParaRPr lang="ru-RU"/>
        </a:p>
      </dgm:t>
    </dgm:pt>
    <dgm:pt modelId="{45974AA5-49FF-4999-A880-B62E3728A822}">
      <dgm:prSet custT="1"/>
      <dgm:spPr>
        <a:solidFill>
          <a:schemeClr val="tx2">
            <a:lumMod val="20000"/>
            <a:lumOff val="80000"/>
            <a:alpha val="70000"/>
          </a:schemeClr>
        </a:solidFill>
        <a:ln>
          <a:noFill/>
        </a:ln>
      </dgm:spPr>
      <dgm:t>
        <a:bodyPr/>
        <a:lstStyle/>
        <a:p>
          <a:pPr algn="l"/>
          <a:r>
            <a:rPr lang="ru-RU" sz="1150" dirty="0" smtClean="0"/>
            <a:t>  При проведении общего массажа кожу обильно смазывать увлажняющим кремом.</a:t>
          </a:r>
          <a:endParaRPr lang="ru-RU" sz="1150" dirty="0"/>
        </a:p>
      </dgm:t>
    </dgm:pt>
    <dgm:pt modelId="{E59668F5-3A26-4B16-866C-4B28C19AFDD4}" type="parTrans" cxnId="{31ACFEC4-98B5-494D-A8DF-AD976F731A63}">
      <dgm:prSet/>
      <dgm:spPr/>
      <dgm:t>
        <a:bodyPr/>
        <a:lstStyle/>
        <a:p>
          <a:endParaRPr lang="ru-RU"/>
        </a:p>
      </dgm:t>
    </dgm:pt>
    <dgm:pt modelId="{1B5187D4-2FAD-479A-B578-9C43942A6095}" type="sibTrans" cxnId="{31ACFEC4-98B5-494D-A8DF-AD976F731A63}">
      <dgm:prSet/>
      <dgm:spPr/>
      <dgm:t>
        <a:bodyPr/>
        <a:lstStyle/>
        <a:p>
          <a:endParaRPr lang="ru-RU"/>
        </a:p>
      </dgm:t>
    </dgm:pt>
    <dgm:pt modelId="{60AA2604-AC1B-4AD3-A179-A1344FFB4EEC}">
      <dgm:prSet custT="1"/>
      <dgm:spPr>
        <a:solidFill>
          <a:schemeClr val="tx2">
            <a:lumMod val="20000"/>
            <a:lumOff val="80000"/>
            <a:alpha val="70000"/>
          </a:schemeClr>
        </a:solidFill>
        <a:ln>
          <a:noFill/>
        </a:ln>
      </dgm:spPr>
      <dgm:t>
        <a:bodyPr/>
        <a:lstStyle/>
        <a:p>
          <a:pPr algn="l"/>
          <a:r>
            <a:rPr lang="ru-RU" sz="1150" dirty="0" smtClean="0"/>
            <a:t>  Проводить легкий массаж кожи с мазью "</a:t>
          </a:r>
          <a:r>
            <a:rPr lang="ru-RU" sz="1150" dirty="0" err="1" smtClean="0"/>
            <a:t>Солкосерил</a:t>
          </a:r>
          <a:r>
            <a:rPr lang="ru-RU" sz="1150" dirty="0" smtClean="0"/>
            <a:t>" в местах её побледнения.</a:t>
          </a:r>
          <a:endParaRPr lang="ru-RU" sz="1150" dirty="0"/>
        </a:p>
      </dgm:t>
    </dgm:pt>
    <dgm:pt modelId="{A7F6BD35-D2FD-4BC4-A39E-34B01EA5DFE9}" type="parTrans" cxnId="{8DD8168C-772F-43B5-9611-56ADFCEC3950}">
      <dgm:prSet/>
      <dgm:spPr/>
      <dgm:t>
        <a:bodyPr/>
        <a:lstStyle/>
        <a:p>
          <a:endParaRPr lang="ru-RU"/>
        </a:p>
      </dgm:t>
    </dgm:pt>
    <dgm:pt modelId="{C20ED4F5-DA12-4921-A2C2-A89F49EB4185}" type="sibTrans" cxnId="{8DD8168C-772F-43B5-9611-56ADFCEC3950}">
      <dgm:prSet/>
      <dgm:spPr/>
      <dgm:t>
        <a:bodyPr/>
        <a:lstStyle/>
        <a:p>
          <a:endParaRPr lang="ru-RU"/>
        </a:p>
      </dgm:t>
    </dgm:pt>
    <dgm:pt modelId="{C7C42DFB-0B12-493E-9795-A3B40A47BFCC}">
      <dgm:prSet custT="1"/>
      <dgm:spPr>
        <a:solidFill>
          <a:schemeClr val="tx2">
            <a:lumMod val="20000"/>
            <a:lumOff val="80000"/>
            <a:alpha val="70000"/>
          </a:schemeClr>
        </a:solidFill>
        <a:ln>
          <a:noFill/>
        </a:ln>
      </dgm:spPr>
      <dgm:t>
        <a:bodyPr/>
        <a:lstStyle/>
        <a:p>
          <a:pPr algn="l"/>
          <a:r>
            <a:rPr lang="ru-RU" sz="1150" dirty="0" smtClean="0"/>
            <a:t>  Использовать непромокаемые пеленки и подгузники, уменьшающие чрезмерную влажность кожи.</a:t>
          </a:r>
          <a:endParaRPr lang="ru-RU" sz="1150" dirty="0"/>
        </a:p>
      </dgm:t>
    </dgm:pt>
    <dgm:pt modelId="{AD3F2BFA-4530-4DAA-B42B-DC93EB9A2B8A}" type="parTrans" cxnId="{B6CFC2EF-3553-427A-B5F7-F1B3095510BC}">
      <dgm:prSet/>
      <dgm:spPr/>
      <dgm:t>
        <a:bodyPr/>
        <a:lstStyle/>
        <a:p>
          <a:endParaRPr lang="ru-RU"/>
        </a:p>
      </dgm:t>
    </dgm:pt>
    <dgm:pt modelId="{B2B7532A-C852-4F8E-BD0A-907ADE124970}" type="sibTrans" cxnId="{B6CFC2EF-3553-427A-B5F7-F1B3095510BC}">
      <dgm:prSet/>
      <dgm:spPr/>
      <dgm:t>
        <a:bodyPr/>
        <a:lstStyle/>
        <a:p>
          <a:endParaRPr lang="ru-RU"/>
        </a:p>
      </dgm:t>
    </dgm:pt>
    <dgm:pt modelId="{3FB7C1A4-D70C-44B1-A6D4-4DDEA6A68494}">
      <dgm:prSet custT="1"/>
      <dgm:spPr>
        <a:solidFill>
          <a:schemeClr val="tx2">
            <a:lumMod val="20000"/>
            <a:lumOff val="80000"/>
            <a:alpha val="70000"/>
          </a:schemeClr>
        </a:solidFill>
        <a:ln>
          <a:noFill/>
        </a:ln>
      </dgm:spPr>
      <dgm:t>
        <a:bodyPr/>
        <a:lstStyle/>
        <a:p>
          <a:pPr algn="l"/>
          <a:r>
            <a:rPr lang="ru-RU" sz="1150" dirty="0" smtClean="0"/>
            <a:t>  Максимально расширять активность пациента.</a:t>
          </a:r>
          <a:endParaRPr lang="ru-RU" sz="1150" dirty="0"/>
        </a:p>
      </dgm:t>
    </dgm:pt>
    <dgm:pt modelId="{04567D41-8536-44A9-9880-F6C87622FCA4}" type="parTrans" cxnId="{34A9FD8A-720E-424D-B548-E901A6DB4445}">
      <dgm:prSet/>
      <dgm:spPr/>
      <dgm:t>
        <a:bodyPr/>
        <a:lstStyle/>
        <a:p>
          <a:endParaRPr lang="ru-RU"/>
        </a:p>
      </dgm:t>
    </dgm:pt>
    <dgm:pt modelId="{C8EAC7DE-CEB9-45B9-8A4E-404EF09D73EA}" type="sibTrans" cxnId="{34A9FD8A-720E-424D-B548-E901A6DB4445}">
      <dgm:prSet/>
      <dgm:spPr/>
      <dgm:t>
        <a:bodyPr/>
        <a:lstStyle/>
        <a:p>
          <a:endParaRPr lang="ru-RU"/>
        </a:p>
      </dgm:t>
    </dgm:pt>
    <dgm:pt modelId="{FD2837C4-60D8-481C-A104-4136DB2F72A1}">
      <dgm:prSet custT="1"/>
      <dgm:spPr>
        <a:solidFill>
          <a:schemeClr val="tx2">
            <a:lumMod val="20000"/>
            <a:lumOff val="80000"/>
            <a:alpha val="70000"/>
          </a:schemeClr>
        </a:solidFill>
        <a:ln>
          <a:noFill/>
        </a:ln>
      </dgm:spPr>
      <dgm:t>
        <a:bodyPr/>
        <a:lstStyle/>
        <a:p>
          <a:pPr algn="l"/>
          <a:r>
            <a:rPr lang="ru-RU" sz="1150" dirty="0" smtClean="0"/>
            <a:t>  Научить пациента и родственников осуществлять уход за кожей.</a:t>
          </a:r>
          <a:endParaRPr lang="ru-RU" sz="1150" dirty="0"/>
        </a:p>
      </dgm:t>
    </dgm:pt>
    <dgm:pt modelId="{79B586B4-E5AC-4C21-B626-FA98F46E3777}" type="parTrans" cxnId="{6956D6A9-2BD5-4D61-9B84-17AFCD9CA1E2}">
      <dgm:prSet/>
      <dgm:spPr/>
      <dgm:t>
        <a:bodyPr/>
        <a:lstStyle/>
        <a:p>
          <a:endParaRPr lang="ru-RU"/>
        </a:p>
      </dgm:t>
    </dgm:pt>
    <dgm:pt modelId="{F6BB9CF0-9634-4F16-B15C-6EF26FFA6497}" type="sibTrans" cxnId="{6956D6A9-2BD5-4D61-9B84-17AFCD9CA1E2}">
      <dgm:prSet/>
      <dgm:spPr/>
      <dgm:t>
        <a:bodyPr/>
        <a:lstStyle/>
        <a:p>
          <a:endParaRPr lang="ru-RU"/>
        </a:p>
      </dgm:t>
    </dgm:pt>
    <dgm:pt modelId="{4C0B395A-D7B4-4E45-8074-14E27F00AD0C}">
      <dgm:prSet custT="1"/>
      <dgm:spPr>
        <a:solidFill>
          <a:schemeClr val="tx2">
            <a:lumMod val="20000"/>
            <a:lumOff val="80000"/>
            <a:alpha val="70000"/>
          </a:schemeClr>
        </a:solidFill>
        <a:ln>
          <a:noFill/>
        </a:ln>
      </dgm:spPr>
      <dgm:t>
        <a:bodyPr/>
        <a:lstStyle/>
        <a:p>
          <a:pPr algn="l"/>
          <a:r>
            <a:rPr lang="ru-RU" sz="1150" dirty="0" smtClean="0"/>
            <a:t>  Следить за полноценным питанием пациента: диета должна содержать не менее 120г белка и 500- 1000 мг аскорбиновой кислоты в сутки. 10г белка содержится в 40г сыра, в одном курином яйце, 55г куриного мяса, 50г нежирного творога, 60г рабы.</a:t>
          </a:r>
          <a:endParaRPr lang="ru-RU" sz="1150" dirty="0"/>
        </a:p>
      </dgm:t>
    </dgm:pt>
    <dgm:pt modelId="{E766A392-D6A4-4315-BE1C-830CB01DAC51}" type="parTrans" cxnId="{596DEF64-B090-4577-920A-88019741FE25}">
      <dgm:prSet/>
      <dgm:spPr/>
      <dgm:t>
        <a:bodyPr/>
        <a:lstStyle/>
        <a:p>
          <a:endParaRPr lang="ru-RU"/>
        </a:p>
      </dgm:t>
    </dgm:pt>
    <dgm:pt modelId="{6E97F59E-9ADB-4078-B6D2-8113A665E3ED}" type="sibTrans" cxnId="{596DEF64-B090-4577-920A-88019741FE25}">
      <dgm:prSet/>
      <dgm:spPr/>
      <dgm:t>
        <a:bodyPr/>
        <a:lstStyle/>
        <a:p>
          <a:endParaRPr lang="ru-RU"/>
        </a:p>
      </dgm:t>
    </dgm:pt>
    <dgm:pt modelId="{B636C677-64E5-4ABC-932A-52F255DEC432}" type="pres">
      <dgm:prSet presAssocID="{6627CC69-7791-460F-8559-F1046A0E62F3}" presName="linear" presStyleCnt="0">
        <dgm:presLayoutVars>
          <dgm:dir/>
          <dgm:animLvl val="lvl"/>
          <dgm:resizeHandles val="exact"/>
        </dgm:presLayoutVars>
      </dgm:prSet>
      <dgm:spPr/>
      <dgm:t>
        <a:bodyPr/>
        <a:lstStyle/>
        <a:p>
          <a:endParaRPr lang="ru-RU"/>
        </a:p>
      </dgm:t>
    </dgm:pt>
    <dgm:pt modelId="{895E0DC4-3E93-43C6-A936-BB2A80100854}" type="pres">
      <dgm:prSet presAssocID="{19586091-5183-4AB1-975E-BE01F970E6CD}" presName="parentLin" presStyleCnt="0"/>
      <dgm:spPr/>
    </dgm:pt>
    <dgm:pt modelId="{B69FD1CC-99D3-43E1-BF98-3B81D34A9D55}" type="pres">
      <dgm:prSet presAssocID="{19586091-5183-4AB1-975E-BE01F970E6CD}" presName="parentLeftMargin" presStyleLbl="node1" presStyleIdx="0" presStyleCnt="1"/>
      <dgm:spPr/>
      <dgm:t>
        <a:bodyPr/>
        <a:lstStyle/>
        <a:p>
          <a:endParaRPr lang="ru-RU"/>
        </a:p>
      </dgm:t>
    </dgm:pt>
    <dgm:pt modelId="{63E669F6-C45B-4DCA-BCEB-51375EC0D924}" type="pres">
      <dgm:prSet presAssocID="{19586091-5183-4AB1-975E-BE01F970E6CD}" presName="parentText" presStyleLbl="node1" presStyleIdx="0" presStyleCnt="1" custScaleY="235235" custLinFactX="529" custLinFactY="-100000" custLinFactNeighborX="100000" custLinFactNeighborY="-110755">
        <dgm:presLayoutVars>
          <dgm:chMax val="0"/>
          <dgm:bulletEnabled val="1"/>
        </dgm:presLayoutVars>
      </dgm:prSet>
      <dgm:spPr/>
      <dgm:t>
        <a:bodyPr/>
        <a:lstStyle/>
        <a:p>
          <a:endParaRPr lang="ru-RU"/>
        </a:p>
      </dgm:t>
    </dgm:pt>
    <dgm:pt modelId="{D013EDBE-3F9E-4B30-9E04-8A5470E6D70E}" type="pres">
      <dgm:prSet presAssocID="{19586091-5183-4AB1-975E-BE01F970E6CD}" presName="negativeSpace" presStyleCnt="0"/>
      <dgm:spPr/>
    </dgm:pt>
    <dgm:pt modelId="{05A56FA5-6B3C-4722-A1E2-4D07E71B0202}" type="pres">
      <dgm:prSet presAssocID="{19586091-5183-4AB1-975E-BE01F970E6CD}" presName="childText" presStyleLbl="conFgAcc1" presStyleIdx="0" presStyleCnt="1" custScaleY="671049">
        <dgm:presLayoutVars>
          <dgm:bulletEnabled val="1"/>
        </dgm:presLayoutVars>
      </dgm:prSet>
      <dgm:spPr/>
      <dgm:t>
        <a:bodyPr/>
        <a:lstStyle/>
        <a:p>
          <a:endParaRPr lang="ru-RU"/>
        </a:p>
      </dgm:t>
    </dgm:pt>
  </dgm:ptLst>
  <dgm:cxnLst>
    <dgm:cxn modelId="{60BFCF8F-9229-4F13-A630-4860EE3643FE}" type="presOf" srcId="{45974AA5-49FF-4999-A880-B62E3728A822}" destId="{05A56FA5-6B3C-4722-A1E2-4D07E71B0202}" srcOrd="0" destOrd="9" presId="urn:microsoft.com/office/officeart/2005/8/layout/list1"/>
    <dgm:cxn modelId="{41D467F1-462D-4934-95E7-54335F064C7D}" srcId="{19586091-5183-4AB1-975E-BE01F970E6CD}" destId="{1DCC4F33-F92A-44ED-A4FA-24239B081B7F}" srcOrd="6" destOrd="0" parTransId="{624FACD9-2F8B-4D63-9494-4697E3DF618C}" sibTransId="{04D77EDE-DB4B-439F-87E4-1E02D003B650}"/>
    <dgm:cxn modelId="{6956D6A9-2BD5-4D61-9B84-17AFCD9CA1E2}" srcId="{19586091-5183-4AB1-975E-BE01F970E6CD}" destId="{FD2837C4-60D8-481C-A104-4136DB2F72A1}" srcOrd="13" destOrd="0" parTransId="{79B586B4-E5AC-4C21-B626-FA98F46E3777}" sibTransId="{F6BB9CF0-9634-4F16-B15C-6EF26FFA6497}"/>
    <dgm:cxn modelId="{7615469C-BA94-4764-B809-04A282C171EF}" type="presOf" srcId="{A13A406B-903B-44E7-89FA-07CC14BC25D9}" destId="{05A56FA5-6B3C-4722-A1E2-4D07E71B0202}" srcOrd="0" destOrd="8" presId="urn:microsoft.com/office/officeart/2005/8/layout/list1"/>
    <dgm:cxn modelId="{DB337AA8-F32A-4286-978A-68AA0BD5EA53}" type="presOf" srcId="{FD2837C4-60D8-481C-A104-4136DB2F72A1}" destId="{05A56FA5-6B3C-4722-A1E2-4D07E71B0202}" srcOrd="0" destOrd="13" presId="urn:microsoft.com/office/officeart/2005/8/layout/list1"/>
    <dgm:cxn modelId="{95694DA8-6E0E-4E99-8967-B83EB384F352}" srcId="{19586091-5183-4AB1-975E-BE01F970E6CD}" destId="{EB14EFE6-E755-4285-8095-2E55CD14E5F9}" srcOrd="2" destOrd="0" parTransId="{7500813C-E42C-4AFE-9BB6-1AD74AE22EEA}" sibTransId="{14964810-FFD8-4E6C-8AF1-D1EB5756DC87}"/>
    <dgm:cxn modelId="{5DE27318-486F-4C0A-A894-09DEA5A1B6C9}" type="presOf" srcId="{4D4BE399-B86D-491F-8E1B-686E67B62512}" destId="{05A56FA5-6B3C-4722-A1E2-4D07E71B0202}" srcOrd="0" destOrd="5" presId="urn:microsoft.com/office/officeart/2005/8/layout/list1"/>
    <dgm:cxn modelId="{8C07C05B-C832-4F07-A571-A80863AE81BC}" type="presOf" srcId="{C13CEBAA-7974-4DA2-B60C-0999408CAA48}" destId="{05A56FA5-6B3C-4722-A1E2-4D07E71B0202}" srcOrd="0" destOrd="1" presId="urn:microsoft.com/office/officeart/2005/8/layout/list1"/>
    <dgm:cxn modelId="{3AEC3295-7B00-463E-A173-2A5D32FC619D}" type="presOf" srcId="{19586091-5183-4AB1-975E-BE01F970E6CD}" destId="{B69FD1CC-99D3-43E1-BF98-3B81D34A9D55}" srcOrd="0" destOrd="0" presId="urn:microsoft.com/office/officeart/2005/8/layout/list1"/>
    <dgm:cxn modelId="{7AEEA521-7BDC-438E-AD61-387AE304BA9E}" srcId="{19586091-5183-4AB1-975E-BE01F970E6CD}" destId="{A3BAEB8A-A95B-41B8-9F33-C9AA25434A76}" srcOrd="4" destOrd="0" parTransId="{5EE7C1B2-35A9-4DAB-B557-DA92C9048008}" sibTransId="{7FE82341-4315-4162-934B-D5DDB0A447DD}"/>
    <dgm:cxn modelId="{3A1CD1FD-DA36-4BFD-9749-0BD9D5599A5E}" type="presOf" srcId="{C7C42DFB-0B12-493E-9795-A3B40A47BFCC}" destId="{05A56FA5-6B3C-4722-A1E2-4D07E71B0202}" srcOrd="0" destOrd="11" presId="urn:microsoft.com/office/officeart/2005/8/layout/list1"/>
    <dgm:cxn modelId="{35649634-A126-435E-A1F5-B9402D1DCBCC}" type="presOf" srcId="{395DE8E0-2AB0-41A5-9CEB-F53DE874CC04}" destId="{05A56FA5-6B3C-4722-A1E2-4D07E71B0202}" srcOrd="0" destOrd="0" presId="urn:microsoft.com/office/officeart/2005/8/layout/list1"/>
    <dgm:cxn modelId="{1EE1B6D5-5264-43CD-8DBB-782A67A996AD}" srcId="{19586091-5183-4AB1-975E-BE01F970E6CD}" destId="{395DE8E0-2AB0-41A5-9CEB-F53DE874CC04}" srcOrd="0" destOrd="0" parTransId="{F75BA493-2626-42A9-8B08-9E516C3EE97D}" sibTransId="{11A56EBE-319A-4915-BA92-AF36568C44D9}"/>
    <dgm:cxn modelId="{23AA2893-D256-413A-B9BB-7C7FEF7E0C4B}" type="presOf" srcId="{19586091-5183-4AB1-975E-BE01F970E6CD}" destId="{63E669F6-C45B-4DCA-BCEB-51375EC0D924}" srcOrd="1" destOrd="0" presId="urn:microsoft.com/office/officeart/2005/8/layout/list1"/>
    <dgm:cxn modelId="{3472AF06-B021-4C20-BA52-1AA766D058B0}" type="presOf" srcId="{60AA2604-AC1B-4AD3-A179-A1344FFB4EEC}" destId="{05A56FA5-6B3C-4722-A1E2-4D07E71B0202}" srcOrd="0" destOrd="10" presId="urn:microsoft.com/office/officeart/2005/8/layout/list1"/>
    <dgm:cxn modelId="{31ACFEC4-98B5-494D-A8DF-AD976F731A63}" srcId="{19586091-5183-4AB1-975E-BE01F970E6CD}" destId="{45974AA5-49FF-4999-A880-B62E3728A822}" srcOrd="9" destOrd="0" parTransId="{E59668F5-3A26-4B16-866C-4B28C19AFDD4}" sibTransId="{1B5187D4-2FAD-479A-B578-9C43942A6095}"/>
    <dgm:cxn modelId="{7FCAA4BB-44FC-4FEF-87BF-D30788FCE724}" type="presOf" srcId="{5FE443FD-BBBD-420E-9A22-5F5C3786E4AA}" destId="{05A56FA5-6B3C-4722-A1E2-4D07E71B0202}" srcOrd="0" destOrd="3" presId="urn:microsoft.com/office/officeart/2005/8/layout/list1"/>
    <dgm:cxn modelId="{74F4134B-2DD0-4868-BE6D-7AF61A56A9BB}" type="presOf" srcId="{EB14EFE6-E755-4285-8095-2E55CD14E5F9}" destId="{05A56FA5-6B3C-4722-A1E2-4D07E71B0202}" srcOrd="0" destOrd="2" presId="urn:microsoft.com/office/officeart/2005/8/layout/list1"/>
    <dgm:cxn modelId="{EF5B518B-31FE-4825-8280-74932F149F54}" srcId="{19586091-5183-4AB1-975E-BE01F970E6CD}" destId="{4D4BE399-B86D-491F-8E1B-686E67B62512}" srcOrd="5" destOrd="0" parTransId="{0C42403F-FF7A-4694-96B0-94B2296CB5D0}" sibTransId="{FFD7F655-B7F0-4FCC-928A-81B33D7C3C63}"/>
    <dgm:cxn modelId="{B6CFC2EF-3553-427A-B5F7-F1B3095510BC}" srcId="{19586091-5183-4AB1-975E-BE01F970E6CD}" destId="{C7C42DFB-0B12-493E-9795-A3B40A47BFCC}" srcOrd="11" destOrd="0" parTransId="{AD3F2BFA-4530-4DAA-B42B-DC93EB9A2B8A}" sibTransId="{B2B7532A-C852-4F8E-BD0A-907ADE124970}"/>
    <dgm:cxn modelId="{8DD8168C-772F-43B5-9611-56ADFCEC3950}" srcId="{19586091-5183-4AB1-975E-BE01F970E6CD}" destId="{60AA2604-AC1B-4AD3-A179-A1344FFB4EEC}" srcOrd="10" destOrd="0" parTransId="{A7F6BD35-D2FD-4BC4-A39E-34B01EA5DFE9}" sibTransId="{C20ED4F5-DA12-4921-A2C2-A89F49EB4185}"/>
    <dgm:cxn modelId="{E60F9B8B-C497-4492-8BEC-4D788E0D25C6}" srcId="{19586091-5183-4AB1-975E-BE01F970E6CD}" destId="{BD1758B8-2FF2-45D8-B3E4-21ADF08EAAAF}" srcOrd="7" destOrd="0" parTransId="{37EE644B-B437-47D4-AFAF-FA6334BCF110}" sibTransId="{26CD4969-D2AD-49B9-8EB7-71E8437F606C}"/>
    <dgm:cxn modelId="{34A9FD8A-720E-424D-B548-E901A6DB4445}" srcId="{19586091-5183-4AB1-975E-BE01F970E6CD}" destId="{3FB7C1A4-D70C-44B1-A6D4-4DDEA6A68494}" srcOrd="12" destOrd="0" parTransId="{04567D41-8536-44A9-9880-F6C87622FCA4}" sibTransId="{C8EAC7DE-CEB9-45B9-8A4E-404EF09D73EA}"/>
    <dgm:cxn modelId="{A77D7239-EECB-468C-909B-C0779BFFD0BC}" type="presOf" srcId="{1DCC4F33-F92A-44ED-A4FA-24239B081B7F}" destId="{05A56FA5-6B3C-4722-A1E2-4D07E71B0202}" srcOrd="0" destOrd="6" presId="urn:microsoft.com/office/officeart/2005/8/layout/list1"/>
    <dgm:cxn modelId="{596DEF64-B090-4577-920A-88019741FE25}" srcId="{19586091-5183-4AB1-975E-BE01F970E6CD}" destId="{4C0B395A-D7B4-4E45-8074-14E27F00AD0C}" srcOrd="14" destOrd="0" parTransId="{E766A392-D6A4-4315-BE1C-830CB01DAC51}" sibTransId="{6E97F59E-9ADB-4078-B6D2-8113A665E3ED}"/>
    <dgm:cxn modelId="{0D37B6B4-8B5A-40DB-8CC0-779114DDB54B}" srcId="{19586091-5183-4AB1-975E-BE01F970E6CD}" destId="{5FE443FD-BBBD-420E-9A22-5F5C3786E4AA}" srcOrd="3" destOrd="0" parTransId="{90932EF4-CDDF-4B2A-82D3-8BB4195C4665}" sibTransId="{9147A792-59D5-4846-BF63-7AF477AFCF80}"/>
    <dgm:cxn modelId="{035F7136-6D7C-4CDB-B9BD-BD0CBBD132D0}" type="presOf" srcId="{6627CC69-7791-460F-8559-F1046A0E62F3}" destId="{B636C677-64E5-4ABC-932A-52F255DEC432}" srcOrd="0" destOrd="0" presId="urn:microsoft.com/office/officeart/2005/8/layout/list1"/>
    <dgm:cxn modelId="{641F98C3-8139-4E4B-8646-9D5891F900C2}" type="presOf" srcId="{4C0B395A-D7B4-4E45-8074-14E27F00AD0C}" destId="{05A56FA5-6B3C-4722-A1E2-4D07E71B0202}" srcOrd="0" destOrd="14" presId="urn:microsoft.com/office/officeart/2005/8/layout/list1"/>
    <dgm:cxn modelId="{6DDBA262-6C40-465F-A54F-408D7615BDCC}" srcId="{19586091-5183-4AB1-975E-BE01F970E6CD}" destId="{A13A406B-903B-44E7-89FA-07CC14BC25D9}" srcOrd="8" destOrd="0" parTransId="{00532497-4708-47A8-9035-B62860EAB5D5}" sibTransId="{CC94BD15-510F-41A9-BF81-C5583890CC07}"/>
    <dgm:cxn modelId="{FBDBE15C-0B59-4332-B8D6-64084D758F0E}" srcId="{19586091-5183-4AB1-975E-BE01F970E6CD}" destId="{C13CEBAA-7974-4DA2-B60C-0999408CAA48}" srcOrd="1" destOrd="0" parTransId="{3F66A9FF-E52A-41E2-BAD7-3BE1D4103F12}" sibTransId="{3ECAA204-3BED-4407-8598-504139E420B6}"/>
    <dgm:cxn modelId="{9ABF5978-0416-459B-A47C-FA9B88027461}" type="presOf" srcId="{BD1758B8-2FF2-45D8-B3E4-21ADF08EAAAF}" destId="{05A56FA5-6B3C-4722-A1E2-4D07E71B0202}" srcOrd="0" destOrd="7" presId="urn:microsoft.com/office/officeart/2005/8/layout/list1"/>
    <dgm:cxn modelId="{38276C67-BD97-472B-8339-FFF03749876B}" type="presOf" srcId="{A3BAEB8A-A95B-41B8-9F33-C9AA25434A76}" destId="{05A56FA5-6B3C-4722-A1E2-4D07E71B0202}" srcOrd="0" destOrd="4" presId="urn:microsoft.com/office/officeart/2005/8/layout/list1"/>
    <dgm:cxn modelId="{3A41375C-C68C-4C0E-8B54-2245F2F6C2C2}" type="presOf" srcId="{3FB7C1A4-D70C-44B1-A6D4-4DDEA6A68494}" destId="{05A56FA5-6B3C-4722-A1E2-4D07E71B0202}" srcOrd="0" destOrd="12" presId="urn:microsoft.com/office/officeart/2005/8/layout/list1"/>
    <dgm:cxn modelId="{5A0376E7-6D19-49C5-82EF-F36B616314DD}" srcId="{6627CC69-7791-460F-8559-F1046A0E62F3}" destId="{19586091-5183-4AB1-975E-BE01F970E6CD}" srcOrd="0" destOrd="0" parTransId="{29E9DF01-EF73-4768-A601-BEB9E6571740}" sibTransId="{6618790D-47B3-4A2A-AB27-C9365124CC23}"/>
    <dgm:cxn modelId="{E932DA49-E7DB-4664-B559-5BB129A232CC}" type="presParOf" srcId="{B636C677-64E5-4ABC-932A-52F255DEC432}" destId="{895E0DC4-3E93-43C6-A936-BB2A80100854}" srcOrd="0" destOrd="0" presId="urn:microsoft.com/office/officeart/2005/8/layout/list1"/>
    <dgm:cxn modelId="{B1AAF11A-396D-4B48-AB02-5469BDB4AA38}" type="presParOf" srcId="{895E0DC4-3E93-43C6-A936-BB2A80100854}" destId="{B69FD1CC-99D3-43E1-BF98-3B81D34A9D55}" srcOrd="0" destOrd="0" presId="urn:microsoft.com/office/officeart/2005/8/layout/list1"/>
    <dgm:cxn modelId="{4C050560-707F-417D-93A2-325F6948E46A}" type="presParOf" srcId="{895E0DC4-3E93-43C6-A936-BB2A80100854}" destId="{63E669F6-C45B-4DCA-BCEB-51375EC0D924}" srcOrd="1" destOrd="0" presId="urn:microsoft.com/office/officeart/2005/8/layout/list1"/>
    <dgm:cxn modelId="{7A9F3EF0-8ECE-4FE9-8D60-A48DAAB7E025}" type="presParOf" srcId="{B636C677-64E5-4ABC-932A-52F255DEC432}" destId="{D013EDBE-3F9E-4B30-9E04-8A5470E6D70E}" srcOrd="1" destOrd="0" presId="urn:microsoft.com/office/officeart/2005/8/layout/list1"/>
    <dgm:cxn modelId="{FCAA83F2-CDA2-4B11-AA25-ED957950CD8C}" type="presParOf" srcId="{B636C677-64E5-4ABC-932A-52F255DEC432}" destId="{05A56FA5-6B3C-4722-A1E2-4D07E71B0202}" srcOrd="2" destOrd="0" presId="urn:microsoft.com/office/officeart/2005/8/layout/list1"/>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407811D-113E-47CA-A318-9B2CDECC706C}">
      <dsp:nvSpPr>
        <dsp:cNvPr id="0" name=""/>
        <dsp:cNvSpPr/>
      </dsp:nvSpPr>
      <dsp:spPr>
        <a:xfrm>
          <a:off x="3089320" y="2314072"/>
          <a:ext cx="2177938" cy="1011922"/>
        </a:xfrm>
        <a:custGeom>
          <a:avLst/>
          <a:gdLst/>
          <a:ahLst/>
          <a:cxnLst/>
          <a:rect l="0" t="0" r="0" b="0"/>
          <a:pathLst>
            <a:path>
              <a:moveTo>
                <a:pt x="0" y="0"/>
              </a:moveTo>
              <a:lnTo>
                <a:pt x="0" y="822648"/>
              </a:lnTo>
              <a:lnTo>
                <a:pt x="2177938" y="822648"/>
              </a:lnTo>
              <a:lnTo>
                <a:pt x="2177938"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5E71F7A-9A77-47B8-8D01-1AFCA94516AB}">
      <dsp:nvSpPr>
        <dsp:cNvPr id="0" name=""/>
        <dsp:cNvSpPr/>
      </dsp:nvSpPr>
      <dsp:spPr>
        <a:xfrm>
          <a:off x="3040380" y="2314072"/>
          <a:ext cx="91440" cy="1011922"/>
        </a:xfrm>
        <a:custGeom>
          <a:avLst/>
          <a:gdLst/>
          <a:ahLst/>
          <a:cxnLst/>
          <a:rect l="0" t="0" r="0" b="0"/>
          <a:pathLst>
            <a:path>
              <a:moveTo>
                <a:pt x="48940" y="0"/>
              </a:moveTo>
              <a:lnTo>
                <a:pt x="48940" y="822648"/>
              </a:lnTo>
              <a:lnTo>
                <a:pt x="45720" y="822648"/>
              </a:lnTo>
              <a:lnTo>
                <a:pt x="4572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EF891C0-F5B7-4AD4-95F2-F9155B809CE7}">
      <dsp:nvSpPr>
        <dsp:cNvPr id="0" name=""/>
        <dsp:cNvSpPr/>
      </dsp:nvSpPr>
      <dsp:spPr>
        <a:xfrm>
          <a:off x="904940" y="2314072"/>
          <a:ext cx="2184379" cy="1011922"/>
        </a:xfrm>
        <a:custGeom>
          <a:avLst/>
          <a:gdLst/>
          <a:ahLst/>
          <a:cxnLst/>
          <a:rect l="0" t="0" r="0" b="0"/>
          <a:pathLst>
            <a:path>
              <a:moveTo>
                <a:pt x="2184379" y="0"/>
              </a:moveTo>
              <a:lnTo>
                <a:pt x="2184379" y="822648"/>
              </a:lnTo>
              <a:lnTo>
                <a:pt x="0" y="822648"/>
              </a:lnTo>
              <a:lnTo>
                <a:pt x="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279C195-3AEA-450D-8F17-EF6ADBE13DEF}">
      <dsp:nvSpPr>
        <dsp:cNvPr id="0" name=""/>
        <dsp:cNvSpPr/>
      </dsp:nvSpPr>
      <dsp:spPr>
        <a:xfrm>
          <a:off x="6441" y="12949"/>
          <a:ext cx="6165758" cy="2301122"/>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b="0" i="0" kern="1200" baseline="0" dirty="0" smtClean="0">
              <a:solidFill>
                <a:srgbClr val="FF0000"/>
              </a:solidFill>
            </a:rPr>
            <a:t>Послеоперационный период </a:t>
          </a:r>
          <a:r>
            <a:rPr lang="ru-RU" sz="2000" b="0" i="0" kern="120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kern="1200" dirty="0"/>
        </a:p>
      </dsp:txBody>
      <dsp:txXfrm>
        <a:off x="6441" y="12949"/>
        <a:ext cx="6165758" cy="2301122"/>
      </dsp:txXfrm>
    </dsp:sp>
    <dsp:sp modelId="{BD496E24-97A9-4FE3-8E6E-6F5BB1D22027}">
      <dsp:nvSpPr>
        <dsp:cNvPr id="0" name=""/>
        <dsp:cNvSpPr/>
      </dsp:nvSpPr>
      <dsp:spPr>
        <a:xfrm>
          <a:off x="3635"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Катаболическая фаза </a:t>
          </a:r>
          <a:endParaRPr lang="ru-RU" sz="2000" kern="1200" dirty="0"/>
        </a:p>
      </dsp:txBody>
      <dsp:txXfrm>
        <a:off x="3635" y="3325995"/>
        <a:ext cx="1802610" cy="901305"/>
      </dsp:txXfrm>
    </dsp:sp>
    <dsp:sp modelId="{05F8E06A-4815-4FDC-AA6B-733ACBA08BAF}">
      <dsp:nvSpPr>
        <dsp:cNvPr id="0" name=""/>
        <dsp:cNvSpPr/>
      </dsp:nvSpPr>
      <dsp:spPr>
        <a:xfrm>
          <a:off x="2184794"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Фаза обратного развития </a:t>
          </a:r>
          <a:endParaRPr lang="ru-RU" sz="2000" kern="1200" dirty="0"/>
        </a:p>
      </dsp:txBody>
      <dsp:txXfrm>
        <a:off x="2184794" y="3325995"/>
        <a:ext cx="1802610" cy="901305"/>
      </dsp:txXfrm>
    </dsp:sp>
    <dsp:sp modelId="{53CD44CB-8412-45C1-96B4-518E14925596}">
      <dsp:nvSpPr>
        <dsp:cNvPr id="0" name=""/>
        <dsp:cNvSpPr/>
      </dsp:nvSpPr>
      <dsp:spPr>
        <a:xfrm>
          <a:off x="4365953"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Анаболическая фаза </a:t>
          </a:r>
          <a:endParaRPr lang="ru-RU" sz="2000" kern="1200" dirty="0"/>
        </a:p>
      </dsp:txBody>
      <dsp:txXfrm>
        <a:off x="4365953" y="3325995"/>
        <a:ext cx="1802610" cy="90130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57F01E3-269A-410B-851B-F5D5F07B4E6F}">
      <dsp:nvSpPr>
        <dsp:cNvPr id="0" name=""/>
        <dsp:cNvSpPr/>
      </dsp:nvSpPr>
      <dsp:spPr>
        <a:xfrm rot="16200000">
          <a:off x="469996" y="-469996"/>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Строгий постельный режим, придать нужное положение больного в постели, профилактика пролежней</a:t>
          </a:r>
          <a:endParaRPr lang="ru-RU" sz="1900" kern="1200" dirty="0"/>
        </a:p>
      </dsp:txBody>
      <dsp:txXfrm rot="5400000">
        <a:off x="0" y="0"/>
        <a:ext cx="3339097" cy="1799328"/>
      </dsp:txXfrm>
    </dsp:sp>
    <dsp:sp modelId="{C0214495-780E-4A83-8E79-F86814CA3B7A}">
      <dsp:nvSpPr>
        <dsp:cNvPr id="0" name=""/>
        <dsp:cNvSpPr/>
      </dsp:nvSpPr>
      <dsp:spPr>
        <a:xfrm>
          <a:off x="3339097" y="0"/>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Двигательная активизация больного с целью профилактики пневмонии, тромбоэмболий и т.п. </a:t>
          </a:r>
          <a:endParaRPr lang="ru-RU" sz="1900" kern="1200" dirty="0"/>
        </a:p>
      </dsp:txBody>
      <dsp:txXfrm>
        <a:off x="3339097" y="0"/>
        <a:ext cx="3339097" cy="1799328"/>
      </dsp:txXfrm>
    </dsp:sp>
    <dsp:sp modelId="{50E21B2A-1092-4339-88E8-C41A0A0F64F9}">
      <dsp:nvSpPr>
        <dsp:cNvPr id="0" name=""/>
        <dsp:cNvSpPr/>
      </dsp:nvSpPr>
      <dsp:spPr>
        <a:xfrm rot="10800000">
          <a:off x="0" y="2399104"/>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Соблюдение золотого правила асептики: все, что происходит в соприкосновение с раной, должно быть стерильно</a:t>
          </a:r>
          <a:endParaRPr lang="ru-RU" sz="1900" kern="1200" dirty="0"/>
        </a:p>
      </dsp:txBody>
      <dsp:txXfrm rot="10800000">
        <a:off x="0" y="2998881"/>
        <a:ext cx="3339097" cy="1799328"/>
      </dsp:txXfrm>
    </dsp:sp>
    <dsp:sp modelId="{FC52991E-7FD9-43A5-9529-5D4DDEBC4755}">
      <dsp:nvSpPr>
        <dsp:cNvPr id="0" name=""/>
        <dsp:cNvSpPr/>
      </dsp:nvSpPr>
      <dsp:spPr>
        <a:xfrm rot="5400000">
          <a:off x="3809093" y="1929108"/>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Больным в бессознательном состоянии, показано парентеральное питание и парентеральное введение жидкости</a:t>
          </a:r>
          <a:endParaRPr lang="ru-RU" sz="1900" kern="1200" dirty="0"/>
        </a:p>
      </dsp:txBody>
      <dsp:txXfrm rot="-5400000">
        <a:off x="3339097" y="2998881"/>
        <a:ext cx="3339097" cy="1799328"/>
      </dsp:txXfrm>
    </dsp:sp>
    <dsp:sp modelId="{F8E2FC67-23B5-425E-8D5E-8522E455E8D0}">
      <dsp:nvSpPr>
        <dsp:cNvPr id="0" name=""/>
        <dsp:cNvSpPr/>
      </dsp:nvSpPr>
      <dsp:spPr>
        <a:xfrm>
          <a:off x="1325561" y="1743219"/>
          <a:ext cx="4027071" cy="1311770"/>
        </a:xfrm>
        <a:prstGeom prst="roundRect">
          <a:avLst/>
        </a:prstGeom>
        <a:gradFill rotWithShape="0">
          <a:gsLst>
            <a:gs pos="0">
              <a:schemeClr val="accent1">
                <a:tint val="60000"/>
                <a:hueOff val="0"/>
                <a:satOff val="0"/>
                <a:lumOff val="0"/>
                <a:alphaOff val="0"/>
                <a:tint val="50000"/>
                <a:satMod val="300000"/>
              </a:schemeClr>
            </a:gs>
            <a:gs pos="35000">
              <a:schemeClr val="accent1">
                <a:tint val="60000"/>
                <a:hueOff val="0"/>
                <a:satOff val="0"/>
                <a:lumOff val="0"/>
                <a:alphaOff val="0"/>
                <a:tint val="37000"/>
                <a:satMod val="300000"/>
              </a:schemeClr>
            </a:gs>
            <a:gs pos="100000">
              <a:schemeClr val="accent1">
                <a:tint val="60000"/>
                <a:hueOff val="0"/>
                <a:satOff val="0"/>
                <a:lumOff val="0"/>
                <a:alphaOff val="0"/>
                <a:tint val="15000"/>
                <a:satMod val="350000"/>
              </a:schemeClr>
            </a:gs>
          </a:gsLst>
          <a:lin ang="16200000" scaled="1"/>
        </a:gradFill>
        <a:ln w="9525"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1">
          <a:scrgbClr r="0" g="0" b="0"/>
        </a:lnRef>
        <a:fillRef idx="2">
          <a:scrgbClr r="0" g="0" b="0"/>
        </a:fillRef>
        <a:effectRef idx="1">
          <a:scrgbClr r="0" g="0" b="0"/>
        </a:effectRef>
        <a:fontRef idx="minor"/>
      </dsp:style>
      <dsp:txBody>
        <a:bodyPr spcFirstLastPara="0" vert="horz" wrap="square" lIns="72390" tIns="72390" rIns="72390" bIns="72390" numCol="1" spcCol="1270" anchor="ctr" anchorCtr="0">
          <a:noAutofit/>
        </a:bodyPr>
        <a:lstStyle/>
        <a:p>
          <a:pPr lvl="0" algn="ctr" defTabSz="844550">
            <a:lnSpc>
              <a:spcPct val="90000"/>
            </a:lnSpc>
            <a:spcBef>
              <a:spcPct val="0"/>
            </a:spcBef>
            <a:spcAft>
              <a:spcPct val="35000"/>
            </a:spcAft>
          </a:pPr>
          <a:r>
            <a:rPr lang="ru-RU" sz="1900" b="1" kern="1200" dirty="0" smtClean="0">
              <a:solidFill>
                <a:schemeClr val="tx2">
                  <a:lumMod val="50000"/>
                </a:schemeClr>
              </a:solidFill>
            </a:rPr>
            <a:t>СОЗДАНИЕ И ОБЕСПЕЧЕНИЕ В ОТДЕЛЕНИИ ЛЕЧЕБНО-ОХРАНИТЕЛЬНОГО РЕЖИМА</a:t>
          </a:r>
          <a:endParaRPr lang="ru-RU" sz="1900" b="1" kern="1200" dirty="0">
            <a:solidFill>
              <a:schemeClr val="tx2">
                <a:lumMod val="50000"/>
              </a:schemeClr>
            </a:solidFill>
          </a:endParaRPr>
        </a:p>
      </dsp:txBody>
      <dsp:txXfrm>
        <a:off x="1389596" y="1807254"/>
        <a:ext cx="3899001" cy="11837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16292"/>
          <a:ext cx="3703320" cy="616121"/>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kern="1200" dirty="0"/>
        </a:p>
      </dsp:txBody>
      <dsp:txXfrm>
        <a:off x="2468880" y="93307"/>
        <a:ext cx="3472275" cy="462091"/>
      </dsp:txXfrm>
    </dsp:sp>
    <dsp:sp modelId="{E310E5E9-9005-4728-A4F4-65A3F1262937}">
      <dsp:nvSpPr>
        <dsp:cNvPr id="0" name=""/>
        <dsp:cNvSpPr/>
      </dsp:nvSpPr>
      <dsp:spPr>
        <a:xfrm>
          <a:off x="0" y="4283"/>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Внешний вид больного. </a:t>
          </a:r>
          <a:endParaRPr lang="ru-RU" sz="1600" kern="1200" dirty="0"/>
        </a:p>
      </dsp:txBody>
      <dsp:txXfrm>
        <a:off x="31249" y="35532"/>
        <a:ext cx="2406382" cy="577641"/>
      </dsp:txXfrm>
    </dsp:sp>
    <dsp:sp modelId="{788BE93E-7CE5-4B34-B1D6-DF765871C4BD}">
      <dsp:nvSpPr>
        <dsp:cNvPr id="0" name=""/>
        <dsp:cNvSpPr/>
      </dsp:nvSpPr>
      <dsp:spPr>
        <a:xfrm>
          <a:off x="2468880" y="70843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kern="1200" dirty="0"/>
        </a:p>
      </dsp:txBody>
      <dsp:txXfrm>
        <a:off x="2468880" y="788453"/>
        <a:ext cx="3463268" cy="480105"/>
      </dsp:txXfrm>
    </dsp:sp>
    <dsp:sp modelId="{9ACA42E0-9C6B-4D87-8CDA-86CECF62A32D}">
      <dsp:nvSpPr>
        <dsp:cNvPr id="0" name=""/>
        <dsp:cNvSpPr/>
      </dsp:nvSpPr>
      <dsp:spPr>
        <a:xfrm>
          <a:off x="0" y="70843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деятельностью сердца </a:t>
          </a:r>
          <a:endParaRPr lang="ru-RU" sz="1600" kern="1200" dirty="0"/>
        </a:p>
      </dsp:txBody>
      <dsp:txXfrm>
        <a:off x="31249" y="739685"/>
        <a:ext cx="2406382" cy="577641"/>
      </dsp:txXfrm>
    </dsp:sp>
    <dsp:sp modelId="{D0B9CB71-A85C-49FE-BCE1-36F5AF06FF30}">
      <dsp:nvSpPr>
        <dsp:cNvPr id="0" name=""/>
        <dsp:cNvSpPr/>
      </dsp:nvSpPr>
      <dsp:spPr>
        <a:xfrm>
          <a:off x="2468880" y="141258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Обращаем внимание на ритмичность и частоту дыхательных движений, большое значение имеет также глубина дыхания.</a:t>
          </a:r>
          <a:endParaRPr lang="ru-RU" sz="1000" b="1" kern="1200" dirty="0"/>
        </a:p>
      </dsp:txBody>
      <dsp:txXfrm>
        <a:off x="2468880" y="1492606"/>
        <a:ext cx="3463268" cy="480105"/>
      </dsp:txXfrm>
    </dsp:sp>
    <dsp:sp modelId="{171C1C26-68D8-4F8F-A949-5A62B1F9B304}">
      <dsp:nvSpPr>
        <dsp:cNvPr id="0" name=""/>
        <dsp:cNvSpPr/>
      </dsp:nvSpPr>
      <dsp:spPr>
        <a:xfrm>
          <a:off x="0" y="141258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дыхания</a:t>
          </a:r>
          <a:endParaRPr lang="ru-RU" sz="1600" kern="1200" dirty="0"/>
        </a:p>
      </dsp:txBody>
      <dsp:txXfrm>
        <a:off x="31249" y="1443838"/>
        <a:ext cx="2406382" cy="577641"/>
      </dsp:txXfrm>
    </dsp:sp>
    <dsp:sp modelId="{70585421-3264-4AF5-8BC8-817012D9BEFB}">
      <dsp:nvSpPr>
        <dsp:cNvPr id="0" name=""/>
        <dsp:cNvSpPr/>
      </dsp:nvSpPr>
      <dsp:spPr>
        <a:xfrm>
          <a:off x="2468880" y="211674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зволяет также оценить состояние больного, выявить некоторые начинающиеся осложнения. </a:t>
          </a:r>
          <a:endParaRPr lang="ru-RU" sz="1000" b="1" kern="1200" dirty="0"/>
        </a:p>
      </dsp:txBody>
      <dsp:txXfrm>
        <a:off x="2468880" y="2196759"/>
        <a:ext cx="3463268" cy="480105"/>
      </dsp:txXfrm>
    </dsp:sp>
    <dsp:sp modelId="{D5386A74-128E-46E3-B514-0A71D32F0AFD}">
      <dsp:nvSpPr>
        <dsp:cNvPr id="0" name=""/>
        <dsp:cNvSpPr/>
      </dsp:nvSpPr>
      <dsp:spPr>
        <a:xfrm>
          <a:off x="0" y="211674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пищеварения </a:t>
          </a:r>
          <a:endParaRPr lang="ru-RU" sz="1600" kern="1200" dirty="0"/>
        </a:p>
      </dsp:txBody>
      <dsp:txXfrm>
        <a:off x="31249" y="2147991"/>
        <a:ext cx="2406382" cy="577641"/>
      </dsp:txXfrm>
    </dsp:sp>
    <dsp:sp modelId="{6455B7C6-DD24-4EE8-8B97-9E8F99E820E0}">
      <dsp:nvSpPr>
        <dsp:cNvPr id="0" name=""/>
        <dsp:cNvSpPr/>
      </dsp:nvSpPr>
      <dsp:spPr>
        <a:xfrm>
          <a:off x="2468880" y="282089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kern="1200" dirty="0"/>
        </a:p>
      </dsp:txBody>
      <dsp:txXfrm>
        <a:off x="2468880" y="2900913"/>
        <a:ext cx="3463268" cy="480105"/>
      </dsp:txXfrm>
    </dsp:sp>
    <dsp:sp modelId="{44C8A081-9BC2-482E-BFED-4D15831C6DF1}">
      <dsp:nvSpPr>
        <dsp:cNvPr id="0" name=""/>
        <dsp:cNvSpPr/>
      </dsp:nvSpPr>
      <dsp:spPr>
        <a:xfrm>
          <a:off x="0" y="282089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функцией органов мочевыделения</a:t>
          </a:r>
          <a:endParaRPr lang="ru-RU" sz="1600" kern="1200" dirty="0"/>
        </a:p>
      </dsp:txBody>
      <dsp:txXfrm>
        <a:off x="31249" y="2852145"/>
        <a:ext cx="2406382" cy="577641"/>
      </dsp:txXfrm>
    </dsp:sp>
    <dsp:sp modelId="{FB79170D-415E-421C-B13C-4984A395E372}">
      <dsp:nvSpPr>
        <dsp:cNvPr id="0" name=""/>
        <dsp:cNvSpPr/>
      </dsp:nvSpPr>
      <dsp:spPr>
        <a:xfrm>
          <a:off x="2468880" y="352504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kern="1200" dirty="0"/>
        </a:p>
      </dsp:txBody>
      <dsp:txXfrm>
        <a:off x="2468880" y="3605066"/>
        <a:ext cx="3463268" cy="480105"/>
      </dsp:txXfrm>
    </dsp:sp>
    <dsp:sp modelId="{C6689A3A-F757-4218-AA55-AA06494D17D5}">
      <dsp:nvSpPr>
        <dsp:cNvPr id="0" name=""/>
        <dsp:cNvSpPr/>
      </dsp:nvSpPr>
      <dsp:spPr>
        <a:xfrm>
          <a:off x="0" y="352504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кожными покровами</a:t>
          </a:r>
          <a:endParaRPr lang="ru-RU" sz="1600" kern="1200" dirty="0"/>
        </a:p>
      </dsp:txBody>
      <dsp:txXfrm>
        <a:off x="31249" y="3556298"/>
        <a:ext cx="2406382" cy="577641"/>
      </dsp:txXfrm>
    </dsp:sp>
    <dsp:sp modelId="{A77A2579-8F54-4EFE-B3B0-8895F0911A28}">
      <dsp:nvSpPr>
        <dsp:cNvPr id="0" name=""/>
        <dsp:cNvSpPr/>
      </dsp:nvSpPr>
      <dsp:spPr>
        <a:xfrm>
          <a:off x="2468880" y="422920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sz="1100" b="1" kern="1200" dirty="0"/>
        </a:p>
      </dsp:txBody>
      <dsp:txXfrm>
        <a:off x="2468880" y="4309219"/>
        <a:ext cx="3463268" cy="480105"/>
      </dsp:txXfrm>
    </dsp:sp>
    <dsp:sp modelId="{95E8E9CA-AFD0-42FA-AB30-8B867286D362}">
      <dsp:nvSpPr>
        <dsp:cNvPr id="0" name=""/>
        <dsp:cNvSpPr/>
      </dsp:nvSpPr>
      <dsp:spPr>
        <a:xfrm>
          <a:off x="0" y="422920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бластью операционной раны</a:t>
          </a:r>
          <a:endParaRPr lang="ru-RU" sz="1600" kern="1200" dirty="0"/>
        </a:p>
      </dsp:txBody>
      <dsp:txXfrm>
        <a:off x="31249" y="4260451"/>
        <a:ext cx="2406382" cy="57764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23149"/>
          <a:ext cx="3703320" cy="1187662"/>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kern="1200" dirty="0"/>
        </a:p>
      </dsp:txBody>
      <dsp:txXfrm>
        <a:off x="2468880" y="171607"/>
        <a:ext cx="3257947" cy="890746"/>
      </dsp:txXfrm>
    </dsp:sp>
    <dsp:sp modelId="{E310E5E9-9005-4728-A4F4-65A3F1262937}">
      <dsp:nvSpPr>
        <dsp:cNvPr id="0" name=""/>
        <dsp:cNvSpPr/>
      </dsp:nvSpPr>
      <dsp:spPr>
        <a:xfrm>
          <a:off x="0" y="0"/>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полостью рта</a:t>
          </a:r>
          <a:endParaRPr lang="ru-RU" sz="2400" kern="1200" dirty="0"/>
        </a:p>
      </dsp:txBody>
      <dsp:txXfrm>
        <a:off x="60237" y="60237"/>
        <a:ext cx="2348406" cy="1113486"/>
      </dsp:txXfrm>
    </dsp:sp>
    <dsp:sp modelId="{788BE93E-7CE5-4B34-B1D6-DF765871C4BD}">
      <dsp:nvSpPr>
        <dsp:cNvPr id="0" name=""/>
        <dsp:cNvSpPr/>
      </dsp:nvSpPr>
      <dsp:spPr>
        <a:xfrm>
          <a:off x="2468880" y="1357356"/>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kern="1200" dirty="0"/>
        </a:p>
      </dsp:txBody>
      <dsp:txXfrm>
        <a:off x="2468880" y="1511601"/>
        <a:ext cx="3240585" cy="925470"/>
      </dsp:txXfrm>
    </dsp:sp>
    <dsp:sp modelId="{9ACA42E0-9C6B-4D87-8CDA-86CECF62A32D}">
      <dsp:nvSpPr>
        <dsp:cNvPr id="0" name=""/>
        <dsp:cNvSpPr/>
      </dsp:nvSpPr>
      <dsp:spPr>
        <a:xfrm>
          <a:off x="0" y="1357356"/>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кожей</a:t>
          </a:r>
          <a:endParaRPr lang="ru-RU" sz="2400" kern="1200" dirty="0"/>
        </a:p>
      </dsp:txBody>
      <dsp:txXfrm>
        <a:off x="60237" y="1417593"/>
        <a:ext cx="2348406" cy="1113486"/>
      </dsp:txXfrm>
    </dsp:sp>
    <dsp:sp modelId="{D0B9CB71-A85C-49FE-BCE1-36F5AF06FF30}">
      <dsp:nvSpPr>
        <dsp:cNvPr id="0" name=""/>
        <dsp:cNvSpPr/>
      </dsp:nvSpPr>
      <dsp:spPr>
        <a:xfrm>
          <a:off x="2468880" y="2714713"/>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a:t>
          </a:r>
          <a:r>
            <a:rPr lang="ru-RU" sz="1000" b="1" kern="1200"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kern="1200" dirty="0" err="1" smtClean="0"/>
            <a:t>тупфера</a:t>
          </a:r>
          <a:r>
            <a:rPr lang="ru-RU" sz="1000" b="1" kern="1200" dirty="0" smtClean="0"/>
            <a:t> обрабатывают промежность и затем вытирают ее насух</a:t>
          </a:r>
          <a:r>
            <a:rPr lang="ru-RU" sz="1100" b="1" kern="1200" dirty="0" smtClean="0"/>
            <a:t>о</a:t>
          </a:r>
          <a:endParaRPr lang="ru-RU" sz="1100" b="1" kern="1200" dirty="0"/>
        </a:p>
      </dsp:txBody>
      <dsp:txXfrm>
        <a:off x="2468880" y="2868958"/>
        <a:ext cx="3240585" cy="925470"/>
      </dsp:txXfrm>
    </dsp:sp>
    <dsp:sp modelId="{171C1C26-68D8-4F8F-A949-5A62B1F9B304}">
      <dsp:nvSpPr>
        <dsp:cNvPr id="0" name=""/>
        <dsp:cNvSpPr/>
      </dsp:nvSpPr>
      <dsp:spPr>
        <a:xfrm>
          <a:off x="0" y="2714713"/>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областью промежности</a:t>
          </a:r>
          <a:endParaRPr lang="ru-RU" sz="2400" kern="1200" dirty="0"/>
        </a:p>
      </dsp:txBody>
      <dsp:txXfrm>
        <a:off x="60237" y="2774950"/>
        <a:ext cx="2348406" cy="1113486"/>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34D678D-5C2D-4733-9F8E-054E1FCF49D2}">
      <dsp:nvSpPr>
        <dsp:cNvPr id="0" name=""/>
        <dsp:cNvSpPr/>
      </dsp:nvSpPr>
      <dsp:spPr>
        <a:xfrm>
          <a:off x="1240716"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sz="1700" kern="1200" dirty="0"/>
        </a:p>
      </dsp:txBody>
      <dsp:txXfrm>
        <a:off x="1240716" y="543"/>
        <a:ext cx="3005195" cy="1803117"/>
      </dsp:txXfrm>
    </dsp:sp>
    <dsp:sp modelId="{7897E413-281A-4140-BAE8-D09CCC0AAC0D}">
      <dsp:nvSpPr>
        <dsp:cNvPr id="0" name=""/>
        <dsp:cNvSpPr/>
      </dsp:nvSpPr>
      <dsp:spPr>
        <a:xfrm>
          <a:off x="4546431"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sz="1700" kern="1200" dirty="0"/>
        </a:p>
      </dsp:txBody>
      <dsp:txXfrm>
        <a:off x="4546431" y="543"/>
        <a:ext cx="3005195" cy="1803117"/>
      </dsp:txXfrm>
    </dsp:sp>
    <dsp:sp modelId="{50ADA2E5-ED50-4910-8010-6572229D06E2}">
      <dsp:nvSpPr>
        <dsp:cNvPr id="0" name=""/>
        <dsp:cNvSpPr/>
      </dsp:nvSpPr>
      <dsp:spPr>
        <a:xfrm>
          <a:off x="1240716"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Преобладающее оперативное лечение среди обследуемой группы – </a:t>
          </a:r>
          <a:r>
            <a:rPr lang="ru-RU" sz="1700" kern="1200" dirty="0" err="1" smtClean="0"/>
            <a:t>холецистэктомия</a:t>
          </a:r>
          <a:r>
            <a:rPr lang="ru-RU" sz="1700" kern="1200" dirty="0" smtClean="0"/>
            <a:t> (15,9%), остальные оперативные вмешательства представлены небольшими группами (от 1,4% - до 7,2%).</a:t>
          </a:r>
          <a:endParaRPr lang="ru-RU" sz="1700" kern="1200" dirty="0"/>
        </a:p>
      </dsp:txBody>
      <dsp:txXfrm>
        <a:off x="1240716" y="2104180"/>
        <a:ext cx="3005195" cy="1803117"/>
      </dsp:txXfrm>
    </dsp:sp>
    <dsp:sp modelId="{A84237B4-49B0-4E27-BDE7-5D99297CF8F2}">
      <dsp:nvSpPr>
        <dsp:cNvPr id="0" name=""/>
        <dsp:cNvSpPr/>
      </dsp:nvSpPr>
      <dsp:spPr>
        <a:xfrm>
          <a:off x="4546431"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Основной причиной осложнений явилось позднее обращение (44,6%), стертость клинической картины (14,2%) и прочие факторы (26,7%).</a:t>
          </a:r>
          <a:endParaRPr lang="ru-RU" sz="1700" kern="1200" dirty="0"/>
        </a:p>
      </dsp:txBody>
      <dsp:txXfrm>
        <a:off x="4546431" y="2104180"/>
        <a:ext cx="3005195" cy="1803117"/>
      </dsp:txXfrm>
    </dsp:sp>
    <dsp:sp modelId="{68ED2004-3E48-45EA-880E-66C3102B5795}">
      <dsp:nvSpPr>
        <dsp:cNvPr id="0" name=""/>
        <dsp:cNvSpPr/>
      </dsp:nvSpPr>
      <dsp:spPr>
        <a:xfrm>
          <a:off x="1208545" y="4207817"/>
          <a:ext cx="6375252" cy="926820"/>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sz="1700" kern="1200" dirty="0"/>
        </a:p>
      </dsp:txBody>
      <dsp:txXfrm>
        <a:off x="1208545" y="4207817"/>
        <a:ext cx="6375252" cy="926820"/>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matrix1">
  <dgm:title val=""/>
  <dgm:desc val=""/>
  <dgm:catLst>
    <dgm:cat type="matrix" pri="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styleData>
  <dgm:clr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clrData>
  <dgm:layoutNode name="diagram">
    <dgm:varLst>
      <dgm:chMax val="1"/>
      <dgm:dir/>
      <dgm:animLvl val="ctr"/>
      <dgm:resizeHandles val="exact"/>
    </dgm:varLst>
    <dgm:alg type="composite"/>
    <dgm:shape xmlns:r="http://schemas.openxmlformats.org/officeDocument/2006/relationships" r:blip="">
      <dgm:adjLst/>
    </dgm:shape>
    <dgm:presOf/>
    <dgm:constrLst>
      <dgm:constr type="ctrX" for="ch" forName="matrix" refType="w" fact="0.5"/>
      <dgm:constr type="ctrY" for="ch" forName="matrix" refType="h" fact="0.5"/>
      <dgm:constr type="w" for="ch" forName="matrix" refType="w"/>
      <dgm:constr type="h" for="ch" forName="matrix" refType="h"/>
      <dgm:constr type="ctrX" for="ch" forName="centerTile" refType="w" fact="0.5"/>
      <dgm:constr type="ctrY" for="ch" forName="centerTile" refType="h" fact="0.5"/>
      <dgm:constr type="w" for="ch" forName="centerTile" refType="w" fact="0.3"/>
      <dgm:constr type="h" for="ch" forName="centerTile" refType="h" fact="0.25"/>
      <dgm:constr type="primFontSz" for="des" ptType="node" op="equ" val="65"/>
    </dgm:constrLst>
    <dgm:ruleLst/>
    <dgm:choose name="Name0">
      <dgm:if name="Name1" axis="ch" ptType="node" func="cnt" op="gte" val="1">
        <dgm:layoutNode name="matrix">
          <dgm:alg type="composite"/>
          <dgm:shape xmlns:r="http://schemas.openxmlformats.org/officeDocument/2006/relationships" r:blip="">
            <dgm:adjLst/>
          </dgm:shape>
          <dgm:presOf/>
          <dgm:constrLst>
            <dgm:constr type="l" for="ch" forName="tile1"/>
            <dgm:constr type="t" for="ch" forName="tile1"/>
            <dgm:constr type="r" for="ch" forName="tile1" refType="w" fact="0.5"/>
            <dgm:constr type="b" for="ch" forName="tile1" refType="h" fact="0.5"/>
            <dgm:constr type="l" for="ch" forName="tile1text" refType="l" refFor="ch" refForName="tile1"/>
            <dgm:constr type="t" for="ch" forName="tile1text" refType="t" refFor="ch" refForName="tile1"/>
            <dgm:constr type="w" for="ch" forName="tile1text" refType="w" refFor="ch" refForName="tile1"/>
            <dgm:constr type="h" for="ch" forName="tile1text" refType="h" refFor="ch" refForName="tile1" fact="0.75"/>
            <dgm:constr type="r" for="ch" forName="tile2" refType="w"/>
            <dgm:constr type="t" for="ch" forName="tile2"/>
            <dgm:constr type="l" for="ch" forName="tile2" refType="w" fact="0.5"/>
            <dgm:constr type="b" for="ch" forName="tile2" refType="h" fact="0.5"/>
            <dgm:constr type="r" for="ch" forName="tile2text" refType="r" refFor="ch" refForName="tile2"/>
            <dgm:constr type="t" for="ch" forName="tile2text" refType="t" refFor="ch" refForName="tile2"/>
            <dgm:constr type="w" for="ch" forName="tile2text" refType="w" refFor="ch" refForName="tile2"/>
            <dgm:constr type="h" for="ch" forName="tile2text" refType="h" refFor="ch" refForName="tile2" fact="0.75"/>
            <dgm:constr type="l" for="ch" forName="tile3"/>
            <dgm:constr type="b" for="ch" forName="tile3" refType="h"/>
            <dgm:constr type="r" for="ch" forName="tile3" refType="w" fact="0.5"/>
            <dgm:constr type="t" for="ch" forName="tile3" refType="h" fact="0.5"/>
            <dgm:constr type="l" for="ch" forName="tile3text" refType="l" refFor="ch" refForName="tile3"/>
            <dgm:constr type="b" for="ch" forName="tile3text" refType="b" refFor="ch" refForName="tile3"/>
            <dgm:constr type="w" for="ch" forName="tile3text" refType="w" refFor="ch" refForName="tile3"/>
            <dgm:constr type="h" for="ch" forName="tile3text" refType="h" refFor="ch" refForName="tile3" fact="0.75"/>
            <dgm:constr type="r" for="ch" forName="tile4" refType="w"/>
            <dgm:constr type="b" for="ch" forName="tile4" refType="h"/>
            <dgm:constr type="l" for="ch" forName="tile4" refType="w" fact="0.5"/>
            <dgm:constr type="t" for="ch" forName="tile4" refType="h" fact="0.5"/>
            <dgm:constr type="r" for="ch" forName="tile4text" refType="r" refFor="ch" refForName="tile4"/>
            <dgm:constr type="b" for="ch" forName="tile4text" refType="b" refFor="ch" refForName="tile4"/>
            <dgm:constr type="w" for="ch" forName="tile4text" refType="w" refFor="ch" refForName="tile4"/>
            <dgm:constr type="h" for="ch" forName="tile4text" refType="h" refFor="ch" refForName="tile4" fact="0.75"/>
          </dgm:constrLst>
          <dgm:ruleLst/>
          <dgm:layoutNode name="tile1" styleLbl="node1">
            <dgm:alg type="sp"/>
            <dgm:shape xmlns:r="http://schemas.openxmlformats.org/officeDocument/2006/relationships" rot="270" type="round1Rect" r:blip="">
              <dgm:adjLst/>
            </dgm:shape>
            <dgm:choose name="Name2">
              <dgm:if name="Name3" func="var" arg="dir" op="equ" val="norm">
                <dgm:presOf axis="ch ch desOrSelf" ptType="node node node" st="1 1 1" cnt="1 1 0"/>
              </dgm:if>
              <dgm:else name="Name4">
                <dgm:presOf axis="ch ch desOrSelf" ptType="node node node" st="1 2 1" cnt="1 1 0"/>
              </dgm:else>
            </dgm:choose>
            <dgm:constrLst/>
            <dgm:ruleLst/>
          </dgm:layoutNode>
          <dgm:layoutNode name="tile1text" styleLbl="node1">
            <dgm:varLst>
              <dgm:chMax val="0"/>
              <dgm:chPref val="0"/>
              <dgm:bulletEnabled val="1"/>
            </dgm:varLst>
            <dgm:choose name="Name5">
              <dgm:if name="Name6" axis="root des" func="maxDepth" op="gte" val="3">
                <dgm:alg type="tx">
                  <dgm:param type="txAnchorVert" val="t"/>
                  <dgm:param type="parTxLTRAlign" val="l"/>
                  <dgm:param type="parTxRTLAlign" val="r"/>
                </dgm:alg>
              </dgm:if>
              <dgm:else name="Name7">
                <dgm:alg type="tx"/>
              </dgm:else>
            </dgm:choose>
            <dgm:shape xmlns:r="http://schemas.openxmlformats.org/officeDocument/2006/relationships" rot="270" type="rect" r:blip="" hideGeom="1">
              <dgm:adjLst>
                <dgm:adj idx="1" val="0.2"/>
              </dgm:adjLst>
            </dgm:shape>
            <dgm:choose name="Name8">
              <dgm:if name="Name9" func="var" arg="dir" op="equ" val="norm">
                <dgm:presOf axis="ch ch desOrSelf" ptType="node node node" st="1 1 1" cnt="1 1 0"/>
              </dgm:if>
              <dgm:else name="Name10">
                <dgm:presOf axis="ch ch desOrSelf" ptType="node node node" st="1 2 1" cnt="1 1 0"/>
              </dgm:else>
            </dgm:choose>
            <dgm:constrLst/>
            <dgm:ruleLst>
              <dgm:rule type="primFontSz" val="5" fact="NaN" max="NaN"/>
            </dgm:ruleLst>
          </dgm:layoutNode>
          <dgm:layoutNode name="tile2" styleLbl="node1">
            <dgm:alg type="sp"/>
            <dgm:shape xmlns:r="http://schemas.openxmlformats.org/officeDocument/2006/relationships" type="round1Rect" r:blip="">
              <dgm:adjLst/>
            </dgm:shape>
            <dgm:choose name="Name11">
              <dgm:if name="Name12" func="var" arg="dir" op="equ" val="norm">
                <dgm:presOf axis="ch ch desOrSelf" ptType="node node node" st="1 2 1" cnt="1 1 0"/>
              </dgm:if>
              <dgm:else name="Name13">
                <dgm:presOf axis="ch ch desOrSelf" ptType="node node node" st="1 1 1" cnt="1 1 0"/>
              </dgm:else>
            </dgm:choose>
            <dgm:constrLst/>
            <dgm:ruleLst/>
          </dgm:layoutNode>
          <dgm:layoutNode name="tile2text" styleLbl="node1">
            <dgm:varLst>
              <dgm:chMax val="0"/>
              <dgm:chPref val="0"/>
              <dgm:bulletEnabled val="1"/>
            </dgm:varLst>
            <dgm:choose name="Name14">
              <dgm:if name="Name15" axis="root des" func="maxDepth" op="gte" val="3">
                <dgm:alg type="tx">
                  <dgm:param type="txAnchorVert" val="t"/>
                  <dgm:param type="parTxLTRAlign" val="l"/>
                  <dgm:param type="parTxRTLAlign" val="r"/>
                </dgm:alg>
              </dgm:if>
              <dgm:else name="Name16">
                <dgm:alg type="tx"/>
              </dgm:else>
            </dgm:choose>
            <dgm:shape xmlns:r="http://schemas.openxmlformats.org/officeDocument/2006/relationships" type="rect" r:blip="" hideGeom="1">
              <dgm:adjLst/>
            </dgm:shape>
            <dgm:choose name="Name17">
              <dgm:if name="Name18" func="var" arg="dir" op="equ" val="norm">
                <dgm:presOf axis="ch ch desOrSelf" ptType="node node node" st="1 2 1" cnt="1 1 0"/>
              </dgm:if>
              <dgm:else name="Name19">
                <dgm:presOf axis="ch ch desOrSelf" ptType="node node node" st="1 1 1" cnt="1 1 0"/>
              </dgm:else>
            </dgm:choose>
            <dgm:constrLst/>
            <dgm:ruleLst>
              <dgm:rule type="primFontSz" val="5" fact="NaN" max="NaN"/>
            </dgm:ruleLst>
          </dgm:layoutNode>
          <dgm:layoutNode name="tile3" styleLbl="node1">
            <dgm:alg type="sp"/>
            <dgm:shape xmlns:r="http://schemas.openxmlformats.org/officeDocument/2006/relationships" rot="180" type="round1Rect" r:blip="">
              <dgm:adjLst/>
            </dgm:shape>
            <dgm:choose name="Name20">
              <dgm:if name="Name21" func="var" arg="dir" op="equ" val="norm">
                <dgm:presOf axis="ch ch desOrSelf" ptType="node node node" st="1 3 1" cnt="1 1 0"/>
              </dgm:if>
              <dgm:else name="Name22">
                <dgm:presOf axis="ch ch desOrSelf" ptType="node node node" st="1 4 1" cnt="1 1 0"/>
              </dgm:else>
            </dgm:choose>
            <dgm:constrLst/>
            <dgm:ruleLst/>
          </dgm:layoutNode>
          <dgm:layoutNode name="tile3text" styleLbl="node1">
            <dgm:varLst>
              <dgm:chMax val="0"/>
              <dgm:chPref val="0"/>
              <dgm:bulletEnabled val="1"/>
            </dgm:varLst>
            <dgm:choose name="Name23">
              <dgm:if name="Name24" axis="root des" func="maxDepth" op="gte" val="3">
                <dgm:alg type="tx">
                  <dgm:param type="txAnchorVert" val="t"/>
                  <dgm:param type="parTxLTRAlign" val="l"/>
                  <dgm:param type="parTxRTLAlign" val="r"/>
                </dgm:alg>
              </dgm:if>
              <dgm:else name="Name25">
                <dgm:alg type="tx"/>
              </dgm:else>
            </dgm:choose>
            <dgm:shape xmlns:r="http://schemas.openxmlformats.org/officeDocument/2006/relationships" rot="180" type="rect" r:blip="" hideGeom="1">
              <dgm:adjLst/>
            </dgm:shape>
            <dgm:choose name="Name26">
              <dgm:if name="Name27" func="var" arg="dir" op="equ" val="norm">
                <dgm:presOf axis="ch ch desOrSelf" ptType="node node node" st="1 3 1" cnt="1 1 0"/>
              </dgm:if>
              <dgm:else name="Name28">
                <dgm:presOf axis="ch ch desOrSelf" ptType="node node node" st="1 4 1" cnt="1 1 0"/>
              </dgm:else>
            </dgm:choose>
            <dgm:constrLst/>
            <dgm:ruleLst>
              <dgm:rule type="primFontSz" val="5" fact="NaN" max="NaN"/>
            </dgm:ruleLst>
          </dgm:layoutNode>
          <dgm:layoutNode name="tile4" styleLbl="node1">
            <dgm:alg type="sp"/>
            <dgm:shape xmlns:r="http://schemas.openxmlformats.org/officeDocument/2006/relationships" rot="90" type="round1Rect" r:blip="">
              <dgm:adjLst/>
            </dgm:shape>
            <dgm:choose name="Name29">
              <dgm:if name="Name30" func="var" arg="dir" op="equ" val="norm">
                <dgm:presOf axis="ch ch desOrSelf" ptType="node node node" st="1 4 1" cnt="1 1 0"/>
              </dgm:if>
              <dgm:else name="Name31">
                <dgm:presOf axis="ch ch desOrSelf" ptType="node node node" st="1 3 1" cnt="1 1 0"/>
              </dgm:else>
            </dgm:choose>
            <dgm:constrLst/>
            <dgm:ruleLst/>
          </dgm:layoutNode>
          <dgm:layoutNode name="tile4text" styleLbl="node1">
            <dgm:varLst>
              <dgm:chMax val="0"/>
              <dgm:chPref val="0"/>
              <dgm:bulletEnabled val="1"/>
            </dgm:varLst>
            <dgm:choose name="Name32">
              <dgm:if name="Name33" axis="root des" func="maxDepth" op="gte" val="3">
                <dgm:alg type="tx">
                  <dgm:param type="txAnchorVert" val="t"/>
                  <dgm:param type="parTxLTRAlign" val="l"/>
                  <dgm:param type="parTxRTLAlign" val="r"/>
                </dgm:alg>
              </dgm:if>
              <dgm:else name="Name34">
                <dgm:alg type="tx"/>
              </dgm:else>
            </dgm:choose>
            <dgm:shape xmlns:r="http://schemas.openxmlformats.org/officeDocument/2006/relationships" rot="90" type="rect" r:blip="" hideGeom="1">
              <dgm:adjLst/>
            </dgm:shape>
            <dgm:choose name="Name35">
              <dgm:if name="Name36" func="var" arg="dir" op="equ" val="norm">
                <dgm:presOf axis="ch ch desOrSelf" ptType="node node node" st="1 4 1" cnt="1 1 0"/>
              </dgm:if>
              <dgm:else name="Name37">
                <dgm:presOf axis="ch ch desOrSelf" ptType="node node node" st="1 3 1" cnt="1 1 0"/>
              </dgm:else>
            </dgm:choose>
            <dgm:constrLst/>
            <dgm:ruleLst>
              <dgm:rule type="primFontSz" val="5" fact="NaN" max="NaN"/>
            </dgm:ruleLst>
          </dgm:layoutNode>
        </dgm:layoutNode>
        <dgm:layoutNode name="centerTile" styleLbl="fgShp">
          <dgm:varLst>
            <dgm:chMax val="0"/>
            <dgm:chPref val="0"/>
          </dgm:varLst>
          <dgm:alg type="tx"/>
          <dgm:shape xmlns:r="http://schemas.openxmlformats.org/officeDocument/2006/relationships" type="roundRect" r:blip="">
            <dgm:adjLst/>
          </dgm:shape>
          <dgm:presOf axis="ch" ptType="node" cnt="1"/>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38"/>
    </dgm:choose>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6.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7.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680105E-9A1E-4470-8076-EFD9198FF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уход за больными в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уход за больными в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0"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3"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6"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9"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и постельного белья пациен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родольным способом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оперечным способ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бель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2"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и постельного белья пациен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родольным способом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оперечным способ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бель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дения мероприятий по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кожи при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и промежностью</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женщин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5"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дения мероприятий по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кожи при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и промежностью</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женщин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я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е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полостью 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полости рта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8"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я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е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полостью р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полости рта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ЗАКЛЮЧ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недрение сестринского процесса в  уход за хирургическими больными: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 его помощью оценивается эффективность проведенной хирургической работы, профессионализм хирургического вмешательств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ЗАКЛЮЧ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недрение сестринского процесса в  уход за хирургическими больными: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 его помощью оценивается эффективность проведенной хирургической работы, профессионализм хирургического вмешательств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вед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ознакомиться с особенностями работы медицинской сестры при уходе за послеоперационным пациент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ъект исследования: медицинская сестра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едмет исследования: деятельность медицинской сестры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дачи исследова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000000"/>
                </a:solidFill>
                <a:latin typeface="Arial"/>
              </a:rPr>
              <a:t>собрать информацию по тем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000000"/>
                </a:solidFill>
                <a:latin typeface="Arial"/>
              </a:rPr>
              <a:t>составить 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000000"/>
                </a:solidFill>
                <a:latin typeface="Arial"/>
              </a:rPr>
              <a:t>провести исследо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сформулировать вывод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вед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ознакомиться с особенностями работы медицинской сестры при уходе за послеоперационным пациент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ъект исследования: медицинская сестра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едмет исследования: деятельность медицинской сестры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и исследова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1)</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брать информацию по тем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2)</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ставить 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3)</a:t>
            </a:r>
            <a:r>
              <a:rPr b="0" lang="ru-RU" sz="1200" spc="-1" strike="noStrike">
                <a:solidFill>
                  <a:srgbClr val="000000"/>
                </a:solidFill>
                <a:latin typeface="+mn-lt"/>
                <a:ea typeface="+mn-ea"/>
              </a:rPr>
              <a:t>	</a:t>
            </a:r>
            <a:r>
              <a:rPr b="0" lang="ru-RU" sz="1200" spc="-1" strike="noStrike">
                <a:solidFill>
                  <a:srgbClr val="000000"/>
                </a:solidFill>
                <a:latin typeface="+mn-lt"/>
                <a:ea typeface="+mn-ea"/>
              </a:rPr>
              <a:t>провести исследо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4)</a:t>
            </a:r>
            <a:r>
              <a:rPr b="0" lang="ru-RU" sz="1200" spc="-1" strike="noStrike">
                <a:solidFill>
                  <a:srgbClr val="000000"/>
                </a:solidFill>
                <a:latin typeface="+mn-lt"/>
                <a:ea typeface="+mn-ea"/>
              </a:rPr>
              <a:t>	</a:t>
            </a:r>
            <a:r>
              <a:rPr b="0" lang="ru-RU" sz="1200" spc="-1" strike="noStrike">
                <a:solidFill>
                  <a:srgbClr val="000000"/>
                </a:solidFill>
                <a:latin typeface="+mn-lt"/>
                <a:ea typeface="+mn-ea"/>
              </a:rPr>
              <a:t>сформулировать вывод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нятие о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нятие о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РОЛЬ МЕДСЕСТРЫ В ПОСЛЕОПЕРАЦИОННЫЙ ПЕРИОД</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РОЛЬ МЕДСЕСТРЫ В ПОСЛЕОПЕРАЦИОННЫЙ ПЕРИОД</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ДГОТОВКА ПАЛАТЫ И ПОСТЕЛИ ДЛЯ ПОСЛЕОПЕРАЦИОННОГО БОЛЬНОГ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трить пала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бегать яркого све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ровать должна быть тщательно застлана, клеенку, простынь необходимо расправить, чтобы не было складок и неровност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 операционной больной должен быть доставлен на каталке или на той же кроват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холодное время года кровать согревается грелкам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ерекладывать больного с операционного стола на каталку или кровать можно вручную или с помощью специальных подъемник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 операции больного необходимо защитить от охлаждения и сквозняков, тепло укрывая одеяло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ДГОТОВКА ПАЛАТЫ И ПОСТЕЛИ ДЛЯ ПОСЛЕОПЕРАЦИОННОГО БОЛЬНОГО</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трить пала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бегать яркого све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ровать должна быть тщательно застлана, клеенку, простынь необходимо расправить, чтобы не было складок и неровност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 операционной больной должен быть доставлен на каталке или на той же кроват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холодное время года кровать согревается грелкам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ерекладывать больного с операционного стола на каталку или кровать можно вручную или с помощью специальных подъемник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 операции больного необходимо защитить от охлаждения и сквозняков, тепло укрывая одеяло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ИНЦИПЫ НАБЛЮДЕНИЯ ЗА ПОСЛЕОПЕРАЦИОННЫМ БОЛЬНЫ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ИНЦИПЫ НАБЛЮДЕНИЯ ЗА ПОСЛЕОПЕРАЦИОННЫМ БОЛЬНЫ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УХОД ЗА ТЯЖЕЛЫМ ПОСЛЕОПЕРАЦИОННЫМ БОЛЬНЫМ</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3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ТЯЖЕЛЫМ ПОСЛЕОПЕРАЦИОННЫМ БОЛЬНЫ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ыделяют ранние (от 6-10% и до 30% при продолжительных и обширных операциях) и поздни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возникновении послеоперационных осложнений имеют значение каждый из шести компонент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Больно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боле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ератор;</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етод;</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ред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лучайность.</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возникновении послеоперационных осложнений имеют значение каждый из шести компонент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Больно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боле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ератор;</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етод;</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ред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лучайность.</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55791-EC4C-4E00-A84B-56CFF6E3C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15DCF-DCA7-41D8-97B9-6D5C599DE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83EE7-68D3-4207-8976-49B1DD398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43191-47D5-4276-BED6-5F992742B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B4CBF-13AD-465F-8EE6-9E93224C4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68A8B-CDFD-49EA-8802-2FC1DA1F2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E95C5-17A5-4BC1-90AB-3E894C09F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4CF3C-AD40-4564-B5E3-954FE2D09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41D37-2BB3-46A8-B7E8-972276CCE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C69D9-4284-4841-A0DA-A45BF31B3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0E8E8-79D4-4060-BB80-C24C167C3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F2F36-AAD7-4B7B-984E-532D69994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D2728-6696-47AA-B2CB-F83E7D180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E35AB-DF11-4B95-9057-7A92F051C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3F419-93D5-4C0B-BA98-8A7E67395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984DD-1D68-4857-98FD-D60F48010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17BB2-583A-4E88-B003-68F231E6A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6B8A01-01CD-41DC-AEAF-0E9B241229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CFCB1-CA92-4463-8AB5-63DF324DC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11DCF-A23B-42A8-86F5-A143027AC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B1F31-19C2-4089-A5C6-27142E9CFD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A4B50-541F-4ED7-B299-F9D909783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1D5E-7E5A-4E71-9758-CDC7B235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B94BB-6EFE-4B84-BAC7-0A9848423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8C62B-8F05-4143-8317-F5BA48869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78B6B-CE2E-4CBC-A8D8-21FE8A8CF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E28B59-AFEC-4AAE-B79F-62BAFE84F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6CD92-B514-4C4C-B0B4-6522FE287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14520-FE45-447C-AC51-9BBC3A2E93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E56CE3-A9C3-439A-8A18-4DA3E6E51C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DE98-0207-4A25-B11D-469131C2B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96F2-6894-453A-BFF9-E6C5EA16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674E1-14CC-4826-A31F-A8ABBF7EA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83E71-BCBA-4314-B98A-0B8959888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1D36-970A-4B20-92E8-AB47975AC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5048-E6E7-44AD-BBF0-18C5EAB0E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www.sliderpoint.org</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0CD8F923-55C2-4230-8C84-F33C3CED3AAC}" type="slidenum">
              <a:rPr b="0" lang="ru-RU" sz="1200" spc="-1" strike="noStrike">
                <a:solidFill>
                  <a:srgbClr val="3f3f3f"/>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Arial"/>
              </a:rPr>
              <a:t>Second Outline Level</a:t>
            </a:r>
            <a:endParaRPr b="0" lang="ru-RU"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lIns="90000" rIns="90000" tIns="45000" bIns="45000" anchor="t">
            <a:noAutofit/>
          </a:bodyPr>
          <a:p>
            <a:pPr marL="228600">
              <a:lnSpc>
                <a:spcPct val="90000"/>
              </a:lnSpc>
              <a:buClr>
                <a:srgbClr val="000000"/>
              </a:buClr>
              <a:buFont typeface="Arial"/>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85800" indent="457200">
              <a:lnSpc>
                <a:spcPct val="90000"/>
              </a:lnSpc>
              <a:buClr>
                <a:srgbClr val="000000"/>
              </a:buClr>
              <a:buFont typeface="Arial"/>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914400">
              <a:lnSpc>
                <a:spcPct val="90000"/>
              </a:lnSpc>
              <a:buClr>
                <a:srgbClr val="000000"/>
              </a:buClr>
              <a:buFont typeface="Arial"/>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1371600">
              <a:lnSpc>
                <a:spcPct val="90000"/>
              </a:lnSpc>
              <a:buClr>
                <a:srgbClr val="000000"/>
              </a:buClr>
              <a:buFont typeface="Arial"/>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1828800">
              <a:lnSpc>
                <a:spcPct val="90000"/>
              </a:lnSpc>
              <a:buClr>
                <a:srgbClr val="000000"/>
              </a:buClr>
              <a:buFont typeface="Aria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1DF5F990-F216-403D-BDE7-58188031A387}"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9880" y="457200"/>
            <a:ext cx="3930120" cy="1599840"/>
          </a:xfrm>
          <a:prstGeom prst="rect">
            <a:avLst/>
          </a:prstGeom>
          <a:noFill/>
          <a:ln w="0">
            <a:noFill/>
          </a:ln>
        </p:spPr>
        <p:txBody>
          <a:bodyPr lIns="90000" rIns="90000" tIns="45000" bIns="45000" anchor="b">
            <a:noAutofit/>
          </a:bodyPr>
          <a:p>
            <a:pPr indent="0">
              <a:lnSpc>
                <a:spcPct val="90000"/>
              </a:lnSpc>
              <a:buNone/>
              <a:tabLst>
                <a:tab algn="l" pos="0"/>
              </a:tabLst>
            </a:pPr>
            <a:r>
              <a:rPr b="0" lang="ru-RU" sz="3200" spc="-1" strike="noStrike">
                <a:solidFill>
                  <a:srgbClr val="000000"/>
                </a:solidFill>
                <a:latin typeface="Arial"/>
              </a:rPr>
              <a:t>Образец заголовка</a:t>
            </a:r>
            <a:endParaRPr b="0" lang="ru-RU" sz="3200" spc="-1" strike="noStrike">
              <a:solidFill>
                <a:srgbClr val="000000"/>
              </a:solidFill>
              <a:latin typeface="Calibri"/>
            </a:endParaRPr>
          </a:p>
        </p:txBody>
      </p:sp>
      <p:sp>
        <p:nvSpPr>
          <p:cNvPr id="83"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2800" spc="-1" strike="noStrike">
                <a:solidFill>
                  <a:srgbClr val="000000"/>
                </a:solidFill>
                <a:latin typeface="Arial"/>
              </a:rPr>
              <a:t>Third Outline Level</a:t>
            </a:r>
            <a:endParaRPr b="0" lang="ru-RU" sz="2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2800" spc="-1" strike="noStrike">
                <a:solidFill>
                  <a:srgbClr val="000000"/>
                </a:solidFill>
                <a:latin typeface="Arial"/>
              </a:rPr>
              <a:t>Fourth Outline Level</a:t>
            </a:r>
            <a:endParaRPr b="0" lang="ru-RU" sz="2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Fifth Outline Level</a:t>
            </a:r>
            <a:endParaRPr b="0" lang="ru-RU" sz="28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ixth Outline Level</a:t>
            </a:r>
            <a:endParaRPr b="0" lang="ru-RU" sz="28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eventh Outline Level</a:t>
            </a:r>
            <a:endParaRPr b="0" lang="ru-RU" sz="2800" spc="-1" strike="noStrike">
              <a:solidFill>
                <a:srgbClr val="000000"/>
              </a:solidFill>
              <a:latin typeface="Arial"/>
            </a:endParaRPr>
          </a:p>
        </p:txBody>
      </p:sp>
      <p:sp>
        <p:nvSpPr>
          <p:cNvPr id="84" name="PlaceHolder 3"/>
          <p:cNvSpPr>
            <a:spLocks noGrp="1"/>
          </p:cNvSpPr>
          <p:nvPr>
            <p:ph type="body"/>
          </p:nvPr>
        </p:nvSpPr>
        <p:spPr>
          <a:xfrm>
            <a:off x="839880" y="2057400"/>
            <a:ext cx="3930120" cy="3811320"/>
          </a:xfrm>
          <a:prstGeom prst="rect">
            <a:avLst/>
          </a:prstGeom>
          <a:noFill/>
          <a:ln w="0">
            <a:noFill/>
          </a:ln>
        </p:spPr>
        <p:txBody>
          <a:bodyPr lIns="90000" rIns="90000" tIns="45000" bIns="45000" anchor="t">
            <a:noAutofit/>
          </a:bodyPr>
          <a:p>
            <a:pPr indent="0">
              <a:lnSpc>
                <a:spcPct val="90000"/>
              </a:lnSpc>
              <a:buNone/>
              <a:tabLst>
                <a:tab algn="l" pos="0"/>
              </a:tabLst>
            </a:pPr>
            <a:r>
              <a:rPr b="0" lang="ru-RU" sz="1600" spc="-1" strike="noStrike">
                <a:solidFill>
                  <a:srgbClr val="000000"/>
                </a:solidFill>
                <a:latin typeface="Arial"/>
              </a:rPr>
              <a:t>Образец текста</a:t>
            </a:r>
            <a:endParaRPr b="0" lang="ru-RU" sz="1600" spc="-1" strike="noStrike">
              <a:solidFill>
                <a:srgbClr val="000000"/>
              </a:solidFill>
              <a:latin typeface="Arial"/>
            </a:endParaRPr>
          </a:p>
        </p:txBody>
      </p:sp>
      <p:sp>
        <p:nvSpPr>
          <p:cNvPr id="85" name="PlaceHolder 4"/>
          <p:cNvSpPr>
            <a:spLocks noGrp="1"/>
          </p:cNvSpPr>
          <p:nvPr>
            <p:ph type="dt" idx="7"/>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87" name="PlaceHolder 6"/>
          <p:cNvSpPr>
            <a:spLocks noGrp="1"/>
          </p:cNvSpPr>
          <p:nvPr>
            <p:ph type="sldNum" idx="9"/>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479B76E9-6940-43A1-8474-61B1382E24D9}"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5.xml"/><Relationship Id="rId3" Type="http://schemas.openxmlformats.org/officeDocument/2006/relationships/diagramLayout" Target="../diagrams/layout5.xml"/><Relationship Id="rId4" Type="http://schemas.openxmlformats.org/officeDocument/2006/relationships/diagramQuickStyle" Target="../diagrams/quickStyle5.xml"/><Relationship Id="rId5" Type="http://schemas.openxmlformats.org/officeDocument/2006/relationships/diagramColors" Target="../diagrams/colors5.xml"/><Relationship Id="rId6" Type="http://schemas.microsoft.com/office/2007/relationships/diagramDrawing" Target="../diagrams/drawing5.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6.xml"/><Relationship Id="rId3" Type="http://schemas.openxmlformats.org/officeDocument/2006/relationships/diagramLayout" Target="../diagrams/layout6.xml"/><Relationship Id="rId4" Type="http://schemas.openxmlformats.org/officeDocument/2006/relationships/diagramQuickStyle" Target="../diagrams/quickStyle6.xml"/><Relationship Id="rId5" Type="http://schemas.openxmlformats.org/officeDocument/2006/relationships/diagramColors" Target="../diagrams/colors6.xml"/><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7.xml"/><Relationship Id="rId3" Type="http://schemas.openxmlformats.org/officeDocument/2006/relationships/diagramLayout" Target="../diagrams/layout7.xml"/><Relationship Id="rId4" Type="http://schemas.openxmlformats.org/officeDocument/2006/relationships/diagramQuickStyle" Target="../diagrams/quickStyle7.xml"/><Relationship Id="rId5" Type="http://schemas.openxmlformats.org/officeDocument/2006/relationships/diagramColors" Target="../diagrams/colors7.xml"/><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png"/><Relationship Id="rId4" Type="http://schemas.microsoft.com/office/2007/relationships/hdphoto" Target="../media/hdphoto1.wdp"/><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2.xml"/><Relationship Id="rId3" Type="http://schemas.openxmlformats.org/officeDocument/2006/relationships/diagramLayout" Target="../diagrams/layout2.xml"/><Relationship Id="rId4" Type="http://schemas.openxmlformats.org/officeDocument/2006/relationships/diagramQuickStyle" Target="../diagrams/quickStyle2.xml"/><Relationship Id="rId5" Type="http://schemas.openxmlformats.org/officeDocument/2006/relationships/diagramColors" Target="../diagrams/colors2.xml"/><Relationship Id="rId6" Type="http://schemas.microsoft.com/office/2007/relationships/diagramDrawing" Target="../diagrams/drawing2.xml"/><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3.xml"/><Relationship Id="rId3" Type="http://schemas.openxmlformats.org/officeDocument/2006/relationships/diagramLayout" Target="../diagrams/layout3.xml"/><Relationship Id="rId4" Type="http://schemas.openxmlformats.org/officeDocument/2006/relationships/diagramQuickStyle" Target="../diagrams/quickStyle3.xml"/><Relationship Id="rId5" Type="http://schemas.openxmlformats.org/officeDocument/2006/relationships/diagramColors" Target="../diagrams/colors3.xml"/><Relationship Id="rId6" Type="http://schemas.microsoft.com/office/2007/relationships/diagramDrawing" Target="../diagrams/drawing3.xml"/><Relationship Id="rId7" Type="http://schemas.openxmlformats.org/officeDocument/2006/relationships/image" Target="../media/image5.jpe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1" name="PlaceHolder 1"/>
          <p:cNvSpPr>
            <a:spLocks noGrp="1"/>
          </p:cNvSpPr>
          <p:nvPr>
            <p:ph type="title"/>
          </p:nvPr>
        </p:nvSpPr>
        <p:spPr>
          <a:xfrm>
            <a:off x="1073880" y="576720"/>
            <a:ext cx="10306440" cy="3611160"/>
          </a:xfrm>
          <a:prstGeom prst="rect">
            <a:avLst/>
          </a:prstGeom>
          <a:solidFill>
            <a:srgbClr val="ddebf7">
              <a:alpha val="58000"/>
            </a:srgbClr>
          </a:solid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Сестринский уход за больными в послеоперационном  периоде»</a:t>
            </a:r>
            <a:endParaRPr b="0" lang="ru-RU" sz="6000" spc="-1" strike="noStrike">
              <a:solidFill>
                <a:srgbClr val="000000"/>
              </a:solidFill>
              <a:latin typeface="Calibri"/>
            </a:endParaRPr>
          </a:p>
        </p:txBody>
      </p:sp>
      <p:sp>
        <p:nvSpPr>
          <p:cNvPr id="132" name="PlaceHolder 2"/>
          <p:cNvSpPr>
            <a:spLocks noGrp="1"/>
          </p:cNvSpPr>
          <p:nvPr>
            <p:ph type="subTitle"/>
          </p:nvPr>
        </p:nvSpPr>
        <p:spPr>
          <a:xfrm>
            <a:off x="1073880" y="4751640"/>
            <a:ext cx="10306440" cy="1653840"/>
          </a:xfrm>
          <a:prstGeom prst="rect">
            <a:avLst/>
          </a:prstGeom>
          <a:solidFill>
            <a:srgbClr val="ddebf7">
              <a:alpha val="58000"/>
            </a:srgbClr>
          </a:solidFill>
          <a:ln w="0">
            <a:noFill/>
          </a:ln>
        </p:spPr>
        <p:txBody>
          <a:bodyPr lIns="90000" rIns="90000" tIns="45000" bIns="45000" anchor="t">
            <a:noAutofit/>
          </a:bodyPr>
          <a:p>
            <a:pPr indent="0" algn="ctr">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6"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7"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8" name="Прямоугольник 3"/>
          <p:cNvSpPr/>
          <p:nvPr/>
        </p:nvSpPr>
        <p:spPr>
          <a:xfrm>
            <a:off x="590760" y="2559600"/>
            <a:ext cx="4179240" cy="3381480"/>
          </a:xfrm>
          <a:prstGeom prst="rect">
            <a:avLst/>
          </a:prstGeom>
          <a:solidFill>
            <a:schemeClr val="tx2">
              <a:lumMod val="20000"/>
              <a:lumOff val="80000"/>
              <a:alpha val="69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Цель исследования: </a:t>
            </a:r>
            <a:r>
              <a:rPr b="0" lang="ru-RU" sz="1800" spc="-1" strike="noStrike">
                <a:solidFill>
                  <a:srgbClr val="000000"/>
                </a:solidFill>
                <a:latin typeface="Calibri"/>
              </a:rPr>
              <a:t>снижение числа послеоперационных осложнений в экстренном хирургическом отделении (ЭХО) среди хирургических больных.</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Материалы и методы: </a:t>
            </a:r>
            <a:r>
              <a:rPr b="0" lang="ru-RU" sz="1800" spc="-1" strike="noStrike">
                <a:solidFill>
                  <a:srgbClr val="000000"/>
                </a:solidFill>
                <a:latin typeface="Calibri"/>
              </a:rPr>
              <a:t>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800" spc="-1" strike="noStrike">
              <a:solidFill>
                <a:srgbClr val="000000"/>
              </a:solidFill>
              <a:latin typeface="Arial"/>
            </a:endParaRPr>
          </a:p>
        </p:txBody>
      </p:sp>
      <p:graphicFrame>
        <p:nvGraphicFramePr>
          <p:cNvPr id="5" name="Diagram5"/>
          <p:cNvGraphicFramePr/>
          <p:nvPr>
            <p:extLst>
              <p:ext uri="{D42A27DB-BD31-4B8C-83A1-F6EECF244321}">
                <p14:modId xmlns:p14="http://schemas.microsoft.com/office/powerpoint/2010/main" val="2931488950"/>
              </p:ext>
            </p:extLst>
          </p:nvPr>
        </p:nvGraphicFramePr>
        <p:xfrm>
          <a:off x="4239360" y="1608840"/>
          <a:ext cx="8791920" cy="51346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1000"/>
                                        <p:tgtEl>
                                          <p:spTgt spid="168"/>
                                        </p:tgtEl>
                                      </p:cBhvr>
                                    </p:animEffect>
                                    <p:anim calcmode="lin" valueType="num">
                                      <p:cBhvr additive="repl">
                                        <p:cTn id="152" dur="1000" fill="hold"/>
                                        <p:tgtEl>
                                          <p:spTgt spid="168"/>
                                        </p:tgtEl>
                                        <p:attrNameLst>
                                          <p:attrName>ppt_x</p:attrName>
                                        </p:attrNameLst>
                                      </p:cBhvr>
                                      <p:tavLst>
                                        <p:tav tm="0">
                                          <p:val>
                                            <p:strVal val="#ppt_x"/>
                                          </p:val>
                                        </p:tav>
                                        <p:tav tm="100000">
                                          <p:val>
                                            <p:strVal val="#ppt_x"/>
                                          </p:val>
                                        </p:tav>
                                      </p:tavLst>
                                    </p:anim>
                                    <p:anim calcmode="lin" valueType="num">
                                      <p:cBhvr additive="repl">
                                        <p:cTn id="153" dur="10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
                                        </p:tgtEl>
                                        <p:attrNameLst>
                                          <p:attrName>style.visibility</p:attrName>
                                        </p:attrNameLst>
                                      </p:cBhvr>
                                      <p:to>
                                        <p:strVal val="visible"/>
                                      </p:to>
                                    </p:set>
                                    <p:animEffect filter="fade" transition="in">
                                      <p:cBhvr additive="repl">
                                        <p:cTn id="157" dur="1000"/>
                                        <p:tgtEl>
                                          <p:spTgt spid="-1"/>
                                        </p:tgtEl>
                                      </p:cBhvr>
                                    </p:animEffect>
                                    <p:anim calcmode="lin" valueType="num">
                                      <p:cBhvr additive="repl">
                                        <p:cTn id="158" dur="1000" fill="hold"/>
                                        <p:tgtEl>
                                          <p:spTgt spid="-1"/>
                                        </p:tgtEl>
                                        <p:attrNameLst>
                                          <p:attrName>ppt_x</p:attrName>
                                        </p:attrNameLst>
                                      </p:cBhvr>
                                      <p:tavLst>
                                        <p:tav tm="0">
                                          <p:val>
                                            <p:strVal val="#ppt_x"/>
                                          </p:val>
                                        </p:tav>
                                        <p:tav tm="100000">
                                          <p:val>
                                            <p:strVal val="#ppt_x"/>
                                          </p:val>
                                        </p:tav>
                                      </p:tavLst>
                                    </p:anim>
                                    <p:anim calcmode="lin" valueType="num">
                                      <p:cBhvr additive="repl">
                                        <p:cTn id="15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7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72" name="Прямоугольник 3"/>
          <p:cNvSpPr/>
          <p:nvPr/>
        </p:nvSpPr>
        <p:spPr>
          <a:xfrm>
            <a:off x="5414400" y="1961280"/>
            <a:ext cx="6133320" cy="4204440"/>
          </a:xfrm>
          <a:prstGeom prst="rect">
            <a:avLst/>
          </a:prstGeom>
          <a:solidFill>
            <a:schemeClr val="tx2">
              <a:lumMod val="20000"/>
              <a:lumOff val="80000"/>
              <a:alpha val="70000"/>
            </a:schemeClr>
          </a:solid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  </a:t>
            </a:r>
            <a:r>
              <a:rPr b="1" lang="ru-RU" sz="1800" spc="-1" strike="noStrike">
                <a:solidFill>
                  <a:srgbClr val="595959"/>
                </a:solidFill>
                <a:latin typeface="Calibri"/>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d0d0d"/>
              </a:buClr>
              <a:buFont typeface="Arial"/>
              <a:buChar char="•"/>
            </a:pPr>
            <a:r>
              <a:rPr b="1" lang="ru-RU" sz="1800" spc="-1" strike="noStrike">
                <a:solidFill>
                  <a:srgbClr val="0d0d0d"/>
                </a:solidFill>
                <a:latin typeface="Calibri"/>
              </a:rPr>
              <a:t>  </a:t>
            </a:r>
            <a:r>
              <a:rPr b="1" lang="ru-RU" sz="1800" spc="-1" strike="noStrike">
                <a:solidFill>
                  <a:srgbClr val="0d0d0d"/>
                </a:solidFill>
                <a:latin typeface="Calibri"/>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595959"/>
              </a:buClr>
              <a:buFont typeface="Arial"/>
              <a:buChar char="•"/>
            </a:pPr>
            <a:r>
              <a:rPr b="1" lang="ru-RU" sz="1800" spc="-1" strike="noStrike">
                <a:solidFill>
                  <a:srgbClr val="595959"/>
                </a:solidFill>
                <a:latin typeface="Calibri"/>
              </a:rPr>
              <a:t>  </a:t>
            </a:r>
            <a:r>
              <a:rPr b="1" lang="ru-RU" sz="1800" spc="-1" strike="noStrike">
                <a:solidFill>
                  <a:srgbClr val="595959"/>
                </a:solidFill>
                <a:latin typeface="Calibri"/>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2">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1000"/>
                                        <p:tgtEl>
                                          <p:spTgt spid="172"/>
                                        </p:tgtEl>
                                      </p:cBhvr>
                                    </p:animEffect>
                                    <p:anim calcmode="lin" valueType="num">
                                      <p:cBhvr additive="repl">
                                        <p:cTn id="167" dur="1000" fill="hold"/>
                                        <p:tgtEl>
                                          <p:spTgt spid="172"/>
                                        </p:tgtEl>
                                        <p:attrNameLst>
                                          <p:attrName>ppt_x</p:attrName>
                                        </p:attrNameLst>
                                      </p:cBhvr>
                                      <p:tavLst>
                                        <p:tav tm="0">
                                          <p:val>
                                            <p:strVal val="#ppt_x"/>
                                          </p:val>
                                        </p:tav>
                                        <p:tav tm="100000">
                                          <p:val>
                                            <p:strVal val="#ppt_x"/>
                                          </p:val>
                                        </p:tav>
                                      </p:tavLst>
                                    </p:anim>
                                    <p:anim calcmode="lin" valueType="num">
                                      <p:cBhvr additive="repl">
                                        <p:cTn id="168" dur="1000" fill="hold"/>
                                        <p:tgtEl>
                                          <p:spTgt spid="172"/>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1" dur="1000"/>
                                        <p:tgtEl>
                                          <p:spTgt spid="172">
                                            <p:txEl>
                                              <p:pRg st="0" end="0"/>
                                            </p:txEl>
                                          </p:spTgt>
                                        </p:tgtEl>
                                      </p:cBhvr>
                                    </p:animEffect>
                                    <p:anim calcmode="lin" valueType="num">
                                      <p:cBhvr additive="repl">
                                        <p:cTn id="17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77" dur="1000"/>
                                        <p:tgtEl>
                                          <p:spTgt spid="172">
                                            <p:txEl>
                                              <p:pRg st="2" end="2"/>
                                            </p:txEl>
                                          </p:spTgt>
                                        </p:tgtEl>
                                      </p:cBhvr>
                                    </p:animEffect>
                                    <p:anim calcmode="lin" valueType="num">
                                      <p:cBhvr additive="repl">
                                        <p:cTn id="17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par>
                          <p:cTn id="180" fill="hold">
                            <p:stCondLst>
                              <p:cond delay="2000"/>
                            </p:stCondLst>
                            <p:childTnLst>
                              <p:par>
                                <p:cTn id="181" nodeType="afterEffect" fill="hold" presetClass="entr" presetID="42">
                                  <p:stCondLst>
                                    <p:cond delay="0"/>
                                  </p:stCondLst>
                                  <p:childTnLst>
                                    <p:set>
                                      <p:cBhvr>
                                        <p:cTn id="182"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83" dur="1000"/>
                                        <p:tgtEl>
                                          <p:spTgt spid="172">
                                            <p:txEl>
                                              <p:pRg st="4" end="4"/>
                                            </p:txEl>
                                          </p:spTgt>
                                        </p:tgtEl>
                                      </p:cBhvr>
                                    </p:animEffect>
                                    <p:anim calcmode="lin" valueType="num">
                                      <p:cBhvr additive="repl">
                                        <p:cTn id="184"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4"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6" name="Diagram6"/>
          <p:cNvGraphicFramePr/>
          <p:nvPr>
            <p:extLst>
              <p:ext uri="{D42A27DB-BD31-4B8C-83A1-F6EECF244321}">
                <p14:modId xmlns:p14="http://schemas.microsoft.com/office/powerpoint/2010/main" val="1395096147"/>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175">
                                            <p:txEl>
                                              <p:pRg st="0" end="0"/>
                                            </p:txEl>
                                          </p:spTgt>
                                        </p:tgtEl>
                                        <p:attrNameLst>
                                          <p:attrName>style.visibility</p:attrName>
                                        </p:attrNameLst>
                                      </p:cBhvr>
                                      <p:to>
                                        <p:strVal val="visible"/>
                                      </p:to>
                                    </p:set>
                                    <p:anim calcmode="lin" valueType="num">
                                      <p:cBhvr additive="repl">
                                        <p:cTn id="1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42">
                                  <p:stCondLst>
                                    <p:cond delay="0"/>
                                  </p:stCondLst>
                                  <p:childTnLst>
                                    <p:set>
                                      <p:cBhvr>
                                        <p:cTn id="196" dur="1" fill="hold">
                                          <p:stCondLst>
                                            <p:cond delay="0"/>
                                          </p:stCondLst>
                                        </p:cTn>
                                        <p:tgtEl>
                                          <p:spTgt spid="-1"/>
                                        </p:tgtEl>
                                        <p:attrNameLst>
                                          <p:attrName>style.visibility</p:attrName>
                                        </p:attrNameLst>
                                      </p:cBhvr>
                                      <p:to>
                                        <p:strVal val="visible"/>
                                      </p:to>
                                    </p:set>
                                    <p:animEffect filter="fade" transition="in">
                                      <p:cBhvr additive="repl">
                                        <p:cTn id="197" dur="1000"/>
                                        <p:tgtEl>
                                          <p:spTgt spid="-1"/>
                                        </p:tgtEl>
                                      </p:cBhvr>
                                    </p:animEffect>
                                    <p:anim calcmode="lin" valueType="num">
                                      <p:cBhvr additive="repl">
                                        <p:cTn id="198" dur="1000" fill="hold"/>
                                        <p:tgtEl>
                                          <p:spTgt spid="-1"/>
                                        </p:tgtEl>
                                        <p:attrNameLst>
                                          <p:attrName>ppt_x</p:attrName>
                                        </p:attrNameLst>
                                      </p:cBhvr>
                                      <p:tavLst>
                                        <p:tav tm="0">
                                          <p:val>
                                            <p:strVal val="#ppt_x"/>
                                          </p:val>
                                        </p:tav>
                                        <p:tav tm="100000">
                                          <p:val>
                                            <p:strVal val="#ppt_x"/>
                                          </p:val>
                                        </p:tav>
                                      </p:tavLst>
                                    </p:anim>
                                    <p:anim calcmode="lin" valueType="num">
                                      <p:cBhvr additive="repl">
                                        <p:cTn id="19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7" name="Diagram7"/>
          <p:cNvGraphicFramePr/>
          <p:nvPr>
            <p:extLst>
              <p:ext uri="{D42A27DB-BD31-4B8C-83A1-F6EECF244321}">
                <p14:modId xmlns:p14="http://schemas.microsoft.com/office/powerpoint/2010/main" val="2468835324"/>
              </p:ext>
            </p:extLst>
          </p:nvPr>
        </p:nvGraphicFramePr>
        <p:xfrm>
          <a:off x="5164200" y="1494000"/>
          <a:ext cx="6640920" cy="513180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78">
                                            <p:txEl>
                                              <p:pRg st="0" end="0"/>
                                            </p:txEl>
                                          </p:spTgt>
                                        </p:tgtEl>
                                        <p:attrNameLst>
                                          <p:attrName>style.visibility</p:attrName>
                                        </p:attrNameLst>
                                      </p:cBhvr>
                                      <p:to>
                                        <p:strVal val="visible"/>
                                      </p:to>
                                    </p:set>
                                    <p:anim calcmode="lin" valueType="num">
                                      <p:cBhvr additive="repl">
                                        <p:cTn id="20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42">
                                  <p:stCondLst>
                                    <p:cond delay="0"/>
                                  </p:stCondLst>
                                  <p:childTnLst>
                                    <p:set>
                                      <p:cBhvr>
                                        <p:cTn id="210" dur="1" fill="hold">
                                          <p:stCondLst>
                                            <p:cond delay="0"/>
                                          </p:stCondLst>
                                        </p:cTn>
                                        <p:tgtEl>
                                          <p:spTgt spid="-1"/>
                                        </p:tgtEl>
                                        <p:attrNameLst>
                                          <p:attrName>style.visibility</p:attrName>
                                        </p:attrNameLst>
                                      </p:cBhvr>
                                      <p:to>
                                        <p:strVal val="visible"/>
                                      </p:to>
                                    </p:set>
                                    <p:animEffect filter="fade" transition="in">
                                      <p:cBhvr additive="repl">
                                        <p:cTn id="211" dur="1000"/>
                                        <p:tgtEl>
                                          <p:spTgt spid="-1"/>
                                        </p:tgtEl>
                                      </p:cBhvr>
                                    </p:animEffect>
                                    <p:anim calcmode="lin" valueType="num">
                                      <p:cBhvr additive="repl">
                                        <p:cTn id="212" dur="1000" fill="hold"/>
                                        <p:tgtEl>
                                          <p:spTgt spid="-1"/>
                                        </p:tgtEl>
                                        <p:attrNameLst>
                                          <p:attrName>ppt_x</p:attrName>
                                        </p:attrNameLst>
                                      </p:cBhvr>
                                      <p:tavLst>
                                        <p:tav tm="0">
                                          <p:val>
                                            <p:strVal val="#ppt_x"/>
                                          </p:val>
                                        </p:tav>
                                        <p:tav tm="100000">
                                          <p:val>
                                            <p:strVal val="#ppt_x"/>
                                          </p:val>
                                        </p:tav>
                                      </p:tavLst>
                                    </p:anim>
                                    <p:anim calcmode="lin" valueType="num">
                                      <p:cBhvr additive="repl">
                                        <p:cTn id="21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8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pic>
        <p:nvPicPr>
          <p:cNvPr id="181" name="Рисунок 3" descr=""/>
          <p:cNvPicPr/>
          <p:nvPr/>
        </p:nvPicPr>
        <p:blipFill>
          <a:blip r:embed="rId2"/>
          <a:stretch/>
        </p:blipFill>
        <p:spPr>
          <a:xfrm>
            <a:off x="763200" y="1828800"/>
            <a:ext cx="4066920" cy="4838400"/>
          </a:xfrm>
          <a:prstGeom prst="rect">
            <a:avLst/>
          </a:prstGeom>
          <a:ln w="0">
            <a:noFill/>
          </a:ln>
        </p:spPr>
      </p:pic>
      <p:sp>
        <p:nvSpPr>
          <p:cNvPr id="182" name="Прямоугольник 4"/>
          <p:cNvSpPr/>
          <p:nvPr/>
        </p:nvSpPr>
        <p:spPr>
          <a:xfrm>
            <a:off x="0" y="1280160"/>
            <a:ext cx="1219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Times New Roman"/>
                <a:ea typeface="Times New Roman"/>
              </a:rPr>
              <a:t>Смена нательного и постельного белья пациенту</a:t>
            </a:r>
            <a:endParaRPr b="0" lang="en-US" sz="1800" spc="-1" strike="noStrike">
              <a:solidFill>
                <a:srgbClr val="000000"/>
              </a:solidFill>
              <a:latin typeface="Arial"/>
            </a:endParaRPr>
          </a:p>
        </p:txBody>
      </p:sp>
      <p:sp>
        <p:nvSpPr>
          <p:cNvPr id="183" name="TextBox 13"/>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84" name="Рисунок 5" descr=""/>
          <p:cNvPicPr/>
          <p:nvPr/>
        </p:nvPicPr>
        <p:blipFill>
          <a:blip r:embed="rId3"/>
          <a:stretch/>
        </p:blipFill>
        <p:spPr>
          <a:xfrm>
            <a:off x="6507000" y="1980720"/>
            <a:ext cx="4133520" cy="2285640"/>
          </a:xfrm>
          <a:prstGeom prst="rect">
            <a:avLst/>
          </a:prstGeom>
          <a:ln w="0">
            <a:noFill/>
          </a:ln>
        </p:spPr>
      </p:pic>
      <p:pic>
        <p:nvPicPr>
          <p:cNvPr id="185" name="Рисунок 9" descr=""/>
          <p:cNvPicPr/>
          <p:nvPr/>
        </p:nvPicPr>
        <p:blipFill>
          <a:blip r:embed="rId4"/>
          <a:stretch/>
        </p:blipFill>
        <p:spPr>
          <a:xfrm>
            <a:off x="7036560" y="4484880"/>
            <a:ext cx="3834360" cy="1885680"/>
          </a:xfrm>
          <a:prstGeom prst="rect">
            <a:avLst/>
          </a:prstGeom>
          <a:ln w="0">
            <a:noFill/>
          </a:ln>
        </p:spPr>
      </p:pic>
      <p:sp>
        <p:nvSpPr>
          <p:cNvPr id="186" name="Прямоугольник 10"/>
          <p:cNvSpPr/>
          <p:nvPr/>
        </p:nvSpPr>
        <p:spPr>
          <a:xfrm>
            <a:off x="6696360" y="3933000"/>
            <a:ext cx="497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родольным способом </a:t>
            </a:r>
            <a:endParaRPr b="0" lang="en-US" sz="1800" spc="-1" strike="noStrike">
              <a:solidFill>
                <a:srgbClr val="000000"/>
              </a:solidFill>
              <a:latin typeface="Arial"/>
            </a:endParaRPr>
          </a:p>
        </p:txBody>
      </p:sp>
      <p:sp>
        <p:nvSpPr>
          <p:cNvPr id="187" name="Прямоугольник 11"/>
          <p:cNvSpPr/>
          <p:nvPr/>
        </p:nvSpPr>
        <p:spPr>
          <a:xfrm>
            <a:off x="267480" y="3930480"/>
            <a:ext cx="3876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оперечным способом</a:t>
            </a:r>
            <a:endParaRPr b="0" lang="en-US" sz="1800" spc="-1" strike="noStrike">
              <a:solidFill>
                <a:srgbClr val="000000"/>
              </a:solidFill>
              <a:latin typeface="Arial"/>
            </a:endParaRPr>
          </a:p>
        </p:txBody>
      </p:sp>
      <p:sp>
        <p:nvSpPr>
          <p:cNvPr id="188" name="Прямоугольник 12"/>
          <p:cNvSpPr/>
          <p:nvPr/>
        </p:nvSpPr>
        <p:spPr>
          <a:xfrm>
            <a:off x="7884000" y="6322320"/>
            <a:ext cx="253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нательного белья</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82"/>
                                        </p:tgtEl>
                                        <p:attrNameLst>
                                          <p:attrName>style.visibility</p:attrName>
                                        </p:attrNameLst>
                                      </p:cBhvr>
                                      <p:to>
                                        <p:strVal val="visible"/>
                                      </p:to>
                                    </p:set>
                                    <p:anim calcmode="lin" valueType="num">
                                      <p:cBhvr additive="repl">
                                        <p:cTn id="220" dur="500" fill="hold"/>
                                        <p:tgtEl>
                                          <p:spTgt spid="182"/>
                                        </p:tgtEl>
                                        <p:attrNameLst>
                                          <p:attrName>ppt_x</p:attrName>
                                        </p:attrNameLst>
                                      </p:cBhvr>
                                      <p:tavLst>
                                        <p:tav tm="0">
                                          <p:val>
                                            <p:strVal val="0-#ppt_w/2"/>
                                          </p:val>
                                        </p:tav>
                                        <p:tav tm="100000">
                                          <p:val>
                                            <p:strVal val="#ppt_x"/>
                                          </p:val>
                                        </p:tav>
                                      </p:tavLst>
                                    </p:anim>
                                    <p:anim calcmode="lin" valueType="num">
                                      <p:cBhvr additive="repl">
                                        <p:cTn id="221" dur="500" fill="hold"/>
                                        <p:tgtEl>
                                          <p:spTgt spid="182"/>
                                        </p:tgtEl>
                                        <p:attrNameLst>
                                          <p:attrName>ppt_y</p:attrName>
                                        </p:attrNameLst>
                                      </p:cBhvr>
                                      <p:tavLst>
                                        <p:tav tm="0">
                                          <p:val>
                                            <p:strVal val="#ppt_y"/>
                                          </p:val>
                                        </p:tav>
                                        <p:tav tm="100000">
                                          <p:val>
                                            <p:strVal val="#ppt_y"/>
                                          </p:val>
                                        </p:tav>
                                      </p:tavLst>
                                    </p:anim>
                                  </p:childTnLst>
                                </p:cTn>
                              </p:par>
                              <p:par>
                                <p:cTn id="222" nodeType="withEffect" fill="hold" presetClass="entr" presetID="45">
                                  <p:stCondLst>
                                    <p:cond delay="0"/>
                                  </p:stCondLst>
                                  <p:childTnLst>
                                    <p:set>
                                      <p:cBhvr>
                                        <p:cTn id="223" dur="1" fill="hold">
                                          <p:stCondLst>
                                            <p:cond delay="0"/>
                                          </p:stCondLst>
                                        </p:cTn>
                                        <p:tgtEl>
                                          <p:spTgt spid="181"/>
                                        </p:tgtEl>
                                        <p:attrNameLst>
                                          <p:attrName>style.visibility</p:attrName>
                                        </p:attrNameLst>
                                      </p:cBhvr>
                                      <p:to>
                                        <p:strVal val="visible"/>
                                      </p:to>
                                    </p:set>
                                    <p:animEffect filter="fade" transition="in">
                                      <p:cBhvr additive="repl">
                                        <p:cTn id="224" dur="2000"/>
                                        <p:tgtEl>
                                          <p:spTgt spid="181"/>
                                        </p:tgtEl>
                                      </p:cBhvr>
                                    </p:animEffect>
                                    <p:anim calcmode="lin" valueType="num">
                                      <p:cBhvr additive="repl">
                                        <p:cTn id="225"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81"/>
                                        </p:tgtEl>
                                        <p:attrNameLst>
                                          <p:attrName>ppt_h</p:attrName>
                                        </p:attrNameLst>
                                      </p:cBhvr>
                                      <p:tavLst>
                                        <p:tav tm="0">
                                          <p:val>
                                            <p:strVal val="#ppt_h"/>
                                          </p:val>
                                        </p:tav>
                                        <p:tav tm="100000">
                                          <p:val>
                                            <p:strVal val="#ppt_h"/>
                                          </p:val>
                                        </p:tav>
                                      </p:tavLst>
                                    </p:anim>
                                  </p:childTnLst>
                                </p:cTn>
                              </p:par>
                              <p:par>
                                <p:cTn id="227" nodeType="withEffect" fill="hold" presetClass="entr" presetID="45">
                                  <p:stCondLst>
                                    <p:cond delay="0"/>
                                  </p:stCondLst>
                                  <p:childTnLst>
                                    <p:set>
                                      <p:cBhvr>
                                        <p:cTn id="228" dur="1" fill="hold">
                                          <p:stCondLst>
                                            <p:cond delay="0"/>
                                          </p:stCondLst>
                                        </p:cTn>
                                        <p:tgtEl>
                                          <p:spTgt spid="184"/>
                                        </p:tgtEl>
                                        <p:attrNameLst>
                                          <p:attrName>style.visibility</p:attrName>
                                        </p:attrNameLst>
                                      </p:cBhvr>
                                      <p:to>
                                        <p:strVal val="visible"/>
                                      </p:to>
                                    </p:set>
                                    <p:animEffect filter="fade" transition="in">
                                      <p:cBhvr additive="repl">
                                        <p:cTn id="229" dur="2000"/>
                                        <p:tgtEl>
                                          <p:spTgt spid="184"/>
                                        </p:tgtEl>
                                      </p:cBhvr>
                                    </p:animEffect>
                                    <p:anim calcmode="lin" valueType="num">
                                      <p:cBhvr additive="repl">
                                        <p:cTn id="230"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31" dur="2000" fill="hold"/>
                                        <p:tgtEl>
                                          <p:spTgt spid="184"/>
                                        </p:tgtEl>
                                        <p:attrNameLst>
                                          <p:attrName>ppt_h</p:attrName>
                                        </p:attrNameLst>
                                      </p:cBhvr>
                                      <p:tavLst>
                                        <p:tav tm="0">
                                          <p:val>
                                            <p:strVal val="#ppt_h"/>
                                          </p:val>
                                        </p:tav>
                                        <p:tav tm="100000">
                                          <p:val>
                                            <p:strVal val="#ppt_h"/>
                                          </p:val>
                                        </p:tav>
                                      </p:tavLst>
                                    </p:anim>
                                  </p:childTnLst>
                                </p:cTn>
                              </p:par>
                              <p:par>
                                <p:cTn id="232" nodeType="withEffect" fill="hold" presetClass="entr" presetID="45">
                                  <p:stCondLst>
                                    <p:cond delay="0"/>
                                  </p:stCondLst>
                                  <p:childTnLst>
                                    <p:set>
                                      <p:cBhvr>
                                        <p:cTn id="233" dur="1" fill="hold">
                                          <p:stCondLst>
                                            <p:cond delay="0"/>
                                          </p:stCondLst>
                                        </p:cTn>
                                        <p:tgtEl>
                                          <p:spTgt spid="185"/>
                                        </p:tgtEl>
                                        <p:attrNameLst>
                                          <p:attrName>style.visibility</p:attrName>
                                        </p:attrNameLst>
                                      </p:cBhvr>
                                      <p:to>
                                        <p:strVal val="visible"/>
                                      </p:to>
                                    </p:set>
                                    <p:animEffect filter="fade" transition="in">
                                      <p:cBhvr additive="repl">
                                        <p:cTn id="234" dur="2000"/>
                                        <p:tgtEl>
                                          <p:spTgt spid="185"/>
                                        </p:tgtEl>
                                      </p:cBhvr>
                                    </p:animEffect>
                                    <p:anim calcmode="lin" valueType="num">
                                      <p:cBhvr additive="repl">
                                        <p:cTn id="235"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85"/>
                                        </p:tgtEl>
                                        <p:attrNameLst>
                                          <p:attrName>ppt_h</p:attrName>
                                        </p:attrNameLst>
                                      </p:cBhvr>
                                      <p:tavLst>
                                        <p:tav tm="0">
                                          <p:val>
                                            <p:strVal val="#ppt_h"/>
                                          </p:val>
                                        </p:tav>
                                        <p:tav tm="100000">
                                          <p:val>
                                            <p:strVal val="#ppt_h"/>
                                          </p:val>
                                        </p:tav>
                                      </p:tavLst>
                                    </p:anim>
                                  </p:childTnLst>
                                </p:cTn>
                              </p:par>
                              <p:par>
                                <p:cTn id="237" nodeType="withEffect" fill="hold" presetClass="entr" presetID="45">
                                  <p:stCondLst>
                                    <p:cond delay="0"/>
                                  </p:stCondLst>
                                  <p:childTnLst>
                                    <p:set>
                                      <p:cBhvr>
                                        <p:cTn id="238" dur="1" fill="hold">
                                          <p:stCondLst>
                                            <p:cond delay="0"/>
                                          </p:stCondLst>
                                        </p:cTn>
                                        <p:tgtEl>
                                          <p:spTgt spid="188"/>
                                        </p:tgtEl>
                                        <p:attrNameLst>
                                          <p:attrName>style.visibility</p:attrName>
                                        </p:attrNameLst>
                                      </p:cBhvr>
                                      <p:to>
                                        <p:strVal val="visible"/>
                                      </p:to>
                                    </p:set>
                                    <p:animEffect filter="fade" transition="in">
                                      <p:cBhvr additive="repl">
                                        <p:cTn id="239" dur="2000"/>
                                        <p:tgtEl>
                                          <p:spTgt spid="188"/>
                                        </p:tgtEl>
                                      </p:cBhvr>
                                    </p:animEffect>
                                    <p:anim calcmode="lin" valueType="num">
                                      <p:cBhvr additive="repl">
                                        <p:cTn id="240"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88"/>
                                        </p:tgtEl>
                                        <p:attrNameLst>
                                          <p:attrName>ppt_h</p:attrName>
                                        </p:attrNameLst>
                                      </p:cBhvr>
                                      <p:tavLst>
                                        <p:tav tm="0">
                                          <p:val>
                                            <p:strVal val="#ppt_h"/>
                                          </p:val>
                                        </p:tav>
                                        <p:tav tm="100000">
                                          <p:val>
                                            <p:strVal val="#ppt_h"/>
                                          </p:val>
                                        </p:tav>
                                      </p:tavLst>
                                    </p:anim>
                                  </p:childTnLst>
                                </p:cTn>
                              </p:par>
                              <p:par>
                                <p:cTn id="242" nodeType="withEffect" fill="hold" presetClass="entr" presetID="45">
                                  <p:stCondLst>
                                    <p:cond delay="0"/>
                                  </p:stCondLst>
                                  <p:childTnLst>
                                    <p:set>
                                      <p:cBhvr>
                                        <p:cTn id="243" dur="1" fill="hold">
                                          <p:stCondLst>
                                            <p:cond delay="0"/>
                                          </p:stCondLst>
                                        </p:cTn>
                                        <p:tgtEl>
                                          <p:spTgt spid="186"/>
                                        </p:tgtEl>
                                        <p:attrNameLst>
                                          <p:attrName>style.visibility</p:attrName>
                                        </p:attrNameLst>
                                      </p:cBhvr>
                                      <p:to>
                                        <p:strVal val="visible"/>
                                      </p:to>
                                    </p:set>
                                    <p:animEffect filter="fade" transition="in">
                                      <p:cBhvr additive="repl">
                                        <p:cTn id="244" dur="2000"/>
                                        <p:tgtEl>
                                          <p:spTgt spid="186"/>
                                        </p:tgtEl>
                                      </p:cBhvr>
                                    </p:animEffect>
                                    <p:anim calcmode="lin" valueType="num">
                                      <p:cBhvr additive="repl">
                                        <p:cTn id="245"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186"/>
                                        </p:tgtEl>
                                        <p:attrNameLst>
                                          <p:attrName>ppt_h</p:attrName>
                                        </p:attrNameLst>
                                      </p:cBhvr>
                                      <p:tavLst>
                                        <p:tav tm="0">
                                          <p:val>
                                            <p:strVal val="#ppt_h"/>
                                          </p:val>
                                        </p:tav>
                                        <p:tav tm="100000">
                                          <p:val>
                                            <p:strVal val="#ppt_h"/>
                                          </p:val>
                                        </p:tav>
                                      </p:tavLst>
                                    </p:anim>
                                  </p:childTnLst>
                                </p:cTn>
                              </p:par>
                              <p:par>
                                <p:cTn id="247" nodeType="withEffect" fill="hold" presetClass="entr" presetID="45">
                                  <p:stCondLst>
                                    <p:cond delay="0"/>
                                  </p:stCondLst>
                                  <p:childTnLst>
                                    <p:set>
                                      <p:cBhvr>
                                        <p:cTn id="248" dur="1" fill="hold">
                                          <p:stCondLst>
                                            <p:cond delay="0"/>
                                          </p:stCondLst>
                                        </p:cTn>
                                        <p:tgtEl>
                                          <p:spTgt spid="187"/>
                                        </p:tgtEl>
                                        <p:attrNameLst>
                                          <p:attrName>style.visibility</p:attrName>
                                        </p:attrNameLst>
                                      </p:cBhvr>
                                      <p:to>
                                        <p:strVal val="visible"/>
                                      </p:to>
                                    </p:set>
                                    <p:animEffect filter="fade" transition="in">
                                      <p:cBhvr additive="repl">
                                        <p:cTn id="249" dur="2000"/>
                                        <p:tgtEl>
                                          <p:spTgt spid="187"/>
                                        </p:tgtEl>
                                      </p:cBhvr>
                                    </p:animEffect>
                                    <p:anim calcmode="lin" valueType="num">
                                      <p:cBhvr additive="repl">
                                        <p:cTn id="250"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9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191" name="Прямоугольник 4"/>
          <p:cNvSpPr/>
          <p:nvPr/>
        </p:nvSpPr>
        <p:spPr>
          <a:xfrm>
            <a:off x="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проведения мероприятий по профилактике пролежней</a:t>
            </a:r>
            <a:endParaRPr b="0" lang="en-US" sz="1800" spc="-1" strike="noStrike">
              <a:solidFill>
                <a:srgbClr val="000000"/>
              </a:solidFill>
              <a:latin typeface="Arial"/>
            </a:endParaRPr>
          </a:p>
        </p:txBody>
      </p:sp>
      <p:pic>
        <p:nvPicPr>
          <p:cNvPr id="192" name="Picture 2" descr=""/>
          <p:cNvPicPr/>
          <p:nvPr/>
        </p:nvPicPr>
        <p:blipFill>
          <a:blip r:embed="rId2"/>
          <a:stretch/>
        </p:blipFill>
        <p:spPr>
          <a:xfrm>
            <a:off x="370440" y="2564640"/>
            <a:ext cx="5499360" cy="3321720"/>
          </a:xfrm>
          <a:prstGeom prst="rect">
            <a:avLst/>
          </a:prstGeom>
          <a:ln w="0">
            <a:noFill/>
          </a:ln>
        </p:spPr>
      </p:pic>
      <p:sp>
        <p:nvSpPr>
          <p:cNvPr id="193" name="Прямоугольник 6"/>
          <p:cNvSpPr/>
          <p:nvPr/>
        </p:nvSpPr>
        <p:spPr>
          <a:xfrm>
            <a:off x="391320" y="6256080"/>
            <a:ext cx="4736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кожи при профилактике пролежней</a:t>
            </a:r>
            <a:endParaRPr b="0" lang="en-US" sz="1800" spc="-1" strike="noStrike">
              <a:solidFill>
                <a:srgbClr val="000000"/>
              </a:solidFill>
              <a:latin typeface="Arial"/>
            </a:endParaRPr>
          </a:p>
        </p:txBody>
      </p:sp>
      <p:sp>
        <p:nvSpPr>
          <p:cNvPr id="194" name="Прямоугольник 13"/>
          <p:cNvSpPr/>
          <p:nvPr/>
        </p:nvSpPr>
        <p:spPr>
          <a:xfrm>
            <a:off x="622188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наружными половыми органами и промежностью</a:t>
            </a:r>
            <a:endParaRPr b="0" lang="en-US" sz="1800" spc="-1" strike="noStrike">
              <a:solidFill>
                <a:srgbClr val="000000"/>
              </a:solidFill>
              <a:latin typeface="Arial"/>
            </a:endParaRPr>
          </a:p>
        </p:txBody>
      </p:sp>
      <p:sp>
        <p:nvSpPr>
          <p:cNvPr id="195"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96" name="Picture 3" descr=""/>
          <p:cNvPicPr/>
          <p:nvPr/>
        </p:nvPicPr>
        <p:blipFill>
          <a:blip r:embed="rId3"/>
          <a:stretch/>
        </p:blipFill>
        <p:spPr>
          <a:xfrm>
            <a:off x="7029000" y="2083320"/>
            <a:ext cx="4645080" cy="4172400"/>
          </a:xfrm>
          <a:prstGeom prst="rect">
            <a:avLst/>
          </a:prstGeom>
          <a:ln w="0">
            <a:noFill/>
          </a:ln>
        </p:spPr>
      </p:pic>
      <p:sp>
        <p:nvSpPr>
          <p:cNvPr id="197" name="Прямоугольник 8"/>
          <p:cNvSpPr/>
          <p:nvPr/>
        </p:nvSpPr>
        <p:spPr>
          <a:xfrm>
            <a:off x="6582600" y="6235200"/>
            <a:ext cx="5138640" cy="4050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15000"/>
              </a:lnSpc>
              <a:tabLst>
                <a:tab algn="l" pos="0"/>
              </a:tabLst>
            </a:pPr>
            <a:r>
              <a:rPr b="0" lang="ru-RU" sz="1800" spc="-1" strike="noStrike">
                <a:solidFill>
                  <a:srgbClr val="000000"/>
                </a:solidFill>
                <a:latin typeface="Times New Roman"/>
                <a:ea typeface="Times New Roman"/>
              </a:rPr>
              <a:t>Уход за наружными половыми органами женщины</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91"/>
                                        </p:tgtEl>
                                        <p:attrNameLst>
                                          <p:attrName>style.visibility</p:attrName>
                                        </p:attrNameLst>
                                      </p:cBhvr>
                                      <p:to>
                                        <p:strVal val="visible"/>
                                      </p:to>
                                    </p:set>
                                    <p:anim calcmode="lin" valueType="num">
                                      <p:cBhvr additive="repl">
                                        <p:cTn id="258" dur="500" fill="hold"/>
                                        <p:tgtEl>
                                          <p:spTgt spid="191"/>
                                        </p:tgtEl>
                                        <p:attrNameLst>
                                          <p:attrName>ppt_x</p:attrName>
                                        </p:attrNameLst>
                                      </p:cBhvr>
                                      <p:tavLst>
                                        <p:tav tm="0">
                                          <p:val>
                                            <p:strVal val="0-#ppt_w/2"/>
                                          </p:val>
                                        </p:tav>
                                        <p:tav tm="100000">
                                          <p:val>
                                            <p:strVal val="#ppt_x"/>
                                          </p:val>
                                        </p:tav>
                                      </p:tavLst>
                                    </p:anim>
                                    <p:anim calcmode="lin" valueType="num">
                                      <p:cBhvr additive="repl">
                                        <p:cTn id="259" dur="500" fill="hold"/>
                                        <p:tgtEl>
                                          <p:spTgt spid="19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94"/>
                                        </p:tgtEl>
                                        <p:attrNameLst>
                                          <p:attrName>style.visibility</p:attrName>
                                        </p:attrNameLst>
                                      </p:cBhvr>
                                      <p:to>
                                        <p:strVal val="visible"/>
                                      </p:to>
                                    </p:set>
                                    <p:anim calcmode="lin" valueType="num">
                                      <p:cBhvr additive="repl">
                                        <p:cTn id="263" dur="500" fill="hold"/>
                                        <p:tgtEl>
                                          <p:spTgt spid="194"/>
                                        </p:tgtEl>
                                        <p:attrNameLst>
                                          <p:attrName>ppt_x</p:attrName>
                                        </p:attrNameLst>
                                      </p:cBhvr>
                                      <p:tavLst>
                                        <p:tav tm="0">
                                          <p:val>
                                            <p:strVal val="0-#ppt_w/2"/>
                                          </p:val>
                                        </p:tav>
                                        <p:tav tm="100000">
                                          <p:val>
                                            <p:strVal val="#ppt_x"/>
                                          </p:val>
                                        </p:tav>
                                      </p:tavLst>
                                    </p:anim>
                                    <p:anim calcmode="lin" valueType="num">
                                      <p:cBhvr additive="repl">
                                        <p:cTn id="264" dur="500" fill="hold"/>
                                        <p:tgtEl>
                                          <p:spTgt spid="194"/>
                                        </p:tgtEl>
                                        <p:attrNameLst>
                                          <p:attrName>ppt_y</p:attrName>
                                        </p:attrNameLst>
                                      </p:cBhvr>
                                      <p:tavLst>
                                        <p:tav tm="0">
                                          <p:val>
                                            <p:strVal val="#ppt_y"/>
                                          </p:val>
                                        </p:tav>
                                        <p:tav tm="100000">
                                          <p:val>
                                            <p:strVal val="#ppt_y"/>
                                          </p:val>
                                        </p:tav>
                                      </p:tavLst>
                                    </p:anim>
                                  </p:childTnLst>
                                </p:cTn>
                              </p:par>
                              <p:par>
                                <p:cTn id="265" nodeType="withEffect" fill="hold" presetClass="entr" presetID="45">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2000"/>
                                        <p:tgtEl>
                                          <p:spTgt spid="192"/>
                                        </p:tgtEl>
                                      </p:cBhvr>
                                    </p:animEffect>
                                    <p:anim calcmode="lin" valueType="num">
                                      <p:cBhvr additive="repl">
                                        <p:cTn id="26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196"/>
                                        </p:tgtEl>
                                        <p:attrNameLst>
                                          <p:attrName>style.visibility</p:attrName>
                                        </p:attrNameLst>
                                      </p:cBhvr>
                                      <p:to>
                                        <p:strVal val="visible"/>
                                      </p:to>
                                    </p:set>
                                    <p:animEffect filter="fade" transition="in">
                                      <p:cBhvr additive="repl">
                                        <p:cTn id="272" dur="2000"/>
                                        <p:tgtEl>
                                          <p:spTgt spid="196"/>
                                        </p:tgtEl>
                                      </p:cBhvr>
                                    </p:animEffect>
                                    <p:anim calcmode="lin" valueType="num">
                                      <p:cBhvr additive="repl">
                                        <p:cTn id="273"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196"/>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193"/>
                                        </p:tgtEl>
                                        <p:attrNameLst>
                                          <p:attrName>style.visibility</p:attrName>
                                        </p:attrNameLst>
                                      </p:cBhvr>
                                      <p:to>
                                        <p:strVal val="visible"/>
                                      </p:to>
                                    </p:set>
                                    <p:animEffect filter="fade" transition="in">
                                      <p:cBhvr additive="repl">
                                        <p:cTn id="277" dur="2000"/>
                                        <p:tgtEl>
                                          <p:spTgt spid="193"/>
                                        </p:tgtEl>
                                      </p:cBhvr>
                                    </p:animEffect>
                                    <p:anim calcmode="lin" valueType="num">
                                      <p:cBhvr additive="repl">
                                        <p:cTn id="278"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193"/>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197"/>
                                        </p:tgtEl>
                                        <p:attrNameLst>
                                          <p:attrName>style.visibility</p:attrName>
                                        </p:attrNameLst>
                                      </p:cBhvr>
                                      <p:to>
                                        <p:strVal val="visible"/>
                                      </p:to>
                                    </p:set>
                                    <p:animEffect filter="fade" transition="in">
                                      <p:cBhvr additive="repl">
                                        <p:cTn id="282" dur="2000"/>
                                        <p:tgtEl>
                                          <p:spTgt spid="197"/>
                                        </p:tgtEl>
                                      </p:cBhvr>
                                    </p:animEffect>
                                    <p:anim calcmode="lin" valueType="num">
                                      <p:cBhvr additive="repl">
                                        <p:cTn id="283"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0" y="0"/>
            <a:ext cx="12191760" cy="6857640"/>
          </a:xfrm>
          <a:prstGeom prst="rect">
            <a:avLst/>
          </a:prstGeom>
          <a:ln w="190500">
            <a:solidFill>
              <a:srgbClr val="bcd6ee"/>
            </a:solidFill>
            <a:round/>
          </a:ln>
        </p:spPr>
      </p:pic>
      <p:sp>
        <p:nvSpPr>
          <p:cNvPr id="199"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200" name="Прямоугольник 4"/>
          <p:cNvSpPr/>
          <p:nvPr/>
        </p:nvSpPr>
        <p:spPr>
          <a:xfrm>
            <a:off x="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кормления тяжелобольного из ложки</a:t>
            </a:r>
            <a:endParaRPr b="0" lang="en-US" sz="1800" spc="-1" strike="noStrike">
              <a:solidFill>
                <a:srgbClr val="000000"/>
              </a:solidFill>
              <a:latin typeface="Arial"/>
            </a:endParaRPr>
          </a:p>
        </p:txBody>
      </p:sp>
      <p:sp>
        <p:nvSpPr>
          <p:cNvPr id="201" name="Прямоугольник 6"/>
          <p:cNvSpPr/>
          <p:nvPr/>
        </p:nvSpPr>
        <p:spPr>
          <a:xfrm>
            <a:off x="387000" y="6256080"/>
            <a:ext cx="382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Кормление тяжелобольного из ложки</a:t>
            </a:r>
            <a:endParaRPr b="0" lang="en-US" sz="1800" spc="-1" strike="noStrike">
              <a:solidFill>
                <a:srgbClr val="000000"/>
              </a:solidFill>
              <a:latin typeface="Arial"/>
            </a:endParaRPr>
          </a:p>
        </p:txBody>
      </p:sp>
      <p:sp>
        <p:nvSpPr>
          <p:cNvPr id="202" name="Прямоугольник 13"/>
          <p:cNvSpPr/>
          <p:nvPr/>
        </p:nvSpPr>
        <p:spPr>
          <a:xfrm>
            <a:off x="622188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полостью рта</a:t>
            </a:r>
            <a:endParaRPr b="0" lang="en-US" sz="1800" spc="-1" strike="noStrike">
              <a:solidFill>
                <a:srgbClr val="000000"/>
              </a:solidFill>
              <a:latin typeface="Arial"/>
            </a:endParaRPr>
          </a:p>
        </p:txBody>
      </p:sp>
      <p:sp>
        <p:nvSpPr>
          <p:cNvPr id="203"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204" name="Picture 2" descr=""/>
          <p:cNvPicPr/>
          <p:nvPr/>
        </p:nvPicPr>
        <p:blipFill>
          <a:blip r:embed="rId2"/>
          <a:stretch/>
        </p:blipFill>
        <p:spPr>
          <a:xfrm>
            <a:off x="370440" y="2021040"/>
            <a:ext cx="5069520" cy="3979440"/>
          </a:xfrm>
          <a:prstGeom prst="rect">
            <a:avLst/>
          </a:prstGeom>
          <a:ln w="0">
            <a:noFill/>
          </a:ln>
        </p:spPr>
      </p:pic>
      <p:sp>
        <p:nvSpPr>
          <p:cNvPr id="205" name="Прямоугольник 3"/>
          <p:cNvSpPr/>
          <p:nvPr/>
        </p:nvSpPr>
        <p:spPr>
          <a:xfrm>
            <a:off x="7433280" y="6256080"/>
            <a:ext cx="3393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полости рта пациента</a:t>
            </a:r>
            <a:endParaRPr b="0" lang="en-US" sz="1800" spc="-1" strike="noStrike">
              <a:solidFill>
                <a:srgbClr val="000000"/>
              </a:solidFill>
              <a:latin typeface="Arial"/>
            </a:endParaRPr>
          </a:p>
        </p:txBody>
      </p:sp>
      <p:pic>
        <p:nvPicPr>
          <p:cNvPr id="206" name="Рисунок 8" descr=""/>
          <p:cNvPicPr/>
          <p:nvPr/>
        </p:nvPicPr>
        <p:blipFill>
          <a:blip r:embed="rId3">
            <a:extLst>
              <a:ext uri="{BEBA8EAE-BF5A-486C-A8C5-ECC9F3942E4B}">
                <a14:imgProps xmlns:a14="http://schemas.microsoft.com/office/drawing/2010/main">
                  <a14:imgLayer r:embed="rId4">
                    <a14:imgEffect>
                      <a14:brightnessContrast bright="13000" sat="0"/>
                    </a14:imgEffect>
                  </a14:imgLayer>
                </a14:imgProps>
              </a:ext>
            </a:extLst>
          </a:blip>
          <a:stretch/>
        </p:blipFill>
        <p:spPr>
          <a:xfrm>
            <a:off x="6246360" y="2021040"/>
            <a:ext cx="5306040" cy="39794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500" fill="hold"/>
                                        <p:tgtEl>
                                          <p:spTgt spid="200"/>
                                        </p:tgtEl>
                                        <p:attrNameLst>
                                          <p:attrName>ppt_x</p:attrName>
                                        </p:attrNameLst>
                                      </p:cBhvr>
                                      <p:tavLst>
                                        <p:tav tm="0">
                                          <p:val>
                                            <p:strVal val="0-#ppt_w/2"/>
                                          </p:val>
                                        </p:tav>
                                        <p:tav tm="100000">
                                          <p:val>
                                            <p:strVal val="#ppt_x"/>
                                          </p:val>
                                        </p:tav>
                                      </p:tavLst>
                                    </p:anim>
                                    <p:anim calcmode="lin" valueType="num">
                                      <p:cBhvr additive="repl">
                                        <p:cTn id="292" dur="500" fill="hold"/>
                                        <p:tgtEl>
                                          <p:spTgt spid="2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0-#ppt_w/2"/>
                                          </p:val>
                                        </p:tav>
                                        <p:tav tm="100000">
                                          <p:val>
                                            <p:strVal val="#ppt_x"/>
                                          </p:val>
                                        </p:tav>
                                      </p:tavLst>
                                    </p:anim>
                                    <p:anim calcmode="lin" valueType="num">
                                      <p:cBhvr additive="repl">
                                        <p:cTn id="297" dur="500" fill="hold"/>
                                        <p:tgtEl>
                                          <p:spTgt spid="202"/>
                                        </p:tgtEl>
                                        <p:attrNameLst>
                                          <p:attrName>ppt_y</p:attrName>
                                        </p:attrNameLst>
                                      </p:cBhvr>
                                      <p:tavLst>
                                        <p:tav tm="0">
                                          <p:val>
                                            <p:strVal val="#ppt_y"/>
                                          </p:val>
                                        </p:tav>
                                        <p:tav tm="100000">
                                          <p:val>
                                            <p:strVal val="#ppt_y"/>
                                          </p:val>
                                        </p:tav>
                                      </p:tavLst>
                                    </p:anim>
                                  </p:childTnLst>
                                </p:cTn>
                              </p:par>
                              <p:par>
                                <p:cTn id="298" nodeType="withEffect" fill="hold" presetClass="entr" presetID="45">
                                  <p:stCondLst>
                                    <p:cond delay="0"/>
                                  </p:stCondLst>
                                  <p:childTnLst>
                                    <p:set>
                                      <p:cBhvr>
                                        <p:cTn id="299" dur="1" fill="hold">
                                          <p:stCondLst>
                                            <p:cond delay="0"/>
                                          </p:stCondLst>
                                        </p:cTn>
                                        <p:tgtEl>
                                          <p:spTgt spid="204"/>
                                        </p:tgtEl>
                                        <p:attrNameLst>
                                          <p:attrName>style.visibility</p:attrName>
                                        </p:attrNameLst>
                                      </p:cBhvr>
                                      <p:to>
                                        <p:strVal val="visible"/>
                                      </p:to>
                                    </p:set>
                                    <p:animEffect filter="fade" transition="in">
                                      <p:cBhvr additive="repl">
                                        <p:cTn id="300" dur="2000"/>
                                        <p:tgtEl>
                                          <p:spTgt spid="204"/>
                                        </p:tgtEl>
                                      </p:cBhvr>
                                    </p:animEffect>
                                    <p:anim calcmode="lin" valueType="num">
                                      <p:cBhvr additive="repl">
                                        <p:cTn id="301" dur="2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302" dur="2000" fill="hold"/>
                                        <p:tgtEl>
                                          <p:spTgt spid="204"/>
                                        </p:tgtEl>
                                        <p:attrNameLst>
                                          <p:attrName>ppt_h</p:attrName>
                                        </p:attrNameLst>
                                      </p:cBhvr>
                                      <p:tavLst>
                                        <p:tav tm="0">
                                          <p:val>
                                            <p:strVal val="#ppt_h"/>
                                          </p:val>
                                        </p:tav>
                                        <p:tav tm="100000">
                                          <p:val>
                                            <p:strVal val="#ppt_h"/>
                                          </p:val>
                                        </p:tav>
                                      </p:tavLst>
                                    </p:anim>
                                  </p:childTnLst>
                                </p:cTn>
                              </p:par>
                              <p:par>
                                <p:cTn id="303" nodeType="withEffect" fill="hold" presetClass="entr" presetID="45">
                                  <p:stCondLst>
                                    <p:cond delay="0"/>
                                  </p:stCondLst>
                                  <p:childTnLst>
                                    <p:set>
                                      <p:cBhvr>
                                        <p:cTn id="304" dur="1" fill="hold">
                                          <p:stCondLst>
                                            <p:cond delay="0"/>
                                          </p:stCondLst>
                                        </p:cTn>
                                        <p:tgtEl>
                                          <p:spTgt spid="205"/>
                                        </p:tgtEl>
                                        <p:attrNameLst>
                                          <p:attrName>style.visibility</p:attrName>
                                        </p:attrNameLst>
                                      </p:cBhvr>
                                      <p:to>
                                        <p:strVal val="visible"/>
                                      </p:to>
                                    </p:set>
                                    <p:animEffect filter="fade" transition="in">
                                      <p:cBhvr additive="repl">
                                        <p:cTn id="305" dur="2000"/>
                                        <p:tgtEl>
                                          <p:spTgt spid="205"/>
                                        </p:tgtEl>
                                      </p:cBhvr>
                                    </p:animEffect>
                                    <p:anim calcmode="lin" valueType="num">
                                      <p:cBhvr additive="repl">
                                        <p:cTn id="306"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07" dur="2000" fill="hold"/>
                                        <p:tgtEl>
                                          <p:spTgt spid="205"/>
                                        </p:tgtEl>
                                        <p:attrNameLst>
                                          <p:attrName>ppt_h</p:attrName>
                                        </p:attrNameLst>
                                      </p:cBhvr>
                                      <p:tavLst>
                                        <p:tav tm="0">
                                          <p:val>
                                            <p:strVal val="#ppt_h"/>
                                          </p:val>
                                        </p:tav>
                                        <p:tav tm="100000">
                                          <p:val>
                                            <p:strVal val="#ppt_h"/>
                                          </p:val>
                                        </p:tav>
                                      </p:tavLst>
                                    </p:anim>
                                  </p:childTnLst>
                                </p:cTn>
                              </p:par>
                              <p:par>
                                <p:cTn id="308" nodeType="withEffect" fill="hold" presetClass="entr" presetID="45">
                                  <p:stCondLst>
                                    <p:cond delay="0"/>
                                  </p:stCondLst>
                                  <p:childTnLst>
                                    <p:set>
                                      <p:cBhvr>
                                        <p:cTn id="309" dur="1" fill="hold">
                                          <p:stCondLst>
                                            <p:cond delay="0"/>
                                          </p:stCondLst>
                                        </p:cTn>
                                        <p:tgtEl>
                                          <p:spTgt spid="201"/>
                                        </p:tgtEl>
                                        <p:attrNameLst>
                                          <p:attrName>style.visibility</p:attrName>
                                        </p:attrNameLst>
                                      </p:cBhvr>
                                      <p:to>
                                        <p:strVal val="visible"/>
                                      </p:to>
                                    </p:set>
                                    <p:animEffect filter="fade" transition="in">
                                      <p:cBhvr additive="repl">
                                        <p:cTn id="310" dur="2000"/>
                                        <p:tgtEl>
                                          <p:spTgt spid="201"/>
                                        </p:tgtEl>
                                      </p:cBhvr>
                                    </p:animEffect>
                                    <p:anim calcmode="lin" valueType="num">
                                      <p:cBhvr additive="repl">
                                        <p:cTn id="311" dur="2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312" dur="2000" fill="hold"/>
                                        <p:tgtEl>
                                          <p:spTgt spid="201"/>
                                        </p:tgtEl>
                                        <p:attrNameLst>
                                          <p:attrName>ppt_h</p:attrName>
                                        </p:attrNameLst>
                                      </p:cBhvr>
                                      <p:tavLst>
                                        <p:tav tm="0">
                                          <p:val>
                                            <p:strVal val="#ppt_h"/>
                                          </p:val>
                                        </p:tav>
                                        <p:tav tm="100000">
                                          <p:val>
                                            <p:strVal val="#ppt_h"/>
                                          </p:val>
                                        </p:tav>
                                      </p:tavLst>
                                    </p:anim>
                                  </p:childTnLst>
                                </p:cTn>
                              </p:par>
                              <p:par>
                                <p:cTn id="313" nodeType="withEffect" fill="hold" presetClass="entr" presetID="45">
                                  <p:stCondLst>
                                    <p:cond delay="0"/>
                                  </p:stCondLst>
                                  <p:childTnLst>
                                    <p:set>
                                      <p:cBhvr>
                                        <p:cTn id="314" dur="1" fill="hold">
                                          <p:stCondLst>
                                            <p:cond delay="0"/>
                                          </p:stCondLst>
                                        </p:cTn>
                                        <p:tgtEl>
                                          <p:spTgt spid="206"/>
                                        </p:tgtEl>
                                        <p:attrNameLst>
                                          <p:attrName>style.visibility</p:attrName>
                                        </p:attrNameLst>
                                      </p:cBhvr>
                                      <p:to>
                                        <p:strVal val="visible"/>
                                      </p:to>
                                    </p:set>
                                    <p:animEffect filter="fade" transition="in">
                                      <p:cBhvr additive="repl">
                                        <p:cTn id="315" dur="2000"/>
                                        <p:tgtEl>
                                          <p:spTgt spid="206"/>
                                        </p:tgtEl>
                                      </p:cBhvr>
                                    </p:animEffect>
                                    <p:anim calcmode="lin" valueType="num">
                                      <p:cBhvr additive="repl">
                                        <p:cTn id="316"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31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891360"/>
            <a:ext cx="10515240" cy="798840"/>
          </a:xfrm>
          <a:prstGeom prst="rect">
            <a:avLst/>
          </a:prstGeom>
          <a:noFill/>
          <a:ln w="0">
            <a:noFill/>
          </a:ln>
        </p:spPr>
        <p:txBody>
          <a:bodyPr lIns="90000" rIns="90000" tIns="45000" bIns="45000" anchor="ctr">
            <a:noAutofit/>
          </a:bodyPr>
          <a:p>
            <a:pPr indent="0">
              <a:buNone/>
            </a:pPr>
            <a:endParaRPr b="0" lang="ru-RU" sz="4400" spc="-1" strike="noStrike">
              <a:solidFill>
                <a:srgbClr val="000000"/>
              </a:solidFill>
              <a:latin typeface="Arial"/>
            </a:endParaRPr>
          </a:p>
        </p:txBody>
      </p:sp>
      <p:pic>
        <p:nvPicPr>
          <p:cNvPr id="208" name="Рисунок 3" descr=""/>
          <p:cNvPicPr/>
          <p:nvPr/>
        </p:nvPicPr>
        <p:blipFill>
          <a:blip r:embed="rId1">
            <a:alphaModFix amt="70000"/>
            <a:extLst>
              <a:ext uri="{BEBA8EAE-BF5A-486C-A8C5-ECC9F3942E4B}">
                <a14:imgProps xmlns:a14="http://schemas.microsoft.com/office/drawing/2010/main">
                  <a14:imgLayer r:embed="rId2">
                    <a14:imgEffect>
                      <a14:brightnessContrast bright="5000"/>
                    </a14:imgEffect>
                  </a14:imgLayer>
                </a14:imgProps>
              </a:ext>
            </a:extLst>
          </a:blip>
        </p:blipFill>
        <p:spPr>
          <a:xfrm>
            <a:off x="0" y="0"/>
            <a:ext cx="12191760" cy="4228920"/>
          </a:xfrm>
          <a:prstGeom prst="rect">
            <a:avLst/>
          </a:prstGeom>
          <a:ln w="0">
            <a:noFill/>
          </a:ln>
        </p:spPr>
      </p:pic>
      <p:sp>
        <p:nvSpPr>
          <p:cNvPr id="209" name="Заголовок 2"/>
          <p:cNvSpPr/>
          <p:nvPr/>
        </p:nvSpPr>
        <p:spPr>
          <a:xfrm>
            <a:off x="0" y="365040"/>
            <a:ext cx="12191760" cy="132516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ctr">
            <a:noAutofit/>
          </a:bodyPr>
          <a:p>
            <a:pPr algn="ctr">
              <a:lnSpc>
                <a:spcPct val="90000"/>
              </a:lnSpc>
              <a:tabLst>
                <a:tab algn="l" pos="0"/>
              </a:tabLst>
            </a:pPr>
            <a:r>
              <a:rPr b="0" lang="ru-RU" sz="4400" spc="-1" strike="noStrike">
                <a:solidFill>
                  <a:srgbClr val="ff0000"/>
                </a:solidFill>
                <a:latin typeface="Arial"/>
              </a:rPr>
              <a:t>ЗАКЛЮЧЕНИЕ</a:t>
            </a:r>
            <a:endParaRPr b="0" lang="en-US" sz="4400" spc="-1" strike="noStrike">
              <a:solidFill>
                <a:srgbClr val="000000"/>
              </a:solidFill>
              <a:latin typeface="Arial"/>
            </a:endParaRPr>
          </a:p>
        </p:txBody>
      </p:sp>
      <p:sp>
        <p:nvSpPr>
          <p:cNvPr id="210" name="Прямоугольник 5"/>
          <p:cNvSpPr/>
          <p:nvPr/>
        </p:nvSpPr>
        <p:spPr>
          <a:xfrm>
            <a:off x="838080" y="2266920"/>
            <a:ext cx="10509840" cy="4189320"/>
          </a:xfrm>
          <a:prstGeom prst="rect">
            <a:avLst/>
          </a:prstGeom>
          <a:solidFill>
            <a:schemeClr val="tx2">
              <a:lumMod val="20000"/>
              <a:lumOff val="80000"/>
              <a:alpha val="58000"/>
            </a:schemeClr>
          </a:solidFill>
          <a:ln w="0">
            <a:noFill/>
          </a:ln>
        </p:spPr>
        <p:style>
          <a:lnRef idx="0"/>
          <a:fillRef idx="0"/>
          <a:effectRef idx="0"/>
          <a:fontRef idx="minor"/>
        </p:style>
        <p:txBody>
          <a:bodyPr lIns="90000" rIns="90000" tIns="45000" bIns="45000" anchor="t">
            <a:spAutoFit/>
          </a:bodyPr>
          <a:p>
            <a:pPr algn="just">
              <a:lnSpc>
                <a:spcPct val="115000"/>
              </a:lnSpc>
            </a:pPr>
            <a:r>
              <a:rPr b="0" lang="ru-RU" sz="1800" spc="-1" strike="noStrike">
                <a:solidFill>
                  <a:srgbClr val="000000"/>
                </a:solidFill>
                <a:latin typeface="Times New Roman"/>
                <a:ea typeface="Times New Roman"/>
              </a:rPr>
              <a:t>Внедрение сестринского процесса в  уход за хирургическими больными: </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 его помощью оценивается эффективность проведенной хирургической работы, профессионализм хирургического вмешательства.</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2000"/>
                                        <p:tgtEl>
                                          <p:spTgt spid="209"/>
                                        </p:tgtEl>
                                      </p:cBhvr>
                                    </p:animEffect>
                                    <p:animScale>
                                      <p:cBhvr>
                                        <p:cTn id="324" dur="1000" autoRev="1" fill="hold"/>
                                        <p:tgtEl>
                                          <p:spTgt spid="209"/>
                                        </p:tgtEl>
                                      </p:cBhvr>
                                      <p:by x="105000" y="105000"/>
                                    </p:animScale>
                                  </p:childTnLst>
                                </p:cTn>
                              </p:par>
                              <p:par>
                                <p:cTn id="325" nodeType="withEffect" fill="hold" presetClass="entr" presetID="22" presetSubtype="4">
                                  <p:stCondLst>
                                    <p:cond delay="0"/>
                                  </p:stCondLst>
                                  <p:childTnLst>
                                    <p:set>
                                      <p:cBhvr>
                                        <p:cTn id="326" dur="1" fill="hold">
                                          <p:stCondLst>
                                            <p:cond delay="0"/>
                                          </p:stCondLst>
                                        </p:cTn>
                                        <p:tgtEl>
                                          <p:spTgt spid="210"/>
                                        </p:tgtEl>
                                        <p:attrNameLst>
                                          <p:attrName>style.visibility</p:attrName>
                                        </p:attrNameLst>
                                      </p:cBhvr>
                                      <p:to>
                                        <p:strVal val="visible"/>
                                      </p:to>
                                    </p:set>
                                    <p:animEffect filter="wipe(down)" transition="in">
                                      <p:cBhvr additive="repl">
                                        <p:cTn id="327" dur="500"/>
                                        <p:tgtEl>
                                          <p:spTgt spid="210"/>
                                        </p:tgtEl>
                                      </p:cBhvr>
                                    </p:animEffect>
                                  </p:childTnLst>
                                </p:cTn>
                              </p:par>
                              <p:par>
                                <p:cTn id="328" nodeType="withEffect" fill="hold" presetClass="entr" presetID="22" presetSubtype="4">
                                  <p:stCondLst>
                                    <p:cond delay="0"/>
                                  </p:stCondLst>
                                  <p:childTnLst>
                                    <p:set>
                                      <p:cBhvr>
                                        <p:cTn id="329" dur="1" fill="hold">
                                          <p:stCondLst>
                                            <p:cond delay="0"/>
                                          </p:stCondLst>
                                        </p:cTn>
                                        <p:tgtEl>
                                          <p:spTgt spid="210">
                                            <p:txEl>
                                              <p:pRg st="0" end="0"/>
                                            </p:txEl>
                                          </p:spTgt>
                                        </p:tgtEl>
                                        <p:attrNameLst>
                                          <p:attrName>style.visibility</p:attrName>
                                        </p:attrNameLst>
                                      </p:cBhvr>
                                      <p:to>
                                        <p:strVal val="visible"/>
                                      </p:to>
                                    </p:set>
                                    <p:animEffect filter="wipe(down)" transition="in">
                                      <p:cBhvr additive="repl">
                                        <p:cTn id="330" dur="500"/>
                                        <p:tgtEl>
                                          <p:spTgt spid="210">
                                            <p:txEl>
                                              <p:pRg st="0" end="0"/>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210">
                                            <p:txEl>
                                              <p:pRg st="1" end="1"/>
                                            </p:txEl>
                                          </p:spTgt>
                                        </p:tgtEl>
                                        <p:attrNameLst>
                                          <p:attrName>style.visibility</p:attrName>
                                        </p:attrNameLst>
                                      </p:cBhvr>
                                      <p:to>
                                        <p:strVal val="visible"/>
                                      </p:to>
                                    </p:set>
                                    <p:animEffect filter="wipe(down)" transition="in">
                                      <p:cBhvr additive="repl">
                                        <p:cTn id="333" dur="500"/>
                                        <p:tgtEl>
                                          <p:spTgt spid="210">
                                            <p:txEl>
                                              <p:pRg st="1" end="1"/>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210">
                                            <p:txEl>
                                              <p:pRg st="2" end="2"/>
                                            </p:txEl>
                                          </p:spTgt>
                                        </p:tgtEl>
                                        <p:attrNameLst>
                                          <p:attrName>style.visibility</p:attrName>
                                        </p:attrNameLst>
                                      </p:cBhvr>
                                      <p:to>
                                        <p:strVal val="visible"/>
                                      </p:to>
                                    </p:set>
                                    <p:animEffect filter="wipe(down)" transition="in">
                                      <p:cBhvr additive="repl">
                                        <p:cTn id="336" dur="500"/>
                                        <p:tgtEl>
                                          <p:spTgt spid="210">
                                            <p:txEl>
                                              <p:pRg st="2" end="2"/>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210">
                                            <p:txEl>
                                              <p:pRg st="3" end="3"/>
                                            </p:txEl>
                                          </p:spTgt>
                                        </p:tgtEl>
                                        <p:attrNameLst>
                                          <p:attrName>style.visibility</p:attrName>
                                        </p:attrNameLst>
                                      </p:cBhvr>
                                      <p:to>
                                        <p:strVal val="visible"/>
                                      </p:to>
                                    </p:set>
                                    <p:animEffect filter="wipe(down)" transition="in">
                                      <p:cBhvr additive="repl">
                                        <p:cTn id="339" dur="500"/>
                                        <p:tgtEl>
                                          <p:spTgt spid="210">
                                            <p:txEl>
                                              <p:pRg st="3" end="3"/>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210">
                                            <p:txEl>
                                              <p:pRg st="4" end="4"/>
                                            </p:txEl>
                                          </p:spTgt>
                                        </p:tgtEl>
                                        <p:attrNameLst>
                                          <p:attrName>style.visibility</p:attrName>
                                        </p:attrNameLst>
                                      </p:cBhvr>
                                      <p:to>
                                        <p:strVal val="visible"/>
                                      </p:to>
                                    </p:set>
                                    <p:animEffect filter="wipe(down)" transition="in">
                                      <p:cBhvr additive="repl">
                                        <p:cTn id="34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4" name="PlaceHolder 1"/>
          <p:cNvSpPr>
            <a:spLocks noGrp="1"/>
          </p:cNvSpPr>
          <p:nvPr>
            <p:ph type="title"/>
          </p:nvPr>
        </p:nvSpPr>
        <p:spPr>
          <a:xfrm>
            <a:off x="0" y="365040"/>
            <a:ext cx="12191760" cy="844200"/>
          </a:xfrm>
          <a:prstGeom prst="rect">
            <a:avLst/>
          </a:prstGeom>
          <a:solidFill>
            <a:srgbClr val="c6d9f1">
              <a:alpha val="60000"/>
            </a:srgbClr>
          </a:solid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     </a:t>
            </a:r>
            <a:r>
              <a:rPr b="0" lang="ru-RU" sz="4400" spc="-1" strike="noStrike">
                <a:solidFill>
                  <a:srgbClr val="000000"/>
                </a:solidFill>
                <a:latin typeface="Arial"/>
              </a:rPr>
              <a:t>Введение:</a:t>
            </a:r>
            <a:endParaRPr b="0" lang="ru-RU" sz="4400" spc="-1" strike="noStrike">
              <a:solidFill>
                <a:srgbClr val="000000"/>
              </a:solidFill>
              <a:latin typeface="Calibri"/>
            </a:endParaRPr>
          </a:p>
        </p:txBody>
      </p:sp>
      <p:sp>
        <p:nvSpPr>
          <p:cNvPr id="135" name="Прямоугольник 3"/>
          <p:cNvSpPr/>
          <p:nvPr/>
        </p:nvSpPr>
        <p:spPr>
          <a:xfrm>
            <a:off x="838080" y="1439280"/>
            <a:ext cx="7897320" cy="513540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1" lang="ru-RU" sz="2400" spc="-1" strike="noStrike">
                <a:solidFill>
                  <a:srgbClr val="000000"/>
                </a:solidFill>
                <a:latin typeface="Times New Roman"/>
                <a:ea typeface="Times New Roman"/>
              </a:rPr>
              <a:t>Цель исследования: </a:t>
            </a:r>
            <a:r>
              <a:rPr b="0" lang="ru-RU" sz="2400" spc="-1" strike="noStrike">
                <a:solidFill>
                  <a:srgbClr val="000000"/>
                </a:solidFill>
                <a:latin typeface="Times New Roman"/>
                <a:ea typeface="Times New Roman"/>
              </a:rPr>
              <a:t>ознакомиться с особенностями работы медицинской сестры при уходе за послеоперационным пациентом.</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Объект исследования: </a:t>
            </a:r>
            <a:r>
              <a:rPr b="0" lang="ru-RU" sz="2400" spc="-1" strike="noStrike">
                <a:solidFill>
                  <a:srgbClr val="000000"/>
                </a:solidFill>
                <a:latin typeface="Times New Roman"/>
                <a:ea typeface="Times New Roman"/>
              </a:rPr>
              <a:t>медицинская сестра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Предмет исследования: </a:t>
            </a:r>
            <a:r>
              <a:rPr b="0" lang="ru-RU" sz="2400" spc="-1" strike="noStrike">
                <a:solidFill>
                  <a:srgbClr val="000000"/>
                </a:solidFill>
                <a:latin typeface="Times New Roman"/>
                <a:ea typeface="Times New Roman"/>
              </a:rPr>
              <a:t>деятельность медицинской сестры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Задачи исследования:</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брать информацию по тем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2)</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ставить алгоритмы манипуляций</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сти исследовани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4)</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формулировать выводы</a:t>
            </a: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3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cap="all">
                <a:solidFill>
                  <a:srgbClr val="c00000"/>
                </a:solidFill>
                <a:latin typeface="Arial"/>
              </a:rPr>
              <a:t>Понятие о послеоперационном периоде</a:t>
            </a:r>
            <a:endParaRPr b="0" lang="ru-RU"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1741429183"/>
              </p:ext>
            </p:extLst>
          </p:nvPr>
        </p:nvGraphicFramePr>
        <p:xfrm>
          <a:off x="5238720" y="163512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p14:dur="10"/>
    </mc:Choice>
    <mc:Fallback>
      <p:transition/>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repl">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42">
                                  <p:stCondLst>
                                    <p:cond delay="0"/>
                                  </p:stCondLst>
                                  <p:childTnLst>
                                    <p:set>
                                      <p:cBhvr>
                                        <p:cTn id="18" dur="1" fill="hold">
                                          <p:stCondLst>
                                            <p:cond delay="0"/>
                                          </p:stCondLst>
                                        </p:cTn>
                                        <p:tgtEl>
                                          <p:spTgt spid="-1"/>
                                        </p:tgtEl>
                                        <p:attrNameLst>
                                          <p:attrName>style.visibility</p:attrName>
                                        </p:attrNameLst>
                                      </p:cBhvr>
                                      <p:to>
                                        <p:strVal val="visible"/>
                                      </p:to>
                                    </p:set>
                                    <p:animEffect filter="fade" transition="in">
                                      <p:cBhvr additive="repl">
                                        <p:cTn id="19" dur="1000"/>
                                        <p:tgtEl>
                                          <p:spTgt spid="-1"/>
                                        </p:tgtEl>
                                      </p:cBhvr>
                                    </p:animEffect>
                                    <p:anim calcmode="lin" valueType="num">
                                      <p:cBhvr additive="repl">
                                        <p:cTn id="20" dur="1000" fill="hold"/>
                                        <p:tgtEl>
                                          <p:spTgt spid="-1"/>
                                        </p:tgtEl>
                                        <p:attrNameLst>
                                          <p:attrName>ppt_x</p:attrName>
                                        </p:attrNameLst>
                                      </p:cBhvr>
                                      <p:tavLst>
                                        <p:tav tm="0">
                                          <p:val>
                                            <p:strVal val="#ppt_x"/>
                                          </p:val>
                                        </p:tav>
                                        <p:tav tm="100000">
                                          <p:val>
                                            <p:strVal val="#ppt_x"/>
                                          </p:val>
                                        </p:tav>
                                      </p:tavLst>
                                    </p:anim>
                                    <p:anim calcmode="lin" valueType="num">
                                      <p:cBhvr additive="repl">
                                        <p:cTn id="2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4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РОЛЬ МЕДСЕСТРЫ В ПОСЛЕОПЕРАЦИОННЫЙ ПЕРИОД</a:t>
            </a:r>
            <a:endParaRPr b="0" lang="ru-RU" sz="20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1053300611"/>
              </p:ext>
            </p:extLst>
          </p:nvPr>
        </p:nvGraphicFramePr>
        <p:xfrm>
          <a:off x="4770360" y="1685880"/>
          <a:ext cx="6678000" cy="47977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 calcmode="lin" valueType="num">
                                      <p:cBhvr additive="repl">
                                        <p:cTn id="2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42">
                                  <p:stCondLst>
                                    <p:cond delay="0"/>
                                  </p:stCondLst>
                                  <p:childTnLst>
                                    <p:set>
                                      <p:cBhvr>
                                        <p:cTn id="32" dur="1" fill="hold">
                                          <p:stCondLst>
                                            <p:cond delay="0"/>
                                          </p:stCondLst>
                                        </p:cTn>
                                        <p:tgtEl>
                                          <p:spTgt spid="-1"/>
                                        </p:tgtEl>
                                        <p:attrNameLst>
                                          <p:attrName>style.visibility</p:attrName>
                                        </p:attrNameLst>
                                      </p:cBhvr>
                                      <p:to>
                                        <p:strVal val="visible"/>
                                      </p:to>
                                    </p:set>
                                    <p:animEffect filter="fade" transition="in">
                                      <p:cBhvr additive="repl">
                                        <p:cTn id="33" dur="1000"/>
                                        <p:tgtEl>
                                          <p:spTgt spid="-1"/>
                                        </p:tgtEl>
                                      </p:cBhvr>
                                    </p:animEffect>
                                    <p:anim calcmode="lin" valueType="num">
                                      <p:cBhvr additive="repl">
                                        <p:cTn id="34" dur="1000" fill="hold"/>
                                        <p:tgtEl>
                                          <p:spTgt spid="-1"/>
                                        </p:tgtEl>
                                        <p:attrNameLst>
                                          <p:attrName>ppt_x</p:attrName>
                                        </p:attrNameLst>
                                      </p:cBhvr>
                                      <p:tavLst>
                                        <p:tav tm="0">
                                          <p:val>
                                            <p:strVal val="#ppt_x"/>
                                          </p:val>
                                        </p:tav>
                                        <p:tav tm="100000">
                                          <p:val>
                                            <p:strVal val="#ppt_x"/>
                                          </p:val>
                                        </p:tav>
                                      </p:tavLst>
                                    </p:anim>
                                    <p:anim calcmode="lin" valueType="num">
                                      <p:cBhvr additive="repl">
                                        <p:cTn id="35"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3"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44" name="Объект 5" descr=""/>
          <p:cNvPicPr/>
          <p:nvPr/>
        </p:nvPicPr>
        <p:blipFill>
          <a:blip r:embed="rId2">
            <a:alphaModFix amt="60000"/>
          </a:blip>
          <a:stretch/>
        </p:blipFill>
        <p:spPr>
          <a:xfrm>
            <a:off x="136800" y="2526480"/>
            <a:ext cx="6171840" cy="4320360"/>
          </a:xfrm>
          <a:prstGeom prst="rect">
            <a:avLst/>
          </a:prstGeom>
          <a:ln w="0">
            <a:noFill/>
          </a:ln>
        </p:spPr>
      </p:pic>
      <p:sp>
        <p:nvSpPr>
          <p:cNvPr id="14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ДГОТОВКА ПАЛАТЫ И ПОСТЕЛИ ДЛЯ ПОСЛЕОПЕРАЦИОННОГО БОЛЬНОГО</a:t>
            </a:r>
            <a:endParaRPr b="0" lang="ru-RU" sz="2000" spc="-1" strike="noStrike">
              <a:solidFill>
                <a:srgbClr val="000000"/>
              </a:solidFill>
              <a:latin typeface="Arial"/>
            </a:endParaRPr>
          </a:p>
        </p:txBody>
      </p:sp>
      <p:sp>
        <p:nvSpPr>
          <p:cNvPr id="146" name="TextBox 6"/>
          <p:cNvSpPr/>
          <p:nvPr/>
        </p:nvSpPr>
        <p:spPr>
          <a:xfrm>
            <a:off x="6309000" y="1634400"/>
            <a:ext cx="5102280" cy="4204440"/>
          </a:xfrm>
          <a:prstGeom prst="rect">
            <a:avLst/>
          </a:prstGeom>
          <a:gradFill rotWithShape="0">
            <a:gsLst>
              <a:gs pos="0">
                <a:srgbClr val="dae6fe"/>
              </a:gs>
              <a:gs pos="100000">
                <a:srgbClr val="f0f4fe"/>
              </a:gs>
            </a:gsLst>
            <a:lin ang="16200000"/>
          </a:gradFill>
          <a:ln cap="sq" w="0">
            <a:solidFill>
              <a:srgbClr val="bcd6ee"/>
            </a:solid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Проветрить палату.</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бегать яркого света.</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Кровать должна быть тщательно застлана, клеенку, простынь необходимо расправить, чтобы не было складок и неровностей.</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 операционной больной должен быть доставлен на каталке или на той же кроват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В холодное время года кровать согревается грелкам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ерекладывать больного с операционного стола на каталку или кровать можно вручную или с помощью специальных подъемников.</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осле операции больного необходимо защитить от охлаждения и сквозняков, тепло укрывая одеялом.</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 calcmode="lin" valueType="num">
                                      <p:cBhvr additive="repl">
                                        <p:cTn id="4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146"/>
                                        </p:tgtEl>
                                        <p:attrNameLst>
                                          <p:attrName>style.visibility</p:attrName>
                                        </p:attrNameLst>
                                      </p:cBhvr>
                                      <p:to>
                                        <p:strVal val="visible"/>
                                      </p:to>
                                    </p:set>
                                    <p:animEffect filter="fade" transition="in">
                                      <p:cBhvr additive="repl">
                                        <p:cTn id="47" dur="1000"/>
                                        <p:tgtEl>
                                          <p:spTgt spid="146"/>
                                        </p:tgtEl>
                                      </p:cBhvr>
                                    </p:animEffect>
                                    <p:anim calcmode="lin" valueType="num">
                                      <p:cBhvr additive="repl">
                                        <p:cTn id="48" dur="1000" fill="hold"/>
                                        <p:tgtEl>
                                          <p:spTgt spid="146"/>
                                        </p:tgtEl>
                                        <p:attrNameLst>
                                          <p:attrName>ppt_x</p:attrName>
                                        </p:attrNameLst>
                                      </p:cBhvr>
                                      <p:tavLst>
                                        <p:tav tm="0">
                                          <p:val>
                                            <p:strVal val="#ppt_x"/>
                                          </p:val>
                                        </p:tav>
                                        <p:tav tm="100000">
                                          <p:val>
                                            <p:strVal val="#ppt_x"/>
                                          </p:val>
                                        </p:tav>
                                      </p:tavLst>
                                    </p:anim>
                                    <p:anim calcmode="lin" valueType="num">
                                      <p:cBhvr additive="repl">
                                        <p:cTn id="49" dur="1000" fill="hold"/>
                                        <p:tgtEl>
                                          <p:spTgt spid="146"/>
                                        </p:tgtEl>
                                        <p:attrNameLst>
                                          <p:attrName>ppt_y</p:attrName>
                                        </p:attrNameLst>
                                      </p:cBhvr>
                                      <p:tavLst>
                                        <p:tav tm="0">
                                          <p:val>
                                            <p:strVal val="#ppt_y+.1"/>
                                          </p:val>
                                        </p:tav>
                                        <p:tav tm="100000">
                                          <p:val>
                                            <p:strVal val="#ppt_y"/>
                                          </p:val>
                                        </p:tav>
                                      </p:tavLst>
                                    </p:anim>
                                  </p:childTnLst>
                                </p:cTn>
                              </p:par>
                              <p:par>
                                <p:cTn id="50" nodeType="withEffect" fill="hold" presetClass="entr" presetID="31">
                                  <p:stCondLst>
                                    <p:cond delay="0"/>
                                  </p:stCondLst>
                                  <p:childTnLst>
                                    <p:set>
                                      <p:cBhvr>
                                        <p:cTn id="51" dur="1" fill="hold">
                                          <p:stCondLst>
                                            <p:cond delay="0"/>
                                          </p:stCondLst>
                                        </p:cTn>
                                        <p:tgtEl>
                                          <p:spTgt spid="144"/>
                                        </p:tgtEl>
                                        <p:attrNameLst>
                                          <p:attrName>style.visibility</p:attrName>
                                        </p:attrNameLst>
                                      </p:cBhvr>
                                      <p:to>
                                        <p:strVal val="visible"/>
                                      </p:to>
                                    </p:set>
                                    <p:anim calcmode="lin" valueType="num">
                                      <p:cBhvr additive="repl">
                                        <p:cTn id="52" dur="1000" fill="hold"/>
                                        <p:tgtEl>
                                          <p:spTgt spid="144"/>
                                        </p:tgtEl>
                                        <p:attrNameLst>
                                          <p:attrName>ppt_w</p:attrName>
                                        </p:attrNameLst>
                                      </p:cBhvr>
                                      <p:tavLst>
                                        <p:tav tm="0">
                                          <p:val>
                                            <p:fltVal val="0"/>
                                          </p:val>
                                        </p:tav>
                                        <p:tav tm="100000">
                                          <p:val>
                                            <p:strVal val="#ppt_w"/>
                                          </p:val>
                                        </p:tav>
                                      </p:tavLst>
                                    </p:anim>
                                    <p:anim calcmode="lin" valueType="num">
                                      <p:cBhvr additive="repl">
                                        <p:cTn id="53" dur="1000" fill="hold"/>
                                        <p:tgtEl>
                                          <p:spTgt spid="144"/>
                                        </p:tgtEl>
                                        <p:attrNameLst>
                                          <p:attrName>ppt_h</p:attrName>
                                        </p:attrNameLst>
                                      </p:cBhvr>
                                      <p:tavLst>
                                        <p:tav tm="0">
                                          <p:val>
                                            <p:fltVal val="0"/>
                                          </p:val>
                                        </p:tav>
                                        <p:tav tm="100000">
                                          <p:val>
                                            <p:strVal val="#ppt_h"/>
                                          </p:val>
                                        </p:tav>
                                      </p:tavLst>
                                    </p:anim>
                                    <p:anim calcmode="lin" valueType="num">
                                      <p:cBhvr additive="repl">
                                        <p:cTn id="54" dur="1000" fill="hold"/>
                                        <p:tgtEl>
                                          <p:spTgt spid="144"/>
                                        </p:tgtEl>
                                        <p:attrNameLst>
                                          <p:attrName>r</p:attrName>
                                        </p:attrNameLst>
                                      </p:cBhvr>
                                      <p:tavLst>
                                        <p:tav tm="0">
                                          <p:val>
                                            <p:strVal val="90"/>
                                          </p:val>
                                        </p:tav>
                                        <p:tav tm="100000">
                                          <p:val>
                                            <p:strVal val="0"/>
                                          </p:val>
                                        </p:tav>
                                      </p:tavLst>
                                    </p:anim>
                                    <p:animEffect filter="fade" transition="in">
                                      <p:cBhvr additive="repl">
                                        <p:cTn id="5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8"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3880779917"/>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49"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ИНЦИПЫ НАБЛЮДЕНИЯ ЗА ПОСЛЕОПЕРАЦИОННЫМ БОЛЬНЫМ</a:t>
            </a:r>
            <a:endParaRPr b="0" lang="ru-RU" sz="2000" spc="-1" strike="noStrike">
              <a:solidFill>
                <a:srgbClr val="000000"/>
              </a:solidFill>
              <a:latin typeface="Arial"/>
            </a:endParaRPr>
          </a:p>
        </p:txBody>
      </p:sp>
      <p:pic>
        <p:nvPicPr>
          <p:cNvPr id="150" name="Рисунок 17" descr=""/>
          <p:cNvPicPr/>
          <p:nvPr/>
        </p:nvPicPr>
        <p:blipFill>
          <a:blip r:embed="rId7"/>
          <a:stretch/>
        </p:blipFill>
        <p:spPr>
          <a:xfrm>
            <a:off x="0" y="2708640"/>
            <a:ext cx="5130720" cy="414900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42">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childTnLst>
                                    <p:set>
                                      <p:cBhvr>
                                        <p:cTn id="71" dur="1" fill="hold">
                                          <p:stCondLst>
                                            <p:cond delay="0"/>
                                          </p:stCondLst>
                                        </p:cTn>
                                        <p:tgtEl>
                                          <p:spTgt spid="150"/>
                                        </p:tgtEl>
                                        <p:attrNameLst>
                                          <p:attrName>style.visibility</p:attrName>
                                        </p:attrNameLst>
                                      </p:cBhvr>
                                      <p:to>
                                        <p:strVal val="visible"/>
                                      </p:to>
                                    </p:set>
                                    <p:anim calcmode="lin" valueType="num">
                                      <p:cBhvr additive="repl">
                                        <p:cTn id="72" dur="1000" fill="hold"/>
                                        <p:tgtEl>
                                          <p:spTgt spid="150"/>
                                        </p:tgtEl>
                                        <p:attrNameLst>
                                          <p:attrName>ppt_w</p:attrName>
                                        </p:attrNameLst>
                                      </p:cBhvr>
                                      <p:tavLst>
                                        <p:tav tm="0">
                                          <p:val>
                                            <p:fltVal val="0"/>
                                          </p:val>
                                        </p:tav>
                                        <p:tav tm="100000">
                                          <p:val>
                                            <p:strVal val="#ppt_w"/>
                                          </p:val>
                                        </p:tav>
                                      </p:tavLst>
                                    </p:anim>
                                    <p:anim calcmode="lin" valueType="num">
                                      <p:cBhvr additive="repl">
                                        <p:cTn id="73" dur="1000" fill="hold"/>
                                        <p:tgtEl>
                                          <p:spTgt spid="150"/>
                                        </p:tgtEl>
                                        <p:attrNameLst>
                                          <p:attrName>ppt_h</p:attrName>
                                        </p:attrNameLst>
                                      </p:cBhvr>
                                      <p:tavLst>
                                        <p:tav tm="0">
                                          <p:val>
                                            <p:fltVal val="0"/>
                                          </p:val>
                                        </p:tav>
                                        <p:tav tm="100000">
                                          <p:val>
                                            <p:strVal val="#ppt_h"/>
                                          </p:val>
                                        </p:tav>
                                      </p:tavLst>
                                    </p:anim>
                                    <p:anim calcmode="lin" valueType="num">
                                      <p:cBhvr additive="repl">
                                        <p:cTn id="74" dur="1000" fill="hold"/>
                                        <p:tgtEl>
                                          <p:spTgt spid="150"/>
                                        </p:tgtEl>
                                        <p:attrNameLst>
                                          <p:attrName>r</p:attrName>
                                        </p:attrNameLst>
                                      </p:cBhvr>
                                      <p:tavLst>
                                        <p:tav tm="0">
                                          <p:val>
                                            <p:strVal val="90"/>
                                          </p:val>
                                        </p:tav>
                                        <p:tav tm="100000">
                                          <p:val>
                                            <p:strVal val="0"/>
                                          </p:val>
                                        </p:tav>
                                      </p:tavLst>
                                    </p:anim>
                                    <p:animEffect filter="fade" transition="in">
                                      <p:cBhvr additive="repl">
                                        <p:cTn id="7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53" name="Объект 6" descr=""/>
          <p:cNvPicPr/>
          <p:nvPr/>
        </p:nvPicPr>
        <p:blipFill>
          <a:blip r:embed="rId2">
            <a:alphaModFix amt="60000"/>
          </a:blip>
          <a:stretch/>
        </p:blipFill>
        <p:spPr>
          <a:xfrm>
            <a:off x="0" y="2559600"/>
            <a:ext cx="4872600" cy="4298040"/>
          </a:xfrm>
          <a:prstGeom prst="rect">
            <a:avLst/>
          </a:prstGeom>
          <a:ln w="0">
            <a:noFill/>
          </a:ln>
        </p:spPr>
      </p:pic>
      <p:sp>
        <p:nvSpPr>
          <p:cNvPr id="154"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УХОД ЗА ТЯЖЕЛЫМ ПОСЛЕОПЕРАЦИОННЫМ БОЛЬНЫМ</a:t>
            </a:r>
            <a:endParaRPr b="0" lang="ru-RU" sz="20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1815853812"/>
              </p:ext>
            </p:extLst>
          </p:nvPr>
        </p:nvGraphicFramePr>
        <p:xfrm>
          <a:off x="5256000" y="2734560"/>
          <a:ext cx="6171840" cy="39484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55" name="Прямоугольник 8"/>
          <p:cNvSpPr/>
          <p:nvPr/>
        </p:nvSpPr>
        <p:spPr>
          <a:xfrm>
            <a:off x="5131440" y="135828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0000"/>
                </a:solidFill>
                <a:latin typeface="Times New Roman"/>
                <a:ea typeface="Times New Roman"/>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4">
                                            <p:txEl>
                                              <p:pRg st="0" end="0"/>
                                            </p:txEl>
                                          </p:spTgt>
                                        </p:tgtEl>
                                        <p:attrNameLst>
                                          <p:attrName>style.visibility</p:attrName>
                                        </p:attrNameLst>
                                      </p:cBhvr>
                                      <p:to>
                                        <p:strVal val="visible"/>
                                      </p:to>
                                    </p:set>
                                    <p:anim calcmode="lin" valueType="num">
                                      <p:cBhvr additive="repl">
                                        <p:cTn id="8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42">
                                  <p:stCondLst>
                                    <p:cond delay="0"/>
                                  </p:stCondLst>
                                  <p:childTnLst>
                                    <p:set>
                                      <p:cBhvr>
                                        <p:cTn id="86" dur="1" fill="hold">
                                          <p:stCondLst>
                                            <p:cond delay="0"/>
                                          </p:stCondLst>
                                        </p:cTn>
                                        <p:tgtEl>
                                          <p:spTgt spid="155"/>
                                        </p:tgtEl>
                                        <p:attrNameLst>
                                          <p:attrName>style.visibility</p:attrName>
                                        </p:attrNameLst>
                                      </p:cBhvr>
                                      <p:to>
                                        <p:strVal val="visible"/>
                                      </p:to>
                                    </p:set>
                                    <p:animEffect filter="fade" transition="in">
                                      <p:cBhvr additive="repl">
                                        <p:cTn id="87" dur="1000"/>
                                        <p:tgtEl>
                                          <p:spTgt spid="155"/>
                                        </p:tgtEl>
                                      </p:cBhvr>
                                    </p:animEffect>
                                    <p:anim calcmode="lin" valueType="num">
                                      <p:cBhvr additive="repl">
                                        <p:cTn id="88" dur="1000" fill="hold"/>
                                        <p:tgtEl>
                                          <p:spTgt spid="155"/>
                                        </p:tgtEl>
                                        <p:attrNameLst>
                                          <p:attrName>ppt_x</p:attrName>
                                        </p:attrNameLst>
                                      </p:cBhvr>
                                      <p:tavLst>
                                        <p:tav tm="0">
                                          <p:val>
                                            <p:strVal val="#ppt_x"/>
                                          </p:val>
                                        </p:tav>
                                        <p:tav tm="100000">
                                          <p:val>
                                            <p:strVal val="#ppt_x"/>
                                          </p:val>
                                        </p:tav>
                                      </p:tavLst>
                                    </p:anim>
                                    <p:anim calcmode="lin" valueType="num">
                                      <p:cBhvr additive="repl">
                                        <p:cTn id="89" dur="1000" fill="hold"/>
                                        <p:tgtEl>
                                          <p:spTgt spid="155"/>
                                        </p:tgtEl>
                                        <p:attrNameLst>
                                          <p:attrName>ppt_y</p:attrName>
                                        </p:attrNameLst>
                                      </p:cBhvr>
                                      <p:tavLst>
                                        <p:tav tm="0">
                                          <p:val>
                                            <p:strVal val="#ppt_y+.1"/>
                                          </p:val>
                                        </p:tav>
                                        <p:tav tm="100000">
                                          <p:val>
                                            <p:strVal val="#ppt_y"/>
                                          </p:val>
                                        </p:tav>
                                      </p:tavLst>
                                    </p:anim>
                                  </p:childTnLst>
                                </p:cTn>
                              </p:par>
                            </p:childTnLst>
                          </p:cTn>
                        </p:par>
                        <p:par>
                          <p:cTn id="90" fill="hold">
                            <p:stCondLst>
                              <p:cond delay="1500"/>
                            </p:stCondLst>
                            <p:childTnLst>
                              <p:par>
                                <p:cTn id="91" nodeType="afterEffect" fill="hold" presetClass="entr" presetID="42">
                                  <p:stCondLst>
                                    <p:cond delay="0"/>
                                  </p:stCondLst>
                                  <p:childTnLst>
                                    <p:set>
                                      <p:cBhvr>
                                        <p:cTn id="92" dur="1" fill="hold">
                                          <p:stCondLst>
                                            <p:cond delay="0"/>
                                          </p:stCondLst>
                                        </p:cTn>
                                        <p:tgtEl>
                                          <p:spTgt spid="-1"/>
                                        </p:tgtEl>
                                        <p:attrNameLst>
                                          <p:attrName>style.visibility</p:attrName>
                                        </p:attrNameLst>
                                      </p:cBhvr>
                                      <p:to>
                                        <p:strVal val="visible"/>
                                      </p:to>
                                    </p:set>
                                    <p:animEffect filter="fade" transition="in">
                                      <p:cBhvr additive="repl">
                                        <p:cTn id="93" dur="1000"/>
                                        <p:tgtEl>
                                          <p:spTgt spid="-1"/>
                                        </p:tgtEl>
                                      </p:cBhvr>
                                    </p:animEffect>
                                    <p:anim calcmode="lin" valueType="num">
                                      <p:cBhvr additive="repl">
                                        <p:cTn id="94" dur="1000" fill="hold"/>
                                        <p:tgtEl>
                                          <p:spTgt spid="-1"/>
                                        </p:tgtEl>
                                        <p:attrNameLst>
                                          <p:attrName>ppt_x</p:attrName>
                                        </p:attrNameLst>
                                      </p:cBhvr>
                                      <p:tavLst>
                                        <p:tav tm="0">
                                          <p:val>
                                            <p:strVal val="#ppt_x"/>
                                          </p:val>
                                        </p:tav>
                                        <p:tav tm="100000">
                                          <p:val>
                                            <p:strVal val="#ppt_x"/>
                                          </p:val>
                                        </p:tav>
                                      </p:tavLst>
                                    </p:anim>
                                    <p:anim calcmode="lin" valueType="num">
                                      <p:cBhvr additive="repl">
                                        <p:cTn id="95" dur="1000" fill="hold"/>
                                        <p:tgtEl>
                                          <p:spTgt spid="-1"/>
                                        </p:tgtEl>
                                        <p:attrNameLst>
                                          <p:attrName>ppt_y</p:attrName>
                                        </p:attrNameLst>
                                      </p:cBhvr>
                                      <p:tavLst>
                                        <p:tav tm="0">
                                          <p:val>
                                            <p:strVal val="#ppt_y+.1"/>
                                          </p:val>
                                        </p:tav>
                                        <p:tav tm="100000">
                                          <p:val>
                                            <p:strVal val="#ppt_y"/>
                                          </p:val>
                                        </p:tav>
                                      </p:tavLst>
                                    </p:anim>
                                  </p:childTnLst>
                                </p:cTn>
                              </p:par>
                              <p:par>
                                <p:cTn id="96" nodeType="withEffect" fill="hold" presetClass="entr" presetID="31">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1000" fill="hold"/>
                                        <p:tgtEl>
                                          <p:spTgt spid="153"/>
                                        </p:tgtEl>
                                        <p:attrNameLst>
                                          <p:attrName>ppt_w</p:attrName>
                                        </p:attrNameLst>
                                      </p:cBhvr>
                                      <p:tavLst>
                                        <p:tav tm="0">
                                          <p:val>
                                            <p:fltVal val="0"/>
                                          </p:val>
                                        </p:tav>
                                        <p:tav tm="100000">
                                          <p:val>
                                            <p:strVal val="#ppt_w"/>
                                          </p:val>
                                        </p:tav>
                                      </p:tavLst>
                                    </p:anim>
                                    <p:anim calcmode="lin" valueType="num">
                                      <p:cBhvr additive="repl">
                                        <p:cTn id="99" dur="1000" fill="hold"/>
                                        <p:tgtEl>
                                          <p:spTgt spid="153"/>
                                        </p:tgtEl>
                                        <p:attrNameLst>
                                          <p:attrName>ppt_h</p:attrName>
                                        </p:attrNameLst>
                                      </p:cBhvr>
                                      <p:tavLst>
                                        <p:tav tm="0">
                                          <p:val>
                                            <p:fltVal val="0"/>
                                          </p:val>
                                        </p:tav>
                                        <p:tav tm="100000">
                                          <p:val>
                                            <p:strVal val="#ppt_h"/>
                                          </p:val>
                                        </p:tav>
                                      </p:tavLst>
                                    </p:anim>
                                    <p:anim calcmode="lin" valueType="num">
                                      <p:cBhvr additive="repl">
                                        <p:cTn id="100" dur="1000" fill="hold"/>
                                        <p:tgtEl>
                                          <p:spTgt spid="153"/>
                                        </p:tgtEl>
                                        <p:attrNameLst>
                                          <p:attrName>r</p:attrName>
                                        </p:attrNameLst>
                                      </p:cBhvr>
                                      <p:tavLst>
                                        <p:tav tm="0">
                                          <p:val>
                                            <p:strVal val="90"/>
                                          </p:val>
                                        </p:tav>
                                        <p:tav tm="100000">
                                          <p:val>
                                            <p:strVal val="0"/>
                                          </p:val>
                                        </p:tav>
                                      </p:tavLst>
                                    </p:anim>
                                    <p:animEffect filter="fade" transition="in">
                                      <p:cBhvr additive="repl">
                                        <p:cTn id="10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58" name="PlaceHolder 2"/>
          <p:cNvSpPr>
            <a:spLocks noGrp="1"/>
          </p:cNvSpPr>
          <p:nvPr>
            <p:ph/>
          </p:nvPr>
        </p:nvSpPr>
        <p:spPr>
          <a:xfrm>
            <a:off x="528120" y="2307240"/>
            <a:ext cx="5984640" cy="4444920"/>
          </a:xfrm>
          <a:prstGeom prst="rect">
            <a:avLst/>
          </a:prstGeom>
          <a:solidFill>
            <a:srgbClr val="c6d9f1">
              <a:alpha val="60000"/>
            </a:srgbClr>
          </a:solidFill>
          <a:ln w="0">
            <a:noFill/>
          </a:ln>
        </p:spPr>
        <p:txBody>
          <a:bodyPr lIns="90000" rIns="90000" tIns="45000" bIns="45000" anchor="ctr">
            <a:noAutofit/>
          </a:bodyPr>
          <a:p>
            <a:pPr marL="228600" indent="0">
              <a:lnSpc>
                <a:spcPct val="90000"/>
              </a:lnSpc>
              <a:buNone/>
              <a:tabLst>
                <a:tab algn="l" pos="0"/>
              </a:tabLst>
            </a:pPr>
            <a:r>
              <a:rPr b="1" lang="ru-RU" sz="1800" spc="-1" strike="noStrike">
                <a:solidFill>
                  <a:srgbClr val="000000"/>
                </a:solidFill>
                <a:latin typeface="Arial"/>
              </a:rPr>
              <a:t>Послеоперационное осложнение </a:t>
            </a:r>
            <a:r>
              <a:rPr b="0" lang="ru-RU" sz="1800" spc="-1" strike="noStrike">
                <a:solidFill>
                  <a:srgbClr val="000000"/>
                </a:solidFill>
                <a:latin typeface="Arial"/>
              </a:rPr>
              <a:t>-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1" lang="ru-RU" sz="1800" spc="-1" strike="noStrike">
                <a:solidFill>
                  <a:srgbClr val="000000"/>
                </a:solidFill>
                <a:latin typeface="Arial"/>
              </a:rPr>
              <a:t>Послеоперационные осложнения </a:t>
            </a:r>
            <a:r>
              <a:rPr b="0" lang="ru-RU" sz="1800" spc="-1" strike="noStrike">
                <a:solidFill>
                  <a:srgbClr val="000000"/>
                </a:solidFill>
                <a:latin typeface="Arial"/>
              </a:rPr>
              <a:t>в отличие от послеоперационных реакций резко снижают качество лечения, задерживая выздоровление, и подвергают опасности жизнь пациента.</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0" lang="ru-RU" sz="18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ru-RU" sz="1800" spc="-1" strike="noStrike">
              <a:solidFill>
                <a:srgbClr val="000000"/>
              </a:solidFill>
              <a:latin typeface="Arial"/>
            </a:endParaRPr>
          </a:p>
        </p:txBody>
      </p:sp>
      <p:sp>
        <p:nvSpPr>
          <p:cNvPr id="159" name="PlaceHolder 3"/>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pic>
        <p:nvPicPr>
          <p:cNvPr id="160" name="Рисунок 5" descr=""/>
          <p:cNvPicPr/>
          <p:nvPr/>
        </p:nvPicPr>
        <p:blipFill>
          <a:blip r:embed="rId2"/>
          <a:stretch/>
        </p:blipFill>
        <p:spPr>
          <a:xfrm>
            <a:off x="6808680" y="1458360"/>
            <a:ext cx="4947480" cy="5252760"/>
          </a:xfrm>
          <a:prstGeom prst="rect">
            <a:avLst/>
          </a:prstGeom>
          <a:ln w="0">
            <a:noFill/>
          </a:ln>
        </p:spPr>
      </p:pic>
      <p:sp>
        <p:nvSpPr>
          <p:cNvPr id="5" name="PlaceHolder 4"/>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4">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repl">
                                        <p:cTn id="10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58"/>
                                        </p:tgtEl>
                                        <p:attrNameLst>
                                          <p:attrName>style.visibility</p:attrName>
                                        </p:attrNameLst>
                                      </p:cBhvr>
                                      <p:to>
                                        <p:strVal val="visible"/>
                                      </p:to>
                                    </p:set>
                                    <p:animEffect filter="fade" transition="in">
                                      <p:cBhvr additive="repl">
                                        <p:cTn id="112" dur="1000"/>
                                        <p:tgtEl>
                                          <p:spTgt spid="158"/>
                                        </p:tgtEl>
                                      </p:cBhvr>
                                    </p:animEffect>
                                    <p:anim calcmode="lin" valueType="num">
                                      <p:cBhvr additive="repl">
                                        <p:cTn id="113" dur="1000" fill="hold"/>
                                        <p:tgtEl>
                                          <p:spTgt spid="158"/>
                                        </p:tgtEl>
                                        <p:attrNameLst>
                                          <p:attrName>ppt_x</p:attrName>
                                        </p:attrNameLst>
                                      </p:cBhvr>
                                      <p:tavLst>
                                        <p:tav tm="0">
                                          <p:val>
                                            <p:strVal val="#ppt_x"/>
                                          </p:val>
                                        </p:tav>
                                        <p:tav tm="100000">
                                          <p:val>
                                            <p:strVal val="#ppt_x"/>
                                          </p:val>
                                        </p:tav>
                                      </p:tavLst>
                                    </p:anim>
                                    <p:anim calcmode="lin" valueType="num">
                                      <p:cBhvr additive="repl">
                                        <p:cTn id="114" dur="1000" fill="hold"/>
                                        <p:tgtEl>
                                          <p:spTgt spid="158"/>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17" dur="1000"/>
                                        <p:tgtEl>
                                          <p:spTgt spid="158">
                                            <p:txEl>
                                              <p:pRg st="0" end="0"/>
                                            </p:txEl>
                                          </p:spTgt>
                                        </p:tgtEl>
                                      </p:cBhvr>
                                    </p:animEffect>
                                    <p:anim calcmode="lin" valueType="num">
                                      <p:cBhvr additive="repl">
                                        <p:cTn id="11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22" dur="1000"/>
                                        <p:tgtEl>
                                          <p:spTgt spid="158">
                                            <p:txEl>
                                              <p:pRg st="2" end="2"/>
                                            </p:txEl>
                                          </p:spTgt>
                                        </p:tgtEl>
                                      </p:cBhvr>
                                    </p:animEffect>
                                    <p:anim calcmode="lin" valueType="num">
                                      <p:cBhvr additive="repl">
                                        <p:cTn id="123"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7" dur="1000"/>
                                        <p:tgtEl>
                                          <p:spTgt spid="158">
                                            <p:txEl>
                                              <p:pRg st="4" end="4"/>
                                            </p:txEl>
                                          </p:spTgt>
                                        </p:tgtEl>
                                      </p:cBhvr>
                                    </p:animEffect>
                                    <p:anim calcmode="lin" valueType="num">
                                      <p:cBhvr additive="repl">
                                        <p:cTn id="1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par>
                          <p:cTn id="130" fill="hold">
                            <p:stCondLst>
                              <p:cond delay="1000"/>
                            </p:stCondLst>
                            <p:childTnLst>
                              <p:par>
                                <p:cTn id="131" nodeType="afterEffect" fill="hold" presetClass="entr" presetID="45">
                                  <p:stCondLst>
                                    <p:cond delay="0"/>
                                  </p:stCondLst>
                                  <p:childTnLst>
                                    <p:set>
                                      <p:cBhvr>
                                        <p:cTn id="132" dur="1" fill="hold">
                                          <p:stCondLst>
                                            <p:cond delay="0"/>
                                          </p:stCondLst>
                                        </p:cTn>
                                        <p:tgtEl>
                                          <p:spTgt spid="160"/>
                                        </p:tgtEl>
                                        <p:attrNameLst>
                                          <p:attrName>style.visibility</p:attrName>
                                        </p:attrNameLst>
                                      </p:cBhvr>
                                      <p:to>
                                        <p:strVal val="visible"/>
                                      </p:to>
                                    </p:set>
                                    <p:animEffect filter="fade" transition="in">
                                      <p:cBhvr additive="repl">
                                        <p:cTn id="133" dur="2000"/>
                                        <p:tgtEl>
                                          <p:spTgt spid="160"/>
                                        </p:tgtEl>
                                      </p:cBhvr>
                                    </p:animEffect>
                                    <p:anim calcmode="lin" valueType="num">
                                      <p:cBhvr additive="repl">
                                        <p:cTn id="134"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3"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4" name="Прямоугольник 7"/>
          <p:cNvSpPr/>
          <p:nvPr/>
        </p:nvSpPr>
        <p:spPr>
          <a:xfrm>
            <a:off x="5504400" y="1822680"/>
            <a:ext cx="5952960" cy="4478760"/>
          </a:xfrm>
          <a:prstGeom prst="rect">
            <a:avLst/>
          </a:prstGeom>
          <a:solidFill>
            <a:schemeClr val="tx2">
              <a:lumMod val="20000"/>
              <a:lumOff val="80000"/>
              <a:alpha val="71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В возникновении послеоперационных осложнений имеют значение каждый из шести компонентов:</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Больной;</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Заболевание;</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Оператор;</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Метод;</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реда;</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лучайность.</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Ургентная патология </a:t>
            </a:r>
            <a:r>
              <a:rPr b="0" lang="ru-RU" sz="1800" spc="-1" strike="noStrike">
                <a:solidFill>
                  <a:srgbClr val="000000"/>
                </a:solidFill>
                <a:latin typeface="Calibri"/>
              </a:rPr>
              <a:t>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2">
                                  <p:stCondLst>
                                    <p:cond delay="0"/>
                                  </p:stCondLst>
                                  <p:childTnLst>
                                    <p:set>
                                      <p:cBhvr>
                                        <p:cTn id="141" dur="1" fill="hold">
                                          <p:stCondLst>
                                            <p:cond delay="0"/>
                                          </p:stCondLst>
                                        </p:cTn>
                                        <p:tgtEl>
                                          <p:spTgt spid="164"/>
                                        </p:tgtEl>
                                        <p:attrNameLst>
                                          <p:attrName>style.visibility</p:attrName>
                                        </p:attrNameLst>
                                      </p:cBhvr>
                                      <p:to>
                                        <p:strVal val="visible"/>
                                      </p:to>
                                    </p:set>
                                    <p:animEffect filter="fade" transition="in">
                                      <p:cBhvr additive="repl">
                                        <p:cTn id="142" dur="1000"/>
                                        <p:tgtEl>
                                          <p:spTgt spid="164"/>
                                        </p:tgtEl>
                                      </p:cBhvr>
                                    </p:animEffect>
                                    <p:anim calcmode="lin" valueType="num">
                                      <p:cBhvr additive="repl">
                                        <p:cTn id="143" dur="1000" fill="hold"/>
                                        <p:tgtEl>
                                          <p:spTgt spid="164"/>
                                        </p:tgtEl>
                                        <p:attrNameLst>
                                          <p:attrName>ppt_x</p:attrName>
                                        </p:attrNameLst>
                                      </p:cBhvr>
                                      <p:tavLst>
                                        <p:tav tm="0">
                                          <p:val>
                                            <p:strVal val="#ppt_x"/>
                                          </p:val>
                                        </p:tav>
                                        <p:tav tm="100000">
                                          <p:val>
                                            <p:strVal val="#ppt_x"/>
                                          </p:val>
                                        </p:tav>
                                      </p:tavLst>
                                    </p:anim>
                                    <p:anim calcmode="lin" valueType="num">
                                      <p:cBhvr additive="repl">
                                        <p:cTn id="14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Words>3199</Words>
  <Paragraphs>3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дим</dc:creator>
  <dc:description/>
  <dc:language>en-US</dc:language>
  <cp:lastModifiedBy>LEGION</cp:lastModifiedBy>
  <dcterms:modified xsi:type="dcterms:W3CDTF">2015-11-27T12:47:43Z</dcterms:modified>
  <cp:revision>51</cp:revision>
  <dc:subject/>
  <dc:title>СЕСТРИНСКИЙ ПРОЦЕСС В ПОСЛЕОПЕРАЦИОННОМ ПЕРИОД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7</vt:r8>
  </property>
  <property fmtid="{D5CDD505-2E9C-101B-9397-08002B2CF9AE}" pid="3" name="PresentationFormat">
    <vt:lpwstr>Довільний</vt:lpwstr>
  </property>
  <property fmtid="{D5CDD505-2E9C-101B-9397-08002B2CF9AE}" pid="4" name="Slides">
    <vt:r8>17</vt:r8>
  </property>
</Properties>
</file>