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BAB1-0ACA-4A08-9362-A887238D889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КЛЮ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Франц. петушиный кри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КОКЛЮШ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(Франц. петушиный крик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ми для B. pertussis являются 1, 2,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Аг сочетаний различают 6 сероваров возбудителя (1.2.0; 1.0.3; 1.2.3 , 1.0.0…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ее десятилетие преобладающими являются серовары 1.2.0 и 1.0.3, выделяющиеся от привитых детей, имеющих легкие и атипичные формы заболевания. В то же время серовары 1.2.3 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едущими для B. pertussis являются 1, 2, 3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Аг сочетаний различают 6 сероваров возбудителя (1.2.0; 1.0.3; 1.2.3 , 1.0.0…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оследнее десятилетие преобладающими являются серовары 1.2.0 и 1.0.3, выделяющиеся от привитых детей, имеющих легкие и атипичные формы заболевания. В то же время серовары 1.2.3 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ге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аментозный гемагглютинин -крупный белок, образующий филаментозные структуры на поверхности бактериальной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дгез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аментозный гемагглютинин -крупный белок, образующий филаментозные структуры на поверхности бактериальной клет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глютиногены тесно связаны с белками фимб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изация фимбриальными белками защищает от аэрозольного за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в структуре фимбриальных белков позволяют м/о избежать воздействия 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ок BrkA (Bordetella resistance to killing) 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гглютиногены тесно связаны с белками фимб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мунизация фимбриальными белками защищает от аэрозольного зараж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личия в структуре фимбриальных белков позволяют м/о избежать воздействия 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елок BrkA (Bordetella resistance to killing) 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за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ониза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зация эпителия трахеи Bordetella pertussis (клетки без ресничек свободны от бактер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онизация эпителия трахеи Bordetella pertussis (клетки без ресничек свободны от бактерий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ксины Bordetella pertus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нилатциклаза – единый полипептид , который может быть связан с клеткой и выделяться в 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был обнаружен как гемолиз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ен только в клетках эукари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цАМФ нарушает структру и физиологию клетки (аналогичен токсину В. anthrac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ксины Bordetella pertussi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денилатциклаза – единый полипептид , который может быть связан с клеткой и выделяться в окружающую сред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первые был обнаружен как гемолиз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тивен только в клетках эукарио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копление цАМФ нарушает структру и физиологию клетки (аналогичен токсину В. anthrac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ет роль на начальном этапе развития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грает роль на начальном этапе развития 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матонекротический 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мологичен цитотоксину E.co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в патогенезе коклюша неяс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рматонекротический 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мологичен цитотоксину E.col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в патогенезе коклюша неяс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хеальный цито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рагмент пептидогликана клеточной ст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ет продукцию ИЛ-1, в ответ на который синтезируется оксид аз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ет таким свойством, как пирог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ахеальный цито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фрагмент пептидогликана клеточной стен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ует продукцию ИЛ-1, в ответ на который синтезируется оксид азо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ладает таким свойством, как пироген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олисахар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ется от ЛПС энтеробак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, ЛПС обладает иммуног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им связывают реактогенность цельноклеточной коклюшной вакцины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пополисахари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ается от ЛПС энтеробакте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целом, ЛПС обладает иммуног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 ним связывают реактогенность цельноклеточной коклюшной вакцины вакци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ный 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ует как стадию колонизации, так и токсемическую ста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лок с АВ5 структуро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ок В – 5 субъединиц S2- S5, отвечает за связывание с рецепторами клеток-мише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ок А соответствует субъединице S1, обладает ферментативной активностью – осуществляет АДФ-рибозилирование G-белка, ингибирующего в норме аденилатциклаз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ный 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осредует как стадию колонизации, так и токсемическую стади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белок с АВ5 структурой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ок В – 5 субъединиц S2- S5, отвечает за связывание с рецепторами клеток-мишене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ок А соответствует субъединице S1, обладает ферментативной активностью – осуществляет АДФ-рибозилирование G-белка, ингибирующего в норме аденилатциклаз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цАМФ приводит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влению всех стадий фагоцитоз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ю нормального расселения лимфоцитов(«хоуминг-эффект»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стошению тимус-зависимых зон лимфоидной тка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копление цАМФ приводит к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авлению всех стадий фагоцитоза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рушению нормального расселения лимфоцитов(«хоуминг-эффект»)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устошению тимус-зависимых зон лимфоидной ткани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овременных штаммов B.pertussis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ммы B.pertussis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штаммы полностью вытеснили "старые" шт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 современных штаммов B.pertussis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таммы B.pertussis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 штаммы полностью вытеснили "старые" штамм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генез коклю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ожнения: пневмония, ателектаз, эмфизема, кровоизлияние в моз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тогенез коклюш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ложнения: пневмония, ателектаз, эмфизема, кровоизлияние в мозг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вид ребенка, больного коклюшем, во время спазматического при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ешний вид ребенка, больного коклюшем, во время спазматического приступ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инфекции – больной (заразен до 25-30дн)  или бактерионос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ь передачи - воздушно-кап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ы заболе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кубационный(5-8дн, до14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ральный (5-14дне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жный (пароксизмальный) (2-8 нед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разрешения (2-4 неде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: симптоматическое; антибиотикотерапия показана до пароксизмального периода; 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точник инфекции – больной (заразен до 25-30дн)  или бактерионосител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уть передачи - воздушно-капельны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иоды заболевания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кубационный(5-8дн, до14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таральный (5-14дней)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дорожный (пароксизмальный) (2-8 недель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иод разрешения (2-4 недел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ЕЧЕНИЕ: симптоматическое; антибиотикотерапия показана до пароксизмального периода; I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бораторная диагностика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методы лабораторной диагностики коклюш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ер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абораторная диагностика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методы лабораторной диагностики коклюш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 серологическ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метод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ий материал собир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ухим тампоном с задней стенки глотки и делают    посев на питательные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етодом кашлевых пласти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 целесообразно получать до начала антимикроб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облюдение асеп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ледует допускать контаминации посторонней микрофло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 метод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инический материал собираю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сухим тампоном с задней стенки глотки и делают    посев на питательные сре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- методом кашлевых пластин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ериал целесообразно получать до начала антимикробной терап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обходимо соблюдение асептики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 следует допускать контаминации посторонней микрофлоро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пособов взятия клиническ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дин из способов взятия клинического матери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бактериологического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чистой культуры и идентификация возбудителя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ый анализ  культуральных свойств возбудителей  коклюша (B.pertussis)  и паракоклюша (B.parapertus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: Посев на следующие питательные сре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фельно-глицериновый агар  Борд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еиновый-угольный агар, кровяной аг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очки коклюша через 48-72ч роста образуют мелкие блестящие колонии серого ц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коклюшные палочки через 24-48ч роста образуют колонии  несколько круп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мет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ь бактериологического исследова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деление чистой культуры и идентификация возбудителя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фференциальный анализ  культуральных свойств возбудителей  коклюша (B.pertussis)  и паракоклюша (B.parapertus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этап: Посев на следующие питательные сред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ртофельно-глицериновый агар  Борде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зеиновый-угольный агар, кровяной ага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 этап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лочки коклюша через 48-72ч роста образуют мелкие блестящие колонии серого цве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акоклюшные палочки через 24-48ч роста образуют колонии  несколько крупне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ологический метод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: Серологиеская идентификация бордете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 образцы антигенов  - с 1 по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7 определяет род Bordetell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1 определяет Bordetella pertussi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 14 – B.parapertus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кции агглютинации в пробир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этап: Серологиеская идентификация бордетел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ют образцы антигенов  - с 1 по 1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7 определяет род Bordetella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1 определяет Bordetella pertussis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 14 – B.parapertus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еакции агглютинации в пробирка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логический метод диагностики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ФА используют для определения sIgA в носоглоточной слизи, начиная с 2-3 недели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СК в парных сыворот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ерологический метод диагностики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ФА используют для определения sIgA в носоглоточной слизи, начиная с 2-3 недели заболе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СК в парных сыворотка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образования антител при коклю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намика образования антител при коклюш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ая профилактика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овая профилактика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ллюлярные вакц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 B.pertussis :филаментозный гемагглютинин, пертактин, фимбрии, анатокс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клюшного ток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вакцина  АКаДС включает неклеточный  коклюшный компон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аринкс (Бельг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омпонента (против коклюша, дифтерии, столбняка)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омпонент (против Хиб-инфекции – «Хиберикс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целлюлярные вакци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оненты B.pertussis :филаментозный гемагглютинин, пертактин, фимбрии, анатокси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клюшного токси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временная вакцина  АКаДС включает неклеточный  коклюшный компонен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аринкс (Бельг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компонента (против коклюша, дифтерии, столбняка) 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Хиберикс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д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ORDETELLA 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ORDETELLA PERTUS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Род 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BORDETELLA 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Вид 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траксим (Франц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омпонента (против коклюша, дифтерии, столбняка и полиомиелита)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омпонент (против Хиб-инфекции – «Акт-Хиб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нтаксим (Франция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компон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тив коклюша, дифтерии, столбняка, полиомиелита и Хиб-инфе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траксим (Франц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 компонента (против коклюша, дифтерии, столбняка и полиомиелита) 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Акт-Хиб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нтаксим (Франция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 компон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ротив коклюша, дифтерии, столбняка, полиомиелита и Хиб-инфекци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кая, овоидная, грам- палочка с закругленными конц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движны. Спор нет. Жгутиков нет. Образует капсулу, пи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лкая, овоидная, грам- палочка с закругленными концам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одвижны. Спор нет. Жгутиков нет. Образует капсулу, пил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льные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t культивирования 37°С при рН 7,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Bordetella pertussis на агаре Борде-Жан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ультуральные 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тимальная t культивирования 37°С при рН 7,2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т Bordetella pertussis на агаре Борде-Жанг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дыхания              Строгие аэр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химические сво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емоорганотро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болизм только окислите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 дыхания              Строгие аэроб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иохимические свой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емоорганотроф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аболизм только окислительны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стен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неустойчив во внешней среде. Быстро разрушается под действием дезинфектантов, антисептиков , чувствительны к солнечному излучению. При 50-55°С погибают за 30 мин., при кипячении мгновенно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ген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-А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-Аг, состоящий из 14 компонентов (агглютиноген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омпонент - общий для всех бордете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ми для B.pertussis являются 1 и 7 компонен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истентност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чень неустойчив во внешней среде. Быстро разрушается под действием дезинфектантов, антисептиков , чувствительны к солнечному излучению. При 50-55°С погибают за 30 мин., при кипячении мгновенно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генные свойств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-Аг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-Аг, состоящий из 14 компонентов (агглютиногены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 компонент - общий для всех бордетел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язательными для B.pertussis являются 1 и 7 компонент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E049-20A0-4EE1-9030-0C8EB70C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57B-3FB7-424C-8D69-7BD031D3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FCD-FE24-4641-BD8A-C3089E75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AA2D-F041-449B-A464-34D44A54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0BC7-C358-44A3-9B2A-3FADDFE9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E67C-2CDD-4639-ACA0-23282B69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CD52-4274-4D70-BBA6-87DFBB4D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45E6-2A4C-4A4C-B3B9-78E53A01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229C-EB6E-4811-BD22-B5443711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316E-AF20-4FC5-A157-7351BCDE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1DDA-FD15-439F-BDCB-47B2E30E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D50-EF0D-40B9-9276-91945D10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1F05-94B0-48BA-8121-CFF57CC1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EB63-C997-45AA-9E77-EF9BFFAA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9617-015D-4363-998F-208887F6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E557-F78A-4720-B178-56D31239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D4E7-D2CA-496A-BE01-953EF046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DA5-81A4-4469-971E-F40D2E77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05A-6934-4030-8FFA-FFE81891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856-62F5-4F05-94F3-43CA1CA0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B87-0F25-4AD7-94A0-E4478D9E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1A6-AD64-481E-9F70-07B539EF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FE9-9AC5-43E3-93A6-A85CEC5D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6DD-48C9-438A-B49A-8447AB1E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3C02-B99A-4ADE-8BC2-755AE9687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BBCE-16D6-45AA-BCE7-DE40164F6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КОКЛЮШ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. петушиный крик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дущими для B. pertussis являются 1, 2, 3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зависимости от Аг сочетаний различают 6 сероваров возбудителя (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2.0; 1.0.3; 1.2.3 , 1.0.0…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оследнее десятилетие преобладающими являются серовары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1.2.0 и 1.0.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выделяющиеся от привитых детей, имеющих легкие и атипичные формы заболевания. В то же время серовары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1.2.3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деляются от непривитых детей прежде всего раннего возраста, у которых болезнь протекает чаще в тяжелой и реже — в среднетяжелой форме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6320" y="0"/>
          <a:ext cx="9067680" cy="6858000"/>
        </p:xfrm>
        <a:graphic>
          <a:graphicData uri="http://schemas.openxmlformats.org/drawingml/2006/table">
            <a:tbl>
              <a:tblPr/>
              <a:tblGrid>
                <a:gridCol w="2971800"/>
                <a:gridCol w="3047760"/>
                <a:gridCol w="3048120"/>
              </a:tblGrid>
              <a:tr h="64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Факторы патогенности В.рertus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альные компон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таве ацеллюлярной вакц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аментозный гемагглюти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, иммуносупрессивная актив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такт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мб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тип 2 и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клюшный 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лизирует АДФ-рибозилирование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е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, ана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0"/>
          <a:ext cx="9144000" cy="6616800"/>
        </p:xfrm>
        <a:graphic>
          <a:graphicData uri="http://schemas.openxmlformats.org/drawingml/2006/table">
            <a:tbl>
              <a:tblPr/>
              <a:tblGrid>
                <a:gridCol w="3048120"/>
                <a:gridCol w="4910040"/>
                <a:gridCol w="1185840"/>
              </a:tblGrid>
              <a:tr h="297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нилатцикл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токсин (синтез цАМФ нарушает функционирование клетки. Противовоспалительный эффект за счет действия на клетки иммунной систем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некротический 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рует ГТФ-связывающий белок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o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то ведет к нарушению цитоскекл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274680"/>
          <a:ext cx="9144000" cy="6354720"/>
        </p:xfrm>
        <a:graphic>
          <a:graphicData uri="http://schemas.openxmlformats.org/drawingml/2006/table">
            <a:tbl>
              <a:tblPr/>
              <a:tblGrid>
                <a:gridCol w="3021120"/>
                <a:gridCol w="4065480"/>
                <a:gridCol w="205740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хеальный фактор колониз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гезия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хеальный цитото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токсин, участвует в повреждении респираторного эпите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пополисахарид (эндотокси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спалительная активность, обеспечивает устойчивость к защитным механизм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Содержимое 5" descr="Рисунок5.JPG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58672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Адгез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732600"/>
            <a:ext cx="533412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Tahoma"/>
              </a:rPr>
              <a:t>Филаментозный гемагглютини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-крупный белок, образующий филаментозные структуры на поверхности бактериальной клет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еспечивает адгезию, связываясь с галактозными остатками сульфогликолипида на поверхности ресничного эпител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6" descr="u1fig26a"/>
          <p:cNvPicPr/>
          <p:nvPr/>
        </p:nvPicPr>
        <p:blipFill>
          <a:blip r:embed="rId1"/>
          <a:stretch/>
        </p:blipFill>
        <p:spPr>
          <a:xfrm>
            <a:off x="5638680" y="1295280"/>
            <a:ext cx="3505320" cy="4038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304920"/>
            <a:ext cx="9144000" cy="71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гглютиногены тесно связаны с </a:t>
            </a:r>
            <a:r>
              <a:rPr b="0" i="1" lang="ru-RU" sz="2800" spc="-1" strike="noStrike">
                <a:solidFill>
                  <a:srgbClr val="ff00ff"/>
                </a:solidFill>
                <a:latin typeface="Tahoma"/>
              </a:rPr>
              <a:t>белками фимбр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мунизация фимбриальными белками защищает от аэрозольного зараж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личия в структуре фимбриальных белков позволяют м/о избежать воздействия 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тактин и ряд других поверхностных белков участвуют в адгезии, взаимодействуя с белками-рецепторами из семейства интегринов на поверхности клеток челове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лок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kA (Bordetell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stance to killing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аствует в адгезии, инвазии и обеспечивает устойчивость бактерии к классическому комплемент-зависимому пути элиминации антиген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Синергизм филаментного гемагглютинина и коклюшного токсина  в процессе адгезии на клетках реснитчатого эпителия (цилиарный стаз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fig31_4"/>
          <p:cNvPicPr/>
          <p:nvPr/>
        </p:nvPicPr>
        <p:blipFill>
          <a:blip r:embed="rId1"/>
          <a:stretch/>
        </p:blipFill>
        <p:spPr>
          <a:xfrm>
            <a:off x="1500120" y="1643040"/>
            <a:ext cx="6357960" cy="48578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олонизация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ее изучена роль гемагглютинина, показано, что мутации, меняющие его структуру, приводят к снижению способности бордетелл колонизировать эпителий дыхательного трак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ольшая роль принадлежит коклюшному токсину, ат против его компонентов также предотвращают колонизацию ресничного эпител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5715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лонизация эпителия трахеи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клетки без ресничек свободны от бактерий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4" descr="Bordetella pertussis bacteria in trachea"/>
          <p:cNvPicPr/>
          <p:nvPr/>
        </p:nvPicPr>
        <p:blipFill>
          <a:blip r:embed="rId1"/>
          <a:stretch/>
        </p:blipFill>
        <p:spPr>
          <a:xfrm>
            <a:off x="762120" y="0"/>
            <a:ext cx="708660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оклюш - инфекционное заболевание, передающееся воздушно-капельным путем. До настоящего времени коклюш и его возбудитель остаются серьезной проблемой не только для России, но и для всего мира. По данным ВОЗ, в мире ежегодно заболевает коклюшем около 60 млн человек, умирает около 1 млн детей, преимущественно в возрасте до одного го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ahoma"/>
              </a:rPr>
              <a:t>Токсины </a:t>
            </a:r>
            <a:r>
              <a:rPr b="1" i="1" lang="en-US" sz="4400" spc="-1" strike="noStrike">
                <a:solidFill>
                  <a:srgbClr val="ff0066"/>
                </a:solidFill>
                <a:latin typeface="Tahoma"/>
              </a:rPr>
              <a:t>Bordetella pertussi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Аденилатциклаз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единый полипептид , который может быть связан с клеткой и выделяться в окружающую сред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оит из двух субъединиц: отвечающей за ферментативную активность и за связывание с рецепторами клет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первые был обнаружен как гемолиз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тивен только в клетках эукарио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опление цАМФ нарушает структру и физиологию клетки (аналогичен токсину В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hrac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одит к накоплению нейтрофилов в жидкости и снижению количества альвеолярных макрофагов в результате их апопт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грает роль на начальном этапе развития инфек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утанты по аденилатциклазе могут колонизировать слизистую, но обладают сниженной вирулентность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Дерматонекротический 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ораженных клетках развивается ряд характерных явлений: складчатость мембраны, фокальная адгезия и напряженные актиновые волокна, а также ДНК-репликация без клеточного де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мологичен цитотоксин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.co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ль в патогенезе коклюша неяс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Трахеальный цито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фрагмент пептидогликана клеточной стен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реждает ресничный эпителий и вызывает цилиостаз – нарушается отток слизи и создаются условия для персистирования возбудит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имулирует продукцию ИЛ-1, в ответ на который синтезируется оксид азо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ладает таким свойством, как пироген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Липополисахари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личается от</a:t>
            </a: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ПС энтеробактер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пид определяет биологическую активность(пирогенность, токсичность, адъювантность, стимуляцию продукции ИЛ-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целом, ЛПС обладает иммуногенность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ним связывают реактогенность цельноклеточной коклюшной вакцины вакци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Коклюшный 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осредует как стадию колонизации, так и токсемическую стад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белок с АВ5 структурой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ок В – 5 субъединиц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, отвечает за связывание с рецепторами клеток-мишен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асток А соответствует субъединиц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обладает ферментативной активностью – осуществляет АДФ-рибозилирова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белка, ингибирующего в норме аденилатциклаз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опление цАМФ приводит к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авлению всех стадий фагоцитоз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рушению нормального расселения лимфоцитов(«хоуминг-эффект»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устошению тимус-зависимых зон лимфоидной ткан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йствует на клетки поджелудочной железы, вызывая гиперпродукцию инсулина и как следствие-гипогликем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иливает чувствительность к гистамину (в результате увеличение проницаемости капилляров, гипотензия, ш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560" y="-36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современных штаммов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оизошли существенные изменения в структуре ptxA гена, кодирующего S1 субъединицу коклюшного токсина, prn гена, кодирующего пертактин, и в фимбриальном fim3 гене, кодирующем Fim3 бел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таммы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характеризующиеся новыми «невакцинными» аллелями генов патогенности, обладают высокой степенью вирулентност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и штаммы полностью вытеснили "старые" штамм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Pertussis1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тогенез коклюша </a:t>
            </a:r>
            <a:br>
              <a:rPr sz="3200"/>
            </a:br>
            <a:r>
              <a:rPr b="0" lang="ru-RU" sz="1600" spc="-1" strike="noStrike">
                <a:solidFill>
                  <a:srgbClr val="c00000"/>
                </a:solidFill>
                <a:latin typeface="Arial Black"/>
              </a:rPr>
              <a:t>контакт, внедрение, распространение. Заболевания - энцефалопатия, ринорея, пароксизмальный кашель, лимфоцитоз, бронхопневмо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4" descr="fig31_1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896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573840" y="6172200"/>
            <a:ext cx="81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Осложнения: пневмония, ателектаз, эмфизема, кровоизлияние в моз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0231811486"/>
          <p:cNvPicPr/>
          <p:nvPr/>
        </p:nvPicPr>
        <p:blipFill>
          <a:blip r:embed="rId1"/>
          <a:stretch/>
        </p:blipFill>
        <p:spPr>
          <a:xfrm>
            <a:off x="0" y="-228600"/>
            <a:ext cx="6667560" cy="56768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0" y="5639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шний вид ребенка, больног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клюше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во время спазматического приступ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Коклюш - высококонтагиозное заболевание, к которому очень восприимчивы дети (у взрослых вызывает затяжной бронхит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 Black"/>
              </a:rPr>
              <a:t>Источник инфекции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– больной (заразен до 25-30дн)  или бактерионоси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Arial Black"/>
              </a:rPr>
              <a:t>Путь передачи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- воздушно-капель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Периоды заболевания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нкубационный(5-8дн, до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4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атаральный (5-14дней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удорожный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ароксизмальный) (2-8 неде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ериод разрешения (2-4 недел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ЧЕНИЕ: симптоматическое; антибиотикотерапия показан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 пароксизмальног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иода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Лабораторная диагностика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2" descr="C:\Documents and Settings\Kafarskaya_LI\Мои документы\Мои рисунки\Бактериолоогическая лаборт.jpg"/>
          <p:cNvPicPr/>
          <p:nvPr/>
        </p:nvPicPr>
        <p:blipFill>
          <a:blip r:embed="rId1"/>
          <a:stretch/>
        </p:blipFill>
        <p:spPr>
          <a:xfrm>
            <a:off x="571680" y="1600200"/>
            <a:ext cx="3857400" cy="4614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Основные методы лабораторной диагностики коклюш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бактериологиче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 серологиче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Бактериологический метод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Клинический материал собираю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ухим тампоном с задней стенки глотки и делают    посев на питательные сред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- методом кашлевых пластино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Материал целесообразно получать до начала антимикробной терап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Необходимо соблюдение асептики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не следует допускать контаминации посторонней микрофлор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дин из способов взятия клинического матери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Рисунок 5" descr="Рисунок12.JPG"/>
          <p:cNvPicPr/>
          <p:nvPr/>
        </p:nvPicPr>
        <p:blipFill>
          <a:blip r:embed="rId1"/>
          <a:stretch/>
        </p:blipFill>
        <p:spPr>
          <a:xfrm>
            <a:off x="1219320" y="1905120"/>
            <a:ext cx="6019560" cy="43434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Цель бактериологического исследов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ыделение чистой культуры и идентификация возбудителя коклюш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Дифференциальный анализ  культуральных свойств возбудителей  коклюша (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.pertussis)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и паракоклюша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(B.parapertus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 этап: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Посев на следующие питательные сред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ртофельно-глицериновый агар  Борд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казеиновый-угольный агар, кровяной ага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 этап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Палочки коклюша через 48-72ч роста образуют мелкие блестящие колонии серого цв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Паракоклюшные палочки через 24-48ч роста образуют колонии  несколько крупне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Бактериологический метод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 этап: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Серологиеская идентификация бордетел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спользуют образцы антигенов  - с 1 по 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7 определяет род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ordetell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1 определяет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ordetella pertussi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Антиген 14 –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B.parapertus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акции агглютинации в пробирк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Серологический метод диагностики коклюш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ИФА используют для определения </a:t>
            </a:r>
            <a:r>
              <a:rPr b="0" lang="en-US" sz="2400" spc="-1" strike="noStrike">
                <a:solidFill>
                  <a:srgbClr val="002060"/>
                </a:solidFill>
                <a:latin typeface="Arial Black"/>
              </a:rPr>
              <a:t>sIgA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 в носоглоточной слизи, начиная с 2-3 недели заболев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РНГА  используют при анализе сывороток через 10-14 дней, диагностический титр 1:80, у здоровых детей 1: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Black"/>
              </a:rPr>
              <a:t>РСК в парных сыворотк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намика образования антител при коклюш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4" descr="fig31_5"/>
          <p:cNvPicPr/>
          <p:nvPr/>
        </p:nvPicPr>
        <p:blipFill>
          <a:blip r:embed="rId1"/>
          <a:stretch/>
        </p:blipFill>
        <p:spPr>
          <a:xfrm>
            <a:off x="468360" y="1484280"/>
            <a:ext cx="7848720" cy="504036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Плановая профилактика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омбинированная вакцина  АКДС  (адсорбированная коклюшно –дифтерийно – столбнячная вакцина) включа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дифтерийный и столбнячный анатоксины, а также  убитые цельные микроорганизмы -   возбудители коклюш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ff"/>
                </a:solidFill>
                <a:latin typeface="Tahoma"/>
              </a:rPr>
              <a:t>Ацеллюлярные вакцин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Компоненты</a:t>
            </a:r>
            <a:r>
              <a:rPr b="0" i="1" lang="ru-RU" sz="3600" spc="-1" strike="noStrike" u="sng">
                <a:solidFill>
                  <a:srgbClr val="ff0066"/>
                </a:solidFill>
                <a:uFillTx/>
                <a:latin typeface="Tahoma"/>
              </a:rPr>
              <a:t>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B.pertuss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:ф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аментозный гемагглютинин, пертактин, фимбрии, анатокс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клюшного токс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Современная вакцина  АКаДС включает неклеточный  коклюшный компонент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ahoma"/>
              </a:rPr>
              <a:t>Инфаринкс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Бельг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 компонента (против коклюша, дифтерии, столбняка)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Хиберикс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4" descr="user posted image"/>
          <p:cNvPicPr/>
          <p:nvPr/>
        </p:nvPicPr>
        <p:blipFill>
          <a:blip r:embed="rId1"/>
          <a:stretch/>
        </p:blipFill>
        <p:spPr>
          <a:xfrm>
            <a:off x="7010280" y="510552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од 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BORDETELLA</a:t>
            </a: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ид </a:t>
            </a: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BORDETELLA PERTUSS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Тетраксим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 компонента (против коклюша, дифтерии, столбняка и полиомиелита) 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компонент (против Хиб-инфекции – «Акт-Хиб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Пентаксим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Франц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 компонен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против коклюша, дифтерии, столбняка, полиомиелита и Хиб-инфекци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Морфологи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Мелкая, овоидная, грам- палочка с закругленными конца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Неподвижны. Спор нет. Жгутиков нет. Образует капсулу, пил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7" descr="B"/>
          <p:cNvPicPr/>
          <p:nvPr/>
        </p:nvPicPr>
        <p:blipFill>
          <a:blip r:embed="rId1"/>
          <a:stretch/>
        </p:blipFill>
        <p:spPr>
          <a:xfrm>
            <a:off x="4876920" y="2438280"/>
            <a:ext cx="4267080" cy="2286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48520" y="2895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9" descr="213_9"/>
          <p:cNvPicPr/>
          <p:nvPr/>
        </p:nvPicPr>
        <p:blipFill>
          <a:blip r:embed="rId1"/>
          <a:stretch/>
        </p:blipFill>
        <p:spPr>
          <a:xfrm>
            <a:off x="457200" y="-685800"/>
            <a:ext cx="8381880" cy="75438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ультуральные свойств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тимальная t культивирования 37°С при рН 7,2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растет на простых питательных средах, культивируется на картофельно-глицериновом агаре и на полусинтетическом казеиново-угольном агаре без добавления кров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8" descr="mc04b01-fig-0001-1-full"/>
          <p:cNvPicPr/>
          <p:nvPr/>
        </p:nvPicPr>
        <p:blipFill>
          <a:blip r:embed="rId1"/>
          <a:stretch/>
        </p:blipFill>
        <p:spPr>
          <a:xfrm>
            <a:off x="4800600" y="182880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4952880" y="5744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с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ordetella pertussi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агаре Борде-Жанг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кровяных средах образует зону гемолиза. Колонии мелкие, круглые, с ровными краями, блестящие напоминающие капельки ртути или зерна жемчуга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Тип дыхания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Строгие аэроб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281952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Биохимические свойства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емоорганотроф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таболизм только окислитель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ерментативно малоактивны: не   ферментируют углеводы, нет протеолитической активности, не восстанавливает нитра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5040" indent="-36504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0" y="-244080"/>
            <a:ext cx="86868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Резистентность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чень неустойчив в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ей среде. Быстро разрушается под действием дезинфектантов, антисептиков , ч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ствительны к солнечному излучению. При 50-55°С погибают за 30 мин., при кипячении мгновенно. 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3171960"/>
            <a:ext cx="9144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Антигенные свойства</a:t>
            </a:r>
            <a:r>
              <a:rPr b="1" lang="ru-RU" sz="18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-Аг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-Аг, состоящий из 14 компонентов (агглютиногены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омпонент - общий для всех бордетел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ыми для B.pertussis являются 1 и 7 компонент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9:46:48Z</dcterms:created>
  <dc:creator>User</dc:creator>
  <dc:description/>
  <dc:language>en-US</dc:language>
  <cp:lastModifiedBy>LEGION</cp:lastModifiedBy>
  <dcterms:modified xsi:type="dcterms:W3CDTF">2015-11-27T12:47:51Z</dcterms:modified>
  <cp:revision>27</cp:revision>
  <dc:subject/>
  <dc:title>MEASLES </dc:title>
</cp:coreProperties>
</file>