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6F09-A05B-410C-A07C-EF6613BEC01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ОКЛЮ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(Франц. петушиный кри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КОКЛЮШ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(Франц. петушиный крик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ущими для B. pertussis являются 1, 2,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Аг сочетаний различают 6 сероваров возбудителя (1.2.0; 1.0.3; 1.2.3 , 1.0.0…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следнее десятилетие преобладающими являются серовары 1.2.0 и 1.0.3, выделяющиеся от привитых детей, имеющих легкие и атипичные формы заболевания. В то же время серовары 1.2.3 выделяются от непривитых детей прежде всего раннего возраста, у которых болезнь протекает чаще в тяжелой и реже — в среднетяжелой форме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едущими для B. pertussis являются 1, 2, 3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зависимости от Аг сочетаний различают 6 сероваров возбудителя (1.2.0; 1.0.3; 1.2.3 , 1.0.0…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последнее десятилетие преобладающими являются серовары 1.2.0 и 1.0.3, выделяющиеся от привитых детей, имеющих легкие и атипичные формы заболевания. В то же время серовары 1.2.3 выделяются от непривитых детей прежде всего раннего возраста, у которых болезнь протекает чаще в тяжелой и реже — в среднетяжелой форме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ге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аментозный гемагглютинин -крупный белок, образующий филаментозные структуры на поверхности бактериальной кле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ет адгезию, связываясь с галактозными остатками сульфогликолипида на поверхности ресничного эпите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дгез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иламентозный гемагглютинин -крупный белок, образующий филаментозные структуры на поверхности бактериальной клетк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еспечивает адгезию, связываясь с галактозными остатками сульфогликолипида на поверхности ресничного эпител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глютиногены тесно связаны с белками фимб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изация фимбриальными белками защищает от аэрозольного зара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ия в структуре фимбриальных белков позволяют м/о избежать воздействия 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тактин и ряд других поверхностных белков участвуют в адгезии, взаимодействуя с белками-рецепторами из семейства интегринов на поверхности клеток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ок BrkA (Bordetella resistance to killing) участвует в адгезии, инвазии и обеспечивает устойчивость бактерии к классическому комплемент-зависимому пути элиминации антиге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гглютиногены тесно связаны с белками фимбр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ммунизация фимбриальными белками защищает от аэрозольного зараже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зличия в структуре фимбриальных белков позволяют м/о избежать воздействия а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тактин и ряд других поверхностных белков участвуют в адгезии, взаимодействуя с белками-рецепторами из семейства интегринов на поверхности клеток челове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елок BrkA (Bordetella resistance to killing) участвует в адгезии, инвазии и обеспечивает устойчивость бактерии к классическому комплемент-зависимому пути элиминации антиген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ергизм филаментного гемагглютинина и коклюшного токсина  в процессе адгезии на клетках реснитчатого эпителия (цилиарный стаз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инергизм филаментного гемагглютинина и коклюшного токсина  в процессе адгезии на клетках реснитчатого эпителия (цилиарный стаз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онизац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изучена роль гемагглютинина, показано, что мутации, меняющие его структуру, приводят к снижению способности бордетелл колонизировать эпителий дыхательного тра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ая роль принадлежит коклюшному токсину, ат против его компонентов также предотвращают колонизацию ресничного эпите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лонизац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иболее изучена роль гемагглютинина, показано, что мутации, меняющие его структуру, приводят к снижению способности бордетелл колонизировать эпителий дыхательного трак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ольшая роль принадлежит коклюшному токсину, ат против его компонентов также предотвращают колонизацию ресничного эпител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онизация эпителия трахеи Bordetella pertussis (клетки без ресничек свободны от бактерий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лонизация эпителия трахеи Bordetella pertussis (клетки без ресничек свободны от бактерий)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клюш - инфекционное заболевание, передающееся воздушно-капельным путем. До настоящего времени коклюш и его возбудитель остаются серьезной проблемой не только для России, но и для всего мира. По данным ВОЗ, в мире ежегодно заболевает коклюшем около 60 млн человек, умирает около 1 млн детей, преимущественно в возрасте до одного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клюш - инфекционное заболевание, передающееся воздушно-капельным путем. До настоящего времени коклюш и его возбудитель остаются серьезной проблемой не только для России, но и для всего мира. По данным ВОЗ, в мире ежегодно заболевает коклюшем около 60 млн человек, умирает около 1 млн детей, преимущественно в возрасте до одного год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ксины Bordetella pertuss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енилатциклаза – единый полипептид , который может быть связан с клеткой и выделяться в окружающую сре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из двух субъединиц: отвечающей за ферментативную активность и за связывание с рецепторами кле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ервые был обнаружен как гемолиз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ен только в клетках эукари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опление цАМФ нарушает структру и физиологию клетки (аналогичен токсину В. anthraci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ксины Bordetella pertussis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денилатциклаза – единый полипептид , который может быть связан с клеткой и выделяться в окружающую среду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стоит из двух субъединиц: отвечающей за ферментативную активность и за связывание с рецепторами клеток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первые был обнаружен как гемолизин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ктивен только в клетках эукарио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копление цАМФ нарушает структру и физиологию клетки (аналогичен токсину В. anthraci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одит к накоплению нейтрофилов в жидкости и снижению количества альвеолярных макрофагов в результате их апопт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ает роль на начальном этапе развития 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танты по аденилатциклазе могут колонизировать слизистую, но обладают сниженной вирулент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водит к накоплению нейтрофилов в жидкости и снижению количества альвеолярных макрофагов в результате их апоптоз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грает роль на начальном этапе развития инфек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утанты по аденилатциклазе могут колонизировать слизистую, но обладают сниженной вирулентностью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матонекротический токс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раженных клетках развивается ряд характерных явлений: складчатость мембраны, фокальная адгезия и напряженные актиновые волокна, а также ДНК-репликация без клеточного де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мологичен цитотоксину E.col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в патогенезе коклюша неяс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ерматонекротический токсин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пораженных клетках развивается ряд характерных явлений: складчатость мембраны, фокальная адгезия и напряженные актиновые волокна, а также ДНК-репликация без клеточного делени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омологичен цитотоксину E.col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ль в патогенезе коклюша неяс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хеальный цитотокс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рагмент пептидогликана клеточной сте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реждает ресничный эпителий и вызывает цилиостаз – нарушается отток слизи и создаются условия для персистирования возбуд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ует продукцию ИЛ-1, в ответ на который синтезируется оксид аз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адает таким свойством, как пирог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рахеальный цитотоксин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- фрагмент пептидогликана клеточной стенк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вреждает ресничный эпителий и вызывает цилиостаз – нарушается отток слизи и создаются условия для персистирования возбудител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имулирует продукцию ИЛ-1, в ответ на который синтезируется оксид азо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ладает таким свойством, как пирогенност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пополисахар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ается от ЛПС энтеробакте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пид определяет биологическую активность(пирогенность, токсичность, адъювантность, стимуляцию продукции ИЛ-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елом, ЛПС обладает иммуноген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ним связывают реактогенность цельноклеточной коклюшной вакцины вакц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пополисахари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личается от ЛПС энтеробактер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пид определяет биологическую активность(пирогенность, токсичность, адъювантность, стимуляцию продукции ИЛ-1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целом, ЛПС обладает иммуногенностью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 ним связывают реактогенность цельноклеточной коклюшной вакцины вакцин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клюшный токс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осредует как стадию колонизации, так и токсемическую стад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елок с АВ5 структурой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ок В – 5 субъединиц S2- S5, отвечает за связывание с рецепторами клеток-мише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ок А соответствует субъединице S1, обладает ферментативной активностью – осуществляет АДФ-рибозилирование G-белка, ингибирующего в норме аденилатциклаз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клюшный токсин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осредует как стадию колонизации, так и токсемическую стадию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- белок с АВ5 структурой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асток В – 5 субъединиц S2- S5, отвечает за связывание с рецепторами клеток-мишене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асток А соответствует субъединице S1, обладает ферментативной активностью – осуществляет АДФ-рибозилирование G-белка, ингибирующего в норме аденилатциклазу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опление цАМФ приводит 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авлению всех стадий фагоцитоз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ю нормального расселения лимфоцитов(«хоуминг-эффект»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устошению тимус-зависимых зон лимфоидной ткан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ует на клетки поджелудочной железы, вызывая гиперпродукцию инсулина и как следствие-гипогликем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ливает чувствительность к гистамину (в результате увеличение проницаемости капилляров, гипотензия,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копление цАМФ приводит к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давлению всех стадий фагоцитоза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рушению нормального расселения лимфоцитов(«хоуминг-эффект»)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устошению тимус-зависимых зон лимфоидной ткани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ействует на клетки поджелудочной железы, вызывая гиперпродукцию инсулина и как следствие-гипогликемию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силивает чувствительность к гистамину (в результате увеличение проницаемости капилляров, гипотензия, шок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современных штаммов B.pertussis произошли существенные изменения в структуре ptxA гена, кодирующего S1 субъединицу коклюшного токсина, prn гена, кодирующего пертактин, и в фимбриальном fim3 гене, кодирующем Fim3 бел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аммы B.pertussis, характеризующиеся новыми «невакцинными» аллелями генов патогенности, обладают высокой степенью вирулент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штаммы полностью вытеснили "старые" штам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 современных штаммов B.pertussis произошли существенные изменения в структуре ptxA гена, кодирующего S1 субъединицу коклюшного токсина, prn гена, кодирующего пертактин, и в фимбриальном fim3 гене, кодирующем Fim3 белок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Штаммы B.pertussis, характеризующиеся новыми «невакцинными» аллелями генов патогенности, обладают высокой степенью вирулентност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и штаммы полностью вытеснили "старые" штаммы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тогенез коклюш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акт, внедрение, распространение. Заболевания - энцефалопатия, ринорея, пароксизмальный кашель, лимфоцитоз, бронхопневмо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ложнения: пневмония, ателектаз, эмфизема, кровоизлияние в моз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атогенез коклюш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такт, внедрение, распространение. Заболевания - энцефалопатия, ринорея, пароксизмальный кашель, лимфоцитоз, бронхопневмо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ложнения: пневмония, ателектаз, эмфизема, кровоизлияние в мозг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й вид ребенка, больного коклюшем, во время спазматического присту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нешний вид ребенка, больного коклюшем, во время спазматического приступ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клюш - высококонтагиозное заболевание, к которому очень восприимчивы дети (у взрослых вызывает затяжной бронхит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 инфекции – больной (заразен до 25-30дн)  или бактерионос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ь передачи - воздушно-капе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ы заболева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кубационный(5-8дн, до14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аральный (5-14дней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орожный (пароксизмальный) (2-8 неде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 разрешения (2-4 недел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: симптоматическое; антибиотикотерапия показана до пароксизмального периода; 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клюш - высококонтагиозное заболевание, к которому очень восприимчивы дети (у взрослых вызывает затяжной бронхит)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сточник инфекции – больной (заразен до 25-30дн)  или бактерионосител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уть передачи - воздушно-капельны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иоды заболевания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кубационный(5-8дн, до14)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таральный (5-14дней)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дорожный (пароксизмальный) (2-8 недель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иод разрешения (2-4 недели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ЕЧЕНИЕ: симптоматическое; антибиотикотерапия показана до пароксизмального периода; I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бораторная диагностика коклю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методы лабораторной диагностики коклюш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олог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еролог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абораторная диагностика коклюш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новные методы лабораторной диагностики коклюш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актериологическ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 серологическ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ологический метод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нический материал собир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ухим тампоном с задней стенки глотки и делают    посев на питательные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тодом кашлевых пласти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 целесообразно получать до начала антимикробной терап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соблюдение асепт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следует допускать контаминации посторонней микрофлор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актериологический метод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линический материал собираю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- сухим тампоном с задней стенки глотки и делают    посев на питательные сред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- методом кашлевых пластинок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атериал целесообразно получать до начала антимикробной терап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обходимо соблюдение асептики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 следует допускать контаминации посторонней микрофлоро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способов взятия клинического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дин из способов взятия клинического материал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бактериологического исслед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ение чистой культуры и идентификация возбудителя коклю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ференциальный анализ  культуральных свойств возбудителей  коклюша (B.pertussis)  и паракоклюша (B.parapertussi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этап: Посев на следующие питательные сре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офельно-глицериновый агар  Борд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зеиновый-угольный агар, кровяной аг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этап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очки коклюша через 48-72ч роста образуют мелкие блестящие колонии серого цв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коклюшные палочки через 24-48ч роста образуют колонии  несколько крупн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ологический мето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Цель бактериологического исследовани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ыделение чистой культуры и идентификация возбудителя коклюш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ифференциальный анализ  культуральных свойств возбудителей  коклюша (B.pertussis)  и паракоклюша (B.parapertussi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 этап: Посев на следующие питательные сред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ртофельно-глицериновый агар  Борде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зеиновый-угольный агар, кровяной агар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 этап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алочки коклюша через 48-72ч роста образуют мелкие блестящие колонии серого цве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аракоклюшные палочки через 24-48ч роста образуют колонии  несколько крупне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актериологический метод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этап: Серологиеская идентификация бордетел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т образцы антигенов  - с 1 по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ген 7 определяет род Bordetella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ген 1 определяет Bordetella pertussi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ген 14 – B.parapertus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акции агглютинации в пробир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 этап: Серологиеская идентификация бордетел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спользуют образцы антигенов  - с 1 по 14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тиген 7 определяет род Bordetella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тиген 1 определяет Bordetella pertussis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тиген 14 – B.parapertus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реакции агглютинации в пробирках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ологический метод диагностики коклю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ФА используют для определения sIgA в носоглоточной слизи, начиная с 2-3 недели заболе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НГА  используют при анализе сывороток через 10-14 дней, диагностический титр 1:80, у здоровых детей 1: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СК в парных сыворот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ерологический метод диагностики коклюш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ФА используют для определения sIgA в носоглоточной слизи, начиная с 2-3 недели заболева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НГА  используют при анализе сывороток через 10-14 дней, диагностический титр 1:80, у здоровых детей 1:2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СК в парных сыворотках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ка образования антител при коклюш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инамика образования антител при коклюш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овая профилактика коклю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бинированная вакцина  АКДС  (адсорбированная коклюшно –дифтерийно – столбнячная вакцина) включ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терийный и столбнячный анатоксины, а также  убитые цельные микроорганизмы -   возбудители коклю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новая профилактика коклюш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бинированная вакцина  АКДС  (адсорбированная коклюшно –дифтерийно – столбнячная вакцина) включае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ифтерийный и столбнячный анатоксины, а также  убитые цельные микроорганизмы -   возбудители коклюш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целлюлярные вакц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оненты B.pertussis :филаментозный гемагглютинин, пертактин, фимбрии, анатокс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клюшного токс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ая вакцина  АКаДС включает неклеточный  коклюшный компонен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аринкс (Бельгия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компонента (против коклюша, дифтерии, столбняка)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компонент (против Хиб-инфекции – «Хиберикс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целлюлярные вакцин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поненты B.pertussis :филаментозный гемагглютинин, пертактин, фимбрии, анатоксин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клюшного токси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временная вакцина  АКаДС включает неклеточный  коклюшный компонент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фаринкс (Бельгия)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 компонента (против коклюша, дифтерии, столбняка) +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 компонент (против Хиб-инфекции – «Хиберикс»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од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ORDETELLA </a:t>
            </a:r>
            <a:br>
              <a:rPr sz="1200"/>
            </a:b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ид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ORDETELLA PERTUS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Род </a:t>
            </a: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BORDETELLA </a:t>
            </a:r>
            <a:br>
              <a:rPr sz="1200"/>
            </a:b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Вид </a:t>
            </a: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BORDETELLA PERTUS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траксим (Франция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компонента (против коклюша, дифтерии, столбняка и полиомиелита)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компонент (против Хиб-инфекции – «Акт-Хиб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нтаксим (Франция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компон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тив коклюша, дифтерии, столбняка, полиомиелита и Хиб-инфек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траксим (Франция)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 компонента (против коклюша, дифтерии, столбняка и полиомиелита) +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 компонент (против Хиб-инфекции – «Акт-Хиб»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нтаксим (Франция)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 компонент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против коклюша, дифтерии, столбняка, полиомиелита и Хиб-инфекции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ф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лкая, овоидная, грам- палочка с закругленными конц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движны. Спор нет. Жгутиков нет. Образует капсулу, пи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орфолог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лкая, овоидная, грам- палочка с закругленными концам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подвижны. Спор нет. Жгутиков нет. Образует капсулу, пил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альные сво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мальная t культивирования 37°С при рН 7,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растет на простых питательных средах, культивируется на картофельно-глицериновом агаре и на полусинтетическом казеиново-угольном агаре без добавления кров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Bordetella pertussis на агаре Борде-Жанг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ультуральные свой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тимальная t культивирования 37°С при рН 7,2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 растет на простых питательных средах, культивируется на картофельно-глицериновом агаре и на полусинтетическом казеиново-угольном агаре без добавления кров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ст Bordetella pertussis на агаре Борде-Жангу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ровяных средах образует зону гемолиза. Колонии мелкие, круглые, с ровными краями, блестящие напоминающие капельки ртути или зерна жемчуга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 дыхания              Строгие аэро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химические свой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емоорганотроф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болизм только окислите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рментативно малоактивны: не   ферментируют углеводы, нет протеолитической активности, не восстанавливает нитр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 кровяных средах образует зону гемолиза. Колонии мелкие, круглые, с ровными краями, блестящие напоминающие капельки ртути или зерна жемчуга.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ип дыхания              Строгие аэроб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иохимические свойств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емоорганотроф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аболизм только окислительны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ерментативно малоактивны: не   ферментируют углеводы, нет протеолитической активности, не восстанавливает нитра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истент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нь неустойчив во внешней среде. Быстро разрушается под действием дезинфектантов, антисептиков , чувствительны к солнечному излучению. При 50-55°С погибают за 30 мин., при кипячении мгновенно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генные сво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-А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-Аг, состоящий из 14 компонентов (агглютиногены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 компонент - общий для всех бордетел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ми для B.pertussis являются 1 и 7 компонен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зистентность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чень неустойчив во внешней среде. Быстро разрушается под действием дезинфектантов, антисептиков , чувствительны к солнечному излучению. При 50-55°С погибают за 30 мин., при кипячении мгновенно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тигенные свойства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-Аг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-Аг, состоящий из 14 компонентов (агглютиногены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 компонент - общий для всех бордетел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язательными для B.pertussis являются 1 и 7 компоненты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DC52-1CF4-47D0-BAB3-FC9C0E7A6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A23B-C3D6-46B4-B0FD-C1DD7305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1888-D032-4E4B-846B-3768F1EDD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AF4C-984E-4FB0-BC76-AFB21BF41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5F89A-ABD5-47E1-80EB-90288C5AA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827C-32AE-4CC5-9641-6AAF7781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1D33-8B7F-4FD4-87AF-6C5A6689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A1B2-2266-40FC-B444-A4219C98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B1B5-504E-46C3-9595-20FBE476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A29E-DC27-4F99-BD06-BB8C7843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F601-725E-46FB-ADC4-753337BE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545C-F771-400A-85B3-B22D8E1E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CA01-C8C8-4A3E-BA7B-72220979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D492-3ECB-4A7A-9586-42BFFE6A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3F51D-1A0F-44BD-A21A-8696D1A3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9799D-578E-4C42-B712-5465E5517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A649-F327-4C89-A7B9-88533BD57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A3E9-13F1-43EA-8884-FD1EB13B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5FBC-DA3C-4BAB-A11A-A873EA9F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9773-64E6-414E-8490-6922A547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71A3-0EC4-4BAE-A25E-95B71FA1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2ADA-D071-4B51-A5A1-2246B7E5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DD3F-D748-41D0-9D4F-7045449D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9BF5-99FF-4DEC-B136-EC732F5F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8A08-622A-4A5F-A6C9-ACFA3621C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EFC5-E7C2-4B6A-B6F2-5C236F5B0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66"/>
                </a:solidFill>
                <a:latin typeface="Tahoma"/>
              </a:rPr>
              <a:t>КОКЛЮШ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Франц. петушиный крик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едущими для B. pertussis являются 1, 2, 3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зависимости от Аг сочетаний различают 6 сероваров возбудителя (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2.0; 1.0.3; 1.2.3 , 1.0.0…)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последнее десятилетие преобладающими являются серовары </a:t>
            </a: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1.2.0 и 1.0.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выделяющиеся от привитых детей, имеющих легкие и атипичные формы заболевания. В то же время серовары </a:t>
            </a: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1.2.3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деляются от непривитых детей прежде всего раннего возраста, у которых болезнь протекает чаще в тяжелой и реже — в среднетяжелой форме.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76320" y="0"/>
          <a:ext cx="9067680" cy="6858000"/>
        </p:xfrm>
        <a:graphic>
          <a:graphicData uri="http://schemas.openxmlformats.org/drawingml/2006/table">
            <a:tbl>
              <a:tblPr/>
              <a:tblGrid>
                <a:gridCol w="2971800"/>
                <a:gridCol w="3047760"/>
                <a:gridCol w="3048120"/>
              </a:tblGrid>
              <a:tr h="644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Факторы патогенности В.рertussi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альные компонен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оставе ацеллюлярной вакци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аментозный гемагглютин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гезия, иммуносупрессивная актив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такт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гез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мбр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гез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тип 2 и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клюшный токс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ализирует АДФ-рибозилирование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бел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, анатокс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0" y="0"/>
          <a:ext cx="9144000" cy="6616800"/>
        </p:xfrm>
        <a:graphic>
          <a:graphicData uri="http://schemas.openxmlformats.org/drawingml/2006/table">
            <a:tbl>
              <a:tblPr/>
              <a:tblGrid>
                <a:gridCol w="3048120"/>
                <a:gridCol w="4910040"/>
                <a:gridCol w="1185840"/>
              </a:tblGrid>
              <a:tr h="2971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енилатцикла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тотоксин (синтез цАМФ нарушает функционирование клетки. Противовоспалительный эффект за счет действия на клетки иммунной систем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5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матонекротический токс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ирует ГТФ-связывающий белок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ho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что ведет к нарушению цитоскекле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0" y="274680"/>
          <a:ext cx="9144000" cy="6354720"/>
        </p:xfrm>
        <a:graphic>
          <a:graphicData uri="http://schemas.openxmlformats.org/drawingml/2006/table">
            <a:tbl>
              <a:tblPr/>
              <a:tblGrid>
                <a:gridCol w="3021120"/>
                <a:gridCol w="4065480"/>
                <a:gridCol w="2057400"/>
              </a:tblGrid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хеальный фактор колониз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гезия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хеальный цитотокс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тотоксин, участвует в повреждении респираторного эпител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пополисахарид (эндотоксин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оспалительная активность, обеспечивает устойчивость к защитным механизма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Содержимое 5" descr="Рисунок5.JPG"/>
          <p:cNvPicPr/>
          <p:nvPr/>
        </p:nvPicPr>
        <p:blipFill>
          <a:blip r:embed="rId1"/>
          <a:stretch/>
        </p:blipFill>
        <p:spPr>
          <a:xfrm>
            <a:off x="533520" y="457200"/>
            <a:ext cx="7924680" cy="58672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Адгезия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28600" y="732600"/>
            <a:ext cx="533412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ff"/>
                </a:solidFill>
                <a:latin typeface="Tahoma"/>
              </a:rPr>
              <a:t>Филаментозный гемагглютинин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-крупный белок, образующий филаментозные структуры на поверхности бактериальной клет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еспечивает адгезию, связываясь с галактозными остатками сульфогликолипида на поверхности ресничного эпител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Picture 6" descr="u1fig26a"/>
          <p:cNvPicPr/>
          <p:nvPr/>
        </p:nvPicPr>
        <p:blipFill>
          <a:blip r:embed="rId1"/>
          <a:stretch/>
        </p:blipFill>
        <p:spPr>
          <a:xfrm>
            <a:off x="5638680" y="1295280"/>
            <a:ext cx="3505320" cy="40388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0" y="304920"/>
            <a:ext cx="9144000" cy="71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гглютиногены тесно связаны с </a:t>
            </a:r>
            <a:r>
              <a:rPr b="0" i="1" lang="ru-RU" sz="2800" spc="-1" strike="noStrike">
                <a:solidFill>
                  <a:srgbClr val="ff00ff"/>
                </a:solidFill>
                <a:latin typeface="Tahoma"/>
              </a:rPr>
              <a:t>белками фимбр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ммунизация фимбриальными белками защищает от аэрозольного зараж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личия в структуре фимбриальных белков позволяют м/о избежать воздействия а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тактин и ряд других поверхностных белков участвуют в адгезии, взаимодействуя с белками-рецепторами из семейства интегринов на поверхности клеток челове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елок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kA (Bordetella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istance to killing)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частвует в адгезии, инвазии и обеспечивает устойчивость бактерии к классическому комплемент-зависимому пути элиминации антиген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Синергизм филаментного гемагглютинина и коклюшного токсина  в процессе адгезии на клетках реснитчатого эпителия (цилиарный стаз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Picture 4" descr="fig31_4"/>
          <p:cNvPicPr/>
          <p:nvPr/>
        </p:nvPicPr>
        <p:blipFill>
          <a:blip r:embed="rId1"/>
          <a:stretch/>
        </p:blipFill>
        <p:spPr>
          <a:xfrm>
            <a:off x="1500120" y="1643040"/>
            <a:ext cx="6357960" cy="485784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Колонизация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иболее изучена роль гемагглютинина, показано, что мутации, меняющие его структуру, приводят к снижению способности бордетелл колонизировать эпителий дыхательного трак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ольшая роль принадлежит коклюшному токсину, ат против его компонентов также предотвращают колонизацию ресничного эпител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57150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лонизация эпителия трахеи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Bordetella pertuss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клетки без ресничек свободны от бактерий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Picture 4" descr="Bordetella pertussis bacteria in trachea"/>
          <p:cNvPicPr/>
          <p:nvPr/>
        </p:nvPicPr>
        <p:blipFill>
          <a:blip r:embed="rId1"/>
          <a:stretch/>
        </p:blipFill>
        <p:spPr>
          <a:xfrm>
            <a:off x="762120" y="0"/>
            <a:ext cx="7086600" cy="57150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оклюш - инфекционное заболевание, передающееся воздушно-капельным путем. До настоящего времени коклюш и его возбудитель остаются серьезной проблемой не только для России, но и для всего мира. По данным ВОЗ, в мире ежегодно заболевает коклюшем около 60 млн человек, умирает около 1 млн детей, преимущественно в возрасте до одного год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Tahoma"/>
              </a:rPr>
              <a:t>Токсины </a:t>
            </a:r>
            <a:r>
              <a:rPr b="1" i="1" lang="en-US" sz="4400" spc="-1" strike="noStrike">
                <a:solidFill>
                  <a:srgbClr val="ff0066"/>
                </a:solidFill>
                <a:latin typeface="Tahoma"/>
              </a:rPr>
              <a:t>Bordetella pertussis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Аденилатциклаз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единый полипептид , который может быть связан с клеткой и выделяться в окружающую сред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стоит из двух субъединиц: отвечающей за ферментативную активность и за связывание с рецепторами клето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первые был обнаружен как гемолиз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ктивен только в клетках эукарио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копление цАМФ нарушает структру и физиологию клетки (аналогичен токсину В.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hraci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водит к накоплению нейтрофилов в жидкости и снижению количества альвеолярных макрофагов в результате их апоптоз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грает роль на начальном этапе развития инфекц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утанты по аденилатциклазе могут колонизировать слизистую, но обладают сниженной вирулентность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Дерматонекротический токс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пораженных клетках развивается ряд характерных явлений: складчатость мембраны, фокальная адгезия и напряженные актиновые волокна, а также ДНК-репликация без клеточного делен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омологичен цитотоксину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.col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ль в патогенезе коклюша неяс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Трахеальный цитотокс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фрагмент пептидогликана клеточной стен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вреждает ресничный эпителий и вызывает цилиостаз – нарушается отток слизи и создаются условия для персистирования возбудител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имулирует продукцию ИЛ-1, в ответ на который синтезируется оксид азо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ладает таким свойством, как пироген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Липополисахари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личается от</a:t>
            </a: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ПС энтеробактер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ипид определяет биологическую активность(пирогенность, токсичность, адъювантность, стимуляцию продукции ИЛ-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целом, ЛПС обладает иммуногенность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 ним связывают реактогенность цельноклеточной коклюшной вакцины вакцин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Коклюшный токс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осредует как стадию колонизации, так и токсемическую стади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белок с АВ5 структурой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асток В – 5 субъединиц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, отвечает за связывание с рецепторами клеток-мишене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асток А соответствует субъединице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1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обладает ферментативной активностью – осуществляет АДФ-рибозилирование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белка, ингибирующего в норме аденилатциклаз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копление цАМФ приводит к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давлению всех стадий фагоцитоза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рушению нормального расселения лимфоцитов(«хоуминг-эффект»)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устошению тимус-зависимых зон лимфоидной ткани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ействует на клетки поджелудочной железы, вызывая гиперпродукцию инсулина и как следствие-гипогликеми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силивает чувствительность к гистамину (в результате увеличение проницаемости капилляров, гипотензия, шо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560" y="-360"/>
            <a:ext cx="88390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 современных штаммов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B.pertussi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роизошли существенные изменения в структуре ptxA гена, кодирующего S1 субъединицу коклюшного токсина, prn гена, кодирующего пертактин, и в фимбриальном fim3 гене, кодирующем Fim3 бело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Штаммы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B.pertussi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характеризующиеся новыми «невакцинными» аллелями генов патогенности, обладают высокой степенью вирулентност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ти штаммы полностью вытеснили "старые" штаммы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Pertussis1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тогенез коклюша </a:t>
            </a:r>
            <a:br>
              <a:rPr sz="3200"/>
            </a:br>
            <a:r>
              <a:rPr b="0" lang="ru-RU" sz="1600" spc="-1" strike="noStrike">
                <a:solidFill>
                  <a:srgbClr val="c00000"/>
                </a:solidFill>
                <a:latin typeface="Arial Black"/>
              </a:rPr>
              <a:t>контакт, внедрение, распространение. Заболевания - энцефалопатия, ринорея, пароксизмальный кашель, лимфоцитоз, бронхопневмони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Picture 4" descr="fig31_1"/>
          <p:cNvPicPr/>
          <p:nvPr/>
        </p:nvPicPr>
        <p:blipFill>
          <a:blip r:embed="rId1"/>
          <a:stretch/>
        </p:blipFill>
        <p:spPr>
          <a:xfrm>
            <a:off x="1116000" y="1557360"/>
            <a:ext cx="7343640" cy="48960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4"/>
          <p:cNvSpPr/>
          <p:nvPr/>
        </p:nvSpPr>
        <p:spPr>
          <a:xfrm>
            <a:off x="573840" y="6172200"/>
            <a:ext cx="81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Осложнения: пневмония, ателектаз, эмфизема, кровоизлияние в моз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0231811486"/>
          <p:cNvPicPr/>
          <p:nvPr/>
        </p:nvPicPr>
        <p:blipFill>
          <a:blip r:embed="rId1"/>
          <a:stretch/>
        </p:blipFill>
        <p:spPr>
          <a:xfrm>
            <a:off x="0" y="-228600"/>
            <a:ext cx="6667560" cy="56768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0" y="56390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нешний вид ребенка, больного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клюшем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во время спазматического приступ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Коклюш - высококонтагиозное заболевание, к которому очень восприимчивы дети (у взрослых вызывает затяжной бронхит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Arial Black"/>
              </a:rPr>
              <a:t>Источник инфекции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 – больной (заразен до 25-30дн)  или бактерионосител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Arial Black"/>
              </a:rPr>
              <a:t>Путь передачи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 - воздушно-капельны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Периоды заболевания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инкубационный(5-8дн, до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14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катаральный (5-14дней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удорожный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ароксизмальный) (2-8 недель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ериод разрешения (2-4 недели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ЕЧЕНИЕ: симптоматическое; антибиотикотерапия показан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 пароксизмального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иода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Лабораторная диагностика коклюш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Picture 2" descr="C:\Documents and Settings\Kafarskaya_LI\Мои документы\Мои рисунки\Бактериолоогическая лаборт.jpg"/>
          <p:cNvPicPr/>
          <p:nvPr/>
        </p:nvPicPr>
        <p:blipFill>
          <a:blip r:embed="rId1"/>
          <a:stretch/>
        </p:blipFill>
        <p:spPr>
          <a:xfrm>
            <a:off x="571680" y="1600200"/>
            <a:ext cx="3857400" cy="46148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Основные методы лабораторной диагностики коклюш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бактериологическ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и серологическ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Бактериологический метод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Клинический материал собираю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сухим тампоном с задней стенки глотки и делают    посев на питательные сред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- методом кашлевых пластино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Материал целесообразно получать до начала антимикробной терап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Необходимо соблюдение асептики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   </a:t>
            </a: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не следует допускать контаминации посторонней микрофлоро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дин из способов взятия клинического материа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Рисунок 5" descr="Рисунок12.JPG"/>
          <p:cNvPicPr/>
          <p:nvPr/>
        </p:nvPicPr>
        <p:blipFill>
          <a:blip r:embed="rId1"/>
          <a:stretch/>
        </p:blipFill>
        <p:spPr>
          <a:xfrm>
            <a:off x="1219320" y="1905120"/>
            <a:ext cx="6019560" cy="43434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Цель бактериологического исследования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ыделение чистой культуры и идентификация возбудителя коклюш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Дифференциальный анализ  культуральных свойств возбудителей  коклюша (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B.pertussis)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и паракоклюша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(B.parapertuss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1 этап:</a:t>
            </a: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 Посев на следующие питательные среды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картофельно-глицериновый агар  Борде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казеиновый-угольный агар, кровяной ага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2 этап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Палочки коклюша через 48-72ч роста образуют мелкие блестящие колонии серого цве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Паракоклюшные палочки через 24-48ч роста образуют колонии  несколько крупне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Бактериологический метод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3 этап:</a:t>
            </a: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Серологиеская идентификация бордетел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Используют образцы антигенов  - с 1 по 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Антиген 7 определяет род </a:t>
            </a: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Bordetella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Антиген 1 определяет </a:t>
            </a: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Bordetella pertussi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Антиген 14 – </a:t>
            </a: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B.parapertus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еакции агглютинации в пробирк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Серологический метод диагностики коклюш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ИФА используют для определения </a:t>
            </a: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sIgA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 в носоглоточной слизи, начиная с 2-3 недели заболева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РНГА  используют при анализе сывороток через 10-14 дней, диагностический титр 1:80, у здоровых детей 1: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РСК в парных сыворотка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инамика образования антител при коклюш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Picture 4" descr="fig31_5"/>
          <p:cNvPicPr/>
          <p:nvPr/>
        </p:nvPicPr>
        <p:blipFill>
          <a:blip r:embed="rId1"/>
          <a:stretch/>
        </p:blipFill>
        <p:spPr>
          <a:xfrm>
            <a:off x="468360" y="1484280"/>
            <a:ext cx="7848720" cy="504036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Плановая профилактика коклюш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Комбинированная вакцина  АКДС  (адсорбированная коклюшно –дифтерийно – столбнячная вакцина) включае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Arial Black"/>
              </a:rPr>
              <a:t>дифтерийный и столбнячный анатоксины, а также  убитые цельные микроорганизмы -   возбудители коклюш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ff"/>
                </a:solidFill>
                <a:latin typeface="Tahoma"/>
              </a:rPr>
              <a:t>Ацеллюлярные вакцин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Компоненты</a:t>
            </a:r>
            <a:r>
              <a:rPr b="0" i="1" lang="ru-RU" sz="3600" spc="-1" strike="noStrike" u="sng">
                <a:solidFill>
                  <a:srgbClr val="ff0066"/>
                </a:solidFill>
                <a:uFillTx/>
                <a:latin typeface="Tahoma"/>
              </a:rPr>
              <a:t>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B.pertussi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:ф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аментозный гемагглютинин, пертактин, фимбрии, анатокс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клюшного токси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Современная вакцина  АКаДС включает неклеточный  коклюшный компонент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Tahoma"/>
              </a:rPr>
              <a:t>Инфаринкс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Бельгия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 компонента (против коклюша, дифтерии, столбняка) +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 компонент (против Хиб-инфекции – «Хиберикс»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Picture 4" descr="user posted image"/>
          <p:cNvPicPr/>
          <p:nvPr/>
        </p:nvPicPr>
        <p:blipFill>
          <a:blip r:embed="rId1"/>
          <a:stretch/>
        </p:blipFill>
        <p:spPr>
          <a:xfrm>
            <a:off x="7010280" y="5105520"/>
            <a:ext cx="2133720" cy="175248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Род </a:t>
            </a: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BORDETELLA</a:t>
            </a:r>
            <a:r>
              <a:rPr b="0" lang="ru-RU" sz="4000" spc="-1" strike="noStrike">
                <a:solidFill>
                  <a:srgbClr val="ff0066"/>
                </a:solidFill>
                <a:latin typeface="Tahoma"/>
              </a:rPr>
              <a:t>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Вид </a:t>
            </a: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BORDETELLA PERTUSSI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Тетраксим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Франция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4 компонента (против коклюша, дифтерии, столбняка и полиомиелита) +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 компонент (против Хиб-инфекции – «Акт-Хиб»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Пентаксим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Франция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 компонент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против коклюша, дифтерии, столбняка, полиомиелита и Хиб-инфекции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Морфология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Мелкая, овоидная, грам- палочка с закругленными концам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Неподвижны. Спор нет. Жгутиков нет. Образует капсулу, пил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7" descr="B"/>
          <p:cNvPicPr/>
          <p:nvPr/>
        </p:nvPicPr>
        <p:blipFill>
          <a:blip r:embed="rId1"/>
          <a:stretch/>
        </p:blipFill>
        <p:spPr>
          <a:xfrm>
            <a:off x="4876920" y="2438280"/>
            <a:ext cx="4267080" cy="22860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48520" y="2895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9" descr="213_9"/>
          <p:cNvPicPr/>
          <p:nvPr/>
        </p:nvPicPr>
        <p:blipFill>
          <a:blip r:embed="rId1"/>
          <a:stretch/>
        </p:blipFill>
        <p:spPr>
          <a:xfrm>
            <a:off x="457200" y="-685800"/>
            <a:ext cx="8381880" cy="754380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Культуральные свойств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572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тимальная t культивирования 37°С при рН 7,2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растет на простых питательных средах, культивируется на картофельно-глицериновом агаре и на полусинтетическом казеиново-угольном агаре без добавления кров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8" descr="mc04b01-fig-0001-1-full"/>
          <p:cNvPicPr/>
          <p:nvPr/>
        </p:nvPicPr>
        <p:blipFill>
          <a:blip r:embed="rId1"/>
          <a:stretch/>
        </p:blipFill>
        <p:spPr>
          <a:xfrm>
            <a:off x="4800600" y="1828800"/>
            <a:ext cx="4343400" cy="36576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9"/>
          <p:cNvSpPr/>
          <p:nvPr/>
        </p:nvSpPr>
        <p:spPr>
          <a:xfrm>
            <a:off x="4952880" y="57445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ост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ordetella pertussi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 агаре Борде-Жанг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0" y="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 кровяных средах образует зону гемолиза. Колонии мелкие, круглые, с ровными краями, блестящие напоминающие капельки ртути или зерна жемчуга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0" y="20570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Тип дыхания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Строгие аэроб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0" y="2819520"/>
            <a:ext cx="9144000" cy="41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Биохимические свойства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65040" indent="-3650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емоорганотроф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5040" indent="-3650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етаболизм только окислительн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5040" indent="-3650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ерментативно малоактивны: не   ферментируют углеводы, нет протеолитической активности, не восстанавливает нитрат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5040" indent="-3650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0" y="-244080"/>
            <a:ext cx="868680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Резистентность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чень неустойчив в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ешней среде. Быстро разрушается под действием дезинфектантов, антисептиков , ч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вствительны к солнечному излучению. При 50-55°С погибают за 30 мин., при кипячении мгновенно. 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3171960"/>
            <a:ext cx="9144000" cy="41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Антигенные свойства</a:t>
            </a:r>
            <a:r>
              <a:rPr b="1" lang="ru-RU" sz="1800" spc="-1" strike="noStrike">
                <a:solidFill>
                  <a:srgbClr val="ff0066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-Аг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-Аг, состоящий из 14 компонентов (агглютиногены)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7 компонент - общий для всех бордетел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язательными для B.pertussis являются 1 и 7 компоненты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9:46:48Z</dcterms:created>
  <dc:creator>User</dc:creator>
  <dc:description/>
  <dc:language>en-US</dc:language>
  <cp:lastModifiedBy>LEGION</cp:lastModifiedBy>
  <dcterms:modified xsi:type="dcterms:W3CDTF">2015-11-27T12:47:51Z</dcterms:modified>
  <cp:revision>27</cp:revision>
  <dc:subject/>
  <dc:title>MEASLES </dc:title>
</cp:coreProperties>
</file>