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20B355-D041-4131-BD33-EAAC29BBE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илпировиноград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лигоф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Фёллинг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нилпировиноград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олигоф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Фёллинг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Микробиологический метод определения концентрации фенилаланин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следование дет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Микробиологический метод определения концентрации фенилаланин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сть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етотерап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ю для детей составляется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етотерап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клю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ню для детей составляется и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D мил ФКУ-0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MD мил ФКУ-0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1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1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2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2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3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3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2% случаев - умственная от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3% случаев - микроцефа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% случаев - врождённые пороки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40% случаев - низкая масса тела при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92% случаев - умственная отстал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73% случаев - микроцефал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12% случаев - врождённые пороки серд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40% случаев - низкая масса тела при рожде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фенилкетонур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натальная диагностика в «семьях высокого рис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филактика фенилкетонури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. Пренатальная диагностика в «семьях высокого рис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атова В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ар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онская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че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липалова И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елева М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хо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ькова Я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а Н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боту выполнил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нкратова В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ухарева М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ионская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убан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гачева А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Чилипалова И.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иселева М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хо И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лькова Я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трова Н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О.Бадалян «Невропатология» М. –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ткая медицинская энциклопедия» Гл. редактор Б.В. Петровский М. –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А. Самсонов «Основы генетики в дефектологии» М. – 19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 Мастюкова, А.Г. Московкина «Основы генетики» м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ame66.ru/zdorovya_baby/-fenilketonuriy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activ.ru/yguide/f/guide-f-0059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уем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.О.Бадалян «Невропатология» М. –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раткая медицинская энциклопедия» Гл. редактор Б.В. Петровский М. – 19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.А. Самсонов «Основы генетики в дефектологии» М. –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.М. Мастюкова, А.Г. Московкина «Основы генетики» м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mame66.ru/zdorovya_baby/-fenilketonuriy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www.medactiv.ru/yguide/f/guide-f-0059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положение гена в хромосоме (локус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q 22 – 24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  15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стоположение гена в хромосоме (локу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2 q 22 – 24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 р  15,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Этиология и патогене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тиология и патогенез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локурые со светлой кожей и голубыми гл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асто отмечаются экзема, дер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оча и пот имеют « заплесневелый», «мышиный», «волчий»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ыстрое и чрезмерное прибавление в весе, однако остаются рыхлыми, вя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зические призна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ти белокурые со светлой кожей и голубыми глаз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часто отмечаются экзема, дермат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оча и пот имеют « заплесневелый», «мышиный», «волчий» за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быстрое и чрезмерное прибавление в весе, однако остаются рыхлыми, вя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патологически отме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ственная отсталость( 65% - глубокая, 31.8% - умеренная и 3.2% - лег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ниман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вукопроиз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сихопатологически отмеч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мственная отсталость( 65% - глубокая, 31.8% - умеренная и 3.2% - лег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пониман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звукопроизно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ческая симпто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лептиформные прип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ая координация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врологическая симптомат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пилептиформные прип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ушение мышечного т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охая координация 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йств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ассивны, вялы, плохо узнают близких, оживляются при упоминании о 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сстройства по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ти пассивны, вялы, плохо узнают близких, оживляются при упоминании о е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оанатомически обнаружи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лая масс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пигментация черной субст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тологоанатомически обнаружи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алая масса моз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пигментация черной субста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BE3-C36F-4D3E-B616-950943B0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3FB-462A-4E61-9EFB-6A2B44AD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4A5-6DD7-4A60-A66C-8FE5C409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F14-8A97-4C46-812F-3DD1CF18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398-FCD4-473C-BCB3-39FBE320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0EFA-6544-4CFF-9E32-44CDFED4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0868-29F2-4951-AC58-7EBA3C4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930E-C921-4029-ABC4-8FA322DD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759D-28A2-4F76-8125-BBA2D905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D837-100D-4C50-9E13-17A619E8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8352-163F-4443-8BA7-E41B756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C95-9381-4AD5-93E7-1941EBBD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FB6-87F3-4A65-9105-5FA6B9D8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1280-E502-4547-BFF8-B711C82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5931-36DA-4C1F-8A75-B3EEA4FD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63D3-523A-4F2F-8251-02D72DB5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0528-7756-46FE-9440-6A4B3248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E8B-D34F-4B99-9D4D-2BF90F92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C3D-2128-4949-8F9A-64272A70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ED1-7EFC-41E6-A3C2-F16433EB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4DB-62C0-4265-BB6E-0185E673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FD3-AC59-448F-B4F3-718FF596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3907-BE92-4294-AC7C-A06A316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CDA-DD9E-40E4-9023-E2513ED6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DAC1CA-68FA-4377-83CD-9138941F897A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81802C-FC2D-403A-A4EB-D51FC98BBFD0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vatarko.ru/kartinka.php?id=77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vatarko.ru/kartinka.php?id=20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nfagroupp.ru/fku/index.php?option=com_content&amp;task=view&amp;id=19&amp;Itemid=11" TargetMode="External"/><Relationship Id="rId3" Type="http://schemas.openxmlformats.org/officeDocument/2006/relationships/hyperlink" Target="http://www.enfagroupp.ru/fku/index.php?option=com_content&amp;task=view&amp;id=19&amp;Itemid=11" TargetMode="External"/><Relationship Id="rId4" Type="http://schemas.openxmlformats.org/officeDocument/2006/relationships/hyperlink" Target="http://www.enfagroupp.ru/fku/index.php?option=com_content&amp;task=view&amp;id=19&amp;Itemid=11" TargetMode="External"/><Relationship Id="rId5" Type="http://schemas.openxmlformats.org/officeDocument/2006/relationships/hyperlink" Target="http://www.enfagroupp.ru/fku/index.php?option=com_content&amp;task=view&amp;id=19&amp;Itemid=11" TargetMode="External"/><Relationship Id="rId6" Type="http://schemas.openxmlformats.org/officeDocument/2006/relationships/hyperlink" Target="http://www.enfagroupp.ru/fku/index.php?option=com_content&amp;task=view&amp;id=19&amp;Itemid=11" TargetMode="External"/><Relationship Id="rId7" Type="http://schemas.openxmlformats.org/officeDocument/2006/relationships/hyperlink" Target="http://www.enfagroupp.ru/fku/index.php?option=com_content&amp;task=view&amp;id=19&amp;Itemid=11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0&amp;Itemid=11" TargetMode="External"/><Relationship Id="rId2" Type="http://schemas.openxmlformats.org/officeDocument/2006/relationships/hyperlink" Target="http://www.enfagroupp.ru/fku/index.php?option=com_content&amp;task=view&amp;id=20&amp;Itemid=11" TargetMode="External"/><Relationship Id="rId3" Type="http://schemas.openxmlformats.org/officeDocument/2006/relationships/hyperlink" Target="http://www.enfagroupp.ru/fku/index.php?option=com_content&amp;task=view&amp;id=20&amp;Itemid=11" TargetMode="External"/><Relationship Id="rId4" Type="http://schemas.openxmlformats.org/officeDocument/2006/relationships/hyperlink" Target="http://www.enfagroupp.ru/fku/index.php?option=com_content&amp;task=view&amp;id=20&amp;Itemid=11" TargetMode="External"/><Relationship Id="rId5" Type="http://schemas.openxmlformats.org/officeDocument/2006/relationships/hyperlink" Target="http://www.enfagroupp.ru/fku/index.php?option=com_content&amp;task=view&amp;id=20&amp;Itemid=11" TargetMode="External"/><Relationship Id="rId6" Type="http://schemas.openxmlformats.org/officeDocument/2006/relationships/hyperlink" Target="http://www.enfagroupp.ru/fku/index.php?option=com_content&amp;task=view&amp;id=20&amp;Itemid=1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1&amp;Itemid=11" TargetMode="External"/><Relationship Id="rId2" Type="http://schemas.openxmlformats.org/officeDocument/2006/relationships/hyperlink" Target="http://www.enfagroupp.ru/fku/index.php?option=com_content&amp;task=view&amp;id=21&amp;Itemid=11" TargetMode="External"/><Relationship Id="rId3" Type="http://schemas.openxmlformats.org/officeDocument/2006/relationships/hyperlink" Target="http://www.enfagroupp.ru/fku/index.php?option=com_content&amp;task=view&amp;id=21&amp;Itemid=11" TargetMode="External"/><Relationship Id="rId4" Type="http://schemas.openxmlformats.org/officeDocument/2006/relationships/hyperlink" Target="http://www.enfagroupp.ru/fku/index.php?option=com_content&amp;task=view&amp;id=21&amp;Itemid=11" TargetMode="External"/><Relationship Id="rId5" Type="http://schemas.openxmlformats.org/officeDocument/2006/relationships/hyperlink" Target="http://www.enfagroupp.ru/fku/index.php?option=com_content&amp;task=view&amp;id=21&amp;Itemid=1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7004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6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6600"/>
            </a:b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071720"/>
            <a:ext cx="779040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К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инилпировиноградн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 олигофрени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болезнь Фёллинга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7" descr="C:\Documents and Settings\Администратор\Рабочий стол\фенилкет. фото\big_1180522713_.jpg"/>
          <p:cNvPicPr/>
          <p:nvPr/>
        </p:nvPicPr>
        <p:blipFill>
          <a:blip r:embed="rId1"/>
          <a:stretch/>
        </p:blipFill>
        <p:spPr>
          <a:xfrm>
            <a:off x="5429160" y="3571920"/>
            <a:ext cx="2714400" cy="299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Обследование детей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8000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1.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Микробиологический метод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определения концентрации фенилаланина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2.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Проба Фёллинга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 дальнейшем определяют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количественное содержание фенилаланина в крови и моче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(хроматография аминокислот),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, это  исследование с помощью специальных ан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Наследственность: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786168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Болезнь наследуется по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рецессивному типу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(т.е. болеют сестры и братья из одной семьи, а родители здоровы, хотя и являются гетерозиготными носителями гена ФКУ)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142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Диетотерапия: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200" spc="-1" strike="noStrike" u="sng">
                <a:solidFill>
                  <a:srgbClr val="ff0000"/>
                </a:solidFill>
                <a:uFillTx/>
                <a:latin typeface="Gill Sans MT"/>
              </a:rPr>
              <a:t>Исключить:</a:t>
            </a:r>
            <a:endParaRPr b="0" lang="ru-RU" sz="52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Меню для детей составляется из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фруктов, овощей, крахмальных изделий, жиров, со строгим учетом содержания в них фенилаланина. </a:t>
            </a: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Картинка зелёное ябло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5720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нанас авата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07204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Gill Sans MT"/>
              </a:rPr>
              <a:t>MD мил ФКУ-0»</a:t>
            </a:r>
            <a:br>
              <a:rPr sz="4900"/>
            </a:br>
            <a:endParaRPr b="0" lang="ru-RU" sz="4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56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4"/>
                </a:solidFill>
                <a:uFillTx/>
                <a:latin typeface="Gill Sans MT"/>
              </a:rPr>
              <a:t>   </a:t>
            </a:r>
            <a:r>
              <a:rPr b="0" i="1" lang="ru-RU" sz="3200" spc="-1" strike="noStrike" u="sng">
                <a:solidFill>
                  <a:srgbClr val="92d050"/>
                </a:solidFill>
                <a:uFillTx/>
                <a:latin typeface="Gill Sans MT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Рисунок 3" descr="http://www.enfagroupp.ru/images/stories/products/banka_small_fku0.jpg"/>
          <p:cNvPicPr/>
          <p:nvPr/>
        </p:nvPicPr>
        <p:blipFill>
          <a:blip r:embed="rId1"/>
          <a:stretch/>
        </p:blipFill>
        <p:spPr>
          <a:xfrm>
            <a:off x="5357880" y="4143240"/>
            <a:ext cx="2571480" cy="27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1»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7" name="Содержимое 3" descr="http://www.enfagroupp.ru/images/stories/products/banka_small_fku1.jpg"/>
          <p:cNvPicPr/>
          <p:nvPr/>
        </p:nvPicPr>
        <p:blipFill>
          <a:blip r:embed="rId1"/>
          <a:stretch/>
        </p:blipFill>
        <p:spPr>
          <a:xfrm>
            <a:off x="5643720" y="3929040"/>
            <a:ext cx="2499840" cy="261720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1143000" y="928800"/>
            <a:ext cx="77148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6"/>
              </a:rPr>
              <a:t> детей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7"/>
              </a:rPr>
              <a:t>в возрасте от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500040"/>
            <a:ext cx="74977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2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 детей в возрасте от 1 год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http://www.enfagroupp.ru/images/stories/products/banka_small_fku2.jpg"/>
          <p:cNvPicPr/>
          <p:nvPr/>
        </p:nvPicPr>
        <p:blipFill>
          <a:blip r:embed="rId7"/>
          <a:stretch/>
        </p:blipFill>
        <p:spPr>
          <a:xfrm>
            <a:off x="5572080" y="428616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5680" y="357120"/>
            <a:ext cx="749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3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 - детей старше 1 года, взрослых и беременных женщи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" name="Рисунок 3" descr="http://www.enfagroupp.ru/images/stories/products/banka_small_fku3.jpg"/>
          <p:cNvPicPr/>
          <p:nvPr/>
        </p:nvPicPr>
        <p:blipFill>
          <a:blip r:embed="rId6"/>
          <a:stretch/>
        </p:blipFill>
        <p:spPr>
          <a:xfrm>
            <a:off x="5429160" y="4000680"/>
            <a:ext cx="2285640" cy="2428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3286080"/>
            <a:ext cx="800064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9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73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икроцефалия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1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рождённые пороки серд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40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изкая масса тела при рождени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86168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офилактика фенилкетонурии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1360" y="714240"/>
            <a:ext cx="786168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1. Большое значение имеет специальное наблюдение за «семьями риска».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3. Пренатальная диагностика в «семьях высокого риска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7" descr="C:\Documents and Settings\Администратор\Рабочий стол\фенилкет. фото\66304.jpg"/>
          <p:cNvPicPr/>
          <p:nvPr/>
        </p:nvPicPr>
        <p:blipFill>
          <a:blip r:embed="rId1"/>
          <a:stretch/>
        </p:blipFill>
        <p:spPr>
          <a:xfrm>
            <a:off x="3929040" y="4286160"/>
            <a:ext cx="278568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Gill Sans MT"/>
              </a:rPr>
              <a:t>Работу выполнили: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анкратова В.С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ухарева М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онская Н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Зубанова Н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огачева А.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Чилипалова И.С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Киселева М.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вятохо И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елькова Я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етрова Н.Л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2440" y="0"/>
            <a:ext cx="740628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2440" y="3500280"/>
            <a:ext cx="740628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9000"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фенилкетонурия"/>
          <p:cNvPicPr/>
          <p:nvPr/>
        </p:nvPicPr>
        <p:blipFill>
          <a:blip r:embed="rId1"/>
          <a:stretch/>
        </p:blipFill>
        <p:spPr>
          <a:xfrm>
            <a:off x="2714760" y="714240"/>
            <a:ext cx="4785840" cy="278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Используемая литература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Л.О.Бадалян «Невропатология» М. – 2003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«Краткая медицинская энциклопедия» Гл. редактор Б.В. Петровский М. – 199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Ф.А. Самсонов «Основы генетики в дефектологии» М. – 198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Е.М. Мастюкова, А.Г. Московкина «Основы генетики» м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mame66.ru/zdorovya_baby/-fenilketonuriya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www.medactiv.ru/yguide/f/guide-f-0059.shtml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6957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572314"/>
                </a:solidFill>
                <a:latin typeface="Gill Sans MT"/>
              </a:rPr>
              <a:t>Местоположение гена в хромосоме (локус)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2440" y="3286080"/>
            <a:ext cx="74062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12 q 22 – 24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р  15,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9772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Этиология и патогенез: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786440" cy="52146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Физические признаки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928800"/>
            <a:ext cx="8143560" cy="5928840"/>
          </a:xfrm>
          <a:prstGeom prst="rect">
            <a:avLst/>
          </a:prstGeom>
          <a:noFill/>
          <a:ln w="0">
            <a:solidFill>
              <a:srgbClr val="3891a7"/>
            </a:solidFill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дети белокурые со светлой кожей и голубыми глаза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часто отмечаются экзема, дерматиты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моча и пот имеют « заплесневелый», «мышиный», «волчий» зап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быстрое и чрезмерное прибавление в весе, однако остаются рыхлыми, вялы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 у большинства рано зарастает большой родничок                                                                   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C:\Documents and Settings\Администратор\Рабочий стол\фенилкет. фото\i.jpeg"/>
          <p:cNvPicPr/>
          <p:nvPr/>
        </p:nvPicPr>
        <p:blipFill>
          <a:blip r:embed="rId1"/>
          <a:stretch/>
        </p:blipFill>
        <p:spPr>
          <a:xfrm>
            <a:off x="5072040" y="4143240"/>
            <a:ext cx="2785680" cy="235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фенилкет. фото\images.jpeg"/>
          <p:cNvPicPr/>
          <p:nvPr/>
        </p:nvPicPr>
        <p:blipFill>
          <a:blip r:embed="rId2"/>
          <a:stretch/>
        </p:blipFill>
        <p:spPr>
          <a:xfrm>
            <a:off x="1643040" y="4214880"/>
            <a:ext cx="264276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сихопатологически отмеч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1360" y="1143000"/>
            <a:ext cx="7861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( 65% - глубокая, 31.8% - умеренная и 3.2% - легкая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понимание реч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звукопроизношение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4" descr="C:\Documents and Settings\Администратор\Рабочий стол\фенилкет. фото\12.jpg"/>
          <p:cNvPicPr/>
          <p:nvPr/>
        </p:nvPicPr>
        <p:blipFill>
          <a:blip r:embed="rId1"/>
          <a:stretch/>
        </p:blipFill>
        <p:spPr>
          <a:xfrm>
            <a:off x="4429080" y="314316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9040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ill Sans MT"/>
              </a:rPr>
              <a:t>Неврологическая симптоматика: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7861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Эпилептиформные припад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рушение мышечного тону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Плохая координация движени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C:\Documents and Settings\Администратор\Рабочий стол\Изображение\Изображение 002.jpg"/>
          <p:cNvPicPr/>
          <p:nvPr/>
        </p:nvPicPr>
        <p:blipFill>
          <a:blip r:embed="rId1"/>
          <a:stretch/>
        </p:blipFill>
        <p:spPr>
          <a:xfrm>
            <a:off x="3429000" y="4214880"/>
            <a:ext cx="544464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Расстройства поведени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785880"/>
            <a:ext cx="7933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ил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ети пассивны, вялы, плохо узнают близких, оживляются при упоминании о еде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C:\Documents and Settings\Администратор\Рабочий стол\Изображение\Изображение 001.jpg"/>
          <p:cNvPicPr/>
          <p:nvPr/>
        </p:nvPicPr>
        <p:blipFill>
          <a:blip r:embed="rId1"/>
          <a:stretch/>
        </p:blipFill>
        <p:spPr>
          <a:xfrm>
            <a:off x="3357720" y="3286080"/>
            <a:ext cx="271440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атологоанатомически обнаружив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32440" y="2214720"/>
            <a:ext cx="740628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малая масс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пигментация черной суб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83</TotalTime>
  <Application>LibreOffice/7.4.7.2$Linux_X86_64 LibreOffice_project/40$Build-2</Application>
  <AppVersion>15.0000</AppVersion>
  <Words>1764</Words>
  <Paragraphs>2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59:16Z</dcterms:created>
  <dc:creator>HP</dc:creator>
  <dc:description/>
  <dc:language>en-US</dc:language>
  <cp:lastModifiedBy>LEGION</cp:lastModifiedBy>
  <dcterms:modified xsi:type="dcterms:W3CDTF">2015-11-27T12:48:05Z</dcterms:modified>
  <cp:revision>47</cp:revision>
  <dc:subject/>
  <dc:title>Фенилкетонурия  - ФКУ   - финилпировиноградная олигофрения, болезнь Фелли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