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4C965-6552-4F03-A2FB-508F0C3A04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«Сахарный диабет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«Сахарный диабе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у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Выв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Что такое сахарный диаб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колько типов сахарного диаб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характерезуйте I и II ти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ахарный диаб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лько типов сахарного диабет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арактерезуйте I и II ти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мпт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иабет I и II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бет I и II ти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Аппарат для измерения уровня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 для измерения уровня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224-EF4C-4992-AE9F-ADCE9110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3B9-1054-473A-80B7-DC9681BB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363-3090-4AF8-A285-95A4699B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94C-91B6-496C-813C-C4557E61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A6B-4921-4B2C-8542-BE6234CB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B6D-3202-4693-9879-70684D5F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3C4-663D-4A4A-BA23-594BB92E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0C7-DC9E-480A-ACA0-6D0CD231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6D4-C2D0-4A71-919D-AA4CA18F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CA4-F366-4C0A-B475-DA4C7295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555-5725-4540-A52A-10D89B1D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A0D7-B7C0-46A6-8014-0B0497D4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6328E-D34D-4B44-A364-0BAD8B2465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360" y="2226960"/>
            <a:ext cx="90709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«Сахарный диабет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 у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60360" y="1440000"/>
            <a:ext cx="936000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9640" y="1619280"/>
            <a:ext cx="899964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480000" y="3419640"/>
            <a:ext cx="3060720" cy="3240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Что такое сахарный диаб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Сколько типов сахарного диаб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Охарактерезуйте I и II ти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360360" y="1787400"/>
            <a:ext cx="918036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440000" y="1260360"/>
            <a:ext cx="701964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импто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9640" y="1800360"/>
            <a:ext cx="8999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879640" y="539640"/>
            <a:ext cx="4500720" cy="64803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Диабет I и II ти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 тип - инсулинозависимый. 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119640" y="4319640"/>
            <a:ext cx="2340000" cy="2879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I тип - инсулинонезависимый.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343480" y="3959280"/>
            <a:ext cx="3657600" cy="26082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976480" y="1009800"/>
            <a:ext cx="4318200" cy="58244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Аппарат для измерения уровня содержания сахара в кров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772240" y="2519280"/>
            <a:ext cx="286848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260360" y="2519280"/>
            <a:ext cx="2340000" cy="30607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8:21Z</dcterms:modified>
  <cp:revision>3</cp:revision>
  <dc:subject/>
  <dc:title>  «Сахарный диабет» </dc:title>
</cp:coreProperties>
</file>