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066E6-1BBB-4712-80F1-A8B31938D6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«Сахарный диабет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«Сахарный диабе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у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Выв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Что такое сахарный диаб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колько типов сахарного диаб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характерезуйте I и II ти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ахарный диаб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лько типов сахарного диабет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арактерезуйте I и II ти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мпт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иабет I и II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бет I и II ти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Аппарат для измерения уровня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 для измерения уровня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2BC-1D88-4780-8364-D1389CE0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B7F-F818-4822-8F02-91716CD5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7CA-5344-416A-8886-09FBFB93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B5D-2AD0-4E99-A617-9FB6EACF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BE9-893B-4D8E-B7F9-707A71CA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C13-4323-4B7C-B277-B49B29AF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996-1E71-427D-9E02-D25DE799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60E-F9BE-46CD-9095-2C71261C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065-5E8F-4B8E-ACA7-C7109204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8E0-6EDA-48CA-94D8-B8004342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C51-4393-4643-854F-AA50DED7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DDD-E5A1-4CA4-BA76-0D191E7A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299C7-AF00-49A3-80D5-C02F980BCA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360" y="2226960"/>
            <a:ext cx="90709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«Сахарный диабет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 у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60360" y="1440000"/>
            <a:ext cx="936000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9640" y="1619280"/>
            <a:ext cx="899964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480000" y="3419640"/>
            <a:ext cx="3060720" cy="3240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Что такое сахарный диаб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Сколько типов сахарного диаб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Охарактерезуйте I и II ти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360360" y="1787400"/>
            <a:ext cx="918036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440000" y="1260360"/>
            <a:ext cx="701964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импто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9640" y="1800360"/>
            <a:ext cx="8999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879640" y="539640"/>
            <a:ext cx="4500720" cy="64803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Диабет I и II ти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 тип - инсулинозависимый. 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119640" y="4319640"/>
            <a:ext cx="2340000" cy="2879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I тип - инсулинонезависимый.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343480" y="3959280"/>
            <a:ext cx="3657600" cy="26082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976480" y="1009800"/>
            <a:ext cx="4318200" cy="58244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Аппарат для измерения уровня содержания сахара в кров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772240" y="2519280"/>
            <a:ext cx="286848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260360" y="2519280"/>
            <a:ext cx="2340000" cy="30607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8:21Z</dcterms:modified>
  <cp:revision>3</cp:revision>
  <dc:subject/>
  <dc:title>  «Сахарный диабет» </dc:title>
</cp:coreProperties>
</file>