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2D7E0-48AF-46CE-B830-BF6AF09B28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«Сахарный диабет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«Сахарный диабе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у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у де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ыв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такое сахарный диаб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колько типов сахарного диабет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характерезуйте I и II ти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ахарный диабе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олько типов сахарного диабе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арактерезуйте I и II ти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ахарный диаб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ный диаб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мпто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иабет I и II ти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бет I и II тип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тип - инсулинозависимый. 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 тип - инсулинонезависимый.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ппарат для измерения уровня содержания сахара в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 для измерения уровня содержания сахара в кров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B86-46A6-475B-8D0A-390E8188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FE8-AC0B-4CDE-9007-43AB8FF1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5FE-F889-4AE0-9863-E6F2C71A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0B0-B748-42AE-AACE-A0E3C43F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F2E-8F7B-4194-BC97-BFDF17DC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F37-AEF4-4D98-BBBF-EF3847DE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6EF-BA5A-4498-A237-9DA713E4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0FA-3FC8-4F67-9475-F9F76F01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8D9-D8EA-4B86-A66A-B25CF62E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A04-B40D-4CE9-8265-CB5C4DC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4C4-32AF-4F54-96E1-C41BC3E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231-F79A-409F-8452-0A7834A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37336-4F2D-49BE-A835-FE825FBBAC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360" y="2226960"/>
            <a:ext cx="90709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«Сахарный диабет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 у де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0360" y="1440000"/>
            <a:ext cx="936000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бурного развития диабета, а у детей оно часто бывает таким, характерно и повышение аппетита, особенно в начале болезни. Но, несмотря на то, что ребенок много ест и пьет, он худеет, жалуется на слабость, сухость во 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Если не начать лечение, может внезапно развиться опасное для жизни состояние—диабетическая кома с потерей сознания, упадком сердечной деятельности, нарушением функции по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У некоторых детей болезнь развивается не столь быстро и проявляется такими признаками, как частые гнойные поражения кожи, воспаление наружных половых органов, воспаление десен. 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9640" y="1619280"/>
            <a:ext cx="899964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Для предупреждения серьезных осложнений предпринимается снижение уровня сахара в крови. При инсулинозависимом сахарном диабете больным назначаются ежедневные инъекции инсулина, а при инсулинонезависимом - сахаропонижающие препараты. Также предписывается строжайшее соблюдение диеты, которая помогает значительно снизить уровень сахара, нормализовать самочувствие и предупредить развитие различных осложнений в будущем. При строгом соблюдении всех предписаний врача болезнь удается контролировать, а также сохранять нормальную работоспособность и полноценный уровень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80000" y="3419640"/>
            <a:ext cx="306072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Что такое сахарный диаб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Сколько типов сахарного диаб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Охарактерезуйте I и II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60360" y="1787400"/>
            <a:ext cx="918036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Сахарный диабет - это заболевание эндокринной системы, которое характеризуется недостаточным уровнем в организме гормона поджелудочной железы - инсулина и развивающимися на фоне этого нарушениями углеводного, белкового и жирового обмена. Нарушение углеводного обмена влечет за собой значительное повышение содержания сахара в кр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ахарный диаб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1440000" y="1260360"/>
            <a:ext cx="7019640" cy="52196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Симпто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9640" y="1800360"/>
            <a:ext cx="899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Больной сахарным диабетом постоянно испытывает жажду и употребляет большое количество жидкости. С увеличением количества потребляемой жидкости возрастает и количество мочи, с которой выводится сахар. Больной начинает испытывать общую слабость, снижается его работоспособность и сопротивляемость организма инфе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879640" y="539640"/>
            <a:ext cx="4500720" cy="64803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Диабет I и II тип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 тип - инсулинозависимый. 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В этом случаи вырабатывается мало инсулина или он не вырабатывается вообще. В возникновении этой формы диабета при генетической к нему предрасположенности, большую роль играют вирусные инфекции, факторы окружающей среды, погрешности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119640" y="4319640"/>
            <a:ext cx="2340000" cy="2879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II тип - инсулинонезависимый.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Поджелудочная железа продолжает вырабатывать инсулин, однако организм слабо реагирует на влияние гормона, что приводит к относительному дефициту инсул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5343480" y="3959280"/>
            <a:ext cx="3657600" cy="26082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2976480" y="1009800"/>
            <a:ext cx="4318200" cy="58244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ffff"/>
                </a:solidFill>
                <a:latin typeface="Arial"/>
              </a:rPr>
              <a:t>Аппарат для измерения уровня содержания сахара в кров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772240" y="2519280"/>
            <a:ext cx="2868480" cy="32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1260360" y="2519280"/>
            <a:ext cx="2340000" cy="30607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8:21Z</dcterms:modified>
  <cp:revision>3</cp:revision>
  <dc:subject/>
  <dc:title>  «Сахарный диабет» </dc:title>
</cp:coreProperties>
</file>