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5197A-1EAF-4F5C-9202-A801D51E73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«Сахарный диабет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«Сахарный диабе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ахарный диабет у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Для бурного развития диабета, а у детей оно часто бывает таким, характерно и повышение аппетита, особенно в начале болезни. Но, несмотря на то, что ребенок много ест и пьет, он худеет, жалуется на слабость, сухость во р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Если не начать лечение, может внезапно развиться опасное для жизни состояние—диабетическая кома с потерей сознания, упадком сердечной деятельности, нарушением функции поч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У некоторых детей болезнь развивается не столь быстро и проявляется такими признаками, как частые гнойные поражения кожи, воспаление наружных половых органов, воспаление десен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ный диабет у де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бурного развития диабета, а у детей оно часто бывает таким, характерно и повышение аппетита, особенно в начале болезни. Но, несмотря на то, что ребенок много ест и пьет, он худеет, жалуется на слабость, сухость во р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е начать лечение, может внезапно развиться опасное для жизни состояние—диабетическая кома с потерей сознания, упадком сердечной деятельности, нарушением функции поче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некоторых детей болезнь развивается не столь быстро и проявляется такими признаками, как частые гнойные поражения кожи, воспаление наружных половых органов, воспаление десен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Выв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Для предупреждения серьезных осложнений предпринимается снижение уровня сахара в крови. При инсулинозависимом сахарном диабете больным назначаются ежедневные инъекции инсулина, а при инсулинонезависимом - сахаропонижающие препараты. Также предписывается строжайшее соблюдение диеты, которая помогает значительно снизить уровень сахара, нормализовать самочувствие и предупредить развитие различных осложнений в будущем. При строгом соблюдении всех предписаний врача болезнь удается контролировать, а также сохранять нормальную работоспособность и полноценный уровень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едупреждения серьезных осложнений предпринимается снижение уровня сахара в крови. При инсулинозависимом сахарном диабете больным назначаются ежедневные инъекции инсулина, а при инсулинонезависимом - сахаропонижающие препараты. Также предписывается строжайшее соблюдение диеты, которая помогает значительно снизить уровень сахара, нормализовать самочувствие и предупредить развитие различных осложнений в будущем. При строгом соблюдении всех предписаний врача болезнь удается контролировать, а также сохранять нормальную работоспособность и полноценный уровень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Что такое сахарный диабе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колько типов сахарного диабет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характерезуйте I и II ти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ахарный диабет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лько типов сахарного диабет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характерезуйте I и II ти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ахарный диабет - это заболевание эндокринной системы, которое характеризуется недостаточным уровнем в организме гормона поджелудочной железы - инсулина и развивающимися на фоне этого нарушениями углеводного, белкового и жирового обмена. Нарушение углеводного обмена влечет за собой значительное повышение содержания сахар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ахарный диаб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ный диабет - это заболевание эндокринной системы, которое характеризуется недостаточным уровнем в организме гормона поджелудочной железы - инсулина и развивающимися на фоне этого нарушениями углеводного, белкового и жирового обмена. Нарушение углеводного обмена влечет за собой значительное повышение содержания сахара в кров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ный диаб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импто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Больной сахарным диабетом постоянно испытывает жажду и употребляет большое количество жидкости. С увеличением количества потребляемой жидкости возрастает и количество мочи, с которой выводится сахар. Больной начинает испытывать общую слабость, снижается его работоспособность и сопротивляемость организма инфекци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мпто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ной сахарным диабетом постоянно испытывает жажду и употребляет большое количество жидкости. С увеличением количества потребляемой жидкости возрастает и количество мочи, с которой выводится сахар. Больной начинает испытывать общую слабость, снижается его работоспособность и сопротивляемость организма инфекция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Диабет I и II тип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I тип - инсулинозависимый. В этом случаи вырабатывается мало инсулина или он не вырабатывается вообще. В возникновении этой формы диабета при генетической к нему предрасположенности, большую роль играют вирусные инфекции, факторы окружающей среды, погрешности 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абет I и II тип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 тип - инсулинозависимый. В этом случаи вырабатывается мало инсулина или он не вырабатывается вообще. В возникновении этой формы диабета при генетической к нему предрасположенности, большую роль играют вирусные инфекции, факторы окружающей среды, погрешности пит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II тип - инсулинонезависимый.Поджелудочная железа продолжает вырабатывать инсулин, однако организм слабо реагирует на влияние гормона, что приводит к относительному дефициту инсули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I тип - инсулинонезависимый.Поджелудочная железа продолжает вырабатывать инсулин, однако организм слабо реагирует на влияние гормона, что приводит к относительному дефициту инсули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Аппарат для измерения уровня содержания сахар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ппарат для измерения уровня содержания сахара в кров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C707-BC7D-478B-A05B-EC2FB359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B0E-03D7-42D5-9E1B-08DB1C8F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4B54-2F97-4956-9A0B-8900CE07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097A-5613-42F6-BBDD-210F9ED6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86E2-19F1-4AED-8F2D-33F823C5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88D1-813F-4E29-9F56-7039986C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3310-DFEA-400B-8807-C0CAFC7C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5849-2B01-4EBD-A068-B22430DF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EE2B-207B-43A4-BAD0-4E75F2D7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1792-1233-4247-8472-B96E46F1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F2C0-4EB3-41D7-9A26-80B88C91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3E1-62FB-477F-B295-D5B8B7A8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A5A56-4721-43E3-BE1F-315E1E58AA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0360" y="2226960"/>
            <a:ext cx="90709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«Сахарный диабет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Сахарный диабет у дет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60360" y="1440000"/>
            <a:ext cx="9360000" cy="59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Для бурного развития диабета, а у детей оно часто бывает таким, характерно и повышение аппетита, особенно в начале болезни. Но, несмотря на то, что ребенок много ест и пьет, он худеет, жалуется на слабость, сухость во р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Если не начать лечение, может внезапно развиться опасное для жизни состояние—диабетическая кома с потерей сознания, упадком сердечной деятельности, нарушением функции п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У некоторых детей болезнь развивается не столь быстро и проявляется такими признаками, как частые гнойные поражения кожи, воспаление наружных половых органов, воспаление десен. </a:t>
            </a:r>
            <a:br>
              <a:rPr sz="1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Выв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9640" y="1619280"/>
            <a:ext cx="899964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Для предупреждения серьезных осложнений предпринимается снижение уровня сахара в крови. При инсулинозависимом сахарном диабете больным назначаются ежедневные инъекции инсулина, а при инсулинонезависимом - сахаропонижающие препараты. Также предписывается строжайшее соблюдение диеты, которая помогает значительно снизить уровень сахара, нормализовать самочувствие и предупредить развитие различных осложнений в будущем. При строгом соблюдении всех предписаний врача болезнь удается контролировать, а также сохранять нормальную работоспособность и полноценный уровень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6480000" y="3419640"/>
            <a:ext cx="3060720" cy="3240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Что такое сахарный диаб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Сколько типов сахарного диаб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Охарактерезуйте I и II ти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360360" y="1787400"/>
            <a:ext cx="918036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Сахарный диабет - это заболевание эндокринной системы, которое характеризуется недостаточным уровнем в организме гормона поджелудочной железы - инсулина и развивающимися на фоне этого нарушениями углеводного, белкового и жирового обмена. Нарушение углеводного обмена влечет за собой значительное повышение содержания сахара в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Сахарный диаб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440000" y="1260360"/>
            <a:ext cx="7019640" cy="52196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Симптом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9640" y="1800360"/>
            <a:ext cx="89996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Больной сахарным диабетом постоянно испытывает жажду и употребляет большое количество жидкости. С увеличением количества потребляемой жидкости возрастает и количество мочи, с которой выводится сахар. Больной начинает испытывать общую слабость, снижается его работоспособность и сопротивляемость организма инфекц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879640" y="539640"/>
            <a:ext cx="4500720" cy="64803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Диабет I и II тип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I тип - инсулинозависимый. 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В этом случаи вырабатывается мало инсулина или он не вырабатывается вообще. В возникновении этой формы диабета при генетической к нему предрасположенности, большую роль играют вирусные инфекции, факторы окружающей среды, погрешности 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6119640" y="4319640"/>
            <a:ext cx="2340000" cy="28796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II тип - инсулинонезависимый.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Поджелудочная железа продолжает вырабатывать инсулин, однако организм слабо реагирует на влияние гормона, что приводит к относительному дефициту инсул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5343480" y="3959280"/>
            <a:ext cx="3657600" cy="26082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2976480" y="1009800"/>
            <a:ext cx="4318200" cy="58244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Аппарат для измерения уровня содержания сахара в кров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772240" y="2519280"/>
            <a:ext cx="2868480" cy="3240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1260360" y="2519280"/>
            <a:ext cx="2340000" cy="30607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2:48:21Z</dcterms:modified>
  <cp:revision>3</cp:revision>
  <dc:subject/>
  <dc:title>  «Сахарный диабет» </dc:title>
</cp:coreProperties>
</file>