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EE1F-02DE-4035-8846-1813B1D74F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BCC7-391E-4393-B593-F6AC74B9A0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399-768F-4090-A568-B7F5DF6E9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опирается на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разу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смысл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тализирующей силы с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рони-кающей собою рассудок и чувственность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реп-ляющей все формы и виды действительности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Поним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«уразумение») оказывается актом онтологически проясняющим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ближающим структуру сознания с бытие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-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ознание лежит не вне действительно-сти, а внутри неё, т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делять его от действи-тельности иллюзор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B291-1D0C-4BAD-B40B-5A2C469374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сякое сущее (дискретность) может рассматри-ваться двояко: как элемент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ой тоталь-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ак элемент одной из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тотальност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ключённых в предельную тот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гда сущее рассматривается в вид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(т.е. элемента предельной тотальности), то пока-зателем этого будет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еспредпосылоч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.е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чевид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е позволяющая нам помыс-лить феномен как-то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, наоборот, если нам удалось помыслить нечто в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тивной очевид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значит, мы конституировали ег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A66A-5EC2-478F-AC36-AA0D2B677A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тальное тесно связанно с интуитивно очевид-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ить своеобразную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проекцию» сущего в тоталь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это и значит осуществить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εποχ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феноменологическую реду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0F75-109B-4F54-A19B-00A2BC4612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C7D8-20F7-4D45-BC60-A0D5135E0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ый космос и современная наук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Философия имен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художественной формы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зыка как предмет логик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числа у Плотина (192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платонизма у Аристотеля (19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и античного символизма и мифологии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мифа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античной эстетики (1963-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ая философия истории (19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ка Возрождения (197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. Соловьёв и его время (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B880-F430-4687-88D6-950DEEDD91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C945-C254-4221-8405-520B5AE2AB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основе философии Лосева –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етод логико-смыслового конструирования философского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 философский предмет понимается в гуссер-лианском смысле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феномен сознан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эйд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9A92-5FAA-43C9-9F01-95F0845808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8EB2-1FAA-4B60-BBEF-8E96E98D09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йдос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 «перепись» составных частей смысла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3D7C-22BD-4C93-B924-DC1BCB3547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EB39-9AFE-42AB-9627-BEB2B74AA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6248-16F5-429D-901C-4D3A6BB73D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, чтобы быть, долж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личаться от и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нет иного, нет и одного. Стало быть одно полагает себя вместе со своим и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ебуе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го и, следова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льно, мыслится с ни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раз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ждествен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как одно и иное тождественны? Это возможно только так, чт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о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итс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л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е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инте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бытия и не-бытия, одного и и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1717-43C4-4245-8895-0B7A408517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ш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который несёт на себе вышевыведенную триаду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ьнейшее сопряжение приводит к инаковос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й характеристике уже самы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ам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ше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и, рассматривая все эти возможные см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овые судьбы становящегося факта, т.е. соо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я осмысленный факт с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женны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мысл факта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у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ущ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ть,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Имя есть тождество триадного эйдоса с его фактическим инобытием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84C9-2962-47A7-BC13-4E9369B1B3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5E1F-40D1-4884-946B-13BA644299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Символ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AEC2-ACC7-4527-8056-3B12746396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453A-1F7F-4854-BE2B-7560B3148E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FF36-0F7A-4A6C-8770-8B9EF3EE7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560B-447B-4254-BB07-991EC9C8D8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 воплощённости эйдос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ле-чённость в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она требует не просто воплощённости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оплощённости в живом и лич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этому в определении мифа участвует ещё одна категория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(само)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DD60-3E67-4C83-9943-7379FEE301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FFA0-0A02-4535-B0DC-CD7ACFB896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и смысл: Феноменология как основная наука и её проблемы (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ый опыт логики исторических наук (К истории рационализма XVIII века) (19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как проблема логики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знание и его собственник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дрость или разум (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ерменевтика и её проблемы (19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кептик и его душа (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 развития русской философии (19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ческие фрагменты (1922-19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утренняя форма слов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тническую психологию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CC1D-CEA2-41DB-948B-FEA279512C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пецифика мифа в том, что он  «уже не есть эйдос, он –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вещь» среди других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следова-тельных отграничений мифа от смежных, близ-ких явлени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315-44F0-4C41-89C4-8B010E778B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вымысе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логически необходимая категория сознания и 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идеальное 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зненно ощущаемая и творимая вещественная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научное постро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вое субъект-объектное взаимооб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метафизик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чувственная действительность, хотя и отрешённая от обычного хода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хема и аллегор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симв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поэз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E971-5A69-429E-A9BB-BF3FAD37C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E89C-F612-4058-AE29-34569E43C7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27F9-169E-4EE8-9046-C941212E8D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всепроникающая стих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щая всюду в человеке и вок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прирождённый человеку и социуму (хотя и не единственный для них)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пособ видения и толкования себя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этом, мифичность человеческого опыт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манент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не привносима человеческ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5503-1667-4374-ADA1-8B6CF91456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C48C-8BCC-4B02-BAC9-C5CD63151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75C1-8A6B-408C-A8B2-04FDF5780F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Положительная и отрицатель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F557-8C04-465E-BDF9-7E68663C34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точки зрения отрицательной философии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ъект и объект разделены пропа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сть же понимается либо как явление вещи в себе, либо как акт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ы и процесса познани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граничивается рамками теории п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сама истина понимается не как имма-нентное, н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ансцендентное согласов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между сужде-нием и вещью в себе, лежащей за пределами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связи с эт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етерономно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бходимость имеет своим источником не порядок и связи в предмете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щеобязательность сужд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 конечном итоге – субъекта, утверждающего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иррациональное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в итоге развёртывание процесса познания не только не приближает, но всё боле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даляет понятия от действите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ближая их с идеалами прагмат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2ECC-7836-409E-9173-E7B91ABC2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коренённость в тота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дведе-ния всего сущего под некоторое основание, пре-вышающее обосновывае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основание переходит в конечном итоге в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ую полнот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действительность: всё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коренённым в тота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3C36-D702-432D-9580-6A5983F399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ефлектирующей в себя нау-ко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олагающей в качестве объектов своего об-основания сами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циях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посредственно очевидных началах, предшеству-ющих всякому теоретическому 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6CF5-716C-4CEB-9DED-32BBD94CD7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истины – это проблема всей действитель-тельности, 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только области 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как полагает отрицательная 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оложительной философии оказывается невоз-можны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ядоположное рассмотрение реального и иллюзор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ак как нет ничего, кроме реальн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одержа-ние иллюзи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лиш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верные соотнош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 другими областями действи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69D0-83F1-4A4A-AAA0-0E259BC51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991-855E-4DAF-9456-26F40072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864-3037-419C-B7C6-54A5E45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D55-7E70-4CAC-8D9B-FE912907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E89-922E-4CD9-81B9-E5F96593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2FB-39E7-479A-A411-2CD16F42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9F8-7FCE-41B7-ABA3-A026CB45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FE5-E8E4-4240-9BF5-89EFC39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838-8194-4DE0-9718-D3A407CE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F9D-D9DE-4046-97A7-C5DC573A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55B-C161-493F-9AFC-2E06B592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852-7815-4BC9-9520-6599862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0C2-8445-4A31-8BB7-1E9A9F6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3DCB-165D-4981-883B-09EFE3B4C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82738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опирается на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разу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изирующей силы со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они-кающей собою рассудок и чувственность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креп-ляющей все формы и виды действительности в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оним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уразумение») оказывается актом онтологически проясняющим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ближающим структуру сознания с быти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ействительно-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ознание лежит не вне действительно-сти, а внутри неё, т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делять его от действи-тельности иллюзо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кое сущее (дискретность) может рассматри-ваться двояко: как элемен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ой тоталь-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как элемент одной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тотальност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включённых в предельную тот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сущее рассматривается в вид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(т.е. элемента предельной тотальности), то пока-зателем этого будет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спредпосылоч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.е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вид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е позволяющая нам помыс-лить феномен как-то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наоборот, если нам удалось помыслить нечто в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тивной очевид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значит, мы конституировали его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тальное тесно связанно с интуитивно очевид-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своеобразную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проекцию» сущего в тоталь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это и значит осуществить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εποχ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феноменологическую редукц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5760" y="1869840"/>
            <a:ext cx="8589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ый космос и современная наук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художественной формы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ыка как предмет логик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числа у Плотина (19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латонизма у Аристотеля (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античного символизма и мифологии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мифа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античной эстетики (1963-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ая философия истории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ка Возрождения (197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. Соловьёв и его время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Лосев (1)"/>
          <p:cNvPicPr/>
          <p:nvPr/>
        </p:nvPicPr>
        <p:blipFill>
          <a:blip r:embed="rId1"/>
          <a:stretch/>
        </p:blipFill>
        <p:spPr>
          <a:xfrm>
            <a:off x="358920" y="1798560"/>
            <a:ext cx="3379680" cy="43182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снове философии Лосева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логико-смыслового конструирования философск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илософский предмет понимается в гуссер-лианском смысле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феномен сознан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эйд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19280" y="4138560"/>
            <a:ext cx="7916760" cy="19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йдос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ивысшая мыслительная абстрак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торая тем не менее да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ретно, нагля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760" y="1330200"/>
            <a:ext cx="8805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 «перепись» составных частей смысл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719280" y="3598920"/>
            <a:ext cx="7916760" cy="28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е бы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редмет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низан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овыми энергиями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ущими из его глубины 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кладывающимися в цельную живую картину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вленного лика сущности предме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98920" y="1798560"/>
            <a:ext cx="3168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878200" y="5397480"/>
            <a:ext cx="3241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Шпет (1)"/>
          <p:cNvPicPr/>
          <p:nvPr/>
        </p:nvPicPr>
        <p:blipFill>
          <a:blip r:embed="rId1"/>
          <a:stretch/>
        </p:blipFill>
        <p:spPr>
          <a:xfrm>
            <a:off x="684360" y="1916280"/>
            <a:ext cx="2442960" cy="30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Лосев (3)"/>
          <p:cNvPicPr/>
          <p:nvPr/>
        </p:nvPicPr>
        <p:blipFill>
          <a:blip r:embed="rId2"/>
          <a:stretch/>
        </p:blipFill>
        <p:spPr>
          <a:xfrm>
            <a:off x="6227640" y="3284640"/>
            <a:ext cx="216216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, чтобы быть, долж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личаться от и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нет иного, нет и одного. Стало быть одно полагает себя вместе со своим и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ебу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го и, следо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ьно, мыслится с ни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раз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ждествен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как одно и иное тождественны? Это возможно только так, ч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ит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л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нте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и не-бытия, одного и и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ш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оторый несёт на себе вышевыведенную триаду смы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ьнейшее сопряжение приводит к инаковос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й характеристике уже са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ам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и, рассматривая все эти возможные см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ые судьбы становящегося факта, т.е. соо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я осмысленный фак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н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мысл факт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у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у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,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Имя есть тождество триадного эйдоса с его фактическим инобытие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9280" y="1258920"/>
            <a:ext cx="7916760" cy="21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неразличимое тождество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го и особ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еального и реальн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сконечного и конечног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2920" y="3130560"/>
            <a:ext cx="8853480" cy="269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огически становящийся эйдос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своя собстве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остазированная инаковость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рассмотренный как единичность в её соотнесен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этой и, следовательно, со всякой инаков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719280" y="5576760"/>
            <a:ext cx="791676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, воспроизводимый на и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19280" y="5468760"/>
            <a:ext cx="791676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диничностью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, данной как алогическое становление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подвижного покоя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амотождественного различия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4292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имен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1305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тождественн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1167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«множество»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движной п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8000" y="4857840"/>
            <a:ext cx="2951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ы имее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ыс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как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котор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тегорию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09420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 нам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стилается нек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ное пространств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08184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иксируетс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вижность смысл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 воплощённости эйдо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ле-чённость в и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она требует не просто воплощённости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площённости в живом и лич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в определении мифа участвует ещё одна категория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(само)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006560" y="5505480"/>
            <a:ext cx="719748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нание, интеллигенция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отнесённость смысла с самим соб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690560" y="1978200"/>
            <a:ext cx="5757840" cy="180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0560" y="4317840"/>
            <a:ext cx="575784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вление и смысл: Феноменология как основная наука и её проблемы (19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опыт логики исторических наук (К истории рационализма XVIII века) (19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как проблема логики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е и его собственник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дрость или разум (19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еневтика и её проблемы (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ептик и его душа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 развития русской философии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ческие фрагменты (1922-19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утренняя форма слов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дение в этническую психологию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пет (1)"/>
          <p:cNvPicPr/>
          <p:nvPr/>
        </p:nvPicPr>
        <p:blipFill>
          <a:blip r:embed="rId1"/>
          <a:stretch/>
        </p:blipFill>
        <p:spPr>
          <a:xfrm>
            <a:off x="358920" y="1798560"/>
            <a:ext cx="345096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пецифика мифа в том, что он  «уже не есть эйдос, он –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щь» среди других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дова-тельных отграничений мифа от смежных, близ-ких явл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вымысе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логически необходимая категория сознания и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идеальное 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зненно ощущаемая и творимая вещественная ре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научное постро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вое субъект-объектное взаим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метафиз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чувственная действительность, хотя и отрешённая от обычного хода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хема и аллег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поэ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74920" y="2158920"/>
            <a:ext cx="431784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словах да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удес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р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всепроникающая стих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ая всюду в человеке и вок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прирождённый человеку и социуму (хотя и не единственный для них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 видения и толкования себя 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, мифичность человеческого опыт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нент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не привносима человеческой псих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ая и отрица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rganization Chart 7"/>
          <p:cNvGrpSpPr/>
          <p:nvPr/>
        </p:nvGrpSpPr>
        <p:grpSpPr>
          <a:xfrm>
            <a:off x="431640" y="1978200"/>
            <a:ext cx="8208360" cy="4463640"/>
            <a:chOff x="431640" y="1978200"/>
            <a:chExt cx="8208360" cy="4463640"/>
          </a:xfrm>
        </p:grpSpPr>
        <p:cxnSp>
          <p:nvCxnSpPr>
            <p:cNvPr id="69" name="_s1028"/>
            <p:cNvCxnSpPr>
              <a:stCxn id="70" idx="3"/>
              <a:endCxn id="71" idx="2"/>
            </p:cNvCxnSpPr>
            <p:nvPr/>
          </p:nvCxnSpPr>
          <p:spPr>
            <a:xfrm flipV="1">
              <a:off x="2670120" y="2946960"/>
              <a:ext cx="373680" cy="330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1029"/>
            <p:cNvCxnSpPr>
              <a:stCxn id="73" idx="3"/>
              <a:endCxn id="71" idx="2"/>
            </p:cNvCxnSpPr>
            <p:nvPr/>
          </p:nvCxnSpPr>
          <p:spPr>
            <a:xfrm flipV="1">
              <a:off x="2670120" y="2946960"/>
              <a:ext cx="373680" cy="271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1" idx="2"/>
            </p:cNvCxnSpPr>
            <p:nvPr/>
          </p:nvCxnSpPr>
          <p:spPr>
            <a:xfrm flipV="1">
              <a:off x="2670120" y="294732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1" idx="2"/>
            </p:cNvCxnSpPr>
            <p:nvPr/>
          </p:nvCxnSpPr>
          <p:spPr>
            <a:xfrm flipV="1">
              <a:off x="267012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" name="_s1032"/>
            <p:cNvCxnSpPr>
              <a:stCxn id="79" idx="3"/>
              <a:endCxn id="71" idx="2"/>
            </p:cNvCxnSpPr>
            <p:nvPr/>
          </p:nvCxnSpPr>
          <p:spPr>
            <a:xfrm flipV="1">
              <a:off x="267012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" name="_s1033"/>
            <p:cNvCxnSpPr>
              <a:stCxn id="81" idx="3"/>
              <a:endCxn id="71" idx="2"/>
            </p:cNvCxnSpPr>
            <p:nvPr/>
          </p:nvCxnSpPr>
          <p:spPr>
            <a:xfrm flipV="1">
              <a:off x="267012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1034"/>
            <p:cNvCxnSpPr>
              <a:stCxn id="83" idx="1"/>
              <a:endCxn id="84" idx="2"/>
            </p:cNvCxnSpPr>
            <p:nvPr/>
          </p:nvCxnSpPr>
          <p:spPr>
            <a:xfrm rot="10800000">
              <a:off x="6027840" y="294696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035"/>
            <p:cNvCxnSpPr>
              <a:stCxn id="86" idx="1"/>
              <a:endCxn id="84" idx="2"/>
            </p:cNvCxnSpPr>
            <p:nvPr/>
          </p:nvCxnSpPr>
          <p:spPr>
            <a:xfrm rot="10800000">
              <a:off x="602784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1036"/>
            <p:cNvCxnSpPr>
              <a:stCxn id="88" idx="1"/>
              <a:endCxn id="84" idx="2"/>
            </p:cNvCxnSpPr>
            <p:nvPr/>
          </p:nvCxnSpPr>
          <p:spPr>
            <a:xfrm rot="10800000">
              <a:off x="602784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37"/>
            <p:cNvCxnSpPr>
              <a:stCxn id="90" idx="1"/>
              <a:endCxn id="84" idx="2"/>
            </p:cNvCxnSpPr>
            <p:nvPr/>
          </p:nvCxnSpPr>
          <p:spPr>
            <a:xfrm rot="10800000">
              <a:off x="602784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8"/>
            <p:cNvCxnSpPr>
              <a:stCxn id="84" idx="1"/>
              <a:endCxn id="92" idx="2"/>
            </p:cNvCxnSpPr>
            <p:nvPr/>
          </p:nvCxnSpPr>
          <p:spPr>
            <a:xfrm rot="10800000">
              <a:off x="4535280" y="236556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9"/>
            <p:cNvCxnSpPr>
              <a:stCxn id="71" idx="3"/>
              <a:endCxn id="92" idx="2"/>
            </p:cNvCxnSpPr>
            <p:nvPr/>
          </p:nvCxnSpPr>
          <p:spPr>
            <a:xfrm flipV="1">
              <a:off x="4162680" y="236592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1040"/>
            <p:cNvSpPr/>
            <p:nvPr/>
          </p:nvSpPr>
          <p:spPr>
            <a:xfrm>
              <a:off x="3416400" y="19782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Философ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192384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оложи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2"/>
            <p:cNvSpPr/>
            <p:nvPr/>
          </p:nvSpPr>
          <p:spPr>
            <a:xfrm>
              <a:off x="490896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Отрица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640152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та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4"/>
            <p:cNvSpPr/>
            <p:nvPr/>
          </p:nvSpPr>
          <p:spPr>
            <a:xfrm>
              <a:off x="640152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о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5"/>
            <p:cNvSpPr/>
            <p:nvPr/>
          </p:nvSpPr>
          <p:spPr>
            <a:xfrm>
              <a:off x="6401520" y="4307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ондилья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6"/>
            <p:cNvSpPr/>
            <p:nvPr/>
          </p:nvSpPr>
          <p:spPr>
            <a:xfrm>
              <a:off x="640152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а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7"/>
            <p:cNvSpPr/>
            <p:nvPr/>
          </p:nvSpPr>
          <p:spPr>
            <a:xfrm>
              <a:off x="43164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ат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8"/>
            <p:cNvSpPr/>
            <p:nvPr/>
          </p:nvSpPr>
          <p:spPr>
            <a:xfrm>
              <a:off x="43164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от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9"/>
            <p:cNvSpPr/>
            <p:nvPr/>
          </p:nvSpPr>
          <p:spPr>
            <a:xfrm>
              <a:off x="434520" y="4307760"/>
              <a:ext cx="223560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Дека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50"/>
            <p:cNvSpPr/>
            <p:nvPr/>
          </p:nvSpPr>
          <p:spPr>
            <a:xfrm>
              <a:off x="43164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Спино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1"/>
            <p:cNvSpPr/>
            <p:nvPr/>
          </p:nvSpPr>
          <p:spPr>
            <a:xfrm>
              <a:off x="431640" y="5472720"/>
              <a:ext cx="2238480" cy="387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йбни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52"/>
            <p:cNvSpPr/>
            <p:nvPr/>
          </p:nvSpPr>
          <p:spPr>
            <a:xfrm>
              <a:off x="431640" y="6053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Гег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760" y="1456920"/>
            <a:ext cx="880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чки зрения отрицательной философии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ъект и объект разделены пропа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ействительность же понимается либо как явление вещи в себе, либо как акт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ы и процесса познан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ивается рамками теории позн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сама истина понимается не как имма-нентное, но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ансцендентное согласов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между сужде-нием и вещью в себе, лежащей за пределами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вязи с эт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тероном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меет своим источником не порядок и связи в предмете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обязательность су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 конечном итоге – субъекта, утверждающего 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иррационально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в итоге развёртывание процесса познания не только не приближает, но всё бол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даляет понятия от действи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ближая их с идеалами праг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енённость в то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-ния всего сущего под некоторое основание, пре-вышающее обосновыв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основание переходит в конечном итоге 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ую полнот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действительность: всё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оренённым в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флектирующей в себя нау-к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лагающей в качестве объектов своего об-основания сам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ция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посредственно очевидных началах, предшеству-ющих всякому теоретическому 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86630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ины – это проблема всей действитель-тельности, 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 области 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как полагает отрицательная философ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ложительной философии оказывается невоз-можны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ядоположное рассмотрение реального и иллюзор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ак как нет ничего, кроме реально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одержа-ние иллюз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верные соотнош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 другими областями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438200" y="5468760"/>
            <a:ext cx="64785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ё истин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своём мест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лож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месте чуж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7:02:41Z</dcterms:created>
  <dc:creator>Николай Бирюков / Nikolai Biryukov</dc:creator>
  <dc:description>Версия мая 2004 г.</dc:description>
  <dc:language>en-US</dc:language>
  <cp:lastModifiedBy>LEGION</cp:lastModifiedBy>
  <dcterms:modified xsi:type="dcterms:W3CDTF">2014-11-11T10:11:35Z</dcterms:modified>
  <cp:revision>36</cp:revision>
  <dc:subject>История русский философии - Лекция 15</dc:subject>
  <dc:title>Немарксистская философия в СССР</dc:title>
</cp:coreProperties>
</file>