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BD6C-3747-4A4F-B9B2-F73987DE5E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марксистская философия в ССС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D67C-C0FB-409F-92EB-B3AFC93D00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отальность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в охвате материала действительно-сти коррелирует с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ин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ожительная философия предстаёт как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еория истины, опирающаяся на идею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«единого»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на исходит из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ервичного единства всего сущег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позволяющего сделать соизмеримыми, принципиально способными к соотнесению все дискретно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аже за случайным необходимо видеть т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фон закономерност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по отношению к которому случайное только и может быть определено как таков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якая изменчивость апеллирует 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тождеству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с позиции которого только и возможна длительность изменяющего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якое непонимание вскрывает, по крайней мере,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возможность пониман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3E1F-3338-4923-A7A6-1BCF9377E4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ложительная философия опирается на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разу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 смысл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отализирующей силы со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рони-кающей собою рассудок и чувственность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реп-ляющей все формы и виды действительности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Понима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«уразумение») оказывается актом онтологически проясняющим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ближающим структуру сознания с бытие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действительно-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кольку сознание лежит не вне действительно-сти, а внутри неё, то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делять его от действи-тельности иллюзорн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разумное познание и по-нимание своей тотализацией снимает указанную иллюзию, обеспечивая свою исти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8EA8-85D8-4D20-B607-37D9D4E0F6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Беспредпосылочность феноме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сякое сущее (дискретность) может рассматри-ваться двояко: как элемент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ьной тоталь-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ак элемент одной из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бтотальносте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включённых в предельную тот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гда сущее рассматривается в вид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еноме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(т.е. элемента предельной тотальности), то пока-зателем этого будет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беспредпосылоч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т.е.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чевид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е позволяющая нам помыс-лить феномен как-то ин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, наоборот, если нам удалось помыслить нечто в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уитивной очевид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значит, мы конституировали его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еноме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18B9-C706-41B6-A404-3CE56DD4A9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роекция сущего в тотальн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отальное тесно связанно с интуитивно очевид-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очевидность, «проблемность» сущего не есть свойство его, сохраняющееся во всех «установ-ках», а есть следствие некоторых из этих «уста-новок»; проблемность какой-нибудь мысли не присуща самой мысли абсолютно, а есть резуль-тат нефиксации некоторых элементов, без кото-рых эта мысль и оказывается проблемн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троить своеобразную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проекцию» сущего в тотальн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это и значит осуществить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εποχη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феноменологическую редук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ы не столько «очищаем» сущее от чего-то, сколько проецируем его в плоскость тотального, получая феном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C329-094D-486C-BBFD-4F0F606354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еномен как состояние-переход между частью и цел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еномен – эт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остояние-переход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отношение) меж-ду частью и целым, между индивидуальным и то-таль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 этом критерий очевидности перестаёт быть присущим только данному феномену, он является таковым лишь при апелляции к очевидности сово-купного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 феномен предстаёт не изолированной, замкну-той в себе дискретностью, н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узлом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к которому тя-нутся нити от всего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ую структуру имее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знак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ова феноменология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симпатического понимания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между людьми, выражающаяся в «уразумении» сказанного други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ов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герменевтическое понимани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предполагающее проникновение в «энтелехию» предмета, его «душу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BA34-01AD-46E4-8E8E-2AF3827746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. Лосев (1893-198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ичный космос и современная наука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Философия имени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художественной формы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узыка как предмет логики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числа у Плотина (192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ритика платонизма у Аристотеля (192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черки античного символизма и мифологии (19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мифа (19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я античной эстетики (1963-19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ичная философия истории (197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стетика Возрождения (197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. Соловьёв и его время (199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7FD4-A61E-4DFB-BA6B-6F3890C427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мволиз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онкретная» дефиниция миф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F70B-1154-4573-AE81-04221FB8B6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основе философии Лосева –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етод логико-смыслового конструирования философского предм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 философский предмет понимается в гуссер-лианском смысле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феномен сознания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эйд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446B-0A9F-4DD4-9149-8B7DAEDD27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Такая установка позволяет делать предметом философ-ского рассмотрения самые разные сферы реальност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мея в виду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смотрение их сущност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эмпиризм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не превращая их в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оняти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чисто спекулятивную, отвле-чённо-мыслительную реальность), т.е. сохраняя их конкрет-ную природу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твлечённой диалектик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днако метод Лосева отличается и от феноменологии Гуссер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Гуссерлю, «усмотрение сущности» состоит исключитель-но в описании –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феноменологической дескрипции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мысло-вой структуры феномена как совокупности рядоположенных эле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осеву же смысловая структура феномена виделась не статическим собранием элементов, н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живым их единст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Задачей философского метода он считал не просто дескри-бировать смысловую структуру в определённых категориях, но «одну категорию объяснить другой категорий, так, чтобы было видно, ка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дна категория порождает другую, и все вместе – друг друг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905A-7CA8-4513-8519-0910F9FCFC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– категориальная разработка не гегелевского понятия, а платоновско-гуссерлианского эйдоса, однако тако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йдос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не «перепись» составных частей смысла,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94A2-0821-45EC-B232-7003A694E7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марксистская философия в ССС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2D3A-F578-42B4-B74F-E62E2243E3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о эйдос – всё же объект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нтеллектуальной интуи-ци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«без какого-либо намёка на субстанциальность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н наделяется множеством зрительных характерис-тик, но речь всегда идёт об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умном» зр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Что же до чувственной реальности – она остаётся для эйдоса всецел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ноприрод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днако для диалектического метода «иная приро-да» –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диалектическая противоположность данной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и обе природы немедленно вовлекаются в диалекти-ческий процесс, в «диалектику одного и иного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одно» логически предполагает (в терминах диалектики – «самополагает») «иное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 оказывается с ним в отношении тождества и различия (диалектического «единства противоположностей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следнее же, будучи единством, есть, тем самым, некая новая цельность («диалектический синтез»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42AB-CD16-4ABB-9320-1D943326C4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о, чтобы быть, долж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личаться от ино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Если нет иного, нет и одного. Стало быть одно полагает себя вместе со своим и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 одно не может быть только различно с иным. Оно, именно для того чтобы быть самим собой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ребуе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ного и, следова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льно, мыслится с ним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разу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Если оно только отлично от иного – оно не имеет никакой границы и, следовательно, оно не есть оно. Но оно – оно, и, значит, оно не только отлично от иного, но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ождественн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ако как одно и иное тождественны? Это возможно только так, чт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дно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новитс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новле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ес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интез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бытия и не-бытия, одного и и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83A9-E606-4641-8CBA-3CF49487A7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алее, как одно, соединившись со своим инобытием, дало становление, так становление, требуя, как и всё, для своего существования – своего инобытия и соединяясь с ним, даёт новую категорию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вше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ил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акт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который несёт на себе вышевыведенную триаду смыс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альнейшее сопряжение приводит к инаковост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й характеристике уже самы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ак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сам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в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ше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и, рассматривая все эти возможные см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овые судьбы становящегося факта, т.е. соот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ся осмысленный факт с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е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нобытием, т.е. с его возможными воплощениями, мы получаем уже не просто смысл, или эйдос факта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женны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мысл факта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женну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его сущ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сть,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Имя есть тождество триадного эйдоса с его фактическим инобытием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E77E-BA1F-4C87-A661-901B1B0724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исходящий таким образом диалектический пере-ход одного в двуединство одного и иного выходит за рамки формальной логики и обозначается осо-бым термином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алогического становл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Эйдос – самый благодарный объект для проведе-ния этого диалектического приём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н дан с такой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фигурностью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что, собственно, уже почти чувствен, как нельзя лучше приспособлен для воспроизведения в чувственном как в своей инаков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и в соединении со своим инобытием эйдос не утрачивает своих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мных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войство, и образовавшееся двуединство остаётся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мысловой картиной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ученный таким образом философский предмет – смысловая картина, выраженная в телесно-чувст-венном, совершенное двуединство умного и чувст-венного содержания есть не что иное, как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имво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A545-8DF5-4E6B-8DE0-4DB77E594C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Символиз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AE4C-E637-48F2-9DA1-20B26206A8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Диалектико-феноменологическое конструирование эйдосов и символов осуществляется посредством типовых формул, где по-разному комбинируются </a:t>
            </a: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пять первокатегорий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единичность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одно, сущее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пок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движе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тождеств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различ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Такое строительство из «унифицированных» блоков даёт лишь отвлечённую логическую схему, «скелет» предмета; всякий такой конструкт оказывается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3F4A-0169-49C6-9E6C-A58D4365F4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о его можно и нужно подвергнуть вторичному переосмыслению с точки зрения тех же первока-тегорий; тогда мы получим следующую группу категор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обственно </a:t>
            </a: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эйдос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топос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число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26C1-0255-4F62-A931-7629CCB6C1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0B55-BAF0-45D3-898E-B8406F799E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есть определённый момент или стадия конст-руирования эйдоса, точнее – последняя, завершаю-щая стадия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 воплощённости эйдос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ако схожим образом определяется и символ, ко-торый есть предельная воплощённость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бле-чённость в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личие мифа от символа состоит в том, что миф есть, кроме того, ещё и предельна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жен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она требует не просто воплощённости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оплощённости в живом и личн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этому в определении мифа участвует ещё одна категория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еллигенц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или (само)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2C85-659B-4C56-B4D6-6DBD6B7F80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FA4E-C6B1-477F-A9BC-BB6959039E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Явление и смысл: Феноменология как основная наука и её проблемы (19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вый опыт логики исторических наук (К истории рационализма XVIII века) (19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я как проблема логики (19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знание и его собственник (19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удрость или разум (19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ерменевтика и её проблемы (19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кептик и его душа (19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черк развития русской философии (19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стетические фрагменты (1922-192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нутренняя форма слова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едение в этническую психологию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ECAB-61A4-4DB9-A5B8-612A68EAAD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кольку специфика мифа в том, что он  «уже не есть эйдос, он –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быт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» (точнее – чувственная и эмпирическая реальность), то исследовать миф – это не столько описать эйдос мифа среди других эйдосов, сколько описать сам миф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вещь» среди других в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троение конкретной дефиниции мифа отлича-ется от эйдетического конструирования и следу-ет более традиционной процедур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следова-тельных отграничений мифа от смежных, близ-ких явлени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50FB-EAAA-4FBD-A764-F615EC50B2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вымысе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логически необходимая категория сознания и бы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идеальное быт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жизненно ощущаемая и творимая вещественная ре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научное построе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живое субъект-объектное взаимооб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метафизик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чувственная действительность, хотя и отрешённая от обычного хода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схема и аллегор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симв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поэз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возведение изолированных и абстрактно выделенных вещей в интуитивно-инстинктивную сферу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C85E-3F7B-4A72-B8AA-6904FA7B5A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личностная форма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предполагающ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озна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елесность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но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рия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 В истории различаются три сло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природно-вещественный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– сами события и факты; это – действительность, ещё не просвещённая и не проработанная разумом, а, следовательно, строго говоря, ещё не действительност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бщие структуры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исторического, концепции и схемы истории; это – действительность, уже осмысленная, но осмысленная извн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история как сознающее самоё себ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; здесь она выступает ка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интеллигенц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выражающая себ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чуд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совпадение эмпирического бытия личности с её «идеальным заданием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C914-F26E-4368-B8D3-93F4C15702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0002-6F25-4E97-837F-51E37880C2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всепроникающая стихия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щая всюду в человеке и вокруг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– прирождённый человеку и социуму (хотя и не единственный для них)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пособ видения и толкования себя 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 этом, мифичность человеческого опыт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манент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не привносима человеческой псих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8A72-848E-45EF-AE4F-CA6C0D41BB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ветлы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Правосла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ёмны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новоевропейское мировоззрение, господствующее, начиная с Возрождения, и включающ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ьютонианскую картину физического ми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те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атериал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оммунистически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отличается от новоевро-пейского мифа, прочно связанного с принципами и ценностями буржуазного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о, что пролетарский миф усваивает себе едва ли не все лозунги буржуазного мифа (в особенно-сти – атеизм) есть следствие ег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непоследова-тельности и незрелост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B320-2BD9-444A-8183-7735F5A050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ожительная и отрицательная философ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ритика отрицательной философ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коренённость в тота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флективность и интуи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еспредпосылочность фено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екция сущего в тоталь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еномен как состояние-переход между частью и цел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8DBF-5D30-4107-BD63-1C83B086E2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Положительная и отрицательн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FE4C-8D52-4CB5-92D5-476397CE08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ритика отрицательной философ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точки зрения отрицательной философии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бъект и объект разделены пропасть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действительность же понимается либо как явление вещи в себе, либо как акт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тика истины и процесса познани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граничивается рамками теории по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сама истина понимается не как имма-нентное, но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рансцендентное согласова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между сужде-нием и вещью в себе, лежащей за пределами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связи с это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гетерономность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озникает дилемма: или позна-ние согласуется с вещами, или вещи – с познанием (в положи-тельной философии даётся третье решение – самосогласова-ние в пределах единой действи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обходимость имеет своим источником не порядок и связи в предмете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бщеобязательность сужде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в конечном итоге – субъекта, утверждающего 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тика истинного, как ограниченная только рамками су-бъекта, предполагает строгое ограничение области истинного, за границами которой располаг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иррациональное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в итоге развёртывание процесса познания не только не приближает, но всё боле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даляет понятия от действитель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сближая их с идеалами прагматичес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197B-B287-4303-8904-4F3D489DE8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Укоренённость в тота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ложительная философия исходит из возмож-ности обоснования всякой предметности, она ве-рит в доказательность, в способнос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дведе-ния всего сущего под некоторое основание, пре-вышающее обосновывае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основание переходит в конечном итоге в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ьную полноту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действительность: всё ок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коренённым в тоталь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овокупной действительности, выступающей единым и единственным основанием всего сущ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9558-4EE7-4AFE-8AE1-3897E372B0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ефлективность и интуи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шение проблемы действительности (т.е. пробле-мы положительного обоснования всего сущего), как и средства этого решения, есть также части дейст-вительности, в связи с чем положительная филосо-фия не может не бы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ефлектирующей в себя нау-ко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олагающей в качестве объектов своего об-основания сами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ходя этот путь до конца, положительная фило-софия может остановиться только н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уициях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непосредственно очевидных началах, предшеству-ющих всякому теоретическому 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кусство движения в материале действительно-сти, при котором мы не выходим из интуитивного слоя, но движемся от одной непосредственной оче-видности к другой, – это и есть искусство методиче-ского проведения идей положительной филосо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545F-7DA5-4D6B-9B0E-3076357E6D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истины – это проблема всей действитель-тельности, 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только области 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как полагает отрицательная 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положительной философии оказывается невоз-можным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ядоположное рассмотрение реального и иллюзорно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так как нет ничего, кроме реальн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ллюзия возможно только внутри самой действи-тельности: иллюзорным ок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содержа-ние иллюзи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лиш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верные соотноше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его с другими областями действи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6C1E-B810-4E47-AD2B-D44BAC076E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F35-E70C-4B1E-A2B2-98416479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4A0A-75B1-4CF1-835D-3DD86620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4151-B4EA-4764-A307-89F1EF48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3423-0F2E-49D5-86CB-E9DFEA42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861-8D59-4C00-BCE0-BFF1758C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024-1DD6-47E6-9513-5B0A7A08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41E-2423-4D41-A0C5-AED57B41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06B-DEA5-43B8-92DD-3AAB4BF2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133-8615-488A-B407-9AE75D4B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73D-855F-4304-896A-CA34C510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8A8-C4BF-41DA-B852-0A776E28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8E8-D440-46D1-8CDD-DF69AE34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8021-B9A7-4FA3-8880-E8C9D6340D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00" y="2142720"/>
            <a:ext cx="82738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марксистская философия в ССС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аль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охвате материала действительно-сти коррелирует 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предстаёт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истины, опирающаяся на идею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«единого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а исходит из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ичного единства всего сущ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озволяющего сделать соизмеримыми, принципиально способными к соотнесению все дискретно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же за случайным необходимо видеть т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н закономер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о отношению к которому случайное только и может быть определено как так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якая изменчивость апеллирует 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жде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 позиции которого только и возможна длительность изменя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якое непонимание вскрывает, по крайней мере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зможность поним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опирается на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разу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ализирующей силы созн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они-кающей собою рассудок и чувственность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креп-ляющей все формы и виды действительности в единое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Понима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«уразумение») оказывается актом онтологически проясняющим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ближающим структуру сознания с бытие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действительно-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кольку сознание лежит не вне действительно-сти, а внутри неё, то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делять его от действи-тельности иллюзор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разумное познание и по-нимание своей тотализацией снимает указанную иллюзию, обеспечивая свою исти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редпосылочность фен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якое сущее (дискретность) может рассматри-ваться двояко: как элемен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ьной тоталь-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как элемент одной из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тотальност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включённых в предельную тот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сущее рассматривается в вид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еноме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(т.е. элемента предельной тотальности), то пока-зателем этого будет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еспредпосылоч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.е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чевид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е позволяющая нам помыс-лить феномен как-то ин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, наоборот, если нам удалось помыслить нечто в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уитивной очевид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значит, мы конституировали его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еноме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екция сущего в тоталь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тальное тесно связанно с интуитивно очевид-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чевидность, «проблемность» сущего не есть свойство его, сохраняющееся во всех «установ-ках», а есть следствие некоторых из этих «уста-новок»; проблемность какой-нибудь мысли не присуща самой мысли абсолютно, а есть резуль-тат нефиксации некоторых элементов, без кото-рых эта мысль и оказывается проблем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ить своеобразную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проекцию» сущего в тотальн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это и значит осуществить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εποχ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феноменологическую редукц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не столько «очищаем» сущее от чего-то, сколько проецируем его в плоскость тотального, получая фено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номен как состояние-переход между частью и цел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5760" y="1869840"/>
            <a:ext cx="85899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номен – эт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стояние-перехо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отношение) меж-ду частью и целым, между индивидуальным и то-т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 критерий очевидности перестаёт быть присущим только данному феномену, он является таковым лишь при апелляции к очевидности сово-купно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 феномен предстаёт не изолированной, замкну-той в себе дискретностью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зл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 которому тя-нутся нити от все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ую структуру имее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ова феноменологи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импатического понимания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между людьми, выражающаяся в «уразумении» сказанного друг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ов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рменевтическое понима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редполагающее проникновение в «энтелехию» предмета, его «душу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49480" y="1798560"/>
            <a:ext cx="528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чный космос и современная наука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мени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художественной формы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зыка как предмет логики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числа у Плотина (19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латонизма у Аристотеля (19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и античного символизма и мифологии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мифа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античной эстетики (1963-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чная философия истории (19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ка Возрождения (197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. Соловьёв и его время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501800" y="115092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Лосев (1)"/>
          <p:cNvPicPr/>
          <p:nvPr/>
        </p:nvPicPr>
        <p:blipFill>
          <a:blip r:embed="rId1"/>
          <a:stretch/>
        </p:blipFill>
        <p:spPr>
          <a:xfrm>
            <a:off x="358920" y="1798560"/>
            <a:ext cx="3379680" cy="43182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снове философии Лосева 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логико-смыслового конструирования философского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 философский предмет понимается в гуссер-лианском смысле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феномен сознания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эйд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719280" y="4138560"/>
            <a:ext cx="7916760" cy="19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Эйдос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ивысшая мыслительная абстрак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торая тем не менее да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кретно, нагля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760" y="1330200"/>
            <a:ext cx="88059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ая установка позволяет делать предметом философ-ского рассмотрения самые разные сферы реальност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ея в вид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мотрение их сущ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мпириз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не превращая их 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нят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чисто спекулятивную, отвле-чённо-мыслительную реальность), т.е. сохраняя их конкрет-ную природу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твлечённой диалект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днако метод Лосева отличается и от феноменологии Гуссерл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Гуссерлю, «усмотрение сущности» состоит исключитель-но в описании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феноменологической дескрипции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ысло-вой структуры феномена как совокупности рядоположенных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севу же смысловая структура феномена виделась не статическим собранием элементов, 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живым их един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ей философского метода он считал не просто дескри-бировать смысловую структуру в определённых категориях, но «одну категорию объяснить другой категорий, так, чтобы было видно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а категория порождает другую, и все вместе – друг друг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– категориальная разработка не гегелевского понятия, а платоновско-гуссерлианского эйдоса, однако тако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йдо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 «перепись» составных частей смысла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719280" y="3598920"/>
            <a:ext cx="7916760" cy="28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вое быти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предмета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низанн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ысловыми энергиями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дущими из его глубины 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кладывающимися в цельную живую картину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вленного лика сущности предмет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марксистская философия в ССС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98920" y="1798560"/>
            <a:ext cx="31687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878200" y="5397480"/>
            <a:ext cx="32414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Шпет (1)"/>
          <p:cNvPicPr/>
          <p:nvPr/>
        </p:nvPicPr>
        <p:blipFill>
          <a:blip r:embed="rId1"/>
          <a:stretch/>
        </p:blipFill>
        <p:spPr>
          <a:xfrm>
            <a:off x="684360" y="1916280"/>
            <a:ext cx="2442960" cy="305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Лосев (3)"/>
          <p:cNvPicPr/>
          <p:nvPr/>
        </p:nvPicPr>
        <p:blipFill>
          <a:blip r:embed="rId2"/>
          <a:stretch/>
        </p:blipFill>
        <p:spPr>
          <a:xfrm>
            <a:off x="6227640" y="3284640"/>
            <a:ext cx="2162160" cy="3057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39760" y="1600200"/>
            <a:ext cx="8663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эйдос – всё же объек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ллектуальной интуи-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«без какого-либо намёка на субстанциальность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наделяется множеством зрительных характерис-тик, но речь всегда идёт об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умном» зр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же до чувственной реальности – она остаётся для эйдоса всецел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оприр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для диалектического метода «иная приро-да»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алектическая противоположность данн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 обе природы немедленно вовлекаются в диалекти-ческий процесс, в «диалектику одного и иного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» логически предполагает (в терминах диалектики – «самополагает») «ино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оказывается с ним в отношении тождества и различия (диалектического «единства противоположностей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нее же, будучи единством, есть, тем самым, некая новая цельность («диалектический синтез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о, чтобы быть, долж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личаться от ин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Если нет иного, нет и одного. Стало быть одно полагает себя вместе со своим и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одно не может быть только различно с иным. Оно, именно для того чтобы быть самим собой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ебуе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ного и, следов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ьно, мыслится с ни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раз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Если оно только отлично от иного – оно не имеет никакой границы и, следовательно, оно не есть оно. Но оно – оно, и, значит, оно не только отлично от иного, но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ждествен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 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как одно и иное тождественны? Это возможно только так, чт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дно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новитс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новл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нте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ия и не-бытия, одного и и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лее, как одно, соединившись со своим инобытием, дало становление, так становление, требуя, как и всё, для своего существования – своего инобытия и соединяясь с ним, даёт новую категорию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вш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л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оторый несёт на себе вышевыведенную триаду смы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льнейшее сопряжение приводит к инаковос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й характеристике уже самы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сам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в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е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и, рассматривая все эти возможные см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ые судьбы становящегося факта, т.е. соо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я осмысленный факт 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нобытием, т.е. с его возможными воплощениями, мы получаем уже не просто смысл, или эйдос факта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жен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мысл факта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женну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его су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ть,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Имя есть тождество триадного эйдоса с его фактическим инобытием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39760" y="1600200"/>
            <a:ext cx="8663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исходящий таким образом диалектический пере-ход одного в двуединство одного и иного выходит за рамки формальной логики и обозначается осо-бым термино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алогического становл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йдос – самый благодарный объект для проведе-ния этого диалектического приё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 дан с так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фигурность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что, собственно, уже почти чувствен, как нельзя лучше приспособлен для воспроизведения в чувственном как в своей инаков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и в соединении со своим инобытием эйдос не утрачивает своих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ны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йство, и образовавшееся двуединство остаё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мысловой карти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ученный таким образом философский предмет – смысловая картина, выраженная в телесно-чувст-венном, совершенное двуединство умного и чувст-венного содержания есть не что ино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мво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19280" y="1258920"/>
            <a:ext cx="7916760" cy="21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неразличимое тождество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щего и особого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деального и реального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есконечного и конечного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142920" y="3130560"/>
            <a:ext cx="8853480" cy="269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огически становящийся эйдос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ный как своя собствен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постазированная инаковость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рассмотренный как единичность в её соотнесени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этой и, следовательно, со всякой инаков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719280" y="5576760"/>
            <a:ext cx="7916760" cy="10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, воспроизводимый на ин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алектико-феноменологическое конструирование эйдосов и символов осуществляется посредством типовых формул, где по-разному комбинируютс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пять первокатегори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динич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одно, суще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к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виж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лич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ое строительство из «унифицированных» блоков даёт лишь отвлечённую логическую схему, «скелет» предмета; всякий такой конструкт оказываетс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19280" y="5468760"/>
            <a:ext cx="7916760" cy="12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единичностью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, данной как алогическое становление 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подвижного покоя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самотождественного различия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его можно и нужно подвергнуть вторичному переосмыслению с точки зрения тех же первока-тегорий; тогда мы получим следующую группу категор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бственно </a:t>
            </a: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эйдо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топо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число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4292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именно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ичност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313056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пос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тождественно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злич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611676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сл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«множество»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подвижной по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108000" y="4857840"/>
            <a:ext cx="2951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йдос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мы имеем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ыс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, как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которую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тегорию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3094200" y="4857840"/>
            <a:ext cx="2950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пос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еред нам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стилается неко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мное пространств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6081840" y="4857840"/>
            <a:ext cx="2950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сл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иксируетс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ециально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движность смысл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8589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определённый момент или стадия конст-руирования эйдоса, точнее – последняя, завершаю-щая стади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 воплощённости эйдо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схожим образом определяется и символ, ко-торый есть предельная воплощённость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ле-чённость в и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личие мифа от символа состоит в том, что миф есть, кроме того, ещё и предельна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жен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она требует не просто воплощённости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площённости в живом и личн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этому в определении мифа участвует ещё одна категория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ллигенц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ли (само)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006560" y="5505480"/>
            <a:ext cx="7197480" cy="12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знание, интеллигенция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отнесённость смысла с самим собой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690560" y="1978200"/>
            <a:ext cx="5757840" cy="180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– эт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ный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игенци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690560" y="4317840"/>
            <a:ext cx="575784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иген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49480" y="1798560"/>
            <a:ext cx="528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вление и смысл: Феноменология как основная наука и её проблемы (19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опыт логики исторических наук (К истории рационализма XVIII века) (19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как проблема логики (19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нание и его собственник (19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дрость или разум (19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меневтика и её проблемы (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ептик и его душа (19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 развития русской философии (19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ческие фрагменты (1922-19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утренняя форма слова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едение в этническую психологию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501800" y="115092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Шпет (1)"/>
          <p:cNvPicPr/>
          <p:nvPr/>
        </p:nvPicPr>
        <p:blipFill>
          <a:blip r:embed="rId1"/>
          <a:stretch/>
        </p:blipFill>
        <p:spPr>
          <a:xfrm>
            <a:off x="358920" y="1798560"/>
            <a:ext cx="3450960" cy="43196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кольку специфика мифа в том, что он  «уже не есть эйдос, он –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т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» (точнее – чувственная и эмпирическая реальность), то исследовать миф – это не столько описать эйдос мифа среди других эйдосов, сколько описать сам миф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щь» среди других 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ение конкретной дефиниции мифа отлича-ется от эйдетического конструирования и следу-ет более традиционной процедур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ледова-тельных отграничений мифа от смежных, близ-ких явл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вымысе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логически необходимая категория сознания и 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идеальное быт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жизненно ощущаемая и творимая вещественная ре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научное постро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живое субъект-объектное взаимо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метафиз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чувственная действительность, хотя и отрешённая от обычного хода я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хема и аллегор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сим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поэз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возведение изолированных и абстрактно выделенных вещей в интуитивно-инстинктивную сфер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чностная форм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едполага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созна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ост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р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 истории различаются три сло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природно-вещественный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сами события и факты; это – действительность, ещё не просвещённая и не проработанная разумом, а, следовательно, строго говоря, ещё не действитель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ие струк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сторического, концепции и схемы истории; это – действительность, уже осмысленная, но осмысленная извн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ория как сознающее самоё себ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здесь она выступает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теллиген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выражающая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уд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совпадение эмпирического бытия личности с её «идеальным заданием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374920" y="2158920"/>
            <a:ext cx="4317840" cy="32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словах дан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удес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ст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ори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всепроникающая стихи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ая всюду в человеке и вок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– прирождённый человеку и социуму (хотя и не единственный для них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соб видения и толкования себя и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, мифичность человеческого опыт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нент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не привносима человеческой псих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лы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Правосла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ёмны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овоевропейское мировоззрение, господствующее, начиная с Возрождения, и включаю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ьютонианскую картину физического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ммунистически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личается от новоевро-пейского мифа, прочно связанного с принципами и ценностями буржуазного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, что пролетарский миф усваивает себе едва ли не все лозунги буржуазного мифа (в особенно-сти – атеизм) есть следствие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последова-тельности и незрел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979640" y="1700280"/>
            <a:ext cx="503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¿ Вопросы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onf_gozzoli_triumph_of_st_thomas_aquinas_averrhoes"/>
          <p:cNvPicPr/>
          <p:nvPr/>
        </p:nvPicPr>
        <p:blipFill>
          <a:blip r:embed="rId1"/>
          <a:stretch/>
        </p:blipFill>
        <p:spPr>
          <a:xfrm>
            <a:off x="2340000" y="4005360"/>
            <a:ext cx="4524480" cy="1439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и отрицате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трицатель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коренённость в тота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флективность и инту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ина как проблема онт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предпосылочность фено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екция сущего в тоталь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номен как состояние-переход между частью и це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ожительная и отрицательн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rganization Chart 7"/>
          <p:cNvGrpSpPr/>
          <p:nvPr/>
        </p:nvGrpSpPr>
        <p:grpSpPr>
          <a:xfrm>
            <a:off x="431640" y="1978200"/>
            <a:ext cx="8208360" cy="4463640"/>
            <a:chOff x="431640" y="1978200"/>
            <a:chExt cx="8208360" cy="4463640"/>
          </a:xfrm>
        </p:grpSpPr>
        <p:cxnSp>
          <p:nvCxnSpPr>
            <p:cNvPr id="69" name="_s1028"/>
            <p:cNvCxnSpPr>
              <a:stCxn id="70" idx="3"/>
              <a:endCxn id="71" idx="2"/>
            </p:cNvCxnSpPr>
            <p:nvPr/>
          </p:nvCxnSpPr>
          <p:spPr>
            <a:xfrm flipV="1">
              <a:off x="2670120" y="2946960"/>
              <a:ext cx="373680" cy="3300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" name="_s1029"/>
            <p:cNvCxnSpPr>
              <a:stCxn id="73" idx="3"/>
              <a:endCxn id="71" idx="2"/>
            </p:cNvCxnSpPr>
            <p:nvPr/>
          </p:nvCxnSpPr>
          <p:spPr>
            <a:xfrm flipV="1">
              <a:off x="2670120" y="2946960"/>
              <a:ext cx="373680" cy="271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" name="_s1030"/>
            <p:cNvCxnSpPr>
              <a:stCxn id="75" idx="3"/>
              <a:endCxn id="71" idx="2"/>
            </p:cNvCxnSpPr>
            <p:nvPr/>
          </p:nvCxnSpPr>
          <p:spPr>
            <a:xfrm flipV="1">
              <a:off x="2670120" y="2947320"/>
              <a:ext cx="373680" cy="213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" name="_s1031"/>
            <p:cNvCxnSpPr>
              <a:stCxn id="77" idx="3"/>
              <a:endCxn id="71" idx="2"/>
            </p:cNvCxnSpPr>
            <p:nvPr/>
          </p:nvCxnSpPr>
          <p:spPr>
            <a:xfrm flipV="1">
              <a:off x="2670120" y="2946960"/>
              <a:ext cx="373680" cy="1554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" name="_s1032"/>
            <p:cNvCxnSpPr>
              <a:stCxn id="79" idx="3"/>
              <a:endCxn id="71" idx="2"/>
            </p:cNvCxnSpPr>
            <p:nvPr/>
          </p:nvCxnSpPr>
          <p:spPr>
            <a:xfrm flipV="1">
              <a:off x="2670120" y="2946960"/>
              <a:ext cx="373680" cy="97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" name="_s1033"/>
            <p:cNvCxnSpPr>
              <a:stCxn id="81" idx="3"/>
              <a:endCxn id="71" idx="2"/>
            </p:cNvCxnSpPr>
            <p:nvPr/>
          </p:nvCxnSpPr>
          <p:spPr>
            <a:xfrm flipV="1">
              <a:off x="2670120" y="2946960"/>
              <a:ext cx="373680" cy="3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" name="_s1034"/>
            <p:cNvCxnSpPr>
              <a:stCxn id="83" idx="1"/>
              <a:endCxn id="84" idx="2"/>
            </p:cNvCxnSpPr>
            <p:nvPr/>
          </p:nvCxnSpPr>
          <p:spPr>
            <a:xfrm rot="10800000">
              <a:off x="6027840" y="2946960"/>
              <a:ext cx="373680" cy="213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" name="_s1035"/>
            <p:cNvCxnSpPr>
              <a:stCxn id="86" idx="1"/>
              <a:endCxn id="84" idx="2"/>
            </p:cNvCxnSpPr>
            <p:nvPr/>
          </p:nvCxnSpPr>
          <p:spPr>
            <a:xfrm rot="10800000">
              <a:off x="6027840" y="2946960"/>
              <a:ext cx="373680" cy="1554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1036"/>
            <p:cNvCxnSpPr>
              <a:stCxn id="88" idx="1"/>
              <a:endCxn id="84" idx="2"/>
            </p:cNvCxnSpPr>
            <p:nvPr/>
          </p:nvCxnSpPr>
          <p:spPr>
            <a:xfrm rot="10800000">
              <a:off x="6027840" y="2946960"/>
              <a:ext cx="373680" cy="97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1037"/>
            <p:cNvCxnSpPr>
              <a:stCxn id="90" idx="1"/>
              <a:endCxn id="84" idx="2"/>
            </p:cNvCxnSpPr>
            <p:nvPr/>
          </p:nvCxnSpPr>
          <p:spPr>
            <a:xfrm rot="10800000">
              <a:off x="6027840" y="2946960"/>
              <a:ext cx="373680" cy="3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1038"/>
            <p:cNvCxnSpPr>
              <a:stCxn id="84" idx="1"/>
              <a:endCxn id="92" idx="2"/>
            </p:cNvCxnSpPr>
            <p:nvPr/>
          </p:nvCxnSpPr>
          <p:spPr>
            <a:xfrm rot="10800000">
              <a:off x="4535280" y="2365560"/>
              <a:ext cx="373680" cy="38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1039"/>
            <p:cNvCxnSpPr>
              <a:stCxn id="71" idx="3"/>
              <a:endCxn id="92" idx="2"/>
            </p:cNvCxnSpPr>
            <p:nvPr/>
          </p:nvCxnSpPr>
          <p:spPr>
            <a:xfrm flipV="1">
              <a:off x="4162680" y="2365920"/>
              <a:ext cx="373680" cy="38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1040"/>
            <p:cNvSpPr/>
            <p:nvPr/>
          </p:nvSpPr>
          <p:spPr>
            <a:xfrm>
              <a:off x="3416400" y="19782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Философ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1"/>
            <p:cNvSpPr/>
            <p:nvPr/>
          </p:nvSpPr>
          <p:spPr>
            <a:xfrm>
              <a:off x="1923840" y="256032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оложительная философ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2"/>
            <p:cNvSpPr/>
            <p:nvPr/>
          </p:nvSpPr>
          <p:spPr>
            <a:xfrm>
              <a:off x="4908960" y="256032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Отрицательная философ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3"/>
            <p:cNvSpPr/>
            <p:nvPr/>
          </p:nvSpPr>
          <p:spPr>
            <a:xfrm>
              <a:off x="6401520" y="31428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ротаг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44"/>
            <p:cNvSpPr/>
            <p:nvPr/>
          </p:nvSpPr>
          <p:spPr>
            <a:xfrm>
              <a:off x="6401520" y="372528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ок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45"/>
            <p:cNvSpPr/>
            <p:nvPr/>
          </p:nvSpPr>
          <p:spPr>
            <a:xfrm>
              <a:off x="6401520" y="430776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Кондилья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46"/>
            <p:cNvSpPr/>
            <p:nvPr/>
          </p:nvSpPr>
          <p:spPr>
            <a:xfrm>
              <a:off x="6401520" y="489024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Ка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7"/>
            <p:cNvSpPr/>
            <p:nvPr/>
          </p:nvSpPr>
          <p:spPr>
            <a:xfrm>
              <a:off x="431640" y="31428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лат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8"/>
            <p:cNvSpPr/>
            <p:nvPr/>
          </p:nvSpPr>
          <p:spPr>
            <a:xfrm>
              <a:off x="431640" y="372528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лот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49"/>
            <p:cNvSpPr/>
            <p:nvPr/>
          </p:nvSpPr>
          <p:spPr>
            <a:xfrm>
              <a:off x="434520" y="4307760"/>
              <a:ext cx="223560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Декар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50"/>
            <p:cNvSpPr/>
            <p:nvPr/>
          </p:nvSpPr>
          <p:spPr>
            <a:xfrm>
              <a:off x="431640" y="489024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Спино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1"/>
            <p:cNvSpPr/>
            <p:nvPr/>
          </p:nvSpPr>
          <p:spPr>
            <a:xfrm>
              <a:off x="431640" y="5472720"/>
              <a:ext cx="2238480" cy="387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ейбни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52"/>
            <p:cNvSpPr/>
            <p:nvPr/>
          </p:nvSpPr>
          <p:spPr>
            <a:xfrm>
              <a:off x="431640" y="605376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Геге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отрицательн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760" y="1456920"/>
            <a:ext cx="880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чки зрения отрицательной философии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бъект и объект разделены пропа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действительность же понимается либо как явление вещи в себе, либо как акт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тика истины и процесса познани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ивается рамками теории позн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сама истина понимается не как имма-нентное, но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ансцендентное согласова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между сужде-нием и вещью в себе, лежащей за пределами действ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вязи с эт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тероном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никает дилемма: или позна-ние согласуется с вещами, или вещи – с познанием (в положи-тельной философии даётся третье решение – самосогласова-ние в пределах единой действи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меет своим источником не порядок и связи в предмете, 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еобязательность су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в конечном итоге – субъекта, утверждающего 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тика истинного, как ограниченная только рамками су-бъекта, предполагает строгое ограничение области истинного, за границами которой располага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иррационально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в итоге развёртывание процесса познания не только не приближает, но всё боле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даляет понятия от действитель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ближая их с идеалами прагматическ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коренённость в тот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исходит из возмож-ности обоснования всякой предметности, она ве-рит в доказательность, в способно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веде-ния всего сущего под некоторое основание, пре-вышающее обосновыв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основание переходит в конечном итоге 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ьную полнот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действительность: всё оказыв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коренённым в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овокупной действительности, выступающей единым и единственным основанием всего су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флективность и интуи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85899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ние проблемы действительности (т.е. пробле-мы положительного обоснования всего сущего), как и средства этого решения, есть также части дейст-вительности, в связи с чем положительная филосо-фия не может не бы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флектирующей в себя нау-к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олагающей в качестве объектов своего об-основания сами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ходя этот путь до конца, положительная фило-софия может остановиться только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уиция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посредственно очевидных началах, предшеству-ющих всякому теоретическому зн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кусство движения в материале действительно-сти, при котором мы не выходим из интуитивного слоя, но движемся от одной непосредственной оче-видности к другой, – это и есть искусство методиче-ского проведения идей положительной философ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6120" y="1600200"/>
            <a:ext cx="86630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истины – это проблема всей действитель-тельности, 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только области зн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как полагает отрицательная философ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ложительной философии оказывается невоз-можны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ядоположное рассмотрение реального и иллюзорн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ак как нет ничего, кроме реальной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ия возможно только внутри самой действи-тельности: иллюзорным оказыв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одержа-ние иллюз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верные соотнош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его с другими областями действи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438200" y="5468760"/>
            <a:ext cx="647856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ё истин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своём мест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лож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месте чуж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7:02:41Z</dcterms:created>
  <dc:creator>Николай Бирюков / Nikolai Biryukov</dc:creator>
  <dc:description>Версия мая 2004 г.</dc:description>
  <dc:language>en-US</dc:language>
  <cp:lastModifiedBy>LEGION</cp:lastModifiedBy>
  <dcterms:modified xsi:type="dcterms:W3CDTF">2014-11-11T10:11:35Z</dcterms:modified>
  <cp:revision>36</cp:revision>
  <dc:subject>История русский философии - Лекция 15</dc:subject>
  <dc:title>Немарксистская философия в СССР</dc:title>
</cp:coreProperties>
</file>