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DBBE-F95E-470E-92AE-FDE2B5706A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A619-CB96-4323-B7C6-F750B2A576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C6E0-37FD-42A1-9C5A-E2D3513220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опирается на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разу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смысл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тализирующей силы с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рони-кающей собою рассудок и чувственность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реп-ляющей все формы и виды действительности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Поним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«уразумение») оказывается актом онтологически проясняющим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ближающим структуру сознания с бытие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-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ознание лежит не вне действительно-сти, а внутри неё, т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делять его от действи-тельности иллюзор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EC1F-FF34-4DC5-B4A3-2C7E7D665E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сякое сущее (дискретность) может рассматри-ваться двояко: как элемент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ой тоталь-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ак элемент одной из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тотальност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ключённых в предельную тот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гда сущее рассматривается в вид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(т.е. элемента предельной тотальности), то пока-зателем этого будет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еспредпосылоч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.е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чевид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е позволяющая нам помыс-лить феномен как-то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, наоборот, если нам удалось помыслить нечто в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тивной очевид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значит, мы конституировали ег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еноме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F5E5-DF50-471F-A85A-CE749BDCB9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тальное тесно связанно с интуитивно очевид-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ить своеобразную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проекцию» сущего в тоталь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это и значит осуществить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εποχ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феноменологическую редук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1C7B-53D3-45FE-8AC2-50DC75462F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38B9-506D-46EE-8D31-7037324691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ый космос и современная наук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Философия имен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художественной формы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зыка как предмет логики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числа у Плотина (192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платонизма у Аристотеля (192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и античного символизма и мифологии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ка мифа (19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античной эстетики (1963-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ичная философия истории (19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ка Возрождения (197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. Соловьёв и его время (199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91F1-F238-48FF-B937-944A17A4C8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E45D-92FB-4F28-98B9-F6609828A8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основе философии Лосева –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етод логико-смыслового конструирования философского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 философский предмет понимается в гуссер-лианском смысле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феномен сознан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эйд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3D95-C207-463C-B985-A3A1589D4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56B2-C405-419F-996E-493423C222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Логико-смысловое констру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йдос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 «перепись» составных частей смысла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DF92-1386-4654-9A9F-77534A7CF0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марксистская философия в ССС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96F1-815F-496C-BF6C-9AD864F661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B063-1837-4A9B-BF36-4CF6D2B7EC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, чтобы быть, долж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личаться от и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нет иного, нет и одного. Стало быть одно полагает себя вместе со своим и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ебуе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го и, следова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льно, мыслится с ни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раз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ождественн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как одно и иное тождественны? Это возможно только так, чт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о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итс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новл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е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интез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бытия и не-бытия, одного и и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B8A5-6F09-4BFA-9B87-24C8EB5B97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ш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который несёт на себе вышевыведенную триаду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альнейшее сопряжение приводит к инаковос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й характеристике уже самы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ак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ам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тав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ше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и, рассматривая все эти возможные см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овые судьбы становящегося факта, т.е. соот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я осмысленный факт с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е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женны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мысл факта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у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ущ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ость, ег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ffff"/>
                </a:solidFill>
                <a:latin typeface="Calibri"/>
              </a:rPr>
              <a:t>Имя есть тождество триадного эйдоса с его фактическим инобытием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BF96-F9B3-44DE-A6C5-CADC7EB642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B7A1-7792-435A-ABCA-539DD38825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Символ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8139-1BA0-4F5A-9787-6D1E10BEF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DAA5-F3F6-4147-A84F-1FB68E9758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FD44-F3CF-459B-ADA6-A0A41C15E8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иалектическая феноменолог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Первокатегор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B364-F533-48A5-B85A-22F68FCA00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 воплощённости эйдос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ле-чённость в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раженност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она требует не просто воплощённости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оплощённости в живом и личн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этому в определении мифа участвует ещё одна категория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или (само)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A050-720C-4EA0-BEEB-9DA8CDD88F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йдетическ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D12F-324F-4623-B01C-F3DB8A3D55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и смысл: Феноменология как основная наука и её проблемы (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вый опыт логики исторических наук (К истории рационализма XVIII века) (19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я как проблема логики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знание и его собственник (19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удрость или разум (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ерменевтика и её проблемы (19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кептик и его душа (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черк развития русской философии (19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стетические фрагменты (1922-19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утренняя форма слова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тническую психологию (19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DAF8-03DC-4202-8ADF-43E03B08E4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кольку специфика мифа в том, что он  «уже не есть эйдос, он – 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вещь» среди других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следова-тельных отграничений мифа от смежных, близ-ких явлени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2508-BAAA-490C-967D-DBC05BB177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вымысе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логически необходимая категория сознания и 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идеальное быт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зненно ощущаемая и творимая вещественная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научное построе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живое субъект-объектное взаимооб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метафизик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чувственная действительность, хотя и отрешённая от обычного хода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хема и аллегор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симв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поэз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47A4-98C1-4CEE-9ED4-CC269C31B2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5453-77DA-46A2-A344-0C6B2B341A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онкретная» дефиниция ми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2776-89DE-4622-B800-1C3A3C3A78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ф – всепроникающая стихия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щая всюду в человеке и вок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– прирождённый человеку и социуму (хотя и не единственный для них)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пособ видения и толкования себя 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этом, мифичность человеческого опыт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манент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не привносима человеческ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AA6E-67C0-4131-B3F6-63AD89896D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8E7D-AAB9-41E3-8418-CCAB962CBE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E9A4-9D7D-4833-AA06-72E81C82C3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Положительная и отрицатель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1592-6AC4-4910-A63C-52BC7E7669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ритика отрицательной философ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точки зрения отрицательной философии,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убъект и объект разделены пропа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действительность же понимается либо как явление вещи в себе, либо как акт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ы и процесса познани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граничивается рамками теории по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сама истина понимается не как имма-нентное, но как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рансцендентное согласовани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между сужде-нием и вещью в себе, лежащей за пределами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связи с этой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етерономностью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обходимость имеет своим источником не порядок и связи в предмете, но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бщеобязательность сужд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в конечном итоге – субъекта, утверждающего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«иррациональное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; в итоге развёртывание процесса познания не только не приближает, но всё более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даляет понятия от действите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сближая их с идеалами прагмат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5281-12E5-4208-A488-3525DAC77D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Укоренённость в тота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дведе-ния всего сущего под некоторое основание, пре-вышающее обосновывае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 основание переходит в конечном итоге в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едельную полноту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действительность: всё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коренённым в тотально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7CB4-D3FF-4CB5-A5DF-5E182DB085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флективность и интуи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ефлектирующей в себя нау-ко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олагающей в качестве объектов своего об-основания сами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туициях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непосредственно очевидных началах, предшеству-ющих всякому теоретическому 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F05C-769B-4423-B4FF-CFE0CB7135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ложитель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Истина как проблема онт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истины – это проблема всей действитель-тельности, 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только области зна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как полагает отрицательная философ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оложительной философии оказывается невоз-можным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ядоположное рассмотрение реального и иллюзорного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так как нет ничего, кроме реальн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 содержа-ние иллюзи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а лиш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еверные соотношения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его с другими областями действи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214A-D716-4B3C-91B2-2B3D250BB2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4FC-0C3E-4AD5-9AD8-6174D454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39B-FE1E-4BA8-B131-152123B7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3A7-5C9B-4315-BEB1-A6433519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7E0-EED9-40BD-8230-305662E6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B18-DA76-4FB1-B4AA-9E480C79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F5F-26CF-4B81-ADDD-2C710271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374-7283-4415-9DE7-EF0E3AFB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7E8-6E2E-43C9-9132-3E02E53C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023-5D7B-46BC-9851-495A565F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DB8-84D7-4C3B-8F16-2B8BD204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C9A-45AB-4298-976A-688C4478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20A-B4CC-4E84-AB6A-4D6C0F99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704A-9FAB-4D9B-A16F-827CFAB56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142720"/>
            <a:ext cx="82738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ь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охвате материала действительно-сти коррелируе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предстаёт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истины, опирающаяся на идею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единого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а исходит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ичного единства всего сущ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зволяющего сделать соизмеримыми, принципиально способными к соотнесению все дискретно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же за случайным необходимо видеть т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н закономер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о отношению к которому случайное только и может быть определено как так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ая изменчивость апеллирует 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жд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 позиции которого только и возможна длительность изменя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якое непонимание вскрывает, по крайней мере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можность поним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опирается на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разу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ализирующей силы со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они-кающей собою рассудок и чувственность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креп-ляющей все формы и виды действительности в единое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Понима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«уразумение») оказывается актом онтологически проясняющим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ближающим структуру сознания с бытие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действительно-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ознание лежит не вне действительно-сти, а внутри неё, т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делять его от действи-тельности иллюзо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разумное познание и по-нимание своей тотализацией снимает указанную иллюзию, обеспечивая свою исти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якое сущее (дискретность) может рассматри-ваться двояко: как элемен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ой тоталь-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как элемент одной из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тотальност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включённых в предельную тот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сущее рассматривается в вид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(т.е. элемента предельной тотальности), то пока-зателем этого будет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еспредпосылоч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.е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чевид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е позволяющая нам помыс-лить феномен как-то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, наоборот, если нам удалось помыслить нечто в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тивной очевид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значит, мы конституировали его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еноме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тальное тесно связанно с интуитивно очевид-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чевидность, «проблемность» сущего не есть свойство его, сохраняющееся во всех «установ-ках», а есть следствие некоторых из этих «уста-новок»; проблемность какой-нибудь мысли не присуща самой мысли абсолютно, а есть резуль-тат нефиксации некоторых элементов, без кото-рых эта мысль и оказывается проблем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ить своеобразную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проекцию» сущего в тоталь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это и значит осуществить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εποχ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феноменологическую редукц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не столько «очищаем» сущее от чего-то, сколько проецируем его в плоскость тотального, получая фено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5760" y="1869840"/>
            <a:ext cx="8589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 – э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стояние-перехо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ношение) меж-ду частью и целым, между индивидуальным и то-т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критерий очевидности перестаёт быть присущим только данному феномену, он является таковым лишь при апелляции к очевидности сово-купно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еномен предстаёт не изолированной, замкну-той в себе дискретностью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зл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 которому тя-нутся нити от все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ую структуру имее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а феноменолог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импатического понимания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ежду людьми, выражающаяся в «уразумении» сказанного друг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ов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рменевтическое поним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предполагающее проникновение в «энтелехию» предмета, его «душ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ый космос и современная наук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художественной формы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зыка как предмет логики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числа у Плотина (19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латонизма у Аристотеля (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античного символизма и мифологии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 мифа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античной эстетики (1963-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чная философия истории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ка Возрождения (197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. Соловьёв и его время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Лосев (1)"/>
          <p:cNvPicPr/>
          <p:nvPr/>
        </p:nvPicPr>
        <p:blipFill>
          <a:blip r:embed="rId1"/>
          <a:stretch/>
        </p:blipFill>
        <p:spPr>
          <a:xfrm>
            <a:off x="358920" y="1798560"/>
            <a:ext cx="3379680" cy="43182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снове философии Лосева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 логико-смыслового конструирования философск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 философский предмет понимается в гуссер-лианском смысле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феномен сознания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эйд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719280" y="4138560"/>
            <a:ext cx="7916760" cy="19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Эйдос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ивысшая мыслительная абстрак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торая тем не менее дан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кретно, нагля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760" y="1330200"/>
            <a:ext cx="8805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ая установка позволяет делать предметом философ-ского рассмотрения самые разные сферы реаль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ея в вид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мотрение их сущ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мпир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не превращая их 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нят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чисто спекулятивную, отвле-чённо-мыслительную реальность), т.е. сохраняя их конкрет-ную природу (в этом её отличие о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твлечённой диалект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днако метод Лосева отличается и от феноменологии Гуссер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Гуссерлю, «усмотрение сущности» состоит исключитель-но в описании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еноменологической дескрипции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ысло-вой структуры феномена как совокупности рядоположенны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севу же смысловая структура феномена виделась не статическим собранием элементов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ивым их еди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ей философского метода он считал не просто дескри-бировать смысловую структуру в определённых категориях, но «одну категорию объяснить другой категорий, так, чтобы было видно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а категория порождает другую, и все вместе – друг дру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гико-смысловое констру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категориальная разработка не гегелевского понятия, а платоновско-гуссерлианского эйдоса, однако тако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 «перепись» составных частей смысл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719280" y="3598920"/>
            <a:ext cx="7916760" cy="28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ое быти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редмета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низан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ысловыми энергиями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ущими из его глубины 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кладывающимися в цельную живую картину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вленного лика сущности предмет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марксистская философия в ССС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98920" y="1798560"/>
            <a:ext cx="3168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878200" y="5397480"/>
            <a:ext cx="32414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. Лосев (1893-1988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Шпет (1)"/>
          <p:cNvPicPr/>
          <p:nvPr/>
        </p:nvPicPr>
        <p:blipFill>
          <a:blip r:embed="rId1"/>
          <a:stretch/>
        </p:blipFill>
        <p:spPr>
          <a:xfrm>
            <a:off x="684360" y="1916280"/>
            <a:ext cx="2442960" cy="30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Лосев (3)"/>
          <p:cNvPicPr/>
          <p:nvPr/>
        </p:nvPicPr>
        <p:blipFill>
          <a:blip r:embed="rId2"/>
          <a:stretch/>
        </p:blipFill>
        <p:spPr>
          <a:xfrm>
            <a:off x="6227640" y="3284640"/>
            <a:ext cx="2162160" cy="3057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эйдос – всё же объек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ектуальной интуи-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«без какого-либо намёка на субстанциальност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наделяется множеством зрительных характерис-тик, но речь всегда идёт об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умном» зр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до чувственной реальности – она остаётся для эйдоса всецел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опри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для диалектического метода «иная приро-да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ческая противоположность данн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 обе природы немедленно вовлекаются в диалекти-ческий процесс, в «диалектику одного и иного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» логически предполагает (в терминах диалектики – «самополагает») «ино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оказывается с ним в отношении тождества и различия (диалектического «единства противоположностей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нее же, будучи единством, есть, тем самым, некая новая цельность («диалектический синтез»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о, чтобы быть, долж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личаться от и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нет иного, нет и одного. Стало быть одно полагает себя вместе со своим и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одно не может быть только различно с иным. Оно, именно для того чтобы быть самим собой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ебу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го и, следов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ьно, мыслится с ни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раз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Если оно только отлично от иного – оно не имеет никакой границы и, следовательно, оно не есть оно. Но оно – оно, и, значит, оно не только отлично от иного, но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ждествен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160" indent="-398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как одно и иное тождественны? Это возможно только так, чт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дн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итс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новл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нтез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и не-бытия, одного и и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ее, как одно, соединившись со своим инобытием, дало становление, так становление, требуя, как и всё, для своего существования – своего инобытия и соединяясь с ним, даёт новую категорию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ш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который несёт на себе вышевыведенную триаду смы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льнейшее сопряжение приводит к инаковос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й характеристике уже самы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ак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сам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е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и, рассматривая все эти возможные см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ые судьбы становящегося факта, т.е. соо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я осмысленный факт с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нобытием, т.е. с его возможными воплощениями, мы получаем уже не просто смысл, или эйдос факта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жен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мысл факта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у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у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сть,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Имя есть тождество триадного эйдоса с его фактическим инобытием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огическое 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9760" y="1600200"/>
            <a:ext cx="8663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исходящий таким образом диалектический пере-ход одного в двуединство одного и иного выходит за рамки формальной логики и обозначается осо-бым термино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огического станов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йдос – самый благодарный объект для проведе-ния этого диалектического приё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 дан с так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фигурность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что, собственно, уже почти чувствен, как нельзя лучше приспособлен для воспроизведения в чувственном как в своей инаков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и в соединении со своим инобытием эйдос не утрачивает своих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ны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йство, и образовавшееся двуединство остаё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ысловой карти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ченный таким образом философский предмет – смысловая картина, выраженная в телесно-чувст-венном, совершенное двуединство умного и чувст-венного содержания есть не что ино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мво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19280" y="1258920"/>
            <a:ext cx="7916760" cy="21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неразличимое тождество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го и особ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деального и реального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есконечного и конечного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42920" y="3130560"/>
            <a:ext cx="8853480" cy="269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огически становящийся эйдос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своя собстве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постазированная инаковость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рассмотренный как единичность в её соотнесени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этой и, следовательно, со всякой инаков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719280" y="5576760"/>
            <a:ext cx="7916760" cy="1079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мвол ес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, воспроизводимый на и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алектико-феноменологическое конструирование эйдосов и символов осуществляется посредством типовых формул, где по-разному комбинируютс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ять первокатегори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одно, суще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к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виж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кое строительство из «унифицированных» блоков даёт лишь отвлечённую логическую схему, «скелет» предмета; всякий такой конструкт оказываетс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19280" y="5468760"/>
            <a:ext cx="791676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единичностью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, данной как алогическое становление </a:t>
            </a:r>
            <a:br>
              <a:rPr sz="2200"/>
            </a:br>
            <a:r>
              <a:rPr b="1" lang="ru-RU" sz="2200" spc="-1" strike="noStrike">
                <a:solidFill>
                  <a:srgbClr val="006600"/>
                </a:solidFill>
                <a:latin typeface="Arial"/>
              </a:rPr>
              <a:t>подвижного покоя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амотождественного различия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его можно и нужно подвергнуть вторичному переосмыслению с точки зрения тех же первока-тегорий; тогда мы получим следующую группу категор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ственно </a:t>
            </a: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эйд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топос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ff"/>
                </a:solidFill>
                <a:latin typeface="Arial"/>
              </a:rPr>
              <a:t>число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ческая феномен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14292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имен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ичност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31305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тождественн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лич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116760" y="1798560"/>
            <a:ext cx="2879640" cy="269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«множество»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ть единичность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движного поко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мотождествен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зличия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как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подвижной по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08000" y="4857840"/>
            <a:ext cx="2951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йд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мы имеем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ыс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как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которую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тегорию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309420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пос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д нам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стилается некое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мное пространств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081840" y="4857840"/>
            <a:ext cx="2950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иксируется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о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вижность смысл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определённый момент или стадия конст-руирования эйдоса, точнее – последняя, завершаю-щая стад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 воплощённости эйдо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схожим образом определяется и символ, ко-торый есть предельная воплощённость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ле-чённость в и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личие мифа от символа состоит в том, что миф есть, кроме того, ещё и предельна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раженнос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она требует не просто воплощённости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площённости в живом и личн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этому в определении мифа участвует ещё одна категория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или (само)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006560" y="5505480"/>
            <a:ext cx="7197480" cy="125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знание, интеллигенция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отнесённость смысла с самим собой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йдетическ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690560" y="1978200"/>
            <a:ext cx="5757840" cy="180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– э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анный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0560" y="4317840"/>
            <a:ext cx="575784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иген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ка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йдо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49480" y="179856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вление и смысл: Феноменология как основная наука и её проблемы (19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опыт логики исторических наук (К истории рационализма XVIII века) (19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как проблема логики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е и его собственник (19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дрость или разум (19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еневтика и её проблемы (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ептик и его душа (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 развития русской философии (19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ческие фрагменты (1922-19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утренняя форма слова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едение в этническую психологию (1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501800" y="1150920"/>
            <a:ext cx="40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Шпет (1)"/>
          <p:cNvPicPr/>
          <p:nvPr/>
        </p:nvPicPr>
        <p:blipFill>
          <a:blip r:embed="rId1"/>
          <a:stretch/>
        </p:blipFill>
        <p:spPr>
          <a:xfrm>
            <a:off x="358920" y="1798560"/>
            <a:ext cx="3450960" cy="4319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кольку специфика мифа в том, что он  «уже не есть эйдос, он –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» (точнее – чувственная и эмпирическая реальность), то исследовать миф – это не столько описать эйдос мифа среди других эйдосов, сколько описать сам миф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щь» среди других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ение конкретной дефиниции мифа отлича-ется от эйдетического конструирования и следу-ет более традиционной процедур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ледова-тельных отграничений мифа от смежных, близ-ких явл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вымысе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логически необходимая категория сознания и 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идеальное быт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зненно ощущаемая и творимая вещественная ре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научное постро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живое субъект-объектное взаим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метафиз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чувственная действительность, хотя и отрешённая от обычного хода 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хема и аллег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симв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поэз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возведение изолированных и абстрактно выделенных вещей в интуитивно-инстинктивную сфер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чностная форм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едполаг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озн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ос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р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 истории различаются три сло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риродно-вещественный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ами события и факты; это – действительность, ещё не просвещённая и не проработанная разумом, а, следовательно, строго говоря, ещё не действитель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ие струк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торического, концепции и схемы истории; это – действительность, уже осмысленная, но осмысленная извн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ория как сознающее самоё себ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здесь она выступает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теллиген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ыражающая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уд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совпадение эмпирического бытия личности с её «идеальным заданием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онкретная» дефиниция ми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74920" y="2158920"/>
            <a:ext cx="431784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иф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ть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словах дан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удес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чностна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ори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ф – всепроникающая стихия,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ая всюду в человеке и вок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– прирождённый человеку и социуму (хотя и не единственный для них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 видения и толкования себя и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, мифичность человеческого опыт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нент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не привносима человеческой псих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миф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ифы вокруг на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л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Правосл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ёмны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овоевропейское мировоззрение, господствующее, начиная с Возрождения, и включа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ьютонианскую картину физического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ммунистический миф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личается от новоевро-пейского мифа, прочно связанного с принципами и ценностями буржуазн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, что пролетарский миф усваивает себе едва ли не все лозунги буржуазного мифа (в особенно-сти – атеизм) есть следствие ег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последова-тельности и незрел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. Шпет (1879-19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и отрицате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оренённость в тота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а как проблема онт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еноме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редпосылочность фено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екция сущего в тоталь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еномен как состояние-переход между частью и це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ая и отрицательн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rganization Chart 7"/>
          <p:cNvGrpSpPr/>
          <p:nvPr/>
        </p:nvGrpSpPr>
        <p:grpSpPr>
          <a:xfrm>
            <a:off x="431640" y="1978200"/>
            <a:ext cx="8208360" cy="4463640"/>
            <a:chOff x="431640" y="1978200"/>
            <a:chExt cx="8208360" cy="4463640"/>
          </a:xfrm>
        </p:grpSpPr>
        <p:cxnSp>
          <p:nvCxnSpPr>
            <p:cNvPr id="69" name="_s1028"/>
            <p:cNvCxnSpPr>
              <a:stCxn id="70" idx="3"/>
              <a:endCxn id="71" idx="2"/>
            </p:cNvCxnSpPr>
            <p:nvPr/>
          </p:nvCxnSpPr>
          <p:spPr>
            <a:xfrm flipV="1">
              <a:off x="2670120" y="2946960"/>
              <a:ext cx="373680" cy="3300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" name="_s1029"/>
            <p:cNvCxnSpPr>
              <a:stCxn id="73" idx="3"/>
              <a:endCxn id="71" idx="2"/>
            </p:cNvCxnSpPr>
            <p:nvPr/>
          </p:nvCxnSpPr>
          <p:spPr>
            <a:xfrm flipV="1">
              <a:off x="2670120" y="2946960"/>
              <a:ext cx="373680" cy="271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" name="_s1030"/>
            <p:cNvCxnSpPr>
              <a:stCxn id="75" idx="3"/>
              <a:endCxn id="71" idx="2"/>
            </p:cNvCxnSpPr>
            <p:nvPr/>
          </p:nvCxnSpPr>
          <p:spPr>
            <a:xfrm flipV="1">
              <a:off x="2670120" y="294732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" name="_s1031"/>
            <p:cNvCxnSpPr>
              <a:stCxn id="77" idx="3"/>
              <a:endCxn id="71" idx="2"/>
            </p:cNvCxnSpPr>
            <p:nvPr/>
          </p:nvCxnSpPr>
          <p:spPr>
            <a:xfrm flipV="1">
              <a:off x="267012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" name="_s1032"/>
            <p:cNvCxnSpPr>
              <a:stCxn id="79" idx="3"/>
              <a:endCxn id="71" idx="2"/>
            </p:cNvCxnSpPr>
            <p:nvPr/>
          </p:nvCxnSpPr>
          <p:spPr>
            <a:xfrm flipV="1">
              <a:off x="267012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" name="_s1033"/>
            <p:cNvCxnSpPr>
              <a:stCxn id="81" idx="3"/>
              <a:endCxn id="71" idx="2"/>
            </p:cNvCxnSpPr>
            <p:nvPr/>
          </p:nvCxnSpPr>
          <p:spPr>
            <a:xfrm flipV="1">
              <a:off x="267012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" name="_s1034"/>
            <p:cNvCxnSpPr>
              <a:stCxn id="83" idx="1"/>
              <a:endCxn id="84" idx="2"/>
            </p:cNvCxnSpPr>
            <p:nvPr/>
          </p:nvCxnSpPr>
          <p:spPr>
            <a:xfrm rot="10800000">
              <a:off x="6027840" y="2946960"/>
              <a:ext cx="373680" cy="2136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035"/>
            <p:cNvCxnSpPr>
              <a:stCxn id="86" idx="1"/>
              <a:endCxn id="84" idx="2"/>
            </p:cNvCxnSpPr>
            <p:nvPr/>
          </p:nvCxnSpPr>
          <p:spPr>
            <a:xfrm rot="10800000">
              <a:off x="6027840" y="2946960"/>
              <a:ext cx="373680" cy="1554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1036"/>
            <p:cNvCxnSpPr>
              <a:stCxn id="88" idx="1"/>
              <a:endCxn id="84" idx="2"/>
            </p:cNvCxnSpPr>
            <p:nvPr/>
          </p:nvCxnSpPr>
          <p:spPr>
            <a:xfrm rot="10800000">
              <a:off x="6027840" y="2946960"/>
              <a:ext cx="373680" cy="97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37"/>
            <p:cNvCxnSpPr>
              <a:stCxn id="90" idx="1"/>
              <a:endCxn id="84" idx="2"/>
            </p:cNvCxnSpPr>
            <p:nvPr/>
          </p:nvCxnSpPr>
          <p:spPr>
            <a:xfrm rot="10800000">
              <a:off x="6027840" y="2946960"/>
              <a:ext cx="373680" cy="389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1038"/>
            <p:cNvCxnSpPr>
              <a:stCxn id="84" idx="1"/>
              <a:endCxn id="92" idx="2"/>
            </p:cNvCxnSpPr>
            <p:nvPr/>
          </p:nvCxnSpPr>
          <p:spPr>
            <a:xfrm rot="10800000">
              <a:off x="4535280" y="236556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1039"/>
            <p:cNvCxnSpPr>
              <a:stCxn id="71" idx="3"/>
              <a:endCxn id="92" idx="2"/>
            </p:cNvCxnSpPr>
            <p:nvPr/>
          </p:nvCxnSpPr>
          <p:spPr>
            <a:xfrm flipV="1">
              <a:off x="4162680" y="2365920"/>
              <a:ext cx="373680" cy="388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1040"/>
            <p:cNvSpPr/>
            <p:nvPr/>
          </p:nvSpPr>
          <p:spPr>
            <a:xfrm>
              <a:off x="3416400" y="19782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Философ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1"/>
            <p:cNvSpPr/>
            <p:nvPr/>
          </p:nvSpPr>
          <p:spPr>
            <a:xfrm>
              <a:off x="192384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оложи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2"/>
            <p:cNvSpPr/>
            <p:nvPr/>
          </p:nvSpPr>
          <p:spPr>
            <a:xfrm>
              <a:off x="4908960" y="256032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Отрицательная философ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3"/>
            <p:cNvSpPr/>
            <p:nvPr/>
          </p:nvSpPr>
          <p:spPr>
            <a:xfrm>
              <a:off x="640152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таг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44"/>
            <p:cNvSpPr/>
            <p:nvPr/>
          </p:nvSpPr>
          <p:spPr>
            <a:xfrm>
              <a:off x="640152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ок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5"/>
            <p:cNvSpPr/>
            <p:nvPr/>
          </p:nvSpPr>
          <p:spPr>
            <a:xfrm>
              <a:off x="6401520" y="4307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ондилья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46"/>
            <p:cNvSpPr/>
            <p:nvPr/>
          </p:nvSpPr>
          <p:spPr>
            <a:xfrm>
              <a:off x="640152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Ка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7"/>
            <p:cNvSpPr/>
            <p:nvPr/>
          </p:nvSpPr>
          <p:spPr>
            <a:xfrm>
              <a:off x="431640" y="314280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ат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8"/>
            <p:cNvSpPr/>
            <p:nvPr/>
          </p:nvSpPr>
          <p:spPr>
            <a:xfrm>
              <a:off x="431640" y="372528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лот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49"/>
            <p:cNvSpPr/>
            <p:nvPr/>
          </p:nvSpPr>
          <p:spPr>
            <a:xfrm>
              <a:off x="434520" y="4307760"/>
              <a:ext cx="223560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Декар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50"/>
            <p:cNvSpPr/>
            <p:nvPr/>
          </p:nvSpPr>
          <p:spPr>
            <a:xfrm>
              <a:off x="431640" y="489024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Спино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1"/>
            <p:cNvSpPr/>
            <p:nvPr/>
          </p:nvSpPr>
          <p:spPr>
            <a:xfrm>
              <a:off x="431640" y="5472720"/>
              <a:ext cx="2238480" cy="387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йбни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52"/>
            <p:cNvSpPr/>
            <p:nvPr/>
          </p:nvSpPr>
          <p:spPr>
            <a:xfrm>
              <a:off x="431640" y="6053760"/>
              <a:ext cx="2238480" cy="388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Геге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отрицательн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760" y="1456920"/>
            <a:ext cx="880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чки зрения отрицательной философии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ъект и объект разделены пропа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ействительность же понимается либо как явление вещи в себе, либо как акт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ы и процесса познани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ивается рамками теории позна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сама истина понимается не как имма-нентное, но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рансцендентное согласова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между сужде-нием и вещью в себе, лежащей за пределами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вязи с эт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тероном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никает дилемма: или позна-ние согласуется с вещами, или вещи – с познанием (в положи-тельной философии даётся третье решение – самосогласова-ние в пределах единой действ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меет своим источником не порядок и связи в предмете, 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еобязательность су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в конечном итоге – субъекта, утверждающего 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тика истинного, как ограниченная только рамками су-бъекта, предполагает строгое ограничение области истинного, за границами которой располага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иррационально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 в итоге развёртывание процесса познания не только не приближает, но всё бол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даляет понятия от действитель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ближая их с идеалами прагматичес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оренённость в тот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ая философия исходит из возмож-ности обоснования всякой предметности, она ве-рит в доказательность, в способно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веде-ния всего сущего под некоторое основание, пре-вышающее обосновыв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основание переходит в конечном итоге 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дельную полнот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действительность: всё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коренённым в тоталь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овокупной действительности, выступающей единым и единственным основанием всего су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флективность и инту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85899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 проблемы действительности (т.е. пробле-мы положительного обоснования всего сущего), как и средства этого решения, есть также части дейст-вительности, в связи с чем положительная филосо-фия не может не бы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флектирующей в себя нау-к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олагающей в качестве объектов своего об-основания сами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ходя этот путь до конца, положительная фило-софия может остановиться только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уиция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непосредственно очевидных началах, предшеству-ющих всякому теоретическому зн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кусство движения в материале действительно-сти, при котором мы не выходим из интуитивного слоя, но движемся от одной непосредственной оче-видности к другой, – это и есть искусство методиче-ского проведения идей положительной филосо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льная философ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ина как проблема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6120" y="1600200"/>
            <a:ext cx="86630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а истины – это проблема всей действитель-тельности, 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только области зн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как полагает отрицательная философ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ложительной философии оказывается невоз-можным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ядоположное рассмотрение реального и иллюзорног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ак как нет ничего, кроме реально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ия возможно только внутри самой действи-тельности: иллюзорным оказыва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одержа-ние иллюз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верные соотнош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его с другими областями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438200" y="5468760"/>
            <a:ext cx="64785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ё истин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своём мест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лож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 месте чуж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7:02:41Z</dcterms:created>
  <dc:creator>Николай Бирюков / Nikolai Biryukov</dc:creator>
  <dc:description>Версия мая 2004 г.</dc:description>
  <dc:language>en-US</dc:language>
  <cp:lastModifiedBy>LEGION</cp:lastModifiedBy>
  <dcterms:modified xsi:type="dcterms:W3CDTF">2014-11-11T10:11:35Z</dcterms:modified>
  <cp:revision>36</cp:revision>
  <dc:subject>История русский философии - Лекция 15</dc:subject>
  <dc:title>Немарксистская философия в СССР</dc:title>
</cp:coreProperties>
</file>