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1800" y="1116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774960" y="1116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-1800" y="933444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198E7D-047D-4408-A076-5657D32A0BF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Img"/>
          </p:nvPr>
        </p:nvSpPr>
        <p:spPr>
          <a:xfrm>
            <a:off x="883800" y="73800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897520" y="939852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BDE4-6A10-4633-B2B3-EF2E1A50A1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ДЕТСКИЕ БОЛЕЗНИ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 КУР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    ИЗУЧЕНИЕ ТИПИЧНОГО ТЕ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ОРЕТИЧЕСК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ОЕ ЗНАКОМСТВО С ОСНОВНЫМИ НОЗОЛОГ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ДИАГНОСТИКА И ЛЕЧЕНИЕ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ЦИПЛИН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«ДЕТСКИЕ БОЛЕЗНИ»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4 КУР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ЦЕЛЬ:     ИЗУЧЕНИЕ ТИПИЧНОГО ТЕЧЕН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НОВНОЙ ПАТОЛОГ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русно-бактериальное воспаление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, бронхоспазмом, каш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бронхитов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просто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ирующ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ирусно-бактериальное воспаление вс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, бронхоспазмом, кашл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ассификация бронхитов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в циф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асто устанавливаемый диагноз  врачами общей практики в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по бронхиту в США составляют от 200 до 300 млн. долл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протекают в виде острого обструктивн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в цифр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АЛЬ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ЗИТАР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 распространяются при чихании, кашле разгово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ножение вир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клетки, выход вирусов и заражение нов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 распространяются при чихании, кашле разговоре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никновение вируса в клетку слизистой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змножение вирус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бель клетки, выход вирусов и заражение нов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среды - поллю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функция реснитчат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ритативное действие на эпителиальную кле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грануляция тучн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бной фл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вязкости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акторы среды - поллютан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функция реснитчат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рритативное действие на эпителиальную клетку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 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грануляция тучн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л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икробной фл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ышение вязкости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йерная лента мерцательн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ло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родное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ь З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озн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мембр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нич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лизистая же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а Бех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вейерная лента мерцательн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 глотк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ородное тел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ль Зо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розн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мембра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снич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дслизистая желез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етка Бехе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мукоцилиарного транспорта при бронх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лщение гель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е фазы з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медиаторов воспа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колонизации возбу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дление или остановка мукоцилиарн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мукоцилиарного транспорта при бронхит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толщение гель фаз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меньшение фазы зо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йствие медиаторов воспа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ость колонизации возбудител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медление или остановка мукоцилиарного транспор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720" y="4659120"/>
            <a:ext cx="5329440" cy="44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висит от этиоло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з острый бронхит ставится клиничес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зависит от этиологии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агноз острый бронхит ставится клинически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ы интокс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средней тяже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 обстру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альная симметрия: легочный (коробочный) звук, нестойкие разнообразные хри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ограмма – не характер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ЗОЛОГИЧЕСКАЯ  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БОЛЕЗН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 ПРЕДРАСПОЛО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ЗОЛОГИЧЕСКАЯ  ДИАГНОСТИК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гноз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НЕЗИС БОЛЕЗНЕЙ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ная рентгенограмма грудной клетки в прямой про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структивный 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ющий с синдромом об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ция (лат. obstructio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града, пом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обструктивный синдром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бронхиальной прох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у детей протекают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м синдром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у детей 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шумн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дистанционны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хрипы   преимущественно на выдох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структивный 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ющий с синдромом обстру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ция (лат. obstructio)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обструктивный синдром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бронхиальной проходим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шумное дыха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квамация эпителия мелких брон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брин, слизь - образуют пробки - обту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ыраженн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аздувание крыльев н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об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 –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ражение терминальных бронхов у  детей первых месяцев жизни  с выраженным синдромом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сквамация эпителия мелких бронхов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брин, слизь - образуют пробки - обтур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выраженн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ЛИТЕРИРУЮЩИЙ БРОНХИОЛИТ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ация  (лат. obliteratio – прекраще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щение полости или просвет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экссудата и гранулематозной тка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блитерацией про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грессирующ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мешан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асимметр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затягивание обструкции до 1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«ватное» легкое на рентгенограм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50% смерть в остром периоде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ЛИТЕРИРУЮЩИЙ БРОНХИОЛИТ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ация  (лат. obliteratio – прекращение)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1000"/>
            </a:b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рганизация экссудата и гранулематозной ткан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 облитерацией просве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прогрессирующ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-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бронхит, повторя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3-х  раз  в  год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РАСПОЛАГАЮЩ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ий о дошкольный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. очаг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огенные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рационный синд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развития бронхолегоч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-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бронхит, повторяющийся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е 3-х  раз  в  году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ЛЕЧЕНИЯ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ома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 – противовирусные препараты, антибио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атическая терапия  - сопутствующая терапия, жаропониж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амбулато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НЦИПЫ ЛЕЧЕНИЯ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 правило, амбулатор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НИЯ    К АНТИБАКТЕРИАЛЬНОЙ ТЕРАП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ый синдром интоксик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рмия более 3 дн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й синдром, бронхиол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раннего возрас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 т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КАЗАНИЯ    К АНТИБАКТЕРИАЛЬНОЙ ТЕРАПИИ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ый синдром интоксикации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пертермия более 3 дней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й синдром, бронхиолит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ти раннего возраста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 течен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галяции через небулайзер будесонидом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пульмикор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низолон в/м в дозе 1-2 мг/кг/сут, возможно до 5-10 мг/кг из расчета 10-12 мг/кг/су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нгаляции через небулайзер будесонидом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(пульмикорт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преднизолон в/м в дозе 1-2 мг/кг/сут, возможно до 5-10 мг/кг из расчета 10-12 мг/кг/сут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централь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УПРЕКС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Окселадин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СИН ПЛЮС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екстрометорфан в комбинации с гвайфенизин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ЛАУВЕНТ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Глауцин гидрохлор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ИБЕК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реноксиндиазин гидрохлори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ОПТУС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имират натрия в комбинации с гвайфенизи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НЕКОД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амират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ОЛИ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запное начало, на фоне полного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ое (манифестное)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этап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клинико-морфо-функциональное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к затяжному те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ожденные и наследствен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лагоприя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орбидный ф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логическая и социа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обстановка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щиеся хрон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раст б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достаточное 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манифестное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сть превышает сроки обычного выздор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выздоровление, 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стно-анестезир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влажняющие слизис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азально или эндобронхиально применение теплого физиологического рас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. Местно-анестезирующ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. Увлажняющие слизист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волакивающ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. Обволакивающие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тхаркивающ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. Отхаркивающие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уколитик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разжижают бронхиальный секрет за счет изменения структуры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е увеличивают её объ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ЦЕТИЛЦИСТЕИН (АЦЦ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БОЦИСТЕИН (Бронхокод, Флюдитек, Либексин Мук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МГЕК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БРОКСОЛА ГИДРОХЛОРИ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(амброгексал, лазалван, амбробен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. Муколитики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с опосредованным противокашлевым действ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истаминные (II, III поко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дилятаторы (Сальбутамол, беродуал, эуфиллин и др.), атропин – нежел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отечные (деконгестанты – Ферфекс, Колдрекс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ые (фенспирина гидрохлорид – Эреспал, ИГК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параты с опосредованным противокашлевым действием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гистаминные (II, III поколения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атропин – нежелатель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ФИТОТЕРАПИИ В ЛЕЧЕНИИ КАШ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гармонизирующий с природой метод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вещества более естественно включаются в обменные процес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ая переносимость, редкое развитие побочных эфф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каждому, эффективность ее зависит от опыта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СТО ФИТОТЕРАПИИ В ЛЕЧЕНИИ КАШ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п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олит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микроб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ли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пр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казывает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кретолитическ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вирус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микроб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литическое действ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ный д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броционный масс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Ч – в остр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Е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ющийся острый процесс за короткий промежуток, при определенных предпосыл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 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ецидивами морфологических изменений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р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или затяж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ющийся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12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фогенезе необратимый субстрат хро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ет с периодами обострения и ре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Е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ЗАБОЛЕВАНИЙ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е и хронические инфекционно-воспал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 дыхательной системы, развившиеся в периоде 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порок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стициальные заболевания лег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РУППЫ ЗАБОЛЕВАНИЙ ДЫХАТЕЛЬ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Б Х. БОЛЕЗНИ ОРГАНОВ ДЫХ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ИТЫ 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ИТЫ 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нижнего отдела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атомия нижнего отдела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О дыхательных путей у дет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тливая грудная кле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ое число скелетных мышечных воло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ельно узкие дыхательные пу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нкая слизистая оболочка, рыхло соединена с подслизи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плазия слизистых желё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Ig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ём гладкомышечной мускул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ая коллатеральная вентиляция в ацину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ая эластичность лёгочной тк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03D-C527-4A97-9DEB-ADB39509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221-1E34-4A1F-9700-176CEC1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932-EF85-4477-99E1-4A6A5CCE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A4DF-0D31-493D-969E-875B035C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A756-B179-4C4E-B12F-63CE9603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6C52-F6AC-4A3E-A750-670C672A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A442-9A88-400C-AB59-76121A67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A0E-BBAF-4F43-A273-762B14C2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7910-4DA3-4018-8ECA-91736339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14FB-847E-4094-A220-F991370A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1450-D159-4DAB-9F5D-030BF3B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CD0-2577-4012-97AE-125C680A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AF13-FF24-407E-9E8F-A400D042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7E5C-828E-4371-9FE9-29A0C9B7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CB4B-08A4-414B-80F9-BBB512E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F742-390F-46C4-A0D2-A868645A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CC70-5858-4F72-96F9-AC8ACE35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993-78AE-43F8-A8CE-E0DF2865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3C0-7E65-494E-9458-6A0AC1D0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E1E-DD81-4C34-98A6-731D3A63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B35-4794-4CF3-9B84-7B0DBA93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140-C217-4E57-BA53-7E4BA1B0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1FF7-EFD5-4E38-A04E-6B1F10D7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60A-372F-4F15-8134-5B70B88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61FE-B3D5-4A5F-AED2-E010A54F5F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18C2-D9EC-491C-9A10-2D45C3CB9F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0A78-A710-46D5-87B0-CE3FC5F7D4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316-3A9F-4A22-86BC-0F94939BDE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СЦИПЛИН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ДЕТСКИЕ БОЛЕЗНИ»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4 КУРС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ЗУЧЕНИЕ ТИПИЧНОГО ТЕ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СНОВНОЙ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РОНХИТ –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ирусно-бактериальное воспаление вс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изи, бронхоспазмом, кашлем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5280" y="292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фикация бронхитов у дете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3573360"/>
            <a:ext cx="676764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0" y="552600"/>
            <a:ext cx="598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ронхит в цифрах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ЭТИОЛОГ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3116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"/>
          <p:cNvPicPr/>
          <p:nvPr/>
        </p:nvPicPr>
        <p:blipFill>
          <a:blip r:embed="rId1"/>
          <a:stretch/>
        </p:blipFill>
        <p:spPr>
          <a:xfrm>
            <a:off x="1403280" y="1052640"/>
            <a:ext cx="6265800" cy="4430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4920" y="4267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 распространяются при чихании, кашле разговоре.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257800" y="1143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238880" y="2362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Размножение вирусов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248520" y="51055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ибель клетки, выход вирусов и заражение новых клето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19520" y="60199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9640" y="76500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Факторы среды - поллютан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35280" y="2349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исфункция реснитчатого эпител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16000" y="170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Ирритативное действие на эпителиальную клетку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765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Вирусно-бактериальные ассоциаци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9640" y="3789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егрануляция тучных клето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07"/>
          <p:cNvPicPr/>
          <p:nvPr/>
        </p:nvPicPr>
        <p:blipFill>
          <a:blip r:embed="rId1"/>
          <a:stretch/>
        </p:blipFill>
        <p:spPr>
          <a:xfrm>
            <a:off x="2050920" y="3860640"/>
            <a:ext cx="5616720" cy="261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95280" y="192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ПАТОГЕНЕЗ БРОНХИ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564000" y="907920"/>
            <a:ext cx="1141200" cy="378000"/>
          </a:xfrm>
          <a:prstGeom prst="leftRightArrow">
            <a:avLst>
              <a:gd name="adj1" fmla="val 31935"/>
              <a:gd name="adj2" fmla="val 7894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50920" y="134136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8172360" y="1197000"/>
            <a:ext cx="647640" cy="79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21391200">
            <a:off x="755640" y="2060280"/>
            <a:ext cx="576360" cy="64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15560 h 647640"/>
              <a:gd name="textAreaBottom" fmla="*/ 4579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6" stAng="-5400000" swAng="-5400000"/>
                <a:lnTo>
                  <a:pt x="0" y="11412"/>
                </a:lnTo>
                <a:arcTo wR="21600" hR="7716" stAng="10800000" swAng="-2717745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91"/>
                </a:lnTo>
                <a:arcTo wR="21600" hR="7716" stAng="8082255" swAng="2415590"/>
                <a:lnTo>
                  <a:pt x="629" y="9564"/>
                </a:lnTo>
                <a:arcTo wR="21600" hR="7716" stAng="-10497845" swAng="5097845"/>
                <a:close/>
              </a:path>
              <a:path fill="darkenLess" w="21600" h="21600">
                <a:moveTo>
                  <a:pt x="21600" y="0"/>
                </a:moveTo>
                <a:arcTo wR="21600" hR="7716" stAng="-5400000" swAng="-5400000"/>
                <a:lnTo>
                  <a:pt x="0" y="7716"/>
                </a:lnTo>
                <a:arcTo wR="21600" hR="7716" stAng="10800000" swAng="-302155"/>
                <a:lnTo>
                  <a:pt x="629" y="9564"/>
                </a:lnTo>
                <a:arcTo wR="21600" hR="7716" stAng="-10497845" swAng="509784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 rot="661200">
            <a:off x="7602480" y="198864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8520 h 719280"/>
              <a:gd name="textAreaBottom" fmla="*/ 5068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2722083"/>
                <a:lnTo>
                  <a:pt x="7200" y="21158"/>
                </a:lnTo>
                <a:lnTo>
                  <a:pt x="0" y="17280"/>
                </a:lnTo>
                <a:lnTo>
                  <a:pt x="7200" y="12518"/>
                </a:lnTo>
                <a:lnTo>
                  <a:pt x="7200" y="15029"/>
                </a:lnTo>
                <a:arcTo wR="21600" hR="7736" stAng="2722083" swAng="-2426689"/>
                <a:lnTo>
                  <a:pt x="21001" y="9545"/>
                </a:lnTo>
                <a:arcTo wR="21600" hR="7736" stAng="-295393" swAng="-5104607"/>
                <a:close/>
              </a:path>
              <a:path fill="darkenLess"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-295393"/>
                <a:lnTo>
                  <a:pt x="21001" y="9545"/>
                </a:lnTo>
                <a:arcTo wR="21600" hR="7736" stAng="-295393" swAng="-5104607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0920" y="4148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Колонизация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микробной флор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700360" y="34995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Повышение вязкости слиз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 rot="2089800">
            <a:off x="1547640" y="2923920"/>
            <a:ext cx="486000" cy="1298520"/>
          </a:xfrm>
          <a:prstGeom prst="downArrow">
            <a:avLst>
              <a:gd name="adj1" fmla="val 20648"/>
              <a:gd name="adj2" fmla="val 90224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427640" y="2708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 rot="18489600">
            <a:off x="7030800" y="2533320"/>
            <a:ext cx="485640" cy="1492200"/>
          </a:xfrm>
          <a:prstGeom prst="downArrow">
            <a:avLst>
              <a:gd name="adj1" fmla="val 21241"/>
              <a:gd name="adj2" fmla="val 7977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8"/>
          <p:cNvPicPr/>
          <p:nvPr/>
        </p:nvPicPr>
        <p:blipFill>
          <a:blip r:embed="rId1"/>
          <a:stretch/>
        </p:blipFill>
        <p:spPr>
          <a:xfrm>
            <a:off x="395280" y="685800"/>
            <a:ext cx="8202600" cy="5478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2860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Слизистая дыхательных путе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219320"/>
            <a:ext cx="49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Конвейерная лента мерцательного эпителия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0102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1a8"/>
                </a:solidFill>
                <a:latin typeface="Arial"/>
              </a:rPr>
              <a:t>К глотк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9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Инородное тело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2514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ель Золь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2860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ерозн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28600" y="5181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лизист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8098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мембран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15000" y="382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Реснич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410080" y="4724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Подслизистая желез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6960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Клетка Бехер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467480" y="4740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10"/>
          <p:cNvPicPr/>
          <p:nvPr/>
        </p:nvPicPr>
        <p:blipFill>
          <a:blip r:embed="rId1"/>
          <a:stretch/>
        </p:blipFill>
        <p:spPr>
          <a:xfrm>
            <a:off x="2138400" y="1600200"/>
            <a:ext cx="6624720" cy="504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395280" y="40464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5195"/>
                </a:solidFill>
                <a:latin typeface="Arial"/>
              </a:rPr>
              <a:t>Нарушение мукоцилиарного транспорта при бронхит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3124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толщение гель фазы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2280" y="3505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меньшение фазы золя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0" y="51814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5195"/>
                </a:solidFill>
                <a:latin typeface="Arial"/>
              </a:rPr>
              <a:t>Действие медиаторов воспаления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553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Возможность колонизации возбуди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066680" y="1752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Замедление или остановка мукоцилиарного транспорт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-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ИНИКА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зависит от этиологии)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агноз острый бронхит ставится клиничес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7040" y="52524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ИТЕРИИ ДИАГНОСТИКИ БРОНХИТА</a:t>
            </a:r>
            <a:br>
              <a:rPr sz="40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ОЗОЛОГИЧЕСКАЯ  ДИАГНОСТИКА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303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6720" y="1628280"/>
            <a:ext cx="25876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87280" y="3933720"/>
            <a:ext cx="705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45080" y="3088440"/>
            <a:ext cx="6052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ЗИС БОЛЕЗНЕЙ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cc66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ОЖДЕ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ile 011"/>
          <p:cNvPicPr/>
          <p:nvPr/>
        </p:nvPicPr>
        <p:blipFill>
          <a:blip r:embed="rId1"/>
          <a:stretch/>
        </p:blipFill>
        <p:spPr>
          <a:xfrm>
            <a:off x="250920" y="1268280"/>
            <a:ext cx="8604000" cy="540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трый обструктивный бронхит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текающий с синдромом обстру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ц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structio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ронхообструктивный синдром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рушение бронхиальной проход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умное дых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РОНХИОЛИТ –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есквамация эпителия мелких бронх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фибрин, слизь - образуют пробки - обту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женн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ТРЫЙ ОБЛИТЕРИРУЮЩИЙ БРОНХИОЛИ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ац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literat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кращение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организация экссудата и гранулематозной тка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с облитерацией про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ДИАГНОС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ессирующ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ИДИВИРУЮЩИЙ БРОНХИ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трый бронхит, повторяющийся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ее 3-х  раз  в  году 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НЦИПЫ ЛЕЧЕНИЯ БРОНХИТА</a:t>
            </a:r>
            <a:br>
              <a:rPr sz="3600"/>
            </a:b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r>
              <a:rPr b="0" lang="ru-RU" sz="2800" spc="-1" strike="noStrike">
                <a:solidFill>
                  <a:srgbClr val="1351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5680" y="9079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ак правило, амбулаторн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иотропная 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Противовирусные препараты в начал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Арбидол, Реаферон ЕС липинт, Амиксин, Циклоферон, Орвирем, Ремантадин, гомеопатические – оциллококцинум, анаферон, афлубин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Антибиотик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защищенные пенициллины – Аомксиклав, Аугментин; макролиды – азитромицин, кларитромицин, рокстримицин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47640" y="4508640"/>
            <a:ext cx="61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ПОКАЗАНИЯ    К АНТИБАКТЕРИАЛЬНОЙ ТЕРАПИИ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5280" y="494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раженный синдром интоксикации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ипертермия более 3 дн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обструктивный синдром, бронхиолит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дети раннего возраста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затяжное течение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ТОГЕНЕТИЧЕСКАЯ ТЕРА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ротивокашлев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Глюкокортикоиды при выраженной дыхательной недостато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виде аэрозолей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виде инъе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быстрой отменой по мере купирования обструкции бронхи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галяции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булайзер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удесонидом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(пульмикор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реднизол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/м в дозе 1-2 мг/кг/сут, возможно до 5-10 мг/кг из расчета 10-12 мг/кг/с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268280"/>
          <a:ext cx="8218440" cy="5300640"/>
        </p:xfrm>
        <a:graphic>
          <a:graphicData uri="http://schemas.openxmlformats.org/drawingml/2006/table">
            <a:tbl>
              <a:tblPr/>
              <a:tblGrid>
                <a:gridCol w="3743280"/>
                <a:gridCol w="4475160"/>
              </a:tblGrid>
              <a:tr h="646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ПРОТИВОКАШЛЕВОГО ДЕЙСТВИЯ</a:t>
                      </a: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ЦЕНТРАЛЬНОГО ДЕЙСТВ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ПЕРИФЕРИЧЕСКОГО ДЕЙСТВИЯ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ческ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наркотически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- анестезиру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влажня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волакивающие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тхаркивающ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Муколитики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С ОПОСРЕДОВАННЫМ ДЕЙСТВИЕМ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гистаминные, Бронходилятаторы, Противоотечные, Противовоспалительны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ОМБИНИРОВАННЫЕ ПРЕПАРАТ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8000" y="22845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 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Р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ТЯЖН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1. Местно-анестезиру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нзокаин, циклаин, тетракаин) –только в условиях стационара при проведении бронхоскопии или бронхограф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2. Увлажняющие слизи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. Обволакивающие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3519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4. Отхаркива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 Муколитик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араты с опосредованным противокашлевым действием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, 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ропин – нежел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СТО ФИТОТЕРАПИИ В ЛЕЧЕНИИ КАШЛ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77" name="Oval 3"/>
          <p:cNvSpPr/>
          <p:nvPr/>
        </p:nvSpPr>
        <p:spPr>
          <a:xfrm>
            <a:off x="3048120" y="2057400"/>
            <a:ext cx="3504960" cy="2133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352680" y="2795760"/>
            <a:ext cx="881280" cy="2462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600200" cy="135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Академия Фитониринга"/>
          <p:cNvPicPr/>
          <p:nvPr/>
        </p:nvPicPr>
        <p:blipFill>
          <a:blip r:embed="rId5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00400" y="1052640"/>
            <a:ext cx="601992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нхипрет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Arial"/>
              </a:rPr>
              <a:t>Оказывает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Секретолитическ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воспалитель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Антивирус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микроб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Бронхолитическое</a:t>
            </a:r>
            <a:r>
              <a:rPr b="0" lang="de-DE" sz="2800" spc="-1" strike="noStrike">
                <a:solidFill>
                  <a:srgbClr val="13519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действ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80920" cy="2462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60020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585800" cy="1268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Академия Фитониринга"/>
          <p:cNvPicPr/>
          <p:nvPr/>
        </p:nvPicPr>
        <p:blipFill>
          <a:blip r:embed="rId4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ИЗИО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763640" y="76500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Благодарю за внимание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700360" y="2095560"/>
          <a:ext cx="3600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095560"/>
                    <a:ext cx="3600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ЦИДИВИР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РОНИЧЕСК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УППЫ ЗАБОЛЕВАНИЙ ДЫХАТЕЛЬНОЙ СИСТЕ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КБ Х. БОЛЕЗНИ ОРГАНОВ ДЫХАНИЯ</a:t>
            </a:r>
            <a:br>
              <a:rPr sz="36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413000"/>
          <a:ext cx="8353440" cy="4827600"/>
        </p:xfrm>
        <a:graphic>
          <a:graphicData uri="http://schemas.openxmlformats.org/drawingml/2006/table">
            <a:tbl>
              <a:tblPr/>
              <a:tblGrid>
                <a:gridCol w="4238640"/>
                <a:gridCol w="4114800"/>
              </a:tblGrid>
              <a:tr h="38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ТРЫ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РОНИЧЕСК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4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назофаринг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синус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фаринг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зил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ларингит и трахе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обструктивный 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гит (круп) и эпиглот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-J18 Пневмо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1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о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моторный и аллергический рин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и слизисто-гнойный хронически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хронический бронх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альная аст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сенситивный пневмонит (аллергический альвеолит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гочная эозинофилия</a:t>
                      </a:r>
                      <a:r>
                        <a:rPr b="0" lang="ru-RU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88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РОНХИТЫ  У ДЕТ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5" descr="Кашель 2"/>
          <p:cNvPicPr/>
          <p:nvPr/>
        </p:nvPicPr>
        <p:blipFill>
          <a:blip r:embed="rId1"/>
          <a:stretch/>
        </p:blipFill>
        <p:spPr>
          <a:xfrm>
            <a:off x="3132000" y="3716280"/>
            <a:ext cx="3240360" cy="2705040"/>
          </a:xfrm>
          <a:prstGeom prst="rect">
            <a:avLst/>
          </a:prstGeom>
          <a:ln w="9360">
            <a:solidFill>
              <a:srgbClr val="f9d79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Анатомия нижнего отдела дыхательных путе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Picture 3" descr="Trachea"/>
          <p:cNvPicPr/>
          <p:nvPr/>
        </p:nvPicPr>
        <p:blipFill>
          <a:blip r:embed="rId1"/>
          <a:stretch/>
        </p:blipFill>
        <p:spPr>
          <a:xfrm>
            <a:off x="0" y="1052640"/>
            <a:ext cx="4464000" cy="54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0"/>
          <p:cNvPicPr/>
          <p:nvPr/>
        </p:nvPicPr>
        <p:blipFill>
          <a:blip r:embed="rId2"/>
          <a:stretch/>
        </p:blipFill>
        <p:spPr>
          <a:xfrm>
            <a:off x="4462560" y="1773360"/>
            <a:ext cx="468144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АФО дыхательных путей у дете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раннего возраст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1701720"/>
            <a:ext cx="8613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тливая грудная клетк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ое число скелетных мышечных волоко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зкие дыхательные пу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нкая слизистая оболочка, рыхло соединена с подслизисто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плазия слизистых желё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й уровен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-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объём гладкомышечной мускула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ая коллатеральная вентиляция в ацинусах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ая эластичность лёгочной 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8T09:22:52Z</dcterms:created>
  <dc:creator>Dr. Jukna</dc:creator>
  <dc:description/>
  <cp:keywords>bronchipret folien englisch</cp:keywords>
  <dc:language>en-US</dc:language>
  <cp:lastModifiedBy>LEGION</cp:lastModifiedBy>
  <cp:lastPrinted>2000-10-09T13:48:15Z</cp:lastPrinted>
  <dcterms:modified xsi:type="dcterms:W3CDTF">2015-11-27T12:48:33Z</dcterms:modified>
  <cp:revision>283</cp:revision>
  <dc:subject>Bionorica Arzneimittel</dc:subject>
  <dc:title>Schulung des PMD Außendienstes</dc:title>
</cp:coreProperties>
</file>