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1800" y="1116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774960" y="11160"/>
            <a:ext cx="28879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-1800" y="933444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E4ACC7-DBFD-4126-B5F5-F6D9BDCA04F4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Img"/>
          </p:nvPr>
        </p:nvSpPr>
        <p:spPr>
          <a:xfrm>
            <a:off x="883800" y="738000"/>
            <a:ext cx="489420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5897520" y="939852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5118-F144-40F7-A373-222134B2850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ДЕТСКИЕ БОЛЕЗНИ»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 КУР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    ИЗУЧЕНИЕ ТИПИЧНОГО ТЕ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ПАТ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 ТЕОРЕТИЧЕСКИ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ЕТИЧЕСКОЕ ЗНАКОМСТВО С ОСНОВНЫМИ НОЗОЛОГ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АЯ ДИАГНОСТИКА И ЛЕЧЕНИЕ ЗАБОЛЕ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СЦИПЛИНА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«ДЕТСКИЕ БОЛЕЗНИ» 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4 КУРС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ЦЕЛЬ:     ИЗУЧЕНИЕ ТИПИЧНОГО ТЕЧЕН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НОВНОЙ ПАТОЛОГ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ЕГРАЦИЯ ТЕОРЕТИЧЕСКИХ ЗНА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ТЕОРЕТИЧЕСКОЕ ЗНАКОМСТВО С ОСНОВНЫМИ НОЗОЛОГИЯМ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АКТИЧЕСКАЯ ДИАГНОСТИКА И ЛЕЧЕНИЕ ЗАБОЛЕВА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Т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ирусно-бактериальное воспаление вс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ы бронха, преимущественно слизистой оболочки, сопровождающееся гиперсекреци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, бронхоспазмом, каш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бронхитов 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просто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 обструктивны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ол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терирующи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бронх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обструктивны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Т –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вирусно-бактериальное воспаление всей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труктуры бронха, преимущественно слизистой оболочки, сопровождающееся гиперсекрецией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, бронхоспазмом, кашле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ассификация бронхитов у де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просто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 обструктивны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ол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литерирующи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бронхи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обструктивны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ески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т в цифр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часто устанавливаемый диагноз  врачами общей практики в С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ы по бронхиту в США составляют от 200 до 300 млн. долла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-25% бронхитов протекают в виде острого обструктивного бронх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т в цифра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иболее часто устанавливаемый диагноз  врачами общей практики в СШ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раты по бронхиту в США составляют от 200 до 300 млн. доллар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-25% бронхитов протекают в виде острого обструктивного бронхи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КТЕРИАЛЬ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О-БАКТЕРИ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ЗИТАР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ЛЕР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КТЕРИАЛЬ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О-БАКТЕРИАЛЬ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ССОЦИ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РАЗИТАР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ИМИЧЕСКИЕ ФАКТ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ы распространяются при чихании, кашле разгово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 вируса в клетку слизистой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ножение виру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ель клетки, выход вирусов и заражение новых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ы распространяются при чихании, кашле разговоре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никновение вируса в клетку слизистой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змножение вирус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ибель клетки, выход вирусов и заражение новых клеток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среды - поллюта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функция реснитчатого эпит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ритативное действие на эпителиальную клет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о-бактериальные 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грануляция тучных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 БРОНХ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ониз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бной фл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вязкости сли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акторы среды - поллютан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сфункция реснитчатого эпител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рритативное действие на эпителиальную клетку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о-бактериальные ассоци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грануляция тучных клеток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 БРОНХИ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олониза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икробной фл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вышение вязкости слиз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стая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йерная лента мерцательного эпит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глот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родное те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ль З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озная железист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стая железист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альная мембр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ничн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лизистая же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ка Бех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альн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стая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онвейерная лента мерцательного эпител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 глотк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ородное тел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ль Зол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ерозная железист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стая железист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зальная мембран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сничн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дслизистая желез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етка Бехе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зальн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мукоцилиарного транспорта при бронх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олщение гель ф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ение фазы з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медиаторов воспа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колонизации возбу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дление или остановка мукоцилиарного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рушение мукоцилиарного транспорта при бронхит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толщение гель фаз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меньшение фазы зол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йствие медиаторов воспал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озможность колонизации возбудител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медление или остановка мукоцилиарного транспор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3920" cy="36781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720" y="4659120"/>
            <a:ext cx="5329440" cy="44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цательный эпителий (электронное микрофотографирование)- бокаловидные клетки случайным образом распределены между реснитчатыми клетками. В центре - бокаловидная клетка, готовая к выбросу секрета (выступает над поверхностью ресничек), другие бокаловидные клетки к выбросу не готовы и еще имеют микроволоски на поверх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зависит от этиолог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з острый бронхит ставится клиничес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зависит от этиологии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агноз острый бронхит ставится клинически!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 БРОНХИ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птомы интокс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средней тяже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 обстру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кальная симметрия: легочный (коробочный) звук, нестойкие разнообразные хрип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мограмма – не характер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 БРОНХИТА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имптомы интоксик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шел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остояние средней тяжест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озможна обструк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кальная симметрия: легочный (коробочный) звук, нестойкие разнообразные хрип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мограмма – не характерн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ЗОЛОГИЧЕСКАЯ  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не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ЗИС БОЛЕЗН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 ПРЕДРАСПОЛОЖ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ОЖД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ОЗОЛОГИЧЕСКАЯ  ДИАГНОСТИК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нез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орф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гноз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НЕЗИС БОЛЕЗНЕЙ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РЕДОВ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О ПРЕДРАСПОЛОЖЕН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РОЖДЕННЫ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зорная рентгенограмма грудной клетки в прямой про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зорная рентгенограмма грудной клетки в прямой прое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обструктивный бронхит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ающий с синдромом об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ция (лат. obstructio)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града, поме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обструктивный синдром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бронхиальной проход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-25% бронхитов у детей протекают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тивным синдром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у детей ранне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шумное дых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дистанционные хр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кспиратор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хрипы   преимущественно на выдох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обструктивный бронхит –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екающий с синдромом обстру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ция (лат. obstructio)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града, помех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обструктивный синдром –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рушение бронхиальной проходимост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-25% бронхитов у детей протекают с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тивным синдромом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обенно у детей раннего возрас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шумное дыха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дистанционные хрип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хрипы   преимущественно на выдох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ОЛИТ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жение терминальных бронхов у  детей первых месяцев жизни  с выраженным синдромом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0-85% респираторно-синтициальный вирус (РС-вирус), реже – парагрипп, цитомегаловирус, аденовир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квамация эпителия мелких бронх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брин, слизь - образуют пробки - обту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выраженная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раздувание крыльев н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кспиратор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- обил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пуз. и крепитирующ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ОЛИТ –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ражение терминальных бронхов у  детей первых месяцев жизни  с выраженным синдромом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60-85% респираторно-синтициальный вирус (РС-вирус), реже – парагрипп, цитомегаловирус, аденовирус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сквамация эпителия мелких бронхов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брин, слизь - образуют пробки - обтур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выраженная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раздувание крыльев нос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- обил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лкопуз. и крепитирующих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ип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ОБЛИТЕРИРУЮЩИЙ БРОНХИОЛИТ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терация  (лат. obliteratio – прекращение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щение полости или просвета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экссудата и гранулематозной тка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блитерацией про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прогрессирующая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смешан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- асимметр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пуз. и крепитирующие хр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затягивание обструкции до 1 м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«ватное» легкое на рентгенограм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50% смерть в остром периоде 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ОБЛИТЕРИРУЮЩИЙ БРОНХИОЛИТ</a:t>
            </a:r>
            <a:br>
              <a:rPr sz="1000"/>
            </a:b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литерация  (лат. obliteratio – прекращение)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ращение полости или просвета </a:t>
            </a:r>
            <a:br>
              <a:rPr sz="1000"/>
            </a:b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рганизация экссудата и гранулематозной ткан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 облитерацией просве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прогрессирующая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смешан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- асимметричны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лкопуз. и крепитирующие хрип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затягивание обструкции до 1 мес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«ватное» легкое на рентгенограмм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50% смерть в остром периоде ил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БРОНХИТ -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бронхит, повторяющий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3-х  раз  в  год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РАСПОЛАГАЮЩ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ичный Р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ний о дошкольный 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малии конститу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. очаги 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огенные вл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ичный Р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пирационный синд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малии развития бронхолегоч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БРОНХИТ - 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бронхит, повторяющийся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олее 3-х  раз  в  году 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РАСПОЛАГАЮЩИЕ ФАКТ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ервичный РБ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нний о дошкольный возрас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омалии конститу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. очаги инфе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кзогенные влия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торичный РБ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спирационный синдро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омалии развития бронхолегочной систем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ЛЕЧЕНИЯ БРОНХИ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домаш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ето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тропная терапия – противовирусные препараты, антибио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птоматическая терапия  - сопутствующая терапия, жаропонижаю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отерап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амбулатор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НЦИПЫ ЛЕЧЕНИЯ БРОНХИТА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жим домаш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ето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тропная терапия – противовирусные препараты, антибиотик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имптоматическая терапия  - сопутствующая терапия, жаропонижающ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отерап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к правило, амбулаторн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тропн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ирусные препараты в начале заболевания (Арбидол, Реаферон ЕС липинт, Амиксин, Циклоферон, Орвирем, Ремантадин, гомеопатические – оциллококцинум, анаферон, афлубин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биотики (защищенные пенициллины – Аомксиклав, Аугментин; макролиды – азитромицин, кларитромицин, рокстримиц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НИЯ    К АНТИБАКТЕРИАЛЬНОЙ ТЕРАП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енный синдром интоксика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термия более 3 дн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тивный синдром, бронхиоли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раннего возрас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яжное т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тропная 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ирусные препараты в начале заболевания (Арбидол, Реаферон ЕС липинт, Амиксин, Циклоферон, Орвирем, Ремантадин, гомеопатические – оциллококцинум, анаферон, афлубин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биотики (защищенные пенициллины – Аомксиклав, Аугментин; макролиды – азитромицин, кларитромицин, рокстримицин)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КАЗАНИЯ    К АНТИБАКТЕРИАЛЬНОЙ ТЕРАПИИ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ыраженный синдром интоксикации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ипертермия более 3 дней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тивный синдром, бронхиолит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ти раннего возраста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яжное течен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ТИЧЕСК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юкокортикоиды при выраженной дыхательной недостаточности – местно (в виде аэрозолей) и в виде инъекций с быстрой отменой по мере купирования обструкции бронхио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нгаляции через небулайзер будесонидом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пульмикорт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6 месяцев  0,25-0,5 мг/сутки х 1-2 р/день, назначать через 15-20 минут после ингаляции бронх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низолон в/м в дозе 1-2 мг/кг/сут, возможно до 5-10 мг/кг из расчета 10-12 мг/кг/су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люкокортикоиды при выраженной дыхательной недостаточности – местно (в виде аэрозолей) и в виде инъекций с быстрой отменой по мере купирования обструкции бронхиол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ингаляции через небулайзер будесонидом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(пульмикорт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т 6 месяцев  0,25-0,5 мг/сутки х 1-2 р/день, назначать через 15-20 минут после ингаляции бронхолитика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преднизолон в/м в дозе 1-2 мг/кг/сут, возможно до 5-10 мг/кг из расчета 10-12 мг/кг/сут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центральн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УСУПРЕКС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Окселадин цитра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УССИН ПЛЮС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Декстрометорфан в комбинации с гвайфенизино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ЛАУВЕНТ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Глауцин гидрохлори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ИБЕКСИН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Преноксиндиазин гидрохлорид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ОПТУССИН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Бутимират натрия в комбинации с гвайфенизин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ИНЕКОД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Бутамират цитра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РОНХОЛИТ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центральн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ТУСУПРЕКС 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Окселадин цитрат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ТУССИН ПЛЮС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Декстрометорфан в комбинации с гвайфенизином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ГЛАУВЕНТ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Глауцин гидрохлорид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ЛИБЕКСИН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Преноксиндиазин гидрохлорид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СТОПТУССИН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Бутимират натрия в комбинации с гвайфенизином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СИНЕКОД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Бутамират цитрат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РОНХОЛИТИ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ТЕЧЕНИЯ БОЛЕ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запное начало, на фоне полного здоров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енное (манифестное) проя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ая этап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клинико-морфо-функциональное выздоро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к затяжному те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ЯЖН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остр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рожденные и наследственные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сы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благоприят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орбидный ф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логическая и социаль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ая обстановка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меющиеся хроническ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раст б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достаточное 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е манифестное проя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ость превышает сроки обычного выздоро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выздоровление, 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АРАКТЕРИСТИКА ТЕЧЕНИЯ БОЛЕЗН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незапное начало, на фоне полного здоровь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ыраженное (манифестное) проя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атковременность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четкая этапность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клинико-морфо-функциональное выздоро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ереход к затяжному течению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мерт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ЯЖН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острого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рожденные и наследственные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неблагоприятный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морбидный фо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экологическая и социально-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ытовая обстановка       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имеющиеся хроническ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озраст больного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недостаточное леч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нее манифестное проя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лительность превышает сроки обычного выздоровл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выздоровление, 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стно-анестезирующ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ензокаин, циклаин, тетракаин) –только в условиях стационара при проведении бронхоскопии или бронх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влажняющие слизист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ильное питьё (лечебные чаи, мин.воды) и, в тяжелых случаях — внутривенные инфузии жидкостей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раназально или эндобронхиально применение теплого физиологического раст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. Местно-анестезирующ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бензокаин, циклаин, тетракаин) –только в условиях стационара при проведении бронхоскопии или бронхограф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. Увлажняющие слизист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ильное питьё (лечебные чаи, мин.воды) и, в тяжелых случаях — внутривенные инфузии жидкостей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раназально или эндобронхиально применение теплого физиологического раство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волакивающие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. Обволакивающие –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тхаркивающи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рефлекторного действия (со слизистой оболочки желудка – трава термопсиса, тимьяна, корни примулы, плющ, солодк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4. Отхаркивающие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) рефлекторного действия (со слизистой оболочки желудка – трава термопсиса, тимьяна, корни примулы, плющ, солодка и др.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уколитик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о разжижают бронхиальный секрет за счет изменения структуры сли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е увеличивают её объ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ЦЕТИЛЦИСТЕИН (АЦЦ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БОЦИСТЕИН (Бронхокод, Флюдитек, Либексин Мук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МГЕКС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БРОКСОЛА ГИДРОХЛОРИ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(амброгексал, лазалван, амбробен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5. Муколитики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орошо разжижают бронхиальный секрет за счет изменения структуры слиз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актически не увеличивают её объе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ЦЕТИЛЦИСТЕИН (АЦЦ) 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РБОЦИСТЕИН (Бронхокод, Флюдитек, Либексин Муко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МГЕКСИ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МБРОКСОЛА ГИДРОХЛОРИД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(амброгексал, лазалван, амбробене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араты с опосредованным противокашлевым действ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гистаминные (II, III поко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дилятаторы (Сальбутамол, беродуал, эуфиллин и др.), атропин – нежел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отечные (деконгестанты – Ферфекс, Колдрекс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оспалительные (фенспирина гидрохлорид – Эреспал, ИГК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параты с опосредованным противокашлевым действием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гистаминные (II, III поколения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дилятаторы (Сальбутамол, беродуал, эуфиллин и др.), атропин – нежелательн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отечные (деконгестанты – Ферфекс, Колдрекс и т.п.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оспалительные (фенспирина гидрохлорид – Эреспал, ИГКС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ФИТОТЕРАПИИ В ЛЕЧЕНИИ КАШ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гармонизирующий с природой метод л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ительные вещества более естественно включаются в обменные процесс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ая переносимость, редкое развитие побочных эффек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каждому, эффективность ее зависит от опыта вр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СТО ФИТОТЕРАПИИ В ЛЕЧЕНИИ КАШЛ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иболее гармонизирующий с природой метод леч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стительные вещества более естественно включаются в обменные процесс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лучшая переносимость, редкое развитие побочных эффектов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оступность каждому, эффективность ее зависит от опыта врач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пр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кретолит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оспалите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вирус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микроб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литическ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пре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казывает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екретолитическ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оспалитель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вирус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микроб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литическое действ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О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физ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ционный дрен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броционный масс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тельные упраж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Ч – в остр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нитотерапия, электрофорез с эуфиллином, никотиновой кислотой – при стихании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О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Лечебная физкульту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зиционный дренаж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броционный массаж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ыхательные упражн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ВЧ – в острый период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агнитотерапия, электрофорез с эуфиллином, никотиновой кислотой – при стихании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лагодарю за внимание!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ТЕЧЕНИЯ БОЛЕ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Е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яющийся острый процесс за короткий промежуток, при определенных предпосыл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ы  и конститу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рецидивами морфологических изменений н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хрониз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здоро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ЕСК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острого или затяжн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ающийся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12 м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рфогенезе необратимый субстрат хро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ает с периодами обострения и реми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– прогрессирование функциональной недостаточности             -  инвалидизация, смер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АРАКТЕРИСТИКА ТЕЧЕНИЯ БОЛЕЗН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Е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вторяющийся острый процесс за короткий промежуток, при определенных предпосылка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реды  и конститу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жду рецидивами морфологических изменений не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хрониза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ыздоро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ЕСК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острого или затяжного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должающийся боле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6-12 мес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 морфогенезе необратимый субстрат хрониз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екает с периодами обострения и ремисс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– прогрессирование функциональной недостаточности             -  инвалидизация, смерт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Ы ЗАБОЛЕВАНИЙ ДЫХАТЕЛЬ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е и хронические инфекционно-воспал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лер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 дыхательной системы, развившиеся в периоде новорожд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ожденные пороки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стициальные заболевания лег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РУППЫ ЗАБОЛЕВАНИЙ ДЫХАТЕЛЬНОЙ СИСТЕМ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е и хронические инфекционно-воспалитель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ллергическ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олезни дыхательной системы, развившиеся в периоде новорожденност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рожденные пороки развит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ерстициальные заболевания легки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Б Х. БОЛЕЗНИ ОРГАНОВ ДЫХ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РОНХИТЫ  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РОНХИТЫ  У ДЕ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томия нижнего отдела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атомия нижнего отдела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О дыхательных путей у дет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не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тливая грудная клет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ное число скелетных мышечных волок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сительно узкие дыхательные пу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нкая слизистая оболочка, рыхло соединена с подслизи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плазия слизистых желё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ий уровень Ig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й объём гладкомышечной мускул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очная коллатеральная вентиляция в ацинус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ная эластичность лёгочной тк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AA1A-FF24-451B-A779-EF71D22C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99B-039B-4E0B-82E5-AEBF1176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9E8-6EAD-47FF-BA02-A36C5C71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F22-139A-47B4-A307-4075340B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2CF4-4712-4D8F-B519-7985912B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91E7-4091-4A2E-8023-E5CB8884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92E5-FCD6-43C0-9C71-F727D8AC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1FBA-4808-4BDC-9874-F035A275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A640-D2D0-45BC-AD98-009F900D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7D87-EF76-4C41-9CDB-BF529B18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8C65-F464-498B-BF03-6BFCBD63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F8C-253C-4C3E-99BA-7F4A1F68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36B3-E4F1-4033-A2D2-88AB9387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3C94-A585-4A0E-985C-6D82B254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98F8-C02F-495B-A978-CFF60687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CBBD-0953-44BB-AC0F-AEAF7695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226F-B335-4492-8B34-8EFEFC40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0BF-767C-4D5D-9C92-A42AA2A8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6157-B194-4A48-8221-0200ACB3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908-DC65-40A9-9BF3-B8530E7B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7C7-F9E4-4659-B103-D5FB44FF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C2F-49D3-485F-B36E-D3769290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EC79-0F8A-4F3B-8A7E-181FFAC7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CB7E-5BBC-4A93-85C8-A273C65D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CD3C-882B-49C0-960D-69DA2E86953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0A5C-236D-4978-BC8D-E389A15A60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0016-2C36-478C-8E83-1EB21A54843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0A36-0C79-4FE6-867A-48C18A9C68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СЦИПЛИНА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«ДЕТСКИЕ БОЛЕЗНИ» 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(4 КУРС)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6920" y="2492280"/>
            <a:ext cx="763272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ЦЕЛЬ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ИЗУЧЕНИЕ ТИПИЧНОГО ТЕЧ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СНОВНОЙ ПАТ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6d18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ТЕГРАЦИЯ ТЕОРЕТИЧЕСКИХ ЗН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ОРЕТИЧЕСКОЕ ЗНАКОМСТВО С ОСНОВНЫМИ НОЗОЛОГИЯ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ДИАГНОСТИКА И ЛЕЧЕНИЕ ЗАБОЛЕ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БРОНХИТ –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вирусно-бактериальное воспаление всей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труктуры бронха, преимущественно слизистой оболочки, сопровождающееся гиперсекрецией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лизи, бронхоспазмом, кашлем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95280" y="2924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лассификация бронхитов у детей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6000" y="3573360"/>
            <a:ext cx="6767640" cy="27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рый просто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рый  обструктивны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онхиол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итерирующи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цидивирующий бронх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цидивирующий обструктивны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ронически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00000" y="552600"/>
            <a:ext cx="5985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Бронхит в цифрах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ее часто устанавливаемый диагноз  врачами общей практики в 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траты по бронхиту в США составляют от 200 до 300 млн. долла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-25% бронхитов протекают в виде острого обструктивного бронх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ЭТИОЛОГИЯ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93116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РУС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КТЕРИАЛЬ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РУСНО-БАКТЕРИА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ССОЦИ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РАЗИТАР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ИМИЧЕСКИЕ ФАК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04"/>
          <p:cNvPicPr/>
          <p:nvPr/>
        </p:nvPicPr>
        <p:blipFill>
          <a:blip r:embed="rId1"/>
          <a:stretch/>
        </p:blipFill>
        <p:spPr>
          <a:xfrm>
            <a:off x="1403280" y="1052640"/>
            <a:ext cx="6265800" cy="44305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304920" y="4267080"/>
            <a:ext cx="304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Вирусы распространяются при чихании, кашле разговоре.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5800" y="3429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вирусы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257800" y="114300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Проникновение вируса в клетку слизистой дыхательных путей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7238880" y="23623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Размножение вирусов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248520" y="510552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Гибель клетки, выход вирусов и заражение новых клеток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200400" y="580536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819520" y="60199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60000"/>
                </a:solidFill>
                <a:latin typeface="Arial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539640" y="765000"/>
            <a:ext cx="27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Факторы среды - поллютанты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835280" y="234936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Дисфункция реснитчатого эпителия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116000" y="1700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Ирритативное действие на эпителиальную клетку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356000" y="765000"/>
            <a:ext cx="47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Вирусно-бактериальные ассоциации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659640" y="378936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Дегрануляция тучных клеток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200400" y="580536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8" descr="07"/>
          <p:cNvPicPr/>
          <p:nvPr/>
        </p:nvPicPr>
        <p:blipFill>
          <a:blip r:embed="rId1"/>
          <a:stretch/>
        </p:blipFill>
        <p:spPr>
          <a:xfrm>
            <a:off x="2050920" y="3860640"/>
            <a:ext cx="5616720" cy="2619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395280" y="1929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ПАТОГЕНЕЗ БРОНХИТ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3564000" y="907920"/>
            <a:ext cx="1141200" cy="378000"/>
          </a:xfrm>
          <a:prstGeom prst="leftRightArrow">
            <a:avLst>
              <a:gd name="adj1" fmla="val 31935"/>
              <a:gd name="adj2" fmla="val 78942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250920" y="1341360"/>
            <a:ext cx="647640" cy="720720"/>
          </a:xfrm>
          <a:custGeom>
            <a:avLst/>
            <a:gdLst>
              <a:gd name="textAreaLeft" fmla="*/ 86760 w 647640"/>
              <a:gd name="textAreaRight" fmla="*/ 560880 w 64764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8172360" y="1197000"/>
            <a:ext cx="647640" cy="792000"/>
          </a:xfrm>
          <a:custGeom>
            <a:avLst/>
            <a:gdLst>
              <a:gd name="textAreaLeft" fmla="*/ 86760 w 647640"/>
              <a:gd name="textAreaRight" fmla="*/ 560880 w 64764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3"/>
          <p:cNvSpPr/>
          <p:nvPr/>
        </p:nvSpPr>
        <p:spPr>
          <a:xfrm rot="21391200">
            <a:off x="755640" y="2060280"/>
            <a:ext cx="576360" cy="647640"/>
          </a:xfrm>
          <a:custGeom>
            <a:avLst/>
            <a:gdLst>
              <a:gd name="textAreaLeft" fmla="*/ 77040 w 576360"/>
              <a:gd name="textAreaRight" fmla="*/ 499320 w 576360"/>
              <a:gd name="textAreaTop" fmla="*/ 115560 h 647640"/>
              <a:gd name="textAreaBottom" fmla="*/ 45792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16" stAng="-5400000" swAng="-5400000"/>
                <a:lnTo>
                  <a:pt x="0" y="11412"/>
                </a:lnTo>
                <a:arcTo wR="21600" hR="7716" stAng="10800000" swAng="-2717745"/>
                <a:lnTo>
                  <a:pt x="14400" y="21159"/>
                </a:lnTo>
                <a:lnTo>
                  <a:pt x="21600" y="17280"/>
                </a:lnTo>
                <a:lnTo>
                  <a:pt x="14400" y="12519"/>
                </a:lnTo>
                <a:lnTo>
                  <a:pt x="14400" y="14991"/>
                </a:lnTo>
                <a:arcTo wR="21600" hR="7716" stAng="8082255" swAng="2415590"/>
                <a:lnTo>
                  <a:pt x="629" y="9564"/>
                </a:lnTo>
                <a:arcTo wR="21600" hR="7716" stAng="-10497845" swAng="5097845"/>
                <a:close/>
              </a:path>
              <a:path fill="darkenLess" w="21600" h="21600">
                <a:moveTo>
                  <a:pt x="21600" y="0"/>
                </a:moveTo>
                <a:arcTo wR="21600" hR="7716" stAng="-5400000" swAng="-5400000"/>
                <a:lnTo>
                  <a:pt x="0" y="7716"/>
                </a:lnTo>
                <a:arcTo wR="21600" hR="7716" stAng="10800000" swAng="-302155"/>
                <a:lnTo>
                  <a:pt x="629" y="9564"/>
                </a:lnTo>
                <a:arcTo wR="21600" hR="7716" stAng="-10497845" swAng="509784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4"/>
          <p:cNvSpPr/>
          <p:nvPr/>
        </p:nvSpPr>
        <p:spPr>
          <a:xfrm rot="661200">
            <a:off x="7602480" y="1988640"/>
            <a:ext cx="576360" cy="719280"/>
          </a:xfrm>
          <a:custGeom>
            <a:avLst/>
            <a:gdLst>
              <a:gd name="textAreaLeft" fmla="*/ 77040 w 576360"/>
              <a:gd name="textAreaRight" fmla="*/ 499320 w 576360"/>
              <a:gd name="textAreaTop" fmla="*/ 128520 h 719280"/>
              <a:gd name="textAreaBottom" fmla="*/ 50688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36" stAng="-5400000" swAng="5400000"/>
                <a:lnTo>
                  <a:pt x="21600" y="11354"/>
                </a:lnTo>
                <a:arcTo wR="21600" hR="7736" stAng="0" swAng="2722083"/>
                <a:lnTo>
                  <a:pt x="7200" y="21158"/>
                </a:lnTo>
                <a:lnTo>
                  <a:pt x="0" y="17280"/>
                </a:lnTo>
                <a:lnTo>
                  <a:pt x="7200" y="12518"/>
                </a:lnTo>
                <a:lnTo>
                  <a:pt x="7200" y="15029"/>
                </a:lnTo>
                <a:arcTo wR="21600" hR="7736" stAng="2722083" swAng="-2426689"/>
                <a:lnTo>
                  <a:pt x="21001" y="9545"/>
                </a:lnTo>
                <a:arcTo wR="21600" hR="7736" stAng="-295393" swAng="-5104607"/>
                <a:close/>
              </a:path>
              <a:path fill="darkenLess" w="21600" h="21600">
                <a:moveTo>
                  <a:pt x="0" y="0"/>
                </a:moveTo>
                <a:arcTo wR="21600" hR="7736" stAng="-5400000" swAng="5400000"/>
                <a:lnTo>
                  <a:pt x="21600" y="11354"/>
                </a:lnTo>
                <a:arcTo wR="21600" hR="7736" stAng="0" swAng="-295393"/>
                <a:lnTo>
                  <a:pt x="21001" y="9545"/>
                </a:lnTo>
                <a:arcTo wR="21600" hR="7736" stAng="-295393" swAng="-5104607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250920" y="414864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Колонизация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микробной флоры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2700360" y="34995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Повышение вязкости слизи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7"/>
          <p:cNvSpPr/>
          <p:nvPr/>
        </p:nvSpPr>
        <p:spPr>
          <a:xfrm rot="2089800">
            <a:off x="1547640" y="2923920"/>
            <a:ext cx="486000" cy="1298520"/>
          </a:xfrm>
          <a:prstGeom prst="downArrow">
            <a:avLst>
              <a:gd name="adj1" fmla="val 20648"/>
              <a:gd name="adj2" fmla="val 90224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8"/>
          <p:cNvSpPr/>
          <p:nvPr/>
        </p:nvSpPr>
        <p:spPr>
          <a:xfrm>
            <a:off x="4427640" y="270828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9"/>
          <p:cNvSpPr/>
          <p:nvPr/>
        </p:nvSpPr>
        <p:spPr>
          <a:xfrm rot="18489600">
            <a:off x="7030800" y="2533320"/>
            <a:ext cx="485640" cy="1492200"/>
          </a:xfrm>
          <a:prstGeom prst="downArrow">
            <a:avLst>
              <a:gd name="adj1" fmla="val 21241"/>
              <a:gd name="adj2" fmla="val 79775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08"/>
          <p:cNvPicPr/>
          <p:nvPr/>
        </p:nvPicPr>
        <p:blipFill>
          <a:blip r:embed="rId1"/>
          <a:stretch/>
        </p:blipFill>
        <p:spPr>
          <a:xfrm>
            <a:off x="395280" y="685800"/>
            <a:ext cx="8202600" cy="5478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22860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Слизистая дыхательных путей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28600" y="1219320"/>
            <a:ext cx="49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Конвейерная лента мерцательного эпителия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7010280" y="1066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1a8"/>
                </a:solidFill>
                <a:latin typeface="Arial"/>
              </a:rPr>
              <a:t>К глотке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629400" y="1905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Инородное тело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28600" y="2514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Гель Золь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228600" y="457200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Серозная железист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228600" y="518148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Слизистая железист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28600" y="38098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Базальная мембран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5715000" y="38257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Ресничн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5410080" y="47242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Подслизистая желез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7696080" y="38257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Клетка Бехер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7467480" y="47401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Базальн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a10"/>
          <p:cNvPicPr/>
          <p:nvPr/>
        </p:nvPicPr>
        <p:blipFill>
          <a:blip r:embed="rId1"/>
          <a:stretch/>
        </p:blipFill>
        <p:spPr>
          <a:xfrm>
            <a:off x="2138400" y="1600200"/>
            <a:ext cx="6624720" cy="50468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395280" y="404640"/>
            <a:ext cx="793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5195"/>
                </a:solidFill>
                <a:latin typeface="Arial"/>
              </a:rPr>
              <a:t>Нарушение мукоцилиарного транспорта при бронхит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3124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Утолщение гель фазы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52280" y="35053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Уменьшение фазы золя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858000" y="51814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5195"/>
                </a:solidFill>
                <a:latin typeface="Arial"/>
              </a:rPr>
              <a:t>Действие медиаторов воспаления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553080" y="220968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Возможность колонизации возбудителей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066680" y="17524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Замедление или остановка мукоцилиарного транспорта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3-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Мерцательный эпителий (электронное микрофотографирование)- бокаловидные клетки случайным образом распределены между реснитчатыми клетками. В центре - бокаловидная клетка, готовая к выбросу секрета (выступает над поверхностью ресничек), другие бокаловидные клетки к выбросу не готовы и еще имеют микроволоски на поверхности.</a:t>
            </a:r>
            <a:endParaRPr b="1" lang="en-US" sz="1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ЛИНИКА</a:t>
            </a: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зависит от этиологии)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Диагноз острый бронхит ставится клиническ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7040" y="525240"/>
            <a:ext cx="7929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РИТЕРИИ ДИАГНОСТИКИ БРОНХИТА</a:t>
            </a:r>
            <a:br>
              <a:rPr sz="40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мптомы интокси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ш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ояние средней тяже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можна обструк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кальная симметрия: легочный (коробочный) звук, нестойкие разнообразные хрип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мограмма – не характер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ОЗОЛОГИЧЕСКАЯ  ДИАГНОСТИКА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3035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тогенен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рф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76720" y="1628280"/>
            <a:ext cx="258768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но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187280" y="3933720"/>
            <a:ext cx="7056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945080" y="3088440"/>
            <a:ext cx="605232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       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ГЕНЕЗИС БОЛЕЗНЕЙ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cc66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ЛЕДСТВЕНН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ОВ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ЛЕДСТВЕННО ПРЕДРАСПОЛОЖЕНН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ОЖДЕННЫ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зорная рентгенограмма грудной клетки в прямой проекции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file 011"/>
          <p:cNvPicPr/>
          <p:nvPr/>
        </p:nvPicPr>
        <p:blipFill>
          <a:blip r:embed="rId1"/>
          <a:stretch/>
        </p:blipFill>
        <p:spPr>
          <a:xfrm>
            <a:off x="250920" y="1268280"/>
            <a:ext cx="8604000" cy="5400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стрый обструктивный бронхит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 –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отекающий с синдромом обструкции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рукц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obstructio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града, поме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ронхообструктивный синдром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арушение бронхиальной проходим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-25% бронхитов у детей протекают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руктивным синдром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енно у детей раннего возра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умное дых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дистанционные хри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хрипы   преимущественно на выдох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20908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РОНХИОЛИТ –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ражение терминальных бронхов у  детей первых месяцев жизни  с выраженным синдромом ДН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-85% респираторно-синтициальный вирус (РС-вирус), реже – парагрипп, цитомегаловирус, аденовир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ПАТОГЕНЕЗ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десквамация эпителия мелких бронх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фибрин, слизь - образуют пробки - обтур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раженная Д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раздувание крыльев но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- обил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елкопуз. и крепитирующ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рип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ТРЫЙ ОБЛИТЕРИРУЮЩИЙ БРОНХИОЛИТ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итерация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obliterati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кращение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ращение полости или просвета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ПАТОГЕНЕ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организация экссудата и гранулематозной тка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с облитерацией про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ТЕРИИ ДИАГНОСТИК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рессирующая Д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смешан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- асимметрич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лкопуз. и крепитирующие хри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затягивание обструкции до 1 м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«ватное» легкое на рентгенограм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50% смерть в остром периоде и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79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ЦИДИВИРУЮЩИЙ БРОНХИ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- 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стрый бронхит, повторяющийся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олее 3-х  раз  в  году </a:t>
            </a:r>
            <a:br>
              <a:rPr sz="28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280" y="2204640"/>
            <a:ext cx="77151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РАСПОЛАГАЮЩИЕ ФАК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ичный Р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нний о дошкольный возра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омалии конститу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ронич. очаги инфе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зогенные влия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ичный Р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спирационный синдр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омалии развития бронхолегочн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НЦИПЫ ЛЕЧЕНИЯ БРОНХИТА</a:t>
            </a:r>
            <a:br>
              <a:rPr sz="3600"/>
            </a:b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жим домаш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етотерап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отропная терапия – противовирусные препараты, антибио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мптоматическая терапия  - сопутствующая терапия, жаропонижающ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зиотерапия</a:t>
            </a:r>
            <a:r>
              <a:rPr b="0" lang="ru-RU" sz="2800" spc="-1" strike="noStrike">
                <a:solidFill>
                  <a:srgbClr val="13519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975680" y="907920"/>
            <a:ext cx="51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Как правило, амбулаторно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Этиотропная терап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Противовирусные препараты в начале заболевани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(Арбидол, Реаферон ЕС липинт, Амиксин, Циклоферон, Орвирем, Ремантадин, гомеопатические – оциллококцинум, анаферон, афлубин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Антибиотики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защищенные пенициллины – Аомксиклав, Аугментин; макролиды – азитромицин, кларитромицин, рокстримицин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547640" y="4508640"/>
            <a:ext cx="61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Times New Roman"/>
              </a:rPr>
              <a:t>ПОКАЗАНИЯ    К АНТИБАКТЕРИАЛЬНОЙ ТЕРАПИИ</a:t>
            </a:r>
            <a:br>
              <a:rPr sz="1800"/>
            </a:b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95280" y="494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раженный синдром интоксикации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гипертермия более 3 дней,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обструктивный синдром, бронхиолит,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дети раннего возраста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затяжное течение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АТОГЕНЕТИЧЕСКАЯ ТЕРАП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Противокашлевые препар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Глюкокортикоиды при выраженной дыхательной недостаточ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ст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в виде аэрозолей)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виде инъек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 быстрой отменой по мере купирования обструкции бронхи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нгаляции через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булайзер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будесонидом     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 (пульмикорт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6 месяцев  0,25-0,5 мг/сутки х 1-2 р/день, назначать через 15-20 минут после ингаляции бронхолит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преднизол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/м в дозе 1-2 мг/кг/сут, возможно до 5-10 мг/кг из расчета 10-12 мг/кг/су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8360" y="1268280"/>
          <a:ext cx="8218440" cy="5300640"/>
        </p:xfrm>
        <a:graphic>
          <a:graphicData uri="http://schemas.openxmlformats.org/drawingml/2006/table">
            <a:tbl>
              <a:tblPr/>
              <a:tblGrid>
                <a:gridCol w="3743280"/>
                <a:gridCol w="4475160"/>
              </a:tblGrid>
              <a:tr h="6465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1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ЕПАРАТЫ ПРОТИВОКАШЛЕВОГО ДЕЙСТВИЯ</a:t>
                      </a: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ПАРАТЫ ЦЕНТРАЛЬНОГО ДЕЙСТВ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ПАРАТЫ ПЕРИФЕРИЧЕСКОГО ДЕЙСТВИЯ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котические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Ненаркотические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но- анестезирующ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Увлажняющ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Обволакивающие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Отхаркивающи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Муколитики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2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ЕПАРАТЫ С ОПОСРЕДОВАННЫМ ДЕЙСТВИЕМ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7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игистаминные, Бронходилятаторы, Противоотечные, Противовоспалительные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1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3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КОМБИНИРОВАННЫЕ ПРЕПАРАТЫ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центральн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36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СУПРЕКС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кселадин цитра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ССИН ПЛЮС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Декстрометорфан в комбинации с гвайфенизином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УВЕНТ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Глауцин гидрохлори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БЕКСИН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Преноксиндиазин гидрохлорид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8000" y="2284560"/>
            <a:ext cx="4038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ПТУССИН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Бутимират натрия в комбинации с гвайфенизино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НЕКОД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Бутамират цитра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НХОЛИТ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АРАКТЕРИСТИКА ТЕЧЕНИЯ БОЛЕЗНИ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СТРО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запное начало, на фоне полного здоровь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женное (манифестное) проя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тковремен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ткая этап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: клинико-морфо-функциональное выздоро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затяжному тече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ер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ТЯЖНО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 острого процес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рожденные и наследственные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благоприятн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морбидный ф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экологическая и социаль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товая обстановка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имеющиеся хроническ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боле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озраст боль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достаточное л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ее манифестное проя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ительность превышает сроки обычного выздоро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: выздоровление, хрон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1. Местно-анестезирующие</a:t>
            </a: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нзокаин, циклаин, тетракаин) –только в условиях стационара при проведении бронхоскопии или бронхограф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2. Увлажняющие слизист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ильное питьё (лечебные чаи, мин.воды) и, в тяжелых случаях — внутривенные инфузии жидкостей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траназально или эндобронхиально применение теплого физиологического раств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3. Обволакивающие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135195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4. Отхаркивающие</a:t>
            </a: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флекторного действия (со слизистой оболочки желудка – трава термопсиса, тимьяна, корни примулы, плющ, солодка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. Муколитики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–</a:t>
            </a: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о разжижают бронхиальный секрет за счет изменения структуры сли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ктически не увеличивают её объ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ЦЕТИЛЦИСТЕИН (АЦЦ)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РБОЦИСТЕИН (Бронхокод, Флюдитек, Либексин Мук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МГЕКС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МБРОКСОЛА ГИДРОХЛОРИД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(амброгексал, лазалван, амбробене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епараты с опосредованным противокашлевым действием</a:t>
            </a: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игистаминные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, I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ол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ронходилятаторы (Сальбутамол, беродуал, эуфиллин и др.)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тропин – нежелатель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отечные (деконгестанты – Ферфекс, Колдрекс и т.п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воспалительные (фенспирина гидрохлорид – Эреспал, ИГК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ЕСТО ФИТОТЕРАПИИ В ЛЕЧЕНИИ КАШЛ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иболее гармонизирующий с природой метод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ительные вещества более естественно включаются в обменные процесс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учшая переносимость, редкое развитие побочных эффе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ступность каждому, эффективность ее зависит от опыта вра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A07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229000"/>
          </a:xfrm>
          <a:prstGeom prst="rect">
            <a:avLst/>
          </a:prstGeom>
          <a:ln w="0">
            <a:noFill/>
          </a:ln>
        </p:spPr>
      </p:pic>
      <p:sp>
        <p:nvSpPr>
          <p:cNvPr id="277" name="Oval 3"/>
          <p:cNvSpPr/>
          <p:nvPr/>
        </p:nvSpPr>
        <p:spPr>
          <a:xfrm>
            <a:off x="3048120" y="2057400"/>
            <a:ext cx="3504960" cy="213372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2"/>
          <a:stretch/>
        </p:blipFill>
        <p:spPr>
          <a:xfrm>
            <a:off x="3352680" y="2795760"/>
            <a:ext cx="881280" cy="24620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1600200" cy="1357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4"/>
          <a:stretch/>
        </p:blipFill>
        <p:spPr>
          <a:xfrm>
            <a:off x="4191120" y="2743200"/>
            <a:ext cx="1585800" cy="1268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Академия Фитониринга"/>
          <p:cNvPicPr/>
          <p:nvPr/>
        </p:nvPicPr>
        <p:blipFill>
          <a:blip r:embed="rId5"/>
          <a:stretch/>
        </p:blipFill>
        <p:spPr>
          <a:xfrm>
            <a:off x="0" y="6280200"/>
            <a:ext cx="1547640" cy="57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3200400" y="1052640"/>
            <a:ext cx="6019920" cy="44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ронхипрет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Arial"/>
              </a:rPr>
              <a:t>Оказывает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Секретолитическ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Противовоспалитель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Антивирус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Противомикроб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Бронхолитическое</a:t>
            </a:r>
            <a:r>
              <a:rPr b="0" lang="de-DE" sz="2800" spc="-1" strike="noStrike">
                <a:solidFill>
                  <a:srgbClr val="135195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действи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80920" cy="2462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"/>
          <p:cNvPicPr/>
          <p:nvPr/>
        </p:nvPicPr>
        <p:blipFill>
          <a:blip r:embed="rId2"/>
          <a:stretch/>
        </p:blipFill>
        <p:spPr>
          <a:xfrm>
            <a:off x="1476360" y="4292640"/>
            <a:ext cx="1600200" cy="1357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"/>
          <p:cNvPicPr/>
          <p:nvPr/>
        </p:nvPicPr>
        <p:blipFill>
          <a:blip r:embed="rId3"/>
          <a:stretch/>
        </p:blipFill>
        <p:spPr>
          <a:xfrm>
            <a:off x="1258920" y="3213000"/>
            <a:ext cx="1585800" cy="1268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Академия Фитониринга"/>
          <p:cNvPicPr/>
          <p:nvPr/>
        </p:nvPicPr>
        <p:blipFill>
          <a:blip r:embed="rId4"/>
          <a:stretch/>
        </p:blipFill>
        <p:spPr>
          <a:xfrm>
            <a:off x="0" y="6280200"/>
            <a:ext cx="1547640" cy="57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ИЗИОТЕРАП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чебная физкуль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иционный дрена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броционный масса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ыхательные упраж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ВЧ – в острый пери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гнитотерапия, электрофорез с эуфиллином, никотиновой кислотой – при стихании процес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1763640" y="765000"/>
            <a:ext cx="60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Благодарю за внимание!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Object 8"/>
          <p:cNvGraphicFramePr/>
          <p:nvPr/>
        </p:nvGraphicFramePr>
        <p:xfrm>
          <a:off x="2700360" y="2095560"/>
          <a:ext cx="360036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095560"/>
                    <a:ext cx="36003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АРАКТЕРИСТИ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ЧЕНИЯ БОЛЕЗНИ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ЕЦИДИВИРУЮЩЕ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яющийся острый процесс за короткий промежуток, при определенных предпосыл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ы  и конститу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 рецидивами морфологических изменений н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хрон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ыздоро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2920" y="119700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ХРОНИЧЕСКО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 острого или затяжного процес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ающийся боле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-12 ме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орфогенезе необратимый субстрат хро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текает с периодами обострения и реми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 – прогрессирование функциональной недостаточности             -  инвалидизация, смер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РУППЫ ЗАБОЛЕВАНИЙ ДЫХАТЕЛЬНОЙ СИСТЕМЫ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трые и хронические инфекционно-воспалите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лерг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зни дыхательной системы, развившиеся в периоде новорожд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ожденные пороки разви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стициальные заболевания легк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КБ Х. БОЛЕЗНИ ОРГАНОВ ДЫХАНИЯ</a:t>
            </a:r>
            <a:br>
              <a:rPr sz="36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1413000"/>
          <a:ext cx="8353440" cy="4827600"/>
        </p:xfrm>
        <a:graphic>
          <a:graphicData uri="http://schemas.openxmlformats.org/drawingml/2006/table">
            <a:tbl>
              <a:tblPr/>
              <a:tblGrid>
                <a:gridCol w="4238640"/>
                <a:gridCol w="4114800"/>
              </a:tblGrid>
              <a:tr h="380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СТРЫ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РОНИЧЕСК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44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назофаринги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синус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0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фаринг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нзилл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ларингит и трахе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обструктивный 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рингит (круп) и эпиглот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12-J18 Пневмония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бронх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21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бронхиол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зомоторный и аллергический рин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й и слизисто-гнойный хронический бронх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.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й хронический бронхи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БЛ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иальная астм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оэктатическая болезн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ерсенситивный пневмонит (аллергический альвеолит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Легочная эозинофилия</a:t>
                      </a:r>
                      <a:r>
                        <a:rPr b="0" lang="ru-RU" sz="1800" spc="-1" strike="noStrike">
                          <a:solidFill>
                            <a:srgbClr val="cc66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988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БРОНХИТЫ  У ДЕТЕЙ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1" name="Picture 5" descr="Кашель 2"/>
          <p:cNvPicPr/>
          <p:nvPr/>
        </p:nvPicPr>
        <p:blipFill>
          <a:blip r:embed="rId1"/>
          <a:stretch/>
        </p:blipFill>
        <p:spPr>
          <a:xfrm>
            <a:off x="3132000" y="3716280"/>
            <a:ext cx="3240360" cy="2705040"/>
          </a:xfrm>
          <a:prstGeom prst="rect">
            <a:avLst/>
          </a:prstGeom>
          <a:ln w="9360">
            <a:solidFill>
              <a:srgbClr val="f9d793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988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30000">
                <a:solidFill>
                  <a:srgbClr val="ff0000"/>
                </a:solidFill>
                <a:latin typeface="Times New Roman"/>
              </a:rPr>
              <a:t>Анатомия нижнего отдела дыхательных путе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3" name="Picture 3" descr="Trachea"/>
          <p:cNvPicPr/>
          <p:nvPr/>
        </p:nvPicPr>
        <p:blipFill>
          <a:blip r:embed="rId1"/>
          <a:stretch/>
        </p:blipFill>
        <p:spPr>
          <a:xfrm>
            <a:off x="0" y="1052640"/>
            <a:ext cx="4464000" cy="547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10"/>
          <p:cNvPicPr/>
          <p:nvPr/>
        </p:nvPicPr>
        <p:blipFill>
          <a:blip r:embed="rId2"/>
          <a:stretch/>
        </p:blipFill>
        <p:spPr>
          <a:xfrm>
            <a:off x="4462560" y="1773360"/>
            <a:ext cx="468144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64072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АФО дыхательных путей у детей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раннего возраста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50920" y="1701720"/>
            <a:ext cx="86137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атливая грудная клетка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ное число скелетных мышечных волокон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о узкие дыхательные пут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нкая слизистая оболочка, рыхло соединена с подслизистой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перплазия слизистых желёз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ий уровен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-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ий объём гладкомышечной мускулатур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достаточная коллатеральная вентиляция в ацинусах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ная эластичность лёгочной ткан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8T09:22:52Z</dcterms:created>
  <dc:creator>Dr. Jukna</dc:creator>
  <dc:description/>
  <cp:keywords>bronchipret folien englisch</cp:keywords>
  <dc:language>en-US</dc:language>
  <cp:lastModifiedBy>LEGION</cp:lastModifiedBy>
  <cp:lastPrinted>2000-10-09T13:48:15Z</cp:lastPrinted>
  <dcterms:modified xsi:type="dcterms:W3CDTF">2015-11-27T12:48:33Z</dcterms:modified>
  <cp:revision>283</cp:revision>
  <dc:subject>Bionorica Arzneimittel</dc:subject>
  <dc:title>Schulung des PMD Außendienstes</dc:title>
</cp:coreProperties>
</file>