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676A-EDD2-41E8-97C3-AFB78BC908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ихорадка Эбола</a:t>
            </a:r>
            <a:br>
              <a:rPr sz="1200"/>
            </a:br>
            <a:r>
              <a:rPr b="0" lang="uk-UA" sz="1200" spc="-1" strike="noStrike">
                <a:solidFill>
                  <a:srgbClr val="000000"/>
                </a:solidFill>
                <a:latin typeface="Calibri"/>
              </a:rPr>
              <a:t>и</a:t>
            </a:r>
            <a:br>
              <a:rPr sz="1200"/>
            </a:br>
            <a:r>
              <a:rPr b="0" lang="uk-UA" sz="1200" spc="-1" strike="noStrike">
                <a:solidFill>
                  <a:srgbClr val="000000"/>
                </a:solidFill>
                <a:latin typeface="Calibri"/>
              </a:rPr>
              <a:t>Марбур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хорадка Эбола</a:t>
            </a:r>
            <a:br>
              <a:rPr sz="1200"/>
            </a:br>
            <a:r>
              <a:rPr b="0" lang="uk-UA" sz="1200" spc="-1" strike="noStrike">
                <a:solidFill>
                  <a:srgbClr val="000000"/>
                </a:solidFill>
                <a:latin typeface="Arial"/>
              </a:rPr>
              <a:t>и</a:t>
            </a:r>
            <a:br>
              <a:rPr sz="1200"/>
            </a:br>
            <a:r>
              <a:rPr b="0" lang="uk-UA" sz="1200" spc="-1" strike="noStrike">
                <a:solidFill>
                  <a:srgbClr val="000000"/>
                </a:solidFill>
                <a:latin typeface="Arial"/>
              </a:rPr>
              <a:t>Марбург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т д’Ивуа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т д’Ивуа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ндибугио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резервуа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й резервуа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екс контагиозности достигает 9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екс контагиозности достигает 9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от двух до 21 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рть наступает обычно на второй неделе болезни на фоне кровотечений и шо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 вакц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 и вакцинац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Эбо́ла (Ebola Haemorrhagic Fever, EHF, лат. Ebola febris haemorrhagica)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моррагическая лихорадка Марбург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5  Йоханнесбург.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0  Кения. 50%, заболело 2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88  СССР (Кольцово).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8-2000 Демократической Республике Конго. 83%, заболело 154 (умерло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Cercopithecus aethiops), ввезенными из Уганды. Тогда заболел 31 человек, из них 7 умерл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5  Йоханнесбург.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0  Кения. 50%, заболело 2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88  СССР (Кольцово).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8-2000 Демократической Республике Конго. 83%, заболело 154 (умерло 1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4-2005 Ангола. 90%, заболело 252 (умерло 2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Уганда. 33%, заболело 3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8 Уганда. 100%, заболел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4-2005 Ангола. 90%, заболело 252 (умерло 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Уганда. 33%, заболело 3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8 Уганда. 100%, заболел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бургский вирус — общее название рода вирусов Marburgvirus, включающий один вид — Lake Victoria marburgvirus.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вствитель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ественная восприимчивость людей высокая. Иммунитет после заболевания длительный, сведения о повторных заболеваниях отсутству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ти пере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и пере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 aegypti, на основании чего был сделан вывод о возможной роли комаров подсемейства Culucinae в передаче возбудителя. Вирус сохраняется в комарах Anopheles maculipennis в течение 8 дней, а в клещах Ixodes ricinus - до 15 дней. Есть сведения, указывающие на возможность вертикальной передачи возбу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юль 1976 пос. Нзара на юге Судана. Смертность 53% заболело около 300 человек (умерло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нтябрь 1976, Заир. Смертность 88%, заболело 237 (умерло 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76 Англия.  Смертность 0%, заболело 1 (умерло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7 Заир. Смертность 100%, заболело 1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79 Судан. Смертность 65%, 34 заболевших (22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4 Кот-д'Ивуар. Смертность 0%, заболе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 Заир, г. Киквит. Смертность 81%, 315 заболевших (250 умер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95-1996 Габон, местечко Бове. Смертность 74%, 60 заболевших (умерло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ябрь 1996 ЮАР. Смертность 50%, 2 заболевших (умерло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юль 1976 пос. Нзара на юге Судана. Смертность 53% заболело около 300 человек (умерло 1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нтябрь 1976, Заир. Смертность 88%, заболело 237 (умерло 2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1976 Англия.  Смертность 0%, заболело 1 (умерло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7 Заир. Смертность 100%, заболело 1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9 Судан. Смертность 65%, 34 заболевших (22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4 Кот-д'Ивуар. Смертность 0%, заболе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 Заир, г. Киквит. Смертность 81%, 315 заболевших (250 умерл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5-1996 Габон, местечко Бове. Смертность 74%, 60 заболевших (умерло 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1996 ЮАР. Смертность 50%, 2 заболевших (умерло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кубационный период — составляет в среднем 4-9 д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н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льный период. 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ления геморрагического диатеза чаще появляются на 2-й неделе, в разгар заболевания, 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ях выздоровления период реконвалесценции 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ч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илактика и меры борьб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0-2001 Уганда. Смертность 53%, 425 заболевших (умерло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1-2002 Габон.  Смертность 82%, 65 заболевших (умерло 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2-2003 Конго. Смертность 89%, 143 заболевших (умерло 1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 Конго. Смертность 71%, 264 заболевших (умерло 1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07-2008 Уганда. Смертность 32%, 131 заболевших (умерло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 2011 Уганда. 12-летняя девочка умерла от суданской разновид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0-2001 Уганда. Смертность 53%, 425 заболевших (умерло 2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1-2002 Габон.  Смертность 82%, 65 заболевших (умерло 5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2-2003 Конго. Смертность 89%, 143 заболевших (умерло 1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 Конго. Смертность 71%, 264 заболевших (умерло 18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07-2008 Уганда. Смертность 32%, 131 заболевших (умерло 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й 2011 Уганда. 12-летняя девочка умерла от суданской разновид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рус Эбо́ла или просто Эбо́ла — общее название для вирусов одного рода Ebolavirus,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олог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р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данский ebola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стонский ebolavi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онский ebolavir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83C49-E526-4F19-9397-AC4C2C1AF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8327-E61F-4CFE-9C95-15F2B521A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C358A-77B4-4D88-AD7E-D2395DDD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8A232-2297-4E65-9284-225BE1654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32384-6056-43E6-869D-ECA459BB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71F4-29E8-4BBD-AAE3-728C492EE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81913-35EE-4CD8-AD90-9563B842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7E13-0653-4A1C-9326-54CB3F4D3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36B85-DDF5-41A9-B611-D015BCB45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8EE55-4591-4F6D-8562-F8167BD96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81D0-FA23-414C-955F-F15CD177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18AA-9F0A-4E63-8E02-2EAE0A7CC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4AFB-C0B9-45FC-BC18-9FA0721D639F}"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9966-0448-4EE3-B7AA-B04ACDFF5D9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br>
              <a:rPr sz="5400"/>
            </a:b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5-11-27T12:48:41Z</dcterms:modified>
  <cp:revision>36</cp:revision>
  <dc:subject/>
  <dc:title>Лихорадка Эбола и Марбурга</dc:title>
</cp:coreProperties>
</file>