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.jpeg" ContentType="image/jpeg"/>
  <Override PartName="/ppt/media/image57.png" ContentType="image/png"/>
  <Override PartName="/ppt/media/image47.png" ContentType="image/png"/>
  <Override PartName="/ppt/media/image1.jpeg" ContentType="image/jpeg"/>
  <Override PartName="/ppt/media/image14.png" ContentType="image/png"/>
  <Override PartName="/ppt/media/image10.jpeg" ContentType="image/jpeg"/>
  <Override PartName="/ppt/media/image19.png" ContentType="image/png"/>
  <Override PartName="/ppt/media/image61.png" ContentType="image/png"/>
  <Override PartName="/ppt/media/image71.png" ContentType="image/png"/>
  <Override PartName="/ppt/media/image63.jpeg" ContentType="image/jpeg"/>
  <Override PartName="/ppt/media/image29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11.jpeg" ContentType="image/jpeg"/>
  <Override PartName="/ppt/media/image72.png" ContentType="image/png"/>
  <Override PartName="/ppt/media/image67.png" ContentType="image/png"/>
  <Override PartName="/ppt/media/image30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6.png" ContentType="image/png"/>
  <Override PartName="/ppt/media/image62.png" ContentType="image/png"/>
  <Override PartName="/ppt/media/image27.png" ContentType="image/png"/>
  <Override PartName="/ppt/media/image60.jpeg" ContentType="image/jpeg"/>
  <Override PartName="/ppt/media/image64.png" ContentType="image/png"/>
  <Override PartName="/ppt/media/image21.jpeg" ContentType="image/jpeg"/>
  <Override PartName="/ppt/media/image65.png" ContentType="image/png"/>
  <Override PartName="/ppt/media/image24.png" ContentType="image/png"/>
  <Override PartName="/ppt/media/image73.jpeg" ContentType="image/jpeg"/>
  <Override PartName="/ppt/media/image15.png" ContentType="image/png"/>
  <Override PartName="/ppt/media/image25.png" ContentType="image/png"/>
  <Override PartName="/ppt/media/image40.png" ContentType="image/png"/>
  <Override PartName="/ppt/media/image18.png" ContentType="image/png"/>
  <Override PartName="/ppt/media/image6.png" ContentType="image/png"/>
  <Override PartName="/ppt/media/image7.jpeg" ContentType="image/jpeg"/>
  <Override PartName="/ppt/media/image16.png" ContentType="image/png"/>
  <Override PartName="/ppt/media/image31.wmf" ContentType="image/x-wmf"/>
  <Override PartName="/ppt/media/image7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3.png" ContentType="image/png"/>
  <Override PartName="/ppt/media/image12.png" ContentType="image/png"/>
  <Override PartName="/ppt/media/image49.png" ContentType="image/png"/>
  <Override PartName="/ppt/media/image33.png" ContentType="image/png"/>
  <Override PartName="/ppt/media/image34.jpeg" ContentType="image/jpeg"/>
  <Override PartName="/ppt/media/image37.png" ContentType="image/png"/>
  <Override PartName="/ppt/media/image39.png" ContentType="image/png"/>
  <Override PartName="/ppt/media/image3.jpeg" ContentType="image/jpeg"/>
  <Override PartName="/ppt/media/image4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31CB-ACB7-4408-9688-D5916004ED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технологии в медицин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 информатизации в сфере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стер А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технологии в медицине.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ные вопросы информатизации в сфере здравоохранения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екстер А.П.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"О персональных данных", № 152-ФЗ от 27.07.2006 г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ормативно-правовая баз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кон "О персональных данных", № 152-ФЗ от 27.07.2006 г.  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рмативно-правовых актах 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, ст. 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нормативно-правовых актах 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, ст. 10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льное согласие пациента на обработку и передачу его персональных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егламентированы процедуры и фор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кументальное согласие пациента на обработку и передачу его персональных данны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 регламентированы процедуры и фор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ение Электронной Цифровой Подписи (ЭЦ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Санкт-Петербур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стоверяющий центр (УЦ) с федеральной кросс сертифик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УЦ для ИОГВ и подведомственной сети субъек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щено и установлено более 600 электронных цифровых подпис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учреждения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ь руководителя учреждения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ы применения ЭЦП в 2008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подпись заявки на включение гражданина в регистр региональных льг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ча заявок на включение/исключение врачей из справочника Л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ение Электронной Цифровой Подписи (ЭЦП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мер Санкт-Петербург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достоверяющий центр (УЦ) с федеральной кросс сертификацие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дин УЦ для ИОГВ и подведомственной сети субъекта РФ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ыпущено и установлено более 600 электронных цифровых подписе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уководитель учреждения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меститель руководителя учреждения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феры применения ЭЦП в 2008 год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подпись заявки на включение гражданина в регистр региональных льготник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ача заявок на включение/исключение врачей из справочника ЛЛО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шаги по развитию информатизации здравоохранения Санкт-Петербур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пектив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ажнейшие шаги по развитию информатизации здравоохранения Санкт-Петербург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области информатизации в системе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КОММУНИКАЦИОНН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АЯ ИНФРАСТРУКТУРА И БАЗОВЫЕ СЕРВИ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АЛЬНО-ОРИЕНТИРОВА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 И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лючевые области информатизации в системе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ЛЕКОММУНИКАЦИОННАЯ СРЕ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ОЛОГИЧЕСКАЯ ИНФРАСТРУКТУРА И БАЗОВЫЕ СЕРВИС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ОНАЛЬНО-ОРИЕНТИРОВА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РЕСУРСЫ И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ешение общих проблем и вопро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интеграции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технических и техн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опросов распределения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Т-консалтинга на уровне Правительства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Т-консалтинга на уровне системы здравоохранения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. Решение общих проблем и вопросов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 интеграции ресурс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шение технических и технологических пробл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шение вопросов распределения ответствен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и ИТ-консалтинга на уровне Правительства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и ИТ-консалтинга на уровне системы здравоохранения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ные государственные центры 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О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здравоохран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форматизации и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циальной защ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ные государственные центры 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АВИТЕЛЬСТВО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здравоохранению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информатизации и связ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социальной защит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сервисная сеть органов государственной 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Обработки Данных учреждений здравоохранения (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ованная техническая поддержка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редств криптографической защиты информации (ЭЦП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ьный сервер электронной почты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омпоненты инфраструктуры системы управления здравоохранением СПб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ультисервисная сеть органов государственной в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 Обработки Данных учреждений здравоохранения (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ализованная техническая поддержка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пользование средств криптографической защиты информации (ЭЦП)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альный сервер электронной почты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ные компоненты инфраструктуры системы управления здравоохранением СПб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оволоконная связь - 900 точек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й модемный пул - 480 ли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данных – Vip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висы ЕМТС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овый сервер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овые unix-сервера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.обмен между ИС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птоволоконная связь - 900 точек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зервный модемный пул - 480 ли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та данных – VipNet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ервисы ЕМТС 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рн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чтовый сервер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чтовые unix-сервера учрежд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.обмен между ИС учрежд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информатизации в системе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системы мониторинга за состоянием здоровья населения и демографическими показ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для оперативного принятия адекватных лечебно-диагностических ре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для принятия адекватных управленческих ре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/собств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оль информатизации в системе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системы мониторинга за состоянием здоровья населения и демографическими показателя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для оперативного принятия адекватных лечебно-диагностических решений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для принятия адекватных управленческих решений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о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ециалис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уководитель/собственни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усл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 эффектив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услу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вышение доступности и качества мед.помощ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работы органов гос.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 эффектив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Повышение доступности и качества мед.помощ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ффективность работы органов гос.в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медицинское статистическ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оценки эффективности деятельности исполнительных органов власти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взаимодействия исполнительных органов власти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Национального проекта «Здоровь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социально-экономического развития СПб ( в т. ч. районов СП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стандартов проживания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гигиенический мониторинг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е системы класса Business Intelligence и сопутствующие методические нарабо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ое медицинское статистическое наблюд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оценки эффективности деятельности исполнительных органов власти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взаимодействия исполнительных органов власти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Национального проекта «Здоровье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социально-экономического развития СПб ( в т. ч. районов СПб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стандартов проживания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циально-гигиенический мониторинг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тические системы класса Business Intelligence и сопутствующие методические наработ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аль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заимодействия с учреждениями здравоохранения и ИОГ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 ведение централизованного ресурса монитор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материалов информацио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результатов в виде отч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ал проектов управления здравоохра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управления документооборо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в здравоохранении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городской календарь мероприятий в здравоо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ный справочник системы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ртальные технолог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взаимодействия с учреждениями здравоохранения и ИОГ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рмирование и ведение централизованного ресурса мониторин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 материалов информационного ресурс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рмирование результатов в виде отче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ртал проектов управления здравоохранени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управления документооборото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в здравоохранении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егородской календарь мероприятий в здравоохранен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лефонный справочник системы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й стол организатора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ендарь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ных (анкет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ртуальный кабинет Главного специалиста ТОУЗ по направ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 по работе с обращениям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 учета потребности и планирования закупок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ики и классифик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лог/репозитарий веб-сервисов (UDD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й сервис по мониторингу эпидеми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ел Льготного Лекарственного Обесп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й сервис регистрации лет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ые служ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ддержка (Service Desk)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бочий стол организатора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алендарь мероприят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данных (анкетирование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иртуальный кабинет Главного специалиста ТОУЗ по направления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система по работе с обращениями гражда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система учета потребности и планирования закупок оборудова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равочники и классификато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аталог/репозитарий веб-сервисов (UDDI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сервис по мониторингу эпидемиологической ситу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зел Льготного Лекарственного Обеспеч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сервис регистрации леталь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равочные служб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ическая поддержка (Service Desk)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я автоматизированной информационной системы обеспечивающ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ый учет документов ИОГ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 к документам в соответствии с компетенцией участников документообор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я автоматизированного контроля исполнения документов и поруч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ая рассылка в электронном виде контрольных документов и пору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я автоматизированной информационной системы обеспечивающе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ый учет документов ИОГ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 к документам в соответствии с компетенцией участников документооборота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ения автоматизированного контроля исполнения документов и поручени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ая рассылка в электронном виде контрольных документов и поручений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согласования проектов рабочих и распоря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поставленных целей необходимо решить следующие основны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учет и контроль движения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ить единую сквозную технологию контроля исполнения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ли проект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сроков согласования проектов рабочих и распорядительных документов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роприятия проект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ля достижения поставленных целей необходимо решить следующие основные 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ить учет и контроль движения документо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ить единую сквозную технологию контроля исполнения документо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A архитектура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ML формат обмена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(PMI PMBO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централизованной тех.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Ц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A архитектура реш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XML формат обмена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(PMI PMBOK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централизованной тех.поддерж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пользование ЭЦП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A архитектура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(МИ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город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 справоч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ждение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A архитектура реш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 врач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чески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тистически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инансовы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че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(МИ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егородски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ормативно справочная информац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чреждение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на базе стандарта  ANSI PMI PMBOK Guide 3rd E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разработки информационных систем и информацион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внедрения ИС и ИР и техническая поддержка в соответствии с библиотеками IT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на базе стандарта  ANSI PMI PMBOK Guide 3rd Edition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ы разработки информационных систем и информационных ресурс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ы внедрения ИС и ИР и техническая поддержка в соответствии с библиотеками ITIL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информатизации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е  стандартов в области «Информатизации здоров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 персональных данных гражданина Российской Федерации обрабатываемых в М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 федеральных и территориальных информационных медицински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новых правовых актов регламентирующих применение информационных систем в здравоохран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пективы информатизации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тверждение  стандартов в области «Информатизации здоровья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та  персональных данных гражданина Российской Федерации обрабатываемых в МИ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 федеральных и территориальных информационных медицинских сист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нятие новых правовых актов регламентирующих применение информационных систем в здравоохранении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единого информационного пространства записи на приём в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гистрат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П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кио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all-цен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сь через Интер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М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ИС «Электронная регистрату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единого информационного пространства записи на приём в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регистратур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ЛПУ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киос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Call-центр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пись через Интерн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ИС «Электронная регистратура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М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ый кио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kos «Olimpic Garden», 26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киос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Sokos «Olimpic Garden», 26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all цен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ячая линия по работе с обращениям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ддержка (Suppor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технологичн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1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o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Call цент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рячая линия по работе с обращениями гражда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ическая поддержка (Support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ысокотехнологичная медицинская помощ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лужба 11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099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VoIP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е-правительства к мобильному правитель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СР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 е-правительства к мобильному правительств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ЦП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СР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и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и информатиз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становление Правительства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o@miac.zdrav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АСИБО!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cio@miac.zdrav.spb.ru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ые националь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 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636-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лектронная история боле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лож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 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О/TС 1830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форматизация здоровья. Требования к архитектуре  электронных записей в здравоохране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нятые национальные стандар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Т Р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2636-200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Электронная история болезни.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ие положения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Т Р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О/TС 18308-200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Информатизация здоровья. Требования к архитектуре  электронных записей в здравоохранени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развития системы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2020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ификация медицинских услуг на основе электронного паспорта здоровья (ЭМ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ИКТ инфраструктуры системы здравоохранения, в т.ч. создание региональных центров обработк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электронного обмена медицинскими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работ по информатизации, основны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развития системы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 2020 года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онификация медицинских услуг на основе электронного паспорта здоровья (ЭМК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ИКТ инфраструктуры системы здравоохранения, в т.ч. создание региональных центров обработки данны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электронного обмена медицинскими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аправления работ по информатизации, основные 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жидаемые результаты информатизации здравоохранения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Р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е качества услуг за сче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величение времени на прием одного пациента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е финансовых издержек за сче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ерерасхода медицинских расходных материалов и лекарственных препаратов (до 11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повторных госпитализаций после лечения (до 20%)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посещений пациентами медицинских учреждений (до 5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некорректных финансовых операций в  системе медицинского страхова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кращение временных издержек за сч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втоматизации поиска необходимой информации (до 6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втоматизации ведения текущей документации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до 2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кращение трудозатрат медицинского персонала за счет автоматиз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иска и обработки справочной и документальной информ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оступа  к персональной медицинской информации о пациент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дготовке документов (отчетов, заключений, рецептов и т.д.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жидаемые результат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РФ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е качества услуг за сч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величение времени на прием одного пациента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е финансовых издержек за сч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ерасхода медицинских расходных материалов и лекарственных препаратов (до 11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повторных госпитализаций после лечения (до 20%),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посещений пациентами медицинских учреждений (до 5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некорректных финансовых операций в  системе медицинского страхова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временных издержек за сч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ации поиска необходимой информации (до 6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ации ведения текущей документаци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(до 2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трудозатрат медицинского персонала за счет автоматиз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иска и обработки справочной и документальной информ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а  к персональной медицинской информации о пациент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готовке документов (отчетов, заключений, рецептов и т.д.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предлагаемых ре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2009–2011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ые каналы связи (интран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пто- маршрутиз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ФС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центр обработ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нализа данных (Р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центр обработки и анализа данных (Р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М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формацион-ная система пенсионного фо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те-грированная информацион-ная система ФС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86 РЦ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≈ 13,2 тысяч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3 субъекта РФ + Байконур + по 1 дополнительному в Москве и Моск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с действующими (разрабатывае-мыми) систе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 предлагаемых решений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а 2009–2011 гг.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зервны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щенные каналы связи (интранет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рипто- маршрутизато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ертификация ФС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иональный центр обработк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 анализа данных (Р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иональный центр обработки и анализа данных (Р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М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формацион-ная система пенсионного фон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те-грированная информацион-ная система ФСС Росс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сего 86 РЦОД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сего ≈ 13,2 тысяч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3 субъекта РФ + Байконур + по 1 дополнительному в Москве и Московской об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грация с действующими (разрабатывае-мыми) система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информатизации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 единой системы идентификации пациентов  с рождения на протяжении все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согласования принципов информационного обмена в интегрируемых систем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ние темпы развития телекоммуникационной инфраструктуры  системы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хватка правового и программно-технического обеспечения конфиденциальности персональных медицинских данны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 информатизации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сутствие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сутствие  единой системы идентификации пациентов  с рождения на протяжении всей жизн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ложности согласования принципов информационного обмена в интегрируемых системах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изние темпы развития телекоммуникационной инфраструктуры  системы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хватка правового и программно-технического обеспечения конфиденциальности персональных медицинских данных 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о-центрированная парадигма – ведение БД МИС с общероссийским идентификаторами гражданина – основа для интеграции медицинских сведений в рамках единого информационного медицинского простра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оно-центрированная парадигма – ведение БД МИС с общероссийским идентификаторами гражданина – основа для интеграции медицинских сведений в рамках единого информационного медицинского пространства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E99-5096-4AC0-BE77-62AE6948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5CA-B614-43D2-A3E2-BB639620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B8A-44FB-4D0D-B6DF-3A7CCBBA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DFAA-0234-40DB-A1A3-FB6AD2B8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E50-AC29-4F4B-BBFD-2B0B92F9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E535-BC97-458E-B8F0-448BAE8A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FB9-283E-4FE7-AE8F-BF4B4216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581-1AE3-498D-A42C-1E793784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58C0-7DD0-4783-8D82-BA7F28A5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905-450A-4E0C-A7B6-57B0A594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65B-3F82-403E-9646-661E6600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112-F238-46BF-AE12-96B4922B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6"/>
          <p:cNvSpPr/>
          <p:nvPr/>
        </p:nvSpPr>
        <p:spPr>
          <a:xfrm>
            <a:off x="0" y="360360"/>
            <a:ext cx="9148680" cy="900000"/>
          </a:xfrm>
          <a:custGeom>
            <a:avLst/>
            <a:gdLst/>
            <a:ahLst/>
            <a:rect l="l" t="t" r="r" b="b"/>
            <a:pathLst>
              <a:path w="5763" h="567">
                <a:moveTo>
                  <a:pt x="0" y="368"/>
                </a:moveTo>
                <a:lnTo>
                  <a:pt x="440" y="368"/>
                </a:lnTo>
                <a:lnTo>
                  <a:pt x="777" y="0"/>
                </a:lnTo>
                <a:lnTo>
                  <a:pt x="2162" y="0"/>
                </a:lnTo>
                <a:lnTo>
                  <a:pt x="2265" y="116"/>
                </a:lnTo>
                <a:lnTo>
                  <a:pt x="5756" y="112"/>
                </a:lnTo>
                <a:lnTo>
                  <a:pt x="5763" y="567"/>
                </a:lnTo>
                <a:lnTo>
                  <a:pt x="6" y="556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-9360" y="336600"/>
            <a:ext cx="9181800" cy="838080"/>
          </a:xfrm>
          <a:custGeom>
            <a:avLst/>
            <a:gdLst>
              <a:gd name="textAreaLeft" fmla="*/ 0 w 9181800"/>
              <a:gd name="textAreaRight" fmla="*/ 9182160 w 9181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84" h="528">
                <a:moveTo>
                  <a:pt x="449" y="370"/>
                </a:moveTo>
                <a:lnTo>
                  <a:pt x="768" y="1"/>
                </a:lnTo>
                <a:lnTo>
                  <a:pt x="2158" y="0"/>
                </a:lnTo>
                <a:lnTo>
                  <a:pt x="2258" y="115"/>
                </a:lnTo>
                <a:lnTo>
                  <a:pt x="5784" y="115"/>
                </a:lnTo>
                <a:lnTo>
                  <a:pt x="5779" y="528"/>
                </a:lnTo>
                <a:lnTo>
                  <a:pt x="0" y="519"/>
                </a:lnTo>
                <a:lnTo>
                  <a:pt x="0" y="371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7009920" y="2890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90960" y="65368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672000" y="653688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142E-A1FE-4810-B2D5-3414A3CE587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7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4" name="Freeform 18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" name="Freeform 19"/>
            <p:cNvSpPr/>
            <p:nvPr/>
          </p:nvSpPr>
          <p:spPr>
            <a:xfrm>
              <a:off x="-9360" y="2748240"/>
              <a:ext cx="9183600" cy="1420560"/>
            </a:xfrm>
            <a:custGeom>
              <a:avLst/>
              <a:gdLst>
                <a:gd name="textAreaLeft" fmla="*/ 0 w 9183600"/>
                <a:gd name="textAreaRight" fmla="*/ 9183960 w 9183600"/>
                <a:gd name="textAreaTop" fmla="*/ 0 h 1420560"/>
                <a:gd name="textAreaBottom" fmla="*/ 1420560 h 1420560"/>
              </a:gdLst>
              <a:ahLst/>
              <a:rect l="textAreaLeft" t="textAreaTop" r="textAreaRight" b="textAreaBottom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" name="Text Box 14"/>
          <p:cNvSpPr/>
          <p:nvPr/>
        </p:nvSpPr>
        <p:spPr>
          <a:xfrm>
            <a:off x="304920" y="2286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image" Target="../media/image30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4.png"/><Relationship Id="rId10" Type="http://schemas.openxmlformats.org/officeDocument/2006/relationships/image" Target="../media/image47.png"/><Relationship Id="rId11" Type="http://schemas.openxmlformats.org/officeDocument/2006/relationships/image" Target="../media/image44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image" Target="../media/image5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8.jpe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jpeg"/><Relationship Id="rId13" Type="http://schemas.openxmlformats.org/officeDocument/2006/relationships/image" Target="../media/image6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8.png"/><Relationship Id="rId3" Type="http://schemas.openxmlformats.org/officeDocument/2006/relationships/image" Target="../media/image45.png"/><Relationship Id="rId4" Type="http://schemas.openxmlformats.org/officeDocument/2006/relationships/image" Target="../media/image63.jpe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5.png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image" Target="../media/image58.png"/><Relationship Id="rId13" Type="http://schemas.openxmlformats.org/officeDocument/2006/relationships/image" Target="../media/image56.png"/><Relationship Id="rId14" Type="http://schemas.openxmlformats.org/officeDocument/2006/relationships/image" Target="../media/image28.png"/><Relationship Id="rId15" Type="http://schemas.openxmlformats.org/officeDocument/2006/relationships/image" Target="../media/image5.png"/><Relationship Id="rId16" Type="http://schemas.openxmlformats.org/officeDocument/2006/relationships/image" Target="../media/image70.png"/><Relationship Id="rId17" Type="http://schemas.openxmlformats.org/officeDocument/2006/relationships/image" Target="../media/image71.png"/><Relationship Id="rId18" Type="http://schemas.openxmlformats.org/officeDocument/2006/relationships/image" Target="../media/image45.png"/><Relationship Id="rId19" Type="http://schemas.openxmlformats.org/officeDocument/2006/relationships/image" Target="../media/image58.png"/><Relationship Id="rId20" Type="http://schemas.openxmlformats.org/officeDocument/2006/relationships/image" Target="../media/image5.png"/><Relationship Id="rId21" Type="http://schemas.openxmlformats.org/officeDocument/2006/relationships/image" Target="../media/image56.png"/><Relationship Id="rId22" Type="http://schemas.openxmlformats.org/officeDocument/2006/relationships/image" Target="../media/image67.png"/><Relationship Id="rId23" Type="http://schemas.openxmlformats.org/officeDocument/2006/relationships/image" Target="../media/image44.png"/><Relationship Id="rId24" Type="http://schemas.openxmlformats.org/officeDocument/2006/relationships/image" Target="../media/image69.png"/><Relationship Id="rId25" Type="http://schemas.openxmlformats.org/officeDocument/2006/relationships/image" Target="../media/image58.png"/><Relationship Id="rId26" Type="http://schemas.openxmlformats.org/officeDocument/2006/relationships/image" Target="../media/image56.pn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8.jpeg"/><Relationship Id="rId4" Type="http://schemas.openxmlformats.org/officeDocument/2006/relationships/image" Target="../media/image72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3.jpeg"/><Relationship Id="rId3" Type="http://schemas.openxmlformats.org/officeDocument/2006/relationships/image" Target="../media/image7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929120"/>
            <a:ext cx="9144000" cy="1013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Информационные технологии в медицине. </a:t>
            </a:r>
            <a:br>
              <a:rPr sz="2000"/>
            </a:b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Основные вопросы информатизации в сфере здравоохранения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71720" y="628668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528d"/>
                </a:solidFill>
                <a:latin typeface="Arial"/>
              </a:rPr>
              <a:t>Sokos «Olimpic Garden», 26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7000920" y="407196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</a:rPr>
              <a:t>Декстер А.П.</a:t>
            </a:r>
            <a:br>
              <a:rPr sz="1400"/>
            </a:br>
            <a:r>
              <a:rPr b="1" lang="ru-RU" sz="14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142920" y="142920"/>
            <a:ext cx="1071360" cy="11034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untitled.bmp"/>
          <p:cNvPicPr/>
          <p:nvPr/>
        </p:nvPicPr>
        <p:blipFill>
          <a:blip r:embed="rId2"/>
          <a:stretch/>
        </p:blipFill>
        <p:spPr>
          <a:xfrm>
            <a:off x="8286840" y="4143240"/>
            <a:ext cx="538200" cy="4287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360" y="12142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8" name="Picture 8" descr="C:\Documents and Settings\Papa\Рабочий стол\3D_Business_Graphics_rep\stockxpertcom_id11485941_size5.jpg"/>
          <p:cNvPicPr/>
          <p:nvPr/>
        </p:nvPicPr>
        <p:blipFill>
          <a:blip r:embed="rId3"/>
          <a:stretch/>
        </p:blipFill>
        <p:spPr>
          <a:xfrm>
            <a:off x="2786040" y="0"/>
            <a:ext cx="390672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8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Прямоугольник 7"/>
          <p:cNvSpPr/>
          <p:nvPr/>
        </p:nvSpPr>
        <p:spPr>
          <a:xfrm>
            <a:off x="0" y="1285920"/>
            <a:ext cx="91440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Нормативно-правовая баз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0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Закон "О персональных данных", № 152-ФЗ от 27.07.2006 г.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0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indefinite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84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Прямоугольник 7"/>
          <p:cNvSpPr/>
          <p:nvPr/>
        </p:nvSpPr>
        <p:spPr>
          <a:xfrm>
            <a:off x="214200" y="135720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ормативно-правовых актах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, ст. 10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indefinite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3" name="Picture 4" descr="F:\Подготовка презентации 2008\ICONS\iconki_www.webz.tu1.ru\500ic\[www.zavis.ru]NetByte Design Studio - 1121.png"/>
          <p:cNvPicPr/>
          <p:nvPr/>
        </p:nvPicPr>
        <p:blipFill>
          <a:blip r:embed="rId3"/>
          <a:stretch/>
        </p:blipFill>
        <p:spPr>
          <a:xfrm>
            <a:off x="0" y="22147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F:\Подготовка презентации 2008\ICONS\iconki_www.webz.tu1.ru\500ic\[www.zavis.ru]NetByte Design Studio - 1121.png"/>
          <p:cNvPicPr/>
          <p:nvPr/>
        </p:nvPicPr>
        <p:blipFill>
          <a:blip r:embed="rId4"/>
          <a:stretch/>
        </p:blipFill>
        <p:spPr>
          <a:xfrm>
            <a:off x="0" y="4071960"/>
            <a:ext cx="1625760" cy="162540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11"/>
          <p:cNvSpPr/>
          <p:nvPr/>
        </p:nvSpPr>
        <p:spPr>
          <a:xfrm>
            <a:off x="1571760" y="2571840"/>
            <a:ext cx="72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Документальное согласие пациента на обработку и передачу его персональных данных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Прямоугольник 12"/>
          <p:cNvSpPr/>
          <p:nvPr/>
        </p:nvSpPr>
        <p:spPr>
          <a:xfrm>
            <a:off x="1571760" y="4286160"/>
            <a:ext cx="721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1280" indent="-3412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Прямоугольник 13"/>
          <p:cNvSpPr/>
          <p:nvPr/>
        </p:nvSpPr>
        <p:spPr>
          <a:xfrm>
            <a:off x="285840" y="1428840"/>
            <a:ext cx="55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ПРОБЛЕМЫ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Не регламентированы процедуры и формы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0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Прямоугольник 13"/>
          <p:cNvSpPr/>
          <p:nvPr/>
        </p:nvSpPr>
        <p:spPr>
          <a:xfrm>
            <a:off x="357120" y="1428840"/>
            <a:ext cx="8429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Внедрение Электронной Цифровой Подписи (ЭЦП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Пример Санкт-Петербург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Удостоверяющий центр (УЦ) с федеральной кросс сертификацией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Один УЦ для ИОГВ и подведомственной сети субъекта Р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Выпущено и установлено более 600 электронных цифровых подписе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Руководитель учреждения ЛП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Заместитель руководителя учреждения ЛП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Сферы применения ЭЦП в 2008 год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Создание и подпись заявки на включение гражданина в регистр региональных льготников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Подача заявок на включение/исключение врачей из справочника ЛЛ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спективы информатизации здравоохран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214200" y="1285920"/>
            <a:ext cx="871560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ажнейшие шаги по развитию информатизации здравоохранения Санкт-Петербурга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8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0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лючевые области информатизации в системе здравоохранения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1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16"/>
          <p:cNvSpPr/>
          <p:nvPr/>
        </p:nvSpPr>
        <p:spPr>
          <a:xfrm>
            <a:off x="928800" y="4857840"/>
            <a:ext cx="7286400" cy="92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ТЕЛЕКОММУНИКАЦИОННАЯ СРЕД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AutoShape 14"/>
          <p:cNvSpPr/>
          <p:nvPr/>
        </p:nvSpPr>
        <p:spPr>
          <a:xfrm>
            <a:off x="857160" y="3214800"/>
            <a:ext cx="7286760" cy="92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ТЕХНОЛОГИЧЕСКАЯ ИНФРАСТРУКТУРА И БАЗОВЫЕ СЕРВИС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AutoShape 15"/>
          <p:cNvSpPr/>
          <p:nvPr/>
        </p:nvSpPr>
        <p:spPr>
          <a:xfrm>
            <a:off x="857160" y="1500120"/>
            <a:ext cx="72867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ФУНКЦИОНАЛЬНО-ОРИЕНТИРОВАНЫЕ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ИНФОРМАЦИОННЫЕ РЕСУРСЫ И СИСТЕМ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AutoShape 14"/>
          <p:cNvSpPr/>
          <p:nvPr/>
        </p:nvSpPr>
        <p:spPr>
          <a:xfrm rot="10800000">
            <a:off x="3214800" y="2428560"/>
            <a:ext cx="2286000" cy="78588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AutoShape 14"/>
          <p:cNvSpPr/>
          <p:nvPr/>
        </p:nvSpPr>
        <p:spPr>
          <a:xfrm rot="10800000">
            <a:off x="3214800" y="4071600"/>
            <a:ext cx="2286000" cy="78588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indefinite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"/>
          <p:cNvSpPr/>
          <p:nvPr/>
        </p:nvSpPr>
        <p:spPr>
          <a:xfrm flipH="1">
            <a:off x="0" y="528624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 flipH="1">
            <a:off x="0" y="4214880"/>
            <a:ext cx="9144000" cy="7142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flipV="1">
            <a:off x="2500200" y="1714320"/>
            <a:ext cx="3929040" cy="235728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214200" y="1214280"/>
            <a:ext cx="86439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2. Решение общих проблем и вопросов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Проблемы интеграции ресурс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шение технических и технологических проблем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шение вопросов распределения ответственност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ая технологическая организация выполняющ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ункции ИТ-консалтинга на уровне Правительства СПб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ая технологическая организация выполняющ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ункции ИТ-консалтинга на уровне системы здравоохранения СПб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2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Подготовка презентации 2008\ICONS\VirtualLNK Icons\VirtualLNK Accounting Icons Collection v1.0\BMP\Regular\72x72\Bank 2 Information.bmp"/>
          <p:cNvPicPr/>
          <p:nvPr/>
        </p:nvPicPr>
        <p:blipFill>
          <a:blip r:embed="rId2"/>
          <a:stretch/>
        </p:blipFill>
        <p:spPr>
          <a:xfrm>
            <a:off x="8001000" y="414324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8"/>
          <p:cNvSpPr/>
          <p:nvPr/>
        </p:nvSpPr>
        <p:spPr>
          <a:xfrm>
            <a:off x="7215120" y="464328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б ИА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28" name="Группа 26"/>
          <p:cNvGrpSpPr/>
          <p:nvPr/>
        </p:nvGrpSpPr>
        <p:grpSpPr>
          <a:xfrm>
            <a:off x="8001000" y="5143680"/>
            <a:ext cx="571680" cy="642600"/>
            <a:chOff x="8001000" y="5143680"/>
            <a:chExt cx="571680" cy="642600"/>
          </a:xfrm>
        </p:grpSpPr>
        <p:pic>
          <p:nvPicPr>
            <p:cNvPr id="329" name="Picture 6" descr="H:\Подготовка презентации 2008\ICONS\VirtualLNK Icons\VirtualLNK Accounting Icons Collection v1.0\BMP\Regular\72x72\Bank 2 Account.bmp"/>
            <p:cNvPicPr/>
            <p:nvPr/>
          </p:nvPicPr>
          <p:blipFill>
            <a:blip r:embed="rId3"/>
            <a:stretch/>
          </p:blipFill>
          <p:spPr>
            <a:xfrm>
              <a:off x="8001000" y="5143680"/>
              <a:ext cx="54612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7" descr="H:\Подготовка презентации 2008\ICONS\VirtualLNK Icons\VirtualLNK Medical Icons Collection v1.0\BMP\Regular\72x72\Medical Bag 2.bmp"/>
            <p:cNvPicPr/>
            <p:nvPr/>
          </p:nvPicPr>
          <p:blipFill>
            <a:blip r:embed="rId4"/>
            <a:stretch/>
          </p:blipFill>
          <p:spPr>
            <a:xfrm>
              <a:off x="8214120" y="5383440"/>
              <a:ext cx="358560" cy="40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Прямоугольник 12"/>
          <p:cNvSpPr/>
          <p:nvPr/>
        </p:nvSpPr>
        <p:spPr>
          <a:xfrm>
            <a:off x="7215120" y="571500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б МИА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2" name="Рисунок 14" descr="untitled.bmp"/>
          <p:cNvPicPr/>
          <p:nvPr/>
        </p:nvPicPr>
        <p:blipFill>
          <a:blip r:embed="rId5"/>
          <a:stretch/>
        </p:blipFill>
        <p:spPr>
          <a:xfrm>
            <a:off x="8605800" y="5286240"/>
            <a:ext cx="53820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AutoShape 4"/>
          <p:cNvSpPr/>
          <p:nvPr/>
        </p:nvSpPr>
        <p:spPr>
          <a:xfrm>
            <a:off x="142920" y="1285920"/>
            <a:ext cx="8786880" cy="20718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ные государственные центры 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grpSp>
        <p:nvGrpSpPr>
          <p:cNvPr id="336" name="Группа 61"/>
          <p:cNvGrpSpPr/>
          <p:nvPr/>
        </p:nvGrpSpPr>
        <p:grpSpPr>
          <a:xfrm>
            <a:off x="151560" y="1938960"/>
            <a:ext cx="927720" cy="3069360"/>
            <a:chOff x="151560" y="1938960"/>
            <a:chExt cx="927720" cy="3069360"/>
          </a:xfrm>
        </p:grpSpPr>
        <p:sp>
          <p:nvSpPr>
            <p:cNvPr id="337" name="Полилиния 6"/>
            <p:cNvSpPr/>
            <p:nvPr/>
          </p:nvSpPr>
          <p:spPr>
            <a:xfrm rot="5400000">
              <a:off x="152280" y="279504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Полилиния 7"/>
            <p:cNvSpPr/>
            <p:nvPr/>
          </p:nvSpPr>
          <p:spPr>
            <a:xfrm rot="5400000">
              <a:off x="152280" y="322380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Полилиния 8"/>
            <p:cNvSpPr/>
            <p:nvPr/>
          </p:nvSpPr>
          <p:spPr>
            <a:xfrm rot="5400000">
              <a:off x="152280" y="365256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Полилиния 9"/>
            <p:cNvSpPr/>
            <p:nvPr/>
          </p:nvSpPr>
          <p:spPr>
            <a:xfrm rot="4797000">
              <a:off x="174240" y="403380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Полилиния 10"/>
            <p:cNvSpPr/>
            <p:nvPr/>
          </p:nvSpPr>
          <p:spPr>
            <a:xfrm rot="3326400">
              <a:off x="279360" y="435132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Полилиния 11"/>
            <p:cNvSpPr/>
            <p:nvPr/>
          </p:nvSpPr>
          <p:spPr>
            <a:xfrm rot="2116800">
              <a:off x="484200" y="455616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Полилиния 12"/>
            <p:cNvSpPr/>
            <p:nvPr/>
          </p:nvSpPr>
          <p:spPr>
            <a:xfrm rot="985200">
              <a:off x="758520" y="468828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Полилиния 13"/>
            <p:cNvSpPr/>
            <p:nvPr/>
          </p:nvSpPr>
          <p:spPr>
            <a:xfrm rot="6837600">
              <a:off x="223560" y="243792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Полилиния 14"/>
            <p:cNvSpPr/>
            <p:nvPr/>
          </p:nvSpPr>
          <p:spPr>
            <a:xfrm rot="8377200">
              <a:off x="425160" y="213912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Полилиния 15"/>
            <p:cNvSpPr/>
            <p:nvPr/>
          </p:nvSpPr>
          <p:spPr>
            <a:xfrm rot="9884400">
              <a:off x="685440" y="197136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347" name="Picture 10" descr="H:\Подготовка презентации 2008\ICONS\VirtualLNK Icons\VirtualLNK Medical Icons Collection v1.0\BMP\Regular\72x72\Hospital 2 Information.bmp"/>
          <p:cNvPicPr/>
          <p:nvPr/>
        </p:nvPicPr>
        <p:blipFill>
          <a:blip r:embed="rId2"/>
          <a:stretch/>
        </p:blipFill>
        <p:spPr>
          <a:xfrm>
            <a:off x="4143240" y="1714680"/>
            <a:ext cx="871560" cy="871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H:\Подготовка презентации 2008\ICONS\VirtualLNK Icons\VirtualLNK Medical Icons Collection v1.0\BMP\Regular\72x72\Hospital.bmp"/>
          <p:cNvPicPr/>
          <p:nvPr/>
        </p:nvPicPr>
        <p:blipFill>
          <a:blip r:embed="rId3"/>
          <a:stretch/>
        </p:blipFill>
        <p:spPr>
          <a:xfrm>
            <a:off x="1071720" y="17146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H:\Подготовка презентации 2008\ICONS\VirtualLNK Icons\VirtualLNK Medical Icons Collection v1.0\BMP\Regular\72x72\Hospital 2 Add.bmp"/>
          <p:cNvPicPr/>
          <p:nvPr/>
        </p:nvPicPr>
        <p:blipFill>
          <a:blip r:embed="rId4"/>
          <a:stretch/>
        </p:blipFill>
        <p:spPr>
          <a:xfrm>
            <a:off x="7143840" y="1714680"/>
            <a:ext cx="857160" cy="857160"/>
          </a:xfrm>
          <a:prstGeom prst="rect">
            <a:avLst/>
          </a:prstGeom>
          <a:ln w="0">
            <a:noFill/>
          </a:ln>
        </p:spPr>
      </p:pic>
      <p:grpSp>
        <p:nvGrpSpPr>
          <p:cNvPr id="350" name="Группа 65"/>
          <p:cNvGrpSpPr/>
          <p:nvPr/>
        </p:nvGrpSpPr>
        <p:grpSpPr>
          <a:xfrm>
            <a:off x="3071160" y="1929600"/>
            <a:ext cx="927360" cy="3069000"/>
            <a:chOff x="3071160" y="1929600"/>
            <a:chExt cx="927360" cy="3069000"/>
          </a:xfrm>
        </p:grpSpPr>
        <p:sp>
          <p:nvSpPr>
            <p:cNvPr id="351" name="Полилиния 33"/>
            <p:cNvSpPr/>
            <p:nvPr/>
          </p:nvSpPr>
          <p:spPr>
            <a:xfrm rot="985200">
              <a:off x="3678120" y="467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2" name="Группа 62"/>
            <p:cNvGrpSpPr/>
            <p:nvPr/>
          </p:nvGrpSpPr>
          <p:grpSpPr>
            <a:xfrm>
              <a:off x="3071160" y="1929600"/>
              <a:ext cx="851760" cy="2959920"/>
              <a:chOff x="3071160" y="1929600"/>
              <a:chExt cx="851760" cy="2959920"/>
            </a:xfrm>
          </p:grpSpPr>
          <p:sp>
            <p:nvSpPr>
              <p:cNvPr id="353" name="Полилиния 27"/>
              <p:cNvSpPr/>
              <p:nvPr/>
            </p:nvSpPr>
            <p:spPr>
              <a:xfrm rot="5400000">
                <a:off x="3071160" y="278604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Полилиния 28"/>
              <p:cNvSpPr/>
              <p:nvPr/>
            </p:nvSpPr>
            <p:spPr>
              <a:xfrm rot="5400000">
                <a:off x="3071160" y="321480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5" name="Полилиния 29"/>
              <p:cNvSpPr/>
              <p:nvPr/>
            </p:nvSpPr>
            <p:spPr>
              <a:xfrm rot="5400000">
                <a:off x="3071160" y="364356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Полилиния 30"/>
              <p:cNvSpPr/>
              <p:nvPr/>
            </p:nvSpPr>
            <p:spPr>
              <a:xfrm rot="4797000">
                <a:off x="3094560" y="4022280"/>
                <a:ext cx="285840" cy="2872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7" name="Полилиния 31"/>
              <p:cNvSpPr/>
              <p:nvPr/>
            </p:nvSpPr>
            <p:spPr>
              <a:xfrm rot="3326400">
                <a:off x="3197880" y="434232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Полилиния 32"/>
              <p:cNvSpPr/>
              <p:nvPr/>
            </p:nvSpPr>
            <p:spPr>
              <a:xfrm rot="2116800">
                <a:off x="3403440" y="4546800"/>
                <a:ext cx="2872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Полилиния 34"/>
              <p:cNvSpPr/>
              <p:nvPr/>
            </p:nvSpPr>
            <p:spPr>
              <a:xfrm rot="6837600">
                <a:off x="3142440" y="242856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Полилиния 35"/>
              <p:cNvSpPr/>
              <p:nvPr/>
            </p:nvSpPr>
            <p:spPr>
              <a:xfrm rot="8377200">
                <a:off x="3344400" y="213012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1" name="Полилиния 36"/>
              <p:cNvSpPr/>
              <p:nvPr/>
            </p:nvSpPr>
            <p:spPr>
              <a:xfrm rot="9884400">
                <a:off x="3604680" y="196200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Группа 63"/>
          <p:cNvGrpSpPr/>
          <p:nvPr/>
        </p:nvGrpSpPr>
        <p:grpSpPr>
          <a:xfrm>
            <a:off x="6213960" y="1929240"/>
            <a:ext cx="927720" cy="3069360"/>
            <a:chOff x="6213960" y="1929240"/>
            <a:chExt cx="927720" cy="3069360"/>
          </a:xfrm>
        </p:grpSpPr>
        <p:sp>
          <p:nvSpPr>
            <p:cNvPr id="363" name="Полилиния 37"/>
            <p:cNvSpPr/>
            <p:nvPr/>
          </p:nvSpPr>
          <p:spPr>
            <a:xfrm rot="5400000">
              <a:off x="6214680" y="278568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Полилиния 38"/>
            <p:cNvSpPr/>
            <p:nvPr/>
          </p:nvSpPr>
          <p:spPr>
            <a:xfrm rot="5400000">
              <a:off x="6214680" y="32144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Полилиния 39"/>
            <p:cNvSpPr/>
            <p:nvPr/>
          </p:nvSpPr>
          <p:spPr>
            <a:xfrm rot="5400000">
              <a:off x="6214680" y="3643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Полилиния 40"/>
            <p:cNvSpPr/>
            <p:nvPr/>
          </p:nvSpPr>
          <p:spPr>
            <a:xfrm rot="4797000">
              <a:off x="6236640" y="40244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Полилиния 41"/>
            <p:cNvSpPr/>
            <p:nvPr/>
          </p:nvSpPr>
          <p:spPr>
            <a:xfrm rot="3326400">
              <a:off x="6341040" y="43416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Полилиния 42"/>
            <p:cNvSpPr/>
            <p:nvPr/>
          </p:nvSpPr>
          <p:spPr>
            <a:xfrm rot="2116800">
              <a:off x="6546240" y="45468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Полилиния 43"/>
            <p:cNvSpPr/>
            <p:nvPr/>
          </p:nvSpPr>
          <p:spPr>
            <a:xfrm rot="985200">
              <a:off x="6821280" y="467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0" name="Полилиния 44"/>
            <p:cNvSpPr/>
            <p:nvPr/>
          </p:nvSpPr>
          <p:spPr>
            <a:xfrm rot="6837600">
              <a:off x="6285960" y="242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1" name="Полилиния 45"/>
            <p:cNvSpPr/>
            <p:nvPr/>
          </p:nvSpPr>
          <p:spPr>
            <a:xfrm rot="8377200">
              <a:off x="6487200" y="212976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Полилиния 46"/>
            <p:cNvSpPr/>
            <p:nvPr/>
          </p:nvSpPr>
          <p:spPr>
            <a:xfrm rot="9884400">
              <a:off x="6747840" y="19616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73" name="Прямоугольник 49"/>
          <p:cNvSpPr/>
          <p:nvPr/>
        </p:nvSpPr>
        <p:spPr>
          <a:xfrm>
            <a:off x="2071800" y="12859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ТЕЛЬСТВО САНКТ-ПЕТЕРБУРГ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Прямоугольник 50"/>
          <p:cNvSpPr/>
          <p:nvPr/>
        </p:nvSpPr>
        <p:spPr>
          <a:xfrm>
            <a:off x="428760" y="257184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здравоохранению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Прямоугольник 51"/>
          <p:cNvSpPr/>
          <p:nvPr/>
        </p:nvSpPr>
        <p:spPr>
          <a:xfrm>
            <a:off x="3000240" y="2643120"/>
            <a:ext cx="335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информатизации и связ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Прямоугольник 52"/>
          <p:cNvSpPr/>
          <p:nvPr/>
        </p:nvSpPr>
        <p:spPr>
          <a:xfrm>
            <a:off x="6357960" y="2643120"/>
            <a:ext cx="25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социальной защите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77" name="Группа 66"/>
          <p:cNvGrpSpPr/>
          <p:nvPr/>
        </p:nvGrpSpPr>
        <p:grpSpPr>
          <a:xfrm>
            <a:off x="3429000" y="4357800"/>
            <a:ext cx="2214720" cy="1806120"/>
            <a:chOff x="3429000" y="4357800"/>
            <a:chExt cx="2214720" cy="1806120"/>
          </a:xfrm>
        </p:grpSpPr>
        <p:pic>
          <p:nvPicPr>
            <p:cNvPr id="378" name="Picture 2" descr="H:\Подготовка презентации 2008\ICONS\VirtualLNK Icons\VirtualLNK Accounting Icons Collection v1.0\BMP\Regular\72x72\Bank 2 Information.bmp"/>
            <p:cNvPicPr/>
            <p:nvPr/>
          </p:nvPicPr>
          <p:blipFill>
            <a:blip r:embed="rId5"/>
            <a:stretch/>
          </p:blipFill>
          <p:spPr>
            <a:xfrm>
              <a:off x="4071960" y="4357800"/>
              <a:ext cx="785880" cy="7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Прямоугольник 54"/>
            <p:cNvSpPr/>
            <p:nvPr/>
          </p:nvSpPr>
          <p:spPr>
            <a:xfrm>
              <a:off x="342900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Пб ИАЦ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Прямоугольник 57"/>
            <p:cNvSpPr/>
            <p:nvPr/>
          </p:nvSpPr>
          <p:spPr>
            <a:xfrm>
              <a:off x="3429000" y="5643720"/>
              <a:ext cx="2214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нформационно-аналитический центр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81" name="Группа 67"/>
          <p:cNvGrpSpPr/>
          <p:nvPr/>
        </p:nvGrpSpPr>
        <p:grpSpPr>
          <a:xfrm>
            <a:off x="6572160" y="4286160"/>
            <a:ext cx="2214720" cy="2090880"/>
            <a:chOff x="6572160" y="4286160"/>
            <a:chExt cx="2214720" cy="2090880"/>
          </a:xfrm>
        </p:grpSpPr>
        <p:pic>
          <p:nvPicPr>
            <p:cNvPr id="382" name="Picture 5" descr="H:\Подготовка презентации 2008\ICONS\VirtualLNK Icons\VirtualLNK Accounting Icons Collection v1.0\BMP\Regular\72x72\Bank 2 Add.bmp"/>
            <p:cNvPicPr/>
            <p:nvPr/>
          </p:nvPicPr>
          <p:blipFill>
            <a:blip r:embed="rId6"/>
            <a:stretch/>
          </p:blipFill>
          <p:spPr>
            <a:xfrm>
              <a:off x="7215120" y="4286160"/>
              <a:ext cx="85716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Прямоугольник 55"/>
            <p:cNvSpPr/>
            <p:nvPr/>
          </p:nvSpPr>
          <p:spPr>
            <a:xfrm>
              <a:off x="657216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ГЦНВПП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Прямоугольник 58"/>
            <p:cNvSpPr/>
            <p:nvPr/>
          </p:nvSpPr>
          <p:spPr>
            <a:xfrm>
              <a:off x="6572160" y="5643720"/>
              <a:ext cx="2214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ородской центр по начислению и выплате пенсий и пособий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6" name="Группа 64"/>
          <p:cNvGrpSpPr/>
          <p:nvPr/>
        </p:nvGrpSpPr>
        <p:grpSpPr>
          <a:xfrm>
            <a:off x="500040" y="4357800"/>
            <a:ext cx="2214720" cy="1947960"/>
            <a:chOff x="500040" y="4357800"/>
            <a:chExt cx="2214720" cy="1947960"/>
          </a:xfrm>
        </p:grpSpPr>
        <p:grpSp>
          <p:nvGrpSpPr>
            <p:cNvPr id="387" name="Группа 26"/>
            <p:cNvGrpSpPr/>
            <p:nvPr/>
          </p:nvGrpSpPr>
          <p:grpSpPr>
            <a:xfrm>
              <a:off x="1143000" y="4357800"/>
              <a:ext cx="857160" cy="857160"/>
              <a:chOff x="1143000" y="4357800"/>
              <a:chExt cx="857160" cy="857160"/>
            </a:xfrm>
          </p:grpSpPr>
          <p:pic>
            <p:nvPicPr>
              <p:cNvPr id="388" name="Picture 6" descr="H:\Подготовка презентации 2008\ICONS\VirtualLNK Icons\VirtualLNK Accounting Icons Collection v1.0\BMP\Regular\72x72\Bank 2 Account.bmp"/>
              <p:cNvPicPr/>
              <p:nvPr/>
            </p:nvPicPr>
            <p:blipFill>
              <a:blip r:embed="rId7"/>
              <a:stretch/>
            </p:blipFill>
            <p:spPr>
              <a:xfrm>
                <a:off x="1143000" y="4357800"/>
                <a:ext cx="8190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Picture 7" descr="H:\Подготовка презентации 2008\ICONS\VirtualLNK Icons\VirtualLNK Medical Icons Collection v1.0\BMP\Regular\72x72\Medical Bag 2.bmp"/>
              <p:cNvPicPr/>
              <p:nvPr/>
            </p:nvPicPr>
            <p:blipFill>
              <a:blip r:embed="rId8"/>
              <a:stretch/>
            </p:blipFill>
            <p:spPr>
              <a:xfrm>
                <a:off x="1462680" y="4677480"/>
                <a:ext cx="537480" cy="537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0" name="Прямоугольник 53"/>
            <p:cNvSpPr/>
            <p:nvPr/>
          </p:nvSpPr>
          <p:spPr>
            <a:xfrm>
              <a:off x="50004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Пб МИАЦ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1" name="Прямоугольник 56"/>
            <p:cNvSpPr/>
            <p:nvPr/>
          </p:nvSpPr>
          <p:spPr>
            <a:xfrm>
              <a:off x="500040" y="5572440"/>
              <a:ext cx="2214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едицинский информационно-аналитический центр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92" name="Рисунок 60" descr="untitled.bmp"/>
            <p:cNvPicPr/>
            <p:nvPr/>
          </p:nvPicPr>
          <p:blipFill>
            <a:blip r:embed="rId9"/>
            <a:stretch/>
          </p:blipFill>
          <p:spPr>
            <a:xfrm>
              <a:off x="2000520" y="4357800"/>
              <a:ext cx="53748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Двойная стрелка влево/вправо 68"/>
          <p:cNvSpPr/>
          <p:nvPr/>
        </p:nvSpPr>
        <p:spPr>
          <a:xfrm>
            <a:off x="2214720" y="5357880"/>
            <a:ext cx="4857480" cy="500040"/>
          </a:xfrm>
          <a:prstGeom prst="leftRightArrow">
            <a:avLst>
              <a:gd name="adj1" fmla="val 50000"/>
              <a:gd name="adj2" fmla="val 50010"/>
            </a:avLst>
          </a:prstGeom>
          <a:solidFill>
            <a:srgbClr val="5bace9">
              <a:alpha val="38000"/>
            </a:srgbClr>
          </a:solidFill>
          <a:ln w="25560">
            <a:solidFill>
              <a:srgbClr val="417dab">
                <a:alpha val="4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214200" y="2214720"/>
            <a:ext cx="86439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ультисервисная сеть органов государственной вла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Единая Мультисервисная Телекоммуникационная Сеть ИОГВ СПб (ЕМТС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 Обработки Данных учреждений здравоохранения (ЦОД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ализованная техническая поддержка учреждений здравоохранен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спользование средств криптографической защиты информации (ЭЦП)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альный сервер электронной почты учреждений здравоохранен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6"/>
          <p:cNvSpPr/>
          <p:nvPr/>
        </p:nvSpPr>
        <p:spPr>
          <a:xfrm>
            <a:off x="0" y="1214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Основные компоненты инфраструктуры системы управления здравоохранением СПб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28800" y="571320"/>
            <a:ext cx="82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0" name="Object 5" descr=""/>
          <p:cNvPicPr/>
          <p:nvPr/>
        </p:nvPicPr>
        <p:blipFill>
          <a:blip r:embed="rId1"/>
          <a:stretch/>
        </p:blipFill>
        <p:spPr>
          <a:xfrm>
            <a:off x="3000240" y="1500120"/>
            <a:ext cx="5926320" cy="495144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6"/>
          <p:cNvSpPr/>
          <p:nvPr/>
        </p:nvSpPr>
        <p:spPr>
          <a:xfrm>
            <a:off x="142920" y="1428840"/>
            <a:ext cx="49291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птоволоконная связь -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900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очек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зервный модемный пул - 480 ли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щита данных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– VipNe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ервисы ЕМТС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М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терне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чтовый сервер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чтовые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unix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-сервера учрежд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.обмен между ИС учрежд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2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0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оль информатизации в системе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02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3429000" y="1571760"/>
            <a:ext cx="5715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системы мониторинга за состоянием здоровья населения и демографическими показателям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3500280" y="4357800"/>
            <a:ext cx="51436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для оперативного принятия адекватных лечебно-диагностических решени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500280" y="3143160"/>
            <a:ext cx="564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для принятия адекватных управленческих решени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Прямоугольник 12"/>
          <p:cNvSpPr/>
          <p:nvPr/>
        </p:nvSpPr>
        <p:spPr>
          <a:xfrm>
            <a:off x="285840" y="171468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Государств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285840" y="442908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пециалис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285840" y="314316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уководитель/собственни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Штриховая стрелка вправо 15"/>
          <p:cNvSpPr/>
          <p:nvPr/>
        </p:nvSpPr>
        <p:spPr>
          <a:xfrm>
            <a:off x="2786040" y="171468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Штриховая стрелка вправо 16"/>
          <p:cNvSpPr/>
          <p:nvPr/>
        </p:nvSpPr>
        <p:spPr>
          <a:xfrm>
            <a:off x="2786040" y="450072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Штриховая стрелка вправо 17"/>
          <p:cNvSpPr/>
          <p:nvPr/>
        </p:nvSpPr>
        <p:spPr>
          <a:xfrm>
            <a:off x="2786040" y="321480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3"/>
          <p:cNvSpPr/>
          <p:nvPr/>
        </p:nvSpPr>
        <p:spPr>
          <a:xfrm>
            <a:off x="428760" y="2143080"/>
            <a:ext cx="2700360" cy="3500640"/>
          </a:xfrm>
          <a:custGeom>
            <a:avLst/>
            <a:gdLst>
              <a:gd name="textAreaLeft" fmla="*/ 37080 w 2700360"/>
              <a:gd name="textAreaRight" fmla="*/ 2663280 w 2700360"/>
              <a:gd name="textAreaTop" fmla="*/ 37080 h 3500640"/>
              <a:gd name="textAreaBottom" fmla="*/ 3463560 h 3500640"/>
            </a:gdLst>
            <a:ahLst/>
            <a:rect l="textAreaLeft" t="textAreaTop" r="textAreaRight" b="textAreaBottom"/>
            <a:pathLst>
              <a:path w="21600" h="28001">
                <a:moveTo>
                  <a:pt x="1013" y="0"/>
                </a:moveTo>
                <a:arcTo wR="1013" hR="1013" stAng="16200000" swAng="-5400000"/>
                <a:lnTo>
                  <a:pt x="0" y="26988"/>
                </a:lnTo>
                <a:arcTo wR="1013" hR="1013" stAng="10800000" swAng="-5400000"/>
                <a:lnTo>
                  <a:pt x="20587" y="28001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bb6cf"/>
              </a:gs>
              <a:gs pos="100000">
                <a:srgbClr val="41b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3357720" y="2143080"/>
            <a:ext cx="2571480" cy="3500640"/>
          </a:xfrm>
          <a:custGeom>
            <a:avLst/>
            <a:gdLst>
              <a:gd name="textAreaLeft" fmla="*/ 35280 w 2571480"/>
              <a:gd name="textAreaRight" fmla="*/ 2536200 w 2571480"/>
              <a:gd name="textAreaTop" fmla="*/ 35280 h 3500640"/>
              <a:gd name="textAreaBottom" fmla="*/ 3465360 h 3500640"/>
            </a:gdLst>
            <a:ahLst/>
            <a:rect l="textAreaLeft" t="textAreaTop" r="textAreaRight" b="textAreaBottom"/>
            <a:pathLst>
              <a:path w="21600" h="29404">
                <a:moveTo>
                  <a:pt x="1013" y="0"/>
                </a:moveTo>
                <a:arcTo wR="1013" hR="1013" stAng="16200000" swAng="-5400000"/>
                <a:lnTo>
                  <a:pt x="0" y="28391"/>
                </a:lnTo>
                <a:arcTo wR="1013" hR="1013" stAng="10800000" swAng="-5400000"/>
                <a:lnTo>
                  <a:pt x="20587" y="2940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da4eb"/>
              </a:gs>
              <a:gs pos="100000">
                <a:srgbClr val="4f8b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6143760" y="2143080"/>
            <a:ext cx="2500200" cy="3500640"/>
          </a:xfrm>
          <a:custGeom>
            <a:avLst/>
            <a:gdLst>
              <a:gd name="textAreaLeft" fmla="*/ 34200 w 2500200"/>
              <a:gd name="textAreaRight" fmla="*/ 2466000 w 2500200"/>
              <a:gd name="textAreaTop" fmla="*/ 34200 h 3500640"/>
              <a:gd name="textAreaBottom" fmla="*/ 3466440 h 3500640"/>
            </a:gdLst>
            <a:ahLst/>
            <a:rect l="textAreaLeft" t="textAreaTop" r="textAreaRight" b="textAreaBottom"/>
            <a:pathLst>
              <a:path w="21600" h="30242">
                <a:moveTo>
                  <a:pt x="1013" y="0"/>
                </a:moveTo>
                <a:arcTo wR="1013" hR="1013" stAng="16200000" swAng="-5400000"/>
                <a:lnTo>
                  <a:pt x="0" y="29229"/>
                </a:lnTo>
                <a:arcTo wR="1013" hR="1013" stAng="10800000" swAng="-5400000"/>
                <a:lnTo>
                  <a:pt x="20587" y="30242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2c5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714240" y="23572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эффективно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3500280" y="24289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ая открыт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6215040" y="22860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изация административных регламент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Пятиугольник 38"/>
          <p:cNvSpPr/>
          <p:nvPr/>
        </p:nvSpPr>
        <p:spPr>
          <a:xfrm>
            <a:off x="571680" y="400068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5" name="Пятиугольник 39"/>
          <p:cNvSpPr/>
          <p:nvPr/>
        </p:nvSpPr>
        <p:spPr>
          <a:xfrm>
            <a:off x="571680" y="500076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Пятиугольник 40"/>
          <p:cNvSpPr/>
          <p:nvPr/>
        </p:nvSpPr>
        <p:spPr>
          <a:xfrm>
            <a:off x="571680" y="450072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7" name="Пятиугольник 41"/>
          <p:cNvSpPr/>
          <p:nvPr/>
        </p:nvSpPr>
        <p:spPr>
          <a:xfrm>
            <a:off x="571680" y="3500280"/>
            <a:ext cx="2357280" cy="42876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8" name="Пятиугольник 42"/>
          <p:cNvSpPr/>
          <p:nvPr/>
        </p:nvSpPr>
        <p:spPr>
          <a:xfrm flipH="1">
            <a:off x="6285960" y="400068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Пятиугольник 43"/>
          <p:cNvSpPr/>
          <p:nvPr/>
        </p:nvSpPr>
        <p:spPr>
          <a:xfrm flipH="1">
            <a:off x="6285960" y="450072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Пятиугольник 44"/>
          <p:cNvSpPr/>
          <p:nvPr/>
        </p:nvSpPr>
        <p:spPr>
          <a:xfrm flipH="1">
            <a:off x="6285960" y="500076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Пятиугольник 45"/>
          <p:cNvSpPr/>
          <p:nvPr/>
        </p:nvSpPr>
        <p:spPr>
          <a:xfrm flipH="1">
            <a:off x="6285960" y="3500280"/>
            <a:ext cx="2214360" cy="42876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епозитари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Блок-схема: процесс 46"/>
          <p:cNvSpPr/>
          <p:nvPr/>
        </p:nvSpPr>
        <p:spPr>
          <a:xfrm>
            <a:off x="3571920" y="407196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Блок-схема: процесс 47"/>
          <p:cNvSpPr/>
          <p:nvPr/>
        </p:nvSpPr>
        <p:spPr>
          <a:xfrm>
            <a:off x="3571920" y="457200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2214720" y="1428840"/>
            <a:ext cx="48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осударственная услуг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Блок-схема: процесс 49"/>
          <p:cNvSpPr/>
          <p:nvPr/>
        </p:nvSpPr>
        <p:spPr>
          <a:xfrm>
            <a:off x="3571920" y="507204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9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3"/>
          <p:cNvSpPr/>
          <p:nvPr/>
        </p:nvSpPr>
        <p:spPr>
          <a:xfrm>
            <a:off x="428760" y="2143080"/>
            <a:ext cx="2700360" cy="3500640"/>
          </a:xfrm>
          <a:custGeom>
            <a:avLst/>
            <a:gdLst>
              <a:gd name="textAreaLeft" fmla="*/ 37080 w 2700360"/>
              <a:gd name="textAreaRight" fmla="*/ 2663280 w 2700360"/>
              <a:gd name="textAreaTop" fmla="*/ 37080 h 3500640"/>
              <a:gd name="textAreaBottom" fmla="*/ 3463560 h 3500640"/>
            </a:gdLst>
            <a:ahLst/>
            <a:rect l="textAreaLeft" t="textAreaTop" r="textAreaRight" b="textAreaBottom"/>
            <a:pathLst>
              <a:path w="21600" h="28001">
                <a:moveTo>
                  <a:pt x="1013" y="0"/>
                </a:moveTo>
                <a:arcTo wR="1013" hR="1013" stAng="16200000" swAng="-5400000"/>
                <a:lnTo>
                  <a:pt x="0" y="26988"/>
                </a:lnTo>
                <a:arcTo wR="1013" hR="1013" stAng="10800000" swAng="-5400000"/>
                <a:lnTo>
                  <a:pt x="20587" y="28001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bb6cf"/>
              </a:gs>
              <a:gs pos="100000">
                <a:srgbClr val="41b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714240" y="23572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эффективно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Пятиугольник 25"/>
          <p:cNvSpPr/>
          <p:nvPr/>
        </p:nvSpPr>
        <p:spPr>
          <a:xfrm>
            <a:off x="571680" y="400068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Пятиугольник 26"/>
          <p:cNvSpPr/>
          <p:nvPr/>
        </p:nvSpPr>
        <p:spPr>
          <a:xfrm>
            <a:off x="571680" y="500076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Пятиугольник 27"/>
          <p:cNvSpPr/>
          <p:nvPr/>
        </p:nvSpPr>
        <p:spPr>
          <a:xfrm>
            <a:off x="571680" y="450072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Пятиугольник 28"/>
          <p:cNvSpPr/>
          <p:nvPr/>
        </p:nvSpPr>
        <p:spPr>
          <a:xfrm>
            <a:off x="571680" y="3500280"/>
            <a:ext cx="2357280" cy="42876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6" name="Прямоугольник 12"/>
          <p:cNvSpPr/>
          <p:nvPr/>
        </p:nvSpPr>
        <p:spPr>
          <a:xfrm>
            <a:off x="3433320" y="3143160"/>
            <a:ext cx="567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«Повышение доступности и качества мед.помощи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7" name="AutoShape 14"/>
          <p:cNvSpPr/>
          <p:nvPr/>
        </p:nvSpPr>
        <p:spPr>
          <a:xfrm>
            <a:off x="5715000" y="3500280"/>
            <a:ext cx="534960" cy="987480"/>
          </a:xfrm>
          <a:prstGeom prst="upArrow">
            <a:avLst>
              <a:gd name="adj1" fmla="val 78306"/>
              <a:gd name="adj2" fmla="val 4817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8" name="Прямоугольник 16"/>
          <p:cNvSpPr/>
          <p:nvPr/>
        </p:nvSpPr>
        <p:spPr>
          <a:xfrm>
            <a:off x="4234680" y="4429080"/>
            <a:ext cx="43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Эффективность работы органов гос.власт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9" name="Группа 36"/>
          <p:cNvGrpSpPr/>
          <p:nvPr/>
        </p:nvGrpSpPr>
        <p:grpSpPr>
          <a:xfrm>
            <a:off x="6858000" y="3429360"/>
            <a:ext cx="1615320" cy="1101960"/>
            <a:chOff x="6858000" y="3429360"/>
            <a:chExt cx="1615320" cy="1101960"/>
          </a:xfrm>
        </p:grpSpPr>
        <p:sp>
          <p:nvSpPr>
            <p:cNvPr id="440" name="AutoShape 14"/>
            <p:cNvSpPr/>
            <p:nvPr/>
          </p:nvSpPr>
          <p:spPr>
            <a:xfrm rot="18749400">
              <a:off x="7135200" y="3465720"/>
              <a:ext cx="534240" cy="987480"/>
            </a:xfrm>
            <a:prstGeom prst="upArrow">
              <a:avLst>
                <a:gd name="adj1" fmla="val 78306"/>
                <a:gd name="adj2" fmla="val 48238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82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Прямоугольник 17"/>
            <p:cNvSpPr/>
            <p:nvPr/>
          </p:nvSpPr>
          <p:spPr>
            <a:xfrm>
              <a:off x="7434720" y="4072320"/>
              <a:ext cx="1038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задача </a:t>
              </a:r>
              <a:r>
                <a:rPr b="0" lang="en-US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2" name="Группа 35"/>
          <p:cNvGrpSpPr/>
          <p:nvPr/>
        </p:nvGrpSpPr>
        <p:grpSpPr>
          <a:xfrm>
            <a:off x="3862800" y="3429000"/>
            <a:ext cx="1146600" cy="1071000"/>
            <a:chOff x="3862800" y="3429000"/>
            <a:chExt cx="1146600" cy="1071000"/>
          </a:xfrm>
        </p:grpSpPr>
        <p:sp>
          <p:nvSpPr>
            <p:cNvPr id="443" name="AutoShape 14"/>
            <p:cNvSpPr/>
            <p:nvPr/>
          </p:nvSpPr>
          <p:spPr>
            <a:xfrm rot="2750400">
              <a:off x="4201560" y="3470760"/>
              <a:ext cx="534600" cy="98676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26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Прямоугольник 18"/>
            <p:cNvSpPr/>
            <p:nvPr/>
          </p:nvSpPr>
          <p:spPr>
            <a:xfrm>
              <a:off x="3862800" y="4000320"/>
              <a:ext cx="100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задача 1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5" name="AutoShape 14"/>
          <p:cNvSpPr/>
          <p:nvPr/>
        </p:nvSpPr>
        <p:spPr>
          <a:xfrm>
            <a:off x="5786280" y="4857840"/>
            <a:ext cx="535320" cy="987480"/>
          </a:xfrm>
          <a:prstGeom prst="upArrow">
            <a:avLst>
              <a:gd name="adj1" fmla="val 78306"/>
              <a:gd name="adj2" fmla="val 48140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46" name="Группа 37"/>
          <p:cNvGrpSpPr/>
          <p:nvPr/>
        </p:nvGrpSpPr>
        <p:grpSpPr>
          <a:xfrm>
            <a:off x="3651840" y="4786560"/>
            <a:ext cx="1439640" cy="1071000"/>
            <a:chOff x="3651840" y="4786560"/>
            <a:chExt cx="1439640" cy="1071000"/>
          </a:xfrm>
        </p:grpSpPr>
        <p:sp>
          <p:nvSpPr>
            <p:cNvPr id="447" name="AutoShape 14"/>
            <p:cNvSpPr/>
            <p:nvPr/>
          </p:nvSpPr>
          <p:spPr>
            <a:xfrm rot="2750400">
              <a:off x="4273200" y="4828320"/>
              <a:ext cx="534240" cy="987120"/>
            </a:xfrm>
            <a:prstGeom prst="upArrow">
              <a:avLst>
                <a:gd name="adj1" fmla="val 78306"/>
                <a:gd name="adj2" fmla="val 4822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26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Прямоугольник 32"/>
            <p:cNvSpPr/>
            <p:nvPr/>
          </p:nvSpPr>
          <p:spPr>
            <a:xfrm>
              <a:off x="3651840" y="5357880"/>
              <a:ext cx="1439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струмент 1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9" name="Группа 38"/>
          <p:cNvGrpSpPr/>
          <p:nvPr/>
        </p:nvGrpSpPr>
        <p:grpSpPr>
          <a:xfrm>
            <a:off x="6929280" y="4786920"/>
            <a:ext cx="1481760" cy="1101600"/>
            <a:chOff x="6929280" y="4786920"/>
            <a:chExt cx="1481760" cy="1101600"/>
          </a:xfrm>
        </p:grpSpPr>
        <p:sp>
          <p:nvSpPr>
            <p:cNvPr id="450" name="AutoShape 14"/>
            <p:cNvSpPr/>
            <p:nvPr/>
          </p:nvSpPr>
          <p:spPr>
            <a:xfrm rot="18749400">
              <a:off x="7206120" y="4823640"/>
              <a:ext cx="534240" cy="986760"/>
            </a:xfrm>
            <a:prstGeom prst="upArrow">
              <a:avLst>
                <a:gd name="adj1" fmla="val 78306"/>
                <a:gd name="adj2" fmla="val 48202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82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Прямоугольник 33"/>
            <p:cNvSpPr/>
            <p:nvPr/>
          </p:nvSpPr>
          <p:spPr>
            <a:xfrm>
              <a:off x="6938280" y="5429520"/>
              <a:ext cx="1472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струмент </a:t>
              </a:r>
              <a:r>
                <a:rPr b="0" lang="en-US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2" name="Прямоугольник 34"/>
          <p:cNvSpPr/>
          <p:nvPr/>
        </p:nvSpPr>
        <p:spPr>
          <a:xfrm>
            <a:off x="5506560" y="5500800"/>
            <a:ext cx="114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Контроль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42800"/>
            <a:ext cx="8786880" cy="51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Государственное медицинское статистическое наблюд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оценки эффективности деятельности исполнительных органов власти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взаимодействия исполнительных органов власти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Национального проекта «Здоровье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социально-экономического развития СПб ( в т. ч. районов СПб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стандартов проживания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оциально-гигиенический мониторинг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3"/>
          <p:cNvSpPr/>
          <p:nvPr/>
        </p:nvSpPr>
        <p:spPr>
          <a:xfrm flipV="1">
            <a:off x="2643120" y="3142440"/>
            <a:ext cx="3929040" cy="235764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8" name="Прямоугольник 6"/>
          <p:cNvSpPr/>
          <p:nvPr/>
        </p:nvSpPr>
        <p:spPr>
          <a:xfrm>
            <a:off x="500040" y="550080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Аналитические системы класса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Business Intelligence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 сопутствующие методические наработк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4"/>
          <p:cNvSpPr/>
          <p:nvPr/>
        </p:nvSpPr>
        <p:spPr>
          <a:xfrm flipH="1">
            <a:off x="0" y="378612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10"/>
          <p:cNvSpPr/>
          <p:nvPr/>
        </p:nvSpPr>
        <p:spPr>
          <a:xfrm flipH="1">
            <a:off x="0" y="121428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тальные технолог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TextBox 8"/>
          <p:cNvSpPr/>
          <p:nvPr/>
        </p:nvSpPr>
        <p:spPr>
          <a:xfrm>
            <a:off x="285840" y="1357200"/>
            <a:ext cx="8643960" cy="55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дачи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рганизация взаимодействия с учреждениями здравоохранения и ИОГ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Формирование и ведение централизованного ресурса мониторин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Анализ материалов информационного ресурс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Формирование результатов в виде отчето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ртал проектов управления здравоохранение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дачи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истема управления документооборото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в здравоохранении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бщегородской календарь мероприятий в здравоохранен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елефонный справочник системы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иск информац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4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TextBox 8"/>
          <p:cNvSpPr/>
          <p:nvPr/>
        </p:nvSpPr>
        <p:spPr>
          <a:xfrm>
            <a:off x="214200" y="1214280"/>
            <a:ext cx="892980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абочий стол организатора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Календарь мероприят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Сбор данных (анкетирование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Виртуальный кабинет Главного специалиста ТОУЗ по направления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система по работе с обращениями граждан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система учета потребности и планирования закупок оборудова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правочники и классификаторы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Каталог/репозитарий веб-сервисов (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UDDI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й сервис по мониторингу эпидемиологической ситуац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Узел Льготного Лекарственного Обеспеч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й сервис регистрации летальност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правочные службы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ехническая поддержка (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Service Desk)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учреждений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7" name="Нижний колонтитул 4"/>
          <p:cNvSpPr/>
          <p:nvPr/>
        </p:nvSpPr>
        <p:spPr>
          <a:xfrm>
            <a:off x="3743280" y="6500880"/>
            <a:ext cx="5400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8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1071720" y="571680"/>
            <a:ext cx="807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ы внедрения СЭД в ЛПУ районов город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7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1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Прямоугольник 14"/>
          <p:cNvSpPr/>
          <p:nvPr/>
        </p:nvSpPr>
        <p:spPr>
          <a:xfrm>
            <a:off x="428760" y="1500120"/>
            <a:ext cx="842940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Создания автоматизированной информационной системы обеспечивающе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ый учет документов ИОГ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доступ к документам в соответствии с компетенцией участников документооборота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Обеспечения автоматизированного контроля исполнения документов и поручени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ая рассылка в электронном виде контрольных документов и поручений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74" name="Нижний колонтитул 1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5" name="Прямоугольник 14"/>
          <p:cNvSpPr/>
          <p:nvPr/>
        </p:nvSpPr>
        <p:spPr>
          <a:xfrm>
            <a:off x="428760" y="1500120"/>
            <a:ext cx="84294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Цели проект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Сокращение сроков согласования проектов рабочих и распорядительных документов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ероприятия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проект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Для достижения поставленных целей необходимо решить следующие основные задачи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обеспечить учет и контроль движения документо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внедрить единую сквозную технологию контроля исполнения документо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1071720" y="571680"/>
            <a:ext cx="807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ы внедрения СЭД в ЛПУ районов город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6"/>
          <p:cNvSpPr/>
          <p:nvPr/>
        </p:nvSpPr>
        <p:spPr>
          <a:xfrm>
            <a:off x="6143760" y="2143080"/>
            <a:ext cx="2500200" cy="3500640"/>
          </a:xfrm>
          <a:custGeom>
            <a:avLst/>
            <a:gdLst>
              <a:gd name="textAreaLeft" fmla="*/ 34200 w 2500200"/>
              <a:gd name="textAreaRight" fmla="*/ 2466000 w 2500200"/>
              <a:gd name="textAreaTop" fmla="*/ 34200 h 3500640"/>
              <a:gd name="textAreaBottom" fmla="*/ 3466440 h 3500640"/>
            </a:gdLst>
            <a:ahLst/>
            <a:rect l="textAreaLeft" t="textAreaTop" r="textAreaRight" b="textAreaBottom"/>
            <a:pathLst>
              <a:path w="21600" h="30242">
                <a:moveTo>
                  <a:pt x="1013" y="0"/>
                </a:moveTo>
                <a:arcTo wR="1013" hR="1013" stAng="16200000" swAng="-5400000"/>
                <a:lnTo>
                  <a:pt x="0" y="29229"/>
                </a:lnTo>
                <a:arcTo wR="1013" hR="1013" stAng="10800000" swAng="-5400000"/>
                <a:lnTo>
                  <a:pt x="20587" y="30242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2c5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2" name="Text Box 12"/>
          <p:cNvSpPr/>
          <p:nvPr/>
        </p:nvSpPr>
        <p:spPr>
          <a:xfrm>
            <a:off x="6215040" y="22860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изация административных регламент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3" name="Пятиугольник 42"/>
          <p:cNvSpPr/>
          <p:nvPr/>
        </p:nvSpPr>
        <p:spPr>
          <a:xfrm flipH="1">
            <a:off x="6285960" y="400068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4" name="Пятиугольник 43"/>
          <p:cNvSpPr/>
          <p:nvPr/>
        </p:nvSpPr>
        <p:spPr>
          <a:xfrm flipH="1">
            <a:off x="6285960" y="450072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5" name="Пятиугольник 44"/>
          <p:cNvSpPr/>
          <p:nvPr/>
        </p:nvSpPr>
        <p:spPr>
          <a:xfrm flipH="1">
            <a:off x="6285960" y="500076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6" name="Пятиугольник 45"/>
          <p:cNvSpPr/>
          <p:nvPr/>
        </p:nvSpPr>
        <p:spPr>
          <a:xfrm flipH="1">
            <a:off x="6285960" y="3500280"/>
            <a:ext cx="2214360" cy="42876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епозитари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285840" y="3143160"/>
            <a:ext cx="4714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SOA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рхитектура решений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XML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ормат обмена данным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(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PMI PMBOK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оздание централизованной тех.поддержк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Использование ЭЦП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A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рхитектура решен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9" name="Picture 3" descr="F:\Подготовка презентации 2008\ICONS\Crystal_Clear_Icons\Crystal Clear Icons\kblackbox.png"/>
          <p:cNvPicPr/>
          <p:nvPr/>
        </p:nvPicPr>
        <p:blipFill>
          <a:blip r:embed="rId1"/>
          <a:stretch/>
        </p:blipFill>
        <p:spPr>
          <a:xfrm>
            <a:off x="6715080" y="14288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" descr="F:\Подготовка презентации 2008\ICONS\Crystal_Clear_Icons\Crystal Clear Icons\display.png"/>
          <p:cNvPicPr/>
          <p:nvPr/>
        </p:nvPicPr>
        <p:blipFill>
          <a:blip r:embed="rId2"/>
          <a:stretch/>
        </p:blipFill>
        <p:spPr>
          <a:xfrm>
            <a:off x="571680" y="2357280"/>
            <a:ext cx="838080" cy="838440"/>
          </a:xfrm>
          <a:prstGeom prst="rect">
            <a:avLst/>
          </a:prstGeom>
          <a:ln w="0">
            <a:noFill/>
          </a:ln>
        </p:spPr>
      </p:pic>
      <p:grpSp>
        <p:nvGrpSpPr>
          <p:cNvPr id="491" name="Group 6"/>
          <p:cNvGrpSpPr/>
          <p:nvPr/>
        </p:nvGrpSpPr>
        <p:grpSpPr>
          <a:xfrm>
            <a:off x="928800" y="3286080"/>
            <a:ext cx="2885760" cy="444240"/>
            <a:chOff x="928800" y="3286080"/>
            <a:chExt cx="2885760" cy="444240"/>
          </a:xfrm>
        </p:grpSpPr>
        <p:sp>
          <p:nvSpPr>
            <p:cNvPr id="492" name="AutoShape 7"/>
            <p:cNvSpPr/>
            <p:nvPr/>
          </p:nvSpPr>
          <p:spPr>
            <a:xfrm>
              <a:off x="928800" y="328608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AutoShape 8"/>
            <p:cNvSpPr/>
            <p:nvPr/>
          </p:nvSpPr>
          <p:spPr>
            <a:xfrm>
              <a:off x="948240" y="328968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927000" y="3875040"/>
            <a:ext cx="2885760" cy="444240"/>
            <a:chOff x="927000" y="3875040"/>
            <a:chExt cx="2885760" cy="444240"/>
          </a:xfrm>
        </p:grpSpPr>
        <p:sp>
          <p:nvSpPr>
            <p:cNvPr id="495" name="AutoShape 10"/>
            <p:cNvSpPr/>
            <p:nvPr/>
          </p:nvSpPr>
          <p:spPr>
            <a:xfrm>
              <a:off x="927000" y="387504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11"/>
            <p:cNvSpPr/>
            <p:nvPr/>
          </p:nvSpPr>
          <p:spPr>
            <a:xfrm>
              <a:off x="946440" y="38786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7" name="Rectangle 29"/>
          <p:cNvSpPr/>
          <p:nvPr/>
        </p:nvSpPr>
        <p:spPr>
          <a:xfrm>
            <a:off x="956880" y="3349800"/>
            <a:ext cx="194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ддержка врач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956160" y="3921120"/>
            <a:ext cx="23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Управленчески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99" name="Group 6"/>
          <p:cNvGrpSpPr/>
          <p:nvPr/>
        </p:nvGrpSpPr>
        <p:grpSpPr>
          <a:xfrm>
            <a:off x="949320" y="4421160"/>
            <a:ext cx="2885760" cy="444240"/>
            <a:chOff x="949320" y="4421160"/>
            <a:chExt cx="2885760" cy="444240"/>
          </a:xfrm>
        </p:grpSpPr>
        <p:sp>
          <p:nvSpPr>
            <p:cNvPr id="500" name="AutoShape 7"/>
            <p:cNvSpPr/>
            <p:nvPr/>
          </p:nvSpPr>
          <p:spPr>
            <a:xfrm>
              <a:off x="949320" y="442116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8"/>
            <p:cNvSpPr/>
            <p:nvPr/>
          </p:nvSpPr>
          <p:spPr>
            <a:xfrm>
              <a:off x="968760" y="442476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02" name="Group 9"/>
          <p:cNvGrpSpPr/>
          <p:nvPr/>
        </p:nvGrpSpPr>
        <p:grpSpPr>
          <a:xfrm>
            <a:off x="947880" y="5010120"/>
            <a:ext cx="2885400" cy="444240"/>
            <a:chOff x="947880" y="5010120"/>
            <a:chExt cx="2885400" cy="444240"/>
          </a:xfrm>
        </p:grpSpPr>
        <p:sp>
          <p:nvSpPr>
            <p:cNvPr id="503" name="AutoShape 10"/>
            <p:cNvSpPr/>
            <p:nvPr/>
          </p:nvSpPr>
          <p:spPr>
            <a:xfrm>
              <a:off x="947880" y="5010120"/>
              <a:ext cx="288540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AutoShape 11"/>
            <p:cNvSpPr/>
            <p:nvPr/>
          </p:nvSpPr>
          <p:spPr>
            <a:xfrm>
              <a:off x="967320" y="5013720"/>
              <a:ext cx="284508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05" name="Rectangle 29"/>
          <p:cNvSpPr/>
          <p:nvPr/>
        </p:nvSpPr>
        <p:spPr>
          <a:xfrm>
            <a:off x="983880" y="4484520"/>
            <a:ext cx="229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атистически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6" name="Rectangle 30"/>
          <p:cNvSpPr/>
          <p:nvPr/>
        </p:nvSpPr>
        <p:spPr>
          <a:xfrm>
            <a:off x="981360" y="505620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Финансовы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07" name="Group 6"/>
          <p:cNvGrpSpPr/>
          <p:nvPr/>
        </p:nvGrpSpPr>
        <p:grpSpPr>
          <a:xfrm>
            <a:off x="969840" y="5556240"/>
            <a:ext cx="2885760" cy="444240"/>
            <a:chOff x="969840" y="5556240"/>
            <a:chExt cx="2885760" cy="444240"/>
          </a:xfrm>
        </p:grpSpPr>
        <p:sp>
          <p:nvSpPr>
            <p:cNvPr id="508" name="AutoShape 7"/>
            <p:cNvSpPr/>
            <p:nvPr/>
          </p:nvSpPr>
          <p:spPr>
            <a:xfrm>
              <a:off x="969840" y="555624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AutoShape 8"/>
            <p:cNvSpPr/>
            <p:nvPr/>
          </p:nvSpPr>
          <p:spPr>
            <a:xfrm>
              <a:off x="989280" y="55598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10" name="Rectangle 29"/>
          <p:cNvSpPr/>
          <p:nvPr/>
        </p:nvSpPr>
        <p:spPr>
          <a:xfrm>
            <a:off x="993960" y="561960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очее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357120" y="1357200"/>
            <a:ext cx="4214880" cy="5072040"/>
          </a:xfrm>
          <a:custGeom>
            <a:avLst/>
            <a:gdLst>
              <a:gd name="textAreaLeft" fmla="*/ 42840 w 4214880"/>
              <a:gd name="textAreaRight" fmla="*/ 4172040 w 4214880"/>
              <a:gd name="textAreaTop" fmla="*/ 42840 h 5072040"/>
              <a:gd name="textAreaBottom" fmla="*/ 5029200 h 5072040"/>
            </a:gdLst>
            <a:ahLst/>
            <a:rect l="textAreaLeft" t="textAreaTop" r="textAreaRight" b="textAreaBottom"/>
            <a:pathLst>
              <a:path w="21600" h="25992">
                <a:moveTo>
                  <a:pt x="752" y="0"/>
                </a:moveTo>
                <a:arcTo wR="752" hR="752" stAng="16200000" swAng="-5400000"/>
                <a:lnTo>
                  <a:pt x="0" y="25240"/>
                </a:lnTo>
                <a:arcTo wR="752" hR="752" stAng="10800000" swAng="-5400000"/>
                <a:lnTo>
                  <a:pt x="20848" y="25992"/>
                </a:lnTo>
                <a:arcTo wR="752" hR="752" stAng="5400000" swAng="-5400000"/>
                <a:lnTo>
                  <a:pt x="21600" y="752"/>
                </a:lnTo>
                <a:arcTo wR="752" hR="752" stAng="0" swAng="-5400000"/>
                <a:close/>
              </a:path>
            </a:pathLst>
          </a:cu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TextBox 45"/>
          <p:cNvSpPr/>
          <p:nvPr/>
        </p:nvSpPr>
        <p:spPr>
          <a:xfrm>
            <a:off x="1441440" y="2357280"/>
            <a:ext cx="21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Система (МИС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13" name="Picture 3" descr="F:\Подготовка презентации 2008\ICONS\Crystal_Clear_Icons\Crystal Clear Icons\kblackbox.png"/>
          <p:cNvPicPr/>
          <p:nvPr/>
        </p:nvPicPr>
        <p:blipFill>
          <a:blip r:embed="rId3"/>
          <a:stretch/>
        </p:blipFill>
        <p:spPr>
          <a:xfrm>
            <a:off x="6786720" y="3143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F:\Подготовка презентации 2008\ICONS\Crystal_Clear_Icons\Crystal Clear Icons\kblackbox.png"/>
          <p:cNvPicPr/>
          <p:nvPr/>
        </p:nvPicPr>
        <p:blipFill>
          <a:blip r:embed="rId4"/>
          <a:stretch/>
        </p:blipFill>
        <p:spPr>
          <a:xfrm>
            <a:off x="6786720" y="485784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8"/>
          <p:cNvSpPr/>
          <p:nvPr/>
        </p:nvSpPr>
        <p:spPr>
          <a:xfrm>
            <a:off x="6222600" y="2643120"/>
            <a:ext cx="210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TextBox 49"/>
          <p:cNvSpPr/>
          <p:nvPr/>
        </p:nvSpPr>
        <p:spPr>
          <a:xfrm>
            <a:off x="6294240" y="4357800"/>
            <a:ext cx="210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Общегородски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TextBox 50"/>
          <p:cNvSpPr/>
          <p:nvPr/>
        </p:nvSpPr>
        <p:spPr>
          <a:xfrm>
            <a:off x="6006240" y="6072120"/>
            <a:ext cx="28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Нормативно справочная информац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18" name="Picture 8" descr="F:\Подготовка презентации 2008\ICONS\VirtualLNK Icons\VirtualLNK Medical Icons Collection v1.0\BMP\Regular\72x72\Hospital.bmp"/>
          <p:cNvPicPr/>
          <p:nvPr/>
        </p:nvPicPr>
        <p:blipFill>
          <a:blip r:embed="rId5"/>
          <a:stretch/>
        </p:blipFill>
        <p:spPr>
          <a:xfrm>
            <a:off x="571680" y="157176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55"/>
          <p:cNvSpPr/>
          <p:nvPr/>
        </p:nvSpPr>
        <p:spPr>
          <a:xfrm>
            <a:off x="1158480" y="1357200"/>
            <a:ext cx="305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чреждение здравоохранен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Стрелка вправо 56"/>
          <p:cNvSpPr/>
          <p:nvPr/>
        </p:nvSpPr>
        <p:spPr>
          <a:xfrm>
            <a:off x="4071960" y="178596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Стрелка вправо 57"/>
          <p:cNvSpPr/>
          <p:nvPr/>
        </p:nvSpPr>
        <p:spPr>
          <a:xfrm rot="10800000">
            <a:off x="4071960" y="214272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2" name="Picture 6" descr="F:\Подготовка презентации 2008\ICONS\Crystal_Clear_Icons\Crystal Clear Icons\playlist.png"/>
          <p:cNvPicPr/>
          <p:nvPr/>
        </p:nvPicPr>
        <p:blipFill>
          <a:blip r:embed="rId6"/>
          <a:stretch/>
        </p:blipFill>
        <p:spPr>
          <a:xfrm>
            <a:off x="4857840" y="200016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23" name="TextBox 58"/>
          <p:cNvSpPr/>
          <p:nvPr/>
        </p:nvSpPr>
        <p:spPr>
          <a:xfrm>
            <a:off x="4570200" y="250020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Стрелка вправо 62"/>
          <p:cNvSpPr/>
          <p:nvPr/>
        </p:nvSpPr>
        <p:spPr>
          <a:xfrm>
            <a:off x="4143240" y="3571920"/>
            <a:ext cx="2387880" cy="142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Стрелка вправо 63"/>
          <p:cNvSpPr/>
          <p:nvPr/>
        </p:nvSpPr>
        <p:spPr>
          <a:xfrm rot="10800000">
            <a:off x="4071960" y="392868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6" name="Picture 6" descr="F:\Подготовка презентации 2008\ICONS\Crystal_Clear_Icons\Crystal Clear Icons\playlist.png"/>
          <p:cNvPicPr/>
          <p:nvPr/>
        </p:nvPicPr>
        <p:blipFill>
          <a:blip r:embed="rId7"/>
          <a:stretch/>
        </p:blipFill>
        <p:spPr>
          <a:xfrm>
            <a:off x="4857840" y="378612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5"/>
          <p:cNvSpPr/>
          <p:nvPr/>
        </p:nvSpPr>
        <p:spPr>
          <a:xfrm>
            <a:off x="4570200" y="428616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Стрелка вправо 66"/>
          <p:cNvSpPr/>
          <p:nvPr/>
        </p:nvSpPr>
        <p:spPr>
          <a:xfrm>
            <a:off x="4143240" y="5143680"/>
            <a:ext cx="257184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Стрелка вправо 67"/>
          <p:cNvSpPr/>
          <p:nvPr/>
        </p:nvSpPr>
        <p:spPr>
          <a:xfrm rot="10800000">
            <a:off x="4143240" y="5500440"/>
            <a:ext cx="257184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0" name="Picture 6" descr="F:\Подготовка презентации 2008\ICONS\Crystal_Clear_Icons\Crystal Clear Icons\playlist.png"/>
          <p:cNvPicPr/>
          <p:nvPr/>
        </p:nvPicPr>
        <p:blipFill>
          <a:blip r:embed="rId8"/>
          <a:stretch/>
        </p:blipFill>
        <p:spPr>
          <a:xfrm>
            <a:off x="4857840" y="535788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531" name="TextBox 69"/>
          <p:cNvSpPr/>
          <p:nvPr/>
        </p:nvSpPr>
        <p:spPr>
          <a:xfrm>
            <a:off x="4570200" y="585792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2" name="Picture 13" descr="C:\DATA\Мои документы\Мои рисунки\293551133787556.jpg"/>
          <p:cNvPicPr/>
          <p:nvPr/>
        </p:nvPicPr>
        <p:blipFill>
          <a:blip r:embed="rId9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3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3"/>
          <p:cNvSpPr/>
          <p:nvPr/>
        </p:nvSpPr>
        <p:spPr>
          <a:xfrm flipV="1">
            <a:off x="1509840" y="1413360"/>
            <a:ext cx="6248160" cy="487692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AutoShape 5"/>
          <p:cNvSpPr/>
          <p:nvPr/>
        </p:nvSpPr>
        <p:spPr>
          <a:xfrm flipV="1">
            <a:off x="2500200" y="1642680"/>
            <a:ext cx="4267440" cy="365760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00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AutoShape 7"/>
          <p:cNvSpPr/>
          <p:nvPr/>
        </p:nvSpPr>
        <p:spPr>
          <a:xfrm flipV="1">
            <a:off x="5929200" y="1571760"/>
            <a:ext cx="264348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8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AutoShape 7"/>
          <p:cNvSpPr/>
          <p:nvPr/>
        </p:nvSpPr>
        <p:spPr>
          <a:xfrm flipV="1">
            <a:off x="3286080" y="1571760"/>
            <a:ext cx="264312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AutoShape 7"/>
          <p:cNvSpPr/>
          <p:nvPr/>
        </p:nvSpPr>
        <p:spPr>
          <a:xfrm flipV="1">
            <a:off x="642960" y="1571760"/>
            <a:ext cx="264312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одолог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Text Box 15"/>
          <p:cNvSpPr/>
          <p:nvPr/>
        </p:nvSpPr>
        <p:spPr>
          <a:xfrm flipV="1" rot="10800000">
            <a:off x="785880" y="1713600"/>
            <a:ext cx="235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на базе стандарта 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ANSI PMI PMBOK Guide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3</a:t>
            </a:r>
            <a:r>
              <a:rPr b="1" lang="en-US" sz="1600" spc="-1" strike="noStrike" baseline="30000">
                <a:solidFill>
                  <a:srgbClr val="1d528d"/>
                </a:solidFill>
                <a:latin typeface="Arial"/>
                <a:ea typeface="Arial"/>
              </a:rPr>
              <a:t>rd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 Edition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 flipV="1" rot="10800000">
            <a:off x="3357720" y="1641960"/>
            <a:ext cx="235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тандарты разработки информационных систем и информационных ресурс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 flipV="1" rot="10800000">
            <a:off x="6071760" y="1539360"/>
            <a:ext cx="235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тандарты внедрения ИС и ИР и техническая поддержка в соответствии с библиотеками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ITIL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 flipV="1" rot="10800000">
            <a:off x="3357720" y="5420160"/>
            <a:ext cx="23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МЕТОДОЛОГ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 flipV="1" rot="10800000">
            <a:off x="3499920" y="3856680"/>
            <a:ext cx="23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C:\Documents and Settings\Papa\Рабочий стол\3D_Business_Graphics_rep\stockxpertcom_id816491_size4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5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спективы информатизации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214200" y="150336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ие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стандартов в области «Информатизации здоровья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дание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щита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персональных данных гражданина Российской Федерации обрабатываемых в МИ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витие 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федеральных и территориальных информационных медицинских систем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ятие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новых правовых актов регламентирующих применение информационных систем в здравоохранении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5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5"/>
          <p:cNvSpPr/>
          <p:nvPr/>
        </p:nvSpPr>
        <p:spPr>
          <a:xfrm>
            <a:off x="3357720" y="2143080"/>
            <a:ext cx="2571480" cy="3500640"/>
          </a:xfrm>
          <a:custGeom>
            <a:avLst/>
            <a:gdLst>
              <a:gd name="textAreaLeft" fmla="*/ 35280 w 2571480"/>
              <a:gd name="textAreaRight" fmla="*/ 2536200 w 2571480"/>
              <a:gd name="textAreaTop" fmla="*/ 35280 h 3500640"/>
              <a:gd name="textAreaBottom" fmla="*/ 3465360 h 3500640"/>
            </a:gdLst>
            <a:ahLst/>
            <a:rect l="textAreaLeft" t="textAreaTop" r="textAreaRight" b="textAreaBottom"/>
            <a:pathLst>
              <a:path w="21600" h="29404">
                <a:moveTo>
                  <a:pt x="1013" y="0"/>
                </a:moveTo>
                <a:arcTo wR="1013" hR="1013" stAng="16200000" swAng="-5400000"/>
                <a:lnTo>
                  <a:pt x="0" y="28391"/>
                </a:lnTo>
                <a:arcTo wR="1013" hR="1013" stAng="10800000" swAng="-5400000"/>
                <a:lnTo>
                  <a:pt x="20587" y="2940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da4eb"/>
              </a:gs>
              <a:gs pos="100000">
                <a:srgbClr val="4f8b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3500280" y="24289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ая открыт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Блок-схема: процесс 46"/>
          <p:cNvSpPr/>
          <p:nvPr/>
        </p:nvSpPr>
        <p:spPr>
          <a:xfrm>
            <a:off x="3571920" y="407196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Блок-схема: процесс 47"/>
          <p:cNvSpPr/>
          <p:nvPr/>
        </p:nvSpPr>
        <p:spPr>
          <a:xfrm>
            <a:off x="3571920" y="457200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Блок-схема: процесс 49"/>
          <p:cNvSpPr/>
          <p:nvPr/>
        </p:nvSpPr>
        <p:spPr>
          <a:xfrm>
            <a:off x="3571920" y="507204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Прямоугольник 10"/>
          <p:cNvSpPr/>
          <p:nvPr/>
        </p:nvSpPr>
        <p:spPr>
          <a:xfrm>
            <a:off x="0" y="578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рганизация единого информационного пространства записи на приём в ЛП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Oval 44"/>
          <p:cNvSpPr/>
          <p:nvPr/>
        </p:nvSpPr>
        <p:spPr>
          <a:xfrm rot="5400000">
            <a:off x="406800" y="999000"/>
            <a:ext cx="5543280" cy="5929560"/>
          </a:xfrm>
          <a:prstGeom prst="ellipse">
            <a:avLst/>
          </a:prstGeom>
          <a:solidFill>
            <a:srgbClr val="6e71f0">
              <a:alpha val="27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Oval 45"/>
          <p:cNvSpPr/>
          <p:nvPr/>
        </p:nvSpPr>
        <p:spPr>
          <a:xfrm>
            <a:off x="214200" y="1785960"/>
            <a:ext cx="5214960" cy="4383000"/>
          </a:xfrm>
          <a:prstGeom prst="ellipse">
            <a:avLst/>
          </a:prstGeom>
          <a:solidFill>
            <a:srgbClr val="969696">
              <a:alpha val="5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0" name="Oval 46"/>
          <p:cNvSpPr/>
          <p:nvPr/>
        </p:nvSpPr>
        <p:spPr>
          <a:xfrm>
            <a:off x="214200" y="2235240"/>
            <a:ext cx="4500720" cy="3786120"/>
          </a:xfrm>
          <a:prstGeom prst="ellipse">
            <a:avLst/>
          </a:prstGeom>
          <a:solidFill>
            <a:srgbClr val="25b1b1">
              <a:alpha val="6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1" name="Oval 47"/>
          <p:cNvSpPr/>
          <p:nvPr/>
        </p:nvSpPr>
        <p:spPr>
          <a:xfrm>
            <a:off x="214200" y="2806560"/>
            <a:ext cx="2786040" cy="2500560"/>
          </a:xfrm>
          <a:prstGeom prst="ellipse">
            <a:avLst/>
          </a:prstGeom>
          <a:solidFill>
            <a:srgbClr val="5bace9">
              <a:alpha val="5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2" name="Picture 5" descr="F:\Подготовка презентации 2008\ICONS\Crystal_Clear_Icons\Crystal Clear Icons\display.png"/>
          <p:cNvPicPr/>
          <p:nvPr/>
        </p:nvPicPr>
        <p:blipFill>
          <a:blip r:embed="rId1"/>
          <a:stretch/>
        </p:blipFill>
        <p:spPr>
          <a:xfrm>
            <a:off x="500040" y="352116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63" name="TextBox 26"/>
          <p:cNvSpPr/>
          <p:nvPr/>
        </p:nvSpPr>
        <p:spPr>
          <a:xfrm>
            <a:off x="858600" y="3021120"/>
            <a:ext cx="150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 регистратуре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ЛПУ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4" name="Picture 27" descr="F:\Подготовка презентации 2008\ICONS\VirtualLNK Icons\VirtualLNK Medical Icons Collection v1.0\BMP\Regular\72x72\Nurse 2.png"/>
          <p:cNvPicPr/>
          <p:nvPr/>
        </p:nvPicPr>
        <p:blipFill>
          <a:blip r:embed="rId2"/>
          <a:stretch/>
        </p:blipFill>
        <p:spPr>
          <a:xfrm>
            <a:off x="1143000" y="3592440"/>
            <a:ext cx="515880" cy="5158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8" descr=""/>
          <p:cNvPicPr/>
          <p:nvPr/>
        </p:nvPicPr>
        <p:blipFill>
          <a:blip r:embed="rId3"/>
          <a:stretch/>
        </p:blipFill>
        <p:spPr>
          <a:xfrm>
            <a:off x="4786200" y="3235320"/>
            <a:ext cx="439920" cy="10047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9" descr=""/>
          <p:cNvPicPr/>
          <p:nvPr/>
        </p:nvPicPr>
        <p:blipFill>
          <a:blip r:embed="rId4"/>
          <a:stretch/>
        </p:blipFill>
        <p:spPr>
          <a:xfrm>
            <a:off x="3143160" y="344952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1" descr="F:\Подготовка презентации 2008\ICONS\Crystal_Clear_Icons\Crystal Clear Icons\Internet Connection Tools.png"/>
          <p:cNvPicPr/>
          <p:nvPr/>
        </p:nvPicPr>
        <p:blipFill>
          <a:blip r:embed="rId5"/>
          <a:stretch/>
        </p:blipFill>
        <p:spPr>
          <a:xfrm>
            <a:off x="5357880" y="35211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68" name="TextBox 35"/>
          <p:cNvSpPr/>
          <p:nvPr/>
        </p:nvSpPr>
        <p:spPr>
          <a:xfrm>
            <a:off x="2437920" y="187812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нфокиоск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TextBox 36"/>
          <p:cNvSpPr/>
          <p:nvPr/>
        </p:nvSpPr>
        <p:spPr>
          <a:xfrm>
            <a:off x="1721160" y="244944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l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центр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TextBox 37"/>
          <p:cNvSpPr/>
          <p:nvPr/>
        </p:nvSpPr>
        <p:spPr>
          <a:xfrm>
            <a:off x="2081880" y="1449360"/>
            <a:ext cx="23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Запись через Интерне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Двойная стрелка влево/вправо 38"/>
          <p:cNvSpPr/>
          <p:nvPr/>
        </p:nvSpPr>
        <p:spPr>
          <a:xfrm>
            <a:off x="2000160" y="4807080"/>
            <a:ext cx="3643560" cy="428400"/>
          </a:xfrm>
          <a:prstGeom prst="leftRightArrow">
            <a:avLst>
              <a:gd name="adj1" fmla="val 50000"/>
              <a:gd name="adj2" fmla="val 5004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МТ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Двойная стрелка влево/вправо 20"/>
          <p:cNvSpPr/>
          <p:nvPr/>
        </p:nvSpPr>
        <p:spPr>
          <a:xfrm>
            <a:off x="1357200" y="4378320"/>
            <a:ext cx="4500720" cy="428760"/>
          </a:xfrm>
          <a:prstGeom prst="leftRigh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ИС «Электронная регистратура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74" name="Picture 13" descr="C:\DATA\Мои документы\Мои рисунки\293551133787556.jpg"/>
          <p:cNvPicPr/>
          <p:nvPr/>
        </p:nvPicPr>
        <p:blipFill>
          <a:blip r:embed="rId6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Облако 58"/>
          <p:cNvSpPr/>
          <p:nvPr/>
        </p:nvSpPr>
        <p:spPr>
          <a:xfrm>
            <a:off x="3571920" y="5929200"/>
            <a:ext cx="1571760" cy="928800"/>
          </a:xfrm>
          <a:prstGeom prst="pie">
            <a:avLst/>
          </a:prstGeom>
          <a:gradFill rotWithShape="0">
            <a:gsLst>
              <a:gs pos="0">
                <a:srgbClr val="0070c0"/>
              </a:gs>
              <a:gs pos="100000">
                <a:srgbClr val="dff3f3"/>
              </a:gs>
            </a:gsLst>
            <a:lin ang="5400000"/>
          </a:gra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онный киос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11"/>
          <p:cNvGrpSpPr/>
          <p:nvPr/>
        </p:nvGrpSpPr>
        <p:grpSpPr>
          <a:xfrm>
            <a:off x="3816360" y="2986200"/>
            <a:ext cx="1227240" cy="1218960"/>
            <a:chOff x="3816360" y="2986200"/>
            <a:chExt cx="1227240" cy="1218960"/>
          </a:xfrm>
        </p:grpSpPr>
        <p:sp>
          <p:nvSpPr>
            <p:cNvPr id="579" name="Oval 12"/>
            <p:cNvSpPr/>
            <p:nvPr/>
          </p:nvSpPr>
          <p:spPr>
            <a:xfrm>
              <a:off x="3816360" y="2986200"/>
              <a:ext cx="1227240" cy="1218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e0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91658" dir="338234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3956400" y="3006360"/>
              <a:ext cx="946800" cy="460080"/>
            </a:xfrm>
            <a:custGeom>
              <a:avLst/>
              <a:gdLst>
                <a:gd name="textAreaLeft" fmla="*/ 0 w 946800"/>
                <a:gd name="textAreaRight" fmla="*/ 947160 w 94680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1" name="Text Box 19"/>
          <p:cNvSpPr/>
          <p:nvPr/>
        </p:nvSpPr>
        <p:spPr>
          <a:xfrm>
            <a:off x="4089960" y="51674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82" name="Группа 55"/>
          <p:cNvGrpSpPr/>
          <p:nvPr/>
        </p:nvGrpSpPr>
        <p:grpSpPr>
          <a:xfrm>
            <a:off x="3785400" y="1213920"/>
            <a:ext cx="1533240" cy="2532960"/>
            <a:chOff x="3785400" y="1213920"/>
            <a:chExt cx="1533240" cy="2532960"/>
          </a:xfrm>
        </p:grpSpPr>
        <p:sp>
          <p:nvSpPr>
            <p:cNvPr id="583" name="Freeform 5"/>
            <p:cNvSpPr/>
            <p:nvPr/>
          </p:nvSpPr>
          <p:spPr>
            <a:xfrm rot="938400">
              <a:off x="4087440" y="1294920"/>
              <a:ext cx="928800" cy="237024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446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14"/>
            <p:cNvSpPr/>
            <p:nvPr/>
          </p:nvSpPr>
          <p:spPr>
            <a:xfrm rot="17468400">
              <a:off x="3768840" y="192600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нные системы ОМС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85" name="Группа 45"/>
          <p:cNvGrpSpPr/>
          <p:nvPr/>
        </p:nvGrpSpPr>
        <p:grpSpPr>
          <a:xfrm>
            <a:off x="1571760" y="3858840"/>
            <a:ext cx="2892600" cy="2556360"/>
            <a:chOff x="1571760" y="3858840"/>
            <a:chExt cx="2892600" cy="2556360"/>
          </a:xfrm>
        </p:grpSpPr>
        <p:sp>
          <p:nvSpPr>
            <p:cNvPr id="586" name="Freeform 7"/>
            <p:cNvSpPr/>
            <p:nvPr/>
          </p:nvSpPr>
          <p:spPr>
            <a:xfrm rot="19694400">
              <a:off x="2201760" y="4377960"/>
              <a:ext cx="2210040" cy="8287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solidFill>
              <a:srgbClr val="ffc000"/>
            </a:soli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7" name="Text Box 14"/>
            <p:cNvSpPr/>
            <p:nvPr/>
          </p:nvSpPr>
          <p:spPr>
            <a:xfrm rot="19566000">
              <a:off x="2451240" y="445896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б оказываемых медицинских услугах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8" name="Picture 7" descr="F:\Подготовка презентации 2008\ICONS\VirtualLNK Icons\VirtualLNK Medical Icons Collection v1.0\BMP\Regular\72x72\Treatment Plan 2.bmp"/>
            <p:cNvPicPr/>
            <p:nvPr/>
          </p:nvPicPr>
          <p:blipFill>
            <a:blip r:embed="rId2"/>
            <a:stretch/>
          </p:blipFill>
          <p:spPr>
            <a:xfrm>
              <a:off x="1571760" y="55008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9" name="Группа 59"/>
          <p:cNvGrpSpPr/>
          <p:nvPr/>
        </p:nvGrpSpPr>
        <p:grpSpPr>
          <a:xfrm>
            <a:off x="4608360" y="2571840"/>
            <a:ext cx="3178440" cy="1495440"/>
            <a:chOff x="4608360" y="2571840"/>
            <a:chExt cx="3178440" cy="1495440"/>
          </a:xfrm>
        </p:grpSpPr>
        <p:sp>
          <p:nvSpPr>
            <p:cNvPr id="590" name="Freeform 10"/>
            <p:cNvSpPr/>
            <p:nvPr/>
          </p:nvSpPr>
          <p:spPr>
            <a:xfrm rot="20776200">
              <a:off x="4660920" y="3068640"/>
              <a:ext cx="2362320" cy="728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solidFill>
              <a:srgbClr val="ff3300"/>
            </a:soli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1" name="Text Box 14"/>
            <p:cNvSpPr/>
            <p:nvPr/>
          </p:nvSpPr>
          <p:spPr>
            <a:xfrm rot="20481600">
              <a:off x="5168160" y="306864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ЛСииИМП по ЛЛО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92" name="Picture 13" descr="F:\Подготовка презентации 2008\ICONS\VirtualLNK Icons\VirtualLNK Medical Icons Collection v1.0\BMP\Regular\72x72\Insurance.bmp"/>
            <p:cNvPicPr/>
            <p:nvPr/>
          </p:nvPicPr>
          <p:blipFill>
            <a:blip r:embed="rId3"/>
            <a:stretch/>
          </p:blipFill>
          <p:spPr>
            <a:xfrm>
              <a:off x="7072560" y="25718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4" descr="F:\Подготовка презентации 2008\ICONS\VirtualLNK Icons\VirtualLNK Medical Icons Collection v1.0\BMP\Regular\72x72\Medicine Pills.bmp"/>
            <p:cNvPicPr/>
            <p:nvPr/>
          </p:nvPicPr>
          <p:blipFill>
            <a:blip r:embed="rId4"/>
            <a:stretch/>
          </p:blipFill>
          <p:spPr>
            <a:xfrm>
              <a:off x="6929640" y="307188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4" name="Группа 46"/>
          <p:cNvGrpSpPr/>
          <p:nvPr/>
        </p:nvGrpSpPr>
        <p:grpSpPr>
          <a:xfrm>
            <a:off x="785880" y="3343320"/>
            <a:ext cx="3350880" cy="1800360"/>
            <a:chOff x="785880" y="3343320"/>
            <a:chExt cx="3350880" cy="1800360"/>
          </a:xfrm>
        </p:grpSpPr>
        <p:sp>
          <p:nvSpPr>
            <p:cNvPr id="595" name="Freeform 7"/>
            <p:cNvSpPr/>
            <p:nvPr/>
          </p:nvSpPr>
          <p:spPr>
            <a:xfrm rot="21118800">
              <a:off x="1787040" y="3641400"/>
              <a:ext cx="2300400" cy="8622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e9cae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Text Box 14"/>
            <p:cNvSpPr/>
            <p:nvPr/>
          </p:nvSpPr>
          <p:spPr>
            <a:xfrm rot="20305800">
              <a:off x="2091240" y="365904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 наличии лекарств в аптеках города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97" name="Picture 5" descr="F:\Подготовка презентации 2008\ICONS\VirtualLNK Icons\VirtualLNK Medical Icons Collection v1.0\BMP\Regular\72x72\Allergy Vials Dosage.bmp"/>
            <p:cNvPicPr/>
            <p:nvPr/>
          </p:nvPicPr>
          <p:blipFill>
            <a:blip r:embed="rId5"/>
            <a:stretch/>
          </p:blipFill>
          <p:spPr>
            <a:xfrm>
              <a:off x="785880" y="40719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6"/>
            <a:stretch/>
          </p:blipFill>
          <p:spPr>
            <a:xfrm>
              <a:off x="1714320" y="4572000"/>
              <a:ext cx="57132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Группа 61"/>
          <p:cNvGrpSpPr/>
          <p:nvPr/>
        </p:nvGrpSpPr>
        <p:grpSpPr>
          <a:xfrm>
            <a:off x="4129560" y="3358080"/>
            <a:ext cx="2942640" cy="3214080"/>
            <a:chOff x="4129560" y="3358080"/>
            <a:chExt cx="2942640" cy="3214080"/>
          </a:xfrm>
        </p:grpSpPr>
        <p:sp>
          <p:nvSpPr>
            <p:cNvPr id="600" name="Freeform 8"/>
            <p:cNvSpPr/>
            <p:nvPr/>
          </p:nvSpPr>
          <p:spPr>
            <a:xfrm rot="19367400">
              <a:off x="4913280" y="3324240"/>
              <a:ext cx="858600" cy="288144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faacc"/>
                </a:gs>
                <a:gs pos="100000">
                  <a:srgbClr val="ff0066"/>
                </a:gs>
              </a:gsLst>
              <a:lin ang="763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1" name="Picture 8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7"/>
            <a:stretch/>
          </p:blipFill>
          <p:spPr>
            <a:xfrm>
              <a:off x="6215040" y="56437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 Box 14"/>
            <p:cNvSpPr/>
            <p:nvPr/>
          </p:nvSpPr>
          <p:spPr>
            <a:xfrm rot="3028800">
              <a:off x="4702320" y="495036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 статусе включения в регистры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Picture 10" descr="F:\Подготовка презентации 2008\ICONS\VirtualLNK Icons\VirtualLNK Network Icons Collection v1.0\BMP\Regular\72x72\XML Data 1.bmp"/>
            <p:cNvPicPr/>
            <p:nvPr/>
          </p:nvPicPr>
          <p:blipFill>
            <a:blip r:embed="rId8"/>
            <a:stretch/>
          </p:blipFill>
          <p:spPr>
            <a:xfrm>
              <a:off x="650088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9"/>
            <a:stretch/>
          </p:blipFill>
          <p:spPr>
            <a:xfrm flipH="1">
              <a:off x="5571720" y="57866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5" name="Группа 47"/>
          <p:cNvGrpSpPr/>
          <p:nvPr/>
        </p:nvGrpSpPr>
        <p:grpSpPr>
          <a:xfrm>
            <a:off x="1000080" y="2200320"/>
            <a:ext cx="3544920" cy="1754640"/>
            <a:chOff x="1000080" y="2200320"/>
            <a:chExt cx="3544920" cy="1754640"/>
          </a:xfrm>
        </p:grpSpPr>
        <p:sp>
          <p:nvSpPr>
            <p:cNvPr id="606" name="Freeform 6"/>
            <p:cNvSpPr/>
            <p:nvPr/>
          </p:nvSpPr>
          <p:spPr>
            <a:xfrm rot="798600">
              <a:off x="1850400" y="2790720"/>
              <a:ext cx="2629080" cy="873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aae5fa"/>
                </a:gs>
              </a:gsLst>
              <a:lin ang="190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Text Box 14"/>
            <p:cNvSpPr/>
            <p:nvPr/>
          </p:nvSpPr>
          <p:spPr>
            <a:xfrm rot="1500600">
              <a:off x="1980360" y="285912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правление очередью на приём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ЛПУ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8" name="Picture 6" descr="F:\Подготовка презентации 2008\ICONS\VirtualLNK Icons\VirtualLNK Medical Icons Collection v1.0\BMP\Regular\72x72\Appointment.bmp"/>
            <p:cNvPicPr/>
            <p:nvPr/>
          </p:nvPicPr>
          <p:blipFill>
            <a:blip r:embed="rId10"/>
            <a:stretch/>
          </p:blipFill>
          <p:spPr>
            <a:xfrm>
              <a:off x="1000080" y="2200320"/>
              <a:ext cx="8571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11"/>
            <a:stretch/>
          </p:blipFill>
          <p:spPr>
            <a:xfrm>
              <a:off x="1643040" y="27860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0" name="Группа 60"/>
          <p:cNvGrpSpPr/>
          <p:nvPr/>
        </p:nvGrpSpPr>
        <p:grpSpPr>
          <a:xfrm>
            <a:off x="4358160" y="3571920"/>
            <a:ext cx="3485520" cy="2128680"/>
            <a:chOff x="4358160" y="3571920"/>
            <a:chExt cx="3485520" cy="2128680"/>
          </a:xfrm>
        </p:grpSpPr>
        <p:sp>
          <p:nvSpPr>
            <p:cNvPr id="611" name="Freeform 9"/>
            <p:cNvSpPr/>
            <p:nvPr/>
          </p:nvSpPr>
          <p:spPr>
            <a:xfrm rot="521400">
              <a:off x="4401720" y="3768840"/>
              <a:ext cx="2666880" cy="7808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d4be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Text Box 14"/>
            <p:cNvSpPr/>
            <p:nvPr/>
          </p:nvSpPr>
          <p:spPr>
            <a:xfrm rot="903000">
              <a:off x="5367600" y="404820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учреждений. Поиск. ГИС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13" name="Picture 15" descr="F:\Подготовка презентации 2008\ICONS\VirtualLNK Icons\VirtualLNK Medical Icons Collection v1.0\BMP\Regular\72x72\Medical Symbol.bmp"/>
            <p:cNvPicPr/>
            <p:nvPr/>
          </p:nvPicPr>
          <p:blipFill>
            <a:blip r:embed="rId12"/>
            <a:stretch/>
          </p:blipFill>
          <p:spPr>
            <a:xfrm>
              <a:off x="6715080" y="40719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19" descr="F:\Подготовка презентации 2008\ICONS\VirtualLNK Icons\VirtualLNK Accounting Icons Collection v1.0\BMP\Regular\72x72\Bank Internet Transfer.bmp"/>
            <p:cNvPicPr/>
            <p:nvPr/>
          </p:nvPicPr>
          <p:blipFill>
            <a:blip r:embed="rId13"/>
            <a:stretch/>
          </p:blipFill>
          <p:spPr>
            <a:xfrm>
              <a:off x="6929280" y="47862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5" name="Группа 56"/>
          <p:cNvGrpSpPr/>
          <p:nvPr/>
        </p:nvGrpSpPr>
        <p:grpSpPr>
          <a:xfrm>
            <a:off x="4075200" y="1500120"/>
            <a:ext cx="3295440" cy="2150280"/>
            <a:chOff x="4075200" y="1500120"/>
            <a:chExt cx="3295440" cy="2150280"/>
          </a:xfrm>
        </p:grpSpPr>
        <p:sp>
          <p:nvSpPr>
            <p:cNvPr id="616" name="Freeform 10"/>
            <p:cNvSpPr/>
            <p:nvPr/>
          </p:nvSpPr>
          <p:spPr>
            <a:xfrm rot="20265600">
              <a:off x="4143240" y="2333160"/>
              <a:ext cx="2563920" cy="863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eeaa"/>
                </a:gs>
                <a:gs pos="100000">
                  <a:srgbClr val="ffcc00"/>
                </a:gs>
              </a:gsLst>
              <a:lin ang="2023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 rot="20005800">
              <a:off x="4832280" y="2141640"/>
              <a:ext cx="183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ращение на горячую линию Комитета по здравоохранению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18" name="Picture 2" descr="H:\Подготовка презентации 2008\ICONS\VirtualLNK Icons\VirtualLNK Medical Icons Collection v1.0\BMP\Regular\72x72\Receptionist.bmp"/>
            <p:cNvPicPr/>
            <p:nvPr/>
          </p:nvPicPr>
          <p:blipFill>
            <a:blip r:embed="rId14"/>
            <a:stretch/>
          </p:blipFill>
          <p:spPr>
            <a:xfrm>
              <a:off x="6629400" y="15001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14"/>
            <p:cNvSpPr/>
            <p:nvPr/>
          </p:nvSpPr>
          <p:spPr>
            <a:xfrm>
              <a:off x="6715080" y="2143080"/>
              <a:ext cx="65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P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0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21" name="Группа 51"/>
          <p:cNvGrpSpPr/>
          <p:nvPr/>
        </p:nvGrpSpPr>
        <p:grpSpPr>
          <a:xfrm>
            <a:off x="2171880" y="1285920"/>
            <a:ext cx="2481840" cy="2597760"/>
            <a:chOff x="2171880" y="1285920"/>
            <a:chExt cx="2481840" cy="2597760"/>
          </a:xfrm>
        </p:grpSpPr>
        <p:sp>
          <p:nvSpPr>
            <p:cNvPr id="622" name="Freeform 5"/>
            <p:cNvSpPr/>
            <p:nvPr/>
          </p:nvSpPr>
          <p:spPr>
            <a:xfrm rot="19762800">
              <a:off x="3223800" y="1326600"/>
              <a:ext cx="847800" cy="251640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7236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Text Box 14"/>
            <p:cNvSpPr/>
            <p:nvPr/>
          </p:nvSpPr>
          <p:spPr>
            <a:xfrm rot="2983800">
              <a:off x="2637720" y="204984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ИОГВ СПб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24" name="Picture 12" descr="F:\Подготовка презентации 2008\ICONS\VirtualLNK Icons\VirtualLNK Medical Icons Collection v1.0\BMP\Regular\72x72\Hospital 2.bmp"/>
            <p:cNvPicPr/>
            <p:nvPr/>
          </p:nvPicPr>
          <p:blipFill>
            <a:blip r:embed="rId15"/>
            <a:stretch/>
          </p:blipFill>
          <p:spPr>
            <a:xfrm>
              <a:off x="2171880" y="1285920"/>
              <a:ext cx="7858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13" descr="C:\DATA\Мои документы\Мои рисунки\293551133787556.jpg"/>
            <p:cNvPicPr/>
            <p:nvPr/>
          </p:nvPicPr>
          <p:blipFill>
            <a:blip r:embed="rId16"/>
            <a:stretch/>
          </p:blipFill>
          <p:spPr>
            <a:xfrm>
              <a:off x="2214720" y="1928880"/>
              <a:ext cx="428400" cy="44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6" name="Picture 2" descr="AviorCash with Scan"/>
          <p:cNvPicPr/>
          <p:nvPr/>
        </p:nvPicPr>
        <p:blipFill>
          <a:blip r:embed="rId17"/>
          <a:stretch/>
        </p:blipFill>
        <p:spPr>
          <a:xfrm>
            <a:off x="3643200" y="2857680"/>
            <a:ext cx="15004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ll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тр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Прямоугольник 6"/>
          <p:cNvSpPr/>
          <p:nvPr/>
        </p:nvSpPr>
        <p:spPr>
          <a:xfrm>
            <a:off x="1158120" y="31431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Горячая линия по работе с обращениями граждан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9" name="Прямоугольник 8"/>
          <p:cNvSpPr/>
          <p:nvPr/>
        </p:nvSpPr>
        <p:spPr>
          <a:xfrm>
            <a:off x="1161000" y="385776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Фармацевтическая справочная служб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0" name="Прямоугольник 10"/>
          <p:cNvSpPr/>
          <p:nvPr/>
        </p:nvSpPr>
        <p:spPr>
          <a:xfrm>
            <a:off x="1159200" y="450072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справочная служб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1" name="Picture 2" descr="H:\Подготовка презентации 2008\ICONS\VirtualLNK Icons\VirtualLNK Medical Icons Collection v1.0\BMP\Regular\72x72\Receptionist.bmp"/>
          <p:cNvPicPr/>
          <p:nvPr/>
        </p:nvPicPr>
        <p:blipFill>
          <a:blip r:embed="rId1"/>
          <a:stretch/>
        </p:blipFill>
        <p:spPr>
          <a:xfrm>
            <a:off x="571680" y="507204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632" name="Прямоугольник 12"/>
          <p:cNvSpPr/>
          <p:nvPr/>
        </p:nvSpPr>
        <p:spPr>
          <a:xfrm>
            <a:off x="1156320" y="521496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Техническая поддержка (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Support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3" name="Picture 2" descr="H:\Подготовка презентации 2008\ICONS\VirtualLNK Icons\VirtualLNK Medical Icons Collection v1.0\BMP\Regular\72x72\Receptionist.bmp"/>
          <p:cNvPicPr/>
          <p:nvPr/>
        </p:nvPicPr>
        <p:blipFill>
          <a:blip r:embed="rId2"/>
          <a:stretch/>
        </p:blipFill>
        <p:spPr>
          <a:xfrm>
            <a:off x="571680" y="57862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634" name="Прямоугольник 14"/>
          <p:cNvSpPr/>
          <p:nvPr/>
        </p:nvSpPr>
        <p:spPr>
          <a:xfrm>
            <a:off x="1195200" y="585792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Высокотехнологичная медицинская помощ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5" name="Пятно 1 15"/>
          <p:cNvSpPr/>
          <p:nvPr/>
        </p:nvSpPr>
        <p:spPr>
          <a:xfrm>
            <a:off x="6429240" y="2786040"/>
            <a:ext cx="857520" cy="5716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6" name="Пятно 1 16"/>
          <p:cNvSpPr/>
          <p:nvPr/>
        </p:nvSpPr>
        <p:spPr>
          <a:xfrm>
            <a:off x="5429160" y="3429000"/>
            <a:ext cx="857520" cy="5716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7" name="Пятно 1 17"/>
          <p:cNvSpPr/>
          <p:nvPr/>
        </p:nvSpPr>
        <p:spPr>
          <a:xfrm>
            <a:off x="4857840" y="4214880"/>
            <a:ext cx="85716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8" name="Picture 2" descr="F:\Подготовка презентации 2008\ICONS\VirtualLNK Icons\VirtualLNK Medical Icons Collection v1.0\BMP\Regular\72x72\Ambulance.bmp"/>
          <p:cNvPicPr/>
          <p:nvPr/>
        </p:nvPicPr>
        <p:blipFill>
          <a:blip r:embed="rId3"/>
          <a:stretch/>
        </p:blipFill>
        <p:spPr>
          <a:xfrm>
            <a:off x="2928960" y="1071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4"/>
          <a:stretch/>
        </p:blipFill>
        <p:spPr>
          <a:xfrm>
            <a:off x="500040" y="30002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5"/>
          <a:stretch/>
        </p:blipFill>
        <p:spPr>
          <a:xfrm>
            <a:off x="500040" y="37148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6"/>
          <a:stretch/>
        </p:blipFill>
        <p:spPr>
          <a:xfrm>
            <a:off x="500040" y="435780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0" descr="F:\Подготовка презентации 2008\ICONS\sissof1\PNG_32\celsave_48.png"/>
          <p:cNvPicPr/>
          <p:nvPr/>
        </p:nvPicPr>
        <p:blipFill>
          <a:blip r:embed="rId7"/>
          <a:stretch/>
        </p:blipFill>
        <p:spPr>
          <a:xfrm>
            <a:off x="5857920" y="1214280"/>
            <a:ext cx="728640" cy="72900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14"/>
          <p:cNvSpPr/>
          <p:nvPr/>
        </p:nvSpPr>
        <p:spPr>
          <a:xfrm rot="10800000">
            <a:off x="285768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4" name="AutoShape 14"/>
          <p:cNvSpPr/>
          <p:nvPr/>
        </p:nvSpPr>
        <p:spPr>
          <a:xfrm rot="10800000">
            <a:off x="421488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5" name="AutoShape 14"/>
          <p:cNvSpPr/>
          <p:nvPr/>
        </p:nvSpPr>
        <p:spPr>
          <a:xfrm rot="10800000">
            <a:off x="564372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6" name="Пятно 1 38"/>
          <p:cNvSpPr/>
          <p:nvPr/>
        </p:nvSpPr>
        <p:spPr>
          <a:xfrm>
            <a:off x="4929120" y="5214960"/>
            <a:ext cx="85716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7" name="Пятно 1 39"/>
          <p:cNvSpPr/>
          <p:nvPr/>
        </p:nvSpPr>
        <p:spPr>
          <a:xfrm>
            <a:off x="5929200" y="5500800"/>
            <a:ext cx="85752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48" name="Picture 13" descr="C:\DATA\Мои документы\Мои рисунки\293551133787556.jpg"/>
          <p:cNvPicPr/>
          <p:nvPr/>
        </p:nvPicPr>
        <p:blipFill>
          <a:blip r:embed="rId8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3" descr="F:\Подготовка презентации 2008\ICONS\VirtualLNK Icons\VirtualLNK Medical Icons Collection v1.0\BMP\Regular\72x72\Emergency.bmp"/>
          <p:cNvPicPr/>
          <p:nvPr/>
        </p:nvPicPr>
        <p:blipFill>
          <a:blip r:embed="rId9"/>
          <a:stretch/>
        </p:blipFill>
        <p:spPr>
          <a:xfrm>
            <a:off x="4429080" y="12859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650" name="AutoShape 14"/>
          <p:cNvSpPr/>
          <p:nvPr/>
        </p:nvSpPr>
        <p:spPr>
          <a:xfrm rot="10800000">
            <a:off x="928800" y="1857240"/>
            <a:ext cx="1071360" cy="1214640"/>
          </a:xfrm>
          <a:prstGeom prst="upArrow">
            <a:avLst>
              <a:gd name="adj1" fmla="val 78306"/>
              <a:gd name="adj2" fmla="val 48231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1" name="Picture 14" descr="F:\Подготовка презентации 2008\ICONS\VirtualLNK Icons\VirtualLNK Medical Icons Collection v1.0\BMP\Regular\72x72\Patient Boy 1.bmp"/>
          <p:cNvPicPr/>
          <p:nvPr/>
        </p:nvPicPr>
        <p:blipFill>
          <a:blip r:embed="rId10"/>
          <a:stretch/>
        </p:blipFill>
        <p:spPr>
          <a:xfrm>
            <a:off x="857160" y="128592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652" name="AutoShape 14"/>
          <p:cNvSpPr/>
          <p:nvPr/>
        </p:nvSpPr>
        <p:spPr>
          <a:xfrm rot="5400000">
            <a:off x="1356840" y="121428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3" name="Picture 2" descr="AviorCash with Scan"/>
          <p:cNvPicPr/>
          <p:nvPr/>
        </p:nvPicPr>
        <p:blipFill>
          <a:blip r:embed="rId11"/>
          <a:stretch/>
        </p:blipFill>
        <p:spPr>
          <a:xfrm>
            <a:off x="7286760" y="1214280"/>
            <a:ext cx="468000" cy="1071720"/>
          </a:xfrm>
          <a:prstGeom prst="rect">
            <a:avLst/>
          </a:prstGeom>
          <a:ln w="0">
            <a:noFill/>
          </a:ln>
        </p:spPr>
      </p:pic>
      <p:sp>
        <p:nvSpPr>
          <p:cNvPr id="654" name="AutoShape 14"/>
          <p:cNvSpPr/>
          <p:nvPr/>
        </p:nvSpPr>
        <p:spPr>
          <a:xfrm rot="10800000">
            <a:off x="700092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5" name="Прямоугольник 19"/>
          <p:cNvSpPr/>
          <p:nvPr/>
        </p:nvSpPr>
        <p:spPr>
          <a:xfrm>
            <a:off x="3217320" y="2357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03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6" name="Прямоугольник 25"/>
          <p:cNvSpPr/>
          <p:nvPr/>
        </p:nvSpPr>
        <p:spPr>
          <a:xfrm>
            <a:off x="4142520" y="235728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лужба 112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7" name="Прямоугольник 31"/>
          <p:cNvSpPr/>
          <p:nvPr/>
        </p:nvSpPr>
        <p:spPr>
          <a:xfrm>
            <a:off x="5932080" y="2357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0999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Прямоугольник 43"/>
          <p:cNvSpPr/>
          <p:nvPr/>
        </p:nvSpPr>
        <p:spPr>
          <a:xfrm>
            <a:off x="7211520" y="2357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VoIP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12"/>
          <a:stretch/>
        </p:blipFill>
        <p:spPr>
          <a:xfrm>
            <a:off x="6500880" y="3714840"/>
            <a:ext cx="2428920" cy="18208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" descr="C:\Users\ADexter\Desktop\VirtualLNK Icons\VirtualLNK Website Icons Collection v1.0\BMP\Regular\72x72\Telecommunications.bmp"/>
          <p:cNvPicPr/>
          <p:nvPr/>
        </p:nvPicPr>
        <p:blipFill>
          <a:blip r:embed="rId13"/>
          <a:stretch/>
        </p:blipFill>
        <p:spPr>
          <a:xfrm>
            <a:off x="1214280" y="22860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61" name="Нижний колонтитул 4"/>
          <p:cNvSpPr/>
          <p:nvPr/>
        </p:nvSpPr>
        <p:spPr>
          <a:xfrm>
            <a:off x="5500800" y="6429240"/>
            <a:ext cx="3643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 е-правительства к мобильному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авительств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Прямоугольник 5"/>
          <p:cNvSpPr/>
          <p:nvPr/>
        </p:nvSpPr>
        <p:spPr>
          <a:xfrm>
            <a:off x="285840" y="1357200"/>
            <a:ext cx="85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357120" y="3214800"/>
            <a:ext cx="85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5" name="Группа 86"/>
          <p:cNvGrpSpPr/>
          <p:nvPr/>
        </p:nvGrpSpPr>
        <p:grpSpPr>
          <a:xfrm>
            <a:off x="0" y="1857240"/>
            <a:ext cx="1665360" cy="642960"/>
            <a:chOff x="0" y="1857240"/>
            <a:chExt cx="1665360" cy="642960"/>
          </a:xfrm>
        </p:grpSpPr>
        <p:pic>
          <p:nvPicPr>
            <p:cNvPr id="666" name="Picture 2" descr="F:\Подготовка презентации 2008\ICONS\VirtualLNK Icons\VirtualLNK Medical Icons Collection v1.0\BMP\Regular\72x72\Dentist Green Edit.bmp"/>
            <p:cNvPicPr/>
            <p:nvPr/>
          </p:nvPicPr>
          <p:blipFill>
            <a:blip r:embed="rId1"/>
            <a:stretch/>
          </p:blipFill>
          <p:spPr>
            <a:xfrm>
              <a:off x="1143000" y="1857240"/>
              <a:ext cx="522360" cy="5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2"/>
            <a:stretch/>
          </p:blipFill>
          <p:spPr>
            <a:xfrm>
              <a:off x="0" y="1857240"/>
              <a:ext cx="64296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AutoShape 14"/>
            <p:cNvSpPr/>
            <p:nvPr/>
          </p:nvSpPr>
          <p:spPr>
            <a:xfrm rot="5400000">
              <a:off x="662760" y="190836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69" name="Группа 87"/>
          <p:cNvGrpSpPr/>
          <p:nvPr/>
        </p:nvGrpSpPr>
        <p:grpSpPr>
          <a:xfrm>
            <a:off x="1571400" y="1857240"/>
            <a:ext cx="1000440" cy="879480"/>
            <a:chOff x="1571400" y="1857240"/>
            <a:chExt cx="1000440" cy="879480"/>
          </a:xfrm>
        </p:grpSpPr>
        <p:pic>
          <p:nvPicPr>
            <p:cNvPr id="670" name="Picture 3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3"/>
            <a:stretch/>
          </p:blipFill>
          <p:spPr>
            <a:xfrm>
              <a:off x="2071800" y="1857240"/>
              <a:ext cx="500040" cy="49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2" descr="C:\Users\ADexter\Desktop\VirtualLNK Icons\VirtualLNK Network Icons Collection v1.0\BMP\Regular\72x72\XML.bmp"/>
            <p:cNvPicPr/>
            <p:nvPr/>
          </p:nvPicPr>
          <p:blipFill>
            <a:blip r:embed="rId4"/>
            <a:stretch/>
          </p:blipFill>
          <p:spPr>
            <a:xfrm>
              <a:off x="2000160" y="2428560"/>
              <a:ext cx="57132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AutoShape 14"/>
            <p:cNvSpPr/>
            <p:nvPr/>
          </p:nvSpPr>
          <p:spPr>
            <a:xfrm rot="5400000">
              <a:off x="1663200" y="19076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3" name="Группа 88"/>
          <p:cNvGrpSpPr/>
          <p:nvPr/>
        </p:nvGrpSpPr>
        <p:grpSpPr>
          <a:xfrm>
            <a:off x="2571840" y="1857240"/>
            <a:ext cx="1071360" cy="571680"/>
            <a:chOff x="2571840" y="1857240"/>
            <a:chExt cx="1071360" cy="571680"/>
          </a:xfrm>
        </p:grpSpPr>
        <p:pic>
          <p:nvPicPr>
            <p:cNvPr id="674" name="Picture 5" descr="F:\Подготовка презентации 2008\ICONS\VirtualLNK Icons\VirtualLNK Network Icons Collection v1.0\BMP\Regular\72x72\Login Status.bmp"/>
            <p:cNvPicPr/>
            <p:nvPr/>
          </p:nvPicPr>
          <p:blipFill>
            <a:blip r:embed="rId5"/>
            <a:stretch/>
          </p:blipFill>
          <p:spPr>
            <a:xfrm>
              <a:off x="3071880" y="185724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AutoShape 14"/>
            <p:cNvSpPr/>
            <p:nvPr/>
          </p:nvSpPr>
          <p:spPr>
            <a:xfrm rot="5400000">
              <a:off x="2663280" y="19083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76" name="Прямоугольник 51"/>
          <p:cNvSpPr/>
          <p:nvPr/>
        </p:nvSpPr>
        <p:spPr>
          <a:xfrm>
            <a:off x="2928960" y="2357280"/>
            <a:ext cx="8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ЦП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77" name="Группа 89"/>
          <p:cNvGrpSpPr/>
          <p:nvPr/>
        </p:nvGrpSpPr>
        <p:grpSpPr>
          <a:xfrm>
            <a:off x="3500280" y="1928880"/>
            <a:ext cx="1008360" cy="506520"/>
            <a:chOff x="3500280" y="1928880"/>
            <a:chExt cx="1008360" cy="506520"/>
          </a:xfrm>
        </p:grpSpPr>
        <p:pic>
          <p:nvPicPr>
            <p:cNvPr id="678" name="Picture 4" descr="F:\Подготовка презентации 2008\ICONS\VirtualLNK Icons\VirtualLNK Network Icons Collection v1.0\BMP\Regular\72x72\Mail Lock.bmp"/>
            <p:cNvPicPr/>
            <p:nvPr/>
          </p:nvPicPr>
          <p:blipFill>
            <a:blip r:embed="rId6"/>
            <a:stretch/>
          </p:blipFill>
          <p:spPr>
            <a:xfrm>
              <a:off x="4001040" y="1928880"/>
              <a:ext cx="50760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AutoShape 14"/>
            <p:cNvSpPr/>
            <p:nvPr/>
          </p:nvSpPr>
          <p:spPr>
            <a:xfrm rot="5400000">
              <a:off x="3592440" y="1908000"/>
              <a:ext cx="330480" cy="514800"/>
            </a:xfrm>
            <a:prstGeom prst="upArrow">
              <a:avLst>
                <a:gd name="adj1" fmla="val 78306"/>
                <a:gd name="adj2" fmla="val 4829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80" name="Группа 90"/>
          <p:cNvGrpSpPr/>
          <p:nvPr/>
        </p:nvGrpSpPr>
        <p:grpSpPr>
          <a:xfrm>
            <a:off x="4357440" y="1928880"/>
            <a:ext cx="1173240" cy="577800"/>
            <a:chOff x="4357440" y="1928880"/>
            <a:chExt cx="1173240" cy="577800"/>
          </a:xfrm>
        </p:grpSpPr>
        <p:sp>
          <p:nvSpPr>
            <p:cNvPr id="681" name="AutoShape 14"/>
            <p:cNvSpPr/>
            <p:nvPr/>
          </p:nvSpPr>
          <p:spPr>
            <a:xfrm rot="5400000">
              <a:off x="4449600" y="1908000"/>
              <a:ext cx="330120" cy="514440"/>
            </a:xfrm>
            <a:prstGeom prst="upArrow">
              <a:avLst>
                <a:gd name="adj1" fmla="val 78306"/>
                <a:gd name="adj2" fmla="val 48309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82" name="Рисунок 57" descr="untitled.bmp"/>
            <p:cNvPicPr/>
            <p:nvPr/>
          </p:nvPicPr>
          <p:blipFill>
            <a:blip r:embed="rId7"/>
            <a:stretch/>
          </p:blipFill>
          <p:spPr>
            <a:xfrm>
              <a:off x="4804560" y="1928880"/>
              <a:ext cx="72612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Группа 91"/>
          <p:cNvGrpSpPr/>
          <p:nvPr/>
        </p:nvGrpSpPr>
        <p:grpSpPr>
          <a:xfrm>
            <a:off x="5428800" y="1857240"/>
            <a:ext cx="1000440" cy="571680"/>
            <a:chOff x="5428800" y="1857240"/>
            <a:chExt cx="1000440" cy="571680"/>
          </a:xfrm>
        </p:grpSpPr>
        <p:pic>
          <p:nvPicPr>
            <p:cNvPr id="684" name="Picture 6" descr="F:\Подготовка презентации 2008\ICONS\VirtualLNK Icons\VirtualLNK Network Icons Collection v1.0\BMP\Regular\72x72\Certificate Security.bmp"/>
            <p:cNvPicPr/>
            <p:nvPr/>
          </p:nvPicPr>
          <p:blipFill>
            <a:blip r:embed="rId8"/>
            <a:stretch/>
          </p:blipFill>
          <p:spPr>
            <a:xfrm>
              <a:off x="5857560" y="18572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AutoShape 14"/>
            <p:cNvSpPr/>
            <p:nvPr/>
          </p:nvSpPr>
          <p:spPr>
            <a:xfrm rot="5400000">
              <a:off x="5520600" y="190836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86" name="Группа 92"/>
          <p:cNvGrpSpPr/>
          <p:nvPr/>
        </p:nvGrpSpPr>
        <p:grpSpPr>
          <a:xfrm>
            <a:off x="6357600" y="1571760"/>
            <a:ext cx="1143000" cy="1214280"/>
            <a:chOff x="6357600" y="1571760"/>
            <a:chExt cx="1143000" cy="1214280"/>
          </a:xfrm>
        </p:grpSpPr>
        <p:pic>
          <p:nvPicPr>
            <p:cNvPr id="687" name="Picture 9" descr="F:\Подготовка презентации 2008\ICONS\VirtualLNK Icons\VirtualLNK Network Icons Collection v1.0\BMP\Regular\72x72\Certificate Check.bmp"/>
            <p:cNvPicPr/>
            <p:nvPr/>
          </p:nvPicPr>
          <p:blipFill>
            <a:blip r:embed="rId9"/>
            <a:stretch/>
          </p:blipFill>
          <p:spPr>
            <a:xfrm>
              <a:off x="6858000" y="157176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10" descr="F:\Подготовка презентации 2008\ICONS\VirtualLNK Icons\VirtualLNK Network Icons Collection v1.0\BMP\Regular\72x72\Certificate Delete.bmp"/>
            <p:cNvPicPr/>
            <p:nvPr/>
          </p:nvPicPr>
          <p:blipFill>
            <a:blip r:embed="rId10"/>
            <a:stretch/>
          </p:blipFill>
          <p:spPr>
            <a:xfrm>
              <a:off x="6929280" y="22147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AutoShape 14"/>
            <p:cNvSpPr/>
            <p:nvPr/>
          </p:nvSpPr>
          <p:spPr>
            <a:xfrm rot="5400000">
              <a:off x="6449400" y="19080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0" name="Группа 93"/>
          <p:cNvGrpSpPr/>
          <p:nvPr/>
        </p:nvGrpSpPr>
        <p:grpSpPr>
          <a:xfrm>
            <a:off x="7143480" y="2000160"/>
            <a:ext cx="1000440" cy="500040"/>
            <a:chOff x="7143480" y="2000160"/>
            <a:chExt cx="1000440" cy="500040"/>
          </a:xfrm>
        </p:grpSpPr>
        <p:pic>
          <p:nvPicPr>
            <p:cNvPr id="691" name="Picture 11" descr="F:\Подготовка презентации 2008\ICONS\VirtualLNK Icons\VirtualLNK Network Icons Collection v1.0\BMP\Regular\72x72\Mail Send Recieve.bmp"/>
            <p:cNvPicPr/>
            <p:nvPr/>
          </p:nvPicPr>
          <p:blipFill>
            <a:blip r:embed="rId11"/>
            <a:stretch/>
          </p:blipFill>
          <p:spPr>
            <a:xfrm>
              <a:off x="7643880" y="2000160"/>
              <a:ext cx="5000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AutoShape 14"/>
            <p:cNvSpPr/>
            <p:nvPr/>
          </p:nvSpPr>
          <p:spPr>
            <a:xfrm rot="5400000">
              <a:off x="7235280" y="197964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3" name="Группа 94"/>
          <p:cNvGrpSpPr/>
          <p:nvPr/>
        </p:nvGrpSpPr>
        <p:grpSpPr>
          <a:xfrm>
            <a:off x="7929360" y="1857240"/>
            <a:ext cx="1214640" cy="928800"/>
            <a:chOff x="7929360" y="1857240"/>
            <a:chExt cx="1214640" cy="928800"/>
          </a:xfrm>
        </p:grpSpPr>
        <p:pic>
          <p:nvPicPr>
            <p:cNvPr id="694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12"/>
            <a:stretch/>
          </p:blipFill>
          <p:spPr>
            <a:xfrm>
              <a:off x="8429760" y="185724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10" descr="F:\Подготовка презентации 2008\ICONS\sissof1\PNG_32\celsave_48.png"/>
            <p:cNvPicPr/>
            <p:nvPr/>
          </p:nvPicPr>
          <p:blipFill>
            <a:blip r:embed="rId13"/>
            <a:stretch/>
          </p:blipFill>
          <p:spPr>
            <a:xfrm>
              <a:off x="8286840" y="221436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AutoShape 14"/>
            <p:cNvSpPr/>
            <p:nvPr/>
          </p:nvSpPr>
          <p:spPr>
            <a:xfrm rot="5400000">
              <a:off x="8021160" y="197964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7" name="Группа 97"/>
          <p:cNvGrpSpPr/>
          <p:nvPr/>
        </p:nvGrpSpPr>
        <p:grpSpPr>
          <a:xfrm>
            <a:off x="3714840" y="3857760"/>
            <a:ext cx="1660320" cy="950040"/>
            <a:chOff x="3714840" y="3857760"/>
            <a:chExt cx="1660320" cy="950040"/>
          </a:xfrm>
        </p:grpSpPr>
        <p:pic>
          <p:nvPicPr>
            <p:cNvPr id="698" name="Picture 11" descr="H:\Подготовка презентации 2008\ICONS\VirtualLNK Icons\VirtualLNK Medical Icons Collection v1.0\BMP\Regular\72x72\Hospital.bmp"/>
            <p:cNvPicPr/>
            <p:nvPr/>
          </p:nvPicPr>
          <p:blipFill>
            <a:blip r:embed="rId14"/>
            <a:stretch/>
          </p:blipFill>
          <p:spPr>
            <a:xfrm>
              <a:off x="4214520" y="3857760"/>
              <a:ext cx="64260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Прямоугольник 39"/>
            <p:cNvSpPr/>
            <p:nvPr/>
          </p:nvSpPr>
          <p:spPr>
            <a:xfrm>
              <a:off x="3714840" y="4500720"/>
              <a:ext cx="166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00000"/>
                  </a:solidFill>
                  <a:latin typeface="Arial"/>
                </a:rPr>
                <a:t>ТОУЗ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AutoShape 14"/>
            <p:cNvSpPr/>
            <p:nvPr/>
          </p:nvSpPr>
          <p:spPr>
            <a:xfrm rot="5400000">
              <a:off x="3806280" y="39801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01" name="Группа 99"/>
          <p:cNvGrpSpPr/>
          <p:nvPr/>
        </p:nvGrpSpPr>
        <p:grpSpPr>
          <a:xfrm>
            <a:off x="5857560" y="3929040"/>
            <a:ext cx="1297440" cy="579600"/>
            <a:chOff x="5857560" y="3929040"/>
            <a:chExt cx="1297440" cy="579600"/>
          </a:xfrm>
        </p:grpSpPr>
        <p:pic>
          <p:nvPicPr>
            <p:cNvPr id="702" name="Рисунок 72" descr="untitled.bmp"/>
            <p:cNvPicPr/>
            <p:nvPr/>
          </p:nvPicPr>
          <p:blipFill>
            <a:blip r:embed="rId15"/>
            <a:stretch/>
          </p:blipFill>
          <p:spPr>
            <a:xfrm>
              <a:off x="6429240" y="3929040"/>
              <a:ext cx="72576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AutoShape 14"/>
            <p:cNvSpPr/>
            <p:nvPr/>
          </p:nvSpPr>
          <p:spPr>
            <a:xfrm rot="5400000">
              <a:off x="5949000" y="3980160"/>
              <a:ext cx="331200" cy="514440"/>
            </a:xfrm>
            <a:prstGeom prst="upArrow">
              <a:avLst>
                <a:gd name="adj1" fmla="val 78306"/>
                <a:gd name="adj2" fmla="val 48151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04" name="Группа 96"/>
          <p:cNvGrpSpPr/>
          <p:nvPr/>
        </p:nvGrpSpPr>
        <p:grpSpPr>
          <a:xfrm>
            <a:off x="2356920" y="3714840"/>
            <a:ext cx="1415160" cy="1500120"/>
            <a:chOff x="2356920" y="3714840"/>
            <a:chExt cx="1415160" cy="1500120"/>
          </a:xfrm>
        </p:grpSpPr>
        <p:pic>
          <p:nvPicPr>
            <p:cNvPr id="705" name="Picture 4" descr="C:\Users\ADexter\Desktop\VirtualLNK Icons\VirtualLNK Website Icons Collection v1.0\BMP\Regular\72x72\Printing and Publishing.bmp"/>
            <p:cNvPicPr/>
            <p:nvPr/>
          </p:nvPicPr>
          <p:blipFill>
            <a:blip r:embed="rId16"/>
            <a:stretch/>
          </p:blipFill>
          <p:spPr>
            <a:xfrm>
              <a:off x="2857320" y="3714840"/>
              <a:ext cx="914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AutoShape 14"/>
            <p:cNvSpPr/>
            <p:nvPr/>
          </p:nvSpPr>
          <p:spPr>
            <a:xfrm rot="5400000">
              <a:off x="2448720" y="39798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07" name="Picture 5" descr="C:\Users\ADexter\Desktop\VirtualLNK Icons\VirtualLNK Accounting Icons Collection v1.0\BMP\Regular\72x72\Barcode.bmp"/>
            <p:cNvPicPr/>
            <p:nvPr/>
          </p:nvPicPr>
          <p:blipFill>
            <a:blip r:embed="rId17"/>
            <a:stretch/>
          </p:blipFill>
          <p:spPr>
            <a:xfrm>
              <a:off x="2928960" y="4500720"/>
              <a:ext cx="71460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8" name="Группа 95"/>
          <p:cNvGrpSpPr/>
          <p:nvPr/>
        </p:nvGrpSpPr>
        <p:grpSpPr>
          <a:xfrm>
            <a:off x="214200" y="3929040"/>
            <a:ext cx="2225880" cy="1143000"/>
            <a:chOff x="214200" y="3929040"/>
            <a:chExt cx="2225880" cy="1143000"/>
          </a:xfrm>
        </p:grpSpPr>
        <p:pic>
          <p:nvPicPr>
            <p:cNvPr id="709" name="Picture 3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18"/>
            <a:stretch/>
          </p:blipFill>
          <p:spPr>
            <a:xfrm>
              <a:off x="857160" y="43574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19"/>
            <a:stretch/>
          </p:blipFill>
          <p:spPr>
            <a:xfrm>
              <a:off x="214200" y="39290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AutoShape 14"/>
            <p:cNvSpPr/>
            <p:nvPr/>
          </p:nvSpPr>
          <p:spPr>
            <a:xfrm rot="5400000">
              <a:off x="1019880" y="39794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2" name="Рисунок 68" descr="untitled.bmp"/>
            <p:cNvPicPr/>
            <p:nvPr/>
          </p:nvPicPr>
          <p:blipFill>
            <a:blip r:embed="rId20"/>
            <a:stretch/>
          </p:blipFill>
          <p:spPr>
            <a:xfrm>
              <a:off x="1714680" y="3929040"/>
              <a:ext cx="725400" cy="57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Picture 10" descr="F:\Подготовка презентации 2008\ICONS\sissof1\PNG_32\celsave_48.png"/>
            <p:cNvPicPr/>
            <p:nvPr/>
          </p:nvPicPr>
          <p:blipFill>
            <a:blip r:embed="rId21"/>
            <a:stretch/>
          </p:blipFill>
          <p:spPr>
            <a:xfrm>
              <a:off x="1214280" y="457200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Группа 98"/>
          <p:cNvGrpSpPr/>
          <p:nvPr/>
        </p:nvGrpSpPr>
        <p:grpSpPr>
          <a:xfrm>
            <a:off x="4785840" y="3786120"/>
            <a:ext cx="1315080" cy="1314360"/>
            <a:chOff x="4785840" y="3786120"/>
            <a:chExt cx="1315080" cy="1314360"/>
          </a:xfrm>
        </p:grpSpPr>
        <p:pic>
          <p:nvPicPr>
            <p:cNvPr id="715" name="Picture 9" descr="F:\Подготовка презентации 2008\ICONS\VirtualLNK Icons\VirtualLNK Network Icons Collection v1.0\BMP\Regular\72x72\Certificate Check.bmp"/>
            <p:cNvPicPr/>
            <p:nvPr/>
          </p:nvPicPr>
          <p:blipFill>
            <a:blip r:embed="rId22"/>
            <a:stretch/>
          </p:blipFill>
          <p:spPr>
            <a:xfrm>
              <a:off x="5357880" y="3786120"/>
              <a:ext cx="7146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AutoShape 14"/>
            <p:cNvSpPr/>
            <p:nvPr/>
          </p:nvSpPr>
          <p:spPr>
            <a:xfrm rot="5400000">
              <a:off x="4877640" y="39794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7" name="Picture 6" descr="C:\Users\ADexter\Desktop\VirtualLNK Icons\VirtualLNK Accounting Icons Collection v1.0\BMP\Regular\72x72\Barcode Scan.bmp"/>
            <p:cNvPicPr/>
            <p:nvPr/>
          </p:nvPicPr>
          <p:blipFill>
            <a:blip r:embed="rId23"/>
            <a:stretch/>
          </p:blipFill>
          <p:spPr>
            <a:xfrm>
              <a:off x="5500800" y="4500360"/>
              <a:ext cx="60012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8" name="Группа 100"/>
          <p:cNvGrpSpPr/>
          <p:nvPr/>
        </p:nvGrpSpPr>
        <p:grpSpPr>
          <a:xfrm>
            <a:off x="7000920" y="4000680"/>
            <a:ext cx="1071360" cy="500040"/>
            <a:chOff x="7000920" y="4000680"/>
            <a:chExt cx="1071360" cy="500040"/>
          </a:xfrm>
        </p:grpSpPr>
        <p:sp>
          <p:nvSpPr>
            <p:cNvPr id="719" name="AutoShape 14"/>
            <p:cNvSpPr/>
            <p:nvPr/>
          </p:nvSpPr>
          <p:spPr>
            <a:xfrm rot="5400000">
              <a:off x="7092360" y="39801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20" name="Picture 11" descr="F:\Подготовка презентации 2008\ICONS\VirtualLNK Icons\VirtualLNK Network Icons Collection v1.0\BMP\Regular\72x72\Mail Send Recieve.bmp"/>
            <p:cNvPicPr/>
            <p:nvPr/>
          </p:nvPicPr>
          <p:blipFill>
            <a:blip r:embed="rId24"/>
            <a:stretch/>
          </p:blipFill>
          <p:spPr>
            <a:xfrm>
              <a:off x="7572240" y="400068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1" name="Группа 101"/>
          <p:cNvGrpSpPr/>
          <p:nvPr/>
        </p:nvGrpSpPr>
        <p:grpSpPr>
          <a:xfrm>
            <a:off x="7929360" y="3857760"/>
            <a:ext cx="1214640" cy="928440"/>
            <a:chOff x="7929360" y="3857760"/>
            <a:chExt cx="1214640" cy="928440"/>
          </a:xfrm>
        </p:grpSpPr>
        <p:pic>
          <p:nvPicPr>
            <p:cNvPr id="722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25"/>
            <a:stretch/>
          </p:blipFill>
          <p:spPr>
            <a:xfrm>
              <a:off x="8429760" y="385776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10" descr="F:\Подготовка презентации 2008\ICONS\sissof1\PNG_32\celsave_48.png"/>
            <p:cNvPicPr/>
            <p:nvPr/>
          </p:nvPicPr>
          <p:blipFill>
            <a:blip r:embed="rId26"/>
            <a:stretch/>
          </p:blipFill>
          <p:spPr>
            <a:xfrm>
              <a:off x="8286840" y="421488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AutoShape 14"/>
            <p:cNvSpPr/>
            <p:nvPr/>
          </p:nvSpPr>
          <p:spPr>
            <a:xfrm rot="5400000">
              <a:off x="8021160" y="39798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5" name="Прямоугольник 82"/>
          <p:cNvSpPr/>
          <p:nvPr/>
        </p:nvSpPr>
        <p:spPr>
          <a:xfrm>
            <a:off x="6215040" y="2428920"/>
            <a:ext cx="8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СРН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6" name="Picture 13" descr="C:\DATA\Мои документы\Мои рисунки\293551133787556.jpg"/>
          <p:cNvPicPr/>
          <p:nvPr/>
        </p:nvPicPr>
        <p:blipFill>
          <a:blip r:embed="rId27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727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цепции информатизац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34316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0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1" name="Picture 4" descr="F:\Подготовка презентации 2008\ICONS\iconki_www.webz.tu1.ru\500ic\[www.zavis.ru]NetByte Design Studio - 1121.png"/>
          <p:cNvPicPr/>
          <p:nvPr/>
        </p:nvPicPr>
        <p:blipFill>
          <a:blip r:embed="rId1"/>
          <a:stretch/>
        </p:blipFill>
        <p:spPr>
          <a:xfrm>
            <a:off x="5857920" y="20718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32" name="Прямоугольник 7"/>
          <p:cNvSpPr/>
          <p:nvPr/>
        </p:nvSpPr>
        <p:spPr>
          <a:xfrm>
            <a:off x="285840" y="3857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3" name="Прямоугольник 8"/>
          <p:cNvSpPr/>
          <p:nvPr/>
        </p:nvSpPr>
        <p:spPr>
          <a:xfrm>
            <a:off x="4786200" y="3857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4" name="Picture 4" descr="F:\Подготовка презентации 2008\ICONS\iconki_www.webz.tu1.ru\500ic\[www.zavis.ru]NetByte Design Studio - 1121.png"/>
          <p:cNvPicPr/>
          <p:nvPr/>
        </p:nvPicPr>
        <p:blipFill>
          <a:blip r:embed="rId2"/>
          <a:stretch/>
        </p:blipFill>
        <p:spPr>
          <a:xfrm>
            <a:off x="1785960" y="200016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735" name="Двойная стрелка влево/вправо 10"/>
          <p:cNvSpPr/>
          <p:nvPr/>
        </p:nvSpPr>
        <p:spPr>
          <a:xfrm>
            <a:off x="4000680" y="2571840"/>
            <a:ext cx="1785600" cy="428400"/>
          </a:xfrm>
          <a:prstGeom prst="leftRightArrow">
            <a:avLst>
              <a:gd name="adj1" fmla="val 50000"/>
              <a:gd name="adj2" fmla="val 50017"/>
            </a:avLst>
          </a:prstGeom>
          <a:solidFill>
            <a:srgbClr val="5bace9"/>
          </a:solidFill>
          <a:ln w="25560">
            <a:solidFill>
              <a:srgbClr val="417d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6" name="Picture 13" descr="C:\DATA\Мои документы\Мои рисунки\293551133787556.jpg"/>
          <p:cNvPicPr/>
          <p:nvPr/>
        </p:nvPicPr>
        <p:blipFill>
          <a:blip r:embed="rId3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5" descr="F:\Подготовка презентации 2008\ICONS\iconki_www.webz.tu1.ru\500ic\[www.zavis.ru]NetByte Design Studio - 1288.png"/>
          <p:cNvPicPr/>
          <p:nvPr/>
        </p:nvPicPr>
        <p:blipFill>
          <a:blip r:embed="rId4"/>
          <a:stretch/>
        </p:blipFill>
        <p:spPr>
          <a:xfrm>
            <a:off x="6643800" y="264312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5" descr="F:\Подготовка презентации 2008\ICONS\iconki_www.webz.tu1.ru\500ic\[www.zavis.ru]NetByte Design Studio - 1288.png"/>
          <p:cNvPicPr/>
          <p:nvPr/>
        </p:nvPicPr>
        <p:blipFill>
          <a:blip r:embed="rId5"/>
          <a:stretch/>
        </p:blipFill>
        <p:spPr>
          <a:xfrm>
            <a:off x="2643120" y="25718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739" name="AutoShape 3"/>
          <p:cNvSpPr/>
          <p:nvPr/>
        </p:nvSpPr>
        <p:spPr>
          <a:xfrm flipV="1">
            <a:off x="2857680" y="3285360"/>
            <a:ext cx="3929040" cy="235764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0" name="Прямоугольник 15"/>
          <p:cNvSpPr/>
          <p:nvPr/>
        </p:nvSpPr>
        <p:spPr>
          <a:xfrm>
            <a:off x="1500120" y="564372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Постановление Правительства Санкт-Петербург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Picture 2" descr="C:\Documents and Settings\Papa\Рабочий стол\3D_Business_Graphics_rep\stockxpertcom_id1300071_size5.jpg"/>
          <p:cNvPicPr/>
          <p:nvPr/>
        </p:nvPicPr>
        <p:blipFill>
          <a:blip r:embed="rId2"/>
          <a:stretch/>
        </p:blipFill>
        <p:spPr>
          <a:xfrm>
            <a:off x="928800" y="1214280"/>
            <a:ext cx="7551720" cy="5643720"/>
          </a:xfrm>
          <a:prstGeom prst="rect">
            <a:avLst/>
          </a:prstGeom>
          <a:ln w="0">
            <a:noFill/>
          </a:ln>
        </p:spPr>
      </p:pic>
      <p:pic>
        <p:nvPicPr>
          <p:cNvPr id="744" name="WordArt 5" descr=""/>
          <p:cNvPicPr/>
          <p:nvPr/>
        </p:nvPicPr>
        <p:blipFill>
          <a:blip r:embed="rId3"/>
          <a:stretch/>
        </p:blipFill>
        <p:spPr>
          <a:xfrm>
            <a:off x="2212920" y="1116000"/>
            <a:ext cx="5145120" cy="1455840"/>
          </a:xfrm>
          <a:prstGeom prst="rect">
            <a:avLst/>
          </a:prstGeom>
          <a:ln w="0">
            <a:noFill/>
          </a:ln>
        </p:spPr>
      </p:pic>
      <p:pic>
        <p:nvPicPr>
          <p:cNvPr id="745" name="Рисунок 4" descr="untitled.bmp"/>
          <p:cNvPicPr/>
          <p:nvPr/>
        </p:nvPicPr>
        <p:blipFill>
          <a:blip r:embed="rId4"/>
          <a:stretch/>
        </p:blipFill>
        <p:spPr>
          <a:xfrm>
            <a:off x="4214880" y="5500800"/>
            <a:ext cx="895320" cy="714240"/>
          </a:xfrm>
          <a:prstGeom prst="rect">
            <a:avLst/>
          </a:prstGeom>
          <a:ln w="0">
            <a:noFill/>
          </a:ln>
        </p:spPr>
      </p:pic>
      <p:sp>
        <p:nvSpPr>
          <p:cNvPr id="746" name="Прямоугольник 7"/>
          <p:cNvSpPr/>
          <p:nvPr/>
        </p:nvSpPr>
        <p:spPr>
          <a:xfrm>
            <a:off x="3384000" y="6488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  <a:ea typeface="Arial"/>
              </a:rPr>
              <a:t>cio@miac.zdrav.spb.ru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7" name="Місце для нижнього колонтитула 1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indefinite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7" descr="shutterstock_5322817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нятые национальные стандарт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57120" y="1643040"/>
            <a:ext cx="8501040" cy="1324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00040" y="1714680"/>
            <a:ext cx="2571840" cy="1184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25b1b1"/>
              </a:gs>
              <a:gs pos="100000">
                <a:srgbClr val="1a7c7c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934920" y="1928880"/>
            <a:ext cx="154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Т 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2636-2006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000240" y="1785960"/>
            <a:ext cx="55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«Электронная история болезни. </a:t>
            </a:r>
            <a:br>
              <a:rPr sz="2400"/>
            </a:b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Общие положения»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357120" y="3262320"/>
            <a:ext cx="8501040" cy="1666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500040" y="3333600"/>
            <a:ext cx="2571840" cy="14526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6e71f0"/>
              </a:gs>
              <a:gs pos="100000">
                <a:srgbClr val="4d4fa8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506520" y="3714840"/>
            <a:ext cx="258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ОСТ 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СО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 18308-2008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3143160" y="33973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«Информатизация здоровья.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Требования к архитектуре  электронных записей в здравоохранении»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Freeform 16"/>
          <p:cNvSpPr/>
          <p:nvPr/>
        </p:nvSpPr>
        <p:spPr>
          <a:xfrm>
            <a:off x="571680" y="1785960"/>
            <a:ext cx="607680" cy="592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88d4d4"/>
              </a:gs>
              <a:gs pos="50000">
                <a:srgbClr val="25b1b1">
                  <a:alpha val="0"/>
                </a:srgbClr>
              </a:gs>
              <a:gs pos="100000">
                <a:srgbClr val="88d4d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Freeform 17"/>
          <p:cNvSpPr/>
          <p:nvPr/>
        </p:nvSpPr>
        <p:spPr>
          <a:xfrm>
            <a:off x="571680" y="3429000"/>
            <a:ext cx="607680" cy="592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b0b2f7"/>
              </a:gs>
              <a:gs pos="50000">
                <a:srgbClr val="6e71f0">
                  <a:alpha val="0"/>
                </a:srgbClr>
              </a:gs>
              <a:gs pos="100000">
                <a:srgbClr val="b0b2f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7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цепция развития системы здравоохран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о 2020 год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27" descr="россия"/>
          <p:cNvPicPr/>
          <p:nvPr/>
        </p:nvPicPr>
        <p:blipFill>
          <a:blip r:embed="rId2"/>
          <a:stretch/>
        </p:blipFill>
        <p:spPr>
          <a:xfrm>
            <a:off x="7500960" y="1785960"/>
            <a:ext cx="609480" cy="371520"/>
          </a:xfrm>
          <a:prstGeom prst="rect">
            <a:avLst/>
          </a:prstGeom>
          <a:ln w="936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</p:pic>
      <p:pic>
        <p:nvPicPr>
          <p:cNvPr id="135" name="Picture 13" descr="C:\DATA\Мои документы\Мои рисунки\293551133787556.jpg"/>
          <p:cNvPicPr/>
          <p:nvPr/>
        </p:nvPicPr>
        <p:blipFill>
          <a:blip r:embed="rId3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36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1000080" y="265752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AutoShape 14"/>
          <p:cNvSpPr/>
          <p:nvPr/>
        </p:nvSpPr>
        <p:spPr>
          <a:xfrm>
            <a:off x="1000080" y="171468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AutoShape 20"/>
          <p:cNvSpPr/>
          <p:nvPr/>
        </p:nvSpPr>
        <p:spPr>
          <a:xfrm rot="5400000">
            <a:off x="762120" y="1913040"/>
            <a:ext cx="488880" cy="488880"/>
          </a:xfrm>
          <a:prstGeom prst="diamond">
            <a:avLst/>
          </a:prstGeom>
          <a:solidFill>
            <a:srgbClr val="6e71f0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AutoShape 21"/>
          <p:cNvSpPr/>
          <p:nvPr/>
        </p:nvSpPr>
        <p:spPr>
          <a:xfrm rot="5400000">
            <a:off x="762120" y="2855880"/>
            <a:ext cx="488880" cy="488880"/>
          </a:xfrm>
          <a:prstGeom prst="diamond">
            <a:avLst/>
          </a:prstGeom>
          <a:solidFill>
            <a:srgbClr val="969696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AutoShape 22"/>
          <p:cNvSpPr/>
          <p:nvPr/>
        </p:nvSpPr>
        <p:spPr>
          <a:xfrm>
            <a:off x="1000080" y="453384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AutoShape 23"/>
          <p:cNvSpPr/>
          <p:nvPr/>
        </p:nvSpPr>
        <p:spPr>
          <a:xfrm>
            <a:off x="1000080" y="359100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AutoShape 24"/>
          <p:cNvSpPr/>
          <p:nvPr/>
        </p:nvSpPr>
        <p:spPr>
          <a:xfrm rot="5400000">
            <a:off x="762120" y="3789360"/>
            <a:ext cx="488880" cy="488880"/>
          </a:xfrm>
          <a:prstGeom prst="diamond">
            <a:avLst/>
          </a:prstGeom>
          <a:solidFill>
            <a:srgbClr val="25b1b1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 rot="5400000">
            <a:off x="761760" y="4732200"/>
            <a:ext cx="489240" cy="488880"/>
          </a:xfrm>
          <a:prstGeom prst="diamond">
            <a:avLst/>
          </a:prstGeom>
          <a:solidFill>
            <a:srgbClr val="5bace9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1143000" y="1857240"/>
            <a:ext cx="728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78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Персонификация медицинских услуг на основе электронного паспорта здоровья (ЭМК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85920" y="2857680"/>
            <a:ext cx="69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Развитие ИКТ инфраструктуры системы здравоохранения, в т</a:t>
            </a:r>
            <a:r>
              <a:rPr b="1" lang="en-US" sz="1400" spc="-1" strike="noStrike">
                <a:solidFill>
                  <a:srgbClr val="6e71f0"/>
                </a:solidFill>
                <a:latin typeface="Arial"/>
                <a:ea typeface="Arial"/>
              </a:rPr>
              <a:t>.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ч</a:t>
            </a:r>
            <a:r>
              <a:rPr b="1" lang="en-US" sz="1400" spc="-1" strike="noStrike">
                <a:solidFill>
                  <a:srgbClr val="6e71f0"/>
                </a:solidFill>
                <a:latin typeface="Arial"/>
                <a:ea typeface="Arial"/>
              </a:rPr>
              <a:t>.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 создание региональных центров обработки данных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357200" y="3857760"/>
            <a:ext cx="70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Организация электронного обмена медицинскими данным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285920" y="4714920"/>
            <a:ext cx="705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1000080" y="550080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AutoShape 21"/>
          <p:cNvSpPr/>
          <p:nvPr/>
        </p:nvSpPr>
        <p:spPr>
          <a:xfrm rot="5400000">
            <a:off x="762120" y="5699160"/>
            <a:ext cx="488880" cy="488880"/>
          </a:xfrm>
          <a:prstGeom prst="diamond">
            <a:avLst/>
          </a:prstGeom>
          <a:solidFill>
            <a:srgbClr val="969696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357200" y="5643720"/>
            <a:ext cx="69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0" y="128592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Направления работ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по информатизации, основные задачи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Rectangle 38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2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00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жидаемые результаты информатизации здравоохранени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РФ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6100920" y="6537240"/>
            <a:ext cx="304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Freeform 2"/>
          <p:cNvSpPr/>
          <p:nvPr/>
        </p:nvSpPr>
        <p:spPr>
          <a:xfrm>
            <a:off x="3960720" y="1244520"/>
            <a:ext cx="631800" cy="2914560"/>
          </a:xfrm>
          <a:custGeom>
            <a:avLst/>
            <a:gdLst>
              <a:gd name="textAreaLeft" fmla="*/ 0 w 631800"/>
              <a:gd name="textAreaRight" fmla="*/ 632160 w 631800"/>
              <a:gd name="textAreaTop" fmla="*/ 0 h 2914560"/>
              <a:gd name="textAreaBottom" fmla="*/ 2914920 h 2914560"/>
            </a:gdLst>
            <a:ahLst/>
            <a:rect l="textAreaLeft" t="textAreaTop" r="textAreaRight" b="textAreaBottom"/>
            <a:pathLst>
              <a:path w="398" h="1836">
                <a:moveTo>
                  <a:pt x="398" y="1834"/>
                </a:moveTo>
                <a:lnTo>
                  <a:pt x="398" y="1613"/>
                </a:lnTo>
                <a:lnTo>
                  <a:pt x="0" y="0"/>
                </a:lnTo>
                <a:lnTo>
                  <a:pt x="0" y="1665"/>
                </a:lnTo>
                <a:lnTo>
                  <a:pt x="396" y="1836"/>
                </a:lnTo>
                <a:lnTo>
                  <a:pt x="398" y="1834"/>
                </a:lnTo>
                <a:close/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4599000" y="1216080"/>
            <a:ext cx="608040" cy="2946240"/>
          </a:xfrm>
          <a:custGeom>
            <a:avLst/>
            <a:gdLst>
              <a:gd name="textAreaLeft" fmla="*/ 0 w 608040"/>
              <a:gd name="textAreaRight" fmla="*/ 608400 w 608040"/>
              <a:gd name="textAreaTop" fmla="*/ 0 h 2946240"/>
              <a:gd name="textAreaBottom" fmla="*/ 2946600 h 2946240"/>
            </a:gdLst>
            <a:ahLst/>
            <a:rect l="textAreaLeft" t="textAreaTop" r="textAreaRight" b="textAreaBottom"/>
            <a:pathLst>
              <a:path w="383" h="1856">
                <a:moveTo>
                  <a:pt x="3" y="1629"/>
                </a:moveTo>
                <a:lnTo>
                  <a:pt x="383" y="0"/>
                </a:lnTo>
                <a:lnTo>
                  <a:pt x="383" y="1681"/>
                </a:lnTo>
                <a:lnTo>
                  <a:pt x="0" y="1856"/>
                </a:lnTo>
                <a:lnTo>
                  <a:pt x="3" y="1629"/>
                </a:lnTo>
                <a:close/>
              </a:path>
            </a:pathLst>
          </a:custGeom>
          <a:gradFill rotWithShape="0">
            <a:gsLst>
              <a:gs pos="0">
                <a:srgbClr val="dfedfd"/>
              </a:gs>
              <a:gs pos="100000">
                <a:srgbClr val="6e71f0"/>
              </a:gs>
            </a:gsLst>
            <a:lin ang="189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Freeform 4"/>
          <p:cNvSpPr/>
          <p:nvPr/>
        </p:nvSpPr>
        <p:spPr>
          <a:xfrm flipV="1">
            <a:off x="3960720" y="4153680"/>
            <a:ext cx="631800" cy="2374920"/>
          </a:xfrm>
          <a:custGeom>
            <a:avLst/>
            <a:gdLst>
              <a:gd name="textAreaLeft" fmla="*/ 0 w 631800"/>
              <a:gd name="textAreaRight" fmla="*/ 632160 w 631800"/>
              <a:gd name="textAreaTop" fmla="*/ -360 h 2374920"/>
              <a:gd name="textAreaBottom" fmla="*/ 2374920 h 2374920"/>
            </a:gdLst>
            <a:ahLst/>
            <a:rect l="textAreaLeft" t="textAreaTop" r="textAreaRight" b="textAreaBottom"/>
            <a:pathLst>
              <a:path w="728" h="1604">
                <a:moveTo>
                  <a:pt x="728" y="1604"/>
                </a:moveTo>
                <a:lnTo>
                  <a:pt x="728" y="1372"/>
                </a:lnTo>
                <a:lnTo>
                  <a:pt x="0" y="0"/>
                </a:lnTo>
                <a:lnTo>
                  <a:pt x="0" y="1416"/>
                </a:lnTo>
                <a:lnTo>
                  <a:pt x="728" y="1604"/>
                </a:lnTo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0" name="Freeform 5"/>
          <p:cNvSpPr/>
          <p:nvPr/>
        </p:nvSpPr>
        <p:spPr>
          <a:xfrm flipH="1" flipV="1">
            <a:off x="4603680" y="4153680"/>
            <a:ext cx="603360" cy="2374920"/>
          </a:xfrm>
          <a:custGeom>
            <a:avLst/>
            <a:gdLst>
              <a:gd name="textAreaLeft" fmla="*/ 0 w 603360"/>
              <a:gd name="textAreaRight" fmla="*/ 603360 w 603360"/>
              <a:gd name="textAreaTop" fmla="*/ -360 h 2374920"/>
              <a:gd name="textAreaBottom" fmla="*/ 2374920 h 2374920"/>
            </a:gdLst>
            <a:ahLst/>
            <a:rect l="textAreaLeft" t="textAreaTop" r="textAreaRight" b="textAreaBottom"/>
            <a:pathLst>
              <a:path w="728" h="1604">
                <a:moveTo>
                  <a:pt x="728" y="1604"/>
                </a:moveTo>
                <a:lnTo>
                  <a:pt x="728" y="1372"/>
                </a:lnTo>
                <a:lnTo>
                  <a:pt x="0" y="0"/>
                </a:lnTo>
                <a:lnTo>
                  <a:pt x="0" y="1416"/>
                </a:lnTo>
                <a:lnTo>
                  <a:pt x="728" y="1604"/>
                </a:lnTo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85840" y="1230480"/>
            <a:ext cx="3687840" cy="265572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285840" y="1214280"/>
            <a:ext cx="3687840" cy="40356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Повышение качества услуг за счет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63600" y="1643040"/>
            <a:ext cx="355284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увеличение времени на прием одного пациента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200560" y="1230480"/>
            <a:ext cx="3687840" cy="265572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5200560" y="1214280"/>
            <a:ext cx="3687840" cy="40356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нижение финансовых издержек за счет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5278320" y="1643040"/>
            <a:ext cx="355284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ерерасхода медицинских расходных материалов и лекарственных препаратов (до 11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повторных госпитализаций после лечения (до 20%),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посещений пациентами медицинских учреждений (до 5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некорректных финансовых операций в  системе медицинского страхования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85840" y="4443480"/>
            <a:ext cx="3687840" cy="204624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285840" y="4427640"/>
            <a:ext cx="3687840" cy="40320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окращение временных издержек за счет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363600" y="4856040"/>
            <a:ext cx="355284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ации поиска необходимой информации (до 6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ации ведения текущей документации </a:t>
            </a:r>
            <a:br>
              <a:rPr sz="1100"/>
            </a:b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(до 2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5200560" y="4443480"/>
            <a:ext cx="3687840" cy="204624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5200560" y="4427640"/>
            <a:ext cx="3687840" cy="40320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окращение трудозатрат медицинского персонала за счет автоматизации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5278320" y="4856040"/>
            <a:ext cx="355284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иска и обработки справочной и документальной информации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доступа  к персональной медицинской информации о пациенте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дготовке документов (отчетов, заключений, рецептов и т.д.)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4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92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8072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нфраструктура предлагаемых решений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 2009–2011 гг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1598760" y="1203480"/>
            <a:ext cx="7278480" cy="5373360"/>
          </a:xfrm>
          <a:prstGeom prst="rect">
            <a:avLst/>
          </a:prstGeom>
          <a:gradFill rotWithShape="0">
            <a:gsLst>
              <a:gs pos="0">
                <a:srgbClr val="fbdbc1"/>
              </a:gs>
              <a:gs pos="100000">
                <a:srgbClr val="feefe2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5bace9"/>
            </a:solidFill>
            <a:miter/>
          </a:ln>
          <a:effectLst>
            <a:outerShdw dist="17819" dir="2700000" blurRad="0" rotWithShape="0">
              <a:srgbClr val="5bace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Rectangle 142"/>
          <p:cNvSpPr/>
          <p:nvPr/>
        </p:nvSpPr>
        <p:spPr>
          <a:xfrm>
            <a:off x="3492360" y="1835280"/>
            <a:ext cx="2522520" cy="52056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Rectangle 141"/>
          <p:cNvSpPr/>
          <p:nvPr/>
        </p:nvSpPr>
        <p:spPr>
          <a:xfrm>
            <a:off x="2230560" y="3727440"/>
            <a:ext cx="4599000" cy="52056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Rectangle 140"/>
          <p:cNvSpPr/>
          <p:nvPr/>
        </p:nvSpPr>
        <p:spPr>
          <a:xfrm>
            <a:off x="2230560" y="5668920"/>
            <a:ext cx="4856040" cy="52092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AutoShape 114"/>
          <p:cNvSpPr/>
          <p:nvPr/>
        </p:nvSpPr>
        <p:spPr>
          <a:xfrm>
            <a:off x="3895560" y="1677960"/>
            <a:ext cx="1981440" cy="77616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Rectangle 115"/>
          <p:cNvSpPr/>
          <p:nvPr/>
        </p:nvSpPr>
        <p:spPr>
          <a:xfrm>
            <a:off x="5286240" y="1679400"/>
            <a:ext cx="541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зервный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714680" y="1285920"/>
            <a:ext cx="5613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4" name="Group 90"/>
          <p:cNvGrpSpPr/>
          <p:nvPr/>
        </p:nvGrpSpPr>
        <p:grpSpPr>
          <a:xfrm>
            <a:off x="3976560" y="4600440"/>
            <a:ext cx="1133280" cy="476280"/>
            <a:chOff x="3976560" y="4600440"/>
            <a:chExt cx="1133280" cy="476280"/>
          </a:xfrm>
        </p:grpSpPr>
        <p:sp>
          <p:nvSpPr>
            <p:cNvPr id="185" name="Cloud"/>
            <p:cNvSpPr/>
            <p:nvPr/>
          </p:nvSpPr>
          <p:spPr>
            <a:xfrm>
              <a:off x="3976560" y="4600440"/>
              <a:ext cx="1133280" cy="476280"/>
            </a:xfrm>
            <a:custGeom>
              <a:avLst/>
              <a:gdLst>
                <a:gd name="textAreaLeft" fmla="*/ 155520 w 1133280"/>
                <a:gd name="textAreaRight" fmla="*/ 896760 w 1133280"/>
                <a:gd name="textAreaTop" fmla="*/ 71640 h 476280"/>
                <a:gd name="textAreaBottom" fmla="*/ 382680 h 4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ecf5fe"/>
            </a:solidFill>
            <a:ln w="19080">
              <a:solidFill>
                <a:srgbClr val="86bb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4235040" y="4771440"/>
              <a:ext cx="61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тернет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87" name="Rectangle 29"/>
          <p:cNvSpPr/>
          <p:nvPr/>
        </p:nvSpPr>
        <p:spPr>
          <a:xfrm>
            <a:off x="7873920" y="1320840"/>
            <a:ext cx="922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Защищенные каналы связи (интранет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7539120" y="1397160"/>
            <a:ext cx="231840" cy="0"/>
          </a:xfrm>
          <a:prstGeom prst="line">
            <a:avLst/>
          </a:prstGeom>
          <a:ln w="12600">
            <a:solidFill>
              <a:srgbClr val="6e71f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7873920" y="1876320"/>
            <a:ext cx="922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Крипто- маршрутизаторы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0" name="Rectangle 36"/>
          <p:cNvSpPr/>
          <p:nvPr/>
        </p:nvSpPr>
        <p:spPr>
          <a:xfrm>
            <a:off x="7873920" y="2200320"/>
            <a:ext cx="82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Сертификация ФСБ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AutoShape 37"/>
          <p:cNvSpPr/>
          <p:nvPr/>
        </p:nvSpPr>
        <p:spPr>
          <a:xfrm>
            <a:off x="2120760" y="3649680"/>
            <a:ext cx="1981440" cy="65088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Rectangle 38"/>
          <p:cNvSpPr/>
          <p:nvPr/>
        </p:nvSpPr>
        <p:spPr>
          <a:xfrm>
            <a:off x="2181240" y="3708360"/>
            <a:ext cx="1119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центр обработки 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и анализа данных (РЦОД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3" name="Picture 19" descr="database"/>
          <p:cNvPicPr/>
          <p:nvPr/>
        </p:nvPicPr>
        <p:blipFill>
          <a:blip r:embed="rId2"/>
          <a:stretch/>
        </p:blipFill>
        <p:spPr>
          <a:xfrm>
            <a:off x="3281400" y="3805200"/>
            <a:ext cx="509400" cy="47484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83"/>
          <p:cNvGrpSpPr/>
          <p:nvPr/>
        </p:nvGrpSpPr>
        <p:grpSpPr>
          <a:xfrm>
            <a:off x="1768320" y="5407200"/>
            <a:ext cx="1214280" cy="1109520"/>
            <a:chOff x="1768320" y="5407200"/>
            <a:chExt cx="1214280" cy="1109520"/>
          </a:xfrm>
        </p:grpSpPr>
        <p:sp>
          <p:nvSpPr>
            <p:cNvPr id="195" name="AutoShape 41"/>
            <p:cNvSpPr/>
            <p:nvPr/>
          </p:nvSpPr>
          <p:spPr>
            <a:xfrm>
              <a:off x="176832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182376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97" name="Picture 11" descr="note_book"/>
            <p:cNvPicPr/>
            <p:nvPr/>
          </p:nvPicPr>
          <p:blipFill>
            <a:blip r:embed="rId3"/>
            <a:stretch/>
          </p:blipFill>
          <p:spPr>
            <a:xfrm>
              <a:off x="239040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2" descr="template"/>
            <p:cNvPicPr/>
            <p:nvPr/>
          </p:nvPicPr>
          <p:blipFill>
            <a:blip r:embed="rId4"/>
            <a:stretch/>
          </p:blipFill>
          <p:spPr>
            <a:xfrm>
              <a:off x="194436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AutoShape 60"/>
          <p:cNvSpPr/>
          <p:nvPr/>
        </p:nvSpPr>
        <p:spPr>
          <a:xfrm>
            <a:off x="5079960" y="3649680"/>
            <a:ext cx="1981080" cy="65088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Rectangle 61"/>
          <p:cNvSpPr/>
          <p:nvPr/>
        </p:nvSpPr>
        <p:spPr>
          <a:xfrm flipH="1">
            <a:off x="5458680" y="3708360"/>
            <a:ext cx="1012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центр обработки и анализа данных (РЦОД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01" name="Picture 62" descr="database"/>
          <p:cNvPicPr/>
          <p:nvPr/>
        </p:nvPicPr>
        <p:blipFill>
          <a:blip r:embed="rId5"/>
          <a:stretch/>
        </p:blipFill>
        <p:spPr>
          <a:xfrm>
            <a:off x="6532560" y="3805200"/>
            <a:ext cx="509760" cy="47484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84"/>
          <p:cNvGrpSpPr/>
          <p:nvPr/>
        </p:nvGrpSpPr>
        <p:grpSpPr>
          <a:xfrm>
            <a:off x="3149640" y="5407200"/>
            <a:ext cx="1214280" cy="1109520"/>
            <a:chOff x="3149640" y="5407200"/>
            <a:chExt cx="1214280" cy="1109520"/>
          </a:xfrm>
        </p:grpSpPr>
        <p:sp>
          <p:nvSpPr>
            <p:cNvPr id="203" name="AutoShape 65"/>
            <p:cNvSpPr/>
            <p:nvPr/>
          </p:nvSpPr>
          <p:spPr>
            <a:xfrm>
              <a:off x="314964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Rectangle 66"/>
            <p:cNvSpPr/>
            <p:nvPr/>
          </p:nvSpPr>
          <p:spPr>
            <a:xfrm>
              <a:off x="320508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05" name="Picture 67" descr="note_book"/>
            <p:cNvPicPr/>
            <p:nvPr/>
          </p:nvPicPr>
          <p:blipFill>
            <a:blip r:embed="rId6"/>
            <a:stretch/>
          </p:blipFill>
          <p:spPr>
            <a:xfrm>
              <a:off x="3772080" y="5970600"/>
              <a:ext cx="49824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68" descr="template"/>
            <p:cNvPicPr/>
            <p:nvPr/>
          </p:nvPicPr>
          <p:blipFill>
            <a:blip r:embed="rId7"/>
            <a:stretch/>
          </p:blipFill>
          <p:spPr>
            <a:xfrm>
              <a:off x="332604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Group 85"/>
          <p:cNvGrpSpPr/>
          <p:nvPr/>
        </p:nvGrpSpPr>
        <p:grpSpPr>
          <a:xfrm>
            <a:off x="4651200" y="5407200"/>
            <a:ext cx="1214280" cy="1109520"/>
            <a:chOff x="4651200" y="5407200"/>
            <a:chExt cx="1214280" cy="1109520"/>
          </a:xfrm>
        </p:grpSpPr>
        <p:sp>
          <p:nvSpPr>
            <p:cNvPr id="208" name="AutoShape 70"/>
            <p:cNvSpPr/>
            <p:nvPr/>
          </p:nvSpPr>
          <p:spPr>
            <a:xfrm>
              <a:off x="465120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Rectangle 71"/>
            <p:cNvSpPr/>
            <p:nvPr/>
          </p:nvSpPr>
          <p:spPr>
            <a:xfrm>
              <a:off x="470664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10" name="Picture 72" descr="note_book"/>
            <p:cNvPicPr/>
            <p:nvPr/>
          </p:nvPicPr>
          <p:blipFill>
            <a:blip r:embed="rId8"/>
            <a:stretch/>
          </p:blipFill>
          <p:spPr>
            <a:xfrm>
              <a:off x="527328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73" descr="template"/>
            <p:cNvPicPr/>
            <p:nvPr/>
          </p:nvPicPr>
          <p:blipFill>
            <a:blip r:embed="rId9"/>
            <a:stretch/>
          </p:blipFill>
          <p:spPr>
            <a:xfrm>
              <a:off x="4827240" y="5991480"/>
              <a:ext cx="40032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86"/>
          <p:cNvGrpSpPr/>
          <p:nvPr/>
        </p:nvGrpSpPr>
        <p:grpSpPr>
          <a:xfrm>
            <a:off x="6033960" y="5407200"/>
            <a:ext cx="1214280" cy="1109520"/>
            <a:chOff x="6033960" y="5407200"/>
            <a:chExt cx="1214280" cy="1109520"/>
          </a:xfrm>
        </p:grpSpPr>
        <p:sp>
          <p:nvSpPr>
            <p:cNvPr id="213" name="AutoShape 75"/>
            <p:cNvSpPr/>
            <p:nvPr/>
          </p:nvSpPr>
          <p:spPr>
            <a:xfrm>
              <a:off x="603396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76"/>
            <p:cNvSpPr/>
            <p:nvPr/>
          </p:nvSpPr>
          <p:spPr>
            <a:xfrm>
              <a:off x="6089400" y="5438880"/>
              <a:ext cx="1117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15" name="Picture 77" descr="note_book"/>
            <p:cNvPicPr/>
            <p:nvPr/>
          </p:nvPicPr>
          <p:blipFill>
            <a:blip r:embed="rId10"/>
            <a:stretch/>
          </p:blipFill>
          <p:spPr>
            <a:xfrm>
              <a:off x="665604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78" descr="template"/>
            <p:cNvPicPr/>
            <p:nvPr/>
          </p:nvPicPr>
          <p:blipFill>
            <a:blip r:embed="rId11"/>
            <a:stretch/>
          </p:blipFill>
          <p:spPr>
            <a:xfrm>
              <a:off x="621000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Group 89"/>
          <p:cNvGrpSpPr/>
          <p:nvPr/>
        </p:nvGrpSpPr>
        <p:grpSpPr>
          <a:xfrm>
            <a:off x="3976560" y="2830680"/>
            <a:ext cx="1133280" cy="475920"/>
            <a:chOff x="3976560" y="2830680"/>
            <a:chExt cx="1133280" cy="475920"/>
          </a:xfrm>
        </p:grpSpPr>
        <p:sp>
          <p:nvSpPr>
            <p:cNvPr id="218" name="Cloud"/>
            <p:cNvSpPr/>
            <p:nvPr/>
          </p:nvSpPr>
          <p:spPr>
            <a:xfrm>
              <a:off x="3976560" y="2830680"/>
              <a:ext cx="1133280" cy="475920"/>
            </a:xfrm>
            <a:custGeom>
              <a:avLst/>
              <a:gdLst>
                <a:gd name="textAreaLeft" fmla="*/ 155520 w 1133280"/>
                <a:gd name="textAreaRight" fmla="*/ 896760 w 1133280"/>
                <a:gd name="textAreaTop" fmla="*/ 71640 h 475920"/>
                <a:gd name="textAreaBottom" fmla="*/ 382320 h 47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ecf5fe"/>
            </a:solidFill>
            <a:ln w="19080">
              <a:solidFill>
                <a:srgbClr val="86bb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Rectangle 88"/>
            <p:cNvSpPr/>
            <p:nvPr/>
          </p:nvSpPr>
          <p:spPr>
            <a:xfrm>
              <a:off x="4235040" y="3001680"/>
              <a:ext cx="61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тернет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cxnSp>
        <p:nvCxnSpPr>
          <p:cNvPr id="220" name="AutoShape 92"/>
          <p:cNvCxnSpPr/>
          <p:nvPr/>
        </p:nvCxnSpPr>
        <p:spPr>
          <a:xfrm flipH="1">
            <a:off x="4542840" y="2668680"/>
            <a:ext cx="1080" cy="180000"/>
          </a:xfrm>
          <a:prstGeom prst="straightConnector1">
            <a:avLst/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21" name="AutoShape 93"/>
          <p:cNvCxnSpPr/>
          <p:nvPr/>
        </p:nvCxnSpPr>
        <p:spPr>
          <a:xfrm flipH="1" flipV="1" rot="5400000">
            <a:off x="4072680" y="3089520"/>
            <a:ext cx="244800" cy="697680"/>
          </a:xfrm>
          <a:prstGeom prst="bentConnector3">
            <a:avLst>
              <a:gd name="adj1" fmla="val 51988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22" name="Picture 94" descr="firewall"/>
          <p:cNvPicPr/>
          <p:nvPr/>
        </p:nvPicPr>
        <p:blipFill>
          <a:blip r:embed="rId12"/>
          <a:stretch/>
        </p:blipFill>
        <p:spPr>
          <a:xfrm>
            <a:off x="3728880" y="35607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7" descr="firewall"/>
          <p:cNvPicPr/>
          <p:nvPr/>
        </p:nvPicPr>
        <p:blipFill>
          <a:blip r:embed="rId13"/>
          <a:stretch/>
        </p:blipFill>
        <p:spPr>
          <a:xfrm>
            <a:off x="5210280" y="3560760"/>
            <a:ext cx="234720" cy="257040"/>
          </a:xfrm>
          <a:prstGeom prst="rect">
            <a:avLst/>
          </a:prstGeom>
          <a:ln w="0">
            <a:noFill/>
          </a:ln>
        </p:spPr>
      </p:pic>
      <p:cxnSp>
        <p:nvCxnSpPr>
          <p:cNvPr id="224" name="AutoShape 98"/>
          <p:cNvCxnSpPr/>
          <p:nvPr/>
        </p:nvCxnSpPr>
        <p:spPr>
          <a:xfrm flipH="1" rot="16200000">
            <a:off x="4813560" y="3045600"/>
            <a:ext cx="244800" cy="784800"/>
          </a:xfrm>
          <a:prstGeom prst="bentConnector3">
            <a:avLst>
              <a:gd name="adj1" fmla="val 48011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25" name="Picture 99" descr="firewall"/>
          <p:cNvPicPr/>
          <p:nvPr/>
        </p:nvPicPr>
        <p:blipFill>
          <a:blip r:embed="rId14"/>
          <a:stretch/>
        </p:blipFill>
        <p:spPr>
          <a:xfrm>
            <a:off x="2676600" y="5295960"/>
            <a:ext cx="234720" cy="257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0" descr="firewall"/>
          <p:cNvPicPr/>
          <p:nvPr/>
        </p:nvPicPr>
        <p:blipFill>
          <a:blip r:embed="rId15"/>
          <a:stretch/>
        </p:blipFill>
        <p:spPr>
          <a:xfrm>
            <a:off x="4064040" y="52959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1" descr="firewall"/>
          <p:cNvPicPr/>
          <p:nvPr/>
        </p:nvPicPr>
        <p:blipFill>
          <a:blip r:embed="rId16"/>
          <a:stretch/>
        </p:blipFill>
        <p:spPr>
          <a:xfrm>
            <a:off x="5575320" y="52959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2" descr="firewall"/>
          <p:cNvPicPr/>
          <p:nvPr/>
        </p:nvPicPr>
        <p:blipFill>
          <a:blip r:embed="rId17"/>
          <a:stretch/>
        </p:blipFill>
        <p:spPr>
          <a:xfrm>
            <a:off x="6946920" y="5295960"/>
            <a:ext cx="235080" cy="257040"/>
          </a:xfrm>
          <a:prstGeom prst="rect">
            <a:avLst/>
          </a:prstGeom>
          <a:ln w="0">
            <a:noFill/>
          </a:ln>
        </p:spPr>
      </p:pic>
      <p:cxnSp>
        <p:nvCxnSpPr>
          <p:cNvPr id="229" name="AutoShape 104"/>
          <p:cNvCxnSpPr/>
          <p:nvPr/>
        </p:nvCxnSpPr>
        <p:spPr>
          <a:xfrm flipH="1" rot="16200000">
            <a:off x="4083840" y="4158000"/>
            <a:ext cx="222840" cy="697680"/>
          </a:xfrm>
          <a:prstGeom prst="bentConnector3">
            <a:avLst>
              <a:gd name="adj1" fmla="val 45631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30" name="Picture 105" descr="firewall"/>
          <p:cNvPicPr/>
          <p:nvPr/>
        </p:nvPicPr>
        <p:blipFill>
          <a:blip r:embed="rId18"/>
          <a:stretch/>
        </p:blipFill>
        <p:spPr>
          <a:xfrm>
            <a:off x="3728880" y="4138560"/>
            <a:ext cx="235080" cy="25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6" descr="firewall"/>
          <p:cNvPicPr/>
          <p:nvPr/>
        </p:nvPicPr>
        <p:blipFill>
          <a:blip r:embed="rId19"/>
          <a:stretch/>
        </p:blipFill>
        <p:spPr>
          <a:xfrm>
            <a:off x="5210280" y="4138560"/>
            <a:ext cx="234720" cy="257400"/>
          </a:xfrm>
          <a:prstGeom prst="rect">
            <a:avLst/>
          </a:prstGeom>
          <a:ln w="0">
            <a:noFill/>
          </a:ln>
        </p:spPr>
      </p:pic>
      <p:cxnSp>
        <p:nvCxnSpPr>
          <p:cNvPr id="232" name="AutoShape 107"/>
          <p:cNvCxnSpPr/>
          <p:nvPr/>
        </p:nvCxnSpPr>
        <p:spPr>
          <a:xfrm flipH="1" flipV="1" rot="5400000">
            <a:off x="4824360" y="4114440"/>
            <a:ext cx="222840" cy="784800"/>
          </a:xfrm>
          <a:prstGeom prst="bentConnector3">
            <a:avLst>
              <a:gd name="adj1" fmla="val 53559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3" name="AutoShape 108"/>
          <p:cNvCxnSpPr/>
          <p:nvPr/>
        </p:nvCxnSpPr>
        <p:spPr>
          <a:xfrm flipH="1" flipV="1" rot="5400000">
            <a:off x="3563640" y="4316040"/>
            <a:ext cx="210240" cy="1750320"/>
          </a:xfrm>
          <a:prstGeom prst="bentConnector3">
            <a:avLst>
              <a:gd name="adj1" fmla="val 5214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4" name="AutoShape 109"/>
          <p:cNvCxnSpPr/>
          <p:nvPr/>
        </p:nvCxnSpPr>
        <p:spPr>
          <a:xfrm flipH="1" rot="16200000">
            <a:off x="5699160" y="3930480"/>
            <a:ext cx="210240" cy="252144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5" name="AutoShape 110"/>
          <p:cNvCxnSpPr/>
          <p:nvPr/>
        </p:nvCxnSpPr>
        <p:spPr>
          <a:xfrm flipH="1" rot="16200000">
            <a:off x="5013360" y="4616280"/>
            <a:ext cx="210240" cy="114984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6" name="AutoShape 111"/>
          <p:cNvCxnSpPr/>
          <p:nvPr/>
        </p:nvCxnSpPr>
        <p:spPr>
          <a:xfrm rot="5400000">
            <a:off x="4257360" y="5010120"/>
            <a:ext cx="210240" cy="36252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grpSp>
        <p:nvGrpSpPr>
          <p:cNvPr id="237" name="Group 117"/>
          <p:cNvGrpSpPr/>
          <p:nvPr/>
        </p:nvGrpSpPr>
        <p:grpSpPr>
          <a:xfrm>
            <a:off x="3632040" y="1811160"/>
            <a:ext cx="1981080" cy="857160"/>
            <a:chOff x="3632040" y="1811160"/>
            <a:chExt cx="1981080" cy="857160"/>
          </a:xfrm>
        </p:grpSpPr>
        <p:sp>
          <p:nvSpPr>
            <p:cNvPr id="238" name="AutoShape 5"/>
            <p:cNvSpPr/>
            <p:nvPr/>
          </p:nvSpPr>
          <p:spPr>
            <a:xfrm>
              <a:off x="3632040" y="1811160"/>
              <a:ext cx="1981080" cy="77616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3692160" y="1908000"/>
              <a:ext cx="1119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едеральный центр обработки и анализа данных (ФЦОД)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40" name="Picture 10" descr="databases"/>
            <p:cNvPicPr/>
            <p:nvPr/>
          </p:nvPicPr>
          <p:blipFill>
            <a:blip r:embed="rId20"/>
            <a:stretch/>
          </p:blipFill>
          <p:spPr>
            <a:xfrm>
              <a:off x="4902120" y="1987200"/>
              <a:ext cx="6746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91" descr="firewall"/>
            <p:cNvPicPr/>
            <p:nvPr/>
          </p:nvPicPr>
          <p:blipFill>
            <a:blip r:embed="rId21"/>
            <a:stretch/>
          </p:blipFill>
          <p:spPr>
            <a:xfrm>
              <a:off x="4425840" y="2411280"/>
              <a:ext cx="23472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113"/>
            <p:cNvSpPr/>
            <p:nvPr/>
          </p:nvSpPr>
          <p:spPr>
            <a:xfrm>
              <a:off x="5038560" y="1839600"/>
              <a:ext cx="541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новной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43" name="Picture 118" descr="firewall"/>
          <p:cNvPicPr/>
          <p:nvPr/>
        </p:nvPicPr>
        <p:blipFill>
          <a:blip r:embed="rId22"/>
          <a:stretch/>
        </p:blipFill>
        <p:spPr>
          <a:xfrm>
            <a:off x="7550280" y="1884240"/>
            <a:ext cx="209520" cy="2286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5"/>
          <p:cNvSpPr/>
          <p:nvPr/>
        </p:nvSpPr>
        <p:spPr>
          <a:xfrm>
            <a:off x="324000" y="1454040"/>
            <a:ext cx="1150920" cy="169704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Rectangle 33"/>
          <p:cNvSpPr/>
          <p:nvPr/>
        </p:nvSpPr>
        <p:spPr>
          <a:xfrm>
            <a:off x="372960" y="1495440"/>
            <a:ext cx="10429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800"/>
            </a:b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ФОМС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Rectangle 123"/>
          <p:cNvSpPr/>
          <p:nvPr/>
        </p:nvSpPr>
        <p:spPr>
          <a:xfrm>
            <a:off x="324000" y="5149800"/>
            <a:ext cx="1150920" cy="124452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Rectangle 120"/>
          <p:cNvSpPr/>
          <p:nvPr/>
        </p:nvSpPr>
        <p:spPr>
          <a:xfrm>
            <a:off x="380880" y="5483160"/>
            <a:ext cx="103500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формацион-ная система пенсионного фонда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Rectangle 122"/>
          <p:cNvSpPr/>
          <p:nvPr/>
        </p:nvSpPr>
        <p:spPr>
          <a:xfrm>
            <a:off x="324000" y="3449520"/>
            <a:ext cx="1150920" cy="143532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Rectangle 121"/>
          <p:cNvSpPr/>
          <p:nvPr/>
        </p:nvSpPr>
        <p:spPr>
          <a:xfrm>
            <a:off x="415800" y="3805200"/>
            <a:ext cx="965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те-грированная информацион-ная система ФСС Росси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AutoShape 127"/>
          <p:cNvSpPr/>
          <p:nvPr/>
        </p:nvSpPr>
        <p:spPr>
          <a:xfrm rot="5400000">
            <a:off x="1412280" y="2706480"/>
            <a:ext cx="177840" cy="507960"/>
          </a:xfrm>
          <a:prstGeom prst="upDownArrow">
            <a:avLst>
              <a:gd name="adj1" fmla="val 58935"/>
              <a:gd name="adj2" fmla="val 50487"/>
            </a:avLst>
          </a:prstGeom>
          <a:blipFill rotWithShape="0">
            <a:blip r:embed="rId23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AutoShape 128"/>
          <p:cNvSpPr/>
          <p:nvPr/>
        </p:nvSpPr>
        <p:spPr>
          <a:xfrm rot="5400000">
            <a:off x="1412280" y="4324320"/>
            <a:ext cx="177840" cy="507960"/>
          </a:xfrm>
          <a:prstGeom prst="upDownArrow">
            <a:avLst>
              <a:gd name="adj1" fmla="val 58935"/>
              <a:gd name="adj2" fmla="val 50487"/>
            </a:avLst>
          </a:prstGeom>
          <a:blipFill rotWithShape="0">
            <a:blip r:embed="rId24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AutoShape 129"/>
          <p:cNvSpPr/>
          <p:nvPr/>
        </p:nvSpPr>
        <p:spPr>
          <a:xfrm rot="5400000">
            <a:off x="1412640" y="5873760"/>
            <a:ext cx="177480" cy="507960"/>
          </a:xfrm>
          <a:prstGeom prst="upDownArrow">
            <a:avLst>
              <a:gd name="adj1" fmla="val 58935"/>
              <a:gd name="adj2" fmla="val 50590"/>
            </a:avLst>
          </a:prstGeom>
          <a:blipFill rotWithShape="0">
            <a:blip r:embed="rId25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131"/>
          <p:cNvSpPr/>
          <p:nvPr/>
        </p:nvSpPr>
        <p:spPr>
          <a:xfrm>
            <a:off x="4475160" y="3798720"/>
            <a:ext cx="30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…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Rectangle 132"/>
          <p:cNvSpPr/>
          <p:nvPr/>
        </p:nvSpPr>
        <p:spPr>
          <a:xfrm>
            <a:off x="4356000" y="5724360"/>
            <a:ext cx="30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…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AutoShape 133"/>
          <p:cNvSpPr/>
          <p:nvPr/>
        </p:nvSpPr>
        <p:spPr>
          <a:xfrm>
            <a:off x="7383600" y="3727440"/>
            <a:ext cx="1133280" cy="512640"/>
          </a:xfrm>
          <a:prstGeom prst="roundRect">
            <a:avLst>
              <a:gd name="adj" fmla="val 16667"/>
            </a:avLst>
          </a:prstGeom>
          <a:solidFill>
            <a:srgbClr val="fff8f3"/>
          </a:soli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Всего 86 РЦОДов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6" name="AutoShape 138"/>
          <p:cNvSpPr/>
          <p:nvPr/>
        </p:nvSpPr>
        <p:spPr>
          <a:xfrm>
            <a:off x="7575480" y="5759280"/>
            <a:ext cx="1133640" cy="513000"/>
          </a:xfrm>
          <a:prstGeom prst="roundRect">
            <a:avLst>
              <a:gd name="adj" fmla="val 16667"/>
            </a:avLst>
          </a:prstGeom>
          <a:solidFill>
            <a:srgbClr val="fff8f3"/>
          </a:soli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Всего </a:t>
            </a:r>
            <a:r>
              <a:rPr b="1" lang="en-US" sz="800" spc="-1" strike="noStrike">
                <a:solidFill>
                  <a:srgbClr val="1d528d"/>
                </a:solidFill>
                <a:latin typeface="Arial"/>
                <a:ea typeface="Arial"/>
              </a:rPr>
              <a:t>≈ 1</a:t>
            </a: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3,</a:t>
            </a:r>
            <a:r>
              <a:rPr b="1" lang="en-US" sz="800" spc="-1" strike="noStrike">
                <a:solidFill>
                  <a:srgbClr val="1d528d"/>
                </a:solidFill>
                <a:latin typeface="Arial"/>
                <a:ea typeface="Arial"/>
              </a:rPr>
              <a:t>2 </a:t>
            </a: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тысяч ЛПУ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Rectangle 139"/>
          <p:cNvSpPr/>
          <p:nvPr/>
        </p:nvSpPr>
        <p:spPr>
          <a:xfrm>
            <a:off x="7472520" y="4302000"/>
            <a:ext cx="12855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83 субъекта РФ + Байконур + по 1 дополнительному в Москве и Московской област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Rectangle 143"/>
          <p:cNvSpPr/>
          <p:nvPr/>
        </p:nvSpPr>
        <p:spPr>
          <a:xfrm>
            <a:off x="7554960" y="2219400"/>
            <a:ext cx="199800" cy="16812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AutoShape 2"/>
          <p:cNvSpPr/>
          <p:nvPr/>
        </p:nvSpPr>
        <p:spPr>
          <a:xfrm rot="5400000">
            <a:off x="7572960" y="2450160"/>
            <a:ext cx="161640" cy="319320"/>
          </a:xfrm>
          <a:prstGeom prst="upDownArrow">
            <a:avLst>
              <a:gd name="adj1" fmla="val 58824"/>
              <a:gd name="adj2" fmla="val 49141"/>
            </a:avLst>
          </a:prstGeom>
          <a:blipFill rotWithShape="0">
            <a:blip r:embed="rId26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7873920" y="2540160"/>
            <a:ext cx="960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Интеграция с действующими (разрабатывае-мыми) системам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1" name="Picture 13" descr="C:\DATA\Мои документы\Мои рисунки\293551133787556.jpg"/>
          <p:cNvPicPr/>
          <p:nvPr/>
        </p:nvPicPr>
        <p:blipFill>
          <a:blip r:embed="rId27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6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блемы информатизации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7" name="Picture 2" descr="C:\Documents and Settings\Papa\Рабочий стол\3D_Business_Graphics_rep\stockxpertcom_id833299_size4.jpg"/>
          <p:cNvPicPr/>
          <p:nvPr/>
        </p:nvPicPr>
        <p:blipFill>
          <a:blip r:embed="rId2"/>
          <a:stretch/>
        </p:blipFill>
        <p:spPr>
          <a:xfrm>
            <a:off x="928800" y="1214280"/>
            <a:ext cx="7524720" cy="564372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7"/>
          <p:cNvSpPr/>
          <p:nvPr/>
        </p:nvSpPr>
        <p:spPr>
          <a:xfrm>
            <a:off x="285840" y="128592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единой системы идентификации пациентов  с рождения на протяжении всей жизн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жности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согласования принципов информационного обмена в интегрируемых системах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зние темпы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развития телекоммуникационной инфраструктуры  системы учреждений здравоохран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хватка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правового и программно-технического обеспечения конфиденциальности персональных медицинских данных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Номер слайда 4"/>
          <p:cNvSpPr/>
          <p:nvPr/>
        </p:nvSpPr>
        <p:spPr>
          <a:xfrm>
            <a:off x="3824280" y="66898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3680-3607-413A-B2C5-F5D89ED50919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Прямоугольник 9"/>
          <p:cNvSpPr/>
          <p:nvPr/>
        </p:nvSpPr>
        <p:spPr>
          <a:xfrm>
            <a:off x="428760" y="1357200"/>
            <a:ext cx="84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ерсоно-центрированная парадигма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ведение БД МИС с общероссийским идентификаторами гражданина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основа для интеграции медицинских сведений в рамках единого информационного медицинского пространства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1:43:54Z</dcterms:created>
  <dc:creator>ADexter</dc:creator>
  <dc:description/>
  <dc:language>en-US</dc:language>
  <cp:lastModifiedBy>LEGION</cp:lastModifiedBy>
  <dcterms:modified xsi:type="dcterms:W3CDTF">2015-11-27T12:49:21Z</dcterms:modified>
  <cp:revision>168</cp:revision>
  <dc:subject/>
  <dc:title>СПб МИАЦ,26.03.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4b000000000001023600</vt:lpwstr>
  </property>
</Properties>
</file>