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2.jpeg" ContentType="image/jpeg"/>
  <Override PartName="/ppt/media/image57.png" ContentType="image/png"/>
  <Override PartName="/ppt/media/image47.png" ContentType="image/png"/>
  <Override PartName="/ppt/media/image1.jpeg" ContentType="image/jpeg"/>
  <Override PartName="/ppt/media/image14.png" ContentType="image/png"/>
  <Override PartName="/ppt/media/image10.jpeg" ContentType="image/jpeg"/>
  <Override PartName="/ppt/media/image19.png" ContentType="image/png"/>
  <Override PartName="/ppt/media/image61.png" ContentType="image/png"/>
  <Override PartName="/ppt/media/image71.png" ContentType="image/png"/>
  <Override PartName="/ppt/media/image63.jpeg" ContentType="image/jpeg"/>
  <Override PartName="/ppt/media/image29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11.jpeg" ContentType="image/jpeg"/>
  <Override PartName="/ppt/media/image72.png" ContentType="image/png"/>
  <Override PartName="/ppt/media/image67.png" ContentType="image/png"/>
  <Override PartName="/ppt/media/image30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66.png" ContentType="image/png"/>
  <Override PartName="/ppt/media/image62.png" ContentType="image/png"/>
  <Override PartName="/ppt/media/image27.png" ContentType="image/png"/>
  <Override PartName="/ppt/media/image60.jpeg" ContentType="image/jpeg"/>
  <Override PartName="/ppt/media/image64.png" ContentType="image/png"/>
  <Override PartName="/ppt/media/image21.jpeg" ContentType="image/jpeg"/>
  <Override PartName="/ppt/media/image65.png" ContentType="image/png"/>
  <Override PartName="/ppt/media/image24.png" ContentType="image/png"/>
  <Override PartName="/ppt/media/image73.jpeg" ContentType="image/jpeg"/>
  <Override PartName="/ppt/media/image15.png" ContentType="image/png"/>
  <Override PartName="/ppt/media/image25.png" ContentType="image/png"/>
  <Override PartName="/ppt/media/image40.png" ContentType="image/png"/>
  <Override PartName="/ppt/media/image18.png" ContentType="image/png"/>
  <Override PartName="/ppt/media/image6.png" ContentType="image/png"/>
  <Override PartName="/ppt/media/image7.jpeg" ContentType="image/jpeg"/>
  <Override PartName="/ppt/media/image16.png" ContentType="image/png"/>
  <Override PartName="/ppt/media/image31.wmf" ContentType="image/x-wmf"/>
  <Override PartName="/ppt/media/image7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13.png" ContentType="image/png"/>
  <Override PartName="/ppt/media/image12.png" ContentType="image/png"/>
  <Override PartName="/ppt/media/image49.png" ContentType="image/png"/>
  <Override PartName="/ppt/media/image33.png" ContentType="image/png"/>
  <Override PartName="/ppt/media/image34.jpeg" ContentType="image/jpeg"/>
  <Override PartName="/ppt/media/image37.png" ContentType="image/png"/>
  <Override PartName="/ppt/media/image39.png" ContentType="image/png"/>
  <Override PartName="/ppt/media/image3.jpeg" ContentType="image/jpeg"/>
  <Override PartName="/ppt/media/image4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908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17E6-C51B-45F0-8E36-0C55B6C3FE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технологии в медицин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опросы информатизации в сфере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кстер А.П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б М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т-Петербу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е технологии в медицине.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ные вопросы информатизации в сфере здравоохранения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екстер А.П.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б М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анкт-Петербур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ая ба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"О персональных данных", № 152-ФЗ от 27.07.2006 г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утверждении Положения об обеспечении безопасности персональных данных при их обработке в информационных системах персональных данных, постановление Правительства РФ от 17.11.07 г. № 78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1 января 2010 г. все ИС персональных данных должны быть приведены в соответствие с требованиями закона "О персональных данных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ормативно-правовая баз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кон "О персональных данных", № 152-ФЗ от 27.07.2006 г.  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 утверждении Положения об обеспечении безопасности персональных данных при их обработке в информационных системах персональных данных, постановление Правительства РФ от 17.11.07 г. № 781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 1 января 2010 г. все ИС персональных данных должны быть приведены в соответствие с требованиями закона "О персональных данных"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азработана в полном объеме нормативная база для реализации законов "О персональных данных", а также "Основ законодательства ... об охране здоровья... ", "О медицинском страховании ... " в части ведения баз данных и использования ИКТ в здравоохранении (после изменений в 2006/7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единых стандартов идентификации объектов, кодирования и обмена медицинскими да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рмативно-правовых актах РФ в явном виде отсутствуют нормы и требования по ведению медицинских документов и автоматизированной обработке персональных данных пациента (кроме закона "О персональных данных", ст. 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БЛЕМЫ: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е разработана в полном объеме нормативная база для реализации законов "О персональных данных", а также "Основ законодательства ... об охране здоровья... ", "О медицинском страховании ... " в части ведения баз данных и использования ИКТ в здравоохранении (после изменений в 2006/7 гг.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ет единых стандартов идентификации объектов, кодирования и обмена медицинскими данны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 нормативно-правовых актах РФ в явном виде отсутствуют нормы и требования по ведению медицинских документов и автоматизированной обработке персональных данных пациента (кроме закона "О персональных данных", ст. 10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альное согласие пациента на обработку и передачу его персональных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ие пациента о целях, способах обработки его персональных данных, о лицах имеющих к ним доступ, а также о об их получении от третьи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егламентированы процедуры и форм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кументальное согласие пациента на обработку и передачу его персональных данных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ирование пациента о целях, способах обработки его персональных данных, о лицах имеющих к ним доступ, а также о об их получении от третьих ли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БЛЕМЫ: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е регламентированы процедуры и формы: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дрение Электронной Цифровой Подписи (ЭЦ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Санкт-Петербур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остоверяющий центр (УЦ) с федеральной кросс сертифика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УЦ для ИОГВ и подведомственной сети субъект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щено и установлено более 600 электронных цифровых подпис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учреждения Л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ститель руководителя учреждения Л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еры применения ЭЦП в 2008 г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подпись заявки на включение гражданина в регистр региональных льг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ача заявок на включение/исключение врачей из справочника Л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недрение Электронной Цифровой Подписи (ЭЦП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имер Санкт-Петербург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достоверяющий центр (УЦ) с федеральной кросс сертификацие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дин УЦ для ИОГВ и подведомственной сети субъекта РФ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ыпущено и установлено более 600 электронных цифровых подписей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уководитель учреждения ЛП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меститель руководителя учреждения ЛП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феры применения ЭЦП в 2008 год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и подпись заявки на включение гражданина в регистр региональных льготник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ача заявок на включение/исключение врачей из справочника ЛЛО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информатизации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шаги по развитию информатизации здравоохранения Санкт-Петербур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телекоммуникационной среды, позволяющей организовать работу врачей в едином информационном 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утверждение регионального стандарта коллективных электронных медицинских карт (ЭМК) и создание хранилища ЭМК для ведения и хранения информации о состоянии здоровья граждан и организации оказания им медицинск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развитие информационных систем позволяющих врачам Санкт-Петербурга работать в едином  информационном пространстве и непосредственно с хранилищем электронных медицинских карт при приеме паци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  официального информационного портала системы здравоохранения Санкт-Петербурга и городского центра обработки звонков граждан с целью реализации конституционного права граждан на информ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нормативных документов и регламентов для организации взаимодействия медицинских учреждений Санкт-Петербур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спективы информатизации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ажнейшие шаги по развитию информатизации здравоохранения Санкт-Петербург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звитие телекоммуникационной среды, позволяющей организовать работу врачей в едином информационном пространств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и утверждение регионального стандарта коллективных электронных медицинских карт (ЭМК) и создание хранилища ЭМК для ведения и хранения информации о состоянии здоровья граждан и организации оказания им медицинской помощ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и развитие информационных систем позволяющих врачам Санкт-Петербурга работать в едином  информационном пространстве и непосредственно с хранилищем электронных медицинских карт при приеме пациен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  официального информационного портала системы здравоохранения Санкт-Петербурга и городского центра обработки звонков граждан с целью реализации конституционного права граждан на информацию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зработка нормативных документов и регламентов для организации взаимодействия медицинских учреждений Санкт-Петербурга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ые области информатизации в системе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КОММУНИКАЦИОННАЯ С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АЯ ИНФРАСТРУКТУРА И БАЗОВЫЕ СЕРВИ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ОНАЛЬНО-ОРИЕНТИРОВА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РЕСУРСЫ И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лючевые области информатизации в системе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ЛЕКОММУНИКАЦИОННАЯ СРЕ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ХНОЛОГИЧЕСКАЯ ИНФРАСТРУКТУРА И БАЗОВЫЕ СЕРВИС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УНКЦИОНАЛЬНО-ОРИЕНТИРОВАНЫ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Е РЕСУРСЫ И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еобходимость управления стоимостью содержания ИТ-инфраструктуры учреждений здравоохранения и системы управления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ешение общих проблем и вопрос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интеграции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технических и технологически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вопросов распределения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технологическая организация выполняющ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Т-консалтинга на уровне Правительства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технологическая организация выполняющ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Т-консалтинга на уровне системы здравоохранения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б 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б М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. Необходимость управления стоимостью содержания ИТ-инфраструктуры учреждений здравоохранения и системы управления в целом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. Решение общих проблем и вопросов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блемы интеграции ресурс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шение технических и технологических пробле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шение вопросов распределения ответственно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ая технологическая организация выполняюща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ункции ИТ-консалтинга на уровне Правительства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ая технологическая организация выполняюща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ункции ИТ-консалтинга на уровне системы здравоохранения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б 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б М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ные государственные центры 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ТЕЛЬСТВО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здравоохран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нформатизации и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оциальной защ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раструктурные государственные центры 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АВИТЕЛЬСТВО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мит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 здравоохранению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мит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 информатизации и связ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мит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 социальной защит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льтисервисная сеть органов государственной в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Мультисервисная Телекоммуникационная Сеть ИОГВ СПб (ЕМТ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 Обработки Данных учреждений здравоохранения (Ц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изованная техническая поддержка учреждени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средств криптографической защиты информации (ЭЦП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ьный сервер электронной почты учреждени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омпоненты инфраструктуры системы управления здравоохранением СПб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ультисервисная сеть органов государственной вла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Мультисервисная Телекоммуникационная Сеть ИОГВ СПб (ЕМТС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Центр Обработки Данных учреждений здравоохранения (ЦОД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Централизованная техническая поддержка учреждени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спользование средств криптографической защиты информации (ЭЦП)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Центральный сервер электронной почты учреждени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ные компоненты инфраструктуры системы управления здравоохранением СПб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Мультисервисная Телекоммуникационная Сеть ИОГВ СПб (ЕМТ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оволоконная связь - 900 точек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ый модемный пул - 480 ли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данных – Vip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висы ЕМТС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товый сервер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товые unix-сервера учре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.обмен между ИС учре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Мультисервисная Телекоммуникационная Сеть ИОГВ СПб (ЕМТС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птоволоконная связь - 900 точек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зервный модемный пул - 480 ли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щита данных – VipNet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ервисы ЕМТС 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терне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чтовый сервер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чтовые unix-сервера учрежде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.обмен между ИС учрежде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информатизации в системе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системы мониторинга за состоянием здоровья населения и демографическими показа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для оперативного принятия адекватных лечебно-диагностических реш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для принятия адекватных управленческих реш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/собств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оль информатизации в системе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а системы мониторинга за состоянием здоровья населения и демографическими показателя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а для оперативного принятия адекватных лечебно-диагностических решений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а для принятия адекватных управленческих решений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о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ециалис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уководитель/собственник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откры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административны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хра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озита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и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усл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троль эффективно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открыт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ндартизация административных регламен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чет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нализ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бор и хранени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держк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Безопас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позитар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биль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ая услу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ратная связ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хра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вышение доступности и качества мед.помощ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работы органов гос.в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троль эффективно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чет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нализ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бор и хранени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«Повышение доступности и качества мед.помощи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Эффективность работы органов гос.вла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трол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медицинское статистическое 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оценки эффективности деятельности исполнительных органов власти в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взаимодействия исполнительных органов власти в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Национального проекта «Здоровь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социально-экономического развития СПб ( в т. ч. районов СП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стандартов проживания в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гигиенический мониторинг в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тические системы класса Business Intelligence и сопутствующие методические нарабо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ое медицинское статистическое наблюдени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оценки эффективности деятельности исполнительных органов власти в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взаимодействия исполнительных органов власти в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Национального проекта «Здоровье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социально-экономического развития СПб ( в т. ч. районов СПб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стандартов проживания в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циально-гигиенический мониторинг в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налитические системы класса Business Intelligence и сопутствующие методические наработк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альны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заимодействия с учреждениями здравоохранения и ИОГ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и ведение централизованного ресурса монитор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материалов информационного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результатов в виде отч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ал проектов управления здравоохран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управления документооборо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проектами в здравоохранении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городской календарь мероприятий в здравоохран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фонный справочник системы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ртальные технолог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взаимодействия с учреждениями здравоохранения и ИОГ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ормирование и ведение централизованного ресурса мониторин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нализ материалов информационного ресурс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ормирование результатов в виде отче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ртал проектов управления здравоохранение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истема управления документооборото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правление проектами в здравоохранении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щегородской календарь мероприятий в здравоохранен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лефонный справочник системы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иск информ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ий стол организатора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лендарь меро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данных (анкетиров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блиотека копий распоряжений и приказов ТОУ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ртуальный кабинет Главного специалиста ТОУЗ по направл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система по работе с обращениями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система учета потребности и планирования закупок обору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очники и классифика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лог/репозитарий веб-сервисов (UDD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й сервис по мониторингу эпидемиологической ситу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ел Льготного Лекарственного Обесп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й сервис регистрации лета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очные служ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справоч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озитарий интерактивных схем документооборота в системе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ая поддержка (Service Desk) учреждений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бочий стол организатора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алендарь мероприят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бор данных (анкетирование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Библиотека копий распоряжений и приказов ТОУЗ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иртуальный кабинет Главного специалиста ТОУЗ по направления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система по работе с обращениями граждан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система учета потребности и планирования закупок оборудова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равочники и классификатор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аталог/репозитарий веб-сервисов (UDDI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й сервис по мониторингу эпидемиологической ситу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зел Льготного Лекарственного Обеспеч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й сервис регистрации летально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равочные служб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дицин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позитарий интерактивных схем документооборота в системе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хническая поддержка (Service Desk) учреждений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 внедрения СЭД в ЛПУ районов 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дрение СЭД обеспечит повышение эффективности работы учреждений здравоохранения и ИОГВ, повышение эффективности межведомственного взаимодействия и работ по приему писем и обращений граждан за сч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я автоматизированной информационной системы обеспечивающ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ированный учет документов ИОГ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 к документам в соответствии с компетенцией участников документообор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я автоматизированного контроля исполнения документов и поруч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ированная рассылка в электронном виде контрольных документов и пору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ированная рассылка в электронном виде уведомлений о нарушении сроков исполнения документов и поруч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екты внедрения СЭД в ЛПУ районов горо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недрение СЭД обеспечит повышение эффективности работы учреждений здравоохранения и ИОГВ, повышение эффективности межведомственного взаимодействия и работ по приему писем и обращений граждан за счет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я автоматизированной информационной системы обеспечивающей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ированный учет документов ИОГВ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 к документам в соответствии с компетенцией участников документооборота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еспечения автоматизированного контроля исполнения документов и поручений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ированная рассылка в электронном виде контрольных документов и поручений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ированная рассылка в электронном виде уведомлений о нарушении сроков исполнения документов и поручений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рассмотрения и исполнения служебных документов, поручений руководителей, писем и устных обращений гражд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согласования проектов рабочих и распорядительных доку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оприятия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остижения поставленных целей необходимо решить следующие основные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учет и контроль движения док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дрить единую сквозную технологию контроля исполнения док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ить при передаче документов между участниками документооборота необходимость повторного, ручного ввода первичной регистрационной информации о документах, которые включены в СЭ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информационную поддержку принятия управляющих решений на основе оперативного доступа сотрудников учреждений здравоохранения и ИОГВ к любому документу, входящему в область их компетен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 внедрения СЭД в ЛПУ районов 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Цели проект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кращение сроков рассмотрения и исполнения служебных документов, поручений руководителей, писем и устных обращений граждан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кращение сроков согласования проектов рабочих и распорядительных документов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роприятия проект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ля достижения поставленных целей необходимо решить следующие основные задачи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еспечить учет и контроль движения документов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недрить единую сквозную технологию контроля исполнения документов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сключить при передаче документов между участниками документооборота необходимость повторного, ручного ввода первичной регистрационной информации о документах, которые включены в СЭД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еспечить информационную поддержку принятия управляющих решений на основе оперативного доступа сотрудников учреждений здравоохранения и ИОГВ к любому документу, входящему в область их компетенции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екты внедрения СЭД в ЛПУ районов горо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административны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озита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A архитектура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ML формат обмена да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проектами (PMI PMBO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централизованной тех.под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ЭЦ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ндартизация административных регламен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держк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Безопас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позитар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A архитектура реше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XML формат обмена данны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правление проектами (PMI PMBOK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централизованной тех.поддержк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спользование ЭЦП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A архитектура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вр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ческий учё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ий учё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учё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(МИ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город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 справочн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ждение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A архитектура реше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держка врач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правленческий учё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тистический учё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инансовый учё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че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дицинска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истема (МИС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ы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е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щегородски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е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ормативно справочная информац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чреждение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ламен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ламен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ламен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проектами на базе стандарта  ANSI PMI PMBOK Guide 3rd E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разработки информационных систем и информацион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внедрения ИС и ИР и техническая поддержка в соответствии с библиотеками ITI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правление проектами на базе стандарта  ANSI PMI PMBOK Guide 3rd Edition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ндарты разработки информационных систем и информационных ресурс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ндарты внедрения ИС и ИР и техническая поддержка в соответствии с библиотеками ITIL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ЛАМЕНТ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информатизации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ждение  стандартов в области «Информатизации здоровь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 «Государственной информационной системы персонифицированного учета оказания медицинской помощи гражданам Российской Федерац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 персональных данных гражданина Российской Федерации обрабатываемых в М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 федеральных и территориальных информационных медицински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новых правовых актов регламентирующих применение информационных систем в здравоохран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спективы информатизации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тверждение  стандартов в области «Информатизации здоровья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 «Государственной информационной системы персонифицированного учета оказания медицинской помощи гражданам Российской Федерации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щита  персональных данных гражданина Российской Федерации обрабатываемых в МИС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звитие  федеральных и территориальных информационных медицинских систе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инятие новых правовых актов регламентирующих применение информационных систем в здравоохранении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откры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и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открытость – основа нового имиджа российского государственного управлени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открыт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биль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ратная связ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открытость – основа нового имиджа российского государственного управления!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единого информационного пространства записи на приём в Л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гистрату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П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кио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all-цен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ись через Интер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МТ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ИС «Электронная регистрату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единого информационного пространства записи на приём в ЛП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 регистратур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ЛПУ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киоск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Call-центр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пись через Интерне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МТС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ИС «Электронная регистратура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ЕМТ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формационный кио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kos «Olimpic Garden», 26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МТС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й киоск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d528d"/>
                </a:solidFill>
                <a:latin typeface="Arial"/>
              </a:rPr>
              <a:t>Sokos «Olimpic Garden», 26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all цент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ячая линия по работе с обращениями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справоч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ая поддержка (Suppor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технологичная медицинск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*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*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*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*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*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ба 1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9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Vo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Call центр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рячая линия по работе с обращениями граждан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дицин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хническая поддержка (Support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ысокотехнологичная медицинская помощ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5*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5*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0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лужба 11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099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VoIP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е-правительства к мобильному правительст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 о статусе включения гражданина в регистр региональных льг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 о выдаче квоты на получение Высокотехнологичной (дорогостоящей) медицинск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Ц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СР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 е-правительства к мобильному правительств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лучение информации о статусе включения гражданина в регистр региональных льготник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лучение информации о выдаче квоты на получение Высокотехнологичной (дорогостоящей) медицинской помощ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ЭЦП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ЭСРН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и информ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информатизации системы управления здравоохранением Санкт-Петербурга на 2009-2011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информатизации системы обязательного медицинского страхова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е Правительства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цепции информатиз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цепция информатизации системы управления здравоохранением Санкт-Петербурга на 2009-2011 год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цепция информатизации системы обязательного медицинского страхова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становление Правительства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io@miac.zdrav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АСИБО!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d528d"/>
                </a:solidFill>
                <a:latin typeface="Arial"/>
              </a:rPr>
              <a:t>cio@miac.zdrav.spb.ru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ые национальные станд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Т 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636-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лектронная история болезн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лож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Т 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О/TС 1830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форматизация здоровья. Требования к архитектуре  электронных записей в здравоохранен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инятые национальные стандарт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Т Р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52636-200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«Электронная история болезни.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щие положения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Т Р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СО/TС 18308-200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«Информатизация здоровья. Требования к архитектуре  электронных записей в здравоохранении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развития системы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2020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ификация медицинских услуг на основе электронного паспорта здоровья (ЭМ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ИКТ инфраструктуры системы здравоохранения, в т.ч. создание региональных центров обработки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электронного обмена медицинскими да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ациональных реестров, справочников и классификаторов, национальной электронной медицинской библиот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я всех государственных информационных систем в сфере здравоохранения, социального развития и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работ по информатизации, основные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ЗСР ©, О.В.Сима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цепция развития системы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 2020 года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сонификация медицинских услуг на основе электронного паспорта здоровья (ЭМК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звитие ИКТ инфраструктуры системы здравоохранения, в т.ч. создание региональных центров обработки данных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электронного обмена медицинскими данны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национальных реестров, справочников и классификаторов, национальной электронной медицинской библиотек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теграция всех государственных информационных систем в сфере здравоохранения, социального развития и тру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аправления работ по информатизации, основные задачи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ЗСР ©, О.В.Симаков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жидаемые результаты информатизации здравоохранения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 РФ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вышение качества услуг за счет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увеличение времени на прием одного пациента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вышения доступности медицинской информации и образовательных ресурсов для граждан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уменьшения ошибок медицинского персонала, связанных с назначением лекарственных препаратов и выбором курса лечения (до 15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нижения временной нетрудоспособности граждан за счет снижения количества ошибок при постановке диагноза (до 20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нижения смертности на 5% и соответствующее увеличение средней продолжительности жизни населения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нижение финансовых издержек за счет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оличества дополнительно проводимых консультаций, обследований и анализов, назначаемых различными специалистами в отсутствие информации о ранее проведенных процедурах (до 14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ерерасхода медицинских расходных материалов и лекарственных препаратов (до 11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оличества повторных госпитализаций после лечения (до 20%)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оличества посещений пациентами медицинских учреждений (до 5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оличества некорректных финансовых операций в  системе медицинского страховани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окращение временных издержек за сче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втоматизации поиска необходимой информации (до 60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втоматизации ведения текущей документации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(до 20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вышения оперативности проведения консультаций, собрания анамнеза и постановки диагноза (до 25%)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окращение трудозатрат медицинского персонала за счет автоматизаци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иска и обработки справочной и документальной информаци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оступа  к персональной медицинской информации о пациент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дготовке документов (отчетов, заключений, рецептов и т.д.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оступа врачей к информации по новейшим методам лечения и новинкам в области лекарственных препаратов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ЗСР ©, О.В.Симаков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жидаемые результаты информатизации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 РФ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вышение качества услуг за сч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величение времени на прием одного пациента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вышения доступности медицинской информации и образовательных ресурсов для граждан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меньшения ошибок медицинского персонала, связанных с назначением лекарственных препаратов и выбором курса лечения (до 15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нижения временной нетрудоспособности граждан за счет снижения количества ошибок при постановке диагноза (до 20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нижения смертности на 5% и соответствующее увеличение средней продолжительности жизни населени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нижение финансовых издержек за сч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личества дополнительно проводимых консультаций, обследований и анализов, назначаемых различными специалистами в отсутствие информации о ранее проведенных процедурах (до 14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ерасхода медицинских расходных материалов и лекарственных препаратов (до 11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личества повторных госпитализаций после лечения (до 20%),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личества посещений пациентами медицинских учреждений (до 5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личества некорректных финансовых операций в  системе медицинского страхова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кращение временных издержек за сче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ации поиска необходимой информации (до 60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ации ведения текущей документации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(до 20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вышения оперативности проведения консультаций, собрания анамнеза и постановки диагноза (до 25%),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кращение трудозатрат медицинского персонала за счет автоматиз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иска и обработки справочной и документальной информ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а  к персональной медицинской информации о пациент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готовке документов (отчетов, заключений, рецептов и т.д.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а врачей к информации по новейшим методам лечения и новинкам в области лекарственных препара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ЗСР ©, О.В.Симаков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предлагаемых реше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2009–2011 г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информационная система персонифицированного учета оказания медицинской помощи гражданам РФ (Систе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енные каналы связи (интран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пто- маршрутиза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тификация ФС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й центр обработк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анализа данных (РЦ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й центр обработки и анализа данных (РЦ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интегрирован-ная система персонифици-рованного учета оказанной застрахован-ным гражданам медицинской помощ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М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информацион-ная система пенсионного фон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инте-грированная информацион-ная система ФСС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86 РЦ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≈ 13,2 тысяч Л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3 субъекта РФ + Байконур + по 1 дополнительному в Москве и Москов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я с действующими (разрабатывае-мыми) систем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ЗСР ©, О.В.Сима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раструктура предлагаемых решений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а 2009–2011 гг.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зервны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ая информационная система персонифицированного учета оказания медицинской помощи гражданам РФ (Система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щищенные каналы связи (интранет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рипто- маршрутизатор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ертификация ФС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иональный центр обработки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 анализа данных (РЦОД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иональный центр обработки и анализа данных (РЦОД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интегрирован-ная система персонифици-рованного учета оказанной застрахован-ным гражданам медицинской помощи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ОМС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информацион-ная система пенсионного фон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инте-грированная информацион-ная система ФСС Росс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сего 86 РЦОД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сего ≈ 13,2 тысяч ЛП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83 субъекта РФ + Байконур + по 1 дополнительному в Москве и Московской обла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теграция с действующими (разрабатывае-мыми) система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ЗСР ©, О.В.Симаков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информатизации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национальной концепции построения информационных медицинских систем на основе персоно-центрированного подхода (с использованием общепринятых стандарто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 единой системы идентификации пациентов  с рождения на протяжении всей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и согласования принципов информационного обмена в интегрируемых систем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ние темпы развития телекоммуникационной инфраструктуры  системы учреждени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хватка правового и программно-технического обеспечения конфиденциальности персональных медицинских данны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блемы информатизации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сутствие национальной концепции построения информационных медицинских систем на основе персоно-центрированного подхода (с использованием общепринятых стандартов)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сутствие  единой системы идентификации пациентов  с рождения на протяжении всей жизн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ложности согласования принципов информационного обмена в интегрируемых системах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изние темпы развития телекоммуникационной инфраструктуры  системы учреждени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ехватка правового и программно-технического обеспечения конфиденциальности персональных медицинских данных 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о-центрированная парадигма – ведение БД МИС с общероссийским идентификаторами гражданина – основа для интеграции медицинских сведений в рамках единого информационного медицинского простран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соно-центрированная парадигма – ведение БД МИС с общероссийским идентификаторами гражданина – основа для интеграции медицинских сведений в рамках единого информационного медицинского пространства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EF49-451C-4B73-AC8F-F3AC35009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8D50-176D-4E88-8273-505D55D4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9C43-D78E-4272-AA4E-EBED8431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6407-5191-4D55-8ABB-79B55A14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579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B0A9-2DF8-4685-B9F2-A41A30D0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8509-9AE0-4991-A85A-7E517682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9F80-57AB-4562-8F8B-C5AC7158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7B45-48E0-421D-B578-3710BDF3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579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40F9-3B07-41CE-8874-2E9AFE00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0FE2-C43C-49B1-81AC-6887013E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B5E7-E0AD-4CE2-88A7-32A3B2BF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44DB-9F49-4E18-BB15-6F00C1D9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6"/>
          <p:cNvSpPr/>
          <p:nvPr/>
        </p:nvSpPr>
        <p:spPr>
          <a:xfrm>
            <a:off x="0" y="360360"/>
            <a:ext cx="9148680" cy="900000"/>
          </a:xfrm>
          <a:custGeom>
            <a:avLst/>
            <a:gdLst/>
            <a:ahLst/>
            <a:rect l="l" t="t" r="r" b="b"/>
            <a:pathLst>
              <a:path w="5763" h="567">
                <a:moveTo>
                  <a:pt x="0" y="368"/>
                </a:moveTo>
                <a:lnTo>
                  <a:pt x="440" y="368"/>
                </a:lnTo>
                <a:lnTo>
                  <a:pt x="777" y="0"/>
                </a:lnTo>
                <a:lnTo>
                  <a:pt x="2162" y="0"/>
                </a:lnTo>
                <a:lnTo>
                  <a:pt x="2265" y="116"/>
                </a:lnTo>
                <a:lnTo>
                  <a:pt x="5756" y="112"/>
                </a:lnTo>
                <a:lnTo>
                  <a:pt x="5763" y="567"/>
                </a:lnTo>
                <a:lnTo>
                  <a:pt x="6" y="556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-9360" y="336600"/>
            <a:ext cx="9181800" cy="838080"/>
          </a:xfrm>
          <a:custGeom>
            <a:avLst/>
            <a:gdLst>
              <a:gd name="textAreaLeft" fmla="*/ 0 w 9181800"/>
              <a:gd name="textAreaRight" fmla="*/ 9182160 w 9181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84" h="528">
                <a:moveTo>
                  <a:pt x="449" y="370"/>
                </a:moveTo>
                <a:lnTo>
                  <a:pt x="768" y="1"/>
                </a:lnTo>
                <a:lnTo>
                  <a:pt x="2158" y="0"/>
                </a:lnTo>
                <a:lnTo>
                  <a:pt x="2258" y="115"/>
                </a:lnTo>
                <a:lnTo>
                  <a:pt x="5784" y="115"/>
                </a:lnTo>
                <a:lnTo>
                  <a:pt x="5779" y="528"/>
                </a:lnTo>
                <a:lnTo>
                  <a:pt x="0" y="519"/>
                </a:lnTo>
                <a:lnTo>
                  <a:pt x="0" y="371"/>
                </a:ln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b1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7009920" y="2890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790960" y="653688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672000" y="6536880"/>
            <a:ext cx="2133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11E1-9A2C-45AE-A339-EC6DE2F5DABC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7"/>
          <p:cNvGrpSpPr/>
          <p:nvPr/>
        </p:nvGrpSpPr>
        <p:grpSpPr>
          <a:xfrm>
            <a:off x="-9360" y="2708280"/>
            <a:ext cx="9183600" cy="1501920"/>
            <a:chOff x="-9360" y="2708280"/>
            <a:chExt cx="9183600" cy="1501920"/>
          </a:xfrm>
        </p:grpSpPr>
        <p:sp>
          <p:nvSpPr>
            <p:cNvPr id="44" name="Freeform 18"/>
            <p:cNvSpPr/>
            <p:nvPr/>
          </p:nvSpPr>
          <p:spPr>
            <a:xfrm>
              <a:off x="-4680" y="2708280"/>
              <a:ext cx="9151920" cy="1501920"/>
            </a:xfrm>
            <a:custGeom>
              <a:avLst/>
              <a:gdLst/>
              <a:ahLst/>
              <a:rect l="l" t="t" r="r" b="b"/>
              <a:pathLst>
                <a:path w="5779" h="946">
                  <a:moveTo>
                    <a:pt x="6" y="454"/>
                  </a:moveTo>
                  <a:lnTo>
                    <a:pt x="355" y="454"/>
                  </a:lnTo>
                  <a:lnTo>
                    <a:pt x="757" y="1"/>
                  </a:lnTo>
                  <a:lnTo>
                    <a:pt x="2511" y="0"/>
                  </a:lnTo>
                  <a:lnTo>
                    <a:pt x="2646" y="144"/>
                  </a:lnTo>
                  <a:lnTo>
                    <a:pt x="5779" y="137"/>
                  </a:lnTo>
                  <a:lnTo>
                    <a:pt x="5779" y="772"/>
                  </a:lnTo>
                  <a:lnTo>
                    <a:pt x="2899" y="765"/>
                  </a:lnTo>
                  <a:lnTo>
                    <a:pt x="2757" y="946"/>
                  </a:lnTo>
                  <a:lnTo>
                    <a:pt x="1883" y="946"/>
                  </a:lnTo>
                  <a:lnTo>
                    <a:pt x="1663" y="687"/>
                  </a:lnTo>
                  <a:lnTo>
                    <a:pt x="0" y="687"/>
                  </a:lnTo>
                  <a:lnTo>
                    <a:pt x="35" y="48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77353" dir="4837521" blurRad="0" rotWithShape="0">
                <a:srgbClr val="000066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" name="Freeform 19"/>
            <p:cNvSpPr/>
            <p:nvPr/>
          </p:nvSpPr>
          <p:spPr>
            <a:xfrm>
              <a:off x="-9360" y="2748240"/>
              <a:ext cx="9183600" cy="1420560"/>
            </a:xfrm>
            <a:custGeom>
              <a:avLst/>
              <a:gdLst>
                <a:gd name="textAreaLeft" fmla="*/ 0 w 9183600"/>
                <a:gd name="textAreaRight" fmla="*/ 9183960 w 9183600"/>
                <a:gd name="textAreaTop" fmla="*/ 0 h 1420560"/>
                <a:gd name="textAreaBottom" fmla="*/ 1420560 h 1420560"/>
              </a:gdLst>
              <a:ahLst/>
              <a:rect l="textAreaLeft" t="textAreaTop" r="textAreaRight" b="textAreaBottom"/>
              <a:pathLst>
                <a:path w="5799" h="895">
                  <a:moveTo>
                    <a:pt x="0" y="455"/>
                  </a:moveTo>
                  <a:lnTo>
                    <a:pt x="369" y="454"/>
                  </a:lnTo>
                  <a:lnTo>
                    <a:pt x="776" y="0"/>
                  </a:lnTo>
                  <a:lnTo>
                    <a:pt x="2496" y="0"/>
                  </a:lnTo>
                  <a:lnTo>
                    <a:pt x="2632" y="136"/>
                  </a:lnTo>
                  <a:lnTo>
                    <a:pt x="5799" y="136"/>
                  </a:lnTo>
                  <a:lnTo>
                    <a:pt x="5788" y="727"/>
                  </a:lnTo>
                  <a:lnTo>
                    <a:pt x="2883" y="708"/>
                  </a:lnTo>
                  <a:lnTo>
                    <a:pt x="2747" y="895"/>
                  </a:lnTo>
                  <a:lnTo>
                    <a:pt x="1899" y="895"/>
                  </a:lnTo>
                  <a:lnTo>
                    <a:pt x="1681" y="635"/>
                  </a:lnTo>
                  <a:lnTo>
                    <a:pt x="7" y="635"/>
                  </a:lnTo>
                  <a:lnTo>
                    <a:pt x="7" y="454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6" name="Text Box 14"/>
          <p:cNvSpPr/>
          <p:nvPr/>
        </p:nvSpPr>
        <p:spPr>
          <a:xfrm>
            <a:off x="304920" y="2286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b1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4.png"/><Relationship Id="rId6" Type="http://schemas.openxmlformats.org/officeDocument/2006/relationships/image" Target="../media/image30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4.jpe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4.png"/><Relationship Id="rId10" Type="http://schemas.openxmlformats.org/officeDocument/2006/relationships/image" Target="../media/image47.png"/><Relationship Id="rId11" Type="http://schemas.openxmlformats.org/officeDocument/2006/relationships/image" Target="../media/image44.png"/><Relationship Id="rId12" Type="http://schemas.openxmlformats.org/officeDocument/2006/relationships/image" Target="../media/image48.png"/><Relationship Id="rId13" Type="http://schemas.openxmlformats.org/officeDocument/2006/relationships/image" Target="../media/image49.png"/><Relationship Id="rId14" Type="http://schemas.openxmlformats.org/officeDocument/2006/relationships/image" Target="../media/image50.png"/><Relationship Id="rId15" Type="http://schemas.openxmlformats.org/officeDocument/2006/relationships/image" Target="../media/image51.png"/><Relationship Id="rId16" Type="http://schemas.openxmlformats.org/officeDocument/2006/relationships/image" Target="../media/image52.png"/><Relationship Id="rId17" Type="http://schemas.openxmlformats.org/officeDocument/2006/relationships/image" Target="../media/image53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5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8.jpe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image" Target="../media/image60.jpeg"/><Relationship Id="rId13" Type="http://schemas.openxmlformats.org/officeDocument/2006/relationships/image" Target="../media/image61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58.png"/><Relationship Id="rId3" Type="http://schemas.openxmlformats.org/officeDocument/2006/relationships/image" Target="../media/image45.png"/><Relationship Id="rId4" Type="http://schemas.openxmlformats.org/officeDocument/2006/relationships/image" Target="../media/image63.jpe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5.png"/><Relationship Id="rId8" Type="http://schemas.openxmlformats.org/officeDocument/2006/relationships/image" Target="../media/image66.png"/><Relationship Id="rId9" Type="http://schemas.openxmlformats.org/officeDocument/2006/relationships/image" Target="../media/image67.png"/><Relationship Id="rId10" Type="http://schemas.openxmlformats.org/officeDocument/2006/relationships/image" Target="../media/image68.png"/><Relationship Id="rId11" Type="http://schemas.openxmlformats.org/officeDocument/2006/relationships/image" Target="../media/image69.png"/><Relationship Id="rId12" Type="http://schemas.openxmlformats.org/officeDocument/2006/relationships/image" Target="../media/image58.png"/><Relationship Id="rId13" Type="http://schemas.openxmlformats.org/officeDocument/2006/relationships/image" Target="../media/image56.png"/><Relationship Id="rId14" Type="http://schemas.openxmlformats.org/officeDocument/2006/relationships/image" Target="../media/image28.png"/><Relationship Id="rId15" Type="http://schemas.openxmlformats.org/officeDocument/2006/relationships/image" Target="../media/image5.png"/><Relationship Id="rId16" Type="http://schemas.openxmlformats.org/officeDocument/2006/relationships/image" Target="../media/image70.png"/><Relationship Id="rId17" Type="http://schemas.openxmlformats.org/officeDocument/2006/relationships/image" Target="../media/image71.png"/><Relationship Id="rId18" Type="http://schemas.openxmlformats.org/officeDocument/2006/relationships/image" Target="../media/image45.png"/><Relationship Id="rId19" Type="http://schemas.openxmlformats.org/officeDocument/2006/relationships/image" Target="../media/image58.png"/><Relationship Id="rId20" Type="http://schemas.openxmlformats.org/officeDocument/2006/relationships/image" Target="../media/image5.png"/><Relationship Id="rId21" Type="http://schemas.openxmlformats.org/officeDocument/2006/relationships/image" Target="../media/image56.png"/><Relationship Id="rId22" Type="http://schemas.openxmlformats.org/officeDocument/2006/relationships/image" Target="../media/image67.png"/><Relationship Id="rId23" Type="http://schemas.openxmlformats.org/officeDocument/2006/relationships/image" Target="../media/image44.png"/><Relationship Id="rId24" Type="http://schemas.openxmlformats.org/officeDocument/2006/relationships/image" Target="../media/image69.png"/><Relationship Id="rId25" Type="http://schemas.openxmlformats.org/officeDocument/2006/relationships/image" Target="../media/image58.png"/><Relationship Id="rId26" Type="http://schemas.openxmlformats.org/officeDocument/2006/relationships/image" Target="../media/image56.png"/><Relationship Id="rId27" Type="http://schemas.openxmlformats.org/officeDocument/2006/relationships/image" Target="../media/image8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8.jpeg"/><Relationship Id="rId4" Type="http://schemas.openxmlformats.org/officeDocument/2006/relationships/image" Target="../media/image72.png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3.jpeg"/><Relationship Id="rId3" Type="http://schemas.openxmlformats.org/officeDocument/2006/relationships/image" Target="../media/image7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9.png"/><Relationship Id="rId27" Type="http://schemas.openxmlformats.org/officeDocument/2006/relationships/image" Target="../media/image8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929120"/>
            <a:ext cx="9144000" cy="1013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Информационные технологии в медицине. </a:t>
            </a:r>
            <a:br>
              <a:rPr sz="2000"/>
            </a:b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Основные вопросы информатизации в сфере здравоохранения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71720" y="628668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d528d"/>
                </a:solidFill>
                <a:latin typeface="Arial"/>
              </a:rPr>
              <a:t>Sokos «Olimpic Garden», 26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7000920" y="4071960"/>
            <a:ext cx="185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</a:rPr>
              <a:t>Декстер А.П.</a:t>
            </a:r>
            <a:br>
              <a:rPr sz="1400"/>
            </a:br>
            <a:r>
              <a:rPr b="1" lang="ru-RU" sz="1400" spc="-1" strike="noStrike">
                <a:solidFill>
                  <a:srgbClr val="1d528d"/>
                </a:solidFill>
                <a:latin typeface="Arial"/>
              </a:rPr>
              <a:t>СПб МИАЦ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95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142920" y="142920"/>
            <a:ext cx="1071360" cy="11034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untitled.bmp"/>
          <p:cNvPicPr/>
          <p:nvPr/>
        </p:nvPicPr>
        <p:blipFill>
          <a:blip r:embed="rId2"/>
          <a:stretch/>
        </p:blipFill>
        <p:spPr>
          <a:xfrm>
            <a:off x="8286840" y="4143240"/>
            <a:ext cx="538200" cy="4287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6"/>
          <p:cNvSpPr/>
          <p:nvPr/>
        </p:nvSpPr>
        <p:spPr>
          <a:xfrm>
            <a:off x="360" y="1214280"/>
            <a:ext cx="13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анкт-Петербур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98" name="Picture 8" descr="C:\Documents and Settings\Papa\Рабочий стол\3D_Business_Graphics_rep\stockxpertcom_id11485941_size5.jpg"/>
          <p:cNvPicPr/>
          <p:nvPr/>
        </p:nvPicPr>
        <p:blipFill>
          <a:blip r:embed="rId3"/>
          <a:stretch/>
        </p:blipFill>
        <p:spPr>
          <a:xfrm>
            <a:off x="2786040" y="0"/>
            <a:ext cx="3906720" cy="29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8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Прямоугольник 7"/>
          <p:cNvSpPr/>
          <p:nvPr/>
        </p:nvSpPr>
        <p:spPr>
          <a:xfrm>
            <a:off x="0" y="1285920"/>
            <a:ext cx="914400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Нормативно-правовая база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SzPct val="200000"/>
              <a:buFont typeface="Arial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Закон "О персональных данных", № 152-ФЗ от 27.07.2006 г. 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SzPct val="200000"/>
              <a:buFont typeface="Arial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Об утверждении Положения об обеспечении безопасности персональных данных при их обработке в информационных системах персональных данных, постановление Правительства РФ от 17.11.07 г. № 781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До 1 января 2010 г. все ИС персональных данных должны быть приведены в соответствие с требованиями закона "О персональных данных"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2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indefinite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84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Прямоугольник 7"/>
          <p:cNvSpPr/>
          <p:nvPr/>
        </p:nvSpPr>
        <p:spPr>
          <a:xfrm>
            <a:off x="214200" y="1357200"/>
            <a:ext cx="8643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ПРОБЛЕМЫ: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 разработана в полном объеме нормативная база для реализации законов "О персональных данных", а также "Основ законодательства ... об охране здоровья... ", "О медицинском страховании ... " в части ведения баз данных и использования ИКТ в здравоохранении (после изменений в 2006/7 гг.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т единых стандартов идентификации объектов, кодирования и обмена медицинскими данным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ормативно-правовых актах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РФ в явном виде отсутствуют нормы и требования по ведению медицинских документов и автоматизированной обработке персональных данных пациента (кроме закона "О персональных данных"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, ст. 10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indefinite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3" name="Picture 4" descr="F:\Подготовка презентации 2008\ICONS\iconki_www.webz.tu1.ru\500ic\[www.zavis.ru]NetByte Design Studio - 1121.png"/>
          <p:cNvPicPr/>
          <p:nvPr/>
        </p:nvPicPr>
        <p:blipFill>
          <a:blip r:embed="rId3"/>
          <a:stretch/>
        </p:blipFill>
        <p:spPr>
          <a:xfrm>
            <a:off x="0" y="221472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F:\Подготовка презентации 2008\ICONS\iconki_www.webz.tu1.ru\500ic\[www.zavis.ru]NetByte Design Studio - 1121.png"/>
          <p:cNvPicPr/>
          <p:nvPr/>
        </p:nvPicPr>
        <p:blipFill>
          <a:blip r:embed="rId4"/>
          <a:stretch/>
        </p:blipFill>
        <p:spPr>
          <a:xfrm>
            <a:off x="0" y="4071960"/>
            <a:ext cx="1625760" cy="1625400"/>
          </a:xfrm>
          <a:prstGeom prst="rect">
            <a:avLst/>
          </a:prstGeom>
          <a:ln w="0">
            <a:noFill/>
          </a:ln>
        </p:spPr>
      </p:pic>
      <p:sp>
        <p:nvSpPr>
          <p:cNvPr id="295" name="Прямоугольник 11"/>
          <p:cNvSpPr/>
          <p:nvPr/>
        </p:nvSpPr>
        <p:spPr>
          <a:xfrm>
            <a:off x="1571760" y="2571840"/>
            <a:ext cx="72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Документальное согласие пациента на обработку и передачу его персональных данных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6" name="Прямоугольник 12"/>
          <p:cNvSpPr/>
          <p:nvPr/>
        </p:nvSpPr>
        <p:spPr>
          <a:xfrm>
            <a:off x="1571760" y="4286160"/>
            <a:ext cx="7215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1280" indent="-3412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Информирование пациента о целях, способах обработки его персональных данных, о лицах имеющих к ним доступ, а также о об их получении от третьих лиц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7" name="Прямоугольник 13"/>
          <p:cNvSpPr/>
          <p:nvPr/>
        </p:nvSpPr>
        <p:spPr>
          <a:xfrm>
            <a:off x="285840" y="1428840"/>
            <a:ext cx="557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ПРОБЛЕМЫ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Не регламентированы процедуры и формы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8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indefinite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00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Прямоугольник 13"/>
          <p:cNvSpPr/>
          <p:nvPr/>
        </p:nvSpPr>
        <p:spPr>
          <a:xfrm>
            <a:off x="357120" y="1428840"/>
            <a:ext cx="84297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Внедрение Электронной Цифровой Подписи (ЭЦП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Пример Санкт-Петербурга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Удостоверяющий центр (УЦ) с федеральной кросс сертификацией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Один УЦ для ИОГВ и подведомственной сети субъекта РФ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Выпущено и установлено более 600 электронных цифровых подписей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Руководитель учреждения ЛПУ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Заместитель руководителя учреждения ЛПУ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Сферы применения ЭЦП в 2008 году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Создание и подпись заявки на включение гражданина в регистр региональных льготников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Подача заявок на включение/исключение врачей из справочника ЛЛО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4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C:\Documents and Settings\Papa\Рабочий стол\urban\Stockxpert_3DBoysConceptual\Stockxpert_3DBoysConceptual\Stockxpert_3DBoysConceptual\stockxpertcom_id1995441_size5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ерспективы информатизации здравоохранения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анкт-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TextBox 4"/>
          <p:cNvSpPr/>
          <p:nvPr/>
        </p:nvSpPr>
        <p:spPr>
          <a:xfrm>
            <a:off x="214200" y="1285920"/>
            <a:ext cx="8715600" cy="52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ажнейшие шаги по развитию информатизации здравоохранения Санкт-Петербурга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Развитие телекоммуникационной среды, позволяющей организовать работу врачей в едином информационном пространстве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оздание и утверждение регионального стандарта коллективных электронных медицинских карт (ЭМК) и создание хранилища ЭМК для ведения и хранения информации о состоянии здоровья граждан и организации оказания им медицинской помощ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оздание и развитие информационных систем позволяющих врачам Санкт-Петербурга работать в едином  информационном пространстве и непосредственно с хранилищем электронных медицинских карт при приеме пациентов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оздание   официального информационного портала системы здравоохранения Санкт-Петербурга и городского центра обработки звонков граждан с целью реализации конституционного права граждан на информацию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Разработка нормативных документов и регламентов для организации взаимодействия медицинских учреждений Санкт-Петербурга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08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309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indefinite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C:\Documents and Settings\Papa\Рабочий стол\urban\Stockxpert_3DBoysConceptual\Stockxpert_3DBoysConceptual\Stockxpert_3DBoysConceptual\stockxpertcom_id1995441_size5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лючевые области информатизации в системе здравоохранения Санкт-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13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16"/>
          <p:cNvSpPr/>
          <p:nvPr/>
        </p:nvSpPr>
        <p:spPr>
          <a:xfrm>
            <a:off x="928800" y="4857840"/>
            <a:ext cx="7286400" cy="92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Calibri"/>
              </a:rPr>
              <a:t>ТЕЛЕКОММУНИКАЦИОННАЯ СРЕДА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5" name="AutoShape 14"/>
          <p:cNvSpPr/>
          <p:nvPr/>
        </p:nvSpPr>
        <p:spPr>
          <a:xfrm>
            <a:off x="857160" y="3214800"/>
            <a:ext cx="7286760" cy="92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600">
            <a:solidFill>
              <a:srgbClr val="92cddc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Calibri"/>
              </a:rPr>
              <a:t>ТЕХНОЛОГИЧЕСКАЯ ИНФРАСТРУКТУРА И БАЗОВЫЕ СЕРВИСЫ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6" name="AutoShape 15"/>
          <p:cNvSpPr/>
          <p:nvPr/>
        </p:nvSpPr>
        <p:spPr>
          <a:xfrm>
            <a:off x="857160" y="1500120"/>
            <a:ext cx="728676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Calibri"/>
              </a:rPr>
              <a:t>ФУНКЦИОНАЛЬНО-ОРИЕНТИРОВАНЫЕ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Calibri"/>
              </a:rPr>
              <a:t>ИНФОРМАЦИОННЫЕ РЕСУРСЫ И СИСТЕМЫ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7" name="AutoShape 14"/>
          <p:cNvSpPr/>
          <p:nvPr/>
        </p:nvSpPr>
        <p:spPr>
          <a:xfrm rot="10800000">
            <a:off x="3214800" y="2428560"/>
            <a:ext cx="2286000" cy="78588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8" name="AutoShape 14"/>
          <p:cNvSpPr/>
          <p:nvPr/>
        </p:nvSpPr>
        <p:spPr>
          <a:xfrm rot="10800000">
            <a:off x="3214800" y="4071600"/>
            <a:ext cx="2286000" cy="78588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indefinite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0"/>
          <p:cNvSpPr/>
          <p:nvPr/>
        </p:nvSpPr>
        <p:spPr>
          <a:xfrm flipH="1">
            <a:off x="0" y="5286240"/>
            <a:ext cx="9144000" cy="71460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3b1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0" name="Rectangle 10"/>
          <p:cNvSpPr/>
          <p:nvPr/>
        </p:nvSpPr>
        <p:spPr>
          <a:xfrm flipH="1">
            <a:off x="0" y="4214880"/>
            <a:ext cx="9144000" cy="71424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3b1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 flipV="1">
            <a:off x="2500200" y="1714320"/>
            <a:ext cx="3929040" cy="235728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4090e8">
                  <a:alpha val="3215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раструктур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TextBox 8"/>
          <p:cNvSpPr/>
          <p:nvPr/>
        </p:nvSpPr>
        <p:spPr>
          <a:xfrm>
            <a:off x="214200" y="1214280"/>
            <a:ext cx="86439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1. Необходимость управления стоимостью содержания ИТ-инфраструктуры учреждений здравоохранения и системы управления в целом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2. Решение общих проблем и вопросов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Проблемы интеграции ресурсов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Решение технических и технологических проблем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Решение вопросов распределения ответственност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Государственная технологическая организация выполняющая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функции ИТ-консалтинга на уровне Правительства СПб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Государственная технологическая организация выполняющая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функции ИТ-консалтинга на уровне системы здравоохранения СПб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4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25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H:\Подготовка презентации 2008\ICONS\VirtualLNK Icons\VirtualLNK Accounting Icons Collection v1.0\BMP\Regular\72x72\Bank 2 Information.bmp"/>
          <p:cNvPicPr/>
          <p:nvPr/>
        </p:nvPicPr>
        <p:blipFill>
          <a:blip r:embed="rId2"/>
          <a:stretch/>
        </p:blipFill>
        <p:spPr>
          <a:xfrm>
            <a:off x="8001000" y="414324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8"/>
          <p:cNvSpPr/>
          <p:nvPr/>
        </p:nvSpPr>
        <p:spPr>
          <a:xfrm>
            <a:off x="7215120" y="4643280"/>
            <a:ext cx="22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б ИАЦ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28" name="Группа 26"/>
          <p:cNvGrpSpPr/>
          <p:nvPr/>
        </p:nvGrpSpPr>
        <p:grpSpPr>
          <a:xfrm>
            <a:off x="8001000" y="5143680"/>
            <a:ext cx="571680" cy="642600"/>
            <a:chOff x="8001000" y="5143680"/>
            <a:chExt cx="571680" cy="642600"/>
          </a:xfrm>
        </p:grpSpPr>
        <p:pic>
          <p:nvPicPr>
            <p:cNvPr id="329" name="Picture 6" descr="H:\Подготовка презентации 2008\ICONS\VirtualLNK Icons\VirtualLNK Accounting Icons Collection v1.0\BMP\Regular\72x72\Bank 2 Account.bmp"/>
            <p:cNvPicPr/>
            <p:nvPr/>
          </p:nvPicPr>
          <p:blipFill>
            <a:blip r:embed="rId3"/>
            <a:stretch/>
          </p:blipFill>
          <p:spPr>
            <a:xfrm>
              <a:off x="8001000" y="5143680"/>
              <a:ext cx="546120" cy="61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7" descr="H:\Подготовка презентации 2008\ICONS\VirtualLNK Icons\VirtualLNK Medical Icons Collection v1.0\BMP\Regular\72x72\Medical Bag 2.bmp"/>
            <p:cNvPicPr/>
            <p:nvPr/>
          </p:nvPicPr>
          <p:blipFill>
            <a:blip r:embed="rId4"/>
            <a:stretch/>
          </p:blipFill>
          <p:spPr>
            <a:xfrm>
              <a:off x="8214120" y="5383440"/>
              <a:ext cx="358560" cy="40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Прямоугольник 12"/>
          <p:cNvSpPr/>
          <p:nvPr/>
        </p:nvSpPr>
        <p:spPr>
          <a:xfrm>
            <a:off x="7215120" y="5715000"/>
            <a:ext cx="22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б МИАЦ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2" name="Рисунок 14" descr="untitled.bmp"/>
          <p:cNvPicPr/>
          <p:nvPr/>
        </p:nvPicPr>
        <p:blipFill>
          <a:blip r:embed="rId5"/>
          <a:stretch/>
        </p:blipFill>
        <p:spPr>
          <a:xfrm>
            <a:off x="8605800" y="5286240"/>
            <a:ext cx="538200" cy="4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AutoShape 4"/>
          <p:cNvSpPr/>
          <p:nvPr/>
        </p:nvSpPr>
        <p:spPr>
          <a:xfrm>
            <a:off x="142920" y="1285920"/>
            <a:ext cx="8786880" cy="20718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раструктурные государственные центры  Санкт-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grpSp>
        <p:nvGrpSpPr>
          <p:cNvPr id="336" name="Группа 61"/>
          <p:cNvGrpSpPr/>
          <p:nvPr/>
        </p:nvGrpSpPr>
        <p:grpSpPr>
          <a:xfrm>
            <a:off x="151560" y="1938960"/>
            <a:ext cx="927720" cy="3069360"/>
            <a:chOff x="151560" y="1938960"/>
            <a:chExt cx="927720" cy="3069360"/>
          </a:xfrm>
        </p:grpSpPr>
        <p:sp>
          <p:nvSpPr>
            <p:cNvPr id="337" name="Полилиния 6"/>
            <p:cNvSpPr/>
            <p:nvPr/>
          </p:nvSpPr>
          <p:spPr>
            <a:xfrm rot="5400000">
              <a:off x="152280" y="279504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8" name="Полилиния 7"/>
            <p:cNvSpPr/>
            <p:nvPr/>
          </p:nvSpPr>
          <p:spPr>
            <a:xfrm rot="5400000">
              <a:off x="152280" y="322380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Полилиния 8"/>
            <p:cNvSpPr/>
            <p:nvPr/>
          </p:nvSpPr>
          <p:spPr>
            <a:xfrm rot="5400000">
              <a:off x="152280" y="365256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Полилиния 9"/>
            <p:cNvSpPr/>
            <p:nvPr/>
          </p:nvSpPr>
          <p:spPr>
            <a:xfrm rot="4797000">
              <a:off x="174240" y="403380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Полилиния 10"/>
            <p:cNvSpPr/>
            <p:nvPr/>
          </p:nvSpPr>
          <p:spPr>
            <a:xfrm rot="3326400">
              <a:off x="279360" y="435132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Полилиния 11"/>
            <p:cNvSpPr/>
            <p:nvPr/>
          </p:nvSpPr>
          <p:spPr>
            <a:xfrm rot="2116800">
              <a:off x="484200" y="4556160"/>
              <a:ext cx="28584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Полилиния 12"/>
            <p:cNvSpPr/>
            <p:nvPr/>
          </p:nvSpPr>
          <p:spPr>
            <a:xfrm rot="985200">
              <a:off x="758520" y="4688280"/>
              <a:ext cx="28584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Полилиния 13"/>
            <p:cNvSpPr/>
            <p:nvPr/>
          </p:nvSpPr>
          <p:spPr>
            <a:xfrm rot="6837600">
              <a:off x="223560" y="243792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Полилиния 14"/>
            <p:cNvSpPr/>
            <p:nvPr/>
          </p:nvSpPr>
          <p:spPr>
            <a:xfrm rot="8377200">
              <a:off x="425160" y="2139120"/>
              <a:ext cx="28584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Полилиния 15"/>
            <p:cNvSpPr/>
            <p:nvPr/>
          </p:nvSpPr>
          <p:spPr>
            <a:xfrm rot="9884400">
              <a:off x="685440" y="1971360"/>
              <a:ext cx="28584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347" name="Picture 10" descr="H:\Подготовка презентации 2008\ICONS\VirtualLNK Icons\VirtualLNK Medical Icons Collection v1.0\BMP\Regular\72x72\Hospital 2 Information.bmp"/>
          <p:cNvPicPr/>
          <p:nvPr/>
        </p:nvPicPr>
        <p:blipFill>
          <a:blip r:embed="rId2"/>
          <a:stretch/>
        </p:blipFill>
        <p:spPr>
          <a:xfrm>
            <a:off x="4143240" y="1714680"/>
            <a:ext cx="871560" cy="8712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1" descr="H:\Подготовка презентации 2008\ICONS\VirtualLNK Icons\VirtualLNK Medical Icons Collection v1.0\BMP\Regular\72x72\Hospital.bmp"/>
          <p:cNvPicPr/>
          <p:nvPr/>
        </p:nvPicPr>
        <p:blipFill>
          <a:blip r:embed="rId3"/>
          <a:stretch/>
        </p:blipFill>
        <p:spPr>
          <a:xfrm>
            <a:off x="1071720" y="171468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H:\Подготовка презентации 2008\ICONS\VirtualLNK Icons\VirtualLNK Medical Icons Collection v1.0\BMP\Regular\72x72\Hospital 2 Add.bmp"/>
          <p:cNvPicPr/>
          <p:nvPr/>
        </p:nvPicPr>
        <p:blipFill>
          <a:blip r:embed="rId4"/>
          <a:stretch/>
        </p:blipFill>
        <p:spPr>
          <a:xfrm>
            <a:off x="7143840" y="1714680"/>
            <a:ext cx="857160" cy="857160"/>
          </a:xfrm>
          <a:prstGeom prst="rect">
            <a:avLst/>
          </a:prstGeom>
          <a:ln w="0">
            <a:noFill/>
          </a:ln>
        </p:spPr>
      </p:pic>
      <p:grpSp>
        <p:nvGrpSpPr>
          <p:cNvPr id="350" name="Группа 65"/>
          <p:cNvGrpSpPr/>
          <p:nvPr/>
        </p:nvGrpSpPr>
        <p:grpSpPr>
          <a:xfrm>
            <a:off x="3071160" y="1929600"/>
            <a:ext cx="927360" cy="3069000"/>
            <a:chOff x="3071160" y="1929600"/>
            <a:chExt cx="927360" cy="3069000"/>
          </a:xfrm>
        </p:grpSpPr>
        <p:sp>
          <p:nvSpPr>
            <p:cNvPr id="351" name="Полилиния 33"/>
            <p:cNvSpPr/>
            <p:nvPr/>
          </p:nvSpPr>
          <p:spPr>
            <a:xfrm rot="985200">
              <a:off x="3678120" y="46782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2" name="Группа 62"/>
            <p:cNvGrpSpPr/>
            <p:nvPr/>
          </p:nvGrpSpPr>
          <p:grpSpPr>
            <a:xfrm>
              <a:off x="3071160" y="1929600"/>
              <a:ext cx="851760" cy="2959920"/>
              <a:chOff x="3071160" y="1929600"/>
              <a:chExt cx="851760" cy="2959920"/>
            </a:xfrm>
          </p:grpSpPr>
          <p:sp>
            <p:nvSpPr>
              <p:cNvPr id="353" name="Полилиния 27"/>
              <p:cNvSpPr/>
              <p:nvPr/>
            </p:nvSpPr>
            <p:spPr>
              <a:xfrm rot="5400000">
                <a:off x="3071160" y="278604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4" name="Полилиния 28"/>
              <p:cNvSpPr/>
              <p:nvPr/>
            </p:nvSpPr>
            <p:spPr>
              <a:xfrm rot="5400000">
                <a:off x="3071160" y="321480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5" name="Полилиния 29"/>
              <p:cNvSpPr/>
              <p:nvPr/>
            </p:nvSpPr>
            <p:spPr>
              <a:xfrm rot="5400000">
                <a:off x="3071160" y="364356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6" name="Полилиния 30"/>
              <p:cNvSpPr/>
              <p:nvPr/>
            </p:nvSpPr>
            <p:spPr>
              <a:xfrm rot="4797000">
                <a:off x="3094560" y="4022280"/>
                <a:ext cx="285840" cy="2872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7" name="Полилиния 31"/>
              <p:cNvSpPr/>
              <p:nvPr/>
            </p:nvSpPr>
            <p:spPr>
              <a:xfrm rot="3326400">
                <a:off x="3197880" y="434232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8" name="Полилиния 32"/>
              <p:cNvSpPr/>
              <p:nvPr/>
            </p:nvSpPr>
            <p:spPr>
              <a:xfrm rot="2116800">
                <a:off x="3403440" y="4546800"/>
                <a:ext cx="287280" cy="28584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Полилиния 34"/>
              <p:cNvSpPr/>
              <p:nvPr/>
            </p:nvSpPr>
            <p:spPr>
              <a:xfrm rot="6837600">
                <a:off x="3142440" y="242856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0" name="Полилиния 35"/>
              <p:cNvSpPr/>
              <p:nvPr/>
            </p:nvSpPr>
            <p:spPr>
              <a:xfrm rot="8377200">
                <a:off x="3344400" y="2130120"/>
                <a:ext cx="285480" cy="28584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1" name="Полилиния 36"/>
              <p:cNvSpPr/>
              <p:nvPr/>
            </p:nvSpPr>
            <p:spPr>
              <a:xfrm rot="9884400">
                <a:off x="3604680" y="1962000"/>
                <a:ext cx="285480" cy="28584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362" name="Группа 63"/>
          <p:cNvGrpSpPr/>
          <p:nvPr/>
        </p:nvGrpSpPr>
        <p:grpSpPr>
          <a:xfrm>
            <a:off x="6213960" y="1929240"/>
            <a:ext cx="927720" cy="3069360"/>
            <a:chOff x="6213960" y="1929240"/>
            <a:chExt cx="927720" cy="3069360"/>
          </a:xfrm>
        </p:grpSpPr>
        <p:sp>
          <p:nvSpPr>
            <p:cNvPr id="363" name="Полилиния 37"/>
            <p:cNvSpPr/>
            <p:nvPr/>
          </p:nvSpPr>
          <p:spPr>
            <a:xfrm rot="5400000">
              <a:off x="6214680" y="278568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Полилиния 38"/>
            <p:cNvSpPr/>
            <p:nvPr/>
          </p:nvSpPr>
          <p:spPr>
            <a:xfrm rot="5400000">
              <a:off x="6214680" y="321444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Полилиния 39"/>
            <p:cNvSpPr/>
            <p:nvPr/>
          </p:nvSpPr>
          <p:spPr>
            <a:xfrm rot="5400000">
              <a:off x="6214680" y="36432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Полилиния 40"/>
            <p:cNvSpPr/>
            <p:nvPr/>
          </p:nvSpPr>
          <p:spPr>
            <a:xfrm rot="4797000">
              <a:off x="6236640" y="402444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Полилиния 41"/>
            <p:cNvSpPr/>
            <p:nvPr/>
          </p:nvSpPr>
          <p:spPr>
            <a:xfrm rot="3326400">
              <a:off x="6341040" y="43416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Полилиния 42"/>
            <p:cNvSpPr/>
            <p:nvPr/>
          </p:nvSpPr>
          <p:spPr>
            <a:xfrm rot="2116800">
              <a:off x="6546240" y="45468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9" name="Полилиния 43"/>
            <p:cNvSpPr/>
            <p:nvPr/>
          </p:nvSpPr>
          <p:spPr>
            <a:xfrm rot="985200">
              <a:off x="6821280" y="46782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0" name="Полилиния 44"/>
            <p:cNvSpPr/>
            <p:nvPr/>
          </p:nvSpPr>
          <p:spPr>
            <a:xfrm rot="6837600">
              <a:off x="6285960" y="24282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1" name="Полилиния 45"/>
            <p:cNvSpPr/>
            <p:nvPr/>
          </p:nvSpPr>
          <p:spPr>
            <a:xfrm rot="8377200">
              <a:off x="6487200" y="212976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Полилиния 46"/>
            <p:cNvSpPr/>
            <p:nvPr/>
          </p:nvSpPr>
          <p:spPr>
            <a:xfrm rot="9884400">
              <a:off x="6747840" y="196164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73" name="Прямоугольник 49"/>
          <p:cNvSpPr/>
          <p:nvPr/>
        </p:nvSpPr>
        <p:spPr>
          <a:xfrm>
            <a:off x="2071800" y="12859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ТЕЛЬСТВО САНКТ-ПЕТЕРБУРГ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Прямоугольник 50"/>
          <p:cNvSpPr/>
          <p:nvPr/>
        </p:nvSpPr>
        <p:spPr>
          <a:xfrm>
            <a:off x="428760" y="257184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Комитет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по здравоохранению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5" name="Прямоугольник 51"/>
          <p:cNvSpPr/>
          <p:nvPr/>
        </p:nvSpPr>
        <p:spPr>
          <a:xfrm>
            <a:off x="3000240" y="2643120"/>
            <a:ext cx="335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Комитет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по информатизации и связ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Прямоугольник 52"/>
          <p:cNvSpPr/>
          <p:nvPr/>
        </p:nvSpPr>
        <p:spPr>
          <a:xfrm>
            <a:off x="6357960" y="2643120"/>
            <a:ext cx="25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Комитет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по социальной защите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77" name="Группа 66"/>
          <p:cNvGrpSpPr/>
          <p:nvPr/>
        </p:nvGrpSpPr>
        <p:grpSpPr>
          <a:xfrm>
            <a:off x="3429000" y="4357800"/>
            <a:ext cx="2214720" cy="1806120"/>
            <a:chOff x="3429000" y="4357800"/>
            <a:chExt cx="2214720" cy="1806120"/>
          </a:xfrm>
        </p:grpSpPr>
        <p:pic>
          <p:nvPicPr>
            <p:cNvPr id="378" name="Picture 2" descr="H:\Подготовка презентации 2008\ICONS\VirtualLNK Icons\VirtualLNK Accounting Icons Collection v1.0\BMP\Regular\72x72\Bank 2 Information.bmp"/>
            <p:cNvPicPr/>
            <p:nvPr/>
          </p:nvPicPr>
          <p:blipFill>
            <a:blip r:embed="rId5"/>
            <a:stretch/>
          </p:blipFill>
          <p:spPr>
            <a:xfrm>
              <a:off x="4071960" y="4357800"/>
              <a:ext cx="785880" cy="7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Прямоугольник 54"/>
            <p:cNvSpPr/>
            <p:nvPr/>
          </p:nvSpPr>
          <p:spPr>
            <a:xfrm>
              <a:off x="3429000" y="5214960"/>
              <a:ext cx="22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Пб ИАЦ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Прямоугольник 57"/>
            <p:cNvSpPr/>
            <p:nvPr/>
          </p:nvSpPr>
          <p:spPr>
            <a:xfrm>
              <a:off x="3429000" y="5643720"/>
              <a:ext cx="2214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нформационно-аналитический центр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81" name="Группа 67"/>
          <p:cNvGrpSpPr/>
          <p:nvPr/>
        </p:nvGrpSpPr>
        <p:grpSpPr>
          <a:xfrm>
            <a:off x="6572160" y="4286160"/>
            <a:ext cx="2214720" cy="2090880"/>
            <a:chOff x="6572160" y="4286160"/>
            <a:chExt cx="2214720" cy="2090880"/>
          </a:xfrm>
        </p:grpSpPr>
        <p:pic>
          <p:nvPicPr>
            <p:cNvPr id="382" name="Picture 5" descr="H:\Подготовка презентации 2008\ICONS\VirtualLNK Icons\VirtualLNK Accounting Icons Collection v1.0\BMP\Regular\72x72\Bank 2 Add.bmp"/>
            <p:cNvPicPr/>
            <p:nvPr/>
          </p:nvPicPr>
          <p:blipFill>
            <a:blip r:embed="rId6"/>
            <a:stretch/>
          </p:blipFill>
          <p:spPr>
            <a:xfrm>
              <a:off x="7215120" y="4286160"/>
              <a:ext cx="85716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Прямоугольник 55"/>
            <p:cNvSpPr/>
            <p:nvPr/>
          </p:nvSpPr>
          <p:spPr>
            <a:xfrm>
              <a:off x="6572160" y="5214960"/>
              <a:ext cx="22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ГЦНВПП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4" name="Прямоугольник 58"/>
            <p:cNvSpPr/>
            <p:nvPr/>
          </p:nvSpPr>
          <p:spPr>
            <a:xfrm>
              <a:off x="6572160" y="5643720"/>
              <a:ext cx="2214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Городской центр по начислению и выплате пенсий и пособий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85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86" name="Группа 64"/>
          <p:cNvGrpSpPr/>
          <p:nvPr/>
        </p:nvGrpSpPr>
        <p:grpSpPr>
          <a:xfrm>
            <a:off x="500040" y="4357800"/>
            <a:ext cx="2214720" cy="1947960"/>
            <a:chOff x="500040" y="4357800"/>
            <a:chExt cx="2214720" cy="1947960"/>
          </a:xfrm>
        </p:grpSpPr>
        <p:grpSp>
          <p:nvGrpSpPr>
            <p:cNvPr id="387" name="Группа 26"/>
            <p:cNvGrpSpPr/>
            <p:nvPr/>
          </p:nvGrpSpPr>
          <p:grpSpPr>
            <a:xfrm>
              <a:off x="1143000" y="4357800"/>
              <a:ext cx="857160" cy="857160"/>
              <a:chOff x="1143000" y="4357800"/>
              <a:chExt cx="857160" cy="857160"/>
            </a:xfrm>
          </p:grpSpPr>
          <p:pic>
            <p:nvPicPr>
              <p:cNvPr id="388" name="Picture 6" descr="H:\Подготовка презентации 2008\ICONS\VirtualLNK Icons\VirtualLNK Accounting Icons Collection v1.0\BMP\Regular\72x72\Bank 2 Account.bmp"/>
              <p:cNvPicPr/>
              <p:nvPr/>
            </p:nvPicPr>
            <p:blipFill>
              <a:blip r:embed="rId7"/>
              <a:stretch/>
            </p:blipFill>
            <p:spPr>
              <a:xfrm>
                <a:off x="1143000" y="4357800"/>
                <a:ext cx="8190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9" name="Picture 7" descr="H:\Подготовка презентации 2008\ICONS\VirtualLNK Icons\VirtualLNK Medical Icons Collection v1.0\BMP\Regular\72x72\Medical Bag 2.bmp"/>
              <p:cNvPicPr/>
              <p:nvPr/>
            </p:nvPicPr>
            <p:blipFill>
              <a:blip r:embed="rId8"/>
              <a:stretch/>
            </p:blipFill>
            <p:spPr>
              <a:xfrm>
                <a:off x="1462680" y="4677480"/>
                <a:ext cx="537480" cy="537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0" name="Прямоугольник 53"/>
            <p:cNvSpPr/>
            <p:nvPr/>
          </p:nvSpPr>
          <p:spPr>
            <a:xfrm>
              <a:off x="500040" y="5214960"/>
              <a:ext cx="22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Пб МИАЦ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1" name="Прямоугольник 56"/>
            <p:cNvSpPr/>
            <p:nvPr/>
          </p:nvSpPr>
          <p:spPr>
            <a:xfrm>
              <a:off x="500040" y="5572440"/>
              <a:ext cx="2214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Медицинский информационно-аналитический центр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92" name="Рисунок 60" descr="untitled.bmp"/>
            <p:cNvPicPr/>
            <p:nvPr/>
          </p:nvPicPr>
          <p:blipFill>
            <a:blip r:embed="rId9"/>
            <a:stretch/>
          </p:blipFill>
          <p:spPr>
            <a:xfrm>
              <a:off x="2000520" y="4357800"/>
              <a:ext cx="53748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3" name="Двойная стрелка влево/вправо 68"/>
          <p:cNvSpPr/>
          <p:nvPr/>
        </p:nvSpPr>
        <p:spPr>
          <a:xfrm>
            <a:off x="2214720" y="5357880"/>
            <a:ext cx="4857480" cy="500040"/>
          </a:xfrm>
          <a:prstGeom prst="leftRightArrow">
            <a:avLst>
              <a:gd name="adj1" fmla="val 50000"/>
              <a:gd name="adj2" fmla="val 50010"/>
            </a:avLst>
          </a:prstGeom>
          <a:solidFill>
            <a:srgbClr val="5bace9">
              <a:alpha val="38000"/>
            </a:srgbClr>
          </a:solidFill>
          <a:ln w="25560">
            <a:solidFill>
              <a:srgbClr val="417dab">
                <a:alpha val="4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раструктур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TextBox 8"/>
          <p:cNvSpPr/>
          <p:nvPr/>
        </p:nvSpPr>
        <p:spPr>
          <a:xfrm>
            <a:off x="214200" y="2214720"/>
            <a:ext cx="86439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Мультисервисная сеть органов государственной власт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Единая Мультисервисная Телекоммуникационная Сеть ИОГВ СПб (ЕМТС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Центр Обработки Данных учреждений здравоохранения (ЦОД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Централизованная техническая поддержка учреждений здравоохранен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Использование средств криптографической защиты информации (ЭЦП)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Центральный сервер электронной почты учреждений здравоохранен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97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398" name="Прямоугольник 6"/>
          <p:cNvSpPr/>
          <p:nvPr/>
        </p:nvSpPr>
        <p:spPr>
          <a:xfrm>
            <a:off x="0" y="1214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Основные компоненты инфраструктуры системы управления здравоохранением СПб: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28800" y="571320"/>
            <a:ext cx="8215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диная Мультисервисная Телекоммуникационная Сеть ИОГВ СПб (ЕМТС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0" name="Object 5" descr=""/>
          <p:cNvPicPr/>
          <p:nvPr/>
        </p:nvPicPr>
        <p:blipFill>
          <a:blip r:embed="rId1"/>
          <a:stretch/>
        </p:blipFill>
        <p:spPr>
          <a:xfrm>
            <a:off x="3000240" y="1500120"/>
            <a:ext cx="5926320" cy="495144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6"/>
          <p:cNvSpPr/>
          <p:nvPr/>
        </p:nvSpPr>
        <p:spPr>
          <a:xfrm>
            <a:off x="142920" y="1428840"/>
            <a:ext cx="492912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Оптоволоконная связь - 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900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точек здравоохран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зервный модемный пул - 480 линий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Защита данных 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– VipNe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ервисы ЕМТС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: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МИАЦ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АЦ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терне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чтовый сервер здравоохран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чтовые 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unix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-сервера учреждений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.обмен между ИС учреждений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02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03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Documents and Settings\Papa\Рабочий стол\urban\Stockxpert_3DBoysConceptual\Stockxpert_3DBoysConceptual\Stockxpert_3DBoysConceptual\stockxpertcom_id1995441_size5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оль информатизации в системе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02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9"/>
          <p:cNvSpPr/>
          <p:nvPr/>
        </p:nvSpPr>
        <p:spPr>
          <a:xfrm>
            <a:off x="3429000" y="1571760"/>
            <a:ext cx="5715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нова системы мониторинга за состоянием здоровья населения и демографическими показателям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3500280" y="4357800"/>
            <a:ext cx="51436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нова для оперативного принятия адекватных лечебно-диагностических решений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500280" y="3143160"/>
            <a:ext cx="564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нова для принятия адекватных управленческих решений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Прямоугольник 12"/>
          <p:cNvSpPr/>
          <p:nvPr/>
        </p:nvSpPr>
        <p:spPr>
          <a:xfrm>
            <a:off x="285840" y="171468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Государств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Прямоугольник 13"/>
          <p:cNvSpPr/>
          <p:nvPr/>
        </p:nvSpPr>
        <p:spPr>
          <a:xfrm>
            <a:off x="285840" y="442908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Специалис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285840" y="314316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уководитель/собственни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Штриховая стрелка вправо 15"/>
          <p:cNvSpPr/>
          <p:nvPr/>
        </p:nvSpPr>
        <p:spPr>
          <a:xfrm>
            <a:off x="2786040" y="1714680"/>
            <a:ext cx="571680" cy="428400"/>
          </a:xfrm>
          <a:custGeom>
            <a:avLst/>
            <a:gdLst/>
            <a:ahLst/>
            <a:rect l="l" t="t" r="r" b="b"/>
            <a:pathLst>
              <a:path w="571500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lnTo>
                  <a:pt x="0" y="107156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lnTo>
                  <a:pt x="26789" y="107156"/>
                </a:lnTo>
                <a:close/>
                <a:moveTo>
                  <a:pt x="66973" y="107156"/>
                </a:moveTo>
                <a:lnTo>
                  <a:pt x="357188" y="107156"/>
                </a:lnTo>
                <a:lnTo>
                  <a:pt x="357188" y="0"/>
                </a:lnTo>
                <a:lnTo>
                  <a:pt x="571500" y="214313"/>
                </a:lnTo>
                <a:lnTo>
                  <a:pt x="357188" y="428625"/>
                </a:lnTo>
                <a:lnTo>
                  <a:pt x="357188" y="321469"/>
                </a:lnTo>
                <a:lnTo>
                  <a:pt x="66973" y="321469"/>
                </a:lnTo>
                <a:lnTo>
                  <a:pt x="66973" y="10715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1745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0" name="Штриховая стрелка вправо 16"/>
          <p:cNvSpPr/>
          <p:nvPr/>
        </p:nvSpPr>
        <p:spPr>
          <a:xfrm>
            <a:off x="2786040" y="4500720"/>
            <a:ext cx="571680" cy="428400"/>
          </a:xfrm>
          <a:custGeom>
            <a:avLst/>
            <a:gdLst/>
            <a:ahLst/>
            <a:rect l="l" t="t" r="r" b="b"/>
            <a:pathLst>
              <a:path w="571500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lnTo>
                  <a:pt x="0" y="107156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lnTo>
                  <a:pt x="26789" y="107156"/>
                </a:lnTo>
                <a:close/>
                <a:moveTo>
                  <a:pt x="66973" y="107156"/>
                </a:moveTo>
                <a:lnTo>
                  <a:pt x="357188" y="107156"/>
                </a:lnTo>
                <a:lnTo>
                  <a:pt x="357188" y="0"/>
                </a:lnTo>
                <a:lnTo>
                  <a:pt x="571500" y="214313"/>
                </a:lnTo>
                <a:lnTo>
                  <a:pt x="357188" y="428625"/>
                </a:lnTo>
                <a:lnTo>
                  <a:pt x="357188" y="321469"/>
                </a:lnTo>
                <a:lnTo>
                  <a:pt x="66973" y="321469"/>
                </a:lnTo>
                <a:lnTo>
                  <a:pt x="66973" y="10715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1745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Штриховая стрелка вправо 17"/>
          <p:cNvSpPr/>
          <p:nvPr/>
        </p:nvSpPr>
        <p:spPr>
          <a:xfrm>
            <a:off x="2786040" y="3214800"/>
            <a:ext cx="571680" cy="428400"/>
          </a:xfrm>
          <a:custGeom>
            <a:avLst/>
            <a:gdLst/>
            <a:ahLst/>
            <a:rect l="l" t="t" r="r" b="b"/>
            <a:pathLst>
              <a:path w="571500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lnTo>
                  <a:pt x="0" y="107156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lnTo>
                  <a:pt x="26789" y="107156"/>
                </a:lnTo>
                <a:close/>
                <a:moveTo>
                  <a:pt x="66973" y="107156"/>
                </a:moveTo>
                <a:lnTo>
                  <a:pt x="357188" y="107156"/>
                </a:lnTo>
                <a:lnTo>
                  <a:pt x="357188" y="0"/>
                </a:lnTo>
                <a:lnTo>
                  <a:pt x="571500" y="214313"/>
                </a:lnTo>
                <a:lnTo>
                  <a:pt x="357188" y="428625"/>
                </a:lnTo>
                <a:lnTo>
                  <a:pt x="357188" y="321469"/>
                </a:lnTo>
                <a:lnTo>
                  <a:pt x="66973" y="321469"/>
                </a:lnTo>
                <a:lnTo>
                  <a:pt x="66973" y="10715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1745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6"/>
          <p:cNvSpPr/>
          <p:nvPr/>
        </p:nvSpPr>
        <p:spPr>
          <a:xfrm>
            <a:off x="0" y="1428840"/>
            <a:ext cx="9144000" cy="15238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яд задач управления системой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07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08" name="AutoShape 3"/>
          <p:cNvSpPr/>
          <p:nvPr/>
        </p:nvSpPr>
        <p:spPr>
          <a:xfrm>
            <a:off x="428760" y="2143080"/>
            <a:ext cx="2700360" cy="3500640"/>
          </a:xfrm>
          <a:custGeom>
            <a:avLst/>
            <a:gdLst>
              <a:gd name="textAreaLeft" fmla="*/ 37080 w 2700360"/>
              <a:gd name="textAreaRight" fmla="*/ 2663280 w 2700360"/>
              <a:gd name="textAreaTop" fmla="*/ 37080 h 3500640"/>
              <a:gd name="textAreaBottom" fmla="*/ 3463560 h 3500640"/>
            </a:gdLst>
            <a:ahLst/>
            <a:rect l="textAreaLeft" t="textAreaTop" r="textAreaRight" b="textAreaBottom"/>
            <a:pathLst>
              <a:path w="21600" h="28001">
                <a:moveTo>
                  <a:pt x="1013" y="0"/>
                </a:moveTo>
                <a:arcTo wR="1013" hR="1013" stAng="16200000" swAng="-5400000"/>
                <a:lnTo>
                  <a:pt x="0" y="26988"/>
                </a:lnTo>
                <a:arcTo wR="1013" hR="1013" stAng="10800000" swAng="-5400000"/>
                <a:lnTo>
                  <a:pt x="20587" y="28001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3bb6cf"/>
              </a:gs>
              <a:gs pos="100000">
                <a:srgbClr val="41b8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3357720" y="2143080"/>
            <a:ext cx="2571480" cy="3500640"/>
          </a:xfrm>
          <a:custGeom>
            <a:avLst/>
            <a:gdLst>
              <a:gd name="textAreaLeft" fmla="*/ 35280 w 2571480"/>
              <a:gd name="textAreaRight" fmla="*/ 2536200 w 2571480"/>
              <a:gd name="textAreaTop" fmla="*/ 35280 h 3500640"/>
              <a:gd name="textAreaBottom" fmla="*/ 3465360 h 3500640"/>
            </a:gdLst>
            <a:ahLst/>
            <a:rect l="textAreaLeft" t="textAreaTop" r="textAreaRight" b="textAreaBottom"/>
            <a:pathLst>
              <a:path w="21600" h="29404">
                <a:moveTo>
                  <a:pt x="1013" y="0"/>
                </a:moveTo>
                <a:arcTo wR="1013" hR="1013" stAng="16200000" swAng="-5400000"/>
                <a:lnTo>
                  <a:pt x="0" y="28391"/>
                </a:lnTo>
                <a:arcTo wR="1013" hR="1013" stAng="10800000" swAng="-5400000"/>
                <a:lnTo>
                  <a:pt x="20587" y="29404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5da4eb"/>
              </a:gs>
              <a:gs pos="100000">
                <a:srgbClr val="4f8b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6143760" y="2143080"/>
            <a:ext cx="2500200" cy="3500640"/>
          </a:xfrm>
          <a:custGeom>
            <a:avLst/>
            <a:gdLst>
              <a:gd name="textAreaLeft" fmla="*/ 34200 w 2500200"/>
              <a:gd name="textAreaRight" fmla="*/ 2466000 w 2500200"/>
              <a:gd name="textAreaTop" fmla="*/ 34200 h 3500640"/>
              <a:gd name="textAreaBottom" fmla="*/ 3466440 h 3500640"/>
            </a:gdLst>
            <a:ahLst/>
            <a:rect l="textAreaLeft" t="textAreaTop" r="textAreaRight" b="textAreaBottom"/>
            <a:pathLst>
              <a:path w="21600" h="30242">
                <a:moveTo>
                  <a:pt x="1013" y="0"/>
                </a:moveTo>
                <a:arcTo wR="1013" hR="1013" stAng="16200000" swAng="-5400000"/>
                <a:lnTo>
                  <a:pt x="0" y="29229"/>
                </a:lnTo>
                <a:arcTo wR="1013" hR="1013" stAng="10800000" swAng="-5400000"/>
                <a:lnTo>
                  <a:pt x="20587" y="30242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2c58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714240" y="23572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нтроль эффективност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3500280" y="242892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нформационная открыт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Text Box 12"/>
          <p:cNvSpPr/>
          <p:nvPr/>
        </p:nvSpPr>
        <p:spPr>
          <a:xfrm>
            <a:off x="6215040" y="2286000"/>
            <a:ext cx="22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тандартизация административных регламентов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4" name="Пятиугольник 38"/>
          <p:cNvSpPr/>
          <p:nvPr/>
        </p:nvSpPr>
        <p:spPr>
          <a:xfrm>
            <a:off x="571680" y="400068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5" name="Пятиугольник 39"/>
          <p:cNvSpPr/>
          <p:nvPr/>
        </p:nvSpPr>
        <p:spPr>
          <a:xfrm>
            <a:off x="571680" y="500076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Пятиугольник 40"/>
          <p:cNvSpPr/>
          <p:nvPr/>
        </p:nvSpPr>
        <p:spPr>
          <a:xfrm>
            <a:off x="571680" y="450072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Анализ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7" name="Пятиугольник 41"/>
          <p:cNvSpPr/>
          <p:nvPr/>
        </p:nvSpPr>
        <p:spPr>
          <a:xfrm>
            <a:off x="571680" y="3500280"/>
            <a:ext cx="2357280" cy="42876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Сбор и хранение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8" name="Пятиугольник 42"/>
          <p:cNvSpPr/>
          <p:nvPr/>
        </p:nvSpPr>
        <p:spPr>
          <a:xfrm flipH="1">
            <a:off x="6285960" y="400068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9" name="Пятиугольник 43"/>
          <p:cNvSpPr/>
          <p:nvPr/>
        </p:nvSpPr>
        <p:spPr>
          <a:xfrm flipH="1">
            <a:off x="6285960" y="450072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Поддержк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0" name="Пятиугольник 44"/>
          <p:cNvSpPr/>
          <p:nvPr/>
        </p:nvSpPr>
        <p:spPr>
          <a:xfrm flipH="1">
            <a:off x="6285960" y="500076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Безопас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1" name="Пятиугольник 45"/>
          <p:cNvSpPr/>
          <p:nvPr/>
        </p:nvSpPr>
        <p:spPr>
          <a:xfrm flipH="1">
            <a:off x="6285960" y="3500280"/>
            <a:ext cx="2214360" cy="42876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Репозитари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2" name="Блок-схема: процесс 46"/>
          <p:cNvSpPr/>
          <p:nvPr/>
        </p:nvSpPr>
        <p:spPr>
          <a:xfrm>
            <a:off x="3571920" y="407196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Доступ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3" name="Блок-схема: процесс 47"/>
          <p:cNvSpPr/>
          <p:nvPr/>
        </p:nvSpPr>
        <p:spPr>
          <a:xfrm>
            <a:off x="3571920" y="457200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биль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2214720" y="1428840"/>
            <a:ext cx="48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Государственная услуга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Блок-схема: процесс 49"/>
          <p:cNvSpPr/>
          <p:nvPr/>
        </p:nvSpPr>
        <p:spPr>
          <a:xfrm>
            <a:off x="3571920" y="507204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6"/>
          <p:cNvSpPr/>
          <p:nvPr/>
        </p:nvSpPr>
        <p:spPr>
          <a:xfrm>
            <a:off x="0" y="1428840"/>
            <a:ext cx="9144000" cy="15238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яд задач управления системой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29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30" name="AutoShape 3"/>
          <p:cNvSpPr/>
          <p:nvPr/>
        </p:nvSpPr>
        <p:spPr>
          <a:xfrm>
            <a:off x="428760" y="2143080"/>
            <a:ext cx="2700360" cy="3500640"/>
          </a:xfrm>
          <a:custGeom>
            <a:avLst/>
            <a:gdLst>
              <a:gd name="textAreaLeft" fmla="*/ 37080 w 2700360"/>
              <a:gd name="textAreaRight" fmla="*/ 2663280 w 2700360"/>
              <a:gd name="textAreaTop" fmla="*/ 37080 h 3500640"/>
              <a:gd name="textAreaBottom" fmla="*/ 3463560 h 3500640"/>
            </a:gdLst>
            <a:ahLst/>
            <a:rect l="textAreaLeft" t="textAreaTop" r="textAreaRight" b="textAreaBottom"/>
            <a:pathLst>
              <a:path w="21600" h="28001">
                <a:moveTo>
                  <a:pt x="1013" y="0"/>
                </a:moveTo>
                <a:arcTo wR="1013" hR="1013" stAng="16200000" swAng="-5400000"/>
                <a:lnTo>
                  <a:pt x="0" y="26988"/>
                </a:lnTo>
                <a:arcTo wR="1013" hR="1013" stAng="10800000" swAng="-5400000"/>
                <a:lnTo>
                  <a:pt x="20587" y="28001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3bb6cf"/>
              </a:gs>
              <a:gs pos="100000">
                <a:srgbClr val="41b8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Text Box 10"/>
          <p:cNvSpPr/>
          <p:nvPr/>
        </p:nvSpPr>
        <p:spPr>
          <a:xfrm>
            <a:off x="714240" y="23572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нтроль эффективност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2" name="Пятиугольник 25"/>
          <p:cNvSpPr/>
          <p:nvPr/>
        </p:nvSpPr>
        <p:spPr>
          <a:xfrm>
            <a:off x="571680" y="400068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Пятиугольник 26"/>
          <p:cNvSpPr/>
          <p:nvPr/>
        </p:nvSpPr>
        <p:spPr>
          <a:xfrm>
            <a:off x="571680" y="500076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Пятиугольник 27"/>
          <p:cNvSpPr/>
          <p:nvPr/>
        </p:nvSpPr>
        <p:spPr>
          <a:xfrm>
            <a:off x="571680" y="450072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Анализ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Пятиугольник 28"/>
          <p:cNvSpPr/>
          <p:nvPr/>
        </p:nvSpPr>
        <p:spPr>
          <a:xfrm>
            <a:off x="571680" y="3500280"/>
            <a:ext cx="2357280" cy="42876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Сбор и хранение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6" name="Прямоугольник 12"/>
          <p:cNvSpPr/>
          <p:nvPr/>
        </p:nvSpPr>
        <p:spPr>
          <a:xfrm>
            <a:off x="3433320" y="3143160"/>
            <a:ext cx="567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«Повышение доступности и качества мед.помощи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7" name="AutoShape 14"/>
          <p:cNvSpPr/>
          <p:nvPr/>
        </p:nvSpPr>
        <p:spPr>
          <a:xfrm>
            <a:off x="5715000" y="3500280"/>
            <a:ext cx="534960" cy="987480"/>
          </a:xfrm>
          <a:prstGeom prst="upArrow">
            <a:avLst>
              <a:gd name="adj1" fmla="val 78306"/>
              <a:gd name="adj2" fmla="val 4817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8" name="Прямоугольник 16"/>
          <p:cNvSpPr/>
          <p:nvPr/>
        </p:nvSpPr>
        <p:spPr>
          <a:xfrm>
            <a:off x="4234680" y="4429080"/>
            <a:ext cx="43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Эффективность работы органов гос.власт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9" name="Группа 36"/>
          <p:cNvGrpSpPr/>
          <p:nvPr/>
        </p:nvGrpSpPr>
        <p:grpSpPr>
          <a:xfrm>
            <a:off x="6858000" y="3429360"/>
            <a:ext cx="1615320" cy="1101960"/>
            <a:chOff x="6858000" y="3429360"/>
            <a:chExt cx="1615320" cy="1101960"/>
          </a:xfrm>
        </p:grpSpPr>
        <p:sp>
          <p:nvSpPr>
            <p:cNvPr id="440" name="AutoShape 14"/>
            <p:cNvSpPr/>
            <p:nvPr/>
          </p:nvSpPr>
          <p:spPr>
            <a:xfrm rot="18749400">
              <a:off x="7135200" y="3465720"/>
              <a:ext cx="534240" cy="987480"/>
            </a:xfrm>
            <a:prstGeom prst="upArrow">
              <a:avLst>
                <a:gd name="adj1" fmla="val 78306"/>
                <a:gd name="adj2" fmla="val 48238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82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Прямоугольник 17"/>
            <p:cNvSpPr/>
            <p:nvPr/>
          </p:nvSpPr>
          <p:spPr>
            <a:xfrm>
              <a:off x="7434720" y="4072320"/>
              <a:ext cx="1038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задача </a:t>
              </a:r>
              <a:r>
                <a:rPr b="0" lang="en-US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N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42" name="Группа 35"/>
          <p:cNvGrpSpPr/>
          <p:nvPr/>
        </p:nvGrpSpPr>
        <p:grpSpPr>
          <a:xfrm>
            <a:off x="3862800" y="3429000"/>
            <a:ext cx="1146600" cy="1071000"/>
            <a:chOff x="3862800" y="3429000"/>
            <a:chExt cx="1146600" cy="1071000"/>
          </a:xfrm>
        </p:grpSpPr>
        <p:sp>
          <p:nvSpPr>
            <p:cNvPr id="443" name="AutoShape 14"/>
            <p:cNvSpPr/>
            <p:nvPr/>
          </p:nvSpPr>
          <p:spPr>
            <a:xfrm rot="2750400">
              <a:off x="4201560" y="3470760"/>
              <a:ext cx="534600" cy="986760"/>
            </a:xfrm>
            <a:prstGeom prst="upArrow">
              <a:avLst>
                <a:gd name="adj1" fmla="val 78306"/>
                <a:gd name="adj2" fmla="val 4817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265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4" name="Прямоугольник 18"/>
            <p:cNvSpPr/>
            <p:nvPr/>
          </p:nvSpPr>
          <p:spPr>
            <a:xfrm>
              <a:off x="3862800" y="4000320"/>
              <a:ext cx="100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задача 1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45" name="AutoShape 14"/>
          <p:cNvSpPr/>
          <p:nvPr/>
        </p:nvSpPr>
        <p:spPr>
          <a:xfrm>
            <a:off x="5786280" y="4857840"/>
            <a:ext cx="535320" cy="987480"/>
          </a:xfrm>
          <a:prstGeom prst="upArrow">
            <a:avLst>
              <a:gd name="adj1" fmla="val 78306"/>
              <a:gd name="adj2" fmla="val 48140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46" name="Группа 37"/>
          <p:cNvGrpSpPr/>
          <p:nvPr/>
        </p:nvGrpSpPr>
        <p:grpSpPr>
          <a:xfrm>
            <a:off x="3651840" y="4786560"/>
            <a:ext cx="1439640" cy="1071000"/>
            <a:chOff x="3651840" y="4786560"/>
            <a:chExt cx="1439640" cy="1071000"/>
          </a:xfrm>
        </p:grpSpPr>
        <p:sp>
          <p:nvSpPr>
            <p:cNvPr id="447" name="AutoShape 14"/>
            <p:cNvSpPr/>
            <p:nvPr/>
          </p:nvSpPr>
          <p:spPr>
            <a:xfrm rot="2750400">
              <a:off x="4273200" y="4828320"/>
              <a:ext cx="534240" cy="987120"/>
            </a:xfrm>
            <a:prstGeom prst="upArrow">
              <a:avLst>
                <a:gd name="adj1" fmla="val 78306"/>
                <a:gd name="adj2" fmla="val 4822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265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Прямоугольник 32"/>
            <p:cNvSpPr/>
            <p:nvPr/>
          </p:nvSpPr>
          <p:spPr>
            <a:xfrm>
              <a:off x="3651840" y="5357880"/>
              <a:ext cx="1439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инструмент 1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49" name="Группа 38"/>
          <p:cNvGrpSpPr/>
          <p:nvPr/>
        </p:nvGrpSpPr>
        <p:grpSpPr>
          <a:xfrm>
            <a:off x="6929280" y="4786920"/>
            <a:ext cx="1481760" cy="1101600"/>
            <a:chOff x="6929280" y="4786920"/>
            <a:chExt cx="1481760" cy="1101600"/>
          </a:xfrm>
        </p:grpSpPr>
        <p:sp>
          <p:nvSpPr>
            <p:cNvPr id="450" name="AutoShape 14"/>
            <p:cNvSpPr/>
            <p:nvPr/>
          </p:nvSpPr>
          <p:spPr>
            <a:xfrm rot="18749400">
              <a:off x="7206120" y="4823640"/>
              <a:ext cx="534240" cy="986760"/>
            </a:xfrm>
            <a:prstGeom prst="upArrow">
              <a:avLst>
                <a:gd name="adj1" fmla="val 78306"/>
                <a:gd name="adj2" fmla="val 48202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82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1" name="Прямоугольник 33"/>
            <p:cNvSpPr/>
            <p:nvPr/>
          </p:nvSpPr>
          <p:spPr>
            <a:xfrm>
              <a:off x="6938280" y="5429520"/>
              <a:ext cx="1472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инструмент </a:t>
              </a:r>
              <a:r>
                <a:rPr b="0" lang="en-US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N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2" name="Прямоугольник 34"/>
          <p:cNvSpPr/>
          <p:nvPr/>
        </p:nvSpPr>
        <p:spPr>
          <a:xfrm>
            <a:off x="5506560" y="5500800"/>
            <a:ext cx="114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Контроль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иторинг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214200" y="1342800"/>
            <a:ext cx="8786880" cy="51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Государственное медицинское статистическое наблюдение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оценки эффективности деятельности исполнительных органов власти в СП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взаимодействия исполнительных органов власти в СП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Национального проекта «Здоровье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социально-экономического развития СПб ( в т. ч. районов СПб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стандартов проживания в СП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Социально-гигиенический мониторинг в СП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5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6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57" name="AutoShape 3"/>
          <p:cNvSpPr/>
          <p:nvPr/>
        </p:nvSpPr>
        <p:spPr>
          <a:xfrm flipV="1">
            <a:off x="2643120" y="3142440"/>
            <a:ext cx="3929040" cy="235764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4090e8">
                  <a:alpha val="3215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8" name="Прямоугольник 6"/>
          <p:cNvSpPr/>
          <p:nvPr/>
        </p:nvSpPr>
        <p:spPr>
          <a:xfrm>
            <a:off x="500040" y="550080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Аналитические системы класса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Arial"/>
              </a:rPr>
              <a:t>Business Intelligence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и сопутствующие методические наработк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4"/>
          <p:cNvSpPr/>
          <p:nvPr/>
        </p:nvSpPr>
        <p:spPr>
          <a:xfrm flipH="1">
            <a:off x="0" y="3786120"/>
            <a:ext cx="9144000" cy="71460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0" name="Rectangle 10"/>
          <p:cNvSpPr/>
          <p:nvPr/>
        </p:nvSpPr>
        <p:spPr>
          <a:xfrm flipH="1">
            <a:off x="0" y="1214280"/>
            <a:ext cx="9144000" cy="71460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3b1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ртальные технолог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TextBox 8"/>
          <p:cNvSpPr/>
          <p:nvPr/>
        </p:nvSpPr>
        <p:spPr>
          <a:xfrm>
            <a:off x="285840" y="1357200"/>
            <a:ext cx="8643960" cy="55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Задачи: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Организация взаимодействия с учреждениями здравоохранения и ИОГВ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Формирование и ведение централизованного ресурса мониторин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Анализ материалов информационного ресурс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Формирование результатов в виде отчетов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ртал проектов управления здравоохранением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Задачи: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истема управления документооборотом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Управление проектами в здравоохранении Санкт-Петербур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Общегородской календарь мероприятий в здравоохранени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Телефонный справочник системы здравоохран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иск информаци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3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4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71360" y="5713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истема информационного взаимодействия учреждений здравоохранения Санкт-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TextBox 8"/>
          <p:cNvSpPr/>
          <p:nvPr/>
        </p:nvSpPr>
        <p:spPr>
          <a:xfrm>
            <a:off x="214200" y="1214280"/>
            <a:ext cx="8929800" cy="53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абочий стол организатора здравоохран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Календарь мероприят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Сбор данных (анкетирование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Библиотека копий распоряжений и приказов ТОУЗ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Виртуальный кабинет Главного специалиста ТОУЗ по направлениям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ая система по работе с обращениями граждан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ая система учета потребности и планирования закупок оборудова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правочники и классификаторы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Каталог/репозитарий веб-сервисов (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UDDI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ый сервис по мониторингу эпидемиологической ситуаци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Узел Льготного Лекарственного Обеспеч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ый сервис регистрации летальност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правочные службы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Медицин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позитарий интерактивных схем документооборота в системе здравоохранения Санкт-Петербур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Техническая поддержка (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Service Desk)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учреждений здравоохранения Санкт-Петербур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7" name="Нижний колонтитул 4"/>
          <p:cNvSpPr/>
          <p:nvPr/>
        </p:nvSpPr>
        <p:spPr>
          <a:xfrm>
            <a:off x="3743280" y="6500880"/>
            <a:ext cx="5400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8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1071720" y="571680"/>
            <a:ext cx="8072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екты внедрения СЭД в ЛПУ районов города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70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71" name="Нижний колонтитул 1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2" name="Прямоугольник 14"/>
          <p:cNvSpPr/>
          <p:nvPr/>
        </p:nvSpPr>
        <p:spPr>
          <a:xfrm>
            <a:off x="428760" y="1500120"/>
            <a:ext cx="8429400" cy="45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Внедрение СЭД обеспечит повышение эффективности работы учреждений здравоохранения и ИОГВ, повышение эффективности межведомственного взаимодействия и работ по приему писем и обращений граждан за счет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Создания автоматизированной информационной системы обеспечивающей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ированный учет документов ИОГВ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доступ к документам в соответствии с компетенцией участников документооборота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Обеспечения автоматизированного контроля исполнения документов и поручений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ированная рассылка в электронном виде контрольных документов и поручений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ированная рассылка в электронном виде уведомлений о нарушении сроков исполнения документов и поручений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74" name="Нижний колонтитул 1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5" name="Прямоугольник 14"/>
          <p:cNvSpPr/>
          <p:nvPr/>
        </p:nvSpPr>
        <p:spPr>
          <a:xfrm>
            <a:off x="428760" y="1500120"/>
            <a:ext cx="84294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Цели проекта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Сокращение сроков рассмотрения и исполнения служебных документов, поручений руководителей, писем и устных обращений граждан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Сокращение сроков согласования проектов рабочих и распорядительных документов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Мероприятия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проекта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Для достижения поставленных целей необходимо решить следующие основные задачи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обеспечить учет и контроль движения документов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внедрить единую сквозную технологию контроля исполнения документов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исключить при передаче документов между участниками документооборота необходимость повторного, ручного ввода первичной регистрационной информации о документах, которые включены в СЭД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обеспечить информационную поддержку принятия управляющих решений на основе оперативного доступа сотрудников учреждений здравоохранения и ИОГВ к любому документу, входящему в область их компетенции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1071720" y="571680"/>
            <a:ext cx="8072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екты внедрения СЭД в ЛПУ районов города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6"/>
          <p:cNvSpPr/>
          <p:nvPr/>
        </p:nvSpPr>
        <p:spPr>
          <a:xfrm>
            <a:off x="0" y="1428840"/>
            <a:ext cx="9144000" cy="15238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яд задач управления системой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6"/>
          <p:cNvSpPr/>
          <p:nvPr/>
        </p:nvSpPr>
        <p:spPr>
          <a:xfrm>
            <a:off x="6143760" y="2143080"/>
            <a:ext cx="2500200" cy="3500640"/>
          </a:xfrm>
          <a:custGeom>
            <a:avLst/>
            <a:gdLst>
              <a:gd name="textAreaLeft" fmla="*/ 34200 w 2500200"/>
              <a:gd name="textAreaRight" fmla="*/ 2466000 w 2500200"/>
              <a:gd name="textAreaTop" fmla="*/ 34200 h 3500640"/>
              <a:gd name="textAreaBottom" fmla="*/ 3466440 h 3500640"/>
            </a:gdLst>
            <a:ahLst/>
            <a:rect l="textAreaLeft" t="textAreaTop" r="textAreaRight" b="textAreaBottom"/>
            <a:pathLst>
              <a:path w="21600" h="30242">
                <a:moveTo>
                  <a:pt x="1013" y="0"/>
                </a:moveTo>
                <a:arcTo wR="1013" hR="1013" stAng="16200000" swAng="-5400000"/>
                <a:lnTo>
                  <a:pt x="0" y="29229"/>
                </a:lnTo>
                <a:arcTo wR="1013" hR="1013" stAng="10800000" swAng="-5400000"/>
                <a:lnTo>
                  <a:pt x="20587" y="30242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2c58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2" name="Text Box 12"/>
          <p:cNvSpPr/>
          <p:nvPr/>
        </p:nvSpPr>
        <p:spPr>
          <a:xfrm>
            <a:off x="6215040" y="2286000"/>
            <a:ext cx="22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тандартизация административных регламентов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3" name="Пятиугольник 42"/>
          <p:cNvSpPr/>
          <p:nvPr/>
        </p:nvSpPr>
        <p:spPr>
          <a:xfrm flipH="1">
            <a:off x="6285960" y="400068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4" name="Пятиугольник 43"/>
          <p:cNvSpPr/>
          <p:nvPr/>
        </p:nvSpPr>
        <p:spPr>
          <a:xfrm flipH="1">
            <a:off x="6285960" y="450072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Поддержк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5" name="Пятиугольник 44"/>
          <p:cNvSpPr/>
          <p:nvPr/>
        </p:nvSpPr>
        <p:spPr>
          <a:xfrm flipH="1">
            <a:off x="6285960" y="500076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Безопас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6" name="Пятиугольник 45"/>
          <p:cNvSpPr/>
          <p:nvPr/>
        </p:nvSpPr>
        <p:spPr>
          <a:xfrm flipH="1">
            <a:off x="6285960" y="3500280"/>
            <a:ext cx="2214360" cy="42876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Репозитарий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7" name="Прямоугольник 11"/>
          <p:cNvSpPr/>
          <p:nvPr/>
        </p:nvSpPr>
        <p:spPr>
          <a:xfrm>
            <a:off x="285840" y="3143160"/>
            <a:ext cx="4714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SOA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архитектура решений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XML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формат обмена данным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Управление проектами (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PMI PMBOK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Создание централизованной тех.поддержк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Использование ЭЦП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A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архитектура решени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9" name="Picture 3" descr="F:\Подготовка презентации 2008\ICONS\Crystal_Clear_Icons\Crystal Clear Icons\kblackbox.png"/>
          <p:cNvPicPr/>
          <p:nvPr/>
        </p:nvPicPr>
        <p:blipFill>
          <a:blip r:embed="rId1"/>
          <a:stretch/>
        </p:blipFill>
        <p:spPr>
          <a:xfrm>
            <a:off x="6715080" y="142884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5" descr="F:\Подготовка презентации 2008\ICONS\Crystal_Clear_Icons\Crystal Clear Icons\display.png"/>
          <p:cNvPicPr/>
          <p:nvPr/>
        </p:nvPicPr>
        <p:blipFill>
          <a:blip r:embed="rId2"/>
          <a:stretch/>
        </p:blipFill>
        <p:spPr>
          <a:xfrm>
            <a:off x="571680" y="2357280"/>
            <a:ext cx="838080" cy="838440"/>
          </a:xfrm>
          <a:prstGeom prst="rect">
            <a:avLst/>
          </a:prstGeom>
          <a:ln w="0">
            <a:noFill/>
          </a:ln>
        </p:spPr>
      </p:pic>
      <p:grpSp>
        <p:nvGrpSpPr>
          <p:cNvPr id="491" name="Group 6"/>
          <p:cNvGrpSpPr/>
          <p:nvPr/>
        </p:nvGrpSpPr>
        <p:grpSpPr>
          <a:xfrm>
            <a:off x="928800" y="3286080"/>
            <a:ext cx="2885760" cy="444240"/>
            <a:chOff x="928800" y="3286080"/>
            <a:chExt cx="2885760" cy="444240"/>
          </a:xfrm>
        </p:grpSpPr>
        <p:sp>
          <p:nvSpPr>
            <p:cNvPr id="492" name="AutoShape 7"/>
            <p:cNvSpPr/>
            <p:nvPr/>
          </p:nvSpPr>
          <p:spPr>
            <a:xfrm>
              <a:off x="928800" y="328608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AutoShape 8"/>
            <p:cNvSpPr/>
            <p:nvPr/>
          </p:nvSpPr>
          <p:spPr>
            <a:xfrm>
              <a:off x="948240" y="328968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94" name="Group 9"/>
          <p:cNvGrpSpPr/>
          <p:nvPr/>
        </p:nvGrpSpPr>
        <p:grpSpPr>
          <a:xfrm>
            <a:off x="927000" y="3875040"/>
            <a:ext cx="2885760" cy="444240"/>
            <a:chOff x="927000" y="3875040"/>
            <a:chExt cx="2885760" cy="444240"/>
          </a:xfrm>
        </p:grpSpPr>
        <p:sp>
          <p:nvSpPr>
            <p:cNvPr id="495" name="AutoShape 10"/>
            <p:cNvSpPr/>
            <p:nvPr/>
          </p:nvSpPr>
          <p:spPr>
            <a:xfrm>
              <a:off x="927000" y="387504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11"/>
            <p:cNvSpPr/>
            <p:nvPr/>
          </p:nvSpPr>
          <p:spPr>
            <a:xfrm>
              <a:off x="946440" y="387864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7" name="Rectangle 29"/>
          <p:cNvSpPr/>
          <p:nvPr/>
        </p:nvSpPr>
        <p:spPr>
          <a:xfrm>
            <a:off x="956880" y="3349800"/>
            <a:ext cx="194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оддержка врача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956160" y="3921120"/>
            <a:ext cx="23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Управленческий учёт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99" name="Group 6"/>
          <p:cNvGrpSpPr/>
          <p:nvPr/>
        </p:nvGrpSpPr>
        <p:grpSpPr>
          <a:xfrm>
            <a:off x="949320" y="4421160"/>
            <a:ext cx="2885760" cy="444240"/>
            <a:chOff x="949320" y="4421160"/>
            <a:chExt cx="2885760" cy="444240"/>
          </a:xfrm>
        </p:grpSpPr>
        <p:sp>
          <p:nvSpPr>
            <p:cNvPr id="500" name="AutoShape 7"/>
            <p:cNvSpPr/>
            <p:nvPr/>
          </p:nvSpPr>
          <p:spPr>
            <a:xfrm>
              <a:off x="949320" y="442116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1" name="AutoShape 8"/>
            <p:cNvSpPr/>
            <p:nvPr/>
          </p:nvSpPr>
          <p:spPr>
            <a:xfrm>
              <a:off x="968760" y="442476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02" name="Group 9"/>
          <p:cNvGrpSpPr/>
          <p:nvPr/>
        </p:nvGrpSpPr>
        <p:grpSpPr>
          <a:xfrm>
            <a:off x="947880" y="5010120"/>
            <a:ext cx="2885400" cy="444240"/>
            <a:chOff x="947880" y="5010120"/>
            <a:chExt cx="2885400" cy="444240"/>
          </a:xfrm>
        </p:grpSpPr>
        <p:sp>
          <p:nvSpPr>
            <p:cNvPr id="503" name="AutoShape 10"/>
            <p:cNvSpPr/>
            <p:nvPr/>
          </p:nvSpPr>
          <p:spPr>
            <a:xfrm>
              <a:off x="947880" y="5010120"/>
              <a:ext cx="2885400" cy="44424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4" name="AutoShape 11"/>
            <p:cNvSpPr/>
            <p:nvPr/>
          </p:nvSpPr>
          <p:spPr>
            <a:xfrm>
              <a:off x="967320" y="5013720"/>
              <a:ext cx="284508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05" name="Rectangle 29"/>
          <p:cNvSpPr/>
          <p:nvPr/>
        </p:nvSpPr>
        <p:spPr>
          <a:xfrm>
            <a:off x="983880" y="4484520"/>
            <a:ext cx="229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атистический учёт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6" name="Rectangle 30"/>
          <p:cNvSpPr/>
          <p:nvPr/>
        </p:nvSpPr>
        <p:spPr>
          <a:xfrm>
            <a:off x="981360" y="5056200"/>
            <a:ext cx="199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Финансовый учёт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07" name="Group 6"/>
          <p:cNvGrpSpPr/>
          <p:nvPr/>
        </p:nvGrpSpPr>
        <p:grpSpPr>
          <a:xfrm>
            <a:off x="969840" y="5556240"/>
            <a:ext cx="2885760" cy="444240"/>
            <a:chOff x="969840" y="5556240"/>
            <a:chExt cx="2885760" cy="444240"/>
          </a:xfrm>
        </p:grpSpPr>
        <p:sp>
          <p:nvSpPr>
            <p:cNvPr id="508" name="AutoShape 7"/>
            <p:cNvSpPr/>
            <p:nvPr/>
          </p:nvSpPr>
          <p:spPr>
            <a:xfrm>
              <a:off x="969840" y="555624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9" name="AutoShape 8"/>
            <p:cNvSpPr/>
            <p:nvPr/>
          </p:nvSpPr>
          <p:spPr>
            <a:xfrm>
              <a:off x="989280" y="555984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10" name="Rectangle 29"/>
          <p:cNvSpPr/>
          <p:nvPr/>
        </p:nvSpPr>
        <p:spPr>
          <a:xfrm>
            <a:off x="993960" y="5619600"/>
            <a:ext cx="91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рочее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1" name="AutoShape 5"/>
          <p:cNvSpPr/>
          <p:nvPr/>
        </p:nvSpPr>
        <p:spPr>
          <a:xfrm>
            <a:off x="357120" y="1357200"/>
            <a:ext cx="4214880" cy="5072040"/>
          </a:xfrm>
          <a:custGeom>
            <a:avLst/>
            <a:gdLst>
              <a:gd name="textAreaLeft" fmla="*/ 42840 w 4214880"/>
              <a:gd name="textAreaRight" fmla="*/ 4172040 w 4214880"/>
              <a:gd name="textAreaTop" fmla="*/ 42840 h 5072040"/>
              <a:gd name="textAreaBottom" fmla="*/ 5029200 h 5072040"/>
            </a:gdLst>
            <a:ahLst/>
            <a:rect l="textAreaLeft" t="textAreaTop" r="textAreaRight" b="textAreaBottom"/>
            <a:pathLst>
              <a:path w="21600" h="25992">
                <a:moveTo>
                  <a:pt x="752" y="0"/>
                </a:moveTo>
                <a:arcTo wR="752" hR="752" stAng="16200000" swAng="-5400000"/>
                <a:lnTo>
                  <a:pt x="0" y="25240"/>
                </a:lnTo>
                <a:arcTo wR="752" hR="752" stAng="10800000" swAng="-5400000"/>
                <a:lnTo>
                  <a:pt x="20848" y="25992"/>
                </a:lnTo>
                <a:arcTo wR="752" hR="752" stAng="5400000" swAng="-5400000"/>
                <a:lnTo>
                  <a:pt x="21600" y="752"/>
                </a:lnTo>
                <a:arcTo wR="752" hR="752" stAng="0" swAng="-5400000"/>
                <a:close/>
              </a:path>
            </a:pathLst>
          </a:custGeom>
          <a:noFill/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2" name="TextBox 45"/>
          <p:cNvSpPr/>
          <p:nvPr/>
        </p:nvSpPr>
        <p:spPr>
          <a:xfrm>
            <a:off x="1441440" y="2357280"/>
            <a:ext cx="21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Медицинская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ая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Система (МИС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13" name="Picture 3" descr="F:\Подготовка презентации 2008\ICONS\Crystal_Clear_Icons\Crystal Clear Icons\kblackbox.png"/>
          <p:cNvPicPr/>
          <p:nvPr/>
        </p:nvPicPr>
        <p:blipFill>
          <a:blip r:embed="rId3"/>
          <a:stretch/>
        </p:blipFill>
        <p:spPr>
          <a:xfrm>
            <a:off x="6786720" y="31431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3" descr="F:\Подготовка презентации 2008\ICONS\Crystal_Clear_Icons\Crystal Clear Icons\kblackbox.png"/>
          <p:cNvPicPr/>
          <p:nvPr/>
        </p:nvPicPr>
        <p:blipFill>
          <a:blip r:embed="rId4"/>
          <a:stretch/>
        </p:blipFill>
        <p:spPr>
          <a:xfrm>
            <a:off x="6786720" y="485784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8"/>
          <p:cNvSpPr/>
          <p:nvPr/>
        </p:nvSpPr>
        <p:spPr>
          <a:xfrm>
            <a:off x="6222600" y="2643120"/>
            <a:ext cx="210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Государственны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ые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TextBox 49"/>
          <p:cNvSpPr/>
          <p:nvPr/>
        </p:nvSpPr>
        <p:spPr>
          <a:xfrm>
            <a:off x="6294240" y="4357800"/>
            <a:ext cx="210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Общегородски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ые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TextBox 50"/>
          <p:cNvSpPr/>
          <p:nvPr/>
        </p:nvSpPr>
        <p:spPr>
          <a:xfrm>
            <a:off x="6006240" y="6072120"/>
            <a:ext cx="28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Нормативно справочная информац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18" name="Picture 8" descr="F:\Подготовка презентации 2008\ICONS\VirtualLNK Icons\VirtualLNK Medical Icons Collection v1.0\BMP\Regular\72x72\Hospital.bmp"/>
          <p:cNvPicPr/>
          <p:nvPr/>
        </p:nvPicPr>
        <p:blipFill>
          <a:blip r:embed="rId5"/>
          <a:stretch/>
        </p:blipFill>
        <p:spPr>
          <a:xfrm>
            <a:off x="571680" y="157176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519" name="TextBox 55"/>
          <p:cNvSpPr/>
          <p:nvPr/>
        </p:nvSpPr>
        <p:spPr>
          <a:xfrm>
            <a:off x="1158480" y="1357200"/>
            <a:ext cx="305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Учреждение здравоохранения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0" name="Стрелка вправо 56"/>
          <p:cNvSpPr/>
          <p:nvPr/>
        </p:nvSpPr>
        <p:spPr>
          <a:xfrm>
            <a:off x="4071960" y="1785960"/>
            <a:ext cx="2479680" cy="14292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Стрелка вправо 57"/>
          <p:cNvSpPr/>
          <p:nvPr/>
        </p:nvSpPr>
        <p:spPr>
          <a:xfrm rot="10800000">
            <a:off x="4071960" y="2142720"/>
            <a:ext cx="2479680" cy="14292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22" name="Picture 6" descr="F:\Подготовка презентации 2008\ICONS\Crystal_Clear_Icons\Crystal Clear Icons\playlist.png"/>
          <p:cNvPicPr/>
          <p:nvPr/>
        </p:nvPicPr>
        <p:blipFill>
          <a:blip r:embed="rId6"/>
          <a:stretch/>
        </p:blipFill>
        <p:spPr>
          <a:xfrm>
            <a:off x="4857840" y="200016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523" name="TextBox 58"/>
          <p:cNvSpPr/>
          <p:nvPr/>
        </p:nvSpPr>
        <p:spPr>
          <a:xfrm>
            <a:off x="4570200" y="250020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гламен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Стрелка вправо 62"/>
          <p:cNvSpPr/>
          <p:nvPr/>
        </p:nvSpPr>
        <p:spPr>
          <a:xfrm>
            <a:off x="4143240" y="3571920"/>
            <a:ext cx="2387880" cy="14292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Стрелка вправо 63"/>
          <p:cNvSpPr/>
          <p:nvPr/>
        </p:nvSpPr>
        <p:spPr>
          <a:xfrm rot="10800000">
            <a:off x="4071960" y="3928680"/>
            <a:ext cx="2479680" cy="14292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26" name="Picture 6" descr="F:\Подготовка презентации 2008\ICONS\Crystal_Clear_Icons\Crystal Clear Icons\playlist.png"/>
          <p:cNvPicPr/>
          <p:nvPr/>
        </p:nvPicPr>
        <p:blipFill>
          <a:blip r:embed="rId7"/>
          <a:stretch/>
        </p:blipFill>
        <p:spPr>
          <a:xfrm>
            <a:off x="4857840" y="378612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527" name="TextBox 65"/>
          <p:cNvSpPr/>
          <p:nvPr/>
        </p:nvSpPr>
        <p:spPr>
          <a:xfrm>
            <a:off x="4570200" y="428616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гламен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8" name="Стрелка вправо 66"/>
          <p:cNvSpPr/>
          <p:nvPr/>
        </p:nvSpPr>
        <p:spPr>
          <a:xfrm>
            <a:off x="4143240" y="5143680"/>
            <a:ext cx="2571840" cy="14256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9" name="Стрелка вправо 67"/>
          <p:cNvSpPr/>
          <p:nvPr/>
        </p:nvSpPr>
        <p:spPr>
          <a:xfrm rot="10800000">
            <a:off x="4143240" y="5500440"/>
            <a:ext cx="257184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30" name="Picture 6" descr="F:\Подготовка презентации 2008\ICONS\Crystal_Clear_Icons\Crystal Clear Icons\playlist.png"/>
          <p:cNvPicPr/>
          <p:nvPr/>
        </p:nvPicPr>
        <p:blipFill>
          <a:blip r:embed="rId8"/>
          <a:stretch/>
        </p:blipFill>
        <p:spPr>
          <a:xfrm>
            <a:off x="4857840" y="535788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531" name="TextBox 69"/>
          <p:cNvSpPr/>
          <p:nvPr/>
        </p:nvSpPr>
        <p:spPr>
          <a:xfrm>
            <a:off x="4570200" y="585792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гламен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32" name="Picture 13" descr="C:\DATA\Мои документы\Мои рисунки\293551133787556.jpg"/>
          <p:cNvPicPr/>
          <p:nvPr/>
        </p:nvPicPr>
        <p:blipFill>
          <a:blip r:embed="rId9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533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535" name="AutoShape 3"/>
          <p:cNvSpPr/>
          <p:nvPr/>
        </p:nvSpPr>
        <p:spPr>
          <a:xfrm flipV="1">
            <a:off x="1509840" y="1413360"/>
            <a:ext cx="6248160" cy="487692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4090e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6" name="AutoShape 5"/>
          <p:cNvSpPr/>
          <p:nvPr/>
        </p:nvSpPr>
        <p:spPr>
          <a:xfrm flipV="1">
            <a:off x="2500200" y="1642680"/>
            <a:ext cx="4267440" cy="3657600"/>
          </a:xfrm>
          <a:prstGeom prst="upArrow">
            <a:avLst>
              <a:gd name="adj1" fmla="val 72694"/>
              <a:gd name="adj2" fmla="val 33931"/>
            </a:avLst>
          </a:prstGeom>
          <a:gradFill rotWithShape="0">
            <a:gsLst>
              <a:gs pos="0">
                <a:srgbClr val="0066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7" name="AutoShape 7"/>
          <p:cNvSpPr/>
          <p:nvPr/>
        </p:nvSpPr>
        <p:spPr>
          <a:xfrm flipV="1">
            <a:off x="5929200" y="1571760"/>
            <a:ext cx="2643480" cy="207144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8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AutoShape 7"/>
          <p:cNvSpPr/>
          <p:nvPr/>
        </p:nvSpPr>
        <p:spPr>
          <a:xfrm flipV="1">
            <a:off x="3286080" y="1571760"/>
            <a:ext cx="2643120" cy="207144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AutoShape 7"/>
          <p:cNvSpPr/>
          <p:nvPr/>
        </p:nvSpPr>
        <p:spPr>
          <a:xfrm flipV="1">
            <a:off x="642960" y="1571760"/>
            <a:ext cx="2643120" cy="207144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тодолог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Text Box 15"/>
          <p:cNvSpPr/>
          <p:nvPr/>
        </p:nvSpPr>
        <p:spPr>
          <a:xfrm flipV="1" rot="10800000">
            <a:off x="785880" y="1713600"/>
            <a:ext cx="2357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Управление проектами на базе стандарта  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ANSI PMI PMBOK Guide</a:t>
            </a: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3</a:t>
            </a:r>
            <a:r>
              <a:rPr b="1" lang="en-US" sz="1600" spc="-1" strike="noStrike" baseline="30000">
                <a:solidFill>
                  <a:srgbClr val="1d528d"/>
                </a:solidFill>
                <a:latin typeface="Arial"/>
                <a:ea typeface="Arial"/>
              </a:rPr>
              <a:t>rd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 Edition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Text Box 15"/>
          <p:cNvSpPr/>
          <p:nvPr/>
        </p:nvSpPr>
        <p:spPr>
          <a:xfrm flipV="1" rot="10800000">
            <a:off x="3357720" y="1641960"/>
            <a:ext cx="2357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Стандарты разработки информационных систем и информационных ресурсов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Text Box 15"/>
          <p:cNvSpPr/>
          <p:nvPr/>
        </p:nvSpPr>
        <p:spPr>
          <a:xfrm flipV="1" rot="10800000">
            <a:off x="6071760" y="1539360"/>
            <a:ext cx="2357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Стандарты внедрения ИС и ИР и техническая поддержка в соответствии с библиотеками 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ITIL</a:t>
            </a: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Text Box 15"/>
          <p:cNvSpPr/>
          <p:nvPr/>
        </p:nvSpPr>
        <p:spPr>
          <a:xfrm flipV="1" rot="10800000">
            <a:off x="3357720" y="5420160"/>
            <a:ext cx="23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МЕТОДОЛОГИЯ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Text Box 15"/>
          <p:cNvSpPr/>
          <p:nvPr/>
        </p:nvSpPr>
        <p:spPr>
          <a:xfrm flipV="1" rot="10800000">
            <a:off x="3499920" y="3856680"/>
            <a:ext cx="235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РЕГЛАМЕНТЫ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C:\Documents and Settings\Papa\Рабочий стол\3D_Business_Graphics_rep\stockxpertcom_id816491_size4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15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ерспективы информатизации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Прямоугольник 9"/>
          <p:cNvSpPr/>
          <p:nvPr/>
        </p:nvSpPr>
        <p:spPr>
          <a:xfrm>
            <a:off x="214200" y="1503360"/>
            <a:ext cx="8643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тверждение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стандартов в области «Информатизации здоровья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здание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«Государственной информационной системы персонифицированного учета оказания медицинской помощи гражданам Российской Федерации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щита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персональных данных гражданина Российской Федерации обрабатываемых в МИС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витие 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федеральных и территориальных информационных медицинских систем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ятие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новых правовых актов регламентирующих применение информационных систем в здравоохранении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0" y="1428840"/>
            <a:ext cx="9144000" cy="15238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яд задач управления системой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50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5"/>
          <p:cNvSpPr/>
          <p:nvPr/>
        </p:nvSpPr>
        <p:spPr>
          <a:xfrm>
            <a:off x="3357720" y="2143080"/>
            <a:ext cx="2571480" cy="3500640"/>
          </a:xfrm>
          <a:custGeom>
            <a:avLst/>
            <a:gdLst>
              <a:gd name="textAreaLeft" fmla="*/ 35280 w 2571480"/>
              <a:gd name="textAreaRight" fmla="*/ 2536200 w 2571480"/>
              <a:gd name="textAreaTop" fmla="*/ 35280 h 3500640"/>
              <a:gd name="textAreaBottom" fmla="*/ 3465360 h 3500640"/>
            </a:gdLst>
            <a:ahLst/>
            <a:rect l="textAreaLeft" t="textAreaTop" r="textAreaRight" b="textAreaBottom"/>
            <a:pathLst>
              <a:path w="21600" h="29404">
                <a:moveTo>
                  <a:pt x="1013" y="0"/>
                </a:moveTo>
                <a:arcTo wR="1013" hR="1013" stAng="16200000" swAng="-5400000"/>
                <a:lnTo>
                  <a:pt x="0" y="28391"/>
                </a:lnTo>
                <a:arcTo wR="1013" hR="1013" stAng="10800000" swAng="-5400000"/>
                <a:lnTo>
                  <a:pt x="20587" y="29404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5da4eb"/>
              </a:gs>
              <a:gs pos="100000">
                <a:srgbClr val="4f8b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Text Box 11"/>
          <p:cNvSpPr/>
          <p:nvPr/>
        </p:nvSpPr>
        <p:spPr>
          <a:xfrm>
            <a:off x="3500280" y="242892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нформационная открыт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Блок-схема: процесс 46"/>
          <p:cNvSpPr/>
          <p:nvPr/>
        </p:nvSpPr>
        <p:spPr>
          <a:xfrm>
            <a:off x="3571920" y="407196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Доступ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Блок-схема: процесс 47"/>
          <p:cNvSpPr/>
          <p:nvPr/>
        </p:nvSpPr>
        <p:spPr>
          <a:xfrm>
            <a:off x="3571920" y="457200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биль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Блок-схема: процесс 49"/>
          <p:cNvSpPr/>
          <p:nvPr/>
        </p:nvSpPr>
        <p:spPr>
          <a:xfrm>
            <a:off x="3571920" y="507204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Прямоугольник 10"/>
          <p:cNvSpPr/>
          <p:nvPr/>
        </p:nvSpPr>
        <p:spPr>
          <a:xfrm>
            <a:off x="0" y="5786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ая открытость – основа нового имиджа российского государственного управления!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9528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рганизация единого информационного пространства записи на приём в ЛП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Oval 44"/>
          <p:cNvSpPr/>
          <p:nvPr/>
        </p:nvSpPr>
        <p:spPr>
          <a:xfrm rot="5400000">
            <a:off x="406800" y="999000"/>
            <a:ext cx="5543280" cy="5929560"/>
          </a:xfrm>
          <a:prstGeom prst="ellipse">
            <a:avLst/>
          </a:prstGeom>
          <a:solidFill>
            <a:srgbClr val="6e71f0">
              <a:alpha val="27000"/>
            </a:srgbClr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9" name="Oval 45"/>
          <p:cNvSpPr/>
          <p:nvPr/>
        </p:nvSpPr>
        <p:spPr>
          <a:xfrm>
            <a:off x="214200" y="1785960"/>
            <a:ext cx="5214960" cy="4383000"/>
          </a:xfrm>
          <a:prstGeom prst="ellipse">
            <a:avLst/>
          </a:prstGeom>
          <a:solidFill>
            <a:srgbClr val="969696">
              <a:alpha val="54000"/>
            </a:srgbClr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0" name="Oval 46"/>
          <p:cNvSpPr/>
          <p:nvPr/>
        </p:nvSpPr>
        <p:spPr>
          <a:xfrm>
            <a:off x="214200" y="2235240"/>
            <a:ext cx="4500720" cy="3786120"/>
          </a:xfrm>
          <a:prstGeom prst="ellipse">
            <a:avLst/>
          </a:prstGeom>
          <a:solidFill>
            <a:srgbClr val="25b1b1">
              <a:alpha val="64000"/>
            </a:srgbClr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1" name="Oval 47"/>
          <p:cNvSpPr/>
          <p:nvPr/>
        </p:nvSpPr>
        <p:spPr>
          <a:xfrm>
            <a:off x="214200" y="2806560"/>
            <a:ext cx="2786040" cy="2500560"/>
          </a:xfrm>
          <a:prstGeom prst="ellipse">
            <a:avLst/>
          </a:prstGeom>
          <a:solidFill>
            <a:srgbClr val="5bace9">
              <a:alpha val="54000"/>
            </a:srgbClr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62" name="Picture 5" descr="F:\Подготовка презентации 2008\ICONS\Crystal_Clear_Icons\Crystal Clear Icons\display.png"/>
          <p:cNvPicPr/>
          <p:nvPr/>
        </p:nvPicPr>
        <p:blipFill>
          <a:blip r:embed="rId1"/>
          <a:stretch/>
        </p:blipFill>
        <p:spPr>
          <a:xfrm>
            <a:off x="500040" y="352116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563" name="TextBox 26"/>
          <p:cNvSpPr/>
          <p:nvPr/>
        </p:nvSpPr>
        <p:spPr>
          <a:xfrm>
            <a:off x="858600" y="3021120"/>
            <a:ext cx="150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В регистратуре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ЛПУ: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64" name="Picture 27" descr="F:\Подготовка презентации 2008\ICONS\VirtualLNK Icons\VirtualLNK Medical Icons Collection v1.0\BMP\Regular\72x72\Nurse 2.png"/>
          <p:cNvPicPr/>
          <p:nvPr/>
        </p:nvPicPr>
        <p:blipFill>
          <a:blip r:embed="rId2"/>
          <a:stretch/>
        </p:blipFill>
        <p:spPr>
          <a:xfrm>
            <a:off x="1143000" y="3592440"/>
            <a:ext cx="515880" cy="5158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28" descr=""/>
          <p:cNvPicPr/>
          <p:nvPr/>
        </p:nvPicPr>
        <p:blipFill>
          <a:blip r:embed="rId3"/>
          <a:stretch/>
        </p:blipFill>
        <p:spPr>
          <a:xfrm>
            <a:off x="4786200" y="3235320"/>
            <a:ext cx="439920" cy="10047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29" descr=""/>
          <p:cNvPicPr/>
          <p:nvPr/>
        </p:nvPicPr>
        <p:blipFill>
          <a:blip r:embed="rId4"/>
          <a:stretch/>
        </p:blipFill>
        <p:spPr>
          <a:xfrm>
            <a:off x="3143160" y="344952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1" descr="F:\Подготовка презентации 2008\ICONS\Crystal_Clear_Icons\Crystal Clear Icons\Internet Connection Tools.png"/>
          <p:cNvPicPr/>
          <p:nvPr/>
        </p:nvPicPr>
        <p:blipFill>
          <a:blip r:embed="rId5"/>
          <a:stretch/>
        </p:blipFill>
        <p:spPr>
          <a:xfrm>
            <a:off x="5357880" y="35211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568" name="TextBox 35"/>
          <p:cNvSpPr/>
          <p:nvPr/>
        </p:nvSpPr>
        <p:spPr>
          <a:xfrm>
            <a:off x="2437920" y="1878120"/>
            <a:ext cx="12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Инфокиоск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9" name="TextBox 36"/>
          <p:cNvSpPr/>
          <p:nvPr/>
        </p:nvSpPr>
        <p:spPr>
          <a:xfrm>
            <a:off x="1721160" y="2449440"/>
            <a:ext cx="12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ll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центр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0" name="TextBox 37"/>
          <p:cNvSpPr/>
          <p:nvPr/>
        </p:nvSpPr>
        <p:spPr>
          <a:xfrm>
            <a:off x="2081880" y="1449360"/>
            <a:ext cx="23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Запись через Интернет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1" name="Двойная стрелка влево/вправо 38"/>
          <p:cNvSpPr/>
          <p:nvPr/>
        </p:nvSpPr>
        <p:spPr>
          <a:xfrm>
            <a:off x="2000160" y="4807080"/>
            <a:ext cx="3643560" cy="428400"/>
          </a:xfrm>
          <a:prstGeom prst="leftRightArrow">
            <a:avLst>
              <a:gd name="adj1" fmla="val 50000"/>
              <a:gd name="adj2" fmla="val 50046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ЕМТС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2" name="Двойная стрелка влево/вправо 20"/>
          <p:cNvSpPr/>
          <p:nvPr/>
        </p:nvSpPr>
        <p:spPr>
          <a:xfrm>
            <a:off x="1357200" y="4378320"/>
            <a:ext cx="4500720" cy="428760"/>
          </a:xfrm>
          <a:prstGeom prst="leftRightArrow">
            <a:avLst>
              <a:gd name="adj1" fmla="val 50000"/>
              <a:gd name="adj2" fmla="val 500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АИС «Электронная регистратура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3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74" name="Picture 13" descr="C:\DATA\Мои документы\Мои рисунки\293551133787556.jpg"/>
          <p:cNvPicPr/>
          <p:nvPr/>
        </p:nvPicPr>
        <p:blipFill>
          <a:blip r:embed="rId6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Облако 58"/>
          <p:cNvSpPr/>
          <p:nvPr/>
        </p:nvSpPr>
        <p:spPr>
          <a:xfrm>
            <a:off x="3571920" y="5929200"/>
            <a:ext cx="1571760" cy="928800"/>
          </a:xfrm>
          <a:prstGeom prst="pie">
            <a:avLst/>
          </a:prstGeom>
          <a:gradFill rotWithShape="0">
            <a:gsLst>
              <a:gs pos="0">
                <a:srgbClr val="0070c0"/>
              </a:gs>
              <a:gs pos="100000">
                <a:srgbClr val="dff3f3"/>
              </a:gs>
            </a:gsLst>
            <a:lin ang="5400000"/>
          </a:gradFill>
          <a:ln w="93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ЕМТС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ормационный киоск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77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grpSp>
        <p:nvGrpSpPr>
          <p:cNvPr id="578" name="Group 11"/>
          <p:cNvGrpSpPr/>
          <p:nvPr/>
        </p:nvGrpSpPr>
        <p:grpSpPr>
          <a:xfrm>
            <a:off x="3816360" y="2986200"/>
            <a:ext cx="1227240" cy="1218960"/>
            <a:chOff x="3816360" y="2986200"/>
            <a:chExt cx="1227240" cy="1218960"/>
          </a:xfrm>
        </p:grpSpPr>
        <p:sp>
          <p:nvSpPr>
            <p:cNvPr id="579" name="Oval 12"/>
            <p:cNvSpPr/>
            <p:nvPr/>
          </p:nvSpPr>
          <p:spPr>
            <a:xfrm>
              <a:off x="3816360" y="2986200"/>
              <a:ext cx="1227240" cy="12189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3e0c00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91658" dir="338234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Freeform 13"/>
            <p:cNvSpPr/>
            <p:nvPr/>
          </p:nvSpPr>
          <p:spPr>
            <a:xfrm>
              <a:off x="3956400" y="3006360"/>
              <a:ext cx="946800" cy="460080"/>
            </a:xfrm>
            <a:custGeom>
              <a:avLst/>
              <a:gdLst>
                <a:gd name="textAreaLeft" fmla="*/ 0 w 946800"/>
                <a:gd name="textAreaRight" fmla="*/ 947160 w 94680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1" name="Text Box 19"/>
          <p:cNvSpPr/>
          <p:nvPr/>
        </p:nvSpPr>
        <p:spPr>
          <a:xfrm>
            <a:off x="4089960" y="51674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82" name="Группа 55"/>
          <p:cNvGrpSpPr/>
          <p:nvPr/>
        </p:nvGrpSpPr>
        <p:grpSpPr>
          <a:xfrm>
            <a:off x="3785400" y="1213920"/>
            <a:ext cx="1533240" cy="2532960"/>
            <a:chOff x="3785400" y="1213920"/>
            <a:chExt cx="1533240" cy="2532960"/>
          </a:xfrm>
        </p:grpSpPr>
        <p:sp>
          <p:nvSpPr>
            <p:cNvPr id="583" name="Freeform 5"/>
            <p:cNvSpPr/>
            <p:nvPr/>
          </p:nvSpPr>
          <p:spPr>
            <a:xfrm rot="938400">
              <a:off x="4087440" y="1294920"/>
              <a:ext cx="928800" cy="237024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c6e7c2"/>
                </a:gs>
              </a:gsLst>
              <a:lin ang="4464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14"/>
            <p:cNvSpPr/>
            <p:nvPr/>
          </p:nvSpPr>
          <p:spPr>
            <a:xfrm rot="17468400">
              <a:off x="3768840" y="1926000"/>
              <a:ext cx="1839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анные системы ОМС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85" name="Группа 45"/>
          <p:cNvGrpSpPr/>
          <p:nvPr/>
        </p:nvGrpSpPr>
        <p:grpSpPr>
          <a:xfrm>
            <a:off x="1571760" y="3858840"/>
            <a:ext cx="2892600" cy="2556360"/>
            <a:chOff x="1571760" y="3858840"/>
            <a:chExt cx="2892600" cy="2556360"/>
          </a:xfrm>
        </p:grpSpPr>
        <p:sp>
          <p:nvSpPr>
            <p:cNvPr id="586" name="Freeform 7"/>
            <p:cNvSpPr/>
            <p:nvPr/>
          </p:nvSpPr>
          <p:spPr>
            <a:xfrm rot="19694400">
              <a:off x="2201760" y="4377960"/>
              <a:ext cx="2210040" cy="82872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solidFill>
              <a:srgbClr val="ffc000"/>
            </a:soli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7" name="Text Box 14"/>
            <p:cNvSpPr/>
            <p:nvPr/>
          </p:nvSpPr>
          <p:spPr>
            <a:xfrm rot="19566000">
              <a:off x="2451240" y="445896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формация об оказываемых медицинских услугах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8" name="Picture 7" descr="F:\Подготовка презентации 2008\ICONS\VirtualLNK Icons\VirtualLNK Medical Icons Collection v1.0\BMP\Regular\72x72\Treatment Plan 2.bmp"/>
            <p:cNvPicPr/>
            <p:nvPr/>
          </p:nvPicPr>
          <p:blipFill>
            <a:blip r:embed="rId2"/>
            <a:stretch/>
          </p:blipFill>
          <p:spPr>
            <a:xfrm>
              <a:off x="1571760" y="550080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9" name="Группа 59"/>
          <p:cNvGrpSpPr/>
          <p:nvPr/>
        </p:nvGrpSpPr>
        <p:grpSpPr>
          <a:xfrm>
            <a:off x="4608360" y="2571840"/>
            <a:ext cx="3178440" cy="1495440"/>
            <a:chOff x="4608360" y="2571840"/>
            <a:chExt cx="3178440" cy="1495440"/>
          </a:xfrm>
        </p:grpSpPr>
        <p:sp>
          <p:nvSpPr>
            <p:cNvPr id="590" name="Freeform 10"/>
            <p:cNvSpPr/>
            <p:nvPr/>
          </p:nvSpPr>
          <p:spPr>
            <a:xfrm rot="20776200">
              <a:off x="4660920" y="3068640"/>
              <a:ext cx="2362320" cy="7286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solidFill>
              <a:srgbClr val="ff3300"/>
            </a:soli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1" name="Text Box 14"/>
            <p:cNvSpPr/>
            <p:nvPr/>
          </p:nvSpPr>
          <p:spPr>
            <a:xfrm rot="20481600">
              <a:off x="5168160" y="3068640"/>
              <a:ext cx="1839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равочник ЛСииИМП по ЛЛО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92" name="Picture 13" descr="F:\Подготовка презентации 2008\ICONS\VirtualLNK Icons\VirtualLNK Medical Icons Collection v1.0\BMP\Regular\72x72\Insurance.bmp"/>
            <p:cNvPicPr/>
            <p:nvPr/>
          </p:nvPicPr>
          <p:blipFill>
            <a:blip r:embed="rId3"/>
            <a:stretch/>
          </p:blipFill>
          <p:spPr>
            <a:xfrm>
              <a:off x="7072560" y="257184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Picture 14" descr="F:\Подготовка презентации 2008\ICONS\VirtualLNK Icons\VirtualLNK Medical Icons Collection v1.0\BMP\Regular\72x72\Medicine Pills.bmp"/>
            <p:cNvPicPr/>
            <p:nvPr/>
          </p:nvPicPr>
          <p:blipFill>
            <a:blip r:embed="rId4"/>
            <a:stretch/>
          </p:blipFill>
          <p:spPr>
            <a:xfrm>
              <a:off x="6929640" y="3071880"/>
              <a:ext cx="500040" cy="50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4" name="Группа 46"/>
          <p:cNvGrpSpPr/>
          <p:nvPr/>
        </p:nvGrpSpPr>
        <p:grpSpPr>
          <a:xfrm>
            <a:off x="785880" y="3343320"/>
            <a:ext cx="3350880" cy="1800360"/>
            <a:chOff x="785880" y="3343320"/>
            <a:chExt cx="3350880" cy="1800360"/>
          </a:xfrm>
        </p:grpSpPr>
        <p:sp>
          <p:nvSpPr>
            <p:cNvPr id="595" name="Freeform 7"/>
            <p:cNvSpPr/>
            <p:nvPr/>
          </p:nvSpPr>
          <p:spPr>
            <a:xfrm rot="21118800">
              <a:off x="1787040" y="3641400"/>
              <a:ext cx="2300400" cy="86220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gradFill rotWithShape="0">
              <a:gsLst>
                <a:gs pos="0">
                  <a:srgbClr val="bc61cb"/>
                </a:gs>
                <a:gs pos="100000">
                  <a:srgbClr val="e9caee"/>
                </a:gs>
              </a:gsLst>
              <a:lin ang="48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6" name="Text Box 14"/>
            <p:cNvSpPr/>
            <p:nvPr/>
          </p:nvSpPr>
          <p:spPr>
            <a:xfrm rot="20305800">
              <a:off x="2091240" y="365904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формация о наличии лекарств в аптеках города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97" name="Picture 5" descr="F:\Подготовка презентации 2008\ICONS\VirtualLNK Icons\VirtualLNK Medical Icons Collection v1.0\BMP\Regular\72x72\Allergy Vials Dosage.bmp"/>
            <p:cNvPicPr/>
            <p:nvPr/>
          </p:nvPicPr>
          <p:blipFill>
            <a:blip r:embed="rId5"/>
            <a:stretch/>
          </p:blipFill>
          <p:spPr>
            <a:xfrm>
              <a:off x="785880" y="407196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" descr="F:\Подготовка презентации 2008\ICONS\VirtualLNK Icons\VirtualLNK Accounting Icons Collection v1.0\BMP\Regular\72x72\Barcode Scan.bmp"/>
            <p:cNvPicPr/>
            <p:nvPr/>
          </p:nvPicPr>
          <p:blipFill>
            <a:blip r:embed="rId6"/>
            <a:stretch/>
          </p:blipFill>
          <p:spPr>
            <a:xfrm>
              <a:off x="1714320" y="4572000"/>
              <a:ext cx="571320" cy="57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9" name="Группа 61"/>
          <p:cNvGrpSpPr/>
          <p:nvPr/>
        </p:nvGrpSpPr>
        <p:grpSpPr>
          <a:xfrm>
            <a:off x="4129560" y="3358080"/>
            <a:ext cx="2942640" cy="3214080"/>
            <a:chOff x="4129560" y="3358080"/>
            <a:chExt cx="2942640" cy="3214080"/>
          </a:xfrm>
        </p:grpSpPr>
        <p:sp>
          <p:nvSpPr>
            <p:cNvPr id="600" name="Freeform 8"/>
            <p:cNvSpPr/>
            <p:nvPr/>
          </p:nvSpPr>
          <p:spPr>
            <a:xfrm rot="19367400">
              <a:off x="4913280" y="3324240"/>
              <a:ext cx="858600" cy="288144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5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5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40"/>
                  </a:lnTo>
                  <a:lnTo>
                    <a:pt x="835" y="2266"/>
                  </a:lnTo>
                  <a:lnTo>
                    <a:pt x="806" y="2291"/>
                  </a:lnTo>
                  <a:lnTo>
                    <a:pt x="783" y="2310"/>
                  </a:lnTo>
                  <a:lnTo>
                    <a:pt x="763" y="2326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6"/>
                  </a:lnTo>
                  <a:lnTo>
                    <a:pt x="688" y="2310"/>
                  </a:lnTo>
                  <a:lnTo>
                    <a:pt x="665" y="2291"/>
                  </a:lnTo>
                  <a:lnTo>
                    <a:pt x="636" y="2266"/>
                  </a:lnTo>
                  <a:lnTo>
                    <a:pt x="604" y="2240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5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5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9"/>
                  </a:lnTo>
                  <a:lnTo>
                    <a:pt x="13" y="1026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6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5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1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1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5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6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6"/>
                  </a:lnTo>
                  <a:lnTo>
                    <a:pt x="1467" y="1099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ffaacc"/>
                </a:gs>
                <a:gs pos="100000">
                  <a:srgbClr val="ff0066"/>
                </a:gs>
              </a:gsLst>
              <a:lin ang="7632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1" name="Picture 8" descr="F:\Подготовка презентации 2008\ICONS\VirtualLNK Icons\VirtualLNK Medical Icons Collection v1.0\BMP\Regular\72x72\Qualifications 3D.bmp"/>
            <p:cNvPicPr/>
            <p:nvPr/>
          </p:nvPicPr>
          <p:blipFill>
            <a:blip r:embed="rId7"/>
            <a:stretch/>
          </p:blipFill>
          <p:spPr>
            <a:xfrm>
              <a:off x="6215040" y="564372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Text Box 14"/>
            <p:cNvSpPr/>
            <p:nvPr/>
          </p:nvSpPr>
          <p:spPr>
            <a:xfrm rot="3028800">
              <a:off x="4702320" y="495036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формация о статусе включения в регистры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3" name="Picture 10" descr="F:\Подготовка презентации 2008\ICONS\VirtualLNK Icons\VirtualLNK Network Icons Collection v1.0\BMP\Regular\72x72\XML Data 1.bmp"/>
            <p:cNvPicPr/>
            <p:nvPr/>
          </p:nvPicPr>
          <p:blipFill>
            <a:blip r:embed="rId8"/>
            <a:stretch/>
          </p:blipFill>
          <p:spPr>
            <a:xfrm>
              <a:off x="6500880" y="600084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Picture 17" descr="F:\Подготовка презентации 2008\ICONS\VirtualLNK Icons\VirtualLNK Accounting Icons Collection v1.0\BMP\Regular\72x72\Barcode Scan.bmp"/>
            <p:cNvPicPr/>
            <p:nvPr/>
          </p:nvPicPr>
          <p:blipFill>
            <a:blip r:embed="rId9"/>
            <a:stretch/>
          </p:blipFill>
          <p:spPr>
            <a:xfrm flipH="1">
              <a:off x="5571720" y="5786640"/>
              <a:ext cx="57132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5" name="Группа 47"/>
          <p:cNvGrpSpPr/>
          <p:nvPr/>
        </p:nvGrpSpPr>
        <p:grpSpPr>
          <a:xfrm>
            <a:off x="1000080" y="2200320"/>
            <a:ext cx="3544920" cy="1754640"/>
            <a:chOff x="1000080" y="2200320"/>
            <a:chExt cx="3544920" cy="1754640"/>
          </a:xfrm>
        </p:grpSpPr>
        <p:sp>
          <p:nvSpPr>
            <p:cNvPr id="606" name="Freeform 6"/>
            <p:cNvSpPr/>
            <p:nvPr/>
          </p:nvSpPr>
          <p:spPr>
            <a:xfrm rot="798600">
              <a:off x="1850400" y="2790720"/>
              <a:ext cx="2629080" cy="87336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0"/>
                  </a:lnTo>
                  <a:lnTo>
                    <a:pt x="1866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8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2" y="1286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6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7" y="1466"/>
                  </a:lnTo>
                  <a:lnTo>
                    <a:pt x="1647" y="1480"/>
                  </a:lnTo>
                  <a:lnTo>
                    <a:pt x="1583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8" y="1469"/>
                  </a:lnTo>
                  <a:lnTo>
                    <a:pt x="716" y="1440"/>
                  </a:lnTo>
                  <a:lnTo>
                    <a:pt x="648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2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5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199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5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2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00b1f0"/>
                </a:gs>
                <a:gs pos="100000">
                  <a:srgbClr val="aae5fa"/>
                </a:gs>
              </a:gsLst>
              <a:lin ang="1902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7" name="Text Box 14"/>
            <p:cNvSpPr/>
            <p:nvPr/>
          </p:nvSpPr>
          <p:spPr>
            <a:xfrm rot="1500600">
              <a:off x="1980360" y="285912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правление очередью на приём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ЛПУ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8" name="Picture 6" descr="F:\Подготовка презентации 2008\ICONS\VirtualLNK Icons\VirtualLNK Medical Icons Collection v1.0\BMP\Regular\72x72\Appointment.bmp"/>
            <p:cNvPicPr/>
            <p:nvPr/>
          </p:nvPicPr>
          <p:blipFill>
            <a:blip r:embed="rId10"/>
            <a:stretch/>
          </p:blipFill>
          <p:spPr>
            <a:xfrm>
              <a:off x="1000080" y="2200320"/>
              <a:ext cx="85716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17" descr="F:\Подготовка презентации 2008\ICONS\VirtualLNK Icons\VirtualLNK Accounting Icons Collection v1.0\BMP\Regular\72x72\Barcode Scan.bmp"/>
            <p:cNvPicPr/>
            <p:nvPr/>
          </p:nvPicPr>
          <p:blipFill>
            <a:blip r:embed="rId11"/>
            <a:stretch/>
          </p:blipFill>
          <p:spPr>
            <a:xfrm>
              <a:off x="1643040" y="2786040"/>
              <a:ext cx="57132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0" name="Группа 60"/>
          <p:cNvGrpSpPr/>
          <p:nvPr/>
        </p:nvGrpSpPr>
        <p:grpSpPr>
          <a:xfrm>
            <a:off x="4358160" y="3571920"/>
            <a:ext cx="3485520" cy="2128680"/>
            <a:chOff x="4358160" y="3571920"/>
            <a:chExt cx="3485520" cy="2128680"/>
          </a:xfrm>
        </p:grpSpPr>
        <p:sp>
          <p:nvSpPr>
            <p:cNvPr id="611" name="Freeform 9"/>
            <p:cNvSpPr/>
            <p:nvPr/>
          </p:nvSpPr>
          <p:spPr>
            <a:xfrm rot="521400">
              <a:off x="4401720" y="3768840"/>
              <a:ext cx="2666880" cy="7808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1"/>
                  </a:lnTo>
                  <a:lnTo>
                    <a:pt x="1865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9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1" y="1287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7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6" y="1466"/>
                  </a:lnTo>
                  <a:lnTo>
                    <a:pt x="1647" y="1481"/>
                  </a:lnTo>
                  <a:lnTo>
                    <a:pt x="1582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7" y="1469"/>
                  </a:lnTo>
                  <a:lnTo>
                    <a:pt x="716" y="1440"/>
                  </a:lnTo>
                  <a:lnTo>
                    <a:pt x="647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3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4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200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6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3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ffd4be"/>
                </a:gs>
                <a:gs pos="100000">
                  <a:srgbClr val="ff7e3d"/>
                </a:gs>
              </a:gsLst>
              <a:lin ang="217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Text Box 14"/>
            <p:cNvSpPr/>
            <p:nvPr/>
          </p:nvSpPr>
          <p:spPr>
            <a:xfrm rot="903000">
              <a:off x="5367600" y="404820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равочник учреждений. Поиск. ГИС.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13" name="Picture 15" descr="F:\Подготовка презентации 2008\ICONS\VirtualLNK Icons\VirtualLNK Medical Icons Collection v1.0\BMP\Regular\72x72\Medical Symbol.bmp"/>
            <p:cNvPicPr/>
            <p:nvPr/>
          </p:nvPicPr>
          <p:blipFill>
            <a:blip r:embed="rId12"/>
            <a:stretch/>
          </p:blipFill>
          <p:spPr>
            <a:xfrm>
              <a:off x="6715080" y="407196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19" descr="F:\Подготовка презентации 2008\ICONS\VirtualLNK Icons\VirtualLNK Accounting Icons Collection v1.0\BMP\Regular\72x72\Bank Internet Transfer.bmp"/>
            <p:cNvPicPr/>
            <p:nvPr/>
          </p:nvPicPr>
          <p:blipFill>
            <a:blip r:embed="rId13"/>
            <a:stretch/>
          </p:blipFill>
          <p:spPr>
            <a:xfrm>
              <a:off x="6929280" y="478620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5" name="Группа 56"/>
          <p:cNvGrpSpPr/>
          <p:nvPr/>
        </p:nvGrpSpPr>
        <p:grpSpPr>
          <a:xfrm>
            <a:off x="4075200" y="1500120"/>
            <a:ext cx="3295440" cy="2150280"/>
            <a:chOff x="4075200" y="1500120"/>
            <a:chExt cx="3295440" cy="2150280"/>
          </a:xfrm>
        </p:grpSpPr>
        <p:sp>
          <p:nvSpPr>
            <p:cNvPr id="616" name="Freeform 10"/>
            <p:cNvSpPr/>
            <p:nvPr/>
          </p:nvSpPr>
          <p:spPr>
            <a:xfrm rot="20265600">
              <a:off x="4143240" y="2333160"/>
              <a:ext cx="2563920" cy="8636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gradFill rotWithShape="0">
              <a:gsLst>
                <a:gs pos="0">
                  <a:srgbClr val="ffeeaa"/>
                </a:gs>
                <a:gs pos="100000">
                  <a:srgbClr val="ffcc00"/>
                </a:gs>
              </a:gsLst>
              <a:lin ang="20232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Text Box 14"/>
            <p:cNvSpPr/>
            <p:nvPr/>
          </p:nvSpPr>
          <p:spPr>
            <a:xfrm rot="20005800">
              <a:off x="4832280" y="2141640"/>
              <a:ext cx="183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ращение на горячую линию Комитета по здравоохранению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18" name="Picture 2" descr="H:\Подготовка презентации 2008\ICONS\VirtualLNK Icons\VirtualLNK Medical Icons Collection v1.0\BMP\Regular\72x72\Receptionist.bmp"/>
            <p:cNvPicPr/>
            <p:nvPr/>
          </p:nvPicPr>
          <p:blipFill>
            <a:blip r:embed="rId14"/>
            <a:stretch/>
          </p:blipFill>
          <p:spPr>
            <a:xfrm>
              <a:off x="6629400" y="150012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Text Box 14"/>
            <p:cNvSpPr/>
            <p:nvPr/>
          </p:nvSpPr>
          <p:spPr>
            <a:xfrm>
              <a:off x="6715080" y="2143080"/>
              <a:ext cx="655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IP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20" name="Нижний колонтитул 4"/>
          <p:cNvSpPr/>
          <p:nvPr/>
        </p:nvSpPr>
        <p:spPr>
          <a:xfrm>
            <a:off x="5500800" y="6500880"/>
            <a:ext cx="36432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21" name="Группа 51"/>
          <p:cNvGrpSpPr/>
          <p:nvPr/>
        </p:nvGrpSpPr>
        <p:grpSpPr>
          <a:xfrm>
            <a:off x="2171880" y="1285920"/>
            <a:ext cx="2481840" cy="2597760"/>
            <a:chOff x="2171880" y="1285920"/>
            <a:chExt cx="2481840" cy="2597760"/>
          </a:xfrm>
        </p:grpSpPr>
        <p:sp>
          <p:nvSpPr>
            <p:cNvPr id="622" name="Freeform 5"/>
            <p:cNvSpPr/>
            <p:nvPr/>
          </p:nvSpPr>
          <p:spPr>
            <a:xfrm rot="19762800">
              <a:off x="3223800" y="1326600"/>
              <a:ext cx="847800" cy="251640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c6e7c2"/>
                </a:gs>
              </a:gsLst>
              <a:lin ang="7236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3" name="Text Box 14"/>
            <p:cNvSpPr/>
            <p:nvPr/>
          </p:nvSpPr>
          <p:spPr>
            <a:xfrm rot="2983800">
              <a:off x="2637720" y="2049840"/>
              <a:ext cx="1839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равочник ИОГВ СПб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24" name="Picture 12" descr="F:\Подготовка презентации 2008\ICONS\VirtualLNK Icons\VirtualLNK Medical Icons Collection v1.0\BMP\Regular\72x72\Hospital 2.bmp"/>
            <p:cNvPicPr/>
            <p:nvPr/>
          </p:nvPicPr>
          <p:blipFill>
            <a:blip r:embed="rId15"/>
            <a:stretch/>
          </p:blipFill>
          <p:spPr>
            <a:xfrm>
              <a:off x="2171880" y="1285920"/>
              <a:ext cx="78588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Picture 13" descr="C:\DATA\Мои документы\Мои рисунки\293551133787556.jpg"/>
            <p:cNvPicPr/>
            <p:nvPr/>
          </p:nvPicPr>
          <p:blipFill>
            <a:blip r:embed="rId16"/>
            <a:stretch/>
          </p:blipFill>
          <p:spPr>
            <a:xfrm>
              <a:off x="2214720" y="1928880"/>
              <a:ext cx="428400" cy="44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6" name="Picture 2" descr="AviorCash with Scan"/>
          <p:cNvPicPr/>
          <p:nvPr/>
        </p:nvPicPr>
        <p:blipFill>
          <a:blip r:embed="rId17"/>
          <a:stretch/>
        </p:blipFill>
        <p:spPr>
          <a:xfrm>
            <a:off x="3643200" y="2857680"/>
            <a:ext cx="15004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ll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нтр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Прямоугольник 6"/>
          <p:cNvSpPr/>
          <p:nvPr/>
        </p:nvSpPr>
        <p:spPr>
          <a:xfrm>
            <a:off x="1158120" y="31431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Горячая линия по работе с обращениями граждан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9" name="Прямоугольник 8"/>
          <p:cNvSpPr/>
          <p:nvPr/>
        </p:nvSpPr>
        <p:spPr>
          <a:xfrm>
            <a:off x="1161000" y="3857760"/>
            <a:ext cx="434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Фармацевтическая справочная служб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0" name="Прямоугольник 10"/>
          <p:cNvSpPr/>
          <p:nvPr/>
        </p:nvSpPr>
        <p:spPr>
          <a:xfrm>
            <a:off x="1159200" y="4500720"/>
            <a:ext cx="37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Медицинская справочная служб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31" name="Picture 2" descr="H:\Подготовка презентации 2008\ICONS\VirtualLNK Icons\VirtualLNK Medical Icons Collection v1.0\BMP\Regular\72x72\Receptionist.bmp"/>
          <p:cNvPicPr/>
          <p:nvPr/>
        </p:nvPicPr>
        <p:blipFill>
          <a:blip r:embed="rId1"/>
          <a:stretch/>
        </p:blipFill>
        <p:spPr>
          <a:xfrm>
            <a:off x="571680" y="507204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632" name="Прямоугольник 12"/>
          <p:cNvSpPr/>
          <p:nvPr/>
        </p:nvSpPr>
        <p:spPr>
          <a:xfrm>
            <a:off x="1156320" y="5214960"/>
            <a:ext cx="37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Техническая поддержка (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Arial"/>
              </a:rPr>
              <a:t>Support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33" name="Picture 2" descr="H:\Подготовка презентации 2008\ICONS\VirtualLNK Icons\VirtualLNK Medical Icons Collection v1.0\BMP\Regular\72x72\Receptionist.bmp"/>
          <p:cNvPicPr/>
          <p:nvPr/>
        </p:nvPicPr>
        <p:blipFill>
          <a:blip r:embed="rId2"/>
          <a:stretch/>
        </p:blipFill>
        <p:spPr>
          <a:xfrm>
            <a:off x="571680" y="578628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634" name="Прямоугольник 14"/>
          <p:cNvSpPr/>
          <p:nvPr/>
        </p:nvSpPr>
        <p:spPr>
          <a:xfrm>
            <a:off x="1195200" y="585792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Высокотехнологичная медицинская помощ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5" name="Пятно 1 15"/>
          <p:cNvSpPr/>
          <p:nvPr/>
        </p:nvSpPr>
        <p:spPr>
          <a:xfrm>
            <a:off x="6429240" y="2786040"/>
            <a:ext cx="857520" cy="57168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6" name="Пятно 1 16"/>
          <p:cNvSpPr/>
          <p:nvPr/>
        </p:nvSpPr>
        <p:spPr>
          <a:xfrm>
            <a:off x="5429160" y="3429000"/>
            <a:ext cx="857520" cy="57168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7" name="Пятно 1 17"/>
          <p:cNvSpPr/>
          <p:nvPr/>
        </p:nvSpPr>
        <p:spPr>
          <a:xfrm>
            <a:off x="4857840" y="4214880"/>
            <a:ext cx="857160" cy="57132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38" name="Picture 2" descr="F:\Подготовка презентации 2008\ICONS\VirtualLNK Icons\VirtualLNK Medical Icons Collection v1.0\BMP\Regular\72x72\Ambulance.bmp"/>
          <p:cNvPicPr/>
          <p:nvPr/>
        </p:nvPicPr>
        <p:blipFill>
          <a:blip r:embed="rId3"/>
          <a:stretch/>
        </p:blipFill>
        <p:spPr>
          <a:xfrm>
            <a:off x="2928960" y="1071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" descr="F:\Подготовка презентации 2008\ICONS\VirtualLNK Icons\VirtualLNK Medical Icons Collection v1.0\BMP\Regular\72x72\Receptionist Error.bmp"/>
          <p:cNvPicPr/>
          <p:nvPr/>
        </p:nvPicPr>
        <p:blipFill>
          <a:blip r:embed="rId4"/>
          <a:stretch/>
        </p:blipFill>
        <p:spPr>
          <a:xfrm>
            <a:off x="500040" y="300024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3" descr="F:\Подготовка презентации 2008\ICONS\VirtualLNK Icons\VirtualLNK Medical Icons Collection v1.0\BMP\Regular\72x72\Receptionist Error.bmp"/>
          <p:cNvPicPr/>
          <p:nvPr/>
        </p:nvPicPr>
        <p:blipFill>
          <a:blip r:embed="rId5"/>
          <a:stretch/>
        </p:blipFill>
        <p:spPr>
          <a:xfrm>
            <a:off x="500040" y="37148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3" descr="F:\Подготовка презентации 2008\ICONS\VirtualLNK Icons\VirtualLNK Medical Icons Collection v1.0\BMP\Regular\72x72\Receptionist Error.bmp"/>
          <p:cNvPicPr/>
          <p:nvPr/>
        </p:nvPicPr>
        <p:blipFill>
          <a:blip r:embed="rId6"/>
          <a:stretch/>
        </p:blipFill>
        <p:spPr>
          <a:xfrm>
            <a:off x="500040" y="435780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0" descr="F:\Подготовка презентации 2008\ICONS\sissof1\PNG_32\celsave_48.png"/>
          <p:cNvPicPr/>
          <p:nvPr/>
        </p:nvPicPr>
        <p:blipFill>
          <a:blip r:embed="rId7"/>
          <a:stretch/>
        </p:blipFill>
        <p:spPr>
          <a:xfrm>
            <a:off x="5857920" y="1214280"/>
            <a:ext cx="728640" cy="729000"/>
          </a:xfrm>
          <a:prstGeom prst="rect">
            <a:avLst/>
          </a:prstGeom>
          <a:ln w="0">
            <a:noFill/>
          </a:ln>
        </p:spPr>
      </p:pic>
      <p:sp>
        <p:nvSpPr>
          <p:cNvPr id="643" name="AutoShape 14"/>
          <p:cNvSpPr/>
          <p:nvPr/>
        </p:nvSpPr>
        <p:spPr>
          <a:xfrm rot="10800000">
            <a:off x="2857680" y="178560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4" name="AutoShape 14"/>
          <p:cNvSpPr/>
          <p:nvPr/>
        </p:nvSpPr>
        <p:spPr>
          <a:xfrm rot="10800000">
            <a:off x="4214880" y="178560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5" name="AutoShape 14"/>
          <p:cNvSpPr/>
          <p:nvPr/>
        </p:nvSpPr>
        <p:spPr>
          <a:xfrm rot="10800000">
            <a:off x="5643720" y="178560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6" name="Пятно 1 38"/>
          <p:cNvSpPr/>
          <p:nvPr/>
        </p:nvSpPr>
        <p:spPr>
          <a:xfrm>
            <a:off x="4929120" y="5214960"/>
            <a:ext cx="857160" cy="57132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5*8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7" name="Пятно 1 39"/>
          <p:cNvSpPr/>
          <p:nvPr/>
        </p:nvSpPr>
        <p:spPr>
          <a:xfrm>
            <a:off x="5929200" y="5500800"/>
            <a:ext cx="857520" cy="57132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5*8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48" name="Picture 13" descr="C:\DATA\Мои документы\Мои рисунки\293551133787556.jpg"/>
          <p:cNvPicPr/>
          <p:nvPr/>
        </p:nvPicPr>
        <p:blipFill>
          <a:blip r:embed="rId8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3" descr="F:\Подготовка презентации 2008\ICONS\VirtualLNK Icons\VirtualLNK Medical Icons Collection v1.0\BMP\Regular\72x72\Emergency.bmp"/>
          <p:cNvPicPr/>
          <p:nvPr/>
        </p:nvPicPr>
        <p:blipFill>
          <a:blip r:embed="rId9"/>
          <a:stretch/>
        </p:blipFill>
        <p:spPr>
          <a:xfrm>
            <a:off x="4429080" y="128592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650" name="AutoShape 14"/>
          <p:cNvSpPr/>
          <p:nvPr/>
        </p:nvSpPr>
        <p:spPr>
          <a:xfrm rot="10800000">
            <a:off x="928800" y="1857240"/>
            <a:ext cx="1071360" cy="1214640"/>
          </a:xfrm>
          <a:prstGeom prst="upArrow">
            <a:avLst>
              <a:gd name="adj1" fmla="val 78306"/>
              <a:gd name="adj2" fmla="val 48231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51" name="Picture 14" descr="F:\Подготовка презентации 2008\ICONS\VirtualLNK Icons\VirtualLNK Medical Icons Collection v1.0\BMP\Regular\72x72\Patient Boy 1.bmp"/>
          <p:cNvPicPr/>
          <p:nvPr/>
        </p:nvPicPr>
        <p:blipFill>
          <a:blip r:embed="rId10"/>
          <a:stretch/>
        </p:blipFill>
        <p:spPr>
          <a:xfrm>
            <a:off x="857160" y="128592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652" name="AutoShape 14"/>
          <p:cNvSpPr/>
          <p:nvPr/>
        </p:nvSpPr>
        <p:spPr>
          <a:xfrm rot="5400000">
            <a:off x="1356840" y="121428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53" name="Picture 2" descr="AviorCash with Scan"/>
          <p:cNvPicPr/>
          <p:nvPr/>
        </p:nvPicPr>
        <p:blipFill>
          <a:blip r:embed="rId11"/>
          <a:stretch/>
        </p:blipFill>
        <p:spPr>
          <a:xfrm>
            <a:off x="7286760" y="1214280"/>
            <a:ext cx="468000" cy="1071720"/>
          </a:xfrm>
          <a:prstGeom prst="rect">
            <a:avLst/>
          </a:prstGeom>
          <a:ln w="0">
            <a:noFill/>
          </a:ln>
        </p:spPr>
      </p:pic>
      <p:sp>
        <p:nvSpPr>
          <p:cNvPr id="654" name="AutoShape 14"/>
          <p:cNvSpPr/>
          <p:nvPr/>
        </p:nvSpPr>
        <p:spPr>
          <a:xfrm rot="10800000">
            <a:off x="7000920" y="178560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5" name="Прямоугольник 19"/>
          <p:cNvSpPr/>
          <p:nvPr/>
        </p:nvSpPr>
        <p:spPr>
          <a:xfrm>
            <a:off x="3217320" y="23572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03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6" name="Прямоугольник 25"/>
          <p:cNvSpPr/>
          <p:nvPr/>
        </p:nvSpPr>
        <p:spPr>
          <a:xfrm>
            <a:off x="4142520" y="235728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лужба 112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7" name="Прямоугольник 31"/>
          <p:cNvSpPr/>
          <p:nvPr/>
        </p:nvSpPr>
        <p:spPr>
          <a:xfrm>
            <a:off x="5932080" y="2357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0999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8" name="Прямоугольник 43"/>
          <p:cNvSpPr/>
          <p:nvPr/>
        </p:nvSpPr>
        <p:spPr>
          <a:xfrm>
            <a:off x="7211520" y="2357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VoIP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59" name="Picture 2" descr=""/>
          <p:cNvPicPr/>
          <p:nvPr/>
        </p:nvPicPr>
        <p:blipFill>
          <a:blip r:embed="rId12"/>
          <a:stretch/>
        </p:blipFill>
        <p:spPr>
          <a:xfrm>
            <a:off x="6500880" y="3714840"/>
            <a:ext cx="2428920" cy="182088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" descr="C:\Users\ADexter\Desktop\VirtualLNK Icons\VirtualLNK Website Icons Collection v1.0\BMP\Regular\72x72\Telecommunications.bmp"/>
          <p:cNvPicPr/>
          <p:nvPr/>
        </p:nvPicPr>
        <p:blipFill>
          <a:blip r:embed="rId13"/>
          <a:stretch/>
        </p:blipFill>
        <p:spPr>
          <a:xfrm>
            <a:off x="1214280" y="22860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661" name="Нижний колонтитул 4"/>
          <p:cNvSpPr/>
          <p:nvPr/>
        </p:nvSpPr>
        <p:spPr>
          <a:xfrm>
            <a:off x="5500800" y="6429240"/>
            <a:ext cx="3643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т е-правительства к мобильному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авительств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3" name="Прямоугольник 5"/>
          <p:cNvSpPr/>
          <p:nvPr/>
        </p:nvSpPr>
        <p:spPr>
          <a:xfrm>
            <a:off x="285840" y="1357200"/>
            <a:ext cx="857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лучение информации о статусе включения гражданина в регистр региональных льготников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4" name="Прямоугольник 6"/>
          <p:cNvSpPr/>
          <p:nvPr/>
        </p:nvSpPr>
        <p:spPr>
          <a:xfrm>
            <a:off x="357120" y="3214800"/>
            <a:ext cx="850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лучение информации о выдаче квоты на получение Высокотехнологичной (дорогостоящей) медицинской помощ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65" name="Группа 86"/>
          <p:cNvGrpSpPr/>
          <p:nvPr/>
        </p:nvGrpSpPr>
        <p:grpSpPr>
          <a:xfrm>
            <a:off x="0" y="1857240"/>
            <a:ext cx="1665360" cy="642960"/>
            <a:chOff x="0" y="1857240"/>
            <a:chExt cx="1665360" cy="642960"/>
          </a:xfrm>
        </p:grpSpPr>
        <p:pic>
          <p:nvPicPr>
            <p:cNvPr id="666" name="Picture 2" descr="F:\Подготовка презентации 2008\ICONS\VirtualLNK Icons\VirtualLNK Medical Icons Collection v1.0\BMP\Regular\72x72\Dentist Green Edit.bmp"/>
            <p:cNvPicPr/>
            <p:nvPr/>
          </p:nvPicPr>
          <p:blipFill>
            <a:blip r:embed="rId1"/>
            <a:stretch/>
          </p:blipFill>
          <p:spPr>
            <a:xfrm>
              <a:off x="1143000" y="1857240"/>
              <a:ext cx="522360" cy="52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Picture 14" descr="F:\Подготовка презентации 2008\ICONS\VirtualLNK Icons\VirtualLNK Medical Icons Collection v1.0\BMP\Regular\72x72\Patient Boy 1.bmp"/>
            <p:cNvPicPr/>
            <p:nvPr/>
          </p:nvPicPr>
          <p:blipFill>
            <a:blip r:embed="rId2"/>
            <a:stretch/>
          </p:blipFill>
          <p:spPr>
            <a:xfrm>
              <a:off x="0" y="1857240"/>
              <a:ext cx="642960" cy="6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AutoShape 14"/>
            <p:cNvSpPr/>
            <p:nvPr/>
          </p:nvSpPr>
          <p:spPr>
            <a:xfrm rot="5400000">
              <a:off x="662760" y="1908360"/>
              <a:ext cx="330840" cy="514440"/>
            </a:xfrm>
            <a:prstGeom prst="upArrow">
              <a:avLst>
                <a:gd name="adj1" fmla="val 78306"/>
                <a:gd name="adj2" fmla="val 48203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69" name="Группа 87"/>
          <p:cNvGrpSpPr/>
          <p:nvPr/>
        </p:nvGrpSpPr>
        <p:grpSpPr>
          <a:xfrm>
            <a:off x="1571400" y="1857240"/>
            <a:ext cx="1000440" cy="879480"/>
            <a:chOff x="1571400" y="1857240"/>
            <a:chExt cx="1000440" cy="879480"/>
          </a:xfrm>
        </p:grpSpPr>
        <p:pic>
          <p:nvPicPr>
            <p:cNvPr id="670" name="Picture 3" descr="F:\Подготовка презентации 2008\ICONS\VirtualLNK Icons\VirtualLNK Medical Icons Collection v1.0\BMP\Regular\72x72\Qualifications 3D.bmp"/>
            <p:cNvPicPr/>
            <p:nvPr/>
          </p:nvPicPr>
          <p:blipFill>
            <a:blip r:embed="rId3"/>
            <a:stretch/>
          </p:blipFill>
          <p:spPr>
            <a:xfrm>
              <a:off x="2071800" y="1857240"/>
              <a:ext cx="500040" cy="49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2" descr="C:\Users\ADexter\Desktop\VirtualLNK Icons\VirtualLNK Network Icons Collection v1.0\BMP\Regular\72x72\XML.bmp"/>
            <p:cNvPicPr/>
            <p:nvPr/>
          </p:nvPicPr>
          <p:blipFill>
            <a:blip r:embed="rId4"/>
            <a:stretch/>
          </p:blipFill>
          <p:spPr>
            <a:xfrm>
              <a:off x="2000160" y="2428560"/>
              <a:ext cx="57132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AutoShape 14"/>
            <p:cNvSpPr/>
            <p:nvPr/>
          </p:nvSpPr>
          <p:spPr>
            <a:xfrm rot="5400000">
              <a:off x="1663200" y="190764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3" name="Группа 88"/>
          <p:cNvGrpSpPr/>
          <p:nvPr/>
        </p:nvGrpSpPr>
        <p:grpSpPr>
          <a:xfrm>
            <a:off x="2571840" y="1857240"/>
            <a:ext cx="1071360" cy="571680"/>
            <a:chOff x="2571840" y="1857240"/>
            <a:chExt cx="1071360" cy="571680"/>
          </a:xfrm>
        </p:grpSpPr>
        <p:pic>
          <p:nvPicPr>
            <p:cNvPr id="674" name="Picture 5" descr="F:\Подготовка презентации 2008\ICONS\VirtualLNK Icons\VirtualLNK Network Icons Collection v1.0\BMP\Regular\72x72\Login Status.bmp"/>
            <p:cNvPicPr/>
            <p:nvPr/>
          </p:nvPicPr>
          <p:blipFill>
            <a:blip r:embed="rId5"/>
            <a:stretch/>
          </p:blipFill>
          <p:spPr>
            <a:xfrm>
              <a:off x="3071880" y="1857240"/>
              <a:ext cx="57132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AutoShape 14"/>
            <p:cNvSpPr/>
            <p:nvPr/>
          </p:nvSpPr>
          <p:spPr>
            <a:xfrm rot="5400000">
              <a:off x="2663280" y="1908360"/>
              <a:ext cx="330840" cy="514080"/>
            </a:xfrm>
            <a:prstGeom prst="upArrow">
              <a:avLst>
                <a:gd name="adj1" fmla="val 78306"/>
                <a:gd name="adj2" fmla="val 4817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76" name="Прямоугольник 51"/>
          <p:cNvSpPr/>
          <p:nvPr/>
        </p:nvSpPr>
        <p:spPr>
          <a:xfrm>
            <a:off x="2928960" y="2357280"/>
            <a:ext cx="8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ЦП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77" name="Группа 89"/>
          <p:cNvGrpSpPr/>
          <p:nvPr/>
        </p:nvGrpSpPr>
        <p:grpSpPr>
          <a:xfrm>
            <a:off x="3500280" y="1928880"/>
            <a:ext cx="1008360" cy="506520"/>
            <a:chOff x="3500280" y="1928880"/>
            <a:chExt cx="1008360" cy="506520"/>
          </a:xfrm>
        </p:grpSpPr>
        <p:pic>
          <p:nvPicPr>
            <p:cNvPr id="678" name="Picture 4" descr="F:\Подготовка презентации 2008\ICONS\VirtualLNK Icons\VirtualLNK Network Icons Collection v1.0\BMP\Regular\72x72\Mail Lock.bmp"/>
            <p:cNvPicPr/>
            <p:nvPr/>
          </p:nvPicPr>
          <p:blipFill>
            <a:blip r:embed="rId6"/>
            <a:stretch/>
          </p:blipFill>
          <p:spPr>
            <a:xfrm>
              <a:off x="4001040" y="1928880"/>
              <a:ext cx="50760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AutoShape 14"/>
            <p:cNvSpPr/>
            <p:nvPr/>
          </p:nvSpPr>
          <p:spPr>
            <a:xfrm rot="5400000">
              <a:off x="3592440" y="1908000"/>
              <a:ext cx="330480" cy="514800"/>
            </a:xfrm>
            <a:prstGeom prst="upArrow">
              <a:avLst>
                <a:gd name="adj1" fmla="val 78306"/>
                <a:gd name="adj2" fmla="val 4829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80" name="Группа 90"/>
          <p:cNvGrpSpPr/>
          <p:nvPr/>
        </p:nvGrpSpPr>
        <p:grpSpPr>
          <a:xfrm>
            <a:off x="4357440" y="1928880"/>
            <a:ext cx="1173240" cy="577800"/>
            <a:chOff x="4357440" y="1928880"/>
            <a:chExt cx="1173240" cy="577800"/>
          </a:xfrm>
        </p:grpSpPr>
        <p:sp>
          <p:nvSpPr>
            <p:cNvPr id="681" name="AutoShape 14"/>
            <p:cNvSpPr/>
            <p:nvPr/>
          </p:nvSpPr>
          <p:spPr>
            <a:xfrm rot="5400000">
              <a:off x="4449600" y="1908000"/>
              <a:ext cx="330120" cy="514440"/>
            </a:xfrm>
            <a:prstGeom prst="upArrow">
              <a:avLst>
                <a:gd name="adj1" fmla="val 78306"/>
                <a:gd name="adj2" fmla="val 48309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82" name="Рисунок 57" descr="untitled.bmp"/>
            <p:cNvPicPr/>
            <p:nvPr/>
          </p:nvPicPr>
          <p:blipFill>
            <a:blip r:embed="rId7"/>
            <a:stretch/>
          </p:blipFill>
          <p:spPr>
            <a:xfrm>
              <a:off x="4804560" y="1928880"/>
              <a:ext cx="72612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Группа 91"/>
          <p:cNvGrpSpPr/>
          <p:nvPr/>
        </p:nvGrpSpPr>
        <p:grpSpPr>
          <a:xfrm>
            <a:off x="5428800" y="1857240"/>
            <a:ext cx="1000440" cy="571680"/>
            <a:chOff x="5428800" y="1857240"/>
            <a:chExt cx="1000440" cy="571680"/>
          </a:xfrm>
        </p:grpSpPr>
        <p:pic>
          <p:nvPicPr>
            <p:cNvPr id="684" name="Picture 6" descr="F:\Подготовка презентации 2008\ICONS\VirtualLNK Icons\VirtualLNK Network Icons Collection v1.0\BMP\Regular\72x72\Certificate Security.bmp"/>
            <p:cNvPicPr/>
            <p:nvPr/>
          </p:nvPicPr>
          <p:blipFill>
            <a:blip r:embed="rId8"/>
            <a:stretch/>
          </p:blipFill>
          <p:spPr>
            <a:xfrm>
              <a:off x="5857560" y="1857240"/>
              <a:ext cx="57168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AutoShape 14"/>
            <p:cNvSpPr/>
            <p:nvPr/>
          </p:nvSpPr>
          <p:spPr>
            <a:xfrm rot="5400000">
              <a:off x="5520600" y="1908360"/>
              <a:ext cx="330840" cy="514440"/>
            </a:xfrm>
            <a:prstGeom prst="upArrow">
              <a:avLst>
                <a:gd name="adj1" fmla="val 78306"/>
                <a:gd name="adj2" fmla="val 48203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86" name="Группа 92"/>
          <p:cNvGrpSpPr/>
          <p:nvPr/>
        </p:nvGrpSpPr>
        <p:grpSpPr>
          <a:xfrm>
            <a:off x="6357600" y="1571760"/>
            <a:ext cx="1143000" cy="1214280"/>
            <a:chOff x="6357600" y="1571760"/>
            <a:chExt cx="1143000" cy="1214280"/>
          </a:xfrm>
        </p:grpSpPr>
        <p:pic>
          <p:nvPicPr>
            <p:cNvPr id="687" name="Picture 9" descr="F:\Подготовка презентации 2008\ICONS\VirtualLNK Icons\VirtualLNK Network Icons Collection v1.0\BMP\Regular\72x72\Certificate Check.bmp"/>
            <p:cNvPicPr/>
            <p:nvPr/>
          </p:nvPicPr>
          <p:blipFill>
            <a:blip r:embed="rId9"/>
            <a:stretch/>
          </p:blipFill>
          <p:spPr>
            <a:xfrm>
              <a:off x="6858000" y="157176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10" descr="F:\Подготовка презентации 2008\ICONS\VirtualLNK Icons\VirtualLNK Network Icons Collection v1.0\BMP\Regular\72x72\Certificate Delete.bmp"/>
            <p:cNvPicPr/>
            <p:nvPr/>
          </p:nvPicPr>
          <p:blipFill>
            <a:blip r:embed="rId10"/>
            <a:stretch/>
          </p:blipFill>
          <p:spPr>
            <a:xfrm>
              <a:off x="6929280" y="221472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AutoShape 14"/>
            <p:cNvSpPr/>
            <p:nvPr/>
          </p:nvSpPr>
          <p:spPr>
            <a:xfrm rot="5400000">
              <a:off x="6449400" y="190800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90" name="Группа 93"/>
          <p:cNvGrpSpPr/>
          <p:nvPr/>
        </p:nvGrpSpPr>
        <p:grpSpPr>
          <a:xfrm>
            <a:off x="7143480" y="2000160"/>
            <a:ext cx="1000440" cy="500040"/>
            <a:chOff x="7143480" y="2000160"/>
            <a:chExt cx="1000440" cy="500040"/>
          </a:xfrm>
        </p:grpSpPr>
        <p:pic>
          <p:nvPicPr>
            <p:cNvPr id="691" name="Picture 11" descr="F:\Подготовка презентации 2008\ICONS\VirtualLNK Icons\VirtualLNK Network Icons Collection v1.0\BMP\Regular\72x72\Mail Send Recieve.bmp"/>
            <p:cNvPicPr/>
            <p:nvPr/>
          </p:nvPicPr>
          <p:blipFill>
            <a:blip r:embed="rId11"/>
            <a:stretch/>
          </p:blipFill>
          <p:spPr>
            <a:xfrm>
              <a:off x="7643880" y="2000160"/>
              <a:ext cx="5000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AutoShape 14"/>
            <p:cNvSpPr/>
            <p:nvPr/>
          </p:nvSpPr>
          <p:spPr>
            <a:xfrm rot="5400000">
              <a:off x="7235280" y="1979640"/>
              <a:ext cx="330840" cy="514440"/>
            </a:xfrm>
            <a:prstGeom prst="upArrow">
              <a:avLst>
                <a:gd name="adj1" fmla="val 78306"/>
                <a:gd name="adj2" fmla="val 48203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93" name="Группа 94"/>
          <p:cNvGrpSpPr/>
          <p:nvPr/>
        </p:nvGrpSpPr>
        <p:grpSpPr>
          <a:xfrm>
            <a:off x="7929360" y="1857240"/>
            <a:ext cx="1214640" cy="928800"/>
            <a:chOff x="7929360" y="1857240"/>
            <a:chExt cx="1214640" cy="928800"/>
          </a:xfrm>
        </p:grpSpPr>
        <p:pic>
          <p:nvPicPr>
            <p:cNvPr id="694" name="Picture 14" descr="F:\Подготовка презентации 2008\ICONS\VirtualLNK Icons\VirtualLNK Medical Icons Collection v1.0\BMP\Regular\72x72\Patient Boy 1.bmp"/>
            <p:cNvPicPr/>
            <p:nvPr/>
          </p:nvPicPr>
          <p:blipFill>
            <a:blip r:embed="rId12"/>
            <a:stretch/>
          </p:blipFill>
          <p:spPr>
            <a:xfrm>
              <a:off x="8429760" y="1857240"/>
              <a:ext cx="7142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Picture 10" descr="F:\Подготовка презентации 2008\ICONS\sissof1\PNG_32\celsave_48.png"/>
            <p:cNvPicPr/>
            <p:nvPr/>
          </p:nvPicPr>
          <p:blipFill>
            <a:blip r:embed="rId13"/>
            <a:stretch/>
          </p:blipFill>
          <p:spPr>
            <a:xfrm>
              <a:off x="8286840" y="2214360"/>
              <a:ext cx="57132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AutoShape 14"/>
            <p:cNvSpPr/>
            <p:nvPr/>
          </p:nvSpPr>
          <p:spPr>
            <a:xfrm rot="5400000">
              <a:off x="8021160" y="1979640"/>
              <a:ext cx="330840" cy="514440"/>
            </a:xfrm>
            <a:prstGeom prst="upArrow">
              <a:avLst>
                <a:gd name="adj1" fmla="val 78306"/>
                <a:gd name="adj2" fmla="val 48203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97" name="Группа 97"/>
          <p:cNvGrpSpPr/>
          <p:nvPr/>
        </p:nvGrpSpPr>
        <p:grpSpPr>
          <a:xfrm>
            <a:off x="3714840" y="3857760"/>
            <a:ext cx="1660320" cy="950040"/>
            <a:chOff x="3714840" y="3857760"/>
            <a:chExt cx="1660320" cy="950040"/>
          </a:xfrm>
        </p:grpSpPr>
        <p:pic>
          <p:nvPicPr>
            <p:cNvPr id="698" name="Picture 11" descr="H:\Подготовка презентации 2008\ICONS\VirtualLNK Icons\VirtualLNK Medical Icons Collection v1.0\BMP\Regular\72x72\Hospital.bmp"/>
            <p:cNvPicPr/>
            <p:nvPr/>
          </p:nvPicPr>
          <p:blipFill>
            <a:blip r:embed="rId14"/>
            <a:stretch/>
          </p:blipFill>
          <p:spPr>
            <a:xfrm>
              <a:off x="4214520" y="3857760"/>
              <a:ext cx="642600" cy="6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Прямоугольник 39"/>
            <p:cNvSpPr/>
            <p:nvPr/>
          </p:nvSpPr>
          <p:spPr>
            <a:xfrm>
              <a:off x="3714840" y="4500720"/>
              <a:ext cx="166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00000"/>
                  </a:solidFill>
                  <a:latin typeface="Arial"/>
                </a:rPr>
                <a:t>ТОУЗ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0" name="AutoShape 14"/>
            <p:cNvSpPr/>
            <p:nvPr/>
          </p:nvSpPr>
          <p:spPr>
            <a:xfrm rot="5400000">
              <a:off x="3806280" y="3980160"/>
              <a:ext cx="330840" cy="514080"/>
            </a:xfrm>
            <a:prstGeom prst="upArrow">
              <a:avLst>
                <a:gd name="adj1" fmla="val 78306"/>
                <a:gd name="adj2" fmla="val 4817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01" name="Группа 99"/>
          <p:cNvGrpSpPr/>
          <p:nvPr/>
        </p:nvGrpSpPr>
        <p:grpSpPr>
          <a:xfrm>
            <a:off x="5857560" y="3929040"/>
            <a:ext cx="1297440" cy="579600"/>
            <a:chOff x="5857560" y="3929040"/>
            <a:chExt cx="1297440" cy="579600"/>
          </a:xfrm>
        </p:grpSpPr>
        <p:pic>
          <p:nvPicPr>
            <p:cNvPr id="702" name="Рисунок 72" descr="untitled.bmp"/>
            <p:cNvPicPr/>
            <p:nvPr/>
          </p:nvPicPr>
          <p:blipFill>
            <a:blip r:embed="rId15"/>
            <a:stretch/>
          </p:blipFill>
          <p:spPr>
            <a:xfrm>
              <a:off x="6429240" y="3929040"/>
              <a:ext cx="72576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AutoShape 14"/>
            <p:cNvSpPr/>
            <p:nvPr/>
          </p:nvSpPr>
          <p:spPr>
            <a:xfrm rot="5400000">
              <a:off x="5949000" y="3980160"/>
              <a:ext cx="331200" cy="514440"/>
            </a:xfrm>
            <a:prstGeom prst="upArrow">
              <a:avLst>
                <a:gd name="adj1" fmla="val 78306"/>
                <a:gd name="adj2" fmla="val 48151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04" name="Группа 96"/>
          <p:cNvGrpSpPr/>
          <p:nvPr/>
        </p:nvGrpSpPr>
        <p:grpSpPr>
          <a:xfrm>
            <a:off x="2356920" y="3714840"/>
            <a:ext cx="1415160" cy="1500120"/>
            <a:chOff x="2356920" y="3714840"/>
            <a:chExt cx="1415160" cy="1500120"/>
          </a:xfrm>
        </p:grpSpPr>
        <p:pic>
          <p:nvPicPr>
            <p:cNvPr id="705" name="Picture 4" descr="C:\Users\ADexter\Desktop\VirtualLNK Icons\VirtualLNK Website Icons Collection v1.0\BMP\Regular\72x72\Printing and Publishing.bmp"/>
            <p:cNvPicPr/>
            <p:nvPr/>
          </p:nvPicPr>
          <p:blipFill>
            <a:blip r:embed="rId16"/>
            <a:stretch/>
          </p:blipFill>
          <p:spPr>
            <a:xfrm>
              <a:off x="2857320" y="3714840"/>
              <a:ext cx="9147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AutoShape 14"/>
            <p:cNvSpPr/>
            <p:nvPr/>
          </p:nvSpPr>
          <p:spPr>
            <a:xfrm rot="5400000">
              <a:off x="2448720" y="397980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07" name="Picture 5" descr="C:\Users\ADexter\Desktop\VirtualLNK Icons\VirtualLNK Accounting Icons Collection v1.0\BMP\Regular\72x72\Barcode.bmp"/>
            <p:cNvPicPr/>
            <p:nvPr/>
          </p:nvPicPr>
          <p:blipFill>
            <a:blip r:embed="rId17"/>
            <a:stretch/>
          </p:blipFill>
          <p:spPr>
            <a:xfrm>
              <a:off x="2928960" y="4500720"/>
              <a:ext cx="714600" cy="71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8" name="Группа 95"/>
          <p:cNvGrpSpPr/>
          <p:nvPr/>
        </p:nvGrpSpPr>
        <p:grpSpPr>
          <a:xfrm>
            <a:off x="214200" y="3929040"/>
            <a:ext cx="2225880" cy="1143000"/>
            <a:chOff x="214200" y="3929040"/>
            <a:chExt cx="2225880" cy="1143000"/>
          </a:xfrm>
        </p:grpSpPr>
        <p:pic>
          <p:nvPicPr>
            <p:cNvPr id="709" name="Picture 3" descr="F:\Подготовка презентации 2008\ICONS\VirtualLNK Icons\VirtualLNK Medical Icons Collection v1.0\BMP\Regular\72x72\Qualifications 3D.bmp"/>
            <p:cNvPicPr/>
            <p:nvPr/>
          </p:nvPicPr>
          <p:blipFill>
            <a:blip r:embed="rId18"/>
            <a:stretch/>
          </p:blipFill>
          <p:spPr>
            <a:xfrm>
              <a:off x="857160" y="435744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14" descr="F:\Подготовка презентации 2008\ICONS\VirtualLNK Icons\VirtualLNK Medical Icons Collection v1.0\BMP\Regular\72x72\Patient Boy 1.bmp"/>
            <p:cNvPicPr/>
            <p:nvPr/>
          </p:nvPicPr>
          <p:blipFill>
            <a:blip r:embed="rId19"/>
            <a:stretch/>
          </p:blipFill>
          <p:spPr>
            <a:xfrm>
              <a:off x="214200" y="392904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AutoShape 14"/>
            <p:cNvSpPr/>
            <p:nvPr/>
          </p:nvSpPr>
          <p:spPr>
            <a:xfrm rot="5400000">
              <a:off x="1019880" y="397944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12" name="Рисунок 68" descr="untitled.bmp"/>
            <p:cNvPicPr/>
            <p:nvPr/>
          </p:nvPicPr>
          <p:blipFill>
            <a:blip r:embed="rId20"/>
            <a:stretch/>
          </p:blipFill>
          <p:spPr>
            <a:xfrm>
              <a:off x="1714680" y="3929040"/>
              <a:ext cx="725400" cy="57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Picture 10" descr="F:\Подготовка презентации 2008\ICONS\sissof1\PNG_32\celsave_48.png"/>
            <p:cNvPicPr/>
            <p:nvPr/>
          </p:nvPicPr>
          <p:blipFill>
            <a:blip r:embed="rId21"/>
            <a:stretch/>
          </p:blipFill>
          <p:spPr>
            <a:xfrm>
              <a:off x="1214280" y="4572000"/>
              <a:ext cx="500040" cy="50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4" name="Группа 98"/>
          <p:cNvGrpSpPr/>
          <p:nvPr/>
        </p:nvGrpSpPr>
        <p:grpSpPr>
          <a:xfrm>
            <a:off x="4785840" y="3786120"/>
            <a:ext cx="1315080" cy="1314360"/>
            <a:chOff x="4785840" y="3786120"/>
            <a:chExt cx="1315080" cy="1314360"/>
          </a:xfrm>
        </p:grpSpPr>
        <p:pic>
          <p:nvPicPr>
            <p:cNvPr id="715" name="Picture 9" descr="F:\Подготовка презентации 2008\ICONS\VirtualLNK Icons\VirtualLNK Network Icons Collection v1.0\BMP\Regular\72x72\Certificate Check.bmp"/>
            <p:cNvPicPr/>
            <p:nvPr/>
          </p:nvPicPr>
          <p:blipFill>
            <a:blip r:embed="rId22"/>
            <a:stretch/>
          </p:blipFill>
          <p:spPr>
            <a:xfrm>
              <a:off x="5357880" y="3786120"/>
              <a:ext cx="7146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AutoShape 14"/>
            <p:cNvSpPr/>
            <p:nvPr/>
          </p:nvSpPr>
          <p:spPr>
            <a:xfrm rot="5400000">
              <a:off x="4877640" y="397944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17" name="Picture 6" descr="C:\Users\ADexter\Desktop\VirtualLNK Icons\VirtualLNK Accounting Icons Collection v1.0\BMP\Regular\72x72\Barcode Scan.bmp"/>
            <p:cNvPicPr/>
            <p:nvPr/>
          </p:nvPicPr>
          <p:blipFill>
            <a:blip r:embed="rId23"/>
            <a:stretch/>
          </p:blipFill>
          <p:spPr>
            <a:xfrm>
              <a:off x="5500800" y="4500360"/>
              <a:ext cx="600120" cy="6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8" name="Группа 100"/>
          <p:cNvGrpSpPr/>
          <p:nvPr/>
        </p:nvGrpSpPr>
        <p:grpSpPr>
          <a:xfrm>
            <a:off x="7000920" y="4000680"/>
            <a:ext cx="1071360" cy="500040"/>
            <a:chOff x="7000920" y="4000680"/>
            <a:chExt cx="1071360" cy="500040"/>
          </a:xfrm>
        </p:grpSpPr>
        <p:sp>
          <p:nvSpPr>
            <p:cNvPr id="719" name="AutoShape 14"/>
            <p:cNvSpPr/>
            <p:nvPr/>
          </p:nvSpPr>
          <p:spPr>
            <a:xfrm rot="5400000">
              <a:off x="7092360" y="3980160"/>
              <a:ext cx="330840" cy="514080"/>
            </a:xfrm>
            <a:prstGeom prst="upArrow">
              <a:avLst>
                <a:gd name="adj1" fmla="val 78306"/>
                <a:gd name="adj2" fmla="val 4817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20" name="Picture 11" descr="F:\Подготовка презентации 2008\ICONS\VirtualLNK Icons\VirtualLNK Network Icons Collection v1.0\BMP\Regular\72x72\Mail Send Recieve.bmp"/>
            <p:cNvPicPr/>
            <p:nvPr/>
          </p:nvPicPr>
          <p:blipFill>
            <a:blip r:embed="rId24"/>
            <a:stretch/>
          </p:blipFill>
          <p:spPr>
            <a:xfrm>
              <a:off x="7572240" y="4000680"/>
              <a:ext cx="500040" cy="50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1" name="Группа 101"/>
          <p:cNvGrpSpPr/>
          <p:nvPr/>
        </p:nvGrpSpPr>
        <p:grpSpPr>
          <a:xfrm>
            <a:off x="7929360" y="3857760"/>
            <a:ext cx="1214640" cy="928440"/>
            <a:chOff x="7929360" y="3857760"/>
            <a:chExt cx="1214640" cy="928440"/>
          </a:xfrm>
        </p:grpSpPr>
        <p:pic>
          <p:nvPicPr>
            <p:cNvPr id="722" name="Picture 14" descr="F:\Подготовка презентации 2008\ICONS\VirtualLNK Icons\VirtualLNK Medical Icons Collection v1.0\BMP\Regular\72x72\Patient Boy 1.bmp"/>
            <p:cNvPicPr/>
            <p:nvPr/>
          </p:nvPicPr>
          <p:blipFill>
            <a:blip r:embed="rId25"/>
            <a:stretch/>
          </p:blipFill>
          <p:spPr>
            <a:xfrm>
              <a:off x="8429760" y="385776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Picture 10" descr="F:\Подготовка презентации 2008\ICONS\sissof1\PNG_32\celsave_48.png"/>
            <p:cNvPicPr/>
            <p:nvPr/>
          </p:nvPicPr>
          <p:blipFill>
            <a:blip r:embed="rId26"/>
            <a:stretch/>
          </p:blipFill>
          <p:spPr>
            <a:xfrm>
              <a:off x="8286840" y="421488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AutoShape 14"/>
            <p:cNvSpPr/>
            <p:nvPr/>
          </p:nvSpPr>
          <p:spPr>
            <a:xfrm rot="5400000">
              <a:off x="8021160" y="397980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25" name="Прямоугольник 82"/>
          <p:cNvSpPr/>
          <p:nvPr/>
        </p:nvSpPr>
        <p:spPr>
          <a:xfrm>
            <a:off x="6215040" y="2428920"/>
            <a:ext cx="8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СРН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26" name="Picture 13" descr="C:\DATA\Мои документы\Мои рисунки\293551133787556.jpg"/>
          <p:cNvPicPr/>
          <p:nvPr/>
        </p:nvPicPr>
        <p:blipFill>
          <a:blip r:embed="rId27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727" name="Нижний колонтитул 4"/>
          <p:cNvSpPr/>
          <p:nvPr/>
        </p:nvSpPr>
        <p:spPr>
          <a:xfrm>
            <a:off x="5500800" y="6500880"/>
            <a:ext cx="36432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нцепции информатизац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7200" y="134316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0" name="Нижний колонтитул 4"/>
          <p:cNvSpPr/>
          <p:nvPr/>
        </p:nvSpPr>
        <p:spPr>
          <a:xfrm>
            <a:off x="5500800" y="6500880"/>
            <a:ext cx="36432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31" name="Picture 4" descr="F:\Подготовка презентации 2008\ICONS\iconki_www.webz.tu1.ru\500ic\[www.zavis.ru]NetByte Design Studio - 1121.png"/>
          <p:cNvPicPr/>
          <p:nvPr/>
        </p:nvPicPr>
        <p:blipFill>
          <a:blip r:embed="rId1"/>
          <a:stretch/>
        </p:blipFill>
        <p:spPr>
          <a:xfrm>
            <a:off x="5857920" y="20718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732" name="Прямоугольник 7"/>
          <p:cNvSpPr/>
          <p:nvPr/>
        </p:nvSpPr>
        <p:spPr>
          <a:xfrm>
            <a:off x="285840" y="385776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Концепция информатизации системы управления здравоохранением Санкт-Петербурга на 2009-2011 годы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3" name="Прямоугольник 8"/>
          <p:cNvSpPr/>
          <p:nvPr/>
        </p:nvSpPr>
        <p:spPr>
          <a:xfrm>
            <a:off x="4786200" y="385776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Концепция информатизации системы обязательного медицинского страхования Санкт-Петербург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34" name="Picture 4" descr="F:\Подготовка презентации 2008\ICONS\iconki_www.webz.tu1.ru\500ic\[www.zavis.ru]NetByte Design Studio - 1121.png"/>
          <p:cNvPicPr/>
          <p:nvPr/>
        </p:nvPicPr>
        <p:blipFill>
          <a:blip r:embed="rId2"/>
          <a:stretch/>
        </p:blipFill>
        <p:spPr>
          <a:xfrm>
            <a:off x="1785960" y="2000160"/>
            <a:ext cx="1625400" cy="1625760"/>
          </a:xfrm>
          <a:prstGeom prst="rect">
            <a:avLst/>
          </a:prstGeom>
          <a:ln w="0">
            <a:noFill/>
          </a:ln>
        </p:spPr>
      </p:pic>
      <p:sp>
        <p:nvSpPr>
          <p:cNvPr id="735" name="Двойная стрелка влево/вправо 10"/>
          <p:cNvSpPr/>
          <p:nvPr/>
        </p:nvSpPr>
        <p:spPr>
          <a:xfrm>
            <a:off x="4000680" y="2571840"/>
            <a:ext cx="1785600" cy="428400"/>
          </a:xfrm>
          <a:prstGeom prst="leftRightArrow">
            <a:avLst>
              <a:gd name="adj1" fmla="val 50000"/>
              <a:gd name="adj2" fmla="val 50017"/>
            </a:avLst>
          </a:prstGeom>
          <a:solidFill>
            <a:srgbClr val="5bace9"/>
          </a:solidFill>
          <a:ln w="25560">
            <a:solidFill>
              <a:srgbClr val="417d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36" name="Picture 13" descr="C:\DATA\Мои документы\Мои рисунки\293551133787556.jpg"/>
          <p:cNvPicPr/>
          <p:nvPr/>
        </p:nvPicPr>
        <p:blipFill>
          <a:blip r:embed="rId3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5" descr="F:\Подготовка презентации 2008\ICONS\iconki_www.webz.tu1.ru\500ic\[www.zavis.ru]NetByte Design Studio - 1288.png"/>
          <p:cNvPicPr/>
          <p:nvPr/>
        </p:nvPicPr>
        <p:blipFill>
          <a:blip r:embed="rId4"/>
          <a:stretch/>
        </p:blipFill>
        <p:spPr>
          <a:xfrm>
            <a:off x="6643800" y="264312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5" descr="F:\Подготовка презентации 2008\ICONS\iconki_www.webz.tu1.ru\500ic\[www.zavis.ru]NetByte Design Studio - 1288.png"/>
          <p:cNvPicPr/>
          <p:nvPr/>
        </p:nvPicPr>
        <p:blipFill>
          <a:blip r:embed="rId5"/>
          <a:stretch/>
        </p:blipFill>
        <p:spPr>
          <a:xfrm>
            <a:off x="2643120" y="257184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739" name="AutoShape 3"/>
          <p:cNvSpPr/>
          <p:nvPr/>
        </p:nvSpPr>
        <p:spPr>
          <a:xfrm flipV="1">
            <a:off x="2857680" y="3285360"/>
            <a:ext cx="3929040" cy="235764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4090e8">
                  <a:alpha val="3215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0" name="Прямоугольник 15"/>
          <p:cNvSpPr/>
          <p:nvPr/>
        </p:nvSpPr>
        <p:spPr>
          <a:xfrm>
            <a:off x="1500120" y="5643720"/>
            <a:ext cx="67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Постановление Правительства Санкт-Петербурга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43" name="Picture 2" descr="C:\Documents and Settings\Papa\Рабочий стол\3D_Business_Graphics_rep\stockxpertcom_id1300071_size5.jpg"/>
          <p:cNvPicPr/>
          <p:nvPr/>
        </p:nvPicPr>
        <p:blipFill>
          <a:blip r:embed="rId2"/>
          <a:stretch/>
        </p:blipFill>
        <p:spPr>
          <a:xfrm>
            <a:off x="928800" y="1214280"/>
            <a:ext cx="7551720" cy="5643720"/>
          </a:xfrm>
          <a:prstGeom prst="rect">
            <a:avLst/>
          </a:prstGeom>
          <a:ln w="0">
            <a:noFill/>
          </a:ln>
        </p:spPr>
      </p:pic>
      <p:pic>
        <p:nvPicPr>
          <p:cNvPr id="744" name="WordArt 5" descr=""/>
          <p:cNvPicPr/>
          <p:nvPr/>
        </p:nvPicPr>
        <p:blipFill>
          <a:blip r:embed="rId3"/>
          <a:stretch/>
        </p:blipFill>
        <p:spPr>
          <a:xfrm>
            <a:off x="2212920" y="1116000"/>
            <a:ext cx="5145120" cy="1455840"/>
          </a:xfrm>
          <a:prstGeom prst="rect">
            <a:avLst/>
          </a:prstGeom>
          <a:ln w="0">
            <a:noFill/>
          </a:ln>
        </p:spPr>
      </p:pic>
      <p:pic>
        <p:nvPicPr>
          <p:cNvPr id="745" name="Рисунок 4" descr="untitled.bmp"/>
          <p:cNvPicPr/>
          <p:nvPr/>
        </p:nvPicPr>
        <p:blipFill>
          <a:blip r:embed="rId4"/>
          <a:stretch/>
        </p:blipFill>
        <p:spPr>
          <a:xfrm>
            <a:off x="4214880" y="5500800"/>
            <a:ext cx="895320" cy="714240"/>
          </a:xfrm>
          <a:prstGeom prst="rect">
            <a:avLst/>
          </a:prstGeom>
          <a:ln w="0">
            <a:noFill/>
          </a:ln>
        </p:spPr>
      </p:pic>
      <p:sp>
        <p:nvSpPr>
          <p:cNvPr id="746" name="Прямоугольник 7"/>
          <p:cNvSpPr/>
          <p:nvPr/>
        </p:nvSpPr>
        <p:spPr>
          <a:xfrm>
            <a:off x="3384000" y="648828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  <a:ea typeface="Arial"/>
              </a:rPr>
              <a:t>cio@miac.zdrav.spb.ru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7" name="Місце для нижнього колонтитула 1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indefinite"/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7" descr="shutterstock_5322817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инятые национальные стандарт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357120" y="1643040"/>
            <a:ext cx="8501040" cy="13240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500040" y="1714680"/>
            <a:ext cx="2571840" cy="11840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25b1b1"/>
              </a:gs>
              <a:gs pos="100000">
                <a:srgbClr val="1a7c7c"/>
              </a:gs>
            </a:gsLst>
            <a:lin ang="5400000"/>
          </a:gradFill>
          <a:ln w="38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934920" y="1928880"/>
            <a:ext cx="154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ОСТ Р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2636-2006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3000240" y="1785960"/>
            <a:ext cx="55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528d"/>
                </a:solidFill>
                <a:latin typeface="Arial"/>
                <a:ea typeface="Arial"/>
              </a:rPr>
              <a:t>«Электронная история болезни. </a:t>
            </a:r>
            <a:br>
              <a:rPr sz="2400"/>
            </a:br>
            <a:r>
              <a:rPr b="0" lang="ru-RU" sz="2400" spc="-1" strike="noStrike">
                <a:solidFill>
                  <a:srgbClr val="1d528d"/>
                </a:solidFill>
                <a:latin typeface="Arial"/>
                <a:ea typeface="Arial"/>
              </a:rPr>
              <a:t>Общие положения»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AutoShape 12"/>
          <p:cNvSpPr/>
          <p:nvPr/>
        </p:nvSpPr>
        <p:spPr>
          <a:xfrm>
            <a:off x="357120" y="3262320"/>
            <a:ext cx="8501040" cy="16668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500040" y="3333600"/>
            <a:ext cx="2571840" cy="145260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6e71f0"/>
              </a:gs>
              <a:gs pos="100000">
                <a:srgbClr val="4d4fa8"/>
              </a:gs>
            </a:gsLst>
            <a:lin ang="5400000"/>
          </a:gradFill>
          <a:ln w="38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506520" y="3714840"/>
            <a:ext cx="258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ГОСТ Р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СО/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 18308-2008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3143160" y="339732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528d"/>
                </a:solidFill>
                <a:latin typeface="Arial"/>
                <a:ea typeface="Arial"/>
              </a:rPr>
              <a:t>«Информатизация здоровья.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d528d"/>
                </a:solidFill>
                <a:latin typeface="Arial"/>
                <a:ea typeface="Arial"/>
              </a:rPr>
              <a:t>Требования к архитектуре  электронных записей в здравоохранении»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Freeform 16"/>
          <p:cNvSpPr/>
          <p:nvPr/>
        </p:nvSpPr>
        <p:spPr>
          <a:xfrm>
            <a:off x="571680" y="1785960"/>
            <a:ext cx="607680" cy="59220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88d4d4"/>
              </a:gs>
              <a:gs pos="50000">
                <a:srgbClr val="25b1b1">
                  <a:alpha val="0"/>
                </a:srgbClr>
              </a:gs>
              <a:gs pos="100000">
                <a:srgbClr val="88d4d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0" name="Freeform 17"/>
          <p:cNvSpPr/>
          <p:nvPr/>
        </p:nvSpPr>
        <p:spPr>
          <a:xfrm>
            <a:off x="571680" y="3429000"/>
            <a:ext cx="607680" cy="59220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b0b2f7"/>
              </a:gs>
              <a:gs pos="50000">
                <a:srgbClr val="6e71f0">
                  <a:alpha val="0"/>
                </a:srgbClr>
              </a:gs>
              <a:gs pos="100000">
                <a:srgbClr val="b0b2f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1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7" descr="shutterstock_1_9382699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нцепция развития системы здравоохранения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о 2020 год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4" name="Picture 27" descr="россия"/>
          <p:cNvPicPr/>
          <p:nvPr/>
        </p:nvPicPr>
        <p:blipFill>
          <a:blip r:embed="rId2"/>
          <a:stretch/>
        </p:blipFill>
        <p:spPr>
          <a:xfrm>
            <a:off x="7500960" y="1785960"/>
            <a:ext cx="609480" cy="371520"/>
          </a:xfrm>
          <a:prstGeom prst="rect">
            <a:avLst/>
          </a:prstGeom>
          <a:ln w="936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</p:pic>
      <p:pic>
        <p:nvPicPr>
          <p:cNvPr id="135" name="Picture 13" descr="C:\DATA\Мои документы\Мои рисунки\293551133787556.jpg"/>
          <p:cNvPicPr/>
          <p:nvPr/>
        </p:nvPicPr>
        <p:blipFill>
          <a:blip r:embed="rId3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136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7" name="AutoShape 13"/>
          <p:cNvSpPr/>
          <p:nvPr/>
        </p:nvSpPr>
        <p:spPr>
          <a:xfrm>
            <a:off x="1000080" y="265752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8" name="AutoShape 14"/>
          <p:cNvSpPr/>
          <p:nvPr/>
        </p:nvSpPr>
        <p:spPr>
          <a:xfrm>
            <a:off x="1000080" y="171468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9" name="AutoShape 20"/>
          <p:cNvSpPr/>
          <p:nvPr/>
        </p:nvSpPr>
        <p:spPr>
          <a:xfrm rot="5400000">
            <a:off x="762120" y="1913040"/>
            <a:ext cx="488880" cy="488880"/>
          </a:xfrm>
          <a:prstGeom prst="diamond">
            <a:avLst/>
          </a:prstGeom>
          <a:solidFill>
            <a:srgbClr val="6e71f0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AutoShape 21"/>
          <p:cNvSpPr/>
          <p:nvPr/>
        </p:nvSpPr>
        <p:spPr>
          <a:xfrm rot="5400000">
            <a:off x="762120" y="2855880"/>
            <a:ext cx="488880" cy="488880"/>
          </a:xfrm>
          <a:prstGeom prst="diamond">
            <a:avLst/>
          </a:prstGeom>
          <a:solidFill>
            <a:srgbClr val="969696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1" name="AutoShape 22"/>
          <p:cNvSpPr/>
          <p:nvPr/>
        </p:nvSpPr>
        <p:spPr>
          <a:xfrm>
            <a:off x="1000080" y="453384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2" name="AutoShape 23"/>
          <p:cNvSpPr/>
          <p:nvPr/>
        </p:nvSpPr>
        <p:spPr>
          <a:xfrm>
            <a:off x="1000080" y="359100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3" name="AutoShape 24"/>
          <p:cNvSpPr/>
          <p:nvPr/>
        </p:nvSpPr>
        <p:spPr>
          <a:xfrm rot="5400000">
            <a:off x="762120" y="3789360"/>
            <a:ext cx="488880" cy="488880"/>
          </a:xfrm>
          <a:prstGeom prst="diamond">
            <a:avLst/>
          </a:prstGeom>
          <a:solidFill>
            <a:srgbClr val="25b1b1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4" name="AutoShape 25"/>
          <p:cNvSpPr/>
          <p:nvPr/>
        </p:nvSpPr>
        <p:spPr>
          <a:xfrm rot="5400000">
            <a:off x="761760" y="4732200"/>
            <a:ext cx="489240" cy="488880"/>
          </a:xfrm>
          <a:prstGeom prst="diamond">
            <a:avLst/>
          </a:prstGeom>
          <a:solidFill>
            <a:srgbClr val="5bace9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5" name="Text Box 26"/>
          <p:cNvSpPr/>
          <p:nvPr/>
        </p:nvSpPr>
        <p:spPr>
          <a:xfrm>
            <a:off x="1143000" y="1857240"/>
            <a:ext cx="728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784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Персонификация медицинских услуг на основе электронного паспорта здоровья (ЭМК)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285920" y="2857680"/>
            <a:ext cx="698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Развитие ИКТ инфраструктуры системы здравоохранения, в т</a:t>
            </a:r>
            <a:r>
              <a:rPr b="1" lang="en-US" sz="1400" spc="-1" strike="noStrike">
                <a:solidFill>
                  <a:srgbClr val="6e71f0"/>
                </a:solidFill>
                <a:latin typeface="Arial"/>
                <a:ea typeface="Arial"/>
              </a:rPr>
              <a:t>.</a:t>
            </a: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ч</a:t>
            </a:r>
            <a:r>
              <a:rPr b="1" lang="en-US" sz="1400" spc="-1" strike="noStrike">
                <a:solidFill>
                  <a:srgbClr val="6e71f0"/>
                </a:solidFill>
                <a:latin typeface="Arial"/>
                <a:ea typeface="Arial"/>
              </a:rPr>
              <a:t>.</a:t>
            </a: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 создание региональных центров обработки данных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357200" y="3857760"/>
            <a:ext cx="70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Организация электронного обмена медицинскими данным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1285920" y="4714920"/>
            <a:ext cx="705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Создание национальных реестров, справочников и классификаторов, национальной электронной медицинской библиотек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13"/>
          <p:cNvSpPr/>
          <p:nvPr/>
        </p:nvSpPr>
        <p:spPr>
          <a:xfrm>
            <a:off x="1000080" y="550080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0" name="AutoShape 21"/>
          <p:cNvSpPr/>
          <p:nvPr/>
        </p:nvSpPr>
        <p:spPr>
          <a:xfrm rot="5400000">
            <a:off x="762120" y="5699160"/>
            <a:ext cx="488880" cy="488880"/>
          </a:xfrm>
          <a:prstGeom prst="diamond">
            <a:avLst/>
          </a:prstGeom>
          <a:solidFill>
            <a:srgbClr val="969696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357200" y="5643720"/>
            <a:ext cx="698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Интеграция всех государственных информационных систем в сфере здравоохранения, социального развития и труд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2" name="Rectangle 36"/>
          <p:cNvSpPr/>
          <p:nvPr/>
        </p:nvSpPr>
        <p:spPr>
          <a:xfrm>
            <a:off x="0" y="128592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Направления работ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по информатизации, основные задачи: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3" name="Rectangle 38"/>
          <p:cNvSpPr/>
          <p:nvPr/>
        </p:nvSpPr>
        <p:spPr>
          <a:xfrm>
            <a:off x="285840" y="65340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МЗСР </a:t>
            </a:r>
            <a:r>
              <a:rPr b="0" lang="en-US" sz="1000" spc="-1" strike="noStrike">
                <a:solidFill>
                  <a:srgbClr val="1d528d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, О.В.Симаков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2" descr="shutterstock_1_9382699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008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жидаемые результаты информатизации здравоохранени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РФ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Footer Placeholder 3"/>
          <p:cNvSpPr/>
          <p:nvPr/>
        </p:nvSpPr>
        <p:spPr>
          <a:xfrm>
            <a:off x="6100920" y="6537240"/>
            <a:ext cx="30430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7" name="Freeform 2"/>
          <p:cNvSpPr/>
          <p:nvPr/>
        </p:nvSpPr>
        <p:spPr>
          <a:xfrm>
            <a:off x="3960720" y="1244520"/>
            <a:ext cx="631800" cy="2914560"/>
          </a:xfrm>
          <a:custGeom>
            <a:avLst/>
            <a:gdLst>
              <a:gd name="textAreaLeft" fmla="*/ 0 w 631800"/>
              <a:gd name="textAreaRight" fmla="*/ 632160 w 631800"/>
              <a:gd name="textAreaTop" fmla="*/ 0 h 2914560"/>
              <a:gd name="textAreaBottom" fmla="*/ 2914920 h 2914560"/>
            </a:gdLst>
            <a:ahLst/>
            <a:rect l="textAreaLeft" t="textAreaTop" r="textAreaRight" b="textAreaBottom"/>
            <a:pathLst>
              <a:path w="398" h="1836">
                <a:moveTo>
                  <a:pt x="398" y="1834"/>
                </a:moveTo>
                <a:lnTo>
                  <a:pt x="398" y="1613"/>
                </a:lnTo>
                <a:lnTo>
                  <a:pt x="0" y="0"/>
                </a:lnTo>
                <a:lnTo>
                  <a:pt x="0" y="1665"/>
                </a:lnTo>
                <a:lnTo>
                  <a:pt x="396" y="1836"/>
                </a:lnTo>
                <a:lnTo>
                  <a:pt x="398" y="1834"/>
                </a:lnTo>
                <a:close/>
              </a:path>
            </a:pathLst>
          </a:custGeom>
          <a:gradFill rotWithShape="0">
            <a:gsLst>
              <a:gs pos="0">
                <a:srgbClr val="6e71f0"/>
              </a:gs>
              <a:gs pos="100000">
                <a:srgbClr val="dfedfd"/>
              </a:gs>
            </a:gsLst>
            <a:lin ang="2700000"/>
          </a:gradFill>
          <a:ln w="9360">
            <a:solidFill>
              <a:srgbClr val="6e71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4599000" y="1216080"/>
            <a:ext cx="608040" cy="2946240"/>
          </a:xfrm>
          <a:custGeom>
            <a:avLst/>
            <a:gdLst>
              <a:gd name="textAreaLeft" fmla="*/ 0 w 608040"/>
              <a:gd name="textAreaRight" fmla="*/ 608400 w 608040"/>
              <a:gd name="textAreaTop" fmla="*/ 0 h 2946240"/>
              <a:gd name="textAreaBottom" fmla="*/ 2946600 h 2946240"/>
            </a:gdLst>
            <a:ahLst/>
            <a:rect l="textAreaLeft" t="textAreaTop" r="textAreaRight" b="textAreaBottom"/>
            <a:pathLst>
              <a:path w="383" h="1856">
                <a:moveTo>
                  <a:pt x="3" y="1629"/>
                </a:moveTo>
                <a:lnTo>
                  <a:pt x="383" y="0"/>
                </a:lnTo>
                <a:lnTo>
                  <a:pt x="383" y="1681"/>
                </a:lnTo>
                <a:lnTo>
                  <a:pt x="0" y="1856"/>
                </a:lnTo>
                <a:lnTo>
                  <a:pt x="3" y="1629"/>
                </a:lnTo>
                <a:close/>
              </a:path>
            </a:pathLst>
          </a:custGeom>
          <a:gradFill rotWithShape="0">
            <a:gsLst>
              <a:gs pos="0">
                <a:srgbClr val="dfedfd"/>
              </a:gs>
              <a:gs pos="100000">
                <a:srgbClr val="6e71f0"/>
              </a:gs>
            </a:gsLst>
            <a:lin ang="18900000"/>
          </a:gradFill>
          <a:ln w="9360">
            <a:solidFill>
              <a:srgbClr val="6e71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9" name="Freeform 4"/>
          <p:cNvSpPr/>
          <p:nvPr/>
        </p:nvSpPr>
        <p:spPr>
          <a:xfrm flipV="1">
            <a:off x="3960720" y="4153680"/>
            <a:ext cx="631800" cy="2374920"/>
          </a:xfrm>
          <a:custGeom>
            <a:avLst/>
            <a:gdLst>
              <a:gd name="textAreaLeft" fmla="*/ 0 w 631800"/>
              <a:gd name="textAreaRight" fmla="*/ 632160 w 631800"/>
              <a:gd name="textAreaTop" fmla="*/ -360 h 2374920"/>
              <a:gd name="textAreaBottom" fmla="*/ 2374920 h 2374920"/>
            </a:gdLst>
            <a:ahLst/>
            <a:rect l="textAreaLeft" t="textAreaTop" r="textAreaRight" b="textAreaBottom"/>
            <a:pathLst>
              <a:path w="728" h="1604">
                <a:moveTo>
                  <a:pt x="728" y="1604"/>
                </a:moveTo>
                <a:lnTo>
                  <a:pt x="728" y="1372"/>
                </a:lnTo>
                <a:lnTo>
                  <a:pt x="0" y="0"/>
                </a:lnTo>
                <a:lnTo>
                  <a:pt x="0" y="1416"/>
                </a:lnTo>
                <a:lnTo>
                  <a:pt x="728" y="1604"/>
                </a:lnTo>
              </a:path>
            </a:pathLst>
          </a:custGeom>
          <a:gradFill rotWithShape="0">
            <a:gsLst>
              <a:gs pos="0">
                <a:srgbClr val="6e71f0"/>
              </a:gs>
              <a:gs pos="100000">
                <a:srgbClr val="dfedfd"/>
              </a:gs>
            </a:gsLst>
            <a:lin ang="2700000"/>
          </a:gradFill>
          <a:ln w="9360">
            <a:solidFill>
              <a:srgbClr val="6e71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0" name="Freeform 5"/>
          <p:cNvSpPr/>
          <p:nvPr/>
        </p:nvSpPr>
        <p:spPr>
          <a:xfrm flipH="1" flipV="1">
            <a:off x="4603680" y="4153680"/>
            <a:ext cx="603360" cy="2374920"/>
          </a:xfrm>
          <a:custGeom>
            <a:avLst/>
            <a:gdLst>
              <a:gd name="textAreaLeft" fmla="*/ 0 w 603360"/>
              <a:gd name="textAreaRight" fmla="*/ 603360 w 603360"/>
              <a:gd name="textAreaTop" fmla="*/ -360 h 2374920"/>
              <a:gd name="textAreaBottom" fmla="*/ 2374920 h 2374920"/>
            </a:gdLst>
            <a:ahLst/>
            <a:rect l="textAreaLeft" t="textAreaTop" r="textAreaRight" b="textAreaBottom"/>
            <a:pathLst>
              <a:path w="728" h="1604">
                <a:moveTo>
                  <a:pt x="728" y="1604"/>
                </a:moveTo>
                <a:lnTo>
                  <a:pt x="728" y="1372"/>
                </a:lnTo>
                <a:lnTo>
                  <a:pt x="0" y="0"/>
                </a:lnTo>
                <a:lnTo>
                  <a:pt x="0" y="1416"/>
                </a:lnTo>
                <a:lnTo>
                  <a:pt x="728" y="1604"/>
                </a:lnTo>
              </a:path>
            </a:pathLst>
          </a:custGeom>
          <a:gradFill rotWithShape="0">
            <a:gsLst>
              <a:gs pos="0">
                <a:srgbClr val="6e71f0"/>
              </a:gs>
              <a:gs pos="100000">
                <a:srgbClr val="dfedfd"/>
              </a:gs>
            </a:gsLst>
            <a:lin ang="2700000"/>
          </a:gradFill>
          <a:ln w="9360">
            <a:solidFill>
              <a:srgbClr val="6e71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285840" y="1230480"/>
            <a:ext cx="3687840" cy="2655720"/>
          </a:xfrm>
          <a:prstGeom prst="rect">
            <a:avLst/>
          </a:prstGeom>
          <a:solidFill>
            <a:srgbClr val="e0e4f0"/>
          </a:soli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285840" y="1214280"/>
            <a:ext cx="3687840" cy="403560"/>
          </a:xfrm>
          <a:prstGeom prst="rect">
            <a:avLst/>
          </a:prstGeom>
          <a:gradFill rotWithShape="0">
            <a:gsLst>
              <a:gs pos="0">
                <a:srgbClr val="6e71f0"/>
              </a:gs>
              <a:gs pos="50000">
                <a:srgbClr val="585bc1"/>
              </a:gs>
              <a:gs pos="100000">
                <a:srgbClr val="6e71f0"/>
              </a:gs>
            </a:gsLst>
            <a:lin ang="5400000"/>
          </a:gra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ddddd"/>
                </a:solidFill>
                <a:latin typeface="Arial"/>
              </a:rPr>
              <a:t>Повышение качества услуг за счет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363600" y="1643040"/>
            <a:ext cx="355284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увеличение времени на прием одного пациента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овышения доступности медицинской информации и образовательных ресурсов для граждан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уменьшения ошибок медицинского персонала, связанных с назначением лекарственных препаратов и выбором курса лечения (до 15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снижения временной нетрудоспособности граждан за счет снижения количества ошибок при постановке диагноза (до 20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снижения смертности на 5% и соответствующее увеличение средней продолжительности жизни населения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5200560" y="1230480"/>
            <a:ext cx="3687840" cy="2655720"/>
          </a:xfrm>
          <a:prstGeom prst="rect">
            <a:avLst/>
          </a:prstGeom>
          <a:solidFill>
            <a:srgbClr val="e0e4f0"/>
          </a:soli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5200560" y="1214280"/>
            <a:ext cx="3687840" cy="403560"/>
          </a:xfrm>
          <a:prstGeom prst="rect">
            <a:avLst/>
          </a:prstGeom>
          <a:gradFill rotWithShape="0">
            <a:gsLst>
              <a:gs pos="0">
                <a:srgbClr val="6e71f0"/>
              </a:gs>
              <a:gs pos="50000">
                <a:srgbClr val="585bc1"/>
              </a:gs>
              <a:gs pos="100000">
                <a:srgbClr val="6e71f0"/>
              </a:gs>
            </a:gsLst>
            <a:lin ang="5400000"/>
          </a:gra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ddddd"/>
                </a:solidFill>
                <a:latin typeface="Arial"/>
              </a:rPr>
              <a:t>Снижение финансовых издержек за счет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5278320" y="1643040"/>
            <a:ext cx="355284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количества дополнительно проводимых консультаций, обследований и анализов, назначаемых различными специалистами в отсутствие информации о ранее проведенных процедурах (до 14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ерерасхода медицинских расходных материалов и лекарственных препаратов (до 11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количества повторных госпитализаций после лечения (до 20%),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количества посещений пациентами медицинских учреждений (до 5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количества некорректных финансовых операций в  системе медицинского страхования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85840" y="4443480"/>
            <a:ext cx="3687840" cy="2046240"/>
          </a:xfrm>
          <a:prstGeom prst="rect">
            <a:avLst/>
          </a:prstGeom>
          <a:solidFill>
            <a:srgbClr val="e0e4f0"/>
          </a:soli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285840" y="4427640"/>
            <a:ext cx="3687840" cy="403200"/>
          </a:xfrm>
          <a:prstGeom prst="rect">
            <a:avLst/>
          </a:prstGeom>
          <a:gradFill rotWithShape="0">
            <a:gsLst>
              <a:gs pos="0">
                <a:srgbClr val="6e71f0"/>
              </a:gs>
              <a:gs pos="50000">
                <a:srgbClr val="585bc1"/>
              </a:gs>
              <a:gs pos="100000">
                <a:srgbClr val="6e71f0"/>
              </a:gs>
            </a:gsLst>
            <a:lin ang="5400000"/>
          </a:gra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ddddd"/>
                </a:solidFill>
                <a:latin typeface="Arial"/>
              </a:rPr>
              <a:t>Сокращение временных издержек за счет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363600" y="4856040"/>
            <a:ext cx="355284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ации поиска необходимой информации (до 60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ации ведения текущей документации </a:t>
            </a:r>
            <a:br>
              <a:rPr sz="1100"/>
            </a:b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(до 20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овышения оперативности проведения консультаций, собрания анамнеза и постановки диагноза (до 25%),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0" name="Rectangle 16"/>
          <p:cNvSpPr/>
          <p:nvPr/>
        </p:nvSpPr>
        <p:spPr>
          <a:xfrm>
            <a:off x="5200560" y="4443480"/>
            <a:ext cx="3687840" cy="2046240"/>
          </a:xfrm>
          <a:prstGeom prst="rect">
            <a:avLst/>
          </a:prstGeom>
          <a:solidFill>
            <a:srgbClr val="e0e4f0"/>
          </a:soli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1" name="Rectangle 17"/>
          <p:cNvSpPr/>
          <p:nvPr/>
        </p:nvSpPr>
        <p:spPr>
          <a:xfrm>
            <a:off x="5200560" y="4427640"/>
            <a:ext cx="3687840" cy="403200"/>
          </a:xfrm>
          <a:prstGeom prst="rect">
            <a:avLst/>
          </a:prstGeom>
          <a:gradFill rotWithShape="0">
            <a:gsLst>
              <a:gs pos="0">
                <a:srgbClr val="6e71f0"/>
              </a:gs>
              <a:gs pos="50000">
                <a:srgbClr val="585bc1"/>
              </a:gs>
              <a:gs pos="100000">
                <a:srgbClr val="6e71f0"/>
              </a:gs>
            </a:gsLst>
            <a:lin ang="5400000"/>
          </a:gra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ddddd"/>
                </a:solidFill>
                <a:latin typeface="Arial"/>
              </a:rPr>
              <a:t>Сокращение трудозатрат медицинского персонала за счет автоматизации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Rectangle 18"/>
          <p:cNvSpPr/>
          <p:nvPr/>
        </p:nvSpPr>
        <p:spPr>
          <a:xfrm>
            <a:off x="5278320" y="4856040"/>
            <a:ext cx="3552840" cy="15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оиска и обработки справочной и документальной информации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доступа  к персональной медицинской информации о пациенте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одготовке документов (отчетов, заключений, рецептов и т.д.)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доступа врачей к информации по новейшим методам лечения и новинкам в области лекарственных препаратов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73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24"/>
          <p:cNvSpPr/>
          <p:nvPr/>
        </p:nvSpPr>
        <p:spPr>
          <a:xfrm>
            <a:off x="285840" y="65340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МЗСР </a:t>
            </a:r>
            <a:r>
              <a:rPr b="0" lang="en-US" sz="1000" spc="-1" strike="noStrike">
                <a:solidFill>
                  <a:srgbClr val="1d528d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, О.В.Симаков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92" descr="shutterstock_1_9382699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360" y="571320"/>
            <a:ext cx="8072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нфраструктура предлагаемых решений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 2009–2011 гг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1598760" y="1203480"/>
            <a:ext cx="7278480" cy="5373360"/>
          </a:xfrm>
          <a:prstGeom prst="rect">
            <a:avLst/>
          </a:prstGeom>
          <a:gradFill rotWithShape="0">
            <a:gsLst>
              <a:gs pos="0">
                <a:srgbClr val="fbdbc1"/>
              </a:gs>
              <a:gs pos="100000">
                <a:srgbClr val="feefe2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5bace9"/>
            </a:solidFill>
            <a:miter/>
          </a:ln>
          <a:effectLst>
            <a:outerShdw dist="17819" dir="2700000" blurRad="0" rotWithShape="0">
              <a:srgbClr val="5bace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8" name="Rectangle 142"/>
          <p:cNvSpPr/>
          <p:nvPr/>
        </p:nvSpPr>
        <p:spPr>
          <a:xfrm>
            <a:off x="3492360" y="1835280"/>
            <a:ext cx="2522520" cy="520560"/>
          </a:xfrm>
          <a:prstGeom prst="rect">
            <a:avLst/>
          </a:prstGeom>
          <a:gradFill rotWithShape="0">
            <a:gsLst>
              <a:gs pos="0">
                <a:srgbClr val="feefe2"/>
              </a:gs>
              <a:gs pos="50000">
                <a:srgbClr val="5bace9"/>
              </a:gs>
              <a:gs pos="100000">
                <a:srgbClr val="feef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Rectangle 141"/>
          <p:cNvSpPr/>
          <p:nvPr/>
        </p:nvSpPr>
        <p:spPr>
          <a:xfrm>
            <a:off x="2230560" y="3727440"/>
            <a:ext cx="4599000" cy="520560"/>
          </a:xfrm>
          <a:prstGeom prst="rect">
            <a:avLst/>
          </a:prstGeom>
          <a:gradFill rotWithShape="0">
            <a:gsLst>
              <a:gs pos="0">
                <a:srgbClr val="feefe2"/>
              </a:gs>
              <a:gs pos="50000">
                <a:srgbClr val="5bace9"/>
              </a:gs>
              <a:gs pos="100000">
                <a:srgbClr val="feef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0" name="Rectangle 140"/>
          <p:cNvSpPr/>
          <p:nvPr/>
        </p:nvSpPr>
        <p:spPr>
          <a:xfrm>
            <a:off x="2230560" y="5668920"/>
            <a:ext cx="4856040" cy="520920"/>
          </a:xfrm>
          <a:prstGeom prst="rect">
            <a:avLst/>
          </a:prstGeom>
          <a:gradFill rotWithShape="0">
            <a:gsLst>
              <a:gs pos="0">
                <a:srgbClr val="feefe2"/>
              </a:gs>
              <a:gs pos="50000">
                <a:srgbClr val="5bace9"/>
              </a:gs>
              <a:gs pos="100000">
                <a:srgbClr val="feef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1" name="AutoShape 114"/>
          <p:cNvSpPr/>
          <p:nvPr/>
        </p:nvSpPr>
        <p:spPr>
          <a:xfrm>
            <a:off x="3895560" y="1677960"/>
            <a:ext cx="1981440" cy="776160"/>
          </a:xfrm>
          <a:prstGeom prst="roundRect">
            <a:avLst>
              <a:gd name="adj" fmla="val 6310"/>
            </a:avLst>
          </a:prstGeom>
          <a:gradFill rotWithShape="0">
            <a:gsLst>
              <a:gs pos="0">
                <a:srgbClr val="eff1f7"/>
              </a:gs>
              <a:gs pos="100000">
                <a:srgbClr val="e0e4f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2" name="Rectangle 115"/>
          <p:cNvSpPr/>
          <p:nvPr/>
        </p:nvSpPr>
        <p:spPr>
          <a:xfrm>
            <a:off x="5286240" y="1679400"/>
            <a:ext cx="541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Резервный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714680" y="1285920"/>
            <a:ext cx="5613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Государственная информационная система персонифицированного учета оказания медицинской помощи гражданам РФ (Система)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84" name="Group 90"/>
          <p:cNvGrpSpPr/>
          <p:nvPr/>
        </p:nvGrpSpPr>
        <p:grpSpPr>
          <a:xfrm>
            <a:off x="3976560" y="4600440"/>
            <a:ext cx="1133280" cy="476280"/>
            <a:chOff x="3976560" y="4600440"/>
            <a:chExt cx="1133280" cy="476280"/>
          </a:xfrm>
        </p:grpSpPr>
        <p:sp>
          <p:nvSpPr>
            <p:cNvPr id="185" name="Cloud"/>
            <p:cNvSpPr/>
            <p:nvPr/>
          </p:nvSpPr>
          <p:spPr>
            <a:xfrm>
              <a:off x="3976560" y="4600440"/>
              <a:ext cx="1133280" cy="476280"/>
            </a:xfrm>
            <a:custGeom>
              <a:avLst/>
              <a:gdLst>
                <a:gd name="textAreaLeft" fmla="*/ 155520 w 1133280"/>
                <a:gd name="textAreaRight" fmla="*/ 896760 w 1133280"/>
                <a:gd name="textAreaTop" fmla="*/ 71640 h 476280"/>
                <a:gd name="textAreaBottom" fmla="*/ 382680 h 47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ecf5fe"/>
            </a:solidFill>
            <a:ln w="19080">
              <a:solidFill>
                <a:srgbClr val="86bb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6" name="Rectangle 25"/>
            <p:cNvSpPr/>
            <p:nvPr/>
          </p:nvSpPr>
          <p:spPr>
            <a:xfrm>
              <a:off x="4235040" y="4771440"/>
              <a:ext cx="617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1d528d"/>
                  </a:solidFill>
                  <a:latin typeface="Arial"/>
                  <a:ea typeface="Arial"/>
                </a:rPr>
                <a:t>Интернет 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87" name="Rectangle 29"/>
          <p:cNvSpPr/>
          <p:nvPr/>
        </p:nvSpPr>
        <p:spPr>
          <a:xfrm>
            <a:off x="7873920" y="1320840"/>
            <a:ext cx="922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Защищенные каналы связи (интранет)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8" name="Line 30"/>
          <p:cNvSpPr/>
          <p:nvPr/>
        </p:nvSpPr>
        <p:spPr>
          <a:xfrm>
            <a:off x="7539120" y="1397160"/>
            <a:ext cx="231840" cy="0"/>
          </a:xfrm>
          <a:prstGeom prst="line">
            <a:avLst/>
          </a:prstGeom>
          <a:ln w="12600">
            <a:solidFill>
              <a:srgbClr val="6e71f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9" name="Rectangle 31"/>
          <p:cNvSpPr/>
          <p:nvPr/>
        </p:nvSpPr>
        <p:spPr>
          <a:xfrm>
            <a:off x="7873920" y="1876320"/>
            <a:ext cx="922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Крипто- маршрутизаторы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0" name="Rectangle 36"/>
          <p:cNvSpPr/>
          <p:nvPr/>
        </p:nvSpPr>
        <p:spPr>
          <a:xfrm>
            <a:off x="7873920" y="2200320"/>
            <a:ext cx="82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Сертификация ФСБ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AutoShape 37"/>
          <p:cNvSpPr/>
          <p:nvPr/>
        </p:nvSpPr>
        <p:spPr>
          <a:xfrm>
            <a:off x="2120760" y="3649680"/>
            <a:ext cx="1981440" cy="650880"/>
          </a:xfrm>
          <a:prstGeom prst="roundRect">
            <a:avLst>
              <a:gd name="adj" fmla="val 6310"/>
            </a:avLst>
          </a:prstGeom>
          <a:gradFill rotWithShape="0">
            <a:gsLst>
              <a:gs pos="0">
                <a:srgbClr val="eff1f7"/>
              </a:gs>
              <a:gs pos="100000">
                <a:srgbClr val="e0e4f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2" name="Rectangle 38"/>
          <p:cNvSpPr/>
          <p:nvPr/>
        </p:nvSpPr>
        <p:spPr>
          <a:xfrm>
            <a:off x="2181240" y="3708360"/>
            <a:ext cx="1119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центр обработки </a:t>
            </a:r>
            <a:br>
              <a:rPr sz="800"/>
            </a:b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и анализа данных (РЦОД)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3" name="Picture 19" descr="database"/>
          <p:cNvPicPr/>
          <p:nvPr/>
        </p:nvPicPr>
        <p:blipFill>
          <a:blip r:embed="rId2"/>
          <a:stretch/>
        </p:blipFill>
        <p:spPr>
          <a:xfrm>
            <a:off x="3281400" y="3805200"/>
            <a:ext cx="509400" cy="47484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83"/>
          <p:cNvGrpSpPr/>
          <p:nvPr/>
        </p:nvGrpSpPr>
        <p:grpSpPr>
          <a:xfrm>
            <a:off x="1768320" y="5407200"/>
            <a:ext cx="1214280" cy="1109520"/>
            <a:chOff x="1768320" y="5407200"/>
            <a:chExt cx="1214280" cy="1109520"/>
          </a:xfrm>
        </p:grpSpPr>
        <p:sp>
          <p:nvSpPr>
            <p:cNvPr id="195" name="AutoShape 41"/>
            <p:cNvSpPr/>
            <p:nvPr/>
          </p:nvSpPr>
          <p:spPr>
            <a:xfrm>
              <a:off x="1768320" y="5407200"/>
              <a:ext cx="1214280" cy="110952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1823760" y="5438880"/>
              <a:ext cx="11178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ой ПТК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ая форма учета оказания мед. помощи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197" name="Picture 11" descr="note_book"/>
            <p:cNvPicPr/>
            <p:nvPr/>
          </p:nvPicPr>
          <p:blipFill>
            <a:blip r:embed="rId3"/>
            <a:stretch/>
          </p:blipFill>
          <p:spPr>
            <a:xfrm>
              <a:off x="2390400" y="5970600"/>
              <a:ext cx="49860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2" descr="template"/>
            <p:cNvPicPr/>
            <p:nvPr/>
          </p:nvPicPr>
          <p:blipFill>
            <a:blip r:embed="rId4"/>
            <a:stretch/>
          </p:blipFill>
          <p:spPr>
            <a:xfrm>
              <a:off x="1944360" y="5991480"/>
              <a:ext cx="399960" cy="48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AutoShape 60"/>
          <p:cNvSpPr/>
          <p:nvPr/>
        </p:nvSpPr>
        <p:spPr>
          <a:xfrm>
            <a:off x="5079960" y="3649680"/>
            <a:ext cx="1981080" cy="650880"/>
          </a:xfrm>
          <a:prstGeom prst="roundRect">
            <a:avLst>
              <a:gd name="adj" fmla="val 6310"/>
            </a:avLst>
          </a:prstGeom>
          <a:gradFill rotWithShape="0">
            <a:gsLst>
              <a:gs pos="0">
                <a:srgbClr val="eff1f7"/>
              </a:gs>
              <a:gs pos="100000">
                <a:srgbClr val="e0e4f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Rectangle 61"/>
          <p:cNvSpPr/>
          <p:nvPr/>
        </p:nvSpPr>
        <p:spPr>
          <a:xfrm flipH="1">
            <a:off x="5458680" y="3708360"/>
            <a:ext cx="10126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центр обработки и анализа данных (РЦОД)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01" name="Picture 62" descr="database"/>
          <p:cNvPicPr/>
          <p:nvPr/>
        </p:nvPicPr>
        <p:blipFill>
          <a:blip r:embed="rId5"/>
          <a:stretch/>
        </p:blipFill>
        <p:spPr>
          <a:xfrm>
            <a:off x="6532560" y="3805200"/>
            <a:ext cx="509760" cy="47484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84"/>
          <p:cNvGrpSpPr/>
          <p:nvPr/>
        </p:nvGrpSpPr>
        <p:grpSpPr>
          <a:xfrm>
            <a:off x="3149640" y="5407200"/>
            <a:ext cx="1214280" cy="1109520"/>
            <a:chOff x="3149640" y="5407200"/>
            <a:chExt cx="1214280" cy="1109520"/>
          </a:xfrm>
        </p:grpSpPr>
        <p:sp>
          <p:nvSpPr>
            <p:cNvPr id="203" name="AutoShape 65"/>
            <p:cNvSpPr/>
            <p:nvPr/>
          </p:nvSpPr>
          <p:spPr>
            <a:xfrm>
              <a:off x="3149640" y="5407200"/>
              <a:ext cx="1214280" cy="110952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Rectangle 66"/>
            <p:cNvSpPr/>
            <p:nvPr/>
          </p:nvSpPr>
          <p:spPr>
            <a:xfrm>
              <a:off x="3205080" y="5438880"/>
              <a:ext cx="11178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ой ПТК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ая форма учета оказания мед. помощи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05" name="Picture 67" descr="note_book"/>
            <p:cNvPicPr/>
            <p:nvPr/>
          </p:nvPicPr>
          <p:blipFill>
            <a:blip r:embed="rId6"/>
            <a:stretch/>
          </p:blipFill>
          <p:spPr>
            <a:xfrm>
              <a:off x="3772080" y="5970600"/>
              <a:ext cx="49824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68" descr="template"/>
            <p:cNvPicPr/>
            <p:nvPr/>
          </p:nvPicPr>
          <p:blipFill>
            <a:blip r:embed="rId7"/>
            <a:stretch/>
          </p:blipFill>
          <p:spPr>
            <a:xfrm>
              <a:off x="3326040" y="5991480"/>
              <a:ext cx="399960" cy="48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Group 85"/>
          <p:cNvGrpSpPr/>
          <p:nvPr/>
        </p:nvGrpSpPr>
        <p:grpSpPr>
          <a:xfrm>
            <a:off x="4651200" y="5407200"/>
            <a:ext cx="1214280" cy="1109520"/>
            <a:chOff x="4651200" y="5407200"/>
            <a:chExt cx="1214280" cy="1109520"/>
          </a:xfrm>
        </p:grpSpPr>
        <p:sp>
          <p:nvSpPr>
            <p:cNvPr id="208" name="AutoShape 70"/>
            <p:cNvSpPr/>
            <p:nvPr/>
          </p:nvSpPr>
          <p:spPr>
            <a:xfrm>
              <a:off x="4651200" y="5407200"/>
              <a:ext cx="1214280" cy="110952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Rectangle 71"/>
            <p:cNvSpPr/>
            <p:nvPr/>
          </p:nvSpPr>
          <p:spPr>
            <a:xfrm>
              <a:off x="4706640" y="5438880"/>
              <a:ext cx="11178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ой ПТК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ая форма учета оказания мед. помощи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10" name="Picture 72" descr="note_book"/>
            <p:cNvPicPr/>
            <p:nvPr/>
          </p:nvPicPr>
          <p:blipFill>
            <a:blip r:embed="rId8"/>
            <a:stretch/>
          </p:blipFill>
          <p:spPr>
            <a:xfrm>
              <a:off x="5273280" y="5970600"/>
              <a:ext cx="49860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73" descr="template"/>
            <p:cNvPicPr/>
            <p:nvPr/>
          </p:nvPicPr>
          <p:blipFill>
            <a:blip r:embed="rId9"/>
            <a:stretch/>
          </p:blipFill>
          <p:spPr>
            <a:xfrm>
              <a:off x="4827240" y="5991480"/>
              <a:ext cx="400320" cy="48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Group 86"/>
          <p:cNvGrpSpPr/>
          <p:nvPr/>
        </p:nvGrpSpPr>
        <p:grpSpPr>
          <a:xfrm>
            <a:off x="6033960" y="5407200"/>
            <a:ext cx="1214280" cy="1109520"/>
            <a:chOff x="6033960" y="5407200"/>
            <a:chExt cx="1214280" cy="1109520"/>
          </a:xfrm>
        </p:grpSpPr>
        <p:sp>
          <p:nvSpPr>
            <p:cNvPr id="213" name="AutoShape 75"/>
            <p:cNvSpPr/>
            <p:nvPr/>
          </p:nvSpPr>
          <p:spPr>
            <a:xfrm>
              <a:off x="6033960" y="5407200"/>
              <a:ext cx="1214280" cy="110952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76"/>
            <p:cNvSpPr/>
            <p:nvPr/>
          </p:nvSpPr>
          <p:spPr>
            <a:xfrm>
              <a:off x="6089400" y="5438880"/>
              <a:ext cx="1117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ой ПТК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ая форма учета оказания мед. помощи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15" name="Picture 77" descr="note_book"/>
            <p:cNvPicPr/>
            <p:nvPr/>
          </p:nvPicPr>
          <p:blipFill>
            <a:blip r:embed="rId10"/>
            <a:stretch/>
          </p:blipFill>
          <p:spPr>
            <a:xfrm>
              <a:off x="6656040" y="5970600"/>
              <a:ext cx="49860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78" descr="template"/>
            <p:cNvPicPr/>
            <p:nvPr/>
          </p:nvPicPr>
          <p:blipFill>
            <a:blip r:embed="rId11"/>
            <a:stretch/>
          </p:blipFill>
          <p:spPr>
            <a:xfrm>
              <a:off x="6210000" y="5991480"/>
              <a:ext cx="399960" cy="48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" name="Group 89"/>
          <p:cNvGrpSpPr/>
          <p:nvPr/>
        </p:nvGrpSpPr>
        <p:grpSpPr>
          <a:xfrm>
            <a:off x="3976560" y="2830680"/>
            <a:ext cx="1133280" cy="475920"/>
            <a:chOff x="3976560" y="2830680"/>
            <a:chExt cx="1133280" cy="475920"/>
          </a:xfrm>
        </p:grpSpPr>
        <p:sp>
          <p:nvSpPr>
            <p:cNvPr id="218" name="Cloud"/>
            <p:cNvSpPr/>
            <p:nvPr/>
          </p:nvSpPr>
          <p:spPr>
            <a:xfrm>
              <a:off x="3976560" y="2830680"/>
              <a:ext cx="1133280" cy="475920"/>
            </a:xfrm>
            <a:custGeom>
              <a:avLst/>
              <a:gdLst>
                <a:gd name="textAreaLeft" fmla="*/ 155520 w 1133280"/>
                <a:gd name="textAreaRight" fmla="*/ 896760 w 1133280"/>
                <a:gd name="textAreaTop" fmla="*/ 71640 h 475920"/>
                <a:gd name="textAreaBottom" fmla="*/ 382320 h 47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ecf5fe"/>
            </a:solidFill>
            <a:ln w="19080">
              <a:solidFill>
                <a:srgbClr val="86bb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Rectangle 88"/>
            <p:cNvSpPr/>
            <p:nvPr/>
          </p:nvSpPr>
          <p:spPr>
            <a:xfrm>
              <a:off x="4235040" y="3001680"/>
              <a:ext cx="617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1d528d"/>
                  </a:solidFill>
                  <a:latin typeface="Arial"/>
                  <a:ea typeface="Arial"/>
                </a:rPr>
                <a:t>Интернет 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cxnSp>
        <p:nvCxnSpPr>
          <p:cNvPr id="220" name="AutoShape 92"/>
          <p:cNvCxnSpPr/>
          <p:nvPr/>
        </p:nvCxnSpPr>
        <p:spPr>
          <a:xfrm flipH="1">
            <a:off x="4542840" y="2668680"/>
            <a:ext cx="1080" cy="180000"/>
          </a:xfrm>
          <a:prstGeom prst="straightConnector1">
            <a:avLst/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21" name="AutoShape 93"/>
          <p:cNvCxnSpPr/>
          <p:nvPr/>
        </p:nvCxnSpPr>
        <p:spPr>
          <a:xfrm flipH="1" flipV="1" rot="5400000">
            <a:off x="4072680" y="3089520"/>
            <a:ext cx="244800" cy="697680"/>
          </a:xfrm>
          <a:prstGeom prst="bentConnector3">
            <a:avLst>
              <a:gd name="adj1" fmla="val 51988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pic>
        <p:nvPicPr>
          <p:cNvPr id="222" name="Picture 94" descr="firewall"/>
          <p:cNvPicPr/>
          <p:nvPr/>
        </p:nvPicPr>
        <p:blipFill>
          <a:blip r:embed="rId12"/>
          <a:stretch/>
        </p:blipFill>
        <p:spPr>
          <a:xfrm>
            <a:off x="3728880" y="3560760"/>
            <a:ext cx="235080" cy="2570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7" descr="firewall"/>
          <p:cNvPicPr/>
          <p:nvPr/>
        </p:nvPicPr>
        <p:blipFill>
          <a:blip r:embed="rId13"/>
          <a:stretch/>
        </p:blipFill>
        <p:spPr>
          <a:xfrm>
            <a:off x="5210280" y="3560760"/>
            <a:ext cx="234720" cy="257040"/>
          </a:xfrm>
          <a:prstGeom prst="rect">
            <a:avLst/>
          </a:prstGeom>
          <a:ln w="0">
            <a:noFill/>
          </a:ln>
        </p:spPr>
      </p:pic>
      <p:cxnSp>
        <p:nvCxnSpPr>
          <p:cNvPr id="224" name="AutoShape 98"/>
          <p:cNvCxnSpPr/>
          <p:nvPr/>
        </p:nvCxnSpPr>
        <p:spPr>
          <a:xfrm flipH="1" rot="16200000">
            <a:off x="4813560" y="3045600"/>
            <a:ext cx="244800" cy="784800"/>
          </a:xfrm>
          <a:prstGeom prst="bentConnector3">
            <a:avLst>
              <a:gd name="adj1" fmla="val 48011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pic>
        <p:nvPicPr>
          <p:cNvPr id="225" name="Picture 99" descr="firewall"/>
          <p:cNvPicPr/>
          <p:nvPr/>
        </p:nvPicPr>
        <p:blipFill>
          <a:blip r:embed="rId14"/>
          <a:stretch/>
        </p:blipFill>
        <p:spPr>
          <a:xfrm>
            <a:off x="2676600" y="5295960"/>
            <a:ext cx="234720" cy="257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0" descr="firewall"/>
          <p:cNvPicPr/>
          <p:nvPr/>
        </p:nvPicPr>
        <p:blipFill>
          <a:blip r:embed="rId15"/>
          <a:stretch/>
        </p:blipFill>
        <p:spPr>
          <a:xfrm>
            <a:off x="4064040" y="5295960"/>
            <a:ext cx="235080" cy="2570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1" descr="firewall"/>
          <p:cNvPicPr/>
          <p:nvPr/>
        </p:nvPicPr>
        <p:blipFill>
          <a:blip r:embed="rId16"/>
          <a:stretch/>
        </p:blipFill>
        <p:spPr>
          <a:xfrm>
            <a:off x="5575320" y="5295960"/>
            <a:ext cx="235080" cy="257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2" descr="firewall"/>
          <p:cNvPicPr/>
          <p:nvPr/>
        </p:nvPicPr>
        <p:blipFill>
          <a:blip r:embed="rId17"/>
          <a:stretch/>
        </p:blipFill>
        <p:spPr>
          <a:xfrm>
            <a:off x="6946920" y="5295960"/>
            <a:ext cx="235080" cy="257040"/>
          </a:xfrm>
          <a:prstGeom prst="rect">
            <a:avLst/>
          </a:prstGeom>
          <a:ln w="0">
            <a:noFill/>
          </a:ln>
        </p:spPr>
      </p:pic>
      <p:cxnSp>
        <p:nvCxnSpPr>
          <p:cNvPr id="229" name="AutoShape 104"/>
          <p:cNvCxnSpPr/>
          <p:nvPr/>
        </p:nvCxnSpPr>
        <p:spPr>
          <a:xfrm flipH="1" rot="16200000">
            <a:off x="4083840" y="4158000"/>
            <a:ext cx="222840" cy="697680"/>
          </a:xfrm>
          <a:prstGeom prst="bentConnector3">
            <a:avLst>
              <a:gd name="adj1" fmla="val 45631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pic>
        <p:nvPicPr>
          <p:cNvPr id="230" name="Picture 105" descr="firewall"/>
          <p:cNvPicPr/>
          <p:nvPr/>
        </p:nvPicPr>
        <p:blipFill>
          <a:blip r:embed="rId18"/>
          <a:stretch/>
        </p:blipFill>
        <p:spPr>
          <a:xfrm>
            <a:off x="3728880" y="4138560"/>
            <a:ext cx="235080" cy="257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6" descr="firewall"/>
          <p:cNvPicPr/>
          <p:nvPr/>
        </p:nvPicPr>
        <p:blipFill>
          <a:blip r:embed="rId19"/>
          <a:stretch/>
        </p:blipFill>
        <p:spPr>
          <a:xfrm>
            <a:off x="5210280" y="4138560"/>
            <a:ext cx="234720" cy="257400"/>
          </a:xfrm>
          <a:prstGeom prst="rect">
            <a:avLst/>
          </a:prstGeom>
          <a:ln w="0">
            <a:noFill/>
          </a:ln>
        </p:spPr>
      </p:pic>
      <p:cxnSp>
        <p:nvCxnSpPr>
          <p:cNvPr id="232" name="AutoShape 107"/>
          <p:cNvCxnSpPr/>
          <p:nvPr/>
        </p:nvCxnSpPr>
        <p:spPr>
          <a:xfrm flipH="1" flipV="1" rot="5400000">
            <a:off x="4824360" y="4114440"/>
            <a:ext cx="222840" cy="784800"/>
          </a:xfrm>
          <a:prstGeom prst="bentConnector3">
            <a:avLst>
              <a:gd name="adj1" fmla="val 53559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33" name="AutoShape 108"/>
          <p:cNvCxnSpPr/>
          <p:nvPr/>
        </p:nvCxnSpPr>
        <p:spPr>
          <a:xfrm flipH="1" flipV="1" rot="5400000">
            <a:off x="3563640" y="4316040"/>
            <a:ext cx="210240" cy="1750320"/>
          </a:xfrm>
          <a:prstGeom prst="bentConnector3">
            <a:avLst>
              <a:gd name="adj1" fmla="val 52144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34" name="AutoShape 109"/>
          <p:cNvCxnSpPr/>
          <p:nvPr/>
        </p:nvCxnSpPr>
        <p:spPr>
          <a:xfrm flipH="1" rot="16200000">
            <a:off x="5699160" y="3930480"/>
            <a:ext cx="210240" cy="2521440"/>
          </a:xfrm>
          <a:prstGeom prst="bentConnector3">
            <a:avLst>
              <a:gd name="adj1" fmla="val 47684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35" name="AutoShape 110"/>
          <p:cNvCxnSpPr/>
          <p:nvPr/>
        </p:nvCxnSpPr>
        <p:spPr>
          <a:xfrm flipH="1" rot="16200000">
            <a:off x="5013360" y="4616280"/>
            <a:ext cx="210240" cy="1149840"/>
          </a:xfrm>
          <a:prstGeom prst="bentConnector3">
            <a:avLst>
              <a:gd name="adj1" fmla="val 47684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36" name="AutoShape 111"/>
          <p:cNvCxnSpPr/>
          <p:nvPr/>
        </p:nvCxnSpPr>
        <p:spPr>
          <a:xfrm rot="5400000">
            <a:off x="4257360" y="5010120"/>
            <a:ext cx="210240" cy="362520"/>
          </a:xfrm>
          <a:prstGeom prst="bentConnector3">
            <a:avLst>
              <a:gd name="adj1" fmla="val 47684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grpSp>
        <p:nvGrpSpPr>
          <p:cNvPr id="237" name="Group 117"/>
          <p:cNvGrpSpPr/>
          <p:nvPr/>
        </p:nvGrpSpPr>
        <p:grpSpPr>
          <a:xfrm>
            <a:off x="3632040" y="1811160"/>
            <a:ext cx="1981080" cy="857160"/>
            <a:chOff x="3632040" y="1811160"/>
            <a:chExt cx="1981080" cy="857160"/>
          </a:xfrm>
        </p:grpSpPr>
        <p:sp>
          <p:nvSpPr>
            <p:cNvPr id="238" name="AutoShape 5"/>
            <p:cNvSpPr/>
            <p:nvPr/>
          </p:nvSpPr>
          <p:spPr>
            <a:xfrm>
              <a:off x="3632040" y="1811160"/>
              <a:ext cx="1981080" cy="77616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9" name="Rectangle 6"/>
            <p:cNvSpPr/>
            <p:nvPr/>
          </p:nvSpPr>
          <p:spPr>
            <a:xfrm>
              <a:off x="3692160" y="1908000"/>
              <a:ext cx="1119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едеральный центр обработки и анализа данных (ФЦОД)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40" name="Picture 10" descr="databases"/>
            <p:cNvPicPr/>
            <p:nvPr/>
          </p:nvPicPr>
          <p:blipFill>
            <a:blip r:embed="rId20"/>
            <a:stretch/>
          </p:blipFill>
          <p:spPr>
            <a:xfrm>
              <a:off x="4902120" y="1987200"/>
              <a:ext cx="674640" cy="5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91" descr="firewall"/>
            <p:cNvPicPr/>
            <p:nvPr/>
          </p:nvPicPr>
          <p:blipFill>
            <a:blip r:embed="rId21"/>
            <a:stretch/>
          </p:blipFill>
          <p:spPr>
            <a:xfrm>
              <a:off x="4425840" y="2411280"/>
              <a:ext cx="234720" cy="2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Rectangle 113"/>
            <p:cNvSpPr/>
            <p:nvPr/>
          </p:nvSpPr>
          <p:spPr>
            <a:xfrm>
              <a:off x="5038560" y="1839600"/>
              <a:ext cx="541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сновной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243" name="Picture 118" descr="firewall"/>
          <p:cNvPicPr/>
          <p:nvPr/>
        </p:nvPicPr>
        <p:blipFill>
          <a:blip r:embed="rId22"/>
          <a:stretch/>
        </p:blipFill>
        <p:spPr>
          <a:xfrm>
            <a:off x="7550280" y="1884240"/>
            <a:ext cx="209520" cy="2286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35"/>
          <p:cNvSpPr/>
          <p:nvPr/>
        </p:nvSpPr>
        <p:spPr>
          <a:xfrm>
            <a:off x="324000" y="1454040"/>
            <a:ext cx="1150920" cy="1697040"/>
          </a:xfrm>
          <a:prstGeom prst="rect">
            <a:avLst/>
          </a:prstGeom>
          <a:gradFill rotWithShape="0">
            <a:gsLst>
              <a:gs pos="0">
                <a:srgbClr val="25b1b1"/>
              </a:gs>
              <a:gs pos="100000">
                <a:srgbClr val="ecf5f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5" name="Rectangle 33"/>
          <p:cNvSpPr/>
          <p:nvPr/>
        </p:nvSpPr>
        <p:spPr>
          <a:xfrm>
            <a:off x="372960" y="1495440"/>
            <a:ext cx="104292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Единая интегрирован-ная система персонифици-рованного учета оказанной застрахован-ным гражданам медицинской помощи </a:t>
            </a:r>
            <a:br>
              <a:rPr sz="800"/>
            </a:b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ФОМС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Rectangle 123"/>
          <p:cNvSpPr/>
          <p:nvPr/>
        </p:nvSpPr>
        <p:spPr>
          <a:xfrm>
            <a:off x="324000" y="5149800"/>
            <a:ext cx="1150920" cy="1244520"/>
          </a:xfrm>
          <a:prstGeom prst="rect">
            <a:avLst/>
          </a:prstGeom>
          <a:gradFill rotWithShape="0">
            <a:gsLst>
              <a:gs pos="0">
                <a:srgbClr val="25b1b1"/>
              </a:gs>
              <a:gs pos="100000">
                <a:srgbClr val="ecf5f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Rectangle 120"/>
          <p:cNvSpPr/>
          <p:nvPr/>
        </p:nvSpPr>
        <p:spPr>
          <a:xfrm>
            <a:off x="380880" y="5483160"/>
            <a:ext cx="103500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Единая информацион-ная система пенсионного фонда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8" name="Rectangle 122"/>
          <p:cNvSpPr/>
          <p:nvPr/>
        </p:nvSpPr>
        <p:spPr>
          <a:xfrm>
            <a:off x="324000" y="3449520"/>
            <a:ext cx="1150920" cy="1435320"/>
          </a:xfrm>
          <a:prstGeom prst="rect">
            <a:avLst/>
          </a:prstGeom>
          <a:gradFill rotWithShape="0">
            <a:gsLst>
              <a:gs pos="0">
                <a:srgbClr val="25b1b1"/>
              </a:gs>
              <a:gs pos="100000">
                <a:srgbClr val="ecf5f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9" name="Rectangle 121"/>
          <p:cNvSpPr/>
          <p:nvPr/>
        </p:nvSpPr>
        <p:spPr>
          <a:xfrm>
            <a:off x="415800" y="3805200"/>
            <a:ext cx="9651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Единая инте-грированная информацион-ная система ФСС России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0" name="AutoShape 127"/>
          <p:cNvSpPr/>
          <p:nvPr/>
        </p:nvSpPr>
        <p:spPr>
          <a:xfrm rot="5400000">
            <a:off x="1412280" y="2706480"/>
            <a:ext cx="177840" cy="507960"/>
          </a:xfrm>
          <a:prstGeom prst="upDownArrow">
            <a:avLst>
              <a:gd name="adj1" fmla="val 58935"/>
              <a:gd name="adj2" fmla="val 50487"/>
            </a:avLst>
          </a:prstGeom>
          <a:blipFill rotWithShape="0">
            <a:blip r:embed="rId23"/>
            <a:srcRect/>
            <a:stretch/>
          </a:blip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1" name="AutoShape 128"/>
          <p:cNvSpPr/>
          <p:nvPr/>
        </p:nvSpPr>
        <p:spPr>
          <a:xfrm rot="5400000">
            <a:off x="1412280" y="4324320"/>
            <a:ext cx="177840" cy="507960"/>
          </a:xfrm>
          <a:prstGeom prst="upDownArrow">
            <a:avLst>
              <a:gd name="adj1" fmla="val 58935"/>
              <a:gd name="adj2" fmla="val 50487"/>
            </a:avLst>
          </a:prstGeom>
          <a:blipFill rotWithShape="0">
            <a:blip r:embed="rId24"/>
            <a:srcRect/>
            <a:stretch/>
          </a:blip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2" name="AutoShape 129"/>
          <p:cNvSpPr/>
          <p:nvPr/>
        </p:nvSpPr>
        <p:spPr>
          <a:xfrm rot="5400000">
            <a:off x="1412640" y="5873760"/>
            <a:ext cx="177480" cy="507960"/>
          </a:xfrm>
          <a:prstGeom prst="upDownArrow">
            <a:avLst>
              <a:gd name="adj1" fmla="val 58935"/>
              <a:gd name="adj2" fmla="val 50590"/>
            </a:avLst>
          </a:prstGeom>
          <a:blipFill rotWithShape="0">
            <a:blip r:embed="rId25"/>
            <a:srcRect/>
            <a:stretch/>
          </a:blip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Rectangle 131"/>
          <p:cNvSpPr/>
          <p:nvPr/>
        </p:nvSpPr>
        <p:spPr>
          <a:xfrm>
            <a:off x="4475160" y="3798720"/>
            <a:ext cx="309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…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4" name="Rectangle 132"/>
          <p:cNvSpPr/>
          <p:nvPr/>
        </p:nvSpPr>
        <p:spPr>
          <a:xfrm>
            <a:off x="4356000" y="5724360"/>
            <a:ext cx="309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…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5" name="AutoShape 133"/>
          <p:cNvSpPr/>
          <p:nvPr/>
        </p:nvSpPr>
        <p:spPr>
          <a:xfrm>
            <a:off x="7383600" y="3727440"/>
            <a:ext cx="1133280" cy="512640"/>
          </a:xfrm>
          <a:prstGeom prst="roundRect">
            <a:avLst>
              <a:gd name="adj" fmla="val 16667"/>
            </a:avLst>
          </a:prstGeom>
          <a:solidFill>
            <a:srgbClr val="fff8f3"/>
          </a:solidFill>
          <a:ln w="9360">
            <a:solidFill>
              <a:srgbClr val="5ba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Всего 86 РЦОДов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6" name="AutoShape 138"/>
          <p:cNvSpPr/>
          <p:nvPr/>
        </p:nvSpPr>
        <p:spPr>
          <a:xfrm>
            <a:off x="7575480" y="5759280"/>
            <a:ext cx="1133640" cy="513000"/>
          </a:xfrm>
          <a:prstGeom prst="roundRect">
            <a:avLst>
              <a:gd name="adj" fmla="val 16667"/>
            </a:avLst>
          </a:prstGeom>
          <a:solidFill>
            <a:srgbClr val="fff8f3"/>
          </a:solidFill>
          <a:ln w="9360">
            <a:solidFill>
              <a:srgbClr val="5ba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Всего </a:t>
            </a:r>
            <a:r>
              <a:rPr b="1" lang="en-US" sz="800" spc="-1" strike="noStrike">
                <a:solidFill>
                  <a:srgbClr val="1d528d"/>
                </a:solidFill>
                <a:latin typeface="Arial"/>
                <a:ea typeface="Arial"/>
              </a:rPr>
              <a:t>≈ 1</a:t>
            </a: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3,</a:t>
            </a:r>
            <a:r>
              <a:rPr b="1" lang="en-US" sz="800" spc="-1" strike="noStrike">
                <a:solidFill>
                  <a:srgbClr val="1d528d"/>
                </a:solidFill>
                <a:latin typeface="Arial"/>
                <a:ea typeface="Arial"/>
              </a:rPr>
              <a:t>2 </a:t>
            </a: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тысяч ЛПУ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7" name="Rectangle 139"/>
          <p:cNvSpPr/>
          <p:nvPr/>
        </p:nvSpPr>
        <p:spPr>
          <a:xfrm>
            <a:off x="7472520" y="4302000"/>
            <a:ext cx="12855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83 субъекта РФ + Байконур + по 1 дополнительному в Москве и Московской области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8" name="Rectangle 143"/>
          <p:cNvSpPr/>
          <p:nvPr/>
        </p:nvSpPr>
        <p:spPr>
          <a:xfrm>
            <a:off x="7554960" y="2219400"/>
            <a:ext cx="199800" cy="168120"/>
          </a:xfrm>
          <a:prstGeom prst="rect">
            <a:avLst/>
          </a:prstGeom>
          <a:gradFill rotWithShape="0">
            <a:gsLst>
              <a:gs pos="0">
                <a:srgbClr val="feefe2"/>
              </a:gs>
              <a:gs pos="50000">
                <a:srgbClr val="5bace9"/>
              </a:gs>
              <a:gs pos="100000">
                <a:srgbClr val="feefe2"/>
              </a:gs>
            </a:gsLst>
            <a:lin ang="5400000"/>
          </a:gradFill>
          <a:ln w="9360">
            <a:solidFill>
              <a:srgbClr val="5ba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9" name="AutoShape 2"/>
          <p:cNvSpPr/>
          <p:nvPr/>
        </p:nvSpPr>
        <p:spPr>
          <a:xfrm rot="5400000">
            <a:off x="7572960" y="2450160"/>
            <a:ext cx="161640" cy="319320"/>
          </a:xfrm>
          <a:prstGeom prst="upDownArrow">
            <a:avLst>
              <a:gd name="adj1" fmla="val 58824"/>
              <a:gd name="adj2" fmla="val 49141"/>
            </a:avLst>
          </a:prstGeom>
          <a:blipFill rotWithShape="0">
            <a:blip r:embed="rId26"/>
            <a:srcRect/>
            <a:stretch/>
          </a:blip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7873920" y="2540160"/>
            <a:ext cx="960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Интеграция с действующими (разрабатывае-мыми) системами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61" name="Picture 13" descr="C:\DATA\Мои документы\Мои рисунки\293551133787556.jpg"/>
          <p:cNvPicPr/>
          <p:nvPr/>
        </p:nvPicPr>
        <p:blipFill>
          <a:blip r:embed="rId27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62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3" name="Rectangle 94"/>
          <p:cNvSpPr/>
          <p:nvPr/>
        </p:nvSpPr>
        <p:spPr>
          <a:xfrm>
            <a:off x="285840" y="65340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МЗСР </a:t>
            </a:r>
            <a:r>
              <a:rPr b="0" lang="en-US" sz="1000" spc="-1" strike="noStrike">
                <a:solidFill>
                  <a:srgbClr val="1d528d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, О.В.Симаков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65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облемы информатизации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7" name="Picture 2" descr="C:\Documents and Settings\Papa\Рабочий стол\3D_Business_Graphics_rep\stockxpertcom_id833299_size4.jpg"/>
          <p:cNvPicPr/>
          <p:nvPr/>
        </p:nvPicPr>
        <p:blipFill>
          <a:blip r:embed="rId2"/>
          <a:stretch/>
        </p:blipFill>
        <p:spPr>
          <a:xfrm>
            <a:off x="928800" y="1214280"/>
            <a:ext cx="7524720" cy="564372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7"/>
          <p:cNvSpPr/>
          <p:nvPr/>
        </p:nvSpPr>
        <p:spPr>
          <a:xfrm>
            <a:off x="285840" y="1285920"/>
            <a:ext cx="8501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сутствие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национальной концепции построения информационных медицинских систем на основе персоно-центрированного подхода (с использованием общепринятых стандартов)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сутствие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единой системы идентификации пациентов  с рождения на протяжении всей жизн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ожности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согласования принципов информационного обмена в интегрируемых системах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изние темпы 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развития телекоммуникационной инфраструктуры  системы учреждений здравоохранения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хватка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правового и программно-технического обеспечения конфиденциальности персональных медицинских данных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9" name="Номер слайда 4"/>
          <p:cNvSpPr/>
          <p:nvPr/>
        </p:nvSpPr>
        <p:spPr>
          <a:xfrm>
            <a:off x="3824280" y="66898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3B2A-2E4D-4D54-B7FF-0C5231E7BABA}" type="slidenum">
              <a:rPr b="1" lang="en-US" sz="10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indefinite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2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Прямоугольник 9"/>
          <p:cNvSpPr/>
          <p:nvPr/>
        </p:nvSpPr>
        <p:spPr>
          <a:xfrm>
            <a:off x="428760" y="1357200"/>
            <a:ext cx="84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ерсоно-центрированная парадигма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ведение БД МИС с общероссийским идентификаторами гражданина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основа для интеграции медицинских сведений в рамках единого информационного медицинского пространства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11:43:54Z</dcterms:created>
  <dc:creator>ADexter</dc:creator>
  <dc:description/>
  <dc:language>en-US</dc:language>
  <cp:lastModifiedBy>LEGION</cp:lastModifiedBy>
  <dcterms:modified xsi:type="dcterms:W3CDTF">2015-11-27T12:49:21Z</dcterms:modified>
  <cp:revision>168</cp:revision>
  <dc:subject/>
  <dc:title>СПб МИАЦ,26.03.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4b000000000001023600</vt:lpwstr>
  </property>
</Properties>
</file>