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2F90-F4ED-4B19-9368-BA86165BE29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B2D9B-41DB-481C-8AD9-02087274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A9E0-0D10-4647-820B-B55FB94B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E143F-2280-405E-A391-711D09582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EA28D-DE14-4BB4-81F2-DD8F996C1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23280-C4CD-45BC-892C-72BFB3D4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F5A5F-B2B4-4E79-B638-2F1F0B54A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6435-A701-4872-A51E-64404117D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2A551-F0E1-46F2-97E3-8746FEDB8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BD529-2E67-4B62-AB73-70B0DFDDB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C14C-0442-42EE-948D-8989FD3E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1C37E-A400-4527-8770-3839ADE5A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F596-DD10-4335-89A0-672AFE317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35595-0530-496F-BE43-035491AA0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25009-BD97-4458-BE55-380B4054B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EBAB-A944-49ED-A360-9689FAFF4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0DEB9-02C4-4BE2-846B-6B6C6D138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EDDFC-6B3E-4C0F-82DB-103A03F06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353F5A-0BB1-493D-B9C2-EFE354148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8913D-19E3-4858-B0D9-A073D1BF5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40C42-FB3B-43F4-AAC6-A6B260F89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0C2A3-47DD-4660-958C-801081712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67057-62FB-43E4-AC1E-FE59F0C7A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6C5E-274C-4863-8424-E9CE8077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3A90D-F8F9-4D58-871C-3F91A3608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4DD0E-74A2-4A07-AA40-BBD028C1E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CF368-631F-4991-8A8E-E2AAB2D15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663CA-FE86-4207-8D3C-F78BDEE9B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EC16D-5A5B-4B3E-9684-6B5DEB3E2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87829-0102-4625-931F-C2F8E9FD4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FCA0C-625D-49CB-95D8-6ED83E517D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81F419-8645-40E0-8CA5-151C645FD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D6207-01C7-4D0A-B797-1BA9591D8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01C44-B4DE-484F-9E67-F266A5D91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036B-E5F9-4F5E-B108-ADA02EF2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F9588-293C-4317-8A86-B03D61580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56414-015D-4E12-A78B-976E54BFC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3BDF3-0E2A-4EB7-81BF-B65D359EC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596C5-6E85-49AD-95A0-C79E50FB8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A1320-C3B9-405F-85A0-F9CA5FD49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7BB2F-BFC2-4485-9E3A-E03F9252A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9BDC3-A79C-4B83-8A4A-601CE0455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A3A226-571D-4355-A2FE-A0B9386CA8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E68DC-7AEE-4649-94A7-4B1BF05F1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89E76-0E4D-40C4-B8D6-5A4F57F22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D83F-FC40-4920-BA18-B4078E27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291C-400E-43F6-AB6C-83CECC0E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B1E2-3D7D-4A6B-8812-902BF25E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4FB0-BDFA-408C-8706-FC848CA86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BC2F-278A-4B98-BBD9-35C03989C6C8}" type="datetime">
              <a:rPr b="0" lang="ru-RU"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15FC-155D-4D26-9913-2E8BC7A73EBA}"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4133-328F-4A4F-9AF7-E7471727F822}" type="datetime">
              <a:rPr b="0" lang="ru-RU"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2881-EF09-4AA8-9356-3F95CE9E46B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ECDB-0F36-44E2-81F2-DB39E247E21B}" type="datetime">
              <a:rPr b="0" lang="ru-RU"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3E88-B867-4581-B58D-4149D2D5CF7D}"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859F-F34A-43C1-A853-7C1375E72242}" type="datetime">
              <a:rPr b="0" lang="ru-RU"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642F-F310-4ACE-9366-E7EF7197D899}"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