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3.jpeg" ContentType="image/jpeg"/>
  <Override PartName="/ppt/media/image12.png" ContentType="image/png"/>
  <Override PartName="/ppt/media/image22.png" ContentType="image/png"/>
  <Override PartName="/ppt/media/image21.jpeg" ContentType="image/jpeg"/>
  <Override PartName="/ppt/media/image19.jpeg" ContentType="image/jpeg"/>
  <Override PartName="/ppt/media/image42.jpeg" ContentType="image/jpeg"/>
  <Override PartName="/ppt/media/image20.png" ContentType="image/png"/>
  <Override PartName="/ppt/media/image36.jpeg" ContentType="image/jpeg"/>
  <Override PartName="/ppt/media/image18.png" ContentType="image/png"/>
  <Override PartName="/ppt/media/image16.png" ContentType="image/png"/>
  <Override PartName="/ppt/media/image15.jpeg" ContentType="image/jpeg"/>
  <Override PartName="/ppt/media/image29.jpeg" ContentType="image/jpeg"/>
  <Override PartName="/ppt/media/image28.png" ContentType="image/png"/>
  <Override PartName="/ppt/media/image38.jpeg" ContentType="image/jpeg"/>
  <Override PartName="/ppt/media/image30.png" ContentType="image/png"/>
  <Override PartName="/ppt/media/image39.png" ContentType="image/png"/>
  <Override PartName="/ppt/media/image41.png" ContentType="image/png"/>
  <Override PartName="/ppt/media/image31.jpeg" ContentType="image/jpeg"/>
  <Override PartName="/ppt/media/image14.jpeg" ContentType="image/jpeg"/>
  <Override PartName="/ppt/media/image8.png" ContentType="image/png"/>
  <Override PartName="/ppt/media/image9.jpeg" ContentType="image/jpeg"/>
  <Override PartName="/ppt/media/image4.jpeg" ContentType="image/jpeg"/>
  <Override PartName="/ppt/media/image40.png" ContentType="image/png"/>
  <Override PartName="/ppt/media/image43.png" ContentType="image/png"/>
  <Override PartName="/ppt/media/image13.jpeg" ContentType="image/jpeg"/>
  <Override PartName="/ppt/media/image44.jpeg" ContentType="image/jpeg"/>
  <Override PartName="/ppt/media/image45.png" ContentType="image/png"/>
  <Override PartName="/ppt/media/image27.jpeg" ContentType="image/jpeg"/>
  <Override PartName="/ppt/media/image46.jpeg" ContentType="image/jpeg"/>
  <Override PartName="/ppt/media/image37.png" ContentType="image/png"/>
  <Override PartName="/ppt/media/image34.jpeg" ContentType="image/jpeg"/>
  <Override PartName="/ppt/media/image7.png" ContentType="image/png"/>
  <Override PartName="/ppt/media/image2.png" ContentType="image/png"/>
  <Override PartName="/ppt/media/image25.jpeg" ContentType="image/jpeg"/>
  <Override PartName="/ppt/media/image32.png" ContentType="image/png"/>
  <Override PartName="/ppt/media/image10.png" ContentType="image/png"/>
  <Override PartName="/ppt/media/image1.jpeg" ContentType="image/jpeg"/>
  <Override PartName="/ppt/media/image6.png" ContentType="image/png"/>
  <Override PartName="/ppt/media/image33.png" ContentType="image/png"/>
  <Override PartName="/ppt/media/image3.png" ContentType="image/png"/>
  <Override PartName="/ppt/media/image17.jpeg" ContentType="image/jpeg"/>
  <Override PartName="/ppt/media/image26.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тофизиологические особенности</a:t>
            </a:r>
            <a:endParaRPr b="0" lang="en-US" sz="12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2C8F-21D2-46B5-8510-12ABC26DF55C}"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зентация на т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Фер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Активность MB-фракции "креатинфосфокиназа" (КФК) обычно повышается через 8—10 ч от начала инфаркта миокарда и возвращается к норме через 48 ч. Определение активности проводят каждые 6—8ч. Для исключения инфаркта миокарда необходимо по меньшей мере три отрицательных результата. Лечение начинают, не дожидаясь повышения активности КФК. Наиболее информативным при ИМ является "Тропонин" (Тп). Активность 1-го изофермента "лактатдегидрогеназа" (ЛДГ) становится выше на 3-и, — 5-е сутки ИМ. Активность ЛДГ определяют ежедневно в течение 3 сут, если больной поступает через 24ч после появления симптомов инфаркта миокарда. Если активность ЛДГ достигает пограничных значений или если больной поступает через 3 сут и более после появления симптомов, показана сцинтиграфия миокарда с 99m Tc-пирофосфатом.</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Эхокардиография" (Эхо-КГ)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одят при затяжном болевом синдроме и отсутствии типичных изменений ЭКГ. Нарушения локальной сократимости указывают на ишемию или инфаркт миокарда (перенесенный или острый). Истончение стенки левого желудочка указывает на перенесенный инфаркт миокарда. При хорошей визуализации (когда виден весь эндокард) нормальная сократимость левого желудочка почти исключает инфаркт миокарда.</a:t>
            </a:r>
            <a:br>
              <a:rPr sz="1200"/>
            </a:br>
            <a:br>
              <a:rPr sz="1200"/>
            </a:br>
            <a:r>
              <a:rPr b="0" lang="ru-RU" sz="1200" spc="-1" strike="noStrike">
                <a:solidFill>
                  <a:srgbClr val="000000"/>
                </a:solidFill>
                <a:latin typeface="Calibri"/>
              </a:rPr>
              <a:t>Экстренная коронарная ангиография </a:t>
            </a:r>
            <a:br>
              <a:rPr sz="1200"/>
            </a:br>
            <a:r>
              <a:rPr b="0" lang="ru-RU" sz="1200" spc="-1" strike="noStrike">
                <a:solidFill>
                  <a:srgbClr val="000000"/>
                </a:solidFill>
                <a:latin typeface="Calibri"/>
              </a:rPr>
              <a:t>Проводится при наличии факторов риска ИБС и затяжном болевом синдроме, когда изменения ЭКГ не дают полной уверенности в диагнозе (депрессия сегмента ST, инверсия зубца T).</a:t>
            </a:r>
            <a:br>
              <a:rPr sz="1200"/>
            </a:br>
            <a:br>
              <a:rPr sz="1200"/>
            </a:br>
            <a:r>
              <a:rPr b="0" lang="ru-RU" sz="1200" spc="-1" strike="noStrike">
                <a:solidFill>
                  <a:srgbClr val="000000"/>
                </a:solidFill>
                <a:latin typeface="Calibri"/>
              </a:rPr>
              <a:t>Нарушения локальной сократимости левого желудочка (по данным вентрикулографии) и тромботическая окклюзия коронарной артерии подтверждают диагноз инфаркта миокарда.</a:t>
            </a:r>
            <a:br>
              <a:rPr sz="1200"/>
            </a:br>
            <a:br>
              <a:rPr sz="1200"/>
            </a:br>
            <a:r>
              <a:rPr b="0" lang="ru-RU" sz="1200" spc="-1" strike="noStrike">
                <a:solidFill>
                  <a:srgbClr val="000000"/>
                </a:solidFill>
                <a:latin typeface="Calibri"/>
              </a:rPr>
              <a:t>Для восстановления перфузии можно быстро провести баллонную коронарную ангиопластику.</a:t>
            </a:r>
            <a:br>
              <a:rPr sz="1200"/>
            </a:br>
            <a:r>
              <a:rPr b="0"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ОРОНАРОАНГИОГРАФИЯ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коронароангиографии является оценка наличия поврежденных венечных артерий, степени его тяжести и определение подходящего методалечения. Для этого используются специальные тонкие пластиковые зонды (или катетеры), которые вводятся внутрь в области паха через бедренную артерию (рис.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огда процедура проводится через артерию запястья. Длинный тонкий зонд вводится в сердце, в места начала венечных артерий. Через катетер в венечные артерии вводится небольшое количество контрастного вещества - и кровеносные сосуды сердца делаются видимыми с помощью рентгеновских лучей. Эта процедура называется коронароангиограф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 время процедуры Вы лежите под рентгеновским аппаратом. Аппарат двигается вокруг Вас и делает снимки венечных артерий под разным углом. За ходом исследования можно наблюдать на экра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одготовиться к исследова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лучае плановой процедуры за 6 часов до исследования нельзя есть и п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росите у своего врача, какие лекарства можно использовать в день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Вы больны сахарным диабетом, то проконсультируйтесь со своим врачом об использовании антидиабетических лекар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ые осложн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ед процедурой врач объяснит Вам связанные с исследованием риск и возможные осложнения. Для проведения исследования необходимо Ваше соглас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им из наиболее частых осложнений при коронароангиографии является возникновение кровоизлияния в месте введения катетера (в паху). Обычно это не опасно, и кровоизлияние рассасывается само в течение 1-2 нед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дение коронароангиограф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 время исследования Вы лежите на специальном столе и находитесь в бодрствующем состоянии. Вы можете говорить с проводящим исследование врачом. При необходимости в малых количествах используется успокоительное лекар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введения зонда в паховой области используется местное обезболи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введении контрастного вещества в венечные артерии Вы можете в течение нескольких секунд чувствовать в груди «горячую волну». Это не опасно. Врач может попросить Вас покашлять, это облегчает выведение контрастного вещества из кровеносных сосудов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у Вас возникнет тошнота, боль в груди, зуд кожи или другое неприятное ощущение, то сразу скажите об этом врач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исследование сделали через бедренную артерию, то после удаления катетера на это место в качестве тяжести будет наложен мешочек с песком сроком до 6 часов. Вы должны лежать до следующего ут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РАСШИРЕНИЕ (ДИЛАТАЦИЯ) ВЕНЕЧНОЙ АРТЕРИИ ИЛИ</a:t>
            </a:r>
            <a:br>
              <a:rPr sz="1200"/>
            </a:br>
            <a:r>
              <a:rPr b="0" lang="ru-RU" sz="1200" spc="-1" strike="noStrike">
                <a:solidFill>
                  <a:srgbClr val="000000"/>
                </a:solidFill>
                <a:latin typeface="Calibri"/>
              </a:rPr>
              <a:t> КОРОНАРНАЯ АНГИОПЛАСТИКА</a:t>
            </a:r>
            <a:br>
              <a:rPr sz="1200"/>
            </a:br>
            <a:r>
              <a:rPr b="0" lang="ru-RU" sz="1200" spc="-1" strike="noStrike">
                <a:solidFill>
                  <a:srgbClr val="000000"/>
                </a:solidFill>
                <a:latin typeface="Calibri"/>
              </a:rPr>
              <a:t>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ение венечной артерии - это лечебная процедура, во время которой сужен­ную или закрытую венечную артерию расширяют с помощью специального баллона (рис.4). Если во время коронароангиографии видна частично или полностью закрытая венечная артерия, то проводящий исследование врач решит, расширять ли это место с помощью катетера (это лечение не всегда оказывается возмож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расширения венечной артерии схожа с коронароангиографией. Врач разъяснит цели и возможные осложнения процедуры расширения венечной артерии и спросит согласие на процедуру. Врач введет до суженного места зонд, на конце которого находится сложенный баллон. Баллон заполняется жидкостью, и суженное место в венечной артерии расширяе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АТИПИЧНЫЕ ФОРМЫ ТЕЧЕНИЯ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Абдоминальная форма. Протекает по типу патологии ЖКТ с болями в подложечной области, в животе, с тошнотой, рвотой. Чаще всего гастралгическая форма (абдоминальная) инфаркта миокарда встречается при инфаркте задней стенки левого желудочка. В целом вариант редкий. ЭКГ отведения II, III, AV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Астматическая форма: начинается с сердечной астмы и провоцирует отек легких как исход. Боли могут отсутствовать. Астматическая форма встречается чаще у пожилых людей с кардиосклерозом или при повторном инфаркте, или при очень обширных инфарк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Мозговая форма: на первом плане симптомы нарушения мозгового кровообращения по типу инсульта с потерей сознания, встречается чаще у пожилых людей со склерозом сосудов головного моз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Немая или безболевая форма иногда является случайной находкой при диспансеризации. Из клинических проявлений: вдруг стало “дурно”, возникла резкая слабость, липкий пот, затем все, кроме слабости, проходит. Такая ситуация характерна для инфаркта в пожилом возрасте и при повторных инфарктах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Аритмическая форма: главный признак пароксизмальная тахикардия, болевой синдром может отсутствов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Тромбоэмболическа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 очень тяжелое заболевание с частым летальным исходом, особенно часты осложнения в I и II период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Нарушения ритма сердца, особенно опасны все желудочковые артерии (желудочковая форма пароксизмальной тахикардии, политропные желудочковые экстрасистолии и т.д.)  Это может привести к фибрилляции желудочков (клиническая смерть), к остановке сердца. При этом необходимы срочные реабилитационные мероприятия, фибрилляция желудочков может произойти и в прединфарктный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Нарушения атриовентрикулярной проводимости: например, по типу истинной электро-механической диссоциации. Чаще возникает при передне-  и заднеперегородочных формах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Острая левожелудочковая недостаточность: отек легких, сердечная аст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Рефлекторный - происходит падение АД, больной вялый, заторможенный, кожа с сероватым оттенком, холодный профузный пот. Причина - болевое раздра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Аритмический - на фоне нарушения рит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стинный - самый неблагоприятный, летальность при нем достигает 9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е истинного кардиогенного шока лежит резкое нарушение сократительной способности миокарда при обширных его повреждениях, что приводит к резкому уменьшению сердечногог выброса, минутный объем падает до 2,5 л/мин. Чтобы сдержать падение АД, компенсаторно происходит спазм периферических сосудов, однако он недочтаточен для поддержания микроциркуляции и нормального уровня АД. Резко замедляется кровоток на периферии, образуеются  микротромбы (при инфаркте миокарда повышена свертываемость + замедленный кровоток). Следствием микротромбообразования является капилляростаз, появляются открытые артериовенозные шунты, начинают страдать обменные процессы, происходит накопление в крови и в тканях недоокисленных продуктов, которые резко увеличивают проницаемость капилляров. Начинается пропотевание жидкой части плазмы крови вследствие тканевого ацидоза. Это приводит к уменьшению ОЦК, уменьшается венозный возврат к сердцу, минутный объем падает еще больше - замыкается порочный круг. В крови наблюдается ацидоз, который еще больше ухудшает работу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истинного шока: Слабость, заторможенность - практически ступор. АД падает до 8О мм рт.ст. и ниже, но не всегда так четко. Пульсовое давление обязательно меньше 25 мм рт.ст.  Кожа холодная, землисто-серая, иногда пятнистая, влажная вследствие капилляростаза. Пульс нитевидный, часто аритмичный. Резко падает диурез, вплоть до ану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Нарушения ЖКТ: парез желудка и кишечника чаще при кардиогенном шоке, желудочное кровотечение. Связаны с увеличением количества глюкокортикои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ы все 5 предыдущих осложнений + собственно осложнения II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ерикардит: возникает при развитии некроза на перикарде, обычно на 2-3 день от начала заболевания. Усиливаются или вновь появляются боли за грудиной, постоянные, пульсирующие, на вдохе боль усиливается, меняется при изменении положения тела и при движении. Одновременно появляется шум трения пери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Пристеночный тромбоэндокардит: возникает при трансмуральном инфаркте с вовлечением в некротический процесс эндокарда. Длительно сохраняются признаки воспаления или появляются вновь после некоторого спокойного периода. Основным исходом данного состояния является тромбоэмболия в сосуды головного мозга, конечности и в другие сосуды большого круга кровообращения. Диагностируется при вентрикулографии, сканир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Разрывы миокарда, наружные и внутрен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Наружный, с тампонадой перикарда. Обычно имеет париод предвестников: рецидивирующие боли, не поддающиеся анальгетикам. Сам разрыв сопровождается сильнейшей болью, и через несколько секунд больной теряет сознание. Сопровождается резчайшим цианозом. Если больной не погибает в момент разрыва, развивается тяжелый кардиогенный шок, связанный с тампонадой сердца. Длительность жизни с момента разрыва исчисляется минутами, в некоторых случаях часами. В исключительно редких случаях прикрытой перфорации (кровоизлияние в осумкованный участок полости перикарда), больные живут несколько дней и даже месяц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Внутренний разрыв - отрыв папиллярной мышцы, чаще всего бывает при инфаркте задней стенки. Отрыв мышцы приводит к острой клапанной недостаточности (митральной). Резчайшая боль и кардиогенный шок. Развивается острая левожелудочковая недостаточность (отек легких), границы сердца резко увеличены влево. Характерен грубый систолический шум с эпицентром на верхушке сердца, проводящийся в подмышечную область. На верхушке часто удается обнаружить и систолическое дрожание. На ФКГ лентообразный шум между I и II тонами. Часто наступает смерть от острой левожелудочковой недостаточности. Необходимо срочное оперативное вмешатель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Внутренний разрыв межпредсердной перегородки встречается редко. Внезапный коллапс, вслед за которым быстро нарастают явления острой левожелудочков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Внутренний разрыв межжелудочковой перегородки: внезапный коллапс, одышка, цианоз, увеличение сердца вправо, увеличение печени, набухание шейных вен, грубый систолический шум над грудиной + систолическое дрожание + диастолический шум - признаки острой застойной правожелудочковой недостаточности. Нередки нарушенияы ритма сердца и проводимости (полная поперечная блокада). Часты летальные ис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Острая аневризма сердца: по клиническим проявлениям соответствует той или иной степени острой сердечной недостаточности. Наиболее частая локализация постинфарктных аневризм - левый желудочек, его передняя стенка и верхушка. Развитию аневризмы способствуют глубокий и протяженный инфаркт миокарда, повторный инфаркт миокарда, артериальная гипертония, сердечная недостаточность. Острая аневризма сердца возникает при трансмуральном инфаркте миокарда в период миомаляции. Признаки: нарастающая левожелудочковая недостаточность, увеличение границ сердца и его объема; надверхушечная пульсация или симптом коромысла (надверхушечная пульсация + верхушечный толчок), если аневризма формируется на передней стенке сердца; протодиастолический ритм галопа, добавочный  III тон; систолический шум, иногда шум “волчка”; несоответствие между сильной пульсацией сердца и слабым наполнением пульса; на ЭКГ нет зубца Р, появляется широкий Q, отрицательный зубец Т - то есть сохраняются ранние призхнаки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стоверна вентрикулография. Лечение оперативное. Аневризма часто приводит к разрыву, смерти от острой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Хроническая аневризма сердца возникает в результате растяжения постинфарктного рубца. Появляются или долго сохраняются признаки воспаления. Увеличение размеров сердца, надверхушечная пульсация. Аускультативно двойной систолический или диастолический шум - систоло-диастолический шум. На ЭКГ застывшая форма кривой острой фазы. Помогает нерентгенологическое исслед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Синдром Дресслера или постинфарктный синдром. Связан с сенсибилизацией организма продуктами аутолиза некротизированных масс, которые в данном случае выступают в роли аутоантигенов. Осложнение появляется не раньше 2-6 недели от начала заболевания, что доказывает аллергический механизм его возникновения. Возникают генерализованные поражения серозных оболочек (полисерозиты), иногда вовлекаются синовиальные оболочки. Клинически это перикардит, плеврит, поражение суставов, чаще всего левого плечевого сустава. Перикардит возникает вначале как сухой, затем переходит в экссудативный. Характерны боли за грудиной, в боку (связаны с поражением перикарда и плевры).  Подъем температуры        до  4ОоС , лихорадка часто носит волнообразный характер, Болезненность и припухлость в грудинно-реберных и грудинно-ключичных сочленениях. Часто ускоренное СОЭ, лейкоцитоз, эозинофилия. Объективно признаки перикардита, плеврита. Угрозы для жизни больного данное осложнение не представляет. Может также протекать в редуцированной форме, в таких случаях иногда трудно дифференцировать с-м Дресслера с повторным инфарктом миокарда. При назначении глюкокортикоидов симптомы быстро исчез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Тромбоэмболические осложнения: чаще в малом кругу кровообращения. Эмболы при этом в легочную артерию попадают из вен при тромбофлебите нижних конечностей, вен таза. Осложнение возникает, когда больные начинают лдвигаться после длительного постельного режи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тромбоэмболии легочной артерии: коллапс, легочная гипертензия с акцентом II тона над легочной артерией, тахикардия, перегрузка правого сердца, блокада правой ножки пучка Гисса. Рентгенологически выявляются признаки инфаркт-пневмонии. Необходимо провести ангиопульмонографию, так как для своевременного хирургического лечения необходим точный топический диагноз. Профилактика заключается в активном ведении больног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Постинфарктная стенокардия. О ней говорят в том случае, если до инфаркта приступов стенокардии не было, а впервые возникли после перенесенного инфаркта миокарда. Она делает прогноз более серьез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перио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ожнения периода реабилитации относятся к осложнениям ИБ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склероз постинфарктный. Это уже исход инфаркта миокарда, связанный с формированием рубца. Иногда его еще называют ишемической кардиопатией. Основные проявления: нарушения ритма, проводимости, сократительной способности миокарда. Наиболее частая локализация - верхушка и передняя сте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фференциальная диагностика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Стенокардия. При инфаркте боли носят нарастающий характер, большей интенсивности, больные возбуждены, беспокойны, а при стенокардии - заторможены. При инфаркте нет эффекта от нитроглицерина, боли длительные, иногда часами; при стенокардии четкая иррадиация болей, при инфаркте - обширная.  Наличие сердечно-сосудистой недостаточности более свойственно инфаркту миокарда. Окончательная диагностика - по ЭК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страя коронарная недостаточность. Это - затянувшийся приступ стенокардии с явлениями очаговой дистрофии миокарда., то есть промежуточная форма. Длительность болей от 15 мин до 1 часа, не более: эффекта от нитроглицерина тоже нет. Изменения ЭКГ характеризуются смещением сегмента ST ниже изолинии, появляется отрицательный зубец Т. В отличие от стенокардии, после окончания приступа изменения ЭКГ остаются, а в отличие от инфаркта миокарда изменения держатся только 1-3 дня и полностью обратимы. Нет повышения активности фермсентов, так как нет некро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Перикардит. Болевой синдром весьма сходен с таковым при инфаркте миокарда. Боль длительная, постоянная, пульсирующая, но нет нарастающего, волнообразного характера боли. Нет предвестников (нестабильной стенокардии). Боли четко связаны с дыханием и положением тела. Признаки воспаления: повышение температуры, лейкоцитоз. Появляются не после начала болей, а предшествуют, или появляются вместе с ними. Шум трения перикарда долго сохраняется. На ЭКГ смещение сегмента ST выше изолинии, как и при инфаркте миокарда, но нет дискордантности и патологического зубца Q - главного признака инфаркта миокарда; подъем сегмента ST происходит практически во всех отведениях, так как изменения в сердце носят диффузный характер, а не очаговый, как при инфаркте. При перикардите при возвращении сегмента ST на изолинию зубец Т остается положительным, при инфаркте - отрицатель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Инфаркт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 - это тяжелое заболевание, характеризующееся гибелью части сократительных клеток миокарда с последующим замещением погибших (некротизированных) клеток грубой соединительной тканью (т.е. формированием постинфарктного рубца).</a:t>
            </a:r>
            <a:br>
              <a:rPr sz="1200"/>
            </a:br>
            <a:br>
              <a:rPr sz="1200"/>
            </a:br>
            <a:r>
              <a:rPr b="0" lang="ru-RU" sz="1200" spc="-1" strike="noStrike">
                <a:solidFill>
                  <a:srgbClr val="000000"/>
                </a:solidFill>
                <a:latin typeface="Calibri"/>
              </a:rPr>
              <a:t>Гибель клеток (некроз) происходит в результате продолжающейся ишемии миокарда и развитием необратимых изменений в клетках вследствие нарушения их метаболизма.</a:t>
            </a:r>
            <a:br>
              <a:rPr sz="1200"/>
            </a:br>
            <a:br>
              <a:rPr sz="1200"/>
            </a:br>
            <a:r>
              <a:rPr b="0" lang="ru-RU" sz="1200" spc="-1" strike="noStrike">
                <a:solidFill>
                  <a:srgbClr val="000000"/>
                </a:solidFill>
                <a:latin typeface="Calibri"/>
              </a:rPr>
              <a:t>Наиболее общая классификация миокарда подразумевает выделение крупно- и мелкоочагового инфаркта (по размерам очагового поражения), различных вариантов локализации некротического очага инфаркта миокарда (обычно говорят - локализация инфаркта миокарда), а также острого, подострого периодов и периода рубцевания (по времени и стадиям течения).</a:t>
            </a:r>
            <a:br>
              <a:rPr sz="1200"/>
            </a:br>
            <a:br>
              <a:rPr sz="1200"/>
            </a:br>
            <a:r>
              <a:rPr b="0" lang="ru-RU" sz="1200" spc="-1" strike="noStrike">
                <a:solidFill>
                  <a:srgbClr val="000000"/>
                </a:solidFill>
                <a:latin typeface="Calibri"/>
              </a:rPr>
              <a:t>Кроме этого, выделяют еще несколько критериев, по которым также проводится классификационное выделение различных форм инфаркта, но все это мы рассмотрим подробнее по ходу обсуждения. Пока же нам нужно определиться с общими закономерностями возникновения и течения инфаркта миокарда.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фференциальная диагностика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Эмболия ствола легочной артерии (как самостоятельное заболевание, а не осложнение инфаркта миокарда). Возникает остро, резко ухудшается состояние больного. Острые загрудинные боли, охватывающие всю грудную клетку, на первый план выступает дыхательная недостаточность: приступ удушья, диффузный цианоз. Причиной эмболии бывают мерцательная аритмия, тромбофлебит, оперативные вмешательства на органах малого таза и др. Чаще наблюдается эмболия правой легочной артерии, поэтому боли больше отдают вправо, а не вле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острой сердечной недостаточности по правожелудочковому типу: одышка, цианоз, увеличение печени. Акцент II тона на легочной артерии, иногда набухание шейных вен. ЭКГ напоминает инфаркт в правых I и II грудных отведениях, есть признаки перегрузки правого сердца, может быть блокада ножки пучка Гисса.  Изменения исчезают через 2-3 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мболия часто приводит к инфаркту легкого: хрипы, шум трения плевры, признаки воспаления, реже наблюдается кровохарканье. Рентгенологически изменения клиновидной формы, чаще справа вниз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Расслаивающаяся аневризма аорты. Чаще всего возникает у больных с высокой артериальной гипертензией. Нет периода предвестников, боль сразу же носит острый характер, кинжальная. Характерен мигрирующий характер болей: по мере расслаивания боли распространяются вниз в поясничную область, в нижние конечности. В процесс начинают вовлекаться другие артерии - возникают симптомы окклюзии крупных артерий, отходящих от аорты. Отсутствует пульс на лучевой артерии, может наблюдаться слепрота. На ЭКГ нет признаков инфаркта. Боли атипичные, не снимаются наркот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Печеночная колика. Необходимо дифференцировать с абдоминальной формой инфаркта миокарда. Чаще у женщин, есть четкая связь с приемом пищи, боли не носят нарастающего волнообразного характера, иррадиируют вправо вверх. Часто повторная рвота. Локальная болезненность, однако это бывает и при инфаркте миокарда вследствие увеличения печени. Помогает ЭКГ. Повышена активность ЛДГ 5, а при инфаркте - ЛДГ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е задач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рофилактика ослож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граничение зоны инфар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чтобы лечебная практика соответствовала периоду заболе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редынфарктный период. Главная цель лечения в этот период - предупредить возникновение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стельный режим (до тех пор, пока есть признаки нарастания коронар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ямые антикоагуля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гепарин, можно вводить в/в, но чаще применяют  п/к  по 5-1О      тыс. ЕД через каждые 4-6 ча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тиаритмические сре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глюкоза     5% 2ОО-5ОО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хлорид калия   1О% - 3О,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ульфат магния 25% - 2О,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инсулин  4-12 Е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кокарбоксилаза  1ОО м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бета-адреноблокаторы  /Anaprillini О,О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итраты  пролонгированного действия (Sustak-for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огда проводят экстренную реваскуляризацию миокар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Лечение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стрейший период. Основная цель лечения - ограничить зону повреждения миокарда. Снятие болевого синдрома: начинать правильнее с нейролептанальгезии, а не с наркотиков, т.к. при этом меньше осложнений; фентанил 1-2 мл в/в на глюкозе /О,ОО5% 2 мл;   дроперидол 2,О мл О,25% 2 мл на 4О мл 5% р-ра глюкозы; таламонал (содержит в 1 мл О,О5 мг фентанила и 2,5 мг дроперидола) 2-4 мл в/в струйно.  Аналгетический эффект наступает немедленно после в/в введения (у 6О% больных) и сохраняется 3О м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ентанил, в отличие от опиатов, очень редко угнетает дыхательный центр. После нейролептанальгезии сознание быстро восстанавливается. Не нарушается кишечная перистальтика и мочеотделение. Нельзя сочетать с опиатами и барбирутатами, т.к. возможно потенцирование пробочных эффек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еполном эффекте повторно вводят через 6О мин. морфин 1% 1,5 п/к или в/в струйно; омнопон 2% - 1,О п/к или в/в; промедол 1% - 1,О п/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бочные явления препаратов группы морф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угнетение дыхательного центра - налорфин 1-2 мл в/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снижение рН крови и индуцирование синдрома электрической нестабильности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пособствует депонированию крови, снижению венозного возврата, приводя к относительной гипово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мощное ваготропное действие - усугубляется брадикардия, может быть тошнота, рвота, угнетение перистальтики кишечника и парез мускулатуры мочевого пузыр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вязи с возможностью указанных осложнений применение морфинов и его аналогов при инфаркте миокарда должно быть сведено к миниму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Лечение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силения обезболивающего эффекта, снятия тревоги, беспокойства,  возбужд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анальгин  5О% - 2,О в/м  или в/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димедрол 1% - 1,О в/м (седативный эффект) + аминазин 2,5% - 1,О в/м в/в (потенцирование наркотиков). Кроме того, аминазин оказывает гипотензивное действие, поэтому при нормальном или пониженном давлении вводят только димедрол. Аминазин может вызывать тахикард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локализации инфаркта на задней стенке левого желудочка болевой синдром сопровождается брадикардией - ввести холинолитик: атропина сульфат О,1% - 1,О (при тахикардии не в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никновение инфаркта часто связано с тромбозом коронарных артерий, поэтому необходимо введение антикоагулянтов, которые особенно эффективны в первые минуты и часы заболевания. Они также ограничивают зону инфаркта + обезболивающий эффе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о: гепарин 1О-15 тыс. (около 2 мл), в 1 мл - 5 тыс.ЕД; фибринолизин 6 тыс. в/в кап.; стрептаза 25О тыс. на физ. р-ре в/в к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парин вводят в течение 5-7 дней под контролем свертывающей системы крови, вводят  4-6 раз  в сутки (т.к. длительность действия 6 час.), лучше в/в. Также повторно вводится фибринолизин в течение 1-2 сут. (т.е. только в течение 1-го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Профилактика и лечение аритм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Поляризующая смесь (состав см. выше), входящие в нее ингридиенты способствуют проникновению калия внутрь клет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Лидокаин - препарат выбора, более эффективен при желудочковых аритмиях. 5О-75 мг струй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овокаинамид 1ОО мг в/в струйно, через 5 мин., до достижения эффекта, далее капельно (1О% р-р 5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Обзидан до 5 мг в/в медленно (О,1% р-р 1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 Хинидин по О,2-О,5 через 6 час. внутр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яют также нитраты пролонгированного действия - вследствие коронарооасширяющего действия они улучшают коллатеральное кровообращение и тем самым ограничивают зону инфаркта. Препараты: Нитросорбит таб. О.О1; Эринит таб. О,О1; Сустак митте 2,6 мг и сустак форте 6,4 м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Острый период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лечения в острый период - предупреждение осложнений. При неосложненном инфаркте миокарда со 2-3 дня начинают ЛФК. Отменяют фибринолизин (на 1-2 день), но гепарин оставляют до 5-7 дней под контролем времени свертывания. За 2-3 дня до отмены гепарина назначают антикоагулянты непрямого действия; при этом обязателен контроль протромбина 2 раза в неделю, рекомендуется снижать протромбин до 5О%. Исследуется моча на эритроциты (микрогематурия). Фенилин (список А) О,О3 по 3 раза в день, отличается от других препаратов быстрым эффектом: 8 часов.  Неодикумарин таб.О,О5 в 1 день по 4 т. 3 раза, на  2-й день 3 т. 3 раза и далее по О,1-О,2 в сутки индивидуально.  Фепромарон таб. О,ОО5 (О,ОО1)  Синкумар таб. О,ОО4 (О,ОО2)  Нитрофарин таб. О,ОО5  Омефин таб. О,О5  Дикумарин  таб. О,О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ния к назначению антикоагулянтов непрямого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Аритм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Трансмуральный инфаркт (почти всегда есть коронаротромбо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У тучных бо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На фоне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тивопоказания к назначению антикоагулянтов непрямого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Геморрагические осложнения, диатезы, склонность к кровотече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Заболевания печени (гепатит, цирро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Почечная недостаточность, гемату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Язвенная болез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Перикардит и острая аневризма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Высокая артериальная гипертенз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a:t>
            </a:r>
            <a:r>
              <a:rPr b="0" lang="ru-RU" sz="1200" spc="-1" strike="noStrike">
                <a:solidFill>
                  <a:srgbClr val="000000"/>
                </a:solidFill>
                <a:latin typeface="Calibri"/>
              </a:rPr>
              <a:t>	</a:t>
            </a:r>
            <a:r>
              <a:rPr b="0" lang="ru-RU" sz="1200" spc="-1" strike="noStrike">
                <a:solidFill>
                  <a:srgbClr val="000000"/>
                </a:solidFill>
                <a:latin typeface="Calibri"/>
              </a:rPr>
              <a:t>Подострый септический эндокарди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a:t>
            </a:r>
            <a:r>
              <a:rPr b="0" lang="ru-RU" sz="1200" spc="-1" strike="noStrike">
                <a:solidFill>
                  <a:srgbClr val="000000"/>
                </a:solidFill>
                <a:latin typeface="Calibri"/>
              </a:rPr>
              <a:t>	</a:t>
            </a:r>
            <a:r>
              <a:rPr b="0" lang="ru-RU" sz="1200" spc="-1" strike="noStrike">
                <a:solidFill>
                  <a:srgbClr val="000000"/>
                </a:solidFill>
                <a:latin typeface="Calibri"/>
              </a:rPr>
              <a:t>Авитаминозы А и 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назначения непрямых антикоагулянтов - предупреждение повторного гиперкоагуляционного синдрома после отмены прямых антикоагулянтов и фибринолитических средств, создание гипокоагуляции с целью профилактики повторных инфарктов миокарда или рецидивов, предупреждение тромбоэмболических ослож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тром  периоде инфаркта миокарда наблюдаются два пика нарушения ритма - в начале и конце этого периода. Для профилактики и лечения дают антиаритмические средства: поляризующую смесь и другие препараты (см.выше). По показаниям назначают преднизолон. Применяют также анаболические средства: Ретаболил 5% 1,О в/м - улучшает ресинтез макроэргов и синтез белков, благоприятно влияет на метаболизм миокарда.  Нераболил 1% 1,О  Нерабол таб. О,ОО1 (О,ОО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3-го дня заболевания начинают довольно быстро расширять режим. К концу 1 недели больной должен садиться, через 2 недели ходить. Обычно через 4-6 недель больного переводят в отделение реабилитации. Еще через месяц - в специализированный кардиологический санаторий. Далее больные переводятся под амбулаторное наблюдение и лечение у кардиоло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ета. В первые дни заболевания питание резко ограничивают, дают малокалорийную, легко усвояемую пищу. Не рекомендуются молоко, капуста, другие овощи и фрукты, вызывающие метеоризм. Начиная с 3 дня заболевания необходимо активно опорожнять кишечник, рекомендуются масляное слабительное или очистительные клизмы, чернослив, кефир, свекла. Солевые слабительные нельзя - из-за опасности коллап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ЛЕКАРСТВА, ИСПОЛЬЗУЕМЫЕ ПОСЛЕ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ым, которые перенесли инфаркт сердечной мышцы, рекомендуется использов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антиагрега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бета-адреноблокато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ингибиторы АПФ (ангиотензинпревращающего фер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тат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Антиагреганты - это лекарства, которые препятствуют образованию сгустка крови или тромба в венечных артериях (они делают кровь более жидк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цетилсалициловая кислота (аспирин, желательно в оболочке, защищающей слизистую желуд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жедневным потреблением ацетилсалициловой кислоты или аспирина можно значительно уменьшить риск возникновения инфаркта сердечной мышцы. Поэтому аспирин используется у всех больных ишемической болезнью сердца (если не возникает жалоб со стороны желудочно-кишечного тракта). Аспирин нужно принимать каждый день в малой дозе - 75-150 мг (так называемая малая доза или сердечный аспирин). После установки стента врач может временно порекомендовать большие доз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лопидогрел или тиклопид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 лекарства также уменьшают риск образования сгустка крови в месте стента и закупорку стента. Их следует принимать, если венечная артерия в сердце расширена и для поддержки венечной артерии установлен стент. В этом случае врач выпишет Вам одно из этих лекарств. Длительность курса лечения зависит от стента, и ее уточнит Вам лечащий врач. Клопидогрел или тиклопидин используются обычно вместе с ас­пирином для того, чтобы получить лучший результ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ЛЕКАРСТВА, ИСПОЛЬЗУЕМЫЕ ПОСЛЕ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Бета-адреноблокато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опролол (Эгилок, метопролол назначаются 2 раза в день). Более надежно защищает сердце метопролол в форме суточного действия - Эгилок ретард. Его можно применять 1 раз в день независимо от приема пищи, в отличие от всех остальных препаратов метопроло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пранолол (анаприлин). Этот бета-блокатор также доказал свойство снижать риск смерти после инфаркта миокарда, однако необходимость приема 3-4 раза в сутки и множество побочных действий сделали его препаратом «второй очеред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рведилол (Дилатренд, Таллито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та-адреноблокаторы являются чрезвычайно важными лекарствами после перенесенного инфаркта сердечной мышцы, которые уменьшают возможность возникновения нового инфаркта миокарда и снижают риск смер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Ингибиторы АПФ - это лекарства, которые улучшают работоспособность сердца, снижают артериальное давление и тормозят возникновение или углубление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пт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нала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озин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инд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миприл (Тритаце, Хартил). Именно этот представитель группы ингибиторов АПФ впервые был рекомендован не только для лечения уже возникшей сердечной недостаточности, но и для предупреждения повторного инфаркта миокарда. Он также вошел в международные и отечественные рекомендации по лечению стабильной стенокардии как препарат, способный снизить риск возникновения инфар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татины - лекарства, которые нормализуют уровень жиров крови, в первую очередь уровень холестерола, замедляют развитие атеросклероза и уменьшают риск повторного инфаркта и смер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им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тор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жде в традиционную схему лечения входили и нитропрепараты, которые помогают предупредить возникновение стенокардии. В настоящее время исполь­зование этой группы лекарств не считается необходимым у всех больных, и больше внимания уделяется быстрому направлению пациентов со стенокардическими жалобами на коронароангиографию, для того чтобы уточнить лучший способ лечения. В некоторых случаях нитропрепараты используются в лечении сердечной недостаточности в комбинации с другими лекарствами или у больных, которым невозможно уменьшить жалобы современными метод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Период реабилитации</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абилитации различ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Физическая - восстановление до максимально возможного уровня функции сердечно-сосудистой системы. Необходимо добиваться адекватной реакции на физическую нагрузку, что достигается в среднем через 2-6 недель физических тренировок, которые развивают коллатеральное кровообращ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Психологическая - у больных, перенесших инфаркт миокарда, нередко развивается страх перед повторным инфарктом. При этом может быть оправдано применение психотроп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циальная реабилитация - больной после перенесенного инфаркта миокарда считается нетрудоспособным 4 месяца, затем его направляют на ВТЭК.  5О% больных к этому времени возвращается к работе, то есть трудоспособность практически полностью восстанавливается. Если  возникают осложнения, то временно устанавливается группа инвалидности, обычно II, на 6-12 месяц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Лечение осложненного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Рефлекторный (связан с болевым синдром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овторное введение анальгетиков: Морфин 1% 1,5 мл п/к или в/в струйно. Анальгин 5О% 2 мл в/м, в/в.  Таломонал   2-4 мл в/в струй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удотонизирующие средства: Кордиамин 1-4 мл в/в (фл. по 1О мл); Мезатон 1% 1,О п/к, в/в, на физ.растворе; Норадреналин О,2% 1,О в/в;  Ангиотензинамид 1 мг в/в капель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Истинный 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ышение сократительной деятельности миокарда: Строфантин О,О5% О,5-О,75 в/в медленно на 2О,О изотонического раствора.  Корглюкон О,О6% 1,О в/в, также на изотоническом растворе или на поляризующей смеси.  Глюкагон 2-4 мг в/в капельно на поляризующем растворе. Имеет значительное преимущество перед глюкозидами: обладая, как и гликозиды, положительным инотропным действием, в отличие от них не оказывает аритмогенного действия. Может быть использован при передозировке сердечных гликозидов. Обязательно вводить на поляризующей смеси или вместе с другими препаратами калия, так как он вызывает гипокалием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лизация АД:  Норадреналин О,2% 2-4 мл на 1 л 5% р-ра глюкозы или изотонического раствора.  АД поддерживается на уровне 1ОО мм рт.ст.  Мезатон 1% 1,О в/в; кордиамин 2-4 мл; Гипертензинамид 2,5-5 мг на 25О мл 5% глюкозы в/в капельно, под обязательным контролем АД, так как обладает резко выраженным прессорным действ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естойком эффекте от вышеуказанных препаратов: Гидрокортизон 2ОО мг,  Преднизолон 1ОО мг.  Вводить на физиологическом раство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лизация реологических свойств крови (так как обязательно образуются микрососудистые тромбы, нарушается микроциркуляция).  Применяют в общепринятых дозах: гепарин; фибринолизин; низкомолекулярные дек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r>
              <a:rPr b="0" lang="ru-RU" sz="1200" spc="-1" strike="noStrike">
                <a:solidFill>
                  <a:srgbClr val="000000"/>
                </a:solidFill>
                <a:latin typeface="Calibri"/>
              </a:rPr>
              <a:t>Патофизиологи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Механизм инфаркта миокарда — разрыв атеросклеротической бляшки, часто при умеренном стенозе до 70% в коронарной артерии. При этом коллагеновые волокна обнажаются, происходит активация тромбоцитов, запускается каскад реакций свертывания, что приводит к острой окклюзии коронарной артерии. Если восстановления перфузии не происходит, то развиваются некроз миокарда (начиная с субэндокардиальных отделов), дисфункция пораженного желудочка (в подавляющем большинстве случаев - левого), аритмии.</a:t>
            </a:r>
            <a:br>
              <a:rPr sz="1200"/>
            </a:br>
            <a:br>
              <a:rPr sz="1200"/>
            </a:br>
            <a:r>
              <a:rPr b="0" lang="ru-RU" sz="1200" spc="-1" strike="noStrike">
                <a:solidFill>
                  <a:srgbClr val="000000"/>
                </a:solidFill>
                <a:latin typeface="Calibri"/>
              </a:rPr>
              <a:t>Инфаркт миокарда с патологическими зубцами Q и без патологических зубцов Q</a:t>
            </a:r>
            <a:br>
              <a:rPr sz="1200"/>
            </a:br>
            <a:br>
              <a:rPr sz="1200"/>
            </a:br>
            <a:r>
              <a:rPr b="0" lang="ru-RU" sz="1200" spc="-1" strike="noStrike">
                <a:solidFill>
                  <a:srgbClr val="000000"/>
                </a:solidFill>
                <a:latin typeface="Calibri"/>
              </a:rPr>
              <a:t>Инфаркт миокарда с патологическими зубцами Q - тромботическая окклюзия коронарной артерии возникает у 80% больных с инфарктом миокарда и ведет к трансмуральному некрозу миокарда и появлению зубца Q на ЭКГ.</a:t>
            </a:r>
            <a:br>
              <a:rPr sz="1200"/>
            </a:br>
            <a:br>
              <a:rPr sz="1200"/>
            </a:br>
            <a:r>
              <a:rPr b="0" lang="ru-RU" sz="1200" spc="-1" strike="noStrike">
                <a:solidFill>
                  <a:srgbClr val="000000"/>
                </a:solidFill>
                <a:latin typeface="Calibri"/>
              </a:rPr>
              <a:t>Инфаркт миокарда без патологических зубцов Q - чаще всего возникает при спонтанном восстановлении перфузии или хорошо развитых коллатералях. В результате размер инфаркта — меньше, функция левого желудочка страдает не столь сильно, больничная летальность — ниже. Однако в связи с тем, что такие инфаркты миокарда — «незавершенные» (то есть оставшийся жизнеспособным миокард снабжается пораженной коронарной артерией), частота повторных инфарктов миокарда больше, чем при инфаркте миокарда с патологическими зубцами Q; к концу первого года летальность уравнивается. Поэтому при инфаркте миокарда без патологических зубцов Q придерживаются более активной лечебно-диагностической тактики.</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Лечение осложненного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ранение гиповолемии, так как происходит пропотевание жидкой части крови: реополиглюкин, полиглюкин - в объеме д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ОО мл со скоростью 5О,О в м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ррекция  кислотно-щелочного равновесия (борьба с ацидозом): натрия бикарбонат 5% до 2ОО,О;  натрия лакта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торное введение обезболивающих средств. Восстановление нарушений ритма и проводи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же иногда используют аортальную контрапульсацию - один из видов вспомогательного кровообращения, операцию иссечения зоны некроза в остром периоде, гипербарическую оксиген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ония желудка и кишечника. Связаны с введением больших доз атропина, наркотических анальгетиков и с нарушением микроциркуляции. Для ликвидации необходимы: промывание желудка через тонкий зонд с использованием раствора соды; постановка газоотводной трубки; введение в/в гипертонического раствора NaCl  1О% 1О,О;  паранефральная новокаиновая блокада.  Эффективен прозерин  О,О5% 1,О п/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a:t>
            </a:r>
            <a:r>
              <a:rPr b="0" lang="ru-RU" sz="1200" spc="-1" strike="noStrike">
                <a:solidFill>
                  <a:srgbClr val="000000"/>
                </a:solidFill>
                <a:latin typeface="Calibri"/>
              </a:rPr>
              <a:t>	</a:t>
            </a:r>
            <a:r>
              <a:rPr b="0" lang="ru-RU" sz="1200" spc="-1" strike="noStrike">
                <a:solidFill>
                  <a:srgbClr val="000000"/>
                </a:solidFill>
                <a:latin typeface="Calibri"/>
              </a:rPr>
              <a:t>Постинфарктный синдром. Это - осложнение аутоиммунной природы, поэтому дифференциально-диагностическим и лечебным средством является назначение глюкокортикоидов, которые дают при этом отличный эффект. Преднизолон 3О мг (6 таб.), лечить до исчезновения проявлений заболевания, затем дозу очень медленно снижать в течение 6 недель - поддерживающая терапия по 1 таб. в день. При такой схеме лечения рецидивов не бывает. Также десенсибилизирующая терап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фаза выздоровления после инфаркта сердечной мышцы длится примерно 8 недель. В течение этого времени зарубцовывается поврежденная инфарктом часть сердечной мышцы. В течение первых недель дома общая усталость естественна! Это вызвано повреждением сердечной мышцы и длительным постельным режимом во время больничного лечения. В первые недели дайте себе время на восстановление и избегайте любых чрезмерных напряж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ешенную Вам физическую нагрузку уточнит Ваш лечащий врач, и это в основном зависит от тяжести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же приведены общие правила для первых недель выздоро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оставляйте несделанным обычный утренний туал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вномерно распределите свои дневные действия! Если устали, сразу отдохнит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ы можете ходить по лестнице (если врач этого не запретил). Но все же устройте свои дела так, чтобы не приходилось в течение дня повторно подниматься и спускаться по лестниц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уляйте каждый день! Регулярная прогулка помогает эффективно восстановить энергию. Спросите у своего лечащего врача, какая нагрузка является подходящей для Ва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чувствуете себя лучше, можете начать выполнять легкую домашнюю работу, такую как приготовление пищи, легкие садовые работы, вытирание пыли и мытье посу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поднимайте (не толкайте, не тяните) тяжести, до тех пор пока не разрешит вр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росите у своего лечащего врача о том, когда можно быть более активным - приступить к работе, управлять автомобилем, летать самоле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ечении инфаркта сердечной мышцы без осложнений можно управлять автомобилем в среднем через 1 неделю после выписки из больницы домой. Рейс самолетом разрешен через 2 недели после больничного ле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йте, что инфаркт сердечной мышцы без осложнений не дает автоматически группы инвалидности, большинство больных могут вернуться на свои рабочие места. В некоторых случаях врач может порекомендовать сменить работ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ТРОЕНИЕ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но четверть больных инфарктом сердечной мышцы чувствуют после болезни угнетенность, страх, неуверенность. Это обычные реакции - не позволяйте плохому настроению вывести себя из строя! Настроение постепенно улучшится вместе с восстановлением здоровья. Не теряйте муж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 по улучшению настроения и выработке позитивного отнош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нимайтесь каждое утро из постели и делайте обычный утренний туалет, одевайтесь. Не оставайтесь в постели на целый де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арайтесь каждый день гулять на свежем воздух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жедневная умеренная физическая нагрузка поможет восстановить запасы энергии и чувствовать себя более здоров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елитесь своими чувствами с близкими (с семьей, друзьями), дайте им возможность поддержать Вас! Наслаждайтесь добрым обществом друзей (в умеренных масштабах, чтобы не утомить себ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орошо отдыхайте - полноценный ночной сон очень важен! Плохой сон делает Вас уставшим и раздражительным на весь последующий де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 возможности присоединитесь к программе восстановительного лечения для больных инфарктом сердечной мышцы. Участвуя в специально руководимой программе, Вы получите знания о своем заболевании, научитесь сами регулировать свою физическую нагрузку, и Ваше настроение обязательно улучши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у Вас возникнут вопросы о своем здоровье, без колебаний задайте их своему врачу! Получив ответы на свои вопросы, Вы будете меньше беспокоиться и избежите существенного стресса и чувства неувер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чувствуете, что у Вас тяжелое настроение или Вы эмоционально нестабильны, то поговорите об этом со своим лечащим врачом. Есть лекарства, которые могут помочь Вам улучшить настр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КСУАЛЬН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восстановлении после инфаркта сердечной мышцы Ваша цель - по возможности полноценно включиться в повседневную жизнь, также и в сексуальных отношениях. Интимные отношения после инфаркта сердечной мышцы ни в коем случае не противопоказаны и могут во многом помочь восстановлению Вашего настроения и в поддержке позитивного отношения к жизни. Сексуальная активность, которая была до болезни, обычно восстанавливается за короткое врем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мысле физической нагрузки интимный контакт требует, конечно, определенного физического напряжения. Рассчитано, что количество энергии, которое тратится на сексуальный контакт с супругом или постоянным сексуальным партнером, сравнимо с энергией, которая расходуется при подъеме по лестнице на 1-2 этажа или при быстрой ходьбе на 0,8 к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у Вас при ходьбе по лестнице или при быстрой ходьбе возникают боли в груди, чувство недостатка воздуха или сильная усталость, проконсультируйтесь до возобновления активной сексуальной жизни со своим лечащим врач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сексуальных отношений имеется как физическая, так и эмоциональная сторона. Не забывайте, что Ваш партнер может значительно поддержать Вас в начальный период восстановления после инфаркта сердечной мышцы, когда Вы чувствуете себя неуверенно и не умеете еще точно оценить свою физическую форму и переносимость нагруз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КСУАЛЬН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крыто поговорите с партнером, если чувствуете неуверенность или страх. Не торопитесь и не перенапрягайтесь! Дайте себе время! Понимающее отношение партнера к Вам здесь будет большой помощ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Попытайтесь в раннем периоде восстановления после инфаркта вступать в сексуальный контакт только тогда, когда Вы отдохнули и чувствуете себя физически хорош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ывайте, что некоторые лекарства, которые Вы принимаете, а также Ваша неуверенность и вызванная этим нервозность могут уменьшать сексуальную активность и способность. Откровенно обсудите эти проблемы со своим лечащим врачом, иногда выбором лекарств можно значительно ис­править ситу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найте, что влияющие на Вашу сексуальность лекарства, такие как силде-нафил (Viagra), варденафил (Levitra), тадалафил (Cialis) ни в коем случае нельзя применять одновременно с нитропрепаратами! Эти препараты усиливают действие нитропрепаратов и поэтому могут вызвать жизнеопасную гипотензию. Промежуток времени между приемом вышеперечисленных препаратов и приемом нитропрепаратов должен быть как минимум 24 часа, однако обязательно проконсультируйтесь предварительно со своим врач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ВЫ МОЖЕТЕ СДЕЛАТЬ САМИ ДЛЯ ПРЕДОТВРАЩЕНИЯ ПОВТОРЕНИЯ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Сделайте свой стиль жизни более здоровым. Следует знать, каковы факторы риска возникновения инфаркта сердечной мышцы и как их уменьш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Регулярно принимайте лекарства, которые Вам выписал вр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Регулярно посещайте врача (семейного врача, кардиоло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r>
              <a:rPr b="0" lang="ru-RU" sz="1200" spc="-1" strike="noStrike">
                <a:solidFill>
                  <a:srgbClr val="000000"/>
                </a:solidFill>
                <a:latin typeface="Calibri"/>
              </a:rPr>
              <a:t>Морфологи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Зона инфаркта в это время носит мозаичный характер, т.е. среди погибших клеток встречаются также частично или даже полностью работоспособные миоциты (сердечные клетки). На вторые сутки зона постепенно отграничивается от здоровой ткани и между ними формируется периинфарктная зона.</a:t>
            </a:r>
            <a:br>
              <a:rPr sz="1200"/>
            </a:br>
            <a:br>
              <a:rPr sz="1200"/>
            </a:br>
            <a:r>
              <a:rPr b="0" lang="ru-RU" sz="1200" spc="-1" strike="noStrike">
                <a:solidFill>
                  <a:srgbClr val="000000"/>
                </a:solidFill>
                <a:latin typeface="Calibri"/>
              </a:rPr>
              <a:t>Часто в периинфарктной зоне выделяют зону очаговой дистрофии, граничащую с некротической зоной и зону обратимой ишемии, примыкающую к участкам неповрежденного миокарда. В зоне очаговой дистрофии все структурные и функциональные изменения в большинстве случаев могут быть восстановлены (частично или даже полностью).</a:t>
            </a:r>
            <a:br>
              <a:rPr sz="1200"/>
            </a:br>
            <a:br>
              <a:rPr sz="1200"/>
            </a:br>
            <a:r>
              <a:rPr b="0" lang="ru-RU" sz="1200" spc="-1" strike="noStrike">
                <a:solidFill>
                  <a:srgbClr val="000000"/>
                </a:solidFill>
                <a:latin typeface="Calibri"/>
              </a:rPr>
              <a:t>В зоне обратимой ишемии изменения могут быть полностью обратимы. После отграничения зоны инфаркта поступает постепенное размягчение и растворение погибших миоцитов, элементов соединительной ткани, участков сосудов, нервных окончаний. Примерно на 10 сутки при крупноочаговом инфаркте миокарда на периферии очага некроза уже имеется молодая грануляционная ткань, из которой в дальнейшем будет формироваться соединительная ткань, выполняющая рубец.</a:t>
            </a:r>
            <a:br>
              <a:rPr sz="1200"/>
            </a:br>
            <a:br>
              <a:rPr sz="1200"/>
            </a:br>
            <a:r>
              <a:rPr b="0" lang="ru-RU" sz="1200" spc="-1" strike="noStrike">
                <a:solidFill>
                  <a:srgbClr val="000000"/>
                </a:solidFill>
                <a:latin typeface="Calibri"/>
              </a:rPr>
              <a:t>Заместительные процессы идут от периферии к центру, поэтому в центре очага какое-то время могут еще оставаться очаги размягчения, а это участок, способный растягиваться, формируя аневризму сердца или даже разрываться при грубом несоблюдении двигательного режима или других нарушениях. Плотная рубцовая ткань в месте некроза окончательно формируется примерно через 3-4 месяца и позже. При мелкоочаговом инфаркте миокарда рубец может образовываться в более ранние сроки. Скорость рубцевания зависит не только от размеров очага некроза, но и от состояния коронарного кровообращения в миокарде вообще и в периинфарктных участках особенно.</a:t>
            </a:r>
            <a:br>
              <a:rPr sz="1200"/>
            </a:br>
            <a:br>
              <a:rPr sz="1200"/>
            </a:br>
            <a:r>
              <a:rPr b="0" lang="ru-RU" sz="1200" spc="-1" strike="noStrike">
                <a:solidFill>
                  <a:srgbClr val="000000"/>
                </a:solidFill>
                <a:latin typeface="Calibri"/>
              </a:rPr>
              <a:t>Кроме этого, имеют значение возраст больного, уровень АД, двигательный режим, состояние обменных процессов, обеспеченность пациента полноценными аминокислотами, витаминами. адекватность проводимого лечения, наличие сопутствующих заболеваний. Все это определяет интенсивность восстановительных процессов в организме вообще и в миокарде в частности.</a:t>
            </a:r>
            <a:br>
              <a:rPr sz="1200"/>
            </a:br>
            <a:br>
              <a:rPr sz="1200"/>
            </a:br>
            <a:r>
              <a:rPr b="0" lang="ru-RU" sz="1200" spc="-1" strike="noStrike">
                <a:solidFill>
                  <a:srgbClr val="000000"/>
                </a:solidFill>
                <a:latin typeface="Calibri"/>
              </a:rPr>
              <a:t>Даже сравнительно небольшая нагрузка в период формирования первичного рубца, может привести к развитию аневризмы сердца (выпячиванию стенки желудочка, формированию своеобразного мешка), а уже через месяц та же нагрузка оказывается полезной и даже необходимой для укрепления сердечной мышцы и формированию более прочного рубца. Но продолжим разговор об инфаркт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Формы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щадь и локализация инфаркта сердечной мышцы зависят от того, в какой венечной артерии прекращается кровоток, насколько большая часть сердечной мышцы затронута, и оттого, сколько времени потребуется до начала ле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жно выделить следующие формы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о месторасположению (какая область сердечной мышцы затрону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передней стенки или антери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нижней стенки или инфери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боковой стенки или латер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ежжелудочковой перегородки или септ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верхушечной области или апик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овременно могут быть повреждены различные области сердечной мышцы (например, передняя стенка и верхушечная обла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Формы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 степени тяжести повреждения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оникающий илитрансмуральный инфаркт. Сердечная мышца в области инфаркта погибает и постепенно замещается соединительной тканью. Причиной этого является полное прекращение кровотока в венечной артерии. На «сердечном фильме» или электрокардиограмме (ЭКГ) и в анализах крови наблюдаются изменения, типичные для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проникающий или нетрансмуральный инфаркт. Повреждение сердечной мышцы несколько меньшего объема. Поэтому такой инфаркт называется иногда микроинфарктом. Кровоток в венечной артерии прекра­щен не полностью, а частично восстановился (или эффект оказала кровь, полу­ченная из дополнительных кровеносных сосудов). В анализах крови наблюдаются типичные для инфаркта сердечной мышцы изменения, однако ЭКГ отличается от таковой при проникающем инфаркте. Также и тактика лечения при инфаркте сердечной мышцы зависит от его разм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линическая картина инфаркта миокард</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м характерным симптомом инфаркта миокарда является бо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и в типичных случаях локализуются в левой части грудной клетки, за грудиной, иногда в верхней части живота или под лопаткой.</a:t>
            </a:r>
            <a:br>
              <a:rPr sz="1200"/>
            </a:br>
            <a:br>
              <a:rPr sz="1200"/>
            </a:br>
            <a:r>
              <a:rPr b="0" lang="ru-RU" sz="1200" spc="-1" strike="noStrike">
                <a:solidFill>
                  <a:srgbClr val="000000"/>
                </a:solidFill>
                <a:latin typeface="Calibri"/>
              </a:rPr>
              <a:t>Классическим случаем считается сильная загрудинная боль, длительностью более 30 минут, не снимающаяся нитроглицерином.</a:t>
            </a:r>
            <a:br>
              <a:rPr sz="1200"/>
            </a:br>
            <a:br>
              <a:rPr sz="1200"/>
            </a:br>
            <a:r>
              <a:rPr b="0" lang="ru-RU" sz="1200" spc="-1" strike="noStrike">
                <a:solidFill>
                  <a:srgbClr val="000000"/>
                </a:solidFill>
                <a:latin typeface="Calibri"/>
              </a:rPr>
              <a:t>Иногда вместо болей появляется чувство жжения, умеренного давления, сжатия за грудиной, в грудной клетке.</a:t>
            </a:r>
            <a:br>
              <a:rPr sz="1200"/>
            </a:br>
            <a:br>
              <a:rPr sz="1200"/>
            </a:br>
            <a:r>
              <a:rPr b="0" lang="ru-RU" sz="1200" spc="-1" strike="noStrike">
                <a:solidFill>
                  <a:srgbClr val="000000"/>
                </a:solidFill>
                <a:latin typeface="Calibri"/>
              </a:rPr>
              <a:t>Часто боли протекают волнообразно, длительно, то несколько ослабевая, даже прекращаясь, то снова усиливаясь.</a:t>
            </a:r>
            <a:br>
              <a:rPr sz="1200"/>
            </a:br>
            <a:r>
              <a:rPr b="0" lang="ru-RU" sz="1200" spc="-1" strike="noStrike">
                <a:solidFill>
                  <a:srgbClr val="000000"/>
                </a:solidFill>
                <a:latin typeface="Calibri"/>
              </a:rPr>
              <a:t>Часто боли не имеют четких границ и носят разлитой, распространенный характер.</a:t>
            </a:r>
            <a:br>
              <a:rPr sz="1200"/>
            </a:br>
            <a:r>
              <a:rPr b="0" lang="ru-RU" sz="1200" spc="-1" strike="noStrike">
                <a:solidFill>
                  <a:srgbClr val="000000"/>
                </a:solidFill>
                <a:latin typeface="Calibri"/>
              </a:rPr>
              <a:t>Считается, что боли при инфаркте не должны быть связаны с актом дыхания.</a:t>
            </a:r>
            <a:br>
              <a:rPr sz="1200"/>
            </a:br>
            <a:r>
              <a:rPr b="0" lang="ru-RU" sz="1200" spc="-1" strike="noStrike">
                <a:solidFill>
                  <a:srgbClr val="000000"/>
                </a:solidFill>
                <a:latin typeface="Calibri"/>
              </a:rPr>
              <a:t>Однако это бывает не всегда и, увы, зачастую приводит к запоздалой диагностике инфаркта миокарда, так как врачи не ассоциируют эти боли с сердечной патологией. Это тем более огорчительно, что подобная симптоматика бывает, как правило, при обширных и глубоких инфарктах миокарда и объясняется возникающим реактивным раздражением плевры.</a:t>
            </a:r>
            <a:br>
              <a:rPr sz="1200"/>
            </a:br>
            <a:br>
              <a:rPr sz="1200"/>
            </a:br>
            <a:r>
              <a:rPr b="0" lang="ru-RU" sz="1200" spc="-1" strike="noStrike">
                <a:solidFill>
                  <a:srgbClr val="000000"/>
                </a:solidFill>
                <a:latin typeface="Calibri"/>
              </a:rPr>
              <a:t>Помимо болевого синдрома для инфаркта миокарда характерны и другие признаки, такие как снижение АД (в ряде случаев инфаркт миокарда может протекать при повышенном давлении, особенно у гипертоников относительно молодого возраста, но это встречается реже, и в этом случае падение АД происходит отсроченно, через несколько часов и даже д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ижение АД зависит от падения сократительной способности сердца, когда участки миокарда, попавшие в инфарктную зону, теряют свою способность к сокращению и перестают работать. Отсюда понятно, что чем больше зона инфаркта, тем выраженное будет падение сократимости сердца и тем значительнее будет снижение АД.</a:t>
            </a:r>
            <a:br>
              <a:rPr sz="1200"/>
            </a:br>
            <a:br>
              <a:rPr sz="1200"/>
            </a:br>
            <a:r>
              <a:rPr b="0" lang="ru-RU" sz="1200" spc="-1" strike="noStrike">
                <a:solidFill>
                  <a:srgbClr val="000000"/>
                </a:solidFill>
                <a:latin typeface="Calibri"/>
              </a:rPr>
              <a:t>Такое грозное осложнение инфаркта миокарда, как кардиогенный шок развивается только при очень больших и глубоких инфарктах, когда из сокращения выключается до 40% и более рабочего миокарда. Чем ниже уровень АД у больного с инфарктом миокарда, тем серьезнее прогноз заболевания.</a:t>
            </a:r>
            <a:br>
              <a:rPr sz="1200"/>
            </a:b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линическая картина инфаркта миокард</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у больных развиваются и вегетативные нарушения: мышечная дрожь, тошнота, рвота, нарушениями мочеиспускания, холодный пот, одышка.</a:t>
            </a:r>
            <a:br>
              <a:rPr sz="1200"/>
            </a:br>
            <a:br>
              <a:rPr sz="1200"/>
            </a:br>
            <a:r>
              <a:rPr b="0" lang="ru-RU" sz="1200" spc="-1" strike="noStrike">
                <a:solidFill>
                  <a:srgbClr val="000000"/>
                </a:solidFill>
                <a:latin typeface="Calibri"/>
              </a:rPr>
              <a:t>Больные испытывают страх смерти, выраженное беспокойство, тревогу, иногда развиваются даже психические нарушения. Эти изменения могут зависеть от размеров пораженного очага (вследствие адекватной размеру некроза гиперкатехоламинемии, т. е. увеличение выброса в кровь гормонов - адреналина и других) или, реже, не носить прямой корреляции с размерами некроза.</a:t>
            </a:r>
            <a:br>
              <a:rPr sz="1200"/>
            </a:br>
            <a:br>
              <a:rPr sz="1200"/>
            </a:br>
            <a:r>
              <a:rPr b="0" lang="ru-RU" sz="1200" spc="-1" strike="noStrike">
                <a:solidFill>
                  <a:srgbClr val="000000"/>
                </a:solidFill>
                <a:latin typeface="Calibri"/>
              </a:rPr>
              <a:t>Кроме того, существуют и несколько различных психологических реакций человека на возникающий у него инфаркт миокарда. Имеется ввиду не только первая реакция в виде страха, неуверенности в благополучном исходе и т.д., но и дальнейшие изменения в психике, напрямую связанные с развитием болезни и осознанием человека своего состоя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лобы</a:t>
            </a:r>
            <a:br>
              <a:rPr sz="1200"/>
            </a:br>
            <a:r>
              <a:rPr b="0" lang="ru-RU" sz="1200" spc="-1" strike="noStrike">
                <a:solidFill>
                  <a:srgbClr val="000000"/>
                </a:solidFill>
                <a:latin typeface="Calibri"/>
              </a:rPr>
              <a:t>Неприятные ощущения в груди, в области шеи или нижней челюсти (тяжесть, жжение, давление) длительностью 30 мин и более. Атипичные проявления (слабость, одышка, сердечная недостаточность) чаще встречаются в пожилом возрасте и пр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Диагностик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1200" spc="-1" strike="noStrike">
                <a:solidFill>
                  <a:srgbClr val="000000"/>
                </a:solidFill>
                <a:latin typeface="Calibri"/>
              </a:rPr>
              <a:t>Электрокардиография</a:t>
            </a:r>
            <a:br>
              <a:rPr sz="1200"/>
            </a:br>
            <a:r>
              <a:rPr b="0" lang="ru-RU" sz="1200" spc="-1" strike="noStrike">
                <a:solidFill>
                  <a:srgbClr val="000000"/>
                </a:solidFill>
                <a:latin typeface="Calibri"/>
              </a:rPr>
              <a:t>Поначалу единственным признаком могут быть высокие остроконечные зубцы T. Электрокардиограмму следует повторять через 20—30 мин. Для решения вопроса о тромболизисе оценивают сегмент ST. Подъем сегмента ST на 1мм в двух и более смежных отведениях (например, II, III, aVF) подтверждает диагноз. Следует помнить, что при гипертрофии левого желудочка, синдроме Вольфа—Паркинсона—Уайта (WPW) и перикардите бывает «псевдоинфарктная кривая». При блокаде левой ножки пучка Гиса и типичных симптомах инфаркта миокарда тактика — как при инфаркте миокарда. Если подъема ST нет или если ЭКГ интерпретация затруднена, используют задние грудные отведения. Иногда только таким образом удается распознать задний инфаркт миокарда, возникающий вследствие окклюзии огибающей артерии. Если ЭКГ сниматеся во время "электрокардиостимуляции" (ЭКС), стимулятор временно перепрограммируют на меньшую частоту. Это позволяет оценить ЭКГ на фоне собственного ритм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FA8F4-D676-4BFB-987B-F213E503A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CEFDB-1A77-41E7-B20C-17C87A2FB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BDD10-B048-4EC2-A482-6392B410B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129FF-FD88-4CBD-A8D3-3CF6E10C6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67BFF8-62CC-4879-A3B8-C0D56F3A88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EC405-6E2E-4474-9585-1F6A50664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FDE77-5A52-4DD0-84EB-14CA2C6D1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D4092-C714-4CF7-B5D6-9401EF286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DE034-6D69-49B7-9B67-52D8CD510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A02FE-3DA1-4509-A65D-3371E57A2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87BB1-532D-4B90-940F-BD5B0B6A3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0F481-74C2-4FBE-AA89-BDD4CFBE9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CE9C2-87CF-42C6-A4FC-6B50F3858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2732B-697D-4331-9563-5E5221A3C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57305-D38C-4432-AEE6-F4AB28960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251037-1354-4895-B2EF-66A587C40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F3A44D-E0F4-45BA-80C8-C29A210E7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3481BD-87A3-4815-AFD7-942225BEAF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A71039-2D55-49DA-B2A9-BAF7AC349C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3F484C-AB75-47C3-B080-595C8746E2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F175E2-060D-46E9-A58D-661084F996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A0BB44-3084-4212-A8C0-9D8B0515B3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03299-82E5-4E0A-8E62-896993FD9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16AD52-F756-48A9-9975-3EB7F187F3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55B5A9-AC37-489D-9CC4-62D7787187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26847C-6978-415F-B6C3-499AD172FA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39C741-100F-4C73-9080-F94254CC5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C5CD77-143D-4824-85BA-A18D97D96A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7CB6F7-E06A-41FE-A126-0F12405F8D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DA2CC4-A08B-4B97-8820-BA8F64382A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5C0DB2-0749-47A9-A5AD-BE63DFAE41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BE5183-5331-40E5-BCBA-20C2355A1B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109BDA-1318-4367-A843-466A4F0013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8D8C3-1580-4205-B560-CE3C6E88C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92EA6D-C4D7-4ECA-9900-24396CA699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C2A510-D2DF-4278-9952-A20829F997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06DF91-1AF8-4A23-841F-604986FBEB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A7B3A8-783F-4217-9F99-787C326C69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16B13A-EE6E-4009-997E-E66A69F915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D312A-1072-4D55-AC46-3A5A36C081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877078-C839-44CA-8029-9867365A57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C3F3A3-BF50-44D1-99FF-BF230402FC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DDF837-708B-4AC9-AA69-CEA57FB774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2B61D-338A-4FE9-8414-48DD18237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74F45-856F-4BEA-83DF-608DBA13A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DB70A-A000-45DD-B206-B64DD9FCF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FC49B-4D9E-4F92-A5EE-1FDCB60E2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48507-16A2-4111-A834-D19F214E4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BA343-6F6E-4BFE-B98F-DFE99A6B4C77}" type="datetime">
              <a:rPr b="0" lang="ru-RU" sz="1200" spc="-1" strike="noStrike">
                <a:solidFill>
                  <a:srgbClr val="045c75"/>
                </a:solidFill>
                <a:latin typeface="Constantia"/>
              </a:rPr>
              <a:t>30.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45c75"/>
                </a:solidFill>
                <a:latin typeface="Constantia"/>
              </a:rPr>
              <a:t>www.sliderpoint.org</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FB77-F12E-493F-A762-7B07FEF420A1}"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227C-016C-4560-ABBE-B257B58E0CA5}" type="datetime">
              <a:rPr b="0" lang="ru-RU" sz="1200" spc="-1" strike="noStrike">
                <a:solidFill>
                  <a:srgbClr val="d1eaee"/>
                </a:solidFill>
                <a:latin typeface="Constantia"/>
              </a:rPr>
              <a:t>30.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1C4F-E1CC-4BC0-B62D-B0302EB73427}"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B222-84F3-4509-B358-9A3E2C661787}" type="datetime">
              <a:rPr b="0" lang="ru-RU" sz="1200" spc="-1" strike="noStrike">
                <a:solidFill>
                  <a:srgbClr val="d1eaee"/>
                </a:solidFill>
                <a:latin typeface="Constantia"/>
              </a:rPr>
              <a:t>30.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E3BA-5315-4623-B69A-79FEF6A7F02B}"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53F6-60EC-40DB-94F3-D2709EF08BB1}" type="datetime">
              <a:rPr b="0" lang="ru-RU" sz="1200" spc="-1" strike="noStrike">
                <a:solidFill>
                  <a:srgbClr val="045c75"/>
                </a:solidFill>
                <a:latin typeface="Constantia"/>
              </a:rPr>
              <a:t>30.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45c75"/>
                </a:solidFill>
                <a:latin typeface="Constantia"/>
              </a:rPr>
              <a:t>www.sliderpoint.org</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EAF0-BE00-4C4F-BDCA-F118185E7A8E}"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grandex.ru/medicine/text/3750.html" TargetMode="External"/><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grandex.ru/medicine/firm218/lit205/page10.html" TargetMode="External"/><Relationship Id="rId3" Type="http://schemas.openxmlformats.org/officeDocument/2006/relationships/image" Target="../media/image17.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grandex.ru/medicine/firm233/lit221/page1.html" TargetMode="External"/><Relationship Id="rId3" Type="http://schemas.openxmlformats.org/officeDocument/2006/relationships/image" Target="../media/image19.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00040" y="214200"/>
            <a:ext cx="8215200" cy="6500880"/>
          </a:xfrm>
          <a:prstGeom prst="rect">
            <a:avLst/>
          </a:prstGeom>
          <a:noFill/>
          <a:ln w="0">
            <a:noFill/>
          </a:ln>
        </p:spPr>
        <p:txBody>
          <a:bodyPr lIns="0" rIns="1836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nstantia"/>
              </a:rPr>
              <a:t> </a:t>
            </a: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Презентация на тему:</a:t>
            </a:r>
            <a:endParaRPr b="0" lang="en-US" sz="3200" spc="-1" strike="noStrike">
              <a:solidFill>
                <a:srgbClr val="ffffff"/>
              </a:solidFill>
              <a:latin typeface="Constant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onstantia"/>
              </a:rPr>
              <a:t>«Инфаркт миокарда»</a:t>
            </a:r>
            <a:endParaRPr b="0" lang="en-US" sz="32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542880" y="785880"/>
            <a:ext cx="7942320" cy="987480"/>
          </a:xfrm>
          <a:prstGeom prst="rect">
            <a:avLst/>
          </a:prstGeom>
          <a:ln w="0">
            <a:noFill/>
          </a:ln>
        </p:spPr>
      </p:pic>
      <p:sp>
        <p:nvSpPr>
          <p:cNvPr id="237"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Constantia"/>
              </a:rPr>
              <a:t>Активность MB-фракции "креатинфосфокиназа" (КФК) обычно повышается через 8—10 ч от начала инфаркта миокарда и возвращается к норме через 48 ч. Определение активности проводят каждые 6—8ч. Для исключения инфаркта миокарда необходимо по меньшей мере три отрицательных результата. Лечение начинают, не дожидаясь повышения активности КФК. Наиболее информативным при ИМ является "Тропонин" (Тп). Активность 1-го изофермента "лактатдегидрогеназа" (ЛДГ) становится выше на 3-и, — 5-е сутки ИМ. Активность ЛДГ определяют ежедневно в течение 3 сут, если больной поступает через 24ч после появления симптомов инфаркта миокарда. Если активность ЛДГ достигает пограничных значений или если больной поступает через 3 сут и более после появления симптомов, показана сцинтиграфия миокарда с 99m Tc-пирофосфатом.</a:t>
            </a:r>
            <a:br>
              <a:rPr sz="1200"/>
            </a:br>
            <a:br>
              <a:rPr sz="1200"/>
            </a:br>
            <a:endParaRPr b="0" lang="en-US" sz="1200" spc="-1" strike="noStrike">
              <a:solidFill>
                <a:srgbClr val="ffffff"/>
              </a:solidFill>
              <a:latin typeface="Constantia"/>
            </a:endParaRPr>
          </a:p>
        </p:txBody>
      </p:sp>
      <p:pic>
        <p:nvPicPr>
          <p:cNvPr id="238" name="Рисунок 3" descr="7G3J61CAJ1DSECCAGZ3OCDCAJF7BZKCATPZNEICABV6S4XCA36XN2LCA4OE6PZCA5UOM1PCACW8UK2CAZGZ4NFCA3QIB4KCAEXPA9RCAB17XVGCAY46M2QCAHRRZ15CAHLUEX4CANZVHWFCAV0ZDP6CANOLV64.jpg"/>
          <p:cNvPicPr/>
          <p:nvPr/>
        </p:nvPicPr>
        <p:blipFill>
          <a:blip r:embed="rId2"/>
          <a:stretch/>
        </p:blipFill>
        <p:spPr>
          <a:xfrm>
            <a:off x="3143160" y="4000680"/>
            <a:ext cx="2357640" cy="1571400"/>
          </a:xfrm>
          <a:prstGeom prst="rect">
            <a:avLst/>
          </a:prstGeom>
          <a:ln w="0">
            <a:noFill/>
          </a:ln>
        </p:spPr>
      </p:pic>
      <p:sp>
        <p:nvSpPr>
          <p:cNvPr id="23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Заголовок 1" descr=""/>
          <p:cNvPicPr/>
          <p:nvPr/>
        </p:nvPicPr>
        <p:blipFill>
          <a:blip r:embed="rId1"/>
          <a:stretch/>
        </p:blipFill>
        <p:spPr>
          <a:xfrm>
            <a:off x="542880" y="444600"/>
            <a:ext cx="7942320" cy="1055520"/>
          </a:xfrm>
          <a:prstGeom prst="rect">
            <a:avLst/>
          </a:prstGeom>
          <a:ln w="0">
            <a:noFill/>
          </a:ln>
        </p:spPr>
      </p:pic>
      <p:sp>
        <p:nvSpPr>
          <p:cNvPr id="241"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водят при затяжном болевом синдроме и отсутствии типичных изменений ЭКГ. Нарушения локальной сократимости указывают на ишемию или инфаркт миокарда (перенесенный или острый). Истончение стенки левого желудочка указывает на перенесенный инфаркт миокарда. При хорошей визуализации (когда виден весь эндокард) нормальная сократимость левого желудочка почти исключает инфаркт миокарда.</a:t>
            </a:r>
            <a:br>
              <a:rPr sz="1200"/>
            </a:br>
            <a:br>
              <a:rPr sz="1200"/>
            </a:br>
            <a:r>
              <a:rPr b="1" lang="ru-RU" sz="1200" spc="-1" strike="noStrike">
                <a:solidFill>
                  <a:srgbClr val="ffffff"/>
                </a:solidFill>
                <a:latin typeface="Constantia"/>
              </a:rPr>
              <a:t>Экстренная коронарная ангиография</a:t>
            </a:r>
            <a:r>
              <a:rPr b="0" lang="ru-RU" sz="1200" spc="-1" strike="noStrike">
                <a:solidFill>
                  <a:srgbClr val="ffffff"/>
                </a:solidFill>
                <a:latin typeface="Constantia"/>
              </a:rPr>
              <a:t> </a:t>
            </a:r>
            <a:br>
              <a:rPr sz="1200"/>
            </a:br>
            <a:r>
              <a:rPr b="0" lang="ru-RU" sz="1200" spc="-1" strike="noStrike">
                <a:solidFill>
                  <a:srgbClr val="ffffff"/>
                </a:solidFill>
                <a:latin typeface="Constantia"/>
              </a:rPr>
              <a:t>Проводится при наличии факторов риска ИБС и затяжном болевом синдроме, когда изменения ЭКГ не дают полной уверенности в диагнозе (депрессия сегмента ST, инверсия зубца T).</a:t>
            </a:r>
            <a:br>
              <a:rPr sz="1200"/>
            </a:br>
            <a:br>
              <a:rPr sz="1200"/>
            </a:br>
            <a:r>
              <a:rPr b="0" lang="ru-RU" sz="1200" spc="-1" strike="noStrike">
                <a:solidFill>
                  <a:srgbClr val="ffffff"/>
                </a:solidFill>
                <a:latin typeface="Constantia"/>
              </a:rPr>
              <a:t>Нарушения локальной сократимости левого желудочка (по данным вентрикулографии) и тромботическая окклюзия коронарной артерии подтверждают диагноз инфаркта миокарда.</a:t>
            </a:r>
            <a:br>
              <a:rPr sz="1200"/>
            </a:br>
            <a:br>
              <a:rPr sz="1200"/>
            </a:br>
            <a:r>
              <a:rPr b="0" lang="ru-RU" sz="1200" spc="-1" strike="noStrike">
                <a:solidFill>
                  <a:srgbClr val="ffffff"/>
                </a:solidFill>
                <a:latin typeface="Constantia"/>
              </a:rPr>
              <a:t>Для восстановления перфузии можно быстро провести баллонную коронарную ангиопластику.</a:t>
            </a:r>
            <a:br>
              <a:rPr sz="1200"/>
            </a:br>
            <a:r>
              <a:rPr b="0" lang="ru-RU" sz="1200" spc="-1" strike="noStrike">
                <a:solidFill>
                  <a:srgbClr val="ffffff"/>
                </a:solidFill>
                <a:latin typeface="Constantia"/>
              </a:rPr>
              <a:t> </a:t>
            </a:r>
            <a:br>
              <a:rPr sz="1200"/>
            </a:br>
            <a:endParaRPr b="0" lang="en-US" sz="1200" spc="-1" strike="noStrike">
              <a:solidFill>
                <a:srgbClr val="ffffff"/>
              </a:solidFill>
              <a:latin typeface="Constantia"/>
            </a:endParaRPr>
          </a:p>
        </p:txBody>
      </p:sp>
      <p:pic>
        <p:nvPicPr>
          <p:cNvPr id="242" name="Рисунок 3" descr="DXB3HBCAS7TJNKCAB2JKPTCAQ1X6AHCAFM9Z2KCATZRLV3CAU64P3JCAP8R7VRCAGKHZ0QCAEG1O6DCAQ4MCP2CA4RN63SCAMUKDYXCA6VP18FCASJKG0SCAMPA4YGCAF3PUOOCA3V568VCARDZEUTCAQ16Y42.jpg"/>
          <p:cNvPicPr/>
          <p:nvPr/>
        </p:nvPicPr>
        <p:blipFill>
          <a:blip r:embed="rId2"/>
          <a:stretch/>
        </p:blipFill>
        <p:spPr>
          <a:xfrm>
            <a:off x="3571920" y="4357800"/>
            <a:ext cx="1928880" cy="1409760"/>
          </a:xfrm>
          <a:prstGeom prst="rect">
            <a:avLst/>
          </a:prstGeom>
          <a:ln w="0">
            <a:noFill/>
          </a:ln>
        </p:spPr>
      </p:pic>
      <p:sp>
        <p:nvSpPr>
          <p:cNvPr id="24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Заголовок 1" descr=""/>
          <p:cNvPicPr/>
          <p:nvPr/>
        </p:nvPicPr>
        <p:blipFill>
          <a:blip r:embed="rId1"/>
          <a:stretch/>
        </p:blipFill>
        <p:spPr>
          <a:xfrm>
            <a:off x="317520" y="725400"/>
            <a:ext cx="8028000" cy="1060560"/>
          </a:xfrm>
          <a:prstGeom prst="rect">
            <a:avLst/>
          </a:prstGeom>
          <a:ln w="0">
            <a:noFill/>
          </a:ln>
        </p:spPr>
      </p:pic>
      <p:sp>
        <p:nvSpPr>
          <p:cNvPr id="245" name="PlaceHolder 1"/>
          <p:cNvSpPr>
            <a:spLocks noGrp="1"/>
          </p:cNvSpPr>
          <p:nvPr>
            <p:ph type="subTitle"/>
          </p:nvPr>
        </p:nvSpPr>
        <p:spPr>
          <a:xfrm>
            <a:off x="642960" y="1999800"/>
            <a:ext cx="8215200" cy="4643640"/>
          </a:xfrm>
          <a:prstGeom prst="rect">
            <a:avLst/>
          </a:prstGeom>
          <a:noFill/>
          <a:ln w="0">
            <a:noFill/>
          </a:ln>
        </p:spPr>
        <p:txBody>
          <a:bodyPr lIns="0" rIns="18360" anchor="t">
            <a:no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ю коронароангиографии является оценка наличия поврежденных венечных артерий, степени его тяжести и определение подходящего методалечения. Для этого используются специальные тонкие пластиковые зонды (или катетеры), которые вводятся внутрь в области паха через бедренную артерию (рис.3).</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Иногда процедура проводится через артерию запястья. Длинный тонкий зонд вводится в сердце, в места начала венечных артерий. Через катетер в венечные артерии вводится небольшое количество контрастного вещества - и кровеносные сосуды сердца делаются видимыми с помощью рентгеновских лучей. Эта процедура называется </a:t>
            </a:r>
            <a:r>
              <a:rPr b="1" lang="ru-RU" sz="1100" spc="-1" strike="noStrike">
                <a:solidFill>
                  <a:srgbClr val="ffffff"/>
                </a:solidFill>
                <a:latin typeface="Constantia"/>
              </a:rPr>
              <a:t>коронароангиографией.</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Во время процедуры Вы лежите под рентгеновским аппаратом. Аппарат двигается вокруг Вас и делает снимки венечных артерий под разным углом. За ходом исследования можно наблюдать на экран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Как подготовиться к исследованию:</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В случае плановой процедуры за 6 часов до исследования нельзя есть и пит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Спросите у своего врача, какие лекарства можно использовать в день исследован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Вы больны сахарным диабетом, то проконсультируйтесь со своим врачом об использовании антидиабетических лекарств.</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Возможные осложнен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Перед процедурой врач объяснит Вам связанные с исследованием риск и возможные осложнения. Для проведения исследования необходимо Ваше согласи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Одним из наиболее частых осложнений при коронароангиографии является возникновение кровоизлияния в месте введения катетера (в паху). Обычно это не опасно, и кровоизлияние рассасывается само в течение 1-2 недел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Проведение коронароангиографи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Во время исследования Вы лежите на специальном столе и находитесь в бодрствующем состоянии. Вы можете говорить с проводящим исследование врачом. При необходимости в малых количествах используется успокоительное лекарство.</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Для введения зонда в паховой области используется местное обезболивани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При введении контрастного вещества в венечные артерии Вы можете в течение нескольких секунд чувствовать в груди «горячую волну». Это не опасно. Врач может попросить Вас покашлять, это облегчает выведение контрастного вещества из кровеносных сосудов сердц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у Вас возникнет тошнота, боль в груди, зуд кожи или другое неприятное ощущение, то сразу скажите об этом врачу.</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исследование сделали через бедренную артерию, то после удаления катетера на это место в качестве тяжести будет наложен мешочек с песком сроком до 6 часов. Вы должны лежать до следующего утр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p:txBody>
      </p:sp>
      <p:pic>
        <p:nvPicPr>
          <p:cNvPr id="246" name="Picture 2" descr=""/>
          <p:cNvPicPr/>
          <p:nvPr/>
        </p:nvPicPr>
        <p:blipFill>
          <a:blip r:embed="rId2"/>
          <a:stretch/>
        </p:blipFill>
        <p:spPr>
          <a:xfrm>
            <a:off x="7500960" y="214200"/>
            <a:ext cx="1009800" cy="1962360"/>
          </a:xfrm>
          <a:prstGeom prst="rect">
            <a:avLst/>
          </a:prstGeom>
          <a:ln w="0">
            <a:noFill/>
          </a:ln>
        </p:spPr>
      </p:pic>
      <p:sp>
        <p:nvSpPr>
          <p:cNvPr id="24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Заголовок 1" descr=""/>
          <p:cNvPicPr/>
          <p:nvPr/>
        </p:nvPicPr>
        <p:blipFill>
          <a:blip r:embed="rId1"/>
          <a:stretch/>
        </p:blipFill>
        <p:spPr>
          <a:xfrm>
            <a:off x="573120" y="463680"/>
            <a:ext cx="7974000" cy="2182680"/>
          </a:xfrm>
          <a:prstGeom prst="rect">
            <a:avLst/>
          </a:prstGeom>
          <a:ln w="0">
            <a:noFill/>
          </a:ln>
        </p:spPr>
      </p:pic>
      <p:sp>
        <p:nvSpPr>
          <p:cNvPr id="249" name="PlaceHolder 1"/>
          <p:cNvSpPr>
            <a:spLocks noGrp="1"/>
          </p:cNvSpPr>
          <p:nvPr>
            <p:ph type="subTitle"/>
          </p:nvPr>
        </p:nvSpPr>
        <p:spPr>
          <a:xfrm>
            <a:off x="642960" y="1428480"/>
            <a:ext cx="8215200" cy="47862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Расширение венечной артерии - это лечебная процедура, во время которой сужен­ную или закрытую венечную артерию расширяют с помощью специального баллона (рис.4). Если во время коронароангиографии видна частично или полностью закрытая венечная артерия, то проводящий исследование врач решит, расширять ли это место с помощью катетера (это лечение не всегда оказывается возможным).</a:t>
            </a:r>
            <a:endParaRPr b="0" lang="en-US" sz="12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цедура расширения венечной артерии схожа с коронароангиографией. Врач разъяснит цели и возможные осложнения процедуры расширения венечной артерии и спросит согласие на процедуру. Врач введет до суженного места зонд, на конце которого находится сложенный баллон. Баллон заполняется жидкостью, и суженное место в венечной артерии расширяется.</a:t>
            </a:r>
            <a:endParaRPr b="0" lang="en-US" sz="1200" spc="-1" strike="noStrike">
              <a:solidFill>
                <a:srgbClr val="ffffff"/>
              </a:solidFill>
              <a:latin typeface="Constant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nstant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nstantia"/>
            </a:endParaRPr>
          </a:p>
        </p:txBody>
      </p:sp>
      <p:sp>
        <p:nvSpPr>
          <p:cNvPr id="2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1" descr=""/>
          <p:cNvPicPr/>
          <p:nvPr/>
        </p:nvPicPr>
        <p:blipFill>
          <a:blip r:embed="rId2"/>
          <a:stretch/>
        </p:blipFill>
        <p:spPr>
          <a:xfrm>
            <a:off x="642960" y="2357280"/>
            <a:ext cx="4667400" cy="1791000"/>
          </a:xfrm>
          <a:prstGeom prst="rect">
            <a:avLst/>
          </a:prstGeom>
          <a:ln w="0">
            <a:noFill/>
          </a:ln>
        </p:spPr>
      </p:pic>
      <p:sp>
        <p:nvSpPr>
          <p:cNvPr id="25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Заголовок 1" descr=""/>
          <p:cNvPicPr/>
          <p:nvPr/>
        </p:nvPicPr>
        <p:blipFill>
          <a:blip r:embed="rId1"/>
          <a:stretch/>
        </p:blipFill>
        <p:spPr>
          <a:xfrm>
            <a:off x="457200" y="6480"/>
            <a:ext cx="8028000" cy="1493640"/>
          </a:xfrm>
          <a:prstGeom prst="rect">
            <a:avLst/>
          </a:prstGeom>
          <a:ln w="0">
            <a:noFill/>
          </a:ln>
        </p:spPr>
      </p:pic>
      <p:sp>
        <p:nvSpPr>
          <p:cNvPr id="254"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Абдоминальная форма. Протекает по типу патологии ЖКТ с болями в подложечной области, в животе, с тошнотой, рвотой. Чаще всего гастралгическая форма (абдоминальная) инфаркта миокарда встречается при инфаркте задней стенки левого желудочка. В целом вариант редкий. ЭКГ отведения II, III, AVL.</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Астматическая форма: начинается с сердечной астмы и провоцирует отек легких как исход. Боли могут отсутствовать. Астматическая форма встречается чаще у пожилых людей с кардиосклерозом или при повторном инфаркте, или при очень обширных инфарктах.</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Мозговая форма: на первом плане симптомы нарушения мозгового кровообращения по типу инсульта с потерей сознания, встречается чаще у пожилых людей со склерозом сосудов головного мозг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Немая или безболевая форма иногда является случайной находкой при диспансеризации. Из клинических проявлений: вдруг стало </a:t>
            </a:r>
            <a:r>
              <a:rPr b="0" lang="ja-JP" sz="1200" spc="-1" strike="noStrike">
                <a:solidFill>
                  <a:srgbClr val="ffffff"/>
                </a:solidFill>
                <a:latin typeface="Constantia"/>
                <a:ea typeface="MS PGothic"/>
              </a:rPr>
              <a:t>“</a:t>
            </a:r>
            <a:r>
              <a:rPr b="0" lang="ru-RU" sz="1200" spc="-1" strike="noStrike">
                <a:solidFill>
                  <a:srgbClr val="ffffff"/>
                </a:solidFill>
                <a:latin typeface="Constantia"/>
              </a:rPr>
              <a:t>дурно</a:t>
            </a:r>
            <a:r>
              <a:rPr b="0" lang="ja-JP" sz="1200" spc="-1" strike="noStrike">
                <a:solidFill>
                  <a:srgbClr val="ffffff"/>
                </a:solidFill>
                <a:latin typeface="Constantia"/>
                <a:ea typeface="MS PGothic"/>
              </a:rPr>
              <a:t>”</a:t>
            </a:r>
            <a:r>
              <a:rPr b="0" lang="ru-RU" sz="1200" spc="-1" strike="noStrike">
                <a:solidFill>
                  <a:srgbClr val="ffffff"/>
                </a:solidFill>
                <a:latin typeface="Constantia"/>
              </a:rPr>
              <a:t>, возникла резкая слабость, липкий пот, затем все, кроме слабости, проходит. Такая ситуация характерна для инфаркта в пожилом возрасте и при повторных инфарктах миокард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Аритмическая форма: главный признак пароксизмальная тахикардия, болевой синдром может отсутствова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6.</a:t>
            </a:r>
            <a:r>
              <a:rPr b="0" lang="ru-RU" sz="1200" spc="-1" strike="noStrike">
                <a:solidFill>
                  <a:srgbClr val="ffffff"/>
                </a:solidFill>
                <a:latin typeface="Constantia"/>
              </a:rPr>
              <a:t>	</a:t>
            </a:r>
            <a:r>
              <a:rPr b="0" lang="ru-RU" sz="1200" spc="-1" strike="noStrike">
                <a:solidFill>
                  <a:srgbClr val="ffffff"/>
                </a:solidFill>
                <a:latin typeface="Constantia"/>
              </a:rPr>
              <a:t>Тромбоэмболическа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миокарда очень тяжелое заболевание с частым летальным исходом, особенно часты осложнения в I и II периодах.</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Constantia"/>
              </a:rPr>
              <a:t> </a:t>
            </a:r>
            <a:br>
              <a:rPr sz="1200"/>
            </a:br>
            <a:endParaRPr b="0" lang="en-US" sz="1200" spc="-1" strike="noStrike">
              <a:solidFill>
                <a:srgbClr val="ffffff"/>
              </a:solidFill>
              <a:latin typeface="Constantia"/>
            </a:endParaRPr>
          </a:p>
        </p:txBody>
      </p:sp>
      <p:pic>
        <p:nvPicPr>
          <p:cNvPr id="255" name="Рисунок 4" descr="3M620SCA2QWDC1CAJZ5O1MCAVYPTW9CA71YZFXCAS25GF8CA07DCXZCAR4H9S6CAK40PTGCAK5W6ZJCA8FCOD0CAMOW3C0CAUG69YICAJAQ9GHCAEO5ZKJCA3NC3LJCA4O4VD3CAUUMB8CCA307J3YCALTIPQ5.jpg"/>
          <p:cNvPicPr/>
          <p:nvPr/>
        </p:nvPicPr>
        <p:blipFill>
          <a:blip r:embed="rId2"/>
          <a:stretch/>
        </p:blipFill>
        <p:spPr>
          <a:xfrm>
            <a:off x="4071960" y="4857840"/>
            <a:ext cx="1214280" cy="1457280"/>
          </a:xfrm>
          <a:prstGeom prst="rect">
            <a:avLst/>
          </a:prstGeom>
          <a:ln w="0">
            <a:noFill/>
          </a:ln>
        </p:spPr>
      </p:pic>
      <p:sp>
        <p:nvSpPr>
          <p:cNvPr id="25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Заголовок 1" descr=""/>
          <p:cNvPicPr/>
          <p:nvPr/>
        </p:nvPicPr>
        <p:blipFill>
          <a:blip r:embed="rId1"/>
          <a:stretch/>
        </p:blipFill>
        <p:spPr>
          <a:xfrm>
            <a:off x="542880" y="444600"/>
            <a:ext cx="7942320" cy="1055520"/>
          </a:xfrm>
          <a:prstGeom prst="rect">
            <a:avLst/>
          </a:prstGeom>
          <a:ln w="0">
            <a:noFill/>
          </a:ln>
        </p:spPr>
      </p:pic>
      <p:sp>
        <p:nvSpPr>
          <p:cNvPr id="258"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 период</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Нарушения ритма сердца, особенно опасны все желудочковые артерии (желудочковая форма пароксизмальной тахикардии, политропные желудочковые экстрасистолии и т.д.)  Это может привести к фибрилляции желудочков (клиническая смерть), к остановке сердца. При этом необходимы срочные реабилитационные мероприятия, фибрилляция желудочков может произойти и в прединфарктный период.</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Нарушения атриовентрикулярной проводимости: например, по типу истинной электро-механической диссоциации. Чаще возникает при передне-  и заднеперегородочных формах инфаркта миокард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Острая левожелудочковая недостаточность: отек легких, сердечная астм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Рефлекторный - происходит падение АД, больной вялый, заторможенный, кожа с сероватым оттенком, холодный профузный пот. Причина - болевое раздражение.</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Аритмический - на фоне нарушения ритм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Истинный - самый неблагоприятный, летальность при нем достигает 9О%.</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основе истинного кардиогенного шока лежит резкое нарушение сократительной способности миокарда при обширных его повреждениях, что приводит к резкому уменьшению сердечногог выброса, минутный объем падает до 2,5 л/мин. Чтобы сдержать падение АД, компенсаторно происходит спазм периферических сосудов, однако он недочтаточен для поддержания микроциркуляции и нормального уровня АД. Резко замедляется кровоток на периферии, образуеются  микротромбы (при инфаркте миокарда повышена свертываемость + замедленный кровоток). Следствием микротромбообразования является капилляростаз, появляются открытые артериовенозные шунты, начинают страдать обменные процессы, происходит накопление в крови и в тканях недоокисленных продуктов, которые резко увеличивают проницаемость капилляров. Начинается пропотевание жидкой части плазмы крови вследствие тканевого ацидоза. Это приводит к уменьшению ОЦК, уменьшается венозный возврат к сердцу, минутный объем падает еще больше - замыкается порочный круг. В крови наблюдается ацидоз, который еще больше ухудшает работу сердц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линика истинного шока: Слабость, заторможенность - практически ступор. АД падает до 8О мм рт.ст. и ниже, но не всегда так четко. Пульсовое давление обязательно меньше 25 мм рт.ст.  Кожа холодная, землисто-серая, иногда пятнистая, влажная вследствие капилляростаза. Пульс нитевидный, часто аритмичный. Резко падает диурез, вплоть до анурии.</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Нарушения ЖКТ: парез желудка и кишечника чаще при кардиогенном шоке, желудочное кровотечение. Связаны с увеличением количества глюкокортикоидов.</a:t>
            </a:r>
            <a:endParaRPr b="0" lang="en-US" sz="1200" spc="-1" strike="noStrike">
              <a:solidFill>
                <a:srgbClr val="ffffff"/>
              </a:solidFill>
              <a:latin typeface="Constantia"/>
            </a:endParaRPr>
          </a:p>
        </p:txBody>
      </p:sp>
      <p:sp>
        <p:nvSpPr>
          <p:cNvPr id="25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Заголовок 1" descr=""/>
          <p:cNvPicPr/>
          <p:nvPr/>
        </p:nvPicPr>
        <p:blipFill>
          <a:blip r:embed="rId1"/>
          <a:stretch/>
        </p:blipFill>
        <p:spPr>
          <a:xfrm>
            <a:off x="542880" y="444600"/>
            <a:ext cx="7942320" cy="1055520"/>
          </a:xfrm>
          <a:prstGeom prst="rect">
            <a:avLst/>
          </a:prstGeom>
          <a:ln w="0">
            <a:noFill/>
          </a:ln>
        </p:spPr>
      </p:pic>
      <p:sp>
        <p:nvSpPr>
          <p:cNvPr id="261"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ffffff"/>
                </a:solidFill>
                <a:latin typeface="Constantia"/>
              </a:rPr>
              <a:t>II период</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Возможны все 5 предыдущих осложнений + собственно осложнения II перио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1.</a:t>
            </a:r>
            <a:r>
              <a:rPr b="0" lang="ru-RU" sz="900" spc="-1" strike="noStrike">
                <a:solidFill>
                  <a:srgbClr val="ffffff"/>
                </a:solidFill>
                <a:latin typeface="Constantia"/>
              </a:rPr>
              <a:t>	</a:t>
            </a:r>
            <a:r>
              <a:rPr b="0" lang="ru-RU" sz="900" spc="-1" strike="noStrike">
                <a:solidFill>
                  <a:srgbClr val="ffffff"/>
                </a:solidFill>
                <a:latin typeface="Constantia"/>
              </a:rPr>
              <a:t>Перикардит: возникает при развитии некроза на перикарде, обычно на 2-3 день от начала заболевания. Усиливаются или вновь появляются боли за грудиной, постоянные, пульсирующие, на вдохе боль усиливается, меняется при изменении положения тела и при движении. Одновременно появляется шум трения перикар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2.</a:t>
            </a:r>
            <a:r>
              <a:rPr b="0" lang="ru-RU" sz="900" spc="-1" strike="noStrike">
                <a:solidFill>
                  <a:srgbClr val="ffffff"/>
                </a:solidFill>
                <a:latin typeface="Constantia"/>
              </a:rPr>
              <a:t>	</a:t>
            </a:r>
            <a:r>
              <a:rPr b="0" lang="ru-RU" sz="900" spc="-1" strike="noStrike">
                <a:solidFill>
                  <a:srgbClr val="ffffff"/>
                </a:solidFill>
                <a:latin typeface="Constantia"/>
              </a:rPr>
              <a:t>Пристеночный тромбоэндокардит: возникает при трансмуральном инфаркте с вовлечением в некротический процесс эндокарда. Длительно сохраняются признаки воспаления или появляются вновь после некоторого спокойного периода. Основным исходом данного состояния является тромбоэмболия в сосуды головного мозга, конечности и в другие сосуды большого круга кровообращения. Диагностируется при вентрикулографии, сканировании.</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3.</a:t>
            </a:r>
            <a:r>
              <a:rPr b="0" lang="ru-RU" sz="900" spc="-1" strike="noStrike">
                <a:solidFill>
                  <a:srgbClr val="ffffff"/>
                </a:solidFill>
                <a:latin typeface="Constantia"/>
              </a:rPr>
              <a:t>	</a:t>
            </a:r>
            <a:r>
              <a:rPr b="0" lang="ru-RU" sz="900" spc="-1" strike="noStrike">
                <a:solidFill>
                  <a:srgbClr val="ffffff"/>
                </a:solidFill>
                <a:latin typeface="Constantia"/>
              </a:rPr>
              <a:t>Разрывы миокарда, наружные и внутренние.</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а) Наружный, с тампонадой перикарда. Обычно имеет париод предвестников: рецидивирующие боли, не поддающиеся анальгетикам. Сам разрыв сопровождается сильнейшей болью, и через несколько секунд больной теряет сознание. Сопровождается резчайшим цианозом. Если больной не погибает в момент разрыва, развивается тяжелый кардиогенный шок, связанный с тампонадой сердца. Длительность жизни с момента разрыва исчисляется минутами, в некоторых случаях часами. В исключительно редких случаях прикрытой перфорации (кровоизлияние в осумкованный участок полости перикарда), больные живут несколько дней и даже месяцев.</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б) Внутренний разрыв - отрыв папиллярной мышцы, чаще всего бывает при инфаркте задней стенки. Отрыв мышцы приводит к острой клапанной недостаточности (митральной). Резчайшая боль и кардиогенный шок. Развивается острая левожелудочковая недостаточность (отек легких), границы сердца резко увеличены влево. Характерен грубый систолический шум с эпицентром на верхушке сердца, проводящийся в подмышечную область. На верхушке часто удается обнаружить и систолическое дрожание. На ФКГ лентообразный шум между I и II тонами. Часто наступает смерть от острой левожелудочковой недостаточности. Необходимо срочное оперативное вмешательство.</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в) Внутренний разрыв межпредсердной перегородки встречается редко. Внезапный коллапс, вслед за которым быстро нарастают явления острой левожелудочковой недостаточности.</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г) Внутренний разрыв межжелудочковой перегородки: внезапный коллапс, одышка, цианоз, увеличение сердца вправо, увеличение печени, набухание шейных вен, грубый систолический шум над грудиной + систолическое дрожание + диастолический шум - признаки острой застойной правожелудочковой недостаточности. Нередки нарушенияы ритма сердца и проводимости (полная поперечная блокада). Часты летальные исходы.</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4.</a:t>
            </a:r>
            <a:r>
              <a:rPr b="0" lang="ru-RU" sz="900" spc="-1" strike="noStrike">
                <a:solidFill>
                  <a:srgbClr val="ffffff"/>
                </a:solidFill>
                <a:latin typeface="Constantia"/>
              </a:rPr>
              <a:t>	</a:t>
            </a:r>
            <a:r>
              <a:rPr b="0" lang="ru-RU" sz="900" spc="-1" strike="noStrike">
                <a:solidFill>
                  <a:srgbClr val="ffffff"/>
                </a:solidFill>
                <a:latin typeface="Constantia"/>
              </a:rPr>
              <a:t>Острая аневризма сердца: по клиническим проявлениям соответствует той или иной степени острой сердечной недостаточности. Наиболее частая локализация постинфарктных аневризм - левый желудочек, его передняя стенка и верхушка. Развитию аневризмы способствуют глубокий и протяженный инфаркт миокарда, повторный инфаркт миокарда, артериальная гипертония, сердечная недостаточность. Острая аневризма сердца возникает при трансмуральном инфаркте миокарда в период миомаляции. Признаки: нарастающая левожелудочковая недостаточность, увеличение границ сердца и его объема; надверхушечная пульсация или симптом коромысла (надверхушечная пульсация + верхушечный толчок), если аневризма формируется на передней стенке сердца; протодиастолический ритм галопа, добавочный  III тон; систолический шум, иногда шум </a:t>
            </a:r>
            <a:r>
              <a:rPr b="0" lang="ja-JP" sz="900" spc="-1" strike="noStrike">
                <a:solidFill>
                  <a:srgbClr val="ffffff"/>
                </a:solidFill>
                <a:latin typeface="Constantia"/>
                <a:ea typeface="MS PGothic"/>
              </a:rPr>
              <a:t>“</a:t>
            </a:r>
            <a:r>
              <a:rPr b="0" lang="ru-RU" sz="900" spc="-1" strike="noStrike">
                <a:solidFill>
                  <a:srgbClr val="ffffff"/>
                </a:solidFill>
                <a:latin typeface="Constantia"/>
              </a:rPr>
              <a:t>волчка</a:t>
            </a:r>
            <a:r>
              <a:rPr b="0" lang="ja-JP" sz="900" spc="-1" strike="noStrike">
                <a:solidFill>
                  <a:srgbClr val="ffffff"/>
                </a:solidFill>
                <a:latin typeface="Constantia"/>
                <a:ea typeface="MS PGothic"/>
              </a:rPr>
              <a:t>”</a:t>
            </a:r>
            <a:r>
              <a:rPr b="0" lang="ru-RU" sz="900" spc="-1" strike="noStrike">
                <a:solidFill>
                  <a:srgbClr val="ffffff"/>
                </a:solidFill>
                <a:latin typeface="Constantia"/>
              </a:rPr>
              <a:t>; несоответствие между сильной пульсацией сердца и слабым наполнением пульса; на ЭКГ нет зубца Р, появляется широкий Q, отрицательный зубец Т - то есть сохраняются ранние призхнаки инфаркта миокар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Наиболее достоверна вентрикулография. Лечение оперативное. Аневризма часто приводит к разрыву, смерти от острой сердечной недостаточности</a:t>
            </a:r>
            <a:endParaRPr b="0" lang="en-US" sz="900" spc="-1" strike="noStrike">
              <a:solidFill>
                <a:srgbClr val="ffffff"/>
              </a:solidFill>
              <a:latin typeface="Constantia"/>
            </a:endParaRPr>
          </a:p>
        </p:txBody>
      </p:sp>
      <p:sp>
        <p:nvSpPr>
          <p:cNvPr id="26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Заголовок 1" descr=""/>
          <p:cNvPicPr/>
          <p:nvPr/>
        </p:nvPicPr>
        <p:blipFill>
          <a:blip r:embed="rId1"/>
          <a:stretch/>
        </p:blipFill>
        <p:spPr>
          <a:xfrm>
            <a:off x="542880" y="444600"/>
            <a:ext cx="7942320" cy="1055520"/>
          </a:xfrm>
          <a:prstGeom prst="rect">
            <a:avLst/>
          </a:prstGeom>
          <a:ln w="0">
            <a:noFill/>
          </a:ln>
        </p:spPr>
      </p:pic>
      <p:sp>
        <p:nvSpPr>
          <p:cNvPr id="264"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II период</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Хроническая аневризма сердца возникает в результате растяжения постинфарктного рубца. Появляются или долго сохраняются признаки воспаления. Увеличение размеров сердца, надверхушечная пульсация. Аускультативно двойной систолический или диастолический шум - систоло-диастолический шум. На ЭКГ застывшая форма кривой острой фазы. Помогает нерентгенологическое исследова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Синдром Дресслера или постинфарктный синдром. Связан с сенсибилизацией организма продуктами аутолиза некротизированных масс, которые в данном случае выступают в роли аутоантигенов. Осложнение появляется не раньше 2-6 недели от начала заболевания, что доказывает аллергический механизм его возникновения. Возникают генерализованные поражения серозных оболочек (полисерозиты), иногда вовлекаются синовиальные оболочки. Клинически это перикардит, плеврит, поражение суставов, чаще всего левого плечевого сустава. Перикардит возникает вначале как сухой, затем переходит в экссудативный. Характерны боли за грудиной, в боку (связаны с поражением перикарда и плевры).  Подъем температуры        до  4О</a:t>
            </a:r>
            <a:r>
              <a:rPr b="0" lang="ru-RU" sz="1200" spc="-1" strike="noStrike" baseline="30000">
                <a:solidFill>
                  <a:srgbClr val="ffffff"/>
                </a:solidFill>
                <a:latin typeface="Constantia"/>
              </a:rPr>
              <a:t>о</a:t>
            </a:r>
            <a:r>
              <a:rPr b="0" lang="ru-RU" sz="1200" spc="-1" strike="noStrike">
                <a:solidFill>
                  <a:srgbClr val="ffffff"/>
                </a:solidFill>
                <a:latin typeface="Constantia"/>
              </a:rPr>
              <a:t>С , лихорадка часто носит волнообразный характер, Болезненность и припухлость в грудинно-реберных и грудинно-ключичных сочленениях. Часто ускоренное СОЭ, лейкоцитоз, эозинофилия. Объективно признаки перикардита, плеврита. Угрозы для жизни больного данное осложнение не представляет. Может также протекать в редуцированной форме, в таких случаях иногда трудно дифференцировать с-м Дресслера с повторным инфарктом миокарда. При назначении глюкокортикоидов симптомы быстро исчезаю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Тромбоэмболические осложнения: чаще в малом кругу кровообращения. Эмболы при этом в легочную артерию попадают из вен при тромбофлебите нижних конечностей, вен таза. Осложнение возникает, когда больные начинают лдвигаться после длительного постельного режим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явления тромбоэмболии легочной артерии: коллапс, легочная гипертензия с акцентом II тона над легочной артерией, тахикардия, перегрузка правого сердца, блокада правой ножки пучка Гисса. Рентгенологически выявляются признаки инфаркт-пневмонии. Необходимо провести ангиопульмонографию, так как для своевременного хирургического лечения необходим точный топический диагноз. Профилактика заключается в активном ведении больного.</a:t>
            </a:r>
            <a:endParaRPr b="0" lang="en-US" sz="12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Постинфарктная стенокардия. О ней говорят в том случае, если до инфаркта приступов стенокардии не было, а впервые возникли после перенесенного инфаркта миокарда. Она делает прогноз более серьезным</a:t>
            </a:r>
            <a:r>
              <a:rPr b="0" lang="ru-RU" sz="900" spc="-1" strike="noStrike">
                <a:solidFill>
                  <a:srgbClr val="ffffff"/>
                </a:solidFill>
                <a:latin typeface="Constantia"/>
              </a:rPr>
              <a:t>.</a:t>
            </a:r>
            <a:endParaRPr b="0" lang="en-US" sz="900" spc="-1" strike="noStrike">
              <a:solidFill>
                <a:srgbClr val="ffffff"/>
              </a:solidFill>
              <a:latin typeface="Constantia"/>
            </a:endParaRPr>
          </a:p>
        </p:txBody>
      </p:sp>
      <p:sp>
        <p:nvSpPr>
          <p:cNvPr id="26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Заголовок 1" descr=""/>
          <p:cNvPicPr/>
          <p:nvPr/>
        </p:nvPicPr>
        <p:blipFill>
          <a:blip r:embed="rId1"/>
          <a:stretch/>
        </p:blipFill>
        <p:spPr>
          <a:xfrm>
            <a:off x="542880" y="444600"/>
            <a:ext cx="7942320" cy="1055520"/>
          </a:xfrm>
          <a:prstGeom prst="rect">
            <a:avLst/>
          </a:prstGeom>
          <a:ln w="0">
            <a:noFill/>
          </a:ln>
        </p:spPr>
      </p:pic>
      <p:sp>
        <p:nvSpPr>
          <p:cNvPr id="267"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IV период </a:t>
            </a:r>
            <a:endParaRPr b="0" lang="en-US" sz="12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Осложнения периода реабилитации относятся к осложнениям ИБС.</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ардиосклероз постинфарктный. Это уже исход инфаркта миокарда, связанный с формированием рубца. Иногда его еще называют ишемической кардиопатией. Основные проявления: нарушения ритма, проводимости, сократительной способности миокарда. Наиболее частая локализация - верхушка и передняя стенк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pic>
        <p:nvPicPr>
          <p:cNvPr id="268" name="Рисунок 7" descr="9GKJE2CAW8S1I4CA53FAULCAM1KMIECA4Q6ZOUCAGIF8DECA02EHZHCARRD8TQCAJ70XVNCA9UDD5SCAQ50SAECA1HGJARCAEUFPW5CAMEOMJOCA8BWRSBCA9LPK8UCAR6YUUYCARAX9XZCALQM02HCA2S4V8V.jpg"/>
          <p:cNvPicPr/>
          <p:nvPr/>
        </p:nvPicPr>
        <p:blipFill>
          <a:blip r:embed="rId2"/>
          <a:stretch/>
        </p:blipFill>
        <p:spPr>
          <a:xfrm>
            <a:off x="3071880" y="2928960"/>
            <a:ext cx="2000160" cy="1333440"/>
          </a:xfrm>
          <a:prstGeom prst="rect">
            <a:avLst/>
          </a:prstGeom>
          <a:ln w="0">
            <a:noFill/>
          </a:ln>
        </p:spPr>
      </p:pic>
      <p:sp>
        <p:nvSpPr>
          <p:cNvPr id="26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Заголовок 1" descr=""/>
          <p:cNvPicPr/>
          <p:nvPr/>
        </p:nvPicPr>
        <p:blipFill>
          <a:blip r:embed="rId1"/>
          <a:stretch/>
        </p:blipFill>
        <p:spPr>
          <a:xfrm>
            <a:off x="244440" y="-139680"/>
            <a:ext cx="8240760" cy="1352520"/>
          </a:xfrm>
          <a:prstGeom prst="rect">
            <a:avLst/>
          </a:prstGeom>
          <a:ln w="0">
            <a:noFill/>
          </a:ln>
        </p:spPr>
      </p:pic>
      <p:sp>
        <p:nvSpPr>
          <p:cNvPr id="27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Стенокардия. При инфаркте боли носят нарастающий характер, большей интенсивности, больные возбуждены, беспокойны, а при стенокардии - заторможены. При инфаркте нет эффекта от нитроглицерина, боли длительные, иногда часами; при стенокардии четкая иррадиация болей, при инфаркте - обширная.  Наличие сердечно-сосудистой недостаточности более свойственно инфаркту миокарда. Окончательная диагностика - по ЭКГ.</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страя коронарная недостаточность. Это - затянувшийся приступ стенокардии с явлениями очаговой дистрофии миокарда., то есть промежуточная форма. Длительность болей от 15 мин до 1 часа, не более: эффекта от нитроглицерина тоже нет. Изменения ЭКГ характеризуются смещением сегмента ST ниже изолинии, появляется отрицательный зубец Т. В отличие от стенокардии, после окончания приступа изменения ЭКГ остаются, а в отличие от инфаркта миокарда изменения держатся только 1-3 дня и полностью обратимы. Нет повышения активности фермсентов, так как нет некроз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Перикардит. Болевой синдром весьма сходен с таковым при инфаркте миокарда. Боль длительная, постоянная, пульсирующая, но нет нарастающего, волнообразного характера боли. Нет предвестников (нестабильной стенокардии). Боли четко связаны с дыханием и положением тела. Признаки воспаления: повышение температуры, лейкоцитоз. Появляются не после начала болей, а предшествуют, или появляются вместе с ними. Шум трения перикарда долго сохраняется. На ЭКГ смещение сегмента ST выше изолинии, как и при инфаркте миокарда, но нет дискордантности и патологического зубца Q - главного признака инфаркта миокарда; подъем сегмента ST происходит практически во всех отведениях, так как изменения в сердце носят диффузный характер, а не очаговый, как при инфаркте. При перикардите при возвращении сегмента ST на изолинию зубец Т остается положительным, при инфаркте - отрицательны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27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Заголовок 1" descr=""/>
          <p:cNvPicPr/>
          <p:nvPr/>
        </p:nvPicPr>
        <p:blipFill>
          <a:blip r:embed="rId1"/>
          <a:stretch/>
        </p:blipFill>
        <p:spPr>
          <a:xfrm>
            <a:off x="152280" y="603360"/>
            <a:ext cx="8193240" cy="1414440"/>
          </a:xfrm>
          <a:prstGeom prst="rect">
            <a:avLst/>
          </a:prstGeom>
          <a:ln w="0">
            <a:noFill/>
          </a:ln>
        </p:spPr>
      </p:pic>
      <p:sp>
        <p:nvSpPr>
          <p:cNvPr id="205" name="PlaceHolder 1"/>
          <p:cNvSpPr>
            <a:spLocks noGrp="1"/>
          </p:cNvSpPr>
          <p:nvPr>
            <p:ph type="subTitle"/>
          </p:nvPr>
        </p:nvSpPr>
        <p:spPr>
          <a:xfrm>
            <a:off x="856800" y="2356920"/>
            <a:ext cx="7643880" cy="4357800"/>
          </a:xfrm>
          <a:prstGeom prst="rect">
            <a:avLst/>
          </a:prstGeom>
          <a:noFill/>
          <a:ln w="0">
            <a:noFill/>
          </a:ln>
        </p:spPr>
        <p:txBody>
          <a:bodyPr lIns="0" rIns="1836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onstantia"/>
              </a:rPr>
              <a:t>Инфаркт миокарда</a:t>
            </a:r>
            <a:r>
              <a:rPr b="0" lang="ru-RU" sz="1600" spc="-1" strike="noStrike">
                <a:solidFill>
                  <a:srgbClr val="ffffff"/>
                </a:solidFill>
                <a:latin typeface="Constantia"/>
              </a:rPr>
              <a:t> - это тяжелое заболевание, характеризующееся гибелью части сократительных клеток миокарда с последующим замещением погибших (некротизированных) клеток грубой соединительной тканью (т.е. формированием постинфарктного рубца).</a:t>
            </a:r>
            <a:br>
              <a:rPr sz="1600"/>
            </a:br>
            <a:br>
              <a:rPr sz="1600"/>
            </a:br>
            <a:r>
              <a:rPr b="1" lang="ru-RU" sz="1600" spc="-1" strike="noStrike">
                <a:solidFill>
                  <a:srgbClr val="ffffff"/>
                </a:solidFill>
                <a:latin typeface="Constantia"/>
              </a:rPr>
              <a:t>Гибель клеток</a:t>
            </a:r>
            <a:r>
              <a:rPr b="0" lang="ru-RU" sz="1600" spc="-1" strike="noStrike">
                <a:solidFill>
                  <a:srgbClr val="ffffff"/>
                </a:solidFill>
                <a:latin typeface="Constantia"/>
              </a:rPr>
              <a:t> (некроз) происходит в результате продолжающейся ишемии миокарда и развитием необратимых изменений в клетках вследствие нарушения их метаболизма.</a:t>
            </a:r>
            <a:br>
              <a:rPr sz="1600"/>
            </a:br>
            <a:br>
              <a:rPr sz="1600"/>
            </a:br>
            <a:r>
              <a:rPr b="0" lang="ru-RU" sz="1600" spc="-1" strike="noStrike">
                <a:solidFill>
                  <a:srgbClr val="ffffff"/>
                </a:solidFill>
                <a:latin typeface="Constantia"/>
              </a:rPr>
              <a:t>Наиболее общая классификация миокарда подразумевает выделение крупно- и мелкоочагового инфаркта (по размерам очагового поражения), различных вариантов локализации некротического очага инфаркта миокарда (обычно говорят - локализация инфаркта миокарда), а также острого, подострого периодов и периода рубцевания (по времени и стадиям течения).</a:t>
            </a:r>
            <a:br>
              <a:rPr sz="1600"/>
            </a:br>
            <a:br>
              <a:rPr sz="1600"/>
            </a:br>
            <a:r>
              <a:rPr b="0" lang="ru-RU" sz="1600" spc="-1" strike="noStrike">
                <a:solidFill>
                  <a:srgbClr val="ffffff"/>
                </a:solidFill>
                <a:latin typeface="Constantia"/>
              </a:rPr>
              <a:t>Кроме этого, выделяют еще несколько критериев, по которым также проводится классификационное выделение различных форм инфаркта, но все это мы рассмотрим подробнее по ходу обсуждения. Пока же нам нужно определиться с общими закономерностями возникновения и течения инфаркта миокарда. </a:t>
            </a:r>
            <a:br>
              <a:rPr sz="1600"/>
            </a:br>
            <a:br>
              <a:rPr sz="1600"/>
            </a:br>
            <a:endParaRPr b="0" lang="en-US" sz="1600" spc="-1" strike="noStrike">
              <a:solidFill>
                <a:srgbClr val="ffffff"/>
              </a:solidFill>
              <a:latin typeface="Constantia"/>
            </a:endParaRPr>
          </a:p>
        </p:txBody>
      </p:sp>
      <p:pic>
        <p:nvPicPr>
          <p:cNvPr id="206" name="Рисунок 3" descr="Инфаркт миокарда"/>
          <p:cNvPicPr/>
          <p:nvPr/>
        </p:nvPicPr>
        <p:blipFill>
          <a:blip r:embed="rId2"/>
          <a:stretch/>
        </p:blipFill>
        <p:spPr>
          <a:xfrm>
            <a:off x="6199200" y="237960"/>
            <a:ext cx="2365200" cy="3022920"/>
          </a:xfrm>
          <a:prstGeom prst="rect">
            <a:avLst/>
          </a:prstGeom>
          <a:ln w="0">
            <a:noFill/>
          </a:ln>
        </p:spPr>
      </p:pic>
      <p:sp>
        <p:nvSpPr>
          <p:cNvPr id="20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Заголовок 1" descr=""/>
          <p:cNvPicPr/>
          <p:nvPr/>
        </p:nvPicPr>
        <p:blipFill>
          <a:blip r:embed="rId1"/>
          <a:stretch/>
        </p:blipFill>
        <p:spPr>
          <a:xfrm>
            <a:off x="244440" y="-139680"/>
            <a:ext cx="8240760" cy="1352520"/>
          </a:xfrm>
          <a:prstGeom prst="rect">
            <a:avLst/>
          </a:prstGeom>
          <a:ln w="0">
            <a:noFill/>
          </a:ln>
        </p:spPr>
      </p:pic>
      <p:sp>
        <p:nvSpPr>
          <p:cNvPr id="27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Эмболия ствола легочной артерии (как самостоятельное заболевание, а не осложнение инфаркта миокарда). Возникает остро, резко ухудшается состояние больного. Острые загрудинные боли, охватывающие всю грудную клетку, на первый план выступает дыхательная недостаточность: приступ удушья, диффузный цианоз. Причиной эмболии бывают мерцательная аритмия, тромбофлебит, оперативные вмешательства на органах малого таза и др. Чаще наблюдается эмболия правой легочной артерии, поэтому боли больше отдают вправо, а не влев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знаки острой сердечной недостаточности по правожелудочковому типу: одышка, цианоз, увеличение печени. Акцент II тона на легочной артерии, иногда набухание шейных вен. ЭКГ напоминает инфаркт в правых I и II грудных отведениях, есть признаки перегрузки правого сердца, может быть блокада ножки пучка Гисса.  Изменения исчезают через 2-3 дн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Эмболия часто приводит к инфаркту легкого: хрипы, шум трения плевры, признаки воспаления, реже наблюдается кровохарканье. Рентгенологически изменения клиновидной формы, чаще справа внизу.</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Расслаивающаяся аневризма аорты. Чаще всего возникает у больных с высокой артериальной гипертензией. Нет периода предвестников, боль сразу же носит острый характер, кинжальная. Характерен мигрирующий характер болей: по мере расслаивания боли распространяются вниз в поясничную область, в нижние конечности. В процесс начинают вовлекаться другие артерии - возникают симптомы окклюзии крупных артерий, отходящих от аорты. Отсутствует пульс на лучевой артерии, может наблюдаться слепрота. На ЭКГ нет признаков инфаркта. Боли атипичные, не снимаются наркотикам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6.</a:t>
            </a:r>
            <a:r>
              <a:rPr b="0" lang="ru-RU" sz="1200" spc="-1" strike="noStrike">
                <a:solidFill>
                  <a:srgbClr val="ffffff"/>
                </a:solidFill>
                <a:latin typeface="Constantia"/>
              </a:rPr>
              <a:t>	</a:t>
            </a:r>
            <a:r>
              <a:rPr b="0" lang="ru-RU" sz="1200" spc="-1" strike="noStrike">
                <a:solidFill>
                  <a:srgbClr val="ffffff"/>
                </a:solidFill>
                <a:latin typeface="Constantia"/>
              </a:rPr>
              <a:t>Печеночная колика. Необходимо дифференцировать с абдоминальной формой инфаркта миокарда. Чаще у женщин, есть четкая связь с приемом пищи, боли не носят нарастающего волнообразного характера, иррадиируют вправо вверх. Часто повторная рвота. Локальная болезненность, однако это бывает и при инфаркте миокарда вследствие увеличения печени. Помогает ЭКГ. Повышена активность ЛДГ 5, а при инфаркте - ЛДГ 1.</a:t>
            </a:r>
            <a:endParaRPr b="0" lang="en-US" sz="1200" spc="-1" strike="noStrike">
              <a:solidFill>
                <a:srgbClr val="ffffff"/>
              </a:solidFill>
              <a:latin typeface="Constantia"/>
            </a:endParaRPr>
          </a:p>
        </p:txBody>
      </p:sp>
      <p:sp>
        <p:nvSpPr>
          <p:cNvPr id="27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Заголовок 1" descr=""/>
          <p:cNvPicPr/>
          <p:nvPr/>
        </p:nvPicPr>
        <p:blipFill>
          <a:blip r:embed="rId1"/>
          <a:stretch/>
        </p:blipFill>
        <p:spPr>
          <a:xfrm>
            <a:off x="244440" y="-139680"/>
            <a:ext cx="8240760" cy="1407960"/>
          </a:xfrm>
          <a:prstGeom prst="rect">
            <a:avLst/>
          </a:prstGeom>
          <a:ln w="0">
            <a:noFill/>
          </a:ln>
        </p:spPr>
      </p:pic>
      <p:sp>
        <p:nvSpPr>
          <p:cNvPr id="277"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ве задач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Профилактика осложнени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граничение зоны инфарк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еобходимо, чтобы лечебная практика соответствовала периоду заболева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Предынфарктный период. Главная цель лечения в этот период - предупредить возникновение инфаркта миокард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остельный режим (до тех пор, пока есть признаки нарастания коронарной недостаточност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рямые антикоагулянт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гепарин, можно вводить в/в, но чаще применяют  п/к  по 5-1О      тыс. ЕД через каждые 4-6 часов.</a:t>
            </a:r>
            <a:endParaRPr b="0" lang="en-US" sz="1200" spc="-1" strike="noStrike">
              <a:solidFill>
                <a:srgbClr val="ffffff"/>
              </a:solidFill>
              <a:latin typeface="Constantia"/>
            </a:endParaRPr>
          </a:p>
          <a:p>
            <a:pPr>
              <a:spcBef>
                <a:spcPts val="3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нтиаритмические средства:         </a:t>
            </a:r>
            <a:endParaRPr b="0" lang="en-US" sz="1200" spc="-1" strike="noStrike">
              <a:solidFill>
                <a:srgbClr val="ffffff"/>
              </a:solidFill>
              <a:latin typeface="Constantia"/>
            </a:endParaRPr>
          </a:p>
          <a:p>
            <a:pPr>
              <a:spcBef>
                <a:spcPts val="3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глюкоза     5% 2ОО-5ОО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хлорид калия   1О% - 3О,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сульфат магния 25% - 2О,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инсулин  4-12 ЕД</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кокарбоксилаза  1ОО мг</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бета-адреноблокаторы  /Anaprillini О,О4;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нитраты  пролонгированного действия (Sustak-forte).</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огда проводят экстренную реваскуляризацию миокарда. </a:t>
            </a:r>
            <a:endParaRPr b="0" lang="en-US" sz="1200" spc="-1" strike="noStrike">
              <a:solidFill>
                <a:srgbClr val="ffffff"/>
              </a:solidFill>
              <a:latin typeface="Constantia"/>
            </a:endParaRPr>
          </a:p>
        </p:txBody>
      </p:sp>
      <p:pic>
        <p:nvPicPr>
          <p:cNvPr id="278" name="Рисунок 3" descr="17.jpg"/>
          <p:cNvPicPr/>
          <p:nvPr/>
        </p:nvPicPr>
        <p:blipFill>
          <a:blip r:embed="rId2"/>
          <a:stretch/>
        </p:blipFill>
        <p:spPr>
          <a:xfrm>
            <a:off x="5429160" y="3429000"/>
            <a:ext cx="1285920" cy="1265400"/>
          </a:xfrm>
          <a:prstGeom prst="rect">
            <a:avLst/>
          </a:prstGeom>
          <a:ln w="0">
            <a:noFill/>
          </a:ln>
        </p:spPr>
      </p:pic>
      <p:sp>
        <p:nvSpPr>
          <p:cNvPr id="27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Заголовок 1" descr=""/>
          <p:cNvPicPr/>
          <p:nvPr/>
        </p:nvPicPr>
        <p:blipFill>
          <a:blip r:embed="rId1"/>
          <a:stretch/>
        </p:blipFill>
        <p:spPr>
          <a:xfrm>
            <a:off x="255600" y="-139680"/>
            <a:ext cx="8229600" cy="1566720"/>
          </a:xfrm>
          <a:prstGeom prst="rect">
            <a:avLst/>
          </a:prstGeom>
          <a:ln w="0">
            <a:noFill/>
          </a:ln>
        </p:spPr>
      </p:pic>
      <p:sp>
        <p:nvSpPr>
          <p:cNvPr id="28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стрейший период. Основная цель лечения - ограничить зону повреждения миокарда. Снятие болевого синдрома: начинать правильнее с нейролептанальгезии, а не с наркотиков, т.к. при этом меньше осложнений; фентанил 1-2 мл в/в на глюкозе /О,ОО5% 2 мл;   дроперидол 2,О мл О,25% 2 мл на 4О мл 5% р-ра глюкозы; таламонал (содержит в 1 мл О,О5 мг фентанила и 2,5 мг дроперидола) 2-4 мл в/в струйно.  Аналгетический эффект наступает немедленно после в/в введения (у 6О% больных) и сохраняется 3О мин.</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Фентанил, в отличие от опиатов, очень редко угнетает дыхательный центр. После нейролептанальгезии сознание быстро восстанавливается. Не нарушается кишечная перистальтика и мочеотделение. Нельзя сочетать с опиатами и барбирутатами, т.к. возможно потенцирование пробочных эффекто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неполном эффекте повторно вводят через 6О мин. морфин 1% 1,5 п/к или в/в струйно; омнопон 2% - 1,О п/к или в/в; промедол 1% - 1,О п/к.</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бочные явления препаратов группы морфин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угнетение дыхательного центра - налорфин 1-2 мл в/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снижение рН крови и индуцирование синдрома электрической нестабильности сердц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пособствует депонированию крови, снижению венозного возврата, приводя к относительной гиповолени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 мощное ваготропное действие - усугубляется брадикардия, может быть тошнота, рвота, угнетение перистальтики кишечника и парез мускулатуры мочевого пузыр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вязи с возможностью указанных осложнений применение морфинов и его аналогов при инфаркте миокарда должно быть сведено к минимуму.</a:t>
            </a:r>
            <a:endParaRPr b="0" lang="en-US" sz="1200" spc="-1" strike="noStrike">
              <a:solidFill>
                <a:srgbClr val="ffffff"/>
              </a:solidFill>
              <a:latin typeface="Constantia"/>
            </a:endParaRPr>
          </a:p>
        </p:txBody>
      </p:sp>
      <p:sp>
        <p:nvSpPr>
          <p:cNvPr id="28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Заголовок 1" descr=""/>
          <p:cNvPicPr/>
          <p:nvPr/>
        </p:nvPicPr>
        <p:blipFill>
          <a:blip r:embed="rId1"/>
          <a:stretch/>
        </p:blipFill>
        <p:spPr>
          <a:xfrm>
            <a:off x="255600" y="-139680"/>
            <a:ext cx="8229600" cy="1566720"/>
          </a:xfrm>
          <a:prstGeom prst="rect">
            <a:avLst/>
          </a:prstGeom>
          <a:ln w="0">
            <a:noFill/>
          </a:ln>
        </p:spPr>
      </p:pic>
      <p:sp>
        <p:nvSpPr>
          <p:cNvPr id="28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ля усиления обезболивающего эффекта, снятия тревоги, беспокойства,  возбуждения: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анальгин  5О% - 2,О в/м  или в/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димедрол 1% - 1,О в/м (седативный эффект) + аминазин 2,5% - 1,О в/м в/в (потенцирование наркотиков). Кроме того, аминазин оказывает гипотензивное действие, поэтому при нормальном или пониженном давлении вводят только димедрол. Аминазин может вызывать тахикарди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локализации инфаркта на задней стенке левого желудочка болевой синдром сопровождается брадикардией - ввести холинолитик: атропина сульфат О,1% - 1,О (при тахикардии не вводи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озникновение инфаркта часто связано с тромбозом коронарных артерий, поэтому необходимо введение антикоагулянтов, которые особенно эффективны в первые минуты и часы заболевания. Они также ограничивают зону инфаркта + обезболивающий эффек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ополнительно: гепарин 1О-15 тыс. (около 2 мл), в 1 мл - 5 тыс.ЕД; фибринолизин 6 тыс. в/в кап.; стрептаза 25О тыс. на физ. р-ре в/в кап.</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епарин вводят в течение 5-7 дней под контролем свертывающей системы крови, вводят  4-6 раз  в сутки (т.к. длительность действия 6 час.), лучше в/в. Также повторно вводится фибринолизин в течение 1-2 сут. (т.е. только в течение 1-го периода).</a:t>
            </a:r>
            <a:endParaRPr b="0" lang="en-US" sz="1200" spc="-1" strike="noStrike">
              <a:solidFill>
                <a:srgbClr val="ffffff"/>
              </a:solidFill>
              <a:latin typeface="Constantia"/>
            </a:endParaRPr>
          </a:p>
        </p:txBody>
      </p:sp>
      <p:pic>
        <p:nvPicPr>
          <p:cNvPr id="285" name="Рисунок 3" descr="if.jpg"/>
          <p:cNvPicPr/>
          <p:nvPr/>
        </p:nvPicPr>
        <p:blipFill>
          <a:blip r:embed="rId2"/>
          <a:stretch/>
        </p:blipFill>
        <p:spPr>
          <a:xfrm>
            <a:off x="3643200" y="4500720"/>
            <a:ext cx="1905120" cy="1434960"/>
          </a:xfrm>
          <a:prstGeom prst="rect">
            <a:avLst/>
          </a:prstGeom>
          <a:ln w="0">
            <a:noFill/>
          </a:ln>
        </p:spPr>
      </p:pic>
      <p:sp>
        <p:nvSpPr>
          <p:cNvPr id="28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Заголовок 1" descr=""/>
          <p:cNvPicPr/>
          <p:nvPr/>
        </p:nvPicPr>
        <p:blipFill>
          <a:blip r:embed="rId1"/>
          <a:stretch/>
        </p:blipFill>
        <p:spPr>
          <a:xfrm>
            <a:off x="255600" y="785880"/>
            <a:ext cx="8229600" cy="823680"/>
          </a:xfrm>
          <a:prstGeom prst="rect">
            <a:avLst/>
          </a:prstGeom>
          <a:ln w="0">
            <a:noFill/>
          </a:ln>
        </p:spPr>
      </p:pic>
      <p:sp>
        <p:nvSpPr>
          <p:cNvPr id="28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Поляризующая смесь (состав см. выше), входящие в нее ингридиенты способствуют проникновению калия внутрь клеток.</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Лидокаин - препарат выбора, более эффективен при желудочковых аритмиях. 5О-75 мг струйн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Новокаинамид 1ОО мг в/в струйно, через 5 мин., до достижения эффекта, далее капельно (1О% р-р 5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 Обзидан до 5 мг в/в медленно (О,1% р-р 1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 Хинидин по О,2-О,5 через 6 час. внутр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меняют также нитраты пролонгированного действия - вследствие коронарооасширяющего действия они улучшают коллатеральное кровообращение и тем самым ограничивают зону инфаркта. Препараты: Нитросорбит таб. О.О1; Эринит таб. О,О1; Сустак митте 2,6 мг и сустак форте 6,4 мг.</a:t>
            </a:r>
            <a:endParaRPr b="0" lang="en-US" sz="1200" spc="-1" strike="noStrike">
              <a:solidFill>
                <a:srgbClr val="ffffff"/>
              </a:solidFill>
              <a:latin typeface="Constantia"/>
            </a:endParaRPr>
          </a:p>
        </p:txBody>
      </p:sp>
      <p:pic>
        <p:nvPicPr>
          <p:cNvPr id="289" name="Рисунок 6" descr="RFLD53CADKN3WTCACK4OC6CAC0JTRFCA420FD6CA7TJK86CAFXV2IWCAC83JF8CADZ1OZPCAZMG12MCAB1G6MXCAM1XSZVCA2J5AL8CAT68GISCANDBO1SCAQG9U3JCAM71LHRCA8XX54BCAJDWPJ2CA4RSOHM.jpg"/>
          <p:cNvPicPr/>
          <p:nvPr/>
        </p:nvPicPr>
        <p:blipFill>
          <a:blip r:embed="rId2"/>
          <a:stretch/>
        </p:blipFill>
        <p:spPr>
          <a:xfrm>
            <a:off x="3571920" y="3786120"/>
            <a:ext cx="1857240" cy="1111320"/>
          </a:xfrm>
          <a:prstGeom prst="rect">
            <a:avLst/>
          </a:prstGeom>
          <a:ln w="0">
            <a:noFill/>
          </a:ln>
        </p:spPr>
      </p:pic>
      <p:sp>
        <p:nvSpPr>
          <p:cNvPr id="290"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Заголовок 1" descr=""/>
          <p:cNvPicPr/>
          <p:nvPr/>
        </p:nvPicPr>
        <p:blipFill>
          <a:blip r:embed="rId1"/>
          <a:stretch/>
        </p:blipFill>
        <p:spPr>
          <a:xfrm>
            <a:off x="255600" y="212760"/>
            <a:ext cx="8229600" cy="646200"/>
          </a:xfrm>
          <a:prstGeom prst="rect">
            <a:avLst/>
          </a:prstGeom>
          <a:ln w="0">
            <a:noFill/>
          </a:ln>
        </p:spPr>
      </p:pic>
      <p:sp>
        <p:nvSpPr>
          <p:cNvPr id="292"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 лечения в острый период - предупреждение осложнений. При неосложненном инфаркте миокарда со 2-3 дня начинают ЛФК. Отменяют фибринолизин (на 1-2 день), но гепарин оставляют до 5-7 дней под контролем времени свертывания. За 2-3 дня до отмены гепарина назначают антикоагулянты непрямого действия; при этом обязателен контроль протромбина 2 раза в неделю, рекомендуется снижать протромбин до 5О%. Исследуется моча на эритроциты (микрогематурия). Фенилин (список А) О,О3 по 3 раза в день, отличается от других препаратов быстрым эффектом: 8 часов.  Неодикумарин таб.О,О5 в 1 день по 4 т. 3 раза, на  2-й день 3 т. 3 раза и далее по О,1-О,2 в сутки индивидуально.  Фепромарон таб. О,ОО5 (О,ОО1)  Синкумар таб. О,ОО4 (О,ОО2)  Нитрофарин таб. О,ОО5  Омефин таб. О,О5  Дикумарин  таб. О,О1.</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оказания к назначению антикоагулянтов непрямого действ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1)</a:t>
            </a:r>
            <a:r>
              <a:rPr b="0" lang="ru-RU" sz="1100" spc="-1" strike="noStrike">
                <a:solidFill>
                  <a:srgbClr val="ffffff"/>
                </a:solidFill>
                <a:latin typeface="Constantia"/>
              </a:rPr>
              <a:t>	</a:t>
            </a:r>
            <a:r>
              <a:rPr b="0" lang="ru-RU" sz="1100" spc="-1" strike="noStrike">
                <a:solidFill>
                  <a:srgbClr val="ffffff"/>
                </a:solidFill>
                <a:latin typeface="Constantia"/>
              </a:rPr>
              <a:t>Аритми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2)</a:t>
            </a:r>
            <a:r>
              <a:rPr b="0" lang="ru-RU" sz="1100" spc="-1" strike="noStrike">
                <a:solidFill>
                  <a:srgbClr val="ffffff"/>
                </a:solidFill>
                <a:latin typeface="Constantia"/>
              </a:rPr>
              <a:t>	</a:t>
            </a:r>
            <a:r>
              <a:rPr b="0" lang="ru-RU" sz="1100" spc="-1" strike="noStrike">
                <a:solidFill>
                  <a:srgbClr val="ffffff"/>
                </a:solidFill>
                <a:latin typeface="Constantia"/>
              </a:rPr>
              <a:t>Трансмуральный инфаркт (почти всегда есть коронаротромбоз).</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3)</a:t>
            </a:r>
            <a:r>
              <a:rPr b="0" lang="ru-RU" sz="1100" spc="-1" strike="noStrike">
                <a:solidFill>
                  <a:srgbClr val="ffffff"/>
                </a:solidFill>
                <a:latin typeface="Constantia"/>
              </a:rPr>
              <a:t>	</a:t>
            </a:r>
            <a:r>
              <a:rPr b="0" lang="ru-RU" sz="1100" spc="-1" strike="noStrike">
                <a:solidFill>
                  <a:srgbClr val="ffffff"/>
                </a:solidFill>
                <a:latin typeface="Constantia"/>
              </a:rPr>
              <a:t>У тучных больных.</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4)</a:t>
            </a:r>
            <a:r>
              <a:rPr b="0" lang="ru-RU" sz="1100" spc="-1" strike="noStrike">
                <a:solidFill>
                  <a:srgbClr val="ffffff"/>
                </a:solidFill>
                <a:latin typeface="Constantia"/>
              </a:rPr>
              <a:t>	</a:t>
            </a:r>
            <a:r>
              <a:rPr b="0" lang="ru-RU" sz="1100" spc="-1" strike="noStrike">
                <a:solidFill>
                  <a:srgbClr val="ffffff"/>
                </a:solidFill>
                <a:latin typeface="Constantia"/>
              </a:rPr>
              <a:t>На фоне сердечной  недостаточност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ротивопоказания к назначению антикоагулянтов непрямого действ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1)</a:t>
            </a:r>
            <a:r>
              <a:rPr b="0" lang="ru-RU" sz="1100" spc="-1" strike="noStrike">
                <a:solidFill>
                  <a:srgbClr val="ffffff"/>
                </a:solidFill>
                <a:latin typeface="Constantia"/>
              </a:rPr>
              <a:t>	</a:t>
            </a:r>
            <a:r>
              <a:rPr b="0" lang="ru-RU" sz="1100" spc="-1" strike="noStrike">
                <a:solidFill>
                  <a:srgbClr val="ffffff"/>
                </a:solidFill>
                <a:latin typeface="Constantia"/>
              </a:rPr>
              <a:t>Геморрагические осложнения, диатезы, склонность к кровотечениям.</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2)</a:t>
            </a:r>
            <a:r>
              <a:rPr b="0" lang="ru-RU" sz="1100" spc="-1" strike="noStrike">
                <a:solidFill>
                  <a:srgbClr val="ffffff"/>
                </a:solidFill>
                <a:latin typeface="Constantia"/>
              </a:rPr>
              <a:t>	</a:t>
            </a:r>
            <a:r>
              <a:rPr b="0" lang="ru-RU" sz="1100" spc="-1" strike="noStrike">
                <a:solidFill>
                  <a:srgbClr val="ffffff"/>
                </a:solidFill>
                <a:latin typeface="Constantia"/>
              </a:rPr>
              <a:t>Заболевания печени (гепатит, цирроз).</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3)</a:t>
            </a:r>
            <a:r>
              <a:rPr b="0" lang="ru-RU" sz="1100" spc="-1" strike="noStrike">
                <a:solidFill>
                  <a:srgbClr val="ffffff"/>
                </a:solidFill>
                <a:latin typeface="Constantia"/>
              </a:rPr>
              <a:t>	</a:t>
            </a:r>
            <a:r>
              <a:rPr b="0" lang="ru-RU" sz="1100" spc="-1" strike="noStrike">
                <a:solidFill>
                  <a:srgbClr val="ffffff"/>
                </a:solidFill>
                <a:latin typeface="Constantia"/>
              </a:rPr>
              <a:t>Почечная недостаточность, гематур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4)</a:t>
            </a:r>
            <a:r>
              <a:rPr b="0" lang="ru-RU" sz="1100" spc="-1" strike="noStrike">
                <a:solidFill>
                  <a:srgbClr val="ffffff"/>
                </a:solidFill>
                <a:latin typeface="Constantia"/>
              </a:rPr>
              <a:t>	</a:t>
            </a:r>
            <a:r>
              <a:rPr b="0" lang="ru-RU" sz="1100" spc="-1" strike="noStrike">
                <a:solidFill>
                  <a:srgbClr val="ffffff"/>
                </a:solidFill>
                <a:latin typeface="Constantia"/>
              </a:rPr>
              <a:t>Язвенная болезн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5)</a:t>
            </a:r>
            <a:r>
              <a:rPr b="0" lang="ru-RU" sz="1100" spc="-1" strike="noStrike">
                <a:solidFill>
                  <a:srgbClr val="ffffff"/>
                </a:solidFill>
                <a:latin typeface="Constantia"/>
              </a:rPr>
              <a:t>	</a:t>
            </a:r>
            <a:r>
              <a:rPr b="0" lang="ru-RU" sz="1100" spc="-1" strike="noStrike">
                <a:solidFill>
                  <a:srgbClr val="ffffff"/>
                </a:solidFill>
                <a:latin typeface="Constantia"/>
              </a:rPr>
              <a:t>Перикардит и острая аневризма сердц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6)</a:t>
            </a:r>
            <a:r>
              <a:rPr b="0" lang="ru-RU" sz="1100" spc="-1" strike="noStrike">
                <a:solidFill>
                  <a:srgbClr val="ffffff"/>
                </a:solidFill>
                <a:latin typeface="Constantia"/>
              </a:rPr>
              <a:t>	</a:t>
            </a:r>
            <a:r>
              <a:rPr b="0" lang="ru-RU" sz="1100" spc="-1" strike="noStrike">
                <a:solidFill>
                  <a:srgbClr val="ffffff"/>
                </a:solidFill>
                <a:latin typeface="Constantia"/>
              </a:rPr>
              <a:t>Высокая артериальная гипертенз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7)</a:t>
            </a:r>
            <a:r>
              <a:rPr b="0" lang="ru-RU" sz="1100" spc="-1" strike="noStrike">
                <a:solidFill>
                  <a:srgbClr val="ffffff"/>
                </a:solidFill>
                <a:latin typeface="Constantia"/>
              </a:rPr>
              <a:t>	</a:t>
            </a:r>
            <a:r>
              <a:rPr b="0" lang="ru-RU" sz="1100" spc="-1" strike="noStrike">
                <a:solidFill>
                  <a:srgbClr val="ffffff"/>
                </a:solidFill>
                <a:latin typeface="Constantia"/>
              </a:rPr>
              <a:t>Подострый септический эндокардит.</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8)</a:t>
            </a:r>
            <a:r>
              <a:rPr b="0" lang="ru-RU" sz="1100" spc="-1" strike="noStrike">
                <a:solidFill>
                  <a:srgbClr val="ffffff"/>
                </a:solidFill>
                <a:latin typeface="Constantia"/>
              </a:rPr>
              <a:t>	</a:t>
            </a:r>
            <a:r>
              <a:rPr b="0" lang="ru-RU" sz="1100" spc="-1" strike="noStrike">
                <a:solidFill>
                  <a:srgbClr val="ffffff"/>
                </a:solidFill>
                <a:latin typeface="Constantia"/>
              </a:rPr>
              <a:t>Авитаминозы А и С.</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 назначения непрямых антикоагулянтов - предупреждение повторного гиперкоагуляционного синдрома после отмены прямых антикоагулянтов и фибринолитических средств, создание гипокоагуляции с целью профилактики повторных инфарктов миокарда или рецидивов, предупреждение тромбоэмболических осложнений.</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В остром  периоде инфаркта миокарда наблюдаются два пика нарушения ритма - в начале и конце этого периода. Для профилактики и лечения дают антиаритмические средства: поляризующую смесь и другие препараты (см.выше). По показаниям назначают преднизолон. Применяют также анаболические средства: Ретаболил 5% 1,О в/м - улучшает ресинтез макроэргов и синтез белков, благоприятно влияет на метаболизм миокарда.  Нераболил 1% 1,О  Нерабол таб. О,ОО1 (О,ОО5).</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С 3-го дня заболевания начинают довольно быстро расширять режим. К концу 1 недели больной должен садиться, через 2 недели ходить. Обычно через 4-6 недель больного переводят в отделение реабилитации. Еще через месяц - в специализированный кардиологический санаторий. Далее больные переводятся под амбулаторное наблюдение и лечение у кардиолог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Диета. В первые дни заболевания питание резко ограничивают, дают малокалорийную, легко усвояемую пищу. Не рекомендуются молоко, капуста, другие овощи и фрукты, вызывающие метеоризм. Начиная с 3 дня заболевания необходимо активно опорожнять кишечник, рекомендуются масляное слабительное или очистительные клизмы, чернослив, кефир, свекла. Солевые слабительные нельзя - из-за опасности коллапса.</a:t>
            </a:r>
            <a:endParaRPr b="0" lang="en-US" sz="1100" spc="-1" strike="noStrike">
              <a:solidFill>
                <a:srgbClr val="ffffff"/>
              </a:solidFill>
              <a:latin typeface="Constantia"/>
            </a:endParaRPr>
          </a:p>
        </p:txBody>
      </p:sp>
      <p:sp>
        <p:nvSpPr>
          <p:cNvPr id="29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Заголовок 1" descr=""/>
          <p:cNvPicPr/>
          <p:nvPr/>
        </p:nvPicPr>
        <p:blipFill>
          <a:blip r:embed="rId1"/>
          <a:stretch/>
        </p:blipFill>
        <p:spPr>
          <a:xfrm>
            <a:off x="324000" y="212760"/>
            <a:ext cx="8161200" cy="646200"/>
          </a:xfrm>
          <a:prstGeom prst="rect">
            <a:avLst/>
          </a:prstGeom>
          <a:ln w="0">
            <a:noFill/>
          </a:ln>
        </p:spPr>
      </p:pic>
      <p:sp>
        <p:nvSpPr>
          <p:cNvPr id="29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ольным, которые перенесли инфаркт сердечной мышцы, рекомендуется использова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антиагрегант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2) бета-адреноблокатор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3) ингибиторы АПФ (ангиотензинпревращающего фермен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4) статин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 Антиагреганты - это лекарства, которые препятствуют образованию сгустка крови или тромба в венечных артериях (они делают кровь более жидко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ацетилсалициловая кислота </a:t>
            </a:r>
            <a:r>
              <a:rPr b="0" lang="ru-RU" sz="1200" spc="-1" strike="noStrike">
                <a:solidFill>
                  <a:srgbClr val="ffffff"/>
                </a:solidFill>
                <a:latin typeface="Constantia"/>
              </a:rPr>
              <a:t>(аспирин, желательно в оболочке, защищающей слизистую желудк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Ежедневным потреблением ацетилсалициловой кислоты или аспирина можно значительно уменьшить риск возникновения инфаркта сердечной мышцы. Поэтому аспирин используется у всех больных ишемической болезнью сердца (если не возникает жалоб со стороны желудочно-кишечного тракта). Аспирин нужно принимать </a:t>
            </a:r>
            <a:r>
              <a:rPr b="1" lang="ru-RU" sz="1200" spc="-1" strike="noStrike">
                <a:solidFill>
                  <a:srgbClr val="ffffff"/>
                </a:solidFill>
                <a:latin typeface="Constantia"/>
              </a:rPr>
              <a:t>каждый день в малой дозе</a:t>
            </a:r>
            <a:r>
              <a:rPr b="0" lang="ru-RU" sz="1200" spc="-1" strike="noStrike">
                <a:solidFill>
                  <a:srgbClr val="ffffff"/>
                </a:solidFill>
                <a:latin typeface="Constantia"/>
              </a:rPr>
              <a:t> - 75-150 мг (так называемая малая доза или сердечный аспирин). </a:t>
            </a:r>
            <a:r>
              <a:rPr b="1" lang="ru-RU" sz="1200" spc="-1" strike="noStrike">
                <a:solidFill>
                  <a:srgbClr val="ffffff"/>
                </a:solidFill>
                <a:latin typeface="Constantia"/>
              </a:rPr>
              <a:t>После установки стента врач может временно порекомендовать большие доз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клопидогрел или тиклопидин.</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Эти лекарства также уменьшают риск образования сгустка крови в месте стента и закупорку стента. Их следует принимать, если венечная артерия в сердце расширена и для поддержки венечной артерии установлен стент. В этом случае врач выпишет Вам одно из этих лекарств. </a:t>
            </a:r>
            <a:r>
              <a:rPr b="1" lang="ru-RU" sz="1200" spc="-1" strike="noStrike">
                <a:solidFill>
                  <a:srgbClr val="ffffff"/>
                </a:solidFill>
                <a:latin typeface="Constantia"/>
              </a:rPr>
              <a:t>Длительность курса лечения зависит от стента, и ее уточнит Вам лечащий врач.</a:t>
            </a:r>
            <a:r>
              <a:rPr b="0" lang="ru-RU" sz="1200" spc="-1" strike="noStrike">
                <a:solidFill>
                  <a:srgbClr val="ffffff"/>
                </a:solidFill>
                <a:latin typeface="Constantia"/>
              </a:rPr>
              <a:t> Клопидогрел или тиклопидин используются обычно вместе с ас­пирином для того, чтобы получить лучший результат </a:t>
            </a:r>
            <a:endParaRPr b="0" lang="en-US" sz="1200" spc="-1" strike="noStrike">
              <a:solidFill>
                <a:srgbClr val="ffffff"/>
              </a:solidFill>
              <a:latin typeface="Constantia"/>
            </a:endParaRPr>
          </a:p>
        </p:txBody>
      </p:sp>
      <p:sp>
        <p:nvSpPr>
          <p:cNvPr id="29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Заголовок 1" descr=""/>
          <p:cNvPicPr/>
          <p:nvPr/>
        </p:nvPicPr>
        <p:blipFill>
          <a:blip r:embed="rId1"/>
          <a:stretch/>
        </p:blipFill>
        <p:spPr>
          <a:xfrm>
            <a:off x="324000" y="212760"/>
            <a:ext cx="8161200" cy="646200"/>
          </a:xfrm>
          <a:prstGeom prst="rect">
            <a:avLst/>
          </a:prstGeom>
          <a:ln w="0">
            <a:noFill/>
          </a:ln>
        </p:spPr>
      </p:pic>
      <p:sp>
        <p:nvSpPr>
          <p:cNvPr id="29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2) Бета-адреноблокаторы:</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метопролол</a:t>
            </a:r>
            <a:r>
              <a:rPr b="0" lang="ru-RU" sz="1100" spc="-1" strike="noStrike">
                <a:solidFill>
                  <a:srgbClr val="ffffff"/>
                </a:solidFill>
                <a:latin typeface="Constantia"/>
              </a:rPr>
              <a:t> (Эгилок, метопролол назначаются 2 раза в день). Более надежно защищает сердце метопролол в форме суточного действия - Эгилок ретард. Его можно применять 1 раз в день независимо от приема пищи, в отличие от всех остальных препаратов метопролола;</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ропранолол</a:t>
            </a:r>
            <a:r>
              <a:rPr b="0" lang="ru-RU" sz="1100" spc="-1" strike="noStrike">
                <a:solidFill>
                  <a:srgbClr val="ffffff"/>
                </a:solidFill>
                <a:latin typeface="Constantia"/>
              </a:rPr>
              <a:t> (анаприлин). Этот бета-блокатор также доказал свойство снижать риск смерти после инфаркта миокарда, однако необходимость приема 3-4 раза в сутки и множество побочных действий сделали его препаратом «второй очеред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карведилол</a:t>
            </a:r>
            <a:r>
              <a:rPr b="0" lang="ru-RU" sz="1100" spc="-1" strike="noStrike">
                <a:solidFill>
                  <a:srgbClr val="ffffff"/>
                </a:solidFill>
                <a:latin typeface="Constantia"/>
              </a:rPr>
              <a:t> (Дилатренд, Таллито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Бета-адреноблокаторы являются чрезвычайно важными лекарствами после перенесенного инфаркта сердечной мышцы, которые </a:t>
            </a:r>
            <a:r>
              <a:rPr b="1" lang="ru-RU" sz="1100" spc="-1" strike="noStrike">
                <a:solidFill>
                  <a:srgbClr val="ffffff"/>
                </a:solidFill>
                <a:latin typeface="Constantia"/>
              </a:rPr>
              <a:t>уменьшают возможность возникновения нового инфаркта миокарда и снижают риск смер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3) Ингибиторы АПФ</a:t>
            </a:r>
            <a:r>
              <a:rPr b="0" lang="ru-RU" sz="1100" spc="-1" strike="noStrike">
                <a:solidFill>
                  <a:srgbClr val="ffffff"/>
                </a:solidFill>
                <a:latin typeface="Constantia"/>
              </a:rPr>
              <a:t> - это лекарства, которые улучшают работоспособность сердца, снижают артериальное давление и тормозят возникновение или углубление сердечной недостаточнос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капт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энала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фозин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еринд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рамиприл </a:t>
            </a:r>
            <a:r>
              <a:rPr b="0" lang="ru-RU" sz="1100" spc="-1" strike="noStrike">
                <a:solidFill>
                  <a:srgbClr val="ffffff"/>
                </a:solidFill>
                <a:latin typeface="Constantia"/>
              </a:rPr>
              <a:t>(Тритаце, Хартил). Именно этот представитель группы ингибиторов АПФ впервые был рекомендован не только для лечения уже возникшей сердечной недостаточности, но и для предупреждения повторного инфаркта миокарда. Он также вошел в международные и отечественные рекомендации по лечению стабильной стенокардии как препарат, способный снизить риск возникновения инфаркта.</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4) Статины</a:t>
            </a:r>
            <a:r>
              <a:rPr b="0" lang="ru-RU" sz="1100" spc="-1" strike="noStrike">
                <a:solidFill>
                  <a:srgbClr val="ffffff"/>
                </a:solidFill>
                <a:latin typeface="Constantia"/>
              </a:rPr>
              <a:t> - лекарства, которые нормализуют уровень жиров крови, в первую очередь уровень холестерола, замедляют развитие атеросклероза и уменьшают риск повторного инфаркта и смер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сим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ра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атор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режде в традиционную схему лечения входили и </a:t>
            </a:r>
            <a:r>
              <a:rPr b="1" lang="ru-RU" sz="1100" spc="-1" strike="noStrike">
                <a:solidFill>
                  <a:srgbClr val="ffffff"/>
                </a:solidFill>
                <a:latin typeface="Constantia"/>
              </a:rPr>
              <a:t>нитропрепараты,</a:t>
            </a:r>
            <a:r>
              <a:rPr b="0" lang="ru-RU" sz="1100" spc="-1" strike="noStrike">
                <a:solidFill>
                  <a:srgbClr val="ffffff"/>
                </a:solidFill>
                <a:latin typeface="Constantia"/>
              </a:rPr>
              <a:t> которые помогают предупредить возникновение стенокардии. В настоящее время исполь­зование этой группы лекарств не считается необходимым у всех больных, и больше внимания уделяется быстрому направлению пациентов со стенокардическими жалобами на коронароангиографию, для того чтобы уточнить лучший способ лечения. В некоторых случаях нитропрепараты используются в лечении сердечной недостаточности в комбинации с другими лекарствами или у больных, которым невозможно уменьшить жалобы современными методам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algn="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p:txBody>
      </p:sp>
      <p:sp>
        <p:nvSpPr>
          <p:cNvPr id="29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Заголовок 1" descr=""/>
          <p:cNvPicPr/>
          <p:nvPr/>
        </p:nvPicPr>
        <p:blipFill>
          <a:blip r:embed="rId1"/>
          <a:stretch/>
        </p:blipFill>
        <p:spPr>
          <a:xfrm>
            <a:off x="255600" y="212760"/>
            <a:ext cx="8229600" cy="646200"/>
          </a:xfrm>
          <a:prstGeom prst="rect">
            <a:avLst/>
          </a:prstGeom>
          <a:ln w="0">
            <a:noFill/>
          </a:ln>
        </p:spPr>
      </p:pic>
      <p:sp>
        <p:nvSpPr>
          <p:cNvPr id="30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Реабилитации различаю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Физическая - восстановление до максимально возможного уровня функции сердечно-сосудистой системы. Необходимо добиваться адекватной реакции на физическую нагрузку, что достигается в среднем через 2-6 недель физических тренировок, которые развивают коллатеральное кровообраще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Психологическая - у больных, перенесших инфаркт миокарда, нередко развивается страх перед повторным инфарктом. При этом может быть оправдано применение психотропных средст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оциальная реабилитация - больной после перенесенного инфаркта миокарда считается нетрудоспособным 4 месяца, затем его направляют на ВТЭК.  5О% больных к этому времени возвращается к работе, то есть трудоспособность практически полностью восстанавливается. Если  возникают осложнения, то временно устанавливается группа инвалидности, обычно II, на 6-12 месяцев.</a:t>
            </a:r>
            <a:endParaRPr b="0" lang="en-US" sz="1200" spc="-1" strike="noStrike">
              <a:solidFill>
                <a:srgbClr val="ffffff"/>
              </a:solidFill>
              <a:latin typeface="Constantia"/>
            </a:endParaRPr>
          </a:p>
        </p:txBody>
      </p:sp>
      <p:pic>
        <p:nvPicPr>
          <p:cNvPr id="302" name="Рисунок 4" descr="IOY30HCAW2A3Y2CA668N7ACAC7H74SCAZ6V8TLCAX4RZX9CAY03KI1CA8PJBWMCAG0GRXCCAGMHHVFCA6VWQ91CAHXF5YLCACP1MPOCACLIQ7BCAS589M9CAZVUGRACANQGSABCA8KAIGJCAYUCH0MCAJUKE5M.jpg"/>
          <p:cNvPicPr/>
          <p:nvPr/>
        </p:nvPicPr>
        <p:blipFill>
          <a:blip r:embed="rId2"/>
          <a:stretch/>
        </p:blipFill>
        <p:spPr>
          <a:xfrm>
            <a:off x="3357720" y="3571920"/>
            <a:ext cx="2000160" cy="1333440"/>
          </a:xfrm>
          <a:prstGeom prst="rect">
            <a:avLst/>
          </a:prstGeom>
          <a:ln w="0">
            <a:noFill/>
          </a:ln>
        </p:spPr>
      </p:pic>
      <p:sp>
        <p:nvSpPr>
          <p:cNvPr id="30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Заголовок 1" descr=""/>
          <p:cNvPicPr/>
          <p:nvPr/>
        </p:nvPicPr>
        <p:blipFill>
          <a:blip r:embed="rId1"/>
          <a:stretch/>
        </p:blipFill>
        <p:spPr>
          <a:xfrm>
            <a:off x="255600" y="-334800"/>
            <a:ext cx="8229600" cy="1193760"/>
          </a:xfrm>
          <a:prstGeom prst="rect">
            <a:avLst/>
          </a:prstGeom>
          <a:ln w="0">
            <a:noFill/>
          </a:ln>
        </p:spPr>
      </p:pic>
      <p:sp>
        <p:nvSpPr>
          <p:cNvPr id="30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а) Рефлекторный (связан с болевым синдромом).</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еобходимо повторное введение анальгетиков: Морфин 1% 1,5 мл п/к или в/в струйно. Анальгин 5О% 2 мл в/м, в/в.  Таломонал   2-4 мл в/в струйно.</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Сосудотонизирующие средства: Кордиамин 1-4 мл в/в (фл. по 1О мл); Мезатон 1% 1,О п/к, в/в, на физ.растворе; Норадреналин О,2% 1,О в/в;  Ангиотензинамид 1 мг в/в капельно.</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б) Истинный кардиогенный шок.</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вышение сократительной деятельности миокарда: Строфантин О,О5% О,5-О,75 в/в медленно на 2О,О изотонического раствора.  Корглюкон О,О6% 1,О в/в, также на изотоническом растворе или на поляризующей смеси.  Глюкагон 2-4 мг в/в капельно на поляризующем растворе. Имеет значительное преимущество перед глюкозидами: обладая, как и гликозиды, положительным инотропным действием, в отличие от них не оказывает аритмогенного действия. Может быть использован при передозировке сердечных гликозидов. Обязательно вводить на поляризующей смеси или вместе с другими препаратами калия, так как он вызывает гипокалиемию.</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ормализация АД:  Норадреналин О,2% 2-4 мл на 1 л 5% р-ра глюкозы или изотонического раствора.  АД поддерживается на уровне 1ОО мм рт.ст.  Мезатон 1% 1,О в/в; кордиамин 2-4 мл; Гипертензинамид 2,5-5 мг на 25О мл 5% глюкозы в/в капельно, под обязательным контролем АД, так как обладает резко выраженным прессорным действием.</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нестойком эффекте от вышеуказанных препаратов: Гидрокортизон 2ОО мг,  Преднизолон 1ОО мг.  Вводить на физиологическом растворе.</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ормализация реологических свойств крови (так как обязательно образуются микрососудистые тромбы, нарушается микроциркуляция).  Применяют в общепринятых дозах: гепарин; фибринолизин; низкомолекулярные декстраны.</a:t>
            </a:r>
            <a:endParaRPr b="0" lang="en-US" sz="1200" spc="-1" strike="noStrike">
              <a:solidFill>
                <a:srgbClr val="ffffff"/>
              </a:solidFill>
              <a:latin typeface="Constantia"/>
            </a:endParaRPr>
          </a:p>
        </p:txBody>
      </p:sp>
      <p:pic>
        <p:nvPicPr>
          <p:cNvPr id="306" name="Рисунок 3" descr="V45DX3CAV1W3K8CA0YEZNXCAL95OJOCAGD68RQCAXJOYUFCA6O810UCA61KFKVCATYXJTWCAIXAG8VCA7LE4HZCADXLBDICAE6W75UCABR4401CAJ9AK8NCAYR5V56CA6OV086CA5F1DO8CAEY2226CAFJVYVH.jpg"/>
          <p:cNvPicPr/>
          <p:nvPr/>
        </p:nvPicPr>
        <p:blipFill>
          <a:blip r:embed="rId2"/>
          <a:stretch/>
        </p:blipFill>
        <p:spPr>
          <a:xfrm>
            <a:off x="6000840" y="142920"/>
            <a:ext cx="1398600" cy="1500120"/>
          </a:xfrm>
          <a:prstGeom prst="rect">
            <a:avLst/>
          </a:prstGeom>
          <a:ln w="0">
            <a:noFill/>
          </a:ln>
        </p:spPr>
      </p:pic>
      <p:sp>
        <p:nvSpPr>
          <p:cNvPr id="30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Заголовок 1" descr=""/>
          <p:cNvPicPr/>
          <p:nvPr/>
        </p:nvPicPr>
        <p:blipFill>
          <a:blip r:embed="rId1"/>
          <a:stretch/>
        </p:blipFill>
        <p:spPr>
          <a:xfrm>
            <a:off x="426960" y="523800"/>
            <a:ext cx="7918560" cy="944640"/>
          </a:xfrm>
          <a:prstGeom prst="rect">
            <a:avLst/>
          </a:prstGeom>
          <a:ln w="0">
            <a:noFill/>
          </a:ln>
        </p:spPr>
      </p:pic>
      <p:sp>
        <p:nvSpPr>
          <p:cNvPr id="209"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0" lang="ru-RU" sz="1400" spc="-1" strike="noStrike">
                <a:solidFill>
                  <a:srgbClr val="ffffff"/>
                </a:solidFill>
                <a:latin typeface="Constantia"/>
              </a:rPr>
              <a:t>Механизм инфаркта миокарда — разрыв атеросклеротической бляшки, часто при умеренном стенозе до 70% в коронарной артерии. При этом коллагеновые волокна обнажаются, происходит активация тромбоцитов, запускается каскад реакций свертывания, что приводит к острой окклюзии коронарной артерии. Если восстановления перфузии не происходит, то развиваются некроз миокарда (начиная с субэндокардиальных отделов), дисфункция пораженного желудочка (в подавляющем большинстве случаев - левого), </a:t>
            </a:r>
            <a:r>
              <a:rPr b="0" lang="ru-RU" sz="1400" spc="-1" strike="noStrike" u="sng">
                <a:solidFill>
                  <a:srgbClr val="e2d700"/>
                </a:solidFill>
                <a:uFillTx/>
                <a:latin typeface="Constantia"/>
                <a:hlinkClick r:id="rId2"/>
              </a:rPr>
              <a:t>аритмии</a:t>
            </a:r>
            <a:r>
              <a:rPr b="0" lang="ru-RU" sz="1400" spc="-1" strike="noStrike">
                <a:solidFill>
                  <a:srgbClr val="ffffff"/>
                </a:solidFill>
                <a:latin typeface="Constantia"/>
              </a:rPr>
              <a:t>.</a:t>
            </a:r>
            <a:br>
              <a:rPr sz="1400"/>
            </a:br>
            <a:br>
              <a:rPr sz="1400"/>
            </a:br>
            <a:r>
              <a:rPr b="1" lang="ru-RU" sz="1400" spc="-1" strike="noStrike">
                <a:solidFill>
                  <a:srgbClr val="ffffff"/>
                </a:solidFill>
                <a:latin typeface="Constantia"/>
              </a:rPr>
              <a:t>Инфаркт миокарда с патологическими зубцами Q и без патологических зубцов Q</a:t>
            </a:r>
            <a:br>
              <a:rPr sz="1400"/>
            </a:br>
            <a:br>
              <a:rPr sz="1400"/>
            </a:br>
            <a:r>
              <a:rPr b="1" lang="ru-RU" sz="1400" spc="-1" strike="noStrike">
                <a:solidFill>
                  <a:srgbClr val="ffffff"/>
                </a:solidFill>
                <a:latin typeface="Constantia"/>
              </a:rPr>
              <a:t>Инфаркт миокарда</a:t>
            </a:r>
            <a:r>
              <a:rPr b="0" lang="ru-RU" sz="1400" spc="-1" strike="noStrike">
                <a:solidFill>
                  <a:srgbClr val="ffffff"/>
                </a:solidFill>
                <a:latin typeface="Constantia"/>
              </a:rPr>
              <a:t> </a:t>
            </a:r>
            <a:r>
              <a:rPr b="1" lang="ru-RU" sz="1400" spc="-1" strike="noStrike">
                <a:solidFill>
                  <a:srgbClr val="ffffff"/>
                </a:solidFill>
                <a:latin typeface="Constantia"/>
              </a:rPr>
              <a:t>с патологическими зубцами Q</a:t>
            </a:r>
            <a:r>
              <a:rPr b="0" lang="ru-RU" sz="1400" spc="-1" strike="noStrike">
                <a:solidFill>
                  <a:srgbClr val="ffffff"/>
                </a:solidFill>
                <a:latin typeface="Constantia"/>
              </a:rPr>
              <a:t> - тромботическая окклюзия коронарной артерии возникает у 80% больных с инфарктом миокарда и ведет к трансмуральному некрозу миокарда и появлению зубца Q на ЭКГ.</a:t>
            </a:r>
            <a:br>
              <a:rPr sz="1400"/>
            </a:br>
            <a:br>
              <a:rPr sz="1400"/>
            </a:br>
            <a:r>
              <a:rPr b="1" lang="ru-RU" sz="1400" spc="-1" strike="noStrike">
                <a:solidFill>
                  <a:srgbClr val="ffffff"/>
                </a:solidFill>
                <a:latin typeface="Constantia"/>
              </a:rPr>
              <a:t>Инфаркт миокарда</a:t>
            </a:r>
            <a:r>
              <a:rPr b="0" lang="ru-RU" sz="1400" spc="-1" strike="noStrike">
                <a:solidFill>
                  <a:srgbClr val="ffffff"/>
                </a:solidFill>
                <a:latin typeface="Constantia"/>
              </a:rPr>
              <a:t> </a:t>
            </a:r>
            <a:r>
              <a:rPr b="1" lang="ru-RU" sz="1400" spc="-1" strike="noStrike">
                <a:solidFill>
                  <a:srgbClr val="ffffff"/>
                </a:solidFill>
                <a:latin typeface="Constantia"/>
              </a:rPr>
              <a:t>без патологических зубцов Q</a:t>
            </a:r>
            <a:r>
              <a:rPr b="0" lang="ru-RU" sz="1400" spc="-1" strike="noStrike">
                <a:solidFill>
                  <a:srgbClr val="ffffff"/>
                </a:solidFill>
                <a:latin typeface="Constantia"/>
              </a:rPr>
              <a:t> - чаще всего возникает при спонтанном восстановлении перфузии или хорошо развитых коллатералях. В результате размер инфаркта — меньше, функция левого желудочка страдает не столь сильно, больничная летальность — ниже. Однако в связи с тем, что такие инфаркты миокарда — «незавершенные» (то есть оставшийся жизнеспособным миокард снабжается пораженной коронарной артерией), частота повторных инфарктов миокарда больше, чем при инфаркте миокарда с патологическими зубцами Q; к концу первого года летальность уравнивается. Поэтому при инфаркте миокарда без патологических зубцов Q придерживаются более активной лечебно-диагностической тактики.</a:t>
            </a:r>
            <a:br>
              <a:rPr sz="1400"/>
            </a:br>
            <a:endParaRPr b="0" lang="en-US" sz="1400" spc="-1" strike="noStrike">
              <a:solidFill>
                <a:srgbClr val="ffffff"/>
              </a:solidFill>
              <a:latin typeface="Constantia"/>
            </a:endParaRPr>
          </a:p>
        </p:txBody>
      </p:sp>
      <p:pic>
        <p:nvPicPr>
          <p:cNvPr id="210" name="Рисунок 7" descr="27O7GTCACVG3SECA05GOASCA9MO8AFCACHUW0UCABKJQH3CAWE1F0QCA1E8CX7CARKWK1RCAICP7GPCAUBFF4UCA9G6GCCCAOSZ0FCCAF4NS0XCA23T4NQCAFGGYC5CAQ93OJ5CABRIE4NCA1ATISBCALLAA47.jpg"/>
          <p:cNvPicPr/>
          <p:nvPr/>
        </p:nvPicPr>
        <p:blipFill>
          <a:blip r:embed="rId3"/>
          <a:stretch/>
        </p:blipFill>
        <p:spPr>
          <a:xfrm>
            <a:off x="7429680" y="714240"/>
            <a:ext cx="914400" cy="914400"/>
          </a:xfrm>
          <a:prstGeom prst="rect">
            <a:avLst/>
          </a:prstGeom>
          <a:ln w="0">
            <a:noFill/>
          </a:ln>
        </p:spPr>
      </p:pic>
      <p:sp>
        <p:nvSpPr>
          <p:cNvPr id="21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Заголовок 1" descr=""/>
          <p:cNvPicPr/>
          <p:nvPr/>
        </p:nvPicPr>
        <p:blipFill>
          <a:blip r:embed="rId1"/>
          <a:stretch/>
        </p:blipFill>
        <p:spPr>
          <a:xfrm>
            <a:off x="255600" y="-334800"/>
            <a:ext cx="8229600" cy="1193760"/>
          </a:xfrm>
          <a:prstGeom prst="rect">
            <a:avLst/>
          </a:prstGeom>
          <a:ln w="0">
            <a:noFill/>
          </a:ln>
        </p:spPr>
      </p:pic>
      <p:sp>
        <p:nvSpPr>
          <p:cNvPr id="309"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Устранение гиповолемии, так как происходит пропотевание жидкой части крови: реополиглюкин, полиглюкин - в объеме до </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ОО мл со скоростью 5О,О в мин.</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оррекция  кислотно-щелочного равновесия (борьба с ацидозом): натрия бикарбонат 5% до 2ОО,О;  натрия лактат.</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вторное введение обезболивающих средств. Восстановление нарушений ритма и проводимости.</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Также иногда используют аортальную контрапульсацию - один из видов вспомогательного кровообращения, операцию иссечения зоны некроза в остром периоде, гипербарическую оксигенацию.</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Атония желудка и кишечника</a:t>
            </a:r>
            <a:r>
              <a:rPr b="0" lang="ru-RU" sz="1200" spc="-1" strike="noStrike">
                <a:solidFill>
                  <a:srgbClr val="ffffff"/>
                </a:solidFill>
                <a:latin typeface="Constantia"/>
              </a:rPr>
              <a:t>. Связаны с введением больших доз атропина, наркотических анальгетиков и с нарушением микроциркуляции. Для ликвидации необходимы: промывание желудка через тонкий зонд с использованием раствора соды; постановка газоотводной трубки; введение в/в гипертонического раствора NaCl  1О% 1О,О;  паранефральная новокаиновая блокада.  Эффективен прозерин  О,О5% 1,О п/к.</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II.</a:t>
            </a:r>
            <a:r>
              <a:rPr b="1" i="1" lang="ru-RU" sz="1200" spc="-1" strike="noStrike">
                <a:solidFill>
                  <a:srgbClr val="ffffff"/>
                </a:solidFill>
                <a:latin typeface="Constantia"/>
              </a:rPr>
              <a:t>	</a:t>
            </a:r>
            <a:r>
              <a:rPr b="1" i="1" lang="ru-RU" sz="1200" spc="-1" strike="noStrike">
                <a:solidFill>
                  <a:srgbClr val="ffffff"/>
                </a:solidFill>
                <a:latin typeface="Constantia"/>
              </a:rPr>
              <a:t>Постинфарктный синдром.</a:t>
            </a:r>
            <a:r>
              <a:rPr b="0" lang="ru-RU" sz="1200" spc="-1" strike="noStrike">
                <a:solidFill>
                  <a:srgbClr val="ffffff"/>
                </a:solidFill>
                <a:latin typeface="Constantia"/>
              </a:rPr>
              <a:t> Это - осложнение аутоиммунной природы, поэтому дифференциально-диагностическим и лечебным средством является назначение глюкокортикоидов, которые дают при этом отличный эффект. Преднизолон 3О мг (6 таб.), лечить до исчезновения проявлений заболевания, затем дозу очень медленно снижать в течение 6 недель - поддерживающая терапия по 1 таб. в день. При такой схеме лечения рецидивов не бывает. Также десенсибилизирующая терапия.</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0"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Заголовок 1" descr=""/>
          <p:cNvPicPr/>
          <p:nvPr/>
        </p:nvPicPr>
        <p:blipFill>
          <a:blip r:embed="rId1"/>
          <a:stretch/>
        </p:blipFill>
        <p:spPr>
          <a:xfrm>
            <a:off x="255600" y="-334800"/>
            <a:ext cx="8229600" cy="1193760"/>
          </a:xfrm>
          <a:prstGeom prst="rect">
            <a:avLst/>
          </a:prstGeom>
          <a:ln w="0">
            <a:noFill/>
          </a:ln>
        </p:spPr>
      </p:pic>
      <p:sp>
        <p:nvSpPr>
          <p:cNvPr id="312"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ФИЗИЧЕСК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ервая фаза выздоровления после инфаркта сердечной мышцы длится примерно 8 недель. В течение этого времени зарубцовывается поврежденная инфарктом часть сердечной мышцы. </a:t>
            </a:r>
            <a:r>
              <a:rPr b="1" lang="ru-RU" sz="1200" spc="-1" strike="noStrike">
                <a:solidFill>
                  <a:srgbClr val="ffffff"/>
                </a:solidFill>
                <a:latin typeface="Constantia"/>
              </a:rPr>
              <a:t>В течение первых недель дома общая усталость естественна! </a:t>
            </a:r>
            <a:r>
              <a:rPr b="0" lang="ru-RU" sz="1200" spc="-1" strike="noStrike">
                <a:solidFill>
                  <a:srgbClr val="ffffff"/>
                </a:solidFill>
                <a:latin typeface="Constantia"/>
              </a:rPr>
              <a:t>Это вызвано повреждением сердечной мышцы и длительным постельным режимом во время больничного лечения. В первые недели дайте себе время на восстановление и избегайте любых чрезмерных напряжени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азрешенную Вам физическую нагрузку уточнит Ваш лечащий врач, и это в основном зависит от тяжести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Ниже приведены общие правила для первых недель выздоровл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Не оставляйте несделанным обычный утренний туале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Равномерно распределите свои дневные действия!</a:t>
            </a:r>
            <a:r>
              <a:rPr b="0" lang="ru-RU" sz="1200" spc="-1" strike="noStrike">
                <a:solidFill>
                  <a:srgbClr val="ffffff"/>
                </a:solidFill>
                <a:latin typeface="Constantia"/>
              </a:rPr>
              <a:t> Если устали, сразу отдохнит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Вы можете ходить по лестнице</a:t>
            </a:r>
            <a:r>
              <a:rPr b="0" lang="ru-RU" sz="1200" spc="-1" strike="noStrike">
                <a:solidFill>
                  <a:srgbClr val="ffffff"/>
                </a:solidFill>
                <a:latin typeface="Constantia"/>
              </a:rPr>
              <a:t> (если врач этого не запретил). Но все же устройте свои дела так, чтобы не приходилось в течение дня повторно подниматься и спускаться по лестниц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Гуляйте каждый день!</a:t>
            </a:r>
            <a:r>
              <a:rPr b="0" lang="ru-RU" sz="1200" spc="-1" strike="noStrike">
                <a:solidFill>
                  <a:srgbClr val="ffffff"/>
                </a:solidFill>
                <a:latin typeface="Constantia"/>
              </a:rPr>
              <a:t> Регулярная прогулка помогает эффективно восстановить энергию. Спросите у своего лечащего врача, какая нагрузка является подходящей для Вас.</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Если чувствуете себя лучше,</a:t>
            </a:r>
            <a:r>
              <a:rPr b="0" lang="ru-RU" sz="1200" spc="-1" strike="noStrike">
                <a:solidFill>
                  <a:srgbClr val="ffffff"/>
                </a:solidFill>
                <a:latin typeface="Constantia"/>
              </a:rPr>
              <a:t> можете начать выполнять легкую домашнюю работу, такую как приготовление пищи, легкие садовые работы, вытирание пыли и мытье посуд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Не поднимайте (не толкайте, не тяните) тяжести</a:t>
            </a:r>
            <a:r>
              <a:rPr b="0" lang="ru-RU" sz="1200" spc="-1" strike="noStrike">
                <a:solidFill>
                  <a:srgbClr val="ffffff"/>
                </a:solidFill>
                <a:latin typeface="Constantia"/>
              </a:rPr>
              <a:t>, до тех пор пока не разрешит врач.</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Спросите у своего лечащего врача о том, когда можно быть более</a:t>
            </a:r>
            <a:r>
              <a:rPr b="0" lang="ru-RU" sz="1200" spc="-1" strike="noStrike">
                <a:solidFill>
                  <a:srgbClr val="ffffff"/>
                </a:solidFill>
                <a:latin typeface="Constantia"/>
              </a:rPr>
              <a:t> </a:t>
            </a:r>
            <a:r>
              <a:rPr b="1" lang="ru-RU" sz="1200" spc="-1" strike="noStrike">
                <a:solidFill>
                  <a:srgbClr val="ffffff"/>
                </a:solidFill>
                <a:latin typeface="Constantia"/>
              </a:rPr>
              <a:t>активным</a:t>
            </a:r>
            <a:r>
              <a:rPr b="0" lang="ru-RU" sz="1200" spc="-1" strike="noStrike">
                <a:solidFill>
                  <a:srgbClr val="ffffff"/>
                </a:solidFill>
                <a:latin typeface="Constantia"/>
              </a:rPr>
              <a:t> - приступить к работе, управлять автомобилем, летать самолето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течении инфаркта сердечной мышцы без осложнений можно управлять автомобилем в среднем через 1 неделю после выписки из больницы домой. Рейс самолетом разрешен через 2 недели после больничного леч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Знайте, что инфаркт сердечной мышцы без осложнений не дает автоматически группы инвалидности, большинство больных могут вернуться на свои рабочие места. В некоторых случаях врач может порекомендовать сменить работу.</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Заголовок 1" descr=""/>
          <p:cNvPicPr/>
          <p:nvPr/>
        </p:nvPicPr>
        <p:blipFill>
          <a:blip r:embed="rId1"/>
          <a:stretch/>
        </p:blipFill>
        <p:spPr>
          <a:xfrm>
            <a:off x="255600" y="-334800"/>
            <a:ext cx="8229600" cy="1193760"/>
          </a:xfrm>
          <a:prstGeom prst="rect">
            <a:avLst/>
          </a:prstGeom>
          <a:ln w="0">
            <a:noFill/>
          </a:ln>
        </p:spPr>
      </p:pic>
      <p:sp>
        <p:nvSpPr>
          <p:cNvPr id="31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НАСТРОЕНИЕ 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мерно четверть больных инфарктом сердечной мышцы чувствуют после болезни угнетенность, страх, неуверенность. Это обычные реакции - не позволяйте плохому настроению вывести себя из строя! Настроение постепенно улучшится вместе с восстановлением здоровья. </a:t>
            </a:r>
            <a:r>
              <a:rPr b="1" lang="ru-RU" sz="1200" spc="-1" strike="noStrike">
                <a:solidFill>
                  <a:srgbClr val="ffffff"/>
                </a:solidFill>
                <a:latin typeface="Constantia"/>
              </a:rPr>
              <a:t>Не теряйте мужества</a:t>
            </a:r>
            <a:r>
              <a:rPr b="0" lang="ru-RU" sz="1200" spc="-1" strike="noStrike">
                <a:solidFill>
                  <a:srgbClr val="ffffff"/>
                </a:solidFill>
                <a:latin typeface="Constantia"/>
              </a:rPr>
              <a:t>!</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екомендации по улучшению настроения и выработке позитивного отнош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днимайтесь каждое утро из постели</a:t>
            </a:r>
            <a:r>
              <a:rPr b="0" lang="ru-RU" sz="1200" spc="-1" strike="noStrike">
                <a:solidFill>
                  <a:srgbClr val="ffffff"/>
                </a:solidFill>
                <a:latin typeface="Constantia"/>
              </a:rPr>
              <a:t> и делайте обычный утренний туалет, одевайтесь. Не оставайтесь в постели на целый ден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Старайтесь каждый день гулять на свежем воздух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жедневная умеренная физическая нагрузка поможет восстановить запасы энергии и чувствовать себя более здоровы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делитесь своими чувствами</a:t>
            </a:r>
            <a:r>
              <a:rPr b="0" lang="ru-RU" sz="1200" spc="-1" strike="noStrike">
                <a:solidFill>
                  <a:srgbClr val="ffffff"/>
                </a:solidFill>
                <a:latin typeface="Constantia"/>
              </a:rPr>
              <a:t> с близкими (с семьей, друзьями), дайте им возможность поддержать Вас! Наслаждайтесь добрым обществом друзей (в умеренных масштабах, чтобы не утомить себ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Хорошо отдыхайте</a:t>
            </a:r>
            <a:r>
              <a:rPr b="0" lang="ru-RU" sz="1200" spc="-1" strike="noStrike">
                <a:solidFill>
                  <a:srgbClr val="ffffff"/>
                </a:solidFill>
                <a:latin typeface="Constantia"/>
              </a:rPr>
              <a:t> - полноценный ночной сон очень важен! Плохой сон делает Вас уставшим и раздражительным на весь последующий ден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 возможности присоединитесь к программе восстановительного лечения для больных инфарктом сердечной мышцы.</a:t>
            </a:r>
            <a:r>
              <a:rPr b="0" lang="ru-RU" sz="1200" spc="-1" strike="noStrike">
                <a:solidFill>
                  <a:srgbClr val="ffffff"/>
                </a:solidFill>
                <a:latin typeface="Constantia"/>
              </a:rPr>
              <a:t> Участвуя в специально руководимой программе, Вы получите знания о своем заболевании, научитесь сами регулировать свою физическую нагрузку, и Ваше настроение обязательно улучшитс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сли у Вас возникнут вопросы о своем здоровье, без колебаний</a:t>
            </a:r>
            <a:r>
              <a:rPr b="1" lang="ru-RU" sz="1200" spc="-1" strike="noStrike">
                <a:solidFill>
                  <a:srgbClr val="ffffff"/>
                </a:solidFill>
                <a:latin typeface="Constantia"/>
              </a:rPr>
              <a:t> задайте их своему врачу!</a:t>
            </a:r>
            <a:r>
              <a:rPr b="0" lang="ru-RU" sz="1200" spc="-1" strike="noStrike">
                <a:solidFill>
                  <a:srgbClr val="ffffff"/>
                </a:solidFill>
                <a:latin typeface="Constantia"/>
              </a:rPr>
              <a:t> Получив ответы на свои вопросы, Вы будете меньше беспокоиться и избежите существенного стресса и чувства неуверенност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сли чувствуете, что у Вас тяжелое настроение или Вы эмоционально нестабильны, то поговорите об этом со своим лечащим врачом. Есть лекарства, которые могут помочь Вам улучшить настрое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Заголовок 1" descr=""/>
          <p:cNvPicPr/>
          <p:nvPr/>
        </p:nvPicPr>
        <p:blipFill>
          <a:blip r:embed="rId1"/>
          <a:stretch/>
        </p:blipFill>
        <p:spPr>
          <a:xfrm>
            <a:off x="255600" y="-334800"/>
            <a:ext cx="8229600" cy="1193760"/>
          </a:xfrm>
          <a:prstGeom prst="rect">
            <a:avLst/>
          </a:prstGeom>
          <a:ln w="0">
            <a:noFill/>
          </a:ln>
        </p:spPr>
      </p:pic>
      <p:sp>
        <p:nvSpPr>
          <p:cNvPr id="31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ЕКСУАЛЬН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восстановлении после инфаркта сердечной мышцы Ваша цель - по возможности полноценно включиться в повседневную жизнь, также и в сексуальных отношениях. Интимные отношения после инфаркта сердечной мышцы ни в коем случае не противопоказаны и могут во многом помочь восстановлению Вашего настроения и в поддержке позитивного отношения к жизни. Сексуальная активность, которая была до болезни, обычно восстанавливается за короткое врем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мысле физической нагрузки интимный контакт требует, конечно, определенного физического напряжения. Рассчитано, что количество энергии, которое тратится на сексуальный контакт с супругом или постоянным сексуальным партнером, сравнимо с энергией, которая расходуется при подъеме по лестнице на 1-2 этажа или при быстрой ходьбе на 0,8 к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Если у Вас при ходьбе по лестнице или при быстрой ходьбе возникают боли в груди, чувство недостатка воздуха или сильная усталость, проконсультируйтесь до возобновления активной сексуальной жизни со своим лечащим врачо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У сексуальных отношений имеется как физическая, так и эмоциональная сторона. Не забывайте, что Ваш партнер может значительно поддержать Вас в начальный период восстановления после инфаркта сердечной мышцы, когда Вы чувствуете себя неуверенно и не умеете еще точно оценить свою физическую форму и переносимость нагрузки.</a:t>
            </a:r>
            <a:endParaRPr b="0" lang="en-US" sz="1200" spc="-1" strike="noStrike">
              <a:solidFill>
                <a:srgbClr val="ffffff"/>
              </a:solidFill>
              <a:latin typeface="Constantia"/>
            </a:endParaRPr>
          </a:p>
        </p:txBody>
      </p:sp>
      <p:sp>
        <p:nvSpPr>
          <p:cNvPr id="31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Заголовок 1" descr=""/>
          <p:cNvPicPr/>
          <p:nvPr/>
        </p:nvPicPr>
        <p:blipFill>
          <a:blip r:embed="rId1"/>
          <a:stretch/>
        </p:blipFill>
        <p:spPr>
          <a:xfrm>
            <a:off x="255600" y="-334800"/>
            <a:ext cx="8229600" cy="1193760"/>
          </a:xfrm>
          <a:prstGeom prst="rect">
            <a:avLst/>
          </a:prstGeom>
          <a:ln w="0">
            <a:noFill/>
          </a:ln>
        </p:spPr>
      </p:pic>
      <p:sp>
        <p:nvSpPr>
          <p:cNvPr id="32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ЕКСУАЛЬН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екомендаци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Открыто поговорите с партнером, если чувствуете неуверенность или страх. Не торопитесь и не перенапрягайтесь! Дайте себе время! Понимающее отношение партнера к Вам здесь будет большой помощь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Попытайтесь в раннем периоде восстановления после инфаркта вступать в сексуальный контакт только тогда, когда Вы отдохнули и чувствуете себя физически хорош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Учитывайте, что некоторые лекарства, которые Вы принимаете, а также Ваша неуверенность и вызванная этим нервозность могут уменьшать сексуальную активность и способность. Откровенно обсудите эти проблемы со своим лечащим врачом, иногда выбором лекарств можно значительно ис­править ситуаци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Знайте, что влияющие на Вашу сексуальность лекарства, такие как </a:t>
            </a:r>
            <a:r>
              <a:rPr b="1" lang="ru-RU" sz="1200" spc="-1" strike="noStrike">
                <a:solidFill>
                  <a:srgbClr val="ffffff"/>
                </a:solidFill>
                <a:latin typeface="Constantia"/>
              </a:rPr>
              <a:t>силде-нафил</a:t>
            </a:r>
            <a:r>
              <a:rPr b="0" lang="ru-RU" sz="1200" spc="-1" strike="noStrike">
                <a:solidFill>
                  <a:srgbClr val="ffffff"/>
                </a:solidFill>
                <a:latin typeface="Constantia"/>
              </a:rPr>
              <a:t> (</a:t>
            </a:r>
            <a:r>
              <a:rPr b="0" lang="en-US" sz="1200" spc="-1" strike="noStrike">
                <a:solidFill>
                  <a:srgbClr val="ffffff"/>
                </a:solidFill>
                <a:latin typeface="Constantia"/>
              </a:rPr>
              <a:t>Viagra</a:t>
            </a:r>
            <a:r>
              <a:rPr b="0" lang="ru-RU" sz="1200" spc="-1" strike="noStrike">
                <a:solidFill>
                  <a:srgbClr val="ffffff"/>
                </a:solidFill>
                <a:latin typeface="Constantia"/>
              </a:rPr>
              <a:t>), </a:t>
            </a:r>
            <a:r>
              <a:rPr b="1" lang="ru-RU" sz="1200" spc="-1" strike="noStrike">
                <a:solidFill>
                  <a:srgbClr val="ffffff"/>
                </a:solidFill>
                <a:latin typeface="Constantia"/>
              </a:rPr>
              <a:t>варденафил</a:t>
            </a:r>
            <a:r>
              <a:rPr b="0" lang="ru-RU" sz="1200" spc="-1" strike="noStrike">
                <a:solidFill>
                  <a:srgbClr val="ffffff"/>
                </a:solidFill>
                <a:latin typeface="Constantia"/>
              </a:rPr>
              <a:t> (</a:t>
            </a:r>
            <a:r>
              <a:rPr b="0" lang="en-US" sz="1200" spc="-1" strike="noStrike">
                <a:solidFill>
                  <a:srgbClr val="ffffff"/>
                </a:solidFill>
                <a:latin typeface="Constantia"/>
              </a:rPr>
              <a:t>Levitra</a:t>
            </a:r>
            <a:r>
              <a:rPr b="0" lang="ru-RU" sz="1200" spc="-1" strike="noStrike">
                <a:solidFill>
                  <a:srgbClr val="ffffff"/>
                </a:solidFill>
                <a:latin typeface="Constantia"/>
              </a:rPr>
              <a:t>), </a:t>
            </a:r>
            <a:r>
              <a:rPr b="1" lang="ru-RU" sz="1200" spc="-1" strike="noStrike">
                <a:solidFill>
                  <a:srgbClr val="ffffff"/>
                </a:solidFill>
                <a:latin typeface="Constantia"/>
              </a:rPr>
              <a:t>тадалафил</a:t>
            </a:r>
            <a:r>
              <a:rPr b="0" lang="ru-RU" sz="1200" spc="-1" strike="noStrike">
                <a:solidFill>
                  <a:srgbClr val="ffffff"/>
                </a:solidFill>
                <a:latin typeface="Constantia"/>
              </a:rPr>
              <a:t> (</a:t>
            </a:r>
            <a:r>
              <a:rPr b="0" lang="en-US" sz="1200" spc="-1" strike="noStrike">
                <a:solidFill>
                  <a:srgbClr val="ffffff"/>
                </a:solidFill>
                <a:latin typeface="Constantia"/>
              </a:rPr>
              <a:t>Cialis</a:t>
            </a:r>
            <a:r>
              <a:rPr b="0" lang="ru-RU" sz="1200" spc="-1" strike="noStrike">
                <a:solidFill>
                  <a:srgbClr val="ffffff"/>
                </a:solidFill>
                <a:latin typeface="Constantia"/>
              </a:rPr>
              <a:t>) </a:t>
            </a:r>
            <a:r>
              <a:rPr b="1" lang="ru-RU" sz="1200" spc="-1" strike="noStrike">
                <a:solidFill>
                  <a:srgbClr val="ffffff"/>
                </a:solidFill>
                <a:latin typeface="Constantia"/>
              </a:rPr>
              <a:t>ни в коем случае нельзя применять одновременно с нитропрепаратами!</a:t>
            </a:r>
            <a:r>
              <a:rPr b="0" lang="ru-RU" sz="1200" spc="-1" strike="noStrike">
                <a:solidFill>
                  <a:srgbClr val="ffffff"/>
                </a:solidFill>
                <a:latin typeface="Constantia"/>
              </a:rPr>
              <a:t> Эти препараты усиливают действие нитропрепаратов и поэтому могут вызвать жизнеопасную гипотензию. Промежуток времени между приемом вышеперечисленных препаратов и приемом нитропрепаратов должен быть как минимум 24 часа, однако обязательно проконсультируйтесь предварительно со своим врачом.</a:t>
            </a:r>
            <a:endParaRPr b="0" lang="en-US" sz="1200" spc="-1" strike="noStrike">
              <a:solidFill>
                <a:srgbClr val="ffffff"/>
              </a:solidFill>
              <a:latin typeface="Constantia"/>
            </a:endParaRPr>
          </a:p>
        </p:txBody>
      </p:sp>
      <p:sp>
        <p:nvSpPr>
          <p:cNvPr id="32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Заголовок 1" descr=""/>
          <p:cNvPicPr/>
          <p:nvPr/>
        </p:nvPicPr>
        <p:blipFill>
          <a:blip r:embed="rId1"/>
          <a:stretch/>
        </p:blipFill>
        <p:spPr>
          <a:xfrm>
            <a:off x="255600" y="-334800"/>
            <a:ext cx="8229600" cy="1193760"/>
          </a:xfrm>
          <a:prstGeom prst="rect">
            <a:avLst/>
          </a:prstGeom>
          <a:ln w="0">
            <a:noFill/>
          </a:ln>
        </p:spPr>
      </p:pic>
      <p:sp>
        <p:nvSpPr>
          <p:cNvPr id="32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ЧТО ВЫ МОЖЕТЕ СДЕЛАТЬ САМИ ДЛЯ ПРЕДОТВРАЩЕНИЯ</a:t>
            </a:r>
            <a:r>
              <a:rPr b="0" lang="ru-RU" sz="1200" spc="-1" strike="noStrike">
                <a:solidFill>
                  <a:srgbClr val="ffffff"/>
                </a:solidFill>
                <a:latin typeface="Constantia"/>
              </a:rPr>
              <a:t> </a:t>
            </a:r>
            <a:r>
              <a:rPr b="1" lang="ru-RU" sz="1200" spc="-1" strike="noStrike">
                <a:solidFill>
                  <a:srgbClr val="ffffff"/>
                </a:solidFill>
                <a:latin typeface="Constantia"/>
              </a:rPr>
              <a:t>ПОВТОРЕНИЯ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Сделайте свой стиль жизни более здоровым. Следует знать, каковы факторы риска возникновения инфаркта сердечной мышцы и как их уменьши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Регулярно принимайте лекарства, которые Вам выписал врач.</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Регулярно посещайте врача (семейного врача, кардиолога).</a:t>
            </a:r>
            <a:endParaRPr b="0" lang="en-US" sz="1200" spc="-1" strike="noStrike">
              <a:solidFill>
                <a:srgbClr val="ffffff"/>
              </a:solidFill>
              <a:latin typeface="Constantia"/>
            </a:endParaRPr>
          </a:p>
        </p:txBody>
      </p:sp>
      <p:pic>
        <p:nvPicPr>
          <p:cNvPr id="325" name="Рисунок 4" descr="IA3VSNCA45VPEMCAV7QJ5BCAFUB53HCA33L9U7CAAOU9U5CAGCO2MNCANSSRFLCAU9RMG8CA90LCULCAG39G42CAOMKKIECA3MR6NUCATHYETWCAFPZUOZCALGXQDACAYAXMMQCAW366PBCAE7LRLVCA7C2DM0.jpg"/>
          <p:cNvPicPr/>
          <p:nvPr/>
        </p:nvPicPr>
        <p:blipFill>
          <a:blip r:embed="rId2"/>
          <a:stretch/>
        </p:blipFill>
        <p:spPr>
          <a:xfrm>
            <a:off x="3286080" y="2786040"/>
            <a:ext cx="2489400" cy="1631880"/>
          </a:xfrm>
          <a:prstGeom prst="rect">
            <a:avLst/>
          </a:prstGeom>
          <a:ln w="0">
            <a:noFill/>
          </a:ln>
        </p:spPr>
      </p:pic>
      <p:sp>
        <p:nvSpPr>
          <p:cNvPr id="32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Заголовок 1" descr=""/>
          <p:cNvPicPr/>
          <p:nvPr/>
        </p:nvPicPr>
        <p:blipFill>
          <a:blip r:embed="rId1"/>
          <a:stretch/>
        </p:blipFill>
        <p:spPr>
          <a:xfrm>
            <a:off x="450720" y="573120"/>
            <a:ext cx="7894800" cy="858960"/>
          </a:xfrm>
          <a:prstGeom prst="rect">
            <a:avLst/>
          </a:prstGeom>
          <a:ln w="0">
            <a:noFill/>
          </a:ln>
        </p:spPr>
      </p:pic>
      <p:sp>
        <p:nvSpPr>
          <p:cNvPr id="213"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1" lang="ru-RU" sz="1200" spc="-1" strike="noStrike">
                <a:solidFill>
                  <a:srgbClr val="ffffff"/>
                </a:solidFill>
                <a:latin typeface="Constantia"/>
              </a:rPr>
              <a:t> </a:t>
            </a:r>
            <a:r>
              <a:rPr b="1" lang="ru-RU" sz="1200" spc="-1" strike="noStrike">
                <a:solidFill>
                  <a:srgbClr val="ffffff"/>
                </a:solidFill>
                <a:latin typeface="Constantia"/>
              </a:rPr>
              <a:t>Зона инфаркта</a:t>
            </a:r>
            <a:r>
              <a:rPr b="0" lang="ru-RU" sz="1200" spc="-1" strike="noStrike">
                <a:solidFill>
                  <a:srgbClr val="ffffff"/>
                </a:solidFill>
                <a:latin typeface="Constantia"/>
              </a:rPr>
              <a:t> в это время носит мозаичный характер, т.е. среди погибших клеток встречаются также частично или даже полностью работоспособные миоциты (сердечные клетки). На вторые сутки зона постепенно отграничивается от здоровой ткани и между ними формируется периинфарктная зона.</a:t>
            </a:r>
            <a:br>
              <a:rPr sz="1200"/>
            </a:br>
            <a:br>
              <a:rPr sz="1200"/>
            </a:br>
            <a:r>
              <a:rPr b="0" lang="ru-RU" sz="1200" spc="-1" strike="noStrike">
                <a:solidFill>
                  <a:srgbClr val="ffffff"/>
                </a:solidFill>
                <a:latin typeface="Constantia"/>
              </a:rPr>
              <a:t>Часто в периинфарктной зоне выделяют зону очаговой дистрофии, граничащую с некротической зоной и зону обратимой ишемии, примыкающую к участкам неповрежденного миокарда. В зоне очаговой дистрофии все структурные и функциональные изменения в большинстве случаев могут быть восстановлены (частично или даже полностью).</a:t>
            </a:r>
            <a:br>
              <a:rPr sz="1200"/>
            </a:br>
            <a:br>
              <a:rPr sz="1200"/>
            </a:br>
            <a:r>
              <a:rPr b="0" lang="ru-RU" sz="1200" spc="-1" strike="noStrike">
                <a:solidFill>
                  <a:srgbClr val="ffffff"/>
                </a:solidFill>
                <a:latin typeface="Constantia"/>
              </a:rPr>
              <a:t>В зоне обратимой ишемии изменения могут быть полностью обратимы. После отграничения зоны инфаркта поступает постепенное размягчение и растворение погибших миоцитов, элементов соединительной ткани, участков сосудов, нервных окончаний. Примерно на 10 сутки при крупноочаговом инфаркте миокарда на периферии очага некроза уже имеется молодая грануляционная ткань, из которой в дальнейшем будет формироваться соединительная ткань, выполняющая рубец.</a:t>
            </a:r>
            <a:br>
              <a:rPr sz="1200"/>
            </a:br>
            <a:br>
              <a:rPr sz="1200"/>
            </a:br>
            <a:r>
              <a:rPr b="0" lang="ru-RU" sz="1200" spc="-1" strike="noStrike">
                <a:solidFill>
                  <a:srgbClr val="ffffff"/>
                </a:solidFill>
                <a:latin typeface="Constantia"/>
              </a:rPr>
              <a:t>Заместительные процессы идут от периферии к центру, поэтому в центре очага какое-то время могут еще оставаться очаги размягчения, а это участок, способный растягиваться, формируя аневризму сердца или даже разрываться при грубом несоблюдении двигательного режима или других нарушениях. Плотная рубцовая ткань в месте некроза окончательно формируется примерно через 3-4 месяца и позже. При мелкоочаговом инфаркте миокарда рубец может образовываться в более ранние сроки. Скорость рубцевания зависит не только от размеров очага некроза, но и от состояния коронарного кровообращения в миокарде вообще и в периинфарктных участках особенно.</a:t>
            </a:r>
            <a:br>
              <a:rPr sz="1200"/>
            </a:br>
            <a:br>
              <a:rPr sz="1200"/>
            </a:br>
            <a:r>
              <a:rPr b="0" lang="ru-RU" sz="1200" spc="-1" strike="noStrike">
                <a:solidFill>
                  <a:srgbClr val="ffffff"/>
                </a:solidFill>
                <a:latin typeface="Constantia"/>
              </a:rPr>
              <a:t>Кроме этого, имеют значение возраст больного, уровень АД, двигательный режим, состояние обменных процессов, обеспеченность пациента полноценными аминокислотами, витаминами. адекватность проводимого лечения, наличие сопутствующих заболеваний. Все это определяет интенсивность восстановительных процессов в организме вообще и в миокарде в частности.</a:t>
            </a:r>
            <a:br>
              <a:rPr sz="1200"/>
            </a:br>
            <a:br>
              <a:rPr sz="1200"/>
            </a:br>
            <a:r>
              <a:rPr b="0" lang="ru-RU" sz="1200" spc="-1" strike="noStrike">
                <a:solidFill>
                  <a:srgbClr val="ffffff"/>
                </a:solidFill>
                <a:latin typeface="Constantia"/>
              </a:rPr>
              <a:t>Даже сравнительно небольшая нагрузка в период формирования первичного рубца, может привести к развитию аневризмы сердца (выпячиванию стенки желудочка, формированию своеобразного мешка), а уже через месяц та же нагрузка оказывается полезной и даже необходимой для укрепления сердечной мышцы и формированию более прочного рубца. Но продолжим разговор об инфаркте.</a:t>
            </a:r>
            <a:br>
              <a:rPr sz="1200"/>
            </a:br>
            <a:endParaRPr b="0" lang="en-US" sz="1200" spc="-1" strike="noStrike">
              <a:solidFill>
                <a:srgbClr val="ffffff"/>
              </a:solidFill>
              <a:latin typeface="Constantia"/>
            </a:endParaRPr>
          </a:p>
        </p:txBody>
      </p:sp>
      <p:pic>
        <p:nvPicPr>
          <p:cNvPr id="214" name="Рисунок 3" descr="9RLT09CA6PEFQSCAJQ8LNHCAMWUU5PCAN7I2D9CA78SA04CA93L240CABH1Y1JCAFWQ66ECAHMZCN0CAI4ROHOCAEPFVFYCAOPTKOPCA17NTB6CA4OPU00CAFPPZ5YCATVS7GHCA2Y6I5ACAOKKM0WCA1FYD4G.jpg"/>
          <p:cNvPicPr/>
          <p:nvPr/>
        </p:nvPicPr>
        <p:blipFill>
          <a:blip r:embed="rId2"/>
          <a:stretch/>
        </p:blipFill>
        <p:spPr>
          <a:xfrm>
            <a:off x="6858000" y="571680"/>
            <a:ext cx="1357200" cy="925200"/>
          </a:xfrm>
          <a:prstGeom prst="rect">
            <a:avLst/>
          </a:prstGeom>
          <a:ln w="0">
            <a:noFill/>
          </a:ln>
        </p:spPr>
      </p:pic>
      <p:sp>
        <p:nvSpPr>
          <p:cNvPr id="21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Заголовок 1" descr=""/>
          <p:cNvPicPr/>
          <p:nvPr/>
        </p:nvPicPr>
        <p:blipFill>
          <a:blip r:embed="rId1"/>
          <a:stretch/>
        </p:blipFill>
        <p:spPr>
          <a:xfrm>
            <a:off x="457200" y="444600"/>
            <a:ext cx="8028000" cy="1055520"/>
          </a:xfrm>
          <a:prstGeom prst="rect">
            <a:avLst/>
          </a:prstGeom>
          <a:ln w="0">
            <a:noFill/>
          </a:ln>
        </p:spPr>
      </p:pic>
      <p:sp>
        <p:nvSpPr>
          <p:cNvPr id="217" name="PlaceHolder 1"/>
          <p:cNvSpPr>
            <a:spLocks noGrp="1"/>
          </p:cNvSpPr>
          <p:nvPr>
            <p:ph type="subTitle"/>
          </p:nvPr>
        </p:nvSpPr>
        <p:spPr>
          <a:xfrm>
            <a:off x="356760" y="1071360"/>
            <a:ext cx="8215560" cy="5500440"/>
          </a:xfrm>
          <a:prstGeom prst="rect">
            <a:avLst/>
          </a:prstGeom>
          <a:noFill/>
          <a:ln w="0">
            <a:noFill/>
          </a:ln>
        </p:spPr>
        <p:txBody>
          <a:bodyPr lIns="0" rIns="1836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лощадь и локализация инфаркта сердечной мышцы зависят от того, в какой венечной артерии прекращается кровоток, насколько большая часть сердечной мышцы затронута, и оттого, сколько времени потребуется до начала леч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Можно выделить следующие формы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 по месторасположению (какая область сердечной мышцы затрону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передней стенки или антериор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нижней стенки или инфериор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боковой стенки или латер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межжелудочковой перегородки или септ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верхушечной области или апик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Одновременно могут быть повреждены различные области сердечной мышцы (например, передняя стенка и верхушечная область).</a:t>
            </a:r>
            <a:endParaRPr b="0" lang="en-US" sz="1200" spc="-1" strike="noStrike">
              <a:solidFill>
                <a:srgbClr val="ffffff"/>
              </a:solidFill>
              <a:latin typeface="Constantia"/>
            </a:endParaRPr>
          </a:p>
        </p:txBody>
      </p:sp>
      <p:pic>
        <p:nvPicPr>
          <p:cNvPr id="218" name="Picture 2" descr=""/>
          <p:cNvPicPr/>
          <p:nvPr/>
        </p:nvPicPr>
        <p:blipFill>
          <a:blip r:embed="rId2"/>
          <a:stretch/>
        </p:blipFill>
        <p:spPr>
          <a:xfrm>
            <a:off x="642960" y="1071720"/>
            <a:ext cx="1409760" cy="2533320"/>
          </a:xfrm>
          <a:prstGeom prst="rect">
            <a:avLst/>
          </a:prstGeom>
          <a:ln w="0">
            <a:noFill/>
          </a:ln>
        </p:spPr>
      </p:pic>
      <p:pic>
        <p:nvPicPr>
          <p:cNvPr id="219" name="Picture 3" descr=""/>
          <p:cNvPicPr/>
          <p:nvPr/>
        </p:nvPicPr>
        <p:blipFill>
          <a:blip r:embed="rId3"/>
          <a:stretch/>
        </p:blipFill>
        <p:spPr>
          <a:xfrm>
            <a:off x="2357280" y="1071720"/>
            <a:ext cx="1486080" cy="2533320"/>
          </a:xfrm>
          <a:prstGeom prst="rect">
            <a:avLst/>
          </a:prstGeom>
          <a:ln w="0">
            <a:noFill/>
          </a:ln>
        </p:spPr>
      </p:pic>
      <p:pic>
        <p:nvPicPr>
          <p:cNvPr id="220" name="Picture 4" descr=""/>
          <p:cNvPicPr/>
          <p:nvPr/>
        </p:nvPicPr>
        <p:blipFill>
          <a:blip r:embed="rId4"/>
          <a:stretch/>
        </p:blipFill>
        <p:spPr>
          <a:xfrm>
            <a:off x="4143240" y="1071720"/>
            <a:ext cx="1428840" cy="2576520"/>
          </a:xfrm>
          <a:prstGeom prst="rect">
            <a:avLst/>
          </a:prstGeom>
          <a:ln w="0">
            <a:noFill/>
          </a:ln>
        </p:spPr>
      </p:pic>
      <p:sp>
        <p:nvSpPr>
          <p:cNvPr id="22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1" descr=""/>
          <p:cNvPicPr/>
          <p:nvPr/>
        </p:nvPicPr>
        <p:blipFill>
          <a:blip r:embed="rId1"/>
          <a:stretch/>
        </p:blipFill>
        <p:spPr>
          <a:xfrm>
            <a:off x="457200" y="444600"/>
            <a:ext cx="8028000" cy="1055520"/>
          </a:xfrm>
          <a:prstGeom prst="rect">
            <a:avLst/>
          </a:prstGeom>
          <a:ln w="0">
            <a:noFill/>
          </a:ln>
        </p:spPr>
      </p:pic>
      <p:sp>
        <p:nvSpPr>
          <p:cNvPr id="223" name="PlaceHolder 1"/>
          <p:cNvSpPr>
            <a:spLocks noGrp="1"/>
          </p:cNvSpPr>
          <p:nvPr>
            <p:ph type="subTitle"/>
          </p:nvPr>
        </p:nvSpPr>
        <p:spPr>
          <a:xfrm>
            <a:off x="428760" y="1143000"/>
            <a:ext cx="8215200" cy="3000240"/>
          </a:xfrm>
          <a:prstGeom prst="rect">
            <a:avLst/>
          </a:prstGeom>
          <a:noFill/>
          <a:ln w="0">
            <a:noFill/>
          </a:ln>
        </p:spPr>
        <p:txBody>
          <a:bodyPr lIns="0" rIns="1836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2) по степени тяжести повреждения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роникающий илитрансмуральный инфаркт. Сердечная мышца в области инфаркта погибает и постепенно замещается соединительной тканью. Причиной этого является полное прекращение кровотока в венечной артерии. На «сердечном фильме» или электрокардиограмме (ЭКГ) и в анализах крови наблюдаются изменения, типичные для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непроникающий или нетрансмуральный инфаркт. Повреждение сердечной мышцы несколько меньшего объема. Поэтому такой инфаркт называется иногда микроинфарктом. Кровоток в венечной артерии прекра­щен не полностью, а частично восстановился (или эффект оказала кровь, полу­ченная из дополнительных кровеносных сосудов). В анализах крови наблюдаются типичные для инфаркта сердечной мышцы изменения, однако ЭКГ отличается от таковой при проникающем инфаркте. Также и тактика лечения при инфаркте сердечной мышцы зависит от его размер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224"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Заголовок 1" descr=""/>
          <p:cNvPicPr/>
          <p:nvPr/>
        </p:nvPicPr>
        <p:blipFill>
          <a:blip r:embed="rId1"/>
          <a:stretch/>
        </p:blipFill>
        <p:spPr>
          <a:xfrm>
            <a:off x="457200" y="444600"/>
            <a:ext cx="8028000" cy="1055520"/>
          </a:xfrm>
          <a:prstGeom prst="rect">
            <a:avLst/>
          </a:prstGeom>
          <a:ln w="0">
            <a:noFill/>
          </a:ln>
        </p:spPr>
      </p:pic>
      <p:sp>
        <p:nvSpPr>
          <p:cNvPr id="226"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Самым характерным </a:t>
            </a:r>
            <a:r>
              <a:rPr b="1" lang="ru-RU" sz="1200" spc="-1" strike="noStrike">
                <a:solidFill>
                  <a:srgbClr val="ffffff"/>
                </a:solidFill>
                <a:latin typeface="Constantia"/>
              </a:rPr>
              <a:t>симптомом инфаркта миокарда</a:t>
            </a:r>
            <a:r>
              <a:rPr b="0" lang="ru-RU" sz="1200" spc="-1" strike="noStrike">
                <a:solidFill>
                  <a:srgbClr val="ffffff"/>
                </a:solidFill>
                <a:latin typeface="Constantia"/>
              </a:rPr>
              <a:t> является боль. </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оли в типичных случаях локализуются в левой части грудной клетки, за грудиной, иногда в верхней части живота или под лопаткой.</a:t>
            </a:r>
            <a:br>
              <a:rPr sz="1200"/>
            </a:br>
            <a:br>
              <a:rPr sz="1200"/>
            </a:br>
            <a:r>
              <a:rPr b="0" lang="ru-RU" sz="1200" spc="-1" strike="noStrike">
                <a:solidFill>
                  <a:srgbClr val="ffffff"/>
                </a:solidFill>
                <a:latin typeface="Constantia"/>
              </a:rPr>
              <a:t>Классическим случаем считается сильная загрудинная боль, длительностью более 30 минут, не снимающаяся </a:t>
            </a:r>
            <a:r>
              <a:rPr b="0" lang="ru-RU" sz="1200" spc="-1" strike="noStrike" u="sng">
                <a:solidFill>
                  <a:srgbClr val="e2d700"/>
                </a:solidFill>
                <a:uFillTx/>
                <a:latin typeface="Constantia"/>
                <a:hlinkClick r:id="rId2"/>
              </a:rPr>
              <a:t>нитроглицерином</a:t>
            </a:r>
            <a:r>
              <a:rPr b="0" lang="ru-RU" sz="1200" spc="-1" strike="noStrike">
                <a:solidFill>
                  <a:srgbClr val="ffffff"/>
                </a:solidFill>
                <a:latin typeface="Constantia"/>
              </a:rPr>
              <a:t>.</a:t>
            </a:r>
            <a:br>
              <a:rPr sz="1200"/>
            </a:br>
            <a:br>
              <a:rPr sz="1200"/>
            </a:br>
            <a:r>
              <a:rPr b="0" lang="ru-RU" sz="1200" spc="-1" strike="noStrike">
                <a:solidFill>
                  <a:srgbClr val="ffffff"/>
                </a:solidFill>
                <a:latin typeface="Constantia"/>
              </a:rPr>
              <a:t>Иногда вместо болей появляется чувство</a:t>
            </a:r>
            <a:r>
              <a:rPr b="1" lang="ru-RU" sz="1200" spc="-1" strike="noStrike">
                <a:solidFill>
                  <a:srgbClr val="ffffff"/>
                </a:solidFill>
                <a:latin typeface="Constantia"/>
              </a:rPr>
              <a:t> жжения</a:t>
            </a:r>
            <a:r>
              <a:rPr b="0" lang="ru-RU" sz="1200" spc="-1" strike="noStrike">
                <a:solidFill>
                  <a:srgbClr val="ffffff"/>
                </a:solidFill>
                <a:latin typeface="Constantia"/>
              </a:rPr>
              <a:t>, умеренного давления, сжатия за грудиной, в грудной клетке.</a:t>
            </a:r>
            <a:br>
              <a:rPr sz="1200"/>
            </a:br>
            <a:br>
              <a:rPr sz="1200"/>
            </a:br>
            <a:r>
              <a:rPr b="0" lang="ru-RU" sz="1200" spc="-1" strike="noStrike">
                <a:solidFill>
                  <a:srgbClr val="ffffff"/>
                </a:solidFill>
                <a:latin typeface="Constantia"/>
              </a:rPr>
              <a:t>Часто боли протекают волнообразно, длительно, то несколько ослабевая, даже прекращаясь, то снова усиливаясь.</a:t>
            </a:r>
            <a:br>
              <a:rPr sz="1200"/>
            </a:br>
            <a:r>
              <a:rPr b="0" lang="ru-RU" sz="1200" spc="-1" strike="noStrike">
                <a:solidFill>
                  <a:srgbClr val="ffffff"/>
                </a:solidFill>
                <a:latin typeface="Constantia"/>
              </a:rPr>
              <a:t>Часто боли не имеют четких границ и носят разлитой, распространенный характер.</a:t>
            </a:r>
            <a:br>
              <a:rPr sz="1200"/>
            </a:br>
            <a:r>
              <a:rPr b="0" lang="ru-RU" sz="1200" spc="-1" strike="noStrike">
                <a:solidFill>
                  <a:srgbClr val="ffffff"/>
                </a:solidFill>
                <a:latin typeface="Constantia"/>
              </a:rPr>
              <a:t>Считается, что боли при инфаркте не должны быть связаны с актом дыхания.</a:t>
            </a:r>
            <a:br>
              <a:rPr sz="1200"/>
            </a:br>
            <a:r>
              <a:rPr b="0" lang="ru-RU" sz="1200" spc="-1" strike="noStrike">
                <a:solidFill>
                  <a:srgbClr val="ffffff"/>
                </a:solidFill>
                <a:latin typeface="Constantia"/>
              </a:rPr>
              <a:t>Однако это бывает не всегда и, увы, зачастую приводит к запоздалой диагностике инфаркта миокарда, так как врачи не ассоциируют эти боли с сердечной патологией. Это тем более огорчительно, что подобная симптоматика бывает, как правило, при обширных и глубоких инфарктах миокарда и объясняется возникающим реактивным раздражением плевры.</a:t>
            </a:r>
            <a:br>
              <a:rPr sz="1200"/>
            </a:br>
            <a:br>
              <a:rPr sz="1200"/>
            </a:br>
            <a:r>
              <a:rPr b="0" lang="ru-RU" sz="1200" spc="-1" strike="noStrike">
                <a:solidFill>
                  <a:srgbClr val="ffffff"/>
                </a:solidFill>
                <a:latin typeface="Constantia"/>
              </a:rPr>
              <a:t>Помимо болевого синдрома для </a:t>
            </a:r>
            <a:r>
              <a:rPr b="1" lang="ru-RU" sz="1200" spc="-1" strike="noStrike">
                <a:solidFill>
                  <a:srgbClr val="ffffff"/>
                </a:solidFill>
                <a:latin typeface="Constantia"/>
              </a:rPr>
              <a:t>инфаркта миокарда</a:t>
            </a:r>
            <a:r>
              <a:rPr b="0" lang="ru-RU" sz="1200" spc="-1" strike="noStrike">
                <a:solidFill>
                  <a:srgbClr val="ffffff"/>
                </a:solidFill>
                <a:latin typeface="Constantia"/>
              </a:rPr>
              <a:t> характерны и другие признаки, такие как снижение АД (в ряде случаев инфаркт миокарда может протекать при повышенном давлении, особенно у гипертоников относительно молодого возраста, но это встречается реже, и в этом случае</a:t>
            </a:r>
            <a:r>
              <a:rPr b="1" lang="ru-RU" sz="1200" spc="-1" strike="noStrike">
                <a:solidFill>
                  <a:srgbClr val="ffffff"/>
                </a:solidFill>
                <a:latin typeface="Constantia"/>
              </a:rPr>
              <a:t> падение АД</a:t>
            </a:r>
            <a:r>
              <a:rPr b="0" lang="ru-RU" sz="1200" spc="-1" strike="noStrike">
                <a:solidFill>
                  <a:srgbClr val="ffffff"/>
                </a:solidFill>
                <a:latin typeface="Constantia"/>
              </a:rPr>
              <a:t> происходит отсроченно, через несколько часов и даже дней).</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нижение АД</a:t>
            </a:r>
            <a:r>
              <a:rPr b="0" lang="ru-RU" sz="1200" spc="-1" strike="noStrike">
                <a:solidFill>
                  <a:srgbClr val="ffffff"/>
                </a:solidFill>
                <a:latin typeface="Constantia"/>
              </a:rPr>
              <a:t> зависит от падения сократительной способности сердца, когда участки миокарда, попавшие в инфарктную зону, теряют свою способность к сокращению и перестают работать. Отсюда понятно, что чем больше зона инфаркта, тем выраженное будет падение сократимости сердца и тем значительнее будет снижение АД.</a:t>
            </a:r>
            <a:br>
              <a:rPr sz="1200"/>
            </a:br>
            <a:br>
              <a:rPr sz="1200"/>
            </a:br>
            <a:r>
              <a:rPr b="0" lang="ru-RU" sz="1200" spc="-1" strike="noStrike">
                <a:solidFill>
                  <a:srgbClr val="ffffff"/>
                </a:solidFill>
                <a:latin typeface="Constantia"/>
              </a:rPr>
              <a:t>Такое грозное осложнение инфаркта миокарда, как кардиогенный шок развивается только при очень больших и глубоких инфарктах, когда из сокращения выключается до 40% и более рабочего миокарда. Чем ниже уровень АД у больного с инфарктом миокарда, тем серьезнее прогноз заболевания.</a:t>
            </a:r>
            <a:br>
              <a:rPr sz="1200"/>
            </a:br>
            <a:br>
              <a:rPr sz="1200"/>
            </a:br>
            <a:br>
              <a:rPr sz="1200"/>
            </a:br>
            <a:endParaRPr b="0" lang="en-US" sz="1200" spc="-1" strike="noStrike">
              <a:solidFill>
                <a:srgbClr val="ffffff"/>
              </a:solidFill>
              <a:latin typeface="Constantia"/>
            </a:endParaRPr>
          </a:p>
        </p:txBody>
      </p:sp>
      <p:pic>
        <p:nvPicPr>
          <p:cNvPr id="227" name="Рисунок 5" descr="21REO3CADLHVHFCAUQC3AFCAXGCIC3CAS6618TCAPPI1GACAK0TECBCAI2W8FZCA1PEPS8CAXIDTFWCAFJC26XCAECGHDMCAPZMHS0CAQQFSGPCAZ0LKDYCAHXEO7PCAL00Q63CAU05RMECA72UGYGCASKCRGR.jpg"/>
          <p:cNvPicPr/>
          <p:nvPr/>
        </p:nvPicPr>
        <p:blipFill>
          <a:blip r:embed="rId3"/>
          <a:stretch/>
        </p:blipFill>
        <p:spPr>
          <a:xfrm>
            <a:off x="7500960" y="357120"/>
            <a:ext cx="1071720" cy="1290600"/>
          </a:xfrm>
          <a:prstGeom prst="rect">
            <a:avLst/>
          </a:prstGeom>
          <a:ln w="0">
            <a:noFill/>
          </a:ln>
        </p:spPr>
      </p:pic>
      <p:sp>
        <p:nvSpPr>
          <p:cNvPr id="228"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Заголовок 1" descr=""/>
          <p:cNvPicPr/>
          <p:nvPr/>
        </p:nvPicPr>
        <p:blipFill>
          <a:blip r:embed="rId1"/>
          <a:stretch/>
        </p:blipFill>
        <p:spPr>
          <a:xfrm>
            <a:off x="457200" y="444600"/>
            <a:ext cx="8028000" cy="1055520"/>
          </a:xfrm>
          <a:prstGeom prst="rect">
            <a:avLst/>
          </a:prstGeom>
          <a:ln w="0">
            <a:noFill/>
          </a:ln>
        </p:spPr>
      </p:pic>
      <p:sp>
        <p:nvSpPr>
          <p:cNvPr id="230" name="PlaceHolder 1"/>
          <p:cNvSpPr>
            <a:spLocks noGrp="1"/>
          </p:cNvSpPr>
          <p:nvPr>
            <p:ph type="subTitle"/>
          </p:nvPr>
        </p:nvSpPr>
        <p:spPr>
          <a:xfrm>
            <a:off x="500040" y="1143000"/>
            <a:ext cx="8215200" cy="55008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Часто у больных развиваются и </a:t>
            </a:r>
            <a:r>
              <a:rPr b="1" lang="ru-RU" sz="1200" spc="-1" strike="noStrike">
                <a:solidFill>
                  <a:srgbClr val="ffffff"/>
                </a:solidFill>
                <a:latin typeface="Constantia"/>
              </a:rPr>
              <a:t>вегетативные нарушения</a:t>
            </a:r>
            <a:r>
              <a:rPr b="0" lang="ru-RU" sz="1200" spc="-1" strike="noStrike">
                <a:solidFill>
                  <a:srgbClr val="ffffff"/>
                </a:solidFill>
                <a:latin typeface="Constantia"/>
              </a:rPr>
              <a:t>: мышечная дрожь, тошнота, рвота, нарушениями мочеиспускания, холодный пот, одышка.</a:t>
            </a:r>
            <a:br>
              <a:rPr sz="1200"/>
            </a:br>
            <a:br>
              <a:rPr sz="1200"/>
            </a:br>
            <a:r>
              <a:rPr b="0" lang="ru-RU" sz="1200" spc="-1" strike="noStrike">
                <a:solidFill>
                  <a:srgbClr val="ffffff"/>
                </a:solidFill>
                <a:latin typeface="Constantia"/>
              </a:rPr>
              <a:t>Больные испытывают </a:t>
            </a:r>
            <a:r>
              <a:rPr b="1" lang="ru-RU" sz="1200" spc="-1" strike="noStrike">
                <a:solidFill>
                  <a:srgbClr val="ffffff"/>
                </a:solidFill>
                <a:latin typeface="Constantia"/>
              </a:rPr>
              <a:t>страх смерти</a:t>
            </a:r>
            <a:r>
              <a:rPr b="0" lang="ru-RU" sz="1200" spc="-1" strike="noStrike">
                <a:solidFill>
                  <a:srgbClr val="ffffff"/>
                </a:solidFill>
                <a:latin typeface="Constantia"/>
              </a:rPr>
              <a:t>, выраженное беспокойство, тревогу, иногда развиваются даже психические нарушения. Эти изменения могут зависеть от размеров пораженного очага (вследствие адекватной размеру некроза гиперкатехоламинемии, т. е. увеличение выброса в кровь гормонов - адреналина и других) или, реже, не носить прямой корреляции с размерами некроза.</a:t>
            </a:r>
            <a:br>
              <a:rPr sz="1200"/>
            </a:br>
            <a:br>
              <a:rPr sz="1200"/>
            </a:br>
            <a:r>
              <a:rPr b="0" lang="ru-RU" sz="1200" spc="-1" strike="noStrike">
                <a:solidFill>
                  <a:srgbClr val="ffffff"/>
                </a:solidFill>
                <a:latin typeface="Constantia"/>
              </a:rPr>
              <a:t>Кроме того, существуют и несколько различных психологических реакций человека на возникающий у него инфаркт миокарда. Имеется ввиду не только первая реакция в виде страха, неуверенности в благополучном исходе и т.д., но и дальнейшие изменения в психике, напрямую связанные с развитием болезни и осознанием человека своего состоя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Жалобы</a:t>
            </a:r>
            <a:br>
              <a:rPr sz="1200"/>
            </a:br>
            <a:r>
              <a:rPr b="0" lang="ru-RU" sz="1200" spc="-1" strike="noStrike">
                <a:solidFill>
                  <a:srgbClr val="ffffff"/>
                </a:solidFill>
                <a:latin typeface="Constantia"/>
              </a:rPr>
              <a:t>Неприятные ощущения в груди, в области шеи или нижней челюсти (тяжесть, жжение, давление) длительностью 30 мин и более. Атипичные проявления (слабость, одышка, сердечная недостаточность) чаще встречаются в пожилом возрасте и пр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nstantia"/>
            </a:endParaRPr>
          </a:p>
        </p:txBody>
      </p:sp>
      <p:sp>
        <p:nvSpPr>
          <p:cNvPr id="23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Заголовок 1" descr=""/>
          <p:cNvPicPr/>
          <p:nvPr/>
        </p:nvPicPr>
        <p:blipFill>
          <a:blip r:embed="rId1"/>
          <a:stretch/>
        </p:blipFill>
        <p:spPr>
          <a:xfrm>
            <a:off x="542880" y="444600"/>
            <a:ext cx="7942320" cy="1055520"/>
          </a:xfrm>
          <a:prstGeom prst="rect">
            <a:avLst/>
          </a:prstGeom>
          <a:ln w="0">
            <a:noFill/>
          </a:ln>
        </p:spPr>
      </p:pic>
      <p:sp>
        <p:nvSpPr>
          <p:cNvPr id="233" name="PlaceHolder 1"/>
          <p:cNvSpPr>
            <a:spLocks noGrp="1"/>
          </p:cNvSpPr>
          <p:nvPr>
            <p:ph type="subTitle"/>
          </p:nvPr>
        </p:nvSpPr>
        <p:spPr>
          <a:xfrm>
            <a:off x="571680" y="1214280"/>
            <a:ext cx="8215200" cy="55008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1200" spc="-1" strike="noStrike" u="sng">
                <a:solidFill>
                  <a:srgbClr val="e2d700"/>
                </a:solidFill>
                <a:uFillTx/>
                <a:latin typeface="Constantia"/>
                <a:hlinkClick r:id="rId2"/>
              </a:rPr>
              <a:t>Электрокардиография</a:t>
            </a:r>
            <a:br>
              <a:rPr sz="1200"/>
            </a:br>
            <a:r>
              <a:rPr b="0" lang="ru-RU" sz="1200" spc="-1" strike="noStrike">
                <a:solidFill>
                  <a:srgbClr val="ffffff"/>
                </a:solidFill>
                <a:latin typeface="Constantia"/>
              </a:rPr>
              <a:t>Поначалу единственным признаком могут быть высокие остроконечные зубцы T. Электрокардиограмму следует повторять через 20—30 мин. Для решения вопроса о тромболизисе оценивают сегмент ST. Подъем сегмента ST на 1мм в двух и более смежных отведениях (например, II, III, aVF) подтверждает диагноз. Следует помнить, что при гипертрофии левого желудочка, синдроме Вольфа—Паркинсона—Уайта (WPW) и перикардите бывает «псевдоинфарктная кривая». При блокаде левой ножки пучка Гиса и типичных симптомах инфаркта миокарда тактика — как при инфаркте миокарда. Если подъема ST нет или если ЭКГ интерпретация затруднена, используют задние грудные отведения. Иногда только таким образом удается распознать задний инфаркт миокарда, возникающий вследствие окклюзии огибающей артерии. Если ЭКГ сниматеся во время "электрокардиостимуляции" (ЭКС), стимулятор временно перепрограммируют на меньшую частоту. Это позволяет оценить ЭКГ на фоне собственного ритма.</a:t>
            </a:r>
            <a:br>
              <a:rPr sz="1200"/>
            </a:br>
            <a:endParaRPr b="0" lang="en-US" sz="1200" spc="-1" strike="noStrike">
              <a:solidFill>
                <a:srgbClr val="ffffff"/>
              </a:solidFill>
              <a:latin typeface="Constantia"/>
            </a:endParaRPr>
          </a:p>
        </p:txBody>
      </p:sp>
      <p:pic>
        <p:nvPicPr>
          <p:cNvPr id="234" name="Рисунок 3" descr="4AKSV9CAV5PSWUCAG2JIJ5CARM4FN3CABDXRK5CAOWQYR3CAPUG7S9CAWZ6NQCCA7BEYWBCA6DMCQ6CAV8DM9XCALAUUSZCA6ZKD0KCAYBYKUKCA01Y0I3CAA4UYN5CA0WAX2ICAR56ECACAFFYDFECANKSRRE.jpg"/>
          <p:cNvPicPr/>
          <p:nvPr/>
        </p:nvPicPr>
        <p:blipFill>
          <a:blip r:embed="rId3"/>
          <a:stretch/>
        </p:blipFill>
        <p:spPr>
          <a:xfrm>
            <a:off x="3786120" y="4786200"/>
            <a:ext cx="2071800" cy="1554120"/>
          </a:xfrm>
          <a:prstGeom prst="rect">
            <a:avLst/>
          </a:prstGeom>
          <a:ln w="0">
            <a:noFill/>
          </a:ln>
        </p:spPr>
      </p:pic>
      <p:sp>
        <p:nvSpPr>
          <p:cNvPr id="23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7:24:05Z</dcterms:created>
  <dc:creator>R LAN</dc:creator>
  <dc:description/>
  <dc:language>en-US</dc:language>
  <cp:lastModifiedBy>LEGION</cp:lastModifiedBy>
  <dcterms:modified xsi:type="dcterms:W3CDTF">2015-11-27T12:49:52Z</dcterms:modified>
  <cp:revision>124</cp:revision>
  <dc:subject/>
  <dc:title>Инфаркт миокарда</dc:title>
</cp:coreProperties>
</file>