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AEFF-65E8-4A53-B633-E8D36BB55487}"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61B82-F08B-4D09-848A-3003C5147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D8758-294C-4BC9-AD70-230103B60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16565-5639-47D2-B6DE-6BF0A38C4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9E29F-9A25-4786-B289-91E752C1F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C9C0E-8157-4F4B-BAAD-AD13E1369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B8790-C20E-4898-88DB-7C173C1E3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42489-CBC1-435D-B8B8-2DAF6F4C8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DB6C7-0684-453E-9FC4-357F72F61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5D413-0D3D-4A56-B032-5D1698A95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AB254-EE3F-4956-8221-F0887B522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002E6-857C-42D4-A331-3A9EC0697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46C0A-BC0B-4AF4-952B-B651EDF5A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8D645-45E5-499E-B622-3C6F3FF5F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F29D8-1A61-4A6C-A83D-2FE667E21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C4915-1F1E-4855-AF1D-FEF1542C0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77DEC-6F67-4E7C-815A-C4A9D62D1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A82E9-FE1F-4B14-9321-BBE654B99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FDC7F0-CC9B-4678-89FC-B41A1F1AFA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36FD5-150E-4350-A063-682C00F38A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32C8E-A229-432E-AD91-3A9F81C12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F30D9-1772-420F-B0F8-1C2ED7077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3C97A-57FA-4CDC-9B73-814C595FA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A78A5-2CFD-4279-AF61-75E4C1995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BE47D2-13E2-496E-938C-6FB9883679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69DEB-AB16-4E9C-B10E-C3168BBC2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906A3-C8EA-4A8B-AE86-F871D97B8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B42BA-6EFC-4A40-B2B5-6CC63B073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19493-724E-4BBF-82AB-32C706C5D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6A9B38-84BC-487C-96ED-FE1325F1D9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DE844C-D735-4FCC-A11F-CB400278E3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D57389-202C-4A5F-A399-010A0A9B74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EE9AE8-62DB-480D-BBC0-65BCB1144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EDFC9-900B-455C-B4CB-1A8D89F79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D4412-0D37-4B02-8324-891135B32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6DC59-5441-41A2-8858-E6FEEE8C7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133082-6F96-4F61-B618-A12464DE16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2AF64-25B6-4515-B479-D196F6F23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59DE4-E8B3-47A6-A4F1-FF11EF013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F9097-3D41-4B7E-8C7E-16EFAFAD8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5C07E-76E4-41A1-8E98-21E1D95C8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D6CBF-CB95-4E94-8C42-14AC6B535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1D32A9-95C2-429F-A6C9-6EA10DEF08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024E36-4362-4970-A897-1485CDD58E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BE372-80E8-440D-9E9A-CE7CF65BA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64640-B391-498A-AEA5-B54D84904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BB09-0EB5-4BC5-B9BF-38694D495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684B-9A79-4F5C-A4D6-26A04F6EC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BAD07-E3BF-416C-98E9-2ADD48DCB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7FDA-9BE3-4018-9914-64B57B55E98B}" type="datetime">
              <a:rPr b="0" lang="ru-RU"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B12A-3A62-429D-B194-A6D36D9D374A}"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19CF-354B-41BC-AB4E-CB42238703D8}" type="datetime">
              <a:rPr b="0" lang="ru-RU"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05F4-008B-4016-BF7A-496EC59AED78}"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36FD-0D81-43B4-8E07-0CDE50511DA2}" type="datetime">
              <a:rPr b="0" lang="ru-RU"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B248-BC4D-487F-A684-2D477712AC88}"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CEC5-A1F0-4CEB-A7B5-0EB35F79B994}" type="datetime">
              <a:rPr b="0" lang="ru-RU"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27EC-F537-4525-9F93-C0D20F0C6E56}"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