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373-B64B-4F32-938E-7E271DD503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на службе здоровь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систематизации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-18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дуард Дженнер (1749-18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к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вка- это процедура введения вак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воро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медицинский препарат, который содержит готовые анти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. Сравнительная характеристика вакцины и сыворо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знаний урок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епкого  вам  иммуните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формулировать понятия вакцина и сыворотк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Составить в виде таблицы сравнительную характеристику вакцины и сыворотк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Рассмотреть схему классификации иммунитета;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реди населения проводится вакцинация против гриппа. Для чего нам нужны привив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 одних случаях применяют вакцины, а в других – сыворо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иммунитет и каким он быва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иппократ –отец медиц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заболевший чу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ок, заболевший осп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ммунология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́гия 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я 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FDD-4F6F-4882-BEA1-43D47ADD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13A-2EC3-4E76-80CC-20303927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54F-58C4-4042-9785-79B473D0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730-2B87-4338-8D38-74A4FC16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6574-8F45-4C1F-B53C-E109D8BB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1716-AEF0-4ABC-BBAE-D75D90C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3918-3326-4384-80D8-7083BC6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5121-2FE1-4FB0-AAFB-6B321C4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6C66-FCD9-43A2-B5BB-10B39074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3A3A-CB36-4ABD-841B-212D0BB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F457-BC34-470D-81EF-8E9C2EEB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815-BC27-4366-84B7-418C54FC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158A-69F7-45E9-9E2B-5AE2753B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6750-FCA4-479D-BAA3-4B5674E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377D-EAEC-4E31-AD8E-DFC6311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02B3-84DE-46A5-8233-264119FE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C3D-11B8-47D3-9B97-C3C4A529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3677-4F62-42B4-8DE2-764216FD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EB90-FC83-4B0F-A939-3F343BD5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8EC9-6494-4F68-8257-D0A573AB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BE8E-D0C1-44A0-8943-9C96489A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DF28-6664-4404-8A26-1725FCE6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A31-24BB-49D8-8D16-70821FBE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1931-31C1-43AA-96EF-4291B5CA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A3E7-EB58-4E3D-B8DE-111FAAA0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61B5-B3CD-4BB8-B282-0C3348AF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AB85-FEC1-41E9-ACD8-466C5AC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6DA7-0F94-475F-B70A-77C1A47D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B733-547F-40E9-B75A-94982F03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1CF3-20C8-4057-88EC-C225695F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4558-20A9-4871-9EF1-4CDED676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27F26-AA1C-495B-8462-177CA0C2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8EFF2-6306-446D-A065-7499E550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59E-E233-4FDE-BE21-8EE3DD54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2A26-6633-4984-8500-D51EC3CB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487A-8609-4416-8ED3-DC58940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3212-A469-4918-A495-6D370992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F6F3-4F56-4888-A78F-C23BCDAE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F86BA-7FC2-4897-80D8-97483236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B4DAA-484D-49F5-A893-CA3AC30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B62D8-7111-450E-80F1-123EC6EB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D6DC5-B62D-4919-BEE7-451411B5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CF28E-F06D-4F09-BFE6-1F6E9E06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9EEA7-2E35-4F49-8695-EC33DC29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553-9BE3-4651-93F3-E2EC2425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F56B1-CC3C-41BF-9465-EC38419F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646B7-6C6A-40D8-84BB-8D87262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A68D-AC8A-4EBD-B03F-3C2A14F4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381E1-2A5F-45CA-8681-8F5FD09E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1AA9D-4FEA-4CE7-B4DC-4251E097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87C76-4CA6-45A8-B5A9-169E0DD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34FA-D37A-45F3-B111-5D6D549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5F523-1FD2-4802-92B4-E83C8E18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8E536-73D7-40C8-B57F-05DEC5DB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8014E-28F1-42AE-81A5-2F04B3AC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F30-40E4-4CF3-9432-69BBE999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8E9A7-0F7E-4F6B-8715-B2732C1C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923-AECC-46B5-9D82-961D98E1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2DC-05C5-4C04-A306-77A3B8DB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C03-DD90-4837-A09F-F4FCE375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E46-EF9C-4AA6-A2A8-00F7BA2B83C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50D3-8D8B-4217-A869-0C1E532F33A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18E4-6E79-4FC3-B0B2-2B00491EBAFB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8BF-F1A3-4660-898D-F8A7C32161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7D9C-8896-49E0-8BBB-46DC0B16E7A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F291-A4A7-4D95-B6C4-32FC4B3BBF3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33D3-878B-4E5F-950D-F59E4B0C692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EB05-F665-4788-88F4-2C02E4E5CC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D32E-E01C-453F-8D9D-FEBFB7C72F4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3477-EBF6-4EC6-B560-D431421505E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8d3e"/>
                </a:solidFill>
                <a:latin typeface="Verdana"/>
              </a:rPr>
              <a:t>Иммунология на службе здоровья человек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2643120" y="785880"/>
            <a:ext cx="3810240" cy="1571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59560" cy="44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2"/>
          <p:cNvSpPr/>
          <p:nvPr/>
        </p:nvSpPr>
        <p:spPr>
          <a:xfrm>
            <a:off x="85716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уи Пастер (1822-18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6858000" cy="44384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428760" y="785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дуард Дженнер (1749-18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938520" y="114300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3429000" y="1214280"/>
            <a:ext cx="4786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изготавливается из ослабленных или убитых микро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ка- это процедура введения вакц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862920" y="3929040"/>
            <a:ext cx="250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в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"/>
          <p:cNvSpPr/>
          <p:nvPr/>
        </p:nvSpPr>
        <p:spPr>
          <a:xfrm>
            <a:off x="3857760" y="4071960"/>
            <a:ext cx="421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едицинский препарат, который содержит готовые анти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506520" y="2214720"/>
            <a:ext cx="2636640" cy="1704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714240" y="4500720"/>
            <a:ext cx="2786040" cy="185724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571680" y="57168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вакцины и сыворотки</a:t>
            </a:r>
            <a:r>
              <a:rPr b="1" lang="ru-RU" sz="1800" spc="-1" strike="noStrike">
                <a:solidFill>
                  <a:srgbClr val="e3ded1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714240" y="1214280"/>
          <a:ext cx="7358040" cy="5000760"/>
        </p:xfrm>
        <a:graphic>
          <a:graphicData uri="http://schemas.openxmlformats.org/drawingml/2006/table">
            <a:tbl>
              <a:tblPr/>
              <a:tblGrid>
                <a:gridCol w="2841840"/>
                <a:gridCol w="2317680"/>
                <a:gridCol w="2198520"/>
              </a:tblGrid>
              <a:tr h="90792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785880" y="1143000"/>
          <a:ext cx="7929360" cy="5419800"/>
        </p:xfrm>
        <a:graphic>
          <a:graphicData uri="http://schemas.openxmlformats.org/drawingml/2006/table">
            <a:tbl>
              <a:tblPr/>
              <a:tblGrid>
                <a:gridCol w="3062160"/>
                <a:gridCol w="2497320"/>
                <a:gridCol w="236988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воро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содержи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абл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роорганиз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ые  антит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рганизм получает анти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баты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тов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ыстро развивается иммунит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го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короткого врем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именя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рофилак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е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1000080" y="64296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2286000" y="1996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85960" y="1000080"/>
            <a:ext cx="60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зация знаний уро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5214960" y="4500720"/>
            <a:ext cx="2928960" cy="192852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643040" y="17146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3"/>
          <p:cNvSpPr/>
          <p:nvPr/>
        </p:nvSpPr>
        <p:spPr>
          <a:xfrm>
            <a:off x="2000160" y="9288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Крепкого  вам  иммун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Цели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1. Сформировать понятие иммунология и определить значение данной науки для сохранения здоровья челове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2.Сформулировать понятия вакцина и сыворотка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3.Составить в виде таблицы сравнительную характеристику вакцины и сыворотки;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4.Рассмотреть схему классификации иммунитета;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5520" y="533520"/>
            <a:ext cx="314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блема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3880" y="1447560"/>
            <a:ext cx="335772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среди населения проводится вакцинация против гриппа.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Для чего нам нужны привив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чему в одних случаях применяют вакцины, а в других – сыворотки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иммунитет 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аким он бывае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071960" y="1000080"/>
            <a:ext cx="4357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 домашнего задания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2000"/>
          </a:bodyPr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несите вопросы и 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. Лимф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. Кровяная плаз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 Межклеточная жидк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. Тромб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. Лейкоци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. Эритроци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. гемоглоб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. кров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из перечисленного относится к внутренней среде организм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содержится в составе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останется , если из крови удалить клетк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жидкая часть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называется белок, придающий крови красный цвет кров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сные безъ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лые ядерные клетки кров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рются с бактериями и инородными тел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вижутся ложноножками, меняют фор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ничтожают бактер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нспортируют кислород и углекислый газ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17080" indent="-217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роверка: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: 1-а,в,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- б,г,д,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- б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- 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- 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- -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8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9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- 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1- ж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857680" y="714240"/>
            <a:ext cx="3286080" cy="45514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"/>
          <p:cNvSpPr/>
          <p:nvPr/>
        </p:nvSpPr>
        <p:spPr>
          <a:xfrm>
            <a:off x="9000" y="5856480"/>
            <a:ext cx="65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пократ –отец медиц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2857680" cy="2800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14960" y="2571840"/>
            <a:ext cx="2276280" cy="28573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870840" y="392940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еловек, заболевший чу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228680" y="5958360"/>
            <a:ext cx="70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Ребёнок, заболевший осп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14680" y="1857240"/>
            <a:ext cx="563688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Иммунология?  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928880" y="500040"/>
            <a:ext cx="5214960" cy="2451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"/>
          <p:cNvSpPr/>
          <p:nvPr/>
        </p:nvSpPr>
        <p:spPr>
          <a:xfrm>
            <a:off x="1571760" y="2928960"/>
            <a:ext cx="600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́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наука об иммунитете живых организмов, изучающая биологические механизмы самозащиты организма от любых чужеродных веществ.</a:t>
            </a:r>
            <a:br>
              <a:rPr sz="24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ммунология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— это наука о строении и закономерностях функционирования иммунной системы, её заболеваниях и способах иммунотерап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05:25Z</dcterms:created>
  <dc:creator>Oksana</dc:creator>
  <dc:description/>
  <dc:language>en-US</dc:language>
  <cp:lastModifiedBy>LEGION</cp:lastModifiedBy>
  <dcterms:modified xsi:type="dcterms:W3CDTF">2015-11-27T12:49:59Z</dcterms:modified>
  <cp:revision>9</cp:revision>
  <dc:subject/>
  <dc:title>Иммунология на службе здоровья человека</dc:title>
</cp:coreProperties>
</file>