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406C-9087-424C-81E5-313EBDBBD4C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гия на службе здоровь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систематизации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гия на службе здоровья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систематизаци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уи Пастер (1822-189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уи Пастер (1822-189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дуард Дженнер (1749-182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дуард Дженнер (1749-18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к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едицинский препарат, который изготавливается из ослабленных или убитых микро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ивка- это процедура введения вак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воро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едицинский препарат, который содержит готовые антит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кц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медицинский препарат, который изготавливается из ослабленных или убитых микроорганизм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ивка- это процедура введения вакц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воро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медицинский препарат, который содержит готовые антите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а 1. Сравнительная характеристика вакцины и сыворо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. Сравнительная характеристика вакцины и сыворо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ация знаний урок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ация знаний урок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епкого  вам  иммунитет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епкого  вам  иммунитет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формировать понятие иммунология и определить значение данной науки для сохранения здоровья челове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формулировать понятия вакцина и сыворот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оставить в виде таблицы сравнительную характеристику вакцины и сыворотк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Рассмотреть схему классификации иммунитета;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формировать понятие иммунология и определить значение данной науки для сохранения здоровья челове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Сформулировать понятия вакцина и сыворот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Составить в виде таблицы сравнительную характеристику вакцины и сыворотк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Рассмотреть схему классификации иммунитета;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есите вопросы и отв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Лим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ровяная пла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Межклеточная жид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Тромб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 Лейк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. Эритроц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. гемоглоб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. кро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 перечисленного относится к внутренней среде организ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держится в составе кров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станется , если из крови удалить кле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зывается жидкая часть кров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зывается белок, придающий крови красный цвет кров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е безъ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ые 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ются с бактериями и инородными т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утся ложноножками, меняют фор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чтожают бак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ируют кислород и углекислый г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домашнего зад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несите вопросы и 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Лим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 Кровяная пла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Межклеточная жидк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Тромбоц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 Лейкоц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. Эритроц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. гемоглоб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. кров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из перечисленного относится к внутренней среде организм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одержится в составе кров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останется , если из крови удалить клет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называется жидкая часть кров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называется белок, придающий крови красный цвет кров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е безъ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ые 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ются с бактериями и инородными т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утся ложноножками, меняют фор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чтожают бакте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ируют кислород и углекислый г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1-а,в,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 б,г,д,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 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-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 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-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- -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- 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: 1-а,в,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- б,г,д,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- 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- 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- 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- 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- -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- 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иппократ –отец меди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иппократ –отец медиц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, заболевший чу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ёнок, заболевший осп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, заболевший чу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ёнок, заболевший осп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ммунология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ммунология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́гия — наука об иммунитете живых организмов, изучающая биологические механизмы самозащиты организма от любых чужеродных вещест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гия — это наука о строении и закономерностях функционирования иммунной системы, её заболеваниях и способах иммуно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́гия — наука об иммунитете живых организмов, изучающая биологические механизмы самозащиты организма от любых чужеродных вещест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гия — это наука о строении и закономерностях функционирования иммунной системы, её заболеваниях и способах иммунотерап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D483-85E3-473B-B358-DBBCFBA6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12F-C403-4DAA-A4A2-A22D5880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8CF7-6E25-4923-9800-64AC2482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48EA-FAF5-46E0-BB8F-92A6D08D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A3D2-DEFA-46DE-8AED-0126CA50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7861-E4D8-46F6-A4F3-E00B257F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5037-0B25-40E1-8976-B5995D0D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D3C3-2775-4000-BC6D-6848C932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A6D2-F4F3-4F58-8466-4C020B3A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ABB8-1546-41FC-AF68-7DAC67AC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BC4A-9BD0-494F-A08A-0FA78AB1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336A-F9EE-412F-A1EE-E14B4B65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5F99-9AFA-43FB-9318-9012563C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BD89-21B2-43F1-8438-F51ABD63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AD22-670A-4381-9740-3B07D816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ED0F-FF03-4C99-A4BA-F895192C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AB07-3C13-4AF0-8510-E9A25CE2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BE008-B1FC-4E8E-9DDD-116E688F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75733-50FA-407E-A4D8-95EBF60D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AC5FF-7B06-4CD9-BC63-2B0221A8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B6688-FB29-4F73-BC74-6DD6FB20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002EA-C755-4B09-846C-28B51E83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C7F-589A-4328-B027-5147A8EE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D9D07-CBED-477F-88F3-FEB414A4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EBE83-9AAB-49A0-B933-FA26DB50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DCB58-404E-4A2C-84FE-1E0368C1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12EF0-60CB-494B-9A94-BE339285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C57FE-D628-46F8-B2A1-B870099F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8F820-77FD-4712-958F-8635C85F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609B9-3116-48F5-A1AE-857BB00F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4F147-2B63-4CC1-8EE2-FD8BE6A8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B079E-FFE9-4E0A-A938-767C4F5B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F556C-CFC6-43ED-9D67-BA750471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9BB4-57B3-4B17-9B93-3DCB5329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706D8-7D35-4D98-B0C7-7A322044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DC2D1-A1E9-4CAB-9CE3-664B818C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69388-AAD5-4731-A699-C63401BC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3666D-1768-44FB-A33D-4F11C9A6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793FA-3B54-40C2-A403-853E7891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0C0BB-D046-475D-BA36-CF16B4F4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E63A2-FAC6-4BA1-9E84-6CE06D75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C5374-283F-475B-A638-596C2F99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70342-E42C-4B7F-A794-AAA327AA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58C95-BA46-474F-8DF0-6BC5F96E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F36F-FF01-4117-869A-98ACFC91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8F23B-30A8-480E-AB84-EC760291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EB524-48D5-44CA-9392-379B4D43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8FFA1-F8FA-4BB2-A793-D159D7BF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A8506-E46F-4973-9AA5-0A47DED4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7C79E-CA74-4057-A6DF-42A9450A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A262E-228E-4446-BEFB-5E594504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2293E-6D20-4E66-A884-623D5577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D4CE8-0615-49C9-BB09-2DB92374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7E5C9-3BCF-492C-A82F-6944BDA6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00384-2FFC-494E-B05A-78FDDD30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B110-12B0-4320-B793-D247DA77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41E7F-C275-47F0-8A51-AAD56F5D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B89-07CC-4C38-8983-9B37B157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76F9-5992-4B75-9A00-F084ED41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84A-3481-40ED-9D59-96014524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309C-19E6-4D90-9F29-EC4BA9C5C36C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A19D-A317-4664-9BAD-F1357F02242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683D-3648-40E2-A847-CE2695884A26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62BA-AC55-4039-9DCA-52AAD7845D3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AA0F-78F6-4F4E-8C93-C1448303C5C7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4957-046E-4B0A-A71D-F9079A487B5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3495-68FD-4590-8E8C-7A9554BC0A7A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D1AD-087F-4755-9163-9C009079954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6DC7-CE34-460A-BA44-6F8AE9518846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BE57-F4DC-4DEA-8030-EC70AC20C03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f8d3e"/>
                </a:solidFill>
                <a:latin typeface="Verdana"/>
              </a:rPr>
              <a:t>Иммунология на службе здоровья человека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рок систематизации зна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2643120" y="785880"/>
            <a:ext cx="3810240" cy="15714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28760" y="2000160"/>
            <a:ext cx="8359560" cy="44290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2"/>
          <p:cNvSpPr/>
          <p:nvPr/>
        </p:nvSpPr>
        <p:spPr>
          <a:xfrm>
            <a:off x="857160" y="92880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уи Пастер (1822-18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6858000" cy="443844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2"/>
          <p:cNvSpPr/>
          <p:nvPr/>
        </p:nvSpPr>
        <p:spPr>
          <a:xfrm>
            <a:off x="428760" y="7858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дуард Дженнер (1749-182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938520" y="1143000"/>
            <a:ext cx="19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"/>
          <p:cNvSpPr/>
          <p:nvPr/>
        </p:nvSpPr>
        <p:spPr>
          <a:xfrm>
            <a:off x="3429000" y="1214280"/>
            <a:ext cx="47862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едицинский препарат, который изготавливается из ослабленных или убитых микроорганиз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вка- это процедура введения вакц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862920" y="3929040"/>
            <a:ext cx="250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воро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4"/>
          <p:cNvSpPr/>
          <p:nvPr/>
        </p:nvSpPr>
        <p:spPr>
          <a:xfrm>
            <a:off x="3857760" y="4071960"/>
            <a:ext cx="421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едицинский препарат, который содержит готовые антите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506520" y="2214720"/>
            <a:ext cx="2636640" cy="1704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714240" y="4500720"/>
            <a:ext cx="2786040" cy="185724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"/>
          <p:cNvSpPr/>
          <p:nvPr/>
        </p:nvSpPr>
        <p:spPr>
          <a:xfrm>
            <a:off x="571680" y="571680"/>
            <a:ext cx="81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ая характеристика вакцины и сыворотки</a:t>
            </a:r>
            <a:r>
              <a:rPr b="1" lang="ru-RU" sz="1800" spc="-1" strike="noStrike">
                <a:solidFill>
                  <a:srgbClr val="e3ded1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714240" y="1214280"/>
          <a:ext cx="7358040" cy="5000760"/>
        </p:xfrm>
        <a:graphic>
          <a:graphicData uri="http://schemas.openxmlformats.org/drawingml/2006/table">
            <a:tbl>
              <a:tblPr/>
              <a:tblGrid>
                <a:gridCol w="2841840"/>
                <a:gridCol w="2317680"/>
                <a:gridCol w="2198520"/>
              </a:tblGrid>
              <a:tr h="90792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воро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содержи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организм получает антите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быстро развивается иммунит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84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чего применяю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785880" y="1143000"/>
          <a:ext cx="7929360" cy="5419800"/>
        </p:xfrm>
        <a:graphic>
          <a:graphicData uri="http://schemas.openxmlformats.org/drawingml/2006/table">
            <a:tbl>
              <a:tblPr/>
              <a:tblGrid>
                <a:gridCol w="3062160"/>
                <a:gridCol w="2497320"/>
                <a:gridCol w="23698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воро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содержи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абле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организ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ые  антит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организм получает антите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батыв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товом ви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быстро развивается иммунит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тельного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и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короткого врем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чего применяю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рофилак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ле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1000080" y="64296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1"/>
          <p:cNvSpPr/>
          <p:nvPr/>
        </p:nvSpPr>
        <p:spPr>
          <a:xfrm>
            <a:off x="2286000" y="199692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настоящее время среди населения проводится вакцинация против гриппа.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Для чего нам нужны привив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в одних случаях применяют вакцины, а в других – сыворот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то такое иммунитет и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каким он быв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2"/>
          <p:cNvSpPr/>
          <p:nvPr/>
        </p:nvSpPr>
        <p:spPr>
          <a:xfrm>
            <a:off x="1785960" y="1000080"/>
            <a:ext cx="60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тизация знаний урок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5214960" y="4500720"/>
            <a:ext cx="2928960" cy="192852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1643040" y="1714680"/>
            <a:ext cx="6191280" cy="464328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3"/>
          <p:cNvSpPr/>
          <p:nvPr/>
        </p:nvSpPr>
        <p:spPr>
          <a:xfrm>
            <a:off x="2000160" y="928800"/>
            <a:ext cx="56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Verdana"/>
              </a:rPr>
              <a:t>Крепкого  вам  иммуните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Цели: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1. Сформировать понятие иммунология и определить значение данной науки для сохранения здоровья человека;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2.Сформулировать понятия вакцина и сыворотка;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3.Составить в виде таблицы сравнительную характеристику вакцины и сыворотки;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4.Рассмотреть схему классификации иммунитета;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85520" y="533520"/>
            <a:ext cx="3143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облема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3880" y="1447560"/>
            <a:ext cx="335772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настоящее время среди населения проводится вакцинация против гриппа.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Для чего нам нужны прививк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чему в одних случаях применяют вакцины, а в других – сыворотк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 такое иммунитет и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каким он бывает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071960" y="1000080"/>
            <a:ext cx="4357800" cy="457200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Проверка домашнего задания: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2000"/>
          </a:bodyPr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отнесите вопросы и ответ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. Лимф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. Кровяная плазм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. Межклеточная жидк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. Тромбоци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. Лейкоци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. Эритроцит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ж. гемоглобин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. кров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из перечисленного относится к внутренней среде организм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содержится в составе кров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останется , если из крови удалить клетк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называется жидкая часть кров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называется белок, придающий крови красный цвет кров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асные безъ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елые 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орются с бактериями и инородными тел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вижутся ложноножками, меняют форм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ничтожают бактер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ранспортируют кислород и углекислый газ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Проверка: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вет: 1-а,в,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- б,г,д,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- б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- б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- ж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- 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- -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8- 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9- 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- 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1- ж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2857680" y="714240"/>
            <a:ext cx="3286080" cy="45514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"/>
          <p:cNvSpPr/>
          <p:nvPr/>
        </p:nvSpPr>
        <p:spPr>
          <a:xfrm>
            <a:off x="9000" y="5856480"/>
            <a:ext cx="65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иппократ –отец медиц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000080" y="857160"/>
            <a:ext cx="2857680" cy="2800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5214960" y="2571840"/>
            <a:ext cx="2276280" cy="28573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"/>
          <p:cNvSpPr/>
          <p:nvPr/>
        </p:nvSpPr>
        <p:spPr>
          <a:xfrm>
            <a:off x="870840" y="3929400"/>
            <a:ext cx="29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Человек, заболевший чу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1228680" y="5958360"/>
            <a:ext cx="70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Ребёнок, заболевший осп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14680" y="1857240"/>
            <a:ext cx="563688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Иммунология?  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928880" y="500040"/>
            <a:ext cx="5214960" cy="24512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1"/>
          <p:cNvSpPr/>
          <p:nvPr/>
        </p:nvSpPr>
        <p:spPr>
          <a:xfrm>
            <a:off x="1571760" y="2928960"/>
            <a:ext cx="600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ммуноло́гия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— наука об иммунитете живых организмов, изучающая биологические механизмы самозащиты организма от любых чужеродных веществ.</a:t>
            </a:r>
            <a:br>
              <a:rPr sz="2400"/>
            </a:b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ммунология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— это наука о строении и закономерностях функционирования иммунной системы, её заболеваниях и способах иммунотерап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05:05:25Z</dcterms:created>
  <dc:creator>Oksana</dc:creator>
  <dc:description/>
  <dc:language>en-US</dc:language>
  <cp:lastModifiedBy>LEGION</cp:lastModifiedBy>
  <dcterms:modified xsi:type="dcterms:W3CDTF">2015-11-27T12:49:59Z</dcterms:modified>
  <cp:revision>9</cp:revision>
  <dc:subject/>
  <dc:title>Иммунология на службе здоровья человека</dc:title>
</cp:coreProperties>
</file>