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media/image13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8A90A-E32E-4BF7-9007-86290BEB2542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ммунология на службе здоровья чело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к систематизации зна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 клас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ммунология на службе здоровья челове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рок систематизации зна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 клас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Луи Пастер (1822-1895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Луи Пастер (1822-189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Эдуард Дженнер (1749-1823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Эдуард Дженнер (1749-182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кци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медицинский препарат, который изготавливается из ослабленных или убитых микроорганизм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вивка- это процедура введения вакци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ыворот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медицинский препарат, который содержит готовые антител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кци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 медицинский препарат, который изготавливается из ослабленных или убитых микроорганизмо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вивка- это процедура введения вакцин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ыворот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 медицинский препарат, который содержит готовые антител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блица 1. Сравнительная характеристика вакцины и сыворот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блица 1. Сравнительная характеристика вакцины и сыворот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настоящее время среди населения проводится вакцинация против гриппа. Для чего нам нужны прививк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чему в одних случаях применяют вакцины, а в других – сыворотк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такое иммунитет и каким он бывает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атизация знаний урока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настоящее время среди населения проводится вакцинация против гриппа. Для чего нам нужны прививки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чему в одних случаях применяют вакцины, а в других – сыворотки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такое иммунитет и каким он бывает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тизация знаний урока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Крепкого  вам  иммунитета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Крепкого  вам  иммунитета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и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Сформировать понятие иммунология и определить значение данной науки для сохранения здоровья человека;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Сформулировать понятия вакцина и сыворотка;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Составить в виде таблицы сравнительную характеристику вакцины и сыворотки;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Рассмотреть схему классификации иммунитета;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и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Сформировать понятие иммунология и определить значение данной науки для сохранения здоровья человека;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Сформулировать понятия вакцина и сыворотка;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Составить в виде таблицы сравнительную характеристику вакцины и сыворотки;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Рассмотреть схему классификации иммунитета;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блем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настоящее время среди населения проводится вакцинация против гриппа. Для чего нам нужны прививк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чему в одних случаях применяют вакцины, а в других – сыворотк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такое иммунитет и каким он бывает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блем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настоящее время среди населения проводится вакцинация против гриппа. Для чего нам нужны прививки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чему в одних случаях применяют вакцины, а в других – сыворотки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такое иммунитет и каким он бывает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ерка домашнего зада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отнесите вопросы и ответ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ВЕТ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. Лимф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. Кровяная плаз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. Межклеточная жидк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. Тромбоци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. Лейкоци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. Эритроци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. гемоглоби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. кров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из перечисленного относится к внутренней среде организм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содержится в составе кров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останется , если из крови удалить клетк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называется жидкая часть кров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называется белок, придающий крови красный цвет кров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асные безъядерные клетки кров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лые ядерные клетки кров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рются с бактериями и инородными тел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вижутся ложноножками, меняют форм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ничтожают бактер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анспортируют кислород и углекислый газ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верка домашнего задани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отнесите вопросы и ответ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ВЕТ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. Лимф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. Кровяная плаз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. Межклеточная жидк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. Тромбоци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. Лейкоци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. Эритроцит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. гемоглоби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. кров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прос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из перечисленного относится к внутренней среде организм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содержится в составе крови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останется , если из крови удалить клетки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называется жидкая часть крови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называется белок, придающий крови красный цвет крови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асные безъядерные клетки кров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елые ядерные клетки кров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рются с бактериями и инородными тел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вижутся ложноножками, меняют форм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ничтожают бактер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анспортируют кислород и углекислый газ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ер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вет: 1-а,в,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       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- б,г,д,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      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- б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      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- б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      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- ж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      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- 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      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- -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      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- 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      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- 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      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- 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     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1- ж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верк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вет: 1-а,в,з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       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- б,г,д,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      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- б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      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- б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      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- ж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      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- 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      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- -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      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- 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      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9- 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      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0- 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     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1- ж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                         </a:t>
            </a: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Гиппократ –отец медици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Гиппократ –отец медицин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ловек, заболевший чум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бёнок, заболевший осп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еловек, заболевший чумо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бёнок, заболевший оспо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Иммунология?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Иммунология?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ммуноло́гия — наука об иммунитете живых организмов, изучающая биологические механизмы самозащиты организма от любых чужеродных веществ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ммунология — это наука о строении и закономерностях функционирования иммунной системы, её заболеваниях и способах иммунотерап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ммуноло́гия — наука об иммунитете живых организмов, изучающая биологические механизмы самозащиты организма от любых чужеродных веществ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ммунология — это наука о строении и закономерностях функционирования иммунной системы, её заболеваниях и способах иммунотерап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8D8E9-906D-4FD3-8DED-253380279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E71F6-DBD4-4FE1-8F1A-EE14D1840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03013-4FDA-4827-A39F-C9001FD41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0535A-9B84-4E6E-97A7-A444D135F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F06BD-861C-4814-8DCA-0D5B4257B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02E54-133F-48A5-A492-2FED65AD9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BD917-ED28-42CE-B9EB-9C68E9B7E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094BC-D427-4517-89A0-BC9E3D5E3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5980D-C60B-48F0-B5C1-51C8E1A51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8EE7C-CEF2-4718-9E9A-CCC583254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45C72-5096-4982-B9AF-DE2FDEEE9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94606-0182-4FD2-922F-AB76A96A3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14E24-A68F-4260-A3BB-3828DDEEB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D5B0A-EEE7-42E1-84CD-053132435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C03BA-59EF-4CCB-AAE9-9F4B13FF9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5652B-CB73-421F-9D3E-F3B943EBF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1D927-F16C-4779-B341-F48B9501D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8DB28A-D072-45F7-8DFE-3C7534415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3F324C-6146-4248-9ADC-4A4CABFAA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697DD0-0B33-4A13-A115-A82CBF167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49590D-43AC-4D15-83BB-85886CE93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1A3AD4-E3A6-4602-B117-A1CB90499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C69BD-6859-4A92-82D3-1E8AA12BB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DD8DE0-7C6C-4A2C-9EC9-233F5416B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9A8764-A03A-40DA-B08D-46CCBC86B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461767-C2A3-4C69-8599-D9EFACAE8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F5821B-FB63-447A-B95E-D6A46E850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7F33E0-A0F1-4C99-A098-514D00436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F855DA-584C-4815-8587-8629B4242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DB6436-8BD5-48F6-8965-5DFA590FD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51EB1E-3D32-4310-9F50-C8AE8A5F5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30C26B-8A0A-4C23-A07A-5F9692B3A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42C89E-3B52-476D-B817-F43F10D68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7C615-25E0-4062-A716-754CA59C5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E13B59-02C6-4C6C-BB2E-DE30A269F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BB1743-4043-40E7-AE50-E5912AE50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FFB191-CC22-43F1-BA2F-660BBBCF9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A9F9B1-D708-4D41-A4DB-FFC1B8B0D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37D1AE-989D-4D90-A0FE-C04153E9B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31EB8C-CEE0-4C12-971E-4EBBF9EC3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2B5A37-DE79-49D5-8FC1-EB12BE6B6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AA4366-8992-40B1-BED2-AFD166F81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1068BC-0FD7-47F6-A94F-563B18D27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64FA26-18E0-40D3-9C2B-5D749B612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E1C1C-2213-4803-8110-02C36EC6C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65E682-7AF0-4FF5-A2D9-71DB587B3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A1F0AA-3B21-4E73-BFF0-BB4F368AD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F2EACC-FF4D-4D82-BE61-A85149286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78C629-03A5-473B-B9FD-84A91840B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AA6F66-4940-43A1-B05E-95ED8F03D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26CA1C-8F73-4DD3-B7B1-B9948ED5F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39074B-9861-4CAE-B92C-AC38341C7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2D053A-3BC5-4789-82F3-059F6DEC0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967062-7EEF-44A4-A338-40DF442A1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2FF3AD-8F61-48A1-92F4-E7ECA3437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0CB66-71D8-4B09-A779-7D12B3274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035A98-9B41-497E-8BD1-8CF0E57BD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0FB0A-12F4-4794-8A81-A3996CE5E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DF374-22C8-4FC4-B2FC-AF4F4C623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589A7-D57D-428C-AD1B-23E7785F5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23399-7DAE-4189-BF13-875E5103606B}" type="datetime">
              <a:rPr b="0" lang="ru-RU" sz="1000" spc="-1" strike="noStrike">
                <a:solidFill>
                  <a:srgbClr val="a7a399"/>
                </a:solidFill>
                <a:latin typeface="Verdana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8C56C-2744-40B1-92C1-B3E44DCF5F04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20840" y="433440"/>
            <a:ext cx="8302320" cy="3108240"/>
            <a:chOff x="420840" y="433440"/>
            <a:chExt cx="8302320" cy="310824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310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3E5CA-C340-4765-8D1A-4F9A053BDE69}" type="datetime">
              <a:rPr b="0" lang="ru-RU" sz="1000" spc="-1" strike="noStrike">
                <a:solidFill>
                  <a:srgbClr val="a7a399"/>
                </a:solidFill>
                <a:latin typeface="Verdana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90B68-8A5B-46B2-915C-B7BBA5B6AEB2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20840" y="433440"/>
            <a:ext cx="8302320" cy="4340160"/>
            <a:chOff x="420840" y="433440"/>
            <a:chExt cx="8302320" cy="434016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434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A14DB-8C22-40E1-8B7A-A536B5F530DC}" type="datetime">
              <a:rPr b="0" lang="ru-RU" sz="1000" spc="-1" strike="noStrike">
                <a:solidFill>
                  <a:srgbClr val="a7a399"/>
                </a:solidFill>
                <a:latin typeface="Verdana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D68AC-A4F4-460F-80C0-30B842105D31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4FFCF-616F-423F-8F22-3C0836986DEE}" type="datetime">
              <a:rPr b="0" lang="ru-RU" sz="1000" spc="-1" strike="noStrike">
                <a:solidFill>
                  <a:srgbClr val="a7a399"/>
                </a:solidFill>
                <a:latin typeface="Verdana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F898D-5FD8-4A8D-AE5E-D492FF6338E5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/>
            <a:ahLst/>
            <a:rect l="l" t="t" r="r" b="b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cubicBezTo>
                  <a:pt x="2295506" y="0"/>
                  <a:pt x="2324100" y="28594"/>
                  <a:pt x="2324100" y="63866"/>
                </a:cubicBezTo>
                <a:lnTo>
                  <a:pt x="2324100" y="4343400"/>
                </a:lnTo>
                <a:lnTo>
                  <a:pt x="0" y="4343400"/>
                </a:lnTo>
                <a:lnTo>
                  <a:pt x="0" y="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0FEE8-E412-4386-A36D-239AB7FA588D}" type="datetime">
              <a:rPr b="0" lang="ru-RU" sz="1000" spc="-1" strike="noStrike">
                <a:solidFill>
                  <a:srgbClr val="a7a399"/>
                </a:solidFill>
                <a:latin typeface="Verdana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E6623-A651-48E6-BD90-A53E2DD96F8A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722160" y="18208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100" spc="-1" strike="noStrike">
                <a:solidFill>
                  <a:srgbClr val="ff8d3e"/>
                </a:solidFill>
                <a:latin typeface="Verdana"/>
              </a:rPr>
              <a:t>Иммунология на службе здоровья человека</a:t>
            </a:r>
            <a:endParaRPr b="1" lang="en-US" sz="41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722160" y="3684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Урок систематизации знаний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8 класс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9" name="Picture 1" descr=""/>
          <p:cNvPicPr/>
          <p:nvPr/>
        </p:nvPicPr>
        <p:blipFill>
          <a:blip r:embed="rId1"/>
          <a:stretch/>
        </p:blipFill>
        <p:spPr>
          <a:xfrm>
            <a:off x="2643120" y="785880"/>
            <a:ext cx="3810240" cy="1571400"/>
          </a:xfrm>
          <a:prstGeom prst="rect">
            <a:avLst/>
          </a:prstGeom>
          <a:ln w="0">
            <a:noFill/>
          </a:ln>
        </p:spPr>
      </p:pic>
      <p:sp>
        <p:nvSpPr>
          <p:cNvPr id="230" name="Місце для нижнього колонтитула 3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2" descr=""/>
          <p:cNvPicPr/>
          <p:nvPr/>
        </p:nvPicPr>
        <p:blipFill>
          <a:blip r:embed="rId1"/>
          <a:stretch/>
        </p:blipFill>
        <p:spPr>
          <a:xfrm>
            <a:off x="428760" y="2000160"/>
            <a:ext cx="8359560" cy="4429080"/>
          </a:xfrm>
          <a:prstGeom prst="rect">
            <a:avLst/>
          </a:prstGeom>
          <a:ln w="0">
            <a:noFill/>
          </a:ln>
        </p:spPr>
      </p:pic>
      <p:sp>
        <p:nvSpPr>
          <p:cNvPr id="257" name="Прямоугольник 2"/>
          <p:cNvSpPr/>
          <p:nvPr/>
        </p:nvSpPr>
        <p:spPr>
          <a:xfrm>
            <a:off x="857160" y="928800"/>
            <a:ext cx="778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Луи Пастер (1822-189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Місце для нижнього колонтитула 1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Picture 2" descr=""/>
          <p:cNvPicPr/>
          <p:nvPr/>
        </p:nvPicPr>
        <p:blipFill>
          <a:blip r:embed="rId1"/>
          <a:stretch/>
        </p:blipFill>
        <p:spPr>
          <a:xfrm>
            <a:off x="1000080" y="1714680"/>
            <a:ext cx="6858000" cy="4438440"/>
          </a:xfrm>
          <a:prstGeom prst="rect">
            <a:avLst/>
          </a:prstGeom>
          <a:ln w="0">
            <a:noFill/>
          </a:ln>
        </p:spPr>
      </p:pic>
      <p:sp>
        <p:nvSpPr>
          <p:cNvPr id="260" name="Прямоугольник 2"/>
          <p:cNvSpPr/>
          <p:nvPr/>
        </p:nvSpPr>
        <p:spPr>
          <a:xfrm>
            <a:off x="428760" y="785880"/>
            <a:ext cx="785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Эдуард Дженнер (1749-1823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Місце для нижнього колонтитула 1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Прямоугольник 1"/>
          <p:cNvSpPr/>
          <p:nvPr/>
        </p:nvSpPr>
        <p:spPr>
          <a:xfrm>
            <a:off x="938520" y="1143000"/>
            <a:ext cx="1937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кци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Прямоугольник 2"/>
          <p:cNvSpPr/>
          <p:nvPr/>
        </p:nvSpPr>
        <p:spPr>
          <a:xfrm>
            <a:off x="3429000" y="1214280"/>
            <a:ext cx="478620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медицинский препарат, который изготавливается из ослабленных или убитых микроорганизмо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вивка- это процедура введения вакци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Прямоугольник 3"/>
          <p:cNvSpPr/>
          <p:nvPr/>
        </p:nvSpPr>
        <p:spPr>
          <a:xfrm>
            <a:off x="862920" y="3929040"/>
            <a:ext cx="250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ыворот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Прямоугольник 4"/>
          <p:cNvSpPr/>
          <p:nvPr/>
        </p:nvSpPr>
        <p:spPr>
          <a:xfrm>
            <a:off x="3857760" y="4071960"/>
            <a:ext cx="4214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медицинский препарат, который содержит готовые антител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Picture 3" descr=""/>
          <p:cNvPicPr/>
          <p:nvPr/>
        </p:nvPicPr>
        <p:blipFill>
          <a:blip r:embed="rId1"/>
          <a:stretch/>
        </p:blipFill>
        <p:spPr>
          <a:xfrm>
            <a:off x="506520" y="2214720"/>
            <a:ext cx="2636640" cy="170496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4" descr=""/>
          <p:cNvPicPr/>
          <p:nvPr/>
        </p:nvPicPr>
        <p:blipFill>
          <a:blip r:embed="rId2"/>
          <a:stretch/>
        </p:blipFill>
        <p:spPr>
          <a:xfrm>
            <a:off x="714240" y="4500720"/>
            <a:ext cx="2786040" cy="1857240"/>
          </a:xfrm>
          <a:prstGeom prst="rect">
            <a:avLst/>
          </a:prstGeom>
          <a:ln w="0">
            <a:noFill/>
          </a:ln>
        </p:spPr>
      </p:pic>
      <p:sp>
        <p:nvSpPr>
          <p:cNvPr id="268" name="Місце для нижнього колонтитула 1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Прямоугольник 1"/>
          <p:cNvSpPr/>
          <p:nvPr/>
        </p:nvSpPr>
        <p:spPr>
          <a:xfrm>
            <a:off x="571680" y="571680"/>
            <a:ext cx="814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авнительная характеристика вакцины и сыворотки</a:t>
            </a:r>
            <a:r>
              <a:rPr b="1" lang="ru-RU" sz="1800" spc="-1" strike="noStrike">
                <a:solidFill>
                  <a:srgbClr val="e3ded1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0" name=""/>
          <p:cNvGraphicFramePr/>
          <p:nvPr/>
        </p:nvGraphicFramePr>
        <p:xfrm>
          <a:off x="714240" y="1214280"/>
          <a:ext cx="7358040" cy="5000760"/>
        </p:xfrm>
        <a:graphic>
          <a:graphicData uri="http://schemas.openxmlformats.org/drawingml/2006/table">
            <a:tbl>
              <a:tblPr/>
              <a:tblGrid>
                <a:gridCol w="2841840"/>
                <a:gridCol w="2317680"/>
                <a:gridCol w="2198520"/>
              </a:tblGrid>
              <a:tr h="907920">
                <a:tc>
                  <a:txBody>
                    <a:bodyPr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знаки сравн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акцин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ыворот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1040">
                <a:tc>
                  <a:txBody>
                    <a:bodyPr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то содержит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к организм получает антитела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1320">
                <a:tc>
                  <a:txBody>
                    <a:bodyPr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к быстро развивается иммунитет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6840">
                <a:tc>
                  <a:txBody>
                    <a:bodyPr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чего применяют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1" name="Місце для нижнього колонтитула 1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2" name=""/>
          <p:cNvGraphicFramePr/>
          <p:nvPr/>
        </p:nvGraphicFramePr>
        <p:xfrm>
          <a:off x="785880" y="1143000"/>
          <a:ext cx="7929360" cy="5419800"/>
        </p:xfrm>
        <a:graphic>
          <a:graphicData uri="http://schemas.openxmlformats.org/drawingml/2006/table">
            <a:tbl>
              <a:tblPr/>
              <a:tblGrid>
                <a:gridCol w="3062160"/>
                <a:gridCol w="2497320"/>
                <a:gridCol w="2369880"/>
              </a:tblGrid>
              <a:tr h="396720"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знаки сравн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акцин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ыворот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то содержит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лабленны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кроорганизм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товые  антител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к организм получает антитела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рабатыва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мостоятельн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готовом вид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8680"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к быстро развивается иммунитет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еч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ительного               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емени                       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ечение короткого времен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5000"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чего применяют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профилакти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леч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3" name="Місце для нижнього колонтитула 2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Picture 2" descr=""/>
          <p:cNvPicPr/>
          <p:nvPr/>
        </p:nvPicPr>
        <p:blipFill>
          <a:blip r:embed="rId1"/>
          <a:stretch/>
        </p:blipFill>
        <p:spPr>
          <a:xfrm>
            <a:off x="1000080" y="642960"/>
            <a:ext cx="7238880" cy="5429160"/>
          </a:xfrm>
          <a:prstGeom prst="rect">
            <a:avLst/>
          </a:prstGeom>
          <a:ln w="0">
            <a:noFill/>
          </a:ln>
        </p:spPr>
      </p:pic>
      <p:sp>
        <p:nvSpPr>
          <p:cNvPr id="275" name="Місце для нижнього колонтитула 1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Прямоугольник 1"/>
          <p:cNvSpPr/>
          <p:nvPr/>
        </p:nvSpPr>
        <p:spPr>
          <a:xfrm>
            <a:off x="2286000" y="1996920"/>
            <a:ext cx="4572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 настоящее время среди населения проводится вакцинация против гриппа. </a:t>
            </a:r>
            <a:r>
              <a:rPr b="0" lang="ru-RU" sz="1800" spc="-1" strike="noStrike">
                <a:solidFill>
                  <a:srgbClr val="ff0000"/>
                </a:solidFill>
                <a:latin typeface="Verdana"/>
              </a:rPr>
              <a:t>Для чего нам нужны прививк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очему в одних случаях применяют вакцины, а в других – сыворотк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Что такое иммунитет и </a:t>
            </a:r>
            <a:r>
              <a:rPr b="0" lang="ru-RU" sz="1800" spc="-1" strike="noStrike">
                <a:solidFill>
                  <a:srgbClr val="ff0000"/>
                </a:solidFill>
                <a:latin typeface="Verdana"/>
              </a:rPr>
              <a:t>каким он бывает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Прямоугольник 2"/>
          <p:cNvSpPr/>
          <p:nvPr/>
        </p:nvSpPr>
        <p:spPr>
          <a:xfrm>
            <a:off x="1785960" y="1000080"/>
            <a:ext cx="601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истематизация знаний урока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Picture 2" descr=""/>
          <p:cNvPicPr/>
          <p:nvPr/>
        </p:nvPicPr>
        <p:blipFill>
          <a:blip r:embed="rId1"/>
          <a:stretch/>
        </p:blipFill>
        <p:spPr>
          <a:xfrm>
            <a:off x="5214960" y="4500720"/>
            <a:ext cx="2928960" cy="1928520"/>
          </a:xfrm>
          <a:prstGeom prst="rect">
            <a:avLst/>
          </a:prstGeom>
          <a:ln w="0">
            <a:noFill/>
          </a:ln>
        </p:spPr>
      </p:pic>
      <p:sp>
        <p:nvSpPr>
          <p:cNvPr id="279" name="Місце для нижнього колонтитула 1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Picture 3" descr=""/>
          <p:cNvPicPr/>
          <p:nvPr/>
        </p:nvPicPr>
        <p:blipFill>
          <a:blip r:embed="rId1"/>
          <a:stretch/>
        </p:blipFill>
        <p:spPr>
          <a:xfrm>
            <a:off x="1643040" y="1714680"/>
            <a:ext cx="6191280" cy="4643280"/>
          </a:xfrm>
          <a:prstGeom prst="rect">
            <a:avLst/>
          </a:prstGeom>
          <a:ln w="0">
            <a:noFill/>
          </a:ln>
        </p:spPr>
      </p:pic>
      <p:sp>
        <p:nvSpPr>
          <p:cNvPr id="281" name="Прямоугольник 3"/>
          <p:cNvSpPr/>
          <p:nvPr/>
        </p:nvSpPr>
        <p:spPr>
          <a:xfrm>
            <a:off x="2000160" y="928800"/>
            <a:ext cx="564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Verdana"/>
              </a:rPr>
              <a:t>Крепкого  вам  иммунитета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Місце для нижнього колонтитула 1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2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Verdana"/>
              </a:rPr>
              <a:t>Цели:</a:t>
            </a: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Verdana"/>
              </a:rPr>
              <a:t>1. Сформировать понятие иммунология и определить значение данной науки для сохранения здоровья человека;</a:t>
            </a: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Verdana"/>
              </a:rPr>
              <a:t>2.Сформулировать понятия вакцина и сыворотка;</a:t>
            </a: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Verdana"/>
              </a:rPr>
              <a:t>3.Составить в виде таблицы сравнительную характеристику вакцины и сыворотки;</a:t>
            </a: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Verdana"/>
              </a:rPr>
              <a:t>4.Рассмотреть схему классификации иммунитета;</a:t>
            </a:r>
            <a:br>
              <a:rPr sz="2000"/>
            </a:br>
            <a:br>
              <a:rPr sz="2000"/>
            </a:br>
            <a:endParaRPr b="1" lang="en-US" sz="2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2" name="Місце для нижнього колонтитула 2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785520" y="533520"/>
            <a:ext cx="31431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Проблема:</a:t>
            </a:r>
            <a:endParaRPr b="1" lang="en-US" sz="28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713880" y="1447560"/>
            <a:ext cx="3357720" cy="420660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17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 настоящее время среди населения проводится вакцинация против гриппа. </a:t>
            </a:r>
            <a:r>
              <a:rPr b="0" lang="ru-RU" sz="2000" spc="-1" strike="noStrike">
                <a:solidFill>
                  <a:srgbClr val="ff0000"/>
                </a:solidFill>
                <a:latin typeface="Verdana"/>
              </a:rPr>
              <a:t>Для чего нам нужны прививки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17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очему в одних случаях применяют вакцины, а в других – сыворотки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17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17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Что такое иммунитет и </a:t>
            </a:r>
            <a:r>
              <a:rPr b="0" lang="ru-RU" sz="2000" spc="-1" strike="noStrike">
                <a:solidFill>
                  <a:srgbClr val="ff0000"/>
                </a:solidFill>
                <a:latin typeface="Verdana"/>
              </a:rPr>
              <a:t>каким он бывает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5" name="Picture 2" descr=""/>
          <p:cNvPicPr/>
          <p:nvPr/>
        </p:nvPicPr>
        <p:blipFill>
          <a:blip r:embed="rId1"/>
          <a:stretch/>
        </p:blipFill>
        <p:spPr>
          <a:xfrm>
            <a:off x="4071960" y="1000080"/>
            <a:ext cx="4357800" cy="4572000"/>
          </a:xfrm>
          <a:prstGeom prst="rect">
            <a:avLst/>
          </a:prstGeom>
          <a:ln w="0">
            <a:noFill/>
          </a:ln>
        </p:spPr>
      </p:pic>
      <p:sp>
        <p:nvSpPr>
          <p:cNvPr id="236" name="Місце для нижнього колонтитула 2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8d3e"/>
                </a:solidFill>
                <a:latin typeface="Verdana"/>
              </a:rPr>
              <a:t>Проверка домашнего задания:</a:t>
            </a:r>
            <a:endParaRPr b="1" lang="en-US" sz="2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 fontScale="82000"/>
          </a:bodyPr>
          <a:p>
            <a:pPr marL="217080" indent="-21708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Соотнесите вопросы и ответы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17080" indent="-21708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ОТВЕТЫ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17080" indent="-21708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а. Лимф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17080" indent="-21708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б. Кровяная плазм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17080" indent="-21708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. Межклеточная жидкость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17080" indent="-21708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г. Тромбоциты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17080" indent="-21708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д. Лейкоциты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17080" indent="-21708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е. Эритроциты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17080" indent="-21708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     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ж. гемоглобин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17080" indent="-21708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     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з. кровь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17080" indent="-21708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Вопросы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17080" indent="-21708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Что из перечисленного относится к внутренней среде организма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17080" indent="-21708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Что содержится в составе крови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17080" indent="-21708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Что останется , если из крови удалить клетки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17080" indent="-21708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ак называется жидкая часть крови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17080" indent="-21708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ак называется белок, придающий крови красный цвет крови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17080" indent="-21708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расные безъядерные клетки крови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17080" indent="-21708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Белые ядерные клетки крови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17080" indent="-21708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Борются с бактериями и инородными телами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17080" indent="-21708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Движутся ложноножками, меняют форму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17080" indent="-21708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уничтожают бактерии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17080" indent="-21708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Транспортируют кислород и углекислый газ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17080" indent="-21708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17080" indent="-21708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Місце для нижнього колонтитула 2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8d3e"/>
                </a:solidFill>
                <a:latin typeface="Verdana"/>
              </a:rPr>
              <a:t>Проверка:</a:t>
            </a:r>
            <a:endParaRPr b="1" lang="en-US" sz="2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твет: 1-а,в,з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             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2- б,г,д,е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            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3- б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            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4- б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            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5- ж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            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6- е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            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7- -д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            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8- д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            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9- д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            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10- д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           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11- ж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Місце для нижнього колонтитула 2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2" descr=""/>
          <p:cNvPicPr/>
          <p:nvPr/>
        </p:nvPicPr>
        <p:blipFill>
          <a:blip r:embed="rId1"/>
          <a:stretch/>
        </p:blipFill>
        <p:spPr>
          <a:xfrm>
            <a:off x="2857680" y="714240"/>
            <a:ext cx="3286080" cy="4551480"/>
          </a:xfrm>
          <a:prstGeom prst="rect">
            <a:avLst/>
          </a:prstGeom>
          <a:ln w="0">
            <a:noFill/>
          </a:ln>
        </p:spPr>
      </p:pic>
      <p:sp>
        <p:nvSpPr>
          <p:cNvPr id="244" name="Rectangle 1"/>
          <p:cNvSpPr/>
          <p:nvPr/>
        </p:nvSpPr>
        <p:spPr>
          <a:xfrm>
            <a:off x="9000" y="5856480"/>
            <a:ext cx="659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Гиппократ –отец медици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Місце для нижнього колонтитула 1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2" descr=""/>
          <p:cNvPicPr/>
          <p:nvPr/>
        </p:nvPicPr>
        <p:blipFill>
          <a:blip r:embed="rId1"/>
          <a:stretch/>
        </p:blipFill>
        <p:spPr>
          <a:xfrm>
            <a:off x="1000080" y="857160"/>
            <a:ext cx="2857680" cy="280044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3" descr=""/>
          <p:cNvPicPr/>
          <p:nvPr/>
        </p:nvPicPr>
        <p:blipFill>
          <a:blip r:embed="rId2"/>
          <a:stretch/>
        </p:blipFill>
        <p:spPr>
          <a:xfrm>
            <a:off x="5214960" y="2571840"/>
            <a:ext cx="2276280" cy="2857320"/>
          </a:xfrm>
          <a:prstGeom prst="rect">
            <a:avLst/>
          </a:prstGeom>
          <a:ln w="0">
            <a:noFill/>
          </a:ln>
        </p:spPr>
      </p:pic>
      <p:sp>
        <p:nvSpPr>
          <p:cNvPr id="248" name="Rectangle 1"/>
          <p:cNvSpPr/>
          <p:nvPr/>
        </p:nvSpPr>
        <p:spPr>
          <a:xfrm>
            <a:off x="870840" y="3929400"/>
            <a:ext cx="293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Человек, заболевший чумо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2"/>
          <p:cNvSpPr/>
          <p:nvPr/>
        </p:nvSpPr>
        <p:spPr>
          <a:xfrm>
            <a:off x="1228680" y="5958360"/>
            <a:ext cx="703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   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Ребёнок, заболевший осп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Місце для нижнього колонтитула 1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714680" y="1857240"/>
            <a:ext cx="5636880" cy="18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ff8d3e"/>
                </a:solidFill>
                <a:latin typeface="Verdana"/>
              </a:rPr>
              <a:t>Иммунология?   </a:t>
            </a:r>
            <a:endParaRPr b="1" lang="en-US" sz="45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2" name="Місце для нижнього колонтитула 2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Picture 2" descr=""/>
          <p:cNvPicPr/>
          <p:nvPr/>
        </p:nvPicPr>
        <p:blipFill>
          <a:blip r:embed="rId1"/>
          <a:stretch/>
        </p:blipFill>
        <p:spPr>
          <a:xfrm>
            <a:off x="1928880" y="500040"/>
            <a:ext cx="5214960" cy="2451240"/>
          </a:xfrm>
          <a:prstGeom prst="rect">
            <a:avLst/>
          </a:prstGeom>
          <a:ln w="0">
            <a:noFill/>
          </a:ln>
        </p:spPr>
      </p:pic>
      <p:sp>
        <p:nvSpPr>
          <p:cNvPr id="254" name="Прямоугольник 1"/>
          <p:cNvSpPr/>
          <p:nvPr/>
        </p:nvSpPr>
        <p:spPr>
          <a:xfrm>
            <a:off x="1571760" y="2928960"/>
            <a:ext cx="6000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Иммуноло́гия </a:t>
            </a:r>
            <a:r>
              <a:rPr b="0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— наука об иммунитете живых организмов, изучающая биологические механизмы самозащиты организма от любых чужеродных веществ.</a:t>
            </a:r>
            <a:br>
              <a:rPr sz="2400"/>
            </a:br>
            <a:r>
              <a:rPr b="1" i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Иммунология </a:t>
            </a:r>
            <a:r>
              <a:rPr b="0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— это наука о строении и закономерностях функционирования иммунной системы, её заболеваниях и способах иммунотерап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Місце для нижнього колонтитула 1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3T05:05:25Z</dcterms:created>
  <dc:creator>Oksana</dc:creator>
  <dc:description/>
  <dc:language>en-US</dc:language>
  <cp:lastModifiedBy>LEGION</cp:lastModifiedBy>
  <dcterms:modified xsi:type="dcterms:W3CDTF">2015-11-27T12:49:59Z</dcterms:modified>
  <cp:revision>9</cp:revision>
  <dc:subject/>
  <dc:title>Иммунология на службе здоровья человека</dc:title>
</cp:coreProperties>
</file>