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E9C2-8D96-4054-8F24-25D070BDC7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на службе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систематизации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я на службе здоровья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систематизаци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уи Пастер (1822-189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уи Пастер (1822-189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дуард Дженнер (1749-182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дуард Дженнер (1749-18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к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вка- это процедура введения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вор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дицинский препарат, который содержит готовые анти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кц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вка- это процедура введения вакц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воро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медицинский препарат, который содержит готовые антит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1. Сравнительная характеристика вакцины и сыворо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. Сравнительная характеристика вакцины и сыворо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я знаний урок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знаний урок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епкого  вам  иммунитет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епкого  вам  иммуните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формулировать понятия вакцина и сыворот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оставить в виде таблицы сравнительную характеристику вакцины и сыворот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Рассмотреть схему классификации иммунитета;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Сформулировать понятия вакцина и сыворот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Составить в виде таблицы сравнительную характеристику вакцины и сыворот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Рассмотреть схему классификации иммунитета;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иппократ –отец меди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иппократ –отец медиц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, заболевший чу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ёнок, заболевший осп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, заболевший чу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ёнок, заболевший осп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ммунология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ммунология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́гия 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́гия 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я 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159-4BE3-4CBB-96A4-505D5A88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108-CA86-4FEC-8806-4A76D14B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D84-ADF4-4C2E-A527-EB410BF3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5341-4E5B-4EA8-A84D-7B7D4BCE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47C0-36CD-4821-92BB-5B07DDDB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EA9D-EADA-4961-BB0B-8635724A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4104-433A-4E0D-9276-8300B01B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6BE0-779A-4814-812E-50EED59E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645C-9BF0-462B-AECA-5DC6911D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F2B8-78E0-41F9-8D31-A72E43D3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8296-1596-4D3E-94E0-81216CC8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EB3C-19D4-469A-A75A-7D09ED05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6477-A959-4628-A590-D6562C5D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E3B2-3D13-4822-AFBF-4066F0EB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208B-5F7C-4B63-A5B6-7840E2BE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6AA6-414F-4540-8B03-AE58D7BE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BAA1-5110-4191-B5B9-07656613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13053-3E65-49F6-9372-8D7589D4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C8875-279E-46BE-AFF4-7C8A30E3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67C21-9CFA-4232-B62B-29AC644D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BD4A1-9B0E-4ECE-BB07-FD0B5B83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BA999-008E-4F0B-8876-F9AB4768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F821-D3E8-4DFF-B183-34214ECF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27077-0D75-4E09-9B7F-8777FB35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A32E1-43DA-4CD6-894B-FFF0DF1D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D2ABC-43B6-44AB-8CEE-39881557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6A895-66BA-4332-B32E-59C4BC08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9262A-3937-4C74-9518-66798358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6C7E1-9FE5-4F19-8E00-F346050A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F063D-15DB-4923-8A20-C05D6EF2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794B5-A3A1-49BA-96DD-1B7DF91E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12D9F-CE05-46BA-931F-A9543347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3B750-A644-41BB-BD6A-4500B5BF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C1D2-7326-4D63-83A0-864604A6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75E81-3505-4DD5-AB4D-CBC102B1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F5C63-239A-4009-87D7-210ABF0C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C70A8-FCFD-49C4-A767-85811B69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75D63-ECFF-4B98-9DFA-2F42A16B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400A7-355A-4600-95CD-1549D338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7BD2D-BAD7-4889-AEA0-B433FF9C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AC5FC-8235-4EA7-A938-E6BD3CCF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783D4-5EAC-47CA-968D-9AE8C9C3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5DE7F-BACD-424C-8E4C-3E39D14A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D3297-FDF5-43DC-8CEF-1653F620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FB6-BE49-49AD-BBA5-BFDAE660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E8778-37C5-4EBC-AF1E-BC9EFCCC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19E85-04F0-4552-9F4C-FEFB7F4F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8D6BA-544E-49EE-803F-BB7C0736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8715D-AA1A-4434-8FFF-1EFAA647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77161-4E1E-49DA-9362-252E7E03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5A7D4-774B-4DD1-801F-5D1163E4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83D8C-4F64-4C21-A812-D49C5771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7C9F4-171E-46E4-BBBE-A682BFBC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A7027-22B9-434A-BCD7-35313A7E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FADC2-B385-4055-A645-90C9210B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77BD-8394-4CC7-BAF8-F44A12E3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A4E58-F2F9-4A46-BFE5-C3058E81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47A4-124D-4EF0-8D3B-185A6DBD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2DE-3FC1-4277-8B86-2ABF183C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79E-7C76-47F3-A021-E613EF1C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F4A4-9038-4669-913D-749EADD80C81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913E-B034-4B27-B7BA-EB54CA22E33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5364-7D2E-4628-ADDA-485288D7C3CE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2052-B0B2-4169-A77B-1523E34AABB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45A3-AC78-4C48-A42A-D5AB4D270408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A755-7B69-4411-973A-D0DA99CC253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334D-74E9-480D-82F0-6F1A4C9EB91C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78F4-6865-4A6B-B6E2-6BCBF37BFFA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36EF-ADF0-43C3-A1D7-46AA2837F2BB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1C55-0D2C-4CE1-9C75-537A903E35E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8d3e"/>
                </a:solidFill>
                <a:latin typeface="Verdana"/>
              </a:rPr>
              <a:t>Иммунология на службе здоровья человека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рок систематизации зн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2643120" y="785880"/>
            <a:ext cx="3810240" cy="1571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8359560" cy="44290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2"/>
          <p:cNvSpPr/>
          <p:nvPr/>
        </p:nvSpPr>
        <p:spPr>
          <a:xfrm>
            <a:off x="857160" y="92880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уи Пастер (1822-18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6858000" cy="443844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2"/>
          <p:cNvSpPr/>
          <p:nvPr/>
        </p:nvSpPr>
        <p:spPr>
          <a:xfrm>
            <a:off x="428760" y="7858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дуард Дженнер (1749-182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938520" y="114300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"/>
          <p:cNvSpPr/>
          <p:nvPr/>
        </p:nvSpPr>
        <p:spPr>
          <a:xfrm>
            <a:off x="3429000" y="1214280"/>
            <a:ext cx="4786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ка- это процедура введения вакц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862920" y="3929040"/>
            <a:ext cx="250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воро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4"/>
          <p:cNvSpPr/>
          <p:nvPr/>
        </p:nvSpPr>
        <p:spPr>
          <a:xfrm>
            <a:off x="3857760" y="4071960"/>
            <a:ext cx="421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едицинский препарат, который содержит готовые антите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506520" y="2214720"/>
            <a:ext cx="2636640" cy="1704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714240" y="4500720"/>
            <a:ext cx="2786040" cy="185724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571680" y="57168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ая характеристика вакцины и сыворотки</a:t>
            </a:r>
            <a:r>
              <a:rPr b="1" lang="ru-RU" sz="1800" spc="-1" strike="noStrike">
                <a:solidFill>
                  <a:srgbClr val="e3ded1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714240" y="1214280"/>
          <a:ext cx="7358040" cy="5000760"/>
        </p:xfrm>
        <a:graphic>
          <a:graphicData uri="http://schemas.openxmlformats.org/drawingml/2006/table">
            <a:tbl>
              <a:tblPr/>
              <a:tblGrid>
                <a:gridCol w="2841840"/>
                <a:gridCol w="2317680"/>
                <a:gridCol w="2198520"/>
              </a:tblGrid>
              <a:tr h="90792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воро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содержи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рганизм получает антите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стро развивается иммунит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8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применя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785880" y="1143000"/>
          <a:ext cx="7929360" cy="5419800"/>
        </p:xfrm>
        <a:graphic>
          <a:graphicData uri="http://schemas.openxmlformats.org/drawingml/2006/table">
            <a:tbl>
              <a:tblPr/>
              <a:tblGrid>
                <a:gridCol w="3062160"/>
                <a:gridCol w="2497320"/>
                <a:gridCol w="23698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воро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содержи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абле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организ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ые  антит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рганизм получает антите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атыв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товом ви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стро развивается иммунит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тельного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и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короткого врем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применя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рофилак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е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1000080" y="64296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2286000" y="19969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астоящее время среди населения проводится вакцинация против гриппа.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Для чего нам нужны привив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в одних случаях применяют вакцины, а в других – сыворот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 такое иммунитет и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каким он быв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"/>
          <p:cNvSpPr/>
          <p:nvPr/>
        </p:nvSpPr>
        <p:spPr>
          <a:xfrm>
            <a:off x="1785960" y="1000080"/>
            <a:ext cx="60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тизация знаний урок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5214960" y="4500720"/>
            <a:ext cx="2928960" cy="192852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643040" y="1714680"/>
            <a:ext cx="6191280" cy="464328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3"/>
          <p:cNvSpPr/>
          <p:nvPr/>
        </p:nvSpPr>
        <p:spPr>
          <a:xfrm>
            <a:off x="2000160" y="92880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Крепкого  вам  иммуните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Цели: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2.Сформулировать понятия вакцина и сыворотка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3.Составить в виде таблицы сравнительную характеристику вакцины и сыворотки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4.Рассмотреть схему классификации иммунитета;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85520" y="533520"/>
            <a:ext cx="3143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облема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3880" y="1447560"/>
            <a:ext cx="335772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настоящее время среди населения проводится вакцинация против гриппа.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Для чего нам нужны прививк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чему в одних случаях применяют вакцины, а в других – сыворотк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 такое иммунитет и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аким он бывае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071960" y="1000080"/>
            <a:ext cx="4357800" cy="457200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роверка домашнего задания: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2000"/>
          </a:bodyPr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роверка: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857680" y="714240"/>
            <a:ext cx="3286080" cy="45514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"/>
          <p:cNvSpPr/>
          <p:nvPr/>
        </p:nvSpPr>
        <p:spPr>
          <a:xfrm>
            <a:off x="9000" y="5856480"/>
            <a:ext cx="65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иппократ –отец медиц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2857680" cy="2800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5214960" y="2571840"/>
            <a:ext cx="2276280" cy="28573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"/>
          <p:cNvSpPr/>
          <p:nvPr/>
        </p:nvSpPr>
        <p:spPr>
          <a:xfrm>
            <a:off x="870840" y="3929400"/>
            <a:ext cx="29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Человек, заболевший чу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228680" y="5958360"/>
            <a:ext cx="70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Ребёнок, заболевший осп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14680" y="1857240"/>
            <a:ext cx="563688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Иммунология?  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928880" y="500040"/>
            <a:ext cx="5214960" cy="24512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1"/>
          <p:cNvSpPr/>
          <p:nvPr/>
        </p:nvSpPr>
        <p:spPr>
          <a:xfrm>
            <a:off x="1571760" y="2928960"/>
            <a:ext cx="600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ммуноло́гия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2400"/>
            </a:b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ммунология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05:05:25Z</dcterms:created>
  <dc:creator>Oksana</dc:creator>
  <dc:description/>
  <dc:language>en-US</dc:language>
  <cp:lastModifiedBy>LEGION</cp:lastModifiedBy>
  <dcterms:modified xsi:type="dcterms:W3CDTF">2015-11-27T12:49:59Z</dcterms:modified>
  <cp:revision>9</cp:revision>
  <dc:subject/>
  <dc:title>Иммунология на службе здоровья человека</dc:title>
</cp:coreProperties>
</file>