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9982-3D42-49C9-9915-1AEC53167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43EA-3CAC-46FD-AE89-732D08E93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479-2992-4BB1-91FE-FD580F224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3F48-8433-4F97-ABCE-F14D96589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755F-6283-4D2B-8647-38916C819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65B9-0EAA-41EF-BA31-D1B9836C6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3926-2CC4-4D84-A6BB-BBCEEEFD8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D729-1544-4EB2-98D4-4AD2A30FDA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BD34-B62C-4FE4-9F92-45291572D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D001-99EA-47C8-88BF-7F61D9E70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B6E4-41FE-4BCB-A33D-7FA740A8E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4082-F3DC-4E19-9C4B-9E5C5211C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3627-211F-4A98-AF05-06F4C54C2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8AE-A31C-4475-BCE2-89E21663C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AC52-2AE1-46C3-85E6-690583C14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FA06-0213-4F81-9C7A-45D69C7348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A12-94EE-405D-BF8E-BAF5D599E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D1F7-B79B-4714-AFDB-DC9C98264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D480-A09A-4431-BCA2-646CB1CB9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8F58-D87A-4D84-A19E-7FDE927D6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C210-797B-4C39-8D1F-07F18E828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26EC-C5B1-4303-98F4-DD8EF79A5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00D-AEC5-46FA-A2B8-8F3AF54E7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260A-95A6-4001-854E-A06CAAD434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C8C2-4156-4939-A43A-C6BC3F77E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7C54-A7A5-4C60-91B3-713575DDE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B4B5-8179-4CA9-B6F9-B1BDD52E5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C5AF-1A76-4BD7-9E73-BA48AEDA2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7654-8C6C-4792-A42D-3BE71B3A7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3012-A54E-48EC-B40F-EBD0D3BF6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7EEC-F5B4-4CD5-84DF-7284186CAA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0A5C-B77C-435E-8C79-84C85B1F5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CA3F-3C34-49DB-8B87-401282AA9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1D00-1424-4B59-B8B2-EC97731DF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209F-1AFE-4ACD-846E-D2A342031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83FF-45CD-4484-9EC2-F4C996880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D7EB-16B6-4A3B-8263-9420D3695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24CD-1942-462D-B4B0-8E0A7053C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9B9F-D1C4-460C-BDFE-79CE09E47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CD1C-D470-4EA7-8D4F-03A77A695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D97F-6A73-4FD8-A35F-ED26B7361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74F-7D18-437F-882C-6A5496AE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44F-7DCE-4DCF-B917-1E500464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28E-2707-4B28-B556-5325C881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C22-A51D-4352-A7F0-3C34D45C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F5D-8E8C-4F36-994E-9F0382A7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45B-BF77-4518-B677-B6BDAD57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ED2-17FD-45E2-8E8B-E2E8A85B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CE0-BE2D-4FAC-95CA-1FA28D9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D9E-4ABF-4ABD-A6D3-8710D65E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9C2-EC77-47D5-B7D6-25CE8704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709-2732-4E7B-B1F5-DBE5F7A9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950-F4F1-4FED-90C6-7FCEF5A3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7356-E447-42DD-9575-28686D20A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680" y="285840"/>
            <a:ext cx="792288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63760" y="2338560"/>
            <a:ext cx="6215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йр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πειρο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έρα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конец, преде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конеч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предель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/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неопределён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122880" y="50371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 Лаэрт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жизни, учения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речениях знаменит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10800000">
            <a:off x="28692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аксимандр Милетский... уч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началом и основ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яется беспреде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определял его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ух, ни как воду,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либо иное. Он учил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и изменяются, целое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таётся неизм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Диоген Лаэртский (обложка книги-цв)"/>
          <p:cNvPicPr/>
          <p:nvPr/>
        </p:nvPicPr>
        <p:blipFill>
          <a:blip r:embed="rId1"/>
          <a:stretch/>
        </p:blipFill>
        <p:spPr>
          <a:xfrm>
            <a:off x="6764400" y="1978200"/>
            <a:ext cx="1636560" cy="215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3080" y="539748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пполи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овер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рес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 rot="10800000">
            <a:off x="251784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аксимен... полагал, что начало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й возду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то, что есть, что было и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гущаясь и разрежаясь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воздух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обретает видимые различ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, растекшись до более разреже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я, он становится ог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 состоянии воз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ирод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духа; по мере сгущ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оздуха путем «валяния» образу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ко, сгустившись ещё больше,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он становится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дой, ещё больш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ёй, а достигнув преде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отности – камн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ippolytus-cl-red"/>
          <p:cNvPicPr/>
          <p:nvPr/>
        </p:nvPicPr>
        <p:blipFill>
          <a:blip r:embed="rId1"/>
          <a:stretch/>
        </p:blipFill>
        <p:spPr>
          <a:xfrm>
            <a:off x="395280" y="1727280"/>
            <a:ext cx="201924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2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415560" y="5181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40 - 4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10800000">
            <a:off x="538200" y="1940040"/>
            <a:ext cx="4857840" cy="3814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космо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т же самый для всех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здал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из богов, ни из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да был, есть и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о жив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ё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горающим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гасающи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Гераклит Эфесский (red)"/>
          <p:cNvPicPr/>
          <p:nvPr/>
        </p:nvPicPr>
        <p:blipFill>
          <a:blip r:embed="rId1"/>
          <a:stretch/>
        </p:blipFill>
        <p:spPr>
          <a:xfrm>
            <a:off x="6081840" y="1978200"/>
            <a:ext cx="2247840" cy="289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98560" y="178128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Гераклит-река-огонь"/>
          <p:cNvPicPr/>
          <p:nvPr/>
        </p:nvPicPr>
        <p:blipFill>
          <a:blip r:embed="rId1"/>
          <a:stretch/>
        </p:blipFill>
        <p:spPr>
          <a:xfrm>
            <a:off x="898560" y="292428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2" name="Picture 5" descr="ddwfire"/>
          <p:cNvPicPr/>
          <p:nvPr/>
        </p:nvPicPr>
        <p:blipFill>
          <a:blip r:embed="rId2"/>
          <a:stretch/>
        </p:blipFill>
        <p:spPr>
          <a:xfrm>
            <a:off x="1619280" y="1690560"/>
            <a:ext cx="457200" cy="743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6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56000" y="5397480"/>
            <a:ext cx="170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540/5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828040" y="5397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490 - 4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Zeno (Neapel, Nationalmuseum 1)_com3"/>
          <p:cNvPicPr/>
          <p:nvPr/>
        </p:nvPicPr>
        <p:blipFill>
          <a:blip r:embed="rId1"/>
          <a:stretch/>
        </p:blipFill>
        <p:spPr>
          <a:xfrm>
            <a:off x="5505480" y="2158920"/>
            <a:ext cx="22906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7" name="Picture 11" descr="Парменид (Элея)-c1-sized-08"/>
          <p:cNvPicPr/>
          <p:nvPr/>
        </p:nvPicPr>
        <p:blipFill>
          <a:blip r:embed="rId2"/>
          <a:stretch/>
        </p:blipFill>
        <p:spPr>
          <a:xfrm>
            <a:off x="1438200" y="2158920"/>
            <a:ext cx="2158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3"/>
          <p:cNvSpPr/>
          <p:nvPr/>
        </p:nvSpPr>
        <p:spPr>
          <a:xfrm flipH="1">
            <a:off x="708192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50548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е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4570560" y="5253120"/>
            <a:ext cx="3454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 вечное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3760" y="358920"/>
            <a:ext cx="837396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4120" y="1781280"/>
            <a:ext cx="23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238560" y="169056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быть несуществующи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-сущее же не может суще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238560" y="282420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допущении множественности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допустить бытие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238560" y="395748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ни возни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-сущего, ни сделаться не-с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238560" y="509112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и то же – мыс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едмет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408000" y="5145120"/>
            <a:ext cx="23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ел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История запад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10800000">
            <a:off x="178920" y="1977840"/>
            <a:ext cx="6118200" cy="41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асто говорят, что Парменид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зобрёл логику, но в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изобрё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к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ную на логик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философии это первый пример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широк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гументаци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мысли и языка к миру в целом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у аргументацию нельзя, конеч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читать основатель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в то же время стоит посмотре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ой элемент истины она содержит.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Рассел (Хеар - red)"/>
          <p:cNvPicPr/>
          <p:nvPr/>
        </p:nvPicPr>
        <p:blipFill>
          <a:blip r:embed="rId1"/>
          <a:stretch/>
        </p:blipFill>
        <p:spPr>
          <a:xfrm>
            <a:off x="6116760" y="1978200"/>
            <a:ext cx="2571480" cy="2523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78128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76480" y="2338560"/>
            <a:ext cx="6791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по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πορ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труднение, безвыходное положение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όρ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вых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рудноразрешим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1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условием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ахо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и сам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ь скоро он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е должно нах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будет уже «второе»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оно должно существо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«третьем» ме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устое место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что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от того, местом 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мысл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7"/>
          <p:cNvSpPr/>
          <p:nvPr/>
        </p:nvSpPr>
        <p:spPr>
          <a:xfrm>
            <a:off x="5681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724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каждую частицу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делимую д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ни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5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8"/>
          <p:cNvSpPr/>
          <p:nvPr/>
        </p:nvSpPr>
        <p:spPr>
          <a:xfrm>
            <a:off x="3454560" y="5505480"/>
            <a:ext cx="223200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6"/>
          <p:cNvSpPr/>
          <p:nvPr/>
        </p:nvSpPr>
        <p:spPr>
          <a:xfrm>
            <a:off x="6905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1500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оит из ча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го придётся при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 какую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ют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3"/>
          <p:cNvSpPr/>
          <p:nvPr/>
        </p:nvSpPr>
        <p:spPr>
          <a:xfrm>
            <a:off x="2230560" y="5505480"/>
            <a:ext cx="2195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тогда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713120" y="5505480"/>
            <a:ext cx="2195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личим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4"/>
          <p:cNvSpPr/>
          <p:nvPr/>
        </p:nvSpPr>
        <p:spPr>
          <a:xfrm>
            <a:off x="564516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75904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464184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3763800" y="395748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е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исло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884160" y="4425840"/>
            <a:ext cx="287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их будет ро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, сколько есть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5375160" y="4425840"/>
            <a:ext cx="288000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меж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ыми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т други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5"/>
          <p:cNvSpPr/>
          <p:nvPr/>
        </p:nvSpPr>
        <p:spPr>
          <a:xfrm>
            <a:off x="3489480" y="5505480"/>
            <a:ext cx="21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строногий Ахил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когда не догон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дленно ползущую черепах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233856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 догнать е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будет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оторого она выш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за это время черепа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йдёт вперёд и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ять окаж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пер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хил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Ахилл"/>
          <p:cNvPicPr/>
          <p:nvPr/>
        </p:nvPicPr>
        <p:blipFill>
          <a:blip r:embed="rId1"/>
          <a:stretch/>
        </p:blipFill>
        <p:spPr>
          <a:xfrm>
            <a:off x="1079640" y="2698920"/>
            <a:ext cx="1868400" cy="257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Черепаха-7"/>
          <p:cNvPicPr/>
          <p:nvPr/>
        </p:nvPicPr>
        <p:blipFill>
          <a:blip r:embed="rId2"/>
          <a:stretch/>
        </p:blipFill>
        <p:spPr>
          <a:xfrm>
            <a:off x="6369120" y="421020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7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>
            <a:off x="8385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80247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741348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5937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Черепаха-5"/>
          <p:cNvPicPr/>
          <p:nvPr/>
        </p:nvPicPr>
        <p:blipFill>
          <a:blip r:embed="rId1"/>
          <a:stretch/>
        </p:blipFill>
        <p:spPr>
          <a:xfrm>
            <a:off x="5505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2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48802 0.00231 E">
                                      <p:cBhvr>
                                        <p:cTn id="95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0.15799 0.00024 E">
                                      <p:cBhvr>
                                        <p:cTn id="95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802 0.00231 L 0.6533 0.00231 E">
                                      <p:cBhvr>
                                        <p:cTn id="96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99 0.00024 L 0.22118 0.00024 E">
                                      <p:cBhvr>
                                        <p:cTn id="96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3 0.00231 L 0.71632 0.00231 E">
                                      <p:cBhvr>
                                        <p:cTn id="98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18 0.00024 L 0.26059 0.00024 E">
                                      <p:cBhvr>
                                        <p:cTn id="98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463760" y="2158920"/>
            <a:ext cx="6215040" cy="359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отом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ιχοτομ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ίχ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 две част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τομ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сечение, раздел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деление целого на две части (с возмож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дующим делением каждой из ча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е подчасти и т.д.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метод классификации, состоящий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ении объёма понятия (класса, множества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а подчинённых взаимоисключающи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речащих) понятия, суммарный объ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х исчерпывает объём делимого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хилл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двинется с мес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, впрочем, и черепах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жде, чем пройти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место, он должен прой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о, которо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полпути между н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любого ме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ходи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пу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им и первым мес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1546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169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906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22669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13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4678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80964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Черепаха-5"/>
          <p:cNvPicPr/>
          <p:nvPr/>
        </p:nvPicPr>
        <p:blipFill>
          <a:blip r:embed="rId1"/>
          <a:stretch/>
        </p:blipFill>
        <p:spPr>
          <a:xfrm>
            <a:off x="7629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72431 0.00463 E">
                                      <p:cBhvr>
                                        <p:cTn id="106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34636 0.00231 E">
                                      <p:cBhvr>
                                        <p:cTn id="107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1809 0.00231 E">
                                      <p:cBhvr>
                                        <p:cTn id="109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8646 0.00231 E">
                                      <p:cBhvr>
                                        <p:cTn id="1105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4705 0.00231 E">
                                      <p:cBhvr>
                                        <p:cTn id="111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2344 0.00231 E">
                                      <p:cBhvr>
                                        <p:cTn id="113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0764 0.00231 E">
                                      <p:cBhvr>
                                        <p:cTn id="114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 rot="10800000">
            <a:off x="358560" y="1870200"/>
            <a:ext cx="395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4678200" y="187020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послед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3043080" y="424656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39640" y="172728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тящая стре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момент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нимает какое-то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её нет вообщ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13856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 этом мес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двигаться некуд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а покои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верно для люб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а её траек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занимает 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то, равное её размер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она была бы 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меньше себя са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171936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742320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1000080" y="341784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1000080" y="379872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arrow01"/>
          <p:cNvPicPr/>
          <p:nvPr/>
        </p:nvPicPr>
        <p:blipFill>
          <a:blip r:embed="rId1"/>
          <a:stretch/>
        </p:blipFill>
        <p:spPr>
          <a:xfrm>
            <a:off x="1719360" y="3440160"/>
            <a:ext cx="5705280" cy="33336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7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6"/>
          <p:cNvSpPr/>
          <p:nvPr/>
        </p:nvSpPr>
        <p:spPr>
          <a:xfrm>
            <a:off x="2986200" y="496584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получится, что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делима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диница време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абсурдно. (Ра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ой окажется и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неделимая, единица простран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892160" y="433548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25320" y="2608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466560" y="1511280"/>
            <a:ext cx="575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ве колесниц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тся навстречу друг друга со скоро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й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ой единице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странства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 минимальную единицу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мо третьей – неподвижной – колес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1727280" y="323856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пройдут расстоя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е минимальной единиц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ую единицу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неподвижной колесниц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ловину минимальной единицы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Зенон Элейский"/>
          <p:cNvPicPr/>
          <p:nvPr/>
        </p:nvPicPr>
        <p:blipFill>
          <a:blip r:embed="rId1"/>
          <a:stretch/>
        </p:blipFill>
        <p:spPr>
          <a:xfrm>
            <a:off x="7197840" y="971640"/>
            <a:ext cx="1547640" cy="1979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52584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568476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Колесница-1"/>
          <p:cNvPicPr/>
          <p:nvPr/>
        </p:nvPicPr>
        <p:blipFill>
          <a:blip r:embed="rId1"/>
          <a:stretch/>
        </p:blipFill>
        <p:spPr>
          <a:xfrm>
            <a:off x="2446200" y="3238560"/>
            <a:ext cx="2159280" cy="129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Колесница-1"/>
          <p:cNvPicPr/>
          <p:nvPr/>
        </p:nvPicPr>
        <p:blipFill>
          <a:blip r:embed="rId2"/>
          <a:stretch/>
        </p:blipFill>
        <p:spPr>
          <a:xfrm>
            <a:off x="4605480" y="4537080"/>
            <a:ext cx="2158920" cy="130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Колесница-3"/>
          <p:cNvPicPr/>
          <p:nvPr/>
        </p:nvPicPr>
        <p:blipFill>
          <a:blip r:embed="rId3"/>
          <a:stretch/>
        </p:blipFill>
        <p:spPr>
          <a:xfrm>
            <a:off x="3525840" y="1982880"/>
            <a:ext cx="2158920" cy="122544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1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5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0.12222 -4.44444E-006 E">
                                      <p:cBhvr>
                                        <p:cTn id="133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-0.1217 -1.48148E-006 E">
                                      <p:cBhvr>
                                        <p:cTn id="133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7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1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идетельств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ж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ни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позволяют утвержд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идетельствуют 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гих движущихс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есть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а источника зн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 чём-то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тивореч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й же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в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197840" y="1619280"/>
            <a:ext cx="1406520" cy="1798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Parmenides (Raphael) - ed"/>
          <p:cNvPicPr/>
          <p:nvPr/>
        </p:nvPicPr>
        <p:blipFill>
          <a:blip r:embed="rId2"/>
          <a:stretch/>
        </p:blipFill>
        <p:spPr>
          <a:xfrm>
            <a:off x="358920" y="4317840"/>
            <a:ext cx="1716120" cy="215748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Анаксимандр (1обр)"/>
          <p:cNvPicPr/>
          <p:nvPr/>
        </p:nvPicPr>
        <p:blipFill>
          <a:blip r:embed="rId1"/>
          <a:stretch/>
        </p:blipFill>
        <p:spPr>
          <a:xfrm>
            <a:off x="3562200" y="2158920"/>
            <a:ext cx="201168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15" descr="thales (1-2)"/>
          <p:cNvPicPr/>
          <p:nvPr/>
        </p:nvPicPr>
        <p:blipFill>
          <a:blip r:embed="rId2"/>
          <a:stretch/>
        </p:blipFill>
        <p:spPr>
          <a:xfrm>
            <a:off x="900000" y="1619280"/>
            <a:ext cx="188280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3" descr="Анаксимен (2)"/>
          <p:cNvPicPr/>
          <p:nvPr/>
        </p:nvPicPr>
        <p:blipFill>
          <a:blip r:embed="rId3"/>
          <a:stretch/>
        </p:blipFill>
        <p:spPr>
          <a:xfrm>
            <a:off x="6224760" y="2698920"/>
            <a:ext cx="219204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25"/>
          <p:cNvSpPr/>
          <p:nvPr/>
        </p:nvSpPr>
        <p:spPr>
          <a:xfrm>
            <a:off x="1070640" y="4497480"/>
            <a:ext cx="1551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3538080" y="503712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10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. 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284520" y="557676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е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88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к. 5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0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690560" y="1978200"/>
            <a:ext cx="5757840" cy="323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заимопревращения вещест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идетельствуют, чт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 видимым многообрази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принимаемого мир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рыв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ерво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355760" y="1798560"/>
            <a:ext cx="6431040" cy="4318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ρχ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incipiu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на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(принцип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правной мо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сходную точку) чего-либ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пространственном и временном смысл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зачин ил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чин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его-либ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ьст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л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специфически философском употреблени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нтологическое нача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первоначало)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позн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гносеологический принци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большинство первых философ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о началом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, из ч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оят вс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чего как пер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возникают и во что как в после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, погибая, превращаются, прич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хотя и остаётся, но измен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их проявлениях, – это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ют элементом и началом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тому они полагают, что ни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зникает и не исчезает;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некоторое естество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дно, или больше одного, отк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всё остальное, в то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амо это естество сохраня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количества и вида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 не все учили одинаков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ле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тель такого рода философи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л, что начало – в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отом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являл, что земля находится на воде)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этому предположению он, быть мож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, видя, что пища всех суще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ая и что само тепло возникае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ги и ею жив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а то, из чего всё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никает – это и есть начало всего)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он именно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 к своему предположен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тому, что семена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природ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ы, а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влажного 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050920" y="1727280"/>
            <a:ext cx="251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лосо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570560" y="1727280"/>
            <a:ext cx="25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рво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9056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050920" y="2806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570560" y="2806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050920" y="4030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70560" y="4030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пейрон</a:t>
            </a:r>
            <a:br>
              <a:rPr sz="24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(беспредельное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определё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050920" y="525312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570560" y="525312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9056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9056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9056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thales (1-2)"/>
          <p:cNvPicPr/>
          <p:nvPr/>
        </p:nvPicPr>
        <p:blipFill>
          <a:blip r:embed="rId1"/>
          <a:stretch/>
        </p:blipFill>
        <p:spPr>
          <a:xfrm>
            <a:off x="1017720" y="2878200"/>
            <a:ext cx="806400" cy="1077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8" name="Picture 16" descr="Анаксимандр (1обр)"/>
          <p:cNvPicPr/>
          <p:nvPr/>
        </p:nvPicPr>
        <p:blipFill>
          <a:blip r:embed="rId2"/>
          <a:stretch/>
        </p:blipFill>
        <p:spPr>
          <a:xfrm>
            <a:off x="1006560" y="4102200"/>
            <a:ext cx="8604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9" name="Picture 17" descr="Анаксимен (2)"/>
          <p:cNvPicPr/>
          <p:nvPr/>
        </p:nvPicPr>
        <p:blipFill>
          <a:blip r:embed="rId3"/>
          <a:stretch/>
        </p:blipFill>
        <p:spPr>
          <a:xfrm>
            <a:off x="971640" y="5326200"/>
            <a:ext cx="9396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0" name="AutoShape 18"/>
          <p:cNvSpPr/>
          <p:nvPr/>
        </p:nvSpPr>
        <p:spPr>
          <a:xfrm>
            <a:off x="708804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708804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708804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708804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Вода-12"/>
          <p:cNvPicPr/>
          <p:nvPr/>
        </p:nvPicPr>
        <p:blipFill>
          <a:blip r:embed="rId4"/>
          <a:stretch/>
        </p:blipFill>
        <p:spPr>
          <a:xfrm>
            <a:off x="7132680" y="3068640"/>
            <a:ext cx="1170000" cy="7128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05" name="Picture 23" descr="Воздух-6"/>
          <p:cNvPicPr/>
          <p:nvPr/>
        </p:nvPicPr>
        <p:blipFill>
          <a:blip r:embed="rId5"/>
          <a:stretch/>
        </p:blipFill>
        <p:spPr>
          <a:xfrm>
            <a:off x="7132680" y="5445000"/>
            <a:ext cx="1170000" cy="814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6" name="Rectangle 24"/>
          <p:cNvSpPr/>
          <p:nvPr/>
        </p:nvSpPr>
        <p:spPr>
          <a:xfrm>
            <a:off x="7132680" y="4221000"/>
            <a:ext cx="117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0:30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2:08:58Z</dcterms:modified>
  <cp:revision>191</cp:revision>
  <dc:subject>Основы философии - Тема 2</dc:subject>
  <dc:title>Ранняя греческая натурфилософия</dc:title>
</cp:coreProperties>
</file>