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9.jpeg" ContentType="image/jpeg"/>
  <Override PartName="/ppt/media/image3.jpeg" ContentType="image/jpeg"/>
  <Override PartName="/ppt/media/image27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gif" ContentType="image/gif"/>
  <Override PartName="/ppt/media/image17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FF31-9F99-4995-BF71-7B7F591F78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D61F-98D1-4AAF-A432-6501161171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AEB1-76C0-4A5D-A57B-6FBB58A76B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0EC2-2768-49B3-B850-AA7C10D954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7CED-5BB9-453E-A33C-ED24E2D673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ксимен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ух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1190-9E23-49A8-8587-7758068AD9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7D4F-1ADC-4CC8-8AA9-E8D4DD666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7568-7BD5-48F2-A24D-AD3E0873FC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8FF2-A733-49D9-932D-51691EC26B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начало по природе своей изменчиво: стихия мира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го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вечен, но не неизменен: в нём всё течёт, всё меняется, и даж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одну и ту же реку нельзя войти дваж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ё возникает через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орьбу противоположносте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эта борьба порождает не хаос, а упорядоченный космос, подчинённый разумному принципу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го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AEC4-C8B2-4BAA-80D9-3DEFF505A7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лей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11AA-47C1-439E-98CA-4ECC65FDFA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BCF8-35BF-4ABA-8EC4-C4ADC87295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D792-FD36-4351-B189-346EEB5AF7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единого первонач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единства с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архе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лес: вода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андр: апейрон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ен: воздух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ейская школа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менид: мир как единое, вечное и неизменное 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ы Зенона: обоснование элейской онт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я места (немыслимость пуст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множества (немыслимость множ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движения (немыслимость дви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DAA1-42A9-49DC-B5F7-E73CF598A4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ытие есть, небытия нет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ытие едино и неделим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ытие вечно и неизменн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бытие немыслим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AB64-7456-45AB-B508-0C959018B5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FB0B-2687-4971-9C0A-721D91C0F5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я мес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пуст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множеств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множ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движ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движ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6D95-76DE-4E1C-B962-B8129E075F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F60A-38E1-48B9-8242-78BD897D70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мес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AB85-9325-4039-8822-0C48595040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делим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A27A-D2E6-4C28-9001-9C23E249D8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слож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80FE-E2C0-49C5-98FD-9AA85EC532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счис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697A-550E-4A4F-88DF-CA73969C0E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BDEB-F71B-4901-A835-BE7B199CA5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227B-4DED-45D7-8509-2CB145D8C2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60FF-25C6-492C-AE8D-2E9B4A01AB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BE3A-6EA6-4646-A8A3-AA2AB3D837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03FE-FDC9-4C94-A9DF-BFC61230CF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B7AC-38F0-4D5E-97D4-D095EF54C2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37D5-54F4-4E00-8F53-36C4D757CD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и движ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CC9A-3B1C-4FA0-BAD6-0300E7D623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7D1E-18BC-46C6-8407-7AACD4771B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8BF6-6429-4FC5-AD3E-CA95F3F068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5304-28D8-4AA8-83B7-FA8D28037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4A90-0CB6-43C5-A47A-E4834D3113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йская школ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31EF-2711-4C9D-A91E-932D4055EC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E593-2986-4DD6-809E-482EA02C8C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096C-30D1-4E55-BB92-5785106B51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D8CE-1FC3-4A22-9506-B53BBBDC5A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241F-E0F9-4934-A49B-02AA9514C2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3D0D-D852-4C4A-981C-89EBBFD00E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алес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да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398C-74F5-4E4F-84CF-FE4C63BBAE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B9F-977D-409F-9D92-F153A8C0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424-E02F-4BA7-8C17-26A1CB43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7464-B456-47B3-AEF7-EE53CFA5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8DE-1BCA-44BB-883B-F8DBFA25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C11-0BC6-4CF5-A9DA-8124A580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B8C-E676-4DC0-BCD5-1E43C17E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FFDB-4DC2-408A-9A37-05591C53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5B0-1B68-43CB-B5D6-12EDC71B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811F-A6D7-41E4-94A1-2D2B26D7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BE2-6052-4D69-917F-B4F12134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7A5-D369-419D-8AB5-735BC314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49F3-86CD-4F55-A881-128EEDF9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0A03-48C9-4838-BADF-DFE43E96D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71680" y="285840"/>
            <a:ext cx="7922880" cy="18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463760" y="2338560"/>
            <a:ext cx="6215040" cy="23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Á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йро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άπειρον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рицательная пристав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πέρα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конец, преде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 древнегреческ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значающ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бесконечно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беспредельно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/ил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неопределённо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122880" y="503712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 Лаэрт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жизни, учения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речениях знаменит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 rot="10800000">
            <a:off x="28692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наксимандр Милетский... учи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началом и основ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яется беспредель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определял его ни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ух, ни как воду, ни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-либо иное. Он учил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и изменяются, целое 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таётся неизме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Диоген Лаэртский (обложка книги-цв)"/>
          <p:cNvPicPr/>
          <p:nvPr/>
        </p:nvPicPr>
        <p:blipFill>
          <a:blip r:embed="rId1"/>
          <a:stretch/>
        </p:blipFill>
        <p:spPr>
          <a:xfrm>
            <a:off x="6764400" y="1978200"/>
            <a:ext cx="1636560" cy="2157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ксим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ух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53080" y="5397480"/>
            <a:ext cx="200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пполи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проверж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х ерес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 rot="10800000">
            <a:off x="2517840" y="1726560"/>
            <a:ext cx="6370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аксимен... полагал, что начало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ый возду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котор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то, что есть, что было и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гущаясь и разрежаясь,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воздух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обретает видимые различ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, растекшись до более разреже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я, он становится огнё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 состоянии возвращ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ирод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здуха; по мере сгущ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воздуха путем «валяния» образу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ко, сгустившись ещё больше,</a:t>
            </a: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[он становится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дой, ещё больш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млёй, а достигнув предель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лотности – камня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Hippolytus-cl-red"/>
          <p:cNvPicPr/>
          <p:nvPr/>
        </p:nvPicPr>
        <p:blipFill>
          <a:blip r:embed="rId1"/>
          <a:stretch/>
        </p:blipFill>
        <p:spPr>
          <a:xfrm>
            <a:off x="395280" y="1727280"/>
            <a:ext cx="2019240" cy="3429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3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2"/>
          <p:cNvSpPr/>
          <p:nvPr/>
        </p:nvSpPr>
        <p:spPr>
          <a:xfrm>
            <a:off x="770040" y="2698920"/>
            <a:ext cx="1100160" cy="182052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520"/>
              <a:gd name="textAreaBottom" fmla="*/ 1320120 h 18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1330200" y="1619280"/>
            <a:ext cx="6478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к 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луча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ногое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измен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нчив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1870200" y="3357720"/>
            <a:ext cx="15825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рак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934920" y="5253120"/>
            <a:ext cx="3454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ир как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ечное ста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415560" y="5181480"/>
            <a:ext cx="1678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540 - 4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 rot="10800000">
            <a:off x="538200" y="1940040"/>
            <a:ext cx="4857840" cy="3814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космо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т же самый для всех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оздал ник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из богов, ни из лю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гда был, есть и 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чно живы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нё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згорающим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гасающи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Гераклит Эфесский (red)"/>
          <p:cNvPicPr/>
          <p:nvPr/>
        </p:nvPicPr>
        <p:blipFill>
          <a:blip r:embed="rId1"/>
          <a:stretch/>
        </p:blipFill>
        <p:spPr>
          <a:xfrm>
            <a:off x="6081840" y="1978200"/>
            <a:ext cx="2247840" cy="289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98560" y="178128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начало по природе своей изменчиво: стихия мира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вечен, но не неизменен: в нём всё течёт, всё меняется, и даж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одну и ту же реку нельзя войти дваж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ё возникает через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орьбу противоположносте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эта борьба порождает не хаос, а упорядоченный космос, подчинённый разумному принципу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ог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Гераклит-река-огонь"/>
          <p:cNvPicPr/>
          <p:nvPr/>
        </p:nvPicPr>
        <p:blipFill>
          <a:blip r:embed="rId1"/>
          <a:stretch/>
        </p:blipFill>
        <p:spPr>
          <a:xfrm>
            <a:off x="898560" y="2924280"/>
            <a:ext cx="1957320" cy="28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2" name="Picture 5" descr="ddwfire"/>
          <p:cNvPicPr/>
          <p:nvPr/>
        </p:nvPicPr>
        <p:blipFill>
          <a:blip r:embed="rId2"/>
          <a:stretch/>
        </p:blipFill>
        <p:spPr>
          <a:xfrm>
            <a:off x="1619280" y="1690560"/>
            <a:ext cx="457200" cy="7430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лей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6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656000" y="5397480"/>
            <a:ext cx="1709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 540/5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828040" y="5397480"/>
            <a:ext cx="1678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ено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490 - 4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Zeno (Neapel, Nationalmuseum 1)_com3"/>
          <p:cNvPicPr/>
          <p:nvPr/>
        </p:nvPicPr>
        <p:blipFill>
          <a:blip r:embed="rId1"/>
          <a:stretch/>
        </p:blipFill>
        <p:spPr>
          <a:xfrm>
            <a:off x="5505480" y="2158920"/>
            <a:ext cx="22906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7" name="Picture 11" descr="Парменид (Элея)-c1-sized-08"/>
          <p:cNvPicPr/>
          <p:nvPr/>
        </p:nvPicPr>
        <p:blipFill>
          <a:blip r:embed="rId2"/>
          <a:stretch/>
        </p:blipFill>
        <p:spPr>
          <a:xfrm>
            <a:off x="1438200" y="2158920"/>
            <a:ext cx="2158920" cy="28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13"/>
          <p:cNvSpPr/>
          <p:nvPr/>
        </p:nvSpPr>
        <p:spPr>
          <a:xfrm flipH="1">
            <a:off x="7081920" y="2698920"/>
            <a:ext cx="1100160" cy="182052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520"/>
              <a:gd name="textAreaBottom" fmla="*/ 1320120 h 18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770040" y="2698920"/>
            <a:ext cx="1100160" cy="182052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520"/>
              <a:gd name="textAreaBottom" fmla="*/ 1320120 h 18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330200" y="1619280"/>
            <a:ext cx="6478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к 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луча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ногое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измен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нчив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5505480" y="3357720"/>
            <a:ext cx="15825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ле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934920" y="5253120"/>
            <a:ext cx="3454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ир как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ечное ста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4570560" y="5253120"/>
            <a:ext cx="3454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ир как вечное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неизменное 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1870200" y="3357720"/>
            <a:ext cx="15825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рак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3760" y="358920"/>
            <a:ext cx="8373960" cy="64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единого первонач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единства с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архе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лес: вода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андр: апейрон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ен: воздух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ейская школа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менид: мир как единое, вечное и неизменное 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ы Зенона: обоснование элейской онт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я места (немыслимость пуст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множества (немыслимость множ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движения (немыслимость дви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4120" y="1781280"/>
            <a:ext cx="23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ытие есть, небытия нет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ытие едино и неделимо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ытие вечно и неизменно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бытие немысл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3238560" y="169056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е не может быть несуществующи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-сущее же не может суще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3238560" y="282420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допущении множественности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дётся допустить бытие не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238560" y="395748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е не может ни возникн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-сущего, ни сделаться не-су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3238560" y="509112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 и то же – мыс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редмет мыс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408000" y="5145120"/>
            <a:ext cx="239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ел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История запад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 rot="10800000">
            <a:off x="178920" y="1977840"/>
            <a:ext cx="6118200" cy="41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асто говорят, что Парменид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зобрёл логику, но в действи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 изобрё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физик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анную на логике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философии это первый пример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широко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гументации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мысли и языка к миру в целом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у аргументацию нельзя, конеч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читать основатель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в то же время стоит посмотре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ой элемент истины она содержит.</a:t>
            </a:r>
            <a:br>
              <a:rPr sz="1800"/>
            </a:b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Рассел (Хеар - red)"/>
          <p:cNvPicPr/>
          <p:nvPr/>
        </p:nvPicPr>
        <p:blipFill>
          <a:blip r:embed="rId1"/>
          <a:stretch/>
        </p:blipFill>
        <p:spPr>
          <a:xfrm>
            <a:off x="6116760" y="1978200"/>
            <a:ext cx="2571480" cy="25239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78128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я мес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пуст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множеств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множ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движ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движ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176480" y="2338560"/>
            <a:ext cx="6791040" cy="23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пор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ú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πορί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труднение, безвыходное положение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рицательная приставка, 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πόρ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вых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древнегреческ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значающе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рудноразрешим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разрешим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1"/>
          <p:cNvSpPr/>
          <p:nvPr/>
        </p:nvSpPr>
        <p:spPr>
          <a:xfrm>
            <a:off x="3224160" y="5073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/>
          <p:cNvSpPr/>
          <p:nvPr/>
        </p:nvSpPr>
        <p:spPr>
          <a:xfrm>
            <a:off x="2144880" y="381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9"/>
          <p:cNvSpPr/>
          <p:nvPr/>
        </p:nvSpPr>
        <p:spPr>
          <a:xfrm>
            <a:off x="1065240" y="255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м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719280" y="1654200"/>
            <a:ext cx="431784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условием 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нахо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ком-то мес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/>
          <p:cNvSpPr/>
          <p:nvPr/>
        </p:nvSpPr>
        <p:spPr>
          <a:xfrm>
            <a:off x="1798560" y="291456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и само мес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ль скоро оно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же должно наход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ком-то 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2878200" y="4173480"/>
            <a:ext cx="431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будет уже «второе» мес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оно должно существо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ком-то «третьем» мес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ак дал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3957480" y="543384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устое место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что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ное от того, местом ч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являетс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мысл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6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7"/>
          <p:cNvSpPr/>
          <p:nvPr/>
        </p:nvSpPr>
        <p:spPr>
          <a:xfrm>
            <a:off x="5681520" y="5019840"/>
            <a:ext cx="733680" cy="117612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6"/>
          <p:cNvSpPr/>
          <p:nvPr/>
        </p:nvSpPr>
        <p:spPr>
          <a:xfrm>
            <a:off x="272412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>
            <a:off x="492912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3"/>
          <p:cNvSpPr/>
          <p:nvPr/>
        </p:nvSpPr>
        <p:spPr>
          <a:xfrm>
            <a:off x="347508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дел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2230560" y="1870200"/>
            <a:ext cx="467820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, что бы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каждую частицу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дётся призн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вре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223056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474984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ов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ённ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л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1128600" y="226692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0"/>
          <p:cNvSpPr/>
          <p:nvPr/>
        </p:nvSpPr>
        <p:spPr>
          <a:xfrm>
            <a:off x="6908760" y="226692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1"/>
          <p:cNvSpPr/>
          <p:nvPr/>
        </p:nvSpPr>
        <p:spPr>
          <a:xfrm>
            <a:off x="131616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 делимую д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ости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2"/>
          <p:cNvSpPr/>
          <p:nvPr/>
        </p:nvSpPr>
        <p:spPr>
          <a:xfrm>
            <a:off x="566424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 результ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ения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5" descr="Зенон Элейский"/>
          <p:cNvPicPr/>
          <p:nvPr/>
        </p:nvPicPr>
        <p:blipFill>
          <a:blip r:embed="rId1"/>
          <a:stretch/>
        </p:blipFill>
        <p:spPr>
          <a:xfrm>
            <a:off x="466560" y="466560"/>
            <a:ext cx="1266840" cy="161928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28"/>
          <p:cNvSpPr/>
          <p:nvPr/>
        </p:nvSpPr>
        <p:spPr>
          <a:xfrm>
            <a:off x="3454560" y="5505480"/>
            <a:ext cx="223200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разуме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16"/>
          <p:cNvSpPr/>
          <p:nvPr/>
        </p:nvSpPr>
        <p:spPr>
          <a:xfrm>
            <a:off x="6905520" y="5019840"/>
            <a:ext cx="733680" cy="117612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4"/>
          <p:cNvSpPr/>
          <p:nvPr/>
        </p:nvSpPr>
        <p:spPr>
          <a:xfrm>
            <a:off x="150012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"/>
          <p:cNvSpPr/>
          <p:nvPr/>
        </p:nvSpPr>
        <p:spPr>
          <a:xfrm>
            <a:off x="492912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347508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с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2230560" y="1870200"/>
            <a:ext cx="467820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, что бы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состоит из ча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го придётся призн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223056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74984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ён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л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1128600" y="226692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6908760" y="226692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131616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его ч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ют какую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ину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566424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его ч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и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ют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Зенон Элейский"/>
          <p:cNvPicPr/>
          <p:nvPr/>
        </p:nvPicPr>
        <p:blipFill>
          <a:blip r:embed="rId1"/>
          <a:stretch/>
        </p:blipFill>
        <p:spPr>
          <a:xfrm>
            <a:off x="466560" y="466560"/>
            <a:ext cx="1266840" cy="161928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3"/>
          <p:cNvSpPr/>
          <p:nvPr/>
        </p:nvSpPr>
        <p:spPr>
          <a:xfrm>
            <a:off x="2230560" y="5505480"/>
            <a:ext cx="2195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тогда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5"/>
          <p:cNvSpPr/>
          <p:nvPr/>
        </p:nvSpPr>
        <p:spPr>
          <a:xfrm>
            <a:off x="4713120" y="5505480"/>
            <a:ext cx="2195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тличим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не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4"/>
          <p:cNvSpPr/>
          <p:nvPr/>
        </p:nvSpPr>
        <p:spPr>
          <a:xfrm>
            <a:off x="564516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275904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464184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3763800" y="3957480"/>
            <a:ext cx="733680" cy="117648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2230560" y="1870200"/>
            <a:ext cx="467820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, что суще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огое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число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дётся призн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вре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223056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е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74984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1128600" y="226692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6908760" y="226692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884160" y="4425840"/>
            <a:ext cx="287964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ак как их будет ро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ко, сколько есть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ольше, ни меньше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1"/>
          <p:cNvSpPr/>
          <p:nvPr/>
        </p:nvSpPr>
        <p:spPr>
          <a:xfrm>
            <a:off x="5375160" y="4425840"/>
            <a:ext cx="288000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ак как меж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быми из 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ут другие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2" descr="Зенон Элейский"/>
          <p:cNvPicPr/>
          <p:nvPr/>
        </p:nvPicPr>
        <p:blipFill>
          <a:blip r:embed="rId1"/>
          <a:stretch/>
        </p:blipFill>
        <p:spPr>
          <a:xfrm>
            <a:off x="466560" y="466560"/>
            <a:ext cx="1266840" cy="16192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5"/>
          <p:cNvSpPr/>
          <p:nvPr/>
        </p:nvSpPr>
        <p:spPr>
          <a:xfrm>
            <a:off x="3489480" y="5505480"/>
            <a:ext cx="215892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разуме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3"/>
          <p:cNvSpPr/>
          <p:nvPr/>
        </p:nvSpPr>
        <p:spPr>
          <a:xfrm>
            <a:off x="2863800" y="424656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1236600" y="262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>
            <a:off x="719280" y="172728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строногий Ахил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когда не догон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дленно ползущую черепах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2338560" y="334656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прежде, чем догнать её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должен будет пройти то мест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которого она выш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3957480" y="496584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за это время черепах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йдёт вперёд и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ять окаж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пере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хил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ак дал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1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2" descr="Ахилл"/>
          <p:cNvPicPr/>
          <p:nvPr/>
        </p:nvPicPr>
        <p:blipFill>
          <a:blip r:embed="rId1"/>
          <a:stretch/>
        </p:blipFill>
        <p:spPr>
          <a:xfrm>
            <a:off x="1079640" y="2698920"/>
            <a:ext cx="1868400" cy="2573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Черепаха-7"/>
          <p:cNvPicPr/>
          <p:nvPr/>
        </p:nvPicPr>
        <p:blipFill>
          <a:blip r:embed="rId2"/>
          <a:stretch/>
        </p:blipFill>
        <p:spPr>
          <a:xfrm>
            <a:off x="6369120" y="4210200"/>
            <a:ext cx="1200240" cy="67608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0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Oval 7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>
            <a:off x="838512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80247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741348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593712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Черепаха-5"/>
          <p:cNvPicPr/>
          <p:nvPr/>
        </p:nvPicPr>
        <p:blipFill>
          <a:blip r:embed="rId1"/>
          <a:stretch/>
        </p:blipFill>
        <p:spPr>
          <a:xfrm>
            <a:off x="5505480" y="4246560"/>
            <a:ext cx="1000080" cy="6667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Ахилл-2"/>
          <p:cNvPicPr/>
          <p:nvPr/>
        </p:nvPicPr>
        <p:blipFill>
          <a:blip r:embed="rId2"/>
          <a:stretch/>
        </p:blipFill>
        <p:spPr>
          <a:xfrm>
            <a:off x="611280" y="3238560"/>
            <a:ext cx="1735200" cy="179208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2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6" dur="3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3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22222E-006 L 0.48802 0.00231 E">
                                      <p:cBhvr>
                                        <p:cTn id="950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07407E-006 L 0.15799 0.00024 E">
                                      <p:cBhvr>
                                        <p:cTn id="952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802 0.00231 L 0.6533 0.00231 E">
                                      <p:cBhvr>
                                        <p:cTn id="966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99 0.00024 L 0.22118 0.00024 E">
                                      <p:cBhvr>
                                        <p:cTn id="968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33 0.00231 L 0.71632 0.00231 E">
                                      <p:cBhvr>
                                        <p:cTn id="982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18 0.00024 L 0.26059 0.00024 E">
                                      <p:cBhvr>
                                        <p:cTn id="984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463760" y="2158920"/>
            <a:ext cx="6215040" cy="359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u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хотом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ú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διχοτομί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δίχ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а две част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τομή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сечение, раздел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) деление целого на две части (с возмож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ледующим делением каждой из ча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две подчасти и т.д.)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) метод классификации, состоящий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лении объёма понятия (класса, множества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два подчинённых взаимоисключающих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ротиворечащих) понятия, суммарный объё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ых исчерпывает объём делимого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2863800" y="424656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1236600" y="262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719280" y="172728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хилл вооб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двинется с мес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, впрочем, и черепах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957480" y="496584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режде, чем пройти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место, он должен прой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сто, которое нах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полпути между ни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ак дал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2340000" y="334656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прежде, ч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ться до любого мес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должен пройти то мес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аходи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пу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ним и первым мес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0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2"/>
          <p:cNvSpPr/>
          <p:nvPr/>
        </p:nvSpPr>
        <p:spPr>
          <a:xfrm>
            <a:off x="154620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"/>
          <p:cNvSpPr/>
          <p:nvPr/>
        </p:nvSpPr>
        <p:spPr>
          <a:xfrm>
            <a:off x="16905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19065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226692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1305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467820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8"/>
          <p:cNvSpPr/>
          <p:nvPr/>
        </p:nvSpPr>
        <p:spPr>
          <a:xfrm>
            <a:off x="809640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Черепаха-5"/>
          <p:cNvPicPr/>
          <p:nvPr/>
        </p:nvPicPr>
        <p:blipFill>
          <a:blip r:embed="rId1"/>
          <a:stretch/>
        </p:blipFill>
        <p:spPr>
          <a:xfrm>
            <a:off x="7629480" y="4246560"/>
            <a:ext cx="1000080" cy="6667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1" descr="Ахилл-2"/>
          <p:cNvPicPr/>
          <p:nvPr/>
        </p:nvPicPr>
        <p:blipFill>
          <a:blip r:embed="rId2"/>
          <a:stretch/>
        </p:blipFill>
        <p:spPr>
          <a:xfrm>
            <a:off x="611280" y="3238560"/>
            <a:ext cx="1735200" cy="179208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72431 0.00463 E">
                                      <p:cBhvr>
                                        <p:cTn id="1063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8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31 L 0.34636 0.00231 E">
                                      <p:cBhvr>
                                        <p:cTn id="107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31 L 0.1809 0.00231 E">
                                      <p:cBhvr>
                                        <p:cTn id="1091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8646 0.00231 E">
                                      <p:cBhvr>
                                        <p:cTn id="1105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8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4705 0.00231 E">
                                      <p:cBhvr>
                                        <p:cTn id="111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8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2344 0.00231 E">
                                      <p:cBhvr>
                                        <p:cTn id="1133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0764 0.00231 E">
                                      <p:cBhvr>
                                        <p:cTn id="114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и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5"/>
          <p:cNvSpPr/>
          <p:nvPr/>
        </p:nvSpPr>
        <p:spPr>
          <a:xfrm rot="10800000">
            <a:off x="358560" y="1870200"/>
            <a:ext cx="395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ерв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ве апор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монстрируют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емыслимость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виже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допущен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ст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ремени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 rot="10800000">
            <a:off x="4678200" y="187020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ве послед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пор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монстрируют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емыслимость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виже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допущен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ел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ст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ремени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3043080" y="424656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1236600" y="262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39640" y="172728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тящая стре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момент врем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нимает какое-то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остранств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наче её нет вообщ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4138560" y="496584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в этом мест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двигаться некуд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а покои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о верно для люб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ста её траек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2340000" y="334656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занимает в пространств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сто, равное её размеру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ольше, ни ме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наче она была бы бол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меньше себя сам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6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1719360" y="2698920"/>
            <a:ext cx="0" cy="1820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4"/>
          <p:cNvSpPr/>
          <p:nvPr/>
        </p:nvSpPr>
        <p:spPr>
          <a:xfrm>
            <a:off x="7423200" y="2698920"/>
            <a:ext cx="0" cy="1820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5"/>
          <p:cNvSpPr/>
          <p:nvPr/>
        </p:nvSpPr>
        <p:spPr>
          <a:xfrm>
            <a:off x="1000080" y="3417840"/>
            <a:ext cx="71438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6"/>
          <p:cNvSpPr/>
          <p:nvPr/>
        </p:nvSpPr>
        <p:spPr>
          <a:xfrm>
            <a:off x="1000080" y="3798720"/>
            <a:ext cx="71438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arrow01"/>
          <p:cNvPicPr/>
          <p:nvPr/>
        </p:nvPicPr>
        <p:blipFill>
          <a:blip r:embed="rId1"/>
          <a:stretch/>
        </p:blipFill>
        <p:spPr>
          <a:xfrm>
            <a:off x="1719360" y="3440160"/>
            <a:ext cx="5705280" cy="33336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7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6"/>
          <p:cNvSpPr/>
          <p:nvPr/>
        </p:nvSpPr>
        <p:spPr>
          <a:xfrm>
            <a:off x="2986200" y="4965840"/>
            <a:ext cx="575784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получится, что минималь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делима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диница време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абсурдно. (Ра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имой окажется и минималь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неделимая, единица простран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"/>
          <p:cNvSpPr/>
          <p:nvPr/>
        </p:nvSpPr>
        <p:spPr>
          <a:xfrm>
            <a:off x="1892160" y="433548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625320" y="2608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466560" y="1511280"/>
            <a:ext cx="575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ве колесниц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утся навстречу друг друга со скорость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й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нимальной единице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остранства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за минимальную единицу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мо третьей – неподвижной – колесни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1727280" y="3238560"/>
            <a:ext cx="575784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и пройдут расстоя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е минимальной единиц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ран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нимальную единицу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 неподвижной колесницы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ловину минимальной единицы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 друг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Зенон Элейский"/>
          <p:cNvPicPr/>
          <p:nvPr/>
        </p:nvPicPr>
        <p:blipFill>
          <a:blip r:embed="rId1"/>
          <a:stretch/>
        </p:blipFill>
        <p:spPr>
          <a:xfrm>
            <a:off x="7197840" y="971640"/>
            <a:ext cx="1547640" cy="19796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3525840" y="1798560"/>
            <a:ext cx="0" cy="43182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"/>
          <p:cNvSpPr/>
          <p:nvPr/>
        </p:nvSpPr>
        <p:spPr>
          <a:xfrm>
            <a:off x="5684760" y="1798560"/>
            <a:ext cx="0" cy="43182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Колесница-1"/>
          <p:cNvPicPr/>
          <p:nvPr/>
        </p:nvPicPr>
        <p:blipFill>
          <a:blip r:embed="rId1"/>
          <a:stretch/>
        </p:blipFill>
        <p:spPr>
          <a:xfrm>
            <a:off x="2446200" y="3238560"/>
            <a:ext cx="2159280" cy="129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Колесница-1"/>
          <p:cNvPicPr/>
          <p:nvPr/>
        </p:nvPicPr>
        <p:blipFill>
          <a:blip r:embed="rId2"/>
          <a:stretch/>
        </p:blipFill>
        <p:spPr>
          <a:xfrm>
            <a:off x="4605480" y="4537080"/>
            <a:ext cx="2158920" cy="1300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" descr="Колесница-3"/>
          <p:cNvPicPr/>
          <p:nvPr/>
        </p:nvPicPr>
        <p:blipFill>
          <a:blip r:embed="rId3"/>
          <a:stretch/>
        </p:blipFill>
        <p:spPr>
          <a:xfrm>
            <a:off x="3525840" y="1982880"/>
            <a:ext cx="2158920" cy="122544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1" dur="2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2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5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4444E-006 L 0.12222 -4.44444E-006 E">
                                      <p:cBhvr>
                                        <p:cTn id="1331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48148E-006 L -0.1217 -1.48148E-006 E">
                                      <p:cBhvr>
                                        <p:cTn id="133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7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1" dur="3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3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3224160" y="5073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2144880" y="381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065240" y="255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йская школ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719280" y="1654200"/>
            <a:ext cx="431784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идетельствует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устот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и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нож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виж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они немысл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1798560" y="291456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позволяют утвержд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устот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идетельствуют о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ногих движущихс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2878200" y="4173480"/>
            <a:ext cx="431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с есть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а источника зн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в чём-то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отивореча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9"/>
          <p:cNvSpPr/>
          <p:nvPr/>
        </p:nvSpPr>
        <p:spPr>
          <a:xfrm>
            <a:off x="3957480" y="543384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й же из 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призн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вер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1" descr="Зенон Элейский"/>
          <p:cNvPicPr/>
          <p:nvPr/>
        </p:nvPicPr>
        <p:blipFill>
          <a:blip r:embed="rId1"/>
          <a:stretch/>
        </p:blipFill>
        <p:spPr>
          <a:xfrm>
            <a:off x="7197840" y="1619280"/>
            <a:ext cx="1406520" cy="1798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3" descr="Parmenides (Raphael) - ed"/>
          <p:cNvPicPr/>
          <p:nvPr/>
        </p:nvPicPr>
        <p:blipFill>
          <a:blip r:embed="rId2"/>
          <a:stretch/>
        </p:blipFill>
        <p:spPr>
          <a:xfrm>
            <a:off x="358920" y="4317840"/>
            <a:ext cx="1716120" cy="215748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0" descr="Анаксимандр (1обр)"/>
          <p:cNvPicPr/>
          <p:nvPr/>
        </p:nvPicPr>
        <p:blipFill>
          <a:blip r:embed="rId1"/>
          <a:stretch/>
        </p:blipFill>
        <p:spPr>
          <a:xfrm>
            <a:off x="3562200" y="2158920"/>
            <a:ext cx="201168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2" name="Picture 15" descr="thales (1-2)"/>
          <p:cNvPicPr/>
          <p:nvPr/>
        </p:nvPicPr>
        <p:blipFill>
          <a:blip r:embed="rId2"/>
          <a:stretch/>
        </p:blipFill>
        <p:spPr>
          <a:xfrm>
            <a:off x="900000" y="1619280"/>
            <a:ext cx="188280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3" name="Picture 23" descr="Анаксимен (2)"/>
          <p:cNvPicPr/>
          <p:nvPr/>
        </p:nvPicPr>
        <p:blipFill>
          <a:blip r:embed="rId3"/>
          <a:stretch/>
        </p:blipFill>
        <p:spPr>
          <a:xfrm>
            <a:off x="6224760" y="2698920"/>
            <a:ext cx="219204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25"/>
          <p:cNvSpPr/>
          <p:nvPr/>
        </p:nvSpPr>
        <p:spPr>
          <a:xfrm>
            <a:off x="1070640" y="4497480"/>
            <a:ext cx="1551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ле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3538080" y="5037120"/>
            <a:ext cx="2061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610 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. 5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284520" y="5576760"/>
            <a:ext cx="2061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ксиме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588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к. 5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nodeType="clickEffect" fill="hold">
                      <p:stCondLst>
                        <p:cond delay="0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единства су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1690560" y="1978200"/>
            <a:ext cx="5757840" cy="323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заимопревращения веществ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идетельствуют, чт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 видимым многообразием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спринимаемого мир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крыва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о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ервонач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355760" y="1798560"/>
            <a:ext cx="6431040" cy="4318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х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ρχή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principium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 древнегреческ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значающи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чало (принцип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правной мом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сходную точку) чего-либ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пространственном и временном смысла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о как зачин ил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ичин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его-либ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о ка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чальств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вла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специфически философском употреблении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нтологическое начал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первоначало)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чало позна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гносеологический принцип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651720" y="557676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10800000">
            <a:off x="216000" y="1726560"/>
            <a:ext cx="6370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большинство первых философ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ло началом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, из ч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стоят все вещ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чего как перв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возникают и во что как в послед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, погибая, превращаются, прич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хотя и остаётся, но измен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их проявлениях, – это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ют элементом и началом вещ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тому они полагают, что ни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зникает и не исчезает;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быть некоторое естество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дно, или больше одного, отку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ет всё остальное, в то врем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амо это естество сохраняет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Рафаэль, Аристотель (голова - red)"/>
          <p:cNvPicPr/>
          <p:nvPr/>
        </p:nvPicPr>
        <p:blipFill>
          <a:blip r:embed="rId1"/>
          <a:stretch/>
        </p:blipFill>
        <p:spPr>
          <a:xfrm>
            <a:off x="6405480" y="1798560"/>
            <a:ext cx="2419560" cy="1971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але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да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651720" y="557676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 rot="10800000">
            <a:off x="216000" y="1726560"/>
            <a:ext cx="6370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 количества и вида т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 не все учили одинаково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ле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тель такого рода философии 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ал, что начало – в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потому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аявлял, что земля находится на воде)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этому предположению он, быть мож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шёл, видя, что пища всех сущест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жная и что само тепло возникает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ги и ею жив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а то, из чего всё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никает – это и есть начало всего)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он именно поэт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шёл к своему предположен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тому, что семена вс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природ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жны, а нача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влажного –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Рафаэль, Аристотель (голова - red)"/>
          <p:cNvPicPr/>
          <p:nvPr/>
        </p:nvPicPr>
        <p:blipFill>
          <a:blip r:embed="rId1"/>
          <a:stretch/>
        </p:blipFill>
        <p:spPr>
          <a:xfrm>
            <a:off x="6405480" y="1798560"/>
            <a:ext cx="2419560" cy="19717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050920" y="1727280"/>
            <a:ext cx="251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Филосо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570560" y="1727280"/>
            <a:ext cx="25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ерво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790560" y="1727280"/>
            <a:ext cx="125892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050920" y="280656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а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570560" y="280656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050920" y="403056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аксима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4570560" y="403056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пейрон</a:t>
            </a:r>
            <a:br>
              <a:rPr sz="24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(беспредельное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неопределённ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2050920" y="525312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акси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570560" y="525312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790560" y="2806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90560" y="4030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790560" y="525312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5" descr="thales (1-2)"/>
          <p:cNvPicPr/>
          <p:nvPr/>
        </p:nvPicPr>
        <p:blipFill>
          <a:blip r:embed="rId1"/>
          <a:stretch/>
        </p:blipFill>
        <p:spPr>
          <a:xfrm>
            <a:off x="1017720" y="2878200"/>
            <a:ext cx="806400" cy="10778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98" name="Picture 16" descr="Анаксимандр (1обр)"/>
          <p:cNvPicPr/>
          <p:nvPr/>
        </p:nvPicPr>
        <p:blipFill>
          <a:blip r:embed="rId2"/>
          <a:stretch/>
        </p:blipFill>
        <p:spPr>
          <a:xfrm>
            <a:off x="1006560" y="4102200"/>
            <a:ext cx="860400" cy="10792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99" name="Picture 17" descr="Анаксимен (2)"/>
          <p:cNvPicPr/>
          <p:nvPr/>
        </p:nvPicPr>
        <p:blipFill>
          <a:blip r:embed="rId3"/>
          <a:stretch/>
        </p:blipFill>
        <p:spPr>
          <a:xfrm>
            <a:off x="971640" y="5326200"/>
            <a:ext cx="939600" cy="10792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00" name="AutoShape 18"/>
          <p:cNvSpPr/>
          <p:nvPr/>
        </p:nvSpPr>
        <p:spPr>
          <a:xfrm>
            <a:off x="7088040" y="1727280"/>
            <a:ext cx="125892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7088040" y="2806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7088040" y="4030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7088040" y="525312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2" descr="Вода-12"/>
          <p:cNvPicPr/>
          <p:nvPr/>
        </p:nvPicPr>
        <p:blipFill>
          <a:blip r:embed="rId4"/>
          <a:stretch/>
        </p:blipFill>
        <p:spPr>
          <a:xfrm>
            <a:off x="7132680" y="3068640"/>
            <a:ext cx="1170000" cy="71280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05" name="Picture 23" descr="Воздух-6"/>
          <p:cNvPicPr/>
          <p:nvPr/>
        </p:nvPicPr>
        <p:blipFill>
          <a:blip r:embed="rId5"/>
          <a:stretch/>
        </p:blipFill>
        <p:spPr>
          <a:xfrm>
            <a:off x="7132680" y="5445000"/>
            <a:ext cx="1170000" cy="8146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06" name="Rectangle 24"/>
          <p:cNvSpPr/>
          <p:nvPr/>
        </p:nvSpPr>
        <p:spPr>
          <a:xfrm>
            <a:off x="7132680" y="4221000"/>
            <a:ext cx="117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13:50:30Z</dcterms:created>
  <dc:creator>Николай Бирюков / Nikolai Biryukov</dc:creator>
  <dc:description>Редакция сентября 2009 г.</dc:description>
  <dc:language>en-US</dc:language>
  <cp:lastModifiedBy>LEGION</cp:lastModifiedBy>
  <dcterms:modified xsi:type="dcterms:W3CDTF">2014-11-11T12:08:58Z</dcterms:modified>
  <cp:revision>191</cp:revision>
  <dc:subject>Основы философии - Тема 2</dc:subject>
  <dc:title>Ранняя греческая натурфилософия</dc:title>
</cp:coreProperties>
</file>