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90A3-12C7-446F-857E-F5D9D7B0A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BE4-9FFA-4361-90A1-86CBBE80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7EE-B78B-4AB2-8584-F3F27651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FCA-9199-41BC-8E20-D10BB9F6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95C-6469-488B-9319-FBEC4106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2CE-18FE-45E8-81D5-02005AA9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F7D-B93F-4DCC-8E1C-65E89F1E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736-5930-4F99-AC3C-CF2C6D3F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EE0-3337-472C-A108-66B7DD93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2E6-8E9E-4C1B-8892-027696E2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771-73EB-41D3-B723-2E677609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3BA-6C90-4266-9CB1-93228026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2DB-A73C-452D-B60A-AF776EFF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6777-F56F-40C1-B33B-972E80CD7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3600"/>
            </a:br>
            <a:br>
              <a:rPr sz="3600"/>
            </a:b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Инфекционные болезни у дет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60103 - «Педиатр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ЛАД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стр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асов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324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удитор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кции 57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8,5 лек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ктические занятия 135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занятий по 4,5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Внеаудиторная работа 13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Экзамены 3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Самостоятельная работа 9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214200"/>
          <a:ext cx="8786880" cy="5850000"/>
        </p:xfrm>
        <a:graphic>
          <a:graphicData uri="http://schemas.openxmlformats.org/drawingml/2006/table">
            <a:tbl>
              <a:tblPr/>
              <a:tblGrid>
                <a:gridCol w="426960"/>
                <a:gridCol w="1830600"/>
                <a:gridCol w="1171440"/>
                <a:gridCol w="1193760"/>
                <a:gridCol w="1654200"/>
                <a:gridCol w="1254240"/>
                <a:gridCol w="1255680"/>
              </a:tblGrid>
              <a:tr h="87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у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с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аудиторной работы студента и трудоем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, трудоем-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текущего конт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 успевае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-точной аттест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и по оконча-нию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3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-кие практичес-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о-капельные инф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модулем поним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Л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43000"/>
          <a:ext cx="8929800" cy="5796000"/>
        </p:xfrm>
        <a:graphic>
          <a:graphicData uri="http://schemas.openxmlformats.org/drawingml/2006/table">
            <a:tbl>
              <a:tblPr/>
              <a:tblGrid>
                <a:gridCol w="743040"/>
                <a:gridCol w="2249280"/>
                <a:gridCol w="4883400"/>
                <a:gridCol w="1054080"/>
              </a:tblGrid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 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бъем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ред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специа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лекц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студентов со специальностью «Инфекционные болезни у детей» у детей, показать значимость проблемы в структуре педиатрической заболеваемости и смерт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е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ременное состояние проблемы инфекционных болезней у детей. Роль инфекции в патологии человека. Роль инфекционных заболеваний в структуре детской заболеваемости и смертности, эпидемиологические особенности острых инфекционных заболеваний. Понятие «инфекционный процесс», «инфекционное заболевание», понятие о трех звеньях эпидемической цепи, понятие об антропонозах, зоонозах. Обязанности врача по организации обслуживания ребенка с инфекционными заболеваниями. Основные достижения и дальнейшие перспективы в борьбе с детскими инфекционными заболева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981000"/>
          <a:ext cx="8929800" cy="5732640"/>
        </p:xfrm>
        <a:graphic>
          <a:graphicData uri="http://schemas.openxmlformats.org/drawingml/2006/table">
            <a:tbl>
              <a:tblPr/>
              <a:tblGrid>
                <a:gridCol w="826920"/>
                <a:gridCol w="1354320"/>
                <a:gridCol w="3627360"/>
                <a:gridCol w="839880"/>
                <a:gridCol w="1073160"/>
                <a:gridCol w="1208160"/>
              </a:tblGrid>
              <a:tr h="22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-ние   тем клинических практичес-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-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-ятельная аудитор-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-тор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22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ивоч-ный календарь РФ. Реакции и осложнения при проведении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занят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иться составлять прививочный календарь, дифференцировать абсолютные и относительные противопоказания к вакцинации, диагностике реакций и осложнений при проведении вакцинации, их леч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должен зн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ринципы вакцинопрофилактики. Виды и характеристики вакц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вивочный календарь РФ. Приказ №229 и приложение к приказу №51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Абсолютные и относительные противопоказания к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Реакции и осложнения при проведении вакцинации. Ле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400"/>
            </a:br>
            <a:r>
              <a:rPr b="0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 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600"/>
            </a:b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765000"/>
          <a:ext cx="8658360" cy="6180480"/>
        </p:xfrm>
        <a:graphic>
          <a:graphicData uri="http://schemas.openxmlformats.org/drawingml/2006/table">
            <a:tbl>
              <a:tblPr/>
              <a:tblGrid>
                <a:gridCol w="357480"/>
                <a:gridCol w="1143000"/>
                <a:gridCol w="3786120"/>
                <a:gridCol w="1071360"/>
                <a:gridCol w="1143000"/>
                <a:gridCol w="1157400"/>
              </a:tblGrid>
              <a:tr h="182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  тем клиничес-ких практичес-ких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тен-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аудитор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тор-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ставить индивидуальный календарь профилактических прививок для здорового ребенка и ребенка из группы ри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наличие противопоказаний к привив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формить учебную карту вакцинации ребенка из групп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иагностировать прививочные реакции и осложнения вакцинации и назначить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знаком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 устройством и правилами работы кабинета вакц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 знанием правил техники проведения вакцинации в поликлинических условиях и коммерческих кабинет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 документами РФ, регламентирующими вакцинац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выносимые  для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самостоятельного из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197000"/>
          <a:ext cx="8643960" cy="5375160"/>
        </p:xfrm>
        <a:graphic>
          <a:graphicData uri="http://schemas.openxmlformats.org/drawingml/2006/table">
            <a:tbl>
              <a:tblPr/>
              <a:tblGrid>
                <a:gridCol w="644400"/>
                <a:gridCol w="1141560"/>
                <a:gridCol w="3857400"/>
                <a:gridCol w="71460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Формы выполнения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з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ологию, эпидемиологию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патогенеза заболевани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клинические симпто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ую и лабораторную диагнос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ы лечения с учетом данных доказательной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ирать и оценивать анамнез, производить забор материала для бактериологического исследования, оценивать результаты анализов, выписывать рецепты, оформлять экстренное извещение, проводить противоэпидемические мероприятия в оча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быть ознакомл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орядком выписки,нения, учета и назначения медик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олнения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нализ тематической клинической истории болезни и ее презентация в виде  слайдового доклада (по материалам больниц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(в группе) прослушивание выписки из истории болезни, обсуждение сложностей диагностики, соблюдения стандартов и алгоритмов лечения и диагно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руглого стола по обсуждаемой пробл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основе ле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бразованию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для студентов и преподавателей по темам в количестве 60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дисципл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00080"/>
          <a:ext cx="8229600" cy="500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ема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актиче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ьтимедийные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Учебные филь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яжи Ма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, как средство профилакти-ки инфекцион-ных болезней у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истории болезни, демонстрация больных, информаци-онные и тематические стенды,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graphicFrame>
        <p:nvGraphicFramePr>
          <p:cNvPr id="115" name=""/>
          <p:cNvGraphicFramePr/>
          <p:nvPr/>
        </p:nvGraphicFramePr>
        <p:xfrm>
          <a:off x="0" y="0"/>
          <a:ext cx="8893080" cy="6558120"/>
        </p:xfrm>
        <a:graphic>
          <a:graphicData uri="http://schemas.openxmlformats.org/drawingml/2006/table">
            <a:tbl>
              <a:tblPr/>
              <a:tblGrid>
                <a:gridCol w="3789360"/>
                <a:gridCol w="927000"/>
                <a:gridCol w="1782720"/>
                <a:gridCol w="1168560"/>
                <a:gridCol w="12254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ие практичес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стоятель-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кома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-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тод конкретных ситуац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ролевые игр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е стол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интерактив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63"/>
          <p:cNvSpPr/>
          <p:nvPr/>
        </p:nvSpPr>
        <p:spPr>
          <a:xfrm>
            <a:off x="0" y="667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Карта формирования компетенци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692280"/>
          <a:ext cx="8435880" cy="5798880"/>
        </p:xfrm>
        <a:graphic>
          <a:graphicData uri="http://schemas.openxmlformats.org/drawingml/2006/table">
            <a:tbl>
              <a:tblPr/>
              <a:tblGrid>
                <a:gridCol w="2109600"/>
                <a:gridCol w="1074600"/>
                <a:gridCol w="2730600"/>
                <a:gridCol w="2521080"/>
              </a:tblGrid>
              <a:tr h="27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звание дисципл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рудоемкость (в кредит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мпетенции (с формирующими их микроцел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О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П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Что должны знать и чем овладеть в результате усвоения учебного материала в соответствии с требованиями ФГОС третьего поко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етоды формирования (формы учебной работы и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Формы учебной работы (лекции, практические (лабораторные) занятия, деловые игры, конференции, круглые столы, проекты, и пр.). Формы контроля (тестирование, задачи (видео, ситуационные, клинические и пр.), решение кроссвордов, составление кроссвордов,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онные болезни у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 – 1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К – 1,2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денты должны овладеть следующими практическими навык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учебной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, практические занятия, деловые игры, конференции, круглые ст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естирование, задачи ситуационные, клинические и эпидемиологические, написание академических историй боле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052640"/>
          <a:ext cx="8229600" cy="5925960"/>
        </p:xfrm>
        <a:graphic>
          <a:graphicData uri="http://schemas.openxmlformats.org/drawingml/2006/table">
            <a:tbl>
              <a:tblPr/>
              <a:tblGrid>
                <a:gridCol w="358920"/>
                <a:gridCol w="1485720"/>
                <a:gridCol w="819360"/>
                <a:gridCol w="968040"/>
                <a:gridCol w="887400"/>
                <a:gridCol w="1044720"/>
                <a:gridCol w="774720"/>
                <a:gridCol w="909720"/>
                <a:gridCol w="98100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уди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ных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мативный рейтин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ал-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еж-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о-капельные инф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кишечные инфекции. Вирусные гепат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инфек-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итогам 3 семе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Методические рекомендации для преподав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едиатр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вап"/>
          <p:cNvPicPr/>
          <p:nvPr/>
        </p:nvPicPr>
        <p:blipFill>
          <a:blip r:embed="rId1"/>
          <a:stretch/>
        </p:blipFill>
        <p:spPr>
          <a:xfrm>
            <a:off x="2341440" y="1600200"/>
            <a:ext cx="4459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освоения дисциплины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фекционные болезн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ение и 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знани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у студентов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мений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навык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итической работы с информацией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385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ним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08:22Z</dcterms:created>
  <dc:creator>1</dc:creator>
  <dc:description/>
  <dc:language>en-US</dc:language>
  <cp:lastModifiedBy>LEGION</cp:lastModifiedBy>
  <dcterms:modified xsi:type="dcterms:W3CDTF">2015-11-27T12:50:09Z</dcterms:modified>
  <cp:revision>72</cp:revision>
  <dc:subject/>
  <dc:title>ФГСО 3</dc:title>
</cp:coreProperties>
</file>