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38D4-BCAE-4D26-A563-D56258D355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гмент рабочей программ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ы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онные болезни у дете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пециаль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060103 - «Педиатрия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детских инфекционных болезней    ВолгГМ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гмент рабочей программ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ы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онные болезни у дете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пециаль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060103 - «Педиатрия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детских инфекционных болезней    ВолгГМ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рать анамнез инфекционного больного и эпидемиологический анамнез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ить инфекционного больного в стационар, оформить документаци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ь инфекционного больного в стационаре, оформить документацию, осуществить госпитализацию по категориям изоля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людать основные принципы работы у постели инфекционного больного в условиях общего и боксированного детского отделения …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рать анамнез инфекционного больного и эпидемиологический анамнез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ить инфекционного больного в стационар, оформить документаци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ь инфекционного больного в стационаре, оформить документацию, осуществить госпитализацию по категориям изоля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людать основные принципы работы у постели инфекционного больного в условиях общего и боксированного детского отделения …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ТЬ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выками обследования детей с инфекционной патологи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ми проведения противоэпидемических мероприятий в очаг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ами оказания неотложной помощ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ами проведения экспертизы временной нетрудоспособ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ой промывания желудка и кишеч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кой назначения и введения антитоксических сывороток в лечении инфекционных больных …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ТЬ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выками обследования детей с инфекционной патологи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ми проведения противоэпидемических мероприятий в очаг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ами оказания неотложной помощ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ами проведения экспертизы временной нетрудоспособ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ой промывания желудка и кишеч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кой назначения и введения антитоксических сывороток в лечении инфекционных больных …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овая нагрузка на виды учебной деятельности прописывается согласно учебному план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– V, 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стры – X, XI, X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о зачетных единиц –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часов:  192/324   аудиторных/вс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и 57 часов (28,5 лекц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е занятия 135 часов (30 занятий по 4,5 час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аудиторная работа 132 ча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замены 36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оятельная работа 96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овая нагрузка на виды учебной деятельности прописывается согласно учебному план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– V, 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стры – X, XI, X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о зачетных единиц –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часов:  192/324   аудиторных/вс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и 57 часов (28,5 лекц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е занятия 135 часов (30 занятий по 4,5 час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аудиторная работа 132 ча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замены 36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оятельная работа 96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дисципл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учебных занятий по вид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Инфекционные болезни у дете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трудоемкость дисциплины составляет 9 зачетных единиц: 192/324   аудиторных/вс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дисципл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учебных занятий по вид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Инфекционные болезни у дете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трудоемкость дисциплины составляет 9 зачетных единиц: 192/324   аудиторных/вс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ение, основанное на компетенциях, наиболее эффективно реализуется в форме модульной организ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модулем понимается – целостный набор подлежащих освоению умений, знаний, отношений и опыта (компетенций), описанных в форме требований, которым должен соответствовать обучающийся по завершению модуля, и представляющий составную часть более общей фун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ение, основанное на компетенциях, наиболее эффективно реализуется в форме модульной организ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модулем понимается – целостный набор подлежащих освоению умений, знаний, отношений и опыта (компетенций), описанных в форме требований, которым должен соответствовать обучающийся по завершению модуля, и представляющий составную часть более общей фун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емкость  - 1 кредитная еди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емкость  - 1 кредитная еди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ческие практические занят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рудоемкость  - 1 кредитная единица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ческие практические занят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рудоемкость  - 1 кредитная единица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ческие практические занят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ческие практические занят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ы, выносимые  для самостоятельного изуч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 семестре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«Воздушно-капельные инфекции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рудоемкость  - 1 кредитная еди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ы, выносимые  для самостоятельного изуч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 семестре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«Воздушно-капельные инфекции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рудоемкость  - 1 кредитная еди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ГОС 3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ГОС - это стандарты третьего поколения, в их основе лежит компетентностный подход к образованию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 рабочей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ая программа разрабатывается на основан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ФГОС ВПО (обязательно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Учебного плана (обязательно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имерной образовательной программы (при ее налич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ГОС 3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ГОС - это стандарты третьего поколения, в их основе лежит компетентностный подход к образованию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 рабочей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ая программа разрабатывается на основан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ФГОС ВПО (обязательно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Учебного плана (обязательно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имерной образовательной программы (при ее налич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Учебно-методическое обеспечение дисциплин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1 Основн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2 Дополнительная литерату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3 Методические пособия, рекомендации и т.д., изданные кафедр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4 Методические рекомендации для студентов и преподавателей по темам в количестве 60 едини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Учебно-методическое обеспечение дисциплин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1 Основн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2 Дополнительная литерату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3 Методические пособия, рекомендации и т.д., изданные кафедр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4 Методические рекомендации для студентов и преподавателей по темам в количестве 60 едини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6. Материально-техническое обеспечение дисциплин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Материально-техническое обеспечение дисциплин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Методы и формы организации обучения при разных формах занятий в часах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Методы и формы организации обучения при разных формах занятий в часах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7. «Карта формирования компетенций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«Карта формирования компетенций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Оценочные средства для текущего контроля успеваемости, промежуточной аттестации по итогам освоения дисциплины и учебно-методическое обеспечение самостоятельной работы студент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ЧЕНЬ ВОПРОСОВ ТЕСТОВОГО КОНТРОЛЯ К ПРОМЕЖУТОЧНОЙ АТТЕСТАЦИИ И ОЦЕНКИ ОСТАТОЧНЫ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Оценочные средства для текущего контроля успеваемости, промежуточной аттестации по итогам освоения дисциплины и учебно-методическое обеспечение самостоятельной работы студент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ЧЕНЬ ВОПРОСОВ ТЕСТОВОГО КОНТРОЛЯ К ПРОМЕЖУТОЧНОЙ АТТЕСТАЦИИ И ОЦЕНКИ ОСТАТОЧНЫ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ПЕРЕЧЕНЬ ВОПРОСОВ  ИТОГОВОГО КОНТРО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…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ПЕРЕЧЕНЬ ВОПРОСОВ  ИТОГОВОГО КОНТРО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…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Методика формирования результирующей оценк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йтинг по дисциплине  формируется на кафедре в соответствии с внутри кафедральным положением о рейтинге. В частности, применяется вторая модель основанная на использовании среднего балла в качестве характеристики текущей работы студента в семестр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Методика формирования результирующей оценк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йтинг по дисциплине  формируется на кафедре в соответствии с внутри кафедральным положением о рейтинге. В частности, применяется вторая модель основанная на использовании среднего балла в качестве характеристики текущей работы студента в семестр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ормативный рейтинг по дисципли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ный рейтинг по дисципли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Методические рекомендации по организации изучения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1. Методические рекомендации для преподав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2. Методические рекомендации для студ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Методические рекомендации по организации изучения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1. Методические рекомендации для преподав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2. Методические рекомендации для студ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ая программа «Инфекционные болезней у детей» включает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тульный лист и лист соглас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и задачи учебной дисцип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дисциплины в структуре ООП ВП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етенции обучающегося, формируемые в результат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воения дисцип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ая программа «Инфекционные болезней у детей» включает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тульный лист и лист соглас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и задачи учебной дисцип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дисциплины в структуре ООП ВП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етенции обучающегося, формируемые в результат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воения дисцип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ОКОЛ СОГЛАСОВАНИЯ РАБОЧЕЙ ПРОГРАММЫ С ДРУГИМИ ДИСЦИПЛИНАМИ СПЕЦИАЛЬНОСТИ «Педиатр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ОКОЛ СОГЛАСОВАНИЯ РАБОЧЕЙ ПРОГРАММЫ С ДРУГИМИ ДИСЦИПЛИНАМИ СПЕЦИАЛЬНОСТИ «Педиатр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 ВНЕСЕНИЯ ИЗМЕНЕНИЙ И ДОПОЛНЕНИЙ В РАБОЧУЮ ПРОГРАМ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 ВНЕСЕНИЯ ИЗМЕНЕНИЙ И ДОПОЛНЕНИЙ В РАБОЧУЮ ПРОГРАМ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Благодарю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дарю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освоения дисциплины  Инфекционные болезн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знаний об основных закономерностях инфекционного процесса по клинической картине инфекционных заболеваний у детей,  методах диагностики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е изучения основных понятий дисциплины подготовить специалиста для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освоения дисциплины  Инфекционные болезн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знаний об основных закономерностях инфекционного процесса по клинической картине инфекционных заболеваний у детей,  методах диагностики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е изучения основных понятий дисциплины подготовить специалиста для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ение и приобретение студентами знаний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у студентов умений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навыков аналитической работы с информацией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ение и приобретение студентами знаний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у студентов умений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навыков аналитической работы с информацией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обучением, основанном на компетенциях понима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бучение, основанное на определении, освоении и демонстрации знаний, умений, типов поведения и отношений, необходимых для конкретной трудовой деятельности/професс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обучением, основанном на компетенциях понима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бучение, основанное на определении, освоении и демонстрации знаний, умений, типов поведения и отношений, необходимых для конкретной трудовой деятельности/професс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етенции обучающихся, формируемые в процессе освоения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культурные компетен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К-1,ОК-2,ОК-3,ОК-4,ОК-5,ОК-6,ОК-7, ОК-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ые компет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П-1, ОП-2, ОП-3….     ОП-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етенции обучающихся, формируемые в процессе освоения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культурные компетен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К-1,ОК-2,ОК-3,ОК-4,ОК-5,ОК-6,ОК-7, ОК-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ые компет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П-1, ОП-2, ОП-3….     ОП-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ые компетен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профессиональные компет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1-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илактическая деятельность (ПК 10-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ческая деяте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15-1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бная деятельность (ПК 19-2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билитационная деятельность (ПК 23-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о-педагогическая деяте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25-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о-управленческая деятельность (ПК 27-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о-исследовательская деяте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31-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ые компетен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профессиональные компет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1-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илактическая деятельность (ПК 10-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ческая деяте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15-1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бная деятельность (ПК 19-2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билитационная деятельность (ПК 23-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о-педагогическая деяте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25-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о-управленческая деятельность (ПК 27-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о-исследовательская деяте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31-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ТЬ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 размещения инфекционных больных в стационарах с целью предупреждения внутрибольничной инфек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 проведения противоэпидемических мероприятий в очаг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ущие симптомы детских инфекционных болезн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тапы патогенеза инфекционных заболев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ку осмотра больного ребен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обследования больного...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ТЬ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 размещения инфекционных больных в стационарах с целью предупреждения внутрибольничной инфек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 проведения противоэпидемических мероприятий в очаг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ущие симптомы детских инфекционных болезн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тапы патогенеза инфекционных заболев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ку осмотра больного ребен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обследования больного...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BC8F-F538-46F6-A8D5-3E2C9BA35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A1EC-CA0D-44DF-AC9E-54B92ED2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8F40-E054-404F-827A-F0089B9CE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2C99-E667-4B56-A97B-856AA69A4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DA18-07AC-4621-AE6B-CFC68AD7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E518-1C5A-4F0D-82E5-79F440E1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7580-DAEC-4C2F-BC9F-EA31FEB3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749A-D802-4F81-B9EE-73598FB0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3062-860F-4224-8D0C-BAB7FE96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686D-397C-4B77-9F2C-739DA4D8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4F5E-EC3A-4213-AF67-DB807286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7E89-15AD-444A-8135-A70EA2A0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B7CF-8E75-4C82-98F7-DBA1BBB6C3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рагмент рабочей программы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исциплины</a:t>
            </a:r>
            <a:br>
              <a:rPr sz="3600"/>
            </a:br>
            <a:br>
              <a:rPr sz="3600"/>
            </a:br>
            <a:r>
              <a:rPr b="0" i="1" lang="ru-RU" sz="4000" spc="-1" strike="noStrike">
                <a:solidFill>
                  <a:srgbClr val="3333ff"/>
                </a:solidFill>
                <a:latin typeface="Arial"/>
              </a:rPr>
              <a:t>Инфекционные болезни у детей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ля специальности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60103 - «Педиатрия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3860280"/>
            <a:ext cx="8229600" cy="22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федра детских инфекционных болезней    ВолгГМ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011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УМЕ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рать анамнез инфекционного больного и эпидемиологический анамнез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авить инфекционного больного в стационар, оформить документац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нять инфекционного больного в стационаре, оформить документацию, осуществить госпитализацию по категориям изоля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людать основные принципы работы у постели инфекционного больного в условиях общего и боксированного детского отделения …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ВЛАДЕТ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выками обследования детей с инфекционной патологи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ами проведения противоэпидемических мероприятий в очаг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ами оказания неотложной помощ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рмативами проведения экспертизы временной нетрудоспособ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икой промывания желудка и кишечн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кой назначения и введения антитоксических сывороток в лечении инфекционных больных …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овая нагрузка на виды учебной деятельности прописывается согласно учебному план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рс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естры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ло зачетных единиц –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ичество часов: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9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/324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удиторны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/вс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Лекции 57 час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28,5 лекц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рактические занятия 135 час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30 занятий по 4,5 час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800"/>
                </a:solidFill>
                <a:latin typeface="Arial"/>
              </a:rPr>
              <a:t>Внеаудиторная работа 132 ча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800"/>
                </a:solidFill>
                <a:latin typeface="Arial"/>
              </a:rPr>
              <a:t>Экзамены 36 ча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800"/>
                </a:solidFill>
                <a:latin typeface="Arial"/>
              </a:rPr>
              <a:t>Самостоятельная работа 96 ча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одержание дисципл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уктура учебных занятий по вид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сцип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Инфекционные болезни у дет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ая трудоемкость дисциплины составляет 9 зачетных единиц: 192/324   аудиторных/вс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42920" y="214200"/>
          <a:ext cx="8786880" cy="5850000"/>
        </p:xfrm>
        <a:graphic>
          <a:graphicData uri="http://schemas.openxmlformats.org/drawingml/2006/table">
            <a:tbl>
              <a:tblPr/>
              <a:tblGrid>
                <a:gridCol w="426960"/>
                <a:gridCol w="1830600"/>
                <a:gridCol w="1171440"/>
                <a:gridCol w="1193760"/>
                <a:gridCol w="1654200"/>
                <a:gridCol w="1254240"/>
                <a:gridCol w="1255680"/>
              </a:tblGrid>
              <a:tr h="8758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 дисципл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модул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ест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1224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аудиторной работы студента и трудоемкость в час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оятельная работа, трудоем-кость в час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текущего контр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я успеваемости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межу-точной аттеста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и по оконча-нию цик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</a:tr>
              <a:tr h="332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иничес-кие практичес-кие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1224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6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душно-капельные инфе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ч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учение, основанное на компетенциях, наиболее эффективно реализуется в форме модульной организац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д модулем понимает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целостный набор подлежащих освоению умений, знаний, отношений и опыта (компетенций), описанных в форме требований, которым должен соответствовать обучающийся по завершению модуля, и представляющий составную часть более общей фун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97256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2000"/>
            </a:b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Лекции</a:t>
            </a:r>
            <a:br>
              <a:rPr sz="2000"/>
            </a:b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трудоемкость  - 1 кредитная еди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1143000"/>
          <a:ext cx="8929800" cy="5796000"/>
        </p:xfrm>
        <a:graphic>
          <a:graphicData uri="http://schemas.openxmlformats.org/drawingml/2006/table">
            <a:tbl>
              <a:tblPr/>
              <a:tblGrid>
                <a:gridCol w="743040"/>
                <a:gridCol w="2249280"/>
                <a:gridCol w="4883400"/>
                <a:gridCol w="1054080"/>
              </a:tblGrid>
              <a:tr h="995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Наименование тем лек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Цель и содержание ле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Объем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креди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0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ие в специальнос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лекции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омить студентов со специальностью «Инфекционные болезни у детей» у детей, показать значимость проблемы в структуре педиатрической заболеваемости и смертнос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лекци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овременное состояние проблемы инфекционных болезней у детей. Роль инфекции в патологии человека. Роль инфекционных заболеваний в структуре детской заболеваемости и смертности, эпидемиологические особенности острых инфекционных заболеваний. Понятие «инфекционный процесс», «инфекционное заболевание», понятие о трех звеньях эпидемической цепи, понятие об антропонозах, зоонозах. Обязанности врача по организации обслуживания ребенка с инфекционными заболеваниями. Основные достижения и дальнейшие перспективы в борьбе с детскими инфекционными заболевания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а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0" y="981000"/>
          <a:ext cx="8929800" cy="5732640"/>
        </p:xfrm>
        <a:graphic>
          <a:graphicData uri="http://schemas.openxmlformats.org/drawingml/2006/table">
            <a:tbl>
              <a:tblPr/>
              <a:tblGrid>
                <a:gridCol w="826920"/>
                <a:gridCol w="1354320"/>
                <a:gridCol w="3627360"/>
                <a:gridCol w="839880"/>
                <a:gridCol w="1073160"/>
                <a:gridCol w="1208160"/>
              </a:tblGrid>
              <a:tr h="2232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Наименова-ние   тем клинических практичес-ких зан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Цель и содержание клинических практических зан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Код компе-тен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Самосто-ятельная аудитор-ная работа – виды, объем, формы контро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Самостоя-тельная внеауди-торная работа – виды, объем, формы контро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0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22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вивоч-ный календарь РФ. Реакции и осложнения при проведении вакцинаци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ь занятия: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учиться составлять прививочный календарь, дифференцировать абсолютные и относительные противопоказания к вакцинации, диагностике реакций и осложнений при проведении вакцинации, их лечени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удент должен зна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Принципы вакцинопрофилактики. Виды и характеристики вакци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Прививочный календарь РФ. Приказ №229 и приложение к приказу №51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Абсолютные и относительные противопоказания к вакцинаци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Реакции и осложнения при проведении вакцинации. Леч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9725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дуль 1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ЗДУШНО-КАПЕЛЬНЫЕ ИНФЕКЦИИ</a:t>
            </a:r>
            <a:br>
              <a:rPr sz="1400"/>
            </a:br>
            <a:r>
              <a:rPr b="0" i="1" lang="ru-RU" sz="1600" spc="-1" strike="noStrike">
                <a:solidFill>
                  <a:srgbClr val="3333ff"/>
                </a:solidFill>
                <a:latin typeface="Arial"/>
              </a:rPr>
              <a:t>Клинические практические занятия </a:t>
            </a:r>
            <a:br>
              <a:rPr sz="1600"/>
            </a:br>
            <a:r>
              <a:rPr b="0" lang="ru-RU" sz="1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трудоемкость  - 1 кредитная единица</a:t>
            </a:r>
            <a:r>
              <a:rPr b="0" lang="ru-RU" sz="1600" spc="-1" strike="noStrike">
                <a:solidFill>
                  <a:srgbClr val="3333ff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дуль 1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ЗДУШНО-КАПЕЛЬНЫЕ ИНФЕКЦИИ</a:t>
            </a:r>
            <a:br>
              <a:rPr sz="1600"/>
            </a:br>
            <a:r>
              <a:rPr b="1" i="1" lang="ru-RU" sz="1600" spc="-1" strike="noStrike">
                <a:solidFill>
                  <a:srgbClr val="3333ff"/>
                </a:solidFill>
                <a:latin typeface="Arial"/>
              </a:rPr>
              <a:t>Клинические практические занятия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14200" y="765000"/>
          <a:ext cx="8658360" cy="6180480"/>
        </p:xfrm>
        <a:graphic>
          <a:graphicData uri="http://schemas.openxmlformats.org/drawingml/2006/table">
            <a:tbl>
              <a:tblPr/>
              <a:tblGrid>
                <a:gridCol w="357480"/>
                <a:gridCol w="1143000"/>
                <a:gridCol w="3786120"/>
                <a:gridCol w="1071360"/>
                <a:gridCol w="1143000"/>
                <a:gridCol w="1157400"/>
              </a:tblGrid>
              <a:tr h="1820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Наименование   тем клиничес-ких практичес-ких зан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Цель и содержание клинических практических зан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Код компетен-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Самостоя-тельная аудиторная работа – виды, объем, формы контр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Самостоя-тельная внеаудитор-ная работа – виды, объем, формы контр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5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Составить индивидуальный календарь профилактических прививок для здорового ребенка и ребенка из группы рис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Определить наличие противопоказаний к прививка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Оформить учебную карту вакцинации ребенка из групп рис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Диагностировать прививочные реакции и осложнения вакцинации и назначить л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ть ознакомле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С устройством и правилами работы кабинета вакцин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Со знанием правил техники проведения вакцинации в поликлинических условиях и коммерческих кабинета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С документами РФ, регламентирующими вакцинацию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9152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ы, выносимые  для </a:t>
            </a: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самостоятельного изуч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Х семестре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дуль «Воздушно-капельные инфекции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трудоемкость  - 1 кредитная еди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85840" y="1197000"/>
          <a:ext cx="8643960" cy="5375160"/>
        </p:xfrm>
        <a:graphic>
          <a:graphicData uri="http://schemas.openxmlformats.org/drawingml/2006/table">
            <a:tbl>
              <a:tblPr/>
              <a:tblGrid>
                <a:gridCol w="644400"/>
                <a:gridCol w="1141560"/>
                <a:gridCol w="3857400"/>
                <a:gridCol w="714600"/>
                <a:gridCol w="2286000"/>
              </a:tblGrid>
              <a:tr h="1184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п.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Наименование т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П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Формы выполнения и контр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ж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дент должен зн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иологию, эпидемиологию рож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этапы патогенеза заболевания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щие клинические симптом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ложнения рож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ническую и лабораторную диагности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горитмы лечения с учетом данных доказательной медици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дент должен уметь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обирать и оценивать анамнез, производить забор материала для бактериологического исследования, оценивать результаты анализов, выписывать рецепты, оформлять экстренное извещение, проводить противоэпидемические мероприятия в очаг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дент должен быть ознакомлен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 порядком выписки,нения, учета и назначения медикам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 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выполнения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анализ тематической клинической истории болезни и ее презентация в виде  слайдового доклада (по материалам больниц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контрол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бличное (в группе) прослушивание выписки из истории болезни, обсуждение сложностей диагностики, соблюдения стандартов и алгоритмов лечения и диагности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круглого стола по обсуждаемой проблем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75582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ГОС 3</a:t>
            </a:r>
            <a:br>
              <a:rPr sz="4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ГОС - это стандарты третьего поколения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их основе лежи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етентностный подход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образованию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а рабочей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141720"/>
            <a:ext cx="64008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ая программа разрабатывается на основан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ФГОС ВПО (обязательно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Учебного плана (обязательно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Примерной образовательной программы (при ее наличи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Учебно-методическое обеспечение дисциплины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5.1 Основная лит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5.2 Дополнительная литерату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5.3 Методические пособия, рекомендации и т.д., изданные кафедр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4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етодические рекомендации для студентов и преподавателей по темам в количестве 60 един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ьно-техническое обеспечение дисциплины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1000080"/>
          <a:ext cx="8229600" cy="50007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1500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Тема лекции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практическ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зан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Мультимедийные презент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Учебные филь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Муляжи Мак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препар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Друг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00640"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кцинация, как средство профилакти-ки инфекцион-ных болезней у дете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тические истории болезни, демонстрация больных, информаци-онные и тематические стенды, таблиц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Методы и формы организации обучения при разных формах занятий в часах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  <p:graphicFrame>
        <p:nvGraphicFramePr>
          <p:cNvPr id="115" name=""/>
          <p:cNvGraphicFramePr/>
          <p:nvPr/>
        </p:nvGraphicFramePr>
        <p:xfrm>
          <a:off x="0" y="0"/>
          <a:ext cx="8893080" cy="6558120"/>
        </p:xfrm>
        <a:graphic>
          <a:graphicData uri="http://schemas.openxmlformats.org/drawingml/2006/table">
            <a:tbl>
              <a:tblPr/>
              <a:tblGrid>
                <a:gridCol w="3789360"/>
                <a:gridCol w="927000"/>
                <a:gridCol w="1782720"/>
                <a:gridCol w="1168560"/>
                <a:gridCol w="1225440"/>
              </a:tblGrid>
              <a:tr h="15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а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нические практические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а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-стоятель-на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а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а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мет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в коман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se-stu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метод конкретных ситуаци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овые ролевые игры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ые столы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ситуационных зада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следовательский мет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интерактивных занят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Rectangle 363"/>
          <p:cNvSpPr/>
          <p:nvPr/>
        </p:nvSpPr>
        <p:spPr>
          <a:xfrm>
            <a:off x="0" y="667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«Карта формирования компетенций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24000" y="692280"/>
          <a:ext cx="8435880" cy="5798880"/>
        </p:xfrm>
        <a:graphic>
          <a:graphicData uri="http://schemas.openxmlformats.org/drawingml/2006/table">
            <a:tbl>
              <a:tblPr/>
              <a:tblGrid>
                <a:gridCol w="2109600"/>
                <a:gridCol w="1074600"/>
                <a:gridCol w="2730600"/>
                <a:gridCol w="2521080"/>
              </a:tblGrid>
              <a:tr h="2728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Название дисципли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Трудоемкость (в кредита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Компетенции (с формирующими их микроцелям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ОК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ПК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Что должны знать и чем овладеть в результате усвоения учебного материала в соответствии с требованиями ФГОС третьего покол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Методы формирования (формы учебной работы и контрол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Формы учебной работы (лекции, практические (лабораторные) занятия, деловые игры, конференции, круглые столы, проекты, и пр.). Формы контроля (тестирование, задачи (видео, ситуационные, клинические и пр.), решение кроссвордов, составление кроссвордов,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екционные болезни у де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 – 1……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К – 1,2…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уденты должны овладеть следующими практическими навыкам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учебной работы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ции, практические занятия, деловые игры, конференции, круглые стол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контроля: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тестирование, задачи ситуационные, клинические и эпидемиологические, написание академических историй болезн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.Оценочные средства для текущего контроля успеваемости, промежуточной аттестации по итогам освоения дисциплины и учебно-методическое обеспечение самостоятельной работы студентов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ЕРЕЧЕНЬ ВОПРОСОВ ТЕСТОВОГО КОНТРОЛЯ К ПРОМЕЖУТОЧНОЙ АТТЕСТАЦИИ И ОЦЕНКИ ОСТАТОЧНЫХ 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. ПЕРЕЧЕНЬ ВОПРОСОВ  ИТОГОВОГО КОНТРО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…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. Методика формирования результирующей оценк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йтинг по дисциплине  формируется на кафедре в соответствии с внутри кафедральным положением о рейтинге. В частности, применяется вторая модель основанная на использовании среднего балла в качестве характеристики текущей работы студента в семестре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рмативный рейтинг по дисципл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1052640"/>
          <a:ext cx="8229600" cy="5925960"/>
        </p:xfrm>
        <a:graphic>
          <a:graphicData uri="http://schemas.openxmlformats.org/drawingml/2006/table">
            <a:tbl>
              <a:tblPr/>
              <a:tblGrid>
                <a:gridCol w="358920"/>
                <a:gridCol w="1485720"/>
                <a:gridCol w="819360"/>
                <a:gridCol w="968040"/>
                <a:gridCol w="887400"/>
                <a:gridCol w="1044720"/>
                <a:gridCol w="774720"/>
                <a:gridCol w="909720"/>
                <a:gridCol w="981000"/>
              </a:tblGrid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у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ауди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-ных ча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бал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ормативный рейтинг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бал-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ес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контро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ущий рейти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еж-ный рейти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йти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й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ушно-капельные инфе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ч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6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е кишечные инфекции. Вирусные гепати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ч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роинфек-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ч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ительный рейти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балл по итогам 3 семест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. Методические рекомендации по организации изучения дисциплин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1. Методические рекомендации для преподава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.2. Методические рекомендации для студ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бочая программа «Инфекционные болезней у детей» включае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итульный лист и лист согласо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и и задачи учебной дисцип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сто дисциплины в структуре ООП ВП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етенции обучающегося, формируемые в результат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воения дисцип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ТОКОЛ СОГЛАСОВАНИЯ РАБОЧЕЙ ПРОГРАММЫ С ДРУГИМИ ДИСЦИПЛИНАМИ СПЕЦИАЛЬНОСТИ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Педиатр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СТ ВНЕСЕНИЯ ИЗМЕНЕНИЙ И ДОПОЛНЕНИЙ В РАБОЧУЮ ПРОГРАМ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лагодарю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3" descr="вап"/>
          <p:cNvPicPr/>
          <p:nvPr/>
        </p:nvPicPr>
        <p:blipFill>
          <a:blip r:embed="rId1"/>
          <a:stretch/>
        </p:blipFill>
        <p:spPr>
          <a:xfrm>
            <a:off x="2341440" y="1600200"/>
            <a:ext cx="4459320" cy="452592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ель освоения дисциплины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нфекционные болезни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у де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знаний об основных закономерностях инфекционного процесса по клинической картине инфекционных заболеваний у детей,  методах диагностики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основе изучения основных понятий дисциплины подготовить специалиста для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дисциплин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зучение и приобрет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тудента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3333ff"/>
                </a:solidFill>
                <a:latin typeface="Arial"/>
              </a:rPr>
              <a:t>знаний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Формирование у студентов </a:t>
            </a:r>
            <a:r>
              <a:rPr b="1" i="1" lang="ru-RU" sz="3600" spc="-1" strike="noStrike">
                <a:solidFill>
                  <a:srgbClr val="3333ff"/>
                </a:solidFill>
                <a:latin typeface="Arial"/>
              </a:rPr>
              <a:t>умений</a:t>
            </a:r>
            <a:r>
              <a:rPr b="1" i="1" lang="ru-RU" sz="3200" spc="-1" strike="noStrike">
                <a:solidFill>
                  <a:srgbClr val="3333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Формирование </a:t>
            </a:r>
            <a:r>
              <a:rPr b="1" i="1" lang="ru-RU" sz="3600" spc="-1" strike="noStrike">
                <a:solidFill>
                  <a:srgbClr val="3333ff"/>
                </a:solidFill>
                <a:latin typeface="Arial"/>
              </a:rPr>
              <a:t>навыков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налитической работы с информацией..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233856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д обучением, основанном на компетенциях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понимае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«обучение, основанное на определении, освоении и демонстрации знаний, умений, типов поведения и отношений, необходимых для конкретной трудовой деятельности/професс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етенции обучающихся, формируемые в процессе освоения дисциплин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9152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культурные компетен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К-1,ОК-2,ОК-3,ОК-4,ОК-5,ОК-6,ОК-7, ОК-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фессиональные компете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П-1, ОП-2, ОП-3….     ОП-3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Профессиональные компетенц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щепрофессиональны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ПК 1-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филактическая деятельность (ПК 10-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иагностическая деяте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ПК 15-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ечебная деятельность (ПК 19-2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абилитационная деятельность (ПК 23-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сихолого-педагогическая деяте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ПК 25-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рганизационно-управленческая деятельность (ПК 27-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учно-исследовательская деяте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ПК 31-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ЗНАТ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а размещения инфекционных больных в стационарах с целью предупреждения внутрибольничной инфек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а проведения противоэпидемических мероприятий в очаг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ущие симптомы детских инфекционных болезн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этапы патогенеза инфекционных заболев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ку осмотра больного ребен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 обследования больного...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09:08:22Z</dcterms:created>
  <dc:creator>1</dc:creator>
  <dc:description/>
  <dc:language>en-US</dc:language>
  <cp:lastModifiedBy>LEGION</cp:lastModifiedBy>
  <dcterms:modified xsi:type="dcterms:W3CDTF">2015-11-27T12:50:09Z</dcterms:modified>
  <cp:revision>72</cp:revision>
  <dc:subject/>
  <dc:title>ФГСО 3</dc:title>
</cp:coreProperties>
</file>