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8B0A-773F-4CB7-9442-DFDC64864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94D4-3777-488E-92CE-4B3609A6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E41-52C1-442F-8061-7D6BCDCA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2AD-7FCD-4652-A677-7034D5FE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EAA-CBB1-486E-8340-D6C3EC4E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F35-E954-4D8D-A6A4-9A7F6472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19C-C94C-4FB5-BD86-D49AC09E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D50-D7B2-41C1-BA28-7BF7A405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D71-8E81-4654-8879-5EAA381F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9B5B-020E-47FF-9377-4BCDC8F5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0F7-DFEB-4C78-BA13-0F8C74BB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8AF-BC52-4C0A-924E-B4788ACA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F8A-E470-4A4C-91C7-70804394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7CC9-C38F-4920-AA4B-3CAECEFD50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3600"/>
            </a:br>
            <a:br>
              <a:rPr sz="3600"/>
            </a:br>
            <a:r>
              <a:rPr b="0" i="1" lang="ru-RU" sz="4000" spc="-1" strike="noStrike">
                <a:solidFill>
                  <a:srgbClr val="3333ff"/>
                </a:solidFill>
                <a:latin typeface="Arial"/>
              </a:rPr>
              <a:t>Инфекционные болезни у дете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60103 - «Педиатрия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ВЛАДЕ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с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стры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часов: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324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удитор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кции 57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8,5 лек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ктические занятия 135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30 занятий по 4,5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Внеаудиторная работа 13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Экзамены 3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Самостоятельная работа 9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42920" y="214200"/>
          <a:ext cx="8786880" cy="5850000"/>
        </p:xfrm>
        <a:graphic>
          <a:graphicData uri="http://schemas.openxmlformats.org/drawingml/2006/table">
            <a:tbl>
              <a:tblPr/>
              <a:tblGrid>
                <a:gridCol w="426960"/>
                <a:gridCol w="1830600"/>
                <a:gridCol w="1171440"/>
                <a:gridCol w="1193760"/>
                <a:gridCol w="1654200"/>
                <a:gridCol w="1254240"/>
                <a:gridCol w="1255680"/>
              </a:tblGrid>
              <a:tr h="875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дисципл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оду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ст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аудиторной работы студента и трудоем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работа, трудоем-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текущего контр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я успеваемост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жу-точной аттест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и по оконча-нию цик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332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ничес-кие практичес-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ушно-капельные инф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 модулем поним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9725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Л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143000"/>
          <a:ext cx="8929800" cy="5796000"/>
        </p:xfrm>
        <a:graphic>
          <a:graphicData uri="http://schemas.openxmlformats.org/drawingml/2006/table">
            <a:tbl>
              <a:tblPr/>
              <a:tblGrid>
                <a:gridCol w="743040"/>
                <a:gridCol w="2249280"/>
                <a:gridCol w="4883400"/>
                <a:gridCol w="1054080"/>
              </a:tblGrid>
              <a:tr h="99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 ле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л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бъем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ред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 в специа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лекци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 студентов со специальностью «Инфекционные болезни у детей» у детей, показать значимость проблемы в структуре педиатрической заболеваемости и смерт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лек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временное состояние проблемы инфекционных болезней у детей. Роль инфекции в патологии человека. Роль инфекционных заболеваний в структуре детской заболеваемости и смертности, эпидемиологические особенности острых инфекционных заболеваний. Понятие «инфекционный процесс», «инфекционное заболевание», понятие о трех звеньях эпидемической цепи, понятие об антропонозах, зоонозах. Обязанности врача по организации обслуживания ребенка с инфекционными заболеваниями. Основные достижения и дальнейшие перспективы в борьбе с детскими инфекционными заболевания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981000"/>
          <a:ext cx="8929800" cy="5732640"/>
        </p:xfrm>
        <a:graphic>
          <a:graphicData uri="http://schemas.openxmlformats.org/drawingml/2006/table">
            <a:tbl>
              <a:tblPr/>
              <a:tblGrid>
                <a:gridCol w="826920"/>
                <a:gridCol w="1354320"/>
                <a:gridCol w="3627360"/>
                <a:gridCol w="839880"/>
                <a:gridCol w="1073160"/>
                <a:gridCol w="1208160"/>
              </a:tblGrid>
              <a:tr h="2232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-ние   тем клинических практичес-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-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-ятельная аудитор-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-тор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22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ивоч-ный календарь РФ. Реакции и осложнения при проведении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занятия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учиться составлять прививочный календарь, дифференцировать абсолютные и относительные противопоказания к вакцинации, диагностике реакций и осложнений при проведении вакцинации, их лечен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дент должен зна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Принципы вакцинопрофилактики. Виды и характеристики вакц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Прививочный календарь РФ. Приказ №229 и приложение к приказу №51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Абсолютные и относительные противопоказания к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Реакции и осложнения при проведении вакцинации. Леч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972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400"/>
            </a:br>
            <a:r>
              <a:rPr b="0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 </a:t>
            </a:r>
            <a:br>
              <a:rPr sz="1600"/>
            </a:b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600"/>
            </a:br>
            <a:r>
              <a:rPr b="1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4200" y="765000"/>
          <a:ext cx="8658360" cy="6180480"/>
        </p:xfrm>
        <a:graphic>
          <a:graphicData uri="http://schemas.openxmlformats.org/drawingml/2006/table">
            <a:tbl>
              <a:tblPr/>
              <a:tblGrid>
                <a:gridCol w="357480"/>
                <a:gridCol w="1143000"/>
                <a:gridCol w="3786120"/>
                <a:gridCol w="1071360"/>
                <a:gridCol w="1143000"/>
                <a:gridCol w="1157400"/>
              </a:tblGrid>
              <a:tr h="182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  тем клиничес-ких практичес-ких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тен-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аудитор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тор-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ставить индивидуальный календарь профилактических прививок для здорового ребенка и ребенка из группы ри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ределить наличие противопоказаний к привив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Оформить учебную карту вакцинации ребенка из групп рис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Диагностировать прививочные реакции и осложнения вакцинации и назначить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ознакомл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 устройством и правилами работы кабинета вакци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 знанием правил техники проведения вакцинации в поликлинических условиях и коммерческих кабинет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 документами РФ, регламентирующими вакцинацию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915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ы, выносимые  для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самостоятельного изуч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840" y="1197000"/>
          <a:ext cx="8643960" cy="5375160"/>
        </p:xfrm>
        <a:graphic>
          <a:graphicData uri="http://schemas.openxmlformats.org/drawingml/2006/table">
            <a:tbl>
              <a:tblPr/>
              <a:tblGrid>
                <a:gridCol w="644400"/>
                <a:gridCol w="1141560"/>
                <a:gridCol w="3857400"/>
                <a:gridCol w="71460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Формы выполнения и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зн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ологию, эпидемиологию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этапы патогенеза заболевания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е клинические симпто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ую и лабораторную диагнос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ы лечения с учетом данных доказательной медиц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уме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бирать и оценивать анамнез, производить забор материала для бактериологического исследования, оценивать результаты анализов, выписывать рецепты, оформлять экстренное извещение, проводить противоэпидемические мероприятия в оча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быть ознакомле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 порядком выписки,нения, учета и назначения медикам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выполнения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нализ тематической клинической истории болезни и ее презентация в виде  слайдового доклада (по материалам больниц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ое (в группе) прослушивание выписки из истории болезни, обсуждение сложностей диагностики, соблюдения стандартов и алгоритмов лечения и диагност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круглого стола по обсуждаемой проблем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582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х основе лежи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тностный подход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образованию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4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тодические рекомендации для студентов и преподавателей по темам в количестве 60 еди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ьно-техническое обеспечение дисциплин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000080"/>
          <a:ext cx="8229600" cy="5000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5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ема лекци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актиче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ьтимедийные презен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Учебные филь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яжи Мак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епар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ция, как средство профилакти-ки инфекцион-ных болезней у дет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истории болезни, демонстрация больных, информаци-онные и тематические стенды,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graphicFrame>
        <p:nvGraphicFramePr>
          <p:cNvPr id="115" name=""/>
          <p:cNvGraphicFramePr/>
          <p:nvPr/>
        </p:nvGraphicFramePr>
        <p:xfrm>
          <a:off x="0" y="0"/>
          <a:ext cx="8893080" cy="6558120"/>
        </p:xfrm>
        <a:graphic>
          <a:graphicData uri="http://schemas.openxmlformats.org/drawingml/2006/table">
            <a:tbl>
              <a:tblPr/>
              <a:tblGrid>
                <a:gridCol w="3789360"/>
                <a:gridCol w="927000"/>
                <a:gridCol w="1782720"/>
                <a:gridCol w="1168560"/>
                <a:gridCol w="122544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ие практичес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стоятель-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коман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e-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тод конкретных ситуац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ые ролевые игр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ые стол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ситуационных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ий мет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интерактивных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363"/>
          <p:cNvSpPr/>
          <p:nvPr/>
        </p:nvSpPr>
        <p:spPr>
          <a:xfrm>
            <a:off x="0" y="667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«Карта формирования компетенций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4000" y="692280"/>
          <a:ext cx="8435880" cy="5798880"/>
        </p:xfrm>
        <a:graphic>
          <a:graphicData uri="http://schemas.openxmlformats.org/drawingml/2006/table">
            <a:tbl>
              <a:tblPr/>
              <a:tblGrid>
                <a:gridCol w="2109600"/>
                <a:gridCol w="1074600"/>
                <a:gridCol w="2730600"/>
                <a:gridCol w="2521080"/>
              </a:tblGrid>
              <a:tr h="27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звание дисципл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рудоемкость (в кредита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мпетенции (с формирующими их микроцеля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О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П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Что должны знать и чем овладеть в результате усвоения учебного материала в соответствии с требованиями ФГОС третьего поко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етоды формирования (формы учебной работы и контро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Формы учебной работы (лекции, практические (лабораторные) занятия, деловые игры, конференции, круглые столы, проекты, и пр.). Формы контроля (тестирование, задачи (видео, ситуационные, клинические и пр.), решение кроссвордов, составление кроссвордов,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екционные болезни у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 – 1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К – 1,2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уденты должны овладеть следующими практическими навыка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учебной работ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, практические занятия, деловые игры, конференции, круглые стол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контроля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естирование, задачи ситуационные, клинические и эпидемиологические, написание академических историй болез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052640"/>
          <a:ext cx="8229600" cy="5925960"/>
        </p:xfrm>
        <a:graphic>
          <a:graphicData uri="http://schemas.openxmlformats.org/drawingml/2006/table">
            <a:tbl>
              <a:tblPr/>
              <a:tblGrid>
                <a:gridCol w="358920"/>
                <a:gridCol w="1485720"/>
                <a:gridCol w="819360"/>
                <a:gridCol w="968040"/>
                <a:gridCol w="887400"/>
                <a:gridCol w="1044720"/>
                <a:gridCol w="774720"/>
                <a:gridCol w="909720"/>
                <a:gridCol w="98100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ауди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-ных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бал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рмативный рейтин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бал-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еж-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о-капельные инф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кишечные инфекции. Вирусные гепат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инфек-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по итогам 3 семест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1. Методические рекомендации для преподав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Педиатр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вап"/>
          <p:cNvPicPr/>
          <p:nvPr/>
        </p:nvPicPr>
        <p:blipFill>
          <a:blip r:embed="rId1"/>
          <a:stretch/>
        </p:blipFill>
        <p:spPr>
          <a:xfrm>
            <a:off x="2341440" y="1600200"/>
            <a:ext cx="445932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ь освоения дисциплины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фекционные болезн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зучение и 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удент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знаний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у студентов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умений</a:t>
            </a:r>
            <a:r>
              <a:rPr b="1" i="1" lang="ru-RU" sz="3200" spc="-1" strike="noStrike">
                <a:solidFill>
                  <a:srgbClr val="3333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навыков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алитической работы с информацией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3385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ним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ЗНА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09:08:22Z</dcterms:created>
  <dc:creator>1</dc:creator>
  <dc:description/>
  <dc:language>en-US</dc:language>
  <cp:lastModifiedBy>LEGION</cp:lastModifiedBy>
  <dcterms:modified xsi:type="dcterms:W3CDTF">2015-11-27T12:50:09Z</dcterms:modified>
  <cp:revision>72</cp:revision>
  <dc:subject/>
  <dc:title>ФГСО 3</dc:title>
</cp:coreProperties>
</file>