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69A1-4DF9-40E9-989B-2DF28C9B59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е болезни у дет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060103 - «Педиатр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– V, 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естры – X, XI, X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часов: 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 57 часов (28,5 лек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занятия 135 часов (30 занятий по 4,5 ча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аудиторная работа 132 ча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амены 3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ая работа 96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модулем понимается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ческие практические занят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ы, выносимые  для самостоятельного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рудоемкость  - 1 кредитная еди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в их основе лежит компетентностный подход к образованию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 Методические рекомендации для студентов и преподавателей по темам в количестве 60 едини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териально-техническое обеспечение дисципли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«Карта формирования компетенций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1. Методические рекомендации для преподав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«Педиатр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освоения дисциплины  Инфекционные болез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и приобретение студентами знани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у студентов умений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навыков аналитической работы с информацией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 поним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компет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5E3-9894-4AB4-BB55-C385CE57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F7A-4465-4137-BA69-15C518A7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491-7D10-49FB-B504-4F5C5B25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EA6-7427-420B-85D0-98D9F66A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196-0C05-4072-BA2C-66B22559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4F3-C5F5-40BE-9C1C-B3C14AF6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A2C-B36D-423E-968B-903DE436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92A-D160-461D-B385-050E2D04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7BE-A8B9-465B-8B08-84A662F7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66D-7C46-4263-995A-C7AABAC5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D31B-5861-44DE-B894-4CC3151C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2E0-30A3-4519-8159-BDEEC3C9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6138-113F-4F90-B31F-FEA6A80DE4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рагмент рабочей программы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сциплины</a:t>
            </a:r>
            <a:br>
              <a:rPr sz="3600"/>
            </a:br>
            <a:br>
              <a:rPr sz="3600"/>
            </a:br>
            <a:r>
              <a:rPr b="0" i="1" lang="ru-RU" sz="4000" spc="-1" strike="noStrike">
                <a:solidFill>
                  <a:srgbClr val="3333ff"/>
                </a:solidFill>
                <a:latin typeface="Arial"/>
              </a:rPr>
              <a:t>Инфекционные болезни у дете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я специальности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60103 - «Педиатрия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федра детских инфекционных болезней    ВолгГ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011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УМ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ть анамнез инфекционного больного и эпидемиологический анамнез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ить инфекционного больного в стационар, оформить документац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ь инфекционного больного в стационаре, оформить документацию, осуществить госпитализацию по категориям изоля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людать основные принципы работы у постели инфекционного больного в условиях общего и боксированного детского отделения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ВЛАДЕ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ыками обследования детей с инфекционной патологи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ми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ами оказания неотложной помощ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ами проведения экспертизы временной нетрудо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ой промывания желудка и кише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ой назначения и введения антитоксических сывороток в лечении инфекционных больных …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овая нагрузка на виды учебной деятельности прописывается согласно учебному пл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рс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стры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зачетных единиц –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асов: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9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324 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удитор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/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Лекции 57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28,5 лекц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актические занятия 135 ча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0 занятий по 4,5 ча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Внеаудиторная работа 13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Экзамены 3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800"/>
                </a:solidFill>
                <a:latin typeface="Arial"/>
              </a:rPr>
              <a:t>Самостоятельная работа 96 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держание дисципл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учебных занятий по ви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нфекционные болезни у дет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ая трудоемкость дисциплины составляет 9 зачетных единиц: 192/324   аудиторных/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42920" y="214200"/>
          <a:ext cx="8786880" cy="5850000"/>
        </p:xfrm>
        <a:graphic>
          <a:graphicData uri="http://schemas.openxmlformats.org/drawingml/2006/table">
            <a:tbl>
              <a:tblPr/>
              <a:tblGrid>
                <a:gridCol w="426960"/>
                <a:gridCol w="1830600"/>
                <a:gridCol w="1171440"/>
                <a:gridCol w="1193760"/>
                <a:gridCol w="1654200"/>
                <a:gridCol w="1254240"/>
                <a:gridCol w="1255680"/>
              </a:tblGrid>
              <a:tr h="87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 дисципл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дул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с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аудиторной работы студента и трудоем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стоятельная работа, трудоем-кость в ча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текущего конт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я успеваемости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ежу-точной аттест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и по оконча-нию цик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332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224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ичес-кие практичес-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1224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ушно-капельные инф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ч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бучение, основанное на компетенциях, наиболее эффективно реализуется в форме модульной организ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д модулем поним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целостный набор подлежащих освоению умений, знаний, отношений и опыта (компетенций), описанных в форме требований, которым должен соответствовать обучающийся по завершению модуля, и представляющий составную часть более общей фун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5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дуль 1 ВОЗДУШНО-КАПЕЛЬНЫЕ ИНФ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Лекции</a:t>
            </a:r>
            <a:br>
              <a:rPr sz="2000"/>
            </a:b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143000"/>
          <a:ext cx="8929800" cy="5796000"/>
        </p:xfrm>
        <a:graphic>
          <a:graphicData uri="http://schemas.openxmlformats.org/drawingml/2006/table">
            <a:tbl>
              <a:tblPr/>
              <a:tblGrid>
                <a:gridCol w="743040"/>
                <a:gridCol w="2249280"/>
                <a:gridCol w="4883400"/>
                <a:gridCol w="1054080"/>
              </a:tblGrid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 ле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л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бъем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ред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ведение в специа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лекции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 студентов со специальностью «Инфекционные болезни у детей» у детей, показать значимость проблемы в структуре педиатрической заболеваемости и смертност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лекци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ременное состояние проблемы инфекционных болезней у детей. Роль инфекции в патологии человека. Роль инфекционных заболеваний в структуре детской заболеваемости и смертности, эпидемиологические особенности острых инфекционных заболеваний. Понятие «инфекционный процесс», «инфекционное заболевание», понятие о трех звеньях эпидемической цепи, понятие об антропонозах, зоонозах. Обязанности врача по организации обслуживания ребенка с инфекционными заболеваниями. Основные достижения и дальнейшие перспективы в борьбе с детскими инфекционными заболевания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а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981000"/>
          <a:ext cx="8929800" cy="5732640"/>
        </p:xfrm>
        <a:graphic>
          <a:graphicData uri="http://schemas.openxmlformats.org/drawingml/2006/table">
            <a:tbl>
              <a:tblPr/>
              <a:tblGrid>
                <a:gridCol w="826920"/>
                <a:gridCol w="1354320"/>
                <a:gridCol w="3627360"/>
                <a:gridCol w="839880"/>
                <a:gridCol w="1073160"/>
                <a:gridCol w="1208160"/>
              </a:tblGrid>
              <a:tr h="223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-ние   тем клинических практичес-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-тен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-ятельная аудитор-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-торная работа – виды, объем, 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ts val="2222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ивоч-ный календарь РФ. Реакции и осложнения при проведении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ь занятия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иться составлять прививочный календарь, дифференцировать абсолютные и относительные противопоказания к вакцинации, диагностике реакций и осложнений при проведении вакцинации, их лечен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удент должен зна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Принципы вакцинопрофилактики. Виды и характеристики вакц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Прививочный календарь РФ. Приказ №229 и приложение к приказу №51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Абсолютные и относительные противопоказания к вакцинации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Реакции и осложнения при проведении вакцинации. Леч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-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К-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972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400"/>
            </a:br>
            <a:r>
              <a:rPr b="0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 </a:t>
            </a:r>
            <a:br>
              <a:rPr sz="1600"/>
            </a:b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1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ЗДУШНО-КАПЕЛЬНЫЕ ИНФЕКЦИИ</a:t>
            </a:r>
            <a:br>
              <a:rPr sz="1600"/>
            </a:br>
            <a:r>
              <a:rPr b="1" i="1" lang="ru-RU" sz="1600" spc="-1" strike="noStrike">
                <a:solidFill>
                  <a:srgbClr val="3333ff"/>
                </a:solidFill>
                <a:latin typeface="Arial"/>
              </a:rPr>
              <a:t>Клинические практические занятия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765000"/>
          <a:ext cx="8658360" cy="6180480"/>
        </p:xfrm>
        <a:graphic>
          <a:graphicData uri="http://schemas.openxmlformats.org/drawingml/2006/table">
            <a:tbl>
              <a:tblPr/>
              <a:tblGrid>
                <a:gridCol w="357480"/>
                <a:gridCol w="1143000"/>
                <a:gridCol w="3786120"/>
                <a:gridCol w="1071360"/>
                <a:gridCol w="1143000"/>
                <a:gridCol w="1157400"/>
              </a:tblGrid>
              <a:tr h="182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  тем клиничес-ких практичес-ких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Цель и содержание клинических практических зан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д компетен-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аудитор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773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амостоя-тельная внеаудитор-ная работа – виды, объем, формы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5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оставить индивидуальный календарь профилактических прививок для здорового ребенка и ребенка из группы ри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Определить наличие противопоказаний к прививка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Оформить учебную карту вакцинации ребенка из групп рис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Диагностировать прививочные реакции и осложнения вакцинации и назначить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ыть ознакомл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С устройством и правилами работы кабинета вакцин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Со знанием правил техники проведения вакцинации в поликлинических условиях и коммерческих кабинет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С документами РФ, регламентирующими вакцинацию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9152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ы, выносимые  для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самостоятельного изуч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Х семестре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«Воздушно-капельные инфекции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ff"/>
                </a:solidFill>
                <a:latin typeface="Arial"/>
              </a:rPr>
              <a:t>трудоемкость  - 1 кредитная 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840" y="1197000"/>
          <a:ext cx="8643960" cy="5375160"/>
        </p:xfrm>
        <a:graphic>
          <a:graphicData uri="http://schemas.openxmlformats.org/drawingml/2006/table">
            <a:tbl>
              <a:tblPr/>
              <a:tblGrid>
                <a:gridCol w="644400"/>
                <a:gridCol w="1141560"/>
                <a:gridCol w="3857400"/>
                <a:gridCol w="71460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именование 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Формы выполнения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зн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ологию, эпидемиологию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этапы патогенеза заболевания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клинические симпто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ро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ую и лабораторную диагнос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горитмы лечения с учетом данных доказательной медици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уме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бирать и оценивать анамнез, производить забор материала для бактериологического исследования, оценивать результаты анализов, выписывать рецепты, оформлять экстренное извещение, проводить противоэпидемические мероприятия в оча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ент должен быть ознакомлен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 порядком выписки,нения, учета и назначения медика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-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выполнения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нализ тематической клинической истории болезни и ее презентация в виде  слайдового доклада (по материалам больниц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е (в группе) прослушивание выписки из истории болезни, обсуждение сложностей диагностики, соблюдения стандартов и алгоритмов лечения и диагности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круглого стола по обсуждаемой проблем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582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ГОС 3</a:t>
            </a:r>
            <a:br>
              <a:rPr sz="4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ОС - это стандарты третьего поколения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основе ле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тностный подход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образованию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 рабочей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ая программа разрабатывается на основа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ФГОС ВПО (обязатель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Учебного плана (обязательно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Примерной образовательной программы (при ее налич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чебно-методическое обеспечение дисциплин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1 Основная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2 Дополнительная лит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.3 Методические пособия, рекомендации и т.д., изданные кафед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4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етодические рекомендации для студентов и преподавателей по темам в количестве 60 еди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ально-техническое обеспечение дисциплин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000080"/>
          <a:ext cx="8229600" cy="5000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50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ема лекц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актиче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ьтимедийные презент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Учебные филь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уляжи Мак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Друг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0640">
                <a:tc>
                  <a:txBody>
                    <a:bodyPr lIns="68760" rIns="68760" tIns="0" bIns="0" anchor="ctr">
                      <a:noAutofit/>
                    </a:bodyPr>
                    <a:p>
                      <a:pPr marL="34308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0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цинация, как средство профилакти-ки инфекцион-ных болезней у 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истории болезни, демонстрация больных, информаци-онные и тематические стенды,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Методы и формы организации обучения при разных формах занятий в часах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graphicFrame>
        <p:nvGraphicFramePr>
          <p:cNvPr id="115" name=""/>
          <p:cNvGraphicFramePr/>
          <p:nvPr/>
        </p:nvGraphicFramePr>
        <p:xfrm>
          <a:off x="0" y="0"/>
          <a:ext cx="8893080" cy="6558120"/>
        </p:xfrm>
        <a:graphic>
          <a:graphicData uri="http://schemas.openxmlformats.org/drawingml/2006/table">
            <a:tbl>
              <a:tblPr/>
              <a:tblGrid>
                <a:gridCol w="3789360"/>
                <a:gridCol w="927000"/>
                <a:gridCol w="1782720"/>
                <a:gridCol w="1168560"/>
                <a:gridCol w="1225440"/>
              </a:tblGrid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ие практически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-стоятель-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а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мет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коман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se-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етод конкретных ситуац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ые ролевые игры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ые стол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ение ситуационных зада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й мет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интерактивных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363"/>
          <p:cNvSpPr/>
          <p:nvPr/>
        </p:nvSpPr>
        <p:spPr>
          <a:xfrm>
            <a:off x="0" y="667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«Карта формирования компетенций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24000" y="692280"/>
          <a:ext cx="8435880" cy="5798880"/>
        </p:xfrm>
        <a:graphic>
          <a:graphicData uri="http://schemas.openxmlformats.org/drawingml/2006/table">
            <a:tbl>
              <a:tblPr/>
              <a:tblGrid>
                <a:gridCol w="2109600"/>
                <a:gridCol w="1074600"/>
                <a:gridCol w="2730600"/>
                <a:gridCol w="2521080"/>
              </a:tblGrid>
              <a:tr h="27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Название дисципл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Трудоемкость (в кредита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Компетенции (с формирующими их микроцел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О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ПК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Что должны знать и чем овладеть в результате усвоения учебного материала в соответствии с требованиями ФГОС третьего покол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Times New Roman"/>
                          <a:ea typeface="Times New Roman"/>
                        </a:rPr>
                        <a:t>Методы формирования (формы учебной работы и контрол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Формы учебной работы (лекции, практические (лабораторные) занятия, деловые игры, конференции, круглые столы, проекты, и пр.). Формы контроля (тестирование, задачи (видео, ситуационные, клинические и пр.), решение кроссвордов, составление кроссвордов,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5760">
                      <a:solidFill>
                        <a:srgbClr val="def6f1"/>
                      </a:solidFill>
                    </a:lnT>
                    <a:lnB w="18720">
                      <a:solidFill>
                        <a:srgbClr val="def6f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екционные болезни у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 – 1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К – 1,2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уденты должны овладеть следующими практическими навыкам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учебной работ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и, практические занятия, деловые игры, конференции, круглые стол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контроля: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естирование, задачи ситуационные, клинические и эпидемиологические, написание академических историй болезн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ef6f1"/>
                      </a:solidFill>
                    </a:lnL>
                    <a:lnR w="5760">
                      <a:solidFill>
                        <a:srgbClr val="def6f1"/>
                      </a:solidFill>
                    </a:lnR>
                    <a:lnT w="18720">
                      <a:solidFill>
                        <a:srgbClr val="def6f1"/>
                      </a:solidFill>
                    </a:lnT>
                    <a:lnB w="5760">
                      <a:solidFill>
                        <a:srgbClr val="def6f1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Оценочные средства для текущего контроля успеваемости, промежуточной аттестации по итогам освоения дисциплины и учебно-методическое обеспечение самостоятельной работы студен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ЧЕНЬ ВОПРОСОВ ТЕСТОВОГО КОНТРОЛЯ К ПРОМЕЖУТОЧНОЙ АТТЕСТАЦИИ И ОЦЕНКИ ОСТАТОЧНЫХ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 ПЕРЕЧЕНЬ ВОПРОСОВ  ИТОГОВОГО КОНТР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…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 Методика формирования результирующей оценк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йтинг по дисциплине  формируется на кафедре в соответствии с внутри кафедральным положением о рейтинге. В частности, применяется вторая модель основанная на использовании среднего балла в качестве характеристики текущей работы студента в семестр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й рейтинг по дисципл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052640"/>
          <a:ext cx="8229600" cy="5925960"/>
        </p:xfrm>
        <a:graphic>
          <a:graphicData uri="http://schemas.openxmlformats.org/drawingml/2006/table">
            <a:tbl>
              <a:tblPr/>
              <a:tblGrid>
                <a:gridCol w="358920"/>
                <a:gridCol w="1485720"/>
                <a:gridCol w="819360"/>
                <a:gridCol w="968040"/>
                <a:gridCol w="887400"/>
                <a:gridCol w="1044720"/>
                <a:gridCol w="774720"/>
                <a:gridCol w="909720"/>
                <a:gridCol w="98100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ауди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-ных ча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бал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рмативный рейтин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бал-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с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еж-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душно-капельные инфе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рые кишечные инфекции. Вирусные гепат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инфек-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ч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рейтин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по итогам 3 семест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 Методические рекомендации по организации изучения 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1. Методические рекомендации для преподава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.2. Методические рекомендации для студ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бочая программа «Инфекционные болезней у детей» включа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тульный лист и лист соглас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и и задачи учебной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дисциплины в структуре ООП ВП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егося, формируемые в результат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оения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СОГЛАСОВАНИЯ РАБОЧЕЙ ПРОГРАММЫ С ДРУГИМИ ДИСЦИПЛИНАМИ СПЕЦИАЛЬНОСТ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Педиатр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СТ ВНЕСЕНИЯ ИЗМЕНЕНИЙ И ДОПОЛНЕНИЙ В РАБОЧУЮ ПРОГРА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вап"/>
          <p:cNvPicPr/>
          <p:nvPr/>
        </p:nvPicPr>
        <p:blipFill>
          <a:blip r:embed="rId1"/>
          <a:stretch/>
        </p:blipFill>
        <p:spPr>
          <a:xfrm>
            <a:off x="2341440" y="1600200"/>
            <a:ext cx="445932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освоения дисциплины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фекционные болезн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 д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знаний об основных закономерностях инфекционного процесса по клинической картине инфекционных заболеваний у детей,  методах диагностики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снове изучения основных понятий дисциплины подготовить специалиста для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дисципл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зучение и приобрет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тудентам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знаний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у студентов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умений</a:t>
            </a:r>
            <a:r>
              <a:rPr b="1" i="1" lang="ru-RU" sz="3200" spc="-1" strike="noStrike">
                <a:solidFill>
                  <a:srgbClr val="3333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ормирование </a:t>
            </a:r>
            <a:r>
              <a:rPr b="1" i="1" lang="ru-RU" sz="3600" spc="-1" strike="noStrike">
                <a:solidFill>
                  <a:srgbClr val="3333ff"/>
                </a:solidFill>
                <a:latin typeface="Arial"/>
              </a:rPr>
              <a:t>навыков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налитической работы с информацией..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385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 обучением, основанном на компетенц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нимае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обучение, основанное на определении, освоении и демонстрации знаний, умений, типов поведения и отношений, необходимых для конкретной трудовой деятельности/професс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етенции обучающихся, формируемые в процессе освоения дисциплин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культурные компетен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К-1,ОК-2,ОК-3,ОК-4,ОК-5,ОК-6,ОК-7, ОК-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ОП-1, ОП-2, ОП-3….     ОП-3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Профессиональные компетен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профессиональн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-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филактическая деятельность (ПК 10-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иагност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15-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чебная деятельность (ПК 19-2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абилитационная деятельность (ПК 23-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сихолого-педагогиче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25-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ационно-управленческая деятельность (ПК 27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уч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К 31-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зультате освоения дисциплины обучающийся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ff"/>
                </a:solidFill>
                <a:latin typeface="Arial"/>
              </a:rPr>
              <a:t>ЗНАТ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размещения инфекционных больных в стационарах с целью предупреждения внутрибольничной инфе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 проведения противоэпидемических мероприятий в оча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ущие симптомы детских инфекционных боле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этапы патогенеза инфекционных заболе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у осмотра больного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 обследования больного...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08:22Z</dcterms:created>
  <dc:creator>1</dc:creator>
  <dc:description/>
  <dc:language>en-US</dc:language>
  <cp:lastModifiedBy>LEGION</cp:lastModifiedBy>
  <dcterms:modified xsi:type="dcterms:W3CDTF">2015-11-27T12:50:09Z</dcterms:modified>
  <cp:revision>72</cp:revision>
  <dc:subject/>
  <dc:title>ФГСО 3</dc:title>
</cp:coreProperties>
</file>