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2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2B115-A760-4761-A3DD-13D3F9A13EFB}" type="slidenum">
              <a:rPr b="0" lang="uk-UA" sz="12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Лазерная медиц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Лазерная медицина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Глубина воздей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Глубина воздействия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Фотобиологический эффе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Фотобиологический эффект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овые характерис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щность [Вт], [Вт/см2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ергия [Дж]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 = P *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тность энергии[Дж/см2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/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Силовые характеристики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Мощность [Вт], [Вт/см2]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Энергия [Дж]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W = P * 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Плотность энергии[Дж/см2]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W/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«Мустанг 20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«Мустанг 2000»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пектр терапевтических лазе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Спектр терапевтических лазеров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«Мустанг 20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«Мустанг 2000»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«Мустанг 20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«Мустанг 2000»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«Мула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«Мулат»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Л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ВЛОК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Л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0.63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m, 1 – 5 mW, 5 minuts, 3.5 – 7 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ВЛОК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0.63 </a:t>
            </a:r>
            <a:r>
              <a:rPr b="0" lang="pl-PL" sz="1200" spc="-1" strike="noStrike">
                <a:solidFill>
                  <a:srgbClr val="1f497d"/>
                </a:solidFill>
                <a:latin typeface="Comic Sans MS"/>
              </a:rPr>
              <a:t>nm, 1 – 5 mW, 5 minuts, 3.5 – 7 J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на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апевтический лаз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рургический лаз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тодинамическая терап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зерная диагнос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Основные направления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Терапевтический лазер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Хирургический лазер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Фотодинамическая терапия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Лазерная диагностика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Зеркальная насад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Зеркальная насадка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Уретральная насад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Уретральная насадка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тодинамическая терап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ная деструкция тка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тосенсибилизатор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тогем 630 н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тосенс 670 н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нзопорфирин 69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дохлорин 700 н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Фотодинамическая терапия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Направленная деструкция тканей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Фотосенсибилизаторы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Фотогем 630 нм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Фотосенс 670 нм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Бензопорфирин 69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Радохлорин 700 нм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зерная диагнос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ая лазерная капилляроскоп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луоресцентная лазерное определение границ накопления фотосенсибилизат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плерографическая флоуметрия для оценки микроциркуля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ческий когерентный томогра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Лазерная диагностика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Компьютерная лазерная капилляроскопия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Флуоресцентная лазерное определение границ накопления фотосенсибилизатора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Допплерографическая флоуметрия для оценки микроциркуляции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Оптический когерентный томограф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омпьютерная лазерная капилляроскоп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Компьютерная лазерная капилляроскопия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Допплерографическая флоуметр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Допплерографическая флоуметрия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плерографическая флоумет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инвазивная диагностика притока и оттока крови, контроль функционирования механизмов регуляции микроциркуляции кров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тивный контроль эффективности лазерной и физиотерапии до, в процессе и после лечебного сеан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ботка оптимальных режимов лазерного лечебного воздействия при разработке методических рекомендаций по применению лазеротерап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Допплерографическая флоуметрия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• </a:t>
            </a: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неинвазивная диагностика притока и оттока крови, контроль функционирования механизмов регуляции микроциркуляции крови;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• </a:t>
            </a: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оперативный контроль эффективности лазерной и физиотерапии до, в процессе и после лечебного сеанса;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• </a:t>
            </a: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отработка оптимальных режимов лазерного лечебного воздействия при разработке методических рекомендаций по применению лазеротерапии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плерографическая флоумет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НОЕ ОБЕСПЕЧЕНИЕ К АНАЛИЗАТОРУ ЛАКК-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базы данны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чет с применением математического аппарата Bейвлет-преобразования амплитуд и частот колебаний кровотока, связанных с эндотелиальной, нейрогенной и миогенной активностью, а также респираторных и сердечных ритм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чет функциональных тес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Допплерографическая флоуметрия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ПРОГРАММНОЕ ОБЕСПЕЧЕНИЕ К АНАЛИЗАТОРУ ЛАКК-0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• </a:t>
            </a: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формирование базы данных;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• </a:t>
            </a: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расчет с применением математического аппарата Bейвлет-преобразования амплитуд и частот колебаний кровотока, связанных с эндотелиальной, нейрогенной и миогенной активностью, а также респираторных и сердечных ритмов;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• </a:t>
            </a: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расчет функциональных тестов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охромат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 = dL/L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монохромати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зовые 10-3 – 10-4 н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ердотельные 10-1 – 10-2 н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проводниковые 1 – 10 н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Монохроматичность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СМ = dL/L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Степень монохроматичности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Газовые 10-3 – 10-4 нм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Твердотельные 10-1 – 10-2 нм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Полупроводниковые 1 – 10 нм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зерный скальп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фические эффе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моста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ктерицид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стимулирующ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Лазерный скальпель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Специфические эффекты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Гемостатический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Бактерицидный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Биостимулирующий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на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бинация СО2  (10,6 мкм) и НИЛИ – пилот (0,64 мкм). Лучи фокусируются в одну точку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Система наведения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Комбинация СО2  (10,6 мкм) и НИЛИ – пилот (0,64 мкм). Лучи фокусируются в одну точку. 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«Portable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1f497d"/>
                </a:solidFill>
                <a:latin typeface="Comic Sans MS"/>
              </a:rPr>
              <a:t>«Portable»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onderful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1f497d"/>
                </a:solidFill>
                <a:latin typeface="Comic Sans MS"/>
              </a:rPr>
              <a:t>“</a:t>
            </a:r>
            <a:r>
              <a:rPr b="0" lang="pl-PL" sz="1200" spc="-1" strike="noStrike">
                <a:solidFill>
                  <a:srgbClr val="1f497d"/>
                </a:solidFill>
                <a:latin typeface="Comic Sans MS"/>
              </a:rPr>
              <a:t>Wonderful”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Эксимер лаз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Эксимер лазер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Без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Безопасность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Без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Безопасность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Без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Безопасность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кция «Лазерная медицин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а 17.12.2003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: Исупов А.Б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лефон: (343)376919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222072939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-mail: charoky@r66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йбеков И.М. «Морфологические основы низкоинтенсивной лазеротерапии» «Ибн Сина» Ташкент 199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сквин С.В. «Внутривенное лазерное облучение крови» «Техника» М. 20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усев В.Г. «Физические методы и технические средства для лечебных воздействий» Уфа 20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Лекция «Лазерная медицина»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создана 17.12.2003</a:t>
            </a:r>
            <a:br>
              <a:rPr sz="1200"/>
            </a:b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Автор: Исупов А.Б.</a:t>
            </a:r>
            <a:br>
              <a:rPr sz="1200"/>
            </a:b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Телефон: (343)3769193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	</a:t>
            </a: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	</a:t>
            </a: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	</a:t>
            </a: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9222072939</a:t>
            </a:r>
            <a:br>
              <a:rPr sz="1200"/>
            </a:b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E-mail: charoky@r66.ru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Литература: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Байбеков И.М. «Морфологические основы низкоинтенсивной лазеротерапии» «Ибн Сина» Ташкент 1991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Москвин С.В. «Внутривенное лазерное облучение крови» «Техника» М. 2003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Гусев В.Г. «Физические методы и технические средства для лечебных воздействий» Уфа 2001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охромат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ая степень монохроматичности лазерного излучения определяет высокую спектральную плотность энергии - высокую степень концентрации световой энергии в очень малом спектральном интервале. Высокая монохроматичность облегчает фокусировку лазерного излучения, поскольку при этом хроматическая аберрация линзы становится несуществен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Монохроматичность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Высокая степень монохроматичности лазерного излучения определяет высокую спектральную плотность энергии - высокую степень концентрации световой энергии в очень малом спектральном интервале. Высокая монохроматичность облегчает фокусировку лазерного излучения, поскольку при этом хроматическая аберрация линзы становится несущественной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ерент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зеры обладают чрезвычайно высокой по сравнению с другими источниками света степенью когерентности излучения, временной и пространствен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работе лазера в одномодовом режиме достигается полная пространственная когерентность, что определяет высокую направленность лазерного излучения и делает возможным его фокусировку в пятно чрезвычайно малых размеров (порядка длины волн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Когерентность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Лазеры обладают чрезвычайно высокой по сравнению с другими источниками света степенью когерентности излучения, временной и пространственной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При работе лазера в одномодовом режиме достигается полная пространственная когерентность, что определяет высокую направленность лазерного излучения и делает возможным его фокусировку в пятно чрезвычайно малых размеров (порядка длины волны)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ерент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глубине более 200 мкм излучение теряет когерент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Когерентность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На глубине более 200 мкм излучение теряет когерентность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оляр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Определяется технологией изгото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Поляризация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Определяется технологией изготовления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ность лазерного излучения во многом определяется тем, что в открытом резонаторе могут возбуждаться только такие волны, которые направлены по оси резонатора или под очень малыми углами к ней. При высокой степени пространственной когерентности угол расходимости лазерного луча может быть сделан близким к пределу, определяемому дифракц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Направленность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Направленность лазерного излучения во многом определяется тем, что в открытом резонаторе могут возбуждаться только такие волны, которые направлены по оси резонатора или под очень малыми углами к ней. При высокой степени пространственной когерентности угол расходимости лазерного луча может быть сделан близким к пределу, определяемому дифракцией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ходимость пуч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зовые 1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ердотельные 10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проводниковые 1о – 10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ньшить расходимость можно с помощью коллимирующих устрой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Направленность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Расходимость пучка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Газовые 1’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Твердотельные 10’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Полупроводниковые 1о – 10о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Уменьшить расходимость можно с помощью коллимирующих устройств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3E21-91E5-4C9E-BE93-94E485CCC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1B06-FE52-431B-ACE5-6659DB001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D6B8-FEF8-4098-994D-35E983C00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6575-84CF-4501-BC93-359FD4C06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90D59-9583-43EA-945D-9FC7D119F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CE5B2-EA2A-4D91-A1CE-40FB2EEF6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54334-5EE6-45B0-9AAA-7B775871C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662B8-715F-4009-8147-263F3895F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0B1B1-5E8C-4AC1-8BD6-E63C68E04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D17DA-EB52-45B1-B694-121D6FDE1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76F61-0022-48EF-A8A9-C25CDD85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9885-0B79-453C-8C18-2DEC68BAC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F6DF1-FCB2-4243-BBE7-9F04A372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D5761-4A36-458E-BA0F-CA303AA8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2ED36-351C-45CB-A941-B464A6CF0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82B16-4145-469C-9D2D-6B30267B0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B4371-4DBD-4328-92F1-964B32AC2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D015-3B17-45D3-83A9-3B87DA826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D184-6B85-4561-941E-0EA9290CB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97E8-0DEF-497F-86F6-B817E33BE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5C2F-0A21-4AA9-9389-54E538780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2743-DB3A-49EC-835D-C5E27CEA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DE54-5CF9-41C3-B06B-D59AB01A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8B54-C84E-4472-9075-D08F3CEA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9BD59-96FE-4B55-9282-8F079480010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CD9D8-2CE1-4B10-815E-16A9A9C8CCF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mailto:charoky@r66.ru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omic Sans MS"/>
              </a:rPr>
              <a:t>Лазерная медицин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15" descr="Световод"/>
          <p:cNvPicPr/>
          <p:nvPr/>
        </p:nvPicPr>
        <p:blipFill>
          <a:blip r:embed="rId1"/>
          <a:stretch/>
        </p:blipFill>
        <p:spPr>
          <a:xfrm>
            <a:off x="1258920" y="836640"/>
            <a:ext cx="6551640" cy="579132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Глубина воздейств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3" descr="Глубина"/>
          <p:cNvPicPr/>
          <p:nvPr/>
        </p:nvPicPr>
        <p:blipFill>
          <a:blip r:embed="rId1">
            <a:lum contrast="12000"/>
          </a:blip>
          <a:srcRect l="0" t="0" r="0" b="6558"/>
          <a:stretch/>
        </p:blipFill>
        <p:spPr>
          <a:xfrm>
            <a:off x="468360" y="1413000"/>
            <a:ext cx="8281800" cy="4887720"/>
          </a:xfrm>
          <a:prstGeom prst="rect">
            <a:avLst/>
          </a:prstGeom>
          <a:ln w="0">
            <a:noFill/>
          </a:ln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Фотобиологический эффек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9" descr="Мощность_Эффект"/>
          <p:cNvPicPr/>
          <p:nvPr/>
        </p:nvPicPr>
        <p:blipFill>
          <a:blip r:embed="rId1"/>
          <a:srcRect l="0" t="0" r="0" b="12474"/>
          <a:stretch/>
        </p:blipFill>
        <p:spPr>
          <a:xfrm>
            <a:off x="611280" y="907920"/>
            <a:ext cx="7848360" cy="559440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иловые характеристи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3" descr="Энергия"/>
          <p:cNvPicPr/>
          <p:nvPr/>
        </p:nvPicPr>
        <p:blipFill>
          <a:blip r:embed="rId1"/>
          <a:stretch/>
        </p:blipFill>
        <p:spPr>
          <a:xfrm>
            <a:off x="250920" y="1268280"/>
            <a:ext cx="2779560" cy="530064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3203640" y="1413000"/>
            <a:ext cx="5689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Мощность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[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Вт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]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[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Вт/с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Энергия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[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Дж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]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 = P * 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лотность энергии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[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Дж/см2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«Мустанг 2000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5" descr="Мустанг"/>
          <p:cNvPicPr/>
          <p:nvPr/>
        </p:nvPicPr>
        <p:blipFill>
          <a:blip r:embed="rId1"/>
          <a:stretch/>
        </p:blipFill>
        <p:spPr>
          <a:xfrm>
            <a:off x="539640" y="995400"/>
            <a:ext cx="8209080" cy="586260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пектр терапевтических лазеро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3" descr="Спектр"/>
          <p:cNvPicPr/>
          <p:nvPr/>
        </p:nvPicPr>
        <p:blipFill>
          <a:blip r:embed="rId1"/>
          <a:srcRect l="0" t="0" r="0" b="67595"/>
          <a:stretch/>
        </p:blipFill>
        <p:spPr>
          <a:xfrm>
            <a:off x="250920" y="1268280"/>
            <a:ext cx="2952720" cy="22622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Спектр"/>
          <p:cNvPicPr/>
          <p:nvPr/>
        </p:nvPicPr>
        <p:blipFill>
          <a:blip r:embed="rId2"/>
          <a:srcRect l="0" t="66685" r="0" b="0"/>
          <a:stretch/>
        </p:blipFill>
        <p:spPr>
          <a:xfrm>
            <a:off x="6156360" y="1268280"/>
            <a:ext cx="2808360" cy="2213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9" descr="Спектр"/>
          <p:cNvPicPr/>
          <p:nvPr/>
        </p:nvPicPr>
        <p:blipFill>
          <a:blip r:embed="rId3"/>
          <a:srcRect l="0" t="32363" r="0" b="33822"/>
          <a:stretch/>
        </p:blipFill>
        <p:spPr>
          <a:xfrm>
            <a:off x="3276720" y="1268280"/>
            <a:ext cx="2808000" cy="224640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468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«Мустанг 2000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9" descr="Мустанг2000_1"/>
          <p:cNvPicPr/>
          <p:nvPr/>
        </p:nvPicPr>
        <p:blipFill>
          <a:blip r:embed="rId1"/>
          <a:stretch/>
        </p:blipFill>
        <p:spPr>
          <a:xfrm>
            <a:off x="539640" y="907920"/>
            <a:ext cx="8425080" cy="569772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«Мустанг 2000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9" descr="Мустанг2000"/>
          <p:cNvPicPr/>
          <p:nvPr/>
        </p:nvPicPr>
        <p:blipFill>
          <a:blip r:embed="rId1"/>
          <a:stretch/>
        </p:blipFill>
        <p:spPr>
          <a:xfrm>
            <a:off x="324000" y="981000"/>
            <a:ext cx="8640720" cy="5210280"/>
          </a:xfrm>
          <a:prstGeom prst="rect">
            <a:avLst/>
          </a:prstGeom>
          <a:ln w="0">
            <a:noFill/>
          </a:ln>
        </p:spPr>
      </p:pic>
      <p:sp>
        <p:nvSpPr>
          <p:cNvPr id="2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«Мулат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9" descr="Мулат"/>
          <p:cNvPicPr/>
          <p:nvPr/>
        </p:nvPicPr>
        <p:blipFill>
          <a:blip r:embed="rId1"/>
          <a:stretch/>
        </p:blipFill>
        <p:spPr>
          <a:xfrm>
            <a:off x="1258920" y="981000"/>
            <a:ext cx="6985080" cy="553428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ЛО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9" descr="ВЛОК2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50920" y="1052640"/>
            <a:ext cx="8642160" cy="520992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ЛО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9" descr="ВЛОК1"/>
          <p:cNvPicPr/>
          <p:nvPr/>
        </p:nvPicPr>
        <p:blipFill>
          <a:blip r:embed="rId1">
            <a:lum contrast="24000"/>
          </a:blip>
          <a:srcRect l="0" t="0" r="31949" b="0"/>
          <a:stretch/>
        </p:blipFill>
        <p:spPr>
          <a:xfrm>
            <a:off x="250920" y="981000"/>
            <a:ext cx="8642160" cy="360864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11"/>
          <p:cNvSpPr/>
          <p:nvPr/>
        </p:nvSpPr>
        <p:spPr>
          <a:xfrm>
            <a:off x="250920" y="501336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0.63 nm,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1 – 5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W, 5 minuts, 3.5 – 7 J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сновные направле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250920" y="1413000"/>
            <a:ext cx="864216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Терапевтический лазер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Хирургический лазер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Фотодинамическая терапия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Лазерная диагностика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еркальная насад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3" descr="Насодка_зеркало"/>
          <p:cNvPicPr/>
          <p:nvPr/>
        </p:nvPicPr>
        <p:blipFill>
          <a:blip r:embed="rId1"/>
          <a:stretch/>
        </p:blipFill>
        <p:spPr>
          <a:xfrm>
            <a:off x="755640" y="1031760"/>
            <a:ext cx="7848720" cy="5826240"/>
          </a:xfrm>
          <a:prstGeom prst="rect">
            <a:avLst/>
          </a:prstGeom>
          <a:ln w="0">
            <a:noFill/>
          </a:ln>
        </p:spPr>
      </p:pic>
      <p:sp>
        <p:nvSpPr>
          <p:cNvPr id="2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9" descr="Насодка106"/>
          <p:cNvPicPr/>
          <p:nvPr/>
        </p:nvPicPr>
        <p:blipFill>
          <a:blip r:embed="rId1"/>
          <a:stretch/>
        </p:blipFill>
        <p:spPr>
          <a:xfrm>
            <a:off x="250920" y="260280"/>
            <a:ext cx="8713800" cy="31082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1" descr="Насодка105"/>
          <p:cNvPicPr/>
          <p:nvPr/>
        </p:nvPicPr>
        <p:blipFill>
          <a:blip r:embed="rId2"/>
          <a:stretch/>
        </p:blipFill>
        <p:spPr>
          <a:xfrm>
            <a:off x="250920" y="3573360"/>
            <a:ext cx="8642160" cy="222588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Уретральная насад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3" descr="Насодка109"/>
          <p:cNvPicPr/>
          <p:nvPr/>
        </p:nvPicPr>
        <p:blipFill>
          <a:blip r:embed="rId1"/>
          <a:stretch/>
        </p:blipFill>
        <p:spPr>
          <a:xfrm>
            <a:off x="250920" y="1268280"/>
            <a:ext cx="8642160" cy="1754280"/>
          </a:xfrm>
          <a:prstGeom prst="rect">
            <a:avLst/>
          </a:prstGeom>
          <a:ln w="0">
            <a:noFill/>
          </a:ln>
        </p:spPr>
      </p:pic>
      <p:sp>
        <p:nvSpPr>
          <p:cNvPr id="2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5" descr="Насодка110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25747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" descr="Насодка108"/>
          <p:cNvPicPr/>
          <p:nvPr/>
        </p:nvPicPr>
        <p:blipFill>
          <a:blip r:embed="rId2"/>
          <a:stretch/>
        </p:blipFill>
        <p:spPr>
          <a:xfrm>
            <a:off x="250920" y="4443480"/>
            <a:ext cx="4105080" cy="24145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1" descr="Насодка111"/>
          <p:cNvPicPr/>
          <p:nvPr/>
        </p:nvPicPr>
        <p:blipFill>
          <a:blip r:embed="rId3"/>
          <a:stretch/>
        </p:blipFill>
        <p:spPr>
          <a:xfrm>
            <a:off x="250920" y="2852640"/>
            <a:ext cx="6049800" cy="1449360"/>
          </a:xfrm>
          <a:prstGeom prst="rect">
            <a:avLst/>
          </a:prstGeom>
          <a:ln w="0">
            <a:noFill/>
          </a:ln>
        </p:spPr>
      </p:pic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Фотодинамическая терап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250920" y="1268280"/>
            <a:ext cx="864216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Comic Sans MS"/>
              </a:rPr>
              <a:t>Направленная деструкция тканей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Фотосенсибилизаторы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Фотогем 630 нм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Фотосенс 670 нм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Бензопорфирин 690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Радохлорин 700 нм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Лазерная диагности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250920" y="1413000"/>
            <a:ext cx="864216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Компьютерная лазерная капилляроскопия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Флуоресцентная лазерное определение границ накопления фотосенсибилизатора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Допплерографическая флоуметрия для оценки микроциркуляции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Оптический когерентный томограф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Компьютерная лазерная капилляроскоп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5" descr="Эритроцит"/>
          <p:cNvPicPr/>
          <p:nvPr/>
        </p:nvPicPr>
        <p:blipFill>
          <a:blip r:embed="rId1"/>
          <a:srcRect l="0" t="0" r="1817" b="0"/>
          <a:stretch/>
        </p:blipFill>
        <p:spPr>
          <a:xfrm>
            <a:off x="2340000" y="1700280"/>
            <a:ext cx="4464000" cy="4608360"/>
          </a:xfrm>
          <a:prstGeom prst="rect">
            <a:avLst/>
          </a:prstGeom>
          <a:ln w="0">
            <a:noFill/>
          </a:ln>
        </p:spPr>
      </p:pic>
      <p:sp>
        <p:nvSpPr>
          <p:cNvPr id="2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Допплерографическая флоуметрия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5" descr="Лазма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476360" y="1916280"/>
            <a:ext cx="6337440" cy="438444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Допплерографическая флоуметр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250920" y="1700280"/>
            <a:ext cx="864216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неинвазивная диагностика притока и оттока крови, контроль функционирования механизмов регуляции микроциркуляции крови;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оперативный контроль эффективности лазерной и физиотерапии до, в процессе и после лечебного сеанса;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отработка оптимальных режимов лазерного лечебного воздействия при разработке методических рекомендаций по применению лазеротерапии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Допплерографическая флоуметр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250920" y="2133720"/>
            <a:ext cx="864216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ПРОГРАММНОЕ ОБЕСПЕЧЕНИЕ К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АНАЛИЗАТОРУ ЛАКК-0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•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формирование базы данных;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расчет с применением математического аппарата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ейвлет-преобразования амплитуд и частот колебаний кровотока, связанных с эндотелиальной, нейрогенной и миогенной активностью, а также респираторных и сердечных ритмов;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расчет функциональных тестов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Монохроматич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1187280" y="2708280"/>
            <a:ext cx="619308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3300"/>
                </a:solidFill>
                <a:latin typeface="Courier New"/>
              </a:rPr>
              <a:t>СМ =</a:t>
            </a:r>
            <a:r>
              <a:rPr b="0" lang="en-US" sz="6600" spc="-1" strike="noStrike">
                <a:solidFill>
                  <a:srgbClr val="ff3300"/>
                </a:solidFill>
                <a:latin typeface="Courier New"/>
              </a:rPr>
              <a:t> dL</a:t>
            </a:r>
            <a:r>
              <a:rPr b="0" lang="ru-RU" sz="6600" spc="-1" strike="noStrike">
                <a:solidFill>
                  <a:srgbClr val="ff3300"/>
                </a:solidFill>
                <a:latin typeface="Courier New"/>
              </a:rPr>
              <a:t>/</a:t>
            </a:r>
            <a:r>
              <a:rPr b="0" lang="en-US" sz="6600" spc="-1" strike="noStrike">
                <a:solidFill>
                  <a:srgbClr val="ff3300"/>
                </a:solidFill>
                <a:latin typeface="Courier New"/>
              </a:rPr>
              <a:t>L</a:t>
            </a:r>
            <a:r>
              <a:rPr b="0" lang="ru-RU" sz="6600" spc="-1" strike="noStrike" baseline="-25000">
                <a:solidFill>
                  <a:srgbClr val="ff3300"/>
                </a:solidFill>
                <a:latin typeface="Courier New"/>
              </a:rPr>
              <a:t>0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971640" y="2133720"/>
            <a:ext cx="590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Comic Sans MS"/>
              </a:rPr>
              <a:t>Степень монохроматичности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900000" y="4083120"/>
            <a:ext cx="7417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Газовые 10</a:t>
            </a:r>
            <a:r>
              <a:rPr b="0" lang="ru-RU" sz="3200" spc="-1" strike="noStrike" baseline="30000">
                <a:solidFill>
                  <a:srgbClr val="86d1ec"/>
                </a:solidFill>
                <a:latin typeface="Comic Sans MS"/>
              </a:rPr>
              <a:t>-3 </a:t>
            </a: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– 10</a:t>
            </a:r>
            <a:r>
              <a:rPr b="0" lang="ru-RU" sz="3200" spc="-1" strike="noStrike" baseline="30000">
                <a:solidFill>
                  <a:srgbClr val="86d1ec"/>
                </a:solidFill>
                <a:latin typeface="Comic Sans MS"/>
              </a:rPr>
              <a:t>-4 </a:t>
            </a: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нм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Твердотельные 10</a:t>
            </a:r>
            <a:r>
              <a:rPr b="0" lang="ru-RU" sz="3200" spc="-1" strike="noStrike" baseline="30000">
                <a:solidFill>
                  <a:srgbClr val="86d1ec"/>
                </a:solidFill>
                <a:latin typeface="Comic Sans MS"/>
              </a:rPr>
              <a:t>-1</a:t>
            </a: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 – 10</a:t>
            </a:r>
            <a:r>
              <a:rPr b="0" lang="ru-RU" sz="3200" spc="-1" strike="noStrike" baseline="30000">
                <a:solidFill>
                  <a:srgbClr val="86d1ec"/>
                </a:solidFill>
                <a:latin typeface="Comic Sans MS"/>
              </a:rPr>
              <a:t>-2</a:t>
            </a: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 нм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Полупроводниковые 1 – 10 нм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Лазерный скальпел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250920" y="2060640"/>
            <a:ext cx="86421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Специфические эффекты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Гемостатический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Бактерицидный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Биостимулирующий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истема наведе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250920" y="1557360"/>
            <a:ext cx="864216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Comic Sans MS"/>
              </a:rPr>
              <a:t>Комбинация СО</a:t>
            </a:r>
            <a:r>
              <a:rPr b="0" lang="ru-RU" sz="3200" spc="-1" strike="noStrike" baseline="-25000">
                <a:solidFill>
                  <a:srgbClr val="ff3300"/>
                </a:solidFill>
                <a:latin typeface="Comic Sans MS"/>
              </a:rPr>
              <a:t>2  </a:t>
            </a:r>
            <a:r>
              <a:rPr b="0" lang="ru-RU" sz="3200" spc="-1" strike="noStrike">
                <a:solidFill>
                  <a:srgbClr val="ff3300"/>
                </a:solidFill>
                <a:latin typeface="Comic Sans MS"/>
              </a:rPr>
              <a:t>(10,6 мкм) и НИЛИ – пилот (0,64 мкм). Лучи фокусируются в одну точку. 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«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ortable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3" descr="File0073"/>
          <p:cNvPicPr/>
          <p:nvPr/>
        </p:nvPicPr>
        <p:blipFill>
          <a:blip r:embed="rId1"/>
          <a:stretch/>
        </p:blipFill>
        <p:spPr>
          <a:xfrm>
            <a:off x="611280" y="907920"/>
            <a:ext cx="4160880" cy="5950080"/>
          </a:xfrm>
          <a:prstGeom prst="rect">
            <a:avLst/>
          </a:prstGeom>
          <a:ln w="0">
            <a:noFill/>
          </a:ln>
        </p:spPr>
      </p:pic>
      <p:sp>
        <p:nvSpPr>
          <p:cNvPr id="2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11280" y="27756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onderful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5" descr="File0074"/>
          <p:cNvPicPr/>
          <p:nvPr/>
        </p:nvPicPr>
        <p:blipFill>
          <a:blip r:embed="rId1"/>
          <a:stretch/>
        </p:blipFill>
        <p:spPr>
          <a:xfrm>
            <a:off x="250920" y="189000"/>
            <a:ext cx="1962000" cy="6408720"/>
          </a:xfrm>
          <a:prstGeom prst="rect">
            <a:avLst/>
          </a:prstGeom>
          <a:ln w="0">
            <a:noFill/>
          </a:ln>
        </p:spPr>
      </p:pic>
      <p:sp>
        <p:nvSpPr>
          <p:cNvPr id="2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Эксимер лазе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Picture 5" descr="LaserScan"/>
          <p:cNvPicPr/>
          <p:nvPr/>
        </p:nvPicPr>
        <p:blipFill>
          <a:blip r:embed="rId1"/>
          <a:stretch/>
        </p:blipFill>
        <p:spPr>
          <a:xfrm>
            <a:off x="971640" y="1125360"/>
            <a:ext cx="3894120" cy="5543640"/>
          </a:xfrm>
          <a:prstGeom prst="rect">
            <a:avLst/>
          </a:prstGeom>
          <a:ln w="0">
            <a:noFill/>
          </a:ln>
        </p:spPr>
      </p:pic>
      <p:sp>
        <p:nvSpPr>
          <p:cNvPr id="2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Безопас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5" descr="File0007"/>
          <p:cNvPicPr/>
          <p:nvPr/>
        </p:nvPicPr>
        <p:blipFill>
          <a:blip r:embed="rId1"/>
          <a:srcRect l="16242" t="0" r="0" b="0"/>
          <a:stretch/>
        </p:blipFill>
        <p:spPr>
          <a:xfrm>
            <a:off x="755640" y="1484280"/>
            <a:ext cx="7704000" cy="41180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6" descr="File0013"/>
          <p:cNvPicPr/>
          <p:nvPr/>
        </p:nvPicPr>
        <p:blipFill>
          <a:blip r:embed="rId2"/>
          <a:stretch/>
        </p:blipFill>
        <p:spPr>
          <a:xfrm>
            <a:off x="6948360" y="620640"/>
            <a:ext cx="695520" cy="554040"/>
          </a:xfrm>
          <a:prstGeom prst="rect">
            <a:avLst/>
          </a:prstGeom>
          <a:ln w="0">
            <a:noFill/>
          </a:ln>
        </p:spPr>
      </p:pic>
      <p:sp>
        <p:nvSpPr>
          <p:cNvPr id="2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Безопас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6" descr="File0008"/>
          <p:cNvPicPr/>
          <p:nvPr/>
        </p:nvPicPr>
        <p:blipFill>
          <a:blip r:embed="rId1"/>
          <a:srcRect l="13284" t="0" r="0" b="0"/>
          <a:stretch/>
        </p:blipFill>
        <p:spPr>
          <a:xfrm>
            <a:off x="468360" y="1557360"/>
            <a:ext cx="8424720" cy="3612960"/>
          </a:xfrm>
          <a:prstGeom prst="rect">
            <a:avLst/>
          </a:prstGeom>
          <a:ln w="0">
            <a:noFill/>
          </a:ln>
        </p:spPr>
      </p:pic>
      <p:sp>
        <p:nvSpPr>
          <p:cNvPr id="2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Безопас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Picture 5" descr="File0009"/>
          <p:cNvPicPr/>
          <p:nvPr/>
        </p:nvPicPr>
        <p:blipFill>
          <a:blip r:embed="rId1"/>
          <a:srcRect l="15509" t="0" r="0" b="0"/>
          <a:stretch/>
        </p:blipFill>
        <p:spPr>
          <a:xfrm>
            <a:off x="395280" y="1844640"/>
            <a:ext cx="8497800" cy="3429000"/>
          </a:xfrm>
          <a:prstGeom prst="rect">
            <a:avLst/>
          </a:prstGeom>
          <a:ln w="0">
            <a:noFill/>
          </a:ln>
        </p:spPr>
      </p:pic>
      <p:sp>
        <p:nvSpPr>
          <p:cNvPr id="2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Лекция «Лазерная медицин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179280" y="836640"/>
            <a:ext cx="8964720" cy="531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создана 17.12.2003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Автор: Исупов А.Б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Телефон: (343)3769193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9222072939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-mail: </a:t>
            </a:r>
            <a:r>
              <a:rPr b="0" lang="en-US" sz="2800" spc="-1" strike="noStrike" u="sng">
                <a:solidFill>
                  <a:srgbClr val="86d1ec"/>
                </a:solidFill>
                <a:uFillTx/>
                <a:latin typeface="Comic Sans MS"/>
                <a:hlinkClick r:id="rId1"/>
              </a:rPr>
              <a:t>charoky@r66.ru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Литература: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Байбеков И.М. «Морфологические основы низкоинтенсивной лазеротерапии» «Ибн Сина» Ташкент 1991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Москвин С.В. «Внутривенное лазерное облучение крови» «Техника» М. 2003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Гусев В.Г. «Физические методы и технические средства для лечебных воздействий» Уфа 2001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Монохроматич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сокая степень монохроматичности лазерного излучения определяет высокую спектральную плотность энергии - высокую степень концентрации световой энергии в очень малом спектральном интервале. Высокая монохроматичность облегчает фокусировку лазерного излучения, поскольку при этом хроматическая аберрация линзы становится несущественн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Когерент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азеры обладают чрезвычайно высокой по сравнению с другими источниками света степенью когерентности излучения, временной и пространственн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работе лазера в одномодовом режиме достигается полная пространственная когерентность, что определяет высокую направленность лазерного излучения и делает возможным его фокусировку в пятно чрезвычайно малых размеров (порядка длины волны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Когерент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250920" y="1268280"/>
            <a:ext cx="86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На глубине более 200 мкм излучение теряет когерентность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8" name="Picture 4" descr="Рассеяние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24000" y="2421000"/>
            <a:ext cx="8569080" cy="438444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Поляризац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250920" y="141300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Определяется технологией изготовления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Направлен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правленность лазерного излучения во многом определяется тем, что в открытом резонаторе могут возбуждаться только такие волны, которые направлены по оси резонатора или под очень малыми углами к ней. При высокой степени пространственной когерентности угол расходимости лазерного луча может быть сделан близким к пределу, определяемому дифракци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Направлен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250920" y="1268280"/>
            <a:ext cx="86421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Расходимость пучка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Газовые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1’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Твердотельные 10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’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Полупроводниковые 1</a:t>
            </a:r>
            <a:r>
              <a:rPr b="0" lang="ru-RU" sz="3200" spc="-1" strike="noStrike" baseline="30000">
                <a:solidFill>
                  <a:srgbClr val="ffffff"/>
                </a:solidFill>
                <a:latin typeface="Comic Sans MS"/>
              </a:rPr>
              <a:t>о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– 10</a:t>
            </a:r>
            <a:r>
              <a:rPr b="0" lang="ru-RU" sz="3200" spc="-1" strike="noStrike" baseline="30000">
                <a:solidFill>
                  <a:srgbClr val="ffffff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250920" y="5013360"/>
            <a:ext cx="86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Уменьшить расходимость можно с помощью коллимирующих устройств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3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7T08:29:15Z</dcterms:created>
  <dc:creator>Исупов Андрей Борисович</dc:creator>
  <dc:description>лекция курс"Медицинские приборы, аппараты и системы"</dc:description>
  <dc:language>en-US</dc:language>
  <cp:lastModifiedBy>LEGION</cp:lastModifiedBy>
  <dcterms:modified xsi:type="dcterms:W3CDTF">2015-11-27T12:50:24Z</dcterms:modified>
  <cp:revision>138</cp:revision>
  <dc:subject/>
  <dc:title>Лазерная медицина</dc:title>
</cp:coreProperties>
</file>