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656C-BFCC-48F9-A23F-07494A8BA029}" type="slidenum">
              <a:rPr b="0" lang="uk-UA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азерная 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Лазерная медицин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лубина 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Глубина воздейств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тобиологически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Фотобиологический эффект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овые 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[Вт], [Вт/см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[Дж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 = P *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энергии[Дж/см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иловые характеристик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щность [Вт], [Вт/см2]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Энергия [Дж]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W = P * 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лотность энергии[Дж/см2]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W/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ектр терапевтических лаз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Спектр терапевтических лазеров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станг 20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станг 2000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ула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«Мулат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ВЛОК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.63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m, 1 – 5 mW, 5 minuts, 3.5 – 7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ВЛОК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0.63 </a:t>
            </a: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nm, 1 – 5 mW, 5 minuts, 3.5 – 7 J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апевтический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ий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динам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ая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сновные направл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ерапевтический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Хирургический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динамическая тера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ая диагности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еркальная нас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Зеркальная насад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ретральная нас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Уретральная насад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динам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ая деструкция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енсибилиза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гем 63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енс 67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опорфирин 6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охлорин 70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динамическая тера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ая деструкция ткане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сенсибилизаторы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гем 63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тосенс 67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ензопорфирин 69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дохлорин 70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ая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уоресцентная лазерное определение границ накопления фотосенсибилиза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 для оценки микроцирк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й когерентный томо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ая диагностик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луоресцентная лазерное определение границ накопления фотосенсибилизатора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 для оценки микроциркуляци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птический когерентный томограф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Компьютерная лазерная капилляроскоп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плерографическая флоу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 К АНАЛИЗАТОРУ ЛАКК-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азы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с применением математического аппарата B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 функциональных те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Допплерографическая флоуметр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РОГРАММНОЕ ОБЕСПЕЧЕНИЕ К АНАЛИЗАТОРУ ЛАКК-0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формирование базы данных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чет с применением математического аппарата B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• 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чет функциональных тестов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хро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 = dL/L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монохрома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ые 10-3 – 10-4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ердотельные 10-1 – 10-2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проводниковые 1 – 10 н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нохроматич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М = dL/L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тепень монохроматичности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азовые 10-3 – 10-4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вердотельные 10-1 – 10-2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олупроводниковые 1 – 10 нм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ный скальп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эфф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ст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ци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тим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ный скальпел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пецифические эффекты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емостатически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актерицидны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иостимулирующий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на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ция СО2  (10,6 мкм) и НИЛИ – пилот (0,64 мкм). Лучи фокусируются в одну точк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истема навед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мбинация СО2  (10,6 мкм) и НИЛИ – пилот (0,64 мкм). Лучи фокусируются в одну точку. 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«Portable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«Portable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nderful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“</a:t>
            </a:r>
            <a:r>
              <a:rPr b="0" lang="pl-PL" sz="1200" spc="-1" strike="noStrike">
                <a:solidFill>
                  <a:srgbClr val="1f497d"/>
                </a:solidFill>
                <a:latin typeface="Comic Sans MS"/>
              </a:rPr>
              <a:t>Wonderful”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ксимер л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Эксимер лазер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«Лазерная медиц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17.12.200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Исупов А.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: (343)376919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222072939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-mail: charoky@r66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ин С.В. «Внутривенное лазерное облучение крови» «Техника» М.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сев В.Г. «Физические методы и технические средства для лечебных воздействий» Уфа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екция «Лазерная медицина»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создана 17.12.2003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Автор: Исупов А.Б.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елефон: (343)376919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9222072939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E-mail: charoky@r66.ru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итература: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сквин С.В. «Внутривенное лазерное облучение крови» «Техника» М. 200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усев В.Г. «Физические методы и технические средства для лечебных воздействий» Уфа 2001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хро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Монохроматич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глубине более 200 мкм излучение теряет когер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 глубине более 200 мкм излучение теряет когерент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ля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пределяется технологией изгот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Поляризац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1f497d"/>
                </a:solidFill>
                <a:latin typeface="Comic Sans MS"/>
              </a:rPr>
              <a:t>Определяется технологией изготовления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имость пуч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ые 1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ердотельные 10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проводниковые 1о – 10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ить расходимость можно с помощью коллимирующих устрой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Направленность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Расходимость пучка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Газовые 1’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вердотельные 10’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Полупроводниковые 1о – 10о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Уменьшить расходимость можно с помощью коллимирующих устройств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6B4-D32D-47A8-B555-E8101295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197-BCD3-437A-987B-D730D2D2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407-30EA-40DE-B7D7-24452120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57CE-E448-41DE-9E27-B0BE3298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F20C-E5F3-48B8-87A2-3AB9BB85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D3F0-7BF3-44D2-88FE-90471483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1C9C-A888-4897-A6E9-2E8D9789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12FF-B12C-4632-A188-2B0568DC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7217-1FBE-4007-8BAA-04E8672E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5C48-979B-43D7-9CD7-933DAD4D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F6DB-457E-46D6-9BB8-B03BA2F3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BE6-ACC9-4B6B-A902-DE4D37AB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3992-589E-4CFC-B473-301ACD0C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8E69-5AFF-448F-9B49-03B12155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CBAD-0620-4DEF-B20C-ED04DBC7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7120-693E-45B8-8900-D4BE2D8B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D983-A506-48EF-9714-849A7754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C02-E1E6-4891-8A56-5C828CC4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84D4-EADB-4B3A-B1B0-9FEA3103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3F1-B299-4700-B42F-B426314A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E875-90A8-43B1-9848-4978D0C6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3BD-F759-49C2-B12A-2C71A8E4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49FD-71D1-4849-8CF5-1E271CFF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EA5-44BF-4642-84D7-7B46721E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5C3F-45AE-40AA-9CBC-C2788AF3A8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7062-E3E6-47AF-9570-78822F52AD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mailto:charoky@r66.r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mic Sans MS"/>
              </a:rPr>
              <a:t>Лазерная медиц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15" descr="Световод"/>
          <p:cNvPicPr/>
          <p:nvPr/>
        </p:nvPicPr>
        <p:blipFill>
          <a:blip r:embed="rId1"/>
          <a:stretch/>
        </p:blipFill>
        <p:spPr>
          <a:xfrm>
            <a:off x="1258920" y="836640"/>
            <a:ext cx="6551640" cy="57913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Глубина воздейств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3" descr="Глубина"/>
          <p:cNvPicPr/>
          <p:nvPr/>
        </p:nvPicPr>
        <p:blipFill>
          <a:blip r:embed="rId1">
            <a:lum contrast="12000"/>
          </a:blip>
          <a:srcRect l="0" t="0" r="0" b="6558"/>
          <a:stretch/>
        </p:blipFill>
        <p:spPr>
          <a:xfrm>
            <a:off x="468360" y="1413000"/>
            <a:ext cx="8281800" cy="48877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отобиологический эффек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9" descr="Мощность_Эффект"/>
          <p:cNvPicPr/>
          <p:nvPr/>
        </p:nvPicPr>
        <p:blipFill>
          <a:blip r:embed="rId1"/>
          <a:srcRect l="0" t="0" r="0" b="12474"/>
          <a:stretch/>
        </p:blipFill>
        <p:spPr>
          <a:xfrm>
            <a:off x="611280" y="907920"/>
            <a:ext cx="7848360" cy="55944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иловые характерис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3" descr="Энергия"/>
          <p:cNvPicPr/>
          <p:nvPr/>
        </p:nvPicPr>
        <p:blipFill>
          <a:blip r:embed="rId1"/>
          <a:stretch/>
        </p:blipFill>
        <p:spPr>
          <a:xfrm>
            <a:off x="250920" y="1268280"/>
            <a:ext cx="2779560" cy="5300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3203640" y="1413000"/>
            <a:ext cx="568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Мощность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т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т/с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Энергия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ж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 = P * 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 энергии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ж/см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Мустанг"/>
          <p:cNvPicPr/>
          <p:nvPr/>
        </p:nvPicPr>
        <p:blipFill>
          <a:blip r:embed="rId1"/>
          <a:stretch/>
        </p:blipFill>
        <p:spPr>
          <a:xfrm>
            <a:off x="539640" y="995400"/>
            <a:ext cx="8209080" cy="58626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ектр терапевтических лазер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Спектр"/>
          <p:cNvPicPr/>
          <p:nvPr/>
        </p:nvPicPr>
        <p:blipFill>
          <a:blip r:embed="rId1"/>
          <a:srcRect l="0" t="0" r="0" b="67595"/>
          <a:stretch/>
        </p:blipFill>
        <p:spPr>
          <a:xfrm>
            <a:off x="250920" y="1268280"/>
            <a:ext cx="2952720" cy="2262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Спектр"/>
          <p:cNvPicPr/>
          <p:nvPr/>
        </p:nvPicPr>
        <p:blipFill>
          <a:blip r:embed="rId2"/>
          <a:srcRect l="0" t="66685" r="0" b="0"/>
          <a:stretch/>
        </p:blipFill>
        <p:spPr>
          <a:xfrm>
            <a:off x="6156360" y="1268280"/>
            <a:ext cx="2808360" cy="221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Спектр"/>
          <p:cNvPicPr/>
          <p:nvPr/>
        </p:nvPicPr>
        <p:blipFill>
          <a:blip r:embed="rId3"/>
          <a:srcRect l="0" t="32363" r="0" b="33822"/>
          <a:stretch/>
        </p:blipFill>
        <p:spPr>
          <a:xfrm>
            <a:off x="3276720" y="1268280"/>
            <a:ext cx="2808000" cy="2246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468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9" descr="Мустанг2000_1"/>
          <p:cNvPicPr/>
          <p:nvPr/>
        </p:nvPicPr>
        <p:blipFill>
          <a:blip r:embed="rId1"/>
          <a:stretch/>
        </p:blipFill>
        <p:spPr>
          <a:xfrm>
            <a:off x="539640" y="907920"/>
            <a:ext cx="8425080" cy="569772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станг 2000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9" descr="Мустанг2000"/>
          <p:cNvPicPr/>
          <p:nvPr/>
        </p:nvPicPr>
        <p:blipFill>
          <a:blip r:embed="rId1"/>
          <a:stretch/>
        </p:blipFill>
        <p:spPr>
          <a:xfrm>
            <a:off x="324000" y="981000"/>
            <a:ext cx="8640720" cy="521028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Мулат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9" descr="Мулат"/>
          <p:cNvPicPr/>
          <p:nvPr/>
        </p:nvPicPr>
        <p:blipFill>
          <a:blip r:embed="rId1"/>
          <a:stretch/>
        </p:blipFill>
        <p:spPr>
          <a:xfrm>
            <a:off x="1258920" y="981000"/>
            <a:ext cx="6985080" cy="55342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Л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9" descr="ВЛОК2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0920" y="1052640"/>
            <a:ext cx="8642160" cy="52099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Л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9" descr="ВЛОК1"/>
          <p:cNvPicPr/>
          <p:nvPr/>
        </p:nvPicPr>
        <p:blipFill>
          <a:blip r:embed="rId1">
            <a:lum contrast="24000"/>
          </a:blip>
          <a:srcRect l="0" t="0" r="31949" b="0"/>
          <a:stretch/>
        </p:blipFill>
        <p:spPr>
          <a:xfrm>
            <a:off x="250920" y="981000"/>
            <a:ext cx="8642160" cy="3608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250920" y="5013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0.63 nm,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1 – 5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W, 5 minuts, 3.5 – 7 J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сновные направл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50920" y="1413000"/>
            <a:ext cx="86421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Терапевтический лаз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Хирургический лаз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Фотодинамическая терап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Лазерная диагностик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еркальная наса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3" descr="Насодка_зеркало"/>
          <p:cNvPicPr/>
          <p:nvPr/>
        </p:nvPicPr>
        <p:blipFill>
          <a:blip r:embed="rId1"/>
          <a:stretch/>
        </p:blipFill>
        <p:spPr>
          <a:xfrm>
            <a:off x="755640" y="1031760"/>
            <a:ext cx="7848720" cy="58262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Насодка106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3108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Насодка105"/>
          <p:cNvPicPr/>
          <p:nvPr/>
        </p:nvPicPr>
        <p:blipFill>
          <a:blip r:embed="rId2"/>
          <a:stretch/>
        </p:blipFill>
        <p:spPr>
          <a:xfrm>
            <a:off x="250920" y="3573360"/>
            <a:ext cx="8642160" cy="22258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ретральная наса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3" descr="Насодка109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175428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Насодка110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2574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Насодка108"/>
          <p:cNvPicPr/>
          <p:nvPr/>
        </p:nvPicPr>
        <p:blipFill>
          <a:blip r:embed="rId2"/>
          <a:stretch/>
        </p:blipFill>
        <p:spPr>
          <a:xfrm>
            <a:off x="250920" y="4443480"/>
            <a:ext cx="4105080" cy="2414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Насодка111"/>
          <p:cNvPicPr/>
          <p:nvPr/>
        </p:nvPicPr>
        <p:blipFill>
          <a:blip r:embed="rId3"/>
          <a:stretch/>
        </p:blipFill>
        <p:spPr>
          <a:xfrm>
            <a:off x="250920" y="2852640"/>
            <a:ext cx="6049800" cy="14493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отодинамическая терап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50920" y="1268280"/>
            <a:ext cx="86421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Направленная деструкция ткане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сенсибилизаторы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гем 63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Фотосенс 67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Бензопорфирин 69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Радохлорин 70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азерная диагнос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50920" y="1413000"/>
            <a:ext cx="86421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мпьютерная лазерная капилляроскоп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Флуоресцентная лазерное определение границ накопления фотосенсибилизатора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опплерографическая флоуметрия для оценки микроциркуляци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птический когерентный томограф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омпьютерная лазерная капилляроскоп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Эритроцит"/>
          <p:cNvPicPr/>
          <p:nvPr/>
        </p:nvPicPr>
        <p:blipFill>
          <a:blip r:embed="rId1"/>
          <a:srcRect l="0" t="0" r="1817" b="0"/>
          <a:stretch/>
        </p:blipFill>
        <p:spPr>
          <a:xfrm>
            <a:off x="2340000" y="1700280"/>
            <a:ext cx="4464000" cy="46083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Лазма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76360" y="1916280"/>
            <a:ext cx="6337440" cy="43844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50920" y="1700280"/>
            <a:ext cx="8642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еинвазивная диагностика притока и оттока крови, контроль функционирования механизмов регуляции микроциркуляции крови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перативный контроль эффективности лазерной и физиотерапии до, в процессе и после лечебного сеанса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тработка оптимальных режимов лазерного лечебного воздействия при разработке методических рекомендаций по применению лазеротерапии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опплерографическая флоуметр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250920" y="2133720"/>
            <a:ext cx="86421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РОГРАММНОЕ ОБЕСПЕЧЕНИЕ К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НАЛИЗАТОРУ ЛАКК-0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•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ормирование базы данных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чет с применением математического аппарата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ейвлет-преобразования амплитуд и частот колебаний кровотока, связанных с эндотелиальной, нейрогенной и миогенной активностью, а также респираторных и сердечных ритмов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счет функциональных тестов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онохрома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187280" y="2708280"/>
            <a:ext cx="6193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Courier New"/>
              </a:rPr>
              <a:t>СМ =</a:t>
            </a:r>
            <a:r>
              <a:rPr b="0" lang="en-US" sz="6600" spc="-1" strike="noStrike">
                <a:solidFill>
                  <a:srgbClr val="ff3300"/>
                </a:solidFill>
                <a:latin typeface="Courier New"/>
              </a:rPr>
              <a:t> dL</a:t>
            </a:r>
            <a:r>
              <a:rPr b="0" lang="ru-RU" sz="6600" spc="-1" strike="noStrike">
                <a:solidFill>
                  <a:srgbClr val="ff3300"/>
                </a:solidFill>
                <a:latin typeface="Courier New"/>
              </a:rPr>
              <a:t>/</a:t>
            </a:r>
            <a:r>
              <a:rPr b="0" lang="en-US" sz="6600" spc="-1" strike="noStrike">
                <a:solidFill>
                  <a:srgbClr val="ff3300"/>
                </a:solidFill>
                <a:latin typeface="Courier New"/>
              </a:rPr>
              <a:t>L</a:t>
            </a:r>
            <a:r>
              <a:rPr b="0" lang="ru-RU" sz="6600" spc="-1" strike="noStrike" baseline="-25000">
                <a:solidFill>
                  <a:srgbClr val="ff3300"/>
                </a:solidFill>
                <a:latin typeface="Courier New"/>
              </a:rPr>
              <a:t>0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971640" y="2133720"/>
            <a:ext cx="59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Степень монохроматичности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900000" y="4083120"/>
            <a:ext cx="741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Газовые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3 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–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4 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Твердотельные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1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 – 10</a:t>
            </a:r>
            <a:r>
              <a:rPr b="0" lang="ru-RU" sz="3200" spc="-1" strike="noStrike" baseline="30000">
                <a:solidFill>
                  <a:srgbClr val="86d1ec"/>
                </a:solidFill>
                <a:latin typeface="Comic Sans MS"/>
              </a:rPr>
              <a:t>-2</a:t>
            </a: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6d1ec"/>
                </a:solidFill>
                <a:latin typeface="Comic Sans MS"/>
              </a:rPr>
              <a:t>Полупроводниковые 1 – 10 нм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азерный скальп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50920" y="2060640"/>
            <a:ext cx="864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пецифические эффекты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емостатическ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актерицидны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Биостимулирующий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истема навед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50920" y="1557360"/>
            <a:ext cx="864216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Комбинация СО</a:t>
            </a:r>
            <a:r>
              <a:rPr b="0" lang="ru-RU" sz="3200" spc="-1" strike="noStrike" baseline="-25000">
                <a:solidFill>
                  <a:srgbClr val="ff3300"/>
                </a:solidFill>
                <a:latin typeface="Comic Sans MS"/>
              </a:rPr>
              <a:t>2  </a:t>
            </a: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(10,6 мкм) и НИЛИ – пилот (0,64 мкм). Лучи фокусируются в одну точку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rtable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3" descr="File0073"/>
          <p:cNvPicPr/>
          <p:nvPr/>
        </p:nvPicPr>
        <p:blipFill>
          <a:blip r:embed="rId1"/>
          <a:stretch/>
        </p:blipFill>
        <p:spPr>
          <a:xfrm>
            <a:off x="611280" y="907920"/>
            <a:ext cx="4160880" cy="595008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11280" y="2775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nderful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File0074"/>
          <p:cNvPicPr/>
          <p:nvPr/>
        </p:nvPicPr>
        <p:blipFill>
          <a:blip r:embed="rId1"/>
          <a:stretch/>
        </p:blipFill>
        <p:spPr>
          <a:xfrm>
            <a:off x="250920" y="189000"/>
            <a:ext cx="1962000" cy="640872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Эксимер лазе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5" descr="LaserScan"/>
          <p:cNvPicPr/>
          <p:nvPr/>
        </p:nvPicPr>
        <p:blipFill>
          <a:blip r:embed="rId1"/>
          <a:stretch/>
        </p:blipFill>
        <p:spPr>
          <a:xfrm>
            <a:off x="971640" y="1125360"/>
            <a:ext cx="3894120" cy="55436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5" descr="File0007"/>
          <p:cNvPicPr/>
          <p:nvPr/>
        </p:nvPicPr>
        <p:blipFill>
          <a:blip r:embed="rId1"/>
          <a:srcRect l="16242" t="0" r="0" b="0"/>
          <a:stretch/>
        </p:blipFill>
        <p:spPr>
          <a:xfrm>
            <a:off x="755640" y="1484280"/>
            <a:ext cx="7704000" cy="41180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File0013"/>
          <p:cNvPicPr/>
          <p:nvPr/>
        </p:nvPicPr>
        <p:blipFill>
          <a:blip r:embed="rId2"/>
          <a:stretch/>
        </p:blipFill>
        <p:spPr>
          <a:xfrm>
            <a:off x="6948360" y="620640"/>
            <a:ext cx="695520" cy="5540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6" descr="File0008"/>
          <p:cNvPicPr/>
          <p:nvPr/>
        </p:nvPicPr>
        <p:blipFill>
          <a:blip r:embed="rId1"/>
          <a:srcRect l="13284" t="0" r="0" b="0"/>
          <a:stretch/>
        </p:blipFill>
        <p:spPr>
          <a:xfrm>
            <a:off x="468360" y="1557360"/>
            <a:ext cx="8424720" cy="36129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езопас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5" descr="File0009"/>
          <p:cNvPicPr/>
          <p:nvPr/>
        </p:nvPicPr>
        <p:blipFill>
          <a:blip r:embed="rId1"/>
          <a:srcRect l="15509" t="0" r="0" b="0"/>
          <a:stretch/>
        </p:blipFill>
        <p:spPr>
          <a:xfrm>
            <a:off x="395280" y="1844640"/>
            <a:ext cx="8497800" cy="3429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екция «Лазерная медицин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79280" y="836640"/>
            <a:ext cx="896472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оздана 17.12.2003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втор: Исупов А.Б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Телефон: (343)3769193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9222072939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-mail: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Comic Sans MS"/>
                <a:hlinkClick r:id="rId1"/>
              </a:rPr>
              <a:t>charoky@r66.ru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Литература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айбеков И.М. «Морфологические основы низкоинтенсивной лазеротерапии» «Ибн Сина» Ташкент 199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Москвин С.В. «Внутривенное лазерное облучение крови» «Техника» М. 200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Гусев В.Г. «Физические методы и технические средства для лечебных воздействий» Уфа 200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онохрома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окая степень монохроматичности лазерного излучения определяет высокую спектральную плотность энергии - высокую степень концентрации световой энергии в очень малом спектральном интервале. Высокая монохроматичность облегчает фокусировку лазерного излучения, поскольку при этом хроматическая аберрация линзы становится несуществе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огерен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азеры обладают чрезвычайно высокой по сравнению с другими источниками света степенью когерентности излучения, временной и пространстве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работе лазера в одномодовом режиме достигается полная пространственная когерентность, что определяет высокую направленность лазерного излучения и делает возможным его фокусировку в пятно чрезвычайно малых размеров (порядка длины волн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огерен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50920" y="1268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глубине более 200 мкм излучение теряет когерентность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8" name="Picture 4" descr="Рассеяние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2421000"/>
            <a:ext cx="8569080" cy="43844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оляриз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250920" y="1413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пределяется технологией изготовлен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правлен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авленность лазерного излучения во многом определяется тем, что в открытом резонаторе могут возбуждаться только такие волны, которые направлены по оси резонатора или под очень малыми углами к ней. При высокой степени пространственной когерентности угол расходимости лазерного луча может быть сделан близким к пределу, определяемому дифракц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правлен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50920" y="1268280"/>
            <a:ext cx="864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асходимость пучка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Газовы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1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Твердотельные 10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лупроводниковые 1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–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50920" y="5013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меньшить расходимость можно с помощью коллимирующих устройств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8:29:15Z</dcterms:created>
  <dc:creator>Исупов Андрей Борисович</dc:creator>
  <dc:description>лекция курс"Медицинские приборы, аппараты и системы"</dc:description>
  <dc:language>en-US</dc:language>
  <cp:lastModifiedBy>LEGION</cp:lastModifiedBy>
  <dcterms:modified xsi:type="dcterms:W3CDTF">2015-11-27T12:50:24Z</dcterms:modified>
  <cp:revision>138</cp:revision>
  <dc:subject/>
  <dc:title>Лазерная медицина</dc:title>
</cp:coreProperties>
</file>