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882D-64C6-4F36-9457-836F93AC2C0E}" type="slidenum"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азерная 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Лазерная медицин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убина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Глубина воздейств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биологически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Фотобиологический эффект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в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[Вт], [Вт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[Дж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 = P *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энергии[Дж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ловые характеристик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щность [Вт], [Вт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Энергия [Дж]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 = P * 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лотность энергии[Дж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/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ктр терапевтических лаз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Спектр терапевтических лазеро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ла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лат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.63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m, 1 – 5 mW, 5 minuts, 3.5 – 7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0.63 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nm, 1 – 5 mW, 5 minuts, 3.5 – 7 J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апевт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сновные напра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рапевт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Хирург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ерк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Зерк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ретр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Уретр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ая деструкция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ибилиза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ем 63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 67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орфирин 6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охлорин 70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ая деструкция ткане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ибилизаторы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гем 63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 67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ензопорфирин 69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дохлорин 70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й когерентный томо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тический когерентный томограф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функциональных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рмирование базы данных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функциональных тестов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 = dL/L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монохрома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0-3 – 10-4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-1 – 10-2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 – 1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М = dL/L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тепень монохроматичност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0-3 – 10-4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-1 – 10-2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 – 1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й скальп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ый скальпел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пецифические эффекты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емостатическ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ктерицидны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иостимулирующ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на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стема навед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«Portabl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«Portable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nderful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“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Wonderful”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ксимер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Эксимер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«Лазерная медиц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343)37691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charoky@r66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екция «Лазерная медицина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лефон: (343)376919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E-mail: charoky@r66.ru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итература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Поляризац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имость пуч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о – 10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ходимость пучка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о – 10о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035-44DE-4137-905C-0462662C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B3B-C448-4D93-9131-FC8C9C2D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D25-4C45-4D4E-BD58-8E769137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128-3225-4412-9F83-41614487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5D27-83D9-4A88-9306-9FAA2C7F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4985-E4B5-4842-9568-D4894F53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181A-7BB7-40F1-A5F1-D3FDE687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8EDA-9106-47B7-9469-755F8A14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4CBC-1A26-4E75-8C4F-0FC3D7B0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E2EB-ABD4-44D4-9A03-612C520C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4CC4-42A3-4CAA-B0BA-C00153C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824-E42A-4D72-A24A-F0F5BAF0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3863-0673-445E-A3FF-FE0114C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F5C1-F8F4-4C80-86F1-2520FAA2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C2A5-A74C-4843-8C17-0CF77D38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2FC2-3864-4B11-822F-C772372C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8C19-7F79-459D-97C1-0AFB9DD0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657-63A2-4424-AB8B-02EA0A60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A41-DA13-4F8A-916D-7921DCAA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92D-D20A-41ED-AFDB-9011A46B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F8B-EB7B-4D14-9923-3E019267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60F-BF61-41E3-A4A7-A30548D9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AA5-37F0-49A9-B6E3-39C28779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D1D-0421-4940-9457-9950485D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7424-ED25-4E68-ABDE-BFF87CEC8B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DE4C-3B1D-4BF7-9E26-6113452678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charoky@r66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Лазерная медиц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5" descr="Световод"/>
          <p:cNvPicPr/>
          <p:nvPr/>
        </p:nvPicPr>
        <p:blipFill>
          <a:blip r:embed="rId1"/>
          <a:stretch/>
        </p:blipFill>
        <p:spPr>
          <a:xfrm>
            <a:off x="1258920" y="836640"/>
            <a:ext cx="655164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лубина воз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Глубина"/>
          <p:cNvPicPr/>
          <p:nvPr/>
        </p:nvPicPr>
        <p:blipFill>
          <a:blip r:embed="rId1">
            <a:lum contrast="12000"/>
          </a:blip>
          <a:srcRect l="0" t="0" r="0" b="6558"/>
          <a:stretch/>
        </p:blipFill>
        <p:spPr>
          <a:xfrm>
            <a:off x="468360" y="1413000"/>
            <a:ext cx="8281800" cy="48877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биологический эфф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Мощность_Эффект"/>
          <p:cNvPicPr/>
          <p:nvPr/>
        </p:nvPicPr>
        <p:blipFill>
          <a:blip r:embed="rId1"/>
          <a:srcRect l="0" t="0" r="0" b="12474"/>
          <a:stretch/>
        </p:blipFill>
        <p:spPr>
          <a:xfrm>
            <a:off x="611280" y="907920"/>
            <a:ext cx="7848360" cy="55944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ловые характерис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Энергия"/>
          <p:cNvPicPr/>
          <p:nvPr/>
        </p:nvPicPr>
        <p:blipFill>
          <a:blip r:embed="rId1"/>
          <a:stretch/>
        </p:blipFill>
        <p:spPr>
          <a:xfrm>
            <a:off x="250920" y="1268280"/>
            <a:ext cx="2779560" cy="5300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203640" y="1413000"/>
            <a:ext cx="568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щност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нергия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P * 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энерг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/см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Мустанг"/>
          <p:cNvPicPr/>
          <p:nvPr/>
        </p:nvPicPr>
        <p:blipFill>
          <a:blip r:embed="rId1"/>
          <a:stretch/>
        </p:blipFill>
        <p:spPr>
          <a:xfrm>
            <a:off x="539640" y="995400"/>
            <a:ext cx="8209080" cy="586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ектр терапевтических лазер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Спектр"/>
          <p:cNvPicPr/>
          <p:nvPr/>
        </p:nvPicPr>
        <p:blipFill>
          <a:blip r:embed="rId1"/>
          <a:srcRect l="0" t="0" r="0" b="67595"/>
          <a:stretch/>
        </p:blipFill>
        <p:spPr>
          <a:xfrm>
            <a:off x="250920" y="1268280"/>
            <a:ext cx="2952720" cy="226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Спектр"/>
          <p:cNvPicPr/>
          <p:nvPr/>
        </p:nvPicPr>
        <p:blipFill>
          <a:blip r:embed="rId2"/>
          <a:srcRect l="0" t="66685" r="0" b="0"/>
          <a:stretch/>
        </p:blipFill>
        <p:spPr>
          <a:xfrm>
            <a:off x="6156360" y="1268280"/>
            <a:ext cx="2808360" cy="221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Спектр"/>
          <p:cNvPicPr/>
          <p:nvPr/>
        </p:nvPicPr>
        <p:blipFill>
          <a:blip r:embed="rId3"/>
          <a:srcRect l="0" t="32363" r="0" b="33822"/>
          <a:stretch/>
        </p:blipFill>
        <p:spPr>
          <a:xfrm>
            <a:off x="3276720" y="1268280"/>
            <a:ext cx="2808000" cy="224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Мустанг2000_1"/>
          <p:cNvPicPr/>
          <p:nvPr/>
        </p:nvPicPr>
        <p:blipFill>
          <a:blip r:embed="rId1"/>
          <a:stretch/>
        </p:blipFill>
        <p:spPr>
          <a:xfrm>
            <a:off x="539640" y="907920"/>
            <a:ext cx="8425080" cy="569772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Мустанг2000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2102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ла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Мулат"/>
          <p:cNvPicPr/>
          <p:nvPr/>
        </p:nvPicPr>
        <p:blipFill>
          <a:blip r:embed="rId1"/>
          <a:stretch/>
        </p:blipFill>
        <p:spPr>
          <a:xfrm>
            <a:off x="1258920" y="981000"/>
            <a:ext cx="6985080" cy="55342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9" descr="ВЛОК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1052640"/>
            <a:ext cx="8642160" cy="5209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ВЛОК1"/>
          <p:cNvPicPr/>
          <p:nvPr/>
        </p:nvPicPr>
        <p:blipFill>
          <a:blip r:embed="rId1">
            <a:lum contrast="24000"/>
          </a:blip>
          <a:srcRect l="0" t="0" r="31949" b="0"/>
          <a:stretch/>
        </p:blipFill>
        <p:spPr>
          <a:xfrm>
            <a:off x="250920" y="981000"/>
            <a:ext cx="8642160" cy="3608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250920" y="501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0.63 nm,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 – 5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W, 5 minuts, 3.5 – 7 J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920" y="1413000"/>
            <a:ext cx="8642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Терапевт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Хирург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ерк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Насодка_зеркало"/>
          <p:cNvPicPr/>
          <p:nvPr/>
        </p:nvPicPr>
        <p:blipFill>
          <a:blip r:embed="rId1"/>
          <a:stretch/>
        </p:blipFill>
        <p:spPr>
          <a:xfrm>
            <a:off x="755640" y="1031760"/>
            <a:ext cx="7848720" cy="58262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Насодка106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3108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Насодка105"/>
          <p:cNvPicPr/>
          <p:nvPr/>
        </p:nvPicPr>
        <p:blipFill>
          <a:blip r:embed="rId2"/>
          <a:stretch/>
        </p:blipFill>
        <p:spPr>
          <a:xfrm>
            <a:off x="250920" y="3573360"/>
            <a:ext cx="8642160" cy="2225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етр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Насодка109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175428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Насодка11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257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Насодка108"/>
          <p:cNvPicPr/>
          <p:nvPr/>
        </p:nvPicPr>
        <p:blipFill>
          <a:blip r:embed="rId2"/>
          <a:stretch/>
        </p:blipFill>
        <p:spPr>
          <a:xfrm>
            <a:off x="250920" y="4443480"/>
            <a:ext cx="4105080" cy="2414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Насодка111"/>
          <p:cNvPicPr/>
          <p:nvPr/>
        </p:nvPicPr>
        <p:blipFill>
          <a:blip r:embed="rId3"/>
          <a:stretch/>
        </p:blipFill>
        <p:spPr>
          <a:xfrm>
            <a:off x="250920" y="2852640"/>
            <a:ext cx="6049800" cy="1449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0920" y="1268280"/>
            <a:ext cx="864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Направленная деструкция ткане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ибилизатор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гем 63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 67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Бензопорфирин 69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Радохлорин 70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920" y="1413000"/>
            <a:ext cx="864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мпьютерная лазерная капилляроскоп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тический когерентный томограф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омпьютерная лазерная капилляроскоп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Эритроцит"/>
          <p:cNvPicPr/>
          <p:nvPr/>
        </p:nvPicPr>
        <p:blipFill>
          <a:blip r:embed="rId1"/>
          <a:srcRect l="0" t="0" r="1817" b="0"/>
          <a:stretch/>
        </p:blipFill>
        <p:spPr>
          <a:xfrm>
            <a:off x="2340000" y="1700280"/>
            <a:ext cx="4464000" cy="46083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Лазма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76360" y="1916280"/>
            <a:ext cx="6337440" cy="4384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0920" y="1700280"/>
            <a:ext cx="8642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50920" y="2133720"/>
            <a:ext cx="86421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ГРАММНОЕ ОБЕСПЕЧЕНИЕ К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НАЛИЗАТОРУ ЛАКК-0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ормирование базы данных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с применением математического аппарата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функциональных тест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87280" y="2708280"/>
            <a:ext cx="6193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СМ =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 dL</a:t>
            </a: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/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L</a:t>
            </a:r>
            <a:r>
              <a:rPr b="0" lang="ru-RU" sz="66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71640" y="213372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Степень монохроматичност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00000" y="4083120"/>
            <a:ext cx="741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Газов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3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4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Твердотельн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1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2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Полупроводниковые 1 – 1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ый скальп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0920" y="206064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ие эффект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емостатическ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актерицид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иостимулирующ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стема на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50920" y="1557360"/>
            <a:ext cx="86421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Комбинация СО</a:t>
            </a:r>
            <a:r>
              <a:rPr b="0" lang="ru-RU" sz="3200" spc="-1" strike="noStrike" baseline="-25000">
                <a:solidFill>
                  <a:srgbClr val="ff3300"/>
                </a:solidFill>
                <a:latin typeface="Comic Sans MS"/>
              </a:rPr>
              <a:t>2  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(10,6 мкм) и НИЛИ – пилот (0,64 мкм). Лучи фокусируются в одну точку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rtable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File0073"/>
          <p:cNvPicPr/>
          <p:nvPr/>
        </p:nvPicPr>
        <p:blipFill>
          <a:blip r:embed="rId1"/>
          <a:stretch/>
        </p:blipFill>
        <p:spPr>
          <a:xfrm>
            <a:off x="611280" y="907920"/>
            <a:ext cx="4160880" cy="595008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11280" y="277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nderful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File0074"/>
          <p:cNvPicPr/>
          <p:nvPr/>
        </p:nvPicPr>
        <p:blipFill>
          <a:blip r:embed="rId1"/>
          <a:stretch/>
        </p:blipFill>
        <p:spPr>
          <a:xfrm>
            <a:off x="250920" y="189000"/>
            <a:ext cx="1962000" cy="640872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ксимер лаз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5" descr="LaserScan"/>
          <p:cNvPicPr/>
          <p:nvPr/>
        </p:nvPicPr>
        <p:blipFill>
          <a:blip r:embed="rId1"/>
          <a:stretch/>
        </p:blipFill>
        <p:spPr>
          <a:xfrm>
            <a:off x="971640" y="1125360"/>
            <a:ext cx="3894120" cy="5543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File0007"/>
          <p:cNvPicPr/>
          <p:nvPr/>
        </p:nvPicPr>
        <p:blipFill>
          <a:blip r:embed="rId1"/>
          <a:srcRect l="16242" t="0" r="0" b="0"/>
          <a:stretch/>
        </p:blipFill>
        <p:spPr>
          <a:xfrm>
            <a:off x="755640" y="1484280"/>
            <a:ext cx="7704000" cy="4118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File0013"/>
          <p:cNvPicPr/>
          <p:nvPr/>
        </p:nvPicPr>
        <p:blipFill>
          <a:blip r:embed="rId2"/>
          <a:stretch/>
        </p:blipFill>
        <p:spPr>
          <a:xfrm>
            <a:off x="6948360" y="620640"/>
            <a:ext cx="695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File0008"/>
          <p:cNvPicPr/>
          <p:nvPr/>
        </p:nvPicPr>
        <p:blipFill>
          <a:blip r:embed="rId1"/>
          <a:srcRect l="13284" t="0" r="0" b="0"/>
          <a:stretch/>
        </p:blipFill>
        <p:spPr>
          <a:xfrm>
            <a:off x="468360" y="1557360"/>
            <a:ext cx="8424720" cy="36129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File0009"/>
          <p:cNvPicPr/>
          <p:nvPr/>
        </p:nvPicPr>
        <p:blipFill>
          <a:blip r:embed="rId1"/>
          <a:srcRect l="15509" t="0" r="0" b="0"/>
          <a:stretch/>
        </p:blipFill>
        <p:spPr>
          <a:xfrm>
            <a:off x="395280" y="1844640"/>
            <a:ext cx="84978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екция «Лазерная медици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79280" y="836640"/>
            <a:ext cx="89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оздана 17.12.2003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втор: Исупов А.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елефон: (343)376919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222072939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-mail: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Comic Sans MS"/>
                <a:hlinkClick r:id="rId1"/>
              </a:rPr>
              <a:t>charoky@r66.r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итература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268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4" descr="Рассея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21000"/>
            <a:ext cx="8569080" cy="43844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ляр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1413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ределяется технологией изготовл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50920" y="126828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сходимость пучк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азовы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1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вердотельные 1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лупроводниковые 1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501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8:29:15Z</dcterms:created>
  <dc:creator>Исупов Андрей Борисович</dc:creator>
  <dc:description>лекция курс"Медицинские приборы, аппараты и системы"</dc:description>
  <dc:language>en-US</dc:language>
  <cp:lastModifiedBy>LEGION</cp:lastModifiedBy>
  <dcterms:modified xsi:type="dcterms:W3CDTF">2015-11-27T12:50:24Z</dcterms:modified>
  <cp:revision>138</cp:revision>
  <dc:subject/>
  <dc:title>Лазерная медицина</dc:title>
</cp:coreProperties>
</file>