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5F96-7B21-43C8-B309-AEA78B78F0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о Дню Медицинского работника (17 июн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ко Дню Медицинского работника (17 июн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125602 Настольный складной прибор с часами, датой, термометром, подставками под ручки, визитки и бумажный б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252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2518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ейка с часами и калькулято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622850 Подставка под визитки с таблет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108860 —Часы «Гиппократ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125602 Настольный складной прибор с часами, датой, термометром, подставками под ручки, визитки и бумажный б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25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2518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ейка с часами и калькулято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622850 Подставка под визитки с таблет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108860 —Часы «Гиппократ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618068 Подставка под ручки в виде книги. «Обложка» книги может быть изготовлена на ваш вку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1652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16523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дкостная фигура для релаксации с идущими вверх частиц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80645 Записная книжка с отделением для визиток и руч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618068 Подставка под ручки в виде книги. «Обложка» книги может быть изготовлена на ваш вку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1652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16523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дкостная фигура для релаксации с идущими вверх частиц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80645 Записная книжка с отделением для визиток и руч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14141.06  Ручка шариковая в форме шприца «03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7380.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77380.0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77380.0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7380.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чка шариковая на шну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4041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475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7475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адки для кни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14141.06  Ручка шариковая в форме шприца «03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7380.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77380.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77380.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7380.0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чка шариковая на шнур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404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47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7475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адки для кни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395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395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тляр для таблеток и витамин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30600 —Футляр для витаминов с тремя отделен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39500 Зеркало складное с расчес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395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3950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тляр для таблеток и витамин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30600 —Футляр для витаминов с тремя отделе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39500 Зеркало складное с расчес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549451  «Сердце»-антистре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54106 Держатель для документов «Зуб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549456  «Таблетка»-антистре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549441 —Подставка под визитки с ручкой и держателем для записок «Зуб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549451  «Сердце»-антистрес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54106 Держатель для документов «Зуб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549456  «Таблетка»-антистрес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549441 —Подставка под визитки с ручкой и держателем для записок «Зуб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502706 Рамка для фотографии 10x15 с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33212 —Рамка для фотографии 5х8 с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23912 Кружка на 300 м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723526 Кружка на 300 м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502706 Рамка для фотографии 10x15 с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33212 —Рамка для фотографии 5х8 с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23912 Кружка на 300 м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723526 Кружка на 300 м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жка на 275 мл с силиконовым покрытием на руч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2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2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жка на 320 м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6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6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. 87966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жка на 275 мл с силиконовым покрытием на руч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2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2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жка на 320 м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6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6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. 87966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A24A-CADA-4987-B2B5-2819C6B8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BF1A-98F0-4181-8244-BB5715FA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F427-3724-4FBC-AE69-34AE9922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8AE4-F65B-449D-AE58-1CB095C9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A19-16E9-4A8A-B7D8-02EA64E9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4B97-94C2-4898-9F85-D6740E7E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EBAE-9FF7-4991-B3D7-7F5D9705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0941-DA48-4ADA-A12E-B37A3284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817C-0C60-4C16-B5FF-DC7A43B9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B242-DE57-48B5-923C-B05C5F75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DB44-6BCF-49D3-85E5-5EBBF01B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A342-7940-42DC-8912-D6151EFA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50AE-8F72-4AF4-942B-EE9C235746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3875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езентация ко Дню Медицинского работника (17 июн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doc "/>
          <p:cNvPicPr/>
          <p:nvPr/>
        </p:nvPicPr>
        <p:blipFill>
          <a:blip r:embed="rId1"/>
          <a:stretch/>
        </p:blipFill>
        <p:spPr>
          <a:xfrm>
            <a:off x="3952800" y="3986280"/>
            <a:ext cx="1254240" cy="2052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doc "/>
          <p:cNvPicPr/>
          <p:nvPr/>
        </p:nvPicPr>
        <p:blipFill>
          <a:blip r:embed="rId2"/>
          <a:stretch/>
        </p:blipFill>
        <p:spPr>
          <a:xfrm>
            <a:off x="193680" y="3678120"/>
            <a:ext cx="1619280" cy="2649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doc "/>
          <p:cNvPicPr/>
          <p:nvPr/>
        </p:nvPicPr>
        <p:blipFill>
          <a:blip r:embed="rId3"/>
          <a:stretch/>
        </p:blipFill>
        <p:spPr>
          <a:xfrm>
            <a:off x="706320" y="209520"/>
            <a:ext cx="919440" cy="1503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doc "/>
          <p:cNvPicPr/>
          <p:nvPr/>
        </p:nvPicPr>
        <p:blipFill>
          <a:blip r:embed="rId4"/>
          <a:stretch/>
        </p:blipFill>
        <p:spPr>
          <a:xfrm>
            <a:off x="2176560" y="820800"/>
            <a:ext cx="1025280" cy="167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doc "/>
          <p:cNvPicPr/>
          <p:nvPr/>
        </p:nvPicPr>
        <p:blipFill>
          <a:blip r:embed="rId5"/>
          <a:stretch/>
        </p:blipFill>
        <p:spPr>
          <a:xfrm>
            <a:off x="7421400" y="219240"/>
            <a:ext cx="1276560" cy="2087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doc "/>
          <p:cNvPicPr/>
          <p:nvPr/>
        </p:nvPicPr>
        <p:blipFill>
          <a:blip r:embed="rId6"/>
          <a:stretch/>
        </p:blipFill>
        <p:spPr>
          <a:xfrm>
            <a:off x="7129440" y="3657600"/>
            <a:ext cx="1644840" cy="269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doc "/>
          <p:cNvPicPr/>
          <p:nvPr/>
        </p:nvPicPr>
        <p:blipFill>
          <a:blip r:embed="rId7"/>
          <a:stretch/>
        </p:blipFill>
        <p:spPr>
          <a:xfrm>
            <a:off x="5684760" y="4746600"/>
            <a:ext cx="960480" cy="1571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doc "/>
          <p:cNvPicPr/>
          <p:nvPr/>
        </p:nvPicPr>
        <p:blipFill>
          <a:blip r:embed="rId8"/>
          <a:stretch/>
        </p:blipFill>
        <p:spPr>
          <a:xfrm>
            <a:off x="3720960" y="279360"/>
            <a:ext cx="1254240" cy="205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doc "/>
          <p:cNvPicPr/>
          <p:nvPr/>
        </p:nvPicPr>
        <p:blipFill>
          <a:blip r:embed="rId9"/>
          <a:stretch/>
        </p:blipFill>
        <p:spPr>
          <a:xfrm>
            <a:off x="5700600" y="868320"/>
            <a:ext cx="960480" cy="1571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doc "/>
          <p:cNvPicPr/>
          <p:nvPr/>
        </p:nvPicPr>
        <p:blipFill>
          <a:blip r:embed="rId10"/>
          <a:stretch/>
        </p:blipFill>
        <p:spPr>
          <a:xfrm>
            <a:off x="2503440" y="4875120"/>
            <a:ext cx="960480" cy="15717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doc "/>
          <p:cNvPicPr/>
          <p:nvPr/>
        </p:nvPicPr>
        <p:blipFill>
          <a:blip r:embed="rId1"/>
          <a:stretch/>
        </p:blipFill>
        <p:spPr>
          <a:xfrm>
            <a:off x="7218360" y="3886200"/>
            <a:ext cx="1728720" cy="2828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108860_a"/>
          <p:cNvPicPr/>
          <p:nvPr/>
        </p:nvPicPr>
        <p:blipFill>
          <a:blip r:embed="rId2"/>
          <a:stretch/>
        </p:blipFill>
        <p:spPr>
          <a:xfrm>
            <a:off x="974880" y="71280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25602_a"/>
          <p:cNvPicPr/>
          <p:nvPr/>
        </p:nvPicPr>
        <p:blipFill>
          <a:blip r:embed="rId3"/>
          <a:stretch/>
        </p:blipFill>
        <p:spPr>
          <a:xfrm>
            <a:off x="5486400" y="41904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622850_a"/>
          <p:cNvPicPr/>
          <p:nvPr/>
        </p:nvPicPr>
        <p:blipFill>
          <a:blip r:embed="rId4"/>
          <a:stretch/>
        </p:blipFill>
        <p:spPr>
          <a:xfrm>
            <a:off x="914400" y="378000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252500_a"/>
          <p:cNvPicPr/>
          <p:nvPr/>
        </p:nvPicPr>
        <p:blipFill>
          <a:blip r:embed="rId5"/>
          <a:stretch/>
        </p:blipFill>
        <p:spPr>
          <a:xfrm>
            <a:off x="4114800" y="3651120"/>
            <a:ext cx="2382840" cy="696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251802_a"/>
          <p:cNvPicPr/>
          <p:nvPr/>
        </p:nvPicPr>
        <p:blipFill>
          <a:blip r:embed="rId6"/>
          <a:stretch/>
        </p:blipFill>
        <p:spPr>
          <a:xfrm>
            <a:off x="4316400" y="4519440"/>
            <a:ext cx="2638440" cy="1071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"/>
          <p:cNvSpPr/>
          <p:nvPr/>
        </p:nvSpPr>
        <p:spPr>
          <a:xfrm>
            <a:off x="5124600" y="2484360"/>
            <a:ext cx="385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2560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тольный складной прибор с часами, датой, термометром, подставками под ручки, визитки и бумажный бл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316400" y="4363920"/>
            <a:ext cx="139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5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5867280" y="531504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518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4403880" y="5600880"/>
            <a:ext cx="290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нейка с часами и калькулято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380880" y="5924520"/>
            <a:ext cx="409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2285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ставка под визитки с таблетк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1295280" y="280044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886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Часы «Гиппократ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618068_a"/>
          <p:cNvPicPr/>
          <p:nvPr/>
        </p:nvPicPr>
        <p:blipFill>
          <a:blip r:embed="rId1"/>
          <a:stretch/>
        </p:blipFill>
        <p:spPr>
          <a:xfrm>
            <a:off x="1020600" y="54936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780645_a"/>
          <p:cNvPicPr/>
          <p:nvPr/>
        </p:nvPicPr>
        <p:blipFill>
          <a:blip r:embed="rId2"/>
          <a:stretch/>
        </p:blipFill>
        <p:spPr>
          <a:xfrm>
            <a:off x="990720" y="4419720"/>
            <a:ext cx="1714320" cy="128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780645_b"/>
          <p:cNvPicPr/>
          <p:nvPr/>
        </p:nvPicPr>
        <p:blipFill>
          <a:blip r:embed="rId3"/>
          <a:stretch/>
        </p:blipFill>
        <p:spPr>
          <a:xfrm>
            <a:off x="3029040" y="4038480"/>
            <a:ext cx="2609640" cy="1957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165218_a"/>
          <p:cNvPicPr/>
          <p:nvPr/>
        </p:nvPicPr>
        <p:blipFill>
          <a:blip r:embed="rId4"/>
          <a:stretch/>
        </p:blipFill>
        <p:spPr>
          <a:xfrm>
            <a:off x="5638680" y="706320"/>
            <a:ext cx="1067040" cy="1600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165234_a"/>
          <p:cNvPicPr/>
          <p:nvPr/>
        </p:nvPicPr>
        <p:blipFill>
          <a:blip r:embed="rId5"/>
          <a:stretch/>
        </p:blipFill>
        <p:spPr>
          <a:xfrm>
            <a:off x="7010280" y="771480"/>
            <a:ext cx="1325520" cy="1981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doc "/>
          <p:cNvPicPr/>
          <p:nvPr/>
        </p:nvPicPr>
        <p:blipFill>
          <a:blip r:embed="rId6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3"/>
          <p:cNvSpPr/>
          <p:nvPr/>
        </p:nvSpPr>
        <p:spPr>
          <a:xfrm>
            <a:off x="542880" y="3201840"/>
            <a:ext cx="461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18068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ставка под ручки в виде книги. «Обложка» книги может быть изготовлена на ваш вку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638680" y="23065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6521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7095960" y="2614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6523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5460840" y="300816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дкостная фигура для релаксации с идущими вверх частиц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631800" y="5996160"/>
            <a:ext cx="522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80645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писная книжка с отделением для визиток и руч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14141"/>
          <p:cNvPicPr/>
          <p:nvPr/>
        </p:nvPicPr>
        <p:blipFill>
          <a:blip r:embed="rId1"/>
          <a:stretch/>
        </p:blipFill>
        <p:spPr>
          <a:xfrm rot="1643400">
            <a:off x="1355760" y="290160"/>
            <a:ext cx="495360" cy="2857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77380"/>
          <p:cNvPicPr/>
          <p:nvPr/>
        </p:nvPicPr>
        <p:blipFill>
          <a:blip r:embed="rId2"/>
          <a:stretch/>
        </p:blipFill>
        <p:spPr>
          <a:xfrm rot="1758600">
            <a:off x="2285640" y="581040"/>
            <a:ext cx="1333440" cy="2847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77380"/>
          <p:cNvPicPr/>
          <p:nvPr/>
        </p:nvPicPr>
        <p:blipFill>
          <a:blip r:embed="rId3"/>
          <a:stretch/>
        </p:blipFill>
        <p:spPr>
          <a:xfrm rot="1700400">
            <a:off x="3809520" y="295200"/>
            <a:ext cx="1143000" cy="2828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77380"/>
          <p:cNvPicPr/>
          <p:nvPr/>
        </p:nvPicPr>
        <p:blipFill>
          <a:blip r:embed="rId4"/>
          <a:stretch/>
        </p:blipFill>
        <p:spPr>
          <a:xfrm rot="1672800">
            <a:off x="5243400" y="119160"/>
            <a:ext cx="1181160" cy="2828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77380"/>
          <p:cNvPicPr/>
          <p:nvPr/>
        </p:nvPicPr>
        <p:blipFill>
          <a:blip r:embed="rId5"/>
          <a:stretch/>
        </p:blipFill>
        <p:spPr>
          <a:xfrm rot="1506600">
            <a:off x="6514920" y="212400"/>
            <a:ext cx="1539720" cy="2685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740415_a"/>
          <p:cNvPicPr/>
          <p:nvPr/>
        </p:nvPicPr>
        <p:blipFill>
          <a:blip r:embed="rId6"/>
          <a:stretch/>
        </p:blipFill>
        <p:spPr>
          <a:xfrm rot="20192400">
            <a:off x="825480" y="4485960"/>
            <a:ext cx="2460600" cy="1084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747510_a"/>
          <p:cNvPicPr/>
          <p:nvPr/>
        </p:nvPicPr>
        <p:blipFill>
          <a:blip r:embed="rId7"/>
          <a:stretch/>
        </p:blipFill>
        <p:spPr>
          <a:xfrm rot="20891400">
            <a:off x="2681280" y="4440240"/>
            <a:ext cx="2424240" cy="134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747500_a"/>
          <p:cNvPicPr/>
          <p:nvPr/>
        </p:nvPicPr>
        <p:blipFill>
          <a:blip r:embed="rId8"/>
          <a:stretch/>
        </p:blipFill>
        <p:spPr>
          <a:xfrm rot="2554800">
            <a:off x="5833800" y="3886200"/>
            <a:ext cx="685800" cy="2552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7" descr="doc "/>
          <p:cNvPicPr/>
          <p:nvPr/>
        </p:nvPicPr>
        <p:blipFill>
          <a:blip r:embed="rId9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8"/>
          <p:cNvSpPr/>
          <p:nvPr/>
        </p:nvSpPr>
        <p:spPr>
          <a:xfrm>
            <a:off x="380880" y="3165480"/>
            <a:ext cx="189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4141.06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учка шариковая в форме шприца «03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3619440" y="306216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7380.0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2"/>
          <p:cNvSpPr/>
          <p:nvPr/>
        </p:nvSpPr>
        <p:spPr>
          <a:xfrm>
            <a:off x="2286000" y="33433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7380.0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3"/>
          <p:cNvSpPr/>
          <p:nvPr/>
        </p:nvSpPr>
        <p:spPr>
          <a:xfrm>
            <a:off x="4952880" y="3124080"/>
            <a:ext cx="13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7380.0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4"/>
          <p:cNvSpPr/>
          <p:nvPr/>
        </p:nvSpPr>
        <p:spPr>
          <a:xfrm>
            <a:off x="6629400" y="312408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7380.04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5"/>
          <p:cNvSpPr/>
          <p:nvPr/>
        </p:nvSpPr>
        <p:spPr>
          <a:xfrm>
            <a:off x="3962520" y="33195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учка шариковая на шну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6"/>
          <p:cNvSpPr/>
          <p:nvPr/>
        </p:nvSpPr>
        <p:spPr>
          <a:xfrm>
            <a:off x="533520" y="6004080"/>
            <a:ext cx="205740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4041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7"/>
          <p:cNvSpPr/>
          <p:nvPr/>
        </p:nvSpPr>
        <p:spPr>
          <a:xfrm>
            <a:off x="4800600" y="6004080"/>
            <a:ext cx="24382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47500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8"/>
          <p:cNvSpPr/>
          <p:nvPr/>
        </p:nvSpPr>
        <p:spPr>
          <a:xfrm>
            <a:off x="2438280" y="60199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4751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9"/>
          <p:cNvSpPr/>
          <p:nvPr/>
        </p:nvSpPr>
        <p:spPr>
          <a:xfrm>
            <a:off x="2781360" y="6186600"/>
            <a:ext cx="33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ладки для кни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730600_b"/>
          <p:cNvPicPr/>
          <p:nvPr/>
        </p:nvPicPr>
        <p:blipFill>
          <a:blip r:embed="rId1"/>
          <a:stretch/>
        </p:blipFill>
        <p:spPr>
          <a:xfrm>
            <a:off x="517680" y="484200"/>
            <a:ext cx="2087280" cy="2305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730600_a"/>
          <p:cNvPicPr/>
          <p:nvPr/>
        </p:nvPicPr>
        <p:blipFill>
          <a:blip r:embed="rId2"/>
          <a:stretch/>
        </p:blipFill>
        <p:spPr>
          <a:xfrm>
            <a:off x="2544840" y="331920"/>
            <a:ext cx="1874880" cy="1749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739502_b"/>
          <p:cNvPicPr/>
          <p:nvPr/>
        </p:nvPicPr>
        <p:blipFill>
          <a:blip r:embed="rId3"/>
          <a:stretch/>
        </p:blipFill>
        <p:spPr>
          <a:xfrm>
            <a:off x="1798560" y="3324240"/>
            <a:ext cx="2468520" cy="261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739506_b"/>
          <p:cNvPicPr/>
          <p:nvPr/>
        </p:nvPicPr>
        <p:blipFill>
          <a:blip r:embed="rId4"/>
          <a:stretch/>
        </p:blipFill>
        <p:spPr>
          <a:xfrm>
            <a:off x="4352760" y="3505320"/>
            <a:ext cx="2292480" cy="260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839500_a"/>
          <p:cNvPicPr/>
          <p:nvPr/>
        </p:nvPicPr>
        <p:blipFill>
          <a:blip r:embed="rId5"/>
          <a:stretch/>
        </p:blipFill>
        <p:spPr>
          <a:xfrm>
            <a:off x="5391000" y="846000"/>
            <a:ext cx="3276720" cy="2048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doc "/>
          <p:cNvPicPr/>
          <p:nvPr/>
        </p:nvPicPr>
        <p:blipFill>
          <a:blip r:embed="rId6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3"/>
          <p:cNvSpPr/>
          <p:nvPr/>
        </p:nvSpPr>
        <p:spPr>
          <a:xfrm>
            <a:off x="2819520" y="58863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3950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5302080" y="6033960"/>
            <a:ext cx="178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3950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352680" y="6248520"/>
            <a:ext cx="29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утляр для таблеток и витамин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39560" y="2824200"/>
            <a:ext cx="487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3060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Футляр для витаминов с тремя отделения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5361120" y="2973240"/>
            <a:ext cx="35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3950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еркало складное с расческо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549441_a"/>
          <p:cNvPicPr/>
          <p:nvPr/>
        </p:nvPicPr>
        <p:blipFill>
          <a:blip r:embed="rId1"/>
          <a:stretch/>
        </p:blipFill>
        <p:spPr>
          <a:xfrm>
            <a:off x="758880" y="69048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754106_a"/>
          <p:cNvPicPr/>
          <p:nvPr/>
        </p:nvPicPr>
        <p:blipFill>
          <a:blip r:embed="rId2"/>
          <a:stretch/>
        </p:blipFill>
        <p:spPr>
          <a:xfrm>
            <a:off x="5145120" y="59544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549451_a"/>
          <p:cNvPicPr/>
          <p:nvPr/>
        </p:nvPicPr>
        <p:blipFill>
          <a:blip r:embed="rId3"/>
          <a:stretch/>
        </p:blipFill>
        <p:spPr>
          <a:xfrm>
            <a:off x="1038240" y="4102200"/>
            <a:ext cx="1477800" cy="1492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549456_a"/>
          <p:cNvPicPr/>
          <p:nvPr/>
        </p:nvPicPr>
        <p:blipFill>
          <a:blip r:embed="rId4"/>
          <a:stretch/>
        </p:blipFill>
        <p:spPr>
          <a:xfrm>
            <a:off x="4467240" y="405432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doc "/>
          <p:cNvPicPr/>
          <p:nvPr/>
        </p:nvPicPr>
        <p:blipFill>
          <a:blip r:embed="rId5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"/>
          <p:cNvSpPr/>
          <p:nvPr/>
        </p:nvSpPr>
        <p:spPr>
          <a:xfrm>
            <a:off x="819000" y="564048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4945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«Сердце»-анти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4933800" y="3241800"/>
            <a:ext cx="39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54106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ржатель для документов «Зуб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373640" y="5667480"/>
            <a:ext cx="310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49456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Таблетка»-анти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92280" y="31320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4944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Подставка под визитки с ручкой и держателем для записок «Зуб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502706_a"/>
          <p:cNvPicPr/>
          <p:nvPr/>
        </p:nvPicPr>
        <p:blipFill>
          <a:blip r:embed="rId1"/>
          <a:stretch/>
        </p:blipFill>
        <p:spPr>
          <a:xfrm>
            <a:off x="5283360" y="939960"/>
            <a:ext cx="1917720" cy="2419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833212_a"/>
          <p:cNvPicPr/>
          <p:nvPr/>
        </p:nvPicPr>
        <p:blipFill>
          <a:blip r:embed="rId2"/>
          <a:stretch/>
        </p:blipFill>
        <p:spPr>
          <a:xfrm>
            <a:off x="1487520" y="679320"/>
            <a:ext cx="1778040" cy="2340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723526_a"/>
          <p:cNvPicPr/>
          <p:nvPr/>
        </p:nvPicPr>
        <p:blipFill>
          <a:blip r:embed="rId3"/>
          <a:stretch/>
        </p:blipFill>
        <p:spPr>
          <a:xfrm>
            <a:off x="952560" y="37782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823912_a"/>
          <p:cNvPicPr/>
          <p:nvPr/>
        </p:nvPicPr>
        <p:blipFill>
          <a:blip r:embed="rId4"/>
          <a:stretch/>
        </p:blipFill>
        <p:spPr>
          <a:xfrm>
            <a:off x="4048200" y="4146480"/>
            <a:ext cx="2657520" cy="1994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doc "/>
          <p:cNvPicPr/>
          <p:nvPr/>
        </p:nvPicPr>
        <p:blipFill>
          <a:blip r:embed="rId5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3"/>
          <p:cNvSpPr/>
          <p:nvPr/>
        </p:nvSpPr>
        <p:spPr>
          <a:xfrm>
            <a:off x="4876920" y="350820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02706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мка для фотографии 10x15 с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685800" y="3124080"/>
            <a:ext cx="380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3321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—Рамка для фотографии 5х8 с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4343400" y="6140520"/>
            <a:ext cx="25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2391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жка на 300 м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1305000" y="59976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23526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жка на 300 м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879623_a"/>
          <p:cNvPicPr/>
          <p:nvPr/>
        </p:nvPicPr>
        <p:blipFill>
          <a:blip r:embed="rId1"/>
          <a:stretch/>
        </p:blipFill>
        <p:spPr>
          <a:xfrm>
            <a:off x="762120" y="814320"/>
            <a:ext cx="1981080" cy="1851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879624_a"/>
          <p:cNvPicPr/>
          <p:nvPr/>
        </p:nvPicPr>
        <p:blipFill>
          <a:blip r:embed="rId2"/>
          <a:stretch/>
        </p:blipFill>
        <p:spPr>
          <a:xfrm>
            <a:off x="3122640" y="1101600"/>
            <a:ext cx="2011320" cy="1868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879628_a"/>
          <p:cNvPicPr/>
          <p:nvPr/>
        </p:nvPicPr>
        <p:blipFill>
          <a:blip r:embed="rId3"/>
          <a:stretch/>
        </p:blipFill>
        <p:spPr>
          <a:xfrm>
            <a:off x="5608800" y="1351080"/>
            <a:ext cx="1954080" cy="1877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879662_a"/>
          <p:cNvPicPr/>
          <p:nvPr/>
        </p:nvPicPr>
        <p:blipFill>
          <a:blip r:embed="rId4"/>
          <a:stretch/>
        </p:blipFill>
        <p:spPr>
          <a:xfrm>
            <a:off x="733320" y="3863880"/>
            <a:ext cx="1995480" cy="1930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879664_a"/>
          <p:cNvPicPr/>
          <p:nvPr/>
        </p:nvPicPr>
        <p:blipFill>
          <a:blip r:embed="rId5"/>
          <a:stretch/>
        </p:blipFill>
        <p:spPr>
          <a:xfrm>
            <a:off x="3076560" y="3889440"/>
            <a:ext cx="2048040" cy="1919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879668_a"/>
          <p:cNvPicPr/>
          <p:nvPr/>
        </p:nvPicPr>
        <p:blipFill>
          <a:blip r:embed="rId6"/>
          <a:stretch/>
        </p:blipFill>
        <p:spPr>
          <a:xfrm>
            <a:off x="5326200" y="3889440"/>
            <a:ext cx="2065320" cy="1923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doc "/>
          <p:cNvPicPr/>
          <p:nvPr/>
        </p:nvPicPr>
        <p:blipFill>
          <a:blip r:embed="rId7"/>
          <a:stretch/>
        </p:blipFill>
        <p:spPr>
          <a:xfrm>
            <a:off x="7391520" y="4038480"/>
            <a:ext cx="1590480" cy="2600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4"/>
          <p:cNvSpPr/>
          <p:nvPr/>
        </p:nvSpPr>
        <p:spPr>
          <a:xfrm>
            <a:off x="1295280" y="3276720"/>
            <a:ext cx="570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жка на 275 мл с силиконовым покрытием на ручк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3171960" y="29908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5734080" y="316224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2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866880" y="2757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2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3000240" y="605304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жка на 320 м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5487840" y="585936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6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915840" y="5791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6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3187800" y="5773680"/>
            <a:ext cx="12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79664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2:50:4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