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C2DC-A4A0-4E29-8291-EB4DC1B33F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ФИЛАКТИКА СЕРДЕЧНО-СОСУДИСТЫХ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РАЗВИТИЯ ИБ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причиной развития ИБС является атеросклероз коронарных артерий, при котором происходит постепенное сужение просвета сосуда вследствие жировых (холестериновых) отложений в его стенке – атеросклеротических бляш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новению заболевания способствуют множество причин, но особое место занимают факторы риска, связанные с привычками и образом жизни. Если они будут вовремя предотвращены, то болезнь может и не разви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ное А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дина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перенапряжение (острые тяжелые или длительные 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АКТОРЫ РИСКА РАЗВИТИЯ АТЕРОСКЛЕ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лечения стенокардии – устранение боли, профилактика приступов и прогрессирования заболе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имо лекарственных антиангиальных средств лечение обязательно должно включать меры по устранению негативного влияния факторов риска ИБ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ее время активно применяются хирургические и интервенционные методы восстановления кровоснабжения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НИЕ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ДЛЯ ПРЕДУПРЕЖДЕНИЯ ПРИСТУПОВ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ИОПЛАСТИКА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ОПЕРАТИВНАЯ КАРД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ОРТОКОРОНАРНОЕ ШУНТИРОВАНИЕ (АКШ)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а дозированная ходьба, пульс при этом необходимо контролиров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допустимых нагрузок определяется границами зоны безопасного пульса, которая индивидуальна и определяется врач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избегать изометрических усил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Е НАГРУЗ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тказаться от ку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ется или нормализуется уровень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ежается пуль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ается утренний кашель, одышка, слабость и утомляе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еличивается работоспособ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станавливается способность чувствовать запах и вк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цвет лица, состояние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ается пам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ый отпуск необходим для укрепления и восстановления здоров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огласование с врачом выбора места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ать желательно в той климатической зоне, в которой больной прожи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ЫХ И ДОС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ДЦ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конусообразный пол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ечно-фиброзный орган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ой системы. Располагается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дной клетке загрудинно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ет ток крови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веносным  сосудам. Работа сердц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ывается механическими явлени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сасывание и выталкивание). Облада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атиз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 расположения коронарных артер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ня соблюдать, спать ложиться в одно и то же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сна 7-8 ча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заниматься физической или умственной работой непосредственно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эмоциональных передач необходимо прекращать за 1,5-2 часа до с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совершать перед сном прогул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а должна быть разнообразно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ен режим пит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м ИБС необходимо огранич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исключить из рациона продукты, богатые холестерином и насыщенными жи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вышается АД, необходим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аничить употребление соли – не бол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г в сутки (1 чайная ложка без верх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ные напитки даже в ма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зах можно употреблять только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ю с врач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ограничи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продукты (печень, почки, мозги, ик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желток (не более 1 в недел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говядину, баранину, свин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ую птицу (гусь, утка, куриц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отные жиры в чистом ви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льмовое и кокосово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рные молочные продукты (сливки, кефир, сыры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йонез и соусы на его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дости с высоким содержанием ж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авить в рацио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ощи, фрукты, ягоды, зеленый салат и лук, петрушку, укроп, шпинат, сельдерей, чес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ное мясо и птицу (желательно белое мя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ичный бе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мас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скую рыбу и морепродукты (НО НЕ кревет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ягкие маргарины (не более столовой ложки в ден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лочные продукты с пониженным содержанием жира (0,5%-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и из круп, отруби, хлеб из муки грубого пом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ецкие орехи (под контролем калорий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бовые, со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й ча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холестерин - &lt; 170 мг/дл (&lt; 4,5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низкой плотности (ЛПНП), повышающие риск заболевания - &lt; 100 мг/дл (&lt; 2,6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попротеиды высокой плотности (ЛПВП), снижающие риск заболевания - &gt; 40 мг/дл (&gt;1,0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глицериды - &lt; 150 мг/дл (&lt; 1,7 ммоль/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ЖИРОВ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чной оценки степени избыточной массы тела используется индекс массы тела (индекс Кетле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Т (кг/м2) = вес (кг) : рост (м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неблагоприятным для больных ИБС и артериальной гипертонией является верхний (висцеральный) тип ожирения, когда жир накапливается в области груди и живота (мужской тип ожи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такого ожирения определяется по измерению окружности тал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 ОЖ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умеренной физической активности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7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ый вес для роста (кг) * 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ОРИЙ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ЭМОЦИОНАЛЬНОЕ НАПРЯ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пасны для больных тяжелые и длительные стрессы (дистресс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либо устранять факторы-стрессоры, либо учиться изменять к ним отнош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ий эффект оказывают занятие любимым делом (хобб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е сердца (болезни сердца) 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по МКБ-10 – разделы I00 – I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я ритма и пров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алительные заболевания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панные поро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териальные гипертен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ие по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сосудов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ло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ЗАБОЛЕВАНИЙ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 сердца различны, наиболее распространенное и серьёзное из них – ишемическая болезнь сердца (ИБ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ИБС лежит сужение или закупорка коронарных артерий, питающих серд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ще всего ИБС проявляется болевым приступом – стенокард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затянувшемся приступе стенокардии или чрезмерной нагрузке может развиться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ШЕМИЧЕСКАЯ БОЛЕЗНЬ СЕРДЦА (ИБ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клюзия (закупорка) коронарной артерии серд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нагрузки (быстрая ходьба, подъем по лестнице, перенос тяжестей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ональный стр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облюдение рекомендаций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кая смена метеорологических условий (холод, ветер, влаж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артериального д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мерное потребление пи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 большой дозы алког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суаль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ПРОВОЦИРУЮЩИЕ ПРИСТУП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приступа 3-5 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запоминать характер, длительность болей, реакцию на при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троглицерина во время приступа. Это необходимо для того, чтобы отличи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течение болезни с постоянной частотой приступов от перехода его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табильное состояние и особенно от инфаркта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кратить физическую нагрузку, при возможности сесть, успокои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одну таблетку нитроглицерина под язы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ъеме АД разжевать одну таблетку нифедепина или катопри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ПОМОЩЬ ПРИ СТЕНОКАР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асные призна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и становятся интенсивнее, продолжаются 20-30 м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нообразно повторяются в состоянии поко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ает резкая слабость и чувство стр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ается пульс и резко колеблется А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ЕССИРУЮЩАЯ (НЕСТАБИЛЬНАЯ) СТЕНОКАР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230-0300-410B-B4DC-923EACED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AC0-01A8-471F-B911-6B1C317D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892-CFF3-4982-9EB9-D9DB68BB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AEE-8E4D-4DC2-9EDF-C1D43166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72B6-02BA-47A8-9C7F-8C878321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6ADA-0410-483B-83F9-85B5D870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5269-4FC5-405C-B345-950F1CC6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D077-E550-494F-84DD-83EA69D2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FA10-B23E-4EF7-89A8-D637351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A439-08A7-4531-98C4-0DCC69A9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4650-B823-4FFA-8B3D-92457D5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149-2426-48E8-8FA3-9A5D3F4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A14F-EC2E-469A-A195-4F95638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A3EF-1DA3-408C-A1CA-3EE7D31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0E9A-9408-46F4-B666-D76293A0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058F-714C-4A64-8511-0653CB78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AF48-E4E9-4F00-9F51-2014B120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9BAA-9646-45EC-837B-DA936418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4030D-2DAE-46D3-B817-9E5AA8DE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175E-7298-4A4E-A11D-8F637BFA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7D95-BA04-4467-9BBB-9C7E926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3725C-DE7E-4FB3-80EF-6EEC99D2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801-9D59-4605-A5AF-78DE670C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F308-E8C0-44BC-A2B6-610317AA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3B1EE-29FA-44F8-9C34-8C4061C1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B09E-D184-4B8B-B4FD-AFAC0990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F023-C21D-4D83-9B45-BC1D1C0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5605-6CB3-4789-B38E-1D933CC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D0798-332C-4E42-AAEE-8BE44058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01B9-D62B-4EF3-8A41-6FF55FDD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290FB-EA68-4A1E-9565-3A9D21C8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02EC5-9CC1-4E26-9BD3-F3341C49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7EEB1-A5EE-4D08-96F8-CFC2F1B7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399-34D1-440B-BD72-F5194C19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AF91-05D6-4AC5-BE24-F26CB70E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3DC6A-C4D3-42E2-8BE7-0962836C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463B3-DFF4-4E14-B709-5D73093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009CD-6690-48AD-9B5B-5E66E05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9479F-FDCA-4ADF-BFE3-0D09653F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FFA9-0C26-4E39-BAD2-221ADCC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BCEF0-1431-48AC-8F33-08E504B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42708-A473-4544-B36E-2F1396BD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90885-C890-4F7A-8C9C-0EDCFFE5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75005-8D28-49F3-B988-AE631B0E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F16-5D17-44F1-A5A1-7FF6D86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349F4-0AC9-49D8-9BA4-1E41618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AB014-EBD4-4AB4-8B69-3BA01EF1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A91E-E91D-4391-91E2-FD84EBAA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0BD2B-9ABC-4307-8171-78D3A5F0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600E6-39D3-4DC0-A177-4A6D7D86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3FD5-F935-424A-A340-72C3CE5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28748-3DE1-4D6B-876E-B4C1F9C8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9FB6-53B7-4D43-922B-CC5B0EE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608A-AB03-4195-82FA-9B30007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11553-0D96-4780-9F00-332722D1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4EB-2937-46E2-867A-1852390C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51114-ABFB-4BF4-B1DA-C5427EA8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9BBF7-1760-4B26-81D7-052AD478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E5ACD-E8F0-4C93-B30E-45396A9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C87B-6168-4383-8648-8C443F53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2E63F-D5D2-4E20-8044-55A35AC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149F4-8013-418D-A51D-C1A4E5C0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57624-A06B-4BFE-AB7B-F721A36F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163E5-133F-48F3-A1A5-808E7748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62CDD-E26D-4151-A438-AB666C75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185C5-954D-4794-AEC7-1E815032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6AB-EE85-4091-B31E-37EE530E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8FC55-5F4E-4A4A-B246-1B54549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6527-5981-418E-8D11-544D495A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0A8D0-119E-4FDB-8139-086F266C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60001-2946-4423-8C95-A0DDB8354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CA01-CE66-4C93-A0F3-A9908ACB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9B187-7E6B-4B38-B224-829D1F1F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33E1C-D676-4673-8745-F5BD177B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46A5A-0095-4B77-9770-BAEEA2C7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FD504-1478-4862-BF12-BBB6DD20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85E02-E60D-46C1-A55E-5B82E31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979-0E1D-431F-92F3-0F755E2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533D-95E2-42EA-94D1-7BAF0F6B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F452-984D-4977-A120-6C42E232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A937-FDD2-4C38-854C-143F02C4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787A8-BE55-4EA8-AAA2-248EC747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41DCE-9F92-491A-85F4-D6B3B803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B24-F990-4EFB-A2B4-8C36ED3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CF84-39FC-4834-9005-206F1B1C5EEB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EA0E-88AD-4A52-8F63-8D8A06D9DDB8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AFB0-20FA-4B53-8F16-111001C65CB9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0458-F1D8-4533-9C2E-3A2A08CD40F7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6ec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6ec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FAF5-E628-4E16-8D0B-621CFA840EDC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18FA-1F21-4210-A5AE-F0788328D699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7C49-1245-4860-911D-BC806574BA60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3655-7AFC-4EC3-9B4F-DB5095695870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5B90-AB6B-44B3-AD8A-BFFD4BEE5959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8447-42E7-4A89-A53C-8405545050DF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FE5-6039-4237-B902-51600A29C22C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586-F3BF-4651-8622-9DE8B42B675C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5fa326"/>
              </a:gs>
              <a:gs pos="100000">
                <a:srgbClr val="b2e38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6e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6ec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5b6f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99E1-25F6-42E7-9B16-4A963CC88603}" type="datetime">
              <a:rPr b="0" lang="ru-RU" sz="1000" spc="-1" strike="noStrike">
                <a:solidFill>
                  <a:srgbClr val="4e5b6f"/>
                </a:solidFill>
                <a:latin typeface="Candar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e5b6f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214-3F49-49B9-8733-5EAA6BB8DD81}" type="slidenum">
              <a:rPr b="0" lang="ru-RU" sz="1000" spc="-1" strike="noStrike">
                <a:solidFill>
                  <a:srgbClr val="4e5b6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ndara"/>
              </a:rPr>
              <a:t>ПРОФИЛАКТИКА СЕРДЕЧНО-СОСУДИСТЫХ ЗАБОЛЕВАНИЙ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556000" y="465300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Объект 3" descr=""/>
          <p:cNvPicPr/>
          <p:nvPr/>
        </p:nvPicPr>
        <p:blipFill>
          <a:blip r:embed="rId1"/>
          <a:stretch/>
        </p:blipFill>
        <p:spPr>
          <a:xfrm>
            <a:off x="15840" y="4005360"/>
            <a:ext cx="3809880" cy="263844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ЧИНЫ РАЗВИТИЯ ИБ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TextBox 5"/>
          <p:cNvSpPr/>
          <p:nvPr/>
        </p:nvSpPr>
        <p:spPr>
          <a:xfrm>
            <a:off x="789120" y="23493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Чаще всего причиной развития ИБС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з коронарных артери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, при котором происходит постепенное сужение просвета сосуда вследствие жировых (холестериновых) отложений в его стенке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атеросклеротических бляшек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635280" y="450864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озникновению заболевания способствуют множество причин, но особое место занимаю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акторы риска,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язанные с привычками и образом жизни. Если они будут вовремя предотвращены, то болезнь может и не разв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108000" y="2565360"/>
            <a:ext cx="885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рациональное питание и, как следствие, нарушение липидного обмена в виде повышения концентрации в крови холестерина и других жировых комплексов, нарушение обмена углеводов, избыточная масса тела и риск развития сахарного диабет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ное АД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Курени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Гиподинам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сихоэмоциональное перенапряжение (острые тяжелые или длительные стрессы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ОСНОВНЫЕ ФАКТОРЫ РИСКА РАЗВИТИЯ АТЕРОСКЛЕРОЗ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988640"/>
            <a:ext cx="805644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Основные цели лечения стенокардии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– устранение боли, профилактика приступов и прогрессирования заболевани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омимо лекарственных антиангиальных средств лечение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обязательно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должно включать меры по устранению негативного влияния факторов риска ИБС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226440" indent="-226440">
              <a:spcBef>
                <a:spcPts val="64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Также в настоящее время активно применяются </a:t>
            </a:r>
            <a:r>
              <a:rPr b="1" i="1" lang="ru-RU" sz="2600" spc="-1" strike="noStrike">
                <a:solidFill>
                  <a:srgbClr val="000000"/>
                </a:solidFill>
                <a:latin typeface="Candara"/>
              </a:rPr>
              <a:t>хирургические и интервенционные методы 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восстановления кровоснабжения миокард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ЛЕЧЕНИЕ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179280" y="1628640"/>
          <a:ext cx="8785440" cy="5135760"/>
        </p:xfrm>
        <a:graphic>
          <a:graphicData uri="http://schemas.openxmlformats.org/drawingml/2006/table">
            <a:tbl>
              <a:tblPr/>
              <a:tblGrid>
                <a:gridCol w="360072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РЕПАР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цетилсалицилов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редупреждает образование тромбов в коронарных сосуд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ат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ормализуют уровень липидов кр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122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-адреноблокаторы (при противопоказаниях или непереносимости применяют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f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  <a:ea typeface="Times New Roman"/>
                        </a:rPr>
                        <a:t>ингиби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медляют частоту пульса, уменьшают работу сердца, снижают частоту приступов стенокард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слабляют нагрузку на 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нтагонисты кальция и нитр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асширяют артерии, в т. ч. коронарные, снижают повышенное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нгибиторы АП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нижают АД, замедляют развитие изменений в сосудах и сердце и тяжелых осложнений И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Цитопротек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ащищают клетки миокарда от недостатка кислорода (ишемии) в момент приступа, не оказывают влияния на ЧСС и 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920" y="338040"/>
            <a:ext cx="86421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РЕПАРАТЫ ДЛЯ ПРЕДУПРЕЖДЕНИЯ ПРИСТУПОВ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Объект 3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4673520" cy="4451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979880" y="2565360"/>
            <a:ext cx="403236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НГИОПЛАСТИКА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наименее травматичная интервенционная процедура, при которой все манипуляции проводятся внутри сосуда без хирургического вмешательства на грудной клетк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Объект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4240080" cy="38163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СОВРЕМЕННАЯ ОПЕРАТИВНАЯ КАРДИОЛОГ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179280" y="2809800"/>
            <a:ext cx="51134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ndara"/>
              </a:rPr>
              <a:t>АОРТОКОРОНАРНОЕ ШУНТИРОВАНИЕ (АКШ)</a:t>
            </a: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 – хирургическая операция на коронарных артериях по созданию дополнительного кровоснабжения миокарда в обход пораженного сосу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61720" y="1709640"/>
            <a:ext cx="8856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 рекомендации врача следует отказаться от длительных и частых командировок, ночных и вечерних смен, работы на холоде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а дозированная ходьба, пульс при этом необходимо контролировать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редна как необоснованная бездеятельность, так и работа с перегрузками, особенно при тяжелом течении заболевания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овень допустимых нагрузок определяется границами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зоны безопасного пульс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торая индивидуальна и определяется врачом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лезны регулярная утренняя гимнастика, комплексы лечебной физкультуры, дозированная ходьба;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48040" indent="-2480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ледует избегать изометрических усилий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РАБОЧИЕ НАГРУЗК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250920" y="1699920"/>
            <a:ext cx="8642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оказана зависимость между продолжительностью, интенсивностью курения и тяжестью атеросклеротического поражения коронарных сосудов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отказаться от курени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2" name="Рисунок 3" descr=""/>
          <p:cNvPicPr/>
          <p:nvPr/>
        </p:nvPicPr>
        <p:blipFill>
          <a:blip r:embed="rId1"/>
          <a:stretch/>
        </p:blipFill>
        <p:spPr>
          <a:xfrm>
            <a:off x="2266920" y="4175280"/>
            <a:ext cx="4756320" cy="2530440"/>
          </a:xfrm>
          <a:prstGeom prst="rect">
            <a:avLst/>
          </a:prstGeom>
          <a:ln w="0">
            <a:noFill/>
          </a:ln>
        </p:spPr>
      </p:pic>
      <p:sp>
        <p:nvSpPr>
          <p:cNvPr id="403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871560" y="1412640"/>
            <a:ext cx="7408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Уже в первые недели и месяцы после отказа от курения наблюдаются положительные сдвиги в показателях здоровья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табилизируется или нормализуется уровень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режается пуль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меньшается утренний кашель, одышка, слабость и утомляем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величивается работоспособ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сстанавливается способность чувствовать запах и вку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цвет лица, состояние кож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лучшается памя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УР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26560" y="2349360"/>
            <a:ext cx="7409160" cy="38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Ежегодный отпуск необходим для укрепления и восстановления здоровья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согласование с врачом выбора места отдых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дыхать желательно в той климатической зоне, в которой больной проживает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ТДЫХ И ДОСУГ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Объект 3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489120" cy="3240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ОСНОВНЫЕ СВЕД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510000" y="2349360"/>
            <a:ext cx="561636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ndara"/>
              </a:rPr>
              <a:t>СЕРДЦЕ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это конусообразный полый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мышечно-фиброзный орган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ой системы. Располагается в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грудной клетке загрудинно. 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беспечивает ток крови по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кровеносным  сосудам. Работа сердца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описывается механическими явлениями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(всасывание и выталкивание). Обладает 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ndara"/>
              </a:rPr>
              <a:t>автоматиз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309600" y="569736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Схема расположения коронарных артерий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871560" y="1773360"/>
            <a:ext cx="7408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Режим дня соблюдать, спать ложиться в одно и то же время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должительность сна 7-8 часо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Нельзя заниматься физической или умственной работой непосредственно перед сном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Просмотр эмоциональных передач необходимо прекращать за 1,5-2 часа до сна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В случае нарушения сна необходимо проконсультироваться с врачом о назначении снотворных средств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  <a:p>
            <a:pPr marL="261720" indent="-261720">
              <a:spcBef>
                <a:spcPts val="624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ndara"/>
              </a:rPr>
              <a:t>Желательно совершать перед сном прогулки.</a:t>
            </a:r>
            <a:endParaRPr b="0" lang="en-US" sz="25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Объект 3" descr=""/>
          <p:cNvPicPr/>
          <p:nvPr/>
        </p:nvPicPr>
        <p:blipFill>
          <a:blip r:embed="rId1"/>
          <a:stretch/>
        </p:blipFill>
        <p:spPr>
          <a:xfrm>
            <a:off x="4498920" y="2419200"/>
            <a:ext cx="4821120" cy="4176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179280" y="1844640"/>
            <a:ext cx="64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Пища должна быть разнообразно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балансированной по калорийности и питательным веществам, содержать ограниченное количество холестери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бязателен режим пит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Больным ИБС необходимо огранич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или исключить из рациона продукты, богатые холестерином и насыщенными жир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Если повышается АД, необходим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ограничить употребление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соли –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не боле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ndara"/>
              </a:rPr>
              <a:t>5 г в сутки (1 чайная ложка без верха)</a:t>
            </a: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Алкогольные напитки даже в мал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дозах можно употреблять только п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ndara"/>
              </a:rPr>
              <a:t>согласованию с врач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684360" y="1412640"/>
            <a:ext cx="79912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ограничить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убпродукты (печень, почки, мозги, икр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Яичный желток (не более 1 в недел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говядину, баранину, свинину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ую птицу (гусь, утка, курица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вотные жиры в чистом вид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Пальмовое и кокосовое масл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Жирные молочные продукты (сливки, кефир, сыры и т.д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Майонез и соусы на его основе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ладости с высоким содержанием жир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С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ndara"/>
              </a:rPr>
              <a:t>Алкогол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871560" y="1341360"/>
            <a:ext cx="7408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Candara"/>
              </a:rPr>
              <a:t>Добавить в рацион:</a:t>
            </a:r>
            <a:endParaRPr b="0" lang="en-US" sz="22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Овощи, фрукты, ягоды, зеленый салат и лук, петрушку, укроп, шпинат, сельдерей, чесн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Постное мясо и птицу (желательно белое мясо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Яичный белок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Растительные мас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рскую рыбу и морепродукты (НО НЕ креветк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ягкие маргарины (не более столовой ложки в день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Молочные продукты с пониженным содержанием жира (0,5%-1%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Каши из круп, отруби, хлеб из муки грубого помола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Грецкие орехи (под контролем калорийности)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Бобовые, сою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d5a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d5a50"/>
                </a:solidFill>
                <a:latin typeface="Candara"/>
              </a:rPr>
              <a:t>Зеленый чай</a:t>
            </a:r>
            <a:endParaRPr b="0" lang="en-US" sz="23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НЦИПЫ ПИТА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24000" y="2133360"/>
            <a:ext cx="86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Целевые уровни показателей жирового (липидного) обмена, к которым необходимо стремиться всем больным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бщий холестерин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7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 4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5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низкой плотности (ЛПНП), повыш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0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2,6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Липопротеиды высокой плотности (ЛПВП), снижающие риск заболевания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4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1,0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Триглицериды - 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50 мг/дл (</a:t>
            </a:r>
            <a:r>
              <a:rPr b="0" lang="en-US" sz="2400" spc="-1" strike="noStrike">
                <a:solidFill>
                  <a:srgbClr val="000000"/>
                </a:solidFill>
                <a:latin typeface="Candara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1,7 ммоль/л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УРОВНИ ЖИРОВ КРОВ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8920" y="206064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Для точной оценки степени избыточной массы тела используется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индекс массы тела (индекс Кетле)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ИМТ (кг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ndara"/>
              </a:rPr>
              <a:t>) = вес (кг) : рост (м)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ndara"/>
              </a:rPr>
              <a:t>2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ВЕС ТЕЛ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8" name="Прямоугольник 3"/>
          <p:cNvSpPr/>
          <p:nvPr/>
        </p:nvSpPr>
        <p:spPr>
          <a:xfrm>
            <a:off x="2268360" y="2924280"/>
            <a:ext cx="4607280" cy="43344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68360" y="3645000"/>
          <a:ext cx="8064360" cy="2595600"/>
        </p:xfrm>
        <a:graphic>
          <a:graphicData uri="http://schemas.openxmlformats.org/drawingml/2006/table">
            <a:tbl>
              <a:tblPr/>
              <a:tblGrid>
                <a:gridCol w="2521080"/>
                <a:gridCol w="2590560"/>
                <a:gridCol w="2952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Индекс Кетле (кг/м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Candara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Риск ССЗ и диаб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lt;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из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ефицит массы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18,5 – 2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умер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5a50"/>
                          </a:solidFill>
                          <a:latin typeface="Candara"/>
                        </a:rPr>
                        <a:t>нормаль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,0 – 2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избыточная масса те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0,0 – 3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5,0 – 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чень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чрезвычайно 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жирени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I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теп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30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920" y="1844280"/>
            <a:ext cx="86421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аиболее неблагоприятным для больных ИБС и артериальной гипертонией является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верхний (висцеральный) тип ожирения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, когда жир накапливается в области груди и живота (мужской тип ожирения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иск такого ожирения определяется по измерению окружности тали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ТИП ОЖИР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250920" y="4869000"/>
          <a:ext cx="8642160" cy="1523880"/>
        </p:xfrm>
        <a:graphic>
          <a:graphicData uri="http://schemas.openxmlformats.org/drawingml/2006/table">
            <a:tbl>
              <a:tblPr/>
              <a:tblGrid>
                <a:gridCol w="4398840"/>
                <a:gridCol w="4243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мужч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94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102 –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Если талия женщин (см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80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– повышенны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&gt;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8 – высокий рис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fd13b"/>
                      </a:solidFill>
                    </a:lnL>
                    <a:lnR w="5760">
                      <a:solidFill>
                        <a:srgbClr val="7fd13b"/>
                      </a:solidFill>
                    </a:lnR>
                    <a:lnT w="5760">
                      <a:solidFill>
                        <a:srgbClr val="7fd13b"/>
                      </a:solidFill>
                    </a:lnT>
                    <a:lnB w="5760">
                      <a:solidFill>
                        <a:srgbClr val="7fd13b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434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умеренной физической активности = 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7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Оптимальная суточная калорийность при низкой физической активности («сидячие» профессии) =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нормальный вес для роста (кг) * 32,5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КАЛОРИЙ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7" name="Прямоугольник 3"/>
          <p:cNvSpPr/>
          <p:nvPr/>
        </p:nvSpPr>
        <p:spPr>
          <a:xfrm>
            <a:off x="1835280" y="3573360"/>
            <a:ext cx="5473440" cy="43200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4"/>
          <p:cNvSpPr/>
          <p:nvPr/>
        </p:nvSpPr>
        <p:spPr>
          <a:xfrm>
            <a:off x="1835280" y="5373720"/>
            <a:ext cx="5473440" cy="503280"/>
          </a:xfrm>
          <a:prstGeom prst="rect">
            <a:avLst/>
          </a:prstGeom>
          <a:noFill/>
          <a:ln w="15840">
            <a:solidFill>
              <a:srgbClr val="406b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Объект 3" descr=""/>
          <p:cNvPicPr/>
          <p:nvPr/>
        </p:nvPicPr>
        <p:blipFill>
          <a:blip r:embed="rId1"/>
          <a:stretch/>
        </p:blipFill>
        <p:spPr>
          <a:xfrm>
            <a:off x="5870520" y="285264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СИХОЭМОЦИОНАЛЬНОЕ НАПРЯЖЕНИЕ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2" name="TextBox 4"/>
          <p:cNvSpPr/>
          <p:nvPr/>
        </p:nvSpPr>
        <p:spPr>
          <a:xfrm>
            <a:off x="108000" y="2060640"/>
            <a:ext cx="59040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собенно опасны для больных тяжелые и длительные стрессы (дистре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обходимо либо устранять факторы-стрессоры, либо учиться изменять к ним отно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ороший эффект оказывают занятие любимым делом (хобб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Желательно включать психологические тренировки (аутотренинг) и методики релаксации, повышающие устойчивость нервной системы к стресс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276640"/>
            <a:ext cx="8642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ndara"/>
              </a:rPr>
              <a:t>Заболевание сердца (болезни сердца) 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— нарушение нормального функционирования сердца. Включает в себя поражение перикарда, миокарда, эндокарда, клапанного аппарата сердца, сосудов сердца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  <a:p>
            <a:pPr marL="237240" indent="-237240">
              <a:spcBef>
                <a:spcPts val="799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Классификация по МКБ-10 – разделы </a:t>
            </a: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I00 – I52.</a:t>
            </a:r>
            <a:endParaRPr b="0" lang="en-US" sz="32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ЗАБОЛЕВАНИЯ СЕРДЦ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900000" y="2491920"/>
            <a:ext cx="7407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Нарушения ритма и проводимост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Воспалительные заболевания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Клапанные порок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Артериальные гипертензии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Ишемические пораж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оражение сосудов сердца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  <a:p>
            <a:pPr lvl="1" marL="576360" indent="-273240">
              <a:spcBef>
                <a:spcPts val="700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</a:rPr>
              <a:t>Патологические изменения</a:t>
            </a:r>
            <a:endParaRPr b="0" lang="en-US" sz="28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КЛАССИФИКАЦИЯ ВИДОВ ЗАБОЛЕВАНИЙ СЕРДЦ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-22320" y="1773360"/>
            <a:ext cx="56023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Заболевания сердца различны, наиболее распространенное и серьёзное из них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ишемическая болезнь сердца (ИБС)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 основе ИБС лежит сужение или закупорка коронарных артерий, питающих сердце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аще всего ИБС проявляется болевым приступом –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тенокардией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 затянувшемся приступе стенокардии или чрезмерной нагрузк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может развиться инфаркт миокарда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ИШЕМИЧЕСКАЯ БОЛЕЗНЬ СЕРДЦА (ИБС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8" name="Рисунок 3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894120" cy="35276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5508720" y="59324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Рис. 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Окклюзия (закупорка) коронарной артерии серд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250560" y="2349000"/>
            <a:ext cx="87138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Физические нагрузки (быстрая ходьба, подъем по лестнице, перенос тяжестей и др.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Эмоциональный стресс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Несоблюдение рекомендаций врач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Резкая смена метеорологических условий (холод, ветер, влажность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вышение артериального давлени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Чрезмерное потребление пищи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ием большой дозы алкогол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452520" indent="-452520">
              <a:spcBef>
                <a:spcPts val="601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ексуальная активность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ФАКТОРЫ, ПРОВОЦИРУЮЩИЕ ПРИСТУП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00000" y="2421000"/>
            <a:ext cx="7407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(чувство тяжести, давления, жжения) за грудиной, «отдающая» в шею, плечи, руки (чаще левую)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ь обычно исчезает через 2-3 мин. После прекращения физической нагрузки или приема нитроглицерин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родолжительность приступа 3-5 мин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ndara"/>
              </a:rPr>
              <a:t>ПРИЗНАКИ СТЕНОКАРД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TextBox 3"/>
          <p:cNvSpPr/>
          <p:nvPr/>
        </p:nvSpPr>
        <p:spPr>
          <a:xfrm>
            <a:off x="34920" y="5661000"/>
            <a:ext cx="9109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обходимо запоминать характер, длительность болей, реакцию на прием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итроглицерина во время приступа. Это необходимо для того, чтобы отличить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стабильное течение болезни с постоянной частотой приступов от перехода его в 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Candara"/>
              </a:rPr>
              <a:t>нестабильное состояние и особенно от инфаркта миокар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"/>
          <p:cNvSpPr/>
          <p:nvPr/>
        </p:nvSpPr>
        <p:spPr>
          <a:xfrm>
            <a:off x="0" y="5819760"/>
            <a:ext cx="104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ndara"/>
              </a:rPr>
              <a:t>N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79280" y="1915920"/>
            <a:ext cx="8640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екратить физическую нагрузку, при возможности сесть, успокоиться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нять одну таблетку нитроглицерина под язык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боль не снимается, через 3-5 мин. Повторить прием нитроглицерина или ингаляцию нитроспрея (до 2-3 раз)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При подъеме АД разжевать одну таблетку нифедепина или катоприла.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Если приступ не удается снять в течение 15-20 мин., необходимо вызвать врача скорой помощи и принять одну таблетку аспирина (0,5 г)</a:t>
            </a: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  <a:p>
            <a:pPr marL="425160" indent="-425160">
              <a:spcBef>
                <a:spcPts val="649"/>
              </a:spcBef>
              <a:buClr>
                <a:srgbClr val="7fd13b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ПЕРВАЯ ПОМОЩЬ ПРИ СТЕНОКАРД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560" y="1773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Характеризуется увеличением частоты и приступов и их тяжести, сокращением обычной дистанции во время ходьбы. 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могут возникать даже в покое, обычная доза нитроглицерина не всегда дает эффект, и приходится ее увеличивать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пасные признаки: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Боли становятся интенсивнее, продолжаются 20-30 мин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лнообразно повторяются в состоянии покоя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Возникает резкая слабость и чувство страха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7fd13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Учащается пульс и резко колеблется АД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Необходимо срочно обратиться в скорую медицинскую помощь, т.к. следует подозревать инфаркт миокарда.</a:t>
            </a:r>
            <a:endParaRPr b="0" lang="en-US" sz="2400" spc="-1" strike="noStrike">
              <a:solidFill>
                <a:srgbClr val="4e5b6f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РОГРЕССИРУЮЩАЯ (НЕСТАБИЛЬНАЯ) СТЕНОКАРД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Місце для нижнього колонтитула 3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e5b6f"/>
                </a:solidFill>
                <a:latin typeface="Candar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16:19:08Z</dcterms:created>
  <dc:creator>MashutiK</dc:creator>
  <dc:description/>
  <dc:language>en-US</dc:language>
  <cp:lastModifiedBy>LEGION</cp:lastModifiedBy>
  <dcterms:modified xsi:type="dcterms:W3CDTF">2015-11-27T12:50:49Z</dcterms:modified>
  <cp:revision>54</cp:revision>
  <dc:subject/>
  <dc:title>ПРОФИЛАКТИКА СЕРДЕЧНО-СОСУДИСТЫХ ЗАБОЛЕВАНИЙ</dc:title>
</cp:coreProperties>
</file>