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C499-1FE9-4BD5-820A-A2B5AA8D9971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AF61-76E4-4F01-9C43-63DAB020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646D-7FE0-49B0-A895-141C2E05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59CD-A241-48C7-A4E0-D6408AB4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71BD-E4D8-4721-801C-16360230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2D9B-664E-4A8A-9B7E-1586457D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80B0-CAC2-4A58-BBAE-42769D36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8CB-464B-47E3-A8CF-3D633FC4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DCB2-1F4A-4E10-A414-1061879B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FC25-5316-401E-B6C0-A73EA9D6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AB28-7665-4771-89B0-1DE2E854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C1F6-FF56-4F3F-8263-02D1F73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B903-80A2-43B0-8360-5B2DDBD1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4B36-807F-4DD2-8BD8-3E8B36D6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9AF3-6062-45C5-B476-490B5086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8465-D9D8-48D3-89BB-7A0C96B7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BDDB-9675-4684-AA25-132F589C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D97A-19D6-4DFC-B6E3-DD705822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6010-813D-42E7-A58C-9FD8B4C0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76A7-C12A-44E1-BB07-3B2C2846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B20D-4E38-4245-AB90-C4EA467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235A-6ABC-4D0C-87AB-1A83FAE1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4AED-7F31-4E99-A936-3148486C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861F-4972-4A93-B83F-93FD7C1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8DD3-3471-4E08-A5B4-33C3F61D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4A12-6793-41B3-9037-DE7ECDD933F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E667-DBA5-49A1-BBD6-9E4128DB6C6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533520"/>
            <a:ext cx="8280360" cy="593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99840" y="2743200"/>
            <a:ext cx="7086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техника проведения дезинф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ая очи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влажнение водой или дез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щательная механическая 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 дезинф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уммар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общ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тривание, мытье при необходимости нейтрализация дез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дезинфекции зависит о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ы на (в) которой находятся микр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и дезинфек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ы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а обеззара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ности нанесения дезраств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нанесенного раствора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и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лощади (объ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мени воздействия (экспози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838080" y="25909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подготовки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за соблюдением установленных режимов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ктериологически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 направленных на уничтожение вредных грызу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Горбатов 2"/>
          <p:cNvPicPr/>
          <p:nvPr/>
        </p:nvPicPr>
        <p:blipFill>
          <a:blip r:embed="rId1"/>
          <a:srcRect l="4320" t="4536" r="10361" b="3057"/>
          <a:stretch/>
        </p:blipFill>
        <p:spPr>
          <a:xfrm>
            <a:off x="152280" y="220680"/>
            <a:ext cx="8686800" cy="6580080"/>
          </a:xfrm>
          <a:prstGeom prst="rect">
            <a:avLst/>
          </a:prstGeom>
          <a:ln w="0">
            <a:noFill/>
          </a:ln>
        </p:spPr>
      </p:pic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Горбатов 1"/>
          <p:cNvPicPr/>
          <p:nvPr/>
        </p:nvPicPr>
        <p:blipFill>
          <a:blip r:embed="rId1"/>
          <a:srcRect l="7281" t="1336" r="6364" b="0"/>
          <a:stretch/>
        </p:blipFill>
        <p:spPr>
          <a:xfrm>
            <a:off x="228600" y="1600200"/>
            <a:ext cx="8686800" cy="3193920"/>
          </a:xfrm>
          <a:prstGeom prst="rect">
            <a:avLst/>
          </a:prstGeom>
          <a:ln w="0">
            <a:noFill/>
          </a:ln>
        </p:spPr>
      </p:pic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Горбатов 3"/>
          <p:cNvPicPr/>
          <p:nvPr/>
        </p:nvPicPr>
        <p:blipFill>
          <a:blip r:embed="rId1"/>
          <a:srcRect l="0" t="3498" r="13770" b="8148"/>
          <a:stretch/>
        </p:blipFill>
        <p:spPr>
          <a:xfrm>
            <a:off x="2573280" y="152280"/>
            <a:ext cx="3900600" cy="655344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95280" y="119700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илак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5"/>
          <p:cNvSpPr/>
          <p:nvPr/>
        </p:nvSpPr>
        <p:spPr>
          <a:xfrm rot="21048600">
            <a:off x="2123640" y="912960"/>
            <a:ext cx="1079640" cy="217440"/>
          </a:xfrm>
          <a:prstGeom prst="leftArrow">
            <a:avLst>
              <a:gd name="adj1" fmla="val 50000"/>
              <a:gd name="adj2" fmla="val 12413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6"/>
          <p:cNvSpPr/>
          <p:nvPr/>
        </p:nvSpPr>
        <p:spPr>
          <a:xfrm rot="16200000">
            <a:off x="4319640" y="94428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7"/>
          <p:cNvSpPr/>
          <p:nvPr/>
        </p:nvSpPr>
        <p:spPr>
          <a:xfrm rot="16200000">
            <a:off x="1385640" y="1719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250920" y="1989000"/>
            <a:ext cx="32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теринарно-санита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создание услов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шающих грызунов корм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ы и убежищ); ветеринар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ветительн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9"/>
          <p:cNvSpPr/>
          <p:nvPr/>
        </p:nvSpPr>
        <p:spPr>
          <a:xfrm rot="16200000">
            <a:off x="1386000" y="3303720"/>
            <a:ext cx="14256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250920" y="364500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троительно-техническая работ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защита от мышевидных грызунов зданий и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1"/>
          <p:cNvSpPr/>
          <p:nvPr/>
        </p:nvSpPr>
        <p:spPr>
          <a:xfrm rot="16200000">
            <a:off x="1385640" y="466992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250920" y="479736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гротехнические( вспашка, своевременная уборка соломы, мякины и др.от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3"/>
          <p:cNvSpPr/>
          <p:nvPr/>
        </p:nvSpPr>
        <p:spPr>
          <a:xfrm rot="16200000">
            <a:off x="1385640" y="5751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50920" y="595008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пугивающие (сланцевое масло,альбихтин, цимат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3276720" y="126216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треб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6"/>
          <p:cNvSpPr/>
          <p:nvPr/>
        </p:nvSpPr>
        <p:spPr>
          <a:xfrm rot="16200000">
            <a:off x="4319640" y="180792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3564000" y="2127240"/>
            <a:ext cx="16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8"/>
          <p:cNvSpPr/>
          <p:nvPr/>
        </p:nvSpPr>
        <p:spPr>
          <a:xfrm rot="16200000">
            <a:off x="4139280" y="2564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3564000" y="3141720"/>
            <a:ext cx="20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и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0"/>
          <p:cNvSpPr/>
          <p:nvPr/>
        </p:nvSpPr>
        <p:spPr>
          <a:xfrm rot="16200000">
            <a:off x="3924000" y="386064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3564000" y="458136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х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2"/>
          <p:cNvSpPr/>
          <p:nvPr/>
        </p:nvSpPr>
        <p:spPr>
          <a:xfrm rot="16200000">
            <a:off x="4211640" y="4868640"/>
            <a:ext cx="360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3276720" y="52293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биниро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4"/>
          <p:cNvSpPr/>
          <p:nvPr/>
        </p:nvSpPr>
        <p:spPr>
          <a:xfrm rot="9381600">
            <a:off x="4946400" y="1901520"/>
            <a:ext cx="714240" cy="216000"/>
          </a:xfrm>
          <a:prstGeom prst="leftArrow">
            <a:avLst>
              <a:gd name="adj1" fmla="val 50000"/>
              <a:gd name="adj2" fmla="val 82667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5"/>
          <p:cNvSpPr/>
          <p:nvPr/>
        </p:nvSpPr>
        <p:spPr>
          <a:xfrm rot="10800000">
            <a:off x="5003280" y="220500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5651640" y="981000"/>
            <a:ext cx="3384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действующие яды(фосф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инка, крысид, монофто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расный морской лук и др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тикоагулянты(зоокума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тиндан, пенолацин, фентолацин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7"/>
          <p:cNvSpPr/>
          <p:nvPr/>
        </p:nvSpPr>
        <p:spPr>
          <a:xfrm rot="9828600">
            <a:off x="5126760" y="2994120"/>
            <a:ext cx="505080" cy="217440"/>
          </a:xfrm>
          <a:prstGeom prst="leftArrow">
            <a:avLst>
              <a:gd name="adj1" fmla="val 50000"/>
              <a:gd name="adj2" fmla="val 5807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8"/>
          <p:cNvSpPr/>
          <p:nvPr/>
        </p:nvSpPr>
        <p:spPr>
          <a:xfrm rot="12802800">
            <a:off x="5065560" y="3563280"/>
            <a:ext cx="649440" cy="244440"/>
          </a:xfrm>
          <a:prstGeom prst="leftArrow">
            <a:avLst>
              <a:gd name="adj1" fmla="val 50000"/>
              <a:gd name="adj2" fmla="val 6642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9"/>
          <p:cNvSpPr/>
          <p:nvPr/>
        </p:nvSpPr>
        <p:spPr>
          <a:xfrm>
            <a:off x="5651640" y="284652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ественные вра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ызунов (кошки, собаки, лисицы, хищные птиц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0"/>
          <p:cNvSpPr/>
          <p:nvPr/>
        </p:nvSpPr>
        <p:spPr>
          <a:xfrm>
            <a:off x="5638680" y="358128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нение бактерий (бактерии Исаченко-Мережковского, Прохорова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1"/>
          <p:cNvSpPr/>
          <p:nvPr/>
        </p:nvSpPr>
        <p:spPr>
          <a:xfrm>
            <a:off x="5651640" y="460044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овушки, капк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2"/>
          <p:cNvSpPr/>
          <p:nvPr/>
        </p:nvSpPr>
        <p:spPr>
          <a:xfrm rot="10800000">
            <a:off x="5219640" y="4653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3"/>
          <p:cNvSpPr/>
          <p:nvPr/>
        </p:nvSpPr>
        <p:spPr>
          <a:xfrm>
            <a:off x="6156360" y="50133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 яды и бактериальные препара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4"/>
          <p:cNvSpPr/>
          <p:nvPr/>
        </p:nvSpPr>
        <p:spPr>
          <a:xfrm rot="10800000">
            <a:off x="5651640" y="5229000"/>
            <a:ext cx="504720" cy="215640"/>
          </a:xfrm>
          <a:prstGeom prst="leftArrow">
            <a:avLst>
              <a:gd name="adj1" fmla="val 50000"/>
              <a:gd name="adj2" fmla="val 58514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395280" y="126828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зприма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опы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р, путей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916360" y="24922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очный (пищ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ки: каши,хле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рш, ;водные прим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а, молоко, бу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651640" y="465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зами(углекислый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7"/>
          <p:cNvSpPr/>
          <p:nvPr/>
        </p:nvSpPr>
        <p:spPr>
          <a:xfrm rot="19414200">
            <a:off x="3203640" y="1196640"/>
            <a:ext cx="1087200" cy="495360"/>
          </a:xfrm>
          <a:prstGeom prst="leftArrow">
            <a:avLst>
              <a:gd name="adj1" fmla="val 50000"/>
              <a:gd name="adj2" fmla="val 54869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8"/>
          <p:cNvSpPr/>
          <p:nvPr/>
        </p:nvSpPr>
        <p:spPr>
          <a:xfrm rot="16200000">
            <a:off x="3919320" y="1520280"/>
            <a:ext cx="1305000" cy="495360"/>
          </a:xfrm>
          <a:prstGeom prst="leftArrow">
            <a:avLst>
              <a:gd name="adj1" fmla="val 50000"/>
              <a:gd name="adj2" fmla="val 6586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9"/>
          <p:cNvSpPr/>
          <p:nvPr/>
        </p:nvSpPr>
        <p:spPr>
          <a:xfrm rot="14123400">
            <a:off x="4069440" y="2568960"/>
            <a:ext cx="4084560" cy="495000"/>
          </a:xfrm>
          <a:prstGeom prst="leftArrow">
            <a:avLst>
              <a:gd name="adj1" fmla="val 50000"/>
              <a:gd name="adj2" fmla="val 20629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0"/>
          <p:cNvSpPr/>
          <p:nvPr/>
        </p:nvSpPr>
        <p:spPr>
          <a:xfrm>
            <a:off x="108000" y="981000"/>
            <a:ext cx="2879640" cy="3057480"/>
          </a:xfrm>
          <a:prstGeom prst="cloudCallout">
            <a:avLst>
              <a:gd name="adj1" fmla="val -18027"/>
              <a:gd name="adj2" fmla="val 5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1"/>
          <p:cNvSpPr/>
          <p:nvPr/>
        </p:nvSpPr>
        <p:spPr>
          <a:xfrm>
            <a:off x="3708360" y="4221000"/>
            <a:ext cx="1655640" cy="1008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2"/>
          <p:cNvSpPr/>
          <p:nvPr/>
        </p:nvSpPr>
        <p:spPr>
          <a:xfrm>
            <a:off x="7093080" y="5589720"/>
            <a:ext cx="2050920" cy="1152360"/>
          </a:xfrm>
          <a:prstGeom prst="cloudCallout">
            <a:avLst>
              <a:gd name="adj1" fmla="val -1624"/>
              <a:gd name="adj2" fmla="val 384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7742160" y="57164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приготовления отравляющих приман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ое смеш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в растворах я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ипание ядов-порошков к поверхности приманок (растительное масло и другие мас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несение ядовитых паст на поверх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а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или опыливание растительных приманок 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цепты прима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грамм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  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ый комбикорм   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ш мясной или рыбный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ое зерно 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корм запаренный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ит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ид цинка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 дробленое 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Горбатов 4"/>
          <p:cNvPicPr/>
          <p:nvPr/>
        </p:nvPicPr>
        <p:blipFill>
          <a:blip r:embed="rId1"/>
          <a:srcRect l="1552" t="7784" r="6041" b="2214"/>
          <a:stretch/>
        </p:blipFill>
        <p:spPr>
          <a:xfrm>
            <a:off x="2133720" y="304920"/>
            <a:ext cx="4854600" cy="655308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Горбатов 5"/>
          <p:cNvPicPr/>
          <p:nvPr/>
        </p:nvPicPr>
        <p:blipFill>
          <a:blip r:embed="rId1"/>
          <a:srcRect l="1008" t="3681" r="1008" b="3498"/>
          <a:stretch/>
        </p:blipFill>
        <p:spPr>
          <a:xfrm>
            <a:off x="1143000" y="838080"/>
            <a:ext cx="6934320" cy="56469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"/>
          <p:cNvSpPr/>
          <p:nvPr/>
        </p:nvSpPr>
        <p:spPr>
          <a:xfrm>
            <a:off x="990720" y="228600"/>
            <a:ext cx="72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эффективности дератизации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(А+ В)х 10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 %    эффективности дератиз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количество жилых нор или  суточн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ичество съеденной приманки      до     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 же после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AN00460_"/>
          <p:cNvPicPr/>
          <p:nvPr/>
        </p:nvPicPr>
        <p:blipFill>
          <a:blip r:embed="rId1"/>
          <a:stretch/>
        </p:blipFill>
        <p:spPr>
          <a:xfrm>
            <a:off x="3962520" y="2057400"/>
            <a:ext cx="4464000" cy="4394160"/>
          </a:xfrm>
          <a:prstGeom prst="rect">
            <a:avLst/>
          </a:prstGeom>
          <a:ln w="0">
            <a:noFill/>
          </a:ln>
        </p:spPr>
      </p:pic>
      <p:pic>
        <p:nvPicPr>
          <p:cNvPr id="666" name="Reco35.WAV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 rot="19719000">
            <a:off x="243360" y="2228400"/>
            <a:ext cx="84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3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секция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828800" y="1817640"/>
            <a:ext cx="655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ЭМ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оматоз крол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энцефа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каб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сельсбронская болезнь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ут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улярный дер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анская чума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Най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ский энцефаломиелит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кулярный сто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лейкопения ко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3" descr="AN00460_"/>
          <p:cNvPicPr/>
          <p:nvPr/>
        </p:nvPicPr>
        <p:blipFill>
          <a:blip r:embed="rId1"/>
          <a:stretch/>
        </p:blipFill>
        <p:spPr>
          <a:xfrm rot="3529800">
            <a:off x="7595280" y="55900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4"/>
          <p:cNvSpPr/>
          <p:nvPr/>
        </p:nvSpPr>
        <p:spPr>
          <a:xfrm>
            <a:off x="1979640" y="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4086360" y="549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348000" y="83664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4086360" y="1341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"/>
          <p:cNvSpPr/>
          <p:nvPr/>
        </p:nvSpPr>
        <p:spPr>
          <a:xfrm rot="3649800">
            <a:off x="2887920" y="935640"/>
            <a:ext cx="366480" cy="453960"/>
          </a:xfrm>
          <a:prstGeom prst="downArrow">
            <a:avLst>
              <a:gd name="adj1" fmla="val 50000"/>
              <a:gd name="adj2" fmla="val 3096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79280" y="13302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0"/>
          <p:cNvSpPr/>
          <p:nvPr/>
        </p:nvSpPr>
        <p:spPr>
          <a:xfrm>
            <a:off x="1403280" y="1773360"/>
            <a:ext cx="360360" cy="1800000"/>
          </a:xfrm>
          <a:prstGeom prst="downArrow">
            <a:avLst>
              <a:gd name="adj1" fmla="val 50000"/>
              <a:gd name="adj2" fmla="val 12487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250920" y="3716280"/>
            <a:ext cx="280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276720" y="157644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4086360" y="2060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708360" y="2421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5"/>
          <p:cNvSpPr/>
          <p:nvPr/>
        </p:nvSpPr>
        <p:spPr>
          <a:xfrm>
            <a:off x="4086360" y="2852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708360" y="328464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7"/>
          <p:cNvSpPr/>
          <p:nvPr/>
        </p:nvSpPr>
        <p:spPr>
          <a:xfrm>
            <a:off x="4086360" y="3716280"/>
            <a:ext cx="485640" cy="1441440"/>
          </a:xfrm>
          <a:prstGeom prst="downArrow">
            <a:avLst>
              <a:gd name="adj1" fmla="val 50000"/>
              <a:gd name="adj2" fmla="val 7420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492360" y="5373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0"/>
          <p:cNvSpPr/>
          <p:nvPr/>
        </p:nvSpPr>
        <p:spPr>
          <a:xfrm rot="15435000">
            <a:off x="5288760" y="2000880"/>
            <a:ext cx="314280" cy="718920"/>
          </a:xfrm>
          <a:prstGeom prst="downArrow">
            <a:avLst>
              <a:gd name="adj1" fmla="val 50000"/>
              <a:gd name="adj2" fmla="val 5718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1"/>
          <p:cNvSpPr/>
          <p:nvPr/>
        </p:nvSpPr>
        <p:spPr>
          <a:xfrm rot="16200000">
            <a:off x="5328360" y="2313720"/>
            <a:ext cx="287280" cy="790560"/>
          </a:xfrm>
          <a:prstGeom prst="downArrow">
            <a:avLst>
              <a:gd name="adj1" fmla="val 50000"/>
              <a:gd name="adj2" fmla="val 6879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2"/>
          <p:cNvSpPr/>
          <p:nvPr/>
        </p:nvSpPr>
        <p:spPr>
          <a:xfrm rot="17314200">
            <a:off x="5272560" y="2715120"/>
            <a:ext cx="295560" cy="703440"/>
          </a:xfrm>
          <a:prstGeom prst="downArrow">
            <a:avLst>
              <a:gd name="adj1" fmla="val 50000"/>
              <a:gd name="adj2" fmla="val 5950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5867280" y="18651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4"/>
          <p:cNvSpPr/>
          <p:nvPr/>
        </p:nvSpPr>
        <p:spPr>
          <a:xfrm rot="16200000">
            <a:off x="5328360" y="526500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5867280" y="378936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5867280" y="256536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5867280" y="306864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613584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5867280" y="474660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5867280" y="53942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1"/>
          <p:cNvSpPr/>
          <p:nvPr/>
        </p:nvSpPr>
        <p:spPr>
          <a:xfrm>
            <a:off x="5867280" y="604188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2"/>
          <p:cNvSpPr/>
          <p:nvPr/>
        </p:nvSpPr>
        <p:spPr>
          <a:xfrm rot="17998800">
            <a:off x="5177520" y="3353040"/>
            <a:ext cx="307800" cy="884160"/>
          </a:xfrm>
          <a:prstGeom prst="downArrow">
            <a:avLst>
              <a:gd name="adj1" fmla="val 50000"/>
              <a:gd name="adj2" fmla="val 7181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3"/>
          <p:cNvSpPr/>
          <p:nvPr/>
        </p:nvSpPr>
        <p:spPr>
          <a:xfrm rot="14850600">
            <a:off x="5330520" y="4698360"/>
            <a:ext cx="214200" cy="849240"/>
          </a:xfrm>
          <a:prstGeom prst="downArrow">
            <a:avLst>
              <a:gd name="adj1" fmla="val 50000"/>
              <a:gd name="adj2" fmla="val 9911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4"/>
          <p:cNvSpPr/>
          <p:nvPr/>
        </p:nvSpPr>
        <p:spPr>
          <a:xfrm rot="18326400">
            <a:off x="5200920" y="5532840"/>
            <a:ext cx="239760" cy="860400"/>
          </a:xfrm>
          <a:prstGeom prst="downArrow">
            <a:avLst>
              <a:gd name="adj1" fmla="val 50000"/>
              <a:gd name="adj2" fmla="val 8971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0" descr="AN00460_"/>
          <p:cNvPicPr/>
          <p:nvPr/>
        </p:nvPicPr>
        <p:blipFill>
          <a:blip r:embed="rId2"/>
          <a:stretch/>
        </p:blipFill>
        <p:spPr>
          <a:xfrm>
            <a:off x="7853400" y="69228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" descr="AN00460_"/>
          <p:cNvPicPr/>
          <p:nvPr/>
        </p:nvPicPr>
        <p:blipFill>
          <a:blip r:embed="rId3"/>
          <a:stretch/>
        </p:blipFill>
        <p:spPr>
          <a:xfrm rot="13525800">
            <a:off x="2051280" y="270756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AN00460_"/>
          <p:cNvPicPr/>
          <p:nvPr/>
        </p:nvPicPr>
        <p:blipFill>
          <a:blip r:embed="rId4"/>
          <a:stretch/>
        </p:blipFill>
        <p:spPr>
          <a:xfrm rot="1767600">
            <a:off x="466200" y="117360"/>
            <a:ext cx="936720" cy="1078200"/>
          </a:xfrm>
          <a:prstGeom prst="rect">
            <a:avLst/>
          </a:prstGeom>
          <a:ln w="0">
            <a:noFill/>
          </a:ln>
        </p:spPr>
      </p:pic>
      <p:sp>
        <p:nvSpPr>
          <p:cNvPr id="70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67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71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68 0.07152 C -0.08091 0.08356 -0.07309 0.09583 -0.07066 0.10995 C -0.06823 0.125 -0.06823 0.14259 -0.06789 0.16018 C -0.06771 0.17777 -0.07136 0.19189 -0.075 0.20671 C -0.07865 0.22152 -0.08316 0.2368 -0.09167 0.24861 C -0.09896 0.26064 -0.11007 0.26921 -0.1217 0.27523 C -0.13247 0.28055 -0.14497 0.28356 -0.15712 0.28402 C -0.16927 0.28425 -0.18108 0.28263 -0.19184 0.278 C -0.20348 0.27291 -0.21354 0.26412 -0.22136 0.25185 C -0.22917 0.2405 -0.23594 0.22754 -0.2382 0.2125 C -0.24184 0.19814 -0.24167 0.17893 -0.24011 0.16481 C -0.23959 0.15023 -0.23664 0.13263 -0.23021 0.11967 C -0.22396 0.1074 -0.21389 0.09861 -0.20139 0.0956 C -0.18907 0.09398 -0.17761 0.10115 -0.17084 0.11226 C -0.16493 0.12268 -0.16146 0.13773 -0.16233 0.15509 C -0.16424 0.17268 -0.16684 0.18819 -0.17327 0.2 C -0.17969 0.21296 -0.179 0.21504 -0.20052 0.22847 C -0.22049 0.24421 -0.23785 0.23541 -0.24879 0.23449 C -0.25955 0.2324 -0.26789 0.22546 -0.27813 0.21805 C -0.28959 0.20949 -0.29809 0.1956 -0.304 0.18379 C -0.30973 0.17175 -0.31111 0.1581 -0.31285 0.13611 C -0.31355 0.11458 -0.31233 0.10393 -0.31059 0.08796 C -0.30886 0.07222 -0.30712 0.05625 -0.30556 0.0405 E">
                                      <p:cBhvr>
                                        <p:cTn id="79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83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684360" y="1555200"/>
            <a:ext cx="81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Дезинфекция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- комплексная система мероприятий по уничтожению патог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ли условно патогенных микроорганизмов во внешней среде и на теле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N00460_"/>
          <p:cNvPicPr/>
          <p:nvPr/>
        </p:nvPicPr>
        <p:blipFill>
          <a:blip r:embed="rId1"/>
          <a:stretch/>
        </p:blipFill>
        <p:spPr>
          <a:xfrm>
            <a:off x="5580000" y="27082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11" name="AutoShape 40"/>
          <p:cNvSpPr/>
          <p:nvPr/>
        </p:nvSpPr>
        <p:spPr>
          <a:xfrm>
            <a:off x="2700360" y="2060640"/>
            <a:ext cx="2592360" cy="2305080"/>
          </a:xfrm>
          <a:prstGeom prst="cloudCallout">
            <a:avLst>
              <a:gd name="adj1" fmla="val -85148"/>
              <a:gd name="adj2" fmla="val 9256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1"/>
          <p:cNvSpPr/>
          <p:nvPr/>
        </p:nvSpPr>
        <p:spPr>
          <a:xfrm>
            <a:off x="7164360" y="4221000"/>
            <a:ext cx="1800360" cy="2016360"/>
          </a:xfrm>
          <a:prstGeom prst="cloudCallout">
            <a:avLst>
              <a:gd name="adj1" fmla="val -85537"/>
              <a:gd name="adj2" fmla="val 1013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0"/>
          <p:cNvSpPr/>
          <p:nvPr/>
        </p:nvSpPr>
        <p:spPr>
          <a:xfrm>
            <a:off x="5219640" y="5229360"/>
            <a:ext cx="1513080" cy="93636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5292720" y="4508640"/>
            <a:ext cx="1366920" cy="72072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6"/>
          <p:cNvSpPr/>
          <p:nvPr/>
        </p:nvSpPr>
        <p:spPr>
          <a:xfrm rot="21174000">
            <a:off x="173160" y="85356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900000" y="189000"/>
            <a:ext cx="799308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0ce8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2771640" y="2997360"/>
            <a:ext cx="252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ЭРОЗОЛЬ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7236000" y="4437000"/>
            <a:ext cx="19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Ш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8"/>
          <p:cNvSpPr/>
          <p:nvPr/>
        </p:nvSpPr>
        <p:spPr>
          <a:xfrm>
            <a:off x="5435640" y="3789360"/>
            <a:ext cx="1224000" cy="577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5219640" y="3860640"/>
            <a:ext cx="1584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6"/>
          <p:cNvSpPr/>
          <p:nvPr/>
        </p:nvSpPr>
        <p:spPr>
          <a:xfrm rot="21174000">
            <a:off x="468360" y="98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7"/>
          <p:cNvSpPr/>
          <p:nvPr/>
        </p:nvSpPr>
        <p:spPr>
          <a:xfrm rot="21174000">
            <a:off x="826920" y="1197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8"/>
          <p:cNvSpPr/>
          <p:nvPr/>
        </p:nvSpPr>
        <p:spPr>
          <a:xfrm rot="21174000">
            <a:off x="324000" y="134100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9"/>
          <p:cNvSpPr/>
          <p:nvPr/>
        </p:nvSpPr>
        <p:spPr>
          <a:xfrm rot="21174000">
            <a:off x="684360" y="1483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0"/>
          <p:cNvSpPr/>
          <p:nvPr/>
        </p:nvSpPr>
        <p:spPr>
          <a:xfrm rot="21174000">
            <a:off x="1116000" y="1628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34"/>
          <p:cNvSpPr/>
          <p:nvPr/>
        </p:nvSpPr>
        <p:spPr>
          <a:xfrm rot="21174000">
            <a:off x="468360" y="242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5"/>
          <p:cNvSpPr/>
          <p:nvPr/>
        </p:nvSpPr>
        <p:spPr>
          <a:xfrm rot="21174000">
            <a:off x="1042920" y="249228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6"/>
          <p:cNvSpPr/>
          <p:nvPr/>
        </p:nvSpPr>
        <p:spPr>
          <a:xfrm rot="21174000">
            <a:off x="826920" y="2727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8"/>
          <p:cNvSpPr/>
          <p:nvPr/>
        </p:nvSpPr>
        <p:spPr>
          <a:xfrm>
            <a:off x="1476360" y="5661000"/>
            <a:ext cx="358920" cy="11970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9"/>
          <p:cNvSpPr/>
          <p:nvPr/>
        </p:nvSpPr>
        <p:spPr>
          <a:xfrm>
            <a:off x="1547640" y="5373720"/>
            <a:ext cx="216000" cy="503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1"/>
          <p:cNvSpPr/>
          <p:nvPr/>
        </p:nvSpPr>
        <p:spPr>
          <a:xfrm rot="21174000">
            <a:off x="1403280" y="3573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2"/>
          <p:cNvSpPr/>
          <p:nvPr/>
        </p:nvSpPr>
        <p:spPr>
          <a:xfrm rot="21174000">
            <a:off x="611280" y="386028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43"/>
          <p:cNvSpPr/>
          <p:nvPr/>
        </p:nvSpPr>
        <p:spPr>
          <a:xfrm flipH="1">
            <a:off x="1763640" y="3933720"/>
            <a:ext cx="936720" cy="1366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4"/>
          <p:cNvSpPr/>
          <p:nvPr/>
        </p:nvSpPr>
        <p:spPr>
          <a:xfrm flipV="1">
            <a:off x="1979640" y="4220640"/>
            <a:ext cx="1655640" cy="1079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31"/>
          <p:cNvSpPr/>
          <p:nvPr/>
        </p:nvSpPr>
        <p:spPr>
          <a:xfrm rot="21174000">
            <a:off x="250920" y="1915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32"/>
          <p:cNvSpPr/>
          <p:nvPr/>
        </p:nvSpPr>
        <p:spPr>
          <a:xfrm rot="21174000">
            <a:off x="684360" y="198864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33"/>
          <p:cNvSpPr/>
          <p:nvPr/>
        </p:nvSpPr>
        <p:spPr>
          <a:xfrm rot="21174000">
            <a:off x="1116000" y="2060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5"/>
          <p:cNvSpPr/>
          <p:nvPr/>
        </p:nvSpPr>
        <p:spPr>
          <a:xfrm rot="21417600">
            <a:off x="3209400" y="1157040"/>
            <a:ext cx="2508480" cy="1909800"/>
          </a:xfrm>
          <a:prstGeom prst="cloudCallout">
            <a:avLst>
              <a:gd name="adj1" fmla="val -112870"/>
              <a:gd name="adj2" fmla="val 163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108000" y="2133720"/>
            <a:ext cx="23032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024" descr="AN00460_"/>
          <p:cNvPicPr/>
          <p:nvPr/>
        </p:nvPicPr>
        <p:blipFill>
          <a:blip r:embed="rId2"/>
          <a:stretch/>
        </p:blipFill>
        <p:spPr>
          <a:xfrm rot="4351800">
            <a:off x="3508560" y="3296160"/>
            <a:ext cx="750960" cy="863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25" descr="AN00460_"/>
          <p:cNvPicPr/>
          <p:nvPr/>
        </p:nvPicPr>
        <p:blipFill>
          <a:blip r:embed="rId3"/>
          <a:stretch/>
        </p:blipFill>
        <p:spPr>
          <a:xfrm rot="17631600">
            <a:off x="754920" y="765720"/>
            <a:ext cx="936720" cy="1077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26" descr="AN00460_"/>
          <p:cNvPicPr/>
          <p:nvPr/>
        </p:nvPicPr>
        <p:blipFill>
          <a:blip r:embed="rId4"/>
          <a:stretch/>
        </p:blipFill>
        <p:spPr>
          <a:xfrm rot="4351800">
            <a:off x="7867800" y="3516840"/>
            <a:ext cx="750960" cy="863640"/>
          </a:xfrm>
          <a:prstGeom prst="rect">
            <a:avLst/>
          </a:prstGeom>
          <a:ln w="0">
            <a:noFill/>
          </a:ln>
        </p:spPr>
      </p:pic>
      <p:sp>
        <p:nvSpPr>
          <p:cNvPr id="7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89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121 -0.2956 L 0.44531 -0.6 E">
                                      <p:cBhvr>
                                        <p:cTn id="93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0.05787 C -0.06875 -0.03148 -0.11875 -0.1088 -0.18576 -0.11412 C -0.24983 -0.12084 -0.30972 -0.06088 -0.31371 0.02592 C -0.31875 0.10578 -0.27674 0.18055 -0.21667 0.18588 C -0.16181 0.18981 -0.10972 0.14051 -0.10573 0.06597 C -0.10174 -0.00208999999999999 -0.13681 -0.06621 -0.18767 -0.07153 C -0.23472 -0.07547 -0.27882 -0.03403 -0.28177 0.02847 C -0.28472 0.08449 -0.25677 0.13912 -0.21476 0.1419 C -0.17674 0.14583 -0.1408 0.11389 -0.13767 0.06319 C -0.13576 0.01782 -0.15677 -0.02616 -0.18958 -0.02871 C -0.21875 -0.03148 -0.24774 -0.00741 -0.24983 0.03125 C -0.25174 0.06458 -0.23681 0.09653 -0.21267 0.0993 C -0.19271 0.10185 -0.1717 0.08727 -0.17066 0.06065 C -0.16875 0.03912 -0.17674 0.01643 -0.19167 0.01389 C -0.20382 0.01389 -0.2158 0.01921 -0.21771 0.03379 C -0.21875 0.04328 -0.21667 0.05254 -0.21076 0.05648 C -0.20781 0.05787 -0.20573 0.05787 -0.20278 0.05648 E">
                                      <p:cBhvr>
                                        <p:cTn id="97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1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07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3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8000" y="981000"/>
          <a:ext cx="8928000" cy="5688000"/>
        </p:xfrm>
        <a:graphic>
          <a:graphicData uri="http://schemas.openxmlformats.org/drawingml/2006/table">
            <a:tbl>
              <a:tblPr/>
              <a:tblGrid>
                <a:gridCol w="2233440"/>
                <a:gridCol w="2517840"/>
                <a:gridCol w="1728720"/>
                <a:gridCol w="2448000"/>
              </a:tblGrid>
              <a:tr h="81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благополучном хозяйстве с целью предупреждения возникновения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ри возникновении инфекционной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усков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завершения строительства, накануне ввоза в помещение животных или завоза корм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зависимости от технологии произво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системат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 до ликвидации болезн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еред снятием карантина или ограничени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50920" y="1773360"/>
            <a:ext cx="237636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492360" y="1773360"/>
            <a:ext cx="237672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6227640" y="1773360"/>
            <a:ext cx="2448000" cy="1295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908000" y="333360"/>
            <a:ext cx="460872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708360" y="1125360"/>
            <a:ext cx="16556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6300720" y="1125360"/>
            <a:ext cx="18734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900000" y="1125360"/>
            <a:ext cx="151128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1533600" y="399240"/>
            <a:ext cx="56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ства 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125360"/>
          <a:ext cx="8569080" cy="5543640"/>
        </p:xfrm>
        <a:graphic>
          <a:graphicData uri="http://schemas.openxmlformats.org/drawingml/2006/table">
            <a:tbl>
              <a:tblPr/>
              <a:tblGrid>
                <a:gridCol w="2855880"/>
                <a:gridCol w="2905200"/>
                <a:gridCol w="2808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еханическая очис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икробы- антогон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лнечный с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щёл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ермофильные мик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Ф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хлоросодер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ухой ж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енолы и кре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егретый п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ормальдег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ипя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ли тяжёлых мет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ысуш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репараты други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гамма лу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ющ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ультразв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79280" y="1276200"/>
            <a:ext cx="8856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достаточной бактериц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иметь стойкого неприятного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хорошо растворяться в воде или давать с ней стойкие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уль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проявлять дезинфицирующее действие в люб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портить обрабатываемы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быть доступным и  деше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удобными при транспортиров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высокой стабильностью при хран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токсичностью для человека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ых животных и 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коррозионной активностью в отноше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ных конструктив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аиболее важным показателем является эк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-51120"/>
            <a:ext cx="9036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имические дезинфект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оляная, молочная, муравьиная, уксусная, щавелевая, надуксусная, дезокс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ело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едкий натр, едкое кали, гашеная известь- пушон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лорсодержащие препара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хлорная известь - получается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пускания газа-хлора через гашеную известь \пушенку\, содержит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нее 25% активного хлора, гипохлорит кальция, хлорам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изводные гидантиона, соли изоциануровой кислоты, однохлористый йод.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нолы и крезол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енол, крезол, феносмолин, крео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Форм)альдегид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ормалин, пароформ, метафор, парос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пар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ли тяжелых металл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медный купор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параты других групп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ирты, иодоформ, оксиды, соединения бро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ющие сред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Укладка навоза0"/>
          <p:cNvPicPr/>
          <p:nvPr/>
        </p:nvPicPr>
        <p:blipFill>
          <a:blip r:embed="rId1"/>
          <a:srcRect l="0" t="-259" r="1563" b="0"/>
          <a:stretch/>
        </p:blipFill>
        <p:spPr>
          <a:xfrm>
            <a:off x="457200" y="380880"/>
            <a:ext cx="8209080" cy="5996160"/>
          </a:xfrm>
          <a:prstGeom prst="rect">
            <a:avLst/>
          </a:prstGeom>
          <a:ln w="0">
            <a:noFill/>
          </a:ln>
        </p:spPr>
      </p:pic>
      <p:sp>
        <p:nvSpPr>
          <p:cNvPr id="54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181080" y="33300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6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993600"/>
          <a:ext cx="8229600" cy="634068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ла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ьющей струёй, факельное распыление , опрыскивание,погружение в 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ухой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пка порошками,опыливание дез.посолочные смес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эроз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ный, безаппара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а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ный, под искусственным покрыт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2-31T12:49:34Z</dcterms:modified>
  <cp:revision>24</cp:revision>
  <dc:subject/>
  <dc:title>ФЕДЕРАЛЬНОЕ ГОСУДАРСТВЕННОЕ ОБРАЗОВАТЕЛЬНОЕ УЧЕРЕЖДЕНИЕ ВЫСШЕГО ПРОФЕССИОНАЛЬНОГО ОБРАЗОВАНИЯ «МОСКОВСКАЯ ГОСУДАРСТВЕННАЯ АКАДЕМИЯ ВЕТЕРИНАРНОЙ МЕДИЦИНЫ И БИОТЕХНОЛОГИИ им</dc:title>
</cp:coreProperties>
</file>