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BDDC2-C6DF-4D4C-A8A9-7D4278E1C1DD}" type="slidenum"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фекци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и техника проведения дезинфек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ажнение водой или дезсре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щательная механическая 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дроочист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ственно 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  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 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суммарной площади помещ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чёт общего количество дез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 про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зи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 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тривание, мытье при необходимости нейтрализация дез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чество дезинфекции зависит от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ы на (в) которой находятся микр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нтрации дезинфекта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пературы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а обеззаражи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ности нанесения дезраство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анесенного раствора н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ицу площади (объе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и воздействия (экспози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подготовки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за соблюдением установленных режимов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териологический 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 – комплекс мероприятий направленных на уничтожение вредных грызун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теринарно-санитарн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оздание услов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шающих грызунов корм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ы и убежищ); ветеринарн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ветительная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оительно-техническая работа (защита от мышевидных грызунов зданий и соору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гротехнические( вспашка, своевременная уборка соломы, мякины и др.отход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угивающие (сланцевое масло,альбихтин, ци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ирова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родействующие яды(фосфи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нка, крысид, монофто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й морской лук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икоагулянты(зоокумарин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тиндан, пенолацин, фентолаци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ые вра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ызунов (кошки, собаки, лисицы, хищные птиц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бактерий (бактерии Исаченко-Мережковского, Прохорова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овушки, капк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яды и бактериальные препара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приманоч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опыли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, путей движ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очный (пищевы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анки: каши,хлеб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рш, ;водные приманк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, молоко, буль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(углекислый газ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приготовления отравляющих приман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ческое смешив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в растворах 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липание ядов-порошков к поверхности приманок (растительное масло и другие масл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несение ядовитых паст на поверхность прима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мачивание или опыливание растительных приманок яд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цепты приманок (в грамма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дерат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=  (А+ В)х 10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 -  %    эффективности дератизации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- количество жилых нор или  суточное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личество съеденной приманки      до     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- то же после дерат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 – 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ЭМ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ксоматоз крол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понский энцефал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Акаб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ссельсбронская болезнь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ута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дулярный дер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фриканская чума лоша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ь Найроб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тландский энцефаломиелит ов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зикулярный стомат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нлейкопения кош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РЕБИТЕЛЬНЫЕ 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зинфекция- комплексная система мероприятий по уничтожению патог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условно патогенных микроорганизмов во внешней среде и на теле живот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ЭРОЗ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ГАЗЫ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Ш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редства  дезинфе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достаточной бактерицид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иметь стойкого неприятного запах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хорошо растворяться в воде или давать с ней стойкие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уль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проявлять дезинфицирующее действие в любой сре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е портить обрабатываемые предм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быть доступным и  дешев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удобными при транспортиров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высокой стабильностью при хранен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токсичностью для челове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х животных и п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обладать низкой коррозионной активностью в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личных конструктивных материал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 наиболее важным показателем является экологическа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опас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мические дезинфекта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. Кислоты (соляная, молочная, муравьиная, уксусная, щавелевая, надуксусная, дезокса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. Щелочи (едкий натр, едкое кали, гашеная известь- пушон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. Хлорсодержащие препараты (хлорная известь - получается пу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кания газа-хлора через гашеную известь \пушенку\, содержит 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е 25% активного хлора, гипохлорит кальция, хлорами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ные гидантиона, соли изоциануровой кислоты, однохлористый йод.и д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. Фенолы и крезолы (фенол, крезол, феносмолин, креоли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. (Форм)альдегиды (формалин, пароформ, метафор, паросод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спар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). Соли тяжелых металлов (медный купорос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). Препараты других групп (спирты, иодоформ, оксиды, соединения брома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). Моющие сре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96B0-C3D4-41AC-AA23-4EB5A8962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101B7-C4D3-4368-AD6E-8CF1146C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93FA-D0F3-4C37-9157-D35E6A19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964D7-71FC-4D53-A954-64D850D5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8A73-BEAF-477B-980D-B3EA36182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7D2E-5BEC-4069-BBEA-61FD14705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41B36-9AB4-4B18-8A09-23C9C397A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A54EC-A27F-4E40-A9C8-22F8335E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988B-8B15-44EC-B432-77E8B4A9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71CA-494D-4513-BDA7-67D64D92F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8A82-C376-46B0-A9E4-452FD815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5687D-F9FB-4234-AD33-F16E79C96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7C0E-93F9-4B05-BDDB-C80746C1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A1D2A-CF55-47B2-9FEC-9E9F44CB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C8F0-327E-45E8-B51A-03A6EB6F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9D43-2B28-4031-B5B9-158204F0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901E-EC3B-425D-B7BB-82A499E41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77DA2-1BF2-4BB2-88E5-BF07D6DB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01AF-3742-43BD-8A66-F05A1110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20ED-9B49-4959-9AD8-035306FA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AE4B-71BC-4196-9F2A-76532892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EB3B9-4659-4018-843C-93F35578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30C22-B3CE-4EC0-9745-4D6B90B0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82A9-1B5F-46FF-9E20-EC84FF8C7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74297-DC0B-491F-81DD-524C57FA8387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C9F40-083B-4AB1-86BF-414A25BA184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9280" y="533520"/>
            <a:ext cx="8280360" cy="59385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ЕДЕРАЛЬНОЕ  ГОСУДАРСТВЕННОЕ  ОБРАЗОВАТЕЛЬНОЕ  УЧЕРЕЖДЕНИЕ ВЫСШЕГО  ПРОФЕССИОНАЛЬНОГО  ОБРАЗОВАНИЯ  «МОСКОВСКАЯ ГОСУДАРСТВЕННАЯ  АКАДЕМИЯ  ВЕТЕРИНАРНОЙ  МЕДИЦИНЫ И БИОТЕХНОЛОГИИ  им. К.И.СКРЯБИНА»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ФЕДРА ЭПИЗООТОЛОГИИ И ИНФЕКЦИОННЫХ БОЛЕЗНЕЙ.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КЦИЯ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зинфекци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езинсекция, дератизация средства, методы и их роль в противоэпизоотических мероприятиях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ЦЕНТ  ВАСЕНКО С.В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3 г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ханизмы и аппараты применяемые для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599840" y="2743200"/>
            <a:ext cx="7086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ециализированные дезинфекционные маш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ппараты для обработки кожного покрова живот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эрозольные ген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зинфекционные ка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рганизация и техника проведения дезинфек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95280" y="1295280"/>
            <a:ext cx="7848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ая очис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влажнение водой или дезсредств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щательная механическая 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   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идроочис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бственно дезинфе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ыбор 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метод дезинф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ни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суммарн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щад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мещ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ч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ё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 обще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г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количеств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ез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рядок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е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экспози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 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тривание, мытье при необходимости нейтрализация дез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Качество дезинфекции зависит от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еды на (в) которой находятся микроб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центрации дезинфекта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температуры воз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а обеззараж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ратности нанесения дезраствор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ичество нанесенного раствора н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диниц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 площади (объем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ремени воздействия (экспози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качества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838080" y="259092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подготовки объе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нтроль за соблюдением установленных режимов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актериологический контро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773360"/>
            <a:ext cx="822960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28600" y="160020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 направленных на уничтожение вредных грызун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2" descr="Горбатов 2"/>
          <p:cNvPicPr/>
          <p:nvPr/>
        </p:nvPicPr>
        <p:blipFill>
          <a:blip r:embed="rId1"/>
          <a:srcRect l="4320" t="4536" r="10361" b="3057"/>
          <a:stretch/>
        </p:blipFill>
        <p:spPr>
          <a:xfrm>
            <a:off x="152280" y="220680"/>
            <a:ext cx="8686800" cy="6580080"/>
          </a:xfrm>
          <a:prstGeom prst="rect">
            <a:avLst/>
          </a:prstGeom>
          <a:ln w="0">
            <a:noFill/>
          </a:ln>
        </p:spPr>
      </p:pic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Горбатов 1"/>
          <p:cNvPicPr/>
          <p:nvPr/>
        </p:nvPicPr>
        <p:blipFill>
          <a:blip r:embed="rId1"/>
          <a:srcRect l="7281" t="1336" r="6364" b="0"/>
          <a:stretch/>
        </p:blipFill>
        <p:spPr>
          <a:xfrm>
            <a:off x="228600" y="1600200"/>
            <a:ext cx="8686800" cy="3193920"/>
          </a:xfrm>
          <a:prstGeom prst="rect">
            <a:avLst/>
          </a:prstGeom>
          <a:ln w="0">
            <a:noFill/>
          </a:ln>
        </p:spPr>
      </p:pic>
      <p:sp>
        <p:nvSpPr>
          <p:cNvPr id="58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Горбатов 3"/>
          <p:cNvPicPr/>
          <p:nvPr/>
        </p:nvPicPr>
        <p:blipFill>
          <a:blip r:embed="rId1"/>
          <a:srcRect l="0" t="3498" r="13770" b="8148"/>
          <a:stretch/>
        </p:blipFill>
        <p:spPr>
          <a:xfrm>
            <a:off x="2573280" y="152280"/>
            <a:ext cx="3900600" cy="655344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362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РАТИЗАЦ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4"/>
          <p:cNvSpPr/>
          <p:nvPr/>
        </p:nvSpPr>
        <p:spPr>
          <a:xfrm>
            <a:off x="395280" y="1197000"/>
            <a:ext cx="266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рофилактическ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мероприя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15"/>
          <p:cNvSpPr/>
          <p:nvPr/>
        </p:nvSpPr>
        <p:spPr>
          <a:xfrm rot="21048600">
            <a:off x="2123640" y="912960"/>
            <a:ext cx="1079640" cy="217440"/>
          </a:xfrm>
          <a:prstGeom prst="leftArrow">
            <a:avLst>
              <a:gd name="adj1" fmla="val 50000"/>
              <a:gd name="adj2" fmla="val 12413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16"/>
          <p:cNvSpPr/>
          <p:nvPr/>
        </p:nvSpPr>
        <p:spPr>
          <a:xfrm rot="16200000">
            <a:off x="4319640" y="94428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7"/>
          <p:cNvSpPr/>
          <p:nvPr/>
        </p:nvSpPr>
        <p:spPr>
          <a:xfrm rot="16200000">
            <a:off x="1385640" y="1719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250920" y="1989000"/>
            <a:ext cx="3241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етеринарно-санитар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создание услов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ишающих грызунов корм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оды и убежищ); ветеринарно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осветительная раб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19"/>
          <p:cNvSpPr/>
          <p:nvPr/>
        </p:nvSpPr>
        <p:spPr>
          <a:xfrm rot="16200000">
            <a:off x="1386000" y="3303720"/>
            <a:ext cx="14256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250920" y="364500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троительно-техническая работа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защита от мышевидных грызунов зданий и соору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21"/>
          <p:cNvSpPr/>
          <p:nvPr/>
        </p:nvSpPr>
        <p:spPr>
          <a:xfrm rot="16200000">
            <a:off x="1385640" y="466992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250920" y="4797360"/>
            <a:ext cx="316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гротехнические( вспашка, своевременная уборка соломы, мякины и др.отход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23"/>
          <p:cNvSpPr/>
          <p:nvPr/>
        </p:nvSpPr>
        <p:spPr>
          <a:xfrm rot="16200000">
            <a:off x="1385640" y="5751000"/>
            <a:ext cx="142920" cy="2505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4"/>
          <p:cNvSpPr/>
          <p:nvPr/>
        </p:nvSpPr>
        <p:spPr>
          <a:xfrm>
            <a:off x="250920" y="5950080"/>
            <a:ext cx="316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тпугивающие (сланцевое масло,альбихтин, цимат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5"/>
          <p:cNvSpPr/>
          <p:nvPr/>
        </p:nvSpPr>
        <p:spPr>
          <a:xfrm>
            <a:off x="3276720" y="1262160"/>
            <a:ext cx="215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Истреб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6"/>
          <p:cNvSpPr/>
          <p:nvPr/>
        </p:nvSpPr>
        <p:spPr>
          <a:xfrm rot="16200000">
            <a:off x="4319640" y="1807920"/>
            <a:ext cx="144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27"/>
          <p:cNvSpPr/>
          <p:nvPr/>
        </p:nvSpPr>
        <p:spPr>
          <a:xfrm>
            <a:off x="3564000" y="2127240"/>
            <a:ext cx="163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8"/>
          <p:cNvSpPr/>
          <p:nvPr/>
        </p:nvSpPr>
        <p:spPr>
          <a:xfrm rot="16200000">
            <a:off x="4139280" y="2564280"/>
            <a:ext cx="505080" cy="360360"/>
          </a:xfrm>
          <a:prstGeom prst="leftArrow">
            <a:avLst>
              <a:gd name="adj1" fmla="val 50000"/>
              <a:gd name="adj2" fmla="val 3504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3564000" y="3141720"/>
            <a:ext cx="20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иолог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30"/>
          <p:cNvSpPr/>
          <p:nvPr/>
        </p:nvSpPr>
        <p:spPr>
          <a:xfrm rot="16200000">
            <a:off x="3924000" y="3860640"/>
            <a:ext cx="935280" cy="360360"/>
          </a:xfrm>
          <a:prstGeom prst="leftArrow">
            <a:avLst>
              <a:gd name="adj1" fmla="val 50000"/>
              <a:gd name="adj2" fmla="val 64885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1"/>
          <p:cNvSpPr/>
          <p:nvPr/>
        </p:nvSpPr>
        <p:spPr>
          <a:xfrm>
            <a:off x="3564000" y="4581360"/>
            <a:ext cx="17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Механическ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2"/>
          <p:cNvSpPr/>
          <p:nvPr/>
        </p:nvSpPr>
        <p:spPr>
          <a:xfrm rot="16200000">
            <a:off x="4211640" y="4868640"/>
            <a:ext cx="360360" cy="3603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3"/>
          <p:cNvSpPr/>
          <p:nvPr/>
        </p:nvSpPr>
        <p:spPr>
          <a:xfrm>
            <a:off x="3276720" y="5229360"/>
            <a:ext cx="25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мбинированны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4"/>
          <p:cNvSpPr/>
          <p:nvPr/>
        </p:nvSpPr>
        <p:spPr>
          <a:xfrm rot="9381600">
            <a:off x="4946400" y="1901520"/>
            <a:ext cx="714240" cy="216000"/>
          </a:xfrm>
          <a:prstGeom prst="leftArrow">
            <a:avLst>
              <a:gd name="adj1" fmla="val 50000"/>
              <a:gd name="adj2" fmla="val 82667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5"/>
          <p:cNvSpPr/>
          <p:nvPr/>
        </p:nvSpPr>
        <p:spPr>
          <a:xfrm rot="10800000">
            <a:off x="5003280" y="2205000"/>
            <a:ext cx="576360" cy="216000"/>
          </a:xfrm>
          <a:prstGeom prst="leftArrow">
            <a:avLst>
              <a:gd name="adj1" fmla="val 50000"/>
              <a:gd name="adj2" fmla="val 66708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6"/>
          <p:cNvSpPr/>
          <p:nvPr/>
        </p:nvSpPr>
        <p:spPr>
          <a:xfrm>
            <a:off x="5651640" y="981000"/>
            <a:ext cx="33843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стродействующие яды(фосфи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цинка, крысид, монофто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расный морской лук и др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нтикоагулянты(зоокумари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ратиндан, пенолацин, фентолацин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7"/>
          <p:cNvSpPr/>
          <p:nvPr/>
        </p:nvSpPr>
        <p:spPr>
          <a:xfrm rot="9828600">
            <a:off x="5126760" y="2994120"/>
            <a:ext cx="505080" cy="217440"/>
          </a:xfrm>
          <a:prstGeom prst="leftArrow">
            <a:avLst>
              <a:gd name="adj1" fmla="val 50000"/>
              <a:gd name="adj2" fmla="val 5807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8"/>
          <p:cNvSpPr/>
          <p:nvPr/>
        </p:nvSpPr>
        <p:spPr>
          <a:xfrm rot="12802800">
            <a:off x="5065560" y="3563280"/>
            <a:ext cx="649440" cy="244440"/>
          </a:xfrm>
          <a:prstGeom prst="leftArrow">
            <a:avLst>
              <a:gd name="adj1" fmla="val 50000"/>
              <a:gd name="adj2" fmla="val 6642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39"/>
          <p:cNvSpPr/>
          <p:nvPr/>
        </p:nvSpPr>
        <p:spPr>
          <a:xfrm>
            <a:off x="5651640" y="2846520"/>
            <a:ext cx="3492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Естественные враг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рызунов (кошки, собаки, лисицы, хищные птиц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0"/>
          <p:cNvSpPr/>
          <p:nvPr/>
        </p:nvSpPr>
        <p:spPr>
          <a:xfrm>
            <a:off x="5638680" y="3581280"/>
            <a:ext cx="3313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Применение бактерий (бактерии Исаченко-Мережковского, Прохорова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1"/>
          <p:cNvSpPr/>
          <p:nvPr/>
        </p:nvSpPr>
        <p:spPr>
          <a:xfrm>
            <a:off x="5651640" y="4600440"/>
            <a:ext cx="21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Ловушки, капка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2"/>
          <p:cNvSpPr/>
          <p:nvPr/>
        </p:nvSpPr>
        <p:spPr>
          <a:xfrm rot="10800000">
            <a:off x="5219640" y="4653000"/>
            <a:ext cx="432000" cy="21600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43"/>
          <p:cNvSpPr/>
          <p:nvPr/>
        </p:nvSpPr>
        <p:spPr>
          <a:xfrm>
            <a:off x="6156360" y="5013360"/>
            <a:ext cx="223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Химические яды и бактериальные препара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44"/>
          <p:cNvSpPr/>
          <p:nvPr/>
        </p:nvSpPr>
        <p:spPr>
          <a:xfrm rot="10800000">
            <a:off x="5651640" y="5229000"/>
            <a:ext cx="504720" cy="215640"/>
          </a:xfrm>
          <a:prstGeom prst="leftArrow">
            <a:avLst>
              <a:gd name="adj1" fmla="val 50000"/>
              <a:gd name="adj2" fmla="val 58514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ЕТОДЫ ДЕРАТИЗ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/>
          <p:cNvSpPr/>
          <p:nvPr/>
        </p:nvSpPr>
        <p:spPr>
          <a:xfrm>
            <a:off x="8532720" y="5661000"/>
            <a:ext cx="142920" cy="289080"/>
          </a:xfrm>
          <a:prstGeom prst="triangle">
            <a:avLst>
              <a:gd name="adj" fmla="val 50000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Oval 4"/>
          <p:cNvSpPr/>
          <p:nvPr/>
        </p:nvSpPr>
        <p:spPr>
          <a:xfrm>
            <a:off x="8459640" y="5950080"/>
            <a:ext cx="289080" cy="574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Oval 5"/>
          <p:cNvSpPr/>
          <p:nvPr/>
        </p:nvSpPr>
        <p:spPr>
          <a:xfrm>
            <a:off x="8317080" y="5877000"/>
            <a:ext cx="21564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6"/>
          <p:cNvSpPr/>
          <p:nvPr/>
        </p:nvSpPr>
        <p:spPr>
          <a:xfrm>
            <a:off x="8675640" y="5877000"/>
            <a:ext cx="216000" cy="144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7"/>
          <p:cNvSpPr/>
          <p:nvPr/>
        </p:nvSpPr>
        <p:spPr>
          <a:xfrm rot="6552600">
            <a:off x="8268480" y="6331680"/>
            <a:ext cx="309600" cy="216000"/>
          </a:xfrm>
          <a:custGeom>
            <a:avLst/>
            <a:gdLst>
              <a:gd name="textAreaLeft" fmla="*/ 0 w 309600"/>
              <a:gd name="textAreaRight" fmla="*/ 309960 w 30960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8"/>
          <p:cNvSpPr/>
          <p:nvPr/>
        </p:nvSpPr>
        <p:spPr>
          <a:xfrm rot="16200000">
            <a:off x="8638920" y="6348240"/>
            <a:ext cx="285840" cy="215640"/>
          </a:xfrm>
          <a:custGeom>
            <a:avLst/>
            <a:gdLst>
              <a:gd name="textAreaLeft" fmla="*/ 0 w 285840"/>
              <a:gd name="textAreaRight" fmla="*/ 286200 w 285840"/>
              <a:gd name="textAreaTop" fmla="*/ 0 h 215640"/>
              <a:gd name="textAreaBottom" fmla="*/ 77040 h 21564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9"/>
          <p:cNvSpPr/>
          <p:nvPr/>
        </p:nvSpPr>
        <p:spPr>
          <a:xfrm rot="7901400">
            <a:off x="8291520" y="6532200"/>
            <a:ext cx="393840" cy="216000"/>
          </a:xfrm>
          <a:custGeom>
            <a:avLst/>
            <a:gdLst>
              <a:gd name="textAreaLeft" fmla="*/ 0 w 393840"/>
              <a:gd name="textAreaRight" fmla="*/ 394200 w 393840"/>
              <a:gd name="textAreaTop" fmla="*/ 0 h 216000"/>
              <a:gd name="textAreaBottom" fmla="*/ 77040 h 216000"/>
            </a:gdLst>
            <a:ahLst/>
            <a:rect l="textAreaLeft" t="textAreaTop" r="textAreaRight" b="textAreaBottom"/>
            <a:pathLst>
              <a:path w="21600" h="21600">
                <a:moveTo>
                  <a:pt x="5400" y="10800"/>
                </a:moveTo>
                <a:cubicBezTo>
                  <a:pt x="5400" y="7817"/>
                  <a:pt x="7817" y="5400"/>
                  <a:pt x="10800" y="5400"/>
                </a:cubicBezTo>
                <a:cubicBezTo>
                  <a:pt x="13782" y="5399"/>
                  <a:pt x="16199" y="7817"/>
                  <a:pt x="16200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5400" y="108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10"/>
          <p:cNvSpPr/>
          <p:nvPr/>
        </p:nvSpPr>
        <p:spPr>
          <a:xfrm>
            <a:off x="8629560" y="5743440"/>
            <a:ext cx="123840" cy="9720"/>
          </a:xfrm>
          <a:custGeom>
            <a:avLst/>
            <a:gdLst>
              <a:gd name="textAreaLeft" fmla="*/ 0 w 123840"/>
              <a:gd name="textAreaRight" fmla="*/ 124200 w 123840"/>
              <a:gd name="textAreaTop" fmla="*/ 0 h 9720"/>
              <a:gd name="textAreaBottom" fmla="*/ 10080 h 9720"/>
            </a:gdLst>
            <a:ahLst/>
            <a:rect l="textAreaLeft" t="textAreaTop" r="textAreaRight" b="textAreaBottom"/>
            <a:pathLst>
              <a:path w="78" h="6">
                <a:moveTo>
                  <a:pt x="0" y="6"/>
                </a:moveTo>
                <a:cubicBezTo>
                  <a:pt x="70" y="0"/>
                  <a:pt x="44" y="0"/>
                  <a:pt x="7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6720" bIns="-36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11"/>
          <p:cNvSpPr/>
          <p:nvPr/>
        </p:nvSpPr>
        <p:spPr>
          <a:xfrm>
            <a:off x="8400960" y="5781600"/>
            <a:ext cx="190440" cy="54000"/>
          </a:xfrm>
          <a:custGeom>
            <a:avLst/>
            <a:gdLst>
              <a:gd name="textAreaLeft" fmla="*/ 0 w 190440"/>
              <a:gd name="textAreaRight" fmla="*/ 190800 w 19044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120" h="34">
                <a:moveTo>
                  <a:pt x="120" y="6"/>
                </a:moveTo>
                <a:cubicBezTo>
                  <a:pt x="78" y="34"/>
                  <a:pt x="43" y="0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12"/>
          <p:cNvSpPr/>
          <p:nvPr/>
        </p:nvSpPr>
        <p:spPr>
          <a:xfrm>
            <a:off x="8442360" y="5710320"/>
            <a:ext cx="130320" cy="61920"/>
          </a:xfrm>
          <a:custGeom>
            <a:avLst/>
            <a:gdLst>
              <a:gd name="textAreaLeft" fmla="*/ 0 w 130320"/>
              <a:gd name="textAreaRight" fmla="*/ 130680 w 13032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82" h="39">
                <a:moveTo>
                  <a:pt x="82" y="39"/>
                </a:moveTo>
                <a:cubicBezTo>
                  <a:pt x="76" y="37"/>
                  <a:pt x="70" y="36"/>
                  <a:pt x="64" y="33"/>
                </a:cubicBezTo>
                <a:cubicBezTo>
                  <a:pt x="58" y="30"/>
                  <a:pt x="53" y="24"/>
                  <a:pt x="46" y="21"/>
                </a:cubicBezTo>
                <a:cubicBezTo>
                  <a:pt x="0" y="0"/>
                  <a:pt x="21" y="20"/>
                  <a:pt x="4" y="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13"/>
          <p:cNvSpPr/>
          <p:nvPr/>
        </p:nvSpPr>
        <p:spPr>
          <a:xfrm>
            <a:off x="8601120" y="5676840"/>
            <a:ext cx="152280" cy="66600"/>
          </a:xfrm>
          <a:custGeom>
            <a:avLst/>
            <a:gdLst>
              <a:gd name="textAreaLeft" fmla="*/ 0 w 152280"/>
              <a:gd name="textAreaRight" fmla="*/ 152640 w 15228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96" h="42">
                <a:moveTo>
                  <a:pt x="0" y="42"/>
                </a:moveTo>
                <a:cubicBezTo>
                  <a:pt x="6" y="40"/>
                  <a:pt x="12" y="39"/>
                  <a:pt x="18" y="36"/>
                </a:cubicBezTo>
                <a:cubicBezTo>
                  <a:pt x="24" y="33"/>
                  <a:pt x="29" y="27"/>
                  <a:pt x="36" y="24"/>
                </a:cubicBezTo>
                <a:cubicBezTo>
                  <a:pt x="55" y="16"/>
                  <a:pt x="81" y="15"/>
                  <a:pt x="9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4"/>
          <p:cNvSpPr/>
          <p:nvPr/>
        </p:nvSpPr>
        <p:spPr>
          <a:xfrm>
            <a:off x="395280" y="1268280"/>
            <a:ext cx="288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езприман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(опы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яд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ор, путей движ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5"/>
          <p:cNvSpPr/>
          <p:nvPr/>
        </p:nvSpPr>
        <p:spPr>
          <a:xfrm>
            <a:off x="2916360" y="249228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очный (пищев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риманки: каши,хлеб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рш, ;водные приманк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ода, молоко, буль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16"/>
          <p:cNvSpPr/>
          <p:nvPr/>
        </p:nvSpPr>
        <p:spPr>
          <a:xfrm>
            <a:off x="5651640" y="46530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азами(углекислый га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AutoShape 17"/>
          <p:cNvSpPr/>
          <p:nvPr/>
        </p:nvSpPr>
        <p:spPr>
          <a:xfrm rot="19414200">
            <a:off x="3203640" y="1196640"/>
            <a:ext cx="1087200" cy="495360"/>
          </a:xfrm>
          <a:prstGeom prst="leftArrow">
            <a:avLst>
              <a:gd name="adj1" fmla="val 50000"/>
              <a:gd name="adj2" fmla="val 54869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AutoShape 18"/>
          <p:cNvSpPr/>
          <p:nvPr/>
        </p:nvSpPr>
        <p:spPr>
          <a:xfrm rot="16200000">
            <a:off x="3919320" y="1520280"/>
            <a:ext cx="1305000" cy="495360"/>
          </a:xfrm>
          <a:prstGeom prst="leftArrow">
            <a:avLst>
              <a:gd name="adj1" fmla="val 50000"/>
              <a:gd name="adj2" fmla="val 6586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19"/>
          <p:cNvSpPr/>
          <p:nvPr/>
        </p:nvSpPr>
        <p:spPr>
          <a:xfrm rot="14123400">
            <a:off x="4069440" y="2568960"/>
            <a:ext cx="4084560" cy="495000"/>
          </a:xfrm>
          <a:prstGeom prst="leftArrow">
            <a:avLst>
              <a:gd name="adj1" fmla="val 50000"/>
              <a:gd name="adj2" fmla="val 206291"/>
            </a:avLst>
          </a:prstGeom>
          <a:solidFill>
            <a:srgbClr val="a47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0"/>
          <p:cNvSpPr/>
          <p:nvPr/>
        </p:nvSpPr>
        <p:spPr>
          <a:xfrm>
            <a:off x="108000" y="981000"/>
            <a:ext cx="2879640" cy="3057480"/>
          </a:xfrm>
          <a:prstGeom prst="cloudCallout">
            <a:avLst>
              <a:gd name="adj1" fmla="val -18027"/>
              <a:gd name="adj2" fmla="val 54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1"/>
          <p:cNvSpPr/>
          <p:nvPr/>
        </p:nvSpPr>
        <p:spPr>
          <a:xfrm>
            <a:off x="3708360" y="4221000"/>
            <a:ext cx="1655640" cy="10083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AutoShape 22"/>
          <p:cNvSpPr/>
          <p:nvPr/>
        </p:nvSpPr>
        <p:spPr>
          <a:xfrm>
            <a:off x="7093080" y="5589720"/>
            <a:ext cx="2050920" cy="1152360"/>
          </a:xfrm>
          <a:prstGeom prst="cloudCallout">
            <a:avLst>
              <a:gd name="adj1" fmla="val -1624"/>
              <a:gd name="adj2" fmla="val 3843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23"/>
          <p:cNvSpPr/>
          <p:nvPr/>
        </p:nvSpPr>
        <p:spPr>
          <a:xfrm>
            <a:off x="7742160" y="5716440"/>
            <a:ext cx="87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Способы приготовления отравляющих приманок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53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еханическое смеши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в растворах яд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липание ядов-порошков к поверхности приманок (растительное масло и другие масл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анесение ядовитых паст на поверхност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рима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ымачивание или опыливание растительных приманок яд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цепты приманок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в грамма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457200" y="1600200"/>
          <a:ext cx="8229600" cy="487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  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ажный комбикорм   9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окумарин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58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арш мясной или рыбный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робленое зерно 9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толацин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бикорм запаренный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хар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5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ысит 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ебная крошка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сфид цинка 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рно дробленое  9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ло растительное  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7" name="Picture 2" descr="Горбатов 4"/>
          <p:cNvPicPr/>
          <p:nvPr/>
        </p:nvPicPr>
        <p:blipFill>
          <a:blip r:embed="rId1"/>
          <a:srcRect l="1552" t="7784" r="6041" b="2214"/>
          <a:stretch/>
        </p:blipFill>
        <p:spPr>
          <a:xfrm>
            <a:off x="2133720" y="304920"/>
            <a:ext cx="4854600" cy="6553080"/>
          </a:xfrm>
          <a:prstGeom prst="rect">
            <a:avLst/>
          </a:prstGeom>
          <a:ln w="0">
            <a:noFill/>
          </a:ln>
        </p:spPr>
      </p:pic>
      <p:sp>
        <p:nvSpPr>
          <p:cNvPr id="65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Горбатов 5"/>
          <p:cNvPicPr/>
          <p:nvPr/>
        </p:nvPicPr>
        <p:blipFill>
          <a:blip r:embed="rId1"/>
          <a:srcRect l="1008" t="3681" r="1008" b="3498"/>
          <a:stretch/>
        </p:blipFill>
        <p:spPr>
          <a:xfrm>
            <a:off x="1143000" y="838080"/>
            <a:ext cx="6934320" cy="5646960"/>
          </a:xfrm>
          <a:prstGeom prst="rect">
            <a:avLst/>
          </a:prstGeom>
          <a:ln w="0">
            <a:noFill/>
          </a:ln>
        </p:spPr>
      </p:pic>
      <p:sp>
        <p:nvSpPr>
          <p:cNvPr id="660" name="Text Box 3"/>
          <p:cNvSpPr/>
          <p:nvPr/>
        </p:nvSpPr>
        <p:spPr>
          <a:xfrm>
            <a:off x="990720" y="228600"/>
            <a:ext cx="727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ок проведения дератиз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Оценка эффективности дератизации.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 =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(А+ В)х 100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 %    эффективности дератиза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количество жилых нор или  суточное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олличество съеденной приманки      до     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- то же после дерат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Picture 3" descr="AN00460_"/>
          <p:cNvPicPr/>
          <p:nvPr/>
        </p:nvPicPr>
        <p:blipFill>
          <a:blip r:embed="rId1"/>
          <a:stretch/>
        </p:blipFill>
        <p:spPr>
          <a:xfrm>
            <a:off x="3962520" y="2057400"/>
            <a:ext cx="4464000" cy="4394160"/>
          </a:xfrm>
          <a:prstGeom prst="rect">
            <a:avLst/>
          </a:prstGeom>
          <a:ln w="0">
            <a:noFill/>
          </a:ln>
        </p:spPr>
      </p:pic>
      <p:pic>
        <p:nvPicPr>
          <p:cNvPr id="666" name="Reco35.WAV" descr=""/>
          <p:cNvPicPr/>
          <p:nvPr/>
        </p:nvPicPr>
        <p:blipFill>
          <a:blip r:embed="rId2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7"/>
          <p:cNvSpPr/>
          <p:nvPr/>
        </p:nvSpPr>
        <p:spPr>
          <a:xfrm rot="19719000">
            <a:off x="243360" y="2228400"/>
            <a:ext cx="8418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" dur="3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секция –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комплекс мероприятий, направленных на уничтожение членистоногих (клещей и насекомых), вызывающих заболевания и являющихся переносчиками возбудител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Болезни, переносчиками которых являются членистоноги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1828800" y="1817640"/>
            <a:ext cx="655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ЭМ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соматоз крол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понский энцефал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Акаб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сельсбронская болезнь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ута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улярный дер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риканская чума лоша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знь Найро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отландский энцефаломиелит ов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кулярный стомат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нлейкопения кош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tabLst>
                <a:tab algn="l" pos="0"/>
                <a:tab algn="l" pos="324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5" name="Picture 3" descr="AN00460_"/>
          <p:cNvPicPr/>
          <p:nvPr/>
        </p:nvPicPr>
        <p:blipFill>
          <a:blip r:embed="rId1"/>
          <a:stretch/>
        </p:blipFill>
        <p:spPr>
          <a:xfrm rot="3529800">
            <a:off x="7595280" y="55900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676" name="Text Box 4"/>
          <p:cNvSpPr/>
          <p:nvPr/>
        </p:nvSpPr>
        <p:spPr>
          <a:xfrm>
            <a:off x="1979640" y="0"/>
            <a:ext cx="628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РЫ БОРЬБЫ С НАСЕКОМ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5"/>
          <p:cNvSpPr/>
          <p:nvPr/>
        </p:nvSpPr>
        <p:spPr>
          <a:xfrm>
            <a:off x="4086360" y="549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6"/>
          <p:cNvSpPr/>
          <p:nvPr/>
        </p:nvSpPr>
        <p:spPr>
          <a:xfrm>
            <a:off x="3348000" y="836640"/>
            <a:ext cx="30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ЗИНС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7"/>
          <p:cNvSpPr/>
          <p:nvPr/>
        </p:nvSpPr>
        <p:spPr>
          <a:xfrm>
            <a:off x="4086360" y="134136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8"/>
          <p:cNvSpPr/>
          <p:nvPr/>
        </p:nvSpPr>
        <p:spPr>
          <a:xfrm rot="3649800">
            <a:off x="2887920" y="935640"/>
            <a:ext cx="366480" cy="453960"/>
          </a:xfrm>
          <a:prstGeom prst="downArrow">
            <a:avLst>
              <a:gd name="adj1" fmla="val 50000"/>
              <a:gd name="adj2" fmla="val 3096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9"/>
          <p:cNvSpPr/>
          <p:nvPr/>
        </p:nvSpPr>
        <p:spPr>
          <a:xfrm>
            <a:off x="179280" y="1330200"/>
            <a:ext cx="3313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ФИЛАКТИЧЕСКИЕ МЕРО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10"/>
          <p:cNvSpPr/>
          <p:nvPr/>
        </p:nvSpPr>
        <p:spPr>
          <a:xfrm>
            <a:off x="1403280" y="1773360"/>
            <a:ext cx="360360" cy="1800000"/>
          </a:xfrm>
          <a:prstGeom prst="downArrow">
            <a:avLst>
              <a:gd name="adj1" fmla="val 50000"/>
              <a:gd name="adj2" fmla="val 12487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11"/>
          <p:cNvSpPr/>
          <p:nvPr/>
        </p:nvSpPr>
        <p:spPr>
          <a:xfrm>
            <a:off x="250920" y="3716280"/>
            <a:ext cx="280836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ТОЯННАЯ ОЧИСТКА ПОМЕЩЕНИЙ; УБОРКА ТЕРРИТОРИЙ; УДАЛЕНИЕ ОТХОДОВ И МУСОРА; ЗАГРАДИТЕЛЬНЫЕ СЕТКИ; ПРОВЕТРИВАНИЕ ПОМЕЩЕНИЙ И СЫРЬЯ; ОСУШЕНИЕ МЕЛКИХ ВОДОЕМОВ, БОЛОТ, ЗАСЫПКА ЯМ, КАНАВ, КАРЬЕРОВ, ЛУЖ; РАСПАШКА ПУСТУЮЩИХ ЗЕМЕЛЬ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2"/>
          <p:cNvSpPr/>
          <p:nvPr/>
        </p:nvSpPr>
        <p:spPr>
          <a:xfrm>
            <a:off x="3276720" y="1576440"/>
            <a:ext cx="330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РЕБИТЕЛЬНЫЕ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13"/>
          <p:cNvSpPr/>
          <p:nvPr/>
        </p:nvSpPr>
        <p:spPr>
          <a:xfrm>
            <a:off x="4086360" y="2060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14"/>
          <p:cNvSpPr/>
          <p:nvPr/>
        </p:nvSpPr>
        <p:spPr>
          <a:xfrm>
            <a:off x="3708360" y="242100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AutoShape 15"/>
          <p:cNvSpPr/>
          <p:nvPr/>
        </p:nvSpPr>
        <p:spPr>
          <a:xfrm>
            <a:off x="4086360" y="2852640"/>
            <a:ext cx="48564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16"/>
          <p:cNvSpPr/>
          <p:nvPr/>
        </p:nvSpPr>
        <p:spPr>
          <a:xfrm>
            <a:off x="3708360" y="3284640"/>
            <a:ext cx="141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17"/>
          <p:cNvSpPr/>
          <p:nvPr/>
        </p:nvSpPr>
        <p:spPr>
          <a:xfrm>
            <a:off x="4086360" y="3716280"/>
            <a:ext cx="485640" cy="1441440"/>
          </a:xfrm>
          <a:prstGeom prst="downArrow">
            <a:avLst>
              <a:gd name="adj1" fmla="val 50000"/>
              <a:gd name="adj2" fmla="val 7420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18"/>
          <p:cNvSpPr/>
          <p:nvPr/>
        </p:nvSpPr>
        <p:spPr>
          <a:xfrm>
            <a:off x="3492360" y="5373720"/>
            <a:ext cx="194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ИОЛОГ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AutoShape 20"/>
          <p:cNvSpPr/>
          <p:nvPr/>
        </p:nvSpPr>
        <p:spPr>
          <a:xfrm rot="15435000">
            <a:off x="5288760" y="2000880"/>
            <a:ext cx="314280" cy="718920"/>
          </a:xfrm>
          <a:prstGeom prst="downArrow">
            <a:avLst>
              <a:gd name="adj1" fmla="val 50000"/>
              <a:gd name="adj2" fmla="val 5718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AutoShape 21"/>
          <p:cNvSpPr/>
          <p:nvPr/>
        </p:nvSpPr>
        <p:spPr>
          <a:xfrm rot="16200000">
            <a:off x="5328360" y="2313720"/>
            <a:ext cx="287280" cy="790560"/>
          </a:xfrm>
          <a:prstGeom prst="downArrow">
            <a:avLst>
              <a:gd name="adj1" fmla="val 50000"/>
              <a:gd name="adj2" fmla="val 6879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22"/>
          <p:cNvSpPr/>
          <p:nvPr/>
        </p:nvSpPr>
        <p:spPr>
          <a:xfrm rot="17314200">
            <a:off x="5272560" y="2715120"/>
            <a:ext cx="295560" cy="703440"/>
          </a:xfrm>
          <a:prstGeom prst="downArrow">
            <a:avLst>
              <a:gd name="adj1" fmla="val 50000"/>
              <a:gd name="adj2" fmla="val 5950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23"/>
          <p:cNvSpPr/>
          <p:nvPr/>
        </p:nvSpPr>
        <p:spPr>
          <a:xfrm>
            <a:off x="5867280" y="186516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Ы (ДДВФ, ДИБРО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ХЛОРОФОС, ЦИОДРИН, АМИДОФОС. БАЙТЕКС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AutoShape 24"/>
          <p:cNvSpPr/>
          <p:nvPr/>
        </p:nvSpPr>
        <p:spPr>
          <a:xfrm rot="16200000">
            <a:off x="5328360" y="526500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5867280" y="3789360"/>
            <a:ext cx="31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МОРАЖИВАНИЕ; КИПЯЧЕНИЕ; ГОРЯЧИЙ ВОЗДУХ, ГОРЯЧ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ЙКА. ЭЛЕКТРОЛОВУШКИ; ОГОНЬ; ЛИПКАЯ  БУМАГА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26"/>
          <p:cNvSpPr/>
          <p:nvPr/>
        </p:nvSpPr>
        <p:spPr>
          <a:xfrm>
            <a:off x="5867280" y="2565360"/>
            <a:ext cx="283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ПЕЛЛЕНТЫ (ОКСАМАТ И ДР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27"/>
          <p:cNvSpPr/>
          <p:nvPr/>
        </p:nvSpPr>
        <p:spPr>
          <a:xfrm>
            <a:off x="5867280" y="3068640"/>
            <a:ext cx="309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СЕКТИЦИДНО-РЕПЕЛЛЕН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МПОЗИЦИИ (ДИОКС-1, ДИОКС-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6135840" y="4600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29"/>
          <p:cNvSpPr/>
          <p:nvPr/>
        </p:nvSpPr>
        <p:spPr>
          <a:xfrm>
            <a:off x="5867280" y="4746600"/>
            <a:ext cx="327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ЫБЫ, ОСЫ,СТРЕКОЗЫ, ПАУКИ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УРАВЬИ, ЖУКИ , БОЖЬИ КОР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30"/>
          <p:cNvSpPr/>
          <p:nvPr/>
        </p:nvSpPr>
        <p:spPr>
          <a:xfrm>
            <a:off x="5867280" y="5394240"/>
            <a:ext cx="31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УРИНГИН, ПАТОГЕННЫЕ ГРИБЫ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1"/>
          <p:cNvSpPr/>
          <p:nvPr/>
        </p:nvSpPr>
        <p:spPr>
          <a:xfrm>
            <a:off x="5867280" y="6041880"/>
            <a:ext cx="3168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ЕРИЛИЗАЦИЯ 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АММА-ЛУЧАМИ; ХИМИЧЕСКИМИ ПРЕПАРА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AutoShape 32"/>
          <p:cNvSpPr/>
          <p:nvPr/>
        </p:nvSpPr>
        <p:spPr>
          <a:xfrm rot="17998800">
            <a:off x="5177520" y="3353040"/>
            <a:ext cx="307800" cy="884160"/>
          </a:xfrm>
          <a:prstGeom prst="downArrow">
            <a:avLst>
              <a:gd name="adj1" fmla="val 50000"/>
              <a:gd name="adj2" fmla="val 7181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utoShape 33"/>
          <p:cNvSpPr/>
          <p:nvPr/>
        </p:nvSpPr>
        <p:spPr>
          <a:xfrm rot="14850600">
            <a:off x="5330520" y="4698360"/>
            <a:ext cx="214200" cy="849240"/>
          </a:xfrm>
          <a:prstGeom prst="downArrow">
            <a:avLst>
              <a:gd name="adj1" fmla="val 50000"/>
              <a:gd name="adj2" fmla="val 9911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4"/>
          <p:cNvSpPr/>
          <p:nvPr/>
        </p:nvSpPr>
        <p:spPr>
          <a:xfrm rot="18326400">
            <a:off x="5200920" y="5532840"/>
            <a:ext cx="239760" cy="860400"/>
          </a:xfrm>
          <a:prstGeom prst="downArrow">
            <a:avLst>
              <a:gd name="adj1" fmla="val 50000"/>
              <a:gd name="adj2" fmla="val 8971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6" name="Picture 0" descr="AN00460_"/>
          <p:cNvPicPr/>
          <p:nvPr/>
        </p:nvPicPr>
        <p:blipFill>
          <a:blip r:embed="rId2"/>
          <a:stretch/>
        </p:blipFill>
        <p:spPr>
          <a:xfrm>
            <a:off x="7853400" y="69228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7" name="Picture 1" descr="AN00460_"/>
          <p:cNvPicPr/>
          <p:nvPr/>
        </p:nvPicPr>
        <p:blipFill>
          <a:blip r:embed="rId3"/>
          <a:stretch/>
        </p:blipFill>
        <p:spPr>
          <a:xfrm rot="13525800">
            <a:off x="2051280" y="2707560"/>
            <a:ext cx="627120" cy="72072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2" descr="AN00460_"/>
          <p:cNvPicPr/>
          <p:nvPr/>
        </p:nvPicPr>
        <p:blipFill>
          <a:blip r:embed="rId4"/>
          <a:stretch/>
        </p:blipFill>
        <p:spPr>
          <a:xfrm rot="1767600">
            <a:off x="466200" y="117360"/>
            <a:ext cx="936720" cy="1078200"/>
          </a:xfrm>
          <a:prstGeom prst="rect">
            <a:avLst/>
          </a:prstGeom>
          <a:ln w="0">
            <a:noFill/>
          </a:ln>
        </p:spPr>
      </p:pic>
      <p:sp>
        <p:nvSpPr>
          <p:cNvPr id="70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67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71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75" dur="2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768 0.07152 C -0.08091 0.08356 -0.07309 0.09583 -0.07066 0.10995 C -0.06823 0.125 -0.06823 0.14259 -0.06789 0.16018 C -0.06771 0.17777 -0.07136 0.19189 -0.075 0.20671 C -0.07865 0.22152 -0.08316 0.2368 -0.09167 0.24861 C -0.09896 0.26064 -0.11007 0.26921 -0.1217 0.27523 C -0.13247 0.28055 -0.14497 0.28356 -0.15712 0.28402 C -0.16927 0.28425 -0.18108 0.28263 -0.19184 0.278 C -0.20348 0.27291 -0.21354 0.26412 -0.22136 0.25185 C -0.22917 0.2405 -0.23594 0.22754 -0.2382 0.2125 C -0.24184 0.19814 -0.24167 0.17893 -0.24011 0.16481 C -0.23959 0.15023 -0.23664 0.13263 -0.23021 0.11967 C -0.22396 0.1074 -0.21389 0.09861 -0.20139 0.0956 C -0.18907 0.09398 -0.17761 0.10115 -0.17084 0.11226 C -0.16493 0.12268 -0.16146 0.13773 -0.16233 0.15509 C -0.16424 0.17268 -0.16684 0.18819 -0.17327 0.2 C -0.17969 0.21296 -0.179 0.21504 -0.20052 0.22847 C -0.22049 0.24421 -0.23785 0.23541 -0.24879 0.23449 C -0.25955 0.2324 -0.26789 0.22546 -0.27813 0.21805 C -0.28959 0.20949 -0.29809 0.1956 -0.304 0.18379 C -0.30973 0.17175 -0.31111 0.1581 -0.31285 0.13611 C -0.31355 0.11458 -0.31233 0.10393 -0.31059 0.08796 C -0.30886 0.07222 -0.30712 0.05625 -0.30556 0.0405 E">
                                      <p:cBhvr>
                                        <p:cTn id="79" dur="2000" fill="hold"/>
                                        <p:tgtEl>
                                          <p:spTgt spid="7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path" presetID="48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8 0.01067 0.017 0.02133 0.021 0.03467 C 0.025 0.04933 0.027 0.06667 0.029 0.084 C 0.031 0.10133 0.029 0.116 0.027 0.132 C 0.025 0.14667 0.022 0.16267 0.015 0.176 C 0.009 0.18933 -0.001 0.2 -0.012 0.208 C -0.022 0.216 -0.034 0.22133 -0.046 0.224 C -0.058 0.22667 -0.07 0.22667 -0.081 0.224 C -0.093 0.22133 -0.104 0.21467 -0.113 0.204 C -0.122 0.19467 -0.13 0.18267 -0.134 0.168 C -0.139 0.15467 -0.141 0.136 -0.141 0.12133 C -0.142 0.10667 -0.141 0.08933 -0.136 0.07467 C -0.131 0.06133 -0.122 0.05067 -0.11 0.04533 C -0.098 0.04133 -0.086 0.04667 -0.078 0.056 C -0.071 0.06533 -0.066 0.08 -0.065 0.09733 C -0.065 0.11467 -0.066 0.13067 -0.071 0.144 C -0.076 0.15733 -0.075 0.16 -0.095 0.17733 C -0.113 0.196 -0.131 0.19067 -0.142 0.192 C -0.153 0.192 -0.162 0.18667 -0.173 0.18133 C -0.185 0.17467 -0.195 0.16267 -0.202 0.152 C -0.209 0.14133 -0.212 0.128 -0.216 0.10667 C -0.219 0.08533 -0.219 0.07467 -0.219 0.05867 C -0.219 0.04267 -0.219 0.02667 -0.219 0.01067 E">
                                      <p:cBhvr>
                                        <p:cTn id="83" dur="2000" fill="hold"/>
                                        <p:tgtEl>
                                          <p:spTgt spid="7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2"/>
          <p:cNvSpPr/>
          <p:nvPr/>
        </p:nvSpPr>
        <p:spPr>
          <a:xfrm>
            <a:off x="684360" y="1555200"/>
            <a:ext cx="81356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Дезинфекция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- комплексная система мероприятий по уничтожению патогенн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или условно патогенных микроорганизмов во внешней среде и на теле животны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Picture 2" descr="AN00460_"/>
          <p:cNvPicPr/>
          <p:nvPr/>
        </p:nvPicPr>
        <p:blipFill>
          <a:blip r:embed="rId1"/>
          <a:stretch/>
        </p:blipFill>
        <p:spPr>
          <a:xfrm>
            <a:off x="5580000" y="270828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11" name="AutoShape 40"/>
          <p:cNvSpPr/>
          <p:nvPr/>
        </p:nvSpPr>
        <p:spPr>
          <a:xfrm>
            <a:off x="2700360" y="2060640"/>
            <a:ext cx="2592360" cy="2305080"/>
          </a:xfrm>
          <a:prstGeom prst="cloudCallout">
            <a:avLst>
              <a:gd name="adj1" fmla="val -85148"/>
              <a:gd name="adj2" fmla="val 9256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AutoShape 21"/>
          <p:cNvSpPr/>
          <p:nvPr/>
        </p:nvSpPr>
        <p:spPr>
          <a:xfrm>
            <a:off x="7164360" y="4221000"/>
            <a:ext cx="1800360" cy="2016360"/>
          </a:xfrm>
          <a:prstGeom prst="cloudCallout">
            <a:avLst>
              <a:gd name="adj1" fmla="val -85537"/>
              <a:gd name="adj2" fmla="val 1013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20"/>
          <p:cNvSpPr/>
          <p:nvPr/>
        </p:nvSpPr>
        <p:spPr>
          <a:xfrm>
            <a:off x="5219640" y="5229360"/>
            <a:ext cx="1513080" cy="93636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9"/>
          <p:cNvSpPr/>
          <p:nvPr/>
        </p:nvSpPr>
        <p:spPr>
          <a:xfrm>
            <a:off x="5292720" y="4508640"/>
            <a:ext cx="1366920" cy="72072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Freeform 16"/>
          <p:cNvSpPr/>
          <p:nvPr/>
        </p:nvSpPr>
        <p:spPr>
          <a:xfrm rot="21174000">
            <a:off x="173160" y="85356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7"/>
          <p:cNvSpPr/>
          <p:nvPr/>
        </p:nvSpPr>
        <p:spPr>
          <a:xfrm>
            <a:off x="900000" y="189000"/>
            <a:ext cx="7993080" cy="764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e0ce8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МЕТОДЫ ДЕЗИНС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9"/>
          <p:cNvSpPr/>
          <p:nvPr/>
        </p:nvSpPr>
        <p:spPr>
          <a:xfrm>
            <a:off x="2771640" y="2997360"/>
            <a:ext cx="2521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ЭРОЗОЛЬ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1"/>
          <p:cNvSpPr/>
          <p:nvPr/>
        </p:nvSpPr>
        <p:spPr>
          <a:xfrm>
            <a:off x="7236000" y="4437000"/>
            <a:ext cx="19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АЗ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АЗЫ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СЕКТИЦИД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Ш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18"/>
          <p:cNvSpPr/>
          <p:nvPr/>
        </p:nvSpPr>
        <p:spPr>
          <a:xfrm>
            <a:off x="5435640" y="3789360"/>
            <a:ext cx="1224000" cy="5778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10"/>
          <p:cNvSpPr/>
          <p:nvPr/>
        </p:nvSpPr>
        <p:spPr>
          <a:xfrm>
            <a:off x="5219640" y="3860640"/>
            <a:ext cx="158436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Х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ОСЫП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ОШ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БЛЕТ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26"/>
          <p:cNvSpPr/>
          <p:nvPr/>
        </p:nvSpPr>
        <p:spPr>
          <a:xfrm rot="21174000">
            <a:off x="468360" y="98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Freeform 27"/>
          <p:cNvSpPr/>
          <p:nvPr/>
        </p:nvSpPr>
        <p:spPr>
          <a:xfrm rot="21174000">
            <a:off x="826920" y="1197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Freeform 28"/>
          <p:cNvSpPr/>
          <p:nvPr/>
        </p:nvSpPr>
        <p:spPr>
          <a:xfrm rot="21174000">
            <a:off x="324000" y="134100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Freeform 29"/>
          <p:cNvSpPr/>
          <p:nvPr/>
        </p:nvSpPr>
        <p:spPr>
          <a:xfrm rot="21174000">
            <a:off x="684360" y="1483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Freeform 30"/>
          <p:cNvSpPr/>
          <p:nvPr/>
        </p:nvSpPr>
        <p:spPr>
          <a:xfrm rot="21174000">
            <a:off x="1116000" y="1628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Freeform 34"/>
          <p:cNvSpPr/>
          <p:nvPr/>
        </p:nvSpPr>
        <p:spPr>
          <a:xfrm rot="21174000">
            <a:off x="468360" y="242100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Freeform 35"/>
          <p:cNvSpPr/>
          <p:nvPr/>
        </p:nvSpPr>
        <p:spPr>
          <a:xfrm rot="21174000">
            <a:off x="1042920" y="249228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Freeform 36"/>
          <p:cNvSpPr/>
          <p:nvPr/>
        </p:nvSpPr>
        <p:spPr>
          <a:xfrm rot="21174000">
            <a:off x="826920" y="2727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8"/>
          <p:cNvSpPr/>
          <p:nvPr/>
        </p:nvSpPr>
        <p:spPr>
          <a:xfrm>
            <a:off x="1476360" y="5661000"/>
            <a:ext cx="358920" cy="119700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9"/>
          <p:cNvSpPr/>
          <p:nvPr/>
        </p:nvSpPr>
        <p:spPr>
          <a:xfrm>
            <a:off x="1547640" y="5373720"/>
            <a:ext cx="216000" cy="503280"/>
          </a:xfrm>
          <a:prstGeom prst="can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Freeform 41"/>
          <p:cNvSpPr/>
          <p:nvPr/>
        </p:nvSpPr>
        <p:spPr>
          <a:xfrm rot="21174000">
            <a:off x="1403280" y="357336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Freeform 42"/>
          <p:cNvSpPr/>
          <p:nvPr/>
        </p:nvSpPr>
        <p:spPr>
          <a:xfrm rot="21174000">
            <a:off x="611280" y="3860280"/>
            <a:ext cx="215640" cy="702000"/>
          </a:xfrm>
          <a:custGeom>
            <a:avLst/>
            <a:gdLst>
              <a:gd name="textAreaLeft" fmla="*/ 0 w 215640"/>
              <a:gd name="textAreaRight" fmla="*/ 216000 w 215640"/>
              <a:gd name="textAreaTop" fmla="*/ 0 h 702000"/>
              <a:gd name="textAreaBottom" fmla="*/ 702360 h 70200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43"/>
          <p:cNvSpPr/>
          <p:nvPr/>
        </p:nvSpPr>
        <p:spPr>
          <a:xfrm flipH="1">
            <a:off x="1763640" y="3933720"/>
            <a:ext cx="936720" cy="13669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44"/>
          <p:cNvSpPr/>
          <p:nvPr/>
        </p:nvSpPr>
        <p:spPr>
          <a:xfrm flipV="1">
            <a:off x="1979640" y="4220640"/>
            <a:ext cx="1655640" cy="10796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Freeform 31"/>
          <p:cNvSpPr/>
          <p:nvPr/>
        </p:nvSpPr>
        <p:spPr>
          <a:xfrm rot="21174000">
            <a:off x="250920" y="191592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Freeform 32"/>
          <p:cNvSpPr/>
          <p:nvPr/>
        </p:nvSpPr>
        <p:spPr>
          <a:xfrm rot="21174000">
            <a:off x="684360" y="1988640"/>
            <a:ext cx="215640" cy="701640"/>
          </a:xfrm>
          <a:custGeom>
            <a:avLst/>
            <a:gdLst>
              <a:gd name="textAreaLeft" fmla="*/ 0 w 215640"/>
              <a:gd name="textAreaRight" fmla="*/ 216000 w 215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Freeform 33"/>
          <p:cNvSpPr/>
          <p:nvPr/>
        </p:nvSpPr>
        <p:spPr>
          <a:xfrm rot="21174000">
            <a:off x="1116000" y="2060640"/>
            <a:ext cx="216000" cy="701640"/>
          </a:xfrm>
          <a:custGeom>
            <a:avLst/>
            <a:gdLst>
              <a:gd name="textAreaLeft" fmla="*/ 0 w 216000"/>
              <a:gd name="textAreaRight" fmla="*/ 216360 w 21600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1085" h="1746">
                <a:moveTo>
                  <a:pt x="428" y="138"/>
                </a:moveTo>
                <a:cubicBezTo>
                  <a:pt x="413" y="199"/>
                  <a:pt x="406" y="258"/>
                  <a:pt x="386" y="318"/>
                </a:cubicBezTo>
                <a:cubicBezTo>
                  <a:pt x="377" y="344"/>
                  <a:pt x="365" y="364"/>
                  <a:pt x="356" y="390"/>
                </a:cubicBezTo>
                <a:cubicBezTo>
                  <a:pt x="354" y="396"/>
                  <a:pt x="350" y="408"/>
                  <a:pt x="350" y="408"/>
                </a:cubicBezTo>
                <a:cubicBezTo>
                  <a:pt x="338" y="493"/>
                  <a:pt x="287" y="546"/>
                  <a:pt x="236" y="612"/>
                </a:cubicBezTo>
                <a:cubicBezTo>
                  <a:pt x="215" y="639"/>
                  <a:pt x="196" y="671"/>
                  <a:pt x="182" y="702"/>
                </a:cubicBezTo>
                <a:cubicBezTo>
                  <a:pt x="177" y="714"/>
                  <a:pt x="177" y="727"/>
                  <a:pt x="170" y="738"/>
                </a:cubicBezTo>
                <a:cubicBezTo>
                  <a:pt x="162" y="750"/>
                  <a:pt x="151" y="760"/>
                  <a:pt x="146" y="774"/>
                </a:cubicBezTo>
                <a:cubicBezTo>
                  <a:pt x="144" y="780"/>
                  <a:pt x="143" y="787"/>
                  <a:pt x="140" y="792"/>
                </a:cubicBezTo>
                <a:cubicBezTo>
                  <a:pt x="124" y="821"/>
                  <a:pt x="100" y="846"/>
                  <a:pt x="86" y="876"/>
                </a:cubicBezTo>
                <a:cubicBezTo>
                  <a:pt x="67" y="919"/>
                  <a:pt x="49" y="988"/>
                  <a:pt x="38" y="1032"/>
                </a:cubicBezTo>
                <a:cubicBezTo>
                  <a:pt x="34" y="1050"/>
                  <a:pt x="31" y="1068"/>
                  <a:pt x="26" y="1086"/>
                </a:cubicBezTo>
                <a:cubicBezTo>
                  <a:pt x="23" y="1098"/>
                  <a:pt x="14" y="1122"/>
                  <a:pt x="14" y="1122"/>
                </a:cubicBezTo>
                <a:cubicBezTo>
                  <a:pt x="10" y="1234"/>
                  <a:pt x="0" y="1332"/>
                  <a:pt x="44" y="1434"/>
                </a:cubicBezTo>
                <a:cubicBezTo>
                  <a:pt x="59" y="1470"/>
                  <a:pt x="85" y="1500"/>
                  <a:pt x="110" y="1530"/>
                </a:cubicBezTo>
                <a:cubicBezTo>
                  <a:pt x="125" y="1548"/>
                  <a:pt x="164" y="1572"/>
                  <a:pt x="164" y="1572"/>
                </a:cubicBezTo>
                <a:cubicBezTo>
                  <a:pt x="180" y="1621"/>
                  <a:pt x="221" y="1641"/>
                  <a:pt x="266" y="1656"/>
                </a:cubicBezTo>
                <a:cubicBezTo>
                  <a:pt x="273" y="1658"/>
                  <a:pt x="277" y="1665"/>
                  <a:pt x="284" y="1668"/>
                </a:cubicBezTo>
                <a:cubicBezTo>
                  <a:pt x="349" y="1697"/>
                  <a:pt x="415" y="1724"/>
                  <a:pt x="482" y="1746"/>
                </a:cubicBezTo>
                <a:cubicBezTo>
                  <a:pt x="720" y="1738"/>
                  <a:pt x="604" y="1742"/>
                  <a:pt x="734" y="1716"/>
                </a:cubicBezTo>
                <a:cubicBezTo>
                  <a:pt x="764" y="1696"/>
                  <a:pt x="801" y="1683"/>
                  <a:pt x="836" y="1674"/>
                </a:cubicBezTo>
                <a:cubicBezTo>
                  <a:pt x="879" y="1645"/>
                  <a:pt x="858" y="1653"/>
                  <a:pt x="896" y="1644"/>
                </a:cubicBezTo>
                <a:cubicBezTo>
                  <a:pt x="931" y="1618"/>
                  <a:pt x="966" y="1595"/>
                  <a:pt x="992" y="1560"/>
                </a:cubicBezTo>
                <a:cubicBezTo>
                  <a:pt x="1021" y="1473"/>
                  <a:pt x="1052" y="1388"/>
                  <a:pt x="1070" y="1296"/>
                </a:cubicBezTo>
                <a:cubicBezTo>
                  <a:pt x="1074" y="1193"/>
                  <a:pt x="1085" y="1065"/>
                  <a:pt x="1052" y="966"/>
                </a:cubicBezTo>
                <a:cubicBezTo>
                  <a:pt x="1045" y="945"/>
                  <a:pt x="1028" y="930"/>
                  <a:pt x="1016" y="912"/>
                </a:cubicBezTo>
                <a:cubicBezTo>
                  <a:pt x="1008" y="899"/>
                  <a:pt x="1006" y="883"/>
                  <a:pt x="998" y="870"/>
                </a:cubicBezTo>
                <a:cubicBezTo>
                  <a:pt x="974" y="828"/>
                  <a:pt x="954" y="785"/>
                  <a:pt x="926" y="744"/>
                </a:cubicBezTo>
                <a:cubicBezTo>
                  <a:pt x="895" y="697"/>
                  <a:pt x="839" y="681"/>
                  <a:pt x="800" y="642"/>
                </a:cubicBezTo>
                <a:cubicBezTo>
                  <a:pt x="773" y="615"/>
                  <a:pt x="749" y="585"/>
                  <a:pt x="722" y="558"/>
                </a:cubicBezTo>
                <a:cubicBezTo>
                  <a:pt x="679" y="515"/>
                  <a:pt x="654" y="459"/>
                  <a:pt x="626" y="408"/>
                </a:cubicBezTo>
                <a:cubicBezTo>
                  <a:pt x="606" y="372"/>
                  <a:pt x="559" y="316"/>
                  <a:pt x="548" y="282"/>
                </a:cubicBezTo>
                <a:cubicBezTo>
                  <a:pt x="534" y="241"/>
                  <a:pt x="510" y="197"/>
                  <a:pt x="500" y="156"/>
                </a:cubicBezTo>
                <a:cubicBezTo>
                  <a:pt x="494" y="133"/>
                  <a:pt x="493" y="106"/>
                  <a:pt x="482" y="84"/>
                </a:cubicBezTo>
                <a:cubicBezTo>
                  <a:pt x="468" y="55"/>
                  <a:pt x="458" y="32"/>
                  <a:pt x="452" y="0"/>
                </a:cubicBezTo>
                <a:cubicBezTo>
                  <a:pt x="441" y="32"/>
                  <a:pt x="434" y="75"/>
                  <a:pt x="416" y="102"/>
                </a:cubicBezTo>
                <a:cubicBezTo>
                  <a:pt x="419" y="118"/>
                  <a:pt x="428" y="134"/>
                  <a:pt x="428" y="150"/>
                </a:cubicBezTo>
                <a:cubicBezTo>
                  <a:pt x="428" y="172"/>
                  <a:pt x="422" y="194"/>
                  <a:pt x="422" y="216"/>
                </a:cubicBezTo>
                <a:lnTo>
                  <a:pt x="428" y="138"/>
                </a:lnTo>
                <a:close/>
              </a:path>
            </a:pathLst>
          </a:custGeom>
          <a:solidFill>
            <a:srgbClr val="eaeaea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45"/>
          <p:cNvSpPr/>
          <p:nvPr/>
        </p:nvSpPr>
        <p:spPr>
          <a:xfrm rot="21417600">
            <a:off x="3209400" y="1157040"/>
            <a:ext cx="2508480" cy="1909800"/>
          </a:xfrm>
          <a:prstGeom prst="cloudCallout">
            <a:avLst>
              <a:gd name="adj1" fmla="val -112870"/>
              <a:gd name="adj2" fmla="val 163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8"/>
          <p:cNvSpPr/>
          <p:nvPr/>
        </p:nvSpPr>
        <p:spPr>
          <a:xfrm>
            <a:off x="108000" y="2133720"/>
            <a:ext cx="230328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ЛАЖ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ЫСКИВАНИ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ГРУЖЕНИЕ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ТВ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0" name="Picture 1024" descr="AN00460_"/>
          <p:cNvPicPr/>
          <p:nvPr/>
        </p:nvPicPr>
        <p:blipFill>
          <a:blip r:embed="rId2"/>
          <a:stretch/>
        </p:blipFill>
        <p:spPr>
          <a:xfrm rot="4351800">
            <a:off x="3508560" y="3296160"/>
            <a:ext cx="750960" cy="863640"/>
          </a:xfrm>
          <a:prstGeom prst="rect">
            <a:avLst/>
          </a:prstGeom>
          <a:ln w="0">
            <a:noFill/>
          </a:ln>
        </p:spPr>
      </p:pic>
      <p:pic>
        <p:nvPicPr>
          <p:cNvPr id="741" name="Picture 1025" descr="AN00460_"/>
          <p:cNvPicPr/>
          <p:nvPr/>
        </p:nvPicPr>
        <p:blipFill>
          <a:blip r:embed="rId3"/>
          <a:stretch/>
        </p:blipFill>
        <p:spPr>
          <a:xfrm rot="17631600">
            <a:off x="754920" y="765720"/>
            <a:ext cx="936720" cy="10778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1026" descr="AN00460_"/>
          <p:cNvPicPr/>
          <p:nvPr/>
        </p:nvPicPr>
        <p:blipFill>
          <a:blip r:embed="rId4"/>
          <a:stretch/>
        </p:blipFill>
        <p:spPr>
          <a:xfrm rot="4351800">
            <a:off x="7867800" y="3516840"/>
            <a:ext cx="750960" cy="863640"/>
          </a:xfrm>
          <a:prstGeom prst="rect">
            <a:avLst/>
          </a:prstGeom>
          <a:ln w="0">
            <a:noFill/>
          </a:ln>
        </p:spPr>
      </p:pic>
      <p:sp>
        <p:nvSpPr>
          <p:cNvPr id="74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33 -0.046 -0.16667 -0.113 -0.172 C -0.177 -0.17867 -0.237 -0.11867 -0.241 -0.032 C -0.246 0.048 -0.204 0.12267 -0.144 0.128 C -0.089 0.132 -0.037 0.08267 -0.033 0.008 C -0.029 -0.06 -0.064 -0.124 -0.115 -0.12933 C -0.162 -0.13333 -0.206 -0.092 -0.209 -0.02933 C -0.212 0.02667 -0.184 0.08133 -0.142 0.084 C -0.104 0.088 -0.068 0.056 -0.065 0.00533 C -0.063 -0.04 -0.084 -0.084 -0.117 -0.08667 C -0.146 -0.08933 -0.175 -0.06533 -0.177 -0.02667 C -0.179 0.00667 -0.164 0.03867 -0.14 0.04133 C -0.12 0.044 -0.099 0.02933 -0.098 0.00267 C -0.096 -0.01867 -0.104 -0.04133 -0.119 -0.044 C -0.131 -0.044 -0.143 -0.03867 -0.145 -0.024 C -0.146 -0.01467 -0.144 -0.00533 -0.138 -0.00133 C -0.135 0 -0.133 0 -0.13 -0.00133 E">
                                      <p:cBhvr>
                                        <p:cTn id="89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0121 -0.2956 L 0.44531 -0.6 E">
                                      <p:cBhvr>
                                        <p:cTn id="93" dur="2000" fill="hold"/>
                                        <p:tgtEl>
                                          <p:spTgt spid="7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4 0.05787 C -0.06875 -0.03148 -0.11875 -0.1088 -0.18576 -0.11412 C -0.24983 -0.12084 -0.30972 -0.06088 -0.31371 0.02592 C -0.31875 0.10578 -0.27674 0.18055 -0.21667 0.18588 C -0.16181 0.18981 -0.10972 0.14051 -0.10573 0.06597 C -0.10174 -0.00208999999999999 -0.13681 -0.06621 -0.18767 -0.07153 C -0.23472 -0.07547 -0.27882 -0.03403 -0.28177 0.02847 C -0.28472 0.08449 -0.25677 0.13912 -0.21476 0.1419 C -0.17674 0.14583 -0.1408 0.11389 -0.13767 0.06319 C -0.13576 0.01782 -0.15677 -0.02616 -0.18958 -0.02871 C -0.21875 -0.03148 -0.24774 -0.00741 -0.24983 0.03125 C -0.25174 0.06458 -0.23681 0.09653 -0.21267 0.0993 C -0.19271 0.10185 -0.1717 0.08727 -0.17066 0.06065 C -0.16875 0.03912 -0.17674 0.01643 -0.19167 0.01389 C -0.20382 0.01389 -0.2158 0.01921 -0.21771 0.03379 C -0.21875 0.04328 -0.21667 0.05254 -0.21076 0.05648 C -0.20781 0.05787 -0.20573 0.05787 -0.20278 0.05648 E">
                                      <p:cBhvr>
                                        <p:cTn id="97" dur="20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-0.33333 E">
                                      <p:cBhvr>
                                        <p:cTn id="101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5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66 0.008 -0.115 0.028 -0.115 0.044 C -0.115 0.05867 -0.067 0.06933 -0.003 0.06933 C 0.061 0.06933 0.115 0.05867 0.115 0.044 C 0.115 0.028 0.059 0.024 -0.005 0.03467 C -0.068 0.04667 -0.115 0.06667 -0.115 0.08133 C -0.115 0.096 -0.066 0.108 -0.003 0.108 C 0.061 0.108 0.115 0.096 0.115 0.08133 C 0.115 0.06667 0.059 0.06267 -0.004 0.07333 C -0.068 0.084 -0.115 0.104 -0.115 0.11867 C -0.115 0.13467 -0.066 0.14667 -0.002 0.14667 C 0.061 0.14667 0.115 0.13467 0.115 0.11867 C 0.115 0.10533 0.059 0.10133 -0.004 0.11067 C -0.067 0.12133 -0.115 0.14267 -0.115 0.15733 C -0.115 0.172 -0.065 0.184 -0.002 0.184 C 0.063 0.184 0.115 0.172 0.115 0.15733 C 0.115 0.14267 0.06 0.13867 -0.003 0.14933 C -0.066 0.16 -0.115 0.18 -0.115 0.19467 C -0.115 0.21067 -0.065 0.22133 -0.001 0.22133 C 0.063 0.22133 0.115 0.20933 0.115 0.19467 C 0.115 0.18 0.06 0.176 -0.003 0.18667 C -0.066 0.19733 -0.115 0.21867 -0.115 0.232 C -0.115 0.24667 -0.064 0.25867 -0.001 0.25867 C 0.063 0.25867 0.115 0.24667 0.115 0.232 C 0.115 0.21867 0.061 0.21467 -0.003 0.224 C -0.066 0.23467 -0.115 0.256 -0.115 0.27067 C -0.115 0.284 -0.064 0.29733 0 0.29733 C 0.064 0.29733 0.115 0.28533 0.115 0.27067 C 0.115 0.256 0.061 0.252 -0.002 0.26267 C -0.065 0.27333 -0.116 0.29333 -0.115 0.308 C -0.114 0.32267 -0.064 0.33333 0 0.33333 C 0.064 0.33333 0.115 0.32133 0.115 0.30667 C 0.115 0.29333 0.063 0.28933 0 0.30133 E">
                                      <p:cBhvr>
                                        <p:cTn id="107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Picture 2" descr="AN00460_"/>
          <p:cNvPicPr/>
          <p:nvPr/>
        </p:nvPicPr>
        <p:blipFill>
          <a:blip r:embed="rId1"/>
          <a:stretch/>
        </p:blipFill>
        <p:spPr>
          <a:xfrm>
            <a:off x="8028000" y="6021360"/>
            <a:ext cx="936720" cy="1077840"/>
          </a:xfrm>
          <a:prstGeom prst="rect">
            <a:avLst/>
          </a:prstGeom>
          <a:ln w="0">
            <a:noFill/>
          </a:ln>
        </p:spPr>
      </p:pic>
      <p:sp>
        <p:nvSpPr>
          <p:cNvPr id="74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113" dur="2000" fill="hold"/>
                                        <p:tgtEl>
                                          <p:spTgt spid="7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иды дезинфе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"/>
          <p:cNvGraphicFramePr/>
          <p:nvPr/>
        </p:nvGraphicFramePr>
        <p:xfrm>
          <a:off x="108000" y="981000"/>
          <a:ext cx="8928000" cy="5688000"/>
        </p:xfrm>
        <a:graphic>
          <a:graphicData uri="http://schemas.openxmlformats.org/drawingml/2006/table">
            <a:tbl>
              <a:tblPr/>
              <a:tblGrid>
                <a:gridCol w="2233440"/>
                <a:gridCol w="2517840"/>
                <a:gridCol w="1728720"/>
                <a:gridCol w="2448000"/>
              </a:tblGrid>
              <a:tr h="8114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ФИЛАКТИЧЕСК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НУЖДЕНН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03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благополучном хозяйстве с целью предупреждения возникновения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ри возникновении инфекционной болезн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усков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хнологическ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кущ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ключительна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 завершения строительства, накануне ввоза в помещение животных или завоза корм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в зависимости от технологии производств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системати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ки до ликвидации болезни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водится перед снятием карантина или ограничений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2"/>
          <p:cNvSpPr/>
          <p:nvPr/>
        </p:nvSpPr>
        <p:spPr>
          <a:xfrm>
            <a:off x="250920" y="1773360"/>
            <a:ext cx="237636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3492360" y="1773360"/>
            <a:ext cx="2376720" cy="4751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4"/>
          <p:cNvSpPr/>
          <p:nvPr/>
        </p:nvSpPr>
        <p:spPr>
          <a:xfrm>
            <a:off x="6227640" y="1773360"/>
            <a:ext cx="2448000" cy="12952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5"/>
          <p:cNvSpPr/>
          <p:nvPr/>
        </p:nvSpPr>
        <p:spPr>
          <a:xfrm>
            <a:off x="1908000" y="333360"/>
            <a:ext cx="4608720" cy="6476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6"/>
          <p:cNvSpPr/>
          <p:nvPr/>
        </p:nvSpPr>
        <p:spPr>
          <a:xfrm>
            <a:off x="3708360" y="1125360"/>
            <a:ext cx="16556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6300720" y="1125360"/>
            <a:ext cx="187344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8"/>
          <p:cNvSpPr/>
          <p:nvPr/>
        </p:nvSpPr>
        <p:spPr>
          <a:xfrm>
            <a:off x="900000" y="1125360"/>
            <a:ext cx="1511280" cy="5749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9"/>
          <p:cNvSpPr/>
          <p:nvPr/>
        </p:nvSpPr>
        <p:spPr>
          <a:xfrm>
            <a:off x="1533600" y="399240"/>
            <a:ext cx="56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Средства 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250920" y="1125360"/>
          <a:ext cx="8569080" cy="5543640"/>
        </p:xfrm>
        <a:graphic>
          <a:graphicData uri="http://schemas.openxmlformats.org/drawingml/2006/table">
            <a:tbl>
              <a:tblPr/>
              <a:tblGrid>
                <a:gridCol w="2855880"/>
                <a:gridCol w="2905200"/>
                <a:gridCol w="2808000"/>
              </a:tblGrid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из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ологическ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еханическая очист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кисл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микробы- антогонис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олнечный с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щёл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термофильные мико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УФ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хлоросодержащ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сухой ж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фенолы и крео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перегретый п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 формальдеги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кипя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 соли тяжёлых метал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высуши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 препараты други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гамма лу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 моющие сред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 ультразву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новные требования предъявляемые к дезинфектанта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179280" y="1276200"/>
            <a:ext cx="885672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достаточной бактерицидно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иметь стойкого неприятного запа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хорошо растворяться в воде или давать с ней стойкие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уль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проявлять дезинфицирующее действие в любой сре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е портить обрабатываемые предм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быть доступным и  дешев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удобными при транспортировк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высокой стабильностью при хран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токсичностью для человека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льскохозяйственных животных и п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обладать низкой коррозионной активностью в отношении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личных конструктивных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  наиболее важным показателем является экологическая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езопас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2"/>
          <p:cNvSpPr/>
          <p:nvPr/>
        </p:nvSpPr>
        <p:spPr>
          <a:xfrm>
            <a:off x="0" y="-51120"/>
            <a:ext cx="9036000" cy="69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Химические дезинфекта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ислот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соляная, молочная, муравьиная, уксусная, щавелевая, надуксусная, дезокса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елоч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едкий натр, едкое кали, гашеная известь- пушон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льцинированная (двууглекислая сода), карбонат калия (поташ), демп (комплексное соединение) и д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3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лорсодержащие препарат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хлорная известь - получается пу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пускания газа-хлора через гашеную известь \пушенку\, содержит 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енее 25% активного хлора, гипохлорит кальция, хлорами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изводные гидантиона, соли изоциануровой кислоты, однохлористый йод.и 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Фенолы и крезол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енол, крезол, феносмолин, креолин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(Форм)альдегиды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формалин, пароформ, метафор, паросод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оспар и др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оли тяжелых металл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медный купорос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Препараты других групп (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ирты, иодоформ, оксиды, соединения бро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8).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Моющие средств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Укладка навоза0"/>
          <p:cNvPicPr/>
          <p:nvPr/>
        </p:nvPicPr>
        <p:blipFill>
          <a:blip r:embed="rId1"/>
          <a:srcRect l="0" t="-259" r="1563" b="0"/>
          <a:stretch/>
        </p:blipFill>
        <p:spPr>
          <a:xfrm>
            <a:off x="457200" y="380880"/>
            <a:ext cx="8209080" cy="5996160"/>
          </a:xfrm>
          <a:prstGeom prst="rect">
            <a:avLst/>
          </a:prstGeom>
          <a:ln w="0">
            <a:noFill/>
          </a:ln>
        </p:spPr>
      </p:pic>
      <p:sp>
        <p:nvSpPr>
          <p:cNvPr id="54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-181080" y="333000"/>
            <a:ext cx="88567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езинфекц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603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457200" y="993600"/>
          <a:ext cx="8229600" cy="6340680"/>
        </p:xfrm>
        <a:graphic>
          <a:graphicData uri="http://schemas.openxmlformats.org/drawingml/2006/table">
            <a:tbl>
              <a:tblPr/>
              <a:tblGrid>
                <a:gridCol w="4116240"/>
                <a:gridCol w="411336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од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соб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Влаж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ьющей струёй, факельное распыление , опрыскивание,погружение в раство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 Сухой                                                       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ыпка порошками,опыливание дез.посолочные смеси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Аэрозоль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аратный, безаппарат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 Газов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мерный, под искусственным покрытие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12-31T12:49:34Z</dcterms:modified>
  <cp:revision>24</cp:revision>
  <dc:subject/>
  <dc:title>ФЕДЕРАЛЬНОЕ ГОСУДАРСТВЕННОЕ ОБРАЗОВАТЕЛЬНОЕ УЧЕРЕЖДЕНИЕ ВЫСШЕГО ПРОФЕССИОНАЛЬНОГО ОБРАЗОВАНИЯ «МОСКОВСКАЯ ГОСУДАРСТВЕННАЯ АКАДЕМИЯ ВЕТЕРИНАРНОЙ МЕДИЦИНЫ И БИОТЕХНОЛОГИИ им</dc:title>
</cp:coreProperties>
</file>