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B6AC-0391-45B0-B98C-71890B2AA1EA}" type="slidenum"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Е  ГОСУДАРСТВЕННОЕ  ОБРАЗОВАТЕЛЬНОЕ  УЧЕРЕЖДЕНИЕ ВЫСШЕГО  ПРОФЕССИОНАЛЬНОГО  ОБРАЗОВАНИЯ  «МОСКОВСКАЯ ГОСУДАРСТВЕННАЯ  АКАДЕМИЯ  ВЕТЕРИНАРНОЙ  МЕДИЦИНЫ И БИОТЕХНОЛОГИИ  им. К.И.СКРЯБИНА»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ЭПИЗООТОЛОГИИ И ИНФЕКЦИОННЫХ БОЛЕЗНЕЙ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езинфекц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езинсекция, дератизация средства, методы и их роль в противоэпизоотических мероприятиях.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ЦЕНТ  ВАСЕНКО С.В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3 г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ОЕ  ГОСУДАРСТВЕННОЕ  ОБРАЗОВАТЕЛЬНОЕ  УЧЕРЕЖДЕНИЕ ВЫСШЕГО  ПРОФЕССИОНАЛЬНОГО  ОБРАЗОВАНИЯ  «МОСКОВСКАЯ ГОСУДАРСТВЕННАЯ  АКАДЕМИЯ  ВЕТЕРИНАРНОЙ  МЕДИЦИНЫ И БИОТЕХНОЛОГИИ  им. К.И.СКРЯБИНА»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ЭПИЗООТОЛОГИИ И ИНФЕКЦИОННЫХ БОЛЕЗНЕЙ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езинфекц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езинсекция, дератизация средства, методы и их роль в противоэпизоотических мероприятиях.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ЦЕНТ  ВАСЕНКО С.В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3 г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 и аппараты применяемые для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ированные дезинфекционные маш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параты для обработки кожного покрова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зольные генер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онные ка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и аппараты применяемые для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ированные дезинфекционные маш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параты для обработки кожного покрова живо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эрозольные генер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инфекционные ка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и техника проведения дезинф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ая очи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лажнение водой или дезсред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щательная механическая очи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оочи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 дезинф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   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дез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 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уммарной площади поме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ёт общего количество дез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пр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зи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тривание, мытье при необходимости нейтрализация дез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и техника проведения дез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ческая очис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лажнение водой или дезсре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щательная механическая очис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дроочис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о дез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   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дез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 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уммарной площади поме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чёт общего количество дез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про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зи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тривание, мытье при необходимости нейтрализация дез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дезинфекции зависит о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ы на (в) которой находятся микр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нтрации дезинфекта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ы 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а обеззара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ности нанесения дезраств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нанесенного раствора н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у площади (объе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и воздействия (экспози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дезинфекции зависит о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ы на (в) которой находятся микр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нтрации дезинфекта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пературы воз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а обеззара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ности нанесения дезраств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нанесенного раствора н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цу площади (объе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и воздействия (экспози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качества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подготовки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соблюдением установленных режимов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подготовки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за соблюдением установленных режимов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ктериологически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РА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атизация – комплекс мероприятий направленных на уничтожение вредных грызу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ратизация – комплекс мероприятий направленных на уничтожение вредных грызу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А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о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теринарно-санитар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здание услов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ающих грызунов корм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ы и убежищ); ветеринар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ветитель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но-техническая работа (защита от мышевидных грызунов зданий и соору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отехнические( вспашка, своевременная уборка соломы, мякины и др.отход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угивающие (сланцевое масло,альбихтин, цимат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реби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ирова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действующие яды(фосф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нка, крысид, монофтор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ый морской лук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оагулянты(зоокумар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тиндан, пенолацин, фентолацин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ые вра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ызунов (кошки, собаки, лисицы, хищные птиц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бактерий (бактерии Исаченко-Мережковского, Прохорова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вушки, капк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 яды и бактериальные препар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теринарно-санитар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оздание услов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ающих грызунов корм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ы и убежищ); ветеринарн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ветительн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но-техническая работа (защита от мышевидных грызунов зданий и соору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ротехнические( вспашка, своевременная уборка соломы, мякины и др.от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угивающие (сланцевое масло,альбихтин, цимат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реб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бинир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одействующие яды(фосф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нка, крысид, монофтори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ый морской лук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коагулянты(зоокумари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тиндан, пенолацин, фентолаци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ые вра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ызунов (кошки, собаки, лисицы, хищные птиц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бактерий (бактерии Исаченко-Мережковского, Прохоров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вушки, капк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яды и бактериальные препар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ЗИНФ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З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ЕР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примано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пыл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, путей дви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аночный (пищев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анки: каши,хлеб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ш, ;водные приман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, молоко, буль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ами(углекислый га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ДЕРА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приманоч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ыл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, путей движ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аночный (пище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анки: каши,хлеб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рш, ;водные приман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, молоко, буль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ами(углекислый газ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риготовления отравляющих приман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ое смеши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мачивание в растворах яд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ипание ядов-порошков к поверхности приманок (растительное масло и другие мас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несение ядовитых паст на поверхность прима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мачивание или опыливание растительных приманок я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приготовления отравляющих приман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ческое смеши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мачивание в растворах я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ипание ядов-порошков к поверхности приманок (растительное масло и другие масл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есение ядовитых паст на поверхность прима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мачивание или опыливание растительных приманок яд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цепты приманок (в грамм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епты приманок (в грамм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орядок проведения дерат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рядок проведения дерат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дерат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=  (А+ В)х 100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-  %    эффективности дератизации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- количество жилых нор или  суточное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ичество съеденной приманки      до      дер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- то же после дер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дерат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=  (А+ В)х 100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-  %    эффективности дератизации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- количество жилых нор или  суточное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ичество съеденной приманки      до      дера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- то же после дера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ЗИНС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ЗИНС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секция – комплекс мероприятий, направленных на уничтожение членистоногих (клещей и насекомых), вызывающих заболевания и являющихся переносчиками возбу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инсекция – комплекс мероприятий, направленных на уничтожение членистоногих (клещей и насекомых), вызывающих заболевания и являющихся переносчиками возбу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и, переносчиками которых являются членистоног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ЭМ лоша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соматоз крол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ский энцефа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ь Акаб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сельсбронская болезнь ов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ута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дулярный дермат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фриканская чума лоша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ь Найроб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тландский энцефаломиелит ов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зикулярный стомат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нлейкопения ко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и, переносчиками которых являются членистоног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ЭМ лоша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соматоз крол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понский энцефал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ь Акаб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сельсбронская болезнь ов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ута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дулярный дермат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фриканская чума лоша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ь Найро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отландский энцефаломиелит ов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зикулярный стомат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нлейкопения кош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БОРЬБЫ С НАСЕКОМ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С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ИЕ МЕРО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АЯ ОЧИСТКА ПОМЕЩЕНИЙ; УБОРКА ТЕРРИТОРИЙ; УДАЛЕНИЕ ОТХОДОВ И МУСОРА; ЗАГРАДИТЕЛЬНЫЕ СЕТКИ; ПРОВЕТРИВАНИЕ ПОМЕЩЕНИЙ И СЫРЬЯ; ОСУШЕНИЕ МЕЛКИХ ВОДОЕМОВ, БОЛОТ, ЗАСЫПКА ЯМ, КАНАВ, КАРЬЕРОВ, ЛУЖ; РАСПАШКА ПУСТУЮЩИХ ЗЕМЕЛЬ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РЕБИТЕЛЬНЫ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ЕКТИЦИДЫ (ДДВФ, ДИБРО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ЛОРОФОС, ЦИОДРИН, АМИДОФОС. БАЙТЕКС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ОРАЖИВАНИЕ; КИПЯЧЕНИЕ; ГОРЯЧИЙ ВОЗДУХ, ГОРЯЧ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ЙКА. ЭЛЕКТРОЛОВУШКИ; ОГОНЬ; ЛИПКАЯ  БУМАГ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ЕЛЛЕНТЫ (ОКСАМАТ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ЕКТИЦИДНО-РЕПЕЛЛЕН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ЗИЦИИ (ДИОКС-1, ДИОКС-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БЫ, ОСЫ,СТРЕКОЗЫ, ПАУ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РАВЬИ, ЖУКИ , БОЖЬИ КОР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НГИН, ПАТОГЕННЫЕ ГРИБ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ММА-ЛУЧАМИ; ХИМИЧЕСКИМИ ПРЕПАР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Ы БОРЬБЫ С НАСЕКОМ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ИНС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ИЕ 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АЯ ОЧИСТКА ПОМЕЩЕНИЙ; УБОРКА ТЕРРИТОРИЙ; УДАЛЕНИЕ ОТХОДОВ И МУСОРА; ЗАГРАДИТЕЛЬНЫЕ СЕТКИ; ПРОВЕТРИВАНИЕ ПОМЕЩЕНИЙ И СЫРЬЯ; ОСУШЕНИЕ МЕЛКИХ ВОДОЕМОВ, БОЛОТ, ЗАСЫПКА ЯМ, КАНАВ, КАРЬЕРОВ, ЛУЖ; РАСПАШКА ПУСТУЮЩИХ ЗЕМЕЛЬ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РЕБИТЕЛЬНЫЕ 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ЕКТИЦИДЫ (ДДВФ, ДИБР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ОРОФОС, ЦИОДРИН, АМИДОФОС. БАЙТЕКС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ОРАЖИВАНИЕ; КИПЯЧЕНИЕ; ГОРЯЧИЙ ВОЗДУХ, ГОРЯЧ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ЙКА. ЭЛЕКТРОЛОВУШКИ; ОГОНЬ; ЛИПКАЯ  БУМАГ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ПЕЛЛЕНТЫ (ОКСАМАТ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ЕКТИЦИДНО-РЕПЕЛЛЕН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ЗИЦИИ (ДИОКС-1, ДИОКС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БЫ, ОСЫ,СТРЕКОЗЫ, ПАУ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РАВЬИ, ЖУКИ , БОЖЬИ КОР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НГИН, ПАТОГЕННЫЕ ГРИБЫ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РИЛИЗАЦИЯ 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ММА-ЛУЧАМИ; ХИМИЧЕСКИМИ ПРЕПАР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я- комплексная система мероприятий по уничтожению патог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условно патогенных микроорганизмов во внешней среде и на теле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инфекция- комплексная система мероприятий по уничтожению патог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условно патогенных микроорганизмов во внешней среде и на теле живот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ЕЗИНС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ЗО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АЗ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ЕКТИЦ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Ш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СЫП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ОШ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ЕТ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Ж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ЫСКИВА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РУЖЕНИЕ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ДЕЗИНС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ЭРОЗО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АЗ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ЕКТИЦИ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Ш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Х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СЫП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ОШ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ЕТ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Ж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ЫСКИВА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ГРУЖЕНИЕ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иды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редства 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редства 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ебования предъявляемые к дезинфектан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бладать достаточной бактерицид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 иметь стойкого неприятного запа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хорошо растворяться в воде или давать с ней стойкие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уль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оявлять дезинфицирующее действие в любой сре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 портить обрабатываемые предм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быть доступным и  дешев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удобными при транспортиров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бладать высокой стабильностью при хра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бладать низкой токсичностью для человек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хозяйственных животных и п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бладать низкой коррозионной активностью в отношен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х конструктивных матери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аиболее важным показателем является экологическ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ребования предъявляемые к дезинфектан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бладать достаточной бактерицид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не иметь стойкого неприятного запа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хорошо растворяться в воде или давать с ней стойкие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уль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проявлять дезинфицирующее действие в любой сре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не портить обрабатываемые предм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быть доступным и  дешев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удобными при транспортиров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бладать высокой стабильностью при хран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бладать низкой токсичностью для человек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хозяйственных животных и п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бладать низкой коррозионной активностью в отношени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х конструктивных матер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наиболее важным показателем является экологическ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 дезинфекта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. Кислоты (соляная, молочная, муравьиная, уксусная, щавелевая, надуксусная, дезокс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. Щелочи (едкий натр, едкое кали, гашеная известь- пушон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ьцинированная (двууглекислая сода), карбонат калия (поташ), демп (комплексное соединение)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. Хлорсодержащие препараты (хлорная известь - получается пу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ускания газа-хлора через гашеную известь \пушенку\, содержит 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е 25% активного хлора, гипохлорит кальция, хлорамин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ные гидантиона, соли изоциануровой кислоты, однохлористый йод.и 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. Фенолы и крезолы (фенол, крезол, феносмолин, креоли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. (Форм)альдегиды (формалин, пароформ, метафор, паросод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спар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. Соли тяжелых металлов (медный купоро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. Препараты других групп (спирты, иодоформ, оксиды, соединения бром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). Моющие сре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дезинфекта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. Кислоты (соляная, молочная, муравьиная, уксусная, щавелевая, надуксусная, дезокса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. Щелочи (едкий натр, едкое кали, гашеная известь- пушон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ьцинированная (двууглекислая сода), карбонат калия (поташ), демп (комплексное соединение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. Хлорсодержащие препараты (хлорная известь - получается пу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ускания газа-хлора через гашеную известь \пушенку\, содержит 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е 25% активного хлора, гипохлорит кальция, хлорамин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ые гидантиона, соли изоциануровой кислоты, однохлористый йод.и д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. Фенолы и крезолы (фенол, крезол, феносмолин, креол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. (Форм)альдегиды (формалин, пароформ, метафор, паросо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спар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. Соли тяжелых металлов (медный купорос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. Препараты других групп (спирты, иодоформ, оксиды, соединения бром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. Моющие сре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зинфек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зинфек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75B3-ECA4-446C-BFBA-DAA70314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0F445-B97D-48DC-B953-81654FB6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3F1D2-F775-4BEA-AB50-2BEBF758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9AE89-85E6-400B-8066-8952A375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0AD6-F7AC-4D39-9E97-01AF845B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0B74-3223-4D4D-9330-D9E0384F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A2FF-4D57-4A91-A052-37034EC1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11C3-72CE-4532-BCC3-43836F66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D5C2-153F-4FDD-A58B-0432B65A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67FC-BF31-43F6-ABFE-8C8FBCA0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8E8E-A82A-4549-B8F1-EA4BDF68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5A769-42F5-4D94-BCCC-CF648E79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61BA-132B-40E0-8CDF-0E8E87A7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566C-DBBD-41B6-B12D-ADEA3449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8619-860A-43D3-9E14-0EA5481D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E2E0-48BD-4816-A520-65CCDEA6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EAEE-62DB-40BB-BDD9-015D6682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87FFF-1B15-43C3-AA2B-54BECFB6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5A07-C28E-4EF6-82B9-83793529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1366E-8A2C-4F2C-A9B3-E5AACBC3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E96C3-F51D-4587-A0F8-775A940B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7E428-5D1D-40AC-BC29-6E5E9FA8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BA60B-2785-43BF-A390-A35DADB0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844B8-3616-47B1-A47C-79C869DE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56d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5D89-65AF-4C09-86BC-7F3F71EF57D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b724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79F3-0F46-463B-9764-10906719A37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280" y="533520"/>
            <a:ext cx="8280360" cy="5938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ОЕ  ГОСУДАРСТВЕННОЕ  ОБРАЗОВАТЕЛЬНОЕ  УЧЕРЕЖДЕНИЕ ВЫСШЕГО  ПРОФЕССИОНАЛЬНОГО  ОБРАЗОВАНИЯ  «МОСКОВСКАЯ ГОСУДАРСТВЕННАЯ  АКАДЕМИЯ  ВЕТЕРИНАРНОЙ  МЕДИЦИНЫ И БИОТЕХНОЛОГИИ  им. К.И.СКРЯБИНА»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ФЕДРА ЭПИЗООТОЛОГИИ И ИНФЕКЦИОННЫХ БОЛЕЗНЕЙ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КЦИЯ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зинфекци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езинсекция, дератизация средства, методы и их роль в противоэпизоотических мероприятиях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ЦЕНТ  ВАСЕНКО С.В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3 г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ханизмы и аппараты применяемые для дезинф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599840" y="2743200"/>
            <a:ext cx="7086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ализированные дезинфекционные ма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ппараты для обработки кожного покрова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эрозольные генер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зинфекционные ка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изация и техника проведения дезинфек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95280" y="12952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ческая очис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влажнение водой или дезсред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щательная механическая очис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идроочис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ственно дезинф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бор дез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 дезинф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суммар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ща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м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ч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ё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 общ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личеств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ез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рядок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кспоз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тривание, мытье при необходимости нейтрализация дез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оль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чество дезинфекции зависит от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еды на (в) которой находятся микр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центрации дезинфекта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пературы воз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а обеззараж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ратности нанесения дезраств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ичество нанесенного раствора 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дини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 площади (объе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ремени воздействия (экспози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качества дезинф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838080" y="2590920"/>
            <a:ext cx="80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троль подготовки объ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троль за соблюдением установленных режимов дезинф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актериологический контр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773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3"/>
          <p:cNvSpPr/>
          <p:nvPr/>
        </p:nvSpPr>
        <p:spPr>
          <a:xfrm>
            <a:off x="8532720" y="5661000"/>
            <a:ext cx="142920" cy="28908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4"/>
          <p:cNvSpPr/>
          <p:nvPr/>
        </p:nvSpPr>
        <p:spPr>
          <a:xfrm>
            <a:off x="8459640" y="5950080"/>
            <a:ext cx="28908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5"/>
          <p:cNvSpPr/>
          <p:nvPr/>
        </p:nvSpPr>
        <p:spPr>
          <a:xfrm>
            <a:off x="8317080" y="5877000"/>
            <a:ext cx="21564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6"/>
          <p:cNvSpPr/>
          <p:nvPr/>
        </p:nvSpPr>
        <p:spPr>
          <a:xfrm>
            <a:off x="8675640" y="5877000"/>
            <a:ext cx="21600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7"/>
          <p:cNvSpPr/>
          <p:nvPr/>
        </p:nvSpPr>
        <p:spPr>
          <a:xfrm rot="6552600">
            <a:off x="8268480" y="6331680"/>
            <a:ext cx="309600" cy="216000"/>
          </a:xfrm>
          <a:custGeom>
            <a:avLst/>
            <a:gdLst>
              <a:gd name="textAreaLeft" fmla="*/ 0 w 309600"/>
              <a:gd name="textAreaRight" fmla="*/ 309960 w 30960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8"/>
          <p:cNvSpPr/>
          <p:nvPr/>
        </p:nvSpPr>
        <p:spPr>
          <a:xfrm rot="16200000">
            <a:off x="8638920" y="6348240"/>
            <a:ext cx="285840" cy="215640"/>
          </a:xfrm>
          <a:custGeom>
            <a:avLst/>
            <a:gdLst>
              <a:gd name="textAreaLeft" fmla="*/ 0 w 285840"/>
              <a:gd name="textAreaRight" fmla="*/ 286200 w 285840"/>
              <a:gd name="textAreaTop" fmla="*/ 0 h 215640"/>
              <a:gd name="textAreaBottom" fmla="*/ 77040 h 215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9"/>
          <p:cNvSpPr/>
          <p:nvPr/>
        </p:nvSpPr>
        <p:spPr>
          <a:xfrm rot="7901400">
            <a:off x="8291520" y="6532200"/>
            <a:ext cx="393840" cy="216000"/>
          </a:xfrm>
          <a:custGeom>
            <a:avLst/>
            <a:gdLst>
              <a:gd name="textAreaLeft" fmla="*/ 0 w 393840"/>
              <a:gd name="textAreaRight" fmla="*/ 394200 w 39384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10"/>
          <p:cNvSpPr/>
          <p:nvPr/>
        </p:nvSpPr>
        <p:spPr>
          <a:xfrm>
            <a:off x="8629560" y="5743440"/>
            <a:ext cx="123840" cy="9720"/>
          </a:xfrm>
          <a:custGeom>
            <a:avLst/>
            <a:gdLst>
              <a:gd name="textAreaLeft" fmla="*/ 0 w 123840"/>
              <a:gd name="textAreaRight" fmla="*/ 124200 w 12384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8" h="6">
                <a:moveTo>
                  <a:pt x="0" y="6"/>
                </a:moveTo>
                <a:cubicBezTo>
                  <a:pt x="70" y="0"/>
                  <a:pt x="44" y="0"/>
                  <a:pt x="7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1"/>
          <p:cNvSpPr/>
          <p:nvPr/>
        </p:nvSpPr>
        <p:spPr>
          <a:xfrm>
            <a:off x="8400960" y="5781600"/>
            <a:ext cx="190440" cy="54000"/>
          </a:xfrm>
          <a:custGeom>
            <a:avLst/>
            <a:gdLst>
              <a:gd name="textAreaLeft" fmla="*/ 0 w 190440"/>
              <a:gd name="textAreaRight" fmla="*/ 190800 w 190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" h="34">
                <a:moveTo>
                  <a:pt x="120" y="6"/>
                </a:moveTo>
                <a:cubicBezTo>
                  <a:pt x="78" y="34"/>
                  <a:pt x="43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12"/>
          <p:cNvSpPr/>
          <p:nvPr/>
        </p:nvSpPr>
        <p:spPr>
          <a:xfrm>
            <a:off x="8442360" y="5710320"/>
            <a:ext cx="130320" cy="61920"/>
          </a:xfrm>
          <a:custGeom>
            <a:avLst/>
            <a:gdLst>
              <a:gd name="textAreaLeft" fmla="*/ 0 w 130320"/>
              <a:gd name="textAreaRight" fmla="*/ 130680 w 13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82" h="39">
                <a:moveTo>
                  <a:pt x="82" y="39"/>
                </a:moveTo>
                <a:cubicBezTo>
                  <a:pt x="76" y="37"/>
                  <a:pt x="70" y="36"/>
                  <a:pt x="64" y="33"/>
                </a:cubicBezTo>
                <a:cubicBezTo>
                  <a:pt x="58" y="30"/>
                  <a:pt x="53" y="24"/>
                  <a:pt x="46" y="21"/>
                </a:cubicBezTo>
                <a:cubicBezTo>
                  <a:pt x="0" y="0"/>
                  <a:pt x="21" y="20"/>
                  <a:pt x="4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3"/>
          <p:cNvSpPr/>
          <p:nvPr/>
        </p:nvSpPr>
        <p:spPr>
          <a:xfrm>
            <a:off x="8601120" y="5676840"/>
            <a:ext cx="152280" cy="66600"/>
          </a:xfrm>
          <a:custGeom>
            <a:avLst/>
            <a:gdLst>
              <a:gd name="textAreaLeft" fmla="*/ 0 w 152280"/>
              <a:gd name="textAreaRight" fmla="*/ 152640 w 152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96" h="42">
                <a:moveTo>
                  <a:pt x="0" y="42"/>
                </a:moveTo>
                <a:cubicBezTo>
                  <a:pt x="6" y="40"/>
                  <a:pt x="12" y="39"/>
                  <a:pt x="18" y="36"/>
                </a:cubicBezTo>
                <a:cubicBezTo>
                  <a:pt x="24" y="33"/>
                  <a:pt x="29" y="27"/>
                  <a:pt x="36" y="24"/>
                </a:cubicBezTo>
                <a:cubicBezTo>
                  <a:pt x="55" y="16"/>
                  <a:pt x="81" y="15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160020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лекс мероприятий направленных на уничтожение вредных грызу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Горбатов 2"/>
          <p:cNvPicPr/>
          <p:nvPr/>
        </p:nvPicPr>
        <p:blipFill>
          <a:blip r:embed="rId1"/>
          <a:srcRect l="4320" t="4536" r="10361" b="3057"/>
          <a:stretch/>
        </p:blipFill>
        <p:spPr>
          <a:xfrm>
            <a:off x="152280" y="220680"/>
            <a:ext cx="8686800" cy="6580080"/>
          </a:xfrm>
          <a:prstGeom prst="rect">
            <a:avLst/>
          </a:prstGeom>
          <a:ln w="0">
            <a:noFill/>
          </a:ln>
        </p:spPr>
      </p:pic>
      <p:sp>
        <p:nvSpPr>
          <p:cNvPr id="57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Горбатов 1"/>
          <p:cNvPicPr/>
          <p:nvPr/>
        </p:nvPicPr>
        <p:blipFill>
          <a:blip r:embed="rId1"/>
          <a:srcRect l="7281" t="1336" r="6364" b="0"/>
          <a:stretch/>
        </p:blipFill>
        <p:spPr>
          <a:xfrm>
            <a:off x="228600" y="1600200"/>
            <a:ext cx="8686800" cy="3193920"/>
          </a:xfrm>
          <a:prstGeom prst="rect">
            <a:avLst/>
          </a:prstGeom>
          <a:ln w="0">
            <a:noFill/>
          </a:ln>
        </p:spPr>
      </p:pic>
      <p:sp>
        <p:nvSpPr>
          <p:cNvPr id="58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Горбатов 3"/>
          <p:cNvPicPr/>
          <p:nvPr/>
        </p:nvPicPr>
        <p:blipFill>
          <a:blip r:embed="rId1"/>
          <a:srcRect l="0" t="3498" r="13770" b="8148"/>
          <a:stretch/>
        </p:blipFill>
        <p:spPr>
          <a:xfrm>
            <a:off x="2573280" y="152280"/>
            <a:ext cx="3900600" cy="6553440"/>
          </a:xfrm>
          <a:prstGeom prst="rect">
            <a:avLst/>
          </a:prstGeom>
          <a:ln w="0">
            <a:noFill/>
          </a:ln>
        </p:spPr>
      </p:pic>
      <p:sp>
        <p:nvSpPr>
          <p:cNvPr id="58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362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3"/>
          <p:cNvSpPr/>
          <p:nvPr/>
        </p:nvSpPr>
        <p:spPr>
          <a:xfrm>
            <a:off x="8532720" y="5661000"/>
            <a:ext cx="142920" cy="28908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4"/>
          <p:cNvSpPr/>
          <p:nvPr/>
        </p:nvSpPr>
        <p:spPr>
          <a:xfrm>
            <a:off x="8459640" y="5950080"/>
            <a:ext cx="28908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5"/>
          <p:cNvSpPr/>
          <p:nvPr/>
        </p:nvSpPr>
        <p:spPr>
          <a:xfrm>
            <a:off x="8317080" y="5877000"/>
            <a:ext cx="21564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6"/>
          <p:cNvSpPr/>
          <p:nvPr/>
        </p:nvSpPr>
        <p:spPr>
          <a:xfrm>
            <a:off x="8675640" y="5877000"/>
            <a:ext cx="21600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7"/>
          <p:cNvSpPr/>
          <p:nvPr/>
        </p:nvSpPr>
        <p:spPr>
          <a:xfrm rot="6552600">
            <a:off x="8268480" y="6331680"/>
            <a:ext cx="309600" cy="216000"/>
          </a:xfrm>
          <a:custGeom>
            <a:avLst/>
            <a:gdLst>
              <a:gd name="textAreaLeft" fmla="*/ 0 w 309600"/>
              <a:gd name="textAreaRight" fmla="*/ 309960 w 30960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8"/>
          <p:cNvSpPr/>
          <p:nvPr/>
        </p:nvSpPr>
        <p:spPr>
          <a:xfrm rot="16200000">
            <a:off x="8638920" y="6348240"/>
            <a:ext cx="285840" cy="215640"/>
          </a:xfrm>
          <a:custGeom>
            <a:avLst/>
            <a:gdLst>
              <a:gd name="textAreaLeft" fmla="*/ 0 w 285840"/>
              <a:gd name="textAreaRight" fmla="*/ 286200 w 285840"/>
              <a:gd name="textAreaTop" fmla="*/ 0 h 215640"/>
              <a:gd name="textAreaBottom" fmla="*/ 77040 h 215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9"/>
          <p:cNvSpPr/>
          <p:nvPr/>
        </p:nvSpPr>
        <p:spPr>
          <a:xfrm rot="7901400">
            <a:off x="8291520" y="6532200"/>
            <a:ext cx="393840" cy="216000"/>
          </a:xfrm>
          <a:custGeom>
            <a:avLst/>
            <a:gdLst>
              <a:gd name="textAreaLeft" fmla="*/ 0 w 393840"/>
              <a:gd name="textAreaRight" fmla="*/ 394200 w 39384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10"/>
          <p:cNvSpPr/>
          <p:nvPr/>
        </p:nvSpPr>
        <p:spPr>
          <a:xfrm>
            <a:off x="8629560" y="5743440"/>
            <a:ext cx="123840" cy="9720"/>
          </a:xfrm>
          <a:custGeom>
            <a:avLst/>
            <a:gdLst>
              <a:gd name="textAreaLeft" fmla="*/ 0 w 123840"/>
              <a:gd name="textAreaRight" fmla="*/ 124200 w 12384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8" h="6">
                <a:moveTo>
                  <a:pt x="0" y="6"/>
                </a:moveTo>
                <a:cubicBezTo>
                  <a:pt x="70" y="0"/>
                  <a:pt x="44" y="0"/>
                  <a:pt x="7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11"/>
          <p:cNvSpPr/>
          <p:nvPr/>
        </p:nvSpPr>
        <p:spPr>
          <a:xfrm>
            <a:off x="8400960" y="5781600"/>
            <a:ext cx="190440" cy="54000"/>
          </a:xfrm>
          <a:custGeom>
            <a:avLst/>
            <a:gdLst>
              <a:gd name="textAreaLeft" fmla="*/ 0 w 190440"/>
              <a:gd name="textAreaRight" fmla="*/ 190800 w 190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" h="34">
                <a:moveTo>
                  <a:pt x="120" y="6"/>
                </a:moveTo>
                <a:cubicBezTo>
                  <a:pt x="78" y="34"/>
                  <a:pt x="43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12"/>
          <p:cNvSpPr/>
          <p:nvPr/>
        </p:nvSpPr>
        <p:spPr>
          <a:xfrm>
            <a:off x="8442360" y="5710320"/>
            <a:ext cx="130320" cy="61920"/>
          </a:xfrm>
          <a:custGeom>
            <a:avLst/>
            <a:gdLst>
              <a:gd name="textAreaLeft" fmla="*/ 0 w 130320"/>
              <a:gd name="textAreaRight" fmla="*/ 130680 w 13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82" h="39">
                <a:moveTo>
                  <a:pt x="82" y="39"/>
                </a:moveTo>
                <a:cubicBezTo>
                  <a:pt x="76" y="37"/>
                  <a:pt x="70" y="36"/>
                  <a:pt x="64" y="33"/>
                </a:cubicBezTo>
                <a:cubicBezTo>
                  <a:pt x="58" y="30"/>
                  <a:pt x="53" y="24"/>
                  <a:pt x="46" y="21"/>
                </a:cubicBezTo>
                <a:cubicBezTo>
                  <a:pt x="0" y="0"/>
                  <a:pt x="21" y="20"/>
                  <a:pt x="4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13"/>
          <p:cNvSpPr/>
          <p:nvPr/>
        </p:nvSpPr>
        <p:spPr>
          <a:xfrm>
            <a:off x="8601120" y="5676840"/>
            <a:ext cx="152280" cy="66600"/>
          </a:xfrm>
          <a:custGeom>
            <a:avLst/>
            <a:gdLst>
              <a:gd name="textAreaLeft" fmla="*/ 0 w 152280"/>
              <a:gd name="textAreaRight" fmla="*/ 152640 w 152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96" h="42">
                <a:moveTo>
                  <a:pt x="0" y="42"/>
                </a:moveTo>
                <a:cubicBezTo>
                  <a:pt x="6" y="40"/>
                  <a:pt x="12" y="39"/>
                  <a:pt x="18" y="36"/>
                </a:cubicBezTo>
                <a:cubicBezTo>
                  <a:pt x="24" y="33"/>
                  <a:pt x="29" y="27"/>
                  <a:pt x="36" y="24"/>
                </a:cubicBezTo>
                <a:cubicBezTo>
                  <a:pt x="55" y="16"/>
                  <a:pt x="81" y="15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4"/>
          <p:cNvSpPr/>
          <p:nvPr/>
        </p:nvSpPr>
        <p:spPr>
          <a:xfrm>
            <a:off x="395280" y="119700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филакт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еро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15"/>
          <p:cNvSpPr/>
          <p:nvPr/>
        </p:nvSpPr>
        <p:spPr>
          <a:xfrm rot="21048600">
            <a:off x="2123640" y="912960"/>
            <a:ext cx="1079640" cy="217440"/>
          </a:xfrm>
          <a:prstGeom prst="leftArrow">
            <a:avLst>
              <a:gd name="adj1" fmla="val 50000"/>
              <a:gd name="adj2" fmla="val 12413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16"/>
          <p:cNvSpPr/>
          <p:nvPr/>
        </p:nvSpPr>
        <p:spPr>
          <a:xfrm rot="16200000">
            <a:off x="4319640" y="944280"/>
            <a:ext cx="14436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17"/>
          <p:cNvSpPr/>
          <p:nvPr/>
        </p:nvSpPr>
        <p:spPr>
          <a:xfrm rot="16200000">
            <a:off x="1385640" y="1719000"/>
            <a:ext cx="142920" cy="2505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8"/>
          <p:cNvSpPr/>
          <p:nvPr/>
        </p:nvSpPr>
        <p:spPr>
          <a:xfrm>
            <a:off x="250920" y="1989000"/>
            <a:ext cx="3241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етеринарно-санитар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(создание услов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ишающих грызунов корм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ды и убежищ); ветеринар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ветительная раб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19"/>
          <p:cNvSpPr/>
          <p:nvPr/>
        </p:nvSpPr>
        <p:spPr>
          <a:xfrm rot="16200000">
            <a:off x="1386000" y="3303720"/>
            <a:ext cx="142560" cy="2505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0"/>
          <p:cNvSpPr/>
          <p:nvPr/>
        </p:nvSpPr>
        <p:spPr>
          <a:xfrm>
            <a:off x="250920" y="3645000"/>
            <a:ext cx="33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троительно-техническая работа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(защита от мышевидных грызунов зданий и соору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21"/>
          <p:cNvSpPr/>
          <p:nvPr/>
        </p:nvSpPr>
        <p:spPr>
          <a:xfrm rot="16200000">
            <a:off x="1385640" y="4669920"/>
            <a:ext cx="142920" cy="2505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2"/>
          <p:cNvSpPr/>
          <p:nvPr/>
        </p:nvSpPr>
        <p:spPr>
          <a:xfrm>
            <a:off x="250920" y="4797360"/>
            <a:ext cx="316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гротехнические( вспашка, своевременная уборка соломы, мякины и др.отход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23"/>
          <p:cNvSpPr/>
          <p:nvPr/>
        </p:nvSpPr>
        <p:spPr>
          <a:xfrm rot="16200000">
            <a:off x="1385640" y="5751000"/>
            <a:ext cx="142920" cy="2505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4"/>
          <p:cNvSpPr/>
          <p:nvPr/>
        </p:nvSpPr>
        <p:spPr>
          <a:xfrm>
            <a:off x="250920" y="5950080"/>
            <a:ext cx="31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тпугивающие (сланцевое масло,альбихтин, цимат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5"/>
          <p:cNvSpPr/>
          <p:nvPr/>
        </p:nvSpPr>
        <p:spPr>
          <a:xfrm>
            <a:off x="3276720" y="1262160"/>
            <a:ext cx="21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стребите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ре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26"/>
          <p:cNvSpPr/>
          <p:nvPr/>
        </p:nvSpPr>
        <p:spPr>
          <a:xfrm rot="16200000">
            <a:off x="4319640" y="1807920"/>
            <a:ext cx="14436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7"/>
          <p:cNvSpPr/>
          <p:nvPr/>
        </p:nvSpPr>
        <p:spPr>
          <a:xfrm>
            <a:off x="3564000" y="2127240"/>
            <a:ext cx="163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Хим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8"/>
          <p:cNvSpPr/>
          <p:nvPr/>
        </p:nvSpPr>
        <p:spPr>
          <a:xfrm rot="16200000">
            <a:off x="4139280" y="2564280"/>
            <a:ext cx="505080" cy="360360"/>
          </a:xfrm>
          <a:prstGeom prst="leftArrow">
            <a:avLst>
              <a:gd name="adj1" fmla="val 50000"/>
              <a:gd name="adj2" fmla="val 3504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9"/>
          <p:cNvSpPr/>
          <p:nvPr/>
        </p:nvSpPr>
        <p:spPr>
          <a:xfrm>
            <a:off x="3564000" y="3141720"/>
            <a:ext cx="20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иолог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30"/>
          <p:cNvSpPr/>
          <p:nvPr/>
        </p:nvSpPr>
        <p:spPr>
          <a:xfrm rot="16200000">
            <a:off x="3924000" y="3860640"/>
            <a:ext cx="935280" cy="360360"/>
          </a:xfrm>
          <a:prstGeom prst="leftArrow">
            <a:avLst>
              <a:gd name="adj1" fmla="val 50000"/>
              <a:gd name="adj2" fmla="val 64885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1"/>
          <p:cNvSpPr/>
          <p:nvPr/>
        </p:nvSpPr>
        <p:spPr>
          <a:xfrm>
            <a:off x="3564000" y="4581360"/>
            <a:ext cx="17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ехан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32"/>
          <p:cNvSpPr/>
          <p:nvPr/>
        </p:nvSpPr>
        <p:spPr>
          <a:xfrm rot="16200000">
            <a:off x="4211640" y="4868640"/>
            <a:ext cx="36036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33"/>
          <p:cNvSpPr/>
          <p:nvPr/>
        </p:nvSpPr>
        <p:spPr>
          <a:xfrm>
            <a:off x="3276720" y="522936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мбинирова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34"/>
          <p:cNvSpPr/>
          <p:nvPr/>
        </p:nvSpPr>
        <p:spPr>
          <a:xfrm rot="9381600">
            <a:off x="4946400" y="1901520"/>
            <a:ext cx="714240" cy="216000"/>
          </a:xfrm>
          <a:prstGeom prst="leftArrow">
            <a:avLst>
              <a:gd name="adj1" fmla="val 50000"/>
              <a:gd name="adj2" fmla="val 82667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35"/>
          <p:cNvSpPr/>
          <p:nvPr/>
        </p:nvSpPr>
        <p:spPr>
          <a:xfrm rot="10800000">
            <a:off x="5003280" y="2205000"/>
            <a:ext cx="576360" cy="216000"/>
          </a:xfrm>
          <a:prstGeom prst="leftArrow">
            <a:avLst>
              <a:gd name="adj1" fmla="val 50000"/>
              <a:gd name="adj2" fmla="val 66708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36"/>
          <p:cNvSpPr/>
          <p:nvPr/>
        </p:nvSpPr>
        <p:spPr>
          <a:xfrm>
            <a:off x="5651640" y="981000"/>
            <a:ext cx="3384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стродействующие яды(фосф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инка, крысид, монофторин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расный морской лук и др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нтикоагулянты(зоокумарин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тиндан, пенолацин, фентолацин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37"/>
          <p:cNvSpPr/>
          <p:nvPr/>
        </p:nvSpPr>
        <p:spPr>
          <a:xfrm rot="9828600">
            <a:off x="5126760" y="2994120"/>
            <a:ext cx="505080" cy="217440"/>
          </a:xfrm>
          <a:prstGeom prst="leftArrow">
            <a:avLst>
              <a:gd name="adj1" fmla="val 50000"/>
              <a:gd name="adj2" fmla="val 5807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38"/>
          <p:cNvSpPr/>
          <p:nvPr/>
        </p:nvSpPr>
        <p:spPr>
          <a:xfrm rot="12802800">
            <a:off x="5065560" y="3563280"/>
            <a:ext cx="649440" cy="244440"/>
          </a:xfrm>
          <a:prstGeom prst="leftArrow">
            <a:avLst>
              <a:gd name="adj1" fmla="val 50000"/>
              <a:gd name="adj2" fmla="val 6642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9"/>
          <p:cNvSpPr/>
          <p:nvPr/>
        </p:nvSpPr>
        <p:spPr>
          <a:xfrm>
            <a:off x="5651640" y="2846520"/>
            <a:ext cx="34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Естественные враг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ызунов (кошки, собаки, лисицы, хищные птиц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0"/>
          <p:cNvSpPr/>
          <p:nvPr/>
        </p:nvSpPr>
        <p:spPr>
          <a:xfrm>
            <a:off x="5638680" y="3581280"/>
            <a:ext cx="331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менение бактерий (бактерии Исаченко-Мережковского, Прохорова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1"/>
          <p:cNvSpPr/>
          <p:nvPr/>
        </p:nvSpPr>
        <p:spPr>
          <a:xfrm>
            <a:off x="5651640" y="460044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овушки, капк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42"/>
          <p:cNvSpPr/>
          <p:nvPr/>
        </p:nvSpPr>
        <p:spPr>
          <a:xfrm rot="10800000">
            <a:off x="5219640" y="4653000"/>
            <a:ext cx="432000" cy="2160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3"/>
          <p:cNvSpPr/>
          <p:nvPr/>
        </p:nvSpPr>
        <p:spPr>
          <a:xfrm>
            <a:off x="6156360" y="501336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Химические яды и бактериальные препара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44"/>
          <p:cNvSpPr/>
          <p:nvPr/>
        </p:nvSpPr>
        <p:spPr>
          <a:xfrm rot="10800000">
            <a:off x="5651640" y="5229000"/>
            <a:ext cx="504720" cy="215640"/>
          </a:xfrm>
          <a:prstGeom prst="leftArrow">
            <a:avLst>
              <a:gd name="adj1" fmla="val 50000"/>
              <a:gd name="adj2" fmla="val 58514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ДЕЗИНФЕКЦ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 ДЕРАТ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8532720" y="5661000"/>
            <a:ext cx="142920" cy="28908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4"/>
          <p:cNvSpPr/>
          <p:nvPr/>
        </p:nvSpPr>
        <p:spPr>
          <a:xfrm>
            <a:off x="8459640" y="5950080"/>
            <a:ext cx="28908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5"/>
          <p:cNvSpPr/>
          <p:nvPr/>
        </p:nvSpPr>
        <p:spPr>
          <a:xfrm>
            <a:off x="8317080" y="5877000"/>
            <a:ext cx="21564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6"/>
          <p:cNvSpPr/>
          <p:nvPr/>
        </p:nvSpPr>
        <p:spPr>
          <a:xfrm>
            <a:off x="8675640" y="5877000"/>
            <a:ext cx="21600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7"/>
          <p:cNvSpPr/>
          <p:nvPr/>
        </p:nvSpPr>
        <p:spPr>
          <a:xfrm rot="6552600">
            <a:off x="8268480" y="6331680"/>
            <a:ext cx="309600" cy="216000"/>
          </a:xfrm>
          <a:custGeom>
            <a:avLst/>
            <a:gdLst>
              <a:gd name="textAreaLeft" fmla="*/ 0 w 309600"/>
              <a:gd name="textAreaRight" fmla="*/ 309960 w 30960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8"/>
          <p:cNvSpPr/>
          <p:nvPr/>
        </p:nvSpPr>
        <p:spPr>
          <a:xfrm rot="16200000">
            <a:off x="8638920" y="6348240"/>
            <a:ext cx="285840" cy="215640"/>
          </a:xfrm>
          <a:custGeom>
            <a:avLst/>
            <a:gdLst>
              <a:gd name="textAreaLeft" fmla="*/ 0 w 285840"/>
              <a:gd name="textAreaRight" fmla="*/ 286200 w 285840"/>
              <a:gd name="textAreaTop" fmla="*/ 0 h 215640"/>
              <a:gd name="textAreaBottom" fmla="*/ 77040 h 215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9"/>
          <p:cNvSpPr/>
          <p:nvPr/>
        </p:nvSpPr>
        <p:spPr>
          <a:xfrm rot="7901400">
            <a:off x="8291520" y="6532200"/>
            <a:ext cx="393840" cy="216000"/>
          </a:xfrm>
          <a:custGeom>
            <a:avLst/>
            <a:gdLst>
              <a:gd name="textAreaLeft" fmla="*/ 0 w 393840"/>
              <a:gd name="textAreaRight" fmla="*/ 394200 w 39384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10"/>
          <p:cNvSpPr/>
          <p:nvPr/>
        </p:nvSpPr>
        <p:spPr>
          <a:xfrm>
            <a:off x="8629560" y="5743440"/>
            <a:ext cx="123840" cy="9720"/>
          </a:xfrm>
          <a:custGeom>
            <a:avLst/>
            <a:gdLst>
              <a:gd name="textAreaLeft" fmla="*/ 0 w 123840"/>
              <a:gd name="textAreaRight" fmla="*/ 124200 w 12384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8" h="6">
                <a:moveTo>
                  <a:pt x="0" y="6"/>
                </a:moveTo>
                <a:cubicBezTo>
                  <a:pt x="70" y="0"/>
                  <a:pt x="44" y="0"/>
                  <a:pt x="7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11"/>
          <p:cNvSpPr/>
          <p:nvPr/>
        </p:nvSpPr>
        <p:spPr>
          <a:xfrm>
            <a:off x="8400960" y="5781600"/>
            <a:ext cx="190440" cy="54000"/>
          </a:xfrm>
          <a:custGeom>
            <a:avLst/>
            <a:gdLst>
              <a:gd name="textAreaLeft" fmla="*/ 0 w 190440"/>
              <a:gd name="textAreaRight" fmla="*/ 190800 w 190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" h="34">
                <a:moveTo>
                  <a:pt x="120" y="6"/>
                </a:moveTo>
                <a:cubicBezTo>
                  <a:pt x="78" y="34"/>
                  <a:pt x="43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12"/>
          <p:cNvSpPr/>
          <p:nvPr/>
        </p:nvSpPr>
        <p:spPr>
          <a:xfrm>
            <a:off x="8442360" y="5710320"/>
            <a:ext cx="130320" cy="61920"/>
          </a:xfrm>
          <a:custGeom>
            <a:avLst/>
            <a:gdLst>
              <a:gd name="textAreaLeft" fmla="*/ 0 w 130320"/>
              <a:gd name="textAreaRight" fmla="*/ 130680 w 13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82" h="39">
                <a:moveTo>
                  <a:pt x="82" y="39"/>
                </a:moveTo>
                <a:cubicBezTo>
                  <a:pt x="76" y="37"/>
                  <a:pt x="70" y="36"/>
                  <a:pt x="64" y="33"/>
                </a:cubicBezTo>
                <a:cubicBezTo>
                  <a:pt x="58" y="30"/>
                  <a:pt x="53" y="24"/>
                  <a:pt x="46" y="21"/>
                </a:cubicBezTo>
                <a:cubicBezTo>
                  <a:pt x="0" y="0"/>
                  <a:pt x="21" y="20"/>
                  <a:pt x="4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13"/>
          <p:cNvSpPr/>
          <p:nvPr/>
        </p:nvSpPr>
        <p:spPr>
          <a:xfrm>
            <a:off x="8601120" y="5676840"/>
            <a:ext cx="152280" cy="66600"/>
          </a:xfrm>
          <a:custGeom>
            <a:avLst/>
            <a:gdLst>
              <a:gd name="textAreaLeft" fmla="*/ 0 w 152280"/>
              <a:gd name="textAreaRight" fmla="*/ 152640 w 152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96" h="42">
                <a:moveTo>
                  <a:pt x="0" y="42"/>
                </a:moveTo>
                <a:cubicBezTo>
                  <a:pt x="6" y="40"/>
                  <a:pt x="12" y="39"/>
                  <a:pt x="18" y="36"/>
                </a:cubicBezTo>
                <a:cubicBezTo>
                  <a:pt x="24" y="33"/>
                  <a:pt x="29" y="27"/>
                  <a:pt x="36" y="24"/>
                </a:cubicBezTo>
                <a:cubicBezTo>
                  <a:pt x="55" y="16"/>
                  <a:pt x="81" y="15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395280" y="1268280"/>
            <a:ext cx="28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езприман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опы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я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ор, путей дви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2916360" y="249228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маночный (пище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манки: каши,хлеб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арш, ;водные прима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да, молоко, буль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6"/>
          <p:cNvSpPr/>
          <p:nvPr/>
        </p:nvSpPr>
        <p:spPr>
          <a:xfrm>
            <a:off x="5651640" y="4653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азами(углекислый га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17"/>
          <p:cNvSpPr/>
          <p:nvPr/>
        </p:nvSpPr>
        <p:spPr>
          <a:xfrm rot="19414200">
            <a:off x="3203640" y="1196640"/>
            <a:ext cx="1087200" cy="495360"/>
          </a:xfrm>
          <a:prstGeom prst="leftArrow">
            <a:avLst>
              <a:gd name="adj1" fmla="val 50000"/>
              <a:gd name="adj2" fmla="val 54869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18"/>
          <p:cNvSpPr/>
          <p:nvPr/>
        </p:nvSpPr>
        <p:spPr>
          <a:xfrm rot="16200000">
            <a:off x="3919320" y="1520280"/>
            <a:ext cx="1305000" cy="495360"/>
          </a:xfrm>
          <a:prstGeom prst="leftArrow">
            <a:avLst>
              <a:gd name="adj1" fmla="val 50000"/>
              <a:gd name="adj2" fmla="val 6586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19"/>
          <p:cNvSpPr/>
          <p:nvPr/>
        </p:nvSpPr>
        <p:spPr>
          <a:xfrm rot="14123400">
            <a:off x="4069440" y="2568960"/>
            <a:ext cx="4084560" cy="495000"/>
          </a:xfrm>
          <a:prstGeom prst="leftArrow">
            <a:avLst>
              <a:gd name="adj1" fmla="val 50000"/>
              <a:gd name="adj2" fmla="val 20629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20"/>
          <p:cNvSpPr/>
          <p:nvPr/>
        </p:nvSpPr>
        <p:spPr>
          <a:xfrm>
            <a:off x="108000" y="981000"/>
            <a:ext cx="2879640" cy="3057480"/>
          </a:xfrm>
          <a:prstGeom prst="cloudCallout">
            <a:avLst>
              <a:gd name="adj1" fmla="val -18027"/>
              <a:gd name="adj2" fmla="val 54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21"/>
          <p:cNvSpPr/>
          <p:nvPr/>
        </p:nvSpPr>
        <p:spPr>
          <a:xfrm>
            <a:off x="3708360" y="4221000"/>
            <a:ext cx="1655640" cy="10083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22"/>
          <p:cNvSpPr/>
          <p:nvPr/>
        </p:nvSpPr>
        <p:spPr>
          <a:xfrm>
            <a:off x="7093080" y="5589720"/>
            <a:ext cx="2050920" cy="1152360"/>
          </a:xfrm>
          <a:prstGeom prst="cloudCallout">
            <a:avLst>
              <a:gd name="adj1" fmla="val -1624"/>
              <a:gd name="adj2" fmla="val 384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3"/>
          <p:cNvSpPr/>
          <p:nvPr/>
        </p:nvSpPr>
        <p:spPr>
          <a:xfrm>
            <a:off x="7742160" y="5716440"/>
            <a:ext cx="8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ы приготовления отравляющих примано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ческое смеши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мачивание в растворах я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липание ядов-порошков к поверхности приманок (растительное масло и другие мас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несение ядовитых паст на поверхност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има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мачивание или опыливание растительных приманок я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цепты примано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 грамм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457200" y="1600200"/>
          <a:ext cx="8229600" cy="487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окумарин    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жный комбикорм   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ло растительное 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окумарин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ная крошка 5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рш мясной или рыбный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нтолацин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обленое зерно 9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ло растительное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нтолацин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бикорм запаренный 9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ар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ысит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ная крошка 9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сфид цинка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рно дробленое  9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ло растительное  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Горбатов 4"/>
          <p:cNvPicPr/>
          <p:nvPr/>
        </p:nvPicPr>
        <p:blipFill>
          <a:blip r:embed="rId1"/>
          <a:srcRect l="1552" t="7784" r="6041" b="2214"/>
          <a:stretch/>
        </p:blipFill>
        <p:spPr>
          <a:xfrm>
            <a:off x="2133720" y="304920"/>
            <a:ext cx="4854600" cy="6553080"/>
          </a:xfrm>
          <a:prstGeom prst="rect">
            <a:avLst/>
          </a:prstGeom>
          <a:ln w="0">
            <a:noFill/>
          </a:ln>
        </p:spPr>
      </p:pic>
      <p:sp>
        <p:nvSpPr>
          <p:cNvPr id="65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2" descr="Горбатов 5"/>
          <p:cNvPicPr/>
          <p:nvPr/>
        </p:nvPicPr>
        <p:blipFill>
          <a:blip r:embed="rId1"/>
          <a:srcRect l="1008" t="3681" r="1008" b="3498"/>
          <a:stretch/>
        </p:blipFill>
        <p:spPr>
          <a:xfrm>
            <a:off x="1143000" y="838080"/>
            <a:ext cx="6934320" cy="564696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3"/>
          <p:cNvSpPr/>
          <p:nvPr/>
        </p:nvSpPr>
        <p:spPr>
          <a:xfrm>
            <a:off x="990720" y="228600"/>
            <a:ext cx="72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ядок проведения дерат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ка эффективности дератизации.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Х =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(А+ В)х 100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-  %    эффективности дератизац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- количество жилых нор или  суточно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личество съеденной приманки      до      дерат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- то же после дерат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3" descr="AN00460_"/>
          <p:cNvPicPr/>
          <p:nvPr/>
        </p:nvPicPr>
        <p:blipFill>
          <a:blip r:embed="rId1"/>
          <a:stretch/>
        </p:blipFill>
        <p:spPr>
          <a:xfrm>
            <a:off x="3962520" y="2057400"/>
            <a:ext cx="4464000" cy="4394160"/>
          </a:xfrm>
          <a:prstGeom prst="rect">
            <a:avLst/>
          </a:prstGeom>
          <a:ln w="0">
            <a:noFill/>
          </a:ln>
        </p:spPr>
      </p:pic>
      <p:pic>
        <p:nvPicPr>
          <p:cNvPr id="666" name="Reco35.WAV" descr=""/>
          <p:cNvPicPr/>
          <p:nvPr/>
        </p:nvPicPr>
        <p:blipFill>
          <a:blip r:embed="rId2"/>
          <a:stretch/>
        </p:blipFill>
        <p:spPr>
          <a:xfrm>
            <a:off x="0" y="6705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7"/>
          <p:cNvSpPr/>
          <p:nvPr/>
        </p:nvSpPr>
        <p:spPr>
          <a:xfrm rot="19719000">
            <a:off x="243360" y="2228400"/>
            <a:ext cx="841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ДЕЗИНСЕКЦ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3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зинсекция 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лекс мероприятий, направленных на уничтожение членистоногих (клещей и насекомых), вызывающих заболевания и являющихся переносчиками возбудит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лезни, переносчиками которых являются членистоног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1828800" y="1817640"/>
            <a:ext cx="655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ЭМ лоша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соматоз крол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понский энцефал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Акаб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сельсбронская болезнь ов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ута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улярный дермат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риканская чума лоша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Найр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тландский энцефаломиелит ов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кулярный стомат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лейкопения ко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3" descr="AN00460_"/>
          <p:cNvPicPr/>
          <p:nvPr/>
        </p:nvPicPr>
        <p:blipFill>
          <a:blip r:embed="rId1"/>
          <a:stretch/>
        </p:blipFill>
        <p:spPr>
          <a:xfrm rot="3529800">
            <a:off x="7595280" y="5590080"/>
            <a:ext cx="936720" cy="107784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4"/>
          <p:cNvSpPr/>
          <p:nvPr/>
        </p:nvSpPr>
        <p:spPr>
          <a:xfrm>
            <a:off x="1979640" y="0"/>
            <a:ext cx="62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 БОРЬБЫ С НАСЕКОМ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5"/>
          <p:cNvSpPr/>
          <p:nvPr/>
        </p:nvSpPr>
        <p:spPr>
          <a:xfrm>
            <a:off x="4086360" y="54936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3348000" y="836640"/>
            <a:ext cx="30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ЗИНС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7"/>
          <p:cNvSpPr/>
          <p:nvPr/>
        </p:nvSpPr>
        <p:spPr>
          <a:xfrm>
            <a:off x="4086360" y="134136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8"/>
          <p:cNvSpPr/>
          <p:nvPr/>
        </p:nvSpPr>
        <p:spPr>
          <a:xfrm rot="3649800">
            <a:off x="2887920" y="935640"/>
            <a:ext cx="366480" cy="453960"/>
          </a:xfrm>
          <a:prstGeom prst="downArrow">
            <a:avLst>
              <a:gd name="adj1" fmla="val 50000"/>
              <a:gd name="adj2" fmla="val 3096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9"/>
          <p:cNvSpPr/>
          <p:nvPr/>
        </p:nvSpPr>
        <p:spPr>
          <a:xfrm>
            <a:off x="179280" y="1330200"/>
            <a:ext cx="33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ИЛАКТИЧЕСКИЕ 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10"/>
          <p:cNvSpPr/>
          <p:nvPr/>
        </p:nvSpPr>
        <p:spPr>
          <a:xfrm>
            <a:off x="1403280" y="1773360"/>
            <a:ext cx="360360" cy="1800000"/>
          </a:xfrm>
          <a:prstGeom prst="downArrow">
            <a:avLst>
              <a:gd name="adj1" fmla="val 50000"/>
              <a:gd name="adj2" fmla="val 124875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1"/>
          <p:cNvSpPr/>
          <p:nvPr/>
        </p:nvSpPr>
        <p:spPr>
          <a:xfrm>
            <a:off x="250920" y="3716280"/>
            <a:ext cx="28083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ОЯННАЯ ОЧИСТКА ПОМЕЩЕНИЙ; УБОРКА ТЕРРИТОРИЙ; УДАЛЕНИЕ ОТХОДОВ И МУСОРА; ЗАГРАДИТЕЛЬНЫЕ СЕТКИ; ПРОВЕТРИВАНИЕ ПОМЕЩЕНИЙ И СЫРЬЯ; ОСУШЕНИЕ МЕЛКИХ ВОДОЕМОВ, БОЛОТ, ЗАСЫПКА ЯМ, КАНАВ, КАРЬЕРОВ, ЛУЖ; РАСПАШКА ПУСТУЮЩИХ ЗЕМЕЛЬ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2"/>
          <p:cNvSpPr/>
          <p:nvPr/>
        </p:nvSpPr>
        <p:spPr>
          <a:xfrm>
            <a:off x="3276720" y="1576440"/>
            <a:ext cx="330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ТРЕБИТЕ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4086360" y="206064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3708360" y="2421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15"/>
          <p:cNvSpPr/>
          <p:nvPr/>
        </p:nvSpPr>
        <p:spPr>
          <a:xfrm>
            <a:off x="4086360" y="285264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6"/>
          <p:cNvSpPr/>
          <p:nvPr/>
        </p:nvSpPr>
        <p:spPr>
          <a:xfrm>
            <a:off x="3708360" y="3284640"/>
            <a:ext cx="14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17"/>
          <p:cNvSpPr/>
          <p:nvPr/>
        </p:nvSpPr>
        <p:spPr>
          <a:xfrm>
            <a:off x="4086360" y="3716280"/>
            <a:ext cx="485640" cy="1441440"/>
          </a:xfrm>
          <a:prstGeom prst="downArrow">
            <a:avLst>
              <a:gd name="adj1" fmla="val 50000"/>
              <a:gd name="adj2" fmla="val 74203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8"/>
          <p:cNvSpPr/>
          <p:nvPr/>
        </p:nvSpPr>
        <p:spPr>
          <a:xfrm>
            <a:off x="3492360" y="537372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20"/>
          <p:cNvSpPr/>
          <p:nvPr/>
        </p:nvSpPr>
        <p:spPr>
          <a:xfrm rot="15435000">
            <a:off x="5288760" y="2000880"/>
            <a:ext cx="314280" cy="718920"/>
          </a:xfrm>
          <a:prstGeom prst="downArrow">
            <a:avLst>
              <a:gd name="adj1" fmla="val 50000"/>
              <a:gd name="adj2" fmla="val 5718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21"/>
          <p:cNvSpPr/>
          <p:nvPr/>
        </p:nvSpPr>
        <p:spPr>
          <a:xfrm rot="16200000">
            <a:off x="5328360" y="2313720"/>
            <a:ext cx="287280" cy="790560"/>
          </a:xfrm>
          <a:prstGeom prst="downArrow">
            <a:avLst>
              <a:gd name="adj1" fmla="val 50000"/>
              <a:gd name="adj2" fmla="val 6879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22"/>
          <p:cNvSpPr/>
          <p:nvPr/>
        </p:nvSpPr>
        <p:spPr>
          <a:xfrm rot="17314200">
            <a:off x="5272560" y="2715120"/>
            <a:ext cx="295560" cy="703440"/>
          </a:xfrm>
          <a:prstGeom prst="downArrow">
            <a:avLst>
              <a:gd name="adj1" fmla="val 50000"/>
              <a:gd name="adj2" fmla="val 59501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3"/>
          <p:cNvSpPr/>
          <p:nvPr/>
        </p:nvSpPr>
        <p:spPr>
          <a:xfrm>
            <a:off x="5867280" y="1865160"/>
            <a:ext cx="31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ЕКТИЦИДЫ (ДДВФ, ДИБР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ЛОРОФОС, ЦИОДРИН, АМИДОФОС. БАЙТЕКС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24"/>
          <p:cNvSpPr/>
          <p:nvPr/>
        </p:nvSpPr>
        <p:spPr>
          <a:xfrm rot="16200000">
            <a:off x="5328360" y="5265000"/>
            <a:ext cx="216000" cy="576000"/>
          </a:xfrm>
          <a:prstGeom prst="downArrow">
            <a:avLst>
              <a:gd name="adj1" fmla="val 50000"/>
              <a:gd name="adj2" fmla="val 6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5"/>
          <p:cNvSpPr/>
          <p:nvPr/>
        </p:nvSpPr>
        <p:spPr>
          <a:xfrm>
            <a:off x="5867280" y="3789360"/>
            <a:ext cx="31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МОРАЖИВАНИЕ; КИПЯЧЕНИЕ; ГОРЯЧИЙ ВОЗДУХ, ГОРЯЧ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ЙКА. ЭЛЕКТРОЛОВУШКИ; ОГОНЬ; ЛИПКАЯ  БУМАГ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6"/>
          <p:cNvSpPr/>
          <p:nvPr/>
        </p:nvSpPr>
        <p:spPr>
          <a:xfrm>
            <a:off x="5867280" y="2565360"/>
            <a:ext cx="283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ПЕЛЛЕНТЫ (ОКСАМАТ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27"/>
          <p:cNvSpPr/>
          <p:nvPr/>
        </p:nvSpPr>
        <p:spPr>
          <a:xfrm>
            <a:off x="5867280" y="306864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ЕКТИЦИДНО-РЕПЕЛЛЕН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ПОЗИЦИИ (ДИОКС-1, ДИОКС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28"/>
          <p:cNvSpPr/>
          <p:nvPr/>
        </p:nvSpPr>
        <p:spPr>
          <a:xfrm>
            <a:off x="6135840" y="460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29"/>
          <p:cNvSpPr/>
          <p:nvPr/>
        </p:nvSpPr>
        <p:spPr>
          <a:xfrm>
            <a:off x="5867280" y="4746600"/>
            <a:ext cx="32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ЫБЫ, ОСЫ,СТРЕКОЗЫ, ПАУ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УРАВЬИ, ЖУКИ , БОЖЬИ КОР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30"/>
          <p:cNvSpPr/>
          <p:nvPr/>
        </p:nvSpPr>
        <p:spPr>
          <a:xfrm>
            <a:off x="5867280" y="5394240"/>
            <a:ext cx="31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УРИНГИН, ПАТОГЕННЫЕ ГРИБЫ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1"/>
          <p:cNvSpPr/>
          <p:nvPr/>
        </p:nvSpPr>
        <p:spPr>
          <a:xfrm>
            <a:off x="5867280" y="6041880"/>
            <a:ext cx="31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ЕРИЛИЗАЦИЯ 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АММА-ЛУЧАМИ; ХИМИЧЕСКИМИ ПРЕПАР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32"/>
          <p:cNvSpPr/>
          <p:nvPr/>
        </p:nvSpPr>
        <p:spPr>
          <a:xfrm rot="17998800">
            <a:off x="5177520" y="3353040"/>
            <a:ext cx="307800" cy="884160"/>
          </a:xfrm>
          <a:prstGeom prst="downArrow">
            <a:avLst>
              <a:gd name="adj1" fmla="val 50000"/>
              <a:gd name="adj2" fmla="val 71813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33"/>
          <p:cNvSpPr/>
          <p:nvPr/>
        </p:nvSpPr>
        <p:spPr>
          <a:xfrm rot="14850600">
            <a:off x="5330520" y="4698360"/>
            <a:ext cx="214200" cy="849240"/>
          </a:xfrm>
          <a:prstGeom prst="downArrow">
            <a:avLst>
              <a:gd name="adj1" fmla="val 50000"/>
              <a:gd name="adj2" fmla="val 9911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34"/>
          <p:cNvSpPr/>
          <p:nvPr/>
        </p:nvSpPr>
        <p:spPr>
          <a:xfrm rot="18326400">
            <a:off x="5200920" y="5532840"/>
            <a:ext cx="239760" cy="860400"/>
          </a:xfrm>
          <a:prstGeom prst="downArrow">
            <a:avLst>
              <a:gd name="adj1" fmla="val 50000"/>
              <a:gd name="adj2" fmla="val 89715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0" descr="AN00460_"/>
          <p:cNvPicPr/>
          <p:nvPr/>
        </p:nvPicPr>
        <p:blipFill>
          <a:blip r:embed="rId2"/>
          <a:stretch/>
        </p:blipFill>
        <p:spPr>
          <a:xfrm>
            <a:off x="7853400" y="692280"/>
            <a:ext cx="627120" cy="72072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" descr="AN00460_"/>
          <p:cNvPicPr/>
          <p:nvPr/>
        </p:nvPicPr>
        <p:blipFill>
          <a:blip r:embed="rId3"/>
          <a:stretch/>
        </p:blipFill>
        <p:spPr>
          <a:xfrm rot="13525800">
            <a:off x="2051280" y="2707560"/>
            <a:ext cx="627120" cy="7207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2" descr="AN00460_"/>
          <p:cNvPicPr/>
          <p:nvPr/>
        </p:nvPicPr>
        <p:blipFill>
          <a:blip r:embed="rId4"/>
          <a:stretch/>
        </p:blipFill>
        <p:spPr>
          <a:xfrm rot="1767600">
            <a:off x="466200" y="117360"/>
            <a:ext cx="936720" cy="1078200"/>
          </a:xfrm>
          <a:prstGeom prst="rect">
            <a:avLst/>
          </a:prstGeom>
          <a:ln w="0">
            <a:noFill/>
          </a:ln>
        </p:spPr>
      </p:pic>
      <p:sp>
        <p:nvSpPr>
          <p:cNvPr id="70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7 0.017 0.02133 0.021 0.03467 C 0.025 0.04933 0.027 0.06667 0.029 0.084 C 0.031 0.10133 0.029 0.116 0.027 0.132 C 0.025 0.14667 0.022 0.16267 0.015 0.176 C 0.009 0.18933 -0.001 0.2 -0.012 0.208 C -0.022 0.216 -0.034 0.22133 -0.046 0.224 C -0.058 0.22667 -0.07 0.22667 -0.081 0.224 C -0.093 0.22133 -0.104 0.21467 -0.113 0.204 C -0.122 0.19467 -0.13 0.18267 -0.134 0.168 C -0.139 0.15467 -0.141 0.136 -0.141 0.12133 C -0.142 0.10667 -0.141 0.08933 -0.136 0.07467 C -0.131 0.06133 -0.122 0.05067 -0.11 0.04533 C -0.098 0.04133 -0.086 0.04667 -0.078 0.056 C -0.071 0.06533 -0.066 0.08 -0.065 0.09733 C -0.065 0.11467 -0.066 0.13067 -0.071 0.144 C -0.076 0.15733 -0.075 0.16 -0.095 0.17733 C -0.113 0.196 -0.131 0.19067 -0.142 0.192 C -0.153 0.192 -0.162 0.18667 -0.173 0.18133 C -0.185 0.17467 -0.195 0.16267 -0.202 0.152 C -0.209 0.14133 -0.212 0.128 -0.216 0.10667 C -0.219 0.08533 -0.219 0.07467 -0.219 0.05867 C -0.219 0.04267 -0.219 0.02667 -0.219 0.01067 E">
                                      <p:cBhvr>
                                        <p:cTn id="67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7 0.017 0.02133 0.021 0.03467 C 0.025 0.04933 0.027 0.06667 0.029 0.084 C 0.031 0.10133 0.029 0.116 0.027 0.132 C 0.025 0.14667 0.022 0.16267 0.015 0.176 C 0.009 0.18933 -0.001 0.2 -0.012 0.208 C -0.022 0.216 -0.034 0.22133 -0.046 0.224 C -0.058 0.22667 -0.07 0.22667 -0.081 0.224 C -0.093 0.22133 -0.104 0.21467 -0.113 0.204 C -0.122 0.19467 -0.13 0.18267 -0.134 0.168 C -0.139 0.15467 -0.141 0.136 -0.141 0.12133 C -0.142 0.10667 -0.141 0.08933 -0.136 0.07467 C -0.131 0.06133 -0.122 0.05067 -0.11 0.04533 C -0.098 0.04133 -0.086 0.04667 -0.078 0.056 C -0.071 0.06533 -0.066 0.08 -0.065 0.09733 C -0.065 0.11467 -0.066 0.13067 -0.071 0.144 C -0.076 0.15733 -0.075 0.16 -0.095 0.17733 C -0.113 0.196 -0.131 0.19067 -0.142 0.192 C -0.153 0.192 -0.162 0.18667 -0.173 0.18133 C -0.185 0.17467 -0.195 0.16267 -0.202 0.152 C -0.209 0.14133 -0.212 0.128 -0.216 0.10667 C -0.219 0.08533 -0.219 0.07467 -0.219 0.05867 C -0.219 0.04267 -0.219 0.02667 -0.219 0.01067 E">
                                      <p:cBhvr>
                                        <p:cTn id="71" dur="2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75" dur="2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768 0.07152 C -0.08091 0.08356 -0.07309 0.09583 -0.07066 0.10995 C -0.06823 0.125 -0.06823 0.14259 -0.06789 0.16018 C -0.06771 0.17777 -0.07136 0.19189 -0.075 0.20671 C -0.07865 0.22152 -0.08316 0.2368 -0.09167 0.24861 C -0.09896 0.26064 -0.11007 0.26921 -0.1217 0.27523 C -0.13247 0.28055 -0.14497 0.28356 -0.15712 0.28402 C -0.16927 0.28425 -0.18108 0.28263 -0.19184 0.278 C -0.20348 0.27291 -0.21354 0.26412 -0.22136 0.25185 C -0.22917 0.2405 -0.23594 0.22754 -0.2382 0.2125 C -0.24184 0.19814 -0.24167 0.17893 -0.24011 0.16481 C -0.23959 0.15023 -0.23664 0.13263 -0.23021 0.11967 C -0.22396 0.1074 -0.21389 0.09861 -0.20139 0.0956 C -0.18907 0.09398 -0.17761 0.10115 -0.17084 0.11226 C -0.16493 0.12268 -0.16146 0.13773 -0.16233 0.15509 C -0.16424 0.17268 -0.16684 0.18819 -0.17327 0.2 C -0.17969 0.21296 -0.179 0.21504 -0.20052 0.22847 C -0.22049 0.24421 -0.23785 0.23541 -0.24879 0.23449 C -0.25955 0.2324 -0.26789 0.22546 -0.27813 0.21805 C -0.28959 0.20949 -0.29809 0.1956 -0.304 0.18379 C -0.30973 0.17175 -0.31111 0.1581 -0.31285 0.13611 C -0.31355 0.11458 -0.31233 0.10393 -0.31059 0.08796 C -0.30886 0.07222 -0.30712 0.05625 -0.30556 0.0405 E">
                                      <p:cBhvr>
                                        <p:cTn id="79" dur="2000" fill="hold"/>
                                        <p:tgtEl>
                                          <p:spTgt spid="7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7 0.017 0.02133 0.021 0.03467 C 0.025 0.04933 0.027 0.06667 0.029 0.084 C 0.031 0.10133 0.029 0.116 0.027 0.132 C 0.025 0.14667 0.022 0.16267 0.015 0.176 C 0.009 0.18933 -0.001 0.2 -0.012 0.208 C -0.022 0.216 -0.034 0.22133 -0.046 0.224 C -0.058 0.22667 -0.07 0.22667 -0.081 0.224 C -0.093 0.22133 -0.104 0.21467 -0.113 0.204 C -0.122 0.19467 -0.13 0.18267 -0.134 0.168 C -0.139 0.15467 -0.141 0.136 -0.141 0.12133 C -0.142 0.10667 -0.141 0.08933 -0.136 0.07467 C -0.131 0.06133 -0.122 0.05067 -0.11 0.04533 C -0.098 0.04133 -0.086 0.04667 -0.078 0.056 C -0.071 0.06533 -0.066 0.08 -0.065 0.09733 C -0.065 0.11467 -0.066 0.13067 -0.071 0.144 C -0.076 0.15733 -0.075 0.16 -0.095 0.17733 C -0.113 0.196 -0.131 0.19067 -0.142 0.192 C -0.153 0.192 -0.162 0.18667 -0.173 0.18133 C -0.185 0.17467 -0.195 0.16267 -0.202 0.152 C -0.209 0.14133 -0.212 0.128 -0.216 0.10667 C -0.219 0.08533 -0.219 0.07467 -0.219 0.05867 C -0.219 0.04267 -0.219 0.02667 -0.219 0.01067 E">
                                      <p:cBhvr>
                                        <p:cTn id="83" dur="2000" fill="hold"/>
                                        <p:tgtEl>
                                          <p:spTgt spid="7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684360" y="1555200"/>
            <a:ext cx="8135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Дезинфекция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- комплексная система мероприятий по уничтожению патоге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или условно патогенных микроорганизмов во внешней среде и на теле животн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AN00460_"/>
          <p:cNvPicPr/>
          <p:nvPr/>
        </p:nvPicPr>
        <p:blipFill>
          <a:blip r:embed="rId1"/>
          <a:stretch/>
        </p:blipFill>
        <p:spPr>
          <a:xfrm>
            <a:off x="5580000" y="2708280"/>
            <a:ext cx="936720" cy="1077840"/>
          </a:xfrm>
          <a:prstGeom prst="rect">
            <a:avLst/>
          </a:prstGeom>
          <a:ln w="0">
            <a:noFill/>
          </a:ln>
        </p:spPr>
      </p:pic>
      <p:sp>
        <p:nvSpPr>
          <p:cNvPr id="711" name="AutoShape 40"/>
          <p:cNvSpPr/>
          <p:nvPr/>
        </p:nvSpPr>
        <p:spPr>
          <a:xfrm>
            <a:off x="2700360" y="2060640"/>
            <a:ext cx="2592360" cy="2305080"/>
          </a:xfrm>
          <a:prstGeom prst="cloudCallout">
            <a:avLst>
              <a:gd name="adj1" fmla="val -85148"/>
              <a:gd name="adj2" fmla="val 9256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21"/>
          <p:cNvSpPr/>
          <p:nvPr/>
        </p:nvSpPr>
        <p:spPr>
          <a:xfrm>
            <a:off x="7164360" y="4221000"/>
            <a:ext cx="1800360" cy="2016360"/>
          </a:xfrm>
          <a:prstGeom prst="cloudCallout">
            <a:avLst>
              <a:gd name="adj1" fmla="val -85537"/>
              <a:gd name="adj2" fmla="val 10133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20"/>
          <p:cNvSpPr/>
          <p:nvPr/>
        </p:nvSpPr>
        <p:spPr>
          <a:xfrm>
            <a:off x="5219640" y="5229360"/>
            <a:ext cx="1513080" cy="93636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19"/>
          <p:cNvSpPr/>
          <p:nvPr/>
        </p:nvSpPr>
        <p:spPr>
          <a:xfrm>
            <a:off x="5292720" y="4508640"/>
            <a:ext cx="1366920" cy="72072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16"/>
          <p:cNvSpPr/>
          <p:nvPr/>
        </p:nvSpPr>
        <p:spPr>
          <a:xfrm rot="21174000">
            <a:off x="173160" y="853560"/>
            <a:ext cx="215640" cy="702000"/>
          </a:xfrm>
          <a:custGeom>
            <a:avLst/>
            <a:gdLst>
              <a:gd name="textAreaLeft" fmla="*/ 0 w 215640"/>
              <a:gd name="textAreaRight" fmla="*/ 216000 w 21564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7"/>
          <p:cNvSpPr/>
          <p:nvPr/>
        </p:nvSpPr>
        <p:spPr>
          <a:xfrm>
            <a:off x="900000" y="189000"/>
            <a:ext cx="7993080" cy="764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e0ce8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МЕТОДЫ ДЕЗИНС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9"/>
          <p:cNvSpPr/>
          <p:nvPr/>
        </p:nvSpPr>
        <p:spPr>
          <a:xfrm>
            <a:off x="2771640" y="2997360"/>
            <a:ext cx="2521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ЭРОЗОЛЬ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1"/>
          <p:cNvSpPr/>
          <p:nvPr/>
        </p:nvSpPr>
        <p:spPr>
          <a:xfrm>
            <a:off x="7236000" y="4437000"/>
            <a:ext cx="19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З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З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ЕКТИЦИ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Ш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18"/>
          <p:cNvSpPr/>
          <p:nvPr/>
        </p:nvSpPr>
        <p:spPr>
          <a:xfrm>
            <a:off x="5435640" y="3789360"/>
            <a:ext cx="1224000" cy="57780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0"/>
          <p:cNvSpPr/>
          <p:nvPr/>
        </p:nvSpPr>
        <p:spPr>
          <a:xfrm>
            <a:off x="5219640" y="3860640"/>
            <a:ext cx="1584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Х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СЫ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Ш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ЕТ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26"/>
          <p:cNvSpPr/>
          <p:nvPr/>
        </p:nvSpPr>
        <p:spPr>
          <a:xfrm rot="21174000">
            <a:off x="468360" y="98100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27"/>
          <p:cNvSpPr/>
          <p:nvPr/>
        </p:nvSpPr>
        <p:spPr>
          <a:xfrm rot="21174000">
            <a:off x="826920" y="119700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28"/>
          <p:cNvSpPr/>
          <p:nvPr/>
        </p:nvSpPr>
        <p:spPr>
          <a:xfrm rot="21174000">
            <a:off x="324000" y="1341000"/>
            <a:ext cx="215640" cy="70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29"/>
          <p:cNvSpPr/>
          <p:nvPr/>
        </p:nvSpPr>
        <p:spPr>
          <a:xfrm rot="21174000">
            <a:off x="684360" y="1483920"/>
            <a:ext cx="215640" cy="70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30"/>
          <p:cNvSpPr/>
          <p:nvPr/>
        </p:nvSpPr>
        <p:spPr>
          <a:xfrm rot="21174000">
            <a:off x="1116000" y="162864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34"/>
          <p:cNvSpPr/>
          <p:nvPr/>
        </p:nvSpPr>
        <p:spPr>
          <a:xfrm rot="21174000">
            <a:off x="468360" y="242100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35"/>
          <p:cNvSpPr/>
          <p:nvPr/>
        </p:nvSpPr>
        <p:spPr>
          <a:xfrm rot="21174000">
            <a:off x="1042920" y="249228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36"/>
          <p:cNvSpPr/>
          <p:nvPr/>
        </p:nvSpPr>
        <p:spPr>
          <a:xfrm rot="21174000">
            <a:off x="826920" y="272736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38"/>
          <p:cNvSpPr/>
          <p:nvPr/>
        </p:nvSpPr>
        <p:spPr>
          <a:xfrm>
            <a:off x="1476360" y="5661000"/>
            <a:ext cx="358920" cy="119700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9"/>
          <p:cNvSpPr/>
          <p:nvPr/>
        </p:nvSpPr>
        <p:spPr>
          <a:xfrm>
            <a:off x="1547640" y="5373720"/>
            <a:ext cx="216000" cy="50328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41"/>
          <p:cNvSpPr/>
          <p:nvPr/>
        </p:nvSpPr>
        <p:spPr>
          <a:xfrm rot="21174000">
            <a:off x="1403280" y="357336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42"/>
          <p:cNvSpPr/>
          <p:nvPr/>
        </p:nvSpPr>
        <p:spPr>
          <a:xfrm rot="21174000">
            <a:off x="611280" y="3860280"/>
            <a:ext cx="215640" cy="702000"/>
          </a:xfrm>
          <a:custGeom>
            <a:avLst/>
            <a:gdLst>
              <a:gd name="textAreaLeft" fmla="*/ 0 w 215640"/>
              <a:gd name="textAreaRight" fmla="*/ 216000 w 21564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43"/>
          <p:cNvSpPr/>
          <p:nvPr/>
        </p:nvSpPr>
        <p:spPr>
          <a:xfrm flipH="1">
            <a:off x="1763640" y="3933720"/>
            <a:ext cx="936720" cy="1366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44"/>
          <p:cNvSpPr/>
          <p:nvPr/>
        </p:nvSpPr>
        <p:spPr>
          <a:xfrm flipV="1">
            <a:off x="1979640" y="4220640"/>
            <a:ext cx="1655640" cy="1079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31"/>
          <p:cNvSpPr/>
          <p:nvPr/>
        </p:nvSpPr>
        <p:spPr>
          <a:xfrm rot="21174000">
            <a:off x="250920" y="1915920"/>
            <a:ext cx="215640" cy="70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32"/>
          <p:cNvSpPr/>
          <p:nvPr/>
        </p:nvSpPr>
        <p:spPr>
          <a:xfrm rot="21174000">
            <a:off x="684360" y="1988640"/>
            <a:ext cx="215640" cy="70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33"/>
          <p:cNvSpPr/>
          <p:nvPr/>
        </p:nvSpPr>
        <p:spPr>
          <a:xfrm rot="21174000">
            <a:off x="1116000" y="206064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45"/>
          <p:cNvSpPr/>
          <p:nvPr/>
        </p:nvSpPr>
        <p:spPr>
          <a:xfrm rot="21417600">
            <a:off x="3209400" y="1157040"/>
            <a:ext cx="2508480" cy="1909800"/>
          </a:xfrm>
          <a:prstGeom prst="cloudCallout">
            <a:avLst>
              <a:gd name="adj1" fmla="val -112870"/>
              <a:gd name="adj2" fmla="val 16353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8"/>
          <p:cNvSpPr/>
          <p:nvPr/>
        </p:nvSpPr>
        <p:spPr>
          <a:xfrm>
            <a:off x="108000" y="2133720"/>
            <a:ext cx="230328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ЫСКИВА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ГРУЖЕНИЕ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1024" descr="AN00460_"/>
          <p:cNvPicPr/>
          <p:nvPr/>
        </p:nvPicPr>
        <p:blipFill>
          <a:blip r:embed="rId2"/>
          <a:stretch/>
        </p:blipFill>
        <p:spPr>
          <a:xfrm rot="4351800">
            <a:off x="3508560" y="3296160"/>
            <a:ext cx="750960" cy="86364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1025" descr="AN00460_"/>
          <p:cNvPicPr/>
          <p:nvPr/>
        </p:nvPicPr>
        <p:blipFill>
          <a:blip r:embed="rId3"/>
          <a:stretch/>
        </p:blipFill>
        <p:spPr>
          <a:xfrm rot="17631600">
            <a:off x="754920" y="765720"/>
            <a:ext cx="936720" cy="10778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1026" descr="AN00460_"/>
          <p:cNvPicPr/>
          <p:nvPr/>
        </p:nvPicPr>
        <p:blipFill>
          <a:blip r:embed="rId4"/>
          <a:stretch/>
        </p:blipFill>
        <p:spPr>
          <a:xfrm rot="4351800">
            <a:off x="7867800" y="3516840"/>
            <a:ext cx="750960" cy="863640"/>
          </a:xfrm>
          <a:prstGeom prst="rect">
            <a:avLst/>
          </a:prstGeom>
          <a:ln w="0">
            <a:noFill/>
          </a:ln>
        </p:spPr>
      </p:pic>
      <p:sp>
        <p:nvSpPr>
          <p:cNvPr id="74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89" dur="2000" fill="hold"/>
                                        <p:tgtEl>
                                          <p:spTgt spid="7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121 -0.2956 L 0.44531 -0.6 E">
                                      <p:cBhvr>
                                        <p:cTn id="93" dur="2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4 0.05787 C -0.06875 -0.03148 -0.11875 -0.1088 -0.18576 -0.11412 C -0.24983 -0.12084 -0.30972 -0.06088 -0.31371 0.02592 C -0.31875 0.10578 -0.27674 0.18055 -0.21667 0.18588 C -0.16181 0.18981 -0.10972 0.14051 -0.10573 0.06597 C -0.10174 -0.00208999999999999 -0.13681 -0.06621 -0.18767 -0.07153 C -0.23472 -0.07547 -0.27882 -0.03403 -0.28177 0.02847 C -0.28472 0.08449 -0.25677 0.13912 -0.21476 0.1419 C -0.17674 0.14583 -0.1408 0.11389 -0.13767 0.06319 C -0.13576 0.01782 -0.15677 -0.02616 -0.18958 -0.02871 C -0.21875 -0.03148 -0.24774 -0.00741 -0.24983 0.03125 C -0.25174 0.06458 -0.23681 0.09653 -0.21267 0.0993 C -0.19271 0.10185 -0.1717 0.08727 -0.17066 0.06065 C -0.16875 0.03912 -0.17674 0.01643 -0.19167 0.01389 C -0.20382 0.01389 -0.2158 0.01921 -0.21771 0.03379 C -0.21875 0.04328 -0.21667 0.05254 -0.21076 0.05648 C -0.20781 0.05787 -0.20573 0.05787 -0.20278 0.05648 E">
                                      <p:cBhvr>
                                        <p:cTn id="97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101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" descr="AN00460_"/>
          <p:cNvPicPr/>
          <p:nvPr/>
        </p:nvPicPr>
        <p:blipFill>
          <a:blip r:embed="rId1"/>
          <a:stretch/>
        </p:blipFill>
        <p:spPr>
          <a:xfrm>
            <a:off x="8028000" y="6021360"/>
            <a:ext cx="936720" cy="1077840"/>
          </a:xfrm>
          <a:prstGeom prst="rect">
            <a:avLst/>
          </a:prstGeom>
          <a:ln w="0">
            <a:noFill/>
          </a:ln>
        </p:spPr>
      </p:pic>
      <p:sp>
        <p:nvSpPr>
          <p:cNvPr id="74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66 0.008 -0.115 0.028 -0.115 0.044 C -0.115 0.05867 -0.067 0.06933 -0.003 0.06933 C 0.061 0.06933 0.115 0.05867 0.115 0.044 C 0.115 0.028 0.059 0.024 -0.005 0.03467 C -0.068 0.04667 -0.115 0.06667 -0.115 0.08133 C -0.115 0.096 -0.066 0.108 -0.003 0.108 C 0.061 0.108 0.115 0.096 0.115 0.08133 C 0.115 0.06667 0.059 0.06267 -0.004 0.07333 C -0.068 0.084 -0.115 0.104 -0.115 0.11867 C -0.115 0.13467 -0.066 0.14667 -0.002 0.14667 C 0.061 0.14667 0.115 0.13467 0.115 0.11867 C 0.115 0.10533 0.059 0.10133 -0.004 0.11067 C -0.067 0.12133 -0.115 0.14267 -0.115 0.15733 C -0.115 0.172 -0.065 0.184 -0.002 0.184 C 0.063 0.184 0.115 0.172 0.115 0.15733 C 0.115 0.14267 0.06 0.13867 -0.003 0.14933 C -0.066 0.16 -0.115 0.18 -0.115 0.19467 C -0.115 0.21067 -0.065 0.22133 -0.001 0.22133 C 0.063 0.22133 0.115 0.20933 0.115 0.19467 C 0.115 0.18 0.06 0.176 -0.003 0.18667 C -0.066 0.19733 -0.115 0.21867 -0.115 0.232 C -0.115 0.24667 -0.064 0.25867 -0.001 0.25867 C 0.063 0.25867 0.115 0.24667 0.115 0.232 C 0.115 0.21867 0.061 0.21467 -0.003 0.224 C -0.066 0.23467 -0.115 0.256 -0.115 0.27067 C -0.115 0.284 -0.064 0.29733 0 0.29733 C 0.064 0.29733 0.115 0.28533 0.115 0.27067 C 0.115 0.256 0.061 0.252 -0.002 0.26267 C -0.065 0.27333 -0.116 0.29333 -0.115 0.308 C -0.114 0.32267 -0.064 0.33333 0 0.33333 C 0.064 0.33333 0.115 0.32133 0.115 0.30667 C 0.115 0.29333 0.063 0.28933 0 0.30133 E">
                                      <p:cBhvr>
                                        <p:cTn id="107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2" descr="AN00460_"/>
          <p:cNvPicPr/>
          <p:nvPr/>
        </p:nvPicPr>
        <p:blipFill>
          <a:blip r:embed="rId1"/>
          <a:stretch/>
        </p:blipFill>
        <p:spPr>
          <a:xfrm>
            <a:off x="8028000" y="6021360"/>
            <a:ext cx="936720" cy="1077840"/>
          </a:xfrm>
          <a:prstGeom prst="rect">
            <a:avLst/>
          </a:prstGeom>
          <a:ln w="0">
            <a:noFill/>
          </a:ln>
        </p:spPr>
      </p:pic>
      <p:sp>
        <p:nvSpPr>
          <p:cNvPr id="74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13" dur="20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ы дезинф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108000" y="981000"/>
          <a:ext cx="8928000" cy="5688000"/>
        </p:xfrm>
        <a:graphic>
          <a:graphicData uri="http://schemas.openxmlformats.org/drawingml/2006/table">
            <a:tbl>
              <a:tblPr/>
              <a:tblGrid>
                <a:gridCol w="2233440"/>
                <a:gridCol w="2517840"/>
                <a:gridCol w="1728720"/>
                <a:gridCol w="2448000"/>
              </a:tblGrid>
              <a:tr h="811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ИЛАКТИЧЕС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НУЖДЕН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в благополучном хозяйстве с целью предупреждения возникновения болезн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при возникновении инфекционной болезн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усков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ческ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ущ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лючительн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завершения строительства, накануне ввоза в помещение животных или завоза корм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в зависимости от технологии производств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системат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ки до ликвидации болезн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перед снятием карантина или ограничений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250920" y="1773360"/>
            <a:ext cx="2376360" cy="4751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492360" y="1773360"/>
            <a:ext cx="2376720" cy="4751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6227640" y="1773360"/>
            <a:ext cx="2448000" cy="1295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1908000" y="333360"/>
            <a:ext cx="4608720" cy="647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708360" y="1125360"/>
            <a:ext cx="1655640" cy="57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6300720" y="1125360"/>
            <a:ext cx="1873440" cy="57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8"/>
          <p:cNvSpPr/>
          <p:nvPr/>
        </p:nvSpPr>
        <p:spPr>
          <a:xfrm>
            <a:off x="900000" y="1125360"/>
            <a:ext cx="1511280" cy="57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9"/>
          <p:cNvSpPr/>
          <p:nvPr/>
        </p:nvSpPr>
        <p:spPr>
          <a:xfrm>
            <a:off x="1533600" y="399240"/>
            <a:ext cx="563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ства  дезинф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250920" y="1125360"/>
          <a:ext cx="8569080" cy="5543640"/>
        </p:xfrm>
        <a:graphic>
          <a:graphicData uri="http://schemas.openxmlformats.org/drawingml/2006/table">
            <a:tbl>
              <a:tblPr/>
              <a:tblGrid>
                <a:gridCol w="2855880"/>
                <a:gridCol w="2905200"/>
                <a:gridCol w="2808000"/>
              </a:tblGrid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механическая очис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кисл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микробы- антогонис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олнечный с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щёло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термофильные мико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УФ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хлоросодержащ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ухой ж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фенолы и кре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перегретый п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формальдег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кипя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соли тяжёлых мета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высуши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препараты други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гамма лу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моющие сре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ультразву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требования предъявляемые к дезинфектан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179280" y="1276200"/>
            <a:ext cx="885672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обладать достаточной бактерицид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не иметь стойкого неприятного запа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хорошо растворяться в воде или давать с ней стойкие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муль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проявлять дезинфицирующее действие в любой сре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не портить обрабатываемые предм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быть доступным и  дешев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удобными при транспортиров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обладать высокой стабильностью при хран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обладать низкой токсичностью для человека,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льскохозяйственных животных и п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обладать низкой коррозионной активностью в отношении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личных конструктивных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наиболее важным показателем является экологическая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ез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0" y="-51120"/>
            <a:ext cx="903600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Химические дезинфекта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ислоты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соляная, молочная, муравьиная, уксусная, щавелевая, надуксусная, дезокса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Щелоч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едкий натр, едкое кали, гашеная известь- пушон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льцинированная (двууглекислая сода), карбонат калия (поташ), демп (комплексное соединение)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Хлорсодержащие препарат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хлорная известь - получается пу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пускания газа-хлора через гашеную известь \пушенку\, содержит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нее 25% активного хлора, гипохлорит кальция, хлорами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изводные гидантиона, соли изоциануровой кислоты, однохлористый йод.и 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енолы и крезол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фенол, крезол, феносмолин, креоли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Форм)альдегид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формалин, пароформ, метафор, паросо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спар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ли тяжелых металл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медный купоро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епараты других групп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пирты, иодоформ, оксиды, соединения бром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оющие средст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Укладка навоза0"/>
          <p:cNvPicPr/>
          <p:nvPr/>
        </p:nvPicPr>
        <p:blipFill>
          <a:blip r:embed="rId1"/>
          <a:srcRect l="0" t="-259" r="1563" b="0"/>
          <a:stretch/>
        </p:blipFill>
        <p:spPr>
          <a:xfrm>
            <a:off x="457200" y="380880"/>
            <a:ext cx="8209080" cy="5996160"/>
          </a:xfrm>
          <a:prstGeom prst="rect">
            <a:avLst/>
          </a:prstGeom>
          <a:ln w="0">
            <a:noFill/>
          </a:ln>
        </p:spPr>
      </p:pic>
      <p:sp>
        <p:nvSpPr>
          <p:cNvPr id="54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181080" y="333000"/>
            <a:ext cx="8856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зинфекц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0" y="160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457200" y="993600"/>
          <a:ext cx="8229600" cy="6340680"/>
        </p:xfrm>
        <a:graphic>
          <a:graphicData uri="http://schemas.openxmlformats.org/drawingml/2006/table">
            <a:tbl>
              <a:tblPr/>
              <a:tblGrid>
                <a:gridCol w="4116240"/>
                <a:gridCol w="411336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лаж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ьющей струёй, факельное распыление , опрыскивание,погружение в раств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ухой                            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ыпка порошками,опыливание дез.посолочные смес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Аэрозо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паратный, безаппарат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Газо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мерный, под искусственным покрыт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2-31T12:49:34Z</dcterms:modified>
  <cp:revision>24</cp:revision>
  <dc:subject/>
  <dc:title>ФЕДЕРАЛЬНОЕ ГОСУДАРСТВЕННОЕ ОБРАЗОВАТЕЛЬНОЕ УЧЕРЕЖДЕНИЕ ВЫСШЕГО ПРОФЕССИОНАЛЬНОГО ОБРАЗОВАНИЯ «МОСКОВСКАЯ ГОСУДАРСТВЕННАЯ АКАДЕМИЯ ВЕТЕРИНАРНОЙ МЕДИЦИНЫ И БИОТЕХНОЛОГИИ им</dc:title>
</cp:coreProperties>
</file>