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D5E0-929F-4CDF-A5DE-2D6175367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5B2-C44C-43BB-8750-A356C552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E76-3B08-4A44-AEFA-2C44C8C2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F02-0BF0-4E50-820C-37210902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960-92F1-4909-B60A-1C7596F4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0AF-2ABB-4A61-A273-68633FD4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FD4-DB74-4C99-A7AE-093C9A80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5396-A912-4201-8047-5AAB902F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705-F235-48BF-B32A-11C389C1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645-C3F2-4C3F-9F9D-281DC660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F52-1070-4F7D-AEA7-E1FFB65E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365-3B32-4E69-AED4-03E738FD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FE9-5E8B-4F82-A550-D9025D5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152A-7CAF-4B98-A47A-4793B4C5BC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niid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4440" cy="180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960" y="2276280"/>
            <a:ext cx="8164440" cy="374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: Канищев В. 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Ц ФГКУ»№№ ЦНИИИ МО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ремеева Н.И. (УНИИФ Росмед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7120"/>
            <a:ext cx="821844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581120"/>
          <a:ext cx="7986600" cy="524664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405080"/>
                <a:gridCol w="2549520"/>
              </a:tblGrid>
              <a:tr h="60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регистраци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начение и и предписываемый режим применения дез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ое 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анПиН 2.1.4. 1074-01) в питьевой водопроводной воде веществ, способных оказывать бактериостатическое действие на микроорганизмы или нейтрализовать ЧАС и др.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ое назнач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средства по ДВ и время воз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9% ПГМГ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(2008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П-01/08)</a:t>
                      </a: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(бактери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6% в сумме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- 0,035 % (350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 - 0,0001%    (до 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 -    0,0001%     (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-     0,00015%    (1,5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 (анион-активные) -0,00003%    (0,3 мг/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Ника Амици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0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0,0011% в сумме, 60 ми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Эквивален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1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(0,0006% в сумме, 9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цен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2,2% ПГМГХ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% ЧАС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 ЭЧ 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А.Н. Сыси-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№ДК-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зараживание питьевой воды централи-зованного водоснаб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04 мг/л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мг/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от 0,00000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0,00004%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концепция профилактики инфекций, связанных с оказанием медицинской помощ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ждена Главным государственным санитарным врачом   Р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дезинфекционных и стерилизацион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 отсутствием во многих случаях должной квалифицированной его экспертной оце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44520"/>
            <a:ext cx="8218440" cy="636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7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намика внедрения дезсредств и качества их экспертизы пр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1680" y="1197000"/>
          <a:ext cx="8577360" cy="5143320"/>
        </p:xfrm>
        <a:graphic>
          <a:graphicData uri="http://schemas.openxmlformats.org/drawingml/2006/table">
            <a:tbl>
              <a:tblPr/>
              <a:tblGrid>
                <a:gridCol w="2830320"/>
                <a:gridCol w="1440000"/>
                <a:gridCol w="1143000"/>
                <a:gridCol w="3164040"/>
              </a:tblGrid>
              <a:tr h="491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зсредств (исключая  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.(на основе анализа инструкций , опубликованных на сайте «ДЕЗРЕЕСТР»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мнительными по эффективности режимами или сферой приме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содержащих ДВ и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, амина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с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7 (50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публикован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йте ДЕЗРЕЕСТ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, </a:t>
                      </a: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регистрированных посл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005 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0"/>
          <p:cNvGrpSpPr/>
          <p:nvPr/>
        </p:nvGrpSpPr>
        <p:grpSpPr>
          <a:xfrm>
            <a:off x="382680" y="1039680"/>
            <a:ext cx="8366040" cy="5480280"/>
            <a:chOff x="382680" y="1039680"/>
            <a:chExt cx="8366040" cy="5480280"/>
          </a:xfrm>
        </p:grpSpPr>
        <p:sp>
          <p:nvSpPr>
            <p:cNvPr id="133" name="Rectangle 5"/>
            <p:cNvSpPr/>
            <p:nvPr/>
          </p:nvSpPr>
          <p:spPr>
            <a:xfrm>
              <a:off x="382680" y="2022480"/>
              <a:ext cx="3638520" cy="928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токсичности,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работка режимов примен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медицинской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978600" y="4933800"/>
              <a:ext cx="1486080" cy="6858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312920" y="5289480"/>
              <a:ext cx="1440" cy="21456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19400" y="2262240"/>
              <a:ext cx="5684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562640" y="1982880"/>
              <a:ext cx="3922560" cy="1428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НИИ ЖГ, НИИ мол., пиво-безалко., мясрой пром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при теснейшем методическом взаимодейс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твии с НИИД и контроле 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ценка пригодности и 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соответству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395280" y="4076640"/>
              <a:ext cx="3656160" cy="1182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слушивание на заседании Федераль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иссиии экспертны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й, обсужде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ие их и других материалов (НТД, проек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струкций и др.) членами  комисс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аждое регистрируемое  дезсредств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2228760" y="3868560"/>
              <a:ext cx="180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 flipV="1">
              <a:off x="3990960" y="3218040"/>
              <a:ext cx="58104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2"/>
            <p:cNvSpPr/>
            <p:nvPr/>
          </p:nvSpPr>
          <p:spPr>
            <a:xfrm>
              <a:off x="2968560" y="1039680"/>
              <a:ext cx="2362320" cy="84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189400" y="1644480"/>
              <a:ext cx="42552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6687720" y="5292720"/>
              <a:ext cx="319320" cy="3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171880" y="2949480"/>
              <a:ext cx="144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605640" y="3510000"/>
              <a:ext cx="2143080" cy="1368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твер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82680" y="3156120"/>
              <a:ext cx="3638520" cy="71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дварительное обсуждение 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следован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 методкомиссии  НТС НИ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4040280" y="2263680"/>
              <a:ext cx="28872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2932200" y="1741320"/>
              <a:ext cx="349200" cy="29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4030560" y="4157280"/>
              <a:ext cx="333360" cy="20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425680" y="5475240"/>
              <a:ext cx="1724040" cy="82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 проведение практи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ческих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22280" y="5475240"/>
              <a:ext cx="1724040" cy="831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аз в 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гистрации д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ме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3289320" y="5261040"/>
              <a:ext cx="144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6505560" y="3847680"/>
              <a:ext cx="27936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6967440" y="5646600"/>
              <a:ext cx="1509840" cy="646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кция,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твержд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оспотребнадзо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211640" y="4784760"/>
              <a:ext cx="2514600" cy="91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а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лько 2 специализирова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Л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4716360" y="5877000"/>
              <a:ext cx="1805040" cy="642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5580000" y="5681520"/>
              <a:ext cx="180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 flipH="1">
              <a:off x="8437320" y="513252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8461080" y="599616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4"/>
            <p:cNvSpPr/>
            <p:nvPr/>
          </p:nvSpPr>
          <p:spPr>
            <a:xfrm>
              <a:off x="8637480" y="4495680"/>
              <a:ext cx="0" cy="15843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300560" y="3535200"/>
              <a:ext cx="2178000" cy="503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 инструкци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300560" y="3959280"/>
              <a:ext cx="2176560" cy="709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токол с рекоменда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ией регистрации  средст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 Роспотребнадз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H="1" flipV="1">
              <a:off x="6588000" y="5516280"/>
              <a:ext cx="385920" cy="212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029120" y="3703680"/>
              <a:ext cx="261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 flipV="1">
              <a:off x="6469200" y="4506480"/>
              <a:ext cx="27936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1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2005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395280" y="1052640"/>
            <a:ext cx="8386920" cy="5486400"/>
            <a:chOff x="395280" y="1052640"/>
            <a:chExt cx="8386920" cy="5486400"/>
          </a:xfrm>
        </p:grpSpPr>
        <p:sp>
          <p:nvSpPr>
            <p:cNvPr id="169" name="Rectangle 5"/>
            <p:cNvSpPr/>
            <p:nvPr/>
          </p:nvSpPr>
          <p:spPr>
            <a:xfrm>
              <a:off x="395280" y="2133720"/>
              <a:ext cx="2697480" cy="1185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оксичности, отработка режи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менения в мед.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977160" y="5240160"/>
              <a:ext cx="1503360" cy="5652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668760" y="3225960"/>
              <a:ext cx="0" cy="36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3165480" y="2133720"/>
              <a:ext cx="2756160" cy="10792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ИИ ЖГ, НИИ мол., пиво-безалк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ясной промышленности: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683240" y="3586320"/>
              <a:ext cx="153180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кспер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в основ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дают сами ИЛ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никем 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суждается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604120" y="1628640"/>
              <a:ext cx="801720" cy="50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353040" y="1052640"/>
              <a:ext cx="2392200" cy="84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4605480" y="18669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635880" y="4175280"/>
              <a:ext cx="2022480" cy="9824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2797200" y="1628640"/>
              <a:ext cx="65592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72080" y="4149720"/>
              <a:ext cx="38556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681960" y="3357720"/>
              <a:ext cx="2100240" cy="74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кспертный совет п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оспотребнадзор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рассматривает  ДС толь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 спорных  вопроса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318200" y="3284640"/>
              <a:ext cx="0" cy="360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906560" y="5156280"/>
              <a:ext cx="2843280" cy="115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з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ют на коммерческой осно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ые непрофиль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4505400" y="5902200"/>
              <a:ext cx="2692440" cy="63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или декла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459320" y="6029280"/>
              <a:ext cx="73080" cy="20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8465760" y="5538960"/>
              <a:ext cx="2178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 flipV="1">
              <a:off x="4357440" y="5373720"/>
              <a:ext cx="26240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650440" y="4678200"/>
              <a:ext cx="1440" cy="925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6016680" y="2133720"/>
              <a:ext cx="2405160" cy="1041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ые ИЛЦ, не име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ли с небольшим опы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аучно-испытатель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боты с дезсред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09840" y="3573360"/>
              <a:ext cx="2259000" cy="100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бсуждение  результатов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исследований, 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ключения на метод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иссии  НТС НИ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219480" y="3598920"/>
              <a:ext cx="1457280" cy="105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емпля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3884760" y="4653000"/>
              <a:ext cx="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6183360" y="4221000"/>
              <a:ext cx="569880" cy="300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795680" y="3344760"/>
              <a:ext cx="1440" cy="216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>
              <a:off x="4278600" y="3319560"/>
              <a:ext cx="189360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>
              <a:off x="6189840" y="3141720"/>
              <a:ext cx="0" cy="2160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3888000" y="4869000"/>
              <a:ext cx="284328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4868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4440" y="1566720"/>
          <a:ext cx="8115120" cy="5007240"/>
        </p:xfrm>
        <a:graphic>
          <a:graphicData uri="http://schemas.openxmlformats.org/drawingml/2006/table">
            <a:tbl>
              <a:tblPr/>
              <a:tblGrid>
                <a:gridCol w="1249200"/>
                <a:gridCol w="1152720"/>
                <a:gridCol w="1150920"/>
                <a:gridCol w="1368360"/>
                <a:gridCol w="1081080"/>
                <a:gridCol w="2112840"/>
              </a:tblGrid>
              <a:tr h="617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– испыта-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одтвердившая декларацию о соответствии сред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е для принятия декларации и подтверждения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-ных инфек-циях 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-ных (включая туберкулез) 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я  (+ПСО)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лмадез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три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ПГМГ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ЛЦ ФГУ РНИИТО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9% по сумме  ДВ/ 3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4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 по сертификации продукции и услуг «ПОЛИСЕРТ» автономной некоммерческой организации по сертификации «ЭЛЕКТРОСЕР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Протокол испытаний №665-10 от 24.11.201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ИЛЦ ФГУ «РНИИТО» им Р.Р. Вр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ид. Госрегист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77.99.01.002.Е.005764.03.1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35344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аяся ситуация с дезинфицирующими средст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э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езинфектологический  тупик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95280" y="1057320"/>
            <a:ext cx="835344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 факто» узаконено обращение и применение в практике большого количества дезсредств (более 50%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щих явно искусственно завышенные по эффективности или нереальные для состава ДВ режимы применени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спользов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х дезсредств в ЛП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оявления, накопления и циркуляции в ЛПО возбудителей ВБИ с более высокой устойчивостью (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том числе приобретенн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используемым в средствах Д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 и применение в практике таких дез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ытесняет из медицинской практики ( и не только отечественной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лает бесперспективно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страция таких дезсредств для практического применения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редитирует 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971640"/>
          <a:ext cx="7777080" cy="56941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800360"/>
                <a:gridCol w="1800000"/>
              </a:tblGrid>
              <a:tr h="15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действующих веществ в сред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 с неэффективными режимами примене-ния (занижены концентрации рабочих растворов и экспози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, с  объективно аттестованными режимами в отношении возбудителя                                           туберку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е вещ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е вещества и  их композиции с ЧАС, орг. кислотами, серебром  и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ьдег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ов с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 и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ы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гуанид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: - ( * ) - Средства дополнительно имеют еще  фиктивные режимы  стерилизации и ДВУ, поскольку не содержат  спороцидных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ного при отработке тест - микр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4440" y="1268280"/>
          <a:ext cx="8018280" cy="5034240"/>
        </p:xfrm>
        <a:graphic>
          <a:graphicData uri="http://schemas.openxmlformats.org/drawingml/2006/table">
            <a:tbl>
              <a:tblPr/>
              <a:tblGrid>
                <a:gridCol w="3049560"/>
                <a:gridCol w="1439640"/>
                <a:gridCol w="352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в инструкции концентрации рабочих растворов при времени воздействия  (экспозиции) 60 мин. для 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зинфекции  поверхностей при бактериальных инфекциях (включая туберкулез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% по препарату/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птустин 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,0% ЧАС, 6 % ам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/ 0,3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/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0/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верян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 ЧАС, 10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ПГМГХ и вспом. компонен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5% ДВ в сумм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, №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/0,1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вирай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 ЧАС, 6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ПГМГХ 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1 г, №14/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,0/2,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47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жно (мы просто обязаны) решительно и быстрее вый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этого тупи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тивоэпидемическое предназначение применения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6200" y="3571920"/>
            <a:ext cx="1782720" cy="979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езнетв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кро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7880" y="2419200"/>
            <a:ext cx="194472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060720" y="4437000"/>
            <a:ext cx="2595600" cy="32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ы ухода и обстан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059280" y="4784760"/>
            <a:ext cx="259524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Н, использов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059280" y="3224160"/>
            <a:ext cx="25952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и,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ных и  их окруж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060720" y="2741760"/>
            <a:ext cx="259092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омещ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н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59280" y="4137120"/>
            <a:ext cx="2595240" cy="30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я и бель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6200000">
            <a:off x="7027560" y="2969640"/>
            <a:ext cx="1119240" cy="117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771640" y="45799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771640" y="427032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684360" y="1482840"/>
            <a:ext cx="201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будителей  инфекц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5670720" y="45957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5651640" y="347652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5651640" y="3068640"/>
            <a:ext cx="215640" cy="3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395280" y="2000160"/>
            <a:ext cx="0" cy="2089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732720" y="1517760"/>
            <a:ext cx="1873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7596360" y="2492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4"/>
          <p:cNvSpPr/>
          <p:nvPr/>
        </p:nvSpPr>
        <p:spPr>
          <a:xfrm>
            <a:off x="2411280" y="4075200"/>
            <a:ext cx="360360" cy="14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3059280" y="3809880"/>
            <a:ext cx="2595240" cy="30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. - тех.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>
            <a:off x="2771640" y="2620800"/>
            <a:ext cx="0" cy="246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"/>
          <p:cNvSpPr/>
          <p:nvPr/>
        </p:nvSpPr>
        <p:spPr>
          <a:xfrm>
            <a:off x="2771640" y="263520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771640" y="307008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5651640" y="249552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5867280" y="2492280"/>
            <a:ext cx="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392040" y="1987560"/>
            <a:ext cx="1968480" cy="4316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4284720" y="2131920"/>
            <a:ext cx="3240" cy="15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3059280" y="2287440"/>
            <a:ext cx="25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дух, вода,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3"/>
          <p:cNvSpPr/>
          <p:nvPr/>
        </p:nvSpPr>
        <p:spPr>
          <a:xfrm>
            <a:off x="10072800" y="107172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651640" y="429264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71640" y="349884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771640" y="393228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651640" y="399564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250920" y="5272200"/>
            <a:ext cx="849780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(или в) объект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щихся потенциальными факторами передачи возбуд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й, в целях предотвра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никновения и распространения разли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онных заболев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и людей через эти объек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d2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680" y="2816280"/>
            <a:ext cx="200340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42800" y="4075200"/>
            <a:ext cx="216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2627280" y="191628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 flipH="1">
            <a:off x="2340000" y="220176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340000" y="263376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340000" y="29941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867280" y="264780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1482840"/>
            <a:ext cx="360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5867280" y="457992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300720" y="2635200"/>
            <a:ext cx="0" cy="2665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5867280" y="3641760"/>
            <a:ext cx="433440" cy="32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2771640" y="50515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2771640" y="841320"/>
            <a:ext cx="338472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фера  применения дез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5651640" y="50115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280040" y="1303200"/>
            <a:ext cx="2880" cy="15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 существенно уступающей возбудителю по устойчивости к химическим дезинфект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бъективной аттестации, а также переаттестации на добровольной основе туберкулоцидных режимов на новом тест - микробе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erra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Times New Roman"/>
              </a:rPr>
              <a:t>в 10 и более раз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Times New Roman"/>
              </a:rPr>
              <a:t> ниже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, чем необходимо за то же время для обеспечения эффективной дезинфекции в отношении возбудителя туберкулеза (причем музейного штамма Н37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Times New Roman"/>
              </a:rPr>
              <a:t>RV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х два действующих вещества (ЧАС и триами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1787400"/>
          <a:ext cx="8115120" cy="4572000"/>
        </p:xfrm>
        <a:graphic>
          <a:graphicData uri="http://schemas.openxmlformats.org/drawingml/2006/table">
            <a:tbl>
              <a:tblPr/>
              <a:tblGrid>
                <a:gridCol w="1249200"/>
                <a:gridCol w="1079640"/>
                <a:gridCol w="1368360"/>
                <a:gridCol w="1368360"/>
                <a:gridCol w="1224000"/>
                <a:gridCol w="936720"/>
                <a:gridCol w="888840"/>
              </a:tblGrid>
              <a:tr h="77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применения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ьной уб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нцентрация по ДВ/время воздеств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ключая туберкул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мати-ческ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х, кабинетах функциональ-ной диагнос-тики  и д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пербло-ках, перевя-зочных, проце-ду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П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-зиатрического профи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5 г,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% по  сумме ДВ 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% по сум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 ДВ / -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 /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по сумме Д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 Плю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РНИИТО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% по сумме 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% по сумме ДВ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0"/>
          <p:cNvSpPr/>
          <p:nvPr/>
        </p:nvSpPr>
        <p:spPr>
          <a:xfrm>
            <a:off x="4284720" y="2133720"/>
            <a:ext cx="136836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2340000" y="2143080"/>
            <a:ext cx="129528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5143320" y="2060640"/>
            <a:ext cx="468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ound"/>
          <p:cNvSpPr/>
          <p:nvPr/>
        </p:nvSpPr>
        <p:spPr>
          <a:xfrm rot="1789200">
            <a:off x="1864800" y="2023560"/>
            <a:ext cx="608040" cy="235080"/>
          </a:xfrm>
          <a:custGeom>
            <a:avLst/>
            <a:gdLst>
              <a:gd name="textAreaLeft" fmla="*/ 21240 w 608040"/>
              <a:gd name="textAreaRight" fmla="*/ 593280 w 608040"/>
              <a:gd name="textAreaTop" fmla="*/ 244440 h 235080"/>
              <a:gd name="textAreaBottom" fmla="*/ 3081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"/>
          <p:cNvSpPr/>
          <p:nvPr/>
        </p:nvSpPr>
        <p:spPr>
          <a:xfrm>
            <a:off x="6072120" y="33256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643280" y="27860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"/>
          <p:cNvSpPr/>
          <p:nvPr/>
        </p:nvSpPr>
        <p:spPr>
          <a:xfrm>
            <a:off x="5076720" y="2981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"/>
          <p:cNvSpPr/>
          <p:nvPr/>
        </p:nvSpPr>
        <p:spPr>
          <a:xfrm>
            <a:off x="5292720" y="24289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loud"/>
          <p:cNvSpPr/>
          <p:nvPr/>
        </p:nvSpPr>
        <p:spPr>
          <a:xfrm>
            <a:off x="6357960" y="32860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4932360" y="2481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loud"/>
          <p:cNvSpPr/>
          <p:nvPr/>
        </p:nvSpPr>
        <p:spPr>
          <a:xfrm>
            <a:off x="450072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5076720" y="2714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2"/>
          <p:cNvSpPr/>
          <p:nvPr/>
        </p:nvSpPr>
        <p:spPr>
          <a:xfrm>
            <a:off x="214200" y="857160"/>
            <a:ext cx="1643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4716360" y="3095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2"/>
          <p:cNvSpPr/>
          <p:nvPr/>
        </p:nvSpPr>
        <p:spPr>
          <a:xfrm>
            <a:off x="1893960" y="857160"/>
            <a:ext cx="257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нижен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актерицидной концентрацией Д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1979640" y="1916280"/>
            <a:ext cx="1944720" cy="208908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315360 h 2089080"/>
              <a:gd name="textAreaBottom" fmla="*/ 1676880 h 208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2143080"/>
            <a:ext cx="136692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642960" y="2552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14156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>
            <a:off x="1571760" y="24573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8334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loud"/>
          <p:cNvSpPr/>
          <p:nvPr/>
        </p:nvSpPr>
        <p:spPr>
          <a:xfrm>
            <a:off x="1214280" y="3060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903240" y="3195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07212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1000080" y="1714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142920" y="4714920"/>
            <a:ext cx="5429160" cy="121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3059280" y="1700280"/>
            <a:ext cx="144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4500720" y="863640"/>
            <a:ext cx="22143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2"/>
          <p:cNvSpPr/>
          <p:nvPr/>
        </p:nvSpPr>
        <p:spPr>
          <a:xfrm>
            <a:off x="6804000" y="549360"/>
            <a:ext cx="2125800" cy="257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7999560" y="342900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43800" y="36180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500960" y="4770360"/>
            <a:ext cx="1371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2"/>
          <p:cNvSpPr/>
          <p:nvPr/>
        </p:nvSpPr>
        <p:spPr>
          <a:xfrm>
            <a:off x="4675320" y="142920"/>
            <a:ext cx="41446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грозы и последствия ситуации с дезсредств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156360" y="3357720"/>
            <a:ext cx="344520" cy="21564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6143760" y="293832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360440" y="37857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00"/>
          <p:cNvSpPr/>
          <p:nvPr/>
        </p:nvSpPr>
        <p:spPr>
          <a:xfrm>
            <a:off x="8358120" y="35845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3"/>
          <p:cNvSpPr/>
          <p:nvPr/>
        </p:nvSpPr>
        <p:spPr>
          <a:xfrm>
            <a:off x="1382760" y="4286160"/>
            <a:ext cx="697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loud"/>
          <p:cNvSpPr/>
          <p:nvPr/>
        </p:nvSpPr>
        <p:spPr>
          <a:xfrm>
            <a:off x="426960" y="5381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523880" y="3071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loud"/>
          <p:cNvSpPr/>
          <p:nvPr/>
        </p:nvSpPr>
        <p:spPr>
          <a:xfrm>
            <a:off x="1285920" y="27496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>
            <a:off x="5364000" y="30481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loud"/>
          <p:cNvSpPr/>
          <p:nvPr/>
        </p:nvSpPr>
        <p:spPr>
          <a:xfrm>
            <a:off x="5070600" y="32259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1285920" y="33098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42924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26960" y="5000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428760" y="555948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426960" y="51912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415800" y="57513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 rot="16200000">
            <a:off x="6857640" y="3214440"/>
            <a:ext cx="1214640" cy="785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7524720" y="37893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7215120" y="35528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7215120" y="3143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7224840" y="387504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570800" y="35002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8213760" y="34830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7642080" y="32148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loud"/>
          <p:cNvSpPr/>
          <p:nvPr/>
        </p:nvSpPr>
        <p:spPr>
          <a:xfrm>
            <a:off x="8459640" y="3284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8070840" y="3267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9"/>
          <p:cNvSpPr/>
          <p:nvPr/>
        </p:nvSpPr>
        <p:spPr>
          <a:xfrm>
            <a:off x="6643800" y="30718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5786280" y="4749840"/>
            <a:ext cx="128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853272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loud"/>
          <p:cNvSpPr/>
          <p:nvPr/>
        </p:nvSpPr>
        <p:spPr>
          <a:xfrm>
            <a:off x="5857920" y="47862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2"/>
          <p:cNvSpPr/>
          <p:nvPr/>
        </p:nvSpPr>
        <p:spPr>
          <a:xfrm>
            <a:off x="2143080" y="4357800"/>
            <a:ext cx="5143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"/>
          <p:cNvSpPr/>
          <p:nvPr/>
        </p:nvSpPr>
        <p:spPr>
          <a:xfrm>
            <a:off x="7927920" y="3786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8"/>
          <p:cNvSpPr/>
          <p:nvPr/>
        </p:nvSpPr>
        <p:spPr>
          <a:xfrm rot="16200000">
            <a:off x="7500960" y="5000400"/>
            <a:ext cx="500040" cy="214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loud"/>
          <p:cNvSpPr/>
          <p:nvPr/>
        </p:nvSpPr>
        <p:spPr>
          <a:xfrm>
            <a:off x="8043840" y="306864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8028000" y="357336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785880" y="34624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4572000" y="33782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788508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5"/>
          <p:cNvSpPr/>
          <p:nvPr/>
        </p:nvSpPr>
        <p:spPr>
          <a:xfrm>
            <a:off x="565164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6715080" y="4186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372360" y="418608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6097680" y="32288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loud"/>
          <p:cNvSpPr/>
          <p:nvPr/>
        </p:nvSpPr>
        <p:spPr>
          <a:xfrm>
            <a:off x="6240600" y="36021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6138720" y="2936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"/>
          <p:cNvSpPr/>
          <p:nvPr/>
        </p:nvSpPr>
        <p:spPr>
          <a:xfrm>
            <a:off x="738036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loud"/>
          <p:cNvSpPr/>
          <p:nvPr/>
        </p:nvSpPr>
        <p:spPr>
          <a:xfrm>
            <a:off x="608472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loud"/>
          <p:cNvSpPr/>
          <p:nvPr/>
        </p:nvSpPr>
        <p:spPr>
          <a:xfrm>
            <a:off x="8244000" y="28526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7812000" y="28526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579600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80280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5508720" y="419400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342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лица 1 -  Динамика разработки и регистрации дезсредств для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медицинской практики на основе основных групп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действующ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525680"/>
          <a:ext cx="8569080" cy="5209920"/>
        </p:xfrm>
        <a:graphic>
          <a:graphicData uri="http://schemas.openxmlformats.org/drawingml/2006/table">
            <a:tbl>
              <a:tblPr/>
              <a:tblGrid>
                <a:gridCol w="3529080"/>
                <a:gridCol w="863280"/>
                <a:gridCol w="865440"/>
                <a:gridCol w="863640"/>
                <a:gridCol w="936360"/>
                <a:gridCol w="1511280"/>
              </a:tblGrid>
              <a:tr h="4989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 (исключая   кожные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искусств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ышенными по эффективности режим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альдегиды и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ами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3 ДВ (ЧАС, амина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на конкретный перио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лица 2 - Режимы применения аналогичных дезсредств на основе   только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, выданные  аккредитованными испытательными центр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052640"/>
          <a:ext cx="7921440" cy="5586120"/>
        </p:xfrm>
        <a:graphic>
          <a:graphicData uri="http://schemas.openxmlformats.org/drawingml/2006/table">
            <a:tbl>
              <a:tblPr/>
              <a:tblGrid>
                <a:gridCol w="1224000"/>
                <a:gridCol w="1441440"/>
                <a:gridCol w="1150920"/>
                <a:gridCol w="1152360"/>
                <a:gridCol w="1079640"/>
                <a:gridCol w="1008000"/>
                <a:gridCol w="86508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туберкулез и вирусы типа полиомие-лит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 –Форте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4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ЦНИИЭ,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005 г.№016-1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 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-7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7,5% ЧАС и </a:t>
                      </a:r>
                      <a:r>
                        <a:rPr b="1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п. компонент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4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3,7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2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5 мин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6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птод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смесь 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4 г.№1-1/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397160"/>
          <a:ext cx="8280360" cy="4195440"/>
        </p:xfrm>
        <a:graphic>
          <a:graphicData uri="http://schemas.openxmlformats.org/drawingml/2006/table">
            <a:tbl>
              <a:tblPr/>
              <a:tblGrid>
                <a:gridCol w="1379520"/>
                <a:gridCol w="1380960"/>
                <a:gridCol w="1379520"/>
                <a:gridCol w="1379520"/>
                <a:gridCol w="1381320"/>
                <a:gridCol w="1379520"/>
              </a:tblGrid>
              <a:tr h="606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тант на основе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рабочего раствора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 Д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ы тест-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ходная концентрация спор в дезратворе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чная концентрация живых спор в дезрастворе чере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.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ьтами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9±0,2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39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2±0,1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±0,22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0±0,1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4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шт.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3±0,0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8±0,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8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квад МСВ-5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, 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9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блица 4 - Режимы применения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дного и того же дезсред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основе   только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ЧАС, выданные  в аккредитованных испытательных центр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052640"/>
          <a:ext cx="7921440" cy="5740200"/>
        </p:xfrm>
        <a:graphic>
          <a:graphicData uri="http://schemas.openxmlformats.org/drawingml/2006/table">
            <a:tbl>
              <a:tblPr/>
              <a:tblGrid>
                <a:gridCol w="1224000"/>
                <a:gridCol w="1512720"/>
                <a:gridCol w="1152720"/>
                <a:gridCol w="1150920"/>
                <a:gridCol w="1441440"/>
                <a:gridCol w="143964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 (туберкулез и вирусы типа полиомие-л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 им. Д.И. Иванов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ВолгНИИПЧ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-02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ЛЦ ФГУЗ ЦНИИЭ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-05/06-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4%,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мин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ч.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06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-10/07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 ,   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чальная темпер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ура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9%,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  - 12 (проек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ова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айт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fo@niid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сужде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ноябре 2011 г за  «круглым столом», проведенном в НИИД, откорректированы с учетом замечаний и предлож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 сих пор не может выйти из лабиринтов РОСПОТРЕБ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 из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и композиционные составы на основе этих соединений, независимо от концентрации последних в средстве или его рабочих растворах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жимы применения аналогичных дезсредств на основ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снове   ЧАС и ПМГ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выданные  аккредитованными испытательными цен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1052640"/>
          <a:ext cx="7921440" cy="521172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24000"/>
                <a:gridCol w="1079640"/>
                <a:gridCol w="1081080"/>
                <a:gridCol w="1079640"/>
                <a:gridCol w="93636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бактерии, кроме возбудителя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(возб. туберкулеза и резистен-тные виру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ндел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1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36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кси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7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8 г. №02/0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2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рисепт-Г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9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% ПГМГХ и всп.ком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№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19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38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7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66% ДВ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7983720" cy="17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роекта документа : «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тодические рекомендаци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.       - 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 2012</a:t>
            </a:r>
            <a:br>
              <a:rPr sz="4800"/>
            </a:b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мальные концент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200720" cy="3692520"/>
        </p:xfrm>
        <a:graphic>
          <a:graphicData uri="http://schemas.openxmlformats.org/drawingml/2006/table">
            <a:tbl>
              <a:tblPr/>
              <a:tblGrid>
                <a:gridCol w="3313080"/>
                <a:gridCol w="38876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ующее веществ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рабочего раствора по действующему веществу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твертичные аммониев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2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ные производные гуани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тичные алкиламины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мпозиции на основе нескольких перечисленных выше действующих веществ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1 (по сумме действующих веществ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риевая соль дихлоризоциануровой кисло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0,015 (по активному хлор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ись водор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,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17:33Z</dcterms:created>
  <dc:creator>Admin</dc:creator>
  <dc:description/>
  <dc:language>en-US</dc:language>
  <cp:lastModifiedBy>LEGION</cp:lastModifiedBy>
  <dcterms:modified xsi:type="dcterms:W3CDTF">2015-12-31T12:49:46Z</dcterms:modified>
  <cp:revision>5254</cp:revision>
  <dc:subject/>
  <dc:title>«Состояние разработки и регистрации современных дезинфицирующих средств» Авторы: Канищев В. В. (НИЦ ФГКУ»№№ ЦНИИИ МО РФ) Еремеева Н.И. (УНИИФ Росмедтехнологий) Докладчик: д.м.н., профессор Канищев Владимир Васильевич</dc:title>
</cp:coreProperties>
</file>