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5114-5503-4F00-80AC-E92FBF26C5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1CF9-F90C-46E0-8D93-CB34CDB9BD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ве главные цели «Вех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снование дела свобо-ды на религиозно-культур-ных началах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личение «идолов» ле-вой обще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Творческое самосозна-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бинетное резонё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ый максим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ктантская нетерп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16AE-4522-4A8C-A6CA-6560F529A6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Философская истина и интеллигентская прав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ружковщ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тилитарно-моральная устан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ение истин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F5EF-312E-4A4A-8CAA-8D8AA2E4B6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ероизм и подвижни-ч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ая гордыня и нравственное см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митивность фило-софско-исторических концепц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гматизм русской интеллиген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D7C2-FEE5-4437-A7E2-2C0CF1738D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В защиту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ительное от-ношение к  формально-му праву как «низшей» сфер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87E7-E5A1-4A43-9FB8-1BB38154F5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Интеллигенция и револю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вязчивая идея револю-ционного переворот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инный путь прогр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77FA-A0A3-4A5D-BBE1-5AE9F695B1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тика нигилиз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игилистическая религия земного благополуч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езнравственная идея «коллективной польз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D313-21A3-4DB6-84F9-BEDB60B4EB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0591-97DC-4F0F-9B29-C154FDECEC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ское общество (1907‑191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3EF1-DBD9-4DF8-816B-AE452047F1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 (литератор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 Роз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56-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 Ив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66-194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дрей Белый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80-19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47BB-DC4D-4B0B-BE25-9C2FDA334F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ропология («метафизика пол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«исторического христиан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Христианство Вифлеема и христианство Голгоф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я Авраама и религия Хр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ский песси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ср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жер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2739-5E1E-4F27-9B8E-777F29B64C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лигиозный мате-риализм»: «правда о пло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ия: «три Заве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О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Сы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ый анар-хиз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596C-50C9-4B98-8001-C32543752C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8167-0CB2-4B80-8319-39EFAD444C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как миропо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есение смысла в бессмысленный ми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ересоздание мирозд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1557-551A-4634-8BCD-BA3C3D1D8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А. Бердяев. Фило-софская истина и ин-теллигентская прав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Н. Булгаков. Героизм и подвижни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О. Гершензон. Твор-ческое самосо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С. Изгоев. Об интел-лигентной молодё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. А. Кистяковский. В защиту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. Б. Струве. Интелли-генция и револю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Л. Франк. Этика ниги-лиз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2106-2AAA-4F51-8D90-DBE9215A1F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678-8505-46CA-91F1-1D81729F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21F-06C8-492E-9A66-E01EF5F8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2DD-63A2-4DF2-8540-6220365C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BC8-F0FE-4C67-8253-53CB8DA5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2E1-5AF2-4F07-8B77-CE7981CC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295-618E-4903-B01A-683F105D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DCA-482D-4935-A9AC-C2A631D1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E80-83BA-43A5-A906-0DD93B94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CC6-CC04-4DFA-93DC-E1A25A0D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5E5-2095-461A-BEE6-5D290BD7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F51-6D1E-48EC-B96C-77D90D54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E5E-F32E-440D-97C4-B2E34612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11F9-BFA3-4B31-ADD2-9C6C3A02A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2600" y="2356920"/>
            <a:ext cx="7553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е главные цели «Вех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снование дела свобо-ды на религиозно-культур-ных начал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ичение «идолов» ле-вой обще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орческое самосозна-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бинетное резонё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ый максим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ктантская нетерп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ершензон (1)"/>
          <p:cNvPicPr/>
          <p:nvPr/>
        </p:nvPicPr>
        <p:blipFill>
          <a:blip r:embed="rId1"/>
          <a:stretch/>
        </p:blipFill>
        <p:spPr>
          <a:xfrm>
            <a:off x="5649840" y="1798560"/>
            <a:ext cx="3065400" cy="43182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Философская истина и интеллигентская прав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ружковщ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илитарно-моральная 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ение истин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Бердяев (6-5)"/>
          <p:cNvPicPr/>
          <p:nvPr/>
        </p:nvPicPr>
        <p:blipFill>
          <a:blip r:embed="rId1"/>
          <a:stretch/>
        </p:blipFill>
        <p:spPr>
          <a:xfrm>
            <a:off x="6297480" y="1798560"/>
            <a:ext cx="2159280" cy="4318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роизм и подвижни-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ая гордыня и нравственное сми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итивность фило-софско-исторических концепц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матизм русской интеллиг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Булгаков СН (2)"/>
          <p:cNvPicPr/>
          <p:nvPr/>
        </p:nvPicPr>
        <p:blipFill>
          <a:blip r:embed="rId1"/>
          <a:stretch/>
        </p:blipFill>
        <p:spPr>
          <a:xfrm>
            <a:off x="5651640" y="1798560"/>
            <a:ext cx="307332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 защиту пра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ительное от-ношение к  формально-му праву как «низшей» сфе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истяковский (1-2)"/>
          <p:cNvPicPr/>
          <p:nvPr/>
        </p:nvPicPr>
        <p:blipFill>
          <a:blip r:embed="rId1"/>
          <a:stretch/>
        </p:blipFill>
        <p:spPr>
          <a:xfrm>
            <a:off x="5218200" y="1798560"/>
            <a:ext cx="3414600" cy="43182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нтеллигенция и револю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вязчивая идея револю-ционного переворо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ный путь прогр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труве П (1)"/>
          <p:cNvPicPr/>
          <p:nvPr/>
        </p:nvPicPr>
        <p:blipFill>
          <a:blip r:embed="rId1"/>
          <a:stretch/>
        </p:blipFill>
        <p:spPr>
          <a:xfrm>
            <a:off x="5757840" y="1798560"/>
            <a:ext cx="2951280" cy="43182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тика нигил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гилистическая религия земного благополуч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нравственная идея «коллективной польз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Франк СЛ (1)"/>
          <p:cNvPicPr/>
          <p:nvPr/>
        </p:nvPicPr>
        <p:blipFill>
          <a:blip r:embed="rId1"/>
          <a:stretch/>
        </p:blipFill>
        <p:spPr>
          <a:xfrm>
            <a:off x="5937120" y="1798560"/>
            <a:ext cx="2595600" cy="4321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4840" y="91800"/>
            <a:ext cx="8734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ское общество (1907‑191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 (литератор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 Роз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56-19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. Ив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6-19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дрей Белы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80-19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Мережковский (1)"/>
          <p:cNvPicPr/>
          <p:nvPr/>
        </p:nvPicPr>
        <p:blipFill>
          <a:blip r:embed="rId1"/>
          <a:stretch/>
        </p:blipFill>
        <p:spPr>
          <a:xfrm>
            <a:off x="6837480" y="1798560"/>
            <a:ext cx="16524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Белый А (1-1)cr"/>
          <p:cNvPicPr/>
          <p:nvPr/>
        </p:nvPicPr>
        <p:blipFill>
          <a:blip r:embed="rId2"/>
          <a:stretch/>
        </p:blipFill>
        <p:spPr>
          <a:xfrm>
            <a:off x="7016760" y="4317840"/>
            <a:ext cx="1652400" cy="215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Иванов Вяч (1)cr"/>
          <p:cNvPicPr/>
          <p:nvPr/>
        </p:nvPicPr>
        <p:blipFill>
          <a:blip r:embed="rId3"/>
          <a:stretch/>
        </p:blipFill>
        <p:spPr>
          <a:xfrm>
            <a:off x="5037120" y="4138560"/>
            <a:ext cx="178128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озанов (3)sep-cr"/>
          <p:cNvPicPr/>
          <p:nvPr/>
        </p:nvPicPr>
        <p:blipFill>
          <a:blip r:embed="rId4"/>
          <a:stretch/>
        </p:blipFill>
        <p:spPr>
          <a:xfrm>
            <a:off x="4857840" y="1619280"/>
            <a:ext cx="1652400" cy="215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5765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я («метафизика пол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«исторического христиан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ристианство Вифлеема и христианство Голгоф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я Авраама и религия Х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жер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озанов (7)"/>
          <p:cNvPicPr/>
          <p:nvPr/>
        </p:nvPicPr>
        <p:blipFill>
          <a:blip r:embed="rId1"/>
          <a:stretch/>
        </p:blipFill>
        <p:spPr>
          <a:xfrm>
            <a:off x="6297480" y="1798560"/>
            <a:ext cx="2486160" cy="4321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Мережковский (1)"/>
          <p:cNvPicPr/>
          <p:nvPr/>
        </p:nvPicPr>
        <p:blipFill>
          <a:blip r:embed="rId1"/>
          <a:stretch/>
        </p:blipFill>
        <p:spPr>
          <a:xfrm>
            <a:off x="5397480" y="1798560"/>
            <a:ext cx="3303720" cy="4318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Религиозный мате-риализм»: «правда о пло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: «три Зав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О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С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анар-хиз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Иванов Вяч (2 -  Юон)"/>
          <p:cNvPicPr/>
          <p:nvPr/>
        </p:nvPicPr>
        <p:blipFill>
          <a:blip r:embed="rId1"/>
          <a:stretch/>
        </p:blipFill>
        <p:spPr>
          <a:xfrm>
            <a:off x="5937120" y="1798560"/>
            <a:ext cx="2820960" cy="43210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2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как миропо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сение смысла в бессмысленный ми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ересоздание мирозд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Белый А (1-1)cr"/>
          <p:cNvPicPr/>
          <p:nvPr/>
        </p:nvPicPr>
        <p:blipFill>
          <a:blip r:embed="rId1"/>
          <a:stretch/>
        </p:blipFill>
        <p:spPr>
          <a:xfrm>
            <a:off x="5219640" y="1916280"/>
            <a:ext cx="3306960" cy="4319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Бердяев (1)"/>
          <p:cNvPicPr/>
          <p:nvPr/>
        </p:nvPicPr>
        <p:blipFill>
          <a:blip r:embed="rId1"/>
          <a:stretch/>
        </p:blipFill>
        <p:spPr>
          <a:xfrm>
            <a:off x="4678200" y="1438200"/>
            <a:ext cx="155448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4217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А. Бердяев. Фило-софская истина и ин-теллигентская прав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Н. Булгаков. Героизм и подвижн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О. Гершензон. Твор-ческое самосоз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С. Изгоев. Об интел-лигентной молодё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. А. Кистяковский. В защиту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 Б. Струве. Интелли-генция и револю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Л. Франк. Этика ниги-лиз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Булгаков СН (1)"/>
          <p:cNvPicPr/>
          <p:nvPr/>
        </p:nvPicPr>
        <p:blipFill>
          <a:blip r:embed="rId2"/>
          <a:stretch/>
        </p:blipFill>
        <p:spPr>
          <a:xfrm>
            <a:off x="7197840" y="1438200"/>
            <a:ext cx="1622160" cy="215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труве П (1)"/>
          <p:cNvPicPr/>
          <p:nvPr/>
        </p:nvPicPr>
        <p:blipFill>
          <a:blip r:embed="rId3"/>
          <a:stretch/>
        </p:blipFill>
        <p:spPr>
          <a:xfrm>
            <a:off x="7340760" y="4497480"/>
            <a:ext cx="147456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Франк СЛ (1)sep"/>
          <p:cNvPicPr/>
          <p:nvPr/>
        </p:nvPicPr>
        <p:blipFill>
          <a:blip r:embed="rId4"/>
          <a:stretch/>
        </p:blipFill>
        <p:spPr>
          <a:xfrm>
            <a:off x="4678200" y="4497480"/>
            <a:ext cx="129888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Гершензон (2)cr"/>
          <p:cNvPicPr/>
          <p:nvPr/>
        </p:nvPicPr>
        <p:blipFill>
          <a:blip r:embed="rId5"/>
          <a:stretch/>
        </p:blipFill>
        <p:spPr>
          <a:xfrm>
            <a:off x="5937120" y="2968560"/>
            <a:ext cx="1803600" cy="21607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09:59Z</dcterms:created>
  <dc:creator>Николай Бирюков / Nikolai Biryukov</dc:creator>
  <dc:description>Версия апреля 2004 г.</dc:description>
  <dc:language>en-US</dc:language>
  <cp:lastModifiedBy>LEGION</cp:lastModifiedBy>
  <dcterms:modified xsi:type="dcterms:W3CDTF">2014-11-11T10:14:33Z</dcterms:modified>
  <cp:revision>4</cp:revision>
  <dc:subject>История русской философии - Лекция 10</dc:subject>
  <dc:title>Религиозно-философский ренессанс</dc:title>
</cp:coreProperties>
</file>