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64AD-95E6-42C1-A6AD-5D336A8C85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лигиозно-философский ренессан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E29F-E59E-4D30-8923-962BDEF9D1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М. О. Гершензон (1869-192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ве главные цели «Вех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основание дела свобо-ды на религиозно-культур-ных началах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личение «идолов» ле-вой обще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Творческое самосозна-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абинетное резонё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уховный максим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ектантская нетерп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591F-27E2-4703-9A15-35EC46AB17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. А. Бердяев (1874-1948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Философская истина и интеллигентская прав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Кружковщ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Утилитарно-моральная устан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енебрежение истин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3BEE-DD78-4A30-8588-7529DE852F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. Н. Булгаков (1871-194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Героизм и подвижни-честв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уховная гордыня и нравственное смир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митивность фило-софско-исторических концепци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огматизм русской интеллиген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DF3A-8265-46FD-89F3-E11AF120DB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Б. А. Кистяковский (1868-192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В защиту пра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енебрежительное от-ношение к  формально-му праву как «низшей» сфере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2529-01F6-4674-8540-3AB2FD151B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. Б. Струве (1870-194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Интеллигенция и револю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авязчивая идея револю-ционного переворот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инный путь прогре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A231-4D31-4840-BA96-D36AEFD33F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. Л. Франк (1977-195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Этика нигилиз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игилистическая религия земного благополуч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Безнравственная идея «коллективной пользы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3B8E-B076-4C7A-990D-FAAD85A38E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Религиозно-философский ренессан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елигиозно-философские собрания и об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лигиозно-философские собрания (1901‑190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етербургское (Петроградское) религиозно-философ-ское общество (1907‑1917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осковское религиозно-философское общество памяти Владимира Соловьёва (1905‑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еятели религиозно-философского ренессан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. Розанов (1856-191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.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. Мережковский (1865-194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. Иванов (1866-194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ндрей Белый (1880-193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борник «Вехи» (19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. О. Гершензон (1869-192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. А. Бердяев (1874-194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. Н. Булгаков (1871-194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. А. Кистяковский (1868-192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. Б. Струве (1870-194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. Л. Франк (1977-195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0A9A-23D9-49D9-9387-73754DE401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елигиозно-философские собрания и общ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лигиозно-философские собрания (1901‑190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тербургское (Петроградское) религиозно-философское общество (1907‑1917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осковское религиозно-философское общество памяти Владимира Соловьёва (1905‑191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CD60-6AFE-4F5F-9CE5-1BCE8354EE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еятели религиозно-философского ренессанса (литератор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. Розанов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1856-191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.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. Мережковский (1865-194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. Иванов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1866-194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дрей Белый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1880-19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E4ED-C3C8-48D7-9C2F-3C9BEFA43B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. Розанов (1856-191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тропология («метафизика пол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ритика «исторического христиан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Христианство Вифлеема и христианство Голгоф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лигия Авраама и религия Хри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ософский пессим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еловек как сре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еловек как жер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DC4A-3116-4269-88BC-01452EC67B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Д.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. Мережковский (1865-194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Религиозный мате-риализм»: «правда о пло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ософия: «три Заве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вет От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вет Сы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вет Ду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лигиозный анар-хиз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2F53-DFD2-4369-A272-849A578A63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. Иванов (1866-194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ториософ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«Критическое» и «органи-ческое» нача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нтологическая природа творч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илософия искусс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интеграция куль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кусство как теург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деалистический и реа-листический символ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илософия религии: «дионисийств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5D0A-176A-4ADF-87CB-CF2CA5FB98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Андрей Белый (1880-193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имволизм как миропоним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несение смысла в бессмысленный мир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ересоздание мирозд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5CAB-F244-4A72-82D9-EE13D0C7F3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борник «Вехи» (1909)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. А. Бердяев. Фило-софская истина и ин-теллигентская прав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. Н. Булгаков. Героизм и подвижниче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О. Гершензон. Твор-ческое самосозн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. С. Изгоев. Об интел-лигентной молодёж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Б. А. Кистяковский. В защиту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. Б. Струве. Интелли-генция и револю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. Л. Франк. Этика ниги-лиз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5B98-CD2C-4E16-8AEB-9848097D8E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2696-4623-42B0-B045-111858FF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4F8-E4EB-4EAD-933F-0AE6DABC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A0B-2A21-4153-A1FC-A8305DC5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E75D-49F9-4374-B0EE-0B50DDD7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94B7-49D5-4DC9-84DF-BD2B1F65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A3D-005D-4FFE-843D-C73C7034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B1B5-BE0F-4366-855A-85DF8EB6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F40-E204-4043-B36E-82FD78E7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060-D39C-46A0-A818-D62F76C8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031-FB47-4D43-AF18-C3F6EFF2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9CB4-20A8-4B67-9790-A9857F2F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463-0E2C-4017-8764-5B4D0AAA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28B4-A463-4B9F-B96A-F0374F0A5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42600" y="2356920"/>
            <a:ext cx="755316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елигиозно-философский ренессанс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. О. Гершензон (1869-192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600200"/>
            <a:ext cx="51181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е главные цели «Вех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основание дела свобо-ды на религиозно-культур-ных начала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личение «идолов» ле-вой обществ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Творческое самосозна-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бинетное резонё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уховный максим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ктантская нетерп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Гершензон (1)"/>
          <p:cNvPicPr/>
          <p:nvPr/>
        </p:nvPicPr>
        <p:blipFill>
          <a:blip r:embed="rId1"/>
          <a:stretch/>
        </p:blipFill>
        <p:spPr>
          <a:xfrm>
            <a:off x="5649840" y="1798560"/>
            <a:ext cx="3065400" cy="43182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. А. Бердяев (1874-194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798560"/>
            <a:ext cx="511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Философская истина и интеллигентская прав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Кружковщ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тилитарно-моральная у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небрежение истин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Бердяев (6-5)"/>
          <p:cNvPicPr/>
          <p:nvPr/>
        </p:nvPicPr>
        <p:blipFill>
          <a:blip r:embed="rId1"/>
          <a:stretch/>
        </p:blipFill>
        <p:spPr>
          <a:xfrm>
            <a:off x="6297480" y="1798560"/>
            <a:ext cx="2159280" cy="4318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. Н. Булгаков (1871-194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6120" y="1798560"/>
            <a:ext cx="475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Героизм и подвижни-че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уховная гордыня и нравственное сми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итивность фило-софско-исторических концепц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гматизм русской интеллиген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Булгаков СН (2)"/>
          <p:cNvPicPr/>
          <p:nvPr/>
        </p:nvPicPr>
        <p:blipFill>
          <a:blip r:embed="rId1"/>
          <a:stretch/>
        </p:blipFill>
        <p:spPr>
          <a:xfrm>
            <a:off x="5651640" y="1798560"/>
            <a:ext cx="3073320" cy="4319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А. Кистяковский (1868-192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76120" y="179856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В защиту пра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небрежительное от-ношение к  формально-му праву как «низшей» сфер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Кистяковский (1-2)"/>
          <p:cNvPicPr/>
          <p:nvPr/>
        </p:nvPicPr>
        <p:blipFill>
          <a:blip r:embed="rId1"/>
          <a:stretch/>
        </p:blipFill>
        <p:spPr>
          <a:xfrm>
            <a:off x="5218200" y="1798560"/>
            <a:ext cx="3414600" cy="43182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. Б. Струве (1870-194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5760" y="1798560"/>
            <a:ext cx="493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нтеллигенция и революц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вязчивая идея револю-ционного переворо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инный путь прогре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труве П (1)"/>
          <p:cNvPicPr/>
          <p:nvPr/>
        </p:nvPicPr>
        <p:blipFill>
          <a:blip r:embed="rId1"/>
          <a:stretch/>
        </p:blipFill>
        <p:spPr>
          <a:xfrm>
            <a:off x="5757840" y="1798560"/>
            <a:ext cx="2951280" cy="43182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. Л. Франк (1977-195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5760" y="1798560"/>
            <a:ext cx="493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тика нигилиз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игилистическая религия земного благополуч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нравственная идея «коллективной пользы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Франк СЛ (1)"/>
          <p:cNvPicPr/>
          <p:nvPr/>
        </p:nvPicPr>
        <p:blipFill>
          <a:blip r:embed="rId1"/>
          <a:stretch/>
        </p:blipFill>
        <p:spPr>
          <a:xfrm>
            <a:off x="5937120" y="1798560"/>
            <a:ext cx="2595600" cy="4321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979640" y="1700280"/>
            <a:ext cx="503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¿ Вопросы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onf_gozzoli_triumph_of_st_thomas_aquinas_averrhoes"/>
          <p:cNvPicPr/>
          <p:nvPr/>
        </p:nvPicPr>
        <p:blipFill>
          <a:blip r:embed="rId1"/>
          <a:stretch/>
        </p:blipFill>
        <p:spPr>
          <a:xfrm>
            <a:off x="2340000" y="4005360"/>
            <a:ext cx="4524480" cy="14396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4840" y="91800"/>
            <a:ext cx="87343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лигиозно-философский ренессан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79280"/>
            <a:ext cx="8229600" cy="55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лигиозно-философские собрания и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лигиозно-философские собрания (1901‑190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тербургское (Петроградское) религиозно-философ-ское общество (1907‑1917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ое религиозно-философское общество памяти Владимира Соловьёва (1905‑19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ятели религиозно-философского ренесс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 Розанов (1856-19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 Мережковский (1865-194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. Иванов (1866-19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дрей Белый (1880-193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борник «Вехи» (19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О. Гершензон (1869-19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А. Бердяев (1874-19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 Н. Булгаков (1871-194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. А. Кистяковский (1868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 Б. Струве (1870-194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 Л. Франк (1977-19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лигиозно-философские собрания и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лигиозно-философские собрания (1901‑190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ербургское (Петроградское) религиозно-философское общество (1907‑191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сковское религиозно-философское общество памяти Владимира Соловьёва (1905‑191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ятели религиозно-философского ренессанса (литератор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5760" y="17985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. Розанов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56-19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. Мережковский (1865-194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. Иванов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66-194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дрей Белый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80-193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Мережковский (1)"/>
          <p:cNvPicPr/>
          <p:nvPr/>
        </p:nvPicPr>
        <p:blipFill>
          <a:blip r:embed="rId1"/>
          <a:stretch/>
        </p:blipFill>
        <p:spPr>
          <a:xfrm>
            <a:off x="6837480" y="1798560"/>
            <a:ext cx="1652400" cy="215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Белый А (1-1)cr"/>
          <p:cNvPicPr/>
          <p:nvPr/>
        </p:nvPicPr>
        <p:blipFill>
          <a:blip r:embed="rId2"/>
          <a:stretch/>
        </p:blipFill>
        <p:spPr>
          <a:xfrm>
            <a:off x="7016760" y="4317840"/>
            <a:ext cx="1652400" cy="215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Иванов Вяч (1)cr"/>
          <p:cNvPicPr/>
          <p:nvPr/>
        </p:nvPicPr>
        <p:blipFill>
          <a:blip r:embed="rId3"/>
          <a:stretch/>
        </p:blipFill>
        <p:spPr>
          <a:xfrm>
            <a:off x="5037120" y="4138560"/>
            <a:ext cx="1781280" cy="215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Розанов (3)sep-cr"/>
          <p:cNvPicPr/>
          <p:nvPr/>
        </p:nvPicPr>
        <p:blipFill>
          <a:blip r:embed="rId4"/>
          <a:stretch/>
        </p:blipFill>
        <p:spPr>
          <a:xfrm>
            <a:off x="4857840" y="1619280"/>
            <a:ext cx="1652400" cy="21589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 Розанов (1856-191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4840" y="1600200"/>
            <a:ext cx="57657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я («метафизика пола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«исторического христиан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ристианство Вифлеема и христианство Голгоф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лигия Авраама и религия Хр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ский песс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 как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 как жер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Розанов (7)"/>
          <p:cNvPicPr/>
          <p:nvPr/>
        </p:nvPicPr>
        <p:blipFill>
          <a:blip r:embed="rId1"/>
          <a:stretch/>
        </p:blipFill>
        <p:spPr>
          <a:xfrm>
            <a:off x="6297480" y="1798560"/>
            <a:ext cx="2486160" cy="4321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. Мережковский (1865-194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Мережковский (1)"/>
          <p:cNvPicPr/>
          <p:nvPr/>
        </p:nvPicPr>
        <p:blipFill>
          <a:blip r:embed="rId1"/>
          <a:stretch/>
        </p:blipFill>
        <p:spPr>
          <a:xfrm>
            <a:off x="5397480" y="1798560"/>
            <a:ext cx="3303720" cy="4318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Религиозный мате-риализм»: «правда о пло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: «три Заве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ет От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ет Сы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ет 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лигиозный анар-хиз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. Иванов (1866-194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181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Критическое» и «органи-ческое» 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ческая природа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кус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интеграция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усство как теу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алистический и реа-листический симв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религии: «дионисий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Иванов Вяч (2 -  Юон)"/>
          <p:cNvPicPr/>
          <p:nvPr/>
        </p:nvPicPr>
        <p:blipFill>
          <a:blip r:embed="rId1"/>
          <a:stretch/>
        </p:blipFill>
        <p:spPr>
          <a:xfrm>
            <a:off x="5937120" y="1798560"/>
            <a:ext cx="2820960" cy="432108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ндрей Белый (1880-193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5760" y="1798560"/>
            <a:ext cx="421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изм как миропоним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есение смысла в бессмысленный ми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Пересоздание мирозд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Белый А (1-1)cr"/>
          <p:cNvPicPr/>
          <p:nvPr/>
        </p:nvPicPr>
        <p:blipFill>
          <a:blip r:embed="rId1"/>
          <a:stretch/>
        </p:blipFill>
        <p:spPr>
          <a:xfrm>
            <a:off x="5219640" y="1916280"/>
            <a:ext cx="3306960" cy="43192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Бердяев (1)"/>
          <p:cNvPicPr/>
          <p:nvPr/>
        </p:nvPicPr>
        <p:blipFill>
          <a:blip r:embed="rId1"/>
          <a:stretch/>
        </p:blipFill>
        <p:spPr>
          <a:xfrm>
            <a:off x="4678200" y="1438200"/>
            <a:ext cx="1554480" cy="2160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борник «Вехи» (1909)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4840" y="1600200"/>
            <a:ext cx="42177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 А. Бердяев. Фило-софская истина и ин-теллигентская прав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 Н. Булгаков. Героизм и подвижнич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 О. Гершензон. Твор-ческое самосозн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 С. Изгоев. Об интел-лигентной молодёж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. А. Кистяковский. В защиту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 Б. Струве. Интелли-генция и револю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 Л. Франк. Этика ниги-лиз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Булгаков СН (1)"/>
          <p:cNvPicPr/>
          <p:nvPr/>
        </p:nvPicPr>
        <p:blipFill>
          <a:blip r:embed="rId2"/>
          <a:stretch/>
        </p:blipFill>
        <p:spPr>
          <a:xfrm>
            <a:off x="7197840" y="1438200"/>
            <a:ext cx="1622160" cy="215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Струве П (1)"/>
          <p:cNvPicPr/>
          <p:nvPr/>
        </p:nvPicPr>
        <p:blipFill>
          <a:blip r:embed="rId3"/>
          <a:stretch/>
        </p:blipFill>
        <p:spPr>
          <a:xfrm>
            <a:off x="7340760" y="4497480"/>
            <a:ext cx="1474560" cy="215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Франк СЛ (1)sep"/>
          <p:cNvPicPr/>
          <p:nvPr/>
        </p:nvPicPr>
        <p:blipFill>
          <a:blip r:embed="rId4"/>
          <a:stretch/>
        </p:blipFill>
        <p:spPr>
          <a:xfrm>
            <a:off x="4678200" y="4497480"/>
            <a:ext cx="1298880" cy="2162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Гершензон (2)cr"/>
          <p:cNvPicPr/>
          <p:nvPr/>
        </p:nvPicPr>
        <p:blipFill>
          <a:blip r:embed="rId5"/>
          <a:stretch/>
        </p:blipFill>
        <p:spPr>
          <a:xfrm>
            <a:off x="5937120" y="2968560"/>
            <a:ext cx="1803600" cy="216072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09:59Z</dcterms:created>
  <dc:creator>Николай Бирюков / Nikolai Biryukov</dc:creator>
  <dc:description>Версия апреля 2004 г.</dc:description>
  <dc:language>en-US</dc:language>
  <cp:lastModifiedBy>LEGION</cp:lastModifiedBy>
  <dcterms:modified xsi:type="dcterms:W3CDTF">2014-11-11T10:14:33Z</dcterms:modified>
  <cp:revision>4</cp:revision>
  <dc:subject>История русской философии - Лекция 10</dc:subject>
  <dc:title>Религиозно-философский ренессанс</dc:title>
</cp:coreProperties>
</file>