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6C83-55AB-4579-9B3E-E90B1AAF22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сестринство и медицина 19 век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сестринство и медицина 19 века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Петрович Пав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49—1936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Петрович Пав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49—193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Луи Пастера (1822-1895). Он является основателем научной микробиологии и иммунолог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открытиями Пастера являются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основание ферментационной природы молочно-кислого и винно-спиртового брож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здание вакцины против сибирской язвы (188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оздание антирабичной вакцины (против бешенст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Луи Пастера (1822-1895). Он является основателем научной микробиологии и иммунолог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и открытиями Пастера являются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основание ферментационной природы молочно-кислого и винно-спиртового брож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здание вакцины против сибирской язвы (188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оздание антирабичной вакцины (против бешенст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Луи Пастер (1822—189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уи Пастер (1822—189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для развития медицинской микробиологии имели открытия немецкого бактериолога Роберта Коха (1843-1910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его заслуг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крыл возбудителей туберкулеза (1882) и холеры (1883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становил общие принципы эпидемиологии инфекционных болезней (триада Коха)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нахождение микробов во всех случаях заболе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озможность получения чистой культуры микроб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озможность воссоздания болезни у животных через заражение культурой микроб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значение для развития медицинской микробиологии имели открытия немецкого бактериолога Роберта Коха (1843-1910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его заслуг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крыл возбудителей туберкулеза (1882) и холеры (1883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становил общие принципы эпидемиологии инфекционных болезней (триада Коха)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нахождение микробов во всех случаях заболе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возможность получения чистой культуры микроб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возможность воссоздания болезни у животных через заражение культурой микроб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оберт Кох (1843—191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оберт Кох (1843—191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жеский шарж на Р.Коха: професор Кох культивирует бактерии и гри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жеский шарж на Р.Коха: професор Кох культивирует бактерии и гриб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92 г. Д. Ивановский открыл вирусы, еще более мелкие частицы сравнительно с микробами, которые являются внуриклеточными паразитами и, как оказалось позже, причиной многих эпидемических болезней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92 г. Д. Ивановский открыл вирусы, еще более мелкие частицы сравнительно с микробами, которые являются внуриклеточными паразитами и, как оказалось позже, причиной многих эпидемических болезней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е Лаэннек (1781—1826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не Лаэннек (1781—182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етоскопы ХІХ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етоскопы ХІХ 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95 г. Конрад Рентген (1845–1923) 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Иван Пулюй (1845–1918), родом из Тернопольщины. Он получил первые снимки руки человека, но не зарегистрировал откры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895 г. Конрад Рентген (1845–1923) 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Иван Пулюй (1845–1918), родом из Тернопольщины. Он получил первые снимки руки человека, но не зарегистрировал открыти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нятия студентов анатомией в конце XIX 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ятия студентов анатомией в конце XIX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терапевтов второй половины XIX века следует вспомнить Сергея Бот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–1889). 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терапевтов второй половины XIX века следует вспомнить Сергея Бот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2–1889). 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Петрович Бот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—1889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гей Петрович Бот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2—188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обезболив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октября 1846 г. американский хирург В. Воррен за методикой врача В. Мортона, в присутствии численного врачебного собрания, впервые использовал эфир для удаления опухоли шеи. В 1847 г. английский хирург Дж. Симпсон впервые использовал хлороформ как обезболивающий средст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обезболива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октября 1846 г. американский хирург В. Воррен за методикой врача В. Мортона, в присутствии численного врачебного собрания, впервые использовал эфир для удаления опухоли шеи. В 1847 г. английский хирург Дж. Симпсон впервые использовал хлороформ как обезболивающий средст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с инфекцией в хирург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нац Земмельвейс 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глийский хирург Джозеф Листер (1827-1912) положил начало антисептике; он довел, что возбудителями нагноения являются низшие существа, которые находятся в воздухе (миазми), то есть микробы. Как меру предосторожности, он использовал карболовую кислоту (1865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рьба с инфекцией в хирург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нац Земмельвейс 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глийский хирург Джозеф Листер (1827-1912) положил начало антисептике; он довел, что возбудителями нагноения являются низшие существа, которые находятся в воздухе (миазми), то есть микробы. Как меру предосторожности, он использовал карболовую кислоту (1865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хирургов этой эпохи главное место занимает Николай Пирог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10–1881). Вместе с физиологом О. Филомафитским 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хирургов этой эпохи главное место занимает Николай Пирог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10–1881). Вместе с физиологом О. Филомафитским 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иколай Пирогов (1810–188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иколай Пирогов (1810–188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й половине XIX в. получает развитие экспериментальная гигиена, основоположником которой был немецкий врач Макс Петтенкофер (1818–190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разработал объективные методы гигиенической оценки воздуха, почвы, в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торой половине XIX в. получает развитие экспериментальная гигиена, основоположником которой был немецкий врач Макс Петтенкофер (1818–1901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разработал объективные методы гигиенической оценки воздуха, почвы, вод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лагодарю за вним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л Рокитанский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дольф Вирхов 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 патологи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л Рокитанский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дольф Вирхов 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 патологии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удольф Вирхов (1821—190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удольф Вирхов (1821—190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рансуа Мажанди (1783—185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рансуа Мажанди (1783—185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Сеченов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Сеченов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Михайлович Сеченов (1829—190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Михайлович Сеченов (1829—1905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Павлов (1849–1936) — 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условно- и безусловнорефлекторной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(primum phisiologorum mundi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Павлов (1849–1936) — 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условно- и безусловнорефлекторной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(primum phisiologorum mundi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B138-B7E8-44B5-A98E-F9AB9371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46E-FB31-4879-91BA-38F3074B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E2C-0FC0-4CBE-AB6A-57591980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70C-073E-464A-8611-1830A40E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9A9F-2E48-480E-A92A-941644C28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66C9-9486-4B3A-86E7-8557B7BB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A817-63AE-4290-906A-589B2D76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9DDF-F557-4389-8AF8-9336C84B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46BE-1093-4CC6-9199-F21B2A74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DB49-D090-45F7-A354-30F9DBEF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A989-5680-457E-A9B4-BB283B22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69A-D568-490B-8E4B-C4A67055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BB83-ADB7-43E5-9A34-504D6314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197E-993C-4C11-A272-48E4B5B8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1F0A-787D-4FA7-84C8-87FCCFDD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F86F-B3CD-4F47-8D51-B3C21218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2FFD-9C16-4A24-9750-DBE5BED8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57CA-C03C-45E6-A3A1-D40B090F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A139-0A1B-427F-B92F-4466CBC6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AB5-727D-470E-8CFE-84E0424B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2AA-1269-483D-A22D-892382E7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B9F-FB86-413A-92D9-26002D3F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003-F65A-496F-AC7E-60B33F12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C2F-92C8-401A-B207-DC84947F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C220-6CB5-4804-81B8-221B06083F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AE9D-1C5B-4DE8-B43B-1DBF95C2E7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9f"/>
              </a:gs>
              <a:gs pos="50000">
                <a:srgbClr val="76764a"/>
              </a:gs>
              <a:gs pos="100000">
                <a:srgbClr val="ffff9f"/>
              </a:gs>
            </a:gsLst>
            <a:lin ang="5400000"/>
          </a:gradFill>
          <a:ln w="9360">
            <a:solidFill>
              <a:srgbClr val="33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336600"/>
                </a:solidFill>
                <a:latin typeface="Arial"/>
              </a:rPr>
              <a:t>Медсестринство и медицина 19 века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ван Петрович Павлов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1849—1936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38440" y="404640"/>
            <a:ext cx="3743280" cy="54626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чало экспериментального периода в  развитии микробиологии связано с открытиями выдающегося французского ученого-химика и микробиолог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Луи Пастер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822-1895). Он является основателем научной микробиологии и иммунологии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ыми открытиями Пастера являются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Обоснование ферментационной природы молочно-кисл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винно-спиртового брожен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Открытие микробов (сам термин предложил французский хирург Седило) и обоснование идеи асептики (1878-1879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оздание вакцины против сибирской язвы (1881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оздани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нтирабич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акцины (против бешенства)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уи Пастер (1822—189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2514600" y="549360"/>
            <a:ext cx="3733920" cy="53085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ольшое значение для развития медицинской микробиологии имели открытия немецкого бактериолога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Роберта Кох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(1843-1910)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сновные его заслуги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1. Первым предложил метод выращивания чистых бактериологических культур на твердых питательных средах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 Открыл возбудителей туберкулеза (1882) и холеры (1883).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3. Установил общие принципы эпидемиологии инфекционных болезней (триада Коха):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) нахождение микробов во всех случаях заболевания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) возможность получения чистой культуры микроба;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) возможность воссоздания болезни у животных через заражение культурой микроба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Роберт Кох (1843—1910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28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3865680" cy="56577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791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ружеский шарж на Р.Коха: професор Кох культивирует бактерии и гриб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rcRect l="0" t="0" r="5884" b="0"/>
          <a:stretch/>
        </p:blipFill>
        <p:spPr>
          <a:xfrm>
            <a:off x="2344680" y="304920"/>
            <a:ext cx="4894200" cy="4952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5029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1892 г.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. Ивановский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ткрыл вирусы, еще более мелкие частицы сравнительно с микробами, которые являются внуриклеточны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разитами и, как оказалось позже, причиной многих эпидемических болезн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не Лаэннек (1781—182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3646440" cy="518328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етоскопы ХІХ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6116" r="0" b="0"/>
          <a:stretch/>
        </p:blipFill>
        <p:spPr>
          <a:xfrm>
            <a:off x="1143000" y="304920"/>
            <a:ext cx="7162920" cy="571500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 1895 г. 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Конрад Рентген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 (1845–1923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регистрировал открытие Х-лучей, названных впоследствии его именем. За несколько лет до Рентгена опыты с этими лучами проводил профессор Пражского университета украинец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Иван Пулюй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45–1918),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дом из Тернопольщины. Он получил первые снимки руки человека, но не зарегистрировал открыт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нятия студентов анатомией в конц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X 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00000" y="260280"/>
            <a:ext cx="7705800" cy="5488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реди терапевтов второй половины XIX века следует вспомнить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Сергея Боткина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32–1889)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описал клиническую картину ряда заболеваний, в частности инфекционный гепатит (болезнь Боткина), открыл несколько лабораторий и среди них - физиологическую, которой заведовал Иван Павлов, создал новое направление в терапии - экспериментальное - и заложил основы клинической фармакологи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5867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гей Петрович Боткин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1832—1889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554280" cy="519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2800" spc="-1" strike="noStrike">
                <a:solidFill>
                  <a:srgbClr val="000000"/>
                </a:solidFill>
                <a:latin typeface="Arial"/>
              </a:rPr>
              <a:t>Развитие обезболивания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6 октября 1846 г. американский хирург В. Воррен за методикой врача В.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ортона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в присутствии численного врачебного собрания, впервые использовал эфир для удаления опухоли шеи. В 1847 г. английский хирург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Дж. Симпсон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первые использовал хлороформ как обезболивающий средство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62784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Борьба с инфекцией в хирургии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Игнац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Земмельвей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18-1865) внедрил использование в акушерстве раствора хлорной извести для обеззараживания рук медперсонала и инструментари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йский хирург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жозеф Лис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27-1912) положил начало антисептике; он довел, что возбудителями нагноения являются низшие существа, которые находятся в воздухе (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иаз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то есть микробы. Как меру предосторожности, он использовал карболовую кислоту (1865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альнейшем развивается асептика, внедряется стерилизация инструментов, перевязочного материала, одежды персонала проточным паром и паром под высоким давление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реди хирургов этой эпохи главное место занимает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Николай Пирогов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10–1881).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месте с физиологом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О. Филомафитским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дал научное обоснование эфирного наркоза. Летом 1847 г. М. Пирогов испытал эфирный наркоз на поле боя. Он также разработал основы военно-полевой хирургии, предложил использование гипсовых повязок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638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Николай Пирогов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(1810–188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224160" cy="54007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612612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о второй половине XIX в. получает развитие экспериментальная гигиена, основоположником которой был немецкий врач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Макс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Петтенкоф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(1818–1901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н разработал объективные методы гигиенической оценки воздуха, почвы, во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FLO200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9900"/>
                </a:solidFill>
                <a:latin typeface="Arial"/>
              </a:rPr>
              <a:t>Благодарю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86728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Карл Рокитанский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1804-1878) издал “Основы патологической анатомии” и считал, что основной причиной болезни является нарушение состава жидкостей (соков) организма, а патологические изменения в органах и тканях - вторичные явления.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Рудольф Вирхов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1821-1902) -немецкий патологоанатом, изучал морфологические изменения в клетках при разных болезнях. Он считал, что “ненормальная деятельность” клеток является источником заболеваний, и на этой основе обосновал теорию целюляр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тологи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удольф Вирхов (1821—190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743280" cy="5483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ю физиологичных опытов содействовал выдающийся французский ученый Франсуа Мажанди (1783-1855). Он разработал и усовершенствовал технику вивисекции (на животных). Наиболее известны его труды из изучения нервной системы. В историю медицины он вошел как основатель утонченной хирургической методики и острого физиологичного опыта. 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019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рансуа Мажанди (1783—185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2843280" y="333360"/>
            <a:ext cx="3684600" cy="54608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Иван Сечен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(1829-1905) открыл явление центрального торможения (Сеченовское торможение). В труде “Рефлексы головного мозга” (1863) развил представление о рефлекторном характере психической деятельности, изучил рабочие движения человека, положил начало в России физиологии трудовых процессов, открыл карбгемоглобин, сформулировал (1889) закон растворимости газов в растворах солей (закон Сеченова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ван Михайлович Сеченов (1829—190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700360" y="0"/>
            <a:ext cx="3875040" cy="56912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solidFill>
            <a:srgbClr val="ffff9f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Иван Павло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1849–1936) —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ыдающийся российский физиолог. Он   разработал хирургический метод хронического эксперимента с наложением фистул, провел систематические наблюдения над деятельностью пищеварительных желез, усовершенствовал предложенный Ґайденґайном метод изолированного желудочка, провел классический опыт “мним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рмления”, в результате многолетних исследований опубликовал “Лекции о работе главных пищеварительных желез” (1897), в которых описал открытые им механизмы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словно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езусловнорефлектор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ции желез. За эти труды был удостоен Нобелевской премии в отрасли физиологии и медицины (1904). Создал учение об условных рефлексах и высшей нервной деятельности. Отличие людей и животных видел в наличии второй сигнальной системы - языка; еще в ранние годы открыл усилительный нерв сердца. И.П. Павлова считали “старейшиной” физиологов мир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(primum phisiologorum mund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9:17:45Z</dcterms:created>
  <dc:creator>1</dc:creator>
  <dc:description/>
  <dc:language>en-US</dc:language>
  <cp:lastModifiedBy>LEGION</cp:lastModifiedBy>
  <dcterms:modified xsi:type="dcterms:W3CDTF">2015-12-31T12:50:11Z</dcterms:modified>
  <cp:revision>42</cp:revision>
  <dc:subject/>
  <dc:title>Медсестринство и медицина 19 века</dc:title>
</cp:coreProperties>
</file>