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FC97-41CB-4C3A-9E09-9E7AEA372E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F56-67A9-438B-BF3D-7F4014EE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369-47D3-461F-8941-DF710D6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B60D-0ECC-44B7-8F70-86CAE346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01C-D556-4299-BEEE-B96563E4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8DFE-3C46-4505-ACBC-BCFA6E77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A1B3-025F-4D38-8824-8E5CE613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1CBB-1233-49DF-8170-C1CA556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EEC2-FA5B-4D04-9032-993330A1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08C2-567A-4A06-B99F-FF25E45B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5542-8DAD-4540-89B1-D6151A00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F0C2-EB6F-4A52-8161-C436D4BA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EC9-19B8-4ECF-B333-E6392682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9883-245E-48D2-A5C7-741700D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1603-6975-4505-9F6F-43EF02DB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76D5-BF10-4629-96B8-499C9D4C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F7AC-DA2D-4114-B070-AB4D0174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0B3E-9CFB-44D6-9E72-1A5BB56C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8EC-509B-4FCD-8EC7-94B5D9CD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531-97FB-4614-A76C-F26331D2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36B-8F2E-45BB-941B-2A6D2D0B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55BC-E507-4A70-8BFB-1E8736AD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649-9B47-4DE5-B2FA-F0A49E08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006-D4F5-4FFF-A27A-8B7EA547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AA8-22D0-48E0-847E-8767633F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360C-D798-4ED7-BDCD-FDB1E4231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8420-4D79-4FCA-9781-FD4CB7817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f"/>
              </a:gs>
              <a:gs pos="50000">
                <a:srgbClr val="76764a"/>
              </a:gs>
              <a:gs pos="100000">
                <a:srgbClr val="ffff9f"/>
              </a:gs>
            </a:gsLst>
            <a:lin ang="5400000"/>
          </a:gradFill>
          <a:ln w="936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6600"/>
                </a:solidFill>
                <a:latin typeface="Arial"/>
              </a:rPr>
              <a:t>Медсестринство и медицина 19 века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49—193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38440" y="404640"/>
            <a:ext cx="3743280" cy="54626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Луи Пастер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22-1895). Он является основателем научной микробиологии и иммунологии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инно-спиртового брож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здани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ирабич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кцины (против бешенства)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уи Пастер (1822—189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514600" y="549360"/>
            <a:ext cx="3733920" cy="5308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оберта Кох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43-1910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ерт Кох (1843—1910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8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865680" cy="56577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791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0" t="0" r="5884" b="0"/>
          <a:stretch/>
        </p:blipFill>
        <p:spPr>
          <a:xfrm>
            <a:off x="2344680" y="304920"/>
            <a:ext cx="4894200" cy="4952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5029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2 г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. Ивановский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крыл вирусы, еще более мелкие частицы сравнительно с микробами, которые являются внуриклеточ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разитами и, как оказалось позже, причиной многих эпидемических болезн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не Лаэннек (1781—182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646440" cy="5183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6116" r="0" b="0"/>
          <a:stretch/>
        </p:blipFill>
        <p:spPr>
          <a:xfrm>
            <a:off x="1143000" y="304920"/>
            <a:ext cx="716292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5 г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Конрад Рентген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1845–1923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Пулюй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45–1918)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дом из Тернопольщины. Он получил первые снимки руки человека, но не зарегистрировал откры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00000" y="260280"/>
            <a:ext cx="7705800" cy="5488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ергея Боткин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32–1889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32—1889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554280" cy="519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ортон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в присутствии численного врачебного собрания, впервые использовал эфир для удаления опухоли шеи. В 1847 г. английский хирург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ж. Симпсон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первые использовал хлороформ как обезболивающий средств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62784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Игнац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еммельвей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хирург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зеф Лис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7-1912) положил начало антисептике; он довел, что возбудителями нагноения являются низшие существа, которые находятся в воздухе (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аз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о есть микробы. Как меру предосторожности, он использовал карболовую кислоту (1865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иколай Пирогов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0–1881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месте с физиологом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О. Филомафитски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иколай Пирого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1810–188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224160" cy="5400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1261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ак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еттенкоф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8–1901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LO2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9900"/>
                </a:solidFill>
                <a:latin typeface="Arial"/>
              </a:rPr>
              <a:t>Благодарю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Карл Рокитански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Рудольф Вирхо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толог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дольф Вирхов (1821—190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743280" cy="5483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рансуа Мажанди (1783—185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684600" cy="54608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Сечен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700360" y="0"/>
            <a:ext cx="3875040" cy="5691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Иван Павло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1849–1936) —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лов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зусловнорефлектор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primum phisiologorum mund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9:17:45Z</dcterms:created>
  <dc:creator>1</dc:creator>
  <dc:description/>
  <dc:language>en-US</dc:language>
  <cp:lastModifiedBy>LEGION</cp:lastModifiedBy>
  <dcterms:modified xsi:type="dcterms:W3CDTF">2015-12-31T12:50:11Z</dcterms:modified>
  <cp:revision>42</cp:revision>
  <dc:subject/>
  <dc:title>Медсестринство и медицина 19 века</dc:title>
</cp:coreProperties>
</file>