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63319-67E8-467B-A0B0-0AD28BFA8D1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дсестринство и медицина 19 века.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дсестринство и медицина 19 века.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ван Петрович Павлов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1849—1936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ван Петрович Павлов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1849—1936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чало экспериментального периода в  развитии микробиологии связано с открытиями выдающегося французского ученого-химика и микробиолога Луи Пастера (1822-1895). Он является основателем научной микробиологии и иммунологии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ми открытиями Пастера являются: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Обоснование ферментационной природы молочно-кислого и винно-спиртового брожения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Открытие микробов (сам термин предложил французский хирург Седило) и обоснование идеи асептики (1878-1879)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Создание вакцины против сибирской язвы (1881)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Создание антирабичной вакцины (против бешенства)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чало экспериментального периода в  развитии микробиологии связано с открытиями выдающегося французского ученого-химика и микробиолога Луи Пастера (1822-1895). Он является основателем научной микробиологии и иммунологии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ми открытиями Пастера являются: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Обоснование ферментационной природы молочно-кислого и винно-спиртового брожения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Открытие микробов (сам термин предложил французский хирург Седило) и обоснование идеи асептики (1878-1879)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Создание вакцины против сибирской язвы (1881)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Создание антирабичной вакцины (против бешенства)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Луи Пастер (1822—1895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Луи Пастер (1822—1895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шое значение для развития медицинской микробиологии имели открытия немецкого бактериолога Роберта Коха (1843-1910)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его заслуги: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Первым предложил метод выращивания чистых бактериологических культур на твердых питательных средах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Открыл возбудителей туберкулеза (1882) и холеры (1883)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Установил общие принципы эпидемиологии инфекционных болезней (триада Коха):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нахождение микробов во всех случаях заболевания;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возможность получения чистой культуры микроба;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возможность воссоздания болезни у животных через заражение культурой микроба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ьшое значение для развития медицинской микробиологии имели открытия немецкого бактериолога Роберта Коха (1843-1910)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его заслуги: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Первым предложил метод выращивания чистых бактериологических культур на твердых питательных средах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Открыл возбудителей туберкулеза (1882) и холеры (1883)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Установил общие принципы эпидемиологии инфекционных болезней (триада Коха):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) нахождение микробов во всех случаях заболевания;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) возможность получения чистой культуры микроба;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) возможность воссоздания болезни у животных через заражение культурой микроба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Роберт Кох (1843—1910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Роберт Кох (1843—191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ружеский шарж на Р.Коха: професор Кох культивирует бактерии и грибы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ружеский шарж на Р.Коха: професор Кох культивирует бактерии и грибы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892 г. Д. Ивановский открыл вирусы, еще более мелкие частицы сравнительно с микробами, которые являются внуриклеточными паразитами и, как оказалось позже, причиной многих эпидемических болезней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1892 г. Д. Ивановский открыл вирусы, еще более мелкие частицы сравнительно с микробами, которые являются внуриклеточными паразитами и, как оказалось позже, причиной многих эпидемических болезней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Рене Лаэннек (1781—1826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Рене Лаэннек (1781—1826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тетоскопы ХІХ 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тетоскопы ХІХ 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895 г. Конрад Рентген (1845–1923) зарегистрировал открытие Х-лучей, названных впоследствии его именем. За несколько лет до Рентгена опыты с этими лучами проводил профессор Пражского университета украинец Иван Пулюй (1845–1918), родом из Тернопольщины. Он получил первые снимки руки человека, но не зарегистрировал открытия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1895 г. Конрад Рентген (1845–1923) зарегистрировал открытие Х-лучей, названных впоследствии его именем. За несколько лет до Рентгена опыты с этими лучами проводил профессор Пражского университета украинец Иван Пулюй (1845–1918), родом из Тернопольщины. Он получил первые снимки руки человека, но не зарегистрировал открытия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нятия студентов анатомией в конце XIX 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нятия студентов анатомией в конце XIX 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и терапевтов второй половины XIX века следует вспомнить Сергея Боткин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1832–1889). Он описал клиническую картину ряда заболеваний, в частности инфекционный гепатит (болезнь Боткина), открыл несколько лабораторий и среди них - физиологическую, которой заведовал Иван Павлов, создал новое направление в терапии - экспериментальное - и заложил основы клинической фармакологии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еди терапевтов второй половины XIX века следует вспомнить Сергея Боткин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1832–1889). Он описал клиническую картину ряда заболеваний, в частности инфекционный гепатит (болезнь Боткина), открыл несколько лабораторий и среди них - физиологическую, которой заведовал Иван Павлов, создал новое направление в терапии - экспериментальное - и заложил основы клинической фармакологии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ргей Петрович Боткин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1832—1889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ргей Петрович Боткин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1832—1889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е обезболивания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6 октября 1846 г. американский хирург В. Воррен за методикой врача В. Мортона, в присутствии численного врачебного собрания, впервые использовал эфир для удаления опухоли шеи. В 1847 г. английский хирург Дж. Симпсон впервые использовал хлороформ как обезболивающий средство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обезболивания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6 октября 1846 г. американский хирург В. Воррен за методикой врача В. Мортона, в присутствии численного врачебного собрания, впервые использовал эфир для удаления опухоли шеи. В 1847 г. английский хирург Дж. Симпсон впервые использовал хлороформ как обезболивающий средство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рьба с инфекцией в хирургии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гнац Земмельвейс (1818-1865) внедрил использование в акушерстве раствора хлорной извести для обеззараживания рук медперсонала и инструментария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глийский хирург Джозеф Листер (1827-1912) положил начало антисептике; он довел, что возбудителями нагноения являются низшие существа, которые находятся в воздухе (миазми), то есть микробы. Как меру предосторожности, он использовал карболовую кислоту (1865)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дальнейшем развивается асептика, внедряется стерилизация инструментов, перевязочного материала, одежды персонала проточным паром и паром под высоким давлением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рьба с инфекцией в хирургии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гнац Земмельвейс (1818-1865) внедрил использование в акушерстве раствора хлорной извести для обеззараживания рук медперсонала и инструментария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глийский хирург Джозеф Листер (1827-1912) положил начало антисептике; он довел, что возбудителями нагноения являются низшие существа, которые находятся в воздухе (миазми), то есть микробы. Как меру предосторожности, он использовал карболовую кислоту (1865)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дальнейшем развивается асептика, внедряется стерилизация инструментов, перевязочного материала, одежды персонала проточным паром и паром под высоким давлением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и хирургов этой эпохи главное место занимает Николай Пирогов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1810–1881). Вместе с физиологом О. Филомафитским он дал научное обоснование эфирного наркоза. Летом 1847 г. М. Пирогов испытал эфирный наркоз на поле боя. Он также разработал основы военно-полевой хирургии, предложил использование гипсовых повязок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еди хирургов этой эпохи главное место занимает Николай Пирогов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1810–1881). Вместе с физиологом О. Филомафитским он дал научное обоснование эфирного наркоза. Летом 1847 г. М. Пирогов испытал эфирный наркоз на поле боя. Он также разработал основы военно-полевой хирургии, предложил использование гипсовых повязок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Николай Пирогов (1810–1881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Николай Пирогов (1810–1881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 второй половине XIX в. получает развитие экспериментальная гигиена, основоположником которой был немецкий врач Макс Петтенкофер (1818–1901)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 разработал объективные методы гигиенической оценки воздуха, почвы, воды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 второй половине XIX в. получает развитие экспериментальная гигиена, основоположником которой был немецкий врач Макс Петтенкофер (1818–1901)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н разработал объективные методы гигиенической оценки воздуха, почвы, воды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Благодарю за внимание 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Благодарю за внимание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рл Рокитанский (1804-1878) издал “Основы патологической анатомии” и считал, что основной причиной болезни является нарушение состава жидкостей (соков) организма, а патологические изменения в органах и тканях - вторичные явления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дольф Вирхов (1821-1902) -немецкий патологоанатом, изучал морфологические изменения в клетках при разных болезнях. Он считал, что “ненормальная деятельность” клеток является источником заболеваний, и на этой основе обосновал теорию целюлярной патологии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рл Рокитанский (1804-1878) издал “Основы патологической анатомии” и считал, что основной причиной болезни является нарушение состава жидкостей (соков) организма, а патологические изменения в органах и тканях - вторичные явления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удольф Вирхов (1821-1902) -немецкий патологоанатом, изучал морфологические изменения в клетках при разных болезнях. Он считал, что “ненормальная деятельность” клеток является источником заболеваний, и на этой основе обосновал теорию целюлярной патологии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Рудольф Вирхов (1821—1902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Рудольф Вирхов (1821—1902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ю физиологичных опытов содействовал выдающийся французский ученый Франсуа Мажанди (1783-1855). Он разработал и усовершенствовал технику вивисекции (на животных). Наиболее известны его труды из изучения нервной системы. В историю медицины он вошел как основатель утонченной хирургической методики и острого физиологичного опыта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ю физиологичных опытов содействовал выдающийся французский ученый Франсуа Мажанди (1783-1855). Он разработал и усовершенствовал технику вивисекции (на животных). Наиболее известны его труды из изучения нервной системы. В историю медицины он вошел как основатель утонченной хирургической методики и острого физиологичного опыта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Франсуа Мажанди (1783—1855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Франсуа Мажанди (1783—1855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ван Сеченов (1829-1905) открыл явление центрального торможения (Сеченовское торможение). В труде “Рефлексы головного мозга” (1863) развил представление о рефлекторном характере психической деятельности, изучил рабочие движения человека, положил начало в России физиологии трудовых процессов, открыл карбгемоглобин, сформулировал (1889) закон растворимости газов в растворах солей (закон Сеченова)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ван Сеченов (1829-1905) открыл явление центрального торможения (Сеченовское торможение). В труде “Рефлексы головного мозга” (1863) развил представление о рефлекторном характере психической деятельности, изучил рабочие движения человека, положил начало в России физиологии трудовых процессов, открыл карбгемоглобин, сформулировал (1889) закон растворимости газов в растворах солей (закон Сеченова)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ван Михайлович Сеченов (1829—1905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ван Михайлович Сеченов (1829—1905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ван Павлов (1849–1936) — выдающийся российский физиолог. Он   разработал хирургический метод хронического эксперимента с наложением фистул, провел систематические наблюдения над деятельностью пищеварительных желез, усовершенствовал предложенный Ґайденґайном метод изолированного желудочка, провел классический опыт “мнимого кормления”, в результате многолетних исследований опубликовал “Лекции о работе главных пищеварительных желез” (1897), в которых описал открытые им механизмы условно- и безусловнорефлекторной регуляции желез. За эти труды был удостоен Нобелевской премии в отрасли физиологии и медицины (1904). Создал учение об условных рефлексах и высшей нервной деятельности. Отличие людей и животных видел в наличии второй сигнальной системы - языка; еще в ранние годы открыл усилительный нерв сердца. И.П. Павлова считали “старейшиной” физиологов мира (primum phisiologorum mundi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ван Павлов (1849–1936) — выдающийся российский физиолог. Он   разработал хирургический метод хронического эксперимента с наложением фистул, провел систематические наблюдения над деятельностью пищеварительных желез, усовершенствовал предложенный Ґайденґайном метод изолированного желудочка, провел классический опыт “мнимого кормления”, в результате многолетних исследований опубликовал “Лекции о работе главных пищеварительных желез” (1897), в которых описал открытые им механизмы условно- и безусловнорефлекторной регуляции желез. За эти труды был удостоен Нобелевской премии в отрасли физиологии и медицины (1904). Создал учение об условных рефлексах и высшей нервной деятельности. Отличие людей и животных видел в наличии второй сигнальной системы - языка; еще в ранние годы открыл усилительный нерв сердца. И.П. Павлова считали “старейшиной” физиологов мира (primum phisiologorum mundi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85B2-5504-4E3C-9D3A-78D86852C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C51B-703D-43FD-80ED-EC02F6F6E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B2E5-426E-4C6D-8E21-1FEEC9109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DB2E-5278-404E-9C30-DE32F427C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7F0D7-E3D4-4B8F-82C5-32ADAF3A1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9630E-ECCC-4367-90E3-DB24128C9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3C429-6D86-408C-8111-C2330F8DD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05B81-84B6-4BB4-B5E0-081606699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B4160-D6E1-42B3-B768-B63A0325C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AE181-7902-4075-83CE-5BDE2E202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B5856-F8B1-4E79-84CB-48C518A88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1797-0C83-46F6-BB66-A3CC20B10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E4928-1136-4010-BFA9-D4D1D8CA3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D9FF4-AC67-40CB-BC87-D344A155D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ABAA6-C0D6-490B-9D4E-FD987B297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6C6DC-5FA0-4729-A973-1B9F611E8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187AD-88F3-4E48-B189-2E01FF685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4F4D-B8B1-4286-8B0C-C0ADE5B91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F6B1-0C31-4A3A-95B5-FAE34BECC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2012-8119-452A-BA24-14CD350AC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1823-4017-4554-8153-05E2E6663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69FE-AA24-457F-BB65-BA584BF9D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401E-BA00-49F1-8156-9F6F9C911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365A-8601-442B-A2E8-A4CB2A752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9343E-B8A6-4669-A7EC-F37C9BD333D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83995-4A3E-4F29-954F-652FB0B39FF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9f"/>
              </a:gs>
              <a:gs pos="50000">
                <a:srgbClr val="76764a"/>
              </a:gs>
              <a:gs pos="100000">
                <a:srgbClr val="ffff9f"/>
              </a:gs>
            </a:gsLst>
            <a:lin ang="5400000"/>
          </a:gradFill>
          <a:ln w="9360">
            <a:solidFill>
              <a:srgbClr val="3366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336600"/>
                </a:solidFill>
                <a:latin typeface="Arial"/>
              </a:rPr>
              <a:t>Медсестринство и медицина 19 века.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360" y="5867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Иван Петрович Павлов 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(1849—1936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1"/>
          <a:stretch/>
        </p:blipFill>
        <p:spPr>
          <a:xfrm>
            <a:off x="2638440" y="404640"/>
            <a:ext cx="3743280" cy="5462640"/>
          </a:xfrm>
          <a:prstGeom prst="rect">
            <a:avLst/>
          </a:prstGeom>
          <a:ln w="0">
            <a:noFill/>
          </a:ln>
        </p:spPr>
      </p:pic>
      <p:sp>
        <p:nvSpPr>
          <p:cNvPr id="1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73840"/>
          </a:xfrm>
          <a:prstGeom prst="rect">
            <a:avLst/>
          </a:prstGeom>
          <a:solidFill>
            <a:srgbClr val="ffff9f"/>
          </a:solidFill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Начало экспериментального периода в  развитии микробиологии связано с открытиями выдающегося французского ученого-химика и микробиолога </a:t>
            </a: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Луи Пастера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(1822-1895). Он является основателем научной микробиологии и иммунологии. 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Основными открытиями Пастера являются: 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1. Обоснование ферментационной природы молочно-кислог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винно-спиртового брожения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Открытие микробов (сам термин предложил французский хирург Седило) и обоснование идеи асептики (1878-1879)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Создание вакцины против сибирской язвы (1881)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Создание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антирабично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акцины (против бешенства).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9528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Луи Пастер (1822—1895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2514600" y="549360"/>
            <a:ext cx="3733920" cy="5308560"/>
          </a:xfrm>
          <a:prstGeom prst="rect">
            <a:avLst/>
          </a:prstGeom>
          <a:ln w="0">
            <a:noFill/>
          </a:ln>
        </p:spPr>
      </p:pic>
      <p:sp>
        <p:nvSpPr>
          <p:cNvPr id="1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745240"/>
          </a:xfrm>
          <a:prstGeom prst="rect">
            <a:avLst/>
          </a:prstGeom>
          <a:solidFill>
            <a:srgbClr val="ffff9f"/>
          </a:solidFill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Большое значение для развития медицинской микробиологии имели открытия немецкого бактериолога </a:t>
            </a: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Роберта Коха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(1843-1910). 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Основные его заслуги: 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1. Первым предложил метод выращивания чистых бактериологических культур на твердых питательных средах. 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2. Открыл возбудителей туберкулеза (1882) и холеры (1883). 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3. Установил общие принципы эпидемиологии инфекционных болезней (триада Коха): 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а) нахождение микробов во всех случаях заболевания; 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б) возможность получения чистой культуры микроба; 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) возможность воссоздания болезни у животных через заражение культурой микроба.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Роберт Кох (1843—1910)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1028" descr=""/>
          <p:cNvPicPr/>
          <p:nvPr/>
        </p:nvPicPr>
        <p:blipFill>
          <a:blip r:embed="rId1"/>
          <a:stretch/>
        </p:blipFill>
        <p:spPr>
          <a:xfrm>
            <a:off x="2484360" y="260280"/>
            <a:ext cx="3865680" cy="5657760"/>
          </a:xfrm>
          <a:prstGeom prst="rect">
            <a:avLst/>
          </a:prstGeom>
          <a:ln w="0">
            <a:noFill/>
          </a:ln>
        </p:spPr>
      </p:pic>
      <p:sp>
        <p:nvSpPr>
          <p:cNvPr id="1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5791320"/>
            <a:ext cx="8686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Дружеский шарж на Р.Коха: професор Кох культивирует бактерии и грибы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1"/>
          <a:srcRect l="0" t="0" r="5884" b="0"/>
          <a:stretch/>
        </p:blipFill>
        <p:spPr>
          <a:xfrm>
            <a:off x="2344680" y="304920"/>
            <a:ext cx="4894200" cy="4952880"/>
          </a:xfrm>
          <a:prstGeom prst="rect">
            <a:avLst/>
          </a:prstGeom>
          <a:ln w="0">
            <a:noFill/>
          </a:ln>
        </p:spPr>
      </p:pic>
      <p:sp>
        <p:nvSpPr>
          <p:cNvPr id="1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838080"/>
            <a:ext cx="8229600" cy="5029200"/>
          </a:xfrm>
          <a:prstGeom prst="rect">
            <a:avLst/>
          </a:prstGeom>
          <a:solidFill>
            <a:srgbClr val="ffff9f"/>
          </a:solidFill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В 1892 г. </a:t>
            </a:r>
            <a:r>
              <a:rPr b="0" i="1" lang="uk-UA" sz="2800" spc="-1" strike="noStrike">
                <a:solidFill>
                  <a:srgbClr val="000000"/>
                </a:solidFill>
                <a:latin typeface="Arial"/>
              </a:rPr>
              <a:t>Д. Ивановский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открыл вирусы, еще более мелкие частицы сравнительно с микробами, которые являются внуриклеточным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аразитами и, как оказалось позже, причиной многих эпидемических болезней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360" y="586728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Рене Лаэннек (1781—1826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4" descr=""/>
          <p:cNvPicPr/>
          <p:nvPr/>
        </p:nvPicPr>
        <p:blipFill>
          <a:blip r:embed="rId1"/>
          <a:stretch/>
        </p:blipFill>
        <p:spPr>
          <a:xfrm>
            <a:off x="2627280" y="333360"/>
            <a:ext cx="3646440" cy="5183280"/>
          </a:xfrm>
          <a:prstGeom prst="rect">
            <a:avLst/>
          </a:prstGeom>
          <a:ln w="0">
            <a:noFill/>
          </a:ln>
        </p:spPr>
      </p:pic>
      <p:sp>
        <p:nvSpPr>
          <p:cNvPr id="1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6095880"/>
            <a:ext cx="83059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тетоскопы ХІХ ве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4" descr=""/>
          <p:cNvPicPr/>
          <p:nvPr/>
        </p:nvPicPr>
        <p:blipFill>
          <a:blip r:embed="rId1"/>
          <a:srcRect l="0" t="6116" r="0" b="0"/>
          <a:stretch/>
        </p:blipFill>
        <p:spPr>
          <a:xfrm>
            <a:off x="1143000" y="304920"/>
            <a:ext cx="7162920" cy="5715000"/>
          </a:xfrm>
          <a:prstGeom prst="rect">
            <a:avLst/>
          </a:prstGeom>
          <a:ln w="0">
            <a:noFill/>
          </a:ln>
        </p:spPr>
      </p:pic>
      <p:sp>
        <p:nvSpPr>
          <p:cNvPr id="1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288040"/>
          </a:xfrm>
          <a:prstGeom prst="rect">
            <a:avLst/>
          </a:prstGeom>
          <a:solidFill>
            <a:srgbClr val="ffff9f"/>
          </a:solidFill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В 1895 г. </a:t>
            </a:r>
            <a:r>
              <a:rPr b="0" i="1" lang="uk-UA" sz="2800" spc="-1" strike="noStrike">
                <a:solidFill>
                  <a:srgbClr val="000000"/>
                </a:solidFill>
                <a:latin typeface="Times New Roman"/>
              </a:rPr>
              <a:t>Конрад Рентген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(1845–1923)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зарегистрировал открытие Х-лучей, названных впоследствии его именем. За несколько лет до Рентгена опыты с этими лучами проводил профессор Пражского университета украинец </a:t>
            </a:r>
            <a:r>
              <a:rPr b="0" i="1" lang="uk-UA" sz="2800" spc="-1" strike="noStrike">
                <a:solidFill>
                  <a:srgbClr val="000000"/>
                </a:solidFill>
                <a:latin typeface="Arial"/>
              </a:rPr>
              <a:t>Иван Пулюй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(1845–1918),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родом из Тернопольщины. Он получил первые снимки руки человека, но не зарегистрировал открытия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Занятия студентов анатомией в конц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IX в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900000" y="260280"/>
            <a:ext cx="7705800" cy="5488200"/>
          </a:xfrm>
          <a:prstGeom prst="rect">
            <a:avLst/>
          </a:prstGeom>
          <a:ln w="0">
            <a:noFill/>
          </a:ln>
        </p:spPr>
      </p:pic>
      <p:sp>
        <p:nvSpPr>
          <p:cNvPr id="1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440320"/>
          </a:xfrm>
          <a:prstGeom prst="rect">
            <a:avLst/>
          </a:prstGeom>
          <a:solidFill>
            <a:srgbClr val="ffff9f"/>
          </a:solidFill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реди терапевтов второй половины XIX века следует вспомнить </a:t>
            </a:r>
            <a:r>
              <a:rPr b="0" i="1" lang="uk-UA" sz="2800" spc="-1" strike="noStrike">
                <a:solidFill>
                  <a:srgbClr val="000000"/>
                </a:solidFill>
                <a:latin typeface="Arial"/>
              </a:rPr>
              <a:t>Сергея Боткина </a:t>
            </a:r>
            <a:br>
              <a:rPr sz="2800"/>
            </a:b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(1832–1889).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Он описал клиническую картину ряда заболеваний, в частности инфекционный гепатит (болезнь Боткина), открыл несколько лабораторий и среди них - физиологическую, которой заведовал Иван Павлов, создал новое направление в терапии - экспериментальное - и заложил основы клинической фармакологии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360" y="5867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ергей Петрович Боткин 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(1832—1889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4" descr=""/>
          <p:cNvPicPr/>
          <p:nvPr/>
        </p:nvPicPr>
        <p:blipFill>
          <a:blip r:embed="rId1"/>
          <a:stretch/>
        </p:blipFill>
        <p:spPr>
          <a:xfrm>
            <a:off x="2627280" y="404640"/>
            <a:ext cx="3554280" cy="5191200"/>
          </a:xfrm>
          <a:prstGeom prst="rect">
            <a:avLst/>
          </a:prstGeom>
          <a:ln w="0">
            <a:noFill/>
          </a:ln>
        </p:spPr>
      </p:pic>
      <p:sp>
        <p:nvSpPr>
          <p:cNvPr id="1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592600"/>
          </a:xfrm>
          <a:prstGeom prst="rect">
            <a:avLst/>
          </a:prstGeom>
          <a:solidFill>
            <a:srgbClr val="ffff9f"/>
          </a:solidFill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uk-UA" sz="2800" spc="-1" strike="noStrike">
                <a:solidFill>
                  <a:srgbClr val="000000"/>
                </a:solidFill>
                <a:latin typeface="Arial"/>
              </a:rPr>
              <a:t>Развитие обезболивания.</a:t>
            </a:r>
            <a:br>
              <a:rPr sz="2800"/>
            </a:b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16 октября 1846 г. американский хирург В. Воррен за методикой врача В. </a:t>
            </a:r>
            <a:r>
              <a:rPr b="0" i="1" lang="uk-UA" sz="2800" spc="-1" strike="noStrike">
                <a:solidFill>
                  <a:srgbClr val="000000"/>
                </a:solidFill>
                <a:latin typeface="Arial"/>
              </a:rPr>
              <a:t>Мортона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, в присутствии численного врачебного собрания, впервые использовал эфир для удаления опухоли шеи. В 1847 г. английский хирург </a:t>
            </a:r>
            <a:r>
              <a:rPr b="0" i="1" lang="uk-UA" sz="2800" spc="-1" strike="noStrike">
                <a:solidFill>
                  <a:srgbClr val="000000"/>
                </a:solidFill>
                <a:latin typeface="Arial"/>
              </a:rPr>
              <a:t>Дж. Симпсон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впервые использовал хлороформ как обезболивающий средство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381880" cy="6278400"/>
          </a:xfrm>
          <a:prstGeom prst="rect">
            <a:avLst/>
          </a:prstGeom>
          <a:solidFill>
            <a:srgbClr val="ffff9f"/>
          </a:solidFill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uk-UA" sz="2400" spc="-1" strike="noStrike">
                <a:solidFill>
                  <a:srgbClr val="000000"/>
                </a:solidFill>
                <a:latin typeface="Arial"/>
              </a:rPr>
              <a:t>Борьба с инфекцией в хирургии</a:t>
            </a:r>
            <a:br>
              <a:rPr sz="2400"/>
            </a:b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Игнац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Земмельвейс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1818-1865) внедрил использование в акушерстве раствора хлорной извести для обеззараживания рук медперсонала и инструментария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глийский хирург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Джозеф Листе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1827-1912) положил начало антисептике; он довел, что возбудителями нагноения являются низшие существа, которые находятся в воздухе (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миаз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, то есть микробы. Как меру предосторожности, он использовал карболовую кислоту (1865)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дальнейшем развивается асептика, внедряется стерилизация инструментов, перевязочного материала, одежды персонала проточным паром и паром под высоким давлением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1200"/>
          </a:xfrm>
          <a:prstGeom prst="rect">
            <a:avLst/>
          </a:prstGeom>
          <a:solidFill>
            <a:srgbClr val="ffff9f"/>
          </a:solidFill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реди хирургов этой эпохи главное место занимает </a:t>
            </a:r>
            <a:r>
              <a:rPr b="0" i="1" lang="uk-UA" sz="2800" spc="-1" strike="noStrike">
                <a:solidFill>
                  <a:srgbClr val="000000"/>
                </a:solidFill>
                <a:latin typeface="Arial"/>
              </a:rPr>
              <a:t>Николай Пирогов </a:t>
            </a:r>
            <a:br>
              <a:rPr sz="2800"/>
            </a:b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(1810–1881).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Вместе с физиологом </a:t>
            </a:r>
            <a:r>
              <a:rPr b="0" i="1" lang="uk-UA" sz="2800" spc="-1" strike="noStrike">
                <a:solidFill>
                  <a:srgbClr val="000000"/>
                </a:solidFill>
                <a:latin typeface="Arial"/>
              </a:rPr>
              <a:t>О. Филомафитским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он дал научное обоснование эфирного наркоза. Летом 1847 г. М. Пирогов испытал эфирный наркоз на поле боя. Он также разработал основы военно-полевой хирургии, предложил использование гипсовых повязок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56383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Times New Roman"/>
              </a:rPr>
              <a:t>Николай Пирогов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(1810–1881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3" descr=""/>
          <p:cNvPicPr/>
          <p:nvPr/>
        </p:nvPicPr>
        <p:blipFill>
          <a:blip r:embed="rId1"/>
          <a:stretch/>
        </p:blipFill>
        <p:spPr>
          <a:xfrm>
            <a:off x="2971800" y="228600"/>
            <a:ext cx="3224160" cy="5400720"/>
          </a:xfrm>
          <a:prstGeom prst="rect">
            <a:avLst/>
          </a:prstGeom>
          <a:ln w="0">
            <a:noFill/>
          </a:ln>
        </p:spPr>
      </p:pic>
      <p:sp>
        <p:nvSpPr>
          <p:cNvPr id="1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075520" cy="6126120"/>
          </a:xfrm>
          <a:prstGeom prst="rect">
            <a:avLst/>
          </a:prstGeom>
          <a:solidFill>
            <a:srgbClr val="ffff9f"/>
          </a:solidFill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Во второй половине XIX в. получает развитие экспериментальная гигиена, основоположником которой был немецкий врач </a:t>
            </a:r>
            <a:r>
              <a:rPr b="0" i="1" lang="uk-UA" sz="2800" spc="-1" strike="noStrike">
                <a:solidFill>
                  <a:srgbClr val="000000"/>
                </a:solidFill>
                <a:latin typeface="Arial"/>
              </a:rPr>
              <a:t>Макс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uk-UA" sz="2800" spc="-1" strike="noStrike">
                <a:solidFill>
                  <a:srgbClr val="000000"/>
                </a:solidFill>
                <a:latin typeface="Arial"/>
              </a:rPr>
              <a:t>Петтенкофе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(1818–1901)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Он разработал объективные методы гигиенической оценки воздуха, почвы, воды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FLO2007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ff9900"/>
                </a:solidFill>
                <a:latin typeface="Arial"/>
              </a:rPr>
              <a:t>Благодарю за внимание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5867280"/>
          </a:xfrm>
          <a:prstGeom prst="rect">
            <a:avLst/>
          </a:prstGeom>
          <a:solidFill>
            <a:srgbClr val="ffff9f"/>
          </a:solidFill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br>
              <a:rPr sz="4400"/>
            </a:br>
            <a:r>
              <a:rPr b="0" i="1" lang="uk-UA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uk-UA" sz="2800" spc="-1" strike="noStrike">
                <a:solidFill>
                  <a:srgbClr val="000000"/>
                </a:solidFill>
                <a:latin typeface="Arial"/>
              </a:rPr>
              <a:t>Карл Рокитанский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(1804-1878) издал “Основы патологической анатомии” и считал, что основной причиной болезни является нарушение состава жидкостей (соков) организма, а патологические изменения в органах и тканях - вторичные явления. </a:t>
            </a:r>
            <a:br>
              <a:rPr sz="2800"/>
            </a:b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uk-UA" sz="2800" spc="-1" strike="noStrike">
                <a:solidFill>
                  <a:srgbClr val="000000"/>
                </a:solidFill>
                <a:latin typeface="Arial"/>
              </a:rPr>
              <a:t>Рудольф Вирхов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(1821-1902) -немецкий патологоанатом, изучал морфологические изменения в клетках при разных болезнях. Он считал, что “ненормальная деятельность” клеток является источником заболеваний, и на этой основе обосновал теорию целюлярно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атологии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Рудольф Вирхов (1821—1902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2627280" y="404640"/>
            <a:ext cx="3743280" cy="5483520"/>
          </a:xfrm>
          <a:prstGeom prst="rect">
            <a:avLst/>
          </a:prstGeom>
          <a:ln w="0">
            <a:noFill/>
          </a:ln>
        </p:spPr>
      </p:pic>
      <p:sp>
        <p:nvSpPr>
          <p:cNvPr id="1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592600"/>
          </a:xfrm>
          <a:prstGeom prst="rect">
            <a:avLst/>
          </a:prstGeom>
          <a:solidFill>
            <a:srgbClr val="ffff9f"/>
          </a:solidFill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28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витию физиологичных опытов содействовал выдающийся французский ученый Франсуа Мажанди (1783-1855). Он разработал и усовершенствовал технику вивисекции (на животных). Наиболее известны его труды из изучения нервной системы. В историю медицины он вошел как основатель утонченной хирургической методики и острого физиологичного опыта. </a:t>
            </a:r>
            <a:br>
              <a:rPr sz="4000"/>
            </a:b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360" y="6019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Франсуа Мажанди (1783—1855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"/>
          <p:cNvPicPr/>
          <p:nvPr/>
        </p:nvPicPr>
        <p:blipFill>
          <a:blip r:embed="rId1"/>
          <a:stretch/>
        </p:blipFill>
        <p:spPr>
          <a:xfrm>
            <a:off x="2843280" y="333360"/>
            <a:ext cx="3684600" cy="5460840"/>
          </a:xfrm>
          <a:prstGeom prst="rect">
            <a:avLst/>
          </a:prstGeom>
          <a:ln w="0">
            <a:noFill/>
          </a:ln>
        </p:spPr>
      </p:pic>
      <p:sp>
        <p:nvSpPr>
          <p:cNvPr id="14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516640"/>
          </a:xfrm>
          <a:prstGeom prst="rect">
            <a:avLst/>
          </a:prstGeom>
          <a:solidFill>
            <a:srgbClr val="ffff9f"/>
          </a:solidFill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br>
              <a:rPr sz="4400"/>
            </a:br>
            <a:r>
              <a:rPr b="0" i="1" lang="uk-UA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uk-UA" sz="2800" spc="-1" strike="noStrike">
                <a:solidFill>
                  <a:srgbClr val="000000"/>
                </a:solidFill>
                <a:latin typeface="Arial"/>
              </a:rPr>
              <a:t>Иван Сеченов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(1829-1905) открыл явление центрального торможения (Сеченовское торможение). В труде “Рефлексы головного мозга” (1863) развил представление о рефлекторном характере психической деятельности, изучил рабочие движения человека, положил начало в России физиологии трудовых процессов, открыл карбгемоглобин, сформулировал (1889) закон растворимости газов в растворах солей (закон Сеченова).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Иван Михайлович Сеченов (1829—1905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"/>
          <p:cNvPicPr/>
          <p:nvPr/>
        </p:nvPicPr>
        <p:blipFill>
          <a:blip r:embed="rId1"/>
          <a:stretch/>
        </p:blipFill>
        <p:spPr>
          <a:xfrm>
            <a:off x="2700360" y="0"/>
            <a:ext cx="3875040" cy="5691240"/>
          </a:xfrm>
          <a:prstGeom prst="rect">
            <a:avLst/>
          </a:prstGeom>
          <a:ln w="0">
            <a:noFill/>
          </a:ln>
        </p:spPr>
      </p:pic>
      <p:sp>
        <p:nvSpPr>
          <p:cNvPr id="14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1200"/>
          </a:xfrm>
          <a:prstGeom prst="rect">
            <a:avLst/>
          </a:prstGeom>
          <a:solidFill>
            <a:srgbClr val="ffff9f"/>
          </a:solidFill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Иван Павлов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(1849–1936) —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выдающийся российский физиолог. Он   разработал хирургический метод хронического эксперимента с наложением фистул, провел систематические наблюдения над деятельностью пищеварительных желез, усовершенствовал предложенный Ґайденґайном метод изолированного желудочка, провел классический опыт “мнимог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кормления”, в результате многолетних исследований опубликовал “Лекции о работе главных пищеварительных желез” (1897), в которых описал открытые им механизмы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условно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безусловнорефлекторно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регуляции желез. За эти труды был удостоен Нобелевской премии в отрасли физиологии и медицины (1904). Создал учение об условных рефлексах и высшей нервной деятельности. Отличие людей и животных видел в наличии второй сигнальной системы - языка; еще в ранние годы открыл усилительный нерв сердца. И.П. Павлова считали “старейшиной” физиологов мира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(primum phisiologorum mundi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4T09:17:45Z</dcterms:created>
  <dc:creator>1</dc:creator>
  <dc:description/>
  <dc:language>en-US</dc:language>
  <cp:lastModifiedBy>LEGION</cp:lastModifiedBy>
  <dcterms:modified xsi:type="dcterms:W3CDTF">2015-12-31T12:50:11Z</dcterms:modified>
  <cp:revision>42</cp:revision>
  <dc:subject/>
  <dc:title>Медсестринство и медицина 19 века</dc:title>
</cp:coreProperties>
</file>