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6B4D-186F-45B5-9DB1-188244C323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сестринство и медицина 19 век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сестринство и медицина 19 век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Петрович Павл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49—1936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Петрович Павл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49—193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экспериментального периода в  развитии микробиологии связано с открытиями выдающегося французского ученого-химика и микробиолога Луи Пастера (1822-1895). Он является основателем научной микробиологии и иммунолог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открытиями Пастера являются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основание ферментационной природы молочно-кислого и винно-спиртового брож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крытие микробов (сам термин предложил французский хирург Седило) и обоснование идеи асептики (1878-1879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здание вакцины против сибирской язвы (1881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оздание антирабичной вакцины (против бешенства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 экспериментального периода в  развитии микробиологии связано с открытиями выдающегося французского ученого-химика и микробиолога Луи Пастера (1822-1895). Он является основателем научной микробиологии и иммунолог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открытиями Пастера являются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основание ферментационной природы молочно-кислого и винно-спиртового брож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крытие микробов (сам термин предложил французский хирург Седило) и обоснование идеи асептики (1878-1879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оздание вакцины против сибирской язвы (1881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Создание антирабичной вакцины (против бешенства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уи Пастер (1822—1895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уи Пастер (1822—189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значение для развития медицинской микробиологии имели открытия немецкого бактериолога Роберта Коха (1843-1910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его заслуг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ервым предложил метод выращивания чистых бактериологических культур на твердых питательных средах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крыл возбудителей туберкулеза (1882) и холеры (1883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становил общие принципы эпидемиологии инфекционных болезней (триада Коха)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ахождение микробов во всех случаях заболе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озможность получения чистой культуры микроб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озможность воссоздания болезни у животных через заражение культурой микроба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ое значение для развития медицинской микробиологии имели открытия немецкого бактериолога Роберта Коха (1843-1910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его заслуг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ервым предложил метод выращивания чистых бактериологических культур на твердых питательных средах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крыл возбудителей туберкулеза (1882) и холеры (1883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становил общие принципы эпидемиологии инфекционных болезней (триада Коха)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нахождение микробов во всех случаях заболе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возможность получения чистой культуры микроб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возможность воссоздания болезни у животных через заражение культурой микроба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оберт Кох (1843—1910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оберт Кох (1843—191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жеский шарж на Р.Коха: професор Кох культивирует бактерии и гриб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жеский шарж на Р.Коха: професор Кох культивирует бактерии и гриб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92 г. Д. Ивановский открыл вирусы, еще более мелкие частицы сравнительно с микробами, которые являются внуриклеточными паразитами и, как оказалось позже, причиной многих эпидемических болезней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892 г. Д. Ивановский открыл вирусы, еще более мелкие частицы сравнительно с микробами, которые являются внуриклеточными паразитами и, как оказалось позже, причиной многих эпидемических болезней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не Лаэннек (1781—1826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ене Лаэннек (1781—182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етоскопы ХІХ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етоскопы ХІХ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95 г. Конрад Рентген (1845–1923) зарегистрировал открытие Х-лучей, названных впоследствии его именем. За несколько лет до Рентгена опыты с этими лучами проводил профессор Пражского университета украинец Иван Пулюй (1845–1918), родом из Тернопольщины. Он получил первые снимки руки человека, но не зарегистрировал открыт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895 г. Конрад Рентген (1845–1923) зарегистрировал открытие Х-лучей, названных впоследствии его именем. За несколько лет до Рентгена опыты с этими лучами проводил профессор Пражского университета украинец Иван Пулюй (1845–1918), родом из Тернопольщины. Он получил первые снимки руки человека, но не зарегистрировал открыт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ятия студентов анатомией в конце XIX 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нятия студентов анатомией в конце XIX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терапевтов второй половины XIX века следует вспомнить Сергея Ботки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2–1889). Он описал клиническую картину ряда заболеваний, в частности инфекционный гепатит (болезнь Боткина), открыл несколько лабораторий и среди них - физиологическую, которой заведовал Иван Павлов, создал новое направление в терапии - экспериментальное - и заложил основы клинической фармакологи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и терапевтов второй половины XIX века следует вспомнить Сергея Ботки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32–1889). Он описал клиническую картину ряда заболеваний, в частности инфекционный гепатит (болезнь Боткина), открыл несколько лабораторий и среди них - физиологическую, которой заведовал Иван Павлов, создал новое направление в терапии - экспериментальное - и заложил основы клинической фармакологи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Петрович Ботк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2—1889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гей Петрович Ботк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32—188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обезболива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октября 1846 г. американский хирург В. Воррен за методикой врача В. Мортона, в присутствии численного врачебного собрания, впервые использовал эфир для удаления опухоли шеи. В 1847 г. английский хирург Дж. Симпсон впервые использовал хлороформ как обезболивающий средств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обезболива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 октября 1846 г. американский хирург В. Воррен за методикой врача В. Мортона, в присутствии численного врачебного собрания, впервые использовал эфир для удаления опухоли шеи. В 1847 г. английский хирург Дж. Симпсон впервые использовал хлороформ как обезболивающий средств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а с инфекцией в хирурги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нац Земмельвейс (1818-1865) внедрил использование в акушерстве раствора хлорной извести для обеззараживания рук медперсонала и инструментар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хирург Джозеф Листер (1827-1912) положил начало антисептике; он довел, что возбудителями нагноения являются низшие существа, которые находятся в воздухе (миазми), то есть микробы. Как меру предосторожности, он использовал карболовую кислоту (1865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льнейшем развивается асептика, внедряется стерилизация инструментов, перевязочного материала, одежды персонала проточным паром и паром под высоким давлени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ьба с инфекцией в хирурги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нац Земмельвейс (1818-1865) внедрил использование в акушерстве раствора хлорной извести для обеззараживания рук медперсонала и инструментар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хирург Джозеф Листер (1827-1912) положил начало антисептике; он довел, что возбудителями нагноения являются низшие существа, которые находятся в воздухе (миазми), то есть микробы. Как меру предосторожности, он использовал карболовую кислоту (1865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альнейшем развивается асептика, внедряется стерилизация инструментов, перевязочного материала, одежды персонала проточным паром и паром под высоким давлени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хирургов этой эпохи главное место занимает Николай Пирог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10–1881). Вместе с физиологом О. Филомафитским он дал научное обоснование эфирного наркоза. Летом 1847 г. М. Пирогов испытал эфирный наркоз на поле боя. Он также разработал основы военно-полевой хирургии, предложил использование гипсовых повязо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и хирургов этой эпохи главное место занимает Николай Пирог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10–1881). Вместе с физиологом О. Филомафитским он дал научное обоснование эфирного наркоза. Летом 1847 г. М. Пирогов испытал эфирный наркоз на поле боя. Он также разработал основы военно-полевой хирургии, предложил использование гипсовых повязо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иколай Пирогов (1810–188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иколай Пирогов (1810–188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торой половине XIX в. получает развитие экспериментальная гигиена, основоположником которой был немецкий врач Макс Петтенкофер (1818–1901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разработал объективные методы гигиенической оценки воздуха, почвы, вод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торой половине XIX в. получает развитие экспериментальная гигиена, основоположником которой был немецкий врач Макс Петтенкофер (1818–1901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разработал объективные методы гигиенической оценки воздуха, почвы, вод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лагодарю за внимание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л Рокитанский (1804-1878) издал “Основы патологической анатомии” и считал, что основной причиной болезни является нарушение состава жидкостей (соков) организма, а патологические изменения в органах и тканях - вторичные явл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дольф Вирхов (1821-1902) -немецкий патологоанатом, изучал морфологические изменения в клетках при разных болезнях. Он считал, что “ненормальная деятельность” клеток является источником заболеваний, и на этой основе обосновал теорию целюлярной патологи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л Рокитанский (1804-1878) издал “Основы патологической анатомии” и считал, что основной причиной болезни является нарушение состава жидкостей (соков) организма, а патологические изменения в органах и тканях - вторичные явл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дольф Вирхов (1821-1902) -немецкий патологоанатом, изучал морфологические изменения в клетках при разных болезнях. Он считал, что “ненормальная деятельность” клеток является источником заболеваний, и на этой основе обосновал теорию целюлярной патологи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удольф Вирхов (1821—190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удольф Вирхов (1821—190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ю физиологичных опытов содействовал выдающийся французский ученый Франсуа Мажанди (1783-1855). Он разработал и усовершенствовал технику вивисекции (на животных). Наиболее известны его труды из изучения нервной системы. В историю медицины он вошел как основатель утонченной хирургической методики и острого физиологичного опыта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ю физиологичных опытов содействовал выдающийся французский ученый Франсуа Мажанди (1783-1855). Он разработал и усовершенствовал технику вивисекции (на животных). Наиболее известны его труды из изучения нервной системы. В историю медицины он вошел как основатель утонченной хирургической методики и острого физиологичного опыта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рансуа Мажанди (1783—1855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рансуа Мажанди (1783—185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Сеченов (1829-1905) открыл явление центрального торможения (Сеченовское торможение). В труде “Рефлексы головного мозга” (1863) развил представление о рефлекторном характере психической деятельности, изучил рабочие движения человека, положил начало в России физиологии трудовых процессов, открыл карбгемоглобин, сформулировал (1889) закон растворимости газов в растворах солей (закон Сеченова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Сеченов (1829-1905) открыл явление центрального торможения (Сеченовское торможение). В труде “Рефлексы головного мозга” (1863) развил представление о рефлекторном характере психической деятельности, изучил рабочие движения человека, положил начало в России физиологии трудовых процессов, открыл карбгемоглобин, сформулировал (1889) закон растворимости газов в растворах солей (закон Сеченова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Михайлович Сеченов (1829—1905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Михайлович Сеченов (1829—190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Павлов (1849–1936) — выдающийся российский физиолог. Он   разработал хирургический метод хронического эксперимента с наложением фистул, провел систематические наблюдения над деятельностью пищеварительных желез, усовершенствовал предложенный Ґайденґайном метод изолированного желудочка, провел классический опыт “мнимого кормления”, в результате многолетних исследований опубликовал “Лекции о работе главных пищеварительных желез” (1897), в которых описал открытые им механизмы условно- и безусловнорефлекторной регуляции желез. За эти труды был удостоен Нобелевской премии в отрасли физиологии и медицины (1904). Создал учение об условных рефлексах и высшей нервной деятельности. Отличие людей и животных видел в наличии второй сигнальной системы - языка; еще в ранние годы открыл усилительный нерв сердца. И.П. Павлова считали “старейшиной” физиологов мира (primum phisiologorum mundi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Павлов (1849–1936) — выдающийся российский физиолог. Он   разработал хирургический метод хронического эксперимента с наложением фистул, провел систематические наблюдения над деятельностью пищеварительных желез, усовершенствовал предложенный Ґайденґайном метод изолированного желудочка, провел классический опыт “мнимого кормления”, в результате многолетних исследований опубликовал “Лекции о работе главных пищеварительных желез” (1897), в которых описал открытые им механизмы условно- и безусловнорефлекторной регуляции желез. За эти труды был удостоен Нобелевской премии в отрасли физиологии и медицины (1904). Создал учение об условных рефлексах и высшей нервной деятельности. Отличие людей и животных видел в наличии второй сигнальной системы - языка; еще в ранние годы открыл усилительный нерв сердца. И.П. Павлова считали “старейшиной” физиологов мира (primum phisiologorum mundi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48B-E6E2-4558-9E29-4BF4A18B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7E8D-0A40-45CD-B525-CC4BC633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CB2F-C0BF-47F5-9945-62798DFC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E372-D8FA-4FFF-B3D2-559AF8E9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011D-95D2-4701-B576-244D628C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7B12-AA8B-4088-8AAC-5F0F0934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ED46-240E-40B3-A975-E9002E7C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9AE4-A1DF-46E8-8360-B32253EE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FD9A-763D-465F-9161-60C6472D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1A4E-8431-4262-9DF5-25305E0E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A466-AEAF-4E44-9AA8-F9ADB025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EC90-51F3-4A49-BE28-AC526CD2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DDB9-1EBC-4C68-A712-84A5BF1A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898C-D889-4BBB-90C0-12B43F26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19C3-6F69-4CA3-B2C5-D1B1C5D3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3B3D-F2E8-400F-9EE4-BF6C4FA6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2930-E3DE-4EDD-B3CC-FC501473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355C-02B8-4363-9590-11048478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3FC8-275F-4433-9CE5-C5973462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02B8-2F08-4EBD-AFE8-8F2AD551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869E-2085-4182-88B0-B53F3828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7BA8-C007-49C7-996D-08B9A0AB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1723-9815-4DDB-ACD8-1A95D485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3F83-4F4A-4F2B-AE59-62C8FB51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BC3F-678A-4CB1-B664-6E282A16F0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0A69-C276-421A-8DAE-51617CA1C7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9f"/>
              </a:gs>
              <a:gs pos="50000">
                <a:srgbClr val="76764a"/>
              </a:gs>
              <a:gs pos="100000">
                <a:srgbClr val="ffff9f"/>
              </a:gs>
            </a:gsLst>
            <a:lin ang="5400000"/>
          </a:gradFill>
          <a:ln w="9360">
            <a:solidFill>
              <a:srgbClr val="33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6600"/>
                </a:solidFill>
                <a:latin typeface="Arial"/>
              </a:rPr>
              <a:t>Медсестринство и медицина 19 века.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5867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Иван Петрович Павлов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1849—1936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638440" y="404640"/>
            <a:ext cx="3743280" cy="546264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чало экспериментального периода в  развитии микробиологии связано с открытиями выдающегося французского ученого-химика и микробиолога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Луи Пастер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1822-1895). Он является основателем научной микробиологии и иммунологии.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новными открытиями Пастера являются: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 Обоснование ферментационной природы молочно-кисл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инно-спиртового брожени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ткрытие микробов (сам термин предложил французский хирург Седило) и обоснование идеи асептики (1878-1879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оздание вакцины против сибирской язвы (1881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оздание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нтирабич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акцины (против бешенства)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Луи Пастер (1822—189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2514600" y="549360"/>
            <a:ext cx="3733920" cy="53085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ольшое значение для развития медицинской микробиологии имели открытия немецкого бактериолога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Роберта Кох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1843-1910).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новные его заслуги: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 Первым предложил метод выращивания чистых бактериологических культур на твердых питательных средах.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 Открыл возбудителей туберкулеза (1882) и холеры (1883).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. Установил общие принципы эпидемиологии инфекционных болезней (триада Коха):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) нахождение микробов во всех случаях заболевания;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) возможность получения чистой культуры микроба;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) возможность воссоздания болезни у животных через заражение культурой микроба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Роберт Кох (1843—1910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28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3865680" cy="56577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791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ружеский шарж на Р.Коха: професор Кох культивирует бактерии и гриб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rcRect l="0" t="0" r="5884" b="0"/>
          <a:stretch/>
        </p:blipFill>
        <p:spPr>
          <a:xfrm>
            <a:off x="2344680" y="304920"/>
            <a:ext cx="4894200" cy="4952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229600" cy="50292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1892 г.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Д. Ивановский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ткрыл вирусы, еще более мелкие частицы сравнительно с микробами, которые являются внуриклеточны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разитами и, как оказалось позже, причиной многих эпидемических болезне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5867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ене Лаэннек (1781—1826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2627280" y="333360"/>
            <a:ext cx="3646440" cy="518328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6095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етоскопы ХІХ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rcRect l="0" t="6116" r="0" b="0"/>
          <a:stretch/>
        </p:blipFill>
        <p:spPr>
          <a:xfrm>
            <a:off x="1143000" y="304920"/>
            <a:ext cx="7162920" cy="571500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8804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1895 г.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Конрад Рентген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(1845–1923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регистрировал открытие Х-лучей, названных впоследствии его именем. За несколько лет до Рентгена опыты с этими лучами проводил профессор Пражского университета украинец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Иван Пулюй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1845–1918),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дом из Тернопольщины. Он получил первые снимки руки человека, но не зарегистрировал открыти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нятия студентов анатомией в конц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X 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00000" y="260280"/>
            <a:ext cx="7705800" cy="54882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032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реди терапевтов второй половины XIX века следует вспомнить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Сергея Боткина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1832–1889)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н описал клиническую картину ряда заболеваний, в частности инфекционный гепатит (болезнь Боткина), открыл несколько лабораторий и среди них - физиологическую, которой заведовал Иван Павлов, создал новое направление в терапии - экспериментальное - и заложил основы клинической фармакологии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5867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ергей Петрович Боткин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1832—1889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3554280" cy="51912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Развитие обезболивания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6 октября 1846 г. американский хирург В. Воррен за методикой врача В.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Мортона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в присутствии численного врачебного собрания, впервые использовал эфир для удаления опухоли шеи. В 1847 г. английский хирург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Дж. Симпсон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первые использовал хлороформ как обезболивающий средство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62784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Борьба с инфекцией в хирургии</a:t>
            </a: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Игнац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еммельвей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18-1865) внедрил использование в акушерстве раствора хлорной извести для обеззараживания рук медперсонала и инструментари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ийский хирург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жозеф Лист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27-1912) положил начало антисептике; он довел, что возбудителями нагноения являются низшие существа, которые находятся в воздухе (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иаз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то есть микробы. Как меру предосторожности, он использовал карболовую кислоту (1865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альнейшем развивается асептика, внедряется стерилизация инструментов, перевязочного материала, одежды персонала проточным паром и паром под высоким давление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реди хирургов этой эпохи главное место занимает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Николай Пирогов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1810–1881)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месте с физиологом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О. Филомафитским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н дал научное обоснование эфирного наркоза. Летом 1847 г. М. Пирогов испытал эфирный наркоз на поле боя. Он также разработал основы военно-полевой хирургии, предложил использование гипсовых повязок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638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Николай Пирогов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(1810–188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2971800" y="228600"/>
            <a:ext cx="3224160" cy="54007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612612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о второй половине XIX в. получает развитие экспериментальная гигиена, основоположником которой был немецкий врач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Макс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Петтенкофе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1818–1901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н разработал объективные методы гигиенической оценки воздуха, почвы, вод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FLO200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9900"/>
                </a:solidFill>
                <a:latin typeface="Arial"/>
              </a:rPr>
              <a:t>Благодарю за внимание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86728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br>
              <a:rPr sz="4400"/>
            </a:b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Карл Рокитанский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1804-1878) издал “Основы патологической анатомии” и считал, что основной причиной болезни является нарушение состава жидкостей (соков) организма, а патологические изменения в органах и тканях - вторичные явления.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Рудольф Вирхов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1821-1902) -немецкий патологоанатом, изучал морфологические изменения в клетках при разных болезнях. Он считал, что “ненормальная деятельность” клеток является источником заболеваний, и на этой основе обосновал теорию целюляр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тологи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удольф Вирхов (1821—190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3743280" cy="54835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ю физиологичных опытов содействовал выдающийся французский ученый Франсуа Мажанди (1783-1855). Он разработал и усовершенствовал технику вивисекции (на животных). Наиболее известны его труды из изучения нервной системы. В историю медицины он вошел как основатель утонченной хирургической методики и острого физиологичного опыта. 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6019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рансуа Мажанди (1783—185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2843280" y="333360"/>
            <a:ext cx="3684600" cy="54608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664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br>
              <a:rPr sz="4400"/>
            </a:b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Иван Сечено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1829-1905) открыл явление центрального торможения (Сеченовское торможение). В труде “Рефлексы головного мозга” (1863) развил представление о рефлекторном характере психической деятельности, изучил рабочие движения человека, положил начало в России физиологии трудовых процессов, открыл карбгемоглобин, сформулировал (1889) закон растворимости газов в растворах солей (закон Сеченова)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ван Михайлович Сеченов (1829—190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2700360" y="0"/>
            <a:ext cx="3875040" cy="56912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Иван Павлов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(1849–1936) —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ыдающийся российский физиолог. Он   разработал хирургический метод хронического эксперимента с наложением фистул, провел систематические наблюдения над деятельностью пищеварительных желез, усовершенствовал предложенный Ґайденґайном метод изолированного желудочка, провел классический опыт “мним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рмления”, в результате многолетних исследований опубликовал “Лекции о работе главных пищеварительных желез” (1897), в которых описал открытые им механизмы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словно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зусловнорефлектор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гуляции желез. За эти труды был удостоен Нобелевской премии в отрасли физиологии и медицины (1904). Создал учение об условных рефлексах и высшей нервной деятельности. Отличие людей и животных видел в наличии второй сигнальной системы - языка; еще в ранние годы открыл усилительный нерв сердца. И.П. Павлова считали “старейшиной” физиологов мир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(primum phisiologorum mund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9:17:45Z</dcterms:created>
  <dc:creator>1</dc:creator>
  <dc:description/>
  <dc:language>en-US</dc:language>
  <cp:lastModifiedBy>LEGION</cp:lastModifiedBy>
  <dcterms:modified xsi:type="dcterms:W3CDTF">2015-12-31T12:50:11Z</dcterms:modified>
  <cp:revision>42</cp:revision>
  <dc:subject/>
  <dc:title>Медсестринство и медицина 19 века</dc:title>
</cp:coreProperties>
</file>