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F01A-A5FF-4461-BA77-A480734219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EDE-AB92-4657-B294-60139CA7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1E0-9ABD-482C-8405-FB044E6F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C34-C30B-4B42-BC2C-12CDA344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52F-F0F5-4059-B7C6-5BC783C5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A021-83D6-45A8-A3A5-1AB84BD2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D0CC-CD1F-4DAC-AE24-374B2660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3487-C0CA-4056-8B5E-5748C078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964B-5BAE-4834-9117-2E64A707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AA1C-CDD6-4C90-8AA0-6ED8A4CA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D2CE-A1FE-4261-90F5-3E0FD1FA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A4EC-56C1-4753-9888-7C576A8F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35D-D257-454A-BD65-A7BEB15B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133E-2AA8-4CFB-886B-C567C181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E82C-335A-4723-B6C5-33012A4B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F4B9-AFC9-48D5-8B64-D2CE51EE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698C-2FA6-47B9-B7D7-42C0EDC2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1CDC-7123-4135-A5E2-1C884F5F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EFC-AA49-4BA4-B864-2E9B6B26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0AA-5304-48DB-958B-A9439D66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49A-2CED-4FFD-8CB0-DB66202A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755-571F-4D34-AFBB-E7F00229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3D4-638A-406A-AA81-49524F1F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354-AE94-4C62-A9C1-366FF19F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3E5-662B-47E0-8E4B-DB47552F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5082-F7C4-4233-8318-AA1D15221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0719-C056-4291-87DD-A400ED63D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f"/>
              </a:gs>
              <a:gs pos="50000">
                <a:srgbClr val="76764a"/>
              </a:gs>
              <a:gs pos="100000">
                <a:srgbClr val="ffff9f"/>
              </a:gs>
            </a:gsLst>
            <a:lin ang="5400000"/>
          </a:gradFill>
          <a:ln w="9360">
            <a:solidFill>
              <a:srgbClr val="33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6600"/>
                </a:solidFill>
                <a:latin typeface="Arial"/>
              </a:rPr>
              <a:t>Медсестринство и медицина 19 века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49—1936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38440" y="404640"/>
            <a:ext cx="3743280" cy="54626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Луи Пастер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22-1895). Он является основателем научной микробиологии и иммунологии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инно-спиртового броже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оздани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тирабич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кцины (против бешенства)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уи Пастер (1822—189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2514600" y="549360"/>
            <a:ext cx="3733920" cy="5308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Роберта Кох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43-1910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берт Кох (1843—1910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28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865680" cy="56577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791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0" t="0" r="5884" b="0"/>
          <a:stretch/>
        </p:blipFill>
        <p:spPr>
          <a:xfrm>
            <a:off x="2344680" y="304920"/>
            <a:ext cx="4894200" cy="4952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5029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2 г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. Ивановский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крыл вирусы, еще более мелкие частицы сравнительно с микробами, которые являются внуриклеточ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разитами и, как оказалось позже, причиной многих эпидемических болезн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не Лаэннек (1781—182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3646440" cy="5183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6116" r="0" b="0"/>
          <a:stretch/>
        </p:blipFill>
        <p:spPr>
          <a:xfrm>
            <a:off x="1143000" y="304920"/>
            <a:ext cx="7162920" cy="5715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5 г.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Конрад Рентген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1845–1923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Пулюй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45–1918)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дом из Тернопольщины. Он получил первые снимки руки человека, но не зарегистрировал открыт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00000" y="260280"/>
            <a:ext cx="7705800" cy="5488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ергея Боткина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32–1889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32—1889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554280" cy="519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ортон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в присутствии численного врачебного собрания, впервые использовал эфир для удаления опухоли шеи. В 1847 г. английский хирург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ж. Симпсон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первые использовал хлороформ как обезболивающий средств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62784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Игнац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еммельвей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йский хирург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жозеф Лис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27-1912) положил начало антисептике; он довел, что возбудителями нагноения являются низшие существа, которые находятся в воздухе (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аз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то есть микробы. Как меру предосторожности, он использовал карболовую кислоту (1865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иколай Пирогов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0–1881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месте с физиологом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О. Филомафитским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иколай Пирогов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1810–188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224160" cy="5400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1261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акс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еттенкоф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8–1901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LO20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9900"/>
                </a:solidFill>
                <a:latin typeface="Arial"/>
              </a:rPr>
              <a:t>Благодарю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86728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Карл Рокитанский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Рудольф Вирхо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тологи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удольф Вирхов (1821—190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743280" cy="5483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рансуа Мажанди (1783—185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3684600" cy="54608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Сечен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700360" y="0"/>
            <a:ext cx="3875040" cy="5691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Иван Павло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1849–1936) —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лов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зусловнорефлектор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primum phisiologorum mund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9:17:45Z</dcterms:created>
  <dc:creator>1</dc:creator>
  <dc:description/>
  <dc:language>en-US</dc:language>
  <cp:lastModifiedBy>LEGION</cp:lastModifiedBy>
  <dcterms:modified xsi:type="dcterms:W3CDTF">2015-12-31T12:50:11Z</dcterms:modified>
  <cp:revision>42</cp:revision>
  <dc:subject/>
  <dc:title>Медсестринство и медицина 19 века</dc:title>
</cp:coreProperties>
</file>