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21.jpeg" ContentType="image/jpeg"/>
  <Override PartName="/ppt/media/image16.jpeg" ContentType="image/jpeg"/>
  <Override PartName="/ppt/media/image18.jpeg" ContentType="image/jpeg"/>
  <Override PartName="/ppt/media/image17.png" ContentType="image/png"/>
  <Override PartName="/ppt/media/image4.jpeg" ContentType="image/jpeg"/>
  <Override PartName="/ppt/media/image15.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move the slide</a:t>
            </a:r>
            <a:endParaRPr b="1" lang="en-US" sz="3800" spc="-1" strike="noStrike">
              <a:solidFill>
                <a:srgbClr val="000000"/>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EF22C-D383-43A4-89F1-176A88A3934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 в Древнем Египт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200"/>
            </a:br>
            <a:r>
              <a:rPr b="0" lang="ru-RU" sz="1200" spc="-1" strike="noStrike">
                <a:solidFill>
                  <a:srgbClr val="000000"/>
                </a:solidFill>
                <a:latin typeface="Calibri"/>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200"/>
            </a:br>
            <a:r>
              <a:rPr b="0" lang="ru-RU" sz="1200" spc="-1" strike="noStrike">
                <a:solidFill>
                  <a:srgbClr val="000000"/>
                </a:solidFill>
                <a:latin typeface="Calibri"/>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200"/>
            </a:br>
            <a:r>
              <a:rPr b="0" lang="ru-RU" sz="1200" spc="-1" strike="noStrike">
                <a:solidFill>
                  <a:srgbClr val="000000"/>
                </a:solidFill>
                <a:latin typeface="Calibri"/>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уэрт- покровительница женщин и рожениц.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ва: Фаянс II-I тыс. 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а: Камень. Около 650 г.до н.э.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ревнеегипетский рельеф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изображением богини во время род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200"/>
            </a:br>
            <a:r>
              <a:rPr b="0" lang="ru-RU" sz="1200" spc="-1" strike="noStrike">
                <a:solidFill>
                  <a:srgbClr val="000000"/>
                </a:solidFill>
                <a:latin typeface="Calibri"/>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убис совершает ритуал бальзамир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200"/>
            </a:br>
            <a:r>
              <a:rPr b="0" lang="ru-RU" sz="1200" spc="-1" strike="noStrike">
                <a:solidFill>
                  <a:srgbClr val="000000"/>
                </a:solidFill>
                <a:latin typeface="Calibri"/>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200"/>
            </a:br>
            <a:r>
              <a:rPr b="0" lang="ru-RU" sz="1200" spc="-1" strike="noStrike">
                <a:solidFill>
                  <a:srgbClr val="000000"/>
                </a:solidFill>
                <a:latin typeface="Calibri"/>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с переломом н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ой полиомиелитом н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 стелл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200"/>
            </a:br>
            <a:r>
              <a:rPr b="0" lang="ru-RU" sz="1200" spc="-1" strike="noStrike">
                <a:solidFill>
                  <a:srgbClr val="000000"/>
                </a:solidFill>
                <a:latin typeface="Calibri"/>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br>
              <a:rPr sz="1200"/>
            </a:br>
            <a:br>
              <a:rPr sz="1200"/>
            </a:br>
            <a:br>
              <a:rPr sz="1200"/>
            </a:br>
            <a:r>
              <a:rPr b="0" lang="ru-RU" sz="1200" spc="-1" strike="noStrike">
                <a:solidFill>
                  <a:srgbClr val="000000"/>
                </a:solidFill>
                <a:latin typeface="Calibri"/>
              </a:rPr>
              <a:t>Хеси-ра – один из известных </a:t>
            </a:r>
            <a:br>
              <a:rPr sz="1200"/>
            </a:br>
            <a:br>
              <a:rPr sz="1200"/>
            </a:br>
            <a:r>
              <a:rPr b="0" lang="ru-RU" sz="1200" spc="-1" strike="noStrike">
                <a:solidFill>
                  <a:srgbClr val="000000"/>
                </a:solidFill>
                <a:latin typeface="Calibri"/>
              </a:rPr>
              <a:t>врачевателей зубов.  XYIII в. До н.э.</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хняя челюсть взрослого египтяни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еомиелит). Период Нового цар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й знаменитый врач Древнего Египта - Имхоте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оследствии этот мудрец и ученый был обожествлен, ему стали посвящать часовни и храм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дуард Шюре ("Мистерии Егип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ой медицинский папирус  Г. Эбер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ет самую большую информацию о  врачевании в древнем Египте. Найден в Фивах в 1872 г. и назван по имени  изучавшего его ученог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Склеенный из 108 листов, он достигает в длину 20,5 м и вполне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равдывает свое название «Книга приготовления лекарств для все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астей тела». Папирус содержит около 900 прописей лекарств для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лечения органов пищеварения, дыхательных путей, уха, горла и носа,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жогов и кровотечений, глазных болезней, кожных, паразитарных 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х других заболеваний. При составлении лекарств широко использо-</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лина, селитра) и части тела многих животных.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Так, лекарство для изгнания глистов («умерщвления червей») содержало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реди прочих компонентов: косточек фиников — 8, растения дисарт—8,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ладкого пива — 25 частей. Пропись заканчивалась словами: «сварить,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мешать, выпить — выйдет тотчас». В лекарство от слепоты входили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ычья печень и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Готовить лекарство рекомендовалось ночью и пить четыре дня. Прием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екоторых лекарств сопровождался магическими обрядами в виде закли-</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ний и заговоров. </a:t>
            </a: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клеенный из 108 листов, он достигает в длину 20,5 м и вполн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авдывает свое название «Книга приготовления лекарств для все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ей тела». Папирус содержит около 900 прописей лекарств дл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я органов пищеварения, дыхательных путей, уха, горла и нос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жогов и кровотечений, глазных болезней, кожных, паразитарных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х других заболеваний. При составлении лекарств широко использ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ись растения (лук, мак, финики, лотос, гранат, алоэ, виноград, папирус), минеральные вещества (сурьма, сера, железо, свинец, сода, алебаст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ина, селитра) и части тела многих живот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лекарство для изгнания глистов («умерщвления червей») содержал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прочих компонентов: косточек фиников — 8, растения дисарт—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дкого пива — 25 частей. Пропись заканчивалась словами: «сварит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ть, выпить — выйдет тотчас». В лекарство от слепоты входил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чья печень и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которые прописи были чрезвычайно сложными и включали до 37 составляющих. Основой для приготовления лекарств были молоко, ме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во. Многие компоненты лекарственных средств до сих пор не идентифицированы, что значительно затрудняет их изуч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товить лекарство рекомендовалось ночью и пить четыре дня. Прие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х лекарств сопровождался магическими обрядами в виде зак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ний и заговоров.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идимому, не случайно древние греки считали египтян основателями "предупредительной" медицины.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100"/>
            </a:br>
            <a:br>
              <a:rPr sz="1100"/>
            </a:b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www.sliderpoint.org</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пирус Э.Смита.  </a:t>
            </a:r>
            <a:br>
              <a:rPr sz="1200"/>
            </a:br>
            <a:r>
              <a:rPr b="0" lang="ru-RU" sz="1200" spc="-1" strike="noStrike">
                <a:solidFill>
                  <a:srgbClr val="000000"/>
                </a:solidFill>
                <a:latin typeface="Calibri"/>
              </a:rPr>
              <a:t>XVI в. до н.э.</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ачеватели Египта делили причины болезней на естественные и сверхъестестве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 первым 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хъестественные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www.sliderpoint.or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8F7EE-DDC6-42C1-8357-BB2495B38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BB488-2907-46E8-ACE5-C62327BB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1E03F-0506-44AA-8922-49B641FCA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8DDCD-EF23-4423-82AD-7B5914768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90413-DC4D-43EB-9938-EEEDBBCAF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B1048-B87A-4D1E-A085-E7E23831C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C4457-A194-4966-89B9-3FE6AF413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02DB8-5966-4AA6-B9C2-17C05DD5A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D7FD0-1EFA-4AB2-B4D4-D855B34CC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02326-3D2F-4784-AC14-0B8D5C9D2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57D70-CD98-4868-B262-BDA9E679A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D7D9C-1B39-453F-8E60-DE1502A2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80EA3-90EC-4C43-BEAD-D3BF7456D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E0E07-B72A-485F-A72A-9CD2DCD77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5390C-0CE7-48FC-9F9B-5F42EE37C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5EB55-7A7D-4467-9AB7-B6D8C5F69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67111-A21C-4A54-B4F5-77A46BAB8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97487-3427-4235-8235-CB5A48117E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44E29D-1E10-467F-A3B2-329F2CBCF6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73534-2634-42B1-8911-E85F87ED9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F5344-CFEC-453A-B47A-FB5E76C557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FAAA3-7CF8-4D41-9DE7-BC3FF06D3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EEC7-E85E-49CF-AFE8-E77BDB7A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CE859-0D80-4C81-BDEA-9E471FB00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1D178-382A-4CBC-B1A3-110F7FD22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D62006-1232-4960-9609-A8CA0C6DF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26B13-612E-4E50-8FE2-840955677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83505-4261-4B72-92CB-542C35973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AB8325-7A55-4F48-B9C9-F6A33ED98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3433A0-5C32-4353-9A33-D6E0FC23CE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9E7E5-B882-4D7B-931A-209382BEA2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FC130-D461-4B29-AAE5-2046992B7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76F8D-04C5-40E8-A6C1-EFD686527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1CEB-B689-4354-92EC-DEA59EEA0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88213-EE46-48CB-807F-4712126C7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559813-22CD-4A3E-B49C-8B129BCE3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28DD6-3F4B-4199-AB97-827613366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7181C-0C98-44A3-A76A-BDF1DDE74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BD568-FF0D-45D4-9763-45416F0B9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3FCB9-15B2-4444-BCD2-FC7744461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99126-4433-41DA-A301-060407234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76A2C-2358-4756-963C-954A351F91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0D3089-F01B-414F-BDE2-D7E45F241D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CA3F1-741F-46CC-8C17-91BAC2E71E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9D172-7688-4553-83D9-26E2A73B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347BC-E38D-4893-89F9-7FC209712C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57C0E-949E-4966-97BB-8887758BA4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9F3B0-F7B1-4E89-AD70-9D5A37E109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CC5BDF-7A65-441D-8D9C-F8C802A0D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673057-4F5E-4FCA-A0D3-EA6B6150C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2D94D-D3D4-4C04-8850-808358BC1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307F0-8B1E-478C-B036-ADD2AB08F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2F1C1-BB47-43ED-8E1D-F3EA7AA80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714B3-8E60-43F6-B499-B19DA3201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12CA0F-ED63-427A-B919-576243119F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349D0-1127-4067-BD58-3E37E13D2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7C3FFD-60AC-435A-89DE-CD59EB35BF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985DC-3251-4721-AB13-16F2CEBF9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E11C-6ADA-4C52-8BF0-EE472F5A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Verdana"/>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23360-FB02-4914-ADF5-2A91ECF8B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6520" y="0"/>
            <a:ext cx="987480" cy="6858000"/>
            <a:chOff x="8156520" y="0"/>
            <a:chExt cx="987480" cy="6858000"/>
          </a:xfrm>
        </p:grpSpPr>
        <p:pic>
          <p:nvPicPr>
            <p:cNvPr id="1" name="Прямоугольник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9C2E-D5E7-4C1E-BDAE-1710DABFE4A2}"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C10C-E88E-42F2-B5BE-90F3BD5FA14B}"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70120" y="0"/>
            <a:ext cx="6473880" cy="6858000"/>
            <a:chOff x="2670120" y="0"/>
            <a:chExt cx="6473880" cy="6858000"/>
          </a:xfrm>
        </p:grpSpPr>
        <p:pic>
          <p:nvPicPr>
            <p:cNvPr id="45" name="Прямоугольник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C2B4-CFD0-4DA5-8999-12AF8FD97658}" type="datetime">
              <a:rPr b="0" lang="ru-RU" sz="1000" spc="-1" strike="noStrike">
                <a:solidFill>
                  <a:srgbClr val="ffffff"/>
                </a:solidFill>
                <a:latin typeface="Verdana"/>
              </a:rPr>
              <a:t>28.07.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6A0B-37C4-40B4-A580-D3414F816A29}" type="slidenum">
              <a:rPr b="0" lang="ru-RU" sz="1100" spc="-1" strike="noStrike">
                <a:solidFill>
                  <a:srgbClr val="ffffff"/>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6520" y="0"/>
            <a:ext cx="987480" cy="6858000"/>
            <a:chOff x="8156520" y="0"/>
            <a:chExt cx="987480" cy="6858000"/>
          </a:xfrm>
        </p:grpSpPr>
        <p:pic>
          <p:nvPicPr>
            <p:cNvPr id="90" name="Прямоугольник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2537-AFAB-4381-8A35-764DFAC895D4}"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10BF-568B-4924-AD52-30A2C92E8E13}"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Verdana"/>
              </a:rPr>
              <a:t>Click to edit the title text format</a:t>
            </a:r>
            <a:endParaRPr b="1" lang="en-US" sz="3800" spc="-1" strike="noStrike">
              <a:solidFill>
                <a:srgbClr val="ffffff"/>
              </a:solidFill>
              <a:latin typeface="Verdana"/>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92B0-2C45-49A7-802D-E0289FD11917}" type="datetime">
              <a:rPr b="0" lang="ru-RU" sz="1000" spc="-1" strike="noStrike">
                <a:solidFill>
                  <a:srgbClr val="f4e7ed"/>
                </a:solidFill>
                <a:latin typeface="Verdana"/>
              </a:rPr>
              <a:t>28.07.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6120-94D9-4F79-BB12-F7B50CE5A983}" type="slidenum">
              <a:rPr b="0" lang="ru-RU" sz="1100" spc="-1" strike="noStrike">
                <a:solidFill>
                  <a:srgbClr val="f4e7ed"/>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6520" y="0"/>
            <a:ext cx="987480" cy="6858000"/>
            <a:chOff x="8156520" y="0"/>
            <a:chExt cx="987480" cy="6858000"/>
          </a:xfrm>
        </p:grpSpPr>
        <p:pic>
          <p:nvPicPr>
            <p:cNvPr id="177" name="Прямоугольник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6F78-1FFE-498C-BEC9-653C39C820F6}" type="datetime">
              <a:rPr b="0" lang="ru-RU" sz="1000" spc="-1" strike="noStrike">
                <a:solidFill>
                  <a:srgbClr val="b13f9a"/>
                </a:solidFill>
                <a:latin typeface="Verdana"/>
              </a:rPr>
              <a:t>28.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133F-10A0-4028-B9F8-1463AFBD5887}" type="slidenum">
              <a:rPr b="0" lang="ru-RU" sz="1100" spc="-1" strike="noStrike">
                <a:solidFill>
                  <a:srgbClr val="b13f9a"/>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3365640" y="536400"/>
            <a:ext cx="5559120" cy="318780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200" spc="-1" strike="noStrike">
              <a:solidFill>
                <a:srgbClr val="ffffff"/>
              </a:solidFill>
              <a:latin typeface="Verdana"/>
            </a:endParaRPr>
          </a:p>
        </p:txBody>
      </p:sp>
      <p:pic>
        <p:nvPicPr>
          <p:cNvPr id="229" name="Picture 2" descr=""/>
          <p:cNvPicPr/>
          <p:nvPr/>
        </p:nvPicPr>
        <p:blipFill>
          <a:blip r:embed="rId2"/>
          <a:stretch/>
        </p:blipFill>
        <p:spPr>
          <a:xfrm>
            <a:off x="428760" y="2286000"/>
            <a:ext cx="4929120" cy="4143240"/>
          </a:xfrm>
          <a:prstGeom prst="rect">
            <a:avLst/>
          </a:prstGeom>
          <a:ln w="0">
            <a:noFill/>
          </a:ln>
        </p:spPr>
      </p:pic>
      <p:sp>
        <p:nvSpPr>
          <p:cNvPr id="230" name="Місце для нижнього колонтитула 2"/>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Прямоугольник 1"/>
          <p:cNvSpPr/>
          <p:nvPr/>
        </p:nvSpPr>
        <p:spPr>
          <a:xfrm>
            <a:off x="285840" y="285840"/>
            <a:ext cx="7643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рачебная деятельность в Древнем Египте подчинялась строгим моральным нормам. Соблюдая их, врач ничем не рисковал, даже при неудачном исходе лечения. Однако нарушение правил жестоко каралось вплоть до смертной казни. Каждый египетский врач принадлежал к определенной коллегии жрецов. Больные обращались не непосредственно к врачу, а в храм, где им рекомендовали соответствующего врача. Гонорар за лечение выплачивался храму, который содержал врача. </a:t>
            </a:r>
            <a:br>
              <a:rPr sz="1800"/>
            </a:br>
            <a:r>
              <a:rPr b="0" lang="ru-RU" sz="1800" spc="-1" strike="noStrike">
                <a:solidFill>
                  <a:srgbClr val="000000"/>
                </a:solidFill>
                <a:latin typeface="Verdana"/>
              </a:rPr>
              <a:t>    Правители многих стран приглашали на службу ко двору египетских врачей. Врачебное искусство разделено в Египте таким образом, что каждый врач излечивает только одну болезнь. Поэтому у них полно врачей: одни лечат глаза, другие голову, третьи зубы, четвертые желудок, пятые внутренние болезни". </a:t>
            </a:r>
            <a:endParaRPr b="0" lang="en-US" sz="1800" spc="-1" strike="noStrike">
              <a:solidFill>
                <a:srgbClr val="000000"/>
              </a:solidFill>
              <a:latin typeface="Arial"/>
            </a:endParaRPr>
          </a:p>
        </p:txBody>
      </p:sp>
      <p:sp>
        <p:nvSpPr>
          <p:cNvPr id="25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Прямоугольник 1"/>
          <p:cNvSpPr/>
          <p:nvPr/>
        </p:nvSpPr>
        <p:spPr>
          <a:xfrm>
            <a:off x="357120" y="428760"/>
            <a:ext cx="77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вными богами врачевания считались бог мудрости Тот и богиня материнства и плодородия Исида. Тот создал письменность, математику, астрономию, религиозные обряды, музыку и что особенно важно - систему лечения болезней природными средствами. Ему приписываются самые древние медицинские трактаты.        </a:t>
            </a:r>
            <a:br>
              <a:rPr sz="1800"/>
            </a:br>
            <a:r>
              <a:rPr b="0" lang="ru-RU" sz="1800" spc="-1" strike="noStrike">
                <a:solidFill>
                  <a:srgbClr val="000000"/>
                </a:solidFill>
                <a:latin typeface="Verdana"/>
              </a:rPr>
              <a:t>      Исида считалась создательницей магических основ врачевания и покровительницей детей. Лекарства с именем Исиды даже упоминаются в трудах древнеримского врача-фармацевта Галена.        </a:t>
            </a:r>
            <a:br>
              <a:rPr sz="1800"/>
            </a:br>
            <a:r>
              <a:rPr b="0" lang="ru-RU" sz="1800" spc="-1" strike="noStrike">
                <a:solidFill>
                  <a:srgbClr val="000000"/>
                </a:solidFill>
                <a:latin typeface="Verdana"/>
              </a:rPr>
              <a:t>      У древнеегипетской медицины были и другие божественные покровители: могучая львиноголовая богиня Сохмет, защитница женщин и рожениц; богиня Тауэрт, изображавшаяся в виде самки гиппопотама. Каждый новорожденный египтянин независимо от социального статуса лежал рядом с небольшой статуэткой Тауэрт. </a:t>
            </a:r>
            <a:br>
              <a:rPr sz="1800"/>
            </a:br>
            <a:endParaRPr b="0" lang="en-US" sz="1800" spc="-1" strike="noStrike">
              <a:solidFill>
                <a:srgbClr val="000000"/>
              </a:solidFill>
              <a:latin typeface="Arial"/>
            </a:endParaRPr>
          </a:p>
        </p:txBody>
      </p:sp>
      <p:sp>
        <p:nvSpPr>
          <p:cNvPr id="25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57" name="PlaceHolder 2"/>
          <p:cNvSpPr>
            <a:spLocks noGrp="1"/>
          </p:cNvSpPr>
          <p:nvPr>
            <p:ph/>
          </p:nvPr>
        </p:nvSpPr>
        <p:spPr>
          <a:xfrm>
            <a:off x="457200" y="285840"/>
            <a:ext cx="7400880" cy="12859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ауэрт- покровительница женщин и рожениц.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лева: Фаянс II-I тыс. 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права: Камень. Около 650 г.до н.э. </a:t>
            </a:r>
            <a:endParaRPr b="0" lang="en-US" sz="20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8" name="Содержимое 4" descr="http://www.mho.org.ua/text/book1/egypt/02.jpg"/>
          <p:cNvPicPr/>
          <p:nvPr/>
        </p:nvPicPr>
        <p:blipFill>
          <a:blip r:embed="rId1"/>
          <a:stretch/>
        </p:blipFill>
        <p:spPr>
          <a:xfrm>
            <a:off x="214200" y="1714680"/>
            <a:ext cx="4857840" cy="3603600"/>
          </a:xfrm>
          <a:prstGeom prst="rect">
            <a:avLst/>
          </a:prstGeom>
          <a:ln w="0">
            <a:noFill/>
          </a:ln>
        </p:spPr>
      </p:pic>
      <p:pic>
        <p:nvPicPr>
          <p:cNvPr id="259" name="Рисунок 3" descr="http://www.mho.org.ua/text/book1/egypt/08.jpg"/>
          <p:cNvPicPr/>
          <p:nvPr/>
        </p:nvPicPr>
        <p:blipFill>
          <a:blip r:embed="rId2"/>
          <a:stretch/>
        </p:blipFill>
        <p:spPr>
          <a:xfrm>
            <a:off x="5214960" y="2571840"/>
            <a:ext cx="3714840" cy="4000320"/>
          </a:xfrm>
          <a:prstGeom prst="rect">
            <a:avLst/>
          </a:prstGeom>
          <a:ln w="0">
            <a:noFill/>
          </a:ln>
        </p:spPr>
      </p:pic>
      <p:sp>
        <p:nvSpPr>
          <p:cNvPr id="260" name="TextBox 5"/>
          <p:cNvSpPr/>
          <p:nvPr/>
        </p:nvSpPr>
        <p:spPr>
          <a:xfrm>
            <a:off x="214200" y="564372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Древнеегипетский рельеф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 изображением богини во время родов</a:t>
            </a:r>
            <a:endParaRPr b="0" lang="en-US" sz="1800" spc="-1" strike="noStrike">
              <a:solidFill>
                <a:srgbClr val="000000"/>
              </a:solidFill>
              <a:latin typeface="Arial"/>
            </a:endParaRPr>
          </a:p>
        </p:txBody>
      </p:sp>
      <p:sp>
        <p:nvSpPr>
          <p:cNvPr id="261"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Прямоугольник 1"/>
          <p:cNvSpPr/>
          <p:nvPr/>
        </p:nvSpPr>
        <p:spPr>
          <a:xfrm>
            <a:off x="428760" y="214200"/>
            <a:ext cx="75722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едставления о связи загробных субстанций с местом погребения привели к стремлению сохранить тело умершего от разрушения - набальзамировать его. Этим занимались лица, в совершенстве владевшие различными способами бальзамирования. Один из этих способов описывает греческий историк Геродот. Способы бальзамирования утрачены, но эффективность их очевидна. Трупы, мумифицированные древними египтянами несколько тысячелетий назад, сохранились до наших дней и позволяют проводить исследования состояния здоровья и особенностей заболеваемости в столь отдаленные времена.        </a:t>
            </a:r>
            <a:br>
              <a:rPr sz="1800"/>
            </a:br>
            <a:r>
              <a:rPr b="0" lang="ru-RU" sz="1800" spc="-1" strike="noStrike">
                <a:solidFill>
                  <a:srgbClr val="000000"/>
                </a:solidFill>
                <a:latin typeface="Verdana"/>
              </a:rPr>
              <a:t>      Практика бальзамирования в Древнем Египте явилась, по-видимому, первым и основным источником знаний о строении человеческого тела. Бальзамирование требовало применения и различных реактивов, что косвенно способствовало зарождению представлений о химической природе реакций. Более того, предполагается, что и само название "химия" произошло от древнего названия Египта - "Кемет". Знания египтян в области анатомии существенно превышали представления о строении человеческого тела в соседних странах и, в частности, Месопотамии, где трупы умерших не вскрывали. </a:t>
            </a:r>
            <a:br>
              <a:rPr sz="1800"/>
            </a:br>
            <a:endParaRPr b="0" lang="en-US" sz="1800" spc="-1" strike="noStrike">
              <a:solidFill>
                <a:srgbClr val="000000"/>
              </a:solidFill>
              <a:latin typeface="Arial"/>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5897520" cy="11732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Verdana"/>
            </a:endParaRPr>
          </a:p>
        </p:txBody>
      </p:sp>
      <p:sp>
        <p:nvSpPr>
          <p:cNvPr id="265" name="PlaceHolder 2"/>
          <p:cNvSpPr>
            <a:spLocks noGrp="1"/>
          </p:cNvSpPr>
          <p:nvPr>
            <p:ph/>
          </p:nvPr>
        </p:nvSpPr>
        <p:spPr>
          <a:xfrm>
            <a:off x="457200" y="499680"/>
            <a:ext cx="589752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нубис совершает ритуал бальзамирования</a:t>
            </a:r>
            <a:endParaRPr b="0" lang="en-US" sz="2000" spc="-1" strike="noStrike">
              <a:solidFill>
                <a:srgbClr val="000000"/>
              </a:solidFill>
              <a:latin typeface="Verdana"/>
            </a:endParaRPr>
          </a:p>
        </p:txBody>
      </p:sp>
      <p:pic>
        <p:nvPicPr>
          <p:cNvPr id="266" name="Содержимое 4" descr="http://www.mho.org.ua/text/book1/egypt/03.jpg"/>
          <p:cNvPicPr/>
          <p:nvPr/>
        </p:nvPicPr>
        <p:blipFill>
          <a:blip r:embed="rId1"/>
          <a:stretch/>
        </p:blipFill>
        <p:spPr>
          <a:xfrm>
            <a:off x="1000080" y="2500200"/>
            <a:ext cx="6072120" cy="3500640"/>
          </a:xfrm>
          <a:prstGeom prst="rect">
            <a:avLst/>
          </a:prstGeom>
          <a:ln w="0">
            <a:noFill/>
          </a:ln>
        </p:spPr>
      </p:pic>
      <p:sp>
        <p:nvSpPr>
          <p:cNvPr id="26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Прямоугольник 1"/>
          <p:cNvSpPr/>
          <p:nvPr/>
        </p:nvSpPr>
        <p:spPr>
          <a:xfrm>
            <a:off x="428760" y="214200"/>
            <a:ext cx="7572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ую роль в накоплении сведений в Древнем Египте играли военные врачи, сопровождавшие египетское войско в походах. На гробницах сохранились изображения операций на конечностях. Все ранения делились по прогнозу на излечимые, сомнительные и безнадежные. Врачебная этика того времени требовала открытого сообщения пациенту предполагаемого исхода лечения одной из трех фраз: "Это болезнь, которую я могу вылечить; это болезнь, которую я, может быть, смогу вылечить; это болезнь, которую я не смогу вылечить". </a:t>
            </a:r>
            <a:br>
              <a:rPr sz="1800"/>
            </a:br>
            <a:r>
              <a:rPr b="0" lang="ru-RU" sz="1800" spc="-1" strike="noStrike">
                <a:solidFill>
                  <a:srgbClr val="000000"/>
                </a:solidFill>
                <a:latin typeface="Verdana"/>
              </a:rPr>
              <a:t>    В тех случаях, когда излечение было возможным, в папирусе Имхотепа даются четкие указания тактики врачевания: "Скажи ты тому, у кого зияющая рана на голове: "Это болезнь, которую я буду лечить". После того, как ты зашьешь ему рану, в первый день положи на нее свежее мясо и не бинтуй ее. Заботься о нем до тех пор, пока пройдет время его болезни. Лечи рану жиром, медом, корпией, пока больной не поправится". </a:t>
            </a:r>
            <a:br>
              <a:rPr sz="1800"/>
            </a:br>
            <a:r>
              <a:rPr b="0" lang="ru-RU" sz="1800" spc="-1" strike="noStrike">
                <a:solidFill>
                  <a:srgbClr val="000000"/>
                </a:solidFill>
                <a:latin typeface="Verdana"/>
              </a:rPr>
              <a:t>    При лечении переломов египетские врачеватели применяли деревянные лубки или бинтовали поврежденную конечность льняной тканью, пропитанной затвердевающей смолой. Такие шины обнаружены на египетских мумиях. Они во многом близки современным гипсовым повязкам. </a:t>
            </a:r>
            <a:br>
              <a:rPr sz="1800"/>
            </a:br>
            <a:endParaRPr b="0" lang="en-US" sz="1800" spc="-1" strike="noStrike">
              <a:solidFill>
                <a:srgbClr val="000000"/>
              </a:solidFill>
              <a:latin typeface="Arial"/>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Содержимое 4" descr="http://www.mho.org.ua/text/book1/egypt/07.jpg"/>
          <p:cNvPicPr/>
          <p:nvPr/>
        </p:nvPicPr>
        <p:blipFill>
          <a:blip r:embed="rId1"/>
          <a:stretch/>
        </p:blipFill>
        <p:spPr>
          <a:xfrm>
            <a:off x="357120" y="1214280"/>
            <a:ext cx="3929040" cy="4857840"/>
          </a:xfrm>
          <a:prstGeom prst="rect">
            <a:avLst/>
          </a:prstGeom>
          <a:ln w="0">
            <a:noFill/>
          </a:ln>
        </p:spPr>
      </p:pic>
      <p:pic>
        <p:nvPicPr>
          <p:cNvPr id="271" name="Содержимое 4" descr="http://www.mho.org.ua/text/book1/egypt/06.jpg"/>
          <p:cNvPicPr/>
          <p:nvPr/>
        </p:nvPicPr>
        <p:blipFill>
          <a:blip r:embed="rId2"/>
          <a:stretch/>
        </p:blipFill>
        <p:spPr>
          <a:xfrm>
            <a:off x="4929120" y="1000080"/>
            <a:ext cx="3801960" cy="4495680"/>
          </a:xfrm>
          <a:prstGeom prst="rect">
            <a:avLst/>
          </a:prstGeom>
          <a:ln w="0">
            <a:noFill/>
          </a:ln>
        </p:spPr>
      </p:pic>
      <p:sp>
        <p:nvSpPr>
          <p:cNvPr id="272" name="TextBox 3"/>
          <p:cNvSpPr/>
          <p:nvPr/>
        </p:nvSpPr>
        <p:spPr>
          <a:xfrm>
            <a:off x="570960" y="64296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с переломом ноги</a:t>
            </a:r>
            <a:endParaRPr b="0" lang="en-US" sz="1800" spc="-1" strike="noStrike">
              <a:solidFill>
                <a:srgbClr val="000000"/>
              </a:solidFill>
              <a:latin typeface="Arial"/>
            </a:endParaRPr>
          </a:p>
        </p:txBody>
      </p:sp>
      <p:sp>
        <p:nvSpPr>
          <p:cNvPr id="273" name="TextBox 4"/>
          <p:cNvSpPr/>
          <p:nvPr/>
        </p:nvSpPr>
        <p:spPr>
          <a:xfrm>
            <a:off x="4643280" y="5715000"/>
            <a:ext cx="513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ной полиомиелитом н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 стелле</a:t>
            </a:r>
            <a:endParaRPr b="0" lang="en-US" sz="1800" spc="-1" strike="noStrike">
              <a:solidFill>
                <a:srgbClr val="000000"/>
              </a:solidFill>
              <a:latin typeface="Arial"/>
            </a:endParaRPr>
          </a:p>
        </p:txBody>
      </p:sp>
      <p:sp>
        <p:nvSpPr>
          <p:cNvPr id="27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Прямоугольник 1"/>
          <p:cNvSpPr/>
          <p:nvPr/>
        </p:nvSpPr>
        <p:spPr>
          <a:xfrm>
            <a:off x="428760" y="142920"/>
            <a:ext cx="76435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ключительно популярной в Древнем Египте была профессия зубного врача. Это и понятно, так как исследование мумий показало широкое распространение у египтян тяжелых воспалительных заболеваний надкостницы, десен и зубов. Даже у фараонов, при которых находились лучшие египетские стоматологи того времени, обнаружены поражения челюстей и выпадение зубов. По-видимому, тогда еще не были известны такие вмешательства, как пломбирование кариозных полостей и протезирование зубов золотом или другими металлами. Единственным свидетельством использования золота в древнеегипетской зубоврачебной практике является накладка двух нижних моляров, соединенных между собой тонкой проволокой по линии шеек обоих зубов.        </a:t>
            </a:r>
            <a:br>
              <a:rPr sz="1800"/>
            </a:br>
            <a:r>
              <a:rPr b="0" lang="ru-RU" sz="1800" spc="-1" strike="noStrike">
                <a:solidFill>
                  <a:srgbClr val="000000"/>
                </a:solidFill>
                <a:latin typeface="Verdana"/>
              </a:rPr>
              <a:t>      Лечение болезней зубов в Древнем Египте проводили в основном консервативно, прикладывая к больному зубу или деснам различные пасты. В папирусе Эбера имеется 11 прописей таких лекарств. По мысли составителей, эти пасты должны были оздоравливать полость рта, укреплять зубы, снимать воспаление десен (парадонтоз) и зубную боль. Многие из прописей паст папируса Эбера современные египетские фармацевты воспроизвели и рекомендуют для лечения распространенного в наше время парадонтоза, ведущего к выпадению зубов. </a:t>
            </a:r>
            <a:endParaRPr b="0" lang="en-US" sz="1800" spc="-1" strike="noStrike">
              <a:solidFill>
                <a:srgbClr val="000000"/>
              </a:solidFill>
              <a:latin typeface="Arial"/>
            </a:endParaRPr>
          </a:p>
        </p:txBody>
      </p:sp>
      <p:sp>
        <p:nvSpPr>
          <p:cNvPr id="27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4224240" y="285840"/>
            <a:ext cx="8248680" cy="1171440"/>
          </a:xfrm>
          <a:prstGeom prst="rect">
            <a:avLst/>
          </a:prstGeom>
          <a:ln w="0">
            <a:noFill/>
          </a:ln>
        </p:spPr>
      </p:pic>
      <p:sp>
        <p:nvSpPr>
          <p:cNvPr id="278" name="PlaceHolder 1"/>
          <p:cNvSpPr>
            <a:spLocks noGrp="1"/>
          </p:cNvSpPr>
          <p:nvPr>
            <p:ph/>
          </p:nvPr>
        </p:nvSpPr>
        <p:spPr>
          <a:xfrm>
            <a:off x="457200" y="1496880"/>
            <a:ext cx="7043760" cy="860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400" spc="-1" strike="noStrike">
              <a:solidFill>
                <a:srgbClr val="000000"/>
              </a:solidFill>
              <a:latin typeface="Verdana"/>
            </a:endParaRPr>
          </a:p>
        </p:txBody>
      </p:sp>
      <p:pic>
        <p:nvPicPr>
          <p:cNvPr id="279" name="Содержимое 4" descr="Верхняя челюсть взрослого египтянина (остеомиелит). Период Нового царства. По F.Flice Leek"/>
          <p:cNvPicPr/>
          <p:nvPr/>
        </p:nvPicPr>
        <p:blipFill>
          <a:blip r:embed="rId2"/>
          <a:stretch/>
        </p:blipFill>
        <p:spPr>
          <a:xfrm>
            <a:off x="5000760" y="2928960"/>
            <a:ext cx="3929040" cy="3762360"/>
          </a:xfrm>
          <a:prstGeom prst="rect">
            <a:avLst/>
          </a:prstGeom>
          <a:ln w="0">
            <a:noFill/>
          </a:ln>
        </p:spPr>
      </p:pic>
      <p:pic>
        <p:nvPicPr>
          <p:cNvPr id="280" name="Рисунок 11" descr="http://www.mho.org.ua/text/book1/egypt/09.jpg"/>
          <p:cNvPicPr/>
          <p:nvPr/>
        </p:nvPicPr>
        <p:blipFill>
          <a:blip r:embed="rId3"/>
          <a:stretch/>
        </p:blipFill>
        <p:spPr>
          <a:xfrm>
            <a:off x="214200" y="571680"/>
            <a:ext cx="3929040" cy="4429080"/>
          </a:xfrm>
          <a:prstGeom prst="rect">
            <a:avLst/>
          </a:prstGeom>
          <a:ln w="0">
            <a:noFill/>
          </a:ln>
        </p:spPr>
      </p:pic>
      <p:sp>
        <p:nvSpPr>
          <p:cNvPr id="281" name="TextBox 7"/>
          <p:cNvSpPr/>
          <p:nvPr/>
        </p:nvSpPr>
        <p:spPr>
          <a:xfrm>
            <a:off x="0" y="5286240"/>
            <a:ext cx="548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рхняя челюсть взрослого египтянин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теомиелит). Период Нового царства.</a:t>
            </a:r>
            <a:endParaRPr b="0" lang="en-US" sz="1800" spc="-1" strike="noStrike">
              <a:solidFill>
                <a:srgbClr val="000000"/>
              </a:solidFill>
              <a:latin typeface="Arial"/>
            </a:endParaRPr>
          </a:p>
        </p:txBody>
      </p:sp>
      <p:sp>
        <p:nvSpPr>
          <p:cNvPr id="282"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457200" y="231840"/>
            <a:ext cx="8047080" cy="1170000"/>
          </a:xfrm>
          <a:prstGeom prst="rect">
            <a:avLst/>
          </a:prstGeom>
          <a:ln w="0">
            <a:noFill/>
          </a:ln>
        </p:spPr>
      </p:pic>
      <p:sp>
        <p:nvSpPr>
          <p:cNvPr id="284" name="PlaceHolder 1"/>
          <p:cNvSpPr>
            <a:spLocks noGrp="1"/>
          </p:cNvSpPr>
          <p:nvPr>
            <p:ph/>
          </p:nvPr>
        </p:nvSpPr>
        <p:spPr>
          <a:xfrm>
            <a:off x="457200" y="713880"/>
            <a:ext cx="7329600" cy="1071720"/>
          </a:xfrm>
          <a:prstGeom prst="rect">
            <a:avLst/>
          </a:prstGeom>
          <a:noFill/>
          <a:ln w="0">
            <a:noFill/>
          </a:ln>
        </p:spPr>
        <p:txBody>
          <a:bodyPr lIns="4572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амый знаменитый врач Древнего Египта - Имхотеп</a:t>
            </a:r>
            <a:endParaRPr b="0" lang="en-US" sz="2000" spc="-1" strike="noStrike">
              <a:solidFill>
                <a:srgbClr val="000000"/>
              </a:solidFill>
              <a:latin typeface="Verdana"/>
            </a:endParaRPr>
          </a:p>
        </p:txBody>
      </p:sp>
      <p:pic>
        <p:nvPicPr>
          <p:cNvPr id="285" name="Содержимое 4" descr="http://www.mho.org.ua/text/book1/egypt/10.jpg"/>
          <p:cNvPicPr/>
          <p:nvPr/>
        </p:nvPicPr>
        <p:blipFill>
          <a:blip r:embed="rId2"/>
          <a:stretch/>
        </p:blipFill>
        <p:spPr>
          <a:xfrm>
            <a:off x="500040" y="1214280"/>
            <a:ext cx="1208160" cy="4372200"/>
          </a:xfrm>
          <a:prstGeom prst="rect">
            <a:avLst/>
          </a:prstGeom>
          <a:ln w="0">
            <a:noFill/>
          </a:ln>
        </p:spPr>
      </p:pic>
      <p:sp>
        <p:nvSpPr>
          <p:cNvPr id="286" name="Прямоугольник 5"/>
          <p:cNvSpPr/>
          <p:nvPr/>
        </p:nvSpPr>
        <p:spPr>
          <a:xfrm>
            <a:off x="2000160" y="1428840"/>
            <a:ext cx="65008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Можно предположить, что это скорее титул, чем подлинное имя (Имхотеп по древнеегипетски - "Приходящий с миром "). По данным современных исследователей, он был простолюдином, но благодаря своему таланту стал верховным жрецом и визирем фараона III династии Джосера (ок. 2780-2760 гг.до н.э.). Он был искусным врачом, зодчим, астрономом, талантливым литератором и поэтом, ученым-филологом, усовершенствовавшим иероглифическое письмо. В списках с папируса обожествленного врача Имхотепа даются четкие указания по лечению ран мягких тканей, технике перевязок, а также по выполнению наиболее частых хирургических операций того времени: обрезание и кастра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последствии этот мудрец и ученый был обожествлен, ему стали посвящать часовни и храмы.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 эллинистических правителях Египта он считался сыном бога Птаха, почитался как бог врачевания и отождествлялся с Асклепием. Его облик был также канониз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71680" y="785880"/>
            <a:ext cx="7786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противоположность Вавилону, мрачной родине деспотизма, Египет был для древнего мира истинной крепостью священной науки, школой для его наиболее славных пророков, убежищем и вместе лабораторией наиболее благородных преданий человечест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Эдуард Шюре ("Мистерии Египта").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радиции врачевания в Древнем Египте складывались в тесном взаимодействии с медициной Древней Месопотамии. Они оказали большое влияние на становление медицины Древней Греции, считающейся предшественницей современной научной медицин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32" name="Picture 2" descr="Медицина Древнего Египта: Процесс изготовления лекарств"/>
          <p:cNvPicPr/>
          <p:nvPr/>
        </p:nvPicPr>
        <p:blipFill>
          <a:blip r:embed="rId1"/>
          <a:stretch/>
        </p:blipFill>
        <p:spPr>
          <a:xfrm>
            <a:off x="5357880" y="4143240"/>
            <a:ext cx="2438280" cy="2038320"/>
          </a:xfrm>
          <a:prstGeom prst="rect">
            <a:avLst/>
          </a:prstGeom>
          <a:ln w="0">
            <a:noFill/>
          </a:ln>
        </p:spPr>
      </p:pic>
      <p:sp>
        <p:nvSpPr>
          <p:cNvPr id="23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357120" y="357120"/>
            <a:ext cx="764388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первые о существовании медицинских трактатов в Древнем Египте говорится в записи на стене гробницы Уаш-Птаха - главного архитектора царя V династии Неферирка-Ра (ХХV в. до н. э.). В этой же надписи приводится клиническая картина скоропостижной смерти архитектора, которая, по современным представлениям, напоминает инфаркт миокарда или инсульт моз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ревнейшие медицинские трактаты написаны на папирусах. До наших дней они не сохранились и мы знаем о них лишь по свидетельству древних историков. Так, жрец Менефон сообщает, что Атотис (второй царь I династии) составил медицинский папирус о строении тела человека. В настоящее время известно 10 основных папирусов, полностью или частично посвященных врачеванию. Все они являются списками с более ранних трактатов. Самый старый дошедший до нас медицинский папирус датируется примерно 1800 г. до н. э. Один его раздел посвящен ведению родов, а другой - лечению животных. В то же время были составлены IV и V папирусы из Ромессеума, в которых описаны приемы магического врачевания. Наиболее полные сведения о медицине Древнего Египта дают два папируса, датируемые примерно 1550 г. до н. э., - большой медицинский папирус Г. Эбера и папирус по хирургии Э. Смита. </a:t>
            </a:r>
            <a:br>
              <a:rPr sz="1800"/>
            </a:br>
            <a:endParaRPr b="0" lang="en-US" sz="1800" spc="-1" strike="noStrike">
              <a:solidFill>
                <a:srgbClr val="000000"/>
              </a:solidFill>
              <a:latin typeface="Arial"/>
            </a:endParaRPr>
          </a:p>
        </p:txBody>
      </p:sp>
      <p:sp>
        <p:nvSpPr>
          <p:cNvPr id="23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230800" y="1047600"/>
            <a:ext cx="3632040" cy="2360880"/>
          </a:xfrm>
          <a:prstGeom prst="rect">
            <a:avLst/>
          </a:prstGeom>
          <a:ln w="0">
            <a:noFill/>
          </a:ln>
        </p:spPr>
      </p:pic>
      <p:sp>
        <p:nvSpPr>
          <p:cNvPr id="237"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Дает самую большую информацию о  врачевании в древнем Египте. Найден в Фивах в 1872 г. и назван по имени  изучавшего его ученого.</a:t>
            </a:r>
            <a:endParaRPr b="0" lang="en-US" sz="2000" spc="-1" strike="noStrike">
              <a:solidFill>
                <a:srgbClr val="ffffff"/>
              </a:solidFill>
              <a:latin typeface="Verdana"/>
            </a:endParaRPr>
          </a:p>
        </p:txBody>
      </p:sp>
      <p:pic>
        <p:nvPicPr>
          <p:cNvPr id="238" name="Рисунок 4" descr=""/>
          <p:cNvPicPr/>
          <p:nvPr/>
        </p:nvPicPr>
        <p:blipFill>
          <a:blip r:embed="rId2"/>
          <a:stretch/>
        </p:blipFill>
        <p:spPr>
          <a:xfrm>
            <a:off x="603360" y="987480"/>
            <a:ext cx="4329000" cy="4322880"/>
          </a:xfrm>
          <a:prstGeom prst="rect">
            <a:avLst/>
          </a:prstGeom>
          <a:ln w="0">
            <a:noFill/>
          </a:ln>
        </p:spPr>
      </p:pic>
      <p:sp>
        <p:nvSpPr>
          <p:cNvPr id="23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30240"/>
            <a:ext cx="9144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Склеенный из 108 листов, он достигает в длину 20,5 м и вполн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правдывает свое название «Книга приготовления лекарств для все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частей тела». Папирус содержит около 900 прописей лекарств для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лечения органов пищеварения, дыхательных путей, уха, горла и нос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ожогов и кровотечений, глазных болезней, кожных, паразитарных 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многих других заболеваний. При составлении лекарств широко использ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вались растения (лук, мак, финики, лотос, гранат, алоэ, виноград, папирус), минеральные вещества (сурьма, сера, железо, свинец, сода, алебаст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глина, селитра) и части тела многих животны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Так, лекарство для изгнания глистов («умерщвления червей») содержало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реди прочих компонентов: косточек фиников — 8, растения дисарт—8,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ладкого пива — 25 частей. Пропись заканчивалась словами: «свари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смешать, выпить — выйдет тотчас». В лекарство от слепоты входил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бычья печень и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Некоторые прописи были чрезвычайно сложными и включали до 37 составляющих. Основой для приготовления лекарств были молоко, мед,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пиво. Многие компоненты лекарственных средств до сих пор не идентифицированы, что значительно затрудняет их изуч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отовить лекарство рекомендовалось ночью и пить четыре дня. Прие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ых лекарств сопровождался магическими обрядами в виде закл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ний и заговоров. </a:t>
            </a:r>
            <a:br>
              <a:rPr sz="2000"/>
            </a:br>
            <a:endParaRPr b="0" lang="en-US" sz="2000" spc="-1" strike="noStrike">
              <a:solidFill>
                <a:srgbClr val="000000"/>
              </a:solidFill>
              <a:latin typeface="Arial"/>
            </a:endParaRPr>
          </a:p>
        </p:txBody>
      </p:sp>
      <p:sp>
        <p:nvSpPr>
          <p:cNvPr id="24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Прямоугольник 1"/>
          <p:cNvSpPr/>
          <p:nvPr/>
        </p:nvSpPr>
        <p:spPr>
          <a:xfrm>
            <a:off x="500040" y="357120"/>
            <a:ext cx="73580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В папирусе Эбера приводятся прописи лекарств для разглаживания морщин, удаления родинок, окраски волос и бровей, усиления роста волос. Для защиты от палящего солнца египтяне обоего пола обводили глаза зеленой пастой, содержащей сурьму и жир. Глазам при этом придавалась миндалевидная форма. Женщины Египта румянили щеки и красили губы. По-видимому, египтяне первыми ввели в употребление парик, который надевали на коротко остриженные волосы. Парик состоял из большого числа туго переплетенных косичек. Он заменял головной убор и косвенно способствовал борьбе со вшивостью. Современные косметические египетские фирмы, стремящиеся на российский рынок, пытаются возродить многие древние прописи, рекламируя омолаживающее действие древних мазей, пластырей, примоче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Большое значение древние египтяне придавали соблюдению гигиенических правил. Религиозные законы предписывали умеренность в пище и опрятность в быт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По-видимому, не случайно древние греки считали египтян основателями "предупредительной" медицины. </a:t>
            </a:r>
            <a:br>
              <a:rPr sz="1800"/>
            </a:br>
            <a:br>
              <a:rPr sz="1800"/>
            </a:br>
            <a:endParaRPr b="0" lang="en-US" sz="1800" spc="-1" strike="noStrike">
              <a:solidFill>
                <a:srgbClr val="000000"/>
              </a:solidFill>
              <a:latin typeface="Arial"/>
            </a:endParaRPr>
          </a:p>
        </p:txBody>
      </p:sp>
      <p:sp>
        <p:nvSpPr>
          <p:cNvPr id="24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428760" y="336600"/>
            <a:ext cx="7643520" cy="64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папирусе Эбера гинекологический раздел содержит сведения о распознавании сроков беременности, пола будущего ребенка, а также "женщины, могущей и не могущей родить". Берлинский и Кахунский папирусы описывают простой способ определения пола будущего ребенка. Предлагается смочить мочой беременной женщины зерна ячменя и пшеницы. Если первой прорастет пшеница - родится девочка, если ячмень - мальчик. Американские исследователи из Джорджтаунского университета провели такие пробы и получили статистически значимое подтверждение их эффективност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В Древнем Египте моча находила довольно широкое применение в качестве лечебного средства. У Геродота есть описание не совсем ординарного случая уринотерапии: "По смерти Сезостриса царскую власть наследовал сын его Ферон, который ослеп... заболев глазами. Десять лет он был слепым; на одиннадцатом году царь услышал слово оракула в городе Буто, что время наказания его истекло, что он прозреет, если промоет глаза мочой женщины, которая имеет сношения только с мужем и никакого другого мужчину не имеет. Он прежде всего испытал мочу собственной жены и, когда не прозрел, подверг испытанию всех женщин подряд, пока наконец не прозрел. Тогда он собрал всех женщин, которых испытывал, кроме той, от мочи которой он прозрел, в одно место, именуемое теперь Красным полем, и всех их там сжег; на той женщине, от мочи которой прозрел, царь сам женился". Так в Древнем Египте одновременно был получен лечебный эффект и проведена экспертиза супружеской верности. </a:t>
            </a:r>
            <a:br>
              <a:rPr sz="1600"/>
            </a:br>
            <a:br>
              <a:rPr sz="1800"/>
            </a:br>
            <a:endParaRPr b="0" lang="en-US" sz="1600" spc="-1" strike="noStrike">
              <a:solidFill>
                <a:srgbClr val="000000"/>
              </a:solidFill>
              <a:latin typeface="Arial"/>
            </a:endParaRPr>
          </a:p>
        </p:txBody>
      </p:sp>
      <p:sp>
        <p:nvSpPr>
          <p:cNvPr id="245"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5200560" y="573120"/>
            <a:ext cx="3619440" cy="1731960"/>
          </a:xfrm>
          <a:prstGeom prst="rect">
            <a:avLst/>
          </a:prstGeom>
          <a:ln w="0">
            <a:noFill/>
          </a:ln>
        </p:spPr>
      </p:pic>
      <p:sp>
        <p:nvSpPr>
          <p:cNvPr id="247" name="PlaceHolder 1"/>
          <p:cNvSpPr>
            <a:spLocks noGrp="1"/>
          </p:cNvSpPr>
          <p:nvPr>
            <p:ph/>
          </p:nvPr>
        </p:nvSpPr>
        <p:spPr>
          <a:xfrm>
            <a:off x="5389200" y="2214720"/>
            <a:ext cx="3429000" cy="4000320"/>
          </a:xfrm>
          <a:prstGeom prst="rect">
            <a:avLst/>
          </a:prstGeom>
          <a:noFill/>
          <a:ln w="0">
            <a:noFill/>
          </a:ln>
        </p:spPr>
        <p:txBody>
          <a:bodyPr lIns="8244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В 1930 г. американский египтолог Дж. Г. Брэстед впервые опубликовал его иератический (полускорописный) текст, транслитерацию в иероглифах и перевод на английский язык с обширными комментариями в виде отдельного тома</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Текст трактата расположен на папирусной ленте длиной 4,68 м и шириной около 33 см. Он состоит из 17 колонок, в которых описаньг 48 случаев травматических повреждений костей черепа, мозга, шейных позвонков, ключиц, предплечья, грудной клетки и позвоночного столба, а также способы их лечения при полном отсутствии элементов магии и мистики.</a:t>
            </a:r>
            <a:endParaRPr b="0" lang="en-US" sz="14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248" name="Рисунок 4" descr="папирус.jpg"/>
          <p:cNvPicPr/>
          <p:nvPr/>
        </p:nvPicPr>
        <p:blipFill>
          <a:blip r:embed="rId2"/>
          <a:stretch/>
        </p:blipFill>
        <p:spPr>
          <a:xfrm>
            <a:off x="596880" y="890640"/>
            <a:ext cx="4438800" cy="4430520"/>
          </a:xfrm>
          <a:prstGeom prst="rect">
            <a:avLst/>
          </a:prstGeom>
          <a:ln w="0">
            <a:noFill/>
          </a:ln>
        </p:spPr>
      </p:pic>
      <p:sp>
        <p:nvSpPr>
          <p:cNvPr id="249"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4e7ed"/>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Прямоугольник 1"/>
          <p:cNvSpPr/>
          <p:nvPr/>
        </p:nvSpPr>
        <p:spPr>
          <a:xfrm>
            <a:off x="500040" y="58680"/>
            <a:ext cx="7572240" cy="66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600" spc="-1" strike="noStrike">
                <a:solidFill>
                  <a:srgbClr val="000000"/>
                </a:solidFill>
                <a:latin typeface="Verdana"/>
              </a:rPr>
              <a:t>Врачеватели Египта делили причины болезней на естественные и сверхъестественны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1" lang="ru-RU" sz="1600" spc="-1" strike="noStrike">
                <a:solidFill>
                  <a:srgbClr val="000000"/>
                </a:solidFill>
                <a:latin typeface="Verdana"/>
              </a:rPr>
              <a:t>К первым </a:t>
            </a:r>
            <a:r>
              <a:rPr b="0" lang="ru-RU" sz="1600" spc="-1" strike="noStrike">
                <a:solidFill>
                  <a:srgbClr val="000000"/>
                </a:solidFill>
                <a:latin typeface="Verdana"/>
              </a:rPr>
              <a:t>они относили нездоровую пищу, неблагоприятные климатические и погодные факторы, наличие кишечных паразитов. Геродот пишет, что египтяне считали причиной человеческих недугов плохую пищу, поэтому "желудок свой они очищают каждый месяц три дня подряд, принимая слабительные средства, и сохраняют здоровье рвотными и клистирами". Египтянам приписывают и изобретение клизмы. Интересно, что язык описания зашлакованности организма и методов очистки от шлаков многих современных народных целителей мало чем отличается от представлений древних египетских врачевателей.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ерхъестественные</a:t>
            </a:r>
            <a:r>
              <a:rPr b="0" lang="ru-RU" sz="1600" spc="-1" strike="noStrike">
                <a:solidFill>
                  <a:srgbClr val="000000"/>
                </a:solidFill>
                <a:latin typeface="Verdana"/>
              </a:rPr>
              <a:t> причины болезней египтяне видели во вселении в организм злых духов умерших. Для их изгнания использовались как лекарственные средства, так и различные магические приемы. Полагали, что дурные запахи и горькая пища отпугивают злых духов. Поэтому в состав ритуальных смесей при магических процедурах включали такие экзотические продукты, как части хвостов мышей, выделения из ушей свиней, кал и мочу животных. Во время изгнания злых духов звучали заклинания: "О мертвый! О покойник, скрывшийся в этой моей плоти, в этих частях моего тела. Спрятавшийся - удались! Скрывшийся - выходи!" Многие целители нашего времени "снимают сглаз и порчу", произнося тексты, близкие по сути к древнеегипетским, хотя в те времена было немало приемов врачевания, лишенных всякой мистики. </a:t>
            </a:r>
            <a:br>
              <a:rPr sz="1600"/>
            </a:br>
            <a:br>
              <a:rPr sz="1600"/>
            </a:br>
            <a:endParaRPr b="0" lang="en-US" sz="1600" spc="-1" strike="noStrike">
              <a:solidFill>
                <a:srgbClr val="000000"/>
              </a:solidFill>
              <a:latin typeface="Arial"/>
            </a:endParaRPr>
          </a:p>
        </p:txBody>
      </p:sp>
      <p:sp>
        <p:nvSpPr>
          <p:cNvPr id="25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b13f9a"/>
                </a:solidFill>
                <a:latin typeface="Verdana"/>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6:11:26Z</dcterms:created>
  <dc:creator>юля</dc:creator>
  <dc:description/>
  <dc:language>en-US</dc:language>
  <cp:lastModifiedBy>LEGION</cp:lastModifiedBy>
  <dcterms:modified xsi:type="dcterms:W3CDTF">2015-12-31T12:50:24Z</dcterms:modified>
  <cp:revision>57</cp:revision>
  <dc:subject/>
  <dc:title>Медицина в Древнем Египте</dc:title>
</cp:coreProperties>
</file>