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F1B3-6805-49F5-AB89-34D0C724235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14A09-F260-4FF5-A7DB-198886C82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8CCE7-9F5A-4A7F-9391-82256A8FD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96D1E-DA77-42E0-9DE7-A14C8ECA1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8A841-E9E5-42FD-8D92-BF60B4796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89824-C7B6-4AFC-B179-70E222807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DFD1A-1874-4E23-A07D-C7E826798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5F3F1-630F-4332-A1FA-6D45806C6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FC208-9BD1-4EE8-913D-297CE276E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B68A1-15DA-473E-B374-BA4EB62AE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097D1-44AA-4051-9316-7EBE70C64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20406-D402-40EE-8BFC-D94B06A6E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F59C2-C5C2-41A2-A61F-26996FE8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C7A30-C185-4DF2-AD95-7A55859EC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A2D35-DB66-47AD-9B2D-2F6DBF323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C937D-AA24-457D-869D-6BA267C34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AF77D-2188-4108-AD29-07DB1F11A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3343D-0D9D-4CA0-A99A-FD9A5025D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414337-FD34-487B-9422-DB8DE281F9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F50AD-79C6-4F42-B532-0D893B6A0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D8A51-5B9B-4F3A-9D78-A280DB34B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51A0C-AE83-4621-93FA-6C42258393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AADF2-1E6F-43C4-B015-27DBA447A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560F-53B2-469B-BB46-D14AE7DA3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54313-C357-4A7A-BB95-654F32465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F34F4-E641-475C-B58F-7F756B21B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04379-2C2F-4AE5-9AC7-843E43AF7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73B7C-6867-4F1C-A912-D59648906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2EAB69-90CD-4548-9EFE-4EAF2A25E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E0582D-8605-41E6-A547-79AB044944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48F80F-CE17-470E-8751-2EAFEE8C69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FA981F-461E-4DEF-A964-5B4B7F32AB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0D52D-7DAD-4BFB-95AF-8330355AD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59CD81-F29E-4B56-8427-CF4A9A3AE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E3E90-5F58-4A90-8A90-308339471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06EA9-B46F-4358-AE2B-F75B74076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67EE1-588B-49F5-A55C-A08A3FA85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8C6C08-5BA5-4FE9-9967-E16F0C9F3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C23FE-0B86-4A42-84A7-20C38D21D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07E1E-9D97-4AD2-BE3A-C15C132D0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14D2E-5194-48E3-ABAF-AF05ABE86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BAAC8-C0E1-4381-B34A-9FAE2BE2B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66E75D-4FB7-4F49-B586-D4809DA92B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DF8CA-1BB1-4CBD-AC4D-A7041807C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FE6865-B0CF-4061-89D0-9BEF3D473E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B707E-FC20-4693-9E7F-5E06B074A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FF0F6D-1D5C-46EE-BB7F-C807EC66D1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4D5F3E-6DF2-4AC2-B279-39C7E37930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FE300-40B8-4E9C-BECA-59C4BDEE5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25836A-4CFF-4DB1-8E19-8A290847A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47AEDD-67FD-40A9-9A50-79D1C823C2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1641B-77F6-4BF6-A004-B0B7023D7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30F0F-55AB-42EA-AE06-F9B1524CC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9F194-551D-43A3-A005-4EC55FB80B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CA0F32-9BA2-4E9B-8490-5BB7235589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F6C8EC-A2DD-4657-B258-30E10BBBB9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867BC-1DD9-479B-8016-175737E6C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82EDB-03E2-44B9-A361-E768E4EA72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008DD-3A58-4E80-9BB6-33D57C5E3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A331-E4A9-40EE-A6AF-C93150FA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FC89-981C-4190-A4ED-23E138A05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7E36-F31E-4465-832E-D9B541CDC103}" type="datetime">
              <a:rPr b="0" lang="ru-RU" sz="1000" spc="-1" strike="noStrike">
                <a:solidFill>
                  <a:srgbClr val="b13f9a"/>
                </a:solidFill>
                <a:latin typeface="Verdana"/>
              </a:rPr>
              <a:t>29.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82F1-BC2A-4C65-A13A-02016E09C529}"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8A53-AE36-44D2-AD26-AEF0BAB6CFCF}" type="datetime">
              <a:rPr b="0" lang="ru-RU" sz="1000" spc="-1" strike="noStrike">
                <a:solidFill>
                  <a:srgbClr val="ffffff"/>
                </a:solidFill>
                <a:latin typeface="Verdana"/>
              </a:rPr>
              <a:t>29.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464F-F7C1-4258-8BE7-A21621289496}"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DB14-F0FF-45F6-8CAE-992FDA98AF2E}" type="datetime">
              <a:rPr b="0" lang="ru-RU" sz="1000" spc="-1" strike="noStrike">
                <a:solidFill>
                  <a:srgbClr val="b13f9a"/>
                </a:solidFill>
                <a:latin typeface="Verdana"/>
              </a:rPr>
              <a:t>29.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D61D-8FEC-44E0-B905-080C824DD463}"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BD82-FF5E-4A36-9B32-3B72FD0AFF8C}" type="datetime">
              <a:rPr b="0" lang="ru-RU" sz="1000" spc="-1" strike="noStrike">
                <a:solidFill>
                  <a:srgbClr val="f4e7ed"/>
                </a:solidFill>
                <a:latin typeface="Verdana"/>
              </a:rPr>
              <a:t>29.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DB96-A088-4F66-802A-DF3D47766E3C}"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70F6-E7AD-40DD-8E1F-17762966AEF1}" type="datetime">
              <a:rPr b="0" lang="ru-RU" sz="1000" spc="-1" strike="noStrike">
                <a:solidFill>
                  <a:srgbClr val="b13f9a"/>
                </a:solidFill>
                <a:latin typeface="Verdana"/>
              </a:rPr>
              <a:t>29.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BF5C-8A63-462E-B257-A14755B886D4}"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