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8.png" ContentType="image/png"/>
  <Override PartName="/ppt/media/image14.jpeg" ContentType="image/jpeg"/>
  <Override PartName="/ppt/media/image12.jpeg" ContentType="image/jpeg"/>
  <Override PartName="/ppt/media/image11.png" ContentType="image/png"/>
  <Override PartName="/ppt/media/image19.jpeg" ContentType="image/jpeg"/>
  <Override PartName="/ppt/media/image21.jpeg" ContentType="image/jpeg"/>
  <Override PartName="/ppt/media/image16.jpeg" ContentType="image/jpeg"/>
  <Override PartName="/ppt/media/image18.jpeg" ContentType="image/jpeg"/>
  <Override PartName="/ppt/media/image17.png" ContentType="image/png"/>
  <Override PartName="/ppt/media/image4.jpeg" ContentType="image/jpeg"/>
  <Override PartName="/ppt/media/image15.jpeg" ContentType="image/jpeg"/>
  <Override PartName="/ppt/media/image1.png" ContentType="image/png"/>
  <Override PartName="/ppt/media/image2.jpeg" ContentType="image/jpeg"/>
  <Override PartName="/ppt/media/image3.png" ContentType="image/png"/>
  <Override PartName="/ppt/media/image7.jpeg" ContentType="image/jpeg"/>
  <Override PartName="/ppt/media/image20.png" ContentType="image/png"/>
  <Override PartName="/ppt/media/image5.png" ContentType="image/png"/>
  <Override PartName="/ppt/media/image10.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move the slide</a:t>
            </a:r>
            <a:endParaRPr b="1" lang="en-US" sz="3800" spc="-1" strike="noStrike">
              <a:solidFill>
                <a:srgbClr val="000000"/>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BBF72-0F11-4919-9015-DA7E39FC076E}"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дицина в Древнем Египт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дицина в Древнем Египт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ачебная деятельность в Древнем Египте подчинялась строгим моральным нормам. Соблюдая их, врач ничем не рисковал, даже при неудачном исходе лечения. Однако нарушение правил жестоко каралось вплоть до смертной казни. Каждый египетский врач принадлежал к определенной коллегии жрецов. Больные обращались не непосредственно к врачу, а в храм, где им рекомендовали соответствующего врача. Гонорар за лечение выплачивался храму, который содержал врача. </a:t>
            </a:r>
            <a:br>
              <a:rPr sz="1200"/>
            </a:br>
            <a:r>
              <a:rPr b="0" lang="ru-RU" sz="1200" spc="-1" strike="noStrike">
                <a:solidFill>
                  <a:srgbClr val="000000"/>
                </a:solidFill>
                <a:latin typeface="Calibri"/>
              </a:rPr>
              <a:t>    Правители многих стран приглашали на службу ко двору египетских врачей. Врачебное искусство разделено в Египте таким образом, что каждый врач излечивает только одну болезнь. Поэтому у них полно врачей: одни лечат глаза, другие голову, третьи зубы, четвертые желудок, пятые внутренние болезн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ачебная деятельность в Древнем Египте подчинялась строгим моральным нормам. Соблюдая их, врач ничем не рисковал, даже при неудачном исходе лечения. Однако нарушение правил жестоко каралось вплоть до смертной казни. Каждый египетский врач принадлежал к определенной коллегии жрецов. Больные обращались не непосредственно к врачу, а в храм, где им рекомендовали соответствующего врача. Гонорар за лечение выплачивался храму, который содержал врача. </a:t>
            </a:r>
            <a:br>
              <a:rPr sz="1200"/>
            </a:br>
            <a:r>
              <a:rPr b="0" lang="ru-RU" sz="1200" spc="-1" strike="noStrike">
                <a:solidFill>
                  <a:srgbClr val="000000"/>
                </a:solidFill>
                <a:latin typeface="Calibri"/>
              </a:rPr>
              <a:t>    Правители многих стран приглашали на службу ко двору египетских врачей. Врачебное искусство разделено в Египте таким образом, что каждый врач излечивает только одну болезнь. Поэтому у них полно врачей: одни лечат глаза, другие голову, третьи зубы, четвертые желудок, пятые внутренние болезн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авными богами врачевания считались бог мудрости Тот и богиня материнства и плодородия Исида. Тот создал письменность, математику, астрономию, религиозные обряды, музыку и что особенно важно - систему лечения болезней природными средствами. Ему приписываются самые древние медицинские трактаты.        </a:t>
            </a:r>
            <a:br>
              <a:rPr sz="1200"/>
            </a:br>
            <a:r>
              <a:rPr b="0" lang="ru-RU" sz="1200" spc="-1" strike="noStrike">
                <a:solidFill>
                  <a:srgbClr val="000000"/>
                </a:solidFill>
                <a:latin typeface="Calibri"/>
              </a:rPr>
              <a:t>      Исида считалась создательницей магических основ врачевания и покровительницей детей. Лекарства с именем Исиды даже упоминаются в трудах древнеримского врача-фармацевта Галена.        </a:t>
            </a:r>
            <a:br>
              <a:rPr sz="1200"/>
            </a:br>
            <a:r>
              <a:rPr b="0" lang="ru-RU" sz="1200" spc="-1" strike="noStrike">
                <a:solidFill>
                  <a:srgbClr val="000000"/>
                </a:solidFill>
                <a:latin typeface="Calibri"/>
              </a:rPr>
              <a:t>      У древнеегипетской медицины были и другие божественные покровители: могучая львиноголовая богиня Сохмет, защитница женщин и рожениц; богиня Тауэрт, изображавшаяся в виде самки гиппопотама. Каждый новорожденный египтянин независимо от социального статуса лежал рядом с небольшой статуэткой Тауэрт.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авными богами врачевания считались бог мудрости Тот и богиня материнства и плодородия Исида. Тот создал письменность, математику, астрономию, религиозные обряды, музыку и что особенно важно - систему лечения болезней природными средствами. Ему приписываются самые древние медицинские трактаты.        </a:t>
            </a:r>
            <a:br>
              <a:rPr sz="1200"/>
            </a:br>
            <a:r>
              <a:rPr b="0" lang="ru-RU" sz="1200" spc="-1" strike="noStrike">
                <a:solidFill>
                  <a:srgbClr val="000000"/>
                </a:solidFill>
                <a:latin typeface="Calibri"/>
              </a:rPr>
              <a:t>      Исида считалась создательницей магических основ врачевания и покровительницей детей. Лекарства с именем Исиды даже упоминаются в трудах древнеримского врача-фармацевта Галена.        </a:t>
            </a:r>
            <a:br>
              <a:rPr sz="1200"/>
            </a:br>
            <a:r>
              <a:rPr b="0" lang="ru-RU" sz="1200" spc="-1" strike="noStrike">
                <a:solidFill>
                  <a:srgbClr val="000000"/>
                </a:solidFill>
                <a:latin typeface="Calibri"/>
              </a:rPr>
              <a:t>      У древнеегипетской медицины были и другие божественные покровители: могучая львиноголовая богиня Сохмет, защитница женщин и рожениц; богиня Тауэрт, изображавшаяся в виде самки гиппопотама. Каждый новорожденный египтянин независимо от социального статуса лежал рядом с небольшой статуэткой Тауэрт.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уэрт- покровительница женщин и рожениц.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ева: Фаянс II-I тыс. до н.э.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рава: Камень. Около 650 г.до н.э.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ревнеегипетский рельеф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изображением богини во время род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уэрт- покровительница женщин и рожениц.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ева: Фаянс II-I тыс. до н.э.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рава: Камень. Около 650 г.до н.э.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ревнеегипетский рельеф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изображением богини во время родо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ставления о связи загробных субстанций с местом погребения привели к стремлению сохранить тело умершего от разрушения - набальзамировать его. Этим занимались лица, в совершенстве владевшие различными способами бальзамирования. Один из этих способов описывает греческий историк Геродот. Способы бальзамирования утрачены, но эффективность их очевидна. Трупы, мумифицированные древними египтянами несколько тысячелетий назад, сохранились до наших дней и позволяют проводить исследования состояния здоровья и особенностей заболеваемости в столь отдаленные времена.        </a:t>
            </a:r>
            <a:br>
              <a:rPr sz="1200"/>
            </a:br>
            <a:r>
              <a:rPr b="0" lang="ru-RU" sz="1200" spc="-1" strike="noStrike">
                <a:solidFill>
                  <a:srgbClr val="000000"/>
                </a:solidFill>
                <a:latin typeface="Calibri"/>
              </a:rPr>
              <a:t>      Практика бальзамирования в Древнем Египте явилась, по-видимому, первым и основным источником знаний о строении человеческого тела. Бальзамирование требовало применения и различных реактивов, что косвенно способствовало зарождению представлений о химической природе реакций. Более того, предполагается, что и само название "химия" произошло от древнего названия Египта - "Кемет". Знания египтян в области анатомии существенно превышали представления о строении человеческого тела в соседних странах и, в частности, Месопотамии, где трупы умерших не вскрывали.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ставления о связи загробных субстанций с местом погребения привели к стремлению сохранить тело умершего от разрушения - набальзамировать его. Этим занимались лица, в совершенстве владевшие различными способами бальзамирования. Один из этих способов описывает греческий историк Геродот. Способы бальзамирования утрачены, но эффективность их очевидна. Трупы, мумифицированные древними египтянами несколько тысячелетий назад, сохранились до наших дней и позволяют проводить исследования состояния здоровья и особенностей заболеваемости в столь отдаленные времена.        </a:t>
            </a:r>
            <a:br>
              <a:rPr sz="1200"/>
            </a:br>
            <a:r>
              <a:rPr b="0" lang="ru-RU" sz="1200" spc="-1" strike="noStrike">
                <a:solidFill>
                  <a:srgbClr val="000000"/>
                </a:solidFill>
                <a:latin typeface="Calibri"/>
              </a:rPr>
              <a:t>      Практика бальзамирования в Древнем Египте явилась, по-видимому, первым и основным источником знаний о строении человеческого тела. Бальзамирование требовало применения и различных реактивов, что косвенно способствовало зарождению представлений о химической природе реакций. Более того, предполагается, что и само название "химия" произошло от древнего названия Египта - "Кемет". Знания египтян в области анатомии существенно превышали представления о строении человеческого тела в соседних странах и, в частности, Месопотамии, где трупы умерших не вскрывали.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убис совершает ритуал бальзамир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убис совершает ритуал бальзамирова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ольшую роль в накоплении сведений в Древнем Египте играли военные врачи, сопровождавшие египетское войско в походах. На гробницах сохранились изображения операций на конечностях. Все ранения делились по прогнозу на излечимые, сомнительные и безнадежные. Врачебная этика того времени требовала открытого сообщения пациенту предполагаемого исхода лечения одной из трех фраз: "Это болезнь, которую я могу вылечить; это болезнь, которую я, может быть, смогу вылечить; это болезнь, которую я не смогу вылечить". </a:t>
            </a:r>
            <a:br>
              <a:rPr sz="1200"/>
            </a:br>
            <a:r>
              <a:rPr b="0" lang="ru-RU" sz="1200" spc="-1" strike="noStrike">
                <a:solidFill>
                  <a:srgbClr val="000000"/>
                </a:solidFill>
                <a:latin typeface="Calibri"/>
              </a:rPr>
              <a:t>    В тех случаях, когда излечение было возможным, в папирусе Имхотепа даются четкие указания тактики врачевания: "Скажи ты тому, у кого зияющая рана на голове: "Это болезнь, которую я буду лечить". После того, как ты зашьешь ему рану, в первый день положи на нее свежее мясо и не бинтуй ее. Заботься о нем до тех пор, пока пройдет время его болезни. Лечи рану жиром, медом, корпией, пока больной не поправится". </a:t>
            </a:r>
            <a:br>
              <a:rPr sz="1200"/>
            </a:br>
            <a:r>
              <a:rPr b="0" lang="ru-RU" sz="1200" spc="-1" strike="noStrike">
                <a:solidFill>
                  <a:srgbClr val="000000"/>
                </a:solidFill>
                <a:latin typeface="Calibri"/>
              </a:rPr>
              <a:t>    При лечении переломов египетские врачеватели применяли деревянные лубки или бинтовали поврежденную конечность льняной тканью, пропитанной затвердевающей смолой. Такие шины обнаружены на египетских мумиях. Они во многом близки современным гипсовым повязкам.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ольшую роль в накоплении сведений в Древнем Египте играли военные врачи, сопровождавшие египетское войско в походах. На гробницах сохранились изображения операций на конечностях. Все ранения делились по прогнозу на излечимые, сомнительные и безнадежные. Врачебная этика того времени требовала открытого сообщения пациенту предполагаемого исхода лечения одной из трех фраз: "Это болезнь, которую я могу вылечить; это болезнь, которую я, может быть, смогу вылечить; это болезнь, которую я не смогу вылечить". </a:t>
            </a:r>
            <a:br>
              <a:rPr sz="1200"/>
            </a:br>
            <a:r>
              <a:rPr b="0" lang="ru-RU" sz="1200" spc="-1" strike="noStrike">
                <a:solidFill>
                  <a:srgbClr val="000000"/>
                </a:solidFill>
                <a:latin typeface="Calibri"/>
              </a:rPr>
              <a:t>    В тех случаях, когда излечение было возможным, в папирусе Имхотепа даются четкие указания тактики врачевания: "Скажи ты тому, у кого зияющая рана на голове: "Это болезнь, которую я буду лечить". После того, как ты зашьешь ему рану, в первый день положи на нее свежее мясо и не бинтуй ее. Заботься о нем до тех пор, пока пройдет время его болезни. Лечи рану жиром, медом, корпией, пока больной не поправится". </a:t>
            </a:r>
            <a:br>
              <a:rPr sz="1200"/>
            </a:br>
            <a:r>
              <a:rPr b="0" lang="ru-RU" sz="1200" spc="-1" strike="noStrike">
                <a:solidFill>
                  <a:srgbClr val="000000"/>
                </a:solidFill>
                <a:latin typeface="Calibri"/>
              </a:rPr>
              <a:t>    При лечении переломов египетские врачеватели применяли деревянные лубки или бинтовали поврежденную конечность льняной тканью, пропитанной затвердевающей смолой. Такие шины обнаружены на египетских мумиях. Они во многом близки современным гипсовым повязкам.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ой с переломом но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ой полиомиелитом н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евней стелл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ой с переломом ног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ой полиомиелитом на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евней стелл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ключительно популярной в Древнем Египте была профессия зубного врача. Это и понятно, так как исследование мумий показало широкое распространение у египтян тяжелых воспалительных заболеваний надкостницы, десен и зубов. Даже у фараонов, при которых находились лучшие египетские стоматологи того времени, обнаружены поражения челюстей и выпадение зубов. По-видимому, тогда еще не были известны такие вмешательства, как пломбирование кариозных полостей и протезирование зубов золотом или другими металлами. Единственным свидетельством использования золота в древнеегипетской зубоврачебной практике является накладка двух нижних моляров, соединенных между собой тонкой проволокой по линии шеек обоих зубов.        </a:t>
            </a:r>
            <a:br>
              <a:rPr sz="1200"/>
            </a:br>
            <a:r>
              <a:rPr b="0" lang="ru-RU" sz="1200" spc="-1" strike="noStrike">
                <a:solidFill>
                  <a:srgbClr val="000000"/>
                </a:solidFill>
                <a:latin typeface="Calibri"/>
              </a:rPr>
              <a:t>      Лечение болезней зубов в Древнем Египте проводили в основном консервативно, прикладывая к больному зубу или деснам различные пасты. В папирусе Эбера имеется 11 прописей таких лекарств. По мысли составителей, эти пасты должны были оздоравливать полость рта, укреплять зубы, снимать воспаление десен (парадонтоз) и зубную боль. Многие из прописей паст папируса Эбера современные египетские фармацевты воспроизвели и рекомендуют для лечения распространенного в наше время парадонтоза, ведущего к выпадению зуб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ключительно популярной в Древнем Египте была профессия зубного врача. Это и понятно, так как исследование мумий показало широкое распространение у египтян тяжелых воспалительных заболеваний надкостницы, десен и зубов. Даже у фараонов, при которых находились лучшие египетские стоматологи того времени, обнаружены поражения челюстей и выпадение зубов. По-видимому, тогда еще не были известны такие вмешательства, как пломбирование кариозных полостей и протезирование зубов золотом или другими металлами. Единственным свидетельством использования золота в древнеегипетской зубоврачебной практике является накладка двух нижних моляров, соединенных между собой тонкой проволокой по линии шеек обоих зубов.        </a:t>
            </a:r>
            <a:br>
              <a:rPr sz="1200"/>
            </a:br>
            <a:r>
              <a:rPr b="0" lang="ru-RU" sz="1200" spc="-1" strike="noStrike">
                <a:solidFill>
                  <a:srgbClr val="000000"/>
                </a:solidFill>
                <a:latin typeface="Calibri"/>
              </a:rPr>
              <a:t>      Лечение болезней зубов в Древнем Египте проводили в основном консервативно, прикладывая к больному зубу или деснам различные пасты. В папирусе Эбера имеется 11 прописей таких лекарств. По мысли составителей, эти пасты должны были оздоравливать полость рта, укреплять зубы, снимать воспаление десен (парадонтоз) и зубную боль. Многие из прописей паст папируса Эбера современные египетские фармацевты воспроизвели и рекомендуют для лечения распространенного в наше время парадонтоза, ведущего к выпадению зубов.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br>
              <a:rPr sz="1200"/>
            </a:br>
            <a:br>
              <a:rPr sz="1200"/>
            </a:br>
            <a:br>
              <a:rPr sz="1200"/>
            </a:br>
            <a:r>
              <a:rPr b="0" lang="ru-RU" sz="1200" spc="-1" strike="noStrike">
                <a:solidFill>
                  <a:srgbClr val="000000"/>
                </a:solidFill>
                <a:latin typeface="Calibri"/>
              </a:rPr>
              <a:t>Хеси-ра – один из известных </a:t>
            </a:r>
            <a:br>
              <a:rPr sz="1200"/>
            </a:br>
            <a:br>
              <a:rPr sz="1200"/>
            </a:br>
            <a:r>
              <a:rPr b="0" lang="ru-RU" sz="1200" spc="-1" strike="noStrike">
                <a:solidFill>
                  <a:srgbClr val="000000"/>
                </a:solidFill>
                <a:latin typeface="Calibri"/>
              </a:rPr>
              <a:t>врачевателей зубов.  XYIII в. До н.э.</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хняя челюсть взрослого египтяни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теомиелит). Период Нового цар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br>
              <a:rPr sz="1200"/>
            </a:br>
            <a:br>
              <a:rPr sz="1200"/>
            </a:br>
            <a:br>
              <a:rPr sz="1200"/>
            </a:br>
            <a:r>
              <a:rPr b="0" lang="ru-RU" sz="1200" spc="-1" strike="noStrike">
                <a:solidFill>
                  <a:srgbClr val="000000"/>
                </a:solidFill>
                <a:latin typeface="Calibri"/>
              </a:rPr>
              <a:t>Хеси-ра – один из известных </a:t>
            </a:r>
            <a:br>
              <a:rPr sz="1200"/>
            </a:br>
            <a:br>
              <a:rPr sz="1200"/>
            </a:br>
            <a:r>
              <a:rPr b="0" lang="ru-RU" sz="1200" spc="-1" strike="noStrike">
                <a:solidFill>
                  <a:srgbClr val="000000"/>
                </a:solidFill>
                <a:latin typeface="Calibri"/>
              </a:rPr>
              <a:t>врачевателей зубов.  XYIII в. До н.э.</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хняя челюсть взрослого египтянин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теомиелит). Период Нового царств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ый знаменитый врач Древнего Египта - Имхотеп</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ожно предположить, что это скорее титул, чем подлинное имя (Имхотеп по древнеегипетски - "Приходящий с миром "). По данным современных исследователей, он был простолюдином, но благодаря своему таланту стал верховным жрецом и визирем фараона III династии Джосера (ок. 2780-2760 гг.до н.э.). Он был искусным врачом, зодчим, астрономом, талантливым литератором и поэтом, ученым-филологом, усовершенствовавшим иероглифическое письмо. В списках с папируса обожествленного врача Имхотепа даются четкие указания по лечению ран мягких тканей, технике перевязок, а также по выполнению наиболее частых хирургических операций того времени: обрезание и кастр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оследствии этот мудрец и ученый был обожествлен, ему стали посвящать часовни и храм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эллинистических правителях Египта он считался сыном бога Птаха, почитался как бог врачевания и отождествлялся с Асклепием. Его облик был также канонизирова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ый знаменитый врач Древнего Египта - Имхотеп</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ожно предположить, что это скорее титул, чем подлинное имя (Имхотеп по древнеегипетски - "Приходящий с миром "). По данным современных исследователей, он был простолюдином, но благодаря своему таланту стал верховным жрецом и визирем фараона III династии Джосера (ок. 2780-2760 гг.до н.э.). Он был искусным врачом, зодчим, астрономом, талантливым литератором и поэтом, ученым-филологом, усовершенствовавшим иероглифическое письмо. В списках с папируса обожествленного врача Имхотепа даются четкие указания по лечению ран мягких тканей, технике перевязок, а также по выполнению наиболее частых хирургических операций того времени: обрезание и кастр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оследствии этот мудрец и ученый был обожествлен, ему стали посвящать часовни и храмы.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эллинистических правителях Египта он считался сыном бога Птаха, почитался как бог врачевания и отождествлялся с Асклепием. Его облик был также канонизирован.</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отивоположность Вавилону, мрачной родине деспотизма, Египет был для древнего мира истинной крепостью священной науки, школой для его наиболее славных пророков, убежищем и вместе лабораторией наиболее благородных преданий человечеств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дуард Шюре ("Мистерии Египта").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диции врачевания в Древнем Египте складывались в тесном взаимодействии с медициной Древней Месопотамии. Они оказали большое влияние на становление медицины Древней Греции, считающейся предшественницей современной научной медицин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отивоположность Вавилону, мрачной родине деспотизма, Египет был для древнего мира истинной крепостью священной науки, школой для его наиболее славных пророков, убежищем и вместе лабораторией наиболее благородных преданий человечества.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дуард Шюре ("Мистерии Египта").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диции врачевания в Древнем Египте складывались в тесном взаимодействии с медициной Древней Месопотамии. Они оказали большое влияние на становление медицины Древней Греции, считающейся предшественницей современной научной медицины.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о существовании медицинских трактатов в Древнем Египте говорится в записи на стене гробницы Уаш-Птаха - главного архитектора царя V династии Неферирка-Ра (ХХV в. до н. э.). В этой же надписи приводится клиническая картина скоропостижной смерти архитектора, которая, по современным представлениям, напоминает инфаркт миокарда или инсульт мозг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евнейшие медицинские трактаты написаны на папирусах. До наших дней они не сохранились и мы знаем о них лишь по свидетельству древних историков. Так, жрец Менефон сообщает, что Атотис (второй царь I династии) составил медицинский папирус о строении тела человека. В настоящее время известно 10 основных папирусов, полностью или частично посвященных врачеванию. Все они являются списками с более ранних трактатов. Самый старый дошедший до нас медицинский папирус датируется примерно 1800 г. до н. э. Один его раздел посвящен ведению родов, а другой - лечению животных. В то же время были составлены IV и V папирусы из Ромессеума, в которых описаны приемы магического врачевания. Наиболее полные сведения о медицине Древнего Египта дают два папируса, датируемые примерно 1550 г. до н. э., - большой медицинский папирус Г. Эбера и папирус по хирургии Э. Смита.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о существовании медицинских трактатов в Древнем Египте говорится в записи на стене гробницы Уаш-Птаха - главного архитектора царя V династии Неферирка-Ра (ХХV в. до н. э.). В этой же надписи приводится клиническая картина скоропостижной смерти архитектора, которая, по современным представлениям, напоминает инфаркт миокарда или инсульт мозга.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евнейшие медицинские трактаты написаны на папирусах. До наших дней они не сохранились и мы знаем о них лишь по свидетельству древних историков. Так, жрец Менефон сообщает, что Атотис (второй царь I династии) составил медицинский папирус о строении тела человека. В настоящее время известно 10 основных папирусов, полностью или частично посвященных врачеванию. Все они являются списками с более ранних трактатов. Самый старый дошедший до нас медицинский папирус датируется примерно 1800 г. до н. э. Один его раздел посвящен ведению родов, а другой - лечению животных. В то же время были составлены IV и V папирусы из Ромессеума, в которых описаны приемы магического врачевания. Наиболее полные сведения о медицине Древнего Египта дают два папируса, датируемые примерно 1550 г. до н. э., - большой медицинский папирус Г. Эбера и папирус по хирургии Э. Смита.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шой медицинский папирус  Г. Эбера   </a:t>
            </a:r>
            <a:br>
              <a:rPr sz="1200"/>
            </a:br>
            <a:r>
              <a:rPr b="0" lang="ru-RU" sz="1200" spc="-1" strike="noStrike">
                <a:solidFill>
                  <a:srgbClr val="000000"/>
                </a:solidFill>
                <a:latin typeface="Calibri"/>
              </a:rPr>
              <a:t>XVI  в. до н.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ет самую большую информацию о  врачевании в древнем Египте. Найден в Фивах в 1872 г. и назван по имени  изучавшего его ученог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шой медицинский папирус  Г. Эбера   </a:t>
            </a:r>
            <a:br>
              <a:rPr sz="1200"/>
            </a:br>
            <a:r>
              <a:rPr b="0" lang="ru-RU" sz="1200" spc="-1" strike="noStrike">
                <a:solidFill>
                  <a:srgbClr val="000000"/>
                </a:solidFill>
                <a:latin typeface="Calibri"/>
              </a:rPr>
              <a:t>XVI  в. до н.э.</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ет самую большую информацию о  врачевании в древнем Египте. Найден в Фивах в 1872 г. и назван по имени  изучавшего его ученог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Склеенный из 108 листов, он достигает в длину 20,5 м и вполне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оправдывает свое название «Книга приготовления лекарств для всех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частей тела». Папирус содержит около 900 прописей лекарств для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лечения органов пищеварения, дыхательных путей, уха, горла и носа,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ожогов и кровотечений, глазных болезней, кожных, паразитарных и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ногих других заболеваний. При составлении лекарств широко использо-</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ались растения (лук, мак, финики, лотос, гранат, алоэ, виноград, папирус), минеральные вещества (сурьма, сера, железо, свинец, сода, алебастр,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глина, селитра) и части тела многих животных.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Так, лекарство для изгнания глистов («умерщвления червей») содержало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среди прочих компонентов: косточек фиников — 8, растения дисарт—8,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сладкого пива — 25 частей. Пропись заканчивалась словами: «сварить,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смешать, выпить — выйдет тотчас». В лекарство от слепоты входили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бычья печень и мед.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Некоторые прописи были чрезвычайно сложными и включали до 37 составляющих. Основой для приготовления лекарств были молоко, мед,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иво. Многие компоненты лекарственных средств до сих пор не идентифицированы, что значительно затрудняет их изучение.</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Готовить лекарство рекомендовалось ночью и пить четыре дня. Прием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некоторых лекарств сопровождался магическими обрядами в виде закл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наний и заговоров. </a:t>
            </a:r>
            <a:br>
              <a:rPr sz="1100"/>
            </a:b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www.sliderpoint.org</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клеенный из 108 листов, он достигает в длину 20,5 м и вполне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авдывает свое название «Книга приготовления лекарств для всех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ей тела». Папирус содержит около 900 прописей лекарств дл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чения органов пищеварения, дыхательных путей, уха, горла и носа,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жогов и кровотечений, глазных болезней, кожных, паразитарных 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огих других заболеваний. При составлении лекарств широко использ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ись растения (лук, мак, финики, лотос, гранат, алоэ, виноград, папирус), минеральные вещества (сурьма, сера, железо, свинец, сода, алебастр,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ина, селитра) и части тела многих животных.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 лекарство для изгнания глистов («умерщвления червей») содержало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и прочих компонентов: косточек фиников — 8, растения дисарт—8,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адкого пива — 25 частей. Пропись заканчивалась словами: «сварить,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мешать, выпить — выйдет тотчас». В лекарство от слепоты входил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ычья печень и мед.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которые прописи были чрезвычайно сложными и включали до 37 составляющих. Основой для приготовления лекарств были молоко, мед,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иво. Многие компоненты лекарственных средств до сих пор не идентифицированы, что значительно затрудняет их изуче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отовить лекарство рекомендовалось ночью и пить четыре дня. Прием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которых лекарств сопровождался магическими обрядами в виде закл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ий и заговоров.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папирусе Эбера приводятся прописи лекарств для разглаживания морщин, удаления родинок, окраски волос и бровей, усиления роста волос. Для защиты от палящего солнца египтяне обоего пола обводили глаза зеленой пастой, содержащей сурьму и жир. Глазам при этом придавалась миндалевидная форма. Женщины Египта румянили щеки и красили губы. По-видимому, египтяне первыми ввели в употребление парик, который надевали на коротко остриженные волосы. Парик состоял из большого числа туго переплетенных косичек. Он заменял головной убор и косвенно способствовал борьбе со вшивостью. Современные косметические египетские фирмы, стремящиеся на российский рынок, пытаются возродить многие древние прописи, рекламируя омолаживающее действие древних мазей, пластырей, примочек.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ольшое значение древние египтяне придавали соблюдению гигиенических правил. Религиозные законы предписывали умеренность в пище и опрятность в быт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видимому, не случайно древние греки считали египтян основателями "предупредительной" медицины.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папирусе Эбера приводятся прописи лекарств для разглаживания морщин, удаления родинок, окраски волос и бровей, усиления роста волос. Для защиты от палящего солнца египтяне обоего пола обводили глаза зеленой пастой, содержащей сурьму и жир. Глазам при этом придавалась миндалевидная форма. Женщины Египта румянили щеки и красили губы. По-видимому, египтяне первыми ввели в употребление парик, который надевали на коротко остриженные волосы. Парик состоял из большого числа туго переплетенных косичек. Он заменял головной убор и косвенно способствовал борьбе со вшивостью. Современные косметические египетские фирмы, стремящиеся на российский рынок, пытаются возродить многие древние прописи, рекламируя омолаживающее действие древних мазей, пластырей, примочек.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ольшое значение древние египтяне придавали соблюдению гигиенических правил. Религиозные законы предписывали умеренность в пище и опрятность в быту.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видимому, не случайно древние греки считали египтян основателями "предупредительной" медицины. </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В папирусе Эбера гинекологический раздел содержит сведения о распознавании сроков беременности, пола будущего ребенка, а также "женщины, могущей и не могущей родить". Берлинский и Кахунский папирусы описывают простой способ определения пола будущего ребенка. Предлагается смочить мочой беременной женщины зерна ячменя и пшеницы. Если первой прорастет пшеница - родится девочка, если ячмень - мальчик. Американские исследователи из Джорджтаунского университета провели такие пробы и получили статистически значимое подтверждение их эффективности.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В Древнем Египте моча находила довольно широкое применение в качестве лечебного средства. У Геродота есть описание не совсем ординарного случая уринотерапии: "По смерти Сезостриса царскую власть наследовал сын его Ферон, который ослеп... заболев глазами. Десять лет он был слепым; на одиннадцатом году царь услышал слово оракула в городе Буто, что время наказания его истекло, что он прозреет, если промоет глаза мочой женщины, которая имеет сношения только с мужем и никакого другого мужчину не имеет. Он прежде всего испытал мочу собственной жены и, когда не прозрел, подверг испытанию всех женщин подряд, пока наконец не прозрел. Тогда он собрал всех женщин, которых испытывал, кроме той, от мочи которой он прозрел, в одно место, именуемое теперь Красным полем, и всех их там сжег; на той женщине, от мочи которой прозрел, царь сам женился". Так в Древнем Египте одновременно был получен лечебный эффект и проведена экспертиза супружеской верности. </a:t>
            </a:r>
            <a:br>
              <a:rPr sz="1100"/>
            </a:br>
            <a:br>
              <a:rPr sz="1100"/>
            </a:b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www.sliderpoint.org</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папирусе Эбера гинекологический раздел содержит сведения о распознавании сроков беременности, пола будущего ребенка, а также "женщины, могущей и не могущей родить". Берлинский и Кахунский папирусы описывают простой способ определения пола будущего ребенка. Предлагается смочить мочой беременной женщины зерна ячменя и пшеницы. Если первой прорастет пшеница - родится девочка, если ячмень - мальчик. Американские исследователи из Джорджтаунского университета провели такие пробы и получили статистически значимое подтверждение их эффективност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Древнем Египте моча находила довольно широкое применение в качестве лечебного средства. У Геродота есть описание не совсем ординарного случая уринотерапии: "По смерти Сезостриса царскую власть наследовал сын его Ферон, который ослеп... заболев глазами. Десять лет он был слепым; на одиннадцатом году царь услышал слово оракула в городе Буто, что время наказания его истекло, что он прозреет, если промоет глаза мочой женщины, которая имеет сношения только с мужем и никакого другого мужчину не имеет. Он прежде всего испытал мочу собственной жены и, когда не прозрел, подверг испытанию всех женщин подряд, пока наконец не прозрел. Тогда он собрал всех женщин, которых испытывал, кроме той, от мочи которой он прозрел, в одно место, именуемое теперь Красным полем, и всех их там сжег; на той женщине, от мочи которой прозрел, царь сам женился". Так в Древнем Египте одновременно был получен лечебный эффект и проведена экспертиза супружеской верности. </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пирус Э.Смита.  </a:t>
            </a:r>
            <a:br>
              <a:rPr sz="1200"/>
            </a:br>
            <a:r>
              <a:rPr b="0" lang="ru-RU" sz="1200" spc="-1" strike="noStrike">
                <a:solidFill>
                  <a:srgbClr val="000000"/>
                </a:solidFill>
                <a:latin typeface="Calibri"/>
              </a:rPr>
              <a:t>XVI в. до н.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30 г. американский египтолог Дж. Г. Брэстед впервые опубликовал его иератический (полускорописный) текст, транслитерацию в иероглифах и перевод на английский язык с обширными комментариями в виде отдельного том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кст трактата расположен на папирусной ленте длиной 4,68 м и шириной около 33 см. Он состоит из 17 колонок, в которых описаньг 48 случаев травматических повреждений костей черепа, мозга, шейных позвонков, ключиц, предплечья, грудной клетки и позвоночного столба, а также способы их лечения при полном отсутствии элементов магии и мисти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пирус Э.Смита.  </a:t>
            </a:r>
            <a:br>
              <a:rPr sz="1200"/>
            </a:br>
            <a:r>
              <a:rPr b="0" lang="ru-RU" sz="1200" spc="-1" strike="noStrike">
                <a:solidFill>
                  <a:srgbClr val="000000"/>
                </a:solidFill>
                <a:latin typeface="Calibri"/>
              </a:rPr>
              <a:t>XVI в. до н.э.</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30 г. американский египтолог Дж. Г. Брэстед впервые опубликовал его иератический (полускорописный) текст, транслитерацию в иероглифах и перевод на английский язык с обширными комментариями в виде отдельного том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кст трактата расположен на папирусной ленте длиной 4,68 м и шириной около 33 см. Он состоит из 17 колонок, в которых описаньг 48 случаев травматических повреждений костей черепа, мозга, шейных позвонков, ключиц, предплечья, грудной клетки и позвоночного столба, а также способы их лечения при полном отсутствии элементов магии и мисти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рачеватели Египта делили причины болезней на естественные и сверхъестественны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 первым они относили нездоровую пищу, неблагоприятные климатические и погодные факторы, наличие кишечных паразитов. Геродот пишет, что египтяне считали причиной человеческих недугов плохую пищу, поэтому "желудок свой они очищают каждый месяц три дня подряд, принимая слабительные средства, и сохраняют здоровье рвотными и клистирами". Египтянам приписывают и изобретение клизмы. Интересно, что язык описания зашлакованности организма и методов очистки от шлаков многих современных народных целителей мало чем отличается от представлений древних египетских врачевател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ерхъестественные причины болезней египтяне видели во вселении в организм злых духов умерших. Для их изгнания использовались как лекарственные средства, так и различные магические приемы. Полагали, что дурные запахи и горькая пища отпугивают злых духов. Поэтому в состав ритуальных смесей при магических процедурах включали такие экзотические продукты, как части хвостов мышей, выделения из ушей свиней, кал и мочу животных. Во время изгнания злых духов звучали заклинания: "О мертвый! О покойник, скрывшийся в этой моей плоти, в этих частях моего тела. Спрятавшийся - удались! Скрывшийся - выходи!" Многие целители нашего времени "снимают сглаз и порчу", произнося тексты, близкие по сути к древнеегипетским, хотя в те времена было немало приемов врачевания, лишенных всякой мистики.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рачеватели Египта делили причины болезней на естественные и сверхъестественные.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 первым они относили нездоровую пищу, неблагоприятные климатические и погодные факторы, наличие кишечных паразитов. Геродот пишет, что египтяне считали причиной человеческих недугов плохую пищу, поэтому "желудок свой они очищают каждый месяц три дня подряд, принимая слабительные средства, и сохраняют здоровье рвотными и клистирами". Египтянам приписывают и изобретение клизмы. Интересно, что язык описания зашлакованности организма и методов очистки от шлаков многих современных народных целителей мало чем отличается от представлений древних египетских врачевателе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ерхъестественные причины болезней египтяне видели во вселении в организм злых духов умерших. Для их изгнания использовались как лекарственные средства, так и различные магические приемы. Полагали, что дурные запахи и горькая пища отпугивают злых духов. Поэтому в состав ритуальных смесей при магических процедурах включали такие экзотические продукты, как части хвостов мышей, выделения из ушей свиней, кал и мочу животных. Во время изгнания злых духов звучали заклинания: "О мертвый! О покойник, скрывшийся в этой моей плоти, в этих частях моего тела. Спрятавшийся - удались! Скрывшийся - выходи!" Многие целители нашего времени "снимают сглаз и порчу", произнося тексты, близкие по сути к древнеегипетским, хотя в те времена было немало приемов врачевания, лишенных всякой мистики. </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739EFD-9880-4451-AD71-849D274219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ECCCC-189E-4C5A-B67B-42B09FD93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56B279-E447-4C44-96F9-9FA8706C5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63646-E7D9-4582-A147-5E8C17D12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E62ECD-E4A4-471F-BEB5-5A72326A8E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A18BE9-41E7-4C42-AEE5-AB14D677B3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674F39-923C-4469-9514-60EC1ADEC9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FE77E-66F7-491C-8021-5F712501B1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523F0E-A844-4986-B940-20506863A0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704621-555F-4CDD-8101-91813C0C8E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77468-9F32-4665-A26F-C2D0FC0F34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95929-5F60-45DE-8DDF-5CEE22C27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AB8C7-A670-4AAF-AE44-C65DE0C98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B8E84-CE99-45EF-8D02-B5F577EFF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124009-B31A-42DF-B192-6AC6E1DBD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C3715D-02BC-4494-A8DB-37A3044E00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F57AA8-23CE-43FA-B2E7-7950E6C4B5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6BBA27-25FE-4F18-8C21-52B424075E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A75BDD-437E-4388-A254-F59FC71965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44D6C0-5913-45DD-AE43-8B2EF8F799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E0A79B-32B8-4619-9EDC-E9452E801F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E3EC88-3069-4C10-A6A8-543408B88D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D1721-CD41-42CD-A7A7-F638F512F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B0266A-0055-47BF-AE03-CC6C608685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7FE882-2313-4991-84B5-E16E6E42A3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856938-1CBA-4D72-AAED-C771C136DE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541F87-A1A2-45BB-91D0-ED9A6D429A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E424F8-2056-49FC-A17D-C04EF466B7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7937D1-4FF6-4807-A1BD-39AE347E48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2456E8-CF4D-47C6-AFCC-5586ABCB89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9CE9A7-1630-45FA-BAD0-20A06D164E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5C01B2-47BE-4B09-9CBB-8A65E22E13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9E5703-E72D-473B-AB76-88489767F4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B11FB-2D4F-4499-84D4-899C66626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2246CC-BB6C-498A-A32D-F35BCA956D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1A575B-59F1-4F3E-9529-106C5DA542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20525F-FA91-4554-AB5C-AC75AB3405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B33E7C-63C5-4EEC-8F04-22662BEFAF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4DD01F-2659-434A-98D9-2094E61429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73086B-A064-4083-9FEC-299ED124CC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E2FF68-E3BB-4EE4-844E-B273469AAE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7F1E1D-43CA-4E6E-9B6F-1301E884DC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4E2DDE-7C56-4EB4-AC4C-091DE73BA6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A6D89D-DF61-44EB-BA05-4A35687426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64EE8-C932-41F9-B5D0-042FE7129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E581A5-EA4E-481E-A590-5AAD5B8008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4951DC-A6CD-4F2B-9BA5-A9B0E87811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E8D6EF-BF13-40AB-BCC6-C0F22040F4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7274E4-C6EE-4581-B207-E7AAFF044F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AE19AB-9F4E-4CD5-BD8E-FDA2E89CFE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B32EE3-4C35-4AB3-98D9-BE6FB19378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E6658D-C625-4379-BFEB-84F1ECD976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250A19-175C-4DB8-9BD4-3280302941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5CB91A-82E0-42BA-AC02-C8775145C8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5768C9-DC76-445E-AB7A-E0BD807643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236D4-59BD-4851-90D1-A648AEF1D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642009-D6AF-4A16-BCB7-54D61C1639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60752-6B67-449A-965A-42A8F047A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623C6-8E0F-4C9D-85E6-B88196AE6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AA844-EFC8-47D0-93E1-5F2838100B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Прямоугольник 8"/>
          <p:cNvGrpSpPr/>
          <p:nvPr/>
        </p:nvGrpSpPr>
        <p:grpSpPr>
          <a:xfrm>
            <a:off x="8156520" y="0"/>
            <a:ext cx="987480" cy="6858000"/>
            <a:chOff x="8156520" y="0"/>
            <a:chExt cx="987480" cy="6858000"/>
          </a:xfrm>
        </p:grpSpPr>
        <p:pic>
          <p:nvPicPr>
            <p:cNvPr id="1" name="Прямоугольник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6EBD6-4143-4AB8-8B98-117B09D3DAF4}" type="datetime">
              <a:rPr b="0" lang="ru-RU" sz="1000" spc="-1" strike="noStrike">
                <a:solidFill>
                  <a:srgbClr val="b13f9a"/>
                </a:solidFill>
                <a:latin typeface="Verdana"/>
              </a:rPr>
              <a:t>28.07.26</a:t>
            </a:fld>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A9315-A355-436F-B041-CFA05EF2FBBD}" type="slidenum">
              <a:rPr b="0" lang="ru-RU" sz="1100" spc="-1" strike="noStrike">
                <a:solidFill>
                  <a:srgbClr val="b13f9a"/>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7"/>
          <p:cNvGrpSpPr/>
          <p:nvPr/>
        </p:nvGrpSpPr>
        <p:grpSpPr>
          <a:xfrm>
            <a:off x="2670120" y="0"/>
            <a:ext cx="6473880" cy="6858000"/>
            <a:chOff x="2670120" y="0"/>
            <a:chExt cx="6473880" cy="6858000"/>
          </a:xfrm>
        </p:grpSpPr>
        <p:pic>
          <p:nvPicPr>
            <p:cNvPr id="45" name="Прямоугольник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Прямая соединительная линия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C7236-8C43-4345-9ACD-C63212A2AF2E}" type="datetime">
              <a:rPr b="0" lang="ru-RU" sz="1000" spc="-1" strike="noStrike">
                <a:solidFill>
                  <a:srgbClr val="ffffff"/>
                </a:solidFill>
                <a:latin typeface="Verdana"/>
              </a:rPr>
              <a:t>28.07.26</a:t>
            </a:fld>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ff"/>
                </a:solidFill>
                <a:latin typeface="Verdana"/>
              </a:rPr>
              <a:t>www.sliderpoint.org</a:t>
            </a:r>
            <a:endParaRPr b="0" lang="en-US" sz="1000" spc="-1" strike="noStrike">
              <a:solidFill>
                <a:srgbClr val="000000"/>
              </a:solidFill>
              <a:latin typeface="Times New Roman"/>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84188-30E6-4DD0-B6E7-9020243E9BB0}" type="slidenum">
              <a:rPr b="0" lang="ru-RU" sz="1100" spc="-1" strike="noStrike">
                <a:solidFill>
                  <a:srgbClr val="ffffff"/>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Прямоугольник 8"/>
          <p:cNvGrpSpPr/>
          <p:nvPr/>
        </p:nvGrpSpPr>
        <p:grpSpPr>
          <a:xfrm>
            <a:off x="8156520" y="0"/>
            <a:ext cx="987480" cy="6858000"/>
            <a:chOff x="8156520" y="0"/>
            <a:chExt cx="987480" cy="6858000"/>
          </a:xfrm>
        </p:grpSpPr>
        <p:pic>
          <p:nvPicPr>
            <p:cNvPr id="90" name="Прямоугольник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79237-351F-405E-BAF6-4AE902E05511}" type="datetime">
              <a:rPr b="0" lang="ru-RU" sz="1000" spc="-1" strike="noStrike">
                <a:solidFill>
                  <a:srgbClr val="b13f9a"/>
                </a:solidFill>
                <a:latin typeface="Verdana"/>
              </a:rPr>
              <a:t>28.07.26</a:t>
            </a:fld>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Times New Roman"/>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2BE93-753F-4344-951F-96FB60D7755E}" type="slidenum">
              <a:rPr b="0" lang="ru-RU" sz="1100" spc="-1" strike="noStrike">
                <a:solidFill>
                  <a:srgbClr val="b13f9a"/>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Прямоугольник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Прямоугольник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Click to edit the title text format</a:t>
            </a:r>
            <a:endParaRPr b="1" lang="en-US" sz="3800" spc="-1" strike="noStrike">
              <a:solidFill>
                <a:srgbClr val="ffffff"/>
              </a:solidFill>
              <a:latin typeface="Verdana"/>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Click to edit the outline text format</a:t>
            </a:r>
            <a:endParaRPr b="0" lang="en-US" sz="2600" spc="-1" strike="noStrike">
              <a:solidFill>
                <a:srgbClr val="ffffff"/>
              </a:solidFill>
              <a:latin typeface="Verdana"/>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econd Outline Level</a:t>
            </a:r>
            <a:endParaRPr b="0" lang="en-US" sz="2600" spc="-1" strike="noStrike">
              <a:solidFill>
                <a:srgbClr val="ffffff"/>
              </a:solidFill>
              <a:latin typeface="Verdana"/>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ird Outline Level</a:t>
            </a:r>
            <a:endParaRPr b="0" lang="en-US" sz="2600" spc="-1" strike="noStrike">
              <a:solidFill>
                <a:srgbClr val="ffffff"/>
              </a:solidFill>
              <a:latin typeface="Verdana"/>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Fourth Outline Level</a:t>
            </a:r>
            <a:endParaRPr b="0" lang="en-US" sz="2600" spc="-1" strike="noStrike">
              <a:solidFill>
                <a:srgbClr val="ffffff"/>
              </a:solidFill>
              <a:latin typeface="Verdana"/>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Fifth Outline Level</a:t>
            </a:r>
            <a:endParaRPr b="0" lang="en-US" sz="2600" spc="-1" strike="noStrike">
              <a:solidFill>
                <a:srgbClr val="ffffff"/>
              </a:solidFill>
              <a:latin typeface="Verdana"/>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ixth Outline Level</a:t>
            </a:r>
            <a:endParaRPr b="0" lang="en-US" sz="2600" spc="-1" strike="noStrike">
              <a:solidFill>
                <a:srgbClr val="ffffff"/>
              </a:solidFill>
              <a:latin typeface="Verdana"/>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eventh Outline Level</a:t>
            </a:r>
            <a:endParaRPr b="0" lang="en-US" sz="2600" spc="-1" strike="noStrike">
              <a:solidFill>
                <a:srgbClr val="ffffff"/>
              </a:solidFill>
              <a:latin typeface="Verdana"/>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4e7e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797F1-AAA3-4148-9FDD-2F54185D4AFA}" type="datetime">
              <a:rPr b="0" lang="ru-RU" sz="1000" spc="-1" strike="noStrike">
                <a:solidFill>
                  <a:srgbClr val="f4e7ed"/>
                </a:solidFill>
                <a:latin typeface="Verdana"/>
              </a:rPr>
              <a:t>28.07.26</a:t>
            </a:fld>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f4e7e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4e7ed"/>
                </a:solidFill>
                <a:latin typeface="Verdana"/>
              </a:rPr>
              <a:t>www.sliderpoint.org</a:t>
            </a:r>
            <a:endParaRPr b="0" lang="en-US" sz="1000" spc="-1" strike="noStrike">
              <a:solidFill>
                <a:srgbClr val="000000"/>
              </a:solidFill>
              <a:latin typeface="Times New Roman"/>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D7A24-A646-422F-AF94-8BDA4C0E86FA}" type="slidenum">
              <a:rPr b="0" lang="ru-RU" sz="1100" spc="-1" strike="noStrike">
                <a:solidFill>
                  <a:srgbClr val="f4e7ed"/>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Прямоугольник 8"/>
          <p:cNvGrpSpPr/>
          <p:nvPr/>
        </p:nvGrpSpPr>
        <p:grpSpPr>
          <a:xfrm>
            <a:off x="8156520" y="0"/>
            <a:ext cx="987480" cy="6858000"/>
            <a:chOff x="8156520" y="0"/>
            <a:chExt cx="987480" cy="6858000"/>
          </a:xfrm>
        </p:grpSpPr>
        <p:pic>
          <p:nvPicPr>
            <p:cNvPr id="177" name="Прямоугольник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6B1C9-9B9C-429C-99A6-0B2B2D5C8448}" type="datetime">
              <a:rPr b="0" lang="ru-RU" sz="1000" spc="-1" strike="noStrike">
                <a:solidFill>
                  <a:srgbClr val="b13f9a"/>
                </a:solidFill>
                <a:latin typeface="Verdana"/>
              </a:rPr>
              <a:t>28.07.26</a:t>
            </a:fld>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Times New Roman"/>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AAB38-005D-4CFA-B667-275E5910DDD2}" type="slidenum">
              <a:rPr b="0" lang="ru-RU" sz="1100" spc="-1" strike="noStrike">
                <a:solidFill>
                  <a:srgbClr val="b13f9a"/>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Заголовок 1" descr=""/>
          <p:cNvPicPr/>
          <p:nvPr/>
        </p:nvPicPr>
        <p:blipFill>
          <a:blip r:embed="rId1"/>
          <a:stretch/>
        </p:blipFill>
        <p:spPr>
          <a:xfrm>
            <a:off x="3365640" y="536400"/>
            <a:ext cx="5559120" cy="318780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200" spc="-1" strike="noStrike">
              <a:solidFill>
                <a:srgbClr val="ffffff"/>
              </a:solidFill>
              <a:latin typeface="Verdana"/>
            </a:endParaRPr>
          </a:p>
        </p:txBody>
      </p:sp>
      <p:pic>
        <p:nvPicPr>
          <p:cNvPr id="229" name="Picture 2" descr=""/>
          <p:cNvPicPr/>
          <p:nvPr/>
        </p:nvPicPr>
        <p:blipFill>
          <a:blip r:embed="rId2"/>
          <a:stretch/>
        </p:blipFill>
        <p:spPr>
          <a:xfrm>
            <a:off x="428760" y="2286000"/>
            <a:ext cx="4929120" cy="4143240"/>
          </a:xfrm>
          <a:prstGeom prst="rect">
            <a:avLst/>
          </a:prstGeom>
          <a:ln w="0">
            <a:noFill/>
          </a:ln>
        </p:spPr>
      </p:pic>
      <p:sp>
        <p:nvSpPr>
          <p:cNvPr id="230" name="Місце для нижнього колонтитула 2"/>
          <p:cNvSpPr/>
          <p:nvPr/>
        </p:nvSpPr>
        <p:spPr>
          <a:xfrm>
            <a:off x="2819520" y="6558120"/>
            <a:ext cx="292716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ff"/>
                </a:solidFill>
                <a:latin typeface="Verdana"/>
              </a:rPr>
              <a:t>www.sliderpoint.org</a:t>
            </a:r>
            <a:endParaRPr b="0" lang="en-US" sz="10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Прямоугольник 1"/>
          <p:cNvSpPr/>
          <p:nvPr/>
        </p:nvSpPr>
        <p:spPr>
          <a:xfrm>
            <a:off x="285840" y="285840"/>
            <a:ext cx="76438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рачебная деятельность в Древнем Египте подчинялась строгим моральным нормам. Соблюдая их, врач ничем не рисковал, даже при неудачном исходе лечения. Однако нарушение правил жестоко каралось вплоть до смертной казни. Каждый египетский врач принадлежал к определенной коллегии жрецов. Больные обращались не непосредственно к врачу, а в храм, где им рекомендовали соответствующего врача. Гонорар за лечение выплачивался храму, который содержал врача. </a:t>
            </a:r>
            <a:br>
              <a:rPr sz="1800"/>
            </a:br>
            <a:r>
              <a:rPr b="0" lang="ru-RU" sz="1800" spc="-1" strike="noStrike">
                <a:solidFill>
                  <a:srgbClr val="000000"/>
                </a:solidFill>
                <a:latin typeface="Verdana"/>
              </a:rPr>
              <a:t>    Правители многих стран приглашали на службу ко двору египетских врачей. Врачебное искусство разделено в Египте таким образом, что каждый врач излечивает только одну болезнь. Поэтому у них полно врачей: одни лечат глаза, другие голову, третьи зубы, четвертые желудок, пятые внутренние болезни". </a:t>
            </a:r>
            <a:endParaRPr b="0" lang="en-US" sz="1800" spc="-1" strike="noStrike">
              <a:solidFill>
                <a:srgbClr val="000000"/>
              </a:solidFill>
              <a:latin typeface="Arial"/>
            </a:endParaRPr>
          </a:p>
        </p:txBody>
      </p:sp>
      <p:sp>
        <p:nvSpPr>
          <p:cNvPr id="25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Прямоугольник 1"/>
          <p:cNvSpPr/>
          <p:nvPr/>
        </p:nvSpPr>
        <p:spPr>
          <a:xfrm>
            <a:off x="357120" y="428760"/>
            <a:ext cx="77868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Главными богами врачевания считались бог мудрости Тот и богиня материнства и плодородия Исида. Тот создал письменность, математику, астрономию, религиозные обряды, музыку и что особенно важно - систему лечения болезней природными средствами. Ему приписываются самые древние медицинские трактаты.        </a:t>
            </a:r>
            <a:br>
              <a:rPr sz="1800"/>
            </a:br>
            <a:r>
              <a:rPr b="0" lang="ru-RU" sz="1800" spc="-1" strike="noStrike">
                <a:solidFill>
                  <a:srgbClr val="000000"/>
                </a:solidFill>
                <a:latin typeface="Verdana"/>
              </a:rPr>
              <a:t>      Исида считалась создательницей магических основ врачевания и покровительницей детей. Лекарства с именем Исиды даже упоминаются в трудах древнеримского врача-фармацевта Галена.        </a:t>
            </a:r>
            <a:br>
              <a:rPr sz="1800"/>
            </a:br>
            <a:r>
              <a:rPr b="0" lang="ru-RU" sz="1800" spc="-1" strike="noStrike">
                <a:solidFill>
                  <a:srgbClr val="000000"/>
                </a:solidFill>
                <a:latin typeface="Verdana"/>
              </a:rPr>
              <a:t>      У древнеегипетской медицины были и другие божественные покровители: могучая львиноголовая богиня Сохмет, защитница женщин и рожениц; богиня Тауэрт, изображавшаяся в виде самки гиппопотама. Каждый новорожденный египтянин независимо от социального статуса лежал рядом с небольшой статуэткой Тауэрт. </a:t>
            </a:r>
            <a:br>
              <a:rPr sz="1800"/>
            </a:br>
            <a:endParaRPr b="0" lang="en-US" sz="1800" spc="-1" strike="noStrike">
              <a:solidFill>
                <a:srgbClr val="000000"/>
              </a:solidFill>
              <a:latin typeface="Arial"/>
            </a:endParaRPr>
          </a:p>
        </p:txBody>
      </p:sp>
      <p:sp>
        <p:nvSpPr>
          <p:cNvPr id="255"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28240"/>
            <a:ext cx="5897520" cy="11732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00000"/>
              </a:solidFill>
              <a:latin typeface="Verdana"/>
            </a:endParaRPr>
          </a:p>
        </p:txBody>
      </p:sp>
      <p:sp>
        <p:nvSpPr>
          <p:cNvPr id="257" name="PlaceHolder 2"/>
          <p:cNvSpPr>
            <a:spLocks noGrp="1"/>
          </p:cNvSpPr>
          <p:nvPr>
            <p:ph/>
          </p:nvPr>
        </p:nvSpPr>
        <p:spPr>
          <a:xfrm>
            <a:off x="457200" y="285840"/>
            <a:ext cx="7400880" cy="1285920"/>
          </a:xfrm>
          <a:prstGeom prst="rect">
            <a:avLst/>
          </a:prstGeom>
          <a:noFill/>
          <a:ln w="0">
            <a:noFill/>
          </a:ln>
        </p:spPr>
        <p:txBody>
          <a:bodyPr lIns="4572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Тауэрт- покровительница женщин и рожениц. </a:t>
            </a:r>
            <a:endParaRPr b="0" lang="en-US" sz="20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лева: Фаянс II-I тыс. до н.э. </a:t>
            </a:r>
            <a:endParaRPr b="0" lang="en-US" sz="20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права: Камень. Около 650 г.до н.э. </a:t>
            </a:r>
            <a:endParaRPr b="0" lang="en-US" sz="20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58" name="Содержимое 4" descr="http://www.mho.org.ua/text/book1/egypt/02.jpg"/>
          <p:cNvPicPr/>
          <p:nvPr/>
        </p:nvPicPr>
        <p:blipFill>
          <a:blip r:embed="rId1"/>
          <a:stretch/>
        </p:blipFill>
        <p:spPr>
          <a:xfrm>
            <a:off x="214200" y="1714680"/>
            <a:ext cx="4857840" cy="3603600"/>
          </a:xfrm>
          <a:prstGeom prst="rect">
            <a:avLst/>
          </a:prstGeom>
          <a:ln w="0">
            <a:noFill/>
          </a:ln>
        </p:spPr>
      </p:pic>
      <p:pic>
        <p:nvPicPr>
          <p:cNvPr id="259" name="Рисунок 3" descr="http://www.mho.org.ua/text/book1/egypt/08.jpg"/>
          <p:cNvPicPr/>
          <p:nvPr/>
        </p:nvPicPr>
        <p:blipFill>
          <a:blip r:embed="rId2"/>
          <a:stretch/>
        </p:blipFill>
        <p:spPr>
          <a:xfrm>
            <a:off x="5214960" y="2571840"/>
            <a:ext cx="3714840" cy="4000320"/>
          </a:xfrm>
          <a:prstGeom prst="rect">
            <a:avLst/>
          </a:prstGeom>
          <a:ln w="0">
            <a:noFill/>
          </a:ln>
        </p:spPr>
      </p:pic>
      <p:sp>
        <p:nvSpPr>
          <p:cNvPr id="260" name="TextBox 5"/>
          <p:cNvSpPr/>
          <p:nvPr/>
        </p:nvSpPr>
        <p:spPr>
          <a:xfrm>
            <a:off x="214200" y="5643720"/>
            <a:ext cx="485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Древнеегипетский рельеф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 изображением богини во время родов</a:t>
            </a:r>
            <a:endParaRPr b="0" lang="en-US" sz="1800" spc="-1" strike="noStrike">
              <a:solidFill>
                <a:srgbClr val="000000"/>
              </a:solidFill>
              <a:latin typeface="Arial"/>
            </a:endParaRPr>
          </a:p>
        </p:txBody>
      </p:sp>
      <p:sp>
        <p:nvSpPr>
          <p:cNvPr id="261"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Прямоугольник 1"/>
          <p:cNvSpPr/>
          <p:nvPr/>
        </p:nvSpPr>
        <p:spPr>
          <a:xfrm>
            <a:off x="428760" y="214200"/>
            <a:ext cx="757224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едставления о связи загробных субстанций с местом погребения привели к стремлению сохранить тело умершего от разрушения - набальзамировать его. Этим занимались лица, в совершенстве владевшие различными способами бальзамирования. Один из этих способов описывает греческий историк Геродот. Способы бальзамирования утрачены, но эффективность их очевидна. Трупы, мумифицированные древними египтянами несколько тысячелетий назад, сохранились до наших дней и позволяют проводить исследования состояния здоровья и особенностей заболеваемости в столь отдаленные времена.        </a:t>
            </a:r>
            <a:br>
              <a:rPr sz="1800"/>
            </a:br>
            <a:r>
              <a:rPr b="0" lang="ru-RU" sz="1800" spc="-1" strike="noStrike">
                <a:solidFill>
                  <a:srgbClr val="000000"/>
                </a:solidFill>
                <a:latin typeface="Verdana"/>
              </a:rPr>
              <a:t>      Практика бальзамирования в Древнем Египте явилась, по-видимому, первым и основным источником знаний о строении человеческого тела. Бальзамирование требовало применения и различных реактивов, что косвенно способствовало зарождению представлений о химической природе реакций. Более того, предполагается, что и само название "химия" произошло от древнего названия Египта - "Кемет". Знания египтян в области анатомии существенно превышали представления о строении человеческого тела в соседних странах и, в частности, Месопотамии, где трупы умерших не вскрывали. </a:t>
            </a:r>
            <a:br>
              <a:rPr sz="1800"/>
            </a:br>
            <a:endParaRPr b="0" lang="en-US" sz="1800" spc="-1" strike="noStrike">
              <a:solidFill>
                <a:srgbClr val="000000"/>
              </a:solidFill>
              <a:latin typeface="Arial"/>
            </a:endParaRPr>
          </a:p>
        </p:txBody>
      </p:sp>
      <p:sp>
        <p:nvSpPr>
          <p:cNvPr id="26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8240"/>
            <a:ext cx="5897520" cy="11732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00000"/>
              </a:solidFill>
              <a:latin typeface="Verdana"/>
            </a:endParaRPr>
          </a:p>
        </p:txBody>
      </p:sp>
      <p:sp>
        <p:nvSpPr>
          <p:cNvPr id="265" name="PlaceHolder 2"/>
          <p:cNvSpPr>
            <a:spLocks noGrp="1"/>
          </p:cNvSpPr>
          <p:nvPr>
            <p:ph/>
          </p:nvPr>
        </p:nvSpPr>
        <p:spPr>
          <a:xfrm>
            <a:off x="457200" y="499680"/>
            <a:ext cx="5897520" cy="1071720"/>
          </a:xfrm>
          <a:prstGeom prst="rect">
            <a:avLst/>
          </a:prstGeom>
          <a:noFill/>
          <a:ln w="0">
            <a:noFill/>
          </a:ln>
        </p:spPr>
        <p:txBody>
          <a:bodyPr lIns="4572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Анубис совершает ритуал бальзамирования</a:t>
            </a:r>
            <a:endParaRPr b="0" lang="en-US" sz="2000" spc="-1" strike="noStrike">
              <a:solidFill>
                <a:srgbClr val="000000"/>
              </a:solidFill>
              <a:latin typeface="Verdana"/>
            </a:endParaRPr>
          </a:p>
        </p:txBody>
      </p:sp>
      <p:pic>
        <p:nvPicPr>
          <p:cNvPr id="266" name="Содержимое 4" descr="http://www.mho.org.ua/text/book1/egypt/03.jpg"/>
          <p:cNvPicPr/>
          <p:nvPr/>
        </p:nvPicPr>
        <p:blipFill>
          <a:blip r:embed="rId1"/>
          <a:stretch/>
        </p:blipFill>
        <p:spPr>
          <a:xfrm>
            <a:off x="1000080" y="2500200"/>
            <a:ext cx="6072120" cy="3500640"/>
          </a:xfrm>
          <a:prstGeom prst="rect">
            <a:avLst/>
          </a:prstGeom>
          <a:ln w="0">
            <a:noFill/>
          </a:ln>
        </p:spPr>
      </p:pic>
      <p:sp>
        <p:nvSpPr>
          <p:cNvPr id="267"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Прямоугольник 1"/>
          <p:cNvSpPr/>
          <p:nvPr/>
        </p:nvSpPr>
        <p:spPr>
          <a:xfrm>
            <a:off x="428760" y="214200"/>
            <a:ext cx="75722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Большую роль в накоплении сведений в Древнем Египте играли военные врачи, сопровождавшие египетское войско в походах. На гробницах сохранились изображения операций на конечностях. Все ранения делились по прогнозу на излечимые, сомнительные и безнадежные. Врачебная этика того времени требовала открытого сообщения пациенту предполагаемого исхода лечения одной из трех фраз: "Это болезнь, которую я могу вылечить; это болезнь, которую я, может быть, смогу вылечить; это болезнь, которую я не смогу вылечить". </a:t>
            </a:r>
            <a:br>
              <a:rPr sz="1800"/>
            </a:br>
            <a:r>
              <a:rPr b="0" lang="ru-RU" sz="1800" spc="-1" strike="noStrike">
                <a:solidFill>
                  <a:srgbClr val="000000"/>
                </a:solidFill>
                <a:latin typeface="Verdana"/>
              </a:rPr>
              <a:t>    В тех случаях, когда излечение было возможным, в папирусе Имхотепа даются четкие указания тактики врачевания: "Скажи ты тому, у кого зияющая рана на голове: "Это болезнь, которую я буду лечить". После того, как ты зашьешь ему рану, в первый день положи на нее свежее мясо и не бинтуй ее. Заботься о нем до тех пор, пока пройдет время его болезни. Лечи рану жиром, медом, корпией, пока больной не поправится". </a:t>
            </a:r>
            <a:br>
              <a:rPr sz="1800"/>
            </a:br>
            <a:r>
              <a:rPr b="0" lang="ru-RU" sz="1800" spc="-1" strike="noStrike">
                <a:solidFill>
                  <a:srgbClr val="000000"/>
                </a:solidFill>
                <a:latin typeface="Verdana"/>
              </a:rPr>
              <a:t>    При лечении переломов египетские врачеватели применяли деревянные лубки или бинтовали поврежденную конечность льняной тканью, пропитанной затвердевающей смолой. Такие шины обнаружены на египетских мумиях. Они во многом близки современным гипсовым повязкам. </a:t>
            </a:r>
            <a:br>
              <a:rPr sz="1800"/>
            </a:br>
            <a:endParaRPr b="0" lang="en-US" sz="1800" spc="-1" strike="noStrike">
              <a:solidFill>
                <a:srgbClr val="000000"/>
              </a:solidFill>
              <a:latin typeface="Arial"/>
            </a:endParaRPr>
          </a:p>
        </p:txBody>
      </p:sp>
      <p:sp>
        <p:nvSpPr>
          <p:cNvPr id="269"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Содержимое 4" descr="http://www.mho.org.ua/text/book1/egypt/07.jpg"/>
          <p:cNvPicPr/>
          <p:nvPr/>
        </p:nvPicPr>
        <p:blipFill>
          <a:blip r:embed="rId1"/>
          <a:stretch/>
        </p:blipFill>
        <p:spPr>
          <a:xfrm>
            <a:off x="357120" y="1214280"/>
            <a:ext cx="3929040" cy="4857840"/>
          </a:xfrm>
          <a:prstGeom prst="rect">
            <a:avLst/>
          </a:prstGeom>
          <a:ln w="0">
            <a:noFill/>
          </a:ln>
        </p:spPr>
      </p:pic>
      <p:pic>
        <p:nvPicPr>
          <p:cNvPr id="271" name="Содержимое 4" descr="http://www.mho.org.ua/text/book1/egypt/06.jpg"/>
          <p:cNvPicPr/>
          <p:nvPr/>
        </p:nvPicPr>
        <p:blipFill>
          <a:blip r:embed="rId2"/>
          <a:stretch/>
        </p:blipFill>
        <p:spPr>
          <a:xfrm>
            <a:off x="4929120" y="1000080"/>
            <a:ext cx="3801960" cy="4495680"/>
          </a:xfrm>
          <a:prstGeom prst="rect">
            <a:avLst/>
          </a:prstGeom>
          <a:ln w="0">
            <a:noFill/>
          </a:ln>
        </p:spPr>
      </p:pic>
      <p:sp>
        <p:nvSpPr>
          <p:cNvPr id="272" name="TextBox 3"/>
          <p:cNvSpPr/>
          <p:nvPr/>
        </p:nvSpPr>
        <p:spPr>
          <a:xfrm>
            <a:off x="570960" y="642960"/>
            <a:ext cx="327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Больной с переломом ноги</a:t>
            </a:r>
            <a:endParaRPr b="0" lang="en-US" sz="1800" spc="-1" strike="noStrike">
              <a:solidFill>
                <a:srgbClr val="000000"/>
              </a:solidFill>
              <a:latin typeface="Arial"/>
            </a:endParaRPr>
          </a:p>
        </p:txBody>
      </p:sp>
      <p:sp>
        <p:nvSpPr>
          <p:cNvPr id="273" name="TextBox 4"/>
          <p:cNvSpPr/>
          <p:nvPr/>
        </p:nvSpPr>
        <p:spPr>
          <a:xfrm>
            <a:off x="4643280" y="5715000"/>
            <a:ext cx="513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Больной полиомиелитом н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ревней стелле</a:t>
            </a:r>
            <a:endParaRPr b="0" lang="en-US" sz="1800" spc="-1" strike="noStrike">
              <a:solidFill>
                <a:srgbClr val="000000"/>
              </a:solidFill>
              <a:latin typeface="Arial"/>
            </a:endParaRPr>
          </a:p>
        </p:txBody>
      </p:sp>
      <p:sp>
        <p:nvSpPr>
          <p:cNvPr id="274"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Прямоугольник 1"/>
          <p:cNvSpPr/>
          <p:nvPr/>
        </p:nvSpPr>
        <p:spPr>
          <a:xfrm>
            <a:off x="428760" y="142920"/>
            <a:ext cx="764352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Исключительно популярной в Древнем Египте была профессия зубного врача. Это и понятно, так как исследование мумий показало широкое распространение у египтян тяжелых воспалительных заболеваний надкостницы, десен и зубов. Даже у фараонов, при которых находились лучшие египетские стоматологи того времени, обнаружены поражения челюстей и выпадение зубов. По-видимому, тогда еще не были известны такие вмешательства, как пломбирование кариозных полостей и протезирование зубов золотом или другими металлами. Единственным свидетельством использования золота в древнеегипетской зубоврачебной практике является накладка двух нижних моляров, соединенных между собой тонкой проволокой по линии шеек обоих зубов.        </a:t>
            </a:r>
            <a:br>
              <a:rPr sz="1800"/>
            </a:br>
            <a:r>
              <a:rPr b="0" lang="ru-RU" sz="1800" spc="-1" strike="noStrike">
                <a:solidFill>
                  <a:srgbClr val="000000"/>
                </a:solidFill>
                <a:latin typeface="Verdana"/>
              </a:rPr>
              <a:t>      Лечение болезней зубов в Древнем Египте проводили в основном консервативно, прикладывая к больному зубу или деснам различные пасты. В папирусе Эбера имеется 11 прописей таких лекарств. По мысли составителей, эти пасты должны были оздоравливать полость рта, укреплять зубы, снимать воспаление десен (парадонтоз) и зубную боль. Многие из прописей паст папируса Эбера современные египетские фармацевты воспроизвели и рекомендуют для лечения распространенного в наше время парадонтоза, ведущего к выпадению зубов. </a:t>
            </a:r>
            <a:endParaRPr b="0" lang="en-US" sz="1800" spc="-1" strike="noStrike">
              <a:solidFill>
                <a:srgbClr val="000000"/>
              </a:solidFill>
              <a:latin typeface="Arial"/>
            </a:endParaRPr>
          </a:p>
        </p:txBody>
      </p:sp>
      <p:sp>
        <p:nvSpPr>
          <p:cNvPr id="276"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Заголовок 1" descr=""/>
          <p:cNvPicPr/>
          <p:nvPr/>
        </p:nvPicPr>
        <p:blipFill>
          <a:blip r:embed="rId1"/>
          <a:stretch/>
        </p:blipFill>
        <p:spPr>
          <a:xfrm>
            <a:off x="4224240" y="285840"/>
            <a:ext cx="8248680" cy="1171440"/>
          </a:xfrm>
          <a:prstGeom prst="rect">
            <a:avLst/>
          </a:prstGeom>
          <a:ln w="0">
            <a:noFill/>
          </a:ln>
        </p:spPr>
      </p:pic>
      <p:sp>
        <p:nvSpPr>
          <p:cNvPr id="278" name="PlaceHolder 1"/>
          <p:cNvSpPr>
            <a:spLocks noGrp="1"/>
          </p:cNvSpPr>
          <p:nvPr>
            <p:ph/>
          </p:nvPr>
        </p:nvSpPr>
        <p:spPr>
          <a:xfrm>
            <a:off x="457200" y="1496880"/>
            <a:ext cx="7043760" cy="860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400" spc="-1" strike="noStrike">
              <a:solidFill>
                <a:srgbClr val="000000"/>
              </a:solidFill>
              <a:latin typeface="Verdana"/>
            </a:endParaRPr>
          </a:p>
        </p:txBody>
      </p:sp>
      <p:pic>
        <p:nvPicPr>
          <p:cNvPr id="279" name="Содержимое 4" descr="Верхняя челюсть взрослого египтянина (остеомиелит). Период Нового царства. По F.Flice Leek"/>
          <p:cNvPicPr/>
          <p:nvPr/>
        </p:nvPicPr>
        <p:blipFill>
          <a:blip r:embed="rId2"/>
          <a:stretch/>
        </p:blipFill>
        <p:spPr>
          <a:xfrm>
            <a:off x="5000760" y="2928960"/>
            <a:ext cx="3929040" cy="3762360"/>
          </a:xfrm>
          <a:prstGeom prst="rect">
            <a:avLst/>
          </a:prstGeom>
          <a:ln w="0">
            <a:noFill/>
          </a:ln>
        </p:spPr>
      </p:pic>
      <p:pic>
        <p:nvPicPr>
          <p:cNvPr id="280" name="Рисунок 11" descr="http://www.mho.org.ua/text/book1/egypt/09.jpg"/>
          <p:cNvPicPr/>
          <p:nvPr/>
        </p:nvPicPr>
        <p:blipFill>
          <a:blip r:embed="rId3"/>
          <a:stretch/>
        </p:blipFill>
        <p:spPr>
          <a:xfrm>
            <a:off x="214200" y="571680"/>
            <a:ext cx="3929040" cy="4429080"/>
          </a:xfrm>
          <a:prstGeom prst="rect">
            <a:avLst/>
          </a:prstGeom>
          <a:ln w="0">
            <a:noFill/>
          </a:ln>
        </p:spPr>
      </p:pic>
      <p:sp>
        <p:nvSpPr>
          <p:cNvPr id="281" name="TextBox 7"/>
          <p:cNvSpPr/>
          <p:nvPr/>
        </p:nvSpPr>
        <p:spPr>
          <a:xfrm>
            <a:off x="0" y="5286240"/>
            <a:ext cx="548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ерхняя челюсть взрослого египтянин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остеомиелит). Период Нового царства.</a:t>
            </a:r>
            <a:endParaRPr b="0" lang="en-US" sz="1800" spc="-1" strike="noStrike">
              <a:solidFill>
                <a:srgbClr val="000000"/>
              </a:solidFill>
              <a:latin typeface="Arial"/>
            </a:endParaRPr>
          </a:p>
        </p:txBody>
      </p:sp>
      <p:sp>
        <p:nvSpPr>
          <p:cNvPr id="282"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Заголовок 1" descr=""/>
          <p:cNvPicPr/>
          <p:nvPr/>
        </p:nvPicPr>
        <p:blipFill>
          <a:blip r:embed="rId1"/>
          <a:stretch/>
        </p:blipFill>
        <p:spPr>
          <a:xfrm>
            <a:off x="457200" y="231840"/>
            <a:ext cx="8047080" cy="1170000"/>
          </a:xfrm>
          <a:prstGeom prst="rect">
            <a:avLst/>
          </a:prstGeom>
          <a:ln w="0">
            <a:noFill/>
          </a:ln>
        </p:spPr>
      </p:pic>
      <p:sp>
        <p:nvSpPr>
          <p:cNvPr id="284" name="PlaceHolder 1"/>
          <p:cNvSpPr>
            <a:spLocks noGrp="1"/>
          </p:cNvSpPr>
          <p:nvPr>
            <p:ph/>
          </p:nvPr>
        </p:nvSpPr>
        <p:spPr>
          <a:xfrm>
            <a:off x="457200" y="713880"/>
            <a:ext cx="7329600" cy="1071720"/>
          </a:xfrm>
          <a:prstGeom prst="rect">
            <a:avLst/>
          </a:prstGeom>
          <a:noFill/>
          <a:ln w="0">
            <a:noFill/>
          </a:ln>
        </p:spPr>
        <p:txBody>
          <a:bodyPr lIns="4572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амый знаменитый врач Древнего Египта - Имхотеп</a:t>
            </a:r>
            <a:endParaRPr b="0" lang="en-US" sz="2000" spc="-1" strike="noStrike">
              <a:solidFill>
                <a:srgbClr val="000000"/>
              </a:solidFill>
              <a:latin typeface="Verdana"/>
            </a:endParaRPr>
          </a:p>
        </p:txBody>
      </p:sp>
      <p:pic>
        <p:nvPicPr>
          <p:cNvPr id="285" name="Содержимое 4" descr="http://www.mho.org.ua/text/book1/egypt/10.jpg"/>
          <p:cNvPicPr/>
          <p:nvPr/>
        </p:nvPicPr>
        <p:blipFill>
          <a:blip r:embed="rId2"/>
          <a:stretch/>
        </p:blipFill>
        <p:spPr>
          <a:xfrm>
            <a:off x="500040" y="1214280"/>
            <a:ext cx="1208160" cy="4372200"/>
          </a:xfrm>
          <a:prstGeom prst="rect">
            <a:avLst/>
          </a:prstGeom>
          <a:ln w="0">
            <a:noFill/>
          </a:ln>
        </p:spPr>
      </p:pic>
      <p:sp>
        <p:nvSpPr>
          <p:cNvPr id="286" name="Прямоугольник 5"/>
          <p:cNvSpPr/>
          <p:nvPr/>
        </p:nvSpPr>
        <p:spPr>
          <a:xfrm>
            <a:off x="2000160" y="1428840"/>
            <a:ext cx="650088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Можно предположить, что это скорее титул, чем подлинное имя (Имхотеп по древнеегипетски - "Приходящий с миром "). По данным современных исследователей, он был простолюдином, но благодаря своему таланту стал верховным жрецом и визирем фараона III династии Джосера (ок. 2780-2760 гг.до н.э.). Он был искусным врачом, зодчим, астрономом, талантливым литератором и поэтом, ученым-филологом, усовершенствовавшим иероглифическое письмо. В списках с папируса обожествленного врача Имхотепа даются четкие указания по лечению ран мягких тканей, технике перевязок, а также по выполнению наиболее частых хирургических операций того времени: обрезание и кастрац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последствии этот мудрец и ученый был обожествлен, ему стали посвящать часовни и храмы.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ри эллинистических правителях Египта он считался сыном бога Птаха, почитался как бог врачевания и отождествлялся с Асклепием. Его облик был также канонизирован.</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Прямоугольник 1"/>
          <p:cNvSpPr/>
          <p:nvPr/>
        </p:nvSpPr>
        <p:spPr>
          <a:xfrm>
            <a:off x="571680" y="785880"/>
            <a:ext cx="7786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 противоположность Вавилону, мрачной родине деспотизма, Египет был для древнего мира истинной крепостью священной науки, школой для его наиболее славных пророков, убежищем и вместе лабораторией наиболее благородных преданий человечеств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Эдуард Шюре ("Мистерии Египта").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Традиции врачевания в Древнем Египте складывались в тесном взаимодействии с медициной Древней Месопотамии. Они оказали большое влияние на становление медицины Древней Греции, считающейся предшественницей современной научной медицины.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232" name="Picture 2" descr="Медицина Древнего Египта: Процесс изготовления лекарств"/>
          <p:cNvPicPr/>
          <p:nvPr/>
        </p:nvPicPr>
        <p:blipFill>
          <a:blip r:embed="rId1"/>
          <a:stretch/>
        </p:blipFill>
        <p:spPr>
          <a:xfrm>
            <a:off x="5357880" y="4143240"/>
            <a:ext cx="2438280" cy="2038320"/>
          </a:xfrm>
          <a:prstGeom prst="rect">
            <a:avLst/>
          </a:prstGeom>
          <a:ln w="0">
            <a:noFill/>
          </a:ln>
        </p:spPr>
      </p:pic>
      <p:sp>
        <p:nvSpPr>
          <p:cNvPr id="23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Прямоугольник 1"/>
          <p:cNvSpPr/>
          <p:nvPr/>
        </p:nvSpPr>
        <p:spPr>
          <a:xfrm>
            <a:off x="357120" y="357120"/>
            <a:ext cx="764388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первые о существовании медицинских трактатов в Древнем Египте говорится в записи на стене гробницы Уаш-Птаха - главного архитектора царя V династии Неферирка-Ра (ХХV в. до н. э.). В этой же надписи приводится клиническая картина скоропостижной смерти архитектора, которая, по современным представлениям, напоминает инфаркт миокарда или инсульт мозг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ревнейшие медицинские трактаты написаны на папирусах. До наших дней они не сохранились и мы знаем о них лишь по свидетельству древних историков. Так, жрец Менефон сообщает, что Атотис (второй царь I династии) составил медицинский папирус о строении тела человека. В настоящее время известно 10 основных папирусов, полностью или частично посвященных врачеванию. Все они являются списками с более ранних трактатов. Самый старый дошедший до нас медицинский папирус датируется примерно 1800 г. до н. э. Один его раздел посвящен ведению родов, а другой - лечению животных. В то же время были составлены IV и V папирусы из Ромессеума, в которых описаны приемы магического врачевания. Наиболее полные сведения о медицине Древнего Египта дают два папируса, датируемые примерно 1550 г. до н. э., - большой медицинский папирус Г. Эбера и папирус по хирургии Э. Смита. </a:t>
            </a:r>
            <a:br>
              <a:rPr sz="1800"/>
            </a:br>
            <a:endParaRPr b="0" lang="en-US" sz="1800" spc="-1" strike="noStrike">
              <a:solidFill>
                <a:srgbClr val="000000"/>
              </a:solidFill>
              <a:latin typeface="Arial"/>
            </a:endParaRPr>
          </a:p>
        </p:txBody>
      </p:sp>
      <p:sp>
        <p:nvSpPr>
          <p:cNvPr id="235"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Заголовок 1" descr=""/>
          <p:cNvPicPr/>
          <p:nvPr/>
        </p:nvPicPr>
        <p:blipFill>
          <a:blip r:embed="rId1"/>
          <a:stretch/>
        </p:blipFill>
        <p:spPr>
          <a:xfrm>
            <a:off x="5230800" y="1047600"/>
            <a:ext cx="3632040" cy="2360880"/>
          </a:xfrm>
          <a:prstGeom prst="rect">
            <a:avLst/>
          </a:prstGeom>
          <a:ln w="0">
            <a:noFill/>
          </a:ln>
        </p:spPr>
      </p:pic>
      <p:sp>
        <p:nvSpPr>
          <p:cNvPr id="237" name="PlaceHolder 1"/>
          <p:cNvSpPr>
            <a:spLocks noGrp="1"/>
          </p:cNvSpPr>
          <p:nvPr>
            <p:ph/>
          </p:nvPr>
        </p:nvSpPr>
        <p:spPr>
          <a:xfrm>
            <a:off x="5389200" y="3282840"/>
            <a:ext cx="3429000" cy="1920960"/>
          </a:xfrm>
          <a:prstGeom prst="rect">
            <a:avLst/>
          </a:prstGeom>
          <a:noFill/>
          <a:ln w="0">
            <a:noFill/>
          </a:ln>
        </p:spPr>
        <p:txBody>
          <a:bodyPr lIns="8244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Дает самую большую информацию о  врачевании в древнем Египте. Найден в Фивах в 1872 г. и назван по имени  изучавшего его ученого.</a:t>
            </a:r>
            <a:endParaRPr b="0" lang="en-US" sz="2000" spc="-1" strike="noStrike">
              <a:solidFill>
                <a:srgbClr val="ffffff"/>
              </a:solidFill>
              <a:latin typeface="Verdana"/>
            </a:endParaRPr>
          </a:p>
        </p:txBody>
      </p:sp>
      <p:pic>
        <p:nvPicPr>
          <p:cNvPr id="238" name="Рисунок 4" descr=""/>
          <p:cNvPicPr/>
          <p:nvPr/>
        </p:nvPicPr>
        <p:blipFill>
          <a:blip r:embed="rId2"/>
          <a:stretch/>
        </p:blipFill>
        <p:spPr>
          <a:xfrm>
            <a:off x="603360" y="987480"/>
            <a:ext cx="4329000" cy="4322880"/>
          </a:xfrm>
          <a:prstGeom prst="rect">
            <a:avLst/>
          </a:prstGeom>
          <a:ln w="0">
            <a:noFill/>
          </a:ln>
        </p:spPr>
      </p:pic>
      <p:sp>
        <p:nvSpPr>
          <p:cNvPr id="239"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4e7ed"/>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0" y="30240"/>
            <a:ext cx="9144000" cy="6802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      </a:t>
            </a:r>
            <a:r>
              <a:rPr b="0" lang="ru-RU" sz="2000" spc="-1" strike="noStrike">
                <a:solidFill>
                  <a:srgbClr val="000000"/>
                </a:solidFill>
                <a:latin typeface="Calibri"/>
                <a:ea typeface="Times New Roman"/>
              </a:rPr>
              <a:t>Склеенный из 108 листов, он достигает в длину 20,5 м и вполн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оправдывает свое название «Книга приготовления лекарств для всех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частей тела». Папирус содержит около 900 прописей лекарств для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лечения органов пищеварения, дыхательных путей, уха, горла и нос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ожогов и кровотечений, глазных болезней, кожных, паразитарных 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многих других заболеваний. При составлении лекарств широко использ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вались растения (лук, мак, финики, лотос, гранат, алоэ, виноград, папирус), минеральные вещества (сурьма, сера, железо, свинец, сода, алебастр,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глина, селитра) и части тела многих животных.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Так, лекарство для изгнания глистов («умерщвления червей») содержало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среди прочих компонентов: косточек фиников — 8, растения дисарт—8,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сладкого пива — 25 частей. Пропись заканчивалась словами: «сварить,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смешать, выпить — выйдет тотчас». В лекарство от слепоты входил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бычья печень и мед.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   </a:t>
            </a:r>
            <a:r>
              <a:rPr b="0" lang="ru-RU" sz="2000" spc="-1" strike="noStrike">
                <a:solidFill>
                  <a:srgbClr val="000000"/>
                </a:solidFill>
                <a:latin typeface="Calibri"/>
                <a:ea typeface="Times New Roman"/>
              </a:rPr>
              <a:t>Некоторые прописи были чрезвычайно сложными и включали до 37 составляющих. Основой для приготовления лекарств были молоко, мед,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пиво. Многие компоненты лекарственных средств до сих пор не идентифицированы, что значительно затрудняет их изучени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Готовить лекарство рекомендовалось ночью и пить четыре дня. Прием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которых лекарств сопровождался магическими обрядами в виде закл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ний и заговоров. </a:t>
            </a:r>
            <a:br>
              <a:rPr sz="2000"/>
            </a:br>
            <a:endParaRPr b="0" lang="en-US" sz="2000" spc="-1" strike="noStrike">
              <a:solidFill>
                <a:srgbClr val="000000"/>
              </a:solidFill>
              <a:latin typeface="Arial"/>
            </a:endParaRPr>
          </a:p>
        </p:txBody>
      </p:sp>
      <p:sp>
        <p:nvSpPr>
          <p:cNvPr id="241"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Прямоугольник 1"/>
          <p:cNvSpPr/>
          <p:nvPr/>
        </p:nvSpPr>
        <p:spPr>
          <a:xfrm>
            <a:off x="500040" y="357120"/>
            <a:ext cx="73580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В папирусе Эбера приводятся прописи лекарств для разглаживания морщин, удаления родинок, окраски волос и бровей, усиления роста волос. Для защиты от палящего солнца египтяне обоего пола обводили глаза зеленой пастой, содержащей сурьму и жир. Глазам при этом придавалась миндалевидная форма. Женщины Египта румянили щеки и красили губы. По-видимому, египтяне первыми ввели в употребление парик, который надевали на коротко остриженные волосы. Парик состоял из большого числа туго переплетенных косичек. Он заменял головной убор и косвенно способствовал борьбе со вшивостью. Современные косметические египетские фирмы, стремящиеся на российский рынок, пытаются возродить многие древние прописи, рекламируя омолаживающее действие древних мазей, пластырей, примочек.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Большое значение древние египтяне придавали соблюдению гигиенических правил. Религиозные законы предписывали умеренность в пище и опрятность в быту.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По-видимому, не случайно древние греки считали египтян основателями "предупредительной" медицины. </a:t>
            </a:r>
            <a:br>
              <a:rPr sz="1800"/>
            </a:br>
            <a:br>
              <a:rPr sz="1800"/>
            </a:br>
            <a:endParaRPr b="0" lang="en-US" sz="1800" spc="-1" strike="noStrike">
              <a:solidFill>
                <a:srgbClr val="000000"/>
              </a:solidFill>
              <a:latin typeface="Arial"/>
            </a:endParaRPr>
          </a:p>
        </p:txBody>
      </p:sp>
      <p:sp>
        <p:nvSpPr>
          <p:cNvPr id="24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Прямоугольник 1"/>
          <p:cNvSpPr/>
          <p:nvPr/>
        </p:nvSpPr>
        <p:spPr>
          <a:xfrm>
            <a:off x="428760" y="336600"/>
            <a:ext cx="7643520" cy="648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В папирусе Эбера гинекологический раздел содержит сведения о распознавании сроков беременности, пола будущего ребенка, а также "женщины, могущей и не могущей родить". Берлинский и Кахунский папирусы описывают простой способ определения пола будущего ребенка. Предлагается смочить мочой беременной женщины зерна ячменя и пшеницы. Если первой прорастет пшеница - родится девочка, если ячмень - мальчик. Американские исследователи из Джорджтаунского университета провели такие пробы и получили статистически значимое подтверждение их эффективности.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В Древнем Египте моча находила довольно широкое применение в качестве лечебного средства. У Геродота есть описание не совсем ординарного случая уринотерапии: "По смерти Сезостриса царскую власть наследовал сын его Ферон, который ослеп... заболев глазами. Десять лет он был слепым; на одиннадцатом году царь услышал слово оракула в городе Буто, что время наказания его истекло, что он прозреет, если промоет глаза мочой женщины, которая имеет сношения только с мужем и никакого другого мужчину не имеет. Он прежде всего испытал мочу собственной жены и, когда не прозрел, подверг испытанию всех женщин подряд, пока наконец не прозрел. Тогда он собрал всех женщин, которых испытывал, кроме той, от мочи которой он прозрел, в одно место, именуемое теперь Красным полем, и всех их там сжег; на той женщине, от мочи которой прозрел, царь сам женился". Так в Древнем Египте одновременно был получен лечебный эффект и проведена экспертиза супружеской верности. </a:t>
            </a:r>
            <a:br>
              <a:rPr sz="1600"/>
            </a:br>
            <a:br>
              <a:rPr sz="1800"/>
            </a:br>
            <a:endParaRPr b="0" lang="en-US" sz="1600" spc="-1" strike="noStrike">
              <a:solidFill>
                <a:srgbClr val="000000"/>
              </a:solidFill>
              <a:latin typeface="Arial"/>
            </a:endParaRPr>
          </a:p>
        </p:txBody>
      </p:sp>
      <p:sp>
        <p:nvSpPr>
          <p:cNvPr id="245"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Заголовок 1" descr=""/>
          <p:cNvPicPr/>
          <p:nvPr/>
        </p:nvPicPr>
        <p:blipFill>
          <a:blip r:embed="rId1"/>
          <a:stretch/>
        </p:blipFill>
        <p:spPr>
          <a:xfrm>
            <a:off x="5200560" y="573120"/>
            <a:ext cx="3619440" cy="1731960"/>
          </a:xfrm>
          <a:prstGeom prst="rect">
            <a:avLst/>
          </a:prstGeom>
          <a:ln w="0">
            <a:noFill/>
          </a:ln>
        </p:spPr>
      </p:pic>
      <p:sp>
        <p:nvSpPr>
          <p:cNvPr id="247" name="PlaceHolder 1"/>
          <p:cNvSpPr>
            <a:spLocks noGrp="1"/>
          </p:cNvSpPr>
          <p:nvPr>
            <p:ph/>
          </p:nvPr>
        </p:nvSpPr>
        <p:spPr>
          <a:xfrm>
            <a:off x="5389200" y="2214720"/>
            <a:ext cx="3429000" cy="4000320"/>
          </a:xfrm>
          <a:prstGeom prst="rect">
            <a:avLst/>
          </a:prstGeom>
          <a:noFill/>
          <a:ln w="0">
            <a:noFill/>
          </a:ln>
        </p:spPr>
        <p:txBody>
          <a:bodyPr lIns="8244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В 1930 г. американский египтолог Дж. Г. Брэстед впервые опубликовал его иератический (полускорописный) текст, транслитерацию в иероглифах и перевод на английский язык с обширными комментариями в виде отдельного тома</a:t>
            </a:r>
            <a:endParaRPr b="0" lang="en-US" sz="14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Текст трактата расположен на папирусной ленте длиной 4,68 м и шириной около 33 см. Он состоит из 17 колонок, в которых описаньг 48 случаев травматических повреждений костей черепа, мозга, шейных позвонков, ключиц, предплечья, грудной клетки и позвоночного столба, а также способы их лечения при полном отсутствии элементов магии и мистики.</a:t>
            </a:r>
            <a:endParaRPr b="0" lang="en-US" sz="14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pic>
        <p:nvPicPr>
          <p:cNvPr id="248" name="Рисунок 4" descr="папирус.jpg"/>
          <p:cNvPicPr/>
          <p:nvPr/>
        </p:nvPicPr>
        <p:blipFill>
          <a:blip r:embed="rId2"/>
          <a:stretch/>
        </p:blipFill>
        <p:spPr>
          <a:xfrm>
            <a:off x="596880" y="890640"/>
            <a:ext cx="4438800" cy="4430520"/>
          </a:xfrm>
          <a:prstGeom prst="rect">
            <a:avLst/>
          </a:prstGeom>
          <a:ln w="0">
            <a:noFill/>
          </a:ln>
        </p:spPr>
      </p:pic>
      <p:sp>
        <p:nvSpPr>
          <p:cNvPr id="249"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4e7ed"/>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Прямоугольник 1"/>
          <p:cNvSpPr/>
          <p:nvPr/>
        </p:nvSpPr>
        <p:spPr>
          <a:xfrm>
            <a:off x="500040" y="58680"/>
            <a:ext cx="7572240" cy="66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600" spc="-1" strike="noStrike">
                <a:solidFill>
                  <a:srgbClr val="000000"/>
                </a:solidFill>
                <a:latin typeface="Verdana"/>
              </a:rPr>
              <a:t>Врачеватели Египта делили причины болезней на естественные и сверхъестественные.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1" lang="ru-RU" sz="1600" spc="-1" strike="noStrike">
                <a:solidFill>
                  <a:srgbClr val="000000"/>
                </a:solidFill>
                <a:latin typeface="Verdana"/>
              </a:rPr>
              <a:t>К первым </a:t>
            </a:r>
            <a:r>
              <a:rPr b="0" lang="ru-RU" sz="1600" spc="-1" strike="noStrike">
                <a:solidFill>
                  <a:srgbClr val="000000"/>
                </a:solidFill>
                <a:latin typeface="Verdana"/>
              </a:rPr>
              <a:t>они относили нездоровую пищу, неблагоприятные климатические и погодные факторы, наличие кишечных паразитов. Геродот пишет, что египтяне считали причиной человеческих недугов плохую пищу, поэтому "желудок свой они очищают каждый месяц три дня подряд, принимая слабительные средства, и сохраняют здоровье рвотными и клистирами". Египтянам приписывают и изобретение клизмы. Интересно, что язык описания зашлакованности организма и методов очистки от шлаков многих современных народных целителей мало чем отличается от представлений древних египетских врачевателей.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верхъестественные</a:t>
            </a:r>
            <a:r>
              <a:rPr b="0" lang="ru-RU" sz="1600" spc="-1" strike="noStrike">
                <a:solidFill>
                  <a:srgbClr val="000000"/>
                </a:solidFill>
                <a:latin typeface="Verdana"/>
              </a:rPr>
              <a:t> причины болезней египтяне видели во вселении в организм злых духов умерших. Для их изгнания использовались как лекарственные средства, так и различные магические приемы. Полагали, что дурные запахи и горькая пища отпугивают злых духов. Поэтому в состав ритуальных смесей при магических процедурах включали такие экзотические продукты, как части хвостов мышей, выделения из ушей свиней, кал и мочу животных. Во время изгнания злых духов звучали заклинания: "О мертвый! О покойник, скрывшийся в этой моей плоти, в этих частях моего тела. Спрятавшийся - удались! Скрывшийся - выходи!" Многие целители нашего времени "снимают сглаз и порчу", произнося тексты, близкие по сути к древнеегипетским, хотя в те времена было немало приемов врачевания, лишенных всякой мистики. </a:t>
            </a:r>
            <a:br>
              <a:rPr sz="1600"/>
            </a:br>
            <a:br>
              <a:rPr sz="1600"/>
            </a:br>
            <a:endParaRPr b="0" lang="en-US" sz="1600" spc="-1" strike="noStrike">
              <a:solidFill>
                <a:srgbClr val="000000"/>
              </a:solidFill>
              <a:latin typeface="Arial"/>
            </a:endParaRPr>
          </a:p>
        </p:txBody>
      </p:sp>
      <p:sp>
        <p:nvSpPr>
          <p:cNvPr id="251"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6T16:11:26Z</dcterms:created>
  <dc:creator>юля</dc:creator>
  <dc:description/>
  <dc:language>en-US</dc:language>
  <cp:lastModifiedBy>LEGION</cp:lastModifiedBy>
  <dcterms:modified xsi:type="dcterms:W3CDTF">2015-12-31T12:50:24Z</dcterms:modified>
  <cp:revision>57</cp:revision>
  <dc:subject/>
  <dc:title>Медицина в Древнем Египте</dc:title>
</cp:coreProperties>
</file>