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BC60-B279-4195-97CD-D176E54B80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дицины Росс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XVIII в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: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ковская Е.Н.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а обороны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медицины Росс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в XVIII ве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подаватель: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вковская Е.Н.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а обороны Российской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ВАНОВНА (Анна Иоаннов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28 января (7 февраля) 1693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— 17 (28) октября 174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), российская императрица с 1730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НА ИВАНОВНА (Анна Иоанновн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28 января (7 февраля) 1693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сква — 17 (28) октября 1740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ербург), российская императрица с 1730 го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 от 14 сентября 173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 от 14 сентября 1730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 архиатера Риг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 архиатера Риге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8 (29) декабря 1709, Петербург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декабря 1761 (5 января 1762), там же]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императрица (1741 — 6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ЛИЗАВЕТА ПЕТ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[18 (29) декабря 1709, Петербург —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5 декабря 1761 (5 января 1762), там же]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императрица (1741 — 61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оду с воцарением дочери Петра I 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41 году с воцарением дочери Петра I 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III Федорович (1728-6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(с 176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III Федорович (1728-62)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(с 176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II Великая (1729-96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императрица (с 176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КАТЕРИНА II Великая (1729-96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императрица (с 1762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медицинская коллег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12 ноября 176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ая медицинская коллегия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а 12 ноября 1763 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 медицинской колл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президентом Медицинской коллегии был барон Александр Иванович Черк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88 году Медицинская Коллегия была подчинена главному директо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директором был назначен действительный тайный советник фон Фитинго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 медицинской колле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президентом Медицинской коллегии был барон Александр Иванович Черкас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88 году Медицинская Коллегия была подчинена главному директору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директором был назначен действительный тайный советник фон Фитинг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ий при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ий прик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плодотворна бы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гии  после назна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93 г.  на пост глав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а  государствен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начея  А.И.Василь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 плодотворна бы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ллегии  после назнач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93 г.  на пост глав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ректора  государствен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значея  А.И.Василье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1803 г. Медицинская коллегия была ликвидиров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ая медицина - в Министерство внутренних де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подготовки медицинских кадров - в Министерство просвещ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ая и морская медицина - соответственно в военное и морское министе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онце 1803 г. Медицинская коллегия была ликвидирова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ая медицина - в Министерство внутренних дел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подготовки медицинских кадров - в Министерство просвещени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енная и морская медицина - соответственно в военное и морское министерств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медицинск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ая медицинская шко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07 г. в Москве при первом постоянном военном госпита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ждается лекарская шко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07 г. в Москве при первом постоянном военном госпитал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реждается лекарская школ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госпиталя и лекарской школы при открытии был небольшо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доктор, 1 лекарь, 2 аптекаря, 1 подлекарь, 1 гез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ем школы был доктор Николай Бидло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обучалось 50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госпиталя и лекарской школы при открытии был небольшой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доктор, 1 лекарь, 2 аптекаря, 1 подлекарь, 1 гезель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ем школы был доктор Николай Бидло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школе обучалось 50 челове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половину ХVIII в. в России существовал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медицинских шк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(при Петербургском адмиралтейском и Кронштадтском морском госпиталях) - для флот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(при Московском госпитал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ервую половину ХVIII в. в России существовал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 медицинских шко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(при Петербургском адмиралтейском и Кронштадтском морском госпиталях) - для флота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(при Московском госпитале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грамму обучения в госпитальных школах входили следующие разде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ий язы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томия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ое д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болезней и способов их ле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хирургическ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грамму обучения в госпитальных школах входили следующие раздел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атинский язы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томия человек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ое дело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болезней и способов их лечени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ка хирургических операц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 профессорам госпитальных школ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авленная П.З.Кондоиди в 174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...наипаче  на  то   смотреть,   чтобы   учащиеся   получали понятие о частях человеческого тела,    о медикаментах и хирургических инструментах   больше   очным   опознанием,   нежели  трудно   понимаемым описание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ция профессорам госпитальных школ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составленная П.З.Кондоиди в 1742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...наипаче  на  то   смотреть,   чтобы   учащиеся   получали понятие о частях человеческого тела,    о медикаментах и хирургических инструментах   больше   очным   опознанием,   нежели  трудно   понимаемым описанием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 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 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1 запретил врачам - иностранцам производить экзамены русским лекарям, приказ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... 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1 запретил врачам - иностранцам производить экзамены русским лекарям, приказа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... 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II в Петербурге за Калининским мостом на базе небольшой "секретной больницы" (больница для венерических больных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II в Петербурге за Калининским мостом на базе небольшой "секретной больницы" (больница для венерических больных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называемые службы "у физических дел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с петровских времен в Санкт-Петербурге и Москве занималис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ой со   знахарств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ем за деятельностью аптек и продажей ядовитых вещ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ми осмотрами рекрутов и освидетельствованиями инвалид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ым надзором за тюрьм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м эпидемий заразных болезн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33 г. они получили название физик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 называемые службы "у физических дел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ые с петровских времен в Санкт-Петербурге и Москве занимались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рьбой со   знахарство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ем за деятельностью аптек и продажей ядовитых веществ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ими осмотрами рекрутов и освидетельствованиями инвалидов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нитарным надзором за тюрьма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упреждением эпидемий заразных болезне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33 г. они получили название физикат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Аптекарского при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царя и его семь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-медицинская и вообще  врачебная  эксперти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книгохранилищем литературы, и не только медицинской, но и об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Аптекарского прик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чение царя и его семь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о-медицинская и вообще  врачебная  эксперти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 книгохранилищем литературы, и не только медицинской, но и общ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Инструкция физикату". 179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задача физикатов определялась следующим образом: «Физикат есть блюститель здоровья человеческого и испытатель всех причин в оное вливающих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Инструкция физикату". 1793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задача физикатов определялась следующим образом: «Физикат есть блюститель здоровья человеческого и испытатель всех причин в оное вливающихс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Инструкция о должности врачебной управы" 179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Инструкция о должности врачебной управы" 1797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должности оператора (хирурга) сказ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должности оператора (хирурга) сказан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равила для устройства городских больниц на 50 мест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коллегия утвердила эти правила и разослала во все врачебные упр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Правила для устройства городских больниц на 50 мест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ая коллегия утвердила эти правила и разослала во все врачебные управ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л утвержде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февраля 179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был утвержден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 февраля 1799 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ЕЛ I (1754-1801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с 179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АВЕЛ I (1754-1801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с 1796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медицинской коллег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9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(немедик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первый член, 2 старших, 3 младши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й секретарь, советник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диции, т.е. всего 9 челов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е составе имелись также переводчи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ор,  бухгалтер и разные канцелярские служ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медицинской коллеги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99 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 (немедик)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первый член, 2 старших, 3 младших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ый секретарь, советник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диции, т.е. всего 9 человек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ее составе имелись также переводчики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рхитектор,  бухгалтер и разные канцелярские служите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казу, утвержденному Сена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и назначены следующие члены колле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- доктор Г.Аш, старшими - профессора Н.К.Карпинский и Я.О.Саполович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ми - доктор И.Г.Еллизен и штаб-лекари И.И.Виен и И.К.Каменец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м секретарем - профессор Г.И.Базилевич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леном коллегии, советником экономической экспедиции - штаб-лекарь С. С .Андреев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указу, утвержденному Сена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и назначены следующие члены коллеги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- доктор Г.Аш, старшими - профессора Н.К.Карпинский и Я.О.Саполович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ладшими - доктор И.Г.Еллизен и штаб-лекари И.И.Виен и И.К.Каменеци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ым секретарем - профессор Г.И.Базилевич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леном коллегии, советником экономической экспедиции - штаб-лекарь С. С .Андреевск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медицинской колл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вертая часть - делами самой коллегии и столичных "физикатов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медицинской колле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твертая часть - делами самой коллегии и столичных "физикатов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ая канцеля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лах Правительствующего сената, учрежденного Петром I в 1711 г., Аптекарская канцелярия упоминается с 1712 г., а до этого времени упоминался только Аптекарский при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ая канцеля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делах Правительствующего сената, учрежденного Петром I в 1711 г., Аптекарская канцелярия упоминается с 1712 г., а до этого времени упоминался только Аптекарский прика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едицинская канцеляр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о было установлена указом только в 1721 году, когда Л.Блюментрост представил Петру I 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Медицинская канцелярия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фициально было установлена указом только в 1721 году, когда Л.Блюментрост представил Петру I 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о предлагавшейся Л.Блюментрос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ой коллегии учреждена Медицинская канцеляр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1721 год и должен считаться годом ее осн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место предлагавшейся Л.Блюментросто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ой коллегии учреждена Медицинская канцеляри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этому 1721 год и должен считаться годом ее основа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в Медицинской канцеля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скве - дьяк, канцелярист, 2 кописта, 2 сторожа и 5 рассыль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в Медицинской канцеля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оскве - дьяк, канцелярист, 2 кописта, 2 сторожа и 5 рассыль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II [12 (23) октября 1715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 — 19 (30) января 1730, Москва]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(с мая 172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II [12 (23) октября 1715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ербург — 19 (30) января 1730, Москва]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(с мая 1727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A9E-2EAA-49BD-A48F-1D8554EC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618-86E8-473C-85B0-D91C8EBE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1C9-AB7F-419E-BB40-48975DF9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0CA-0DB0-4F7C-8987-D1DC7462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EEA9-8211-400C-A137-0A8985DC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A266-7FD2-4579-8930-AD2213E3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6507-4889-4050-ACCB-E966B337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3110-ED38-4AA8-BBB7-F4E2DC10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B22D-92DA-40E6-91BE-A4B46F70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DC4F-D270-4E3B-A1D6-2902F526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8A1A-9987-44B1-8DF9-C2D1C60F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097-333A-4386-8F2A-348D43AA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C3E2-D2E3-46BF-90FA-DC9598AE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B8A9-9FB1-4C3A-8862-56EFABD4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2B1F-A8F3-4669-A580-34965C27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965E-F465-440B-94F4-2863A721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97AE-DDAA-4BFC-A3EA-7F742747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0044-233A-4AB6-9050-39E7E3EB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962-442B-49B2-9515-1271ACAA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62B-F3F7-4188-8071-E5419EC5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F6F-D27E-4F98-BADD-1D00EAFB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FDE-D2FC-4705-A523-A34FECA3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427-7187-44B8-B2A9-EEC5067B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61D-3DF2-4849-A09C-06B77740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E7A3-E546-4212-9C45-0FC4B8C759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CE03-E080-44DB-B601-0E41438CE5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История медицины России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 в </a:t>
            </a: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XVIII </a:t>
            </a: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ве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6429240" y="5788080"/>
            <a:ext cx="27147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62b"/>
                </a:solidFill>
                <a:latin typeface="Times New Roman"/>
              </a:rPr>
              <a:t>Преподаватель: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62b"/>
                </a:solidFill>
                <a:latin typeface="Times New Roman"/>
              </a:rPr>
              <a:t>Левковская Е.Н.</a:t>
            </a:r>
            <a:r>
              <a:rPr b="0" i="1" lang="ru-RU" sz="2400" spc="-1" strike="noStrike">
                <a:solidFill>
                  <a:srgbClr val="00062b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285840" y="2858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инистерства обороны 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5016600" y="404640"/>
            <a:ext cx="3558960" cy="39610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468360" y="479736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НА ИВАНОВНА (Анна Иоаннов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28 января (7 февраля) 1693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ва — 17 (28) октября 1740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тербург), российская императрица с 1730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Указ от 14 сентября 1730 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реобразования архиатера Риг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089680" y="404640"/>
            <a:ext cx="3558960" cy="3961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684360" y="472428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ЕЛИЗАВЕТА ПЕТ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[18 (29) декабря 1709, Петербург 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5 декабря 1761 (5 января 1762), там же]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ая императрица (1741 — 6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569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741 году с воцарением дочери Петр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4903920" y="404640"/>
            <a:ext cx="3816360" cy="4248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2015280" y="5013360"/>
            <a:ext cx="56977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Р III Федорович (1728-62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ий император (с 176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5229360" y="404640"/>
            <a:ext cx="3622680" cy="4032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3622680" cy="4032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6"/>
          <p:cNvSpPr/>
          <p:nvPr/>
        </p:nvSpPr>
        <p:spPr>
          <a:xfrm>
            <a:off x="1253880" y="4724280"/>
            <a:ext cx="715428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ЕКАТЕРИНА II Велика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1729-96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ссийская императрица (с 176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сударственная медицинская коллегия, </a:t>
            </a:r>
            <a:br>
              <a:rPr sz="4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а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ябр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763 г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еобразования медицинской колле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президентом Медицинской коллегии был барон Александр Иванович Черкас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88 году Медицинская Коллегия была подчинена главному директор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директором был назначен действительный тайный советник фон Фитинго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Аптекарский прика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Васильев АИ"/>
          <p:cNvPicPr/>
          <p:nvPr/>
        </p:nvPicPr>
        <p:blipFill>
          <a:blip r:embed="rId1"/>
          <a:srcRect l="2845" t="0" r="124" b="0"/>
          <a:stretch/>
        </p:blipFill>
        <p:spPr>
          <a:xfrm>
            <a:off x="4932360" y="260280"/>
            <a:ext cx="4032360" cy="62643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24"/>
          <p:cNvSpPr/>
          <p:nvPr/>
        </p:nvSpPr>
        <p:spPr>
          <a:xfrm>
            <a:off x="291240" y="4073760"/>
            <a:ext cx="444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нно плодотвор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ллегии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ле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793 г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 пост глав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ректо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государствен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значе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.И.Василь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В конце 1803 г. Медицинская коллегия была ликвидирова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жданская медицина - в Министерство внутренних дел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ы подготовки медицинских кадров - в Министерство просвеще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енная и морская медицина - соответственно в военное и морское министер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Первая медицинская шко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Московский госпиталь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95280" y="404640"/>
            <a:ext cx="8359920" cy="56977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798840" y="6216480"/>
            <a:ext cx="735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707 г. в Москве при первом постоянном военном госпита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реждается лекарская шко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Бидлоо"/>
          <p:cNvPicPr/>
          <p:nvPr/>
        </p:nvPicPr>
        <p:blipFill>
          <a:blip r:embed="rId1"/>
          <a:stretch/>
        </p:blipFill>
        <p:spPr>
          <a:xfrm>
            <a:off x="1979640" y="260280"/>
            <a:ext cx="6840360" cy="49449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"/>
          <p:cNvSpPr/>
          <p:nvPr/>
        </p:nvSpPr>
        <p:spPr>
          <a:xfrm>
            <a:off x="303840" y="5373720"/>
            <a:ext cx="885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тат госпиталя и лекарской школы при открытии был небольшой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доктор, 1 лекарь, 2 аптекаря, 1 подлекарь, 1 гезел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ководителем школы был доктор Николай Бидло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школе обучалось 50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 первую половину Х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VIII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в. в России существовало 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5 медицинских шк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(при Петербургском адмиралтейском и Кронштадтском морском госпиталях) - для флота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(при Московском госпитал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 программу обучения в госпитальных школах входили следующие раздел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тинский язы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томия челове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птекарское дел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болезней и способов их лечени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хирургических опер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Больничная палата"/>
          <p:cNvPicPr/>
          <p:nvPr/>
        </p:nvPicPr>
        <p:blipFill>
          <a:blip r:embed="rId1"/>
          <a:srcRect l="842" t="0" r="0" b="0"/>
          <a:stretch/>
        </p:blipFill>
        <p:spPr>
          <a:xfrm>
            <a:off x="395280" y="404640"/>
            <a:ext cx="8416800" cy="61009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Инструкция профессорам госпитальных школ,</a:t>
            </a:r>
            <a:br>
              <a:rPr sz="2800"/>
            </a:b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составленная П.З.Кондоиди в 174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...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ипаче  на  то   смотреть,   чтобы   учащиеся   получали понятие о частях человеческого тела,    о медикаментах и хирургических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нструментах   больше   очным   опознанием,   нежели  трудно   понимаемым описанием"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Атлас Бидлоо"/>
          <p:cNvPicPr/>
          <p:nvPr/>
        </p:nvPicPr>
        <p:blipFill>
          <a:blip r:embed="rId1"/>
          <a:stretch/>
        </p:blipFill>
        <p:spPr>
          <a:xfrm>
            <a:off x="2000160" y="285840"/>
            <a:ext cx="3981600" cy="62643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Боярин Матвеев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935600" y="333360"/>
            <a:ext cx="3757680" cy="62643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Госпиталь Бурденко"/>
          <p:cNvPicPr/>
          <p:nvPr/>
        </p:nvPicPr>
        <p:blipFill>
          <a:blip r:embed="rId1"/>
          <a:stretch/>
        </p:blipFill>
        <p:spPr>
          <a:xfrm>
            <a:off x="539640" y="260280"/>
            <a:ext cx="8366400" cy="640404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788000" y="836640"/>
            <a:ext cx="4176720" cy="547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Самойлович"/>
          <p:cNvPicPr/>
          <p:nvPr/>
        </p:nvPicPr>
        <p:blipFill>
          <a:blip r:embed="rId2"/>
          <a:srcRect l="3803" t="0" r="9479" b="3845"/>
          <a:stretch/>
        </p:blipFill>
        <p:spPr>
          <a:xfrm>
            <a:off x="468360" y="333360"/>
            <a:ext cx="3628800" cy="60483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Петр 1 перевязывает раненого"/>
          <p:cNvPicPr/>
          <p:nvPr/>
        </p:nvPicPr>
        <p:blipFill>
          <a:blip r:embed="rId1"/>
          <a:stretch/>
        </p:blipFill>
        <p:spPr>
          <a:xfrm>
            <a:off x="785880" y="285840"/>
            <a:ext cx="7429320" cy="61214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Петр 1 удаляет зуб"/>
          <p:cNvPicPr/>
          <p:nvPr/>
        </p:nvPicPr>
        <p:blipFill>
          <a:blip r:embed="rId1"/>
          <a:stretch/>
        </p:blipFill>
        <p:spPr>
          <a:xfrm>
            <a:off x="1428840" y="428760"/>
            <a:ext cx="6286320" cy="609264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Петр 1 запретил врачам - иностранцам производить экзамены русским лекарям, приказ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360" y="2205000"/>
            <a:ext cx="829152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...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етербурге за Калининским мостом на базе небольшой "секретной больницы" (больница для венерических больных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rcRect l="5569" t="0" r="4878" b="0"/>
          <a:stretch/>
        </p:blipFill>
        <p:spPr>
          <a:xfrm>
            <a:off x="2428920" y="642960"/>
            <a:ext cx="4114800" cy="511164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Так называемые службы "у физических дел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торые с петровских времен в Санкт-Петербурге и Москве занималис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ьбой со   знахарств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ролем за деятельностью аптек и продажей ядовитых вещест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ицинскими осмотрами рекрутов и освидетельствованиями инвалид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нитарным надзором за тюрьма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упреждением эпидемий заразных болезне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33 г. они получили название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физикат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Функции Аптекарского приказ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чение царя и его семь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дебно-медицинская и вообще  врачебная  эксперти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 книгохранилищем литературы, и не только медицинской, но и общ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"Инструкция физикату"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93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ая задача физикатов определялась следующим образом: «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изикат есть блюститель здоровья человеческого и испытатель всех причин в оное вливающихс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"Инструкция о должности врачебной управы" 1797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должности оператора (хирурга) сказан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"Правила для устройства городских больниц на 50 мест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ицинская коллегия утвердила эти правила и разослала во все врачебные упра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был утвержден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2 февраля 1799 г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"/>
          <p:cNvPicPr/>
          <p:nvPr/>
        </p:nvPicPr>
        <p:blipFill>
          <a:blip r:embed="rId1"/>
          <a:srcRect l="5874" t="0" r="6585" b="0"/>
          <a:stretch/>
        </p:blipFill>
        <p:spPr>
          <a:xfrm>
            <a:off x="3000240" y="428760"/>
            <a:ext cx="3456000" cy="43923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"/>
          <p:cNvSpPr/>
          <p:nvPr/>
        </p:nvSpPr>
        <p:spPr>
          <a:xfrm>
            <a:off x="1116000" y="5084640"/>
            <a:ext cx="755964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АВЕЛ I (1754-1801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ссийский император с 1796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Штат медицинской коллегии </a:t>
            </a:r>
            <a:br>
              <a:rPr sz="40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1799 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идент (немедик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первый член, 2 старших, 3 младших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й секретарь, советник экономическо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диции, т.е. всего 9 челове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ее составе имелись также переводчики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хитектор,  бухгалтер и разные канцелярские служи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Согласно указу, утвержденному Сена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и назначены следующие члены коллег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- доктор Г.Аш, старшими - профессора Н.К.Карпинский и Я.О.Саполович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ладшими - доктор И.Г.Еллизен и штаб-лекари И.И.Виен и И.К.Каменец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м секретарем - профессор Г.И.Базилевич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леном коллегии, советником экономической экспедиции - штаб-лекарь С. С .Андреев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Дела медицинской коллег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ая часть - делами самой коллегии и столичных "физикатов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Аптекарская канцеля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елах Правительствующего сената, учрежденного Петр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11 г., Аптекарская канцелярия упоминается с 1712 г., а до этого времени упоминался только Аптекарский прик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"Медицинская канцелярия"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фициально было установлена указом только в 1721 году, когда Л.Блюментрост представил Петр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Блюментрост"/>
          <p:cNvPicPr/>
          <p:nvPr/>
        </p:nvPicPr>
        <p:blipFill>
          <a:blip r:embed="rId1"/>
          <a:stretch/>
        </p:blipFill>
        <p:spPr>
          <a:xfrm>
            <a:off x="5292720" y="260280"/>
            <a:ext cx="3527280" cy="43657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198000" y="4939920"/>
            <a:ext cx="89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о предлагавшейся Л.Блюментрост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ицинской коллегии учреждена Медицинская канцеляр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этому 1721 год и должен считаться годом ее основа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Штат в Медицинской канцеля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оскве - дьяк, канцелярист, 2 кописта, 2 сторожа и 5 рассыль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4888080" y="333360"/>
            <a:ext cx="4011480" cy="44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468360" y="530064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Р II [12 (23) октября 1715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ербург — 19 (30) января 1730, Москва]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ий император (с мая 1727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4:30:38Z</dcterms:created>
  <dc:creator>имя</dc:creator>
  <dc:description/>
  <dc:language>en-US</dc:language>
  <cp:lastModifiedBy>LEGION</cp:lastModifiedBy>
  <dcterms:modified xsi:type="dcterms:W3CDTF">2015-12-31T12:50:34Z</dcterms:modified>
  <cp:revision>13</cp:revision>
  <dc:subject/>
  <dc:title>История медицины России в XVIII ве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