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D51A-A3B1-4EAC-B860-A21C0F4A81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дицины Росс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XVIII ве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: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вковская Е.Н.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е государственное военное образовательное учреждение высшего профессионального образования «Военно-медицинская академия имени С.М. Кирова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ерства обороны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медицины Росс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в XVIII ве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подаватель: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евковская Е.Н.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государственное военное образовательное учреждение высшего профессионального образования «Военно-медицинская академия имени С.М. Кирова»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а обороны Российской Фед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ИВАНОВНА (Анна Иоаннов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28 января (7 февраля) 1693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— 17 (28) октября 1740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), российская императрица с 1730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НА ИВАНОВНА (Анна Иоанновн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28 января (7 февраля) 1693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сква — 17 (28) октября 1740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ербург), российская императрица с 1730 год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 от 14 сентября 173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ынешнего Архиатра отставить, а на его место определить докторов: Быдла (Н.Бидлоо), Шоберта (Г.Шобер); фон Дегульста (А.Ван-дер Гульст); Севаста (А.А.Севасто); Теульса (И.А.Де-Тейльс); которым по вся недели в медицинскую канцелярию собираться в учрежденные дни, и все к верхней аптеке принадлежащие дела основательно рассматривать и по обыкновению коллежскому учреждать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аз от 14 сентября 1730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Нынешнего Архиатра отставить, а на его место определить докторов: Быдла (Н.Бидлоо), Шоберта (Г.Шобер); фон Дегульста (А.Ван-дер Гульст); Севаста (А.А.Севасто); Теульса (И.А.Де-Тейльс); которым по вся недели в медицинскую канцелярию собираться в учрежденные дни, и все к верхней аптеке принадлежащие дела основательно рассматривать и по обыкновению коллежскому учреждать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я архиатера Риг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л подробный штат Медицинской канцелярии и всех подведомственных ей учреждений, который был утвержден 9 января 1733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этому штату в непосредственном ведении Медицинской канцелярии находились придворная медицинская часть (8 человек), штат-физики (врачи) и при них лекари в С.-Петербурге и Москве, Санкт-Петербургский сухопутный госпиталь (29 единиц медицинского персонала и 20 учеников), 2 главные аптеки (в Петербурге и Москве), 2 нижние аптеки (в Петербурге и Москве) и "медицинский огород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я архиатера Риге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работал подробный штат Медицинской канцелярии и всех подведомственных ей учреждений, который был утвержден 9 января 1733 год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этому штату в непосредственном ведении Медицинской канцелярии находились придворная медицинская часть (8 человек), штат-физики (врачи) и при них лекари в С.-Петербурге и Москве, Санкт-Петербургский сухопутный госпиталь (29 единиц медицинского персонала и 20 учеников), 2 главные аптеки (в Петербурге и Москве), 2 нижние аптеки (в Петербурге и Москве) и "медицинский огород"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734 по 1741 год директором Медицинской канцелярии был И.Б.Фишер, уроженец Риги, получивший медицинское образование в Лейденском университ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его именем связаны наиболее крупные преобразования в организации медицинского дела в России первого периода деятельности Медицинской канцелярии. Прежде всего утверждение госпитального устава (1735 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1734 по 1741 год директором Медицинской канцелярии был И.Б.Фишер, уроженец Риги, получивший медицинское образование в Лейденском университет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его именем связаны наиболее крупные преобразования в организации медицинского дела в России первого периода деятельности Медицинской канцелярии. Прежде всего утверждение госпитального устава (1735 г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ИЗАВЕТА ПЕТ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18 (29) декабря 1709, Петербург —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декабря 1761 (5 января 1762), там же]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императрица (1741 — 6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ЛИЗАВЕТА ПЕТ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[18 (29) декабря 1709, Петербург —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5 декабря 1761 (5 января 1762), там же]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ая императрица (1741 — 61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1 году с воцарением дочери Петра I Елизаветы были отстранены от должности все лица,  занимавшие высшие административныепосты при предыдущих правител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л отставку  архиатер И.Б.Фишер, на его место был назначен бездарный фаворит императрицы граф Г.Лесток, запутавшийся в дворцовых интригах и передавший вскоре фактическое управление Медицинской канцелярией П.З.Кондоиди, назначенному помощником директора этой канцеля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41 году с воцарением дочери Петра I Елизаветы были отстранены от должности все лица,  занимавшие высшие административныепосты при предыдущих правителях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учил отставку  архиатер И.Б.Фишер, на его место был назначен бездарный фаворит императрицы граф Г.Лесток, запутавшийся в дворцовых интригах и передавший вскоре фактическое управление Медицинской канцелярией П.З.Кондоиди, назначенному помощником директора этой канцеляр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III Федорович (1728-62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император (с 176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Р III Федорович (1728-62)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ий император (с 176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А II Великая (1729-96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императрица (с 176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КАТЕРИНА II Великая (1729-96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ая императрица (с 1762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медицинская коллеги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12 ноября 1763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ее возлагались организация медицинской и лекарственной помощи населению и наблюдение за деятельностью казенных и вольных апт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коллегия состояла из президента, 3 докторов медицины, штаб-лекаря, оператора и аптекар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ая медицинская коллегия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на 12 ноября 1763 г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нее возлагались организация медицинской и лекарственной помощи населению и наблюдение за деятельностью казенных и вольных апте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ачале коллегия состояла из президента, 3 докторов медицины, штаб-лекаря, оператора и аптекар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я медицинской колл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президентом Медицинской коллегии был барон Александр Иванович Черк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оследствии она разделилась на два департамента: первый управлял учеными делами, а второй - хозяйственно-экономичес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88 году Медицинская Коллегия была подчинена главному директо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директором был назначен действительный тайный советник фон Фитинго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я медицинской коллег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м президентом Медицинской коллегии был барон Александр Иванович Черкас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последствии она разделилась на два департамента: первый управлял учеными делами, а второй - хозяйственно-экономически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88 году Медицинская Коллегия была подчинена главному директору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м директором был назначен действительный тайный советник фон Фитинго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текарский при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возникновения Аптекарского приказа в точности неизвестно. Чистович, Рихтер считают годом основания этого учреждения 1620-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текарский прика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ремя возникновения Аптекарского приказа в точности неизвестно. Чистович, Рихтер считают годом основания этого учреждения 1620-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плодотворна бы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гии  после назна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93 г.  на пост глав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ора  государствен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начея  А.И.Василь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енно плодотворна бы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ллегии  после назнач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93 г.  на пост глав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ректора  государствен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значея  А.И.Василье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 1803 г. Медицинская коллегия была ликвидиров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реждением министерств функции руководства здравоохранением и медициной перешли в ведение 4 министерст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ая медицина - в Министерство внутренних де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подготовки медицинских кадров - в Министерство просвещ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ая и морская медицина - соответственно в военное и морское министе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конце 1803 г. Медицинская коллегия была ликвидирован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учреждением министерств функции руководства здравоохранением и медициной перешли в ведение 4 министерств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ая медицина - в Министерство внутренних дел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 подготовки медицинских кадров - в Министерство просвещения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енная и морская медицина - соответственно в военное и морское министерств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медицинск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ившая лекарей для войск, была открыта в 1654 г. в Москве. В школу было принято 30 учеников из "стрелецких детей". Срок обучения планировался индивидуально в зависимости от степени подготовленности уче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658 г. состоялся первый выпуск полковых лекарей, было выпущено 13 человек, которых направили на службу в армию. Остальные окончили школу в 16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ая медицинская шко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товившая лекарей для войск, была открыта в 1654 г. в Москве. В школу было принято 30 учеников из "стрелецких детей". Срок обучения планировался индивидуально в зависимости от степени подготовленности ученик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658 г. состоялся первый выпуск полковых лекарей, было выпущено 13 человек, которых направили на службу в армию. Остальные окончили школу в 1660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07 г. в Москве при первом постоянном военном госпита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ждается лекарская шко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07 г. в Москве при первом постоянном военном госпитал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реждается лекарская школ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т госпиталя и лекарской школы при открытии был небольшо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доктор, 1 лекарь, 2 аптекаря, 1 подлекарь, 1 гезе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ем школы был доктор Николай Бидло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коле обучалось 50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тат госпиталя и лекарской школы при открытии был небольшой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доктор, 1 лекарь, 2 аптекаря, 1 подлекарь, 1 гезель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ем школы был доктор Николай Бидло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школе обучалось 50 челове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ую половину ХVIII в. в России существовал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медицинских шк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них 2 (при Петербургском сухопутном и Елизаветградском госпиталях) - готовили лекарей для арм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(при Петербургском адмиралтейском и Кронштадтском морском госпиталях) - для флота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(при Московском госпитал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ервую половину ХVIII в. в России существовало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 медицинских шко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 них 2 (при Петербургском сухопутном и Елизаветградском госпиталях) - готовили лекарей для арм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(при Петербургском адмиралтейском и Кронштадтском морском госпиталях) - для флота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(при Московском госпитале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грамму обучения в госпитальных школах входили следующие разде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тинский язы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томия челов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текарское дел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болезней и способов их леч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хирургически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ограмму обучения в госпитальных школах входили следующие раздел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атинский язык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томия человека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текарское дело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учение болезней и способов их лечения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хника хирургических операц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 профессорам госпитальных школ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авленная П.З.Кондоиди в 174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...наипаче  на  то   смотреть,   чтобы   учащиеся   получали понятие о частях человеческого тела,    о медикаментах и хирургических инструментах   больше   очным   опознанием,   нежели  трудно   понимаемым описанием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кция профессорам госпитальных школ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составленная П.З.Кондоиди в 1742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...наипаче  на  то   смотреть,   чтобы   учащиеся   получали понятие о частях человеческого тела,    о медикаментах и хирургических инструментах   больше   очным   опознанием,   нежели  трудно   понимаемым описанием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Кто может сказать, что это не самый лучший способ изучать медицину, если у нас каждый ученик с самого поступления в госпиталь должен ежедневно быть у постели больного, пускать им кровь, делать перевязки, прописывать лекарства - словом, исполнять все то, что предписывает ему врач или хирург, наблюдающий за их излечением ... Не согласится ли всякий со мною, что лучше одновременно изучать теорию и практику, нежели одну теорию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Кто может сказать, что это не самый лучший способ изучать медицину, если у нас каждый ученик с самого поступления в госпиталь должен ежедневно быть у постели больного, пускать им кровь, делать перевязки, прописывать лекарства - словом, исполнять все то, что предписывает ему врач или хирург, наблюдающий за их излечением ... Не согласится ли всякий со мною, что лучше одновременно изучать теорию и практику, нежели одну теорию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1 запретил врачам - иностранцам производить экзамены русским лекарям, приказ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... чтоб никакой из иностранных хирургов до интересов его величества не касались,  и чтоб никто из оных никакой обиды в чести или в повышении чина российского народа от него (Бидлоо. - ) изученным хирургам являть не дерзал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р 1 запретил врачам - иностранцам производить экзамены русским лекарям, приказа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... чтоб никакой из иностранных хирургов до интересов его величества не касались,  и чтоб никто из оных никакой обиды в чести или в повышении чина российского народа от него (Бидлоо. - ) изученным хирургам являть не дерзал"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1 г. было положено начало обучению среднего медицинского состава. В хирургические школы с этой целью стали набирать солдатских детей, которых после 5 лет обучения выпускали помощниками лекар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94 г. был принят указ Медицинской коллегии, которым предписывалось снять с профессоров медико-хирургических училищ обязанность следить за поведением учащихся и за посещением ими лек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41 г. было положено начало обучению среднего медицинского состава. В хирургические школы с этой целью стали набирать солдатских детей, которых после 5 лет обучения выпускали помощниками лекар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94 г. был принят указ Медицинской коллегии, которым предписывалось снять с профессоров медико-хирургических училищ обязанность следить за поведением учащихся и за посещением ими лекци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 августа 1795 г. А.И.Васильев утвердил "Предварительное постановление о должностях учащих и учащихся" Главного Врачебного училища. Оно послужило основой для разработки положения о создании Медико-хирургической академ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 августа 1795 г. А.И.Васильев утвердил "Предварительное постановление о должностях учащих и учащихся" Главного Врачебного училища. Оно послужило основой для разработки положения о создании Медико-хирургической академ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ябре 1802 г. в учебном процессе произошли некоторые изменения в связи с присоединением к Петербургской академии Калининского медико-хирургического института, который был основан в 1783 г. по указу Екатерины II в Петербурге за Калининским мостом на базе небольшой "секретной больницы" (больница для венерических больных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ноябре 1802 г. в учебном процессе произошли некоторые изменения в связи с присоединением к Петербургской академии Калининского медико-хирургического института, который был основан в 1783 г. по указу Екатерины II в Петербурге за Калининским мостом на базе небольшой "секретной больницы" (больница для венерических больных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называемые службы "у физических дел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с петровских времен в Санкт-Петербурге и Москве занималис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ой со   знахарств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ем за деятельностью аптек и продажей ядовитых вещест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ими осмотрами рекрутов и освидетельствованиями инвалид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ым надзором за тюрьм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м эпидемий заразных болезн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33 г. они получили название физика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 называемые службы "у физических дел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торые с петровских времен в Санкт-Петербурге и Москве занимались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рьбой со   знахарством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тролем за деятельностью аптек и продажей ядовитых веществ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ими осмотрами рекрутов и освидетельствованиями инвалидов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нитарным надзором за тюрьмами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упреждением эпидемий заразных болезней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33 г. они получили название физикат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Аптекарского при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царя и его семь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едении Аптекарского приказа находились "водочные изделия". Только в 1694 году заведование водочными делами было передано из Аптекарского приказа в приказ Большой Каз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-медицинская и вообще  врачебная  эксперти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книгохранилищем литературы, и не только медицинской, но и об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Аптекарского прик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ечение царя и его семь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едении Аптекарского приказа находились "водочные изделия". Только в 1694 году заведование водочными делами было передано из Аптекарского приказа в приказ Большой Казн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ебно-медицинская и вообще  врачебная  эксперти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 книгохранилищем литературы, и не только медицинской, но и общ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38 году Анна Иоановна учредила своим указом при главной аптеке Санкт-Петербурга диспенсарию -ежедневный бесплатный амбулаторный прием больных из неимущих слоев населения. Для этого вводилась должность врач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нициативе И.Б.Фишера она своим Указом 7 июля 1737 г. ввела штатные должности врачей в "знатных городах" России. Регламентировалось иметь 56 городовых врач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38 году Анна Иоановна учредила своим указом при главной аптеке Санкт-Петербурга диспенсарию -ежедневный бесплатный амбулаторный прием больных из неимущих слоев населения. Для этого вводилась должность врач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инициативе И.Б.Фишера она своим Указом 7 июля 1737 г. ввела штатные должности врачей в "знатных городах" России. Регламентировалось иметь 56 городовых враче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Инструкция физикату". 179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ава и обязанности как представителей органов государственного санитарного надзо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й подробно излагались методы санитарного контроля и исследования продуктов питания, городских общественных мест, надзора за промышленными предприятия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задача физикатов определялась следующим образом: «Физикат есть блюститель здоровья человеческого и испытатель всех причин в оное вливающихс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Инструкция физикату". 1793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права и обязанности как представителей органов государственного санитарного надзор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ней подробно излагались методы санитарного контроля и исследования продуктов питания, городских общественных мест, надзора за промышленными предприятиям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задача физикатов определялась следующим образом: «Физикат есть блюститель здоровья человеческого и испытатель всех причин в оное вливающихся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Инструкция о должности врачебной управы" 179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Должность врачебной управы вообще, кроме той, которую находящиеся в ней чины обязаны подавать страждующим людям, каждый по своему званию, не требуя за свой труд воздания,    основывается на том, чтобы посредством преподаваемых правил и наставлений, соблюдаемо было народное всей губернии здравие, равно и сбережение скотоводства подаваемы были полезные советы"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Инструкция о должности врачебной управы" 1797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Должность врачебной управы вообще, кроме той, которую находящиеся в ней чины обязаны подавать страждующим людям, каждый по своему званию, не требуя за свой труд воздания,    основывается на том, чтобы посредством преподаваемых правил и наставлений, соблюдаемо было народное всей губернии здравие, равно и сбережение скотоводства подаваемы были полезные советы"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должности оператора (хирурга) сказ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Хотя каждого врача есть первый долг быть человеколюбиву и во всяком случае готову к поданию помощи людям, болезнями одержимым, но качества сии для оператора несравненно еще нужнее, поелику действует его рука и без помощи его иногда никакие средства не в состоянии не только исцелить, ниже облегчить болезни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должности оператора (хирурга) сказан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Хотя каждого врача есть первый долг быть человеколюбиву и во всяком случае готову к поданию помощи людям, болезнями одержимым, но качества сии для оператора несравненно еще нужнее, поелику действует его рука и без помощи его иногда никакие средства не в состоянии не только исцелить, ниже облегчить болезни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равила для устройства городских больниц на 50 мест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о устроить их на государственный счет во всех губернских и наиболее крупных уездных город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коллегия утвердила эти правила и разослала во все врачебные упра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Правила для устройства городских больниц на 50 мест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ложено устроить их на государственный счет во всех губернских и наиболее крупных уездных городах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ая коллегия утвердила эти правила и разослала во все врачебные управ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 переустройстве медицинского дела в России и новых штатах коллегии и подведомственных ей учреждений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л утвержде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 февраля 1799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 переустройстве медицинского дела в России и новых штатах коллегии и подведомственных ей учреждений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был утвержден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 февраля 1799 г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ВЕЛ I (1754-1801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император с 179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АВЕЛ I (1754-1801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ий император с 1796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т медицинской коллеги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99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 (немедик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первый член, 2 старших, 3 младши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ый секретарь, советник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диции, т.е. всего 9 челов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ее составе имелись также переводчи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тектор,  бухгалтер и разные канцелярские служи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тат медицинской коллегии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99 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идент (немедик)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первый член, 2 старших, 3 младших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ный секретарь, советник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спедиции, т.е. всего 9 человек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ее составе имелись также переводчики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рхитектор,  бухгалтер и разные канцелярские служител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указу, утвержденному Сена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и назначены следующие члены колле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- доктор Г.Аш, старшими - профессора Н.К.Карпинский и Я.О.Саполович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ими - доктор И.Г.Еллизен и штаб-лекари И.И.Виен и И.К.Каменец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ым секретарем - профессор Г.И.Базилевич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леном коллегии, советником экономической экспедиции - штаб-лекарь С. С .Андреевс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но указу, утвержденному Сенат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и назначены следующие члены коллеги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м - доктор Г.Аш, старшими - профессора Н.К.Карпинский и Я.О.Саполович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ладшими - доктор И.Г.Еллизен и штаб-лекари И.И.Виен и И.К.Каменеций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ным секретарем - профессор Г.И.Базилевич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леном коллегии, советником экономической экспедиции - штаб-лекарь С. С .Андреевск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 медицинской колл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часть ведала подчиненными коллегии госпиталями, аптеками, медико-инструментальными заводами, медико-хирургическими академиями, типографией, ботаническими медицинскими садами.    В ее ведении было назначение чинов, проведение экзаменов для разрешения практики врачам и повивальным бабк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часть занималась вопросами медицинского обеспечения армии и флота, военными лазаретами и полковыми апте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я часть - гражданской медициной "с больницами и партикулярными аптеками", определением членов врачебных управ и уездных врач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вертая часть - делами самой коллегии и столичных "физикатов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экспедиция занималась вопросами финансирования, снабжения оборудованием и медикаментами, а также строительством лечеб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ла медицинской коллег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ая часть ведала подчиненными коллегии госпиталями, аптеками, медико-инструментальными заводами, медико-хирургическими академиями, типографией, ботаническими медицинскими садами.    В ее ведении было назначение чинов, проведение экзаменов для разрешения практики врачам и повивальным бабкам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торая часть занималась вопросами медицинского обеспечения армии и флота, военными лазаретами и полковыми аптекам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етья часть - гражданской медициной "с больницами и партикулярными аптеками", определением членов врачебных управ и уездных врач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твертая часть - делами самой коллегии и столичных "физикатов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ая экспедиция занималась вопросами финансирования, снабжения оборудованием и медикаментами, а также строительством лечебных учрежден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текарская канцеля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ла не в результате преобразования Аптекарского приказа, а сама по себе как орган медицинского управления во вновь строившейся тогда столице - Санкт-Петербур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лах Правительствующего сената, учрежденного Петром I в 1711 г., Аптекарская канцелярия упоминается с 1712 г., а до этого времени упоминался только Аптекарский прик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текарская канцеля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никла не в результате преобразования Аптекарского приказа, а сама по себе как орган медицинского управления во вновь строившейся тогда столице - Санкт-Петербург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делах Правительствующего сената, учрежденного Петром I в 1711 г., Аптекарская канцелярия упоминается с 1712 г., а до этого времени упоминался только Аптекарский приказ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Медицинская канцеляри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о было установлена указом только в 1721 году, когда Л.Блюментрост представил Петру I проект преобразования медицинской службы в России, которым предлагал учредить государственные аптеки во всех крупных городах, увеличить число врачей, а для управления всем медицинским делом "учредить Коллегиум медикум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Медицинская канцелярия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фициально было установлена указом только в 1721 году, когда Л.Блюментрост представил Петру I проект преобразования медицинской службы в России, которым предлагал учредить государственные аптеки во всех крупных городах, увеличить число врачей, а для управления всем медицинским делом "учредить Коллегиум медикум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о предлагавшейся Л.Блюментрос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ой коллегии учреждена Медицинская канцеляр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1721 год и должен считаться годом ее осн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место предлагавшейся Л.Блюментросто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ой коллегии учреждена Медицинская канцелярия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этому 1721 год и должен считаться годом ее основа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т в Медицинской канцеля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еврале 1727 года по числилось: в Санкт-Петербурге - президент (архиятер Блюментрост), русский и иностранный секретари, шрейбер, 2 канцеляриста, 5 копистов, 2 сторожа и 10 рассыль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скве - дьяк, канцелярист, 2 кописта, 2 сторожа и 5 рассыль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тат в Медицинской канцеля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феврале 1727 года по числилось: в Санкт-Петербурге - президент (архиятер Блюментрост), русский и иностранный секретари, шрейбер, 2 канцеляриста, 5 копистов, 2 сторожа и 10 рассыльных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Москве - дьяк, канцелярист, 2 кописта, 2 сторожа и 5 рассыльны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II [12 (23) октября 1715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 — 19 (30) января 1730, Москва]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император (с мая 1727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Р II [12 (23) октября 1715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ербург — 19 (30) января 1730, Москва]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ий император (с мая 1727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3BC1-18F6-48FF-AA8B-18D90470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D3EA-E0BD-42E5-A666-9B18C764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CC00-AC49-40FB-B305-48D4DE21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5328-9522-4613-9557-4D4842B7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7CFE-9DCA-4E03-B0D7-D49FAA83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3606-6CB5-4205-8B3E-B7FF8EF6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124B-EA51-4BFF-9DAD-37A3B6F2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7A94-5FE6-4986-84E4-A971321B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8D48-FD77-418E-A86F-613C6500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E6B2-4A9B-45A7-869C-045AFB0C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F6E4-9D37-4EE1-9FE4-93C9C37F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FE84-B9BB-4E3F-981B-5387F906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5A0D-B104-4272-A3FB-125EC17C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DF1D-FACE-4DDF-9E19-16A5893A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AB05-805F-430E-81C2-B93A40B4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0A80-74DF-4FEF-9694-134B3CFA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D189-7FED-44CD-95A7-F2CA962F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1D5D-83B0-4525-9405-8E706C6D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FE38-6320-4351-BEA0-632F0A4A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1CF7-7C37-4F66-AF47-4D4C7070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98F0-D2EF-4574-81BE-4ECADBDD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88FF-EA47-4BFE-A7CC-3F034EB5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027A-9A8C-4C70-87A5-7815D541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141C-0ADD-4179-8EF7-ED5F690A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F014-9672-47C6-8229-BBF794B812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6FD2-46F6-4B6F-BCF0-D0B2E983D1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История медицины России</a:t>
            </a:r>
            <a:br>
              <a:rPr sz="3600"/>
            </a:b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 в </a:t>
            </a: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XVIII </a:t>
            </a: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ве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6429240" y="5788080"/>
            <a:ext cx="27147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62b"/>
                </a:solidFill>
                <a:latin typeface="Times New Roman"/>
              </a:rPr>
              <a:t>Преподаватель: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62b"/>
                </a:solidFill>
                <a:latin typeface="Times New Roman"/>
              </a:rPr>
              <a:t>Левковская Е.Н.</a:t>
            </a:r>
            <a:r>
              <a:rPr b="0" i="1" lang="ru-RU" sz="2400" spc="-1" strike="noStrike">
                <a:solidFill>
                  <a:srgbClr val="00062b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285840" y="2858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Федеральное государственное военное образовательное учреждение высшего профессионального образования «Военно-медицинская академия имени С.М. Кирова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Министерства обороны 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5016600" y="404640"/>
            <a:ext cx="3558960" cy="39610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5"/>
          <p:cNvSpPr/>
          <p:nvPr/>
        </p:nvSpPr>
        <p:spPr>
          <a:xfrm>
            <a:off x="468360" y="479736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ННА ИВАНОВНА (Анна Иоаннов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28 января (7 февраля) 1693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ва — 17 (28) октября 1740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тербург), российская императрица с 1730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Указ от 14 сентября 1730 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"Нынешнего Архиатра отставить, а на его место определить докторов: Быдла (Н.Бидлоо), Шоберта (Г.Шобер); фон Дегульста (А.Ван-дер Гульст); Севаста (А.А.Севасто); Теульса (И.А.Де-Тейльс); которым по вся недели в медицинскую канцелярию собираться в учрежденные дни, и все к верхней аптеке принадлежащие дела основательно рассматривать и по обыкновению коллежскому учреждать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Преобразования архиатера Риге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ал подробный штат Медицинской канцелярии и всех подведомственных ей учреждений, который был утвержден 9 января 1733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этому штату в непосредственном ведении Медицинской канцелярии находились придворная медицинская часть (8 человек), штат-физики (врачи) и при них лекари в С.-Петербурге и Москве, Санкт-Петербургский сухопутный госпиталь (29 единиц медицинского персонала и 20 учеников), 2 главные аптеки (в Петербурге и Москве), 2 нижние аптеки (в Петербурге и Москве) и "медицинский огород"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1734 по 1741 год директором Медицинской канцелярии был И.Б.Фишер, уроженец Риги, получивший медицинское образование в Лейденском университет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его именем связаны наиболее крупные преобразования в организации медицинского дела в России первого периода деятельности Медицинской канцелярии. Прежде всего утверждение госпитального устава (1735 г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5089680" y="404640"/>
            <a:ext cx="3558960" cy="3961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684360" y="472428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ЕЛИЗАВЕТА ПЕТ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[18 (29) декабря 1709, Петербург 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5 декабря 1761 (5 января 1762), там же]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йская императрица (1741 — 6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569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741 году с воцарением дочери Петр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лизаветы были отстранены от должности все лица,  занимавшие высшие административныепосты при предыдущих правителях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учил отставку  архиатер И.Б.Фишер, на его место был назначен бездарный фаворит императрицы граф Г.Лесток, запутавшийся в дворцовых интригах и передавший вскоре фактическое управление Медицинской канцелярией П.З.Кондоиди, назначенному помощником директора этой канцеля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4903920" y="404640"/>
            <a:ext cx="3816360" cy="42483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2015280" y="5013360"/>
            <a:ext cx="56977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Р III Федорович (1728-62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йский император (с 176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5229360" y="404640"/>
            <a:ext cx="3622680" cy="4032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3622680" cy="4032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6"/>
          <p:cNvSpPr/>
          <p:nvPr/>
        </p:nvSpPr>
        <p:spPr>
          <a:xfrm>
            <a:off x="1253880" y="4724280"/>
            <a:ext cx="715428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ЕКАТЕРИНА II Великая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1729-96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ссийская императрица (с 176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сударственная медицинская коллегия, </a:t>
            </a:r>
            <a:br>
              <a:rPr sz="4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а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оябр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763 г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нее возлагались организация медицинской и лекарственной помощи населению и наблюдение за деятельностью казенных и вольных апт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ачале коллегия состояла из президента, 3 докторов медицины, штаб-лекаря, оператора и аптекар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еобразования медицинской коллег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президентом Медицинской коллегии был барон Александр Иванович Черкас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последствии она разделилась на два департамента: первый управлял учеными делами, а второй - хозяйственно-экономическ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88 году Медицинская Коллегия была подчинена главному директор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директором был назначен действительный тайный советник фон Фитинго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Arial"/>
              </a:rPr>
              <a:t>Аптекарский приказ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я возникновения Аптекарского приказа в точности неизвестно. Чистович, Рихтер считают годом основания этого учреждения 1620-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Васильев АИ"/>
          <p:cNvPicPr/>
          <p:nvPr/>
        </p:nvPicPr>
        <p:blipFill>
          <a:blip r:embed="rId1"/>
          <a:srcRect l="2845" t="0" r="124" b="0"/>
          <a:stretch/>
        </p:blipFill>
        <p:spPr>
          <a:xfrm>
            <a:off x="4932360" y="260280"/>
            <a:ext cx="4032360" cy="62643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024"/>
          <p:cNvSpPr/>
          <p:nvPr/>
        </p:nvSpPr>
        <p:spPr>
          <a:xfrm>
            <a:off x="291240" y="4073760"/>
            <a:ext cx="444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обенно плодотворна бы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ллегии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ле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1793 г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 пост глав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ректо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государствен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значе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.И.Василье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В конце 1803 г. Медицинская коллегия была ликвидирова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учреждением министерств функции руководства здравоохранением и медициной перешли в ведение 4 министерств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жданская медицина - в Министерство внутренних дел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ы подготовки медицинских кадров - в Министерство просвещен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енная и морская медицина - соответственно в военное и морское министер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Первая медицинская шко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товившая лекарей для войск, была открыта в 1654 г. в Москве. В школу было принято 30 учеников из "стрелецких детей". Срок обучения планировался индивидуально в зависимости от степени подготовленности ученик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658 г. состоялся первый выпуск полковых лекарей, было выпущено 13 человек, которых направили на службу в армию. Остальные окончили школу в 1660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Московский госпиталь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95280" y="404640"/>
            <a:ext cx="8359920" cy="56977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"/>
          <p:cNvSpPr/>
          <p:nvPr/>
        </p:nvSpPr>
        <p:spPr>
          <a:xfrm>
            <a:off x="798840" y="6216480"/>
            <a:ext cx="735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707 г. в Москве при первом постоянном военном госпита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реждается лекарская школ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Бидлоо"/>
          <p:cNvPicPr/>
          <p:nvPr/>
        </p:nvPicPr>
        <p:blipFill>
          <a:blip r:embed="rId1"/>
          <a:stretch/>
        </p:blipFill>
        <p:spPr>
          <a:xfrm>
            <a:off x="1979640" y="260280"/>
            <a:ext cx="6840360" cy="49449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2"/>
          <p:cNvSpPr/>
          <p:nvPr/>
        </p:nvSpPr>
        <p:spPr>
          <a:xfrm>
            <a:off x="303840" y="5373720"/>
            <a:ext cx="885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Штат госпиталя и лекарской школы при открытии был небольшой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 доктор, 1 лекарь, 2 аптекаря, 1 подлекарь, 1 гезел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ководителем школы был доктор Николай Бидло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школе обучалось 50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В первую половину Х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VIII</a:t>
            </a: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 в. в России существовало 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5 медицинских шк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них 2 (при Петербургском сухопутном и Елизаветградском госпиталях) - готовили лекарей для арм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(при Петербургском адмиралтейском и Кронштадтском морском госпиталях) - для флота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(при Московском госпитале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В программу обучения в госпитальных школах входили следующие раздел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тинский язы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томия человек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птекарское дело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болезней и способов их лечени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ка хирургических опера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Больничная палата"/>
          <p:cNvPicPr/>
          <p:nvPr/>
        </p:nvPicPr>
        <p:blipFill>
          <a:blip r:embed="rId1"/>
          <a:srcRect l="842" t="0" r="0" b="0"/>
          <a:stretch/>
        </p:blipFill>
        <p:spPr>
          <a:xfrm>
            <a:off x="395280" y="404640"/>
            <a:ext cx="8416800" cy="61009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Инструкция профессорам госпитальных школ,</a:t>
            </a:r>
            <a:br>
              <a:rPr sz="2800"/>
            </a:b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составленная П.З.Кондоиди в 1742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"...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наипаче  на  то   смотреть,   чтобы   учащиеся   получали понятие о частях человеческого тела,    о медикаментах и хирургических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инструментах   больше   очным   опознанием,   нежели  трудно   понимаемым описанием"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Атлас Бидлоо"/>
          <p:cNvPicPr/>
          <p:nvPr/>
        </p:nvPicPr>
        <p:blipFill>
          <a:blip r:embed="rId1"/>
          <a:stretch/>
        </p:blipFill>
        <p:spPr>
          <a:xfrm>
            <a:off x="2000160" y="285840"/>
            <a:ext cx="3981600" cy="62643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Боярин Матвеев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935600" y="333360"/>
            <a:ext cx="3757680" cy="62643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Госпиталь Бурденко"/>
          <p:cNvPicPr/>
          <p:nvPr/>
        </p:nvPicPr>
        <p:blipFill>
          <a:blip r:embed="rId1"/>
          <a:stretch/>
        </p:blipFill>
        <p:spPr>
          <a:xfrm>
            <a:off x="539640" y="260280"/>
            <a:ext cx="8366400" cy="640404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788000" y="836640"/>
            <a:ext cx="4176720" cy="547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"Кто может сказать, что это не самый лучший способ изучать медицину, если у нас каждый ученик с самого поступления в госпиталь должен ежедневно быть у постели больного, пускать им кровь,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лать перевязки, прописывать лекарства - словом, исполнять все то, что предписывает ему врач или хирург, наблюдающий за их излечением ... Не согласится ли всякий со мною, что лучше одновременно изучать теорию и практику, нежели одну теорию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4" descr="Самойлович"/>
          <p:cNvPicPr/>
          <p:nvPr/>
        </p:nvPicPr>
        <p:blipFill>
          <a:blip r:embed="rId2"/>
          <a:srcRect l="3803" t="0" r="9479" b="3845"/>
          <a:stretch/>
        </p:blipFill>
        <p:spPr>
          <a:xfrm>
            <a:off x="468360" y="333360"/>
            <a:ext cx="3628800" cy="60483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Петр 1 перевязывает раненого"/>
          <p:cNvPicPr/>
          <p:nvPr/>
        </p:nvPicPr>
        <p:blipFill>
          <a:blip r:embed="rId1"/>
          <a:stretch/>
        </p:blipFill>
        <p:spPr>
          <a:xfrm>
            <a:off x="785880" y="285840"/>
            <a:ext cx="7429320" cy="612144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Петр 1 удаляет зуб"/>
          <p:cNvPicPr/>
          <p:nvPr/>
        </p:nvPicPr>
        <p:blipFill>
          <a:blip r:embed="rId1"/>
          <a:stretch/>
        </p:blipFill>
        <p:spPr>
          <a:xfrm>
            <a:off x="1428840" y="428760"/>
            <a:ext cx="6286320" cy="609264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Петр 1 запретил врачам - иностранцам производить экзамены русским лекарям, приказ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8360" y="2205000"/>
            <a:ext cx="829152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...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чтоб никакой из иностранных хирургов до интересов его величества не касались,  и чтоб никто из оных никакой обиды в чести или в повышении чина российского народа от него (Бидлоо. - ) изученным хирургам являть не дерзал"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41 г. было положено начало обучению среднего медицинского состава. В хирургические школы с этой целью стали набирать солдатских детей, которых после 5 лет обучения выпускали помощниками лекар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94 г. был принят указ Медицинской коллегии, которым предписывалось снять с профессоров медико-хирургических училищ обязанность следить за поведением учащихся и за посещением ими лекц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7 августа 1795 г. А.И.Васильев утвердил "Предварительное постановление о должностях учащих и учащихся" Главного Врачебного училища. Оно послужило основой для разработки положения о создании Медико-хирургической академ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оябре 1802 г. в учебном процессе произошли некоторые изменения в связи с присоединением к Петербургской академии Калининского медико-хирургического института, который был основан в 1783 г. по указу Екатерины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етербурге за Калининским мостом на базе небольшой "секретной больницы" (больница для венерических больных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"/>
          <p:cNvPicPr/>
          <p:nvPr/>
        </p:nvPicPr>
        <p:blipFill>
          <a:blip r:embed="rId1"/>
          <a:srcRect l="5569" t="0" r="4878" b="0"/>
          <a:stretch/>
        </p:blipFill>
        <p:spPr>
          <a:xfrm>
            <a:off x="2428920" y="642960"/>
            <a:ext cx="4114800" cy="511164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Так называемые службы "у физических дел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торые с петровских времен в Санкт-Петербурге и Москве занимались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ьбой со   знахарств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тролем за деятельностью аптек и продажей ядовитых вещест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дицинскими осмотрами рекрутов и освидетельствованиями инвалид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нитарным надзором за тюрьмам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упреждением эпидемий заразных болезне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33 г. они получили название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физикат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Функции Аптекарского приказ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чение царя и его семь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ведении Аптекарского приказа находились "водочные изделия". Только в 1694 году заведование водочными делами было передано из Аптекарского приказа в приказ Большой Каз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дебно-медицинская и вообще  врачебная  экспертиз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 книгохранилищем литературы, и не только медицинской, но и общ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38 году Анна Иоановна учредила своим указом при главной аптеке Санкт-Петербурга диспенсарию -ежедневный бесплатный амбулаторный прием больных из неимущих слоев населения. Для этого вводилась должность врач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инициативе И.Б.Фишера она своим Указом 7 июля 1737 г. ввела штатные должности врачей в "знатных городах" России. Регламентировалось иметь 56 городовых врач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"Инструкция физикату"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793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х права и обязанности как представителей органов государственного санитарного надзо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ей подробно излагались методы санитарного контроля и исследования продуктов питания, городских общественных мест, надзора за промышленными предприятиям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щая задача физикатов определялась следующим образом: «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Физикат есть блюститель здоровья человеческого и испытатель всех причин в оное вливающихс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"Инструкция о должности врачебной управы" 1797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"Должность врачебной управы вообще, кроме той, которую находящиеся в ней чины обязаны подавать страждующим людям, каждый по своему званию, не требуя за свой труд воздания,    основывается на том, чтобы посредством преподаваемых правил и наставлений, соблюдаемо было народное всей губернии здравие, равно и сбережение скотоводства подаваемы были полезные советы"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 должности оператора (хирурга) сказан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Хотя каждого врача есть первый долг быть человеколюбиву и во всяком случае готову к поданию помощи людям, болезнями одержимым, но качества сии для оператора несравненно еще нужнее, поелику действует его рука и без помощи его иногда никакие средства не в состоянии не только исцелить, ниже облегчить болезни"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"Правила для устройства городских больниц на 50 мест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ложено устроить их на государственный счет во всех губернских и наиболее крупных уездных город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дицинская коллегия утвердила эти правила и разослала во все врачебные упра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О переустройстве медицинского дела в России и новых штатах коллегии и подведомственных ей учреждений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был утвержден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2 февраля 1799 г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"/>
          <p:cNvPicPr/>
          <p:nvPr/>
        </p:nvPicPr>
        <p:blipFill>
          <a:blip r:embed="rId1"/>
          <a:srcRect l="5874" t="0" r="6585" b="0"/>
          <a:stretch/>
        </p:blipFill>
        <p:spPr>
          <a:xfrm>
            <a:off x="3000240" y="428760"/>
            <a:ext cx="3456000" cy="43923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5"/>
          <p:cNvSpPr/>
          <p:nvPr/>
        </p:nvSpPr>
        <p:spPr>
          <a:xfrm>
            <a:off x="1116000" y="5084640"/>
            <a:ext cx="755964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АВЕЛ I (1754-1801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ссийский император с 1796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Штат медицинской коллегии </a:t>
            </a:r>
            <a:br>
              <a:rPr sz="4000"/>
            </a:b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1799 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зидент (немедик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первый член, 2 старших, 3 младших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й секретарь, советник экономическо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едиции, т.е. всего 9 челове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ее составе имелись также переводчики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хитектор,  бухгалтер и разные канцелярские служит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Согласно указу, утвержденному Сенат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и назначены следующие члены коллег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- доктор Г.Аш, старшими - профессора Н.К.Карпинский и Я.О.Саполович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ладшими - доктор И.Г.Еллизен и штаб-лекари И.И.Виен и И.К.Каменеци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м секретарем - профессор Г.И.Базилевич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леном коллегии, советником экономической экспедиции - штаб-лекарь С. С .Андреевс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Дела медицинской коллег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ая часть ведала подчиненными коллегии госпиталями, аптеками, медико-инструментальными заводами, медико-хирургическими академиями, типографией, ботаническими медицинскими садами.    В ее ведении было назначение чинов, проведение экзаменов для разрешения практики врачам и повивальным бабка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торая часть занималась вопросами медицинского обеспечения армии и флота, военными лазаретами и полковыми апте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я часть - гражданской медициной "с больницами и партикулярными аптеками", определением членов врачебных управ и уездных врач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твертая часть - делами самой коллегии и столичных "физикатов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номическая экспедиция занималась вопросами финансирования, снабжения оборудованием и медикаментами, а также строительством лечебных учрежд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Аптекарская канцеляр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никла не в результате преобразования Аптекарского приказа, а сама по себе как орган медицинского управления во вновь строившейся тогда столице - Санкт-Петербург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елах Правительствующего сената, учрежденного Петром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11 г., Аптекарская канцелярия упоминается с 1712 г., а до этого времени упоминался только Аптекарский прика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"Медицинская канцелярия"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фициально было установлена указом только в 1721 году, когда Л.Блюментрост представил Петру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 преобразования медицинской службы в России, которым предлагал учредить государственные аптеки во всех крупных городах, увеличить число врачей, а для управления всем медицинским делом "учредить Коллегиум медикум"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Блюментрост"/>
          <p:cNvPicPr/>
          <p:nvPr/>
        </p:nvPicPr>
        <p:blipFill>
          <a:blip r:embed="rId1"/>
          <a:stretch/>
        </p:blipFill>
        <p:spPr>
          <a:xfrm>
            <a:off x="5292720" y="260280"/>
            <a:ext cx="3527280" cy="43657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"/>
          <p:cNvSpPr/>
          <p:nvPr/>
        </p:nvSpPr>
        <p:spPr>
          <a:xfrm>
            <a:off x="198000" y="4939920"/>
            <a:ext cx="894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о предлагавшейся Л.Блюментрост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ицинской коллегии учреждена Медицинская канцеляр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этому 1721 год и должен считаться годом ее основания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Штат в Медицинской канцеляр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феврале 1727 года по числилось: в Санкт-Петербурге - президент (архиятер Блюментрост), русский и иностранный секретари, шрейбер, 2 канцеляриста, 5 копистов, 2 сторожа и 10 рассыльны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оскве - дьяк, канцелярист, 2 кописта, 2 сторожа и 5 рассыль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4888080" y="333360"/>
            <a:ext cx="4011480" cy="4464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468360" y="530064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Р II [12 (23) октября 1715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ербург — 19 (30) января 1730, Москва]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йский император (с мая 1727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4:30:38Z</dcterms:created>
  <dc:creator>имя</dc:creator>
  <dc:description/>
  <dc:language>en-US</dc:language>
  <cp:lastModifiedBy>LEGION</cp:lastModifiedBy>
  <dcterms:modified xsi:type="dcterms:W3CDTF">2015-12-31T12:50:34Z</dcterms:modified>
  <cp:revision>13</cp:revision>
  <dc:subject/>
  <dc:title>История медицины России в XVIII ве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