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193-949D-466F-A120-CC703794D2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XVIII в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: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вковская Е.Н.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медицины Росси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в XVIII ве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подаватель: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вковская Е.Н.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инистерства обороны 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(Анна Иоаннов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28 января (7 февраля) 1693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— 17 (28) октября 174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 от 14 сентября 173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 от 14 сентября 173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архиатера Риг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архиатера Риге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18 (29) декабря 1709, Петербург —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декабря 1761 (5 января 1762), там же]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1741 — 6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ЛИЗАВЕТА ПЕТ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I 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I Федорович (1728-6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II Великая (1729-96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императрица (с 176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КАТЕРИНА II Великая (1729-96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12 ноября 176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12 ноября 1763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ий при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ий приказ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лодотворна бы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гии  после назна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3 г.  на пост глав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а  государствен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начея  А.И.Васил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ллегии  после назна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3 г.  на пост глав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ректора  государствен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значея  А.И.Василье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медицинск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медицинская шко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ждается лекарская шко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реждается лекарская шко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коле обучалось 50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медицинских шк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(при Московском госпитал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ервую половину ХVIII в. в России суще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 медицинских шк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ий язы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 челове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ое дел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хирургически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енная П.З.Кондоиди в 174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рукция профессорам госпитальных школ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составленная П.З.Кондоиди в 1742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наипаче  на  то   смотреть,   чтобы   учащиеся   получали понятие о частях человеческого тела,    о медикаментах и хирургических инструментах   больше   очным   опознанием,   нежели  трудно   понимаемым описание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 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... 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II в Петербурге за Калининским мостом на базе небольшой "секретной больницы" (больница для венерических больных)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ой со   знахарств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ым надзором за тюрьм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 называемые службы "у физических дел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3 г. они получили название физика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Аптекарского при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царя и его семь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Аптекарского прик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физикату". 179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физикату". 1793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Физикат есть блюститель здоровья человеческого и испытатель всех причин в оное вливающихся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февраля 179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I (1754-1801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с 179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АВЕЛ I (1754-1801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99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(немедик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первый член, 2 старших, 3 младши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диции, т.е. всего 9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медицинской коллеги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799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указу, утвержденному Сена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медицинской колл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медицинской колле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текарская канцеля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текарская канцеляр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I в 1711 г., Аптекарская канцелярия упоминается с 1712 г., а до этого времени упоминался только Аптекарский приказ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едицинская канцеляр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I 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тат в Медицинской канцеля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тат в Медицинской канцеляр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II [12 (23) октября 1715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— 19 (30) января 1730, Москва]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император (с мая 172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9090-0313-4AE5-9EE9-F77B1E77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A58-D9DF-4AAF-B282-88B0A7EE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81D-4D8E-452D-ABA9-72DA0281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F0E-9B05-4C2D-8EBD-6D6ECA4A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59EA-F3D5-4A55-909B-F76DF1CD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9F9C-3785-4FF8-828F-5BA22AE4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09AE-92A9-45E7-8C2F-3A20A2A4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1DEE-5284-406E-A4B4-CC8E754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2D48-A089-4FAD-9AF5-C6656B71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A4D3-D254-4CEA-B117-967BF686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9BEC-BA87-453A-907C-E87DFB9E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4D2-11E1-4231-A0F5-F1C5DA1F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4EE8-E701-4EFC-9533-01FCF5B3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E15C-51AE-4A23-A644-E51FCC21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2742-39DB-4F30-88B4-3D13EFA2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2DEF-DC4D-49DC-A7C9-62B6EFC8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9493-5935-469F-A209-69286A89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70E-0F7C-486F-B3D9-807054C6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F08-9ABB-426E-9352-D7E32CB5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867A-FA88-47A0-BC63-1188445A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E284-70CD-4B14-8FC1-6527AF5D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17B-100B-44E7-818B-4910B600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550-95F9-4ABC-ADF5-12A38F5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32E-A7FC-4A8F-895B-60422754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385A-63E7-4E1E-8013-B203617724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67C9-4F03-49F3-B0CF-86C4B1F638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История медицины России</a:t>
            </a:r>
            <a:br>
              <a:rPr sz="3600"/>
            </a:b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 в </a:t>
            </a: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XVIII </a:t>
            </a:r>
            <a:r>
              <a:rPr b="0" lang="ru-RU" sz="3600" spc="-1" strike="noStrike">
                <a:solidFill>
                  <a:srgbClr val="ffc000"/>
                </a:solidFill>
                <a:latin typeface="Arial"/>
              </a:rPr>
              <a:t>ве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4"/>
          <p:cNvSpPr/>
          <p:nvPr/>
        </p:nvSpPr>
        <p:spPr>
          <a:xfrm>
            <a:off x="6429240" y="5788080"/>
            <a:ext cx="271476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Преподаватель: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62b"/>
                </a:solidFill>
                <a:latin typeface="Times New Roman"/>
              </a:rPr>
              <a:t>Левковская Е.Н.</a:t>
            </a:r>
            <a:r>
              <a:rPr b="0" i="1" lang="ru-RU" sz="2400" spc="-1" strike="noStrike">
                <a:solidFill>
                  <a:srgbClr val="00062b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285840" y="2858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Федеральное государственное военное образовательное учреждение высшего профессионального образования «Военно-медицинская академия имени С.М. Кирова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инистерства обороны 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501660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468360" y="479736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НА ИВАНОВНА (Анна Иоаннов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28 января (7 февраля) 1693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ва — 17 (28) октября 1740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тербург), российская императрица с 1730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Указ от 14 сентября 1730 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"Нынешнего Архиатра отставить, а на его место определить докторов: Быдла (Н.Бидлоо), Шоберта (Г.Шобер); фон Дегульста (А.Ван-дер Гульст); Севаста (А.А.Севасто); Теульса (И.А.Де-Тейльс); которым по вся недели в медицинскую канцелярию собираться в учрежденные дни, и все к верхней аптеке принадлежащие дела основательно рассматривать и по обыкновению коллежскому учреждать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реобразования архиатера Риг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л подробный штат Медицинской канцелярии и всех подведомственных ей учреждений, который был утвержден 9 января 1733 го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этому штату в непосредственном ведении Медицинской канцелярии находились придворная медицинская часть (8 человек), штат-физики (врачи) и при них лекари в С.-Петербурге и Москве, Санкт-Петербургский сухопутный госпиталь (29 единиц медицинского персонала и 20 учеников), 2 главные аптеки (в Петербурге и Москве), 2 нижние аптеки (в Петербурге и Москве) и "медицинский огород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1734 по 1741 год директором Медицинской канцелярии был И.Б.Фишер, уроженец Риги, получивший медицинское образование в Лейденском университет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его именем связаны наиболее крупные преобразования в организации медицинского дела в России первого периода деятельности Медицинской канцелярии. Прежде всего утверждение госпитального устава (1735 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089680" y="404640"/>
            <a:ext cx="3558960" cy="3961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84360" y="472428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ЕЛИЗАВЕТА ПЕТР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[18 (29) декабря 1709, Петербург 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5 декабря 1761 (5 января 1762), там же]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ая императрица (1741 — 61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56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741 году с воцарением дочери Петр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лизаветы были отстранены от должности все лица,  занимавшие высшие административныепосты при предыдущих правителях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учил отставку  архиатер И.Б.Фишер, на его место был назначен бездарный фаворит императрицы граф Г.Лесток, запутавшийся в дворцовых интригах и передавший вскоре фактическое управление Медицинской канцелярией П.З.Кондоиди, назначенному помощником директора этой канцеля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4903920" y="404640"/>
            <a:ext cx="381636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15280" y="5013360"/>
            <a:ext cx="5697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I Федорович (1728-62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176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5229360" y="404640"/>
            <a:ext cx="3622680" cy="403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622680" cy="40323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6"/>
          <p:cNvSpPr/>
          <p:nvPr/>
        </p:nvSpPr>
        <p:spPr>
          <a:xfrm>
            <a:off x="1253880" y="4724280"/>
            <a:ext cx="71542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ЕКАТЕРИНА II Великая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1729-96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ая императрица (с 1762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осударственная медицинская коллегия, </a:t>
            </a:r>
            <a:br>
              <a:rPr sz="4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а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ябр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763 г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нее возлагались организация медицинской и лекарственной помощи населению и наблюдение за деятельностью казенных и вольных апт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ачале коллегия состояла из президента, 3 докторов медицины, штаб-лекаря, оператора и аптекар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еобразования медицинской колле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президентом Медицинской коллегии был барон Александр Иванович Черка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последствии она разделилась на два департамента: первый управлял учеными делами, а второй - хозяйственно-экономическ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88 году Медицинская Коллегия была подчинена главному директор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директором был назначен действительный тайный советник фон Фитинго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Arial"/>
              </a:rPr>
              <a:t>Аптекарский приказ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 возникновения Аптекарского приказа в точности неизвестно. Чистович, Рихтер считают годом основания этого учреждения 1620-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Васильев АИ"/>
          <p:cNvPicPr/>
          <p:nvPr/>
        </p:nvPicPr>
        <p:blipFill>
          <a:blip r:embed="rId1"/>
          <a:srcRect l="2845" t="0" r="124" b="0"/>
          <a:stretch/>
        </p:blipFill>
        <p:spPr>
          <a:xfrm>
            <a:off x="4932360" y="260280"/>
            <a:ext cx="4032360" cy="6264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24"/>
          <p:cNvSpPr/>
          <p:nvPr/>
        </p:nvSpPr>
        <p:spPr>
          <a:xfrm>
            <a:off x="291240" y="4073760"/>
            <a:ext cx="444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собенно плодотвор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я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ллегии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93 г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 пост глав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ректо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государств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значе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.И.Василье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В конце 1803 г. Медицинская коллегия была ликвидирова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учреждением министерств функции руководства здравоохранением и медициной перешли в ведение 4 министерств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ажданская медицина - в Министерство внутренних де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просы подготовки медицинских кадров - в Министерство просвещен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енная и морская медицина - соответственно в военное и морское министер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Первая медицинская шко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товившая лекарей для войск, была открыта в 1654 г. в Москве. В школу было принято 30 учеников из "стрелецких детей". Срок обучения планировался индивидуально в зависимости от степени подготовленности ученик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658 г. состоялся первый выпуск полковых лекарей, было выпущено 13 человек, которых направили на службу в армию. Остальные окончили школу в 1660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Московский госпиталь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404640"/>
            <a:ext cx="8359920" cy="56977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798840" y="6216480"/>
            <a:ext cx="735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707 г. в Москве при первом постоянном военном госпит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реждается лекарская шко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Бидлоо"/>
          <p:cNvPicPr/>
          <p:nvPr/>
        </p:nvPicPr>
        <p:blipFill>
          <a:blip r:embed="rId1"/>
          <a:stretch/>
        </p:blipFill>
        <p:spPr>
          <a:xfrm>
            <a:off x="1979640" y="260280"/>
            <a:ext cx="6840360" cy="49449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2"/>
          <p:cNvSpPr/>
          <p:nvPr/>
        </p:nvSpPr>
        <p:spPr>
          <a:xfrm>
            <a:off x="303840" y="5373720"/>
            <a:ext cx="885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тат госпиталя и лекарской школы при открытии был небольшой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доктор, 1 лекарь, 2 аптекаря, 1 подлекарь, 1 гез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ем школы был доктор Николай Бидло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школе обучалось 5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ервую половину Х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VIII</a:t>
            </a: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 в. в России существовало </a:t>
            </a:r>
            <a:br>
              <a:rPr sz="32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5 медицинских шко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их 2 (при Петербургском сухопутном и Елизаветградском госпиталях) - готовили лекарей для арм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(при Петербургском адмиралтейском и Кронштадтском морском госпиталях) - для флот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(при Московском госпитал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В программу обучения в госпитальных школах входили следующие раздел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атинский яз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томия челове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текарское дело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болезней и способов их леч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хирургических опер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ольничная палата"/>
          <p:cNvPicPr/>
          <p:nvPr/>
        </p:nvPicPr>
        <p:blipFill>
          <a:blip r:embed="rId1"/>
          <a:srcRect l="842" t="0" r="0" b="0"/>
          <a:stretch/>
        </p:blipFill>
        <p:spPr>
          <a:xfrm>
            <a:off x="395280" y="404640"/>
            <a:ext cx="8416800" cy="61009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Инструкция профессорам госпитальных школ,</a:t>
            </a:r>
            <a:br>
              <a:rPr sz="2800"/>
            </a:b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 составленная П.З.Кондоиди в 174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..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наипаче  на  то   смотреть,   чтобы   учащиеся   получали понятие о частях человеческого тела,    о медикаментах и хирургических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нструментах   больше   очным   опознанием,   нежели  трудно   понимаемым описанием"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Атлас Бидлоо"/>
          <p:cNvPicPr/>
          <p:nvPr/>
        </p:nvPicPr>
        <p:blipFill>
          <a:blip r:embed="rId1"/>
          <a:stretch/>
        </p:blipFill>
        <p:spPr>
          <a:xfrm>
            <a:off x="2000160" y="285840"/>
            <a:ext cx="3981600" cy="62643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Боярин Матвеев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0" y="333360"/>
            <a:ext cx="3757680" cy="62643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Госпиталь Бурденко"/>
          <p:cNvPicPr/>
          <p:nvPr/>
        </p:nvPicPr>
        <p:blipFill>
          <a:blip r:embed="rId1"/>
          <a:stretch/>
        </p:blipFill>
        <p:spPr>
          <a:xfrm>
            <a:off x="539640" y="260280"/>
            <a:ext cx="8366400" cy="640404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788000" y="836640"/>
            <a:ext cx="4176720" cy="547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Кто может сказать, что это не самый лучший способ изучать медицину, если у нас каждый ученик с самого поступления в госпиталь должен ежедневно быть у постели больного, пускать им кровь,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перевязки, прописывать лекарства - словом, исполнять все то, что предписывает ему врач или хирург, наблюдающий за их излечением ... Не согласится ли всякий со мною, что лучше одновременно изучать теорию и практику, нежели одну теорию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Самойлович"/>
          <p:cNvPicPr/>
          <p:nvPr/>
        </p:nvPicPr>
        <p:blipFill>
          <a:blip r:embed="rId2"/>
          <a:srcRect l="3803" t="0" r="9479" b="3845"/>
          <a:stretch/>
        </p:blipFill>
        <p:spPr>
          <a:xfrm>
            <a:off x="468360" y="333360"/>
            <a:ext cx="3628800" cy="604836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Петр 1 перевязывает раненого"/>
          <p:cNvPicPr/>
          <p:nvPr/>
        </p:nvPicPr>
        <p:blipFill>
          <a:blip r:embed="rId1"/>
          <a:stretch/>
        </p:blipFill>
        <p:spPr>
          <a:xfrm>
            <a:off x="785880" y="285840"/>
            <a:ext cx="7429320" cy="6121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Петр 1 удаляет зуб"/>
          <p:cNvPicPr/>
          <p:nvPr/>
        </p:nvPicPr>
        <p:blipFill>
          <a:blip r:embed="rId1"/>
          <a:stretch/>
        </p:blipFill>
        <p:spPr>
          <a:xfrm>
            <a:off x="1428840" y="428760"/>
            <a:ext cx="6286320" cy="609264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Петр 1 запретил врачам - иностранцам производить экзамены русским лекарям, приказ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68360" y="2205000"/>
            <a:ext cx="829152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...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чтоб никакой из иностранных хирургов до интересов его величества не касались,  и чтоб никто из оных никакой обиды в чести или в повышении чина российского народа от него (Бидлоо. - ) изученным хирургам являть не дерзал"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41 г. было положено начало обучению среднего медицинского состава. В хирургические школы с этой целью стали набирать солдатских детей, которых после 5 лет обучения выпускали помощниками лека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94 г. был принят указ Медицинской коллегии, которым предписывалось снять с профессоров медико-хирургических училищ обязанность следить за поведением учащихся и за посещением ими лекц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7 августа 1795 г. А.И.Васильев утвердил "Предварительное постановление о должностях учащих и учащихся" Главного Врачебного училища. Оно послужило основой для разработки положения о создании Медико-хирургической академ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оябре 1802 г. в учебном процессе произошли некоторые изменения в связи с присоединением к Петербургской академии Калининского медико-хирургического института, который был основан в 1783 г. по указу Екатери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етербурге за Калининским мостом на базе небольшой "секретной больницы" (больница для венерических больных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rcRect l="5569" t="0" r="4878" b="0"/>
          <a:stretch/>
        </p:blipFill>
        <p:spPr>
          <a:xfrm>
            <a:off x="2428920" y="642960"/>
            <a:ext cx="4114800" cy="511164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Так называемые службы "у физических дел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торые с петровских времен в Санкт-Петербурге и Москве занимались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ьбой со   знахарст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ем за деятельностью аптек и продажей ядовитых вещест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ми осмотрами рекрутов и освидетельствованиями инвалид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нитарным надзором за тюрьма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упреждением эпидемий заразных болезне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3 г. они получили название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изикатов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Функции Аптекарского приказ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чение царя и его семь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дении Аптекарского приказа находились "водочные изделия". Только в 1694 году заведование водочными делами было передано из Аптекарского приказа в приказ Большой Каз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удебно-медицинская и вообще  врачебная  экспертиз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книгохранилищем литературы, и не только медицинской, но и общ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38 году Анна Иоановна учредила своим указом при главной аптеке Санкт-Петербурга диспенсарию -ежедневный бесплатный амбулаторный прием больных из неимущих слоев населения. Для этого вводилась должность врач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инициативе И.Б.Фишера она своим Указом 7 июля 1737 г. ввела штатные должности врачей в "знатных городах" России. Регламентировалось иметь 56 городовых врач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Инструкция физикату"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793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права и обязанности как представителей органов государственного санитарного надзо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й подробно излагались методы санитарного контроля и исследования продуктов питания, городских общественных мест, надзора за промышленными предприятия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задача физикатов определялась следующим образом: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Физикат есть блюститель здоровья человеческого и испытатель всех причин в оное вливающихся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"Инструкция о должности врачебной управы" 1797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Должность врачебной управы вообще, кроме той, которую находящиеся в ней чины обязаны подавать страждующим людям, каждый по своему званию, не требуя за свой труд воздания,    основывается на том, чтобы посредством преподаваемых правил и наставлений, соблюдаемо было народное всей губернии здравие, равно и сбережение скотоводства подаваемы были полезные советы"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 должности оператора (хирурга) сказа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"Хотя каждого врача есть первый долг быть человеколюбиву и во всяком случае готову к поданию помощи людям, болезнями одержимым, но качества сии для оператора несравненно еще нужнее, поелику действует его рука и без помощи его иногда никакие средства не в состоянии не только исцелить, ниже облегчить болезни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"Правила для устройства городских больниц на 50 мест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ложено устроить их на государственный счет во всех губернских и наиболее крупных уездных город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ицинская коллегия утвердила эти правила и разослала во все врачебные упра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О переустройстве медицинского дела в России и новых штатах коллегии и подведомственных ей учреждений»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был утвержден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2 февраля 1799 г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5874" t="0" r="6585" b="0"/>
          <a:stretch/>
        </p:blipFill>
        <p:spPr>
          <a:xfrm>
            <a:off x="3000240" y="428760"/>
            <a:ext cx="3456000" cy="4392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5"/>
          <p:cNvSpPr/>
          <p:nvPr/>
        </p:nvSpPr>
        <p:spPr>
          <a:xfrm>
            <a:off x="1116000" y="5084640"/>
            <a:ext cx="755964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АВЕЛ I (1754-1801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оссийский император с 1796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медицинской коллегии </a:t>
            </a:r>
            <a:br>
              <a:rPr sz="4000"/>
            </a:b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1799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(немедик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ервый член, 2 старших, 3 младших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й секретарь, советник экономической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и, т.е. всего 9 челове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ее составе имелись также переводчик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хитектор,  бухгалтер и разные канцелярские служит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Согласно указу, утвержденному Сенат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и назначены следующие члены коллег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м - доктор Г.Аш, старшими - профессора Н.К.Карпинский и Я.О.Саполович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ладшими - доктор И.Г.Еллизен и штаб-лекари И.И.Виен и И.К.Каменеци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м секретарем - профессор Г.И.Базилевич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леном коллегии, советником экономической экспедиции - штаб-лекарь С. С .Андреевск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Дела медицинской колле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ая часть ведала подчиненными коллегии госпиталями, аптеками, медико-инструментальными заводами, медико-хирургическими академиями, типографией, ботаническими медицинскими садами.    В ее ведении было назначение чинов, проведение экзаменов для разрешения практики врачам и повивальным бабка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ая часть занималась вопросами медицинского обеспечения армии и флота, военными лазаретами и полковыми апте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я часть - гражданской медициной "с больницами и партикулярными аптеками", определением членов врачебных управ и уездных врач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твертая часть - делами самой коллегии и столичных "физикатов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ая экспедиция занималась вопросами финансирования, снабжения оборудованием и медикаментами, а также строительством лечебных учрежд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Аптекарская канцеляр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никла не в результате преобразования Аптекарского приказа, а сама по себе как орган медицинского управления во вновь строившейся тогда столице - Санкт-Петербур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делах Правительствующего сената, учрежденного Петро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711 г., Аптекарская канцелярия упоминается с 1712 г., а до этого времени упоминался только Аптекарский прик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"Медицинская канцелярия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ициально было установлена указом только в 1721 году, когда Л.Блюментрост представил Петр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преобразования медицинской службы в России, которым предлагал учредить государственные аптеки во всех крупных городах, увеличить число врачей, а для управления всем медицинским делом "учредить Коллегиум медикум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Блюментрост"/>
          <p:cNvPicPr/>
          <p:nvPr/>
        </p:nvPicPr>
        <p:blipFill>
          <a:blip r:embed="rId1"/>
          <a:stretch/>
        </p:blipFill>
        <p:spPr>
          <a:xfrm>
            <a:off x="5292720" y="260280"/>
            <a:ext cx="3527280" cy="4365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198000" y="4939920"/>
            <a:ext cx="894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место предлагавшейся Л.Блюментрост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дицинской коллегии учреждена Медицинская канцеляри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этому 1721 год и должен считаться годом ее основа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Штат в Медицинской канцеляр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феврале 1727 года по числилось: в Санкт-Петербурге - президент (архиятер Блюментрост), русский и иностранный секретари, шрейбер, 2 канцеляриста, 5 копистов, 2 сторожа и 10 рассыльны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Москве - дьяк, канцелярист, 2 кописта, 2 сторожа и 5 рассыль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4888080" y="333360"/>
            <a:ext cx="4011480" cy="4464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468360" y="5300640"/>
            <a:ext cx="820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 II [12 (23) октября 1715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 — 19 (30) января 1730, Москва]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йский император (с мая 1727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30:38Z</dcterms:created>
  <dc:creator>имя</dc:creator>
  <dc:description/>
  <dc:language>en-US</dc:language>
  <cp:lastModifiedBy>LEGION</cp:lastModifiedBy>
  <dcterms:modified xsi:type="dcterms:W3CDTF">2015-12-31T12:50:34Z</dcterms:modified>
  <cp:revision>13</cp:revision>
  <dc:subject/>
  <dc:title>История медицины России в XVIII ве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