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8BD5-4CA4-42E4-82F8-8CC659ED1CF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и кипячение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ычное время стерилизации - 30 минут с момента закипания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и кипячение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ласперленовый метод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ласперлен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1D2-9BE9-4CA6-9290-5A9A09C8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650-EB8B-41CF-9C6D-4058C291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7B0-5A1A-4EA2-B9FC-EA18E359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00A-F0C5-42BB-903D-2EDA9950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CB4C-8FA8-4814-9D6D-E56882A6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EEB1-320A-40B6-86EF-D20AA00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63B7-EF3E-4FA5-AC1A-5E489AED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3683-DE4A-4368-AB50-418CA3B3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33FA-D02A-473B-81DF-08F4A51C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6CB4-4C4F-4646-88AC-5C84BC67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5155-1944-4961-8E8F-4E711EA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BEE-E2C4-4159-9727-438E6945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CB2B-4481-476A-8BDA-9A73C379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40D6-323B-497B-8E76-1F76FFB0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EA99-5AF6-46B9-8658-8C06C301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4887-480B-4D95-8479-D5CD040A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1A45-B52A-4298-A99F-EFDA5FDE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C39-3DD9-471D-B0E1-E2CF3634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EC1-52F4-4BC7-85E5-73BC7818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335-BF98-44E1-BA6E-F539593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56A-B825-463F-A6B4-143E71F0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48E-1C2B-4B59-84E2-9A8AAA95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BF6-F5C8-4D42-8BE1-318C42CE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F29-C821-4555-A6B4-5C9912F7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2520" y="1281240"/>
            <a:ext cx="474480" cy="55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6880" y="1281240"/>
            <a:ext cx="355320" cy="554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85720" y="1774800"/>
            <a:ext cx="459000" cy="55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87480" y="1774800"/>
            <a:ext cx="398520" cy="55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38240" y="1689120"/>
            <a:ext cx="60624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25480" y="1155600"/>
            <a:ext cx="34920" cy="122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9520" y="2077920"/>
            <a:ext cx="8912160" cy="367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-14400" bIns="-1440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737856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737856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693D-22E6-4D0A-8EA3-5148943C3F79}" type="slidenum">
              <a:rPr b="0" lang="ru-RU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844720"/>
            <a:ext cx="9759600" cy="1226880"/>
            <a:chOff x="0" y="2844720"/>
            <a:chExt cx="9759600" cy="1226880"/>
          </a:xfrm>
        </p:grpSpPr>
        <p:grpSp>
          <p:nvGrpSpPr>
            <p:cNvPr id="49" name="Group 3"/>
            <p:cNvGrpSpPr/>
            <p:nvPr/>
          </p:nvGrpSpPr>
          <p:grpSpPr>
            <a:xfrm>
              <a:off x="316080" y="2970360"/>
              <a:ext cx="773640" cy="553320"/>
              <a:chOff x="316080" y="2970360"/>
              <a:chExt cx="773640" cy="5533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316080" y="2970360"/>
                <a:ext cx="475920" cy="553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732600" y="2970360"/>
                <a:ext cx="357120" cy="553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52160" y="3461040"/>
              <a:ext cx="801000" cy="552960"/>
              <a:chOff x="452160" y="3461040"/>
              <a:chExt cx="801000" cy="552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52160" y="3461040"/>
                <a:ext cx="459000" cy="552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853920" y="3461040"/>
                <a:ext cx="399240" cy="5529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3377520"/>
              <a:ext cx="606960" cy="4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7960" y="2844720"/>
              <a:ext cx="34200" cy="12268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42360" y="3802320"/>
              <a:ext cx="9417240" cy="64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728964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7289640"/>
            <a:ext cx="31366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728964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3F3E-B7BB-41A4-842B-C83A9FBB0572}" type="slidenum">
              <a:rPr b="0" lang="ru-RU" sz="16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ерилиза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микроорганизмов и их спор на инструментах, посуде, медикаментах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зинфек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изкотемпературной 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газовый этиленоксидный, газовый формальдегидный и плазменны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азовая 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существляется в специальных герметичных камера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71136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5" descr="formomat"/>
          <p:cNvPicPr/>
          <p:nvPr/>
        </p:nvPicPr>
        <p:blipFill>
          <a:blip r:embed="rId1"/>
          <a:stretch/>
        </p:blipFill>
        <p:spPr>
          <a:xfrm>
            <a:off x="7113600" y="2416320"/>
            <a:ext cx="25146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плазмен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5800" y="1552680"/>
            <a:ext cx="7689960" cy="644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лазме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HMTS-80"/>
          <p:cNvPicPr/>
          <p:nvPr/>
        </p:nvPicPr>
        <p:blipFill>
          <a:blip r:embed="rId1"/>
          <a:stretch/>
        </p:blipFill>
        <p:spPr>
          <a:xfrm>
            <a:off x="0" y="277668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4145040"/>
            <a:ext cx="9906120" cy="41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magesCA03CC9V"/>
          <p:cNvPicPr/>
          <p:nvPr/>
        </p:nvPicPr>
        <p:blipFill>
          <a:blip r:embed="rId1"/>
          <a:stretch/>
        </p:blipFill>
        <p:spPr>
          <a:xfrm>
            <a:off x="1568520" y="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растворами антисептиков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9240" y="2199960"/>
            <a:ext cx="9056880" cy="603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олодным способам стери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520" y="39168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9000" y="32832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7800" y="904680"/>
            <a:ext cx="9093240" cy="1152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ионизирующи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520" y="1479240"/>
            <a:ext cx="934560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4000"/>
          </a:bodyPr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иацио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687240"/>
            <a:ext cx="9690120" cy="140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ультрафиолетовы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2520" y="5871960"/>
            <a:ext cx="5975640" cy="15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9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2857680" cy="343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h8000_c"/>
          <p:cNvPicPr/>
          <p:nvPr/>
        </p:nvPicPr>
        <p:blipFill>
          <a:blip r:embed="rId2"/>
          <a:stretch/>
        </p:blipFill>
        <p:spPr>
          <a:xfrm>
            <a:off x="272880" y="3929040"/>
            <a:ext cx="21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42208"/>
          <p:cNvPicPr/>
          <p:nvPr/>
        </p:nvPicPr>
        <p:blipFill>
          <a:blip r:embed="rId3"/>
          <a:stretch/>
        </p:blipFill>
        <p:spPr>
          <a:xfrm>
            <a:off x="7184880" y="0"/>
            <a:ext cx="1871640" cy="236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2"/>
          <p:cNvSpPr/>
          <p:nvPr/>
        </p:nvSpPr>
        <p:spPr>
          <a:xfrm>
            <a:off x="4160880" y="2631240"/>
            <a:ext cx="54831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2865600" y="165960"/>
            <a:ext cx="28796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Arial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0160" y="2262600"/>
            <a:ext cx="97059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60520" y="1263240"/>
            <a:ext cx="5970600" cy="7155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честве микропорист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льтрующе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2"/>
          <p:cNvPicPr/>
          <p:nvPr/>
        </p:nvPicPr>
        <p:blipFill>
          <a:blip r:embed="rId1"/>
          <a:stretch/>
        </p:blipFill>
        <p:spPr>
          <a:xfrm>
            <a:off x="0" y="3208320"/>
            <a:ext cx="40892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87240"/>
            <a:ext cx="74008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применение находя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кропористые филь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химико-фармацевтических заводах и при производстве вакцин и сыворото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bacterial_filter"/>
          <p:cNvPicPr/>
          <p:nvPr/>
        </p:nvPicPr>
        <p:blipFill>
          <a:blip r:embed="rId1"/>
          <a:stretch/>
        </p:blipFill>
        <p:spPr>
          <a:xfrm>
            <a:off x="7400880" y="1479600"/>
            <a:ext cx="22384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880528_Disposable_Bacterial_Viral_Filter_v0_summ"/>
          <p:cNvPicPr/>
          <p:nvPr/>
        </p:nvPicPr>
        <p:blipFill>
          <a:blip r:embed="rId2"/>
          <a:stretch/>
        </p:blipFill>
        <p:spPr>
          <a:xfrm>
            <a:off x="7616880" y="47214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7113600" y="6520320"/>
            <a:ext cx="2792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8068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етоды стерилизации, разрешенные для применения в ЛПУ.</a:t>
            </a: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795320"/>
          <a:ext cx="9701280" cy="6205680"/>
        </p:xfrm>
        <a:graphic>
          <a:graphicData uri="http://schemas.openxmlformats.org/drawingml/2006/table">
            <a:tbl>
              <a:tblPr/>
              <a:tblGrid>
                <a:gridCol w="2000160"/>
                <a:gridCol w="1854360"/>
                <a:gridCol w="5487840"/>
                <a:gridCol w="358920"/>
              </a:tblGrid>
              <a:tr h="673200"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ип мет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ерилизующий аг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4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изический (терм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яной насыщенный пар под избыточным да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душ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хой горячий 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ое изл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сперле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нагретых стеклянных ша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5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им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3"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ы перекиси водорода в сочетании с их низкотемпературной плаз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химических средств (альдегид-, кислород- и хлорсодержащ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687240"/>
            <a:ext cx="8443800" cy="903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5646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6000"/>
          </a:bodyPr>
          <a:p>
            <a:pPr marL="368640" indent="-368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жигание и кипяч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бжиг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ипя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0520" y="544320"/>
            <a:ext cx="707544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паровой метод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8160" y="1479240"/>
            <a:ext cx="633276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втоклавом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dgm_2___1"/>
          <p:cNvPicPr/>
          <p:nvPr/>
        </p:nvPicPr>
        <p:blipFill>
          <a:blip r:embed="rId1"/>
          <a:stretch/>
        </p:blipFill>
        <p:spPr>
          <a:xfrm>
            <a:off x="0" y="0"/>
            <a:ext cx="3770280" cy="60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ood_img_small79132495246de62f447df1"/>
          <p:cNvPicPr/>
          <p:nvPr/>
        </p:nvPicPr>
        <p:blipFill>
          <a:blip r:embed="rId2"/>
          <a:stretch/>
        </p:blipFill>
        <p:spPr>
          <a:xfrm>
            <a:off x="272880" y="5440320"/>
            <a:ext cx="1873440" cy="162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6769440"/>
            <a:ext cx="3728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ктный перенос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втокла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80880" y="2416320"/>
            <a:ext cx="8420040" cy="5386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обной стерилизацие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екучем паре при 100°С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тиндализация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й стерилизацией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.е. уничтожение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гетативных фор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икроорганизмов. Такого эффекта обычно достигают путем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териз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61960" y="686880"/>
            <a:ext cx="8444160" cy="831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7800" y="68724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воздуш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2880" y="277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хой жар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23417273"/>
          <p:cNvPicPr/>
          <p:nvPr/>
        </p:nvPicPr>
        <p:blipFill>
          <a:blip r:embed="rId1"/>
          <a:stretch/>
        </p:blipFill>
        <p:spPr>
          <a:xfrm>
            <a:off x="7353360" y="831960"/>
            <a:ext cx="2552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ласперлен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49600" y="1696680"/>
            <a:ext cx="7051680" cy="630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9000"/>
          </a:bodyPr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glasperlen-1"/>
          <p:cNvPicPr/>
          <p:nvPr/>
        </p:nvPicPr>
        <p:blipFill>
          <a:blip r:embed="rId1"/>
          <a:stretch/>
        </p:blipFill>
        <p:spPr>
          <a:xfrm>
            <a:off x="0" y="3855960"/>
            <a:ext cx="2552760" cy="3952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SHARIKI_thm"/>
          <p:cNvPicPr/>
          <p:nvPr/>
        </p:nvPicPr>
        <p:blipFill>
          <a:blip r:embed="rId2"/>
          <a:stretch/>
        </p:blipFill>
        <p:spPr>
          <a:xfrm>
            <a:off x="272880" y="19130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инфракрас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6880" y="2055960"/>
            <a:ext cx="4964040" cy="59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04d8fa54fb380f93089f1a33b937312"/>
          <p:cNvPicPr/>
          <p:nvPr/>
        </p:nvPicPr>
        <p:blipFill>
          <a:blip r:embed="rId1"/>
          <a:stretch/>
        </p:blipFill>
        <p:spPr>
          <a:xfrm>
            <a:off x="0" y="1984320"/>
            <a:ext cx="476244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афима</dc:creator>
  <dc:description/>
  <dc:language>en-US</dc:language>
  <cp:lastModifiedBy>LEGION</cp:lastModifiedBy>
  <dcterms:modified xsi:type="dcterms:W3CDTF">2015-12-31T12:50:46Z</dcterms:modified>
  <cp:revision>156</cp:revision>
  <dc:subject/>
  <dc:title>Методы стерилизации и дезинфекции</dc:title>
</cp:coreProperties>
</file>