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907588" cy="8002588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2979720" y="514440"/>
            <a:ext cx="3184560" cy="2571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49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9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8"/>
          </p:nvPr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9"/>
          </p:nvPr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A4000-0A7E-4F8B-97FA-3C9A3C46A451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2979720" y="514440"/>
            <a:ext cx="3184560" cy="257184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ерилизацией называют полное уничтожение микроорганизмов и их спор на инструментах, посуде, медикаментах и т.д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зинфекцией называют полное уничтожение патогенных микроорганизмов на объектах окружающей среды с помощью химических веществ - дезинфектанто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ы стерилизации и дезинфек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терилизацией называют полное уничтожение микроорганизмов и их спор на инструментах, посуде, медикаментах и т.д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Дезинфекцией называют полное уничтожение патогенных микроорганизмов на объектах окружающей среды с помощью химических веществ - дезинфектантов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етоды стерилизации и дезинфекции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2979720" y="514440"/>
            <a:ext cx="3184560" cy="257184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имическая стерилизаци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газовый метод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мировой практике встречаются 3 основных метода низкотемпературной стерилизации: газовый этиленоксидный, газовый формальдегидный и плазменны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азовая стерилизация осуществляется в специальных герметичных камерах. 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ерилизующим агентом обычно являются: пары формалина (на дно камеры кладут таблетки формальдегида) или окись этилена. Инструменты, уложенные на сетку, считаются стерильными через 6-48 часов (в зависимости от компонентов газовой смеси и температуры в камере). 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личительной чертой метода является его минимальное отрицательное влияние на качество инструментария, в связи с чем способ используют прежде всего для стерилизации оптических, особо точных и дорогостоящих инструментов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Химическая стерилизаци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(газовый метод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 мировой практике встречаются 3 основных метода низкотемпературной стерилизации: газовый этиленоксидный, газовый формальдегидный и плазменный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Газовая стерилизация осуществляется в специальных герметичных камерах. 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терилизующим агентом обычно являются: пары формалина (на дно камеры кладут таблетки формальдегида) или окись этилена. Инструменты, уложенные на сетку, считаются стерильными через 6-48 часов (в зависимости от компонентов газовой смеси и температуры в камере). 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тличительной чертой метода является его минимальное отрицательное влияние на качество инструментария, в связи с чем способ используют прежде всего для стерилизации оптических, особо точных и дорогостоящих инструментов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2979720" y="514440"/>
            <a:ext cx="3184560" cy="25718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имическая стерилизаци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газовый метод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стерилизации пищевых продуктов, лекарственных препаратов и разного рода приборов, а также в лабораторной практике оправдало себя применение окиси этилена, которая убивает и вегетативные клетки, и споры, но действует только в том случае, если подвергаемые стерилизации материалы содержат некоторое количество (5-15%) воды. Окись этилена применяют в виде газовой смеси (с N2 или С02), в которой ее доля составляет от 2 до 50%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иленоксидный метод обеспечивает самый щадящий температурный режим стерилизац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Химическая стерилизаци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(газовый метод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ри стерилизации пищевых продуктов, лекарственных препаратов и разного рода приборов, а также в лабораторной практике оправдало себя применение окиси этилена, которая убивает и вегетативные клетки, и споры, но действует только в том случае, если подвергаемые стерилизации материалы содержат некоторое количество (5-15%) воды. Окись этилена применяют в виде газовой смеси (с N2 или С02), в которой ее доля составляет от 2 до 50%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Этиленоксидный метод обеспечивает самый щадящий температурный режим стерилизации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2979720" y="514440"/>
            <a:ext cx="3184560" cy="257184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имическая стерилизаци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плазменный метод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зменный метод позволяет создать биоцидную среду на основе водного раствора пероксида водорода, а также низкотемпературной плазмы (ионизированный газ, образующийся при низком давлении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самый современный метод стерилизации, известный на сегодняшний день. Он позволяет стерилизовать любые медицинские изделия, от полых инструментов до кабелей, электроприборов,к которым в ряде случаев вообще не удается применить ни один из известных методов стерилизац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этом методе после впрыскивания раствора перекиси водорода в стерилизационную камеру включается источник электромагнитного излучения частотой 13,56 Мгц, под воздействием которого одновременно происходит деление одной части молекул Н2О2 на две группы (ОН-), а другой части - на одну гидропероксильную группу (ООН-) и один атом водорода, сопровождающееся выделением видимого и ультрафиолетового излучения. В результате создается биоцидная среда, состоящая из молекул перекиси водорода, свободных радикалов и ультрафиолетового излуч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Химическая стерилизаци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(плазменный метод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лазменный метод позволяет создать биоцидную среду на основе водного раствора пероксида водорода, а также низкотемпературной плазмы (ионизированный газ, образующийся при низком давлении)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Это самый современный метод стерилизации, известный на сегодняшний день. Он позволяет стерилизовать любые медицинские изделия, от полых инструментов до кабелей, электроприборов,к которым в ряде случаев вообще не удается применить ни один из известных методов стерилизации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ри этом методе после впрыскивания раствора перекиси водорода в стерилизационную камеру включается источник электромагнитного излучения частотой 13,56 Мгц, под воздействием которого одновременно происходит деление одной части молекул Н2О2 на две группы (ОН-), а другой части - на одну гидропероксильную группу (ООН-) и один атом водорода, сопровождающееся выделением видимого и ультрафиолетового излучения. В результате создается биоцидная среда, состоящая из молекул перекиси водорода, свободных радикалов и ультрафиолетового излучения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2979720" y="514440"/>
            <a:ext cx="3184560" cy="257184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зма образуется под воздействием сильного электромагнитного излучения в атмосфере паров перекиси водорода. При отключении электромагнитного поля свободные радикалы преобразуются в молекулы воды и кислорода, не оставляя никаких токсичных отход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нимальное время обработки в плазменном стерилизаторе – от 35 минут, рабочая температура – 36-60°С. Одно из основных преимуществ этого метода – отсутствие токсичных отходов, образуются только кислород и водный пар. Плазменная стерилизация уничтожает все формы и виды микроорганизмов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зменные стерилизаторы – перспективное оборудование, но для большинства российских медицинских учреждений слишком дорогостояще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лазма образуется под воздействием сильного электромагнитного излучения в атмосфере паров перекиси водорода. При отключении электромагнитного поля свободные радикалы преобразуются в молекулы воды и кислорода, не оставляя никаких токсичных отходов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инимальное время обработки в плазменном стерилизаторе – от 35 минут, рабочая температура – 36-60°С. Одно из основных преимуществ этого метода – отсутствие токсичных отходов, образуются только кислород и водный пар. Плазменная стерилизация уничтожает все формы и виды микроорганизмов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лазменные стерилизаторы – перспективное оборудование, но для большинства российских медицинских учреждений слишком дорогостоящее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2979720" y="514440"/>
            <a:ext cx="3184560" cy="257184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имическая стерилизаци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растворами антисептиков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ерилизация растворами химических антисептиков, также как лучевая и газовая стерилизация, относится к холодным способам стерилизации и не приводит к затуплению инструментов, в связи с чем применяется для обработки прежде всего режущих хирургических инструментов. 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стерилизации в основном используют три раствора: тройной раствор, 96° этиловый спирт и 6% перекись водорода. В последнее время для холодной стерилизации оптических инструментов стали применять спиртовой раствор хлоргексидина, первомур и другие. 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холодной стерилизации инструменты полностью погружают в раскрытом (или разобранном) виде в один из указанных растворов. При замачивании в спирте и тройном растворе инструменты считаются стерильными через 2-3 часа, в перекиси водорода - через 6 часов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нный метод представляет интерес для стерилизации растворов, содержащих лекарственные вещества, изменяющиеся при воздействии высокой температур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качестве антисептиков находят применение: фенол, трикрезол, хинозол, нипагин, нипазол, хлорэтон, меркурофен и цефирол. В литературе имеются также сообщения о применении для этой цели хлоркрезола, хлорбутола, фенилмеркурнитрата, соединений четвертичного аммония (бензалконий, цетримид) и некоторых других вещест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Химическая стерилизаци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(растворами антисептиков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терилизация растворами химических антисептиков, также как лучевая и газовая стерилизация, относится к холодным способам стерилизации и не приводит к затуплению инструментов, в связи с чем применяется для обработки прежде всего режущих хирургических инструментов. 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Для стерилизации в основном используют три раствора: тройной раствор, 96° этиловый спирт и 6% перекись водорода. В последнее время для холодной стерилизации оптических инструментов стали применять спиртовой раствор хлоргексидина, первомур и другие. 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Для холодной стерилизации инструменты полностью погружают в раскрытом (или разобранном) виде в один из указанных растворов. При замачивании в спирте и тройном растворе инструменты считаются стерильными через 2-3 часа, в перекиси водорода - через 6 часов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Данный метод представляет интерес для стерилизации растворов, содержащих лекарственные вещества, изменяющиеся при воздействии высокой температуры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 качестве антисептиков находят применение: фенол, трикрезол, хинозол, нипагин, нипазол, хлорэтон, меркурофен и цефирол. В литературе имеются также сообщения о применении для этой цели хлоркрезола, хлорбутола, фенилмеркурнитрата, соединений четвертичного аммония (бензалконий, цетримид) и некоторых других веществ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2979720" y="514440"/>
            <a:ext cx="3184560" cy="257184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рболовая кислота входит в тройной раствор (раствор Крупенина). Им стерилизуют режущие инструменты и предметы из пластмасс. В нем хранятся простерилизованные иглы, скальпели, корнцанги, полиэтиленовые трубк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зол с зеленым мылом используется для помывки стен, полов, мебели операционно-перевязочного блока, а также для обработки инструментов, резиновых перчаток, предметов, загрязненных гноем или калом во время операц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лема (дихлорид ртути) 1 : 1000, 1 : 3000 Стерилизуются перчатки, дренажи и другие предмет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ксицианид ртути 1 : 10000 применяется для стерилизации мочеточниковых катетеров, цистоскопов и других инструментов с оптико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оцид - препарат ртути, сочетает в себе антисептические и моющие свойства. Некоторые используют для обработки рук хирурга - руки моют в тазу раствором 1 : 3000, 1 : 5000 - 6 мин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иловый спирт применяется для стерилизации режущих инструментов, резиновых и полиэтиленовых трубок, 96%-м спиртом дубят руки хирурги перед операцие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отя 70%-й спирт бактерициднее 96%-го, однако спорообразная инфекция не погибает длительное время. Возбудители газовой гангрены и споры сибирской язвы могут сохраняться в спирте в течение нескольких месяце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увеличения бактерицидности спиртовых растворов к ним добавляются тимол (1 : 1000), 1%-й раствор бриллиантового зеленого (раствор Баккала), формалин и др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арболовая кислота входит в тройной раствор (раствор Крупенина). Им стерилизуют режущие инструменты и предметы из пластмасс. В нем хранятся простерилизованные иглы, скальпели, корнцанги, полиэтиленовые трубки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Лизол с зеленым мылом используется для помывки стен, полов, мебели операционно-перевязочного блока, а также для обработки инструментов, резиновых перчаток, предметов, загрязненных гноем или калом во время операции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улема (дихлорид ртути) 1 : 1000, 1 : 3000 Стерилизуются перчатки, дренажи и другие предметы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ксицианид ртути 1 : 10000 применяется для стерилизации мочеточниковых катетеров, цистоскопов и других инструментов с оптикой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Диоцид - препарат ртути, сочетает в себе антисептические и моющие свойства. Некоторые используют для обработки рук хирурга - руки моют в тазу раствором 1 : 3000, 1 : 5000 - 6 мин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Этиловый спирт применяется для стерилизации режущих инструментов, резиновых и полиэтиленовых трубок, 96%-м спиртом дубят руки хирурги перед операцией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Хотя 70%-й спирт бактерициднее 96%-го, однако спорообразная инфекция не погибает длительное время. Возбудители газовой гангрены и споры сибирской язвы могут сохраняться в спирте в течение нескольких месяцев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Для увеличения бактерицидности спиртовых растворов к ним добавляются тимол (1 : 1000), 1%-й раствор бриллиантового зеленого (раствор Баккала), формалин и др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2979720" y="514440"/>
            <a:ext cx="3184560" cy="257184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вно используются бактерицидные свойства галогенов. Н. И. Пирогов применял йод спиртовый 2%-й, 5%-й и 10%-й, еще не зная о существовании микроорганизмов. Йод обладает бактерицидным и спороцидным эффектом. Он и ныне не утратил своего значения. Однако чаще используют его комплексные соединения с поверхностью - активными веществами, так называемыми. йодофорами, к которым относятся йодонат, йодопиродон, йодолан и др. Они чаще применяются для обработки рук хирурга и операционного пол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единения хлора издавна используются для дезинфекции (хлорная известь) и стерилизация (гипохлорид натрия, хлорамин и др.). Бактерицидность этих препаратов зависит от содержания в них активного хлора. В хлорамине активного хлора 28-29 %, а дихлоризоциануровой кислоте - 70-80 %, гипохлориде натрия - 9,5 %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кись водорода (33 % перекись водорода - пергидроль) в 3 % и 6 % концентрации используется для стерилизации и дезинфекции Она безвредна для человек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месь перекиси водорода с муравьиной кислотой, предложенная И. Д. Житнюком и П. А. Мелехоым в 1970 г., была названа первомуром. В процессе приготовления С-4 образуется надмуравьиная кислота - она и является действующим началом. Используется для обработки рук хирурга или стерилизации инструмен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Чехословакии предложили перстерил для стерилизации резиновых и полиэтиленовых трубок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России выпущен бета-пропиолактон. В концентрации 1 : 1000 синегнойная палочка в 2%-м растворе погибает в течение 10 мин. Его добавляют в количестве 0,2% в готовые питательные среды, которые затем инкубируют 2 ч при 37°С. Если оставить среду на ночь, пропиолактон полностью разложит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Давно используются бактерицидные свойства галогенов. Н. И. Пирогов применял йод спиртовый 2%-й, 5%-й и 10%-й, еще не зная о существовании микроорганизмов. Йод обладает бактерицидным и спороцидным эффектом. Он и ныне не утратил своего значения. Однако чаще используют его комплексные соединения с поверхностью - активными веществами, так называемыми. йодофорами, к которым относятся йодонат, йодопиродон, йодолан и др. Они чаще применяются для обработки рук хирурга и операционного поля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оединения хлора издавна используются для дезинфекции (хлорная известь) и стерилизация (гипохлорид натрия, хлорамин и др.). Бактерицидность этих препаратов зависит от содержания в них активного хлора. В хлорамине активного хлора 28-29 %, а дихлоризоциануровой кислоте - 70-80 %, гипохлориде натрия - 9,5 %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ерекись водорода (33 % перекись водорода - пергидроль) в 3 % и 6 % концентрации используется для стерилизации и дезинфекции Она безвредна для человека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месь перекиси водорода с муравьиной кислотой, предложенная И. Д. Житнюком и П. А. Мелехоым в 1970 г., была названа первомуром. В процессе приготовления С-4 образуется надмуравьиная кислота - она и является действующим началом. Используется для обработки рук хирурга или стерилизации инструментов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 Чехословакии предложили перстерил для стерилизации резиновых и полиэтиленовых трубок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 России выпущен бета-пропиолактон. В концентрации 1 : 1000 синегнойная палочка в 2%-м растворе погибает в течение 10 мин. Его добавляют в количестве 0,2% в готовые питательные среды, которые затем инкубируют 2 ч при 37°С. Если оставить среду на ночь, пропиолактон полностью разложится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2979720" y="514440"/>
            <a:ext cx="3184560" cy="257184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ерилизация ионизирующим излучением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тимикробная обработка может быть осуществлена с помощью ионизирующего излучения (у-лучи), ультрафиолетовых лучей и ультразвука. Наибольшее применение в наше время получила стерилизация у-лучами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диационный метод или лучевую стерилизацию γ-лучами, применяют в специальных установках при промышленной стерилизации однократного применения- полимерных шприцев, систем переливания крови, чашек Петри, пипеток и др.хрупких и термолабильных издел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ьзуются изотопы Со60 и Cs137. Доза проникающей радиации должна быть весьма значительной - до 20-25 мкГр, что требует соблюдения особо строгих мер безопасности. В связи с этим лучевая стерилизация проводится в специальных помещениях и является заводским методом стерилизации (непосредственно в стационарах она не производится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ерилизация инструментов и прочих материалов проводится в герметичных упаковках и при целостности последних сохраняется до 5 лет. Герметичная упаковка делает удобными хранение и использование инструментов (необходимо просто вскрыть упаковку). Метод выгоден для стерилизации несложных одноразовых инструментов (шприцы, шовный материал, катетеры, зонды, системы для переливания крови, перчатки и пр.) и получает все более широкое распространение. Во многом это объясняется тем, что при лучевой стерилизации нисколько не теряются свойства стерилизуемых объектов. 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терилизация ионизирующим излучением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Антимикробная обработка может быть осуществлена с помощью ионизирующего излучения (у-лучи), ультрафиолетовых лучей и ультразвука. Наибольшее применение в наше время получила стерилизация у-лучами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Радиационный метод или лучевую стерилизацию γ-лучами, применяют в специальных установках при промышленной стерилизации однократного применения- полимерных шприцев, систем переливания крови, чашек Петри, пипеток и др.хрупких и термолабильных изделий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Используются изотопы Со60 и Cs137. Доза проникающей радиации должна быть весьма значительной - до 20-25 мкГр, что требует соблюдения особо строгих мер безопасности. В связи с этим лучевая стерилизация проводится в специальных помещениях и является заводским методом стерилизации (непосредственно в стационарах она не производится)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терилизация инструментов и прочих материалов проводится в герметичных упаковках и при целостности последних сохраняется до 5 лет. Герметичная упаковка делает удобными хранение и использование инструментов (необходимо просто вскрыть упаковку). Метод выгоден для стерилизации несложных одноразовых инструментов (шприцы, шовный материал, катетеры, зонды, системы для переливания крови, перчатки и пр.) и получает все более широкое распространение. Во многом это объясняется тем, что при лучевой стерилизации нисколько не теряются свойства стерилизуемых объектов. 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2979720" y="514440"/>
            <a:ext cx="3184560" cy="257184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ерилизация ультрафиолетовым излучением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чники УФ-излучения (длина волны 260 нм) — ртутные кварцевые лампы. Их мощное бактериостатическое действие основано на совпадении спектра испускания лампы и спектра поглощения ДНК микроорганизмов, что может является причиной их гибели при длительной обработке излучением кварцевых ламп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недостаточно мощном действии УФ в прокариотической клетке активизируются процессы световой и темновой репарации, то есть клетка восстанавливаетс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 применяется для стерилизации помещений, оборудования в биксах, а также для стерилизации дистиллированной вод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терилизация ультрафиолетовым излучением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Источники УФ-излучения (длина волны 260 нм) — ртутные кварцевые лампы. Их мощное бактериостатическое действие основано на совпадении спектра испускания лампы и спектра поглощения ДНК микроорганизмов, что может является причиной их гибели при длительной обработке излучением кварцевых ламп,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ри недостаточно мощном действии УФ в прокариотической клетке активизируются процессы световой и темновой репарации, то есть клетка восстанавливается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етод применяется для стерилизации помещений, оборудования в биксах, а также для стерилизации дистиллированной воды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2979720" y="514440"/>
            <a:ext cx="3184560" cy="257184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ффективный стерилизатор позволяющий стерилизовать хирургические инструменты и перевязочные материалы сухим теплом и ультрафиолетовыми лучами. Имеет мощное бактерицидное действ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циркулятор предназначен для обеззараживания воздуха помещений в присутствии и отсутствии людей в процессе принудительной циркуляции воздушного потока через корпус, внутри которого размещены две бактерицидные лампы низкого дав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актерицидная камера для хранения стерильных медицинских издел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Эффективный стерилизатор позволяющий стерилизовать хирургические инструменты и перевязочные материалы сухим теплом и ультрафиолетовыми лучами. Имеет мощное бактерицидное действие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Рециркулятор предназначен для обеззараживания воздуха помещений в присутствии и отсутствии людей в процессе принудительной циркуляции воздушного потока через корпус, внутри которого размещены две бактерицидные лампы низкого давления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Бактерицидная камера для хранения стерильных медицинских изделий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2979720" y="514440"/>
            <a:ext cx="3184560" cy="257184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ы стерилизации и дезинфек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рмическая: паровая и воздушная(сухожаровая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имическая: газовая или химическими растворам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диационная стерилизация — применяется в промышленном вариант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 мембранных фильтров — применяется для получения небольшого количества стерильных растворов, качество которых может резко ухудшиться при действии других методов стерилизаци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етоды стерилизации и дезинфекции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Термическая: паровая и воздушная(сухожаровая)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Химическая: газовая или химическими растворами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Радиационная стерилизация — применяется в промышленном варианте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етод мембранных фильтров — применяется для получения небольшого количества стерильных растворов, качество которых может резко ухудшиться при действии других методов стерилизации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2979720" y="514440"/>
            <a:ext cx="3184560" cy="257184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ханический метод стерилизации. Бактериальная фильтрац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 состоит в отделении микробов от жидкости с помощью стерильных микропористых фильтр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ханизм фильтрации объясняется главным образом адсорбцией микробов, происходящей в порах фильтрующих материалов, которые в большинстве случаев заряжены отрицательн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качестве микропористого фильтрующего материала используют каолин, фарфор, бумажно-асбестовую массу, инфузорную землю, коллодий и другие пористые материалы, а также стекло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еханический метод стерилизации. Бактериальная фильтрация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етод состоит в отделении микробов от жидкости с помощью стерильных микропористых фильтров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еханизм фильтрации объясняется главным образом адсорбцией микробов, происходящей в порах фильтрующих материалов, которые в большинстве случаев заряжены отрицательно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 качестве микропористого фильтрующего материала используют каолин, фарфор, бумажно-асбестовую массу, инфузорную землю, коллодий и другие пористые материалы, а также стекло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2979720" y="514440"/>
            <a:ext cx="3184560" cy="257184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ханический метод стерилизации. Бактериальная фильтра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ханический метод стерилизации с помощью микропористых фильтров имеет некоторые преимущества по сравнению с методами тепловой стерилизации, когда раствор подвергается воздействию высокой температуры. Для многих растворов термолабильных веществ он по существу является вообще единственным доступным методом стерилизац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ирокое применение находят микропористые фильтры на химико-фармацевтических заводах и при производстве вакцин и сывороток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актериаль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льт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еханический метод стерилизации. Бактериальная фильтрация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еханический метод стерилизации с помощью микропористых фильтров имеет некоторые преимущества по сравнению с методами тепловой стерилизации, когда раствор подвергается воздействию высокой температуры. Для многих растворов термолабильных веществ он по существу является вообще единственным доступным методом стерилизации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Широкое применение находят микропористые фильтры на химико-фармацевтических заводах и при производстве вакцин и сывороток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Бактериальные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фильтры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2979720" y="514440"/>
            <a:ext cx="3184560" cy="257184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ы стерилизации, разрешенные для применения в ЛП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етоды стерилизации, разрешенные для применения в ЛПУ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2979720" y="514440"/>
            <a:ext cx="3184560" cy="257184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Термическая стерилизация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Обжигание и кипячение </a:t>
            </a:r>
            <a:br>
              <a:rPr sz="1100"/>
            </a:br>
            <a:br>
              <a:rPr sz="1100"/>
            </a:b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Обжигание в настоящее время для стерилизации инструментов не используется. Метод можно применять в домашних условиях при невозможности использования других. Обжигание металлических инструментов проводится открытым пламенем. Обычно на металлический поднос кладут инструмент, наливают небольшое количество этилового спирта и поджигают его. </a:t>
            </a:r>
            <a:br>
              <a:rPr sz="1100"/>
            </a:br>
            <a:br>
              <a:rPr sz="1100"/>
            </a:b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Кипячение долгое время было основным способом стерилизации инструментов, но в последнее время применяется редко, так как при этом методе достигается температура лишь в 100°С, что недостаточно для уничтожения спороносных бактерий. </a:t>
            </a:r>
            <a:br>
              <a:rPr sz="1100"/>
            </a:br>
            <a:br>
              <a:rPr sz="1100"/>
            </a:b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Инструменты кипятят в специальных электрических стерилизаторах различной емкости. Инструменты в раскрытом виде (шприцы в разобранном виде) укладывают на сетку и погружают в дистиллированную воду (возможно добавление гидрокарбоната натрия - до 2% раствора). </a:t>
            </a:r>
            <a:br>
              <a:rPr sz="1100"/>
            </a:br>
            <a:br>
              <a:rPr sz="1100"/>
            </a:b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Обычное время стерилизации - 30 минут с момента закипания. </a:t>
            </a: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Термическая стерилизация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бжигание и кипячение 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бжигание в настоящее время для стерилизации инструментов не используется. Метод можно применять в домашних условиях при невозможности использования других. Обжигание металлических инструментов проводится открытым пламенем. Обычно на металлический поднос кладут инструмент, наливают небольшое количество этилового спирта и поджигают его. 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ипячение долгое время было основным способом стерилизации инструментов, но в последнее время применяется редко, так как при этом методе достигается температура лишь в 100°С, что недостаточно для уничтожения спороносных бактерий. 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Инструменты кипятят в специальных электрических стерилизаторах различной емкости. Инструменты в раскрытом виде (шприцы в разобранном виде) укладывают на сетку и погружают в дистиллированную воду (возможно добавление гидрокарбоната натрия - до 2% раствора). 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бычное время стерилизации - 30 минут с момента закипания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2979720" y="514440"/>
            <a:ext cx="3184560" cy="257184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рмическая стерилизаци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паровой метод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достижения температур выше точки кипения воды пользуются автоклавом. Автоклав представляет собой установку для стерилизации паром под давлением. Температура насыщенного пара зависит от давл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жимы работы автоклав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32 °C — 2 атмосферы(2 кгс/см2) — 20 минут — основной режим. Стерилизуют все изделия (стекло, металл, текстиль, КРОМЕ РЕЗИНОВЫХ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20 °C — 1,1 атмосфера(1,1 кгс/см2) — 45 минут — щадящий режим. (стекло, металл, резиновые изделия, полимерные изделия — согласно паспорту, текстиль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10 °C — 0,5 атмосферы(0,5 кгс/см2) — 180 мин — особо щадящий режим(нестойкие препараты, питательные среды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пактный переносной                      автокла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Термическая стерилизаци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(паровой метод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Для достижения температур выше точки кипения воды пользуются автоклавом. Автоклав представляет собой установку для стерилизации паром под давлением. Температура насыщенного пара зависит от давления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Режимы работы автоклава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132 °C — 2 атмосферы(2 кгс/см2) — 20 минут — основной режим. Стерилизуют все изделия (стекло, металл, текстиль, КРОМЕ РЕЗИНОВЫХ)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120 °C — 1,1 атмосфера(1,1 кгс/см2) — 45 минут — щадящий режим. (стекло, металл, резиновые изделия, полимерные изделия — согласно паспорту, текстиль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110 °C — 0,5 атмосферы(0,5 кгс/см2) — 180 мин — особо щадящий режим(нестойкие препараты, питательные среды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омпактный переносной                      автоклав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2979720" y="514440"/>
            <a:ext cx="3184560" cy="257184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редко удается достичь того же эффекта дробной стерилизацией в текучем паре при 100°С (тиндализация). Жидкость стерилизуется в этом случае при 100°С три дня подряд по 30 мин ежедневно; в промежутках между нагреваниями ее хранят в термостате, для того чтобы споры проросли, а затем вегетативные клетки были уничтожены при следующем нагреван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многих целей довольствуются частичной стерилизацией, т.е. уничтожением вегетативных форм микроорганизмов. Такого эффекта обычно достигают путем пастеризации - выдерживания в течение 5-10 мин при 75 или 80°С. Пастеризацией частично стерилизуют, в частности, молоко, вина. Применяют два метода пастеризации : кратковременное нагревание (20 с при 71,5-74°С) и сильное нагревание (2-5 с при 85-87°С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рмическая стерилиза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Нередко удается достичь того же эффекта дробной стерилизацией в текучем паре при 100°С (тиндализация). Жидкость стерилизуется в этом случае при 100°С три дня подряд по 30 мин ежедневно; в промежутках между нагреваниями ее хранят в термостате, для того чтобы споры проросли, а затем вегетативные клетки были уничтожены при следующем нагревании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Для многих целей довольствуются частичной стерилизацией, т.е. уничтожением вегетативных форм микроорганизмов. Такого эффекта обычно достигают путем пастеризации - выдерживания в течение 5-10 мин при 75 или 80°С. Пастеризацией частично стерилизуют, в частности, молоко, вина. Применяют два метода пастеризации : кратковременное нагревание (20 с при 71,5-74°С) и сильное нагревание (2-5 с при 85-87°С)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Термическая стерилизация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2979720" y="514440"/>
            <a:ext cx="3184560" cy="257184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рмическая стерилизаци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воздушный метод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хой жар. Стерилизация осуществляется в специальных аппаратах - сухо-жаровых шкафах-стерилизаторах. Стерилизация в сухожаровом шкафу происходит при помощи циркуляции внутри него горячего воздух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стерилизации сухим жаром бактериальные споры переносят более высокие температуры и притом дольше, чем при стерилизации влажным жаром. Поэтому жаростойкую стеклянную посуду, порошки, масла и т. п. стерилизуют в течение 1 часа при температуре 180°С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ерилизация в автоклаве и сухожаровом шкафу в настоящее время является главным, наиболее надежным способом стерилизации хирургических инструментов, стеклянной посуд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Термическая стерилизаци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(воздушный метод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ухой жар. Стерилизация осуществляется в специальных аппаратах - сухо-жаровых шкафах-стерилизаторах. Стерилизация в сухожаровом шкафу происходит при помощи циркуляции внутри него горячего воздуха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ри стерилизации сухим жаром бактериальные споры переносят более высокие температуры и притом дольше, чем при стерилизации влажным жаром. Поэтому жаростойкую стеклянную посуду, порошки, масла и т. п. стерилизуют в течение 1 часа при температуре 180°С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терилизация в автоклаве и сухожаровом шкафу в настоящее время является главным, наиболее надежным способом стерилизации хирургических инструментов, стеклянной посуды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2979720" y="514440"/>
            <a:ext cx="3184560" cy="257184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Термическая стерилизация</a:t>
            </a:r>
            <a:br>
              <a:rPr sz="1100"/>
            </a:b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(гласперленовый метод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Принцип действия гласперленового стерилизатора основан на приведении стерилизуемых хирургических инструментов в контакт с маленькими стеклянными сферами, имеющими температуру 250С.</a:t>
            </a: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Стерилизатор предназначен для быстрой стерилизации цельнометаллических, не имеющих полостей, каналов и замковых частей, стоматологических и других медицинских инструментов и приспособлений в среде нагретых до температуры 190-290ºС стеклянных шариков при полном погружении в них мелких изделий, а также рабочих частей более крупных изделий.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Стерилизация инструмента производится в течение очень короткого времени — не более 20 секунд. Благодаря такому короткому периоду и неразрушающему воздействию стерилизационных (глассперленовых) шариков на инструмент, негативное влияние высокой температуры практически отсутствует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Всего за 5 секунд стерилизует: щипцы, клещи, скальпель-держатели, зонды, шпатели, долота, зубила, алмазы, файлы, боры, корневые элеваторы, расширители, угловые наконечники, иглодержатели, пинцеты, десневые ножницы и т.д.</a:t>
            </a:r>
            <a:br>
              <a:rPr sz="1100"/>
            </a:b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Термическая стерилизаци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(гласперленовый метод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ринцип действия гласперленового стерилизатора основан на приведении стерилизуемых хирургических инструментов в контакт с маленькими стеклянными сферами, имеющими температуру 250С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терилизатор предназначен для быстрой стерилизации цельнометаллических, не имеющих полостей, каналов и замковых частей, стоматологических и других медицинских инструментов и приспособлений в среде нагретых до температуры 190-290ºС стеклянных шариков при полном погружении в них мелких изделий, а также рабочих частей более крупных изделий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терилизация инструмента производится в течение очень короткого времени — не более 20 секунд. Благодаря такому короткому периоду и неразрушающему воздействию стерилизационных (глассперленовых) шариков на инструмент, негативное влияние высокой температуры практически отсутствует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сего за 5 секунд стерилизует: щипцы, клещи, скальпель-держатели, зонды, шпатели, долота, зубила, алмазы, файлы, боры, корневые элеваторы, расширители, угловые наконечники, иглодержатели, пинцеты, десневые ножницы и т.д.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2979720" y="514440"/>
            <a:ext cx="3184560" cy="257184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рмическая стерилизаци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инфракрасный метод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логабаритный стерилизатор предназначен для стерилизации стоматологических и микрохирургических инструментов из металлов в условиях госпиталей, поликлиник, больниц и других лечебных и косметологических учреждений. Стерилизация осуществляется инфракрасным мощным кратковременным тепловым воздействие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Термическая стерилизаци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(инфракрасный метод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алогабаритный стерилизатор предназначен для стерилизации стоматологических и микрохирургических инструментов из металлов в условиях госпиталей, поликлиник, больниц и других лечебных и косметологических учреждений. Стерилизация осуществляется инфракрасным мощным кратковременным тепловым воздействием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F8447-DDBC-4519-A218-E6CC1649E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45960" y="720720"/>
            <a:ext cx="8443800" cy="13334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b">
            <a:noAutofit/>
          </a:bodyPr>
          <a:p>
            <a:pPr indent="0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80880" y="2354040"/>
            <a:ext cx="8420040" cy="2289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280880" y="4861440"/>
            <a:ext cx="8420040" cy="2289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6BFD5-51B5-4FAA-B29E-FFA19EB4F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45960" y="720720"/>
            <a:ext cx="8443800" cy="13334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b">
            <a:noAutofit/>
          </a:bodyPr>
          <a:p>
            <a:pPr indent="0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80880" y="2354040"/>
            <a:ext cx="4108680" cy="2289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595480" y="2354040"/>
            <a:ext cx="4108680" cy="2289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280880" y="4861440"/>
            <a:ext cx="4108680" cy="2289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595480" y="4861440"/>
            <a:ext cx="4108680" cy="2289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ECAEC-2FF9-4FEA-9D29-EC73EA0D7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45960" y="720720"/>
            <a:ext cx="8443800" cy="13334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b">
            <a:noAutofit/>
          </a:bodyPr>
          <a:p>
            <a:pPr indent="0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280880" y="2354040"/>
            <a:ext cx="2711160" cy="2289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128120" y="2354040"/>
            <a:ext cx="2711160" cy="2289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975000" y="2354040"/>
            <a:ext cx="2711160" cy="2289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280880" y="4861440"/>
            <a:ext cx="2711160" cy="2289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4128120" y="4861440"/>
            <a:ext cx="2711160" cy="2289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975000" y="4861440"/>
            <a:ext cx="2711160" cy="2289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74418-535C-4870-937E-32C7A6DED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5B754-A16C-4B59-8E33-2602F7200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45960" y="720720"/>
            <a:ext cx="8443800" cy="13334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b">
            <a:noAutofit/>
          </a:bodyPr>
          <a:p>
            <a:pPr indent="0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280880" y="2354040"/>
            <a:ext cx="84200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A0E41-56CC-4424-B4F8-670BD6F35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45960" y="720720"/>
            <a:ext cx="8443800" cy="13334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b">
            <a:noAutofit/>
          </a:bodyPr>
          <a:p>
            <a:pPr indent="0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80880" y="2354040"/>
            <a:ext cx="8420040" cy="4800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D273E-8780-435D-92B0-D37F4D68E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45960" y="720720"/>
            <a:ext cx="8443800" cy="13334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b">
            <a:noAutofit/>
          </a:bodyPr>
          <a:p>
            <a:pPr indent="0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80880" y="2354040"/>
            <a:ext cx="4108680" cy="4800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595480" y="2354040"/>
            <a:ext cx="4108680" cy="4800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7831A-84E6-4E85-B367-FEC8ED95D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45960" y="720720"/>
            <a:ext cx="8443800" cy="13334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b">
            <a:noAutofit/>
          </a:bodyPr>
          <a:p>
            <a:pPr indent="0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B5D27-DCE2-448E-9B5D-BF96CA6D3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245960" y="720720"/>
            <a:ext cx="8443800" cy="618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A6CBF-58DA-4F1F-85B6-09571B932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45960" y="720720"/>
            <a:ext cx="8443800" cy="13334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b">
            <a:noAutofit/>
          </a:bodyPr>
          <a:p>
            <a:pPr indent="0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280880" y="2354040"/>
            <a:ext cx="4108680" cy="2289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595480" y="2354040"/>
            <a:ext cx="4108680" cy="4800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280880" y="4861440"/>
            <a:ext cx="4108680" cy="2289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2D6F1-1C65-4C95-B4CD-476C5C51E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45960" y="720720"/>
            <a:ext cx="8443800" cy="13334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b">
            <a:noAutofit/>
          </a:bodyPr>
          <a:p>
            <a:pPr indent="0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280880" y="2354040"/>
            <a:ext cx="84200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FDD07-9796-4137-B632-05819D12F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45960" y="720720"/>
            <a:ext cx="8443800" cy="13334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b">
            <a:noAutofit/>
          </a:bodyPr>
          <a:p>
            <a:pPr indent="0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280880" y="2354040"/>
            <a:ext cx="4108680" cy="4800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595480" y="2354040"/>
            <a:ext cx="4108680" cy="2289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595480" y="4861440"/>
            <a:ext cx="4108680" cy="2289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130F4-2FEB-4079-B77C-4A0B474FB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45960" y="720720"/>
            <a:ext cx="8443800" cy="13334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b">
            <a:noAutofit/>
          </a:bodyPr>
          <a:p>
            <a:pPr indent="0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80880" y="2354040"/>
            <a:ext cx="4108680" cy="2289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595480" y="2354040"/>
            <a:ext cx="4108680" cy="2289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80880" y="4861440"/>
            <a:ext cx="8420040" cy="2289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9D1ED-108A-44E2-8E3E-8A95AFAA1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45960" y="720720"/>
            <a:ext cx="8443800" cy="13334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b">
            <a:noAutofit/>
          </a:bodyPr>
          <a:p>
            <a:pPr indent="0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280880" y="2354040"/>
            <a:ext cx="8420040" cy="2289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280880" y="4861440"/>
            <a:ext cx="8420040" cy="2289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3B1AA-050E-45C4-A2CD-E1A612E61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45960" y="720720"/>
            <a:ext cx="8443800" cy="13334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b">
            <a:noAutofit/>
          </a:bodyPr>
          <a:p>
            <a:pPr indent="0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280880" y="2354040"/>
            <a:ext cx="4108680" cy="2289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595480" y="2354040"/>
            <a:ext cx="4108680" cy="2289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280880" y="4861440"/>
            <a:ext cx="4108680" cy="2289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595480" y="4861440"/>
            <a:ext cx="4108680" cy="2289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CD4F8-7333-4B7E-BD2C-F5BE42116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45960" y="720720"/>
            <a:ext cx="8443800" cy="13334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b">
            <a:noAutofit/>
          </a:bodyPr>
          <a:p>
            <a:pPr indent="0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80880" y="2354040"/>
            <a:ext cx="2711160" cy="2289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128120" y="2354040"/>
            <a:ext cx="2711160" cy="2289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975000" y="2354040"/>
            <a:ext cx="2711160" cy="2289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280880" y="4861440"/>
            <a:ext cx="2711160" cy="2289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4128120" y="4861440"/>
            <a:ext cx="2711160" cy="2289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975000" y="4861440"/>
            <a:ext cx="2711160" cy="2289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F523A-3B44-44BE-ACAD-C6989F1A5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45960" y="720720"/>
            <a:ext cx="8443800" cy="13334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b">
            <a:noAutofit/>
          </a:bodyPr>
          <a:p>
            <a:pPr indent="0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80880" y="2354040"/>
            <a:ext cx="8420040" cy="4800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F68AE-F571-4099-BF1E-F8EF0CFAF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45960" y="720720"/>
            <a:ext cx="8443800" cy="13334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b">
            <a:noAutofit/>
          </a:bodyPr>
          <a:p>
            <a:pPr indent="0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280880" y="2354040"/>
            <a:ext cx="4108680" cy="4800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595480" y="2354040"/>
            <a:ext cx="4108680" cy="4800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2CD34-11CC-4850-B037-1E40A2A9C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45960" y="720720"/>
            <a:ext cx="8443800" cy="13334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b">
            <a:noAutofit/>
          </a:bodyPr>
          <a:p>
            <a:pPr indent="0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964D4-7959-4A71-9633-D49406ACE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245960" y="720720"/>
            <a:ext cx="8443800" cy="618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49BA1-F158-4E3D-9415-04945E3D1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245960" y="720720"/>
            <a:ext cx="8443800" cy="13334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b">
            <a:noAutofit/>
          </a:bodyPr>
          <a:p>
            <a:pPr indent="0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280880" y="2354040"/>
            <a:ext cx="4108680" cy="2289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595480" y="2354040"/>
            <a:ext cx="4108680" cy="4800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280880" y="4861440"/>
            <a:ext cx="4108680" cy="2289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D13DE-4B30-4712-A7EF-1BF0DE885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245960" y="720720"/>
            <a:ext cx="8443800" cy="13334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b">
            <a:noAutofit/>
          </a:bodyPr>
          <a:p>
            <a:pPr indent="0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280880" y="2354040"/>
            <a:ext cx="4108680" cy="4800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595480" y="2354040"/>
            <a:ext cx="4108680" cy="2289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595480" y="4861440"/>
            <a:ext cx="4108680" cy="2289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2D998-AB71-4FE9-852F-1714B79DC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45960" y="720720"/>
            <a:ext cx="8443800" cy="13334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b">
            <a:noAutofit/>
          </a:bodyPr>
          <a:p>
            <a:pPr indent="0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80880" y="2354040"/>
            <a:ext cx="4108680" cy="2289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595480" y="2354040"/>
            <a:ext cx="4108680" cy="2289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80880" y="4861440"/>
            <a:ext cx="8420040" cy="2289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93DC6-FFF9-49D9-BBB3-AFCE41556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52520" y="1281240"/>
            <a:ext cx="474480" cy="5540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2240" rIns="102240" tIns="51120" bIns="51120" anchor="ctr">
            <a:noAutofit/>
          </a:bodyPr>
          <a:p>
            <a:pPr algn="ctr"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66880" y="1281240"/>
            <a:ext cx="355320" cy="55404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2240" rIns="102240" tIns="51120" bIns="51120" anchor="ctr">
            <a:noAutofit/>
          </a:bodyPr>
          <a:p>
            <a:pPr algn="ctr"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85720" y="1774800"/>
            <a:ext cx="459000" cy="552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2240" rIns="102240" tIns="51120" bIns="51120" anchor="ctr">
            <a:noAutofit/>
          </a:bodyPr>
          <a:p>
            <a:pPr algn="ctr"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87480" y="1774800"/>
            <a:ext cx="398520" cy="5526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2240" rIns="102240" tIns="51120" bIns="51120" anchor="ctr">
            <a:noAutofit/>
          </a:bodyPr>
          <a:p>
            <a:pPr algn="ctr"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38240" y="1689120"/>
            <a:ext cx="606240" cy="49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2240" rIns="102240" tIns="51120" bIns="51120" anchor="ctr">
            <a:noAutofit/>
          </a:bodyPr>
          <a:p>
            <a:pPr algn="ctr"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825480" y="1155600"/>
            <a:ext cx="34920" cy="12272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2240" rIns="102240" tIns="51120" bIns="51120" anchor="ctr">
            <a:noAutofit/>
          </a:bodyPr>
          <a:p>
            <a:pPr algn="ctr"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79520" y="2077920"/>
            <a:ext cx="8912160" cy="3672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2240" rIns="102240" tIns="-14400" bIns="-14400" anchor="ctr">
            <a:noAutofit/>
          </a:bodyPr>
          <a:p>
            <a:pPr algn="ctr"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45960" y="720720"/>
            <a:ext cx="8443800" cy="13334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b">
            <a:noAutofit/>
          </a:bodyPr>
          <a:p>
            <a:pPr indent="0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49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9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280880" y="2354040"/>
            <a:ext cx="8420040" cy="4800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831960" indent="-320760"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2" marL="1279440" indent="-255600">
              <a:spcBef>
                <a:spcPts val="9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3" marL="1790640" indent="-255600">
              <a:spcBef>
                <a:spcPts val="90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4" marL="2301840" indent="-255600">
              <a:spcBef>
                <a:spcPts val="901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5" marL="2301840" indent="-255600">
              <a:spcBef>
                <a:spcPts val="9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6" marL="2301840" indent="-255600">
              <a:spcBef>
                <a:spcPts val="9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90720" y="7378560"/>
            <a:ext cx="2063520" cy="53352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b">
            <a:no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32040" y="7378560"/>
            <a:ext cx="3137040" cy="53352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6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346520" y="7378560"/>
            <a:ext cx="2063880" cy="53352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89F94-53D2-4B37-9876-6EF5CC601E8D}" type="slidenum">
              <a:rPr b="0" lang="ru-RU" sz="16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844720"/>
            <a:ext cx="9759600" cy="1226880"/>
            <a:chOff x="0" y="2844720"/>
            <a:chExt cx="9759600" cy="1226880"/>
          </a:xfrm>
        </p:grpSpPr>
        <p:grpSp>
          <p:nvGrpSpPr>
            <p:cNvPr id="49" name="Group 3"/>
            <p:cNvGrpSpPr/>
            <p:nvPr/>
          </p:nvGrpSpPr>
          <p:grpSpPr>
            <a:xfrm>
              <a:off x="316080" y="2970360"/>
              <a:ext cx="773640" cy="553320"/>
              <a:chOff x="316080" y="2970360"/>
              <a:chExt cx="773640" cy="55332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316080" y="2970360"/>
                <a:ext cx="475920" cy="5533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732600" y="2970360"/>
                <a:ext cx="357120" cy="5533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52160" y="3461040"/>
              <a:ext cx="801000" cy="552960"/>
              <a:chOff x="452160" y="3461040"/>
              <a:chExt cx="801000" cy="55296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52160" y="3461040"/>
                <a:ext cx="459000" cy="55296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853920" y="3461040"/>
                <a:ext cx="399240" cy="55296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3377520"/>
              <a:ext cx="606960" cy="4921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87960" y="2844720"/>
              <a:ext cx="34200" cy="122688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42360" y="3802320"/>
              <a:ext cx="9417240" cy="64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45960" y="720720"/>
            <a:ext cx="8443800" cy="13334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b">
            <a:noAutofit/>
          </a:bodyPr>
          <a:p>
            <a:pPr indent="0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49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9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280880" y="2354040"/>
            <a:ext cx="8420040" cy="4800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831960" indent="-320760"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2" marL="1279440" indent="-255600">
              <a:spcBef>
                <a:spcPts val="9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3" marL="1790640" indent="-255600">
              <a:spcBef>
                <a:spcPts val="90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4" marL="2301840" indent="-255600">
              <a:spcBef>
                <a:spcPts val="901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5" marL="2301840" indent="-255600">
              <a:spcBef>
                <a:spcPts val="9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6" marL="2301840" indent="-255600">
              <a:spcBef>
                <a:spcPts val="9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1072800" y="7289640"/>
            <a:ext cx="2063880" cy="53352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b">
            <a:no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714480" y="7289640"/>
            <a:ext cx="3136680" cy="53352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6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1c1c1c"/>
                </a:solidFill>
                <a:latin typeface="Tahoma"/>
              </a:rPr>
              <a:t>www.sliderpoint.org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7429680" y="7289640"/>
            <a:ext cx="2063520" cy="53352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7A502-CB26-497A-8E66-188FE1CF9EB0}" type="slidenum">
              <a:rPr b="0" lang="ru-RU" sz="16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1280880" y="2354040"/>
            <a:ext cx="8420040" cy="4800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Стерилизацией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называют полное уничтожение микроорганизмов и их спор на инструментах, посуде, медикаментах и т.д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84120" indent="-38412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Дезинфекцией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называют полное уничтожение патогенных микроорганизмов на объектах окружающей среды с помощью химических веществ - дезинфектантов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title"/>
          </p:nvPr>
        </p:nvSpPr>
        <p:spPr>
          <a:xfrm>
            <a:off x="1245960" y="720720"/>
            <a:ext cx="8443800" cy="13334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b">
            <a:noAutofit/>
          </a:bodyPr>
          <a:p>
            <a:pPr indent="0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4500" spc="-1" strike="noStrike">
                <a:solidFill>
                  <a:srgbClr val="333399"/>
                </a:solidFill>
                <a:latin typeface="Tahoma"/>
              </a:rPr>
              <a:t>Методы стерилизации и дезинфекции</a:t>
            </a: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Місце для нижнього колонтитула 1"/>
          <p:cNvSpPr/>
          <p:nvPr/>
        </p:nvSpPr>
        <p:spPr>
          <a:xfrm>
            <a:off x="3632040" y="7378560"/>
            <a:ext cx="3137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245960" y="720360"/>
            <a:ext cx="8443800" cy="6872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b">
            <a:noAutofit/>
          </a:bodyPr>
          <a:p>
            <a:pPr indent="0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4500" spc="-1" strike="noStrike">
                <a:solidFill>
                  <a:srgbClr val="333399"/>
                </a:solidFill>
                <a:latin typeface="Tahoma"/>
              </a:rPr>
              <a:t>Химическая стерилизация</a:t>
            </a:r>
            <a:br>
              <a:rPr sz="4500"/>
            </a:br>
            <a:r>
              <a:rPr b="0" lang="ru-RU" sz="4500" spc="-1" strike="noStrike">
                <a:solidFill>
                  <a:srgbClr val="333399"/>
                </a:solidFill>
                <a:latin typeface="Tahoma"/>
              </a:rPr>
              <a:t>(газовый метод)</a:t>
            </a: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280880" y="2354040"/>
            <a:ext cx="8420040" cy="4800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В мировой практике встречаются 3 основных метода </a:t>
            </a:r>
            <a:r>
              <a:rPr b="0" i="1" lang="ru-RU" sz="2000" spc="-1" strike="noStrike">
                <a:solidFill>
                  <a:srgbClr val="ff0000"/>
                </a:solidFill>
                <a:latin typeface="Tahoma"/>
              </a:rPr>
              <a:t>низкотемпературной стерилизации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: газовый этиленоксидный, газовый формальдегидный и плазменный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84120" indent="-3841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ahoma"/>
              </a:rPr>
              <a:t>Газовая стерилизация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осуществляется в специальных герметичных камерах. 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Стерилизующим агентом обычно являются: пары формалина (на дно камеры кладут таблетки формальдегида) или окись этилена. Инструменты, уложенные на сетку, считаются стерильными через 6-48 часов (в зависимости от компонентов газовой смеси и температуры в камере). 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Отличительной чертой метода является его минимальное отрицательное влияние на качество инструментария, в связи с чем способ используют прежде всего для стерилизации оптических, особо точных и дорогостоящих инструментов.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3632040" y="7378560"/>
            <a:ext cx="3137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45960" y="720720"/>
            <a:ext cx="8443800" cy="13334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b">
            <a:noAutofit/>
          </a:bodyPr>
          <a:p>
            <a:pPr indent="0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4500" spc="-1" strike="noStrike">
                <a:solidFill>
                  <a:srgbClr val="333399"/>
                </a:solidFill>
                <a:latin typeface="Tahoma"/>
              </a:rPr>
              <a:t>Химическая стерилизация</a:t>
            </a:r>
            <a:br>
              <a:rPr sz="4500"/>
            </a:br>
            <a:r>
              <a:rPr b="0" lang="ru-RU" sz="4500" spc="-1" strike="noStrike">
                <a:solidFill>
                  <a:srgbClr val="333399"/>
                </a:solidFill>
                <a:latin typeface="Tahoma"/>
              </a:rPr>
              <a:t>(газовый метод)</a:t>
            </a: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0" y="2415960"/>
            <a:ext cx="7113600" cy="4800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ри стерилизации пищевых продуктов, лекарственных препаратов и разного рода приборов, а также в лабораторной практике оправдало себя применение окиси этилена, которая убивает и вегетативные клетки, и споры, но действует только в том случае, если подвергаемые стерилизации материалы содержат некоторое количество (5-15%) воды. Окись этилена применяют в виде газовой смеси (с N2 или С02), в которой ее доля составляет от 2 до 50%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84120" indent="-38412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Этиленоксидный метод обеспечивает самый щадящий температурный режим стерилизации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84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5" name="Picture 5" descr="formomat"/>
          <p:cNvPicPr/>
          <p:nvPr/>
        </p:nvPicPr>
        <p:blipFill>
          <a:blip r:embed="rId1"/>
          <a:stretch/>
        </p:blipFill>
        <p:spPr>
          <a:xfrm>
            <a:off x="7113600" y="2416320"/>
            <a:ext cx="2514600" cy="4176720"/>
          </a:xfrm>
          <a:prstGeom prst="rect">
            <a:avLst/>
          </a:prstGeom>
          <a:ln w="0">
            <a:noFill/>
          </a:ln>
        </p:spPr>
      </p:pic>
      <p:sp>
        <p:nvSpPr>
          <p:cNvPr id="146" name="Місце для нижнього колонтитула 1"/>
          <p:cNvSpPr/>
          <p:nvPr/>
        </p:nvSpPr>
        <p:spPr>
          <a:xfrm>
            <a:off x="3632040" y="7378560"/>
            <a:ext cx="3137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45960" y="720720"/>
            <a:ext cx="8443800" cy="75888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b">
            <a:noAutofit/>
          </a:bodyPr>
          <a:p>
            <a:pPr indent="0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4500" spc="-1" strike="noStrike">
                <a:solidFill>
                  <a:srgbClr val="333399"/>
                </a:solidFill>
                <a:latin typeface="Tahoma"/>
              </a:rPr>
              <a:t>Химическая стерилизация</a:t>
            </a:r>
            <a:br>
              <a:rPr sz="4500"/>
            </a:br>
            <a:r>
              <a:rPr b="0" lang="ru-RU" sz="4500" spc="-1" strike="noStrike">
                <a:solidFill>
                  <a:srgbClr val="333399"/>
                </a:solidFill>
                <a:latin typeface="Tahoma"/>
              </a:rPr>
              <a:t>(плазменный метод)</a:t>
            </a: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215800" y="1552680"/>
            <a:ext cx="7689960" cy="644832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ahoma"/>
              </a:rPr>
              <a:t>Плазменный метод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позволяет создать биоцидную среду на основе водного раствора пероксида водорода, а также низкотемпературной плазмы (ионизированный газ, образующийся при низком давлении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84120" indent="-3841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Это самый современный метод стерилизации, известный на сегодняшний день. Он позволяет стерилизовать любые медицинские изделия, от полых инструментов до кабелей, электроприборов,к которым в ряде случаев вообще не удается применить ни один из известных методов стерилизации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84120" indent="-3841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ри этом методе после впрыскивания раствора перекиси водорода в стерилизационную камеру включается источник электромагнитного излучения частотой 13,56 Мгц, под воздействием которого одновременно происходит деление одной части молекул Н2О2 на две группы (ОН-), а другой части - на одну гидропероксильную группу (ООН-) и один атом водорода, сопровождающееся выделением видимого и ультрафиолетового излучения. В результате создается биоцидная среда, состоящая из молекул перекиси водорода, свободных радикалов и ультрафиолетового излучения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Picture 4" descr="HMTS-80"/>
          <p:cNvPicPr/>
          <p:nvPr/>
        </p:nvPicPr>
        <p:blipFill>
          <a:blip r:embed="rId1"/>
          <a:stretch/>
        </p:blipFill>
        <p:spPr>
          <a:xfrm>
            <a:off x="0" y="2776680"/>
            <a:ext cx="2048040" cy="2857320"/>
          </a:xfrm>
          <a:prstGeom prst="rect">
            <a:avLst/>
          </a:prstGeom>
          <a:ln w="0">
            <a:noFill/>
          </a:ln>
        </p:spPr>
      </p:pic>
      <p:sp>
        <p:nvSpPr>
          <p:cNvPr id="150" name="Місце для нижнього колонтитула 1"/>
          <p:cNvSpPr/>
          <p:nvPr/>
        </p:nvSpPr>
        <p:spPr>
          <a:xfrm>
            <a:off x="3632040" y="7378560"/>
            <a:ext cx="3137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-360" y="4145040"/>
            <a:ext cx="9906120" cy="4145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лазма образуется под воздействием сильного электромагнитного излучения в атмосфере паров перекиси водорода. При отключении электромагнитного поля свободные радикалы преобразуются в молекулы воды и кислорода, не оставляя никаких токсичных отходов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84120" indent="-3841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Минимальное время обработки в плазменном стерилизаторе – от 35 минут, рабочая температура – 36-60°С. Одно из основных преимуществ этого метода – отсутствие токсичных отходов, образуются только кислород и водный пар. Плазменная стерилизация уничтожает все формы и виды микроорганизмов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84120" indent="-3841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лазменные стерилизаторы – перспективное оборудование, но для большинства российских медицинских учреждений слишком дорогостояще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84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Picture 4" descr="imagesCA03CC9V"/>
          <p:cNvPicPr/>
          <p:nvPr/>
        </p:nvPicPr>
        <p:blipFill>
          <a:blip r:embed="rId1"/>
          <a:stretch/>
        </p:blipFill>
        <p:spPr>
          <a:xfrm>
            <a:off x="1568520" y="0"/>
            <a:ext cx="6840360" cy="3816360"/>
          </a:xfrm>
          <a:prstGeom prst="rect">
            <a:avLst/>
          </a:prstGeom>
          <a:ln w="0">
            <a:noFill/>
          </a:ln>
        </p:spPr>
      </p:pic>
      <p:sp>
        <p:nvSpPr>
          <p:cNvPr id="153" name="Місце для нижнього колонтитула 1"/>
          <p:cNvSpPr/>
          <p:nvPr/>
        </p:nvSpPr>
        <p:spPr>
          <a:xfrm>
            <a:off x="3632040" y="7378560"/>
            <a:ext cx="3137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245960" y="720360"/>
            <a:ext cx="8443800" cy="6872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b">
            <a:noAutofit/>
          </a:bodyPr>
          <a:p>
            <a:pPr indent="0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4500" spc="-1" strike="noStrike">
                <a:solidFill>
                  <a:srgbClr val="333399"/>
                </a:solidFill>
                <a:latin typeface="Tahoma"/>
              </a:rPr>
              <a:t>Химическая стерилизация</a:t>
            </a:r>
            <a:br>
              <a:rPr sz="4500"/>
            </a:br>
            <a:r>
              <a:rPr b="0" lang="ru-RU" sz="4500" spc="-1" strike="noStrike">
                <a:solidFill>
                  <a:srgbClr val="333399"/>
                </a:solidFill>
                <a:latin typeface="Tahoma"/>
              </a:rPr>
              <a:t>(растворами антисептиков)</a:t>
            </a: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49240" y="2199960"/>
            <a:ext cx="9056880" cy="60339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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Стерилизация растворами химических антисептиков, также как лучевая и газовая стерилизация, относится к 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холодным способам стерилизации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и не приводит к затуплению инструментов, в связи с чем применяется для обработки прежде всего режущих хирургических инструментов. 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Для стерилизации в основном используют три раствора: тройной раствор, 96° этиловый спирт и 6% перекись водорода. В последнее время для холодной стерилизации оптических инструментов стали применять спиртовой раствор хлоргексидина, первомур и другие. 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Для холодной стерилизации инструменты полностью погружают в раскрытом (или разобранном) виде в один из указанных растворов. При замачивании в спирте и тройном растворе инструменты считаются стерильными через 2-3 часа, в перекиси водорода - через 6 часов.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84120" indent="-3841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Данный метод представляет интерес для стерилизации растворов, содержащих лекарственные вещества, изменяющиеся при воздействии высокой температуры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84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В качестве антисептиков находят применение: фенол, трикрезол, хинозол, нипагин, нипазол, хлорэтон, меркурофен и цефирол. В литературе имеются также сообщения о применении для этой цели хлоркрезола, хлорбутола, фенилмеркурнитрата, соединений четвертичного аммония (бензалконий, цетримид) и некоторых других веществ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Місце для нижнього колонтитула 1"/>
          <p:cNvSpPr/>
          <p:nvPr/>
        </p:nvSpPr>
        <p:spPr>
          <a:xfrm>
            <a:off x="3632040" y="7378560"/>
            <a:ext cx="3137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272520" y="391680"/>
            <a:ext cx="9356760" cy="80010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Карболовая кислота входит в тройной раствор (раствор Крупенина). Им стерилизуют режущие инструменты и предметы из пластмасс. В нем хранятся простерилизованные иглы, скальпели, корнцанги, полиэтиленовые трубки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84120" indent="-3841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Лизол с зеленым мылом используется для помывки стен, полов, мебели операционно-перевязочного блока, а также для обработки инструментов, резиновых перчаток, предметов, загрязненных гноем или калом во время операции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84120" indent="-3841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Сулема (дихлорид ртути) 1 : 1000, 1 : 3000 Стерилизуются перчатки, дренажи и другие предметы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84120" indent="-3841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Оксицианид ртути 1 : 10000 применяется для стерилизации мочеточниковых катетеров, цистоскопов и других инструментов с оптикой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84120" indent="-3841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Диоцид - препарат ртути, сочетает в себе антисептические и моющие свойства. Некоторые используют для обработки рук хирурга - руки моют в тазу раствором 1 : 3000, 1 : 5000 - 6 мин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84120" indent="-3841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Этиловый спирт применяется для стерилизации режущих инструментов, резиновых и полиэтиленовых трубок, 96%-м спиртом дубят руки хирурги перед операцией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84120" indent="-3841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Хотя 70%-й спирт бактерициднее 96%-го, однако спорообразная инфекция не погибает длительное время. Возбудители газовой гангрены и споры сибирской язвы могут сохраняться в спирте в течение нескольких месяцев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84120" indent="-3841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Для увеличения бактерицидности спиртовых растворов к ним добавляются тимол (1 : 1000), 1%-й раствор бриллиантового зеленого (раствор Баккала), формалин и др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Місце для нижнього колонтитула 1"/>
          <p:cNvSpPr/>
          <p:nvPr/>
        </p:nvSpPr>
        <p:spPr>
          <a:xfrm>
            <a:off x="3632040" y="7378560"/>
            <a:ext cx="3137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549000" y="328320"/>
            <a:ext cx="9356760" cy="80010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Давно используются бактерицидные свойства галогенов. Н. И. Пирогов применял йод спиртовый 2%-й, 5%-й и 10%-й, еще не зная о существовании микроорганизмов. Йод обладает бактерицидным и спороцидным эффектом. Он и ныне не утратил своего значения. Однако чаще используют его комплексные соединения с поверхностью - активными веществами, так называемыми. йодофорами, к которым относятся йодонат, йодопиродон, йодолан и др. Они чаще применяются для обработки рук хирурга и операционного поля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84120" indent="-3841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Соединения хлора издавна используются для дезинфекции (хлорная известь) и стерилизация (гипохлорид натрия, хлорамин и др.). Бактерицидность этих препаратов зависит от содержания в них активного хлора. В хлорамине активного хлора 28-29 %, а дихлоризоциануровой кислоте - 70-80 %, гипохлориде натрия - 9,5 %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84120" indent="-3841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ерекись водорода (33 % перекись водорода - пергидроль) в 3 % и 6 % концентрации используется для стерилизации и дезинфекции Она безвредна для человека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84120" indent="-3841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Смесь перекиси водорода с муравьиной кислотой, предложенная И. Д. Житнюком и П. А. Мелехоым в 1970 г., была названа первомуром. В процессе приготовления С-4 образуется надмуравьиная кислота - она и является действующим началом. Используется для обработки рук хирурга или стерилизации инструментов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84120" indent="-3841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В Чехословакии предложили перстерил для стерилизации резиновых и полиэтиленовых трубок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84120" indent="-3841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В России выпущен бета-пропиолактон. В концентрации 1 : 1000 синегнойная палочка в 2%-м растворе погибает в течение 10 мин. Его добавляют в количестве 0,2% в готовые питательные среды, которые затем инкубируют 2 ч при 37°С. Если оставить среду на ночь, пропиолактон полностью разложится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84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Місце для нижнього колонтитула 1"/>
          <p:cNvSpPr/>
          <p:nvPr/>
        </p:nvSpPr>
        <p:spPr>
          <a:xfrm>
            <a:off x="3632040" y="7378560"/>
            <a:ext cx="3137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207800" y="904680"/>
            <a:ext cx="9093240" cy="11523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b">
            <a:noAutofit/>
          </a:bodyPr>
          <a:p>
            <a:pPr indent="0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4500" spc="-1" strike="noStrike">
                <a:solidFill>
                  <a:srgbClr val="333399"/>
                </a:solidFill>
                <a:latin typeface="Tahoma"/>
              </a:rPr>
              <a:t>Стерилизация ионизирующим излучением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60520" y="1479240"/>
            <a:ext cx="9345600" cy="65214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 fontScale="94000"/>
          </a:bodyPr>
          <a:p>
            <a:pPr marL="360720" indent="-3607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Антимикробная обработка может быть осуществлена с помощью ионизирующего излучения (у-лучи), ультрафиолетовых лучей и ультразвука. Наибольшее применение в наше время получила стерилизация у-лучами.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60720" indent="-3607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Радиационный метод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или лучевую стерилизацию γ-лучами, применяют в специальных установках при промышленной стерилизации однократного применения- полимерных шприцев, систем переливания крови, чашек Петри, пипеток и др.хрупких и термолабильных изделий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60720" indent="-3607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Используются изотопы Со60 и Cs137. Доза проникающей радиации должна быть весьма значительной - до 20-25 мкГр, что требует соблюдения особо строгих мер безопасности. В связи с этим лучевая стерилизация проводится в специальных помещениях и является заводским методом стерилизации (непосредственно в стационарах она не производится)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60720" indent="-3607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Стерилизация инструментов и прочих материалов проводится в герметичных упаковках и при целостности последних сохраняется до 5 лет. Герметичная упаковка делает удобными хранение и использование инструментов (необходимо просто вскрыть упаковку). Метод выгоден для стерилизации несложных одноразовых инструментов (шприцы, шовный материал, катетеры, зонды, системы для переливания крови, перчатки и пр.) и получает все более широкое распространение. Во многом это объясняется тем, что при лучевой стерилизации нисколько не теряются свойства стерилизуемых объектов. 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Місце для нижнього колонтитула 1"/>
          <p:cNvSpPr/>
          <p:nvPr/>
        </p:nvSpPr>
        <p:spPr>
          <a:xfrm>
            <a:off x="3632040" y="7378560"/>
            <a:ext cx="3137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60160" y="687240"/>
            <a:ext cx="9690120" cy="140832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b">
            <a:noAutofit/>
          </a:bodyPr>
          <a:p>
            <a:pPr indent="0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4500" spc="-1" strike="noStrike">
                <a:solidFill>
                  <a:srgbClr val="333399"/>
                </a:solidFill>
                <a:latin typeface="Tahoma"/>
              </a:rPr>
              <a:t>Стерилизация ультрафиолетовым излучением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280880" y="2354040"/>
            <a:ext cx="8420040" cy="4800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Источники УФ-излучения (длина волны 260 нм) — ртутные кварцевые лампы. Их мощное бактериостатическое действие основано на совпадении спектра испускания лампы и спектра поглощения ДНК микроорганизмов, что может является причиной их гибели при длительной обработке излучением кварцевых ламп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84120" indent="-38412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ри недостаточно мощном действии УФ в прокариотической клетке активизируются процессы световой и темновой репарации, то есть клетка восстанавливается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84120" indent="-38412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Метод применяется для стерилизации помещений, оборудования в биксах, а также для стерилизации дистиллированной воды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84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84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Місце для нижнього колонтитула 1"/>
          <p:cNvSpPr/>
          <p:nvPr/>
        </p:nvSpPr>
        <p:spPr>
          <a:xfrm>
            <a:off x="3632040" y="7378560"/>
            <a:ext cx="3137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272520" y="5871960"/>
            <a:ext cx="5975640" cy="15699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Эффективный стерилизатор позволяющий стерилизовать хирургические инструменты и перевязочные материалы сухим теплом и ультрафиолетовыми лучами. Имеет мощное бактерицидное действие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8" name="Picture 29" descr="untitled1"/>
          <p:cNvPicPr/>
          <p:nvPr/>
        </p:nvPicPr>
        <p:blipFill>
          <a:blip r:embed="rId1"/>
          <a:stretch/>
        </p:blipFill>
        <p:spPr>
          <a:xfrm>
            <a:off x="0" y="0"/>
            <a:ext cx="2857680" cy="343836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30" descr="h8000_c"/>
          <p:cNvPicPr/>
          <p:nvPr/>
        </p:nvPicPr>
        <p:blipFill>
          <a:blip r:embed="rId2"/>
          <a:stretch/>
        </p:blipFill>
        <p:spPr>
          <a:xfrm>
            <a:off x="272880" y="3929040"/>
            <a:ext cx="2159280" cy="201600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31" descr="42208"/>
          <p:cNvPicPr/>
          <p:nvPr/>
        </p:nvPicPr>
        <p:blipFill>
          <a:blip r:embed="rId3"/>
          <a:stretch/>
        </p:blipFill>
        <p:spPr>
          <a:xfrm>
            <a:off x="7184880" y="0"/>
            <a:ext cx="1871640" cy="2360520"/>
          </a:xfrm>
          <a:prstGeom prst="rect">
            <a:avLst/>
          </a:prstGeom>
          <a:ln w="0">
            <a:noFill/>
          </a:ln>
        </p:spPr>
      </p:pic>
      <p:sp>
        <p:nvSpPr>
          <p:cNvPr id="171" name="Rectangle 32"/>
          <p:cNvSpPr/>
          <p:nvPr/>
        </p:nvSpPr>
        <p:spPr>
          <a:xfrm>
            <a:off x="4160880" y="2631240"/>
            <a:ext cx="5483160" cy="223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Рециркулятор предназначен для обеззараживания воздуха помещений в присутствии и отсутствии людей в процессе принудительной циркуляции воздушного потока через корпус, внутри которого размещены две бактерицидные лампы низкого давления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Rectangle 33"/>
          <p:cNvSpPr/>
          <p:nvPr/>
        </p:nvSpPr>
        <p:spPr>
          <a:xfrm>
            <a:off x="2865600" y="165960"/>
            <a:ext cx="2879640" cy="19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Бактерицидная камера для хранения стерильных медицинских изделий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Місце для нижнього колонтитула 1"/>
          <p:cNvSpPr/>
          <p:nvPr/>
        </p:nvSpPr>
        <p:spPr>
          <a:xfrm>
            <a:off x="3632040" y="7378560"/>
            <a:ext cx="3137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45960" y="720720"/>
            <a:ext cx="8443800" cy="13334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4500" spc="-1" strike="noStrike">
                <a:solidFill>
                  <a:srgbClr val="333399"/>
                </a:solidFill>
                <a:latin typeface="Arial"/>
              </a:rPr>
              <a:t>Методы стерилизации и дезинфекции</a:t>
            </a: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200160" y="2262600"/>
            <a:ext cx="9705960" cy="38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ctr">
            <a:spAutoFit/>
          </a:bodyPr>
          <a:p>
            <a:pPr algn="ctr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Термическая: паровая и воздушная(сухожаровая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Химическая: газовая или химическими растворами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Радиационная стерилизация — применяется в промышленном вариант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Метод мембранных фильтров — применяется для получения небольшого количества стерильных растворов, качество которых может резко ухудшиться при действии других методов стерилизации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632040" y="7378560"/>
            <a:ext cx="3137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13334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b">
            <a:noAutofit/>
          </a:bodyPr>
          <a:p>
            <a:pPr indent="0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4500" spc="-1" strike="noStrike">
                <a:solidFill>
                  <a:srgbClr val="333399"/>
                </a:solidFill>
                <a:latin typeface="Tahoma"/>
              </a:rPr>
              <a:t>Механический метод стерилизации. Бактериальная фильтрация </a:t>
            </a: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160520" y="1263240"/>
            <a:ext cx="5970600" cy="71550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Метод состоит в отделении микробов от жидкости с помощью стерильных микропористых фильтров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84120" indent="-38412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Механизм фильтрации объясняется главным образом адсорбцией микробов, происходящей в порах фильтрующих материалов, которые в большинстве случаев заряжены отрицательно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84120" indent="-38412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 качестве микропористого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фильтрующего материала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используют каолин, фарфор, бумажно-асбестовую массу, инфузорную землю, коллодий и другие пористые материалы, а также стекло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Picture 5" descr="img2"/>
          <p:cNvPicPr/>
          <p:nvPr/>
        </p:nvPicPr>
        <p:blipFill>
          <a:blip r:embed="rId1"/>
          <a:stretch/>
        </p:blipFill>
        <p:spPr>
          <a:xfrm>
            <a:off x="0" y="3208320"/>
            <a:ext cx="4089240" cy="3672000"/>
          </a:xfrm>
          <a:prstGeom prst="rect">
            <a:avLst/>
          </a:prstGeom>
          <a:ln w="0">
            <a:noFill/>
          </a:ln>
        </p:spPr>
      </p:pic>
      <p:sp>
        <p:nvSpPr>
          <p:cNvPr id="177" name="Місце для нижнього колонтитула 1"/>
          <p:cNvSpPr/>
          <p:nvPr/>
        </p:nvSpPr>
        <p:spPr>
          <a:xfrm>
            <a:off x="3632040" y="7378560"/>
            <a:ext cx="3137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13334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b">
            <a:noAutofit/>
          </a:bodyPr>
          <a:p>
            <a:pPr indent="0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4500" spc="-1" strike="noStrike">
                <a:solidFill>
                  <a:srgbClr val="333399"/>
                </a:solidFill>
                <a:latin typeface="Tahoma"/>
              </a:rPr>
              <a:t>Механический метод стерилизации. Бактериальная фильтрация</a:t>
            </a: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0" y="2487240"/>
            <a:ext cx="7400880" cy="4800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Механический метод стерилизации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с помощью микропористых фильтров имеет некоторые преимущества по сравнению с методами тепловой стерилизации, когда раствор подвергается воздействию высокой температуры. Для многих растворов термолабильных веществ он по существу является вообще единственным доступным методом стерилизации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84120" indent="-38412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Широкое применение находят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микропористые фильтры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на химико-фармацевтических заводах и при производстве вакцин и сывороток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0" name="Picture 4" descr="bacterial_filter"/>
          <p:cNvPicPr/>
          <p:nvPr/>
        </p:nvPicPr>
        <p:blipFill>
          <a:blip r:embed="rId1"/>
          <a:stretch/>
        </p:blipFill>
        <p:spPr>
          <a:xfrm>
            <a:off x="7400880" y="1479600"/>
            <a:ext cx="2238480" cy="282888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5" descr="880528_Disposable_Bacterial_Viral_Filter_v0_summ"/>
          <p:cNvPicPr/>
          <p:nvPr/>
        </p:nvPicPr>
        <p:blipFill>
          <a:blip r:embed="rId2"/>
          <a:stretch/>
        </p:blipFill>
        <p:spPr>
          <a:xfrm>
            <a:off x="7616880" y="4721400"/>
            <a:ext cx="2016000" cy="1728720"/>
          </a:xfrm>
          <a:prstGeom prst="rect">
            <a:avLst/>
          </a:prstGeom>
          <a:ln w="0">
            <a:noFill/>
          </a:ln>
        </p:spPr>
      </p:pic>
      <p:sp>
        <p:nvSpPr>
          <p:cNvPr id="182" name="Rectangle 6"/>
          <p:cNvSpPr/>
          <p:nvPr/>
        </p:nvSpPr>
        <p:spPr>
          <a:xfrm>
            <a:off x="7113600" y="6520320"/>
            <a:ext cx="2792520" cy="8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Бактериальны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фильтры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Місце для нижнього колонтитула 1"/>
          <p:cNvSpPr/>
          <p:nvPr/>
        </p:nvSpPr>
        <p:spPr>
          <a:xfrm>
            <a:off x="3632040" y="7378560"/>
            <a:ext cx="3137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580680" cy="13334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b">
            <a:noAutofit/>
          </a:bodyPr>
          <a:p>
            <a:pPr indent="0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Tahoma"/>
              </a:rPr>
              <a:t>Методы стерилизации, разрешенные для применения в ЛПУ.</a:t>
            </a:r>
            <a:r>
              <a:rPr b="0" lang="ru-RU" sz="45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0" y="1795320"/>
          <a:ext cx="9701280" cy="6205680"/>
        </p:xfrm>
        <a:graphic>
          <a:graphicData uri="http://schemas.openxmlformats.org/drawingml/2006/table">
            <a:tbl>
              <a:tblPr/>
              <a:tblGrid>
                <a:gridCol w="2000160"/>
                <a:gridCol w="1854360"/>
                <a:gridCol w="5487840"/>
                <a:gridCol w="358920"/>
              </a:tblGrid>
              <a:tr h="673200">
                <a:tc rowSpan="2">
                  <a:txBody>
                    <a:bodyPr lIns="102240" rIns="102240" tIns="51120" bIns="51120" anchor="ctr">
                      <a:noAutofit/>
                    </a:bodyPr>
                    <a:p>
                      <a:pPr marL="384120" indent="-384120" algn="ctr">
                        <a:lnSpc>
                          <a:spcPct val="100000"/>
                        </a:lnSpc>
                        <a:tabLst>
                          <a:tab algn="l" pos="0"/>
                          <a:tab algn="l" pos="1023840"/>
                          <a:tab algn="l" pos="2048040"/>
                          <a:tab algn="l" pos="3071880"/>
                          <a:tab algn="l" pos="4095720"/>
                          <a:tab algn="l" pos="5119560"/>
                          <a:tab algn="l" pos="6143760"/>
                          <a:tab algn="l" pos="7167600"/>
                          <a:tab algn="l" pos="8191440"/>
                          <a:tab algn="l" pos="9215280"/>
                          <a:tab algn="l" pos="10239480"/>
                        </a:tabLst>
                      </a:pPr>
                      <a:r>
                        <a:rPr b="1" lang="ru-RU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Тип метода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102240" marR="102240">
                    <a:lnL w="5760">
                      <a:solidFill>
                        <a:srgbClr val="2086cb"/>
                      </a:solidFill>
                    </a:lnL>
                    <a:lnR w="5760">
                      <a:solidFill>
                        <a:srgbClr val="2086cb"/>
                      </a:solidFill>
                    </a:lnR>
                    <a:lnT w="5760">
                      <a:solidFill>
                        <a:srgbClr val="2086cb"/>
                      </a:solidFill>
                    </a:lnT>
                    <a:lnB w="5760">
                      <a:solidFill>
                        <a:srgbClr val="2086cb"/>
                      </a:solidFill>
                    </a:lnB>
                    <a:solidFill>
                      <a:srgbClr val="c9ddf4"/>
                    </a:solidFill>
                  </a:tcPr>
                </a:tc>
                <a:tc rowSpan="2">
                  <a:txBody>
                    <a:bodyPr lIns="102240" rIns="102240" tIns="51120" bIns="51120" anchor="ctr">
                      <a:noAutofit/>
                    </a:bodyPr>
                    <a:p>
                      <a:pPr marL="384120" indent="-384120" algn="ctr">
                        <a:lnSpc>
                          <a:spcPct val="100000"/>
                        </a:lnSpc>
                        <a:tabLst>
                          <a:tab algn="l" pos="0"/>
                          <a:tab algn="l" pos="1023840"/>
                          <a:tab algn="l" pos="2048040"/>
                          <a:tab algn="l" pos="3071880"/>
                          <a:tab algn="l" pos="4095720"/>
                          <a:tab algn="l" pos="5119560"/>
                          <a:tab algn="l" pos="6143760"/>
                          <a:tab algn="l" pos="7167600"/>
                          <a:tab algn="l" pos="8191440"/>
                          <a:tab algn="l" pos="9215280"/>
                          <a:tab algn="l" pos="10239480"/>
                        </a:tabLst>
                      </a:pPr>
                      <a:r>
                        <a:rPr b="1" lang="ru-RU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Мет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102240" marR="102240">
                    <a:lnL w="5760">
                      <a:solidFill>
                        <a:srgbClr val="2086cb"/>
                      </a:solidFill>
                    </a:lnL>
                    <a:lnR w="5760">
                      <a:solidFill>
                        <a:srgbClr val="2086cb"/>
                      </a:solidFill>
                    </a:lnR>
                    <a:lnT w="5760">
                      <a:solidFill>
                        <a:srgbClr val="2086cb"/>
                      </a:solidFill>
                    </a:lnT>
                    <a:lnB w="5760">
                      <a:solidFill>
                        <a:srgbClr val="2086cb"/>
                      </a:solidFill>
                    </a:lnB>
                    <a:solidFill>
                      <a:srgbClr val="c9ddf4"/>
                    </a:solidFill>
                  </a:tcPr>
                </a:tc>
                <a:tc rowSpan="2">
                  <a:txBody>
                    <a:bodyPr lIns="102240" rIns="102240" tIns="51120" bIns="51120" anchor="ctr">
                      <a:noAutofit/>
                    </a:bodyPr>
                    <a:p>
                      <a:pPr marL="384120" indent="-384120" algn="ctr">
                        <a:lnSpc>
                          <a:spcPct val="100000"/>
                        </a:lnSpc>
                        <a:tabLst>
                          <a:tab algn="l" pos="0"/>
                          <a:tab algn="l" pos="1023840"/>
                          <a:tab algn="l" pos="2048040"/>
                          <a:tab algn="l" pos="3071880"/>
                          <a:tab algn="l" pos="4095720"/>
                          <a:tab algn="l" pos="5119560"/>
                          <a:tab algn="l" pos="6143760"/>
                          <a:tab algn="l" pos="7167600"/>
                          <a:tab algn="l" pos="8191440"/>
                          <a:tab algn="l" pos="9215280"/>
                          <a:tab algn="l" pos="10239480"/>
                        </a:tabLst>
                      </a:pPr>
                      <a:r>
                        <a:rPr b="1" lang="ru-RU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Стерилизующий аген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102240" marR="102240">
                    <a:lnL w="5760">
                      <a:solidFill>
                        <a:srgbClr val="2086cb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2086cb"/>
                      </a:solidFill>
                    </a:lnT>
                    <a:lnB w="5760">
                      <a:solidFill>
                        <a:srgbClr val="2086cb"/>
                      </a:solidFill>
                    </a:lnB>
                    <a:solidFill>
                      <a:srgbClr val="c9ddf4"/>
                    </a:solidFill>
                  </a:tcPr>
                </a:tc>
                <a:tc>
                  <a:txBody>
                    <a:bodyPr lIns="102240" rIns="102240" tIns="51120" bIns="51120" anchor="ctr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1023840"/>
                          <a:tab algn="l" pos="2048040"/>
                          <a:tab algn="l" pos="3071880"/>
                          <a:tab algn="l" pos="4095720"/>
                          <a:tab algn="l" pos="5119560"/>
                          <a:tab algn="l" pos="6143760"/>
                          <a:tab algn="l" pos="7167600"/>
                          <a:tab algn="l" pos="8191440"/>
                          <a:tab algn="l" pos="9215280"/>
                          <a:tab algn="l" pos="1023948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102240" marR="10224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0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2240" rIns="102240" tIns="51120" bIns="51120" anchor="ctr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1023840"/>
                          <a:tab algn="l" pos="2048040"/>
                          <a:tab algn="l" pos="3071880"/>
                          <a:tab algn="l" pos="4095720"/>
                          <a:tab algn="l" pos="5119560"/>
                          <a:tab algn="l" pos="6143760"/>
                          <a:tab algn="l" pos="7167600"/>
                          <a:tab algn="l" pos="8191440"/>
                          <a:tab algn="l" pos="9215280"/>
                          <a:tab algn="l" pos="1023948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102240" marR="102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400">
                <a:tc rowSpan="4">
                  <a:txBody>
                    <a:bodyPr lIns="102240" rIns="102240" tIns="51120" bIns="51120" anchor="ctr">
                      <a:noAutofit/>
                    </a:bodyPr>
                    <a:p>
                      <a:pPr marL="384120" indent="-384120" algn="ctr">
                        <a:lnSpc>
                          <a:spcPct val="100000"/>
                        </a:lnSpc>
                        <a:tabLst>
                          <a:tab algn="l" pos="0"/>
                          <a:tab algn="l" pos="1023840"/>
                          <a:tab algn="l" pos="2048040"/>
                          <a:tab algn="l" pos="3071880"/>
                          <a:tab algn="l" pos="4095720"/>
                          <a:tab algn="l" pos="5119560"/>
                          <a:tab algn="l" pos="6143760"/>
                          <a:tab algn="l" pos="7167600"/>
                          <a:tab algn="l" pos="8191440"/>
                          <a:tab algn="l" pos="9215280"/>
                          <a:tab algn="l" pos="10239480"/>
                        </a:tabLst>
                      </a:pPr>
                      <a:r>
                        <a:rPr b="1" lang="ru-RU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Физический (термический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102240" marR="102240">
                    <a:lnL w="5760">
                      <a:solidFill>
                        <a:srgbClr val="2086cb"/>
                      </a:solidFill>
                    </a:lnL>
                    <a:lnR w="5760">
                      <a:solidFill>
                        <a:srgbClr val="2086cb"/>
                      </a:solidFill>
                    </a:lnR>
                    <a:lnT w="5760">
                      <a:solidFill>
                        <a:srgbClr val="2086cb"/>
                      </a:solidFill>
                    </a:lnT>
                    <a:lnB w="5760">
                      <a:solidFill>
                        <a:srgbClr val="2086cb"/>
                      </a:solidFill>
                    </a:lnB>
                    <a:solidFill>
                      <a:srgbClr val="c9ddf4"/>
                    </a:solidFill>
                  </a:tcPr>
                </a:tc>
                <a:tc>
                  <a:txBody>
                    <a:bodyPr lIns="102240" rIns="102240" tIns="51120" bIns="51120" anchor="t">
                      <a:noAutofit/>
                    </a:bodyPr>
                    <a:p>
                      <a:pPr marL="384120" indent="-384120" algn="ctr">
                        <a:lnSpc>
                          <a:spcPct val="100000"/>
                        </a:lnSpc>
                        <a:tabLst>
                          <a:tab algn="l" pos="0"/>
                          <a:tab algn="l" pos="1023840"/>
                          <a:tab algn="l" pos="2048040"/>
                          <a:tab algn="l" pos="3071880"/>
                          <a:tab algn="l" pos="4095720"/>
                          <a:tab algn="l" pos="5119560"/>
                          <a:tab algn="l" pos="6143760"/>
                          <a:tab algn="l" pos="7167600"/>
                          <a:tab algn="l" pos="8191440"/>
                          <a:tab algn="l" pos="9215280"/>
                          <a:tab algn="l" pos="1023948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арово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102240" marR="102240">
                    <a:lnL w="5760">
                      <a:solidFill>
                        <a:srgbClr val="2086cb"/>
                      </a:solidFill>
                    </a:lnL>
                    <a:lnR w="5760">
                      <a:solidFill>
                        <a:srgbClr val="2086cb"/>
                      </a:solidFill>
                    </a:lnR>
                    <a:lnT w="5760">
                      <a:solidFill>
                        <a:srgbClr val="2086cb"/>
                      </a:solidFill>
                    </a:lnT>
                    <a:lnB w="5760">
                      <a:solidFill>
                        <a:srgbClr val="2086cb"/>
                      </a:solidFill>
                    </a:lnB>
                    <a:noFill/>
                  </a:tcPr>
                </a:tc>
                <a:tc>
                  <a:txBody>
                    <a:bodyPr lIns="102240" rIns="102240" tIns="51120" bIns="51120" anchor="t">
                      <a:noAutofit/>
                    </a:bodyPr>
                    <a:p>
                      <a:pPr marL="384120" indent="-384120" algn="ctr">
                        <a:lnSpc>
                          <a:spcPct val="100000"/>
                        </a:lnSpc>
                        <a:tabLst>
                          <a:tab algn="l" pos="0"/>
                          <a:tab algn="l" pos="1023840"/>
                          <a:tab algn="l" pos="2048040"/>
                          <a:tab algn="l" pos="3071880"/>
                          <a:tab algn="l" pos="4095720"/>
                          <a:tab algn="l" pos="5119560"/>
                          <a:tab algn="l" pos="6143760"/>
                          <a:tab algn="l" pos="7167600"/>
                          <a:tab algn="l" pos="8191440"/>
                          <a:tab algn="l" pos="9215280"/>
                          <a:tab algn="l" pos="1023948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одяной насыщенный пар под избыточным давление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102240" marR="102240">
                    <a:lnL w="5760">
                      <a:solidFill>
                        <a:srgbClr val="2086cb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2086cb"/>
                      </a:solidFill>
                    </a:lnT>
                    <a:lnB w="5760">
                      <a:solidFill>
                        <a:srgbClr val="2086cb"/>
                      </a:solidFill>
                    </a:lnB>
                    <a:noFill/>
                  </a:tcPr>
                </a:tc>
                <a:tc>
                  <a:txBody>
                    <a:bodyPr lIns="102240" rIns="102240" tIns="51120" bIns="51120" anchor="ctr">
                      <a:noAutofit/>
                    </a:bodyPr>
                    <a:p>
                      <a:pPr marL="384120" indent="-384120">
                        <a:tabLst>
                          <a:tab algn="l" pos="0"/>
                          <a:tab algn="l" pos="1023840"/>
                          <a:tab algn="l" pos="2048040"/>
                          <a:tab algn="l" pos="3071880"/>
                          <a:tab algn="l" pos="4095720"/>
                          <a:tab algn="l" pos="5119560"/>
                          <a:tab algn="l" pos="6143760"/>
                          <a:tab algn="l" pos="7167600"/>
                          <a:tab algn="l" pos="8191440"/>
                          <a:tab algn="l" pos="9215280"/>
                          <a:tab algn="l" pos="102394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102240" marR="10224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9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2240" rIns="102240" tIns="51120" bIns="51120" anchor="t">
                      <a:noAutofit/>
                    </a:bodyPr>
                    <a:p>
                      <a:pPr marL="384120" indent="-384120" algn="ctr">
                        <a:lnSpc>
                          <a:spcPct val="100000"/>
                        </a:lnSpc>
                        <a:tabLst>
                          <a:tab algn="l" pos="0"/>
                          <a:tab algn="l" pos="1023840"/>
                          <a:tab algn="l" pos="2048040"/>
                          <a:tab algn="l" pos="3071880"/>
                          <a:tab algn="l" pos="4095720"/>
                          <a:tab algn="l" pos="5119560"/>
                          <a:tab algn="l" pos="6143760"/>
                          <a:tab algn="l" pos="7167600"/>
                          <a:tab algn="l" pos="8191440"/>
                          <a:tab algn="l" pos="9215280"/>
                          <a:tab algn="l" pos="1023948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оздушн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102240" marR="102240">
                    <a:lnL w="5760">
                      <a:solidFill>
                        <a:srgbClr val="2086cb"/>
                      </a:solidFill>
                    </a:lnL>
                    <a:lnR w="5760">
                      <a:solidFill>
                        <a:srgbClr val="2086cb"/>
                      </a:solidFill>
                    </a:lnR>
                    <a:lnT w="5760">
                      <a:solidFill>
                        <a:srgbClr val="2086cb"/>
                      </a:solidFill>
                    </a:lnT>
                    <a:lnB w="5760">
                      <a:solidFill>
                        <a:srgbClr val="2086cb"/>
                      </a:solidFill>
                    </a:lnB>
                    <a:noFill/>
                  </a:tcPr>
                </a:tc>
                <a:tc>
                  <a:txBody>
                    <a:bodyPr lIns="102240" rIns="102240" tIns="51120" bIns="51120" anchor="t">
                      <a:noAutofit/>
                    </a:bodyPr>
                    <a:p>
                      <a:pPr marL="384120" indent="-384120" algn="ctr">
                        <a:lnSpc>
                          <a:spcPct val="100000"/>
                        </a:lnSpc>
                        <a:tabLst>
                          <a:tab algn="l" pos="0"/>
                          <a:tab algn="l" pos="1023840"/>
                          <a:tab algn="l" pos="2048040"/>
                          <a:tab algn="l" pos="3071880"/>
                          <a:tab algn="l" pos="4095720"/>
                          <a:tab algn="l" pos="5119560"/>
                          <a:tab algn="l" pos="6143760"/>
                          <a:tab algn="l" pos="7167600"/>
                          <a:tab algn="l" pos="8191440"/>
                          <a:tab algn="l" pos="9215280"/>
                          <a:tab algn="l" pos="1023948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ухой горячий возду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102240" marR="102240">
                    <a:lnL w="5760">
                      <a:solidFill>
                        <a:srgbClr val="2086cb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2086cb"/>
                      </a:solidFill>
                    </a:lnT>
                    <a:lnB w="5760">
                      <a:solidFill>
                        <a:srgbClr val="2086cb"/>
                      </a:solidFill>
                    </a:lnB>
                    <a:noFill/>
                  </a:tcPr>
                </a:tc>
                <a:tc>
                  <a:txBody>
                    <a:bodyPr lIns="102240" rIns="102240" tIns="51120" bIns="51120" anchor="ctr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1023840"/>
                          <a:tab algn="l" pos="2048040"/>
                          <a:tab algn="l" pos="3071880"/>
                          <a:tab algn="l" pos="4095720"/>
                          <a:tab algn="l" pos="5119560"/>
                          <a:tab algn="l" pos="6143760"/>
                          <a:tab algn="l" pos="7167600"/>
                          <a:tab algn="l" pos="8191440"/>
                          <a:tab algn="l" pos="9215280"/>
                          <a:tab algn="l" pos="1023948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102240" marR="10224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0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2240" rIns="102240" tIns="51120" bIns="51120" anchor="t">
                      <a:noAutofit/>
                    </a:bodyPr>
                    <a:p>
                      <a:pPr marL="384120" indent="-384120" algn="ctr">
                        <a:lnSpc>
                          <a:spcPct val="100000"/>
                        </a:lnSpc>
                        <a:tabLst>
                          <a:tab algn="l" pos="0"/>
                          <a:tab algn="l" pos="1023840"/>
                          <a:tab algn="l" pos="2048040"/>
                          <a:tab algn="l" pos="3071880"/>
                          <a:tab algn="l" pos="4095720"/>
                          <a:tab algn="l" pos="5119560"/>
                          <a:tab algn="l" pos="6143760"/>
                          <a:tab algn="l" pos="7167600"/>
                          <a:tab algn="l" pos="8191440"/>
                          <a:tab algn="l" pos="9215280"/>
                          <a:tab algn="l" pos="1023948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нфракрасн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102240" marR="102240">
                    <a:lnL w="5760">
                      <a:solidFill>
                        <a:srgbClr val="2086cb"/>
                      </a:solidFill>
                    </a:lnL>
                    <a:lnR w="5760">
                      <a:solidFill>
                        <a:srgbClr val="2086cb"/>
                      </a:solidFill>
                    </a:lnR>
                    <a:lnT w="5760">
                      <a:solidFill>
                        <a:srgbClr val="2086cb"/>
                      </a:solidFill>
                    </a:lnT>
                    <a:lnB w="5760">
                      <a:solidFill>
                        <a:srgbClr val="2086cb"/>
                      </a:solidFill>
                    </a:lnB>
                    <a:noFill/>
                  </a:tcPr>
                </a:tc>
                <a:tc>
                  <a:txBody>
                    <a:bodyPr lIns="102240" rIns="102240" tIns="51120" bIns="51120" anchor="t">
                      <a:noAutofit/>
                    </a:bodyPr>
                    <a:p>
                      <a:pPr marL="384120" indent="-384120" algn="ctr">
                        <a:lnSpc>
                          <a:spcPct val="100000"/>
                        </a:lnSpc>
                        <a:tabLst>
                          <a:tab algn="l" pos="0"/>
                          <a:tab algn="l" pos="1023840"/>
                          <a:tab algn="l" pos="2048040"/>
                          <a:tab algn="l" pos="3071880"/>
                          <a:tab algn="l" pos="4095720"/>
                          <a:tab algn="l" pos="5119560"/>
                          <a:tab algn="l" pos="6143760"/>
                          <a:tab algn="l" pos="7167600"/>
                          <a:tab algn="l" pos="8191440"/>
                          <a:tab algn="l" pos="9215280"/>
                          <a:tab algn="l" pos="1023948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нфракрасное излуче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102240" marR="102240">
                    <a:lnL w="5760">
                      <a:solidFill>
                        <a:srgbClr val="2086cb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2086cb"/>
                      </a:solidFill>
                    </a:lnT>
                    <a:lnB w="5760">
                      <a:solidFill>
                        <a:srgbClr val="2086cb"/>
                      </a:solidFill>
                    </a:lnB>
                    <a:noFill/>
                  </a:tcPr>
                </a:tc>
                <a:tc>
                  <a:txBody>
                    <a:bodyPr lIns="102240" rIns="102240" tIns="51120" bIns="51120" anchor="ctr">
                      <a:noAutofit/>
                    </a:bodyPr>
                    <a:p>
                      <a:pPr marL="384120" indent="-384120">
                        <a:tabLst>
                          <a:tab algn="l" pos="0"/>
                          <a:tab algn="l" pos="1023840"/>
                          <a:tab algn="l" pos="2048040"/>
                          <a:tab algn="l" pos="3071880"/>
                          <a:tab algn="l" pos="4095720"/>
                          <a:tab algn="l" pos="5119560"/>
                          <a:tab algn="l" pos="6143760"/>
                          <a:tab algn="l" pos="7167600"/>
                          <a:tab algn="l" pos="8191440"/>
                          <a:tab algn="l" pos="9215280"/>
                          <a:tab algn="l" pos="102394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102240" marR="10224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2240" rIns="102240" tIns="51120" bIns="51120" anchor="t">
                      <a:noAutofit/>
                    </a:bodyPr>
                    <a:p>
                      <a:pPr marL="384120" indent="-384120" algn="ctr">
                        <a:lnSpc>
                          <a:spcPct val="100000"/>
                        </a:lnSpc>
                        <a:tabLst>
                          <a:tab algn="l" pos="0"/>
                          <a:tab algn="l" pos="1023840"/>
                          <a:tab algn="l" pos="2048040"/>
                          <a:tab algn="l" pos="3071880"/>
                          <a:tab algn="l" pos="4095720"/>
                          <a:tab algn="l" pos="5119560"/>
                          <a:tab algn="l" pos="6143760"/>
                          <a:tab algn="l" pos="7167600"/>
                          <a:tab algn="l" pos="8191440"/>
                          <a:tab algn="l" pos="9215280"/>
                          <a:tab algn="l" pos="1023948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Гласперленов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102240" marR="102240">
                    <a:lnL w="5760">
                      <a:solidFill>
                        <a:srgbClr val="2086cb"/>
                      </a:solidFill>
                    </a:lnL>
                    <a:lnR w="5760">
                      <a:solidFill>
                        <a:srgbClr val="2086cb"/>
                      </a:solidFill>
                    </a:lnR>
                    <a:lnT w="5760">
                      <a:solidFill>
                        <a:srgbClr val="2086cb"/>
                      </a:solidFill>
                    </a:lnT>
                    <a:lnB w="5760">
                      <a:solidFill>
                        <a:srgbClr val="2086cb"/>
                      </a:solidFill>
                    </a:lnB>
                    <a:noFill/>
                  </a:tcPr>
                </a:tc>
                <a:tc>
                  <a:txBody>
                    <a:bodyPr lIns="102240" rIns="102240" tIns="51120" bIns="51120" anchor="t">
                      <a:noAutofit/>
                    </a:bodyPr>
                    <a:p>
                      <a:pPr marL="384120" indent="-384120" algn="ctr">
                        <a:lnSpc>
                          <a:spcPct val="100000"/>
                        </a:lnSpc>
                        <a:tabLst>
                          <a:tab algn="l" pos="0"/>
                          <a:tab algn="l" pos="1023840"/>
                          <a:tab algn="l" pos="2048040"/>
                          <a:tab algn="l" pos="3071880"/>
                          <a:tab algn="l" pos="4095720"/>
                          <a:tab algn="l" pos="5119560"/>
                          <a:tab algn="l" pos="6143760"/>
                          <a:tab algn="l" pos="7167600"/>
                          <a:tab algn="l" pos="8191440"/>
                          <a:tab algn="l" pos="9215280"/>
                          <a:tab algn="l" pos="1023948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реда нагретых стеклянных шарик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102240" marR="102240">
                    <a:lnL w="5760">
                      <a:solidFill>
                        <a:srgbClr val="2086cb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2086cb"/>
                      </a:solidFill>
                    </a:lnT>
                    <a:lnB w="5760">
                      <a:solidFill>
                        <a:srgbClr val="2086cb"/>
                      </a:solidFill>
                    </a:lnB>
                    <a:noFill/>
                  </a:tcPr>
                </a:tc>
                <a:tc>
                  <a:txBody>
                    <a:bodyPr lIns="102240" rIns="102240" tIns="51120" bIns="51120" anchor="ctr">
                      <a:noAutofit/>
                    </a:bodyPr>
                    <a:p>
                      <a:pPr marL="384120" indent="-384120">
                        <a:tabLst>
                          <a:tab algn="l" pos="0"/>
                          <a:tab algn="l" pos="1023840"/>
                          <a:tab algn="l" pos="2048040"/>
                          <a:tab algn="l" pos="3071880"/>
                          <a:tab algn="l" pos="4095720"/>
                          <a:tab algn="l" pos="5119560"/>
                          <a:tab algn="l" pos="6143760"/>
                          <a:tab algn="l" pos="7167600"/>
                          <a:tab algn="l" pos="8191440"/>
                          <a:tab algn="l" pos="9215280"/>
                          <a:tab algn="l" pos="102394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102240" marR="102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400">
                <a:tc rowSpan="5">
                  <a:txBody>
                    <a:bodyPr lIns="102240" rIns="102240" tIns="51120" bIns="51120" anchor="ctr">
                      <a:noAutofit/>
                    </a:bodyPr>
                    <a:p>
                      <a:pPr marL="384120" indent="-384120" algn="ctr">
                        <a:lnSpc>
                          <a:spcPct val="100000"/>
                        </a:lnSpc>
                        <a:tabLst>
                          <a:tab algn="l" pos="0"/>
                          <a:tab algn="l" pos="1023840"/>
                          <a:tab algn="l" pos="2048040"/>
                          <a:tab algn="l" pos="3071880"/>
                          <a:tab algn="l" pos="4095720"/>
                          <a:tab algn="l" pos="5119560"/>
                          <a:tab algn="l" pos="6143760"/>
                          <a:tab algn="l" pos="7167600"/>
                          <a:tab algn="l" pos="8191440"/>
                          <a:tab algn="l" pos="9215280"/>
                          <a:tab algn="l" pos="10239480"/>
                        </a:tabLst>
                      </a:pPr>
                      <a:r>
                        <a:rPr b="1" lang="ru-RU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Химический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102240" marR="102240">
                    <a:lnL w="5760">
                      <a:solidFill>
                        <a:srgbClr val="2086cb"/>
                      </a:solidFill>
                    </a:lnL>
                    <a:lnR w="5760">
                      <a:solidFill>
                        <a:srgbClr val="2086cb"/>
                      </a:solidFill>
                    </a:lnR>
                    <a:lnT w="5760">
                      <a:solidFill>
                        <a:srgbClr val="2086cb"/>
                      </a:solidFill>
                    </a:lnT>
                    <a:lnB w="5760">
                      <a:solidFill>
                        <a:srgbClr val="2086cb"/>
                      </a:solidFill>
                    </a:lnB>
                    <a:solidFill>
                      <a:srgbClr val="c9ddf4"/>
                    </a:solidFill>
                  </a:tcPr>
                </a:tc>
                <a:tc rowSpan="3">
                  <a:txBody>
                    <a:bodyPr lIns="102240" rIns="102240" tIns="51120" bIns="51120" anchor="t">
                      <a:noAutofit/>
                    </a:bodyPr>
                    <a:p>
                      <a:pPr marL="384120" indent="-384120" algn="ctr">
                        <a:lnSpc>
                          <a:spcPct val="100000"/>
                        </a:lnSpc>
                        <a:tabLst>
                          <a:tab algn="l" pos="0"/>
                          <a:tab algn="l" pos="1023840"/>
                          <a:tab algn="l" pos="2048040"/>
                          <a:tab algn="l" pos="3071880"/>
                          <a:tab algn="l" pos="4095720"/>
                          <a:tab algn="l" pos="5119560"/>
                          <a:tab algn="l" pos="6143760"/>
                          <a:tab algn="l" pos="7167600"/>
                          <a:tab algn="l" pos="8191440"/>
                          <a:tab algn="l" pos="9215280"/>
                          <a:tab algn="l" pos="1023948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Газовый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102240" marR="102240">
                    <a:lnL w="5760">
                      <a:solidFill>
                        <a:srgbClr val="2086cb"/>
                      </a:solidFill>
                    </a:lnL>
                    <a:lnR w="5760">
                      <a:solidFill>
                        <a:srgbClr val="2086cb"/>
                      </a:solidFill>
                    </a:lnR>
                    <a:lnT w="5760">
                      <a:solidFill>
                        <a:srgbClr val="2086cb"/>
                      </a:solidFill>
                    </a:lnT>
                    <a:lnB w="5760">
                      <a:solidFill>
                        <a:srgbClr val="2086cb"/>
                      </a:solidFill>
                    </a:lnB>
                    <a:noFill/>
                  </a:tcPr>
                </a:tc>
                <a:tc>
                  <a:txBody>
                    <a:bodyPr lIns="102240" rIns="102240" tIns="51120" bIns="51120" anchor="t">
                      <a:noAutofit/>
                    </a:bodyPr>
                    <a:p>
                      <a:pPr marL="384120" indent="-384120" algn="ctr">
                        <a:lnSpc>
                          <a:spcPct val="100000"/>
                        </a:lnSpc>
                        <a:tabLst>
                          <a:tab algn="l" pos="0"/>
                          <a:tab algn="l" pos="1023840"/>
                          <a:tab algn="l" pos="2048040"/>
                          <a:tab algn="l" pos="3071880"/>
                          <a:tab algn="l" pos="4095720"/>
                          <a:tab algn="l" pos="5119560"/>
                          <a:tab algn="l" pos="6143760"/>
                          <a:tab algn="l" pos="7167600"/>
                          <a:tab algn="l" pos="8191440"/>
                          <a:tab algn="l" pos="9215280"/>
                          <a:tab algn="l" pos="1023948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кись этилена или ее смесь с другими компонентам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102240" marR="102240">
                    <a:lnL w="5760">
                      <a:solidFill>
                        <a:srgbClr val="2086cb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2086cb"/>
                      </a:solidFill>
                    </a:lnT>
                    <a:lnB w="5760">
                      <a:solidFill>
                        <a:srgbClr val="2086cb"/>
                      </a:solidFill>
                    </a:lnB>
                    <a:noFill/>
                  </a:tcPr>
                </a:tc>
                <a:tc>
                  <a:txBody>
                    <a:bodyPr lIns="102240" rIns="102240" tIns="51120" bIns="51120" anchor="ctr">
                      <a:noAutofit/>
                    </a:bodyPr>
                    <a:p>
                      <a:pPr marL="384120" indent="-384120">
                        <a:tabLst>
                          <a:tab algn="l" pos="0"/>
                          <a:tab algn="l" pos="1023840"/>
                          <a:tab algn="l" pos="2048040"/>
                          <a:tab algn="l" pos="3071880"/>
                          <a:tab algn="l" pos="4095720"/>
                          <a:tab algn="l" pos="5119560"/>
                          <a:tab algn="l" pos="6143760"/>
                          <a:tab algn="l" pos="7167600"/>
                          <a:tab algn="l" pos="8191440"/>
                          <a:tab algn="l" pos="9215280"/>
                          <a:tab algn="l" pos="102394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102240" marR="10224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2240" rIns="102240" tIns="51120" bIns="51120" anchor="t">
                      <a:noAutofit/>
                    </a:bodyPr>
                    <a:p>
                      <a:pPr marL="384120" indent="-384120" algn="ctr">
                        <a:lnSpc>
                          <a:spcPct val="100000"/>
                        </a:lnSpc>
                        <a:tabLst>
                          <a:tab algn="l" pos="0"/>
                          <a:tab algn="l" pos="1023840"/>
                          <a:tab algn="l" pos="2048040"/>
                          <a:tab algn="l" pos="3071880"/>
                          <a:tab algn="l" pos="4095720"/>
                          <a:tab algn="l" pos="5119560"/>
                          <a:tab algn="l" pos="6143760"/>
                          <a:tab algn="l" pos="7167600"/>
                          <a:tab algn="l" pos="8191440"/>
                          <a:tab algn="l" pos="9215280"/>
                          <a:tab algn="l" pos="1023948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кись этилена или ее смесь с другими компонентам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102240" marR="102240">
                    <a:lnL w="5760">
                      <a:solidFill>
                        <a:srgbClr val="2086cb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2086cb"/>
                      </a:solidFill>
                    </a:lnT>
                    <a:lnB w="5760">
                      <a:solidFill>
                        <a:srgbClr val="2086cb"/>
                      </a:solidFill>
                    </a:lnB>
                    <a:noFill/>
                  </a:tcPr>
                </a:tc>
                <a:tc>
                  <a:txBody>
                    <a:bodyPr lIns="102240" rIns="102240" tIns="51120" bIns="51120" anchor="ctr">
                      <a:noAutofit/>
                    </a:bodyPr>
                    <a:p>
                      <a:pPr marL="384120" indent="-384120">
                        <a:tabLst>
                          <a:tab algn="l" pos="0"/>
                          <a:tab algn="l" pos="1023840"/>
                          <a:tab algn="l" pos="2048040"/>
                          <a:tab algn="l" pos="3071880"/>
                          <a:tab algn="l" pos="4095720"/>
                          <a:tab algn="l" pos="5119560"/>
                          <a:tab algn="l" pos="6143760"/>
                          <a:tab algn="l" pos="7167600"/>
                          <a:tab algn="l" pos="8191440"/>
                          <a:tab algn="l" pos="9215280"/>
                          <a:tab algn="l" pos="102394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102240" marR="10224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0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2240" rIns="102240" tIns="51120" bIns="51120" anchor="t">
                      <a:noAutofit/>
                    </a:bodyPr>
                    <a:p>
                      <a:pPr marL="384120" indent="-384120" algn="ctr">
                        <a:lnSpc>
                          <a:spcPct val="100000"/>
                        </a:lnSpc>
                        <a:tabLst>
                          <a:tab algn="l" pos="0"/>
                          <a:tab algn="l" pos="1023840"/>
                          <a:tab algn="l" pos="2048040"/>
                          <a:tab algn="l" pos="3071880"/>
                          <a:tab algn="l" pos="4095720"/>
                          <a:tab algn="l" pos="5119560"/>
                          <a:tab algn="l" pos="6143760"/>
                          <a:tab algn="l" pos="7167600"/>
                          <a:tab algn="l" pos="8191440"/>
                          <a:tab algn="l" pos="9215280"/>
                          <a:tab algn="l" pos="1023948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кись этилена или ее смесь с другими компонентам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102240" marR="102240">
                    <a:lnL w="5760">
                      <a:solidFill>
                        <a:srgbClr val="2086cb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2086cb"/>
                      </a:solidFill>
                    </a:lnT>
                    <a:lnB w="5760">
                      <a:solidFill>
                        <a:srgbClr val="2086cb"/>
                      </a:solidFill>
                    </a:lnB>
                    <a:noFill/>
                  </a:tcPr>
                </a:tc>
                <a:tc>
                  <a:txBody>
                    <a:bodyPr lIns="102240" rIns="102240" tIns="51120" bIns="51120" anchor="ctr">
                      <a:noAutofit/>
                    </a:bodyPr>
                    <a:p>
                      <a:pPr marL="384120" indent="-384120">
                        <a:tabLst>
                          <a:tab algn="l" pos="0"/>
                          <a:tab algn="l" pos="1023840"/>
                          <a:tab algn="l" pos="2048040"/>
                          <a:tab algn="l" pos="3071880"/>
                          <a:tab algn="l" pos="4095720"/>
                          <a:tab algn="l" pos="5119560"/>
                          <a:tab algn="l" pos="6143760"/>
                          <a:tab algn="l" pos="7167600"/>
                          <a:tab algn="l" pos="8191440"/>
                          <a:tab algn="l" pos="9215280"/>
                          <a:tab algn="l" pos="102394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102240" marR="102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9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2240" rIns="102240" tIns="51120" bIns="51120" anchor="t">
                      <a:noAutofit/>
                    </a:bodyPr>
                    <a:p>
                      <a:pPr marL="384120" indent="-384120" algn="ctr">
                        <a:lnSpc>
                          <a:spcPct val="100000"/>
                        </a:lnSpc>
                        <a:tabLst>
                          <a:tab algn="l" pos="0"/>
                          <a:tab algn="l" pos="1023840"/>
                          <a:tab algn="l" pos="2048040"/>
                          <a:tab algn="l" pos="3071880"/>
                          <a:tab algn="l" pos="4095720"/>
                          <a:tab algn="l" pos="5119560"/>
                          <a:tab algn="l" pos="6143760"/>
                          <a:tab algn="l" pos="7167600"/>
                          <a:tab algn="l" pos="8191440"/>
                          <a:tab algn="l" pos="9215280"/>
                          <a:tab algn="l" pos="1023948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лазменный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102240" marR="102240">
                    <a:lnL w="5760">
                      <a:solidFill>
                        <a:srgbClr val="2086cb"/>
                      </a:solidFill>
                    </a:lnL>
                    <a:lnR w="5760">
                      <a:solidFill>
                        <a:srgbClr val="2086cb"/>
                      </a:solidFill>
                    </a:lnR>
                    <a:lnT w="5760">
                      <a:solidFill>
                        <a:srgbClr val="2086cb"/>
                      </a:solidFill>
                    </a:lnT>
                    <a:lnB w="5760">
                      <a:solidFill>
                        <a:srgbClr val="2086cb"/>
                      </a:solidFill>
                    </a:lnB>
                    <a:noFill/>
                  </a:tcPr>
                </a:tc>
                <a:tc>
                  <a:txBody>
                    <a:bodyPr lIns="102240" rIns="102240" tIns="51120" bIns="51120" anchor="t">
                      <a:noAutofit/>
                    </a:bodyPr>
                    <a:p>
                      <a:pPr marL="384120" indent="-384120" algn="ctr">
                        <a:lnSpc>
                          <a:spcPct val="100000"/>
                        </a:lnSpc>
                        <a:tabLst>
                          <a:tab algn="l" pos="0"/>
                          <a:tab algn="l" pos="1023840"/>
                          <a:tab algn="l" pos="2048040"/>
                          <a:tab algn="l" pos="3071880"/>
                          <a:tab algn="l" pos="4095720"/>
                          <a:tab algn="l" pos="5119560"/>
                          <a:tab algn="l" pos="6143760"/>
                          <a:tab algn="l" pos="7167600"/>
                          <a:tab algn="l" pos="8191440"/>
                          <a:tab algn="l" pos="9215280"/>
                          <a:tab algn="l" pos="1023948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ары перекиси водорода в сочетании с их низкотемпературной плазмо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102240" marR="102240">
                    <a:lnL w="5760">
                      <a:solidFill>
                        <a:srgbClr val="2086cb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2086cb"/>
                      </a:solidFill>
                    </a:lnT>
                    <a:lnB w="5760">
                      <a:solidFill>
                        <a:srgbClr val="2086cb"/>
                      </a:solidFill>
                    </a:lnB>
                    <a:noFill/>
                  </a:tcPr>
                </a:tc>
                <a:tc>
                  <a:txBody>
                    <a:bodyPr lIns="102240" rIns="102240" tIns="51120" bIns="51120" anchor="ctr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1023840"/>
                          <a:tab algn="l" pos="2048040"/>
                          <a:tab algn="l" pos="3071880"/>
                          <a:tab algn="l" pos="4095720"/>
                          <a:tab algn="l" pos="5119560"/>
                          <a:tab algn="l" pos="6143760"/>
                          <a:tab algn="l" pos="7167600"/>
                          <a:tab algn="l" pos="8191440"/>
                          <a:tab algn="l" pos="9215280"/>
                          <a:tab algn="l" pos="1023948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102240" marR="102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0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2240" rIns="102240" tIns="51120" bIns="51120" anchor="t">
                      <a:noAutofit/>
                    </a:bodyPr>
                    <a:p>
                      <a:pPr marL="384120" indent="-384120" algn="ctr">
                        <a:lnSpc>
                          <a:spcPct val="100000"/>
                        </a:lnSpc>
                        <a:tabLst>
                          <a:tab algn="l" pos="0"/>
                          <a:tab algn="l" pos="1023840"/>
                          <a:tab algn="l" pos="2048040"/>
                          <a:tab algn="l" pos="3071880"/>
                          <a:tab algn="l" pos="4095720"/>
                          <a:tab algn="l" pos="5119560"/>
                          <a:tab algn="l" pos="6143760"/>
                          <a:tab algn="l" pos="7167600"/>
                          <a:tab algn="l" pos="8191440"/>
                          <a:tab algn="l" pos="9215280"/>
                          <a:tab algn="l" pos="1023948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Жидкостный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102240" marR="102240">
                    <a:lnL w="5760">
                      <a:solidFill>
                        <a:srgbClr val="2086cb"/>
                      </a:solidFill>
                    </a:lnL>
                    <a:lnR w="5760">
                      <a:solidFill>
                        <a:srgbClr val="2086cb"/>
                      </a:solidFill>
                    </a:lnR>
                    <a:lnT w="5760">
                      <a:solidFill>
                        <a:srgbClr val="2086cb"/>
                      </a:solidFill>
                    </a:lnT>
                    <a:lnB w="5760">
                      <a:solidFill>
                        <a:srgbClr val="2086cb"/>
                      </a:solidFill>
                    </a:lnB>
                    <a:noFill/>
                  </a:tcPr>
                </a:tc>
                <a:tc>
                  <a:txBody>
                    <a:bodyPr lIns="102240" rIns="102240" tIns="51120" bIns="51120" anchor="t">
                      <a:noAutofit/>
                    </a:bodyPr>
                    <a:p>
                      <a:pPr marL="384120" indent="-384120" algn="ctr">
                        <a:lnSpc>
                          <a:spcPct val="100000"/>
                        </a:lnSpc>
                        <a:tabLst>
                          <a:tab algn="l" pos="0"/>
                          <a:tab algn="l" pos="1023840"/>
                          <a:tab algn="l" pos="2048040"/>
                          <a:tab algn="l" pos="3071880"/>
                          <a:tab algn="l" pos="4095720"/>
                          <a:tab algn="l" pos="5119560"/>
                          <a:tab algn="l" pos="6143760"/>
                          <a:tab algn="l" pos="7167600"/>
                          <a:tab algn="l" pos="8191440"/>
                          <a:tab algn="l" pos="9215280"/>
                          <a:tab algn="l" pos="1023948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астворы химических средств (альдегид-, кислород- и хлорсодержащие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102240" marR="102240">
                    <a:lnL w="5760">
                      <a:solidFill>
                        <a:srgbClr val="2086cb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2086cb"/>
                      </a:solidFill>
                    </a:lnT>
                    <a:lnB w="5760">
                      <a:solidFill>
                        <a:srgbClr val="2086cb"/>
                      </a:solidFill>
                    </a:lnB>
                    <a:noFill/>
                  </a:tcPr>
                </a:tc>
                <a:tc>
                  <a:txBody>
                    <a:bodyPr lIns="102240" rIns="102240" tIns="51120" bIns="51120" anchor="ctr">
                      <a:noAutofit/>
                    </a:bodyPr>
                    <a:p>
                      <a:pPr marL="384120" indent="-384120">
                        <a:tabLst>
                          <a:tab algn="l" pos="0"/>
                          <a:tab algn="l" pos="1023840"/>
                          <a:tab algn="l" pos="2048040"/>
                          <a:tab algn="l" pos="3071880"/>
                          <a:tab algn="l" pos="4095720"/>
                          <a:tab algn="l" pos="5119560"/>
                          <a:tab algn="l" pos="6143760"/>
                          <a:tab algn="l" pos="7167600"/>
                          <a:tab algn="l" pos="8191440"/>
                          <a:tab algn="l" pos="9215280"/>
                          <a:tab algn="l" pos="102394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102240" marR="102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4" name="Місце для нижнього колонтитула 1"/>
          <p:cNvSpPr/>
          <p:nvPr/>
        </p:nvSpPr>
        <p:spPr>
          <a:xfrm>
            <a:off x="3632040" y="7378560"/>
            <a:ext cx="3137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80880" y="687240"/>
            <a:ext cx="8443800" cy="903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b">
            <a:noAutofit/>
          </a:bodyPr>
          <a:p>
            <a:pPr indent="0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4900" spc="-1" strike="noStrike">
                <a:solidFill>
                  <a:srgbClr val="333399"/>
                </a:solidFill>
                <a:latin typeface="Tahoma"/>
              </a:rPr>
              <a:t>Термическая стерилизация</a:t>
            </a:r>
            <a:endParaRPr b="0" lang="en-US" sz="49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80880" y="2354040"/>
            <a:ext cx="8420040" cy="5646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 fontScale="96000"/>
          </a:bodyPr>
          <a:p>
            <a:pPr marL="368640" indent="-3686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Обжигание и кипячение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ff0000"/>
                </a:solidFill>
                <a:latin typeface="Tahoma"/>
              </a:rPr>
              <a:t>Обжигание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в настоящее время для стерилизации инструментов не используется. Метод можно применять в домашних условиях при невозможности использования других. Обжигание металлических инструментов проводится открытым пламенем. Обычно на металлический поднос кладут инструмент, наливают небольшое количество этилового спирта и поджигают его. 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ff0000"/>
                </a:solidFill>
                <a:latin typeface="Tahoma"/>
              </a:rPr>
              <a:t>Кипячение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долгое время было основным способом стерилизации инструментов, но в последнее время применяется редко, так как при этом методе достигается температура лишь в 100°С, что недостаточно для уничтожения спороносных бактерий. 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Инструменты кипятят в специальных электрических стерилизаторах различной емкости. Инструменты в раскрытом виде (шприцы в разобранном виде) укладывают на сетку и погружают в дистиллированную воду (возможно добавление гидрокарбоната натрия - до 2% раствора). 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Обычное время стерилизации - 30 минут с момента закипания.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632040" y="7378560"/>
            <a:ext cx="3137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0520" y="544320"/>
            <a:ext cx="7075440" cy="6872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b">
            <a:noAutofit/>
          </a:bodyPr>
          <a:p>
            <a:pPr indent="0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Tahoma"/>
              </a:rPr>
              <a:t>Термическая стерилизация</a:t>
            </a:r>
            <a:br>
              <a:rPr sz="3600"/>
            </a:br>
            <a:r>
              <a:rPr b="0" lang="ru-RU" sz="3600" spc="-1" strike="noStrike">
                <a:solidFill>
                  <a:srgbClr val="333399"/>
                </a:solidFill>
                <a:latin typeface="Tahoma"/>
              </a:rPr>
              <a:t>(паровой метод)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368160" y="1479240"/>
            <a:ext cx="6332760" cy="65214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 fontScale="97000"/>
          </a:bodyPr>
          <a:p>
            <a:pPr marL="372240" indent="-3722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Для достижения температур выше точки кипения воды пользуются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автоклавом.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Автоклав представляет собой установку для стерилизации паром под давлением. Температура насыщенного пара зависит от давления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72240" indent="-3722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Режимы работы автоклава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72240" indent="-3722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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132 °C — 2 атмосферы(2 кгс/см2) — 20 минут — основной режим. Стерилизуют все изделия (стекло, металл, текстиль, КРОМЕ РЕЗИНОВЫХ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72240" indent="-3722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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120 °C — 1,1 атмосфера(1,1 кгс/см2) — 45 минут — щадящий режим. (стекло, металл, резиновые изделия, полимерные изделия — согласно паспорту, текстиль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72240" indent="-3722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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110 °C — 0,5 атмосферы(0,5 кгс/см2) — 180 мин — особо щадящий режим(нестойкие препараты, питательные среды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0" name="Picture 4" descr="dgm_2___1"/>
          <p:cNvPicPr/>
          <p:nvPr/>
        </p:nvPicPr>
        <p:blipFill>
          <a:blip r:embed="rId1"/>
          <a:stretch/>
        </p:blipFill>
        <p:spPr>
          <a:xfrm>
            <a:off x="0" y="0"/>
            <a:ext cx="3770280" cy="60483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5" descr="good_img_small79132495246de62f447df1"/>
          <p:cNvPicPr/>
          <p:nvPr/>
        </p:nvPicPr>
        <p:blipFill>
          <a:blip r:embed="rId2"/>
          <a:stretch/>
        </p:blipFill>
        <p:spPr>
          <a:xfrm>
            <a:off x="272880" y="5440320"/>
            <a:ext cx="1873440" cy="1623960"/>
          </a:xfrm>
          <a:prstGeom prst="rect">
            <a:avLst/>
          </a:prstGeom>
          <a:ln w="0">
            <a:noFill/>
          </a:ln>
        </p:spPr>
      </p:pic>
      <p:sp>
        <p:nvSpPr>
          <p:cNvPr id="122" name="Rectangle 6"/>
          <p:cNvSpPr/>
          <p:nvPr/>
        </p:nvSpPr>
        <p:spPr>
          <a:xfrm>
            <a:off x="0" y="6769440"/>
            <a:ext cx="372888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Компактный переносной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автоклав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3632040" y="7378560"/>
            <a:ext cx="3137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1280880" y="2416320"/>
            <a:ext cx="8420040" cy="538632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Нередко удается достичь того же эффекта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дробной стерилизацией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 текучем паре при 100°С </a:t>
            </a:r>
            <a:r>
              <a:rPr b="0" lang="ru-RU" sz="2400" spc="-1" strike="noStrike">
                <a:solidFill>
                  <a:srgbClr val="ff0000"/>
                </a:solidFill>
                <a:latin typeface="Tahoma"/>
              </a:rPr>
              <a:t>(</a:t>
            </a:r>
            <a:r>
              <a:rPr b="1" lang="ru-RU" sz="2400" spc="-1" strike="noStrike" u="sng">
                <a:solidFill>
                  <a:srgbClr val="ff0000"/>
                </a:solidFill>
                <a:uFillTx/>
                <a:latin typeface="Tahoma"/>
              </a:rPr>
              <a:t>тиндализация</a:t>
            </a:r>
            <a:r>
              <a:rPr b="0" lang="ru-RU" sz="2400" spc="-1" strike="noStrike">
                <a:solidFill>
                  <a:srgbClr val="ff0000"/>
                </a:solidFill>
                <a:latin typeface="Tahoma"/>
              </a:rPr>
              <a:t>).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Жидкость стерилизуется в этом случае при 100°С три дня подряд по 30 мин ежедневно; в промежутках между нагреваниями ее хранят в термостате, для того чтобы споры проросли, а затем вегетативные клетки были уничтожены при следующем нагревании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84120" indent="-38412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Для многих целей довольствуются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частичной стерилизацией,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т.е. уничтожением </a:t>
            </a:r>
            <a:r>
              <a:rPr b="0" lang="ru-RU" sz="2400" spc="-1" strike="noStrike">
                <a:solidFill>
                  <a:srgbClr val="ff0000"/>
                </a:solidFill>
                <a:latin typeface="Tahoma"/>
              </a:rPr>
              <a:t>вегетативных форм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микроорганизмов. Такого эффекта обычно достигают путем </a:t>
            </a: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пастеризации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- выдерживания в течение 5-10 мин при 75 или 80°С. Пастеризацией частично стерилизуют, в частности, молоко, вина. Применяют два метода пастеризации : кратковременное нагревание (20 с при 71,5-74°С) и сильное нагревание (2-5 с при 85-87°С)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1461960" y="686880"/>
            <a:ext cx="8444160" cy="8319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b">
            <a:noAutofit/>
          </a:bodyPr>
          <a:p>
            <a:pPr indent="0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4500" spc="-1" strike="noStrike">
                <a:solidFill>
                  <a:srgbClr val="333399"/>
                </a:solidFill>
                <a:latin typeface="Tahoma"/>
              </a:rPr>
              <a:t>Термическая стерилизация</a:t>
            </a: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632040" y="7378560"/>
            <a:ext cx="3137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07800" y="687240"/>
            <a:ext cx="8443800" cy="75888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b">
            <a:noAutofit/>
          </a:bodyPr>
          <a:p>
            <a:pPr indent="0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4500" spc="-1" strike="noStrike">
                <a:solidFill>
                  <a:srgbClr val="333399"/>
                </a:solidFill>
                <a:latin typeface="Tahoma"/>
              </a:rPr>
              <a:t>Термическая стерилизация</a:t>
            </a:r>
            <a:br>
              <a:rPr sz="4500"/>
            </a:br>
            <a:r>
              <a:rPr b="0" lang="ru-RU" sz="4500" spc="-1" strike="noStrike">
                <a:solidFill>
                  <a:srgbClr val="333399"/>
                </a:solidFill>
                <a:latin typeface="Tahoma"/>
              </a:rPr>
              <a:t>(воздушный метод)</a:t>
            </a: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72880" y="2776320"/>
            <a:ext cx="8420400" cy="4800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Сухой жар.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терилизация осуществляется в специальных аппаратах - сухо-жаровых шкафах-стерилизаторах. Стерилизация в сухожаровом шкафу происходит при помощи циркуляции внутри него горячего воздуха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84120" indent="-38412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ри стерилизации сухим жаром бактериальные споры переносят более высокие температуры и притом дольше, чем при стерилизации влажным жаром. Поэтому жаростойкую стеклянную посуду, порошки, масла и т. п. стерилизуют в течение 1 часа при температуре 180°С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84120" indent="-38412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терилизация в автоклаве и сухожаровом шкафу в настоящее время является главным, наиболее надежным способом стерилизации хирургических инструментов, стеклянной посуды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9" name="Picture 4" descr="23417273"/>
          <p:cNvPicPr/>
          <p:nvPr/>
        </p:nvPicPr>
        <p:blipFill>
          <a:blip r:embed="rId1"/>
          <a:stretch/>
        </p:blipFill>
        <p:spPr>
          <a:xfrm>
            <a:off x="7353360" y="831960"/>
            <a:ext cx="2552760" cy="2232000"/>
          </a:xfrm>
          <a:prstGeom prst="rect">
            <a:avLst/>
          </a:prstGeom>
          <a:ln w="0">
            <a:noFill/>
          </a:ln>
        </p:spPr>
      </p:pic>
      <p:sp>
        <p:nvSpPr>
          <p:cNvPr id="130" name="Місце для нижнього колонтитула 1"/>
          <p:cNvSpPr/>
          <p:nvPr/>
        </p:nvSpPr>
        <p:spPr>
          <a:xfrm>
            <a:off x="3632040" y="7378560"/>
            <a:ext cx="3137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45960" y="720360"/>
            <a:ext cx="8443800" cy="6872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b">
            <a:noAutofit/>
          </a:bodyPr>
          <a:p>
            <a:pPr indent="0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4500" spc="-1" strike="noStrike">
                <a:solidFill>
                  <a:srgbClr val="333399"/>
                </a:solidFill>
                <a:latin typeface="Tahoma"/>
              </a:rPr>
              <a:t>Термическая стерилизация</a:t>
            </a:r>
            <a:br>
              <a:rPr sz="4500"/>
            </a:br>
            <a:r>
              <a:rPr b="0" lang="ru-RU" sz="4500" spc="-1" strike="noStrike">
                <a:solidFill>
                  <a:srgbClr val="333399"/>
                </a:solidFill>
                <a:latin typeface="Tahoma"/>
              </a:rPr>
              <a:t>(гласперленовый метод)</a:t>
            </a: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649600" y="1696680"/>
            <a:ext cx="7051680" cy="63039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 fontScale="99000"/>
          </a:bodyPr>
          <a:p>
            <a:pPr marL="380160" indent="-38016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ринцип действия гласперленового стерилизатора основан на приведении стерилизуемых хирургических инструментов в контакт с маленькими стеклянными сферами, имеющими температуру 250С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80160" indent="-38016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Стерилизатор предназначен для быстрой стерилизации цельнометаллических, не имеющих полостей, каналов и замковых частей, стоматологических и других медицинских инструментов и приспособлений в среде нагретых до температуры 190-290ºС стеклянных шариков при полном погружении в них мелких изделий, а также рабочих частей более крупных изделий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80160" indent="-38016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Стерилизация инструмента производится в течение очень короткого времени — не более 20 секунд. Благодаря такому короткому периоду и неразрушающему воздействию стерилизационных (глассперленовых) шариков на инструмент, негативное влияние высокой температуры практически отсутствует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80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80160" indent="-38016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Всего за 5 секунд стерилизует: щипцы, клещи, скальпель-держатели, зонды, шпатели, долота, зубила, алмазы, файлы, боры, корневые элеваторы, расширители, угловые наконечники, иглодержатели, пинцеты, десневые ножницы и т.д.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3" name="Picture 8" descr="glasperlen-1"/>
          <p:cNvPicPr/>
          <p:nvPr/>
        </p:nvPicPr>
        <p:blipFill>
          <a:blip r:embed="rId1"/>
          <a:stretch/>
        </p:blipFill>
        <p:spPr>
          <a:xfrm>
            <a:off x="0" y="3855960"/>
            <a:ext cx="2552760" cy="39528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0" descr="tSHARIKI_thm"/>
          <p:cNvPicPr/>
          <p:nvPr/>
        </p:nvPicPr>
        <p:blipFill>
          <a:blip r:embed="rId2"/>
          <a:stretch/>
        </p:blipFill>
        <p:spPr>
          <a:xfrm>
            <a:off x="272880" y="1913040"/>
            <a:ext cx="1905120" cy="1904760"/>
          </a:xfrm>
          <a:prstGeom prst="rect">
            <a:avLst/>
          </a:prstGeom>
          <a:ln w="0">
            <a:noFill/>
          </a:ln>
        </p:spPr>
      </p:pic>
      <p:sp>
        <p:nvSpPr>
          <p:cNvPr id="135" name="Місце для нижнього колонтитула 1"/>
          <p:cNvSpPr/>
          <p:nvPr/>
        </p:nvSpPr>
        <p:spPr>
          <a:xfrm>
            <a:off x="3632040" y="7378560"/>
            <a:ext cx="3137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45960" y="720720"/>
            <a:ext cx="8443800" cy="13334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b">
            <a:noAutofit/>
          </a:bodyPr>
          <a:p>
            <a:pPr indent="0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4500" spc="-1" strike="noStrike">
                <a:solidFill>
                  <a:srgbClr val="333399"/>
                </a:solidFill>
                <a:latin typeface="Tahoma"/>
              </a:rPr>
              <a:t>Термическая стерилизация</a:t>
            </a:r>
            <a:br>
              <a:rPr sz="4500"/>
            </a:br>
            <a:r>
              <a:rPr b="0" lang="ru-RU" sz="4500" spc="-1" strike="noStrike">
                <a:solidFill>
                  <a:srgbClr val="333399"/>
                </a:solidFill>
                <a:latin typeface="Tahoma"/>
              </a:rPr>
              <a:t>(инфракрасный метод)</a:t>
            </a: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736880" y="2055960"/>
            <a:ext cx="4964040" cy="5945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Малогабаритный стерилизатор предназначен для стерилизации стоматологических и микрохирургических инструментов из металлов в условиях госпиталей, поликлиник, больниц и других лечебных и косметологических учреждений. Стерилизация осуществляется инфракрасным мощным кратковременным тепловым воздействием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8" name="Picture 4" descr="004d8fa54fb380f93089f1a33b937312"/>
          <p:cNvPicPr/>
          <p:nvPr/>
        </p:nvPicPr>
        <p:blipFill>
          <a:blip r:embed="rId1"/>
          <a:stretch/>
        </p:blipFill>
        <p:spPr>
          <a:xfrm>
            <a:off x="0" y="1984320"/>
            <a:ext cx="4762440" cy="4248360"/>
          </a:xfrm>
          <a:prstGeom prst="rect">
            <a:avLst/>
          </a:prstGeom>
          <a:ln w="0">
            <a:noFill/>
          </a:ln>
        </p:spPr>
      </p:pic>
      <p:sp>
        <p:nvSpPr>
          <p:cNvPr id="139" name="Місце для нижнього колонтитула 1"/>
          <p:cNvSpPr/>
          <p:nvPr/>
        </p:nvSpPr>
        <p:spPr>
          <a:xfrm>
            <a:off x="3632040" y="7378560"/>
            <a:ext cx="3137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Серафима</dc:creator>
  <dc:description/>
  <dc:language>en-US</dc:language>
  <cp:lastModifiedBy>LEGION</cp:lastModifiedBy>
  <dcterms:modified xsi:type="dcterms:W3CDTF">2015-12-31T12:50:46Z</dcterms:modified>
  <cp:revision>156</cp:revision>
  <dc:subject/>
  <dc:title>Методы стерилизации и дезинфекции</dc:title>
</cp:coreProperties>
</file>