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907588" cy="80025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62DB-54DB-4712-8BDB-42A2B9F8CE57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ей называют полное уничтожение микроорганизмов и их спор на инструментах, посуде, медикаментах и т.д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езинфекцией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низкотемпературной стерилизации: газовый этиленоксидный, газовый формальдегидный и плазменны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Газовая стерилизация осуществляется в специальных герметичных камерах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аз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лазмен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й метод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растворами антисептиков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холодным способам стерилизации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онизирующи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ый метод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ультрафиолетовым излучением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 и дезинфекции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честве микропористого фильтрующего материала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Широкое применение находят микропористые фильтры на химико-фармацевтических заводах и при производстве вакцин и сывороток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етоды стерилизации, разрешенные для применения в ЛПУ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и кипячение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100"/>
            </a:b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Обычное время стерилизации - 30 минут с момента закипания. 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и кипячение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жигание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ипячение 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парово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автоклавом. 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омпактный переносной                      автоклав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дробной стерилизацией в текучем паре при 100°С (тиндализация).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частичной стерилизацией, т.е. уничтожением вегетативных форм микроорганизмов. Такого эффекта обычно достигают путем пастеризации 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воздуш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ухой жар. 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100"/>
            </a:b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(гласперленовый метод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гласперленов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2979720" y="514440"/>
            <a:ext cx="3184560" cy="257184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Термическая стерилизация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инфракрасный метод)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FDDEF-4773-4211-843D-9B49CD1A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BA8-7D86-47F8-84B4-0A1C08362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D086-4EC6-42F2-A2FA-AE0F2EA1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C9455-93FB-4F2E-B202-6210363C1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E0EE2-4660-4CDB-AC5A-7811E532B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7DDBD-96EC-4430-97FC-431C8BF17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C089-F037-45AF-8E79-CBB76BC50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450E29-886E-4DF0-B2EB-E386D4E7F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539A4-08DB-4470-AAE4-98C2F35A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51610-A512-4A35-B2E6-42CDBCEE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9CA1A-E8BF-4D04-B399-D891D0A3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18DC-801D-4B45-8E3C-89DD2B0B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C6D6E-0C6F-425D-830D-BF3F5738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2283-92C3-42D2-BF78-B51CB5DAE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91CB9-0501-445C-8F71-031EF9E5E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BA909-0ABE-4D7C-B7BA-78A067C7A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12812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975000" y="23540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8088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412812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975000" y="4861440"/>
            <a:ext cx="271116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5D04-9B11-4549-A345-676805767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45EA-4FBA-45C7-BBBB-2B4F7283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B631-4FA3-462D-BC4D-4361D29D3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16DF4-62B1-432D-80DE-29441439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245960" y="720720"/>
            <a:ext cx="8443800" cy="618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6050-ADB2-4DB1-8818-3A543E3AE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3737-4007-437B-9A38-8DA73511F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595480" y="48614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EF5D-3B94-4556-B5D5-F05589217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595480" y="2354040"/>
            <a:ext cx="410868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80880" y="4861440"/>
            <a:ext cx="8420040" cy="2289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46AB-F8C6-4E77-A557-66C62B570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52520" y="1281240"/>
            <a:ext cx="474480" cy="5540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66880" y="1281240"/>
            <a:ext cx="355320" cy="55404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85720" y="1774800"/>
            <a:ext cx="459000" cy="55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87480" y="1774800"/>
            <a:ext cx="398520" cy="5526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38240" y="1689120"/>
            <a:ext cx="606240" cy="49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825480" y="1155600"/>
            <a:ext cx="34920" cy="12272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51120" bIns="5112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79520" y="2077920"/>
            <a:ext cx="8912160" cy="3672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240" rIns="102240" tIns="-14400" bIns="-14400" anchor="ctr">
            <a:noAutofit/>
          </a:bodyPr>
          <a:p>
            <a:pPr algn="ctr"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90720" y="737856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346520" y="737856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E1A6-D4AC-4658-A9AC-F2BCFC9F20BC}" type="slidenum">
              <a:rPr b="0" lang="ru-RU" sz="16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844720"/>
            <a:ext cx="9759600" cy="1226880"/>
            <a:chOff x="0" y="2844720"/>
            <a:chExt cx="9759600" cy="1226880"/>
          </a:xfrm>
        </p:grpSpPr>
        <p:grpSp>
          <p:nvGrpSpPr>
            <p:cNvPr id="49" name="Group 3"/>
            <p:cNvGrpSpPr/>
            <p:nvPr/>
          </p:nvGrpSpPr>
          <p:grpSpPr>
            <a:xfrm>
              <a:off x="316080" y="2970360"/>
              <a:ext cx="773640" cy="553320"/>
              <a:chOff x="316080" y="2970360"/>
              <a:chExt cx="773640" cy="55332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316080" y="2970360"/>
                <a:ext cx="475920" cy="5533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732600" y="2970360"/>
                <a:ext cx="357120" cy="55332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52160" y="3461040"/>
              <a:ext cx="801000" cy="552960"/>
              <a:chOff x="452160" y="3461040"/>
              <a:chExt cx="801000" cy="55296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52160" y="3461040"/>
                <a:ext cx="459000" cy="55296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853920" y="3461040"/>
                <a:ext cx="399240" cy="55296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6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3377520"/>
              <a:ext cx="606960" cy="49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87960" y="2844720"/>
              <a:ext cx="34200" cy="122688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42360" y="3802320"/>
              <a:ext cx="9417240" cy="64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7640" bIns="17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49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831960" indent="-320760"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2" marL="1279440" indent="-255600">
              <a:spcBef>
                <a:spcPts val="9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3" marL="1790640" indent="-255600">
              <a:spcBef>
                <a:spcPts val="901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4" marL="2301840" indent="-255600">
              <a:spcBef>
                <a:spcPts val="901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5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6" marL="2301840" indent="-255600">
              <a:spcBef>
                <a:spcPts val="901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1072800" y="7289640"/>
            <a:ext cx="20638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714480" y="7289640"/>
            <a:ext cx="313668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1c1c1c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429680" y="7289640"/>
            <a:ext cx="2063520" cy="5335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1AF5-6288-4FF3-A92B-6AFD6EDF0F32}" type="slidenum">
              <a:rPr b="0" lang="ru-RU" sz="16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Стерилиза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микроорганизмов и их спор на инструментах, посуде, медикаментах и т.д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Дезинфекцией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называют полное уничтожение патогенных микроорганизмов на объектах окружающей среды с помощью химических веществ - дезинфектант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мировой практике встречаются 3 основных метода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низкотемпературной стерил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: газовый этиленоксидный, газовый формальдегидный и плазменны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ahoma"/>
              </a:rPr>
              <a:t>Газовая стерилиз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существляется в специальных герметичных камерах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ующим агентом обычно являются: пары формалина (на дно камеры кладут таблетки формальдегида) или окись этилена. Инструменты, уложенные на сетку, считаются стерильными через 6-48 часов (в зависимости от компонентов газовой смеси и температуры в камере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личительной чертой метода является его минимальное отрицательное влияние на качество инструментария, в связи с чем способ используют прежде всего для стерилизации оптических, особо точных и дорогостоящих инструментов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аз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0" y="2415960"/>
            <a:ext cx="71136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пищевых продуктов, лекарственных препаратов и разного рода приборов, а также в лабораторной практике оправдало себя применение окиси этилена, которая убивает и вегетативные клетки, и споры, но действует только в том случае, если подвергаемые стерилизации материалы содержат некоторое количество (5-15%) воды. Окись этилена применяют в виде газовой смеси (с N2 или С02), в которой ее доля составляет от 2 до 5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тиленоксидный метод обеспечивает самый щадящий температурный режи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5" name="Picture 5" descr="formomat"/>
          <p:cNvPicPr/>
          <p:nvPr/>
        </p:nvPicPr>
        <p:blipFill>
          <a:blip r:embed="rId1"/>
          <a:stretch/>
        </p:blipFill>
        <p:spPr>
          <a:xfrm>
            <a:off x="7113600" y="2416320"/>
            <a:ext cx="2514600" cy="4176720"/>
          </a:xfrm>
          <a:prstGeom prst="rect">
            <a:avLst/>
          </a:prstGeom>
          <a:ln w="0">
            <a:noFill/>
          </a:ln>
        </p:spPr>
      </p:pic>
      <p:sp>
        <p:nvSpPr>
          <p:cNvPr id="14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плазмен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15800" y="1552680"/>
            <a:ext cx="7689960" cy="644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Плазме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зволяет создать биоцидную среду на основе водного раствора пероксида водорода, а также низкотемпературной плазмы (ионизированный газ, образующийся при низком давлен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о самый современный метод стерилизации, известный на сегодняшний день. Он позволяет стерилизовать любые медицинские изделия, от полых инструментов до кабелей, электроприборов,к которым в ряде случаев вообще не удается применить ни один из известных методов стерилиз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 этом методе после впрыскивания раствора перекиси водорода в стерилизационную камеру включается источник электромагнитного излучения частотой 13,56 Мгц, под воздействием которого одновременно происходит деление одной части молекул Н2О2 на две группы (ОН-), а другой части - на одну гидропероксильную группу (ООН-) и один атом водорода, сопровождающееся выделением видимого и ультрафиолетового излучения. В результате создается биоцидная среда, состоящая из молекул перекиси водорода, свободных радикалов и ультрафиолетового излуч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HMTS-80"/>
          <p:cNvPicPr/>
          <p:nvPr/>
        </p:nvPicPr>
        <p:blipFill>
          <a:blip r:embed="rId1"/>
          <a:stretch/>
        </p:blipFill>
        <p:spPr>
          <a:xfrm>
            <a:off x="0" y="2776680"/>
            <a:ext cx="2048040" cy="285732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4145040"/>
            <a:ext cx="9906120" cy="41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а образуется под воздействием сильного электромагнитного излучения в атмосфере паров перекиси водорода. При отключении электромагнитного поля свободные радикалы преобразуются в молекулы воды и кислорода, не оставляя никаких токсичных отходов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е время обработки в плазменном стерилизаторе – от 35 минут, рабочая температура – 36-60°С. Одно из основных преимуществ этого метода – отсутствие токсичных отходов, образуются только кислород и водный пар. Плазменная стерилизация уничтожает все формы и виды микроорганизмов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азменные стерилизаторы – перспективное оборудование, но для большинства российских медицинских учреждений слишком дорогостояще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Picture 4" descr="imagesCA03CC9V"/>
          <p:cNvPicPr/>
          <p:nvPr/>
        </p:nvPicPr>
        <p:blipFill>
          <a:blip r:embed="rId1"/>
          <a:stretch/>
        </p:blipFill>
        <p:spPr>
          <a:xfrm>
            <a:off x="1568520" y="0"/>
            <a:ext cx="6840360" cy="3816360"/>
          </a:xfrm>
          <a:prstGeom prst="rect">
            <a:avLst/>
          </a:prstGeom>
          <a:ln w="0">
            <a:noFill/>
          </a:ln>
        </p:spPr>
      </p:pic>
      <p:sp>
        <p:nvSpPr>
          <p:cNvPr id="15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Хи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растворами антисептиков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49240" y="2199960"/>
            <a:ext cx="9056880" cy="603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растворами химических антисептиков, также как лучевая и газовая стерилизация, относится к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холодным способам стерилизации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и не приводит к затуплению инструментов, в связи с чем применяется для обработки прежде всего режущих хирургических инструментов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стерилизации в основном используют три раствора: тройной раствор, 96° этиловый спирт и 6% перекись водорода. В последнее время для холодной стерилизации оптических инструментов стали применять спиртовой раствор хлоргексидина, первомур и другие.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холодной стерилизации инструменты полностью погружают в раскрытом (или разобранном) виде в один из указанных растворов. При замачивании в спирте и тройном растворе инструменты считаются стерильными через 2-3 часа, в перекиси водорода - через 6 часов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анный метод представляет интерес для стерилизации растворов, содержащих лекарственные вещества, изменяющиеся при воздействии высокой температу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 качестве антисептиков находят применение: фенол, трикрезол, хинозол, нипагин, нипазол, хлорэтон, меркурофен и цефирол. В литературе имеются также сообщения о применении для этой цели хлоркрезола, хлорбутола, фенилмеркурнитрата, соединений четвертичного аммония (бензалконий, цетримид) и некоторых других веществ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72520" y="39168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арболовая кислота входит в тройной раствор (раствор Крупенина). Им стерилизуют режущие инструменты и предметы из пластмасс. В нем хранятся простерилизованные иглы, скальпели, корнцанги, полиэтиленовые трубк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Лизол с зеленым мылом используется для помывки стен, полов, мебели операционно-перевязочного блока, а также для обработки инструментов, резиновых перчаток, предметов, загрязненных гноем или калом во время операц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улема (дихлорид ртути) 1 : 1000, 1 : 3000 Стерилизуются перчатки, дренажи и другие предметы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ксицианид ртути 1 : 10000 применяется для стерилизации мочеточниковых катетеров, цистоскопов и других инструментов с оптико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оцид - препарат ртути, сочетает в себе антисептические и моющие свойства. Некоторые используют для обработки рук хирурга - руки моют в тазу раствором 1 : 3000, 1 : 5000 - 6 мин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ловый спирт применяется для стерилизации режущих инструментов, резиновых и полиэтиленовых трубок, 96%-м спиртом дубят руки хирурги перед операцией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отя 70%-й спирт бактерициднее 96%-го, однако спорообразная инфекция не погибает длительное время. Возбудители газовой гангрены и споры сибирской язвы могут сохраняться в спирте в течение нескольких месяце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увеличения бактерицидности спиртовых растворов к ним добавляются тимол (1 : 1000), 1%-й раствор бриллиантового зеленого (раствор Баккала), формалин и др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549000" y="328320"/>
            <a:ext cx="9356760" cy="8001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авно используются бактерицидные свойства галогенов. Н. И. Пирогов применял йод спиртовый 2%-й, 5%-й и 10%-й, еще не зная о существовании микроорганизмов. Йод обладает бактерицидным и спороцидным эффектом. Он и ныне не утратил своего значения. Однако чаще используют его комплексные соединения с поверхностью - активными веществами, так называемыми. йодофорами, к которым относятся йодонат, йодопиродон, йодолан и др. Они чаще применяются для обработки рук хирурга и операционного по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единения хлора издавна используются для дезинфекции (хлорная известь) и стерилизация (гипохлорид натрия, хлорамин и др.). Бактерицидность этих препаратов зависит от содержания в них активного хлора. В хлорамине активного хлора 28-29 %, а дихлоризоциануровой кислоте - 70-80 %, гипохлориде натрия - 9,5 %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кись водорода (33 % перекись водорода - пергидроль) в 3 % и 6 % концентрации используется для стерилизации и дезинфекции Она безвредна для человек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месь перекиси водорода с муравьиной кислотой, предложенная И. Д. Житнюком и П. А. Мелехоым в 1970 г., была названа первомуром. В процессе приготовления С-4 образуется надмуравьиная кислота - она и является действующим началом. Используется для обработки рук хирурга или стерилизации инструментов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Чехословакии предложили перстерил для стерилизации резиновых и полиэтиленовых трубок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оссии выпущен бета-пропиолактон. В концентрации 1 : 1000 синегнойная палочка в 2%-м растворе погибает в течение 10 мин. Его добавляют в количестве 0,2% в готовые питательные среды, которые затем инкубируют 2 ч при 37°С. Если оставить среду на ночь, пропиолактон полностью разложитс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207800" y="904680"/>
            <a:ext cx="9093240" cy="11523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ионизирующи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0520" y="1479240"/>
            <a:ext cx="934560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4000"/>
          </a:bodyPr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Антимикробная обработка может быть осуществлена с помощью ионизирующего излучения (у-лучи), ультрафиолетовых лучей и ультразвука. Наибольшее применение в наше время получила стерилизация у-лучами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Радиационный мето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лучевую стерилизацию γ-лучами, применяют в специальных установках при промышленной стерилизации однократного применения- полимерных шприцев, систем переливания крови, чашек Петри, пипеток и др.хрупких и термолабильных издел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спользуются изотопы Со60 и Cs137. Доза проникающей радиации должна быть весьма значительной - до 20-25 мкГр, что требует соблюдения особо строгих мер безопасности. В связи с этим лучевая стерилизация проводится в специальных помещениях и является заводским методом стерилизации (непосредственно в стационарах она не производитс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60720" indent="-3607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ерилизация инструментов и прочих материалов проводится в герметичных упаковках и при целостности последних сохраняется до 5 лет. Герметичная упаковка делает удобными хранение и использование инструментов (необходимо просто вскрыть упаковку). Метод выгоден для стерилизации несложных одноразовых инструментов (шприцы, шовный материал, катетеры, зонды, системы для переливания крови, перчатки и пр.) и получает все более широкое распространение. Во многом это объясняется тем, что при лучевой стерилизации нисколько не теряются свойства стерилизуемых объектов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60160" y="687240"/>
            <a:ext cx="9690120" cy="1408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Стерилизация ультрафиолетовым излучением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сточники УФ-излучения (длина волны 260 нм) — ртутные кварцевые лампы. Их мощное бактериостатическое действие основано на совпадении спектра испускания лампы и спектра поглощения ДНК микроорганизмов, что может является причиной их гибели при длительной обработке излучением кварцевых ламп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недостаточно мощном действии УФ в прокариотической клетке активизируются процессы световой и темновой репарации, то есть клетка восстанавлив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етод применяется для стерилизации помещений, оборудования в биксах, а также для стерилизации дистиллированной вод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72520" y="5871960"/>
            <a:ext cx="5975640" cy="1569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ффективный стерилизатор позволяющий стерилизовать хирургические инструменты и перевязочные материалы сухим теплом и ультрафиолетовыми лучами. Имеет мощное бактерицидное действ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8" name="Picture 29" descr="untitled1"/>
          <p:cNvPicPr/>
          <p:nvPr/>
        </p:nvPicPr>
        <p:blipFill>
          <a:blip r:embed="rId1"/>
          <a:stretch/>
        </p:blipFill>
        <p:spPr>
          <a:xfrm>
            <a:off x="0" y="0"/>
            <a:ext cx="2857680" cy="3438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30" descr="h8000_c"/>
          <p:cNvPicPr/>
          <p:nvPr/>
        </p:nvPicPr>
        <p:blipFill>
          <a:blip r:embed="rId2"/>
          <a:stretch/>
        </p:blipFill>
        <p:spPr>
          <a:xfrm>
            <a:off x="272880" y="3929040"/>
            <a:ext cx="2159280" cy="20160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31" descr="42208"/>
          <p:cNvPicPr/>
          <p:nvPr/>
        </p:nvPicPr>
        <p:blipFill>
          <a:blip r:embed="rId3"/>
          <a:stretch/>
        </p:blipFill>
        <p:spPr>
          <a:xfrm>
            <a:off x="7184880" y="0"/>
            <a:ext cx="1871640" cy="2360520"/>
          </a:xfrm>
          <a:prstGeom prst="rect">
            <a:avLst/>
          </a:prstGeom>
          <a:ln w="0">
            <a:noFill/>
          </a:ln>
        </p:spPr>
      </p:pic>
      <p:sp>
        <p:nvSpPr>
          <p:cNvPr id="171" name="Rectangle 32"/>
          <p:cNvSpPr/>
          <p:nvPr/>
        </p:nvSpPr>
        <p:spPr>
          <a:xfrm>
            <a:off x="4160880" y="2631240"/>
            <a:ext cx="548316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циркулятор предназначен для обеззараживания воздуха помещений в присутствии и отсутствии людей в процессе принудительной циркуляции воздушного потока через корпус, внутри которого размещены две бактерицидные лампы низкого давлен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33"/>
          <p:cNvSpPr/>
          <p:nvPr/>
        </p:nvSpPr>
        <p:spPr>
          <a:xfrm>
            <a:off x="2865600" y="165960"/>
            <a:ext cx="2879640" cy="19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ктерицидная камера для хранения стерильных медицинских издел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Arial"/>
              </a:rPr>
              <a:t>Методы стерилизации и дезинфекции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00160" y="2262600"/>
            <a:ext cx="9705960" cy="38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 algn="ctr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Термическая: паровая и воздушная(сухожаровая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Химическая: газовая или химическими растворам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диационная стерилизация — применяется в промышленном вариант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етод мембранных фильтров — применяется для получения небольшого количества стерильных растворов, качество которых может резко ухудшиться при действии других методов стерилизации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60520" y="1263240"/>
            <a:ext cx="5970600" cy="71550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тод состоит в отделении микробов от жидкости с помощью стерильных микропористых фильтр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ханизм фильтрации объясняется главным образом адсорбцией микробов, происходящей в порах фильтрующих материалов, которые в большинстве случаев заряжены отрицательно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качестве микропористого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фильтрующего материал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спользуют каолин, фарфор, бумажно-асбестовую массу, инфузорную землю, коллодий и другие пористые материалы, а также стекло.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Picture 5" descr="img2"/>
          <p:cNvPicPr/>
          <p:nvPr/>
        </p:nvPicPr>
        <p:blipFill>
          <a:blip r:embed="rId1"/>
          <a:stretch/>
        </p:blipFill>
        <p:spPr>
          <a:xfrm>
            <a:off x="0" y="3208320"/>
            <a:ext cx="4089240" cy="367200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90612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Механический метод стерилизации. Бактериальная фильтр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0" y="2487240"/>
            <a:ext cx="740088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ханический метод стерилизаци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 помощью микропористых фильтров имеет некоторые преимущества по сравнению с методами тепловой стерилизации, когда раствор подвергается воздействию высокой температуры. Для многих растворов термолабильных веществ он по существу является вообще единственным доступным методом стерилиза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Широкое применение находя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икропористые фильтр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химико-фармацевтических заводах и при производстве вакцин и сывороток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0" name="Picture 4" descr="bacterial_filter"/>
          <p:cNvPicPr/>
          <p:nvPr/>
        </p:nvPicPr>
        <p:blipFill>
          <a:blip r:embed="rId1"/>
          <a:stretch/>
        </p:blipFill>
        <p:spPr>
          <a:xfrm>
            <a:off x="7400880" y="1479600"/>
            <a:ext cx="2238480" cy="28288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880528_Disposable_Bacterial_Viral_Filter_v0_summ"/>
          <p:cNvPicPr/>
          <p:nvPr/>
        </p:nvPicPr>
        <p:blipFill>
          <a:blip r:embed="rId2"/>
          <a:stretch/>
        </p:blipFill>
        <p:spPr>
          <a:xfrm>
            <a:off x="7616880" y="4721400"/>
            <a:ext cx="2016000" cy="1728720"/>
          </a:xfrm>
          <a:prstGeom prst="rect">
            <a:avLst/>
          </a:prstGeom>
          <a:ln w="0">
            <a:noFill/>
          </a:ln>
        </p:spPr>
      </p:pic>
      <p:sp>
        <p:nvSpPr>
          <p:cNvPr id="182" name="Rectangle 6"/>
          <p:cNvSpPr/>
          <p:nvPr/>
        </p:nvSpPr>
        <p:spPr>
          <a:xfrm>
            <a:off x="7113600" y="6520320"/>
            <a:ext cx="279252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актериальные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льтр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58068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етоды стерилизации, разрешенные для применения в ЛПУ.</a:t>
            </a: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0" y="1795320"/>
          <a:ext cx="9701280" cy="6205680"/>
        </p:xfrm>
        <a:graphic>
          <a:graphicData uri="http://schemas.openxmlformats.org/drawingml/2006/table">
            <a:tbl>
              <a:tblPr/>
              <a:tblGrid>
                <a:gridCol w="2000160"/>
                <a:gridCol w="1854360"/>
                <a:gridCol w="5487840"/>
                <a:gridCol w="358920"/>
              </a:tblGrid>
              <a:tr h="673200"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Тип метода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Мет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2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Стерилизующий аген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4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Физический (термически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ов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дяной насыщенный пар под избыточным давление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Воздуш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ухой горячий воздух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фракрасное излуч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ласперленовы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Среда нагретых стеклянных шар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 rowSpan="5"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1" lang="ru-RU" sz="1600" spc="-1" strike="noStrike">
                          <a:solidFill>
                            <a:srgbClr val="000066"/>
                          </a:solidFill>
                          <a:latin typeface="Arial"/>
                          <a:ea typeface="Times New Roman"/>
                        </a:rPr>
                        <a:t>Химически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solidFill>
                      <a:srgbClr val="c9ddf4"/>
                    </a:solidFill>
                  </a:tcPr>
                </a:tc>
                <a:tc rowSpan="3"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азов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Окись этилена или ее смесь с другими компонентам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9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лазмен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ары перекиси водорода в сочетании с их низкотемпературной плазмо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3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Жидкостный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2086cb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t">
                      <a:noAutofit/>
                    </a:bodyPr>
                    <a:p>
                      <a:pPr marL="384120" indent="-384120" algn="ctr">
                        <a:lnSpc>
                          <a:spcPct val="100000"/>
                        </a:lnSpc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Растворы химических средств (альдегид-, кислород- и хлорсодержащие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t" marL="102240" marR="102240">
                    <a:lnL w="5760">
                      <a:solidFill>
                        <a:srgbClr val="2086cb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2086cb"/>
                      </a:solidFill>
                    </a:lnT>
                    <a:lnB w="5760">
                      <a:solidFill>
                        <a:srgbClr val="2086cb"/>
                      </a:solidFill>
                    </a:lnB>
                    <a:noFill/>
                  </a:tcPr>
                </a:tc>
                <a:tc>
                  <a:txBody>
                    <a:bodyPr lIns="102240" rIns="102240" tIns="51120" bIns="51120" anchor="ctr">
                      <a:noAutofit/>
                    </a:bodyPr>
                    <a:p>
                      <a:pPr marL="384120" indent="-384120">
                        <a:tabLst>
                          <a:tab algn="l" pos="0"/>
                          <a:tab algn="l" pos="1023840"/>
                          <a:tab algn="l" pos="2048040"/>
                          <a:tab algn="l" pos="3071880"/>
                          <a:tab algn="l" pos="4095720"/>
                          <a:tab algn="l" pos="5119560"/>
                          <a:tab algn="l" pos="6143760"/>
                          <a:tab algn="l" pos="7167600"/>
                          <a:tab algn="l" pos="8191440"/>
                          <a:tab algn="l" pos="9215280"/>
                          <a:tab algn="l" pos="1023948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ahoma"/>
                      </a:endParaRPr>
                    </a:p>
                  </a:txBody>
                  <a:tcPr anchor="ctr" marL="102240" marR="102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80880" y="687240"/>
            <a:ext cx="8443800" cy="903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9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80880" y="2354040"/>
            <a:ext cx="8420040" cy="5646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6000"/>
          </a:bodyPr>
          <a:p>
            <a:pPr marL="368640" indent="-36864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Обжигание и кипяч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Обжиг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 настоящее время для стерилизации инструментов не используется. Метод можно применять в домашних условиях при невозможности использования других. Обжигание металлических инструментов проводится открытым пламенем. Обычно на металлический поднос кладут инструмент, наливают небольшое количество этилового спирта и поджигают его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Кипячение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олгое время было основным способом стерилизации инструментов, но в последнее время применяется редко, так как при этом методе достигается температура лишь в 100°С, что недостаточно для уничтожения спороносных бактерий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струменты кипятят в специальных электрических стерилизаторах различной емкости. Инструменты в раскрытом виде (шприцы в разобранном виде) укладывают на сетку и погружают в дистиллированную воду (возможно добавление гидрокарбоната натрия - до 2% раствора)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ычное время стерилизации - 30 минут с момента закипания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0520" y="544320"/>
            <a:ext cx="707544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(паровой метод)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368160" y="1479240"/>
            <a:ext cx="6332760" cy="65214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7000"/>
          </a:bodyPr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достижения температур выше точки кипения воды польз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втоклавом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втоклав представляет собой установку для стерилизации паром под давлением. Температура насыщенного пара зависит от давлени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ежимы работы автоклав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32 °C — 2 атмосферы(2 кгс/см2) — 20 минут — основной режим. Стерилизуют все изделия (стекло, металл, текстиль, КРОМЕ РЕЗИНОВЫХ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20 °C — 1,1 атмосфера(1,1 кгс/см2) — 45 минут — щадящий режим. (стекло, металл, резиновые изделия, полимерные изделия — согласно паспорту, текстиль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72240" indent="-37224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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10 °C — 0,5 атмосферы(0,5 кгс/см2) — 180 мин — особо щадящий режим(нестойкие препараты, питательные среды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dgm_2___1"/>
          <p:cNvPicPr/>
          <p:nvPr/>
        </p:nvPicPr>
        <p:blipFill>
          <a:blip r:embed="rId1"/>
          <a:stretch/>
        </p:blipFill>
        <p:spPr>
          <a:xfrm>
            <a:off x="0" y="0"/>
            <a:ext cx="3770280" cy="60483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5" descr="good_img_small79132495246de62f447df1"/>
          <p:cNvPicPr/>
          <p:nvPr/>
        </p:nvPicPr>
        <p:blipFill>
          <a:blip r:embed="rId2"/>
          <a:stretch/>
        </p:blipFill>
        <p:spPr>
          <a:xfrm>
            <a:off x="272880" y="5440320"/>
            <a:ext cx="1873440" cy="162396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6"/>
          <p:cNvSpPr/>
          <p:nvPr/>
        </p:nvSpPr>
        <p:spPr>
          <a:xfrm>
            <a:off x="0" y="6769440"/>
            <a:ext cx="372888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актный переносно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автоклав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80880" y="2416320"/>
            <a:ext cx="8420040" cy="538632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редко удается достичь того же эффект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обной стерилизацией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екучем паре при 100°С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(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ahoma"/>
              </a:rPr>
              <a:t>тиндализация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)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Жидкость стерилизуется в этом случае при 100°С три дня подряд по 30 мин ежедневно; в промежутках между нагреваниями ее хранят в термостате, для того чтобы споры проросли, а затем вегетативные клетки были уничтожены при следующем нагреван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Для многих целей довольствуются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астичной стерилизацией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.е. уничтожением </a:t>
            </a:r>
            <a:r>
              <a:rPr b="0" lang="ru-RU" sz="2400" spc="-1" strike="noStrike">
                <a:solidFill>
                  <a:srgbClr val="ff0000"/>
                </a:solidFill>
                <a:latin typeface="Tahoma"/>
              </a:rPr>
              <a:t>вегетативных фор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икроорганизмов. Такого эффекта обычно достигают путем </a:t>
            </a: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астеризаци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 выдерживания в течение 5-10 мин при 75 или 80°С. Пастеризацией частично стерилизуют, в частности, молоко, вина. Применяют два метода пастеризации : кратковременное нагревание (20 с при 71,5-74°С) и сильное нагревание (2-5 с при 85-87°С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title"/>
          </p:nvPr>
        </p:nvSpPr>
        <p:spPr>
          <a:xfrm>
            <a:off x="1461960" y="686880"/>
            <a:ext cx="8444160" cy="831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07800" y="687240"/>
            <a:ext cx="8443800" cy="75888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воздуш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72880" y="2776320"/>
            <a:ext cx="8420400" cy="480060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ухой жар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осуществляется в специальных аппаратах - сухо-жаровых шкафах-стерилизаторах. Стерилизация в сухожаровом шкафу происходит при помощи циркуляции внутри него горячего воздух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стерилизации сухим жаром бактериальные споры переносят более высокие температуры и притом дольше, чем при стерилизации влажным жаром. Поэтому жаростойкую стеклянную посуду, порошки, масла и т. п. стерилизуют в течение 1 часа при температуре 180°С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терилизация в автоклаве и сухожаровом шкафу в настоящее время является главным, наиболее надежным способом стерилизации хирургических инструментов, стеклянной посуд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9" name="Picture 4" descr="23417273"/>
          <p:cNvPicPr/>
          <p:nvPr/>
        </p:nvPicPr>
        <p:blipFill>
          <a:blip r:embed="rId1"/>
          <a:stretch/>
        </p:blipFill>
        <p:spPr>
          <a:xfrm>
            <a:off x="7353360" y="831960"/>
            <a:ext cx="2552760" cy="2232000"/>
          </a:xfrm>
          <a:prstGeom prst="rect">
            <a:avLst/>
          </a:prstGeom>
          <a:ln w="0">
            <a:noFill/>
          </a:ln>
        </p:spPr>
      </p:pic>
      <p:sp>
        <p:nvSpPr>
          <p:cNvPr id="130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45960" y="720360"/>
            <a:ext cx="8443800" cy="6872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гласперленов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649600" y="1696680"/>
            <a:ext cx="7051680" cy="630396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 fontScale="99000"/>
          </a:bodyPr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нцип действия гласперленового стерилизатора основан на приведении стерилизуемых хирургических инструментов в контакт с маленькими стеклянными сферами, имеющими температуру 250С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тор предназначен для быстрой стерилизации цельнометаллических, не имеющих полостей, каналов и замковых частей, стоматологических и других медицинских инструментов и приспособлений в среде нагретых до температуры 190-290ºС стеклянных шариков при полном погружении в них мелких изделий, а также рабочих частей более крупных издел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ерилизация инструмента производится в течение очень короткого времени — не более 20 секунд. Благодаря такому короткому периоду и неразрушающему воздействию стерилизационных (глассперленовых) шариков на инструмент, негативное влияние высокой температуры практически отсутствует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80160" indent="-38016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сего за 5 секунд стерилизует: щипцы, клещи, скальпель-держатели, зонды, шпатели, долота, зубила, алмазы, файлы, боры, корневые элеваторы, расширители, угловые наконечники, иглодержатели, пинцеты, десневые ножницы и т.д.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3" name="Picture 8" descr="glasperlen-1"/>
          <p:cNvPicPr/>
          <p:nvPr/>
        </p:nvPicPr>
        <p:blipFill>
          <a:blip r:embed="rId1"/>
          <a:stretch/>
        </p:blipFill>
        <p:spPr>
          <a:xfrm>
            <a:off x="0" y="3855960"/>
            <a:ext cx="2552760" cy="39528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tSHARIKI_thm"/>
          <p:cNvPicPr/>
          <p:nvPr/>
        </p:nvPicPr>
        <p:blipFill>
          <a:blip r:embed="rId2"/>
          <a:stretch/>
        </p:blipFill>
        <p:spPr>
          <a:xfrm>
            <a:off x="272880" y="1913040"/>
            <a:ext cx="1905120" cy="1904760"/>
          </a:xfrm>
          <a:prstGeom prst="rect">
            <a:avLst/>
          </a:prstGeom>
          <a:ln w="0">
            <a:noFill/>
          </a:ln>
        </p:spPr>
      </p:pic>
      <p:sp>
        <p:nvSpPr>
          <p:cNvPr id="135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45960" y="720720"/>
            <a:ext cx="8443800" cy="13334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b">
            <a:noAutofit/>
          </a:bodyPr>
          <a:p>
            <a:pPr indent="0">
              <a:buNone/>
              <a:tabLst>
                <a:tab algn="l" pos="0"/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Термическая стерилизация</a:t>
            </a:r>
            <a:br>
              <a:rPr sz="4500"/>
            </a:br>
            <a:r>
              <a:rPr b="0" lang="ru-RU" sz="4500" spc="-1" strike="noStrike">
                <a:solidFill>
                  <a:srgbClr val="333399"/>
                </a:solidFill>
                <a:latin typeface="Tahoma"/>
              </a:rPr>
              <a:t>(инфракрасный метод)</a:t>
            </a: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736880" y="2055960"/>
            <a:ext cx="4964040" cy="5945040"/>
          </a:xfrm>
          <a:prstGeom prst="rect">
            <a:avLst/>
          </a:prstGeom>
          <a:noFill/>
          <a:ln w="0">
            <a:noFill/>
          </a:ln>
        </p:spPr>
        <p:txBody>
          <a:bodyPr lIns="102240" rIns="102240" tIns="51120" bIns="51120" anchor="t">
            <a:normAutofit/>
          </a:bodyPr>
          <a:p>
            <a:pPr marL="384120" indent="-384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1023840"/>
                <a:tab algn="l" pos="2048040"/>
                <a:tab algn="l" pos="3071880"/>
                <a:tab algn="l" pos="4095720"/>
                <a:tab algn="l" pos="5119560"/>
                <a:tab algn="l" pos="6143760"/>
                <a:tab algn="l" pos="7167600"/>
                <a:tab algn="l" pos="8191440"/>
                <a:tab algn="l" pos="9215280"/>
                <a:tab algn="l" pos="1023948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алогабаритный стерилизатор предназначен для стерилизации стоматологических и микрохирургических инструментов из металлов в условиях госпиталей, поликлиник, больниц и других лечебных и косметологических учреждений. Стерилизация осуществляется инфракрасным мощным кратковременным тепловым воздействие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8" name="Picture 4" descr="004d8fa54fb380f93089f1a33b937312"/>
          <p:cNvPicPr/>
          <p:nvPr/>
        </p:nvPicPr>
        <p:blipFill>
          <a:blip r:embed="rId1"/>
          <a:stretch/>
        </p:blipFill>
        <p:spPr>
          <a:xfrm>
            <a:off x="0" y="1984320"/>
            <a:ext cx="4762440" cy="424836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632040" y="7378560"/>
            <a:ext cx="3137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2240" rIns="102240" tIns="51120" bIns="5112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ерафима</dc:creator>
  <dc:description/>
  <dc:language>en-US</dc:language>
  <cp:lastModifiedBy>LEGION</cp:lastModifiedBy>
  <dcterms:modified xsi:type="dcterms:W3CDTF">2015-12-31T12:50:46Z</dcterms:modified>
  <cp:revision>156</cp:revision>
  <dc:subject/>
  <dc:title>Методы стерилизации и дезинфекции</dc:title>
</cp:coreProperties>
</file>